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870-CA9C-41B2-AB42-4C42246F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FF0-5C6C-4F78-AFCC-26EECA6A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44B-BB1E-4E80-BB50-42A691F1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EFD-C353-4243-B98C-E8F0476C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7A7-5D63-42C7-A4B1-BA231061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A23-8D6E-4EFA-A1CF-22BCBCC3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B94-FFF1-40B2-BE6E-3C985054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FB2-D504-4372-A10F-D61D3FC0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133-B9CA-4751-83F3-7A36C66D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048-502D-44DA-BD76-44D0A95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217-9114-418C-BF28-CCEC9E11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451-A55A-48C0-8730-F6755FB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24BB4-B3A4-442C-8AD0-D33184E03E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wonderfu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life has been wr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light in my sou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which long I have s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7   Як чудесно змінило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чудесно змінилося моє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маю спокій, за котрим я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ceased from my wand’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oing ast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sins, which were ma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all wash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ишив мандрівни і блукання мо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гріхи всі мої, змиті з моєї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possessed of a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s steadfast and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dark clouds of dou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my pathway obs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 одержав тверду і пев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більше не маю вагань, ні стра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light in the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death now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gates of the City beyond I can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долині смерті, є світло для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є певний, що Він є зі мною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go there to dwell in that City,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’m happy, so happy, as onward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ебесний дім йду, д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е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я вбачу Ісуса лицем у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36Z</dcterms:modified>
  <cp:revision>13</cp:revision>
  <dc:subject>Slavic hymnal Гимны веры христиан, Ukrainian hymn 37</dc:subject>
  <dc:title>Since Jesus Came Into My Heart / Як чудесно змінилося моє життя</dc:title>
</cp:coreProperties>
</file>