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BDF8-ABAB-47E6-9313-14654BBB9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F97B-2ABB-47C1-92AC-C61B2BC9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57CC-81AD-40A3-BA49-FC02A508E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BF87-B0F3-4770-8A90-56C0C45E8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E838-5935-482B-B8DE-1F757B32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4B70-8273-416E-BB7A-4BAC6CD9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F18F-D620-4AAE-AAD9-DD125303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72CF-9111-4CDF-96F0-B171F29D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B086-87ED-4E15-AB05-C63157C3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FD53-D1C5-465B-B7BD-AE833C57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9707-9E87-4652-9A8B-2CC3328F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5334-8F0F-4E60-B84D-8EAC04F5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32DA4-1802-482B-A765-17EFEA99860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у Святий, нам серця пробу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чни від мене, на мене дих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имо Слову: поміч Ти да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иренно, Боже, ждем,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6   Духу Святий, нам серц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5:00Z</dcterms:modified>
  <cp:revision>12</cp:revision>
  <dc:subject>Slavic hymnal Гимны веры христиан, Ukrainian hymn 36</dc:subject>
  <dc:title>Духу Святий, нам серця пробуди!</dc:title>
</cp:coreProperties>
</file>