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F94-076D-4751-914F-E61B72DF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39D-87A0-47C0-A16D-F4D19E67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6F2-3B5F-44F8-A37D-1C122BAB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0CE-BFD4-42E3-8FC6-B7D9ED57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02C-6C8A-4DE6-A785-7A269DD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011-04CF-4568-97CD-9883361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35F-30C4-4845-9F5C-5A382F1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C9A-E264-4BCE-BD7D-1A3148E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A9D-453D-4E60-8579-C95184A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F0A-97B1-42BD-9836-138396CB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822-9FE7-42FC-93B7-EBAC1551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1E9-BE4D-4344-950A-CAC4070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F4B70-4ACB-44C3-98C0-232025A345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край, где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радос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ещет всё в цв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ая любовь ц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ых весел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и вечная 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озар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уч на своде неба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ря не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о зло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 слеза с л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24Z</dcterms:modified>
  <cp:revision>12</cp:revision>
  <dc:subject>Slavic hymnal Гимны веры христиан, hymn 662</dc:subject>
  <dc:title>Вдали от тьмы земных сует</dc:title>
</cp:coreProperties>
</file>