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02F-C2E7-4F41-A8C5-DCD27817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A61-8925-4C5B-8251-72B25E7B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F78-040E-41CB-A016-FEDC9263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922-E1FF-4888-8D32-E696E89D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F8F-4C63-4CF9-8D87-B8CE09D8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F6B-6A97-4EE5-9049-6DCBF8BF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727-8C5E-4F71-9F69-6F7B51D2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E3F-9EA2-4145-893C-2D456B82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BBB-1B05-4F15-B167-7973779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B41-2A6F-4305-963F-A6C89ACF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23B-278D-4AD5-9CF1-1EAB7603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603-C812-4746-9ECB-07705BC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8D04C-DE8E-4C3C-BE38-5790186AE1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руга мы им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к жизни пробу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ы счастием владе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точник веч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 часто мы стра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 терпя напрасно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осить мы забы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дин помог О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руга мы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ье ль нас трев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ки ль тяжки для ког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пусть из нас во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свою всю на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дин среди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свет средь тьмы про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Христос Один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горе облег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м мы под зн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й жизни сует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лишь Ему откр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с друзья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ос проявит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ерный Друг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46Z</dcterms:modified>
  <cp:revision>12</cp:revision>
  <dc:subject>Slavic hymnal Гимны веры христиан, hymn 594</dc:subject>
  <dc:title>Что за Друга мы имеем</dc:title>
</cp:coreProperties>
</file>