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61C-534D-40EA-8B30-9BE58811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4CD0-D11D-4014-BC1F-D5E1F956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F001-0E4E-4559-BAA8-244D4BCF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5452-E51D-45D3-878A-6B60283E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3C06-BA71-49D9-A114-2E820EED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FB92-E1F5-4E21-BB15-1E449014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6656-5E60-46B8-BEE5-B84DF9A0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23C-D7D4-44CA-878A-49D11C7F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9F2-84C3-4700-8222-86D2B756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AB73-2E70-4DF1-8ABC-4CA1AAC7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F8D2-7F0C-4E1E-ADFE-7AF08340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1309-15E1-4726-AC5D-F742288B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44295-2078-410C-9EC4-21C67D20F5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 не умр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на костре, не от ме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дце радостно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ас вера горя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ты для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а теперь и в смерт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вая вера не умр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ы за веру шли в остр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долеть их мир не м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Боже, внукам их в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ую верность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ты для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а теперь и в смерт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учи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друзей, любить вра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щать Христа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рочном царстве су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ты для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а теперь и в смерт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2:46Z</dcterms:modified>
  <cp:revision>13</cp:revision>
  <dc:subject>Slavic hymnal Гимны веры христиан, hymn 616</dc:subject>
  <dc:title>Живая вера не умрёт</dc:title>
</cp:coreProperties>
</file>