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047A-209E-4695-87D0-68CF09D74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9AE5-DBD5-451E-A344-D98FED84C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CF58-1F62-4F59-A5D9-A952EFC42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ADD0-C6CD-4764-B28D-8DFC53B7A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109F-9DE0-45D5-8D52-F7F1DEE65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DCCE-C540-45BE-8962-69317B85F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59CE-D5C8-4A56-9985-A064C02B5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BFDF-5FC1-4830-9D64-27EA3D8E0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C98B-3677-4AAF-98CF-045A4A0FA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9EA9-C630-41B9-9DC9-DB603594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9FB9-74B4-4F92-B586-7C19F7B9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8A15-F549-4CC4-96AD-EF3B3A72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E44076-4762-4760-9C87-BC405A4FA7C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это торжеству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достно поё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лудший сын лику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ец к нему 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хочет преступ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Он вспомин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хочет в знак забвень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юбви его обн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7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то это торжествуе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это торжеству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достен душ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лудший сын пиру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юбви Отца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опадал далё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Богом найден бы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мёртв среди поро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от теперь ож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это торжествует?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ленный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мир и негоду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его опл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сли скорби ту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озят ему пор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еет их могуч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Своей ру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это торжеству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верный Бога раб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му Он мир дару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 битве не ослаб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о Он направл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Своим пут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о Он окруж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ию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это торжеству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верный раб Христ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о Господь врачу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всех его грех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решники, хотите 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ы торжествов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, и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ёт вам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16:15Z</dcterms:modified>
  <cp:revision>13</cp:revision>
  <dc:subject>Slavic hymnal Гимны веры христиан, hymn 579</dc:subject>
  <dc:title>Кто это торжествует и радостно поёт?</dc:title>
</cp:coreProperties>
</file>