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380-D102-4542-A034-801C656F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34F-6296-46B6-B5C2-1064275E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DF4-601B-4852-9495-A1A077B5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B1A-A329-4AF0-8DE1-6C7C257C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853-8E8A-4D59-9CD1-8B61207A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08F-9913-4CA6-AAAE-2AAC8EDD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680-D9CD-4002-B6B8-38AF9B0B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6A3-45AF-4E36-9D0E-BA69A683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F42-BF81-403B-B095-E1F7ABAA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096-5323-4F25-AD43-A0031BC9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00E-EA2F-45BD-95F7-3DC3D98B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D78-1350-40BC-9C07-41E18D21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14ECA-CA60-4C77-A357-90F48DFCA0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 словах щоденних мол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лаженство для душі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найкраще, що є тут в житт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Хри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 спокої щастя я за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кутка я тихого баж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олоду маю в бороть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5   Не в слов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чиш Ти, як завжди, в кожну м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Тебе любов в мені брин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шукав нічого я соб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дкрив мені любов С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я з Тобою у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ів тремтить душа в мен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для мене захист, Ти ― мій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 Христа ― порожній цілий сві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ез Тебе вмер би у журб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вколо хижий ворог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чить проти мене лютий б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могу Ти даєш мен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сля довгих, нещасливих д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і одне я зрозумі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вічне лиш в Твоїй крас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зі є джерела мої в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4:45Z</dcterms:modified>
  <cp:revision>13</cp:revision>
  <dc:subject>Slavic hymnal Гимны веры христиан, Ukrainian hymn 35</dc:subject>
  <dc:title>Не в словах щоденних молитов</dc:title>
</cp:coreProperties>
</file>