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2C8-E91E-4199-887F-EE8B1207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E05-7C18-4642-86A0-3F8723A5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AC-2D29-4012-B159-0F3D0EB3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6B1-1717-407A-AC8E-9B98FB7F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70A-4C7C-42F8-9907-6B43771C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8EA-9FA8-4A51-9654-606437E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4EC-5EE5-4071-B490-A9A91575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5A7-08D8-48E6-8911-C4D26C9E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BB7-B15E-4F30-A24D-5CD50921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617-22A4-412B-B0E3-3B654FF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506-D7A6-4799-919D-CEDA2E6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F99-C97E-479C-B32F-85180D3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C937-DA6A-41C4-BD41-DD88D6FC32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9:40Z</dcterms:modified>
  <cp:revision>12</cp:revision>
  <dc:subject>Slavic hymnal Гимны веры христиан, hymn 338</dc:subject>
  <dc:title>Грешники, к Христу придите</dc:title>
</cp:coreProperties>
</file>