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3</a:t>
            </a:r>
            <a:r>
              <a:rPr b="1" lang="ru-RU" sz="3600" spc="-1" strike="noStrike">
                <a:solidFill>
                  <a:srgbClr val="ffffff"/>
                </a:solidFill>
                <a:latin typeface="Verdana"/>
              </a:rPr>
              <a:t>	</a:t>
            </a:r>
            <a:r>
              <a:rPr b="1" lang="ru-RU" sz="3600" spc="-1" strike="noStrike">
                <a:solidFill>
                  <a:srgbClr val="ffffff"/>
                </a:solidFill>
                <a:latin typeface="Verdana"/>
              </a:rPr>
              <a:t>Боже великий</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великий, мира Созда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че наш, сущий на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ш Хранитель, Ты наш Пита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ш источник жизни и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ш источник жизни и благ.</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де только солнце светит на зем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олько люди строят жиль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ые всюду просят усерд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 святится имя Тво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 святится имя Твоё!»</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 страхе и скорби мир наш том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ало кто песню счастья 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научи нас ждать и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да придет Царство Тво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да придет Царство Твоё!»</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уготовал чудный нам жреб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ёт нас блаженство, верных сем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на земле сей, как и на н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53928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Милости с неба ждёт всё тво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ят о пище птица и зв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ерковь Христова просит в смир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леб наш насущный дай нам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леб наш насущный дай нам тепер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В жизни мы часто силы теря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поддержи нас, Сам пом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должникам мы нашим проща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Ты прости нам наши дол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Ты прости нам наши долги!</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Духу раздора в нас не дай м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нападений нас огра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ть уравняй нам к славе неб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искушенье нас не в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искушенье нас не введи.</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Чтобы нас вражья мощь не плен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корби и счастьи нас не поки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бо Твоё есть царство и с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дрость и слава во век. Ами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дрость и слава во век. Аминь.</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6:26Z</dcterms:modified>
  <cp:revision>3</cp:revision>
  <dc:subject>Slavic hymnal Гимны веры христиан, hymn 133</dc:subject>
  <dc:title>Боже великий, мира Создатель</dc:title>
</cp:coreProperties>
</file>