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F34-AC38-4C84-86EC-26CF137F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117-A1A6-48A0-8A41-A48F931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650-6BB3-4ACF-B715-CCD84EE4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255-7B72-4EF4-990D-A6C58087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BDC-899F-4064-A27A-9ECB9C1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559-FB22-40C8-9424-BD6C87DF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BEA-F417-4C81-8C65-82DF1ABE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FB5-0424-4C33-B3F2-79F03EAD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A61-E635-4FED-B8F9-C64C9A6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F35-BE33-4462-B52C-3517DEF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DC2-061B-41DC-818A-C0A9274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5AC-168A-485B-8139-08BD5E5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69153-BDE9-49F8-A02D-8F7AE3A422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6   Отец небесный, мы с любов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мы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Тебя благода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, Сына Твоего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благоговении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Он есть и вновь гря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8T05:24:18Z</dcterms:modified>
  <cp:revision>13</cp:revision>
  <dc:subject>The Source, song number 96 in Russian</dc:subject>
  <dc:title>Отец небесный, мы с любовью / Father in Heaven, How We Love You (Blessed Be the Lord God Almighty)</dc:title>
</cp:coreProperties>
</file>