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8A3-7C71-41B6-A675-9BCF0123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604-66DA-4B95-959A-50024EFF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1FA-B28B-46FA-A01F-21E19FC9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F15-CD26-42A4-961D-75563487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C9A-B8A1-4806-9E64-2DE531B6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998-9E1F-4488-865C-33A2174F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F66-2D46-4D6B-A569-D2912057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FD3-3969-4AC2-BDA8-B5C8385F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F8E-4AE3-4FCE-AB11-2DB62511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03E-D9A7-48D3-869A-00513F4A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292-7548-48AD-8BAA-C3B58B2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B5A-BB13-4620-A19C-04412E7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99425-355C-4455-881F-0525B5CFDD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rom sin are longing to b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 redeem you died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шь ли жизни чи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жизни чистой, без грех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умер з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atan tempts and doub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s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His strength shall over all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ли смущает страхом и сты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жешь в этом мире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aweary? Does the way s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ove will cheer and fill your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ли в бессильи, мрачен ли тво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м весельем Бог наполнит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 when shadows on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thwa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oy or sorrow Christ is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вскоре ты придёш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в горе Он всегда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7Z</dcterms:modified>
  <cp:revision>14</cp:revision>
  <dc:subject>Slavic hymnal Гимны веры христиан, hymn 715</dc:subject>
  <dc:title>Look to the Lamb of God / Жаждешь ли жизни чистой?</dc:title>
</cp:coreProperties>
</file>