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6B4E-2245-4DFD-84A5-457E93C5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230C-54E6-420B-93FC-B7C9C49F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8A2D-E053-4950-8E8D-88EF8C81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3027-083A-4524-A97F-5BEBA643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F2F1-3C2E-4C6D-B45F-478F8C67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C673-037B-4705-877E-F4E5537C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DB3D-22A1-4AFA-BAA5-BCD82ED1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69B3-54EE-4BE8-A49A-343B3B79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5FEB-DCA4-456D-9B9D-E2C9C059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4172-9613-4A8A-B1DD-2FAC622E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C87F-D66D-4F4C-B30D-64615F77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3026-9D00-4EB5-98DB-6B0B97E4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2EE0F-F670-4BAB-ACDD-3BBBB6888C5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we pray and while we pl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you see your soul’s deep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ur Father calls you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 not, my brother, 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5а  Слыша просьбы, слыша з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 просьбы, слыша з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вствуя нужду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под Отцовский к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титься поспе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have wandered far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risk another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turn from God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day accept His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ело душ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еряй напрасно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стань во тьме блуж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ёт нам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world you’ve failed to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ught of peace for troubled m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Christ, on Him belie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and joy you shall rece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тщетно ты иск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а грешному у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Христу приди, Он да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сердцу тво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Christ, confession ma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Christ, and pardon ta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in Him 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keep you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ткрой 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щенья дар пр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 и будь с Его детьм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Он твоим вож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57Z</dcterms:modified>
  <cp:revision>14</cp:revision>
  <dc:subject>Slavic hymnal Гимны веры христиан, hymn 335 (as amended)</dc:subject>
  <dc:title>Why Not Now? / Слыша просьбы, слыша зов</dc:title>
</cp:coreProperties>
</file>