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B4A-7404-450B-B0E3-610C20EF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5A20-9E20-4B73-B3D7-C1BAA4E3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758-C403-4040-8141-32791D67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083A-C25C-416E-ACF8-05EFF8B6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C3C-6978-4CC1-A8C5-D28A89A9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008-E1FB-4381-AB34-9396FF57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75A-12E6-4481-913B-EEC6E843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AC2-A7B0-4040-8630-71E82A7A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129-89F5-43D0-9FD8-68C5941F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182-1A31-4217-A17E-257B1638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79B-7746-497E-BDA0-0F93EF3B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E15-E410-4423-AA4D-0BA50F0D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8673A-E63C-44D5-BE96-86946151D9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престола пред Твор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ы детей сто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с восторженным ли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женным лицом (лиц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 (твердя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круг прест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х детей туда соб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вёл их в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чудной песне соче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люток голо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женным лицом (лиц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 (твердя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исус, Который с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ю смертью 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 небе место то при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ангелов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женным лицом (лиц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 (твердя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и Господа 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 земные д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сильней любить мог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зял их от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женным лицом (лиц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 (твердя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6:48Z</dcterms:modified>
  <cp:revision>12</cp:revision>
  <dc:subject>Slavic hymnal Гимны веры христиан, hymn 763</dc:subject>
  <dc:title>Вокруг престола пред Творцом</dc:title>
</cp:coreProperties>
</file>