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874-A18F-4CB5-A81B-852537F2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A48-707D-48A9-9E62-66D9032B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70C-2044-4314-855A-D49AB397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EB0-1B8E-4F16-BA6B-36687166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85C-8949-4F97-A126-B334140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BB3-AA76-4E2E-9DAA-7ABFB6DF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E4C-85E6-4E0A-A1D9-8CF7C751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AF2-6ED0-43A0-AFEA-E2166313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7CF-6870-472A-8219-3311D4F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896-19EF-44B1-9F56-A26F42F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037-1068-47E4-B5C6-49DC0DF2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858-AF35-4A4D-B5E4-03312E40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22876-AC5B-45AA-979A-1975910B99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зов всем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те на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в истине служ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ог живой неведом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м мы земным б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свет про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тьмы освобод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друг! Вот призыв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вопи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ён и ты здо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ткликнись же на 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ж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правьтесь за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ть любов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держителя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43Z</dcterms:modified>
  <cp:revision>12</cp:revision>
  <dc:subject>Slavic hymnal Гимны веры христиан, hymn 538</dc:subject>
  <dc:title>С берегов далёких стран</dc:title>
</cp:coreProperties>
</file>