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1ACB-997C-4EA0-A2E8-5453B8009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BC1B-C4FD-4BEE-897D-BB91A3B2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C2E3-E2CB-419C-A0BB-0DDA7E98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215D-B4FD-45C2-95CF-CFDEFD1E3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5293-B4C5-4D5F-87BF-F0BBC618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A7F0-776C-494D-9FD7-A75574E6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E101-7991-4A6C-99E9-9920549C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29EA-5CBC-464E-B01A-8D9EBF44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45A7-E5C9-4C66-8364-187660B7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0B64-02AE-4C79-AD30-2E9E990D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1E9E-22AC-45F1-8641-DEAED70C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370D-21AD-49E3-970A-72123B31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090FA-54F4-4E5E-9390-114900228F7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ый благости, полный радо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ный день Рождест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грехом том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Христос родилс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ющим всем день торжест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лный благ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ый благости, полный радо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ный день Рождест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ы небес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и чудес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ют всем день торжест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ый благости, полный радо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ный день Рождест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дан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огом Примирител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йтесь, настал день торжест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22:08Z</dcterms:modified>
  <cp:revision>13</cp:revision>
  <dc:subject>Slavic hymnal Гимны веры христиан, hymn 241</dc:subject>
  <dc:title>Полный благости, полный радости</dc:title>
</cp:coreProperties>
</file>