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9A1-9D05-4DB6-B189-461BCF8C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975-5B45-42EF-83B7-0E23DD42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2C8-6FBB-40CE-8A81-B0A144E6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734-2373-4453-B0A5-94B342A1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FEE-6DC6-44EF-B44B-94804FA3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79B-8A7F-4946-AB3E-E078AE4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244-A74F-459C-9CBE-86295452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534-7EA2-4BF5-B1DC-28F6175F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A6A-57DC-47EF-92AA-5C28811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554-8647-413B-8879-BF767E9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248-EC56-4D8C-90C3-3B8861B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FF6-D1B2-4CCA-AD43-FAF472D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23915-A7D4-405D-B282-9C07C0CD0F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li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Mo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ghteousness being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se Are the Days of Elij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these ar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great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famine and darkness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we are th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 cr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ye the way of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zeki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ry bones becoming as fle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Dav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building a temple of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the har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are as white i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are the labo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viney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31Z</dcterms:modified>
  <cp:revision>10</cp:revision>
  <dc:subject>The Source, song number 503</dc:subject>
  <dc:title>These Are the Days (Days of Elijah)</dc:title>
</cp:coreProperties>
</file>