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819-EB7B-4597-B642-DDB40C7A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1BE-E00D-44D1-A0C4-675C22B0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D07-78A5-4533-803F-6A5DB52C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D78-C7C6-439A-8798-CA5DB539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19D-503E-4148-8713-79A64E93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2CD-D797-4935-946D-D708E68F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FC5-4DC5-4DFD-B113-7D79D02A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C5E-C6FC-48B2-AD2B-F822C08F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824-F5F7-4CAC-8984-B7DFB878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B69-23FB-4075-BA47-0E210067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6F6-0654-49DC-8A0B-2D8204DC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67D-4A82-40ED-8CBE-7567FAC1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6D870-129E-4DA4-8F23-C1170034E4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ing now th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blood-ransomed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soul there is peace,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l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могу теперь п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гу теперь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 небо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ила в душе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ickness there’s heal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poverty, weal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ч недугов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д сокровищ живы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, I’m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me and keeps me jus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with the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the throne in th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orm and the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midst of the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uts in my hand vict’ry’s pal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тречу гро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Иисуса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дежда и крепост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coming all fo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ord I rep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живёт в темн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о Хрис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, I’m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me and keeps me jus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with the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the throne in th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free from all doub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in the sh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сомнений у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ётс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, I’m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me and keeps me jus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with the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the throne in th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I know I’m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ord, and I st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blood with the sin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uld dam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рюся с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лютой битвы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I walk in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trength for the f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зло побежд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, I’m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me and keeps me jus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with the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the throne in th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grace for the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help by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healing and comforting bal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хлеб Он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ути береж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ет, Собой ос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8Z</dcterms:modified>
  <cp:revision>13</cp:revision>
  <dc:subject>Slavic hymnal Гимны веры христиан, hymn 420</dc:subject>
  <dc:title>I’m Redeemed / Я могу теперь петь</dc:title>
</cp:coreProperties>
</file>