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C0B-3251-4C7D-999A-D84AAD2B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268-5D18-4908-A2B3-5EF85C07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8A0-4ADE-46CD-A897-34D5DD07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D27-A373-4498-96E8-485D5E32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D5E-C5F5-4EA1-A08D-C2570637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333-C421-4964-B0F7-09F2BCD5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4BF-72D2-430C-A003-4FA32ABD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58C-90D1-44D7-ACAB-22043ACC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894-1FCA-4328-B584-9E27BD1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74E-2784-43E4-8218-E022A44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0BE-08BF-4EA4-A0BC-7ECB81E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1CF-AD3B-48C6-A0C3-7727CFA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EDACB-3A3B-40A9-B923-7A31BF561E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м даро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 Нему да придёт и п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 Нему да придёт и п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источник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обещал Он на небе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обещал Он на небе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 нетленные даст Он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 нетленные даст Он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изы Иисус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изы Иисус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, венцы приготовил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, венцы приготовил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й и славный день Он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й и славный день Он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х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исус даст, что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исус даст, что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8:22Z</dcterms:modified>
  <cp:revision>12</cp:revision>
  <dc:subject>Slavic hymnal Гимны веры христиан, hymn 301</dc:subject>
  <dc:title>Воду живую Иисус даёт</dc:title>
</cp:coreProperties>
</file>