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CADB-358F-4E57-9165-A09DCCE91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691A-F73C-441B-8050-3AEC01CD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3D45-E42B-4C78-A190-E991E90FE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15BE-F7BA-46B4-800E-710A3A709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3DF5-2BED-4909-981A-A965E95C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7339-0799-41BB-99DE-AD8B26E8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6810-DABB-47E7-863E-9811E1FE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2931-0E10-4F8E-9870-DB2E368C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787C-7232-4761-A305-A458A42C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E04A-B631-476D-AC51-7CC98DF2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5900-8E57-4BB9-994C-6E5BCD23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A76C-A68C-4B30-A4EE-97824A38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407AF-4C04-45EA-9F9D-F3FB4F5DCBC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id not wait for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draw near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You clothed Your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frail huma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id not wait for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cry out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You let me hear Your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lling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69   You Did Not Wait For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forever grateful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forever grateful fo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forever grateful to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ek and save the l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5:19Z</dcterms:modified>
  <cp:revision>12</cp:revision>
  <dc:subject>The Source 4, song number 2169</dc:subject>
  <dc:title>You Did Not Wait For Me (I’m Forever Grateful)</dc:title>
</cp:coreProperties>
</file>