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EC9-D530-4F5E-9F24-9E9E42FC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796-4138-4023-9104-1F166897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098-3788-4C9F-8BDC-ACA9291E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BC5-A7FA-40CE-B429-87FE3726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18D-E7EC-495D-9948-5891B436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0BB-5B82-4EA7-BB0C-30E279D9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D0D-DD0D-481F-A860-50DFEC1F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F56-EA97-4987-9FB1-AE16C529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359-E6D1-4A6C-B841-CFE57EE5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AF1-CE94-495F-8CCB-259F819D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DC2-7AAE-4596-B83A-D6F86883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9B4-DEF4-4A66-849E-09CD775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4E690-4BB4-405E-8DA6-FA6BE3B381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и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ешь на зло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и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ешь к Иисусу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шь ты в Нё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глянь на прекрас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как вет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х ты множ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е вз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итвой луч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би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д языка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пчет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ощряй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клев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храняй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 путь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уй, как милос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ящих в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на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27Z</dcterms:modified>
  <cp:revision>12</cp:revision>
  <dc:subject>Slavic hymnal Гимны веры христиан, hymn 515</dc:subject>
  <dc:title>Взглянь на прекрасное в жизни</dc:title>
</cp:coreProperties>
</file>