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53FB-6C24-4121-B9E2-E17C6EE2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BE30-D162-476F-AB49-3108318B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F130-1663-451E-93A3-25592467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AC6-6261-40C5-B0F3-09E83C40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93E-63FD-4D83-A712-1829585D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A3B-F87D-48FA-90C7-7F48CE94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8703-C916-4B01-A240-199894C0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0BCA-5EB0-4B2A-A411-10522729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A20-1617-4FED-B3B4-18B948D0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DFEF-CBC0-4367-BA08-C1781FD1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221A-C849-4E2E-AA6F-5FBC2730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CD4-94F0-401A-A74E-7D47AE78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D23A4-617A-4C4D-BD29-35C157D296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oly Spirit, Lord,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turn our hearts from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ower alone can sanc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keep us pure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шь Дух Святой влеч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влечёт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еховного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им радость без ко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равде соблю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oly Spirit, Lord,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deeper love inspi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ower alone within our sou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light the sacred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вселяет в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ую любов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огонь во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л во тьм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oly Spirit, Lord, can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ifts we seek in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voice can words of comfort sp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ill each wave of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несёт да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аждем мы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новую везде т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сердцам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oly Spirit, Lord, can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race we need this h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ile we wait, O Spirit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anctifying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помог позн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благод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мы ждём, пр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вь и 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37Z</dcterms:modified>
  <cp:revision>13</cp:revision>
  <dc:subject>Slavic hymnal Гимны веры христиан, hymn 313</dc:subject>
  <dc:title>Thy Holy Spirit, Lord, Alone / Лишь Дух Святой влечёт сердца</dc:title>
</cp:coreProperties>
</file>