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EDF-FB28-40E9-AABA-0B59B07A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9AA-AAC7-43C5-8764-E5827FA4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B10-1CC8-495B-A6FA-4B1C3994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08B3-3C3F-44EE-93A8-7A8B509C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1CC-06DB-4FD7-A985-A7DBEB01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855-8493-4F18-9FFC-B97D0C20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8961-2773-47E3-A866-C12598D2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2E9-DC1E-4FEE-9391-CCCFF0EA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FE8-A1F5-43EA-A2DC-A976FA20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633-ADFA-4436-ACBF-0F5A4419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215-17D7-4304-8771-7E1EF4DB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444-1482-4BA5-8FD8-43BF8A4E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896B9-70E1-4F62-B7F9-270802CDC7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about Jesus would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grace to others sh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льше скажите 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агодати полн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about Jesus let me lea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holy will discer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of God, my teacher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ing the things of Christ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ятости и чи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е истины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яет в нас Христов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about Jesus; in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ing communion with my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ing His voice in every l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ing each faithful saying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ове жизни, что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бщенью с Господом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, и радость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about Jesus; on His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es in glory all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kingdom’s sure incr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coming, Prince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царит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юбит грешников спа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в наш мир придёт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00Z</dcterms:modified>
  <cp:revision>13</cp:revision>
  <dc:subject>Slavic hymnal Гимны веры христиан, hymn 557</dc:subject>
  <dc:title>More About Jesus Would I Know / Больше скажите о Христе</dc:title>
</cp:coreProperties>
</file>