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966-68F9-4E02-B5F9-80DA61D8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B8F-C7DE-4E0E-9432-FE7223D1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D90-D155-4D22-9776-5E01168E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EF8-A5E6-4CB3-997E-0DC8418A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833-688D-44D3-88E1-1C1E4C62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48E-0B3B-47CB-9250-7F4362CB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BA8-2023-45AE-8FDE-2C77F4BC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3CA-AA45-4415-8F38-62C45FAA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062-BB4D-4D1A-9903-D219659C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48E-A85C-42BF-994A-E3C79C64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962-CC8A-450F-A23B-1FC03DDC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A33-267F-4627-B39B-A123F91C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CB56A-F8C8-4124-B3BA-131629DDF1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Божьих детей уж здесь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веры, какое Бог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щё большее нас счастье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Господень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Божьих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жажда томит в полдневный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руден тернистый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риветливо манит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Господень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устально-прозрачной глади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видим венец Христа кра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дубим труды и тьму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Господень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03Z</dcterms:modified>
  <cp:revision>14</cp:revision>
  <dc:subject>Slavic hymnal Гимны веры христиан, hymn 655</dc:subject>
  <dc:title>Сердце Божьих детей</dc:title>
</cp:coreProperties>
</file>