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E0C-C751-4C74-825D-BB7BB093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EC7-718B-4948-841C-1441BC28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F10-AA6F-4256-8627-E9650B8D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72-02EC-432B-9F3B-2C88C7BF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DAD-B843-4086-A531-C575D33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82B-2B00-4530-AC8E-09AF988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C2F-58AE-445E-9785-A97BC96F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A31-6B7B-4906-98D5-B767E1E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875-3D20-49C1-84E5-86F1C28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024-FA85-4079-9239-EF060CA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1C2-7513-4A72-B279-B457DE0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83B-3DF1-456A-84CC-FACE385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ECFA6-E99E-43B4-8D7C-A68FE18838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те, люди, на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ныне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едь скоро закрыться мо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об этом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ирайте, люди, на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Амоса звучат так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написал на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горько стон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ой томи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Господню иск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ущий ище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акроет от них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гут найти уж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ить все будут от моря к м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Господне на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ны будут мученье,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сь уж не смогут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30Z</dcterms:modified>
  <cp:revision>13</cp:revision>
  <dc:subject>Slavic hymnal Гимны веры христиан, hymn 412</dc:subject>
  <dc:title>Взирайте, люди, на Слово Божье</dc:title>
</cp:coreProperties>
</file>