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C3A-0019-4B7B-ACCC-B02FBDC4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3E8-ABF4-4163-8489-3F916CC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689-7BDE-4E3D-A0B2-58C81070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BA3-3B8F-4B3E-A815-DF9241E9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0CD-0D1C-48AE-A76B-4E271446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E93-EC39-45A0-A482-A7ED789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126-A3E1-4FA6-91EA-24FC378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24D-9EC2-4443-A50D-2D0D26EB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4A2-894A-44C6-8254-D22A6A2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BC3-B29D-488A-B098-60E5576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C08-9F80-4430-AD10-C9F7E1F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5C3-5525-4768-A156-1C97229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BD6D5-50F5-4898-AEFD-A07EB050AB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m over agai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more of their beauty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 and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faith and du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lessèd One, gives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list to the loving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o freely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ing us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echo the Gospe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 pardon and peace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nl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ctify u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51Z</dcterms:modified>
  <cp:revision>14</cp:revision>
  <dc:subject>Slavic hymnal Гимны веры христиан, Ukrainian hymn 5</dc:subject>
  <dc:title>Wonderful Words of Life / Брате, знову нагадай</dc:title>
</cp:coreProperties>
</file>