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F51-A4FF-4755-8DFE-5BDD6000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262-9824-4C4F-A3AA-CB55391F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DA5-C2D0-49E2-8780-0F516AE9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9C8-BEF9-43E2-B0CB-C2115FDC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8D0-7D56-430B-A76B-84E89485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7BE-E9B4-4E48-813F-2F99E469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238-9C97-4148-B3C8-1965372D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4A9-B733-4C3C-8DC9-D3184D11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EBC-DB28-4397-A305-7A15E4B6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8BF-726C-4123-848C-1045B84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DB9-6407-4A58-9F14-8DA5F863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F54-B66A-4D85-A162-52C2A0EA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2DD49-CCFF-40D0-BB9B-BC4881311F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и место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ею кровью мир омы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 к тебе ст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и место Иису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ам, и вес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ты да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мершего за грех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оттолк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отдашь ли Иису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е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о день после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ьше Он не будет 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ердце всё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замолкнет благода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уж не будет 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04Z</dcterms:modified>
  <cp:revision>12</cp:revision>
  <dc:subject>Slavic hymnal Гимны веры христиан, hymn 350</dc:subject>
  <dc:title>Есть ли место Иисусу?</dc:title>
</cp:coreProperties>
</file>