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279-8839-4B48-8D8A-DC3571DF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E68-F64F-4864-B291-A2815756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1E8-B83F-4471-BDF0-C133764F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D64-7186-40D3-BA21-386ED85B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333-436A-4CD2-9CB3-93F39C3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40F-FDA8-4EBF-A615-9BD9A509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56B-7849-43D0-AC0F-D2B5462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9FE-0E69-4060-B643-72509A1A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986-4989-48F4-8013-A48788F1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6CF-FA0A-4935-A30F-2037B9F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FF1-C1A1-4A55-B105-AD19372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50A-DB13-4075-B827-1D91FD5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AE60F-5BDE-4B8B-AA19-3EC192F6E2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08Z</dcterms:modified>
  <cp:revision>12</cp:revision>
  <dc:subject>Slavic hymnal Гимны веры христиан, hymn 832</dc:subject>
  <dc:title>Господня вся земля</dc:title>
</cp:coreProperties>
</file>