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7</a:t>
            </a:r>
            <a:r>
              <a:rPr b="1" lang="ru-RU" sz="3600" spc="-1" strike="noStrike">
                <a:solidFill>
                  <a:srgbClr val="ffffff"/>
                </a:solidFill>
                <a:latin typeface="Verdana"/>
              </a:rPr>
              <a:t>	</a:t>
            </a:r>
            <a:r>
              <a:rPr b="1" lang="ru-RU" sz="3600" spc="-1" strike="noStrike">
                <a:solidFill>
                  <a:srgbClr val="ffffff"/>
                </a:solidFill>
                <a:latin typeface="Verdana"/>
              </a:rPr>
              <a:t>Под сенью крыл</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Under His wings I am safely abid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 the night deepens and tempests are wil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till I can trust Him, I know He will keep 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has redeemed me and I am His child.</a:t>
            </a:r>
            <a:endParaRPr b="0" lang="en-US" sz="28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д сенью крыл Всемогущего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ри и страхи меня не смут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ёрдо я верю: в Нём милостей 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мой Спаситель, Его я дит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der His wings, under His wi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from His love can s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der His wings my soul shall ab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fely abide forever.</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Он мне от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и счастья р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меня Он у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безопасность навек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Under His wings, what a refuge in sorrow!</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the heart yearningly turns to His re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ften when earth has no balm for my heal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re I find comfort and there I am blest.</a:t>
            </a:r>
            <a:endParaRPr b="0" lang="en-US" sz="28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д сенью крыл умолкают ры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не мучится тайной то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не избавит души от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оге находим желанный пок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der His wings, under His wi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from His love can s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der His wings my soul shall ab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fely abide forever.</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Он мне от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и счастья р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меня Он у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безопасность навек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Under His wings, O what precious enjoymen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re will I hide ’til life’s trials are o’e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heltered, protected, no evil can harm 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Resting in Jesus I’m safe evermore.</a:t>
            </a:r>
            <a:endParaRPr b="0" lang="en-US" sz="28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д сенью крыл — о, какая отр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мой приют от скорбей и невзг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безопасность — чего ещё над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ивном Иисусе — надёжный опло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der His wings, under His wi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from His love can s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der His wings my soul shall ab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fely abide forever.</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Он мне от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и счастья р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ю крыл меня Он у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безопасность навеки.</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51:24Z</dcterms:modified>
  <cp:revision>3</cp:revision>
  <dc:subject>Slavic hymnal Гимны веры христиан, hymn 67</dc:subject>
  <dc:title>Under His Wings / Под сенью крыл</dc:title>
</cp:coreProperties>
</file>