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0CC-CB55-44C2-BB56-E0FCDA8F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FC9-3423-4691-AD8E-7F8FDE11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4BC-3AFA-49FA-AEF9-F541CD23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1F9-F5F2-4A60-AB5A-E8A33FEF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3B5-60C8-4C3D-A180-19FB6C3D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F87-4CE7-4A29-8EBE-9181D574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9A4-5B76-4894-AE1A-31B86747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1D8-68CC-4B21-A772-E605DE5E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1A6-F19B-4F20-A2AC-C2AE17A0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5DC-593C-4614-B0B5-D72EC4B3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501-C919-49C8-9323-B32AFC5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D73-FC1E-4305-AEF4-489DBE6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ACD68-F450-4073-BFE3-849DD2CB08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ee the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unset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art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evening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the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distant galax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awes and humbl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loved by a God s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38   When I See the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hear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God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hared hum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 by 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cross they nailed You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not 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’re making all things 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rise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58Z</dcterms:modified>
  <cp:revision>12</cp:revision>
  <dc:subject>The Source 4, song number 2138</dc:subject>
  <dc:title>When I See the Beauty (What Can I Do)</dc:title>
</cp:coreProperties>
</file>