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64A-312A-4548-B947-89EDDAF5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1F6-6E98-421F-80FB-216CCB9A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826-0AF9-44A9-A6D4-DEC31EEF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77D-23A1-4E76-B213-78AB3152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534-EE6A-4EB0-B32A-2E6136BD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907-D024-4900-B394-B7A6BB4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179-77AB-45F4-9CCA-FCE4E96C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FF6-FD4F-4695-8CA8-62FEE55B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CAF-4708-482D-88C7-523ADF91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56B-7705-4972-B426-01CD8D0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732-9341-4E35-982B-A5DEC8CE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A9B-501C-4F11-9D3A-5DD310D7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EB6BE-9A17-44ED-9229-735BEDAA1C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Спасителю в юные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в Нём верного др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суетою вас мир не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ердце Господь не пору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Спасите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 на крест, на мучень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ного за вас претерпе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оспешите отдать Ему всё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, и душу, и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х и малых не мало у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этого мира нежда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, когда попадём в их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ьтесь к тому постоя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к Иисусу, пока ещё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в Нём верного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не покрыла вас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ойтесь в Христовых заслу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3:58Z</dcterms:modified>
  <cp:revision>12</cp:revision>
  <dc:subject>Slavic hymnal Гимны веры христиан, hymn 379</dc:subject>
  <dc:title>Придите к Спасителю в юные дни</dc:title>
</cp:coreProperties>
</file>