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38</a:t>
            </a:r>
            <a:r>
              <a:rPr b="1" lang="ru-RU" sz="3600" spc="-1" strike="noStrike">
                <a:solidFill>
                  <a:srgbClr val="ffffff"/>
                </a:solidFill>
                <a:latin typeface="Verdana"/>
              </a:rPr>
              <a:t>	</a:t>
            </a:r>
            <a:r>
              <a:rPr b="1" lang="ru-RU" sz="3600" spc="-1" strike="noStrike">
                <a:solidFill>
                  <a:srgbClr val="ffffff"/>
                </a:solidFill>
                <a:latin typeface="Verdana"/>
              </a:rPr>
              <a:t>Боже, видишь Ты страданья</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оже, видишь Ты страда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пути моём земн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стаю я от скита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хочу идти с Т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я знаю, что с Тоб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этом мире я прой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ад хижиной земн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у вечную найду.</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Как порою сердце но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 ярмом нужды зем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трашусь, что всё потон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мире бедствий на земл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я знаю, что с Тоб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этом мире я прой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ад хижиной земн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у вечную найду.</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Буря жизни устраш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грозит разбить мой чёл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ре всюду насыл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меня десятки вол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я знаю, что с Тоб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этом мире я прой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ад хижиной земн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у вечную найду.</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Горе, слёзы и печа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юду вижу я круг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как Пастырь мой всесиль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тешающий во вс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я знаю, что с Тоб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этом мире я прой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ад хижиной земн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у вечную найду.</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Как мне дорого общ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 святыми на земл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и это утеш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всегда возможно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я знаю, что с Тоб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этом мире я прой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ад хижиной земн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у вечную найду.</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6.</a:t>
            </a:r>
            <a:r>
              <a:rPr b="0" lang="ru-RU" sz="3200" spc="-1" strike="noStrike">
                <a:solidFill>
                  <a:srgbClr val="ffffff"/>
                </a:solidFill>
                <a:latin typeface="Verdana"/>
              </a:rPr>
              <a:t>	</a:t>
            </a:r>
            <a:r>
              <a:rPr b="0" lang="ru-RU" sz="3200" spc="-1" strike="noStrike">
                <a:solidFill>
                  <a:srgbClr val="ffffff"/>
                </a:solidFill>
                <a:latin typeface="Verdana"/>
              </a:rPr>
              <a:t>И когда друзья далё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т, кто мог меня подн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лишь Друг мой неизмен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Один всё можешь зн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я знаю, что с Тоб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этом мире я прой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ад хижиной земн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у вечную найду.</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7.</a:t>
            </a:r>
            <a:r>
              <a:rPr b="0" lang="ru-RU" sz="3200" spc="-1" strike="noStrike">
                <a:solidFill>
                  <a:srgbClr val="ffffff"/>
                </a:solidFill>
                <a:latin typeface="Verdana"/>
              </a:rPr>
              <a:t>	</a:t>
            </a:r>
            <a:r>
              <a:rPr b="0" lang="ru-RU" sz="3200" spc="-1" strike="noStrike">
                <a:solidFill>
                  <a:srgbClr val="ffffff"/>
                </a:solidFill>
                <a:latin typeface="Verdana"/>
              </a:rPr>
              <a:t>В этой хижине телес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асто я ношу неду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в моей храмине тес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крепи усталый ду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я знаю, что с Тоб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этом мире я прой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ад хижиной земн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у вечную найду.</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8.</a:t>
            </a:r>
            <a:r>
              <a:rPr b="0" lang="ru-RU" sz="3200" spc="-1" strike="noStrike">
                <a:solidFill>
                  <a:srgbClr val="ffffff"/>
                </a:solidFill>
                <a:latin typeface="Verdana"/>
              </a:rPr>
              <a:t>	</a:t>
            </a:r>
            <a:r>
              <a:rPr b="0" lang="ru-RU" sz="3200" spc="-1" strike="noStrike">
                <a:solidFill>
                  <a:srgbClr val="ffffff"/>
                </a:solidFill>
                <a:latin typeface="Verdana"/>
              </a:rPr>
              <a:t>Но ужасней всего в мир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лоть греховная м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крепи меня Ты в вер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я буду в небес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я знаю, что с Тоб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этом мире я прой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ад хижиной земн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у вечную найду.</a:t>
            </a:r>
            <a:endParaRPr b="0" lang="en-US" sz="3200" spc="-1" strike="noStrike">
              <a:solidFill>
                <a:srgbClr val="000000"/>
              </a:solidFill>
              <a:latin typeface="Verdana"/>
            </a:endParaRPr>
          </a:p>
        </p:txBody>
      </p:sp>
      <p:sp>
        <p:nvSpPr>
          <p:cNvPr id="47"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10:07:48Z</dcterms:modified>
  <cp:revision>3</cp:revision>
  <dc:subject>Slavic hymnal Гимны веры христиан, hymn 138</dc:subject>
  <dc:title>Боже, видишь Ты страданья</dc:title>
</cp:coreProperties>
</file>