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D07-9D7C-4DCA-B467-0863939D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182-1C6E-44BF-A4A5-CF89A6B2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CB0-344B-4778-9152-9E97B948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878-37B1-4EA5-B742-75E20396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A7F-11A5-4393-A140-39F605E3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CD9-C7DA-4FBE-82F9-DD5C7540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707-9396-4BCB-980D-2980C576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224-9E4C-4737-8121-A423C1A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7BB-3DCC-43BC-BD08-10AD23D1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365-E2C4-4086-A18A-CAEDAC6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9FA-BF6F-417D-BE0F-1A25CED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8BD-E99E-40BD-8665-54E7F0B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E90AD-B9CA-435B-8027-5BA9A47933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Скажіть мені, браття і 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ви зібрались і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ня лежать на дороз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рен колючий росте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емо ми в царство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ого щастя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ізь темряву чорної ноч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ачим світ Божого дн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4   Скажіть мені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Як дуже бажав би я з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леку дорогу пі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умка одна лиш тривож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де сили знайти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слухаєм Боже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уха Святого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ші серця підкріпля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 в боротьбі подає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, браття, тепер я ли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е, що у світі я м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і в всім допо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сюди і вам помагав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раді твойого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но нам руку по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зом підемо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Божественний рай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09Z</dcterms:modified>
  <cp:revision>12</cp:revision>
  <dc:subject>Slavic hymnal Гимны веры христиан, Ukrainian hymn 44</dc:subject>
  <dc:title>Скажіть мені, браття і сестри</dc:title>
</cp:coreProperties>
</file>