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F7B8-6DF8-4514-BDD8-525CE5D8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B824-DC00-49EC-92C9-5FEF6824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E1F-50FA-4FF3-942B-8C236094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F4E-5E91-443D-9918-E3908F66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943-BADE-4847-9658-4DFDAEA2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FD2A-EE98-4B37-B05E-A46AC16B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898-C428-4014-8C67-9BC7ECF0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5A4-92B2-49B2-843E-B69CA900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37F-0F73-4F17-BA79-538EB7AF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ECC7-687E-4438-B30D-081FBF83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C248-7A3C-4E72-A1FA-43431528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C3B-F29D-46AD-AC06-FBCFE77C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B885C-AC03-4D5B-8A0C-55D52FE7CD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все лику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ый день наст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ёстры, торжеству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радость д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чуж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друз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ми мы 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, все лику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о пойте: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пас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мена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у жизни запис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приступ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 Синаю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уж не пуг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ы, мол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м со кре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паслись от гн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о пойте: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пас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мена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у жизни запис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и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жив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омыты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и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ая на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ели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ить во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о пойте: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пас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мена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у жизни запис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9:35Z</dcterms:modified>
  <cp:revision>12</cp:revision>
  <dc:subject>Slavic hymnal Гимны веры христиан, hymn 569</dc:subject>
  <dc:title>Братья, все ликуйте</dc:title>
</cp:coreProperties>
</file>