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0E4-1C64-4A38-94AC-20C6E8F5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5FEB-EA51-4148-BC41-F6BEA638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840-4121-485C-A439-4A7073A1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2F7-3EC6-4BB9-8CD8-5240EB6A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555-323E-4F11-8BBC-0D923B77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2CA-3446-46C5-A117-F14C27E0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DF6-34D3-4FFB-BB01-5CA88C21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6A2-CD77-4564-8BEA-63E3A7EC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F18-2758-4CF2-AF80-7E5D595C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27B-AE6B-4074-AE84-4229FEA6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778-3147-4956-A2C4-A0551E55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630-0DE5-42C5-8813-5B4A251A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1754D-5894-4ED9-8F18-E0EB6CB90A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й, куди піду ще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мені шукать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знайде душа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для свого сумлі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різь по світі я сход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 радості шука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тя світ не подар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ю ще сумніше ст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3   Ой, куди піду ще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людей більш не пі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вди, щастя в них шука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 мій, до Тебе 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 Тобою пробув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у Тебе Од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 утомленим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д горя я с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ду ще звільн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рийми, прийми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 правди і любов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гріховне все м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життя почати н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1:15Z</dcterms:modified>
  <cp:revision>14</cp:revision>
  <dc:subject>Slavic hymnal Гимны веры христиан, Ukrainian hymn 53</dc:subject>
  <dc:title>Ой, куди піду ще я</dc:title>
</cp:coreProperties>
</file>