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4A9-AB3B-4921-B8DF-A806B854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37A-F5DD-42C8-BC67-D187270D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0DD-EA8C-4EFB-90B0-AC2A50BF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5DF-D403-409B-BA65-9BB86341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BAA-A3EC-4FCF-8418-7D73028B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E58-A1AF-414C-831A-B7840FBD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A69-1019-48D7-9632-2B33D4C2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0E5-32FC-4042-9CCF-83E2388C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A82-0006-413F-80E2-2816D428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042-8594-4270-BC4A-71E679B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544-200E-48A4-A014-28D50EC9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AD7-529C-4A4B-ADAD-CC26053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52153-804E-4D26-A6CF-0F000DC47C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наш свет и упов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и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нам мир и оправ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ляет нас от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часто враг иск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душевный нам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в свирепый, разъя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всех нас погло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наш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враг пылает злобой д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бессильна наша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ним боролся Муж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ого послал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 этот дивный Муж всесиль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ь наш и миров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ш Господь любвеоб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человечески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мир был полн враг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с нами и м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мся мы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мира в злобе и смят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е может погуб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ан Богом осуж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 скоро должен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мир нас всех ос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ит, будет 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ог заступник верный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ой жизни —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нас лишат и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а, свободы и сем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 к нам с утеш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адит нам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40Z</dcterms:modified>
  <cp:revision>12</cp:revision>
  <dc:subject>Slavic hymnal Гимны веры христиан, hymn 621</dc:subject>
  <dc:title>Господь — наш свет и упованье</dc:title>
</cp:coreProperties>
</file>