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4B9E-A0D9-4DBF-A03B-2513008B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109F-9136-41E3-8092-9EB9235A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9A06-DFB1-41E7-9C36-5822A465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64BC-FC97-4198-A07A-88DC6742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814E-CFB8-412F-870E-58E8DDA5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F7C0-C0DE-4BB2-B234-8610212B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4580-27FC-41A0-8261-2B6414C5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6853-0647-49DC-B6C7-B2B5AC5C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C460-2247-478B-8F5B-BC024779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9D29-A70B-400C-81BF-CD4FA529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556E-7E55-483F-95B4-1C65645E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53D4-1457-411C-9113-40829451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296DE-3E86-400C-A87E-76B9128EDA2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a pilgrim, and I’m a stra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tarry, I can tarry but a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detain me, for I am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here the fountains are ever flo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этом мире я толь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я только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олго, мне не долго быть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огом окончу путь мой далё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, где блаженства льются пото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a pilgrim, and I’m a stran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tarry, I can tarry but a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я только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олго, мне не долго быть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the city to which I journ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Redeemer, my Redeemer is its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no sorrow nor any sig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any tears there, nor any d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й отчизне, куда стремл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Спаситель, мой Спасител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печали, нет воздых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недугов, нет умира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a pilgrim, and I’m a stran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tarry, I can tarry but a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я только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олго, мне не долго быть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the glory is ever shin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my longing heart, my longing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he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n this country so dark and dr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ng have wandered forlorn and we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там всё лик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ня в тот дивный, дивный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этом мире тёмно и жут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томился, нет мне прию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a pilgrim, and I’m a stran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tarry, I can tarry but a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я только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олго, мне не долго быть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10Z</dcterms:modified>
  <cp:revision>14</cp:revision>
  <dc:subject>Slavic hymnal Гимны веры христиан, hymn 680</dc:subject>
  <dc:title>I’m a Pilgrim and I’m a Stranger / В этом мире я только странник</dc:title>
</cp:coreProperties>
</file>