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65CB-46D4-41AC-896E-D4CB03DA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FFE-74C0-456B-914B-669E57CF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B35-D8CF-46B6-9B8E-EF075CF3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A42-A8EF-46D2-90B4-4BBAFF02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D9E-FE1A-40FB-86EE-F2B4CD73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D47-C1C9-4DBF-9C09-AA2238FF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B6E-19F7-4F29-A0EE-473E4F2B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A10-05ED-4432-9935-4EFF7C5D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313-EAAA-48F5-B004-975DBB6E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F534-B173-45D2-BBEB-AB4CA41D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80D-D6BD-4330-8F4B-356EB731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919-CCB2-4C32-85CB-0A50CA14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88E41-66D4-449B-BAD4-CE4856A7FA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коро дні біжать впер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тихо по черзі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скоро наш Господь прий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рати нас дом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9   Як скоро дні біж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вірив, і надія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бував в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го візьме Він в віч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будуть всі свя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й для мене т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лідний час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Господь візьме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ий дім Отц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серця вірю, що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візьме в той д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той славний день при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вічно з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2:01Z</dcterms:modified>
  <cp:revision>12</cp:revision>
  <dc:subject>Slavic hymnal Гимны веры христиан, Ukrainian hymn 69</dc:subject>
  <dc:title>Як скоро дні біжать вперед</dc:title>
</cp:coreProperties>
</file>