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088-B27E-47E5-9A04-8008DF96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FAA-186E-4FEE-8E02-382878F8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AB7-402D-46BF-9F28-B448F241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DC3-C5A8-4240-A322-C9298E70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6C4-E40B-453F-971D-AFBDFE18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08D-708B-4AA8-A8D7-2C106B58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500-2ADF-48D3-8E55-FC141575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24D-65FE-4ED8-984D-5615B7FA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C39-3146-4976-8BAA-E5CC5E07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388-5A5A-4F2D-B402-DD27943D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25D-9987-4E4B-9C5C-A4627204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4A8-5D67-49F9-972A-0C8A18D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04C71-300F-45A9-859D-F599319546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ord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for sure all of my day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d in Your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afted into Your perfec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ый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Господь, чудны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ю я: все мои дн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шь в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х руках, меня хра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gently call me into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ing me by Your Holy Spir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, dear Lord,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life through Your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влечёшь меня быть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Святым мне Твою во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ажи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полнять пом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aptured by Your holy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me apart, I know You’re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 to Yoursel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, Lord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ь Своей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, чтоб быть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я пр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e, moul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se me, fil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преобраз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жизнь свою, Господь, 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me,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, walk bes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рядом буд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жизнь свою, Господь, 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13:18:38Z</dcterms:modified>
  <cp:revision>11</cp:revision>
  <dc:subject>The Source 2, song number 640 in Russian</dc:subject>
  <dc:title>Славный Господь, чудный Спаситель / Beautiful Lord, Wonderful Saviour (The Potter’s Hand)</dc:title>
</cp:coreProperties>
</file>