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DA3D-AF68-40D4-A09C-6985EA5E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DFBC-CFD9-4796-A541-88FC2FAB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95B0-F86A-45D0-A07F-B63DFFFF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DF1C-DD85-4DAE-B127-46601582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0C08-8C46-4CBE-ABE6-424CA075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9437-8FB0-4354-93AA-B25FC8F1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0397-36F8-49C8-A99C-661BDDD5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A0B7-AE2E-4A2B-99B7-97D1A599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8300-F3F6-45F4-B035-C081C2DD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F490-E38F-4661-8223-35D1561A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E520-BCA6-4444-B3F4-8AAFC393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B2F5-01AA-4756-A69C-2F2B8B36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81DEB-4962-490C-90AE-E4DCF37B89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еди, друг, жизнь бесп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, как пар, она прой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 мира скорот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смерть к тебе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у минуту вдруг исчез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лесть мира, и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сть смерти в ужас вверг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м ты найдёшь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веди, др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кажутся ничтож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твои д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ешь, к цели лож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жизнь твоя тек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не будь же, друг, беспеч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стигнутым враспло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нев Его тогда уж веч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бо верен в слове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зовёт тебя, поверь 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в любви С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ты открой теперь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ск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уверен ты в прощ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верь Христа слов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обрёл тебе спас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Он смертью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шлёт тебе отр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ре — счастье и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тебе затем нагр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рай введёт с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9:59Z</dcterms:modified>
  <cp:revision>12</cp:revision>
  <dc:subject>Slavic hymnal Гимны веры христиан, hymn 366</dc:subject>
  <dc:title>Не веди, друг, жизнь беспечно</dc:title>
</cp:coreProperties>
</file>