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503-AA44-4B22-B90C-C2353AA8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744-48F3-43D8-9D85-FF4664D1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FBB-E815-457D-8BBD-E4273205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1D2-6727-4A8B-94B5-C3B56AF6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384-5F62-4E84-97E0-757CEC9C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1AA-209E-494A-9B61-F8A4820D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13E-C687-4D1B-8FB7-9F231D06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8DF-724C-4804-B845-2DE28B16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5AA-7F64-4CDC-8478-0DD5FABF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2BE-3BD5-416A-B18D-B1B1297B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5A1-1F8E-4404-9AA8-E5221EB5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A3B-7C47-4E27-9E46-F5A3C9D3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743B3-CA4C-474E-9D93-B811A5ECC9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, my joy, my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strength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Him I would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мне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радость, жизнь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меня Он не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оял бы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m sad, to Him I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one can cheer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m sad, He makes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ёлый час отец и 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т нас так уте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ю печаль прогонит вда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riend in trials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Him for blessing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ives them o’er and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дивных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ds the sunshine and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ds the harvest’s golden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shine and rain, harvest of g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а сень, и тёплый 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сный день, и урож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плый май, и урож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e to Him I’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could I this Friend de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’s so true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 Ним счастлив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отречься от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верен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Him I know I’m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tches o’er me day and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Him, by day and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 — спешит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и день, и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no bette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ust Him now, I’ll trust Him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’s fleeting day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горя не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я верою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родине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ife with such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ife that has no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life, eternal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 жить с Христ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ить, быть вечн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на век ве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1Z</dcterms:modified>
  <cp:revision>13</cp:revision>
  <dc:subject>Slavic hymnal Гимны веры христиан, hymn 470</dc:subject>
  <dc:title>Jesus Is All the World to Me / Иисус мне больше, чем весь мир</dc:title>
</cp:coreProperties>
</file>