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1D5-FD09-410E-8E5E-B64A4820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594-B4E3-4FF7-8424-234E91E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D9B-9B04-4751-918B-56EE06E3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339-788D-48B5-BCB0-2E18909D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A01-95B6-454A-9601-790D596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862-1171-4C94-97E3-98C9FB35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886-659E-4424-A9EE-D72A293A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BE6-509F-4D7C-967C-CEE9D38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8CA-B8B0-4429-91B1-E12BD07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E0E-151B-4DB6-B40B-D82FDB1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EBE-C7FA-40A0-8921-74ECA68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850-D711-48E0-AFE0-6A6A4A9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AD545-59AE-40C2-9408-840E300577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ighty fortress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bulwark never 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lper He amid the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mortal ills prev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our ancient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seek to work us wo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raft and power are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armed with cruel h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s not His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we in our own strength conf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iving would be lo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not the right man on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 of God’s own choo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st ask who that ma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, it is H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Sabaoth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ge to ag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must win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this world with devil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threaten to undo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not fear, for God hath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to triumph throug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of darkness gr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mble not for him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age we can end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his doom is 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ittle word shall fell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rd above all earthly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hanks to them, abid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 and the gifts are 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m who with us sid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goods and kindre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ortal life also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ody they may k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truth abideth st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26Z</dcterms:modified>
  <cp:revision>12</cp:revision>
  <dc:subject>Slavic hymnal Гимны веры христиан, hymn 849</dc:subject>
  <dc:title>A Mighty Fortress is Our God / Твердыня наша — вечный Бог</dc:title>
</cp:coreProperties>
</file>