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1FC-333F-4CB0-AD26-2A8B6FEB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11C-F421-46EE-9B23-D01E7650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122-CE86-4D82-B086-C22144BC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21E-7B2F-4395-92D4-1ED79628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F0F-6B99-467A-B228-2997C26A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70F-EEBA-4B5D-8073-2EEF357D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650-F07B-406B-A94E-62627BF5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672-B514-45E0-9853-321A83D1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35C-4D9F-4C3F-A7AB-F4B22710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C27-AB5B-4476-8321-FF55F89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A8A-B4EE-4FA5-9252-5EFE3B88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63E-3D14-4015-9E7E-B9F720DF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8C936-A64D-4384-B3EB-19F6A54780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w in the grav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he coming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1   У гробі Він леж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робі Він леж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я слави дожи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watched His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seal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ере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а в гроб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ь й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cannot keep his pr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re the bar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смерть подо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скрес у сла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5:26Z</dcterms:modified>
  <cp:revision>12</cp:revision>
  <dc:subject>Slavic hymnal Гимны веры христиан, Ukrainian hymn 81</dc:subject>
  <dc:title>Christ Arose! / У гробі Він лежав</dc:title>
</cp:coreProperties>
</file>