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27E-D613-444B-AD04-4A21D764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0FF-E583-47ED-AA95-4E947434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14E-2F1D-4A8A-A9D7-B76D7C85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61D-3F9E-4A2E-80AC-691C59A2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3C8-D8C1-4DE8-85AD-434B86F8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B6A-90AF-4DC2-A6F8-7729E080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256-E5BB-4A53-AA55-85F974E4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1EF-6033-4C22-A8B7-3D32A1D3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C74-3C86-4AC7-8C87-13F8B59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331-287D-4AD8-A62D-51C5AC1B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803-17F5-480F-BB4F-F21A330D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100-D91F-4EC7-8C15-836698FD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C63D4-DA9E-46A9-A2E8-FF4A25EB9E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Сын Божий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жизни откр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ами Своими Он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ых язв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вца блуждал я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меня всё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вь Свою Сын Бож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нец терновый по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за нас Он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Он всё претер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лечёт поток тот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ко Христу всё силь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ю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, согрешил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хочу я откр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я виновен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ем греха мне не с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к Тебе я 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еня поток тот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благодатной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8:05Z</dcterms:modified>
  <cp:revision>12</cp:revision>
  <dc:subject>Slavic hymnal Гимны веры христиан, hymn 431</dc:subject>
  <dc:title>Кровь Свою Сын Божий пролил</dc:title>
</cp:coreProperties>
</file>