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962-1663-4DE6-B1A9-7F4F8EAC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FA9-F7DF-4126-98CB-F72A1F3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809-0469-4FF3-90B5-7BCFB68A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8CD-83CA-4624-AB23-B573B17C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EEE-D1B6-4643-B94F-66B7177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E3E-F620-4553-BC47-07894A5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1F1-982D-4A6F-BCBF-7C211AC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3D4-0C44-4AC8-81F2-B7BA4D2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F54-4405-4C6F-BFCC-486E8D1A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472-F405-4159-9207-7863E89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8C5-83CE-4096-A2E2-4991C90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1CC-2DB9-4CDB-B890-51F0A83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59B62-05FE-4C06-9B57-1E0A6AE162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Тебе я отд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Творец 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царства тьмы Спаситель мой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 Себе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ой дар любви серд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вяти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прим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и меня! Тебе я отд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К Тебе моя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лаб и греш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отринь ничтожного ра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вся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 я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 грехом, покрыт вин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, бесси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О Боже, сниз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жалься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немог. Огонь гори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трашен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жить, детски уп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лечёт любовь свят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юсь я, наде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Хочу 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ься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за грешного р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Твоих течёт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, мир и исц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увер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1:50Z</dcterms:modified>
  <cp:revision>12</cp:revision>
  <dc:subject>Slavic hymnal Гимны веры христиан, hymn 458</dc:subject>
  <dc:title>Прими меня! Тебе я отдаюсь</dc:title>
</cp:coreProperties>
</file>