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E6F-7344-4431-8D4F-4735061B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004-EAA0-4B14-80D5-D4D0CAD1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690-7291-4CF8-A121-20F5B653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ED8-3E67-416F-A786-D8050A67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187-AF79-484C-B31A-E238930F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9B5-54B8-4978-A7EA-E8A1A502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64D-BC47-4963-A354-A5B765D2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EF9-7165-474D-97D6-D49646DF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E03-92B9-4FBA-9318-6F952F25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120B-8BB9-4AC0-BA1B-15118D19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07F-7301-4A9B-A87F-926ADB5A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CC6-DA51-4958-A2F9-84AB87EA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4EFF8-0481-45EF-86D4-EC2FB236BE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большего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ваться не дерз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ёт мне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вятой наполнил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свет рассеял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ось, я слы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ё ко благу твоему!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Господь всегда со мн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яет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 небесных удосто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ет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га порой споткн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ываю оди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калы Высокой 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и поток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та блаженства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Он успок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в небес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живой из царства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тся в край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т Христу хва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был всегда со мной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8:25Z</dcterms:modified>
  <cp:revision>13</cp:revision>
  <dc:subject>Slavic hymnal Гимны веры христиан, hymn 865</dc:subject>
  <dc:title>Мой Господь всегда со мною</dc:title>
</cp:coreProperties>
</file>