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CB6-8694-4D0D-AD16-B314FEA2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2E8-C9B6-43E9-9884-9F882B5A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D21-012E-4C1D-B698-72EE7735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F51-BA40-4D38-A2F3-92B20B8C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DD7-AD61-445D-906D-1A0428C5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00A-B592-4F6D-9E02-02783F81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241-07C1-4BBD-8977-7D204529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5AD-D1D2-47F3-8641-96378F16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368-C0D0-4FF9-9A98-71487320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A8B-8790-45B8-B42B-5732719E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9B8-00FF-481A-9ABD-16F8D2A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ECD-DC7A-4AA5-9FD2-649189A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FF81E-E644-4528-B448-C6AE770694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, мій Спа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 мій голос т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війди в моє Ти се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   Не минай мене, мій Сп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престолу милосер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мені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колінах, в скрусі сер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від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Тебе покла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лишай мене нік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моїм житт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є джерелом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сякого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веди мене ру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ямо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4:36Z</dcterms:modified>
  <cp:revision>13</cp:revision>
  <dc:subject>Slavic hymnal Гимны веры христиан, Ukrainian hymn 7</dc:subject>
  <dc:title>Не минай мене, мій Спасе</dc:title>
</cp:coreProperties>
</file>