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FD8-788C-4654-9F7F-3B9D3FDA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221-7A7C-4126-8D2C-D1F0316A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FBB-DDCB-4BD5-A85C-9382260D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FCC-1930-49E6-B6AD-6CB2635A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3F-DC57-407F-A57A-4684D50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409-96C1-4130-B90E-13BAF035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B29-36D5-4CD7-9A8C-A4B46C2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AC5-38CE-4F91-B147-A7B6610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23F-9411-4A44-A69F-D7B4C42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ED4-A267-4DD1-A84A-1BDC600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F62-5149-45DB-8290-6A02D96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21E-5CE3-4049-8D26-C1B0D26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D3743-8386-495E-A8C5-855640CC2E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com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that’s never-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rcy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dness of a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5   Everyone Need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as You f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fears and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y lif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believ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35Z</dcterms:modified>
  <cp:revision>12</cp:revision>
  <dc:subject>The Source 4, song number 1785</dc:subject>
  <dc:title>Everyone Needs Compassion (Mighty to Save)</dc:title>
</cp:coreProperties>
</file>