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4F4-1D32-4230-9047-BD141DC8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7A3-63BC-45B1-B625-6C551231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C9D-F57A-44C4-8A86-D26A9E1A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02F-60EC-4319-9D56-D8AB4E23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3DB-778A-4B65-ABA2-15CB96E4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C75-0FB7-43F3-8E91-22150523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C0C-C4B1-47A9-B9EA-FBCFF646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739-F2AD-4CF7-A11A-836EB4A9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C6F-3857-4187-BD0B-2F6D6C6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CF6-04AF-4019-BCEA-AA6A16F8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07D-3D9F-4A55-9C30-B0CF6DB9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A7D-B88A-4EC5-81E2-914D0F11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3EEF1-CCB9-4295-A21C-790FBEC430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daily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on’t want to worship from af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near to w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welling-place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to the place where You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Just Want to Be Whe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sting at Your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lways want to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enter boldly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on’t want to worship fro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near to w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God, You are my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I’m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’m weak, You’re alway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welling-place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to the place where You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24Z</dcterms:modified>
  <cp:revision>10</cp:revision>
  <dc:subject>The Source, song number 207</dc:subject>
  <dc:title>I Just Want to Be Where You Are</dc:title>
</cp:coreProperties>
</file>