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9E5E-C145-47CE-9BA1-5F167EFF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35D7-7465-4CDB-A4E4-63B54D61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FDC9-6B8C-4330-A289-79E113BD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6149-EFB6-4C15-8A5B-45FF17DF9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FCA5-E6C0-410C-87E4-B492EAE3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99D5-E1C3-4090-A751-6BDB159C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2B71-EB82-4422-8865-3572E113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3CFB-FD56-482B-9B7D-988C225E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C489-776F-4C4D-B8B0-AD6380A9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CED0-A3A5-4DB9-97B0-4DFF62F6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6F2B-8E05-445D-8EA1-B4788C7C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0153-99C0-4794-AF80-9F8E112A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1B182-5316-4AA4-89DE-CEAEFD05E2C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шует житейское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вною страстью кип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круг — слёзы, вопли и г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изнывает, бол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оремся, силы теря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им: поможет нам Б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ихую пристань узн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пристань — небесный черт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ушует житейское м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шует житейское мор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но, непроглядно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ю я со скорбью во вз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: кто враг мой, кто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оремся, силы теря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им: поможет нам Б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ихую пристань узн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пристань — небесный черт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шует житейское мор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як… а на нём огон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адья наша с бурею сп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онь маяка нас привл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оремся, силы теря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им: поможет нам Б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ихую пристань узн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пристань — небесный черт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шует житейское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ирепо и грозно шум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мраком не видно просто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асностью море гроз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оремся, силы теря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им: поможет нам Б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ихую пристань узн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пристань — небесный черт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5:58Z</dcterms:modified>
  <cp:revision>12</cp:revision>
  <dc:subject>Slavic hymnal Гимны веры христиан, hymn 512</dc:subject>
  <dc:title>Бушует житейское море</dc:title>
</cp:coreProperties>
</file>