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F2F-A071-41CF-9C1F-EAE00BCC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7B9-C2B7-49A5-9F3D-13EC0E49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B25-1763-4876-8EBC-FA4D7212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C3C-406E-473A-9C12-B255D71F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308-3C6D-4955-941C-ECCAB73D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680-61FF-4685-95BB-ACBB89BC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B1A-4CED-4D14-B669-C04172F7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A81-B5CF-41EE-9477-380630A5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ED3-3345-4E41-9FFB-02EDFD65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3DD-45D5-4086-AF1C-71403D8E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65A-E34D-41A8-871E-2DEB99B2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A72-B6F0-40CD-B2FB-11F790A8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E7EA8-DCF6-42A7-A994-7A2B651E57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O Lord, my God, when I in awesome wond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Consider all the worlds Thy hands have mad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I see the stars, I hear the rolling thund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y pow’r throughout the universe display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3   Велики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ий Бог! Коли на світ погля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ачу все, що Ти створив в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кожний цвіт склада Тобі пош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обняв любов’ю Ти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when I think that God, His Son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par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t Him to die, I scarce can take it i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at on the cross my burden gladly bear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bled and died to take away my s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рю Христа смиренного між лю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маю я про Його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прийняв за нас усіх нару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 хресті пролив невинну к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окуси серце огорт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 мій тужить у важкій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пречисті руки простя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кріплюсь в Його любві свят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8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Christ shall come with shout of accl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ake me home, what joy shall fill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I shall bow in humble ado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re proclaim, “My G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great Thou ar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мене Сам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ить промінь сяєва Його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в смиренні замов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знавши велич Господа с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en through the wo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forest glades I wand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ar the birds sing sweetly in the tre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en I look down from lofty moun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grand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ar the brook and feel the gentle bree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ивлюсь на мерехтючі зор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горять світи незнан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онце й місяць в вічному прост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ивуть в тиші, подібно кораб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весні природа розцвіт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ую я в діброві солов’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апах піль квітуючих вдих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’ю сповнена душа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із хмар навислих грім лу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пітьмі ночі блискавка миг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 дощем природа ож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ка в небі барвно за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еру я Книгу Запові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Твої читаю я ді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любив Ти нас, людей на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ля спасіння Сина нам посл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6:17Z</dcterms:modified>
  <cp:revision>12</cp:revision>
  <dc:subject>Slavic hymnal Гимны веры христиан, Ukrainian hymn 83</dc:subject>
  <dc:title>How Great Thou Art / Великий Бог</dc:title>
</cp:coreProperties>
</file>