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C85-5FF1-4080-A072-EF94E5BD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550-421A-4271-BEAB-82D3C01B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632-C887-494F-9BF3-2B8D4A18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15C-572B-47ED-AD59-097185FB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2B9-904B-4857-8CF7-A2E8D7CA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67E-5339-47FE-B245-77DF9EC0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0CB-4DA5-492B-A096-AB5F1A4C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CF9-0055-45AB-BCA9-8325EAFE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398-47F6-4787-98D9-3FC4E32C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3F1-87ED-464F-9C84-57EF6DCB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31F-88DC-4768-A3A0-0B6D80B5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F62-EAEF-46AA-B459-04C183B6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F4FF8-D172-4B6B-BFF1-47808A280D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ы куда идёшь, скажи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с посохом в ру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милостью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учшей я иду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горы и дол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степи и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леса и чрез равн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домой, друзь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куда идёшь, скажи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нник, в чём твоя на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тране твоей род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оснежная 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нец весь зол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очники ж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е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за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жгучие песк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х и ужас не знак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а пути т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Господни лег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т меня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т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клонною тро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в небес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ак возьми ж меня с с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чудесная ст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ой друг, пойдём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тебе моя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алёко уж р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еланная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чистая,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ведёт с тобой туд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3:44Z</dcterms:modified>
  <cp:revision>12</cp:revision>
  <dc:subject>Slavic hymnal Гимны веры христиан, hymn 613</dc:subject>
  <dc:title>Ты куда идёшь, скажи мне</dc:title>
</cp:coreProperties>
</file>