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946-15A0-45E2-B3B7-3024DB8D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B7B-D8DA-45EE-913F-F46638D6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CC9-17BF-407E-931F-F5B7651E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656-5CD8-4960-A3B2-387E27F7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FD0-AF6F-4CA3-A0BE-2214D960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583-25E0-4D3E-9383-6D7889B3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B2A-E5CC-4DCC-B0FF-1DE5AB76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622-05FA-4434-9CD9-316B80F0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397-CFDD-4EE7-8CD4-9757486F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4C1-408D-4D69-8CBD-20224A0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055-89E9-435F-A971-56BCC3B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914-8C24-497D-A677-1EFC3B12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6AB2B-8B76-409A-B906-1EF53A6053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epped down into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ed my eyes,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y that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eart ador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of a life spent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6   Light of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all d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so highly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ous in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y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arth You crea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’s sake becam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y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on that cross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10Z</dcterms:modified>
  <cp:revision>14</cp:revision>
  <dc:subject>The Source 3, song number 1406</dc:subject>
  <dc:title>Light of the World (Here I Am to Worship)</dc:title>
</cp:coreProperties>
</file>