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ED1-8B55-4F15-942E-78405452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89B-1EBE-4B1A-A3B1-0848B7D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A66-19D9-484A-9DCF-23813B7D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093-CB6B-4CB6-8CCE-3B2FD727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0E7-EFFD-42B6-A2B1-D33C01A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970-4768-4AF6-A946-07F81767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F37-1693-4E78-86FD-3CF07705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BA1-ED35-4E8B-A241-80841943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DAD-C160-4245-BC6F-452DBB99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F2F-9686-429E-99E3-436E478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D99-5933-4F08-A2F1-5B38BB1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BE9-C9E4-4C7A-AE3B-36B4D20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C739B-6020-4E35-BFD8-30F5E9C37A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53Z</dcterms:modified>
  <cp:revision>12</cp:revision>
  <dc:subject>Slavic hymnal Гимны веры христиан, hymn 490</dc:subject>
  <dc:title>За Евангельскую веру</dc:title>
</cp:coreProperties>
</file>