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FFD-2910-46D0-A08A-EBC9DF0D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AB3-9E6A-4EC3-BA03-0D86B78D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F65-63FE-49F5-8B90-3F6594AC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63D-3FE5-4360-9E1C-B9D8A2E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788-E95D-4DDB-B0EB-C867DBA4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A02-709B-4770-B205-E3BE0940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881-185F-41F7-9EFE-E9E95F7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144-0980-40E6-9686-67EA79EC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D6F-37AE-412C-A55D-7B07D7EC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74F-FE09-41EA-B7E3-AFE96FE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FA8-88F1-433A-801E-CA8B788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D80-B3D4-4240-9FF7-9C8B521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CC33A-5F22-4CCA-AFC2-E2A9B1E3B8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02Z</dcterms:modified>
  <cp:revision>12</cp:revision>
  <dc:subject>Slavic hymnal Гимны веры христиан, hymn 847</dc:subject>
  <dc:title>Спаситель, мысли о Тебе</dc:title>
</cp:coreProperties>
</file>