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DB00-E65F-40C4-8B23-5AC61F97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F2A4-BF87-4DE3-B9ED-EB3A4079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87E5-47D2-44C8-AAD9-457961F3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8BB3-83F4-420D-A96D-CD155EF5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8D09-9C03-4B67-B37D-19192DA7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A559-30F1-4AA8-AE89-70E0B8FC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04CD-8F90-4073-871B-02229F8E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5BDF-6F93-4CA0-A695-B68004FB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FE63-2E1C-45AD-AF8B-B11427DF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EA59-1D5A-4823-82B7-3BF72889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2A3F-0B68-419F-B40D-5B8D6FC8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22BB-B334-4FE3-9A6F-157131DC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399A8-4A5F-4C65-B75B-2D317922E6C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яться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то-то шепчет м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доверяй впол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ой раз в тиш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шь к Нему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чти увер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?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рехом пор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?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в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тебя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ьский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итве церковь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ник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дно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рыта д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» свело с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ило сил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ало чрез «поч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ет на 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3:38Z</dcterms:modified>
  <cp:revision>13</cp:revision>
  <dc:subject>Slavic hymnal Гимны веры христиан, hymn 892</dc:subject>
  <dc:title>Почти уверен</dc:title>
</cp:coreProperties>
</file>