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F8F-A3DB-42F5-A683-AC51DA65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7C8-E842-413D-8FA0-B11DB52A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584-EB1E-4FFA-A348-EC2CCAC0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4CB-42BD-48EE-8EE9-615A3728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69A-6D14-4FE0-9622-711B0DE4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DDD-14FC-482F-BE4E-146CEB65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C08-A51E-47B5-BE50-AF847E51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0D2-F8E7-436F-8A0C-446E4596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DDC-63FA-494A-AB05-BB70EDBF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6CB-697C-44D5-8D1B-66E0AE7E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BD3-6E92-4B98-97BC-69A95807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DC8-A3F0-4DB2-AF9C-7CE51440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30C4F-8BDB-4CA7-B7D9-0B613E9CB2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ой! Христом спа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навек приобрет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я Ему слу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й! Я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Тебе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ею 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 ногам Твоим кл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св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ой! Христос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стелин душ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енья Совер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жит всё в руке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й! Я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Тебе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ею 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 ногам Твоим кл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ой! Христу в слу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ныне от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час мой и мгнов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волю, жизнь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й! Я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Тебе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ею 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 ногам Твоим кл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ой! Бог Милост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меня Своим наз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е вечности счастл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удел мне об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й! Я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Тебе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ею 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 ногам Твоим кл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5:16Z</dcterms:modified>
  <cp:revision>12</cp:revision>
  <dc:subject>Slavic hymnal Гимны веры христиан, hymn 482</dc:subject>
  <dc:title>Я не свой! Христом спасённый</dc:title>
</cp:coreProperties>
</file>