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140D-7F3D-4163-8FA6-69485D65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5C77-252A-48F9-AF82-0527ABA1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A4D-5ACA-41CD-94B7-9D63D38B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B24-7341-44C8-8BE9-CC63D8A3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F489-6360-4389-A7E3-0E8F7374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13E-31A7-449B-9168-50A67A49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4F2-1DC9-456E-B6F0-4EC9FBE3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7C63-801E-4205-B2BF-6F890B93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2767-2B9F-4518-893F-A149AAB1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5A3-1F25-48BE-B806-2EAB368E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8DE-B206-4222-A8BD-83D98E2B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0BB-773D-4663-86D3-CBA11A29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15B01-C5E4-4F05-B002-0191094C8D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highest of h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depths of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eation’s rev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797   От небесных выс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небесных вы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 бездны глуб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 С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 твореньи я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comparable, unchange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see the depths of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 love me the s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ествен, могуществ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ящий сердце м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вший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умите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olours of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fragrance of sp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’ry creature u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ong that it s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exclai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сенних ли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цветенья вес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воренье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ят Бога о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лав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describable, uncontain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placed the stars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 know them by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ивительный, восхитите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вел звёзды на неб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ал им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умите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owerful, untamea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estruck, we fall to our k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we humbly proclai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ествен, могуществ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клоняясь хот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ь всей зем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зумителен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has told ev’ry lightning bo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t should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seen heavenly store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den with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вет молнии в н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авил сверк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ых хранилищ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жит сне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magined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ves source to its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conceals it to bring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olness of 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can fath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творил Он нам 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л ему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вечерней прохла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лав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describable, uncontain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placed the stars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 know them by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ивительный, восхитите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вел звёзды на неб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ал им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умите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owerful, untamea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estruck, we fall to our k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we humbly proclai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ествен, могуществ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клоняясь хот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ь всей зем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зумителен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describable, uncontain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placed the stars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 know them by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 2-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ивительный, восхитите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вел звёзды на неб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ал им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умите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3T09:34:48Z</dcterms:modified>
  <cp:revision>11</cp:revision>
  <dc:subject>The Source 4, song number 1797 in Russian</dc:subject>
  <dc:title>От небесных высот (Ты изумительный Бог) / From the Highest of Heights (Indescribable)</dc:title>
</cp:coreProperties>
</file>