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AAA-C403-41C0-9723-4C24F812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919-2AC9-4993-9160-EF719772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EBD-0DCB-4035-9BE2-F14F7250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A61-B882-4A29-B356-679A42F5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CD1-C12B-431E-885F-8F75ACD2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FD5-64E3-4B0F-BED3-B8A2011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408-16E7-4E87-A854-B35A804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1BF-0994-477F-96A0-081D7D5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1D1-621A-4CB8-A313-3441B03B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D6A-C672-449E-8D57-BA76563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A19-7981-4E16-AB69-38FE2A6E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35D-C5BD-489B-99AF-CF512352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2A558-9352-41D2-B076-B91F0CF361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aught me how to wat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tch and pray, watch and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ve rejoicing ev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26Z</dcterms:modified>
  <cp:revision>11</cp:revision>
  <dc:subject>The Source 2, song number 908</dc:subject>
  <dc:title>O Happy Day!</dc:title>
</cp:coreProperties>
</file>