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D44-7C5D-4D5C-9226-FCC4CA41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214-308C-4CBA-98E7-60520773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DC0-3F08-410F-A327-0B7B3F5E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7CD-7EC5-4391-955F-810DD915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100-8496-4711-A517-4E4620C1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39E-A690-4DB1-9C4C-097C34CA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496-49AD-41FC-BF3D-A4E27F3B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B44-3876-42CA-BE36-AEAA9545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336-D4E2-4AE7-A3ED-ED61F89A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35B-19E4-4D71-9C13-AD9FE2FA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7AD-CF31-4CB9-B43E-93437D2F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3A3-D389-44A4-A4A7-3060F83B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5AD6E-B6D6-474E-8A54-C69CB6B350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ere ninety and nine that safely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elter of the f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ne was out on the hill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off from the gates of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вяносто девять ов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яносто девять овец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Пастырем в свой заг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на блуждает от ни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грозит ей со всех сто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angels echoed around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for the Lord brings back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for the Lord brings back His ow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ангелы радостный гимн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Ликуйте, Господь отыскал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Господь отыскал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on the mountains wild and b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from the tender Shepherd’s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from the tender Shepherd’s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уть бедной придётся в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ou hast here Thy ninety and n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y not enough for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Shepherd made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wandered away fro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вяносто девять овечек зд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очно ль их Теб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 Пастыря сердце для каждой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их не покинет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though the road be rough and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the desert to find My sh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the desert to find My shee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б ни встретил Я на Своё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ne of the ransomed ever k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eep were the waters cro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dark was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passed thr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He found His sheep that was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пасённых никто не видал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 где Он овцу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 тьме ходил, как Он звал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щельям и выступам с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in the desert He heard its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nd helpless, and ready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nd helpless, and ready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ека услышал Он слабый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hence are those blood d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rk out the mountain’s tr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ere shed for one who had 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t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Shepherd could bring him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ему, Господь, на Твоё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мы свежей крови след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лилась Моя кровь, чтоб овцу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ликих страданий и б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hence are Thy hands so 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pierced tonight by many a th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pierced tonight by many a th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 раны зачем на руках Твоих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нак верный, что Я возлюбил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верный, что Я возлюбил Мои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all thro’ the mountains, thunder r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up from the rocky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ose a glad cry to the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I have found my sheep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ней любви вознесли хв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гоне был каждый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 пенья дошёл до небесных в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обрый Пастырь нашёл овц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0:15Z</dcterms:modified>
  <cp:revision>13</cp:revision>
  <dc:subject>Slavic hymnal Гимны веры христиан, hymn 841</dc:subject>
  <dc:title>The Ninety and Nine / Девяносто девять овец пришли</dc:title>
</cp:coreProperties>
</file>