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4E35-B1E6-4B07-A8CD-7F969E355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25C6-247B-43CF-BF3B-09E2A75D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9B49-44CC-437C-A265-AEEA9C94C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B39E-76DE-4C6A-9210-D0B7F609A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DAEE-FDDE-4771-9496-EC11CBAC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0F91-C250-441B-9369-EC99D84D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F519-8812-46D1-A3EE-AFF82CF4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EAD2-2D50-47D0-8681-7396A1ED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4A22-3CA2-4AEA-999E-63959404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86ED-5D46-4CC5-B705-BC8196CB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24C3-1364-483E-A194-D140B3A2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DBA6-7973-4CB5-8355-BCFCE50C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F27257-AE53-45F9-9334-75EBC0E3C87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тко и нежно Иисус приз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призывает, лю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 у порога, стучит, ожид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 Он меня и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(приди), приди (при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, кто жаждет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Иисус при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не медли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ротко и неж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ли медлить, когда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т, о каждом скорб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благодати принять не хотите 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для тебя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(приди), приди (при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, кто жаждет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Иисус при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не медли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ни сгущаются, смерть торжеств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беспощадно гу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приходит, в обитель ин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личут меня 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(приди), приди (при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, кто жаждет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Иисус при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не медли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любовь нам Господь обещ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ертву отдал Он С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огрешили, но Он нам прощ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т меня 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(приди), приди (при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, кто жаждет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Иисус при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не медли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0:31Z</dcterms:modified>
  <cp:revision>12</cp:revision>
  <dc:subject>Slavic hymnal Гимны веры христиан, hymn 357</dc:subject>
  <dc:title>Кротко и нежно Иисус призывает</dc:title>
</cp:coreProperties>
</file>