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D8E-8E5D-4DEF-8DFF-721244DB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7CE-E8D6-40A8-B9FD-23B8B30B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CBB-83F8-4FE4-AA45-D3DCF07B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41F-F21E-4AF2-A89F-04F6AAE9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8DA-7EE6-4643-8B28-886E2132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BE5-0B57-4371-B544-A5B9E06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DB5-E408-4E83-8E05-148230A9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DBC-39B7-4ABC-A872-89B6681E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53B-A053-4C01-8C9E-E733852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72D-1B24-43D0-A8A6-871B7FF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AEC-86E3-45BA-8294-34D1806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39A-516E-424C-92B9-61C39D88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72989-7D54-4686-8B19-D4DE8C8A48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life’s dark vale we wa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atch and wait and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ящих нас, а бод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н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what griefs oppres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is arms will res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имет наше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о блаженства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let my lamp be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m my soul be y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горя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ож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heart pangs nor s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eace and joy and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м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мир и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doubts and fears will van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om His face will ban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ут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,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the way wa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the feet grew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как у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едко отдых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1Z</dcterms:modified>
  <cp:revision>13</cp:revision>
  <dc:subject>Slavic hymnal Гимны веры христиан, hymn 324</dc:subject>
  <dc:title>When Jesus Comes (Down Life’s Dark Vale We Wander) / С небес Своих лазурных</dc:title>
</cp:coreProperties>
</file>