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22F-EB13-40DA-8BA6-04979558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90B-5E9F-42E3-B981-588BCA1F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B22-FD73-4697-BA38-3A1FD920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D20-DD9A-4918-9977-741CB071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B34-91AE-4BC2-BF79-FBCBA932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C68-A129-49AB-BF90-60C26C1B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8BF-7521-457A-BDDB-A5250CA3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958-A1E7-495D-A48D-B78B7F6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AA7-5DAC-46A2-99BC-0251D01B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50A-7F2E-4214-859C-85C2E56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FD0-1E4A-4B8C-BCDE-EB234B94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BA9-29F0-47E1-B509-3ACC0BE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E74C3-257E-415D-8FEA-8BE776B1A2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е Антиох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ласит о том расс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ианами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лися в первый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оде Антиох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ратстве общности им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ервых христиа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для покол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ной жизни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и, верой озар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гня тяжёлых р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увидел изум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сть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зематах и пеще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такомбах разны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явлена в прим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ость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 дни, дни иску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же путь Тобой нам 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илу вдохнов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ердце, одну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имеет Божий ст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ласим моря и с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нас откро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у первых христиа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любви неизреч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ликий оке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2:41Z</dcterms:modified>
  <cp:revision>13</cp:revision>
  <dc:subject>Slavic hymnal Гимны веры христиан, hymn 769</dc:subject>
  <dc:title>В городе Антиохии</dc:title>
</cp:coreProperties>
</file>