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928-377C-404A-B914-17A60718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8D9-C2E8-4991-BB4A-CEBAFE02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EA3-CB97-4A20-AAC9-E03C7E4A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A80-2CC2-4181-9130-4DCD9EC1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F67-C589-4B51-A916-6927BE9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406-EF87-4037-8803-FA92F05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AC7-81BD-43B7-8D83-2AD7941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518-52A0-481A-9BB3-05A2692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75D-EBF2-4062-A2C9-D9A7D22A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35F-CB61-42F5-A786-0982570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FA9-B840-4984-B64C-47E9CF4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6F1-6177-489A-A2DD-EB280467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B1126-F3E8-486D-9212-668AA02A9D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47Z</dcterms:modified>
  <cp:revision>10</cp:revision>
  <dc:subject>The Source, song number 274</dc:subject>
  <dc:title>Jesus Christ, I Think Upon (Once Again)</dc:title>
</cp:coreProperties>
</file>