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A7C-538D-4EE8-B46A-25E9F85B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55A-93AA-45CF-8187-F6A242D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294-E2E5-4448-A3E7-8CB247C9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A7E-7719-4536-9C7E-26BD239F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B8A-8D18-4DB5-B6BC-2449920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75E-D596-4943-8C81-C450DAE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B1C-3086-46CD-A3D3-2A5F7F1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902-EF77-4FBC-9C46-39FC40A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0E1-F6D1-493C-A40A-40BFE24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E45-F9D0-4264-BDF0-D5C2C7F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2CF-D790-4B39-BADA-5D18B85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D8D-C6B7-47A2-99E6-CD3512B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E3CC7-C22C-4AA2-8762-57F6DFC962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ible tell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ttle ones to Him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are weak, but He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ho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gate to open w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wash away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little child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ake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it pure and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 bled and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henceforth liv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ill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 beside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repared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day His face I’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39Z</dcterms:modified>
  <cp:revision>12</cp:revision>
  <dc:subject>Slavic hymnal Гимны веры христиан, hymn 869</dc:subject>
  <dc:title>Jesus Loves Me, This I Know / Любит мой Иисус меня</dc:title>
</cp:coreProperties>
</file>