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6AA-1118-4B59-9560-36EEB4AC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958-0D9F-4DA8-8D3A-3AB70052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465-F331-4A3F-AACF-8B53CDB0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B3E-4AC0-4DF6-8429-5DA95016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9B8-AA8C-448B-BD91-7513AF1F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B70-3F53-40EE-A861-1F861A9F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518-97E6-474E-8A32-0F15E757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D96-11CA-485C-B477-30E09781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C6C-F437-4674-85BD-19343886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D79-896B-49E0-A897-23EA666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BBE-6094-4C72-8CD6-4AEC567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9ED-4FF5-4EA9-A5F2-D4B525A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C209B-E729-464A-84D0-81309282B0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8Z</dcterms:modified>
  <cp:revision>13</cp:revision>
  <dc:subject>Slavic hymnal Гимны веры христиан, hymn 620</dc:subject>
  <dc:title>Is My Name Written There? / Я хочу не богатства</dc:title>
</cp:coreProperties>
</file>