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6</a:t>
            </a:r>
            <a:r>
              <a:rPr b="1" lang="ru-RU" sz="3600" spc="-1" strike="noStrike">
                <a:solidFill>
                  <a:srgbClr val="ffffff"/>
                </a:solidFill>
                <a:latin typeface="Verdana"/>
              </a:rPr>
              <a:t>	</a:t>
            </a:r>
            <a:r>
              <a:rPr b="1" lang="ru-RU" sz="3600" spc="-1" strike="noStrike">
                <a:solidFill>
                  <a:srgbClr val="ffffff"/>
                </a:solidFill>
                <a:latin typeface="Verdana"/>
              </a:rPr>
              <a:t>Коль славен наш Господ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The glory of our God in Z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 mortal tongue cannot relat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 universe He keeps His eye 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n earth and sea, in space, He is grea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e sing Thy praises, Lord and Creato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Ever the same—there is none greater.</a:t>
            </a:r>
            <a:endParaRPr b="0" lang="en-US" sz="28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Коль славен наш Господь в Сион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е может изъяснить язык.</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елик Он в небесах на трон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 былинках на земле велик.</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езде Господь велик и славе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 ночи, во дни сияньем равен.</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Jesus Thy Son, for our sins giv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Revealed Thee, Lord, for us to s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n harps and psalteries, toward heav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e lift our praises un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o Thee we bring them, seeking Thy favou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ccept them as a sweet-smelling savour.</a:t>
            </a:r>
            <a:endParaRPr b="0" lang="en-US" sz="28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Тебя Твой Агнец златорунны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сегда изображает на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Мы на псалтыри сладкострунно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ебе приносим фимиа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рими от нас благодарень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ак благовонное куренье.</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With Thy sun Thou our path dost bright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s previous children lovest us Thou.</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 feedest us; our burdens dost light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ith copious crops us Thou dost endow.</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 prayers of mortals, Lord, Thou heede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by Thy grace their souls Thou feedest.</a:t>
            </a:r>
            <a:endParaRPr b="0" lang="en-US" sz="28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Ты солнцем смертных освещаеш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ы любишь, Боже, нас, как чад,</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ы нас трапезой насыщаеш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воздвигаешь вышний град.</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ы смертных, Боже, посещаеш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благодатию питаешь.</a:t>
            </a: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4.</a:t>
            </a:r>
            <a:r>
              <a:rPr b="0" lang="en-AU" sz="2800" spc="-1" strike="noStrike">
                <a:solidFill>
                  <a:srgbClr val="ffff00"/>
                </a:solidFill>
                <a:latin typeface="Verdana"/>
              </a:rPr>
              <a:t>	</a:t>
            </a:r>
            <a:r>
              <a:rPr b="0" lang="en-AU" sz="2800" spc="-1" strike="noStrike">
                <a:solidFill>
                  <a:srgbClr val="ffff00"/>
                </a:solidFill>
                <a:latin typeface="Verdana"/>
              </a:rPr>
              <a:t>Lord, grant that in our habitation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ith heart and tongue, we’ll praise Thee, too.</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Lifting our songs of adora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o Thee, as fresh as morning dew.</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n our hearts we shall raise Thee an alta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lp us to praise Thee and not falter.</a:t>
            </a:r>
            <a:endParaRPr b="0" lang="en-US" sz="28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4.</a:t>
            </a:r>
            <a:r>
              <a:rPr b="0" lang="ru-RU" sz="2800" spc="-1" strike="noStrike">
                <a:solidFill>
                  <a:srgbClr val="ffffff"/>
                </a:solidFill>
                <a:latin typeface="Verdana"/>
              </a:rPr>
              <a:t>	</a:t>
            </a:r>
            <a:r>
              <a:rPr b="0" lang="ru-RU" sz="2800" spc="-1" strike="noStrike">
                <a:solidFill>
                  <a:srgbClr val="ffffff"/>
                </a:solidFill>
                <a:latin typeface="Verdana"/>
              </a:rPr>
              <a:t>Господь! да во Твои селень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оспрянут наши голос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наше пред Тобою пень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а будет чистым, как рос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ебе в сердцах алтарь постави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ебя, Господь, поём и славим!</a:t>
            </a:r>
            <a:endParaRPr b="0" lang="en-US" sz="28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3:06Z</dcterms:modified>
  <cp:revision>3</cp:revision>
  <dc:subject>Slavic hymnal Гимны веры христиан, hymn 96</dc:subject>
  <dc:title>The Glory of Our God in Zion / Коль славен наш Господь в Сионе</dc:title>
</cp:coreProperties>
</file>