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55</a:t>
            </a:r>
            <a:r>
              <a:rPr b="1" lang="ru-RU" sz="3600" spc="-1" strike="noStrike">
                <a:solidFill>
                  <a:srgbClr val="ffffff"/>
                </a:solidFill>
                <a:latin typeface="Verdana"/>
              </a:rPr>
              <a:t>	</a:t>
            </a:r>
            <a:r>
              <a:rPr b="1" lang="ru-RU" sz="3600" spc="-1" strike="noStrike">
                <a:solidFill>
                  <a:srgbClr val="ffffff"/>
                </a:solidFill>
                <a:latin typeface="Verdana"/>
              </a:rPr>
              <a:t>Дай святость мне, Боже</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Дай святость мне, Бож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й кротость, Твой стра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й твёрдость в страданья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й плач о греха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множь в Христа вер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чувство к Нем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й радость в молитв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 службе Ему.</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Дай мне благодарнос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надежде всег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й веровать в слав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 слово Ег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Ним в горе, страданья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й слёзы, чтоб 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мирясь в испытань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ославил Тебя.</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Дай чистое сердц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дух правый мн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ё бросив земно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тремиться к Т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ыть к царству готовы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ир, святость стяжа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 жизнью, делам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ебе подражать.</a:t>
            </a:r>
            <a:endParaRPr b="0" lang="en-US" sz="3200" spc="-1" strike="noStrike">
              <a:solidFill>
                <a:srgbClr val="000000"/>
              </a:solidFill>
              <a:latin typeface="Verdana"/>
            </a:endParaRPr>
          </a:p>
        </p:txBody>
      </p:sp>
      <p:sp>
        <p:nvSpPr>
          <p:cNvPr id="42"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3T22:35:44Z</dcterms:modified>
  <cp:revision>3</cp:revision>
  <dc:subject>Slavic hymnal Гимны веры христиан, hymn 155</dc:subject>
  <dc:title>Дай святость мне, Боже</dc:title>
</cp:coreProperties>
</file>