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0FE-91B0-48B6-A758-2A8D8FBF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63D-962B-4979-BF72-C5FA5E2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9F6-165F-4D04-97A6-70C25EBD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A93-5320-487C-AB76-C23AFFAC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323-A44C-43F8-A36D-D8C82F5A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08D-A34F-4CB3-971A-614F96F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010-D557-4499-9DD1-61F6E26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ACD-58B5-4BCE-A126-CF7DE6A7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42B-8AF0-4185-9353-9773B4B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B78-9C47-491A-8829-C72B799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5EF-4AFB-424E-AF68-18C89AE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BDC-0A29-4747-BFD4-E81A54FF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B6CFF-BC03-48B2-8950-8CCBB0A41F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has dawned upo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d from cre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salvation now unf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for ev’ry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fanfares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scene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 humble gift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or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43  Joy Has Da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s of wonder fill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song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mighty Princ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lters in a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set each star in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ped the earth in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ing now to a mother’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ulnerable and help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pherds bow before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zing at the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fts of men from distant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sy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ld, a King is bor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ense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rrh, His death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y His blood He’ll w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Adam, Son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n as a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ing God an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, our mighty champ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Saviour, what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glorious myst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 Babe in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e Lord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4-12T09:22:32Z</dcterms:modified>
  <cp:revision>12</cp:revision>
  <dc:subject>The Source 4, song number 1943</dc:subject>
  <dc:title>Joy Has Dawned</dc:title>
</cp:coreProperties>
</file>