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368-7D25-4BF2-AADC-5551398B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025-36D2-43F6-9A2F-8118FD3B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651-D047-4C23-8A78-046E7EBE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591-A7E0-40B8-B7E6-DA9CA1D9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3A4-77A1-4475-AE94-4EECF2B5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ECB-893E-4444-8F75-D50574C3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41D-0A1B-4988-BE21-1BE1F032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CA0-7D7E-4267-961C-EBB7AF0B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FC5-9493-4087-A95C-56BFB213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A0B-081B-4CD1-BC8D-566BD0E5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B35-DAFE-4D99-A370-C1E08B0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C25-E8EA-46E0-99C1-13F077D9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C0D64-5545-474B-B175-84A4871826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Твоей полна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Твоей полна жиз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Свою Ты превознёс над с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л меня и ввёл в Сво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с меня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л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с меня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л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Тебя, благодарю Те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илости Т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8:06Z</dcterms:modified>
  <cp:revision>13</cp:revision>
  <dc:subject>Slavic hymnal Гимны веры христиан, hymn 901</dc:subject>
  <dc:title>Милости Твоей полна вся земля</dc:title>
</cp:coreProperties>
</file>