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E44-F512-4AED-A10B-7023A58C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0D3-5F07-4EE1-A680-D580AE48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C45-CE6F-4490-B54B-AD3E2305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277-7E51-4439-A4BF-BB5580A3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C93-0EDD-4752-9FBB-86090492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C3B-CB18-4B45-BDA0-5A609063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BC2-1685-42B6-9097-B6B8623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338-C7E5-43FD-87CB-9871D479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F5A-D036-481E-8133-AD0DFAC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F42-D964-406B-A30E-39AB600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ED5-796D-4F12-8E2A-7BD2F14A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52D-F551-4ABD-896E-9E913DE4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EC609-ADAC-4975-B8F9-3C59DD05A4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15Z</dcterms:modified>
  <cp:revision>13</cp:revision>
  <dc:subject>Slavic hymnal Гимны веры христиан, hymn 827</dc:subject>
  <dc:title>Сердце моё, о Боже, испытай</dc:title>
</cp:coreProperties>
</file>