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EBA-8FB8-4718-A838-F1ECC5B5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934-3DC9-4827-B62C-555FBCA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A85-83AF-4780-8D59-8A3208C7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4A9-DD01-4E37-835A-3CE6D1A4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370-24AD-4EA1-9313-9CFA8EB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CDD-4579-4B61-A946-768D18E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32D-9BC1-4455-9064-B0E154B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315-DA8D-4D31-9DF0-A5D4FFF8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A60-1683-4C7C-8A97-DF8FD510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3AE-FC18-4A88-9DC3-3BFF396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B8D-8144-4B59-8C98-FF3F7BC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829-B141-4AD3-9B2D-723EAF70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DE32-B985-44A5-B561-1FF42B9A10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1   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9Z</dcterms:modified>
  <cp:revision>11</cp:revision>
  <dc:subject>The Source 2, song number 1021</dc:subject>
  <dc:title>To God Be the Glory (My Tribute)</dc:title>
</cp:coreProperties>
</file>