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FF4-29D4-4787-AB0A-3918330F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45E-95C8-42BB-A254-C684C39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7BE-1047-4ECC-8815-82EE7D66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819-3D5C-4449-B4EC-EBE621EA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0E9-D75F-43DD-A7C2-324BC53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CFB-9DC1-4022-BE02-ABF203B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58F-BC80-4210-B07C-F1390CA8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8BD-BC7D-4F85-AD34-E308A6E6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B53-721C-4282-B09D-7203A480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669-F079-4F7A-92CB-B9FD6C3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EF1-F3A1-4575-A461-4EB284D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D8F-B04A-4E43-B9CC-E5D9251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76508-DED1-4A36-86C9-5E50FFF0AB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like a river, attendeth my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orrows, like sea billows 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ver my lot, Thou hast taught me to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Satan should buff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rials should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blessed assurance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Christ hath regarded my helpless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s shed His own blood for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O the bliss of this glorious th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not in part, but th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ailed to the Cross and I bear it no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ise the Lord, praise the Lord, O my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me, be it Christ, be it Christ hence to l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Jordan above me shall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ng shall be mine, for in death as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wilt whisper Thy peace to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, haste the day when m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be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clouds be rolled back as a sc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ump shall resound and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desc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so,” it is well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6:18Z</dcterms:modified>
  <cp:revision>12</cp:revision>
  <dc:subject>Slavic hymnal Гимны веры христиан, hymn 817</dc:subject>
  <dc:title>It Is Well With My Soul / Течёт ли жизнь мирно, подобно реке</dc:title>
</cp:coreProperties>
</file>