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DC2-46A4-4745-990E-2FA44749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11A-F024-43C2-8E99-5B0888E6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9F2-AC5F-47C4-8862-1B833259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170-A420-45D0-968D-090BF91E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3BD-40E4-488E-9FC5-7878F24D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B11-74DF-48F1-A043-66821AB8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D27-1118-4A8D-A25B-81044ACF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EEB-8CF3-4773-9113-49779863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887-3CBE-4BF1-BADD-9E87EB5D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589-8258-4F8B-9E78-EC96EB31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8DD-DD92-414F-B111-C40BA851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AFA-E981-47F0-A180-2DE89D46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44B33-A87D-497D-8602-2FD00F231D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 light of Your love is sh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midst of the darkness,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of the World, shine upo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us free by the truth You now bring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the Light of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to Your awesome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shadows into Your radia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I may enter Your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rch me, try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e all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gaze on Your kingly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our faces display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changing from glory to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rrored here may our lives 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4-06-04T06:03:44Z</dcterms:modified>
  <cp:revision>12</cp:revision>
  <dc:subject>The Source, song number 335</dc:subject>
  <dc:title>Lord, the Light of Your Love (Shine, Jesus, Shine)</dc:title>
</cp:coreProperties>
</file>