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D9E-1A8A-4AC2-AE90-B3FFA50B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80D-AA1F-4569-AC33-C87F9163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E24-D3F4-4944-9671-74DBFFF5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F14-AE93-4599-A896-177EC5FD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A63-855A-460F-8C88-D1A593D3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883-44E7-4E41-A75C-77FE743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49F-0B58-4725-9E7E-FE6E4167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43E-995F-40ED-82EC-B28A74A2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9A1-5EB8-4AB7-8335-90D2B613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8F2-B972-440F-B7A2-E8C8214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E27-F8B7-4636-BE23-AD3E410C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734-1FF1-4346-8184-3F56E96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2E9FA-374C-48B2-A5A5-E0BE0A5918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heav’n You came, helpless ba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ntered our world, Your glory vei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to be served but to se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Your life that we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om Heaven You 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n the garden of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vy load He chose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heart with sorrow was t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not My will but Yours,” 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see His hands and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cars that speak of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s that flung stars into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uel nails surren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us learn how to se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our lives enthron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other’s needs to pref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is Christ we’re ser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12Z</dcterms:modified>
  <cp:revision>10</cp:revision>
  <dc:subject>The Source, song number 114</dc:subject>
  <dc:title>From Heaven You Came (The Servant King)</dc:title>
</cp:coreProperties>
</file>