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22C-130F-4B0A-9EE0-E8138B06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029-28A3-4191-A2E7-6DC5E103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BCC-1037-4EDD-A6F0-73D9804C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3FC-4F7A-4BF7-906F-62FF2CEF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B3A-7384-4FAD-B7DD-A5DF05E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7B3-4D68-468F-83DE-29DFAD4D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54E-AA1D-4F29-AC5D-D35EB293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419-FF82-4617-B366-4C19B52F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501-3CC7-4AA5-AEBA-8BD64221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0E5-8BB0-41DD-9CAC-FF5074D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099-E68A-4126-881A-4EBEE20D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6C5-FF49-42EC-832A-90A446D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835BC-25C5-4703-AB59-D084204AA3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rac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lory, earth-bound heaven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plan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this light that breaks m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falls like a dove 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Grace Is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ov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undeserved, this gloriou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Son, this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this death, this victory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 has flowed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race that is mine finds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, the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perfect and so pure, this Go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lorious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arth to heaven, death to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future assured and se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love 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, the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02Z</dcterms:modified>
  <cp:revision>10</cp:revision>
  <dc:subject>The Source, song number 512</dc:subject>
  <dc:title>This Grace Is Mine (The Power and the Glory)</dc:title>
</cp:coreProperties>
</file>