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B7EC-FFF2-430C-AD8D-674E5EF2F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22DB-C2C6-4E76-96E2-2EBD576C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EBC7-F55F-4AE6-9413-4FC0EC431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42B8-8F3E-4B66-8687-982C2D59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64C9-66CA-4BC4-ABD4-49B027C2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ED01-7F28-43DB-AD32-1F8113AA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CBC5-ACC6-409F-9B22-7D3AE058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23EC-B302-473E-B632-12C5CCD1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F483-7BDD-446E-ADD4-671EA1F7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B417-1300-4C9F-BAFB-21F3C0A4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388E-608A-478B-9655-B8BC0D4E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CC31-AC2A-4651-B777-989AE1E1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AC3B4-6FE4-47C2-92D3-5AA4AC1784C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shall be showers of bles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the promise of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shall be seasons refres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t from the Saviour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2  Буде дощ благослове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дощ благослов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біцяний по люб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ики знайдуть спас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Христовій святій кров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ers of bles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ers of blessing we ne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drops ’round us are f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for the showers we pl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ні нам, Боже, з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ми щиро всі прос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Святим нас спов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shall be showers of bles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, reviving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 hills and the valley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und of abundance of 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дощ благослов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а Святого з неб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шле Господь нам хрещ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мари надходять у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ers of bles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ers of blessing we ne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drops ’round us are f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for the showers we pl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ні нам, Боже, з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ми щиро всі прос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Святим нас спов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shall be showers of bles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upon us, O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nt to us now a refres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and now honour Thy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дощ благослов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скорійш нам зі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нам нове відродження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щ благодатний з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ers of bles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ers of blessing we ne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drops ’round us are f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for the showers we pl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ні нам, Боже, з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ми щиро всі прос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Святим нас спов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shall be showers of bles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that today they might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, as to God we’re confes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, as on Jesus we ca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дощ благослов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шли нам, Боже, теп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ні шукаєм прощ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чуй нас, просим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ers of bles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ers of blessing we ne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drops ’round us are f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for the showers we pl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ні нам, Боже, з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ми щиро всі прос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Святим нас спов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7:29Z</dcterms:modified>
  <cp:revision>12</cp:revision>
  <dc:subject>Slavic hymnal Гимны веры христиан, Ukrainian hymn 92</dc:subject>
  <dc:title>There Shall Be Showers of Blessing / Буде дощ благословення</dc:title>
</cp:coreProperties>
</file>