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112-662B-4F0D-9D20-B8FDD3C7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6518-1321-49B7-A6EF-7580D999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494-1FA8-477E-9412-943FFB3A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437-C9F7-4FCB-A31E-0193242F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2154-6BE4-4B17-9E10-CB092E1E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9DF-8310-4DFB-B4DD-0059E87B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977-9E21-45BB-B59D-0E21CC39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FB1-62B6-43B5-8BDF-B03A04D9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A2D-271B-4321-AEBD-B6DB511B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322-8CB1-45A9-82F3-8B34D7B3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53E-B075-47B0-B757-D17EB52D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1400-5298-4156-AFD3-CFC06F03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DA474-82AC-49D2-A9D2-0219CC5986B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lift Your name on h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love to sing Your prai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so glad You’re in my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so glad You came to sav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3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ord, I Lift Your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me from heaven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how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earth to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debt to p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cross to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grave to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lift Your name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0:32:33Z</dcterms:modified>
  <cp:revision>10</cp:revision>
  <dc:subject>The Source, song number 330</dc:subject>
  <dc:title>Lord, I Lift Your Name on High (You Came from Heaven to Earth)</dc:title>
</cp:coreProperties>
</file>