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7C22-01FB-45D1-AFC6-0E1DE537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4D35-A73A-474C-A97C-FDB576B1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80E8-A32B-4731-B4E9-7D44D045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86B6-3571-44B9-9856-B371CA39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60A4-FB61-4A07-8025-548222C0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792E-A2C1-4896-A08B-E2D7506B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D465-C944-4BD8-B6C6-7B37FFE6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3EBA-598E-4542-816E-8AC36217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4ED-6AC6-4A29-A879-575DF2E8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2C9-6A14-4AB2-BE91-05B9808A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860C-0FAB-4082-8787-C1BD12C5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242C-E2D4-4F92-9C3E-FD4D476F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2FA4C-2159-4754-B270-C852AE72661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 on me, breath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 me with life a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 may love what Thou dost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o what Thou wouldst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вей, Дух Божий, вн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источник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роявлял Твою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х моих дел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 on me, breath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my heart is p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with Thee I will one wi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do and to end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так очи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касалася гр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земная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 on me, breath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nd all my soul with T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this earthly part of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ws with Thy fire di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этом мире з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всегда везде г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ть Твоим ог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 on me, breath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shall I never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live with Thee the perfect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ine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мерти я не 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десь и там во век ве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прославл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39Z</dcterms:modified>
  <cp:revision>13</cp:revision>
  <dc:subject>Slavic hymnal Гимны веры христиан, hymn 312</dc:subject>
  <dc:title>Breathe On Me, Breath of God / Повей, Дух Божий, вновь</dc:title>
</cp:coreProperties>
</file>