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3FD-217B-45C3-B70D-8813B8D2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C45-9774-4542-8911-44C37304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473-7E69-402D-8B3F-EECE9B6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642-DDF2-4573-8A23-8B459DB1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EC3-0B9B-4804-8B95-269F8D4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163-AAB7-4194-A598-7EC6A8DF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CCA-C555-4FAF-B978-53937153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C28-37B7-4575-B0F4-33E990C7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533-44B7-429B-847B-D09DD72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D2D-8984-4D4F-A0AF-EF3633E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144-2267-4EF8-AB9C-D0E7CA3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1B5-968D-4BF0-B3E6-D7DAE41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2780-FB37-4CD4-AC44-1971439371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Jesus shed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y back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Blood that Jesus 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soothes my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my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 dries all my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5-01T01:35:51Z</dcterms:modified>
  <cp:revision>11</cp:revision>
  <dc:subject>The Source 2, song number 972</dc:subject>
  <dc:title>The Blood that Jesus Shed for Me (The Blood Will Never Lose Its Power)</dc:title>
</cp:coreProperties>
</file>