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2F1-9655-44E6-8CD6-44D8E95C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E06-1D1B-4B25-8646-205ECB32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AA5-DABA-419C-8C98-67A20572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E59-66B9-4A8B-BF2B-32C03FEC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317-CDE3-4B1C-963E-FEC53460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49D-B1E5-4811-8630-A6970AC2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111-C25B-4BCD-9931-949A1D9E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6E6-9BF6-4F88-B570-C4D1075D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E33-1D54-4B95-83D4-607D3301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B0A-EC50-40F2-8898-672BD525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697-3EEC-4FB3-8776-A3DC2114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D99-58E9-406D-A31C-A83F8543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3CFE5-9ED6-4878-BAD4-AE322F9A74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am I on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tand in awe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’ll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43   You Are God In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implest of all love-so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bring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tand in awe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’ll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30Z</dcterms:modified>
  <cp:revision>12</cp:revision>
  <dc:subject>The Source 3, song number 1643</dc:subject>
  <dc:title>You Are God In Heaven (Let My Words Be Few)</dc:title>
</cp:coreProperties>
</file>