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1E6-4360-40CC-A715-AD6A78F5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E18-9E62-40E2-A2FE-4C812634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B1F-F91F-4C72-9DA5-12ABB010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162-62C2-4F78-8030-D2C13BEF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B0D-B3B7-43F0-AC72-FFE491CD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7BE-2573-43D9-B70D-39ED71AC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886-93D3-4836-98FB-F561DDFA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992-3C78-4366-BC13-51032B9E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4F3-D7AC-4870-9B43-1F70C6C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305-32F1-4F4E-9772-37BE539F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EB7-41EF-42FA-9AED-6A25E43A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1D3-7734-4E48-A3E7-999082A5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54013-D8B9-4764-872B-06DD4C4A12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fellowship, what a joy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blessedness, what a peac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ба в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ба верная, радость пол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чёт рекой, дух ликует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sweet to walk in the pilgrim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bright the path grow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к жизни путь, счастьем д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Отчий дом вижу с каждым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ve I to dread, what have I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blessed peace with my Lord so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юсь врага, безопасен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и нахожу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7Z</dcterms:modified>
  <cp:revision>13</cp:revision>
  <dc:subject>Slavic hymnal Гимны веры христиан, hymn 625</dc:subject>
  <dc:title>Leaning on the Everlasting Arms / Дружба верная</dc:title>
</cp:coreProperties>
</file>