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754-0690-49CC-A237-BC1615DD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634-3D45-4002-A1D8-D80560A5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11B-DAE3-4660-B88B-891D5899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1D2-D6B9-4EAD-BB2D-1D8E02BC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183-BD47-462B-8FC7-917D653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4AF-B532-4E36-9E4F-B4AA324C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954-744B-4BC3-AEE5-6929A480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55C-903D-4225-BC4C-F8949FBB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1CF-FB08-449D-89E3-22A1A062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741-08FB-4D45-B158-CC61F6C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BCB-664C-4D59-B602-DE9C72C7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154-AE83-43D2-9FC7-A7EB3EE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84B2B-E78A-4282-985C-991DB95B25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2:40Z</dcterms:modified>
  <cp:revision>12</cp:revision>
  <dc:subject>Slavic hymnal Гимны веры христиан, hymn 824</dc:subject>
  <dc:title>Небесный свет, веди чрез мрак густой</dc:title>
</cp:coreProperties>
</file>