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164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2436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928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164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2436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39280" y="395280"/>
            <a:ext cx="89982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260360" y="395280"/>
            <a:ext cx="828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1440000"/>
                <a:tab algn="l" pos="2158920"/>
                <a:tab algn="l" pos="287964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Come Bless the Lor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"/>
          <p:cNvSpPr/>
          <p:nvPr/>
        </p:nvSpPr>
        <p:spPr>
          <a:xfrm>
            <a:off x="1260360" y="828720"/>
            <a:ext cx="828036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 bless the Lord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ye servants of the Lord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stand by nigh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house of the Lor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 up your han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holy plac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bless the Lord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bless the Lor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"/>
          <p:cNvSpPr/>
          <p:nvPr/>
        </p:nvSpPr>
        <p:spPr>
          <a:xfrm>
            <a:off x="9144000" y="6624720"/>
            <a:ext cx="53964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6T12:30:00Z</dcterms:created>
  <dc:creator>John Zaitseff</dc:creator>
  <dc:description/>
  <dc:language>en-US</dc:language>
  <cp:lastModifiedBy>John Zaitseff</cp:lastModifiedBy>
  <dcterms:modified xsi:type="dcterms:W3CDTF">2018-07-13T06:23:47Z</dcterms:modified>
  <cp:revision>3</cp:revision>
  <dc:subject/>
  <dc:title>Come Bless the Lord</dc:title>
</cp:coreProperties>
</file>