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0F2-EDE5-4DD3-826D-30684E90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256-696F-4662-9B44-9A6366A5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D27-522D-49F8-9D7E-279C350C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957-11E4-42B3-B4D1-3E2B9B2A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747-EAA2-4840-9D18-BB62B5F9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936-130E-4642-8093-936E4472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496-5790-4459-91D7-23095704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FC5-F873-41A0-B20A-B40ABB74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816-0DE4-4134-9C9C-7BD8EAD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A07-7C52-488D-BBC0-4945910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EB7-8E5B-4282-ABA5-EF1EE6E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45D-2709-4E7D-98C5-AB5692E0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BBCBA-B757-434B-B038-E42A6F3B59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, Господь, люблю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ссве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ь, проснулся шум дн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дня и мягче ночи лет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сладкое, что Ты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с Тобой вникаю в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рук Твоих и вечного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я вижу лик Тво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ьи рос и в свежести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Тобой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измучившись в борьбе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к Тебе с вечернею моль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ен отдых под Твоим пок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обудясь, приятней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, придёт торжественное ут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утся все… умолкнет шум 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ее солнца засияют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сегда останем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5:01Z</dcterms:modified>
  <cp:revision>13</cp:revision>
  <dc:subject>Slavic hymnal Гимны веры христиан, hymn 821</dc:subject>
  <dc:title>С Тобой, Господь</dc:title>
</cp:coreProperties>
</file>