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96B-688A-492A-BFA2-008335D4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730-660E-4478-9A3B-F017F115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A92-31D7-4E74-AAD9-8FB40DF7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64D-9EBA-4DB7-B049-218913DC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FAD-0FCC-4D92-9648-2253AD6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5C9-32BD-4704-9E76-73B1833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AA1-0BA9-4E62-83D0-1E0B9579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6E6-A727-4CA1-8FFE-F7212D0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D1C-242C-4E7E-BE16-08680D34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B24-F470-48D1-933D-2255809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5D1-215C-4F1B-8E48-0F1199C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2E1-408F-4D82-8ADD-33D860E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068F-9E8C-4185-9C17-79F6C78D85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47Z</dcterms:modified>
  <cp:revision>13</cp:revision>
  <dc:subject>Slavic hymnal Гимны веры христиан, hymn 640</dc:subject>
  <dc:title>Верю в обещания Христа Царя</dc:title>
</cp:coreProperties>
</file>