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3549-1E43-4760-98ED-FC0BA46E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385-E44F-40E9-ADC7-D7B4C5A1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918-15D6-457F-9633-E079B919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07A-BD6C-4E34-9C27-4C0C60A8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612-844C-4509-91D0-2AAC853F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5BB-8259-48A6-BE33-6B10DD58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64C-E0BC-4906-8917-985BD188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C17-D611-43BD-BBEA-611BDED6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CC6-255E-4E82-B839-C1599EB1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8E5-B20F-4619-B7D0-26BE3276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719-C522-4F08-AA3B-52670708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E2E-B062-47C8-B0AA-58EC57EE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5F515-AA9C-4FFE-8FD5-B82D838B9A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успею ещё покор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же правдой успею пож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молод, хочу весел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не о чём больше т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спею принять покая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 жизнь вперед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том получу оправ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веки расстанусь с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успею ещё покор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в мире теперь наслажд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прихоти, прелестей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ть я успею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е за сделанный гре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юноша бедный, несча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шибся он в мыслях сво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месяц и случай оп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ментально беднягу пост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лел, смерть у ног уж стоя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лел, а твердил всё боль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успею во что бы ни 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уляю, пока молод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еряет больной свои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ться Творцу уж не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обрушился край у мог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л: «Поздно…» — и жить пере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1:48Z</dcterms:modified>
  <cp:revision>12</cp:revision>
  <dc:subject>Slavic hymnal Гимны веры христиан, hymn 774</dc:subject>
  <dc:title>Я успею ещё покориться</dc:title>
</cp:coreProperties>
</file>