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CE85-789B-403B-840E-DEECB706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2F3D-51B7-49EA-9380-D97278C1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4547-F757-4939-B7B0-008D874C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719-E5A4-4740-A4CA-93F174ED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159D-076B-49C1-9014-E8BA30CC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B5F1-2F9C-4444-AEE4-97358D43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ADF-4F14-4241-8191-952BD9AC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5CB2-C43B-4BA6-BC10-3CDB7F18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761-2E61-4F57-88FC-3A7BEBE3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8C3-C55E-48DD-9234-E8254C7A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7574-CDC5-48FA-9312-98B078D1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4C41-76CF-4C9C-B45F-A589E983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1388C-ABBD-40B0-80FB-C245EB036DC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ладенца дал нам вечный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ын дан от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чество святой за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аменах Его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Бог крепкий и Творец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целый на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тник, вечности От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дный в род и род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ладенца дал 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чество Он укреп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ела мира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Он правдой утвер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стол Свой и завет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09:26Z</dcterms:modified>
  <cp:revision>14</cp:revision>
  <dc:subject>Slavic hymnal Гимны веры христиан, hymn 235</dc:subject>
  <dc:title>Младенца дал нам вечный Бог</dc:title>
</cp:coreProperties>
</file>