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0B4-94A4-47EC-9E9F-CB47B03F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039-8938-4E89-AE0C-56AFB6F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54B-72DD-4EB6-9D4F-F92042A1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FB8-9E72-40E9-95AC-021BFAB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461-7FDA-4C3E-8EEC-5C3D3561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179-2582-49CD-95E3-EBA6A613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B0F-871A-4E2E-99E0-E9783A8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8D5-6CDC-43EB-AA6B-37A56FA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21-B11C-41E5-9A99-A3DE776D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497-ABEE-4919-8BF9-48D95FD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0BD-5F5E-4E49-B59B-69D362F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F46-70BB-4426-B250-7C1D4FF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66FF1-CC15-4B63-A7F2-07B9813E75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2Z</dcterms:modified>
  <cp:revision>13</cp:revision>
  <dc:subject>Slavic hymnal Гимны веры христиан, hymn 692</dc:subject>
  <dc:title>The Home Over There / Отчизна моя в небесах</dc:title>
</cp:coreProperties>
</file>