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A03-4C03-4D95-83E5-D79A1E4D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91A-83CE-466F-B274-BC4FE4D4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AC6-D348-4724-93E4-183155F6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AD6-A95A-42BE-9E84-FE810E4F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7EA8-5F3E-4375-8F8F-BFF4E818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7518-58A2-46FF-A274-6A172418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E36D-4A66-46A9-8FB8-64E83260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29C2-E82D-4CAA-B4CF-65C9D2CB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3BA0-410B-4BFA-AEC8-7F24EA2D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B94-CBC6-4DF8-9BE5-F755DF36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F19A-DDC1-4B13-A959-A03202E2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8159-D114-4468-8304-ADFB9C2A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CA1E8-EF31-43EC-B2CA-CD61C4F322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дали нам сияет стр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ё верою всякий во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паситель ведёт в неб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искупленный вер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здали нам сияет стр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о славе небес, дале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абот и печалей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поют, восхваля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увством радостной, чисто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есчисленный сонм тех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т Духа объяты ог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ют Христову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лонясь пред Его алт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3:28Z</dcterms:modified>
  <cp:revision>12</cp:revision>
  <dc:subject>Slavic hymnal Гимны веры христиан, hymn 691</dc:subject>
  <dc:title>Издали нам сияет страна</dc:title>
</cp:coreProperties>
</file>