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EFA-7B2D-49E0-87DA-C666BC39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149-5CF8-4543-AD3A-ED46D5B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B87-1E86-44B7-93F6-AE8C7C6A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652-76B6-4786-9697-73D767AF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C4C-6295-470B-A4C8-505F1A8E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B5F-4E79-41AC-B133-A98DF67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AAF-B6D1-46DE-B113-6131FD8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8FE-E6A6-40B3-A1C0-83CA44C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3C8-A1DB-46D0-BD07-1A7EA11F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0DC-F670-433C-8BDC-A14FB83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40E-4952-4B34-BE93-9443F66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7E5-896B-4B6A-84A5-68F70EF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AC5B3-B99C-485B-B00F-791DDEF045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 through the ages ru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for a mortal tong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that the world e’er su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а весть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звучит длинный ряд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стоит выше вся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ам петь ангел бы г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 in the earth or 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for a mortal str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, tell the world ag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важней всех других ве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нужна для жив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еси для т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, let the tiding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he guilty heart, to the sinful so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ok to God in faith, He will make thee wh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изни весть передать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павших в грех, для боль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й сердца, наставляй в т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4Z</dcterms:modified>
  <cp:revision>14</cp:revision>
  <dc:subject>Slavic hymnal Гимны веры христиан, hymn 565</dc:subject>
  <dc:title>He Is Able to Deliver Thee / Эта весть звучит</dc:title>
</cp:coreProperties>
</file>