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002-09E6-4BAD-BE4B-7940EB68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D69-50A7-4E7B-B258-E53B2C8F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031-A80B-4F90-84A1-A934DC72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9DC-2759-4659-8637-1C98CB76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8CB-A859-4CDB-9CC8-E0EE1E1D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4F3-8A47-4835-97CF-842604C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3FD-F677-4E1C-9BF1-B6C0F597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FC9-9B26-4F65-AB67-8E234F49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56B-1569-4A1A-8D99-707F0DDD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B9A-A313-47E3-8AB7-ACA3FE69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6CE-4C29-4EBC-946A-828352C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B54-C8F3-4352-8067-101596D6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B0131-5F00-4418-9506-3F1185DCFB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d with everlast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d by grace that love to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breathing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taught me it is 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ыла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пас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л Христа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s full and perfect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presence all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love which cannot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ил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жьим дор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святой 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bove is softer bl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round is sweeter gre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hing lives in every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less eyes have never s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ло мне р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красот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жизнь кипи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ась во мне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rds with gladder songs o’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’rs with deeper beauties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I know, as I now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ки радостно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, на лес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торгом дышет гр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gs that once were wild al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not now disturb my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sed in everlasting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illowed on the loving bre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чера внушало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егодня не с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Христа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й и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o lie forever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ubt and care and self res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e whispers i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 страхов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радости дро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Себе меня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orever, only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Lord and me shall p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h, with what a rest of bl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an fill the loving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ов, навек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раз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— надежда и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зде отрад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fade and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st-born light in gloom decl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ile God and I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е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дним лишь я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знали там и 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09Z</dcterms:modified>
  <cp:revision>12</cp:revision>
  <dc:subject>Slavic hymnal Гимны веры христиан, hymn 856</dc:subject>
  <dc:title>I Am His and He Is Mine (Loved With Everlasting Love) / Божью вечную любовь</dc:title>
</cp:coreProperties>
</file>