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5AA-C069-4521-A41F-CC0275E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37D-A869-4AE4-81BE-2BEC3CD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CC9-9F73-46BB-BF7E-ED9092D5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BBE-60CF-45DA-AE79-89E59329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981-55F6-43D4-ACB2-8C846AF8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BD0-BEB5-4FC6-BCC2-1DCB08E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4CD-7D29-4C96-8438-B47B1636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027-D2D9-453F-9717-9A99E670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9D6-E16D-4FA1-80CB-92BC025A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605-DD0E-4977-B6B5-0D7C35C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B09-AEEE-43F9-9763-94891EA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AA9-4362-4E88-822E-4AD8C31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D4950-C384-46F6-9DD3-8E2D8235B9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29Z</dcterms:modified>
  <cp:revision>12</cp:revision>
  <dc:subject>Slavic hymnal Гимны веры христиан, hymn 833</dc:subject>
  <dc:title>Куда доходит солнца луч</dc:title>
</cp:coreProperties>
</file>