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C09-5502-4E1D-B5BA-D389754D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CE4-0010-47AA-805E-9CEA8CA5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437-14D8-484D-B851-2B5EAFC2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F49-0F53-45C7-BE15-84E855C4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E24-BF1A-49FC-B06D-76DB87E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BD4-F3FE-4749-BF6E-3B63BA3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A2B-FA87-456F-881A-15B56E29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0F3-2DFD-4F61-9928-C5F7D1AB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558-0959-4148-B63F-BAF8246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5F3-C834-43AA-A261-044FF6E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EFE-0B93-4C43-9D8C-01F2B1B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29A-F794-4C94-A823-83CD1577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8AE5E-F722-4462-8E3D-A0C7544AFC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2Z</dcterms:modified>
  <cp:revision>14</cp:revision>
  <dc:subject>Slavic hymnal Гимны веры христиан, hymn 437 (as amended)</dc:subject>
  <dc:title>Боже, жизнь возьми</dc:title>
</cp:coreProperties>
</file>