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4802-E3C2-4665-9BED-E12B98182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A5F9-4B1A-4D3E-B061-B049C5936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3E71-6F33-4C2B-A2B7-DE459B19B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8DAA-95F6-4D94-9891-DB0A5CA0E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3636-9A4F-4B82-81D3-F62B785A0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0A6F-BF63-4CB4-AE2F-557D81DAB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B87C-361A-4E6A-B78C-650CD735E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FDCE-1D64-40EE-8959-24D7DAB3F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AA1B-DCE1-4376-AB78-1710B6310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36F4-A474-43A2-81DB-7D045F288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BBDF-5F08-4726-B7A2-A5D53F065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D84C-C8F7-4BAA-B909-C7824EDD4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5A42BD-58B0-4DE2-B988-3FEDB02A13A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eye is on the sparr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Your hand it comforts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rom the ends of the ea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the depths of my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Your mercy and strength be se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093   Your Eye Is On the Sparr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call me to Your purpo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angels underst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Your glory may you draw all m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Your love and grace dem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 will run to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Your words of tru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t by might, not by p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ut by the Spirit of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es, I will run the r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il I see Your f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h, let me live in the gl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 Your gr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call me to Your purpo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angels underst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Your glory may you draw all m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Your love and grace dem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 will run to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Your words of tru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t by might, not by p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ut by the Spirit of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es, I will run the r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il I see Your f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h, let me live in the gl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 Your gr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 2, Kevin Mayhew: Buxhall, Suffolk, England, 2001.  ISBN 9781840037241.
</dc:description>
  <cp:keywords>lyrics words praise worship songs</cp:keywords>
  <dc:language>en-US</dc:language>
  <cp:lastModifiedBy>John Zaitseff</cp:lastModifiedBy>
  <dcterms:modified xsi:type="dcterms:W3CDTF">2011-02-09T08:32:49Z</dcterms:modified>
  <cp:revision>11</cp:revision>
  <dc:subject>The Source 2, song number 1093</dc:subject>
  <dc:title>Your Eye Is On the Sparrow (I Will Run to You)</dc:title>
</cp:coreProperties>
</file>