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22F1-1370-4904-8697-AE13CD450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FD3C-863B-46C1-B5B9-4933068FD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FF3D-6B4D-4E70-B23C-588DBB52D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997C-CD1C-45C1-BACA-4BB1C4DBC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0703-8053-4D3C-9566-DFF4B5B20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09C7-D422-43B3-A126-F16D80DBA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15F2-BEF9-4811-A3A7-0A7425D37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761F-96A7-4D80-A212-543EBA1F4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FC06-F50D-496A-9C45-52E94D017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4557-A35E-4E4A-8D8B-A2EAB4CFF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CF30-3DD1-494A-B143-C7E53C504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4955-E20A-4080-A2B4-14B15B3AF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879649-99B0-47A2-8C84-21019956B78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удем розсівати Слово Боже ра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и заході сонця, і вдень, і вночі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удемо чекати урожаю з лан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 радощами в серці принесем сноп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инесем снопи, принесем сноп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 радощами в серці принесем сноп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инесем снопи, принесем сноп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 радощами в серці принесем сноп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41   Будем розсіва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6012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Чи то в пору добру, чи в час непого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віть у час бурі, спеки чи дощі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и не занедбаєм славної наго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 радощами в серці принесем сноп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инесем снопи, принесем сноп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 радощами в серці принесем сноп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инесем снопи, принесем сноп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 радощами в серці принесем сноп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6012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удем розсівати правду Божу всю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оч і перешкоди різні навкруг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коро час настане, жниво все достиг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 радощами в серці принесем сноп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инесем снопи, принесем сноп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 радощами в серці принесем сноп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инесем снопи, принесем сноп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 радощами в серці принесем сноп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9T02:36:58Z</dcterms:modified>
  <cp:revision>12</cp:revision>
  <dc:subject>Slavic hymnal Гимны веры христиан, Ukrainian hymn 41</dc:subject>
  <dc:title>Будем розсівати</dc:title>
</cp:coreProperties>
</file>