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134C-3429-4BAF-9352-42E9AF10B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75C3-DAA5-4CD3-A4E6-E2BBDFEF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E4A9-01E7-4BFC-84B0-3EE28FA7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D4E5-7591-481D-BD58-1409D22FE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CA72-99D9-4C56-B7D7-8C5E2BF1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1E3B-1CFC-4A0B-9B8E-397256AD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47CD-2AAE-496C-AD12-85C06C4F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C9E9-3BF0-4186-9100-BCEAB1F5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5768-24FF-4CE9-9B57-75AFF6B8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6144-F2AB-47FE-86BB-5D8EC214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8D0E-7517-46E1-92AE-9A88DB0D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FF96-902E-497F-A40F-3AD09F52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2A959-0C9A-4280-8D42-CE75181DDCF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azing grace! how sweet the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saved a wretch lik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once was lost, but now am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 blind, but now I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718   О, благодать! спасён Тоб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лагодать! спасён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з пучины бе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мёртв — и чудом стал жи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слеп — и вижу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Twas grace that taught my heart to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race my fears reliev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precious did that grace app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ur I first belie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рва внушила сердцу ст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ем — дала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корбь души излил в слез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мир течёт ре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chains are gone, I’ve been set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God, my Saviour has ransom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ke a flood His mercy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ending love, amazing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цепи снял, освобод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 меня прос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как река, с небес теч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овь и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has promised good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word my hope sec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my shield and portion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long as life end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ам Господним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вся крепость в ни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верный щит, Он — часть м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х путях м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chains are gone, I’ve been set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God, my Saviour has ransom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ke a flood His mercy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ending love, amazing grac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цепи снял, освобод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 меня прос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как река, с небес теч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овь и благодать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earth shall soon dissolve like s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un forbear to sh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God who called me he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be forever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плоть моя умр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борьбе ко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в небесном доме ж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ь и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1T14:51:34Z</dcterms:modified>
  <cp:revision>11</cp:revision>
  <dc:subject>The Source 4, song number 1718 in Russian</dc:subject>
  <dc:title>О, благодать! спасён Тобой / Amazing Grace! (My Chains Are Gone)</dc:title>
</cp:coreProperties>
</file>