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60F-C47C-42B3-AF1A-615EF4BB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F35-8A1F-4A64-A6A0-572C51D2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97D-7538-4613-A3C7-5044CFAA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CEB-2E3D-4A1B-8A61-66C74211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611-0120-4602-9A43-63304359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E27-B539-422D-A626-C1C2BE22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EC7-71AE-4E25-B259-1285A87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F43-A648-4D06-90A4-F2702C6A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113-D4F3-48EE-B9E4-8FE1F782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88E-C87F-48E0-A33C-09AD1CD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B43-9342-4D74-ACBD-26FBFDA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F72-6BB5-41BF-AFA1-D49F725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8BE92-9E66-4ED1-8763-294BBA5F56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врезался мо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цель всех помыш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: любить и жить лишь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м Тебе, Господь, об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навек я исцел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лен был и адом св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ю рушил ада п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гляд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сердце радост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счастие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я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икнет в душу, примиря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живительный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кровь Христ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я грех великий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мой Он принял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отдал Он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корбях — моё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я радость п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ветлый и своб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 меня, Господь,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ёртвый духом и хол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новой жизнью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неизре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Нему в любви сми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звы рук и ног лобз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 рук, где я чертой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мой дух за Ним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т обновленным,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7:09Z</dcterms:modified>
  <cp:revision>13</cp:revision>
  <dc:subject>Slavic hymnal Гимны веры христиан, hymn 725</dc:subject>
  <dc:title>Ах, если б вид Его мучений</dc:title>
</cp:coreProperties>
</file>