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10A-384C-4733-BEF5-1FFEAE94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074-7CC7-4497-A4BE-049A732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1E7-A34A-4A3F-87DC-FB816EF4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4D4-55DC-4C72-B712-5B0E07A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163-0E15-4C2E-B6C8-7A4AD79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8DE-EA40-445B-AA57-AB27054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E0E-AE0D-4307-9BCD-2F1F8A6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0BF-A8BC-4B53-92B3-F4DFA636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3AE-8FF8-4E98-85B8-81B20CC9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FB9-8764-4FED-865D-CB0516C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848-3F12-46C9-B6A4-E09FD0D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40A-0C44-45C5-AFA5-524AF62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B6144-9C5B-44AA-84C7-8E505DE8AD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18Z</dcterms:modified>
  <cp:revision>12</cp:revision>
  <dc:subject>Slavic hymnal Гимны веры христиан, hymn 369</dc:subject>
  <dc:title>О, приди заблудший грешник</dc:title>
</cp:coreProperties>
</file>