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09BE-1089-41A4-9D7F-14DAEDE22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370B-3B0D-45D5-8003-621D6888A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59E5-F480-4664-B582-22E82E318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4056-F554-490A-BBA6-9B6B5E70D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577F-D797-40BC-9C96-2F49BA24C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6E11-C3B3-4717-8F19-BC5D8178A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013A-3F46-400A-B1C9-ED3FC2841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801A-5F15-4C1A-8396-DE54FC13C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B604-676D-4B74-AFA6-C7301F2C7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868F-227D-4312-8FBC-5F17ED71D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413C-4A2D-4D1A-A6E9-518AFD296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DF05-57A3-4102-BE14-7817A16B3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0E1651-2F76-439B-9136-32A491EF62B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вы, познавшие радость спасень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вы, омытые кровью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ь вы не видите наши мучень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ь вы забыли заветы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ьме беспросветной весь мир утоп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сячи гибнут в неравной борь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ламени адском вся внутренность т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жальтесь, придите! зовём вас к с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848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2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де вы, познавшие радост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покрывают лохмотья поро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щи, убоги, мы помощи жд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ль услышим мы голос проро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ль спасенье и мир обретё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аде угарном больного весел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ламене жгучем безбожных реч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аше отравы мы ищем забв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ибнем мы, где вы? спасайте скор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вы, о, где вы, носители све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ти чертога и вечного дн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вас зовём и не слышим отве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ь вы уснули, молчанье хран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02:11Z</dcterms:modified>
  <cp:revision>12</cp:revision>
  <dc:subject>Slavic hymnal Гимны веры христиан, hymn 527</dc:subject>
  <dc:title>Где вы, познавшие радость спасенья?</dc:title>
</cp:coreProperties>
</file>