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3B2D-873E-471D-81B0-1724EFD1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3DF1-0FB9-4E10-99D4-EBD303A2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3C9-9A9E-4B90-A840-595DB07D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9F2-3CDB-4C78-B734-DC44000E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6A39-1F51-4C35-81BB-59089140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B56-2492-4847-87BC-FBEC12C7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CE0-E15D-4C47-B481-5AC2A9F1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92E4-E0A1-493D-A9C2-04E8F224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B87-20D2-49E8-9E78-CCBF69AA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F617-6A11-47A9-8330-32A12A24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D818-5FC3-490C-928F-09CD3BF2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704-22F5-4782-BC01-DB54B640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AB01E-0B13-4C7C-9222-F56215064A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beauty of holiness we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we bring all that we poss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ay at Your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lace where Your glory shin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over of all mank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drawn us with love di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ke us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17   In the Beauty of Hol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pause at Your gates once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my heart and my spirit so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sh I could love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and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here tribute that I could b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 there ever a song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could ever express,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 that You’ve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ld I ever conceive of th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depths and the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rea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riches I now poss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pause at Your gates once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my heart and my spirit so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sh I could love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and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4:37Z</dcterms:modified>
  <cp:revision>12</cp:revision>
  <dc:subject>The Source 3, song number 1317</dc:subject>
  <dc:title>In the Beauty of Holiness</dc:title>
</cp:coreProperties>
</file>