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5BB-6756-46B6-A11B-6B12049C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E06-0769-4B6B-8566-F5634F23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B55-ED56-4A00-9970-FBFCDC27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75D-4E1B-49E7-9099-4C3B8E44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8AA-2759-461D-B589-10D0B872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B5B-3DF2-4768-A0D6-5FB61A04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E85-DD0B-4F51-A99F-4D5AE9E4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309-C229-465E-A4FC-4FB3E0F8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B4B-D35B-4F3F-BC18-468E654F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DFC-F1A9-4D62-9BA3-01462854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142-2930-4AA2-A5C2-6385A8DD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13D-E26F-49D0-8508-93E851A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CDB70-5F0D-42DE-925F-8ECD201608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брат мой,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ющи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 ты ни был не пада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правда и з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властно ца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омытой слезами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 мой, брат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разбит и пору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Иде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уится невинная кров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настанет п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ет Ва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нётся на земл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терновом вен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д гнётом цеп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рестом на согбённых плеч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придёт Он и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ярким Светочем счастья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будет на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ёз, ни вра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скрестных могил, ни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ужды беспросве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твящей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еча, ни позорных стол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не меч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светлый прих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стая надежда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лянись! Зло во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чур уж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черезчур уж тем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устанет от м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лебнётся в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омится безумной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ет к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ззавет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полные скорбной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04Z</dcterms:modified>
  <cp:revision>12</cp:revision>
  <dc:subject>Slavic hymnal Гимны веры христиан, hymn 698</dc:subject>
  <dc:title>Друг мой, брат мой</dc:title>
</cp:coreProperties>
</file>