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D7C43-1997-4815-B130-42D417AED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835E1-4D1C-4A10-86DB-8C03E5B84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34734-9DA2-42E0-8C55-A4946C888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90308-FA47-4522-8B01-C1960C63B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DED3E-AE84-4DBC-BE7F-1967C2138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1BF7B-BA04-4CB6-9F0F-3F2E1C75D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CFFF0-200A-4C34-BD19-D4E578A7A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8C87B-2B8A-42F3-AB6E-E8604DCF7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8FB9F-C6FA-48BD-A6FD-3AC9B52AB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BBCAF-2E94-4DFD-BB01-65944AA06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FC35A-CD14-4046-90D8-3C4F55105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7D29F-7642-4E37-B0C3-C86A4AC45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F4DBF8-E7E0-4BDD-BE4B-833D52C7958D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ышишь ли ты голос Божи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жно для тебя звучит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 двери стоит прохожи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ушай, что Он говор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05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Слышишь ли ты голос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жно так тебя Христос зов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спеши к Нему, тебя Он ж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приди к Нему скоре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рдца дверь открой сильне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р найдешь ты для душ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к Иисусу поспеш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ов любви Его ты слышиш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зовёт тебя, мой бра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лько Им одним ты дышиш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лько Им одним бога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жно так тебя Христос зов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спеши к Нему, тебя Он ж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приди к Нему скоре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рдца дверь открой сильне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р найдешь ты для душ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к Иисусу поспеш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ичего, что ты споткнул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тань, иди к Нему опя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ли ты и пошатнул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жет Он тебя подня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жно так тебя Христос зов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спеши к Нему, тебя Он ж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приди к Нему скоре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рдца дверь открой сильне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р найдешь ты для душ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к Иисусу поспеш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олько раз ты, друг мой, пад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вставал и шёл к Нем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теперь такой упрям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не веришь ником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жно так тебя Христос зов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спеши к Нему, тебя Он ж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приди к Нему скоре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рдца дверь открой сильне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р найдешь ты для душ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к Иисусу поспеш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0:23:59Z</dcterms:modified>
  <cp:revision>12</cp:revision>
  <dc:subject>Slavic hymnal Гимны веры христиан, hymn 405</dc:subject>
  <dc:title>Слышишь ли ты голос Божий?</dc:title>
</cp:coreProperties>
</file>