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896-1DA6-4B7D-BEB2-E982A8BC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420-7BE3-43EF-8BAD-B6A37802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4D8-148A-4014-8CD7-D9081F24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208-EBF5-4B3D-8231-6A253D8D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218-4E3D-439D-9A20-3DF5492D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E8F-EBA7-4472-B4BC-25944CBF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1D5-C51A-4C6C-9E3C-3D6EF05B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690-359E-4706-825F-734BE347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3C5-E474-4CB7-8437-A6C7E219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98E-12E0-495F-B0D2-86FDCBC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DB1-8FF0-4883-953E-250C41E0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4C2-F0A5-4A84-9D66-DE5D640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C2A84-181C-4BA3-B37B-17D4D148CF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weary, are you heavy he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grieving over joys dep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  Коли горе на серце наля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ре на серце нал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шу смуток дуже зв’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the tears flow down your ch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b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sins that to men’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льози твій спокій звору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айні гріхи душу м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fear the gathering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s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anxious what shall be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чиш, що біда над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лод або смерть при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troubled at the thought of dy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’s coming kingdom a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світі пропасти не люб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царстві Божім хочеш б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5:19Z</dcterms:modified>
  <cp:revision>14</cp:revision>
  <dc:subject>Slavic hymnal Гимны веры христиан, Ukrainian hymn 6</dc:subject>
  <dc:title>Tell It To Jesus / Коли горе на серце наляже</dc:title>
</cp:coreProperties>
</file>