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4</a:t>
            </a:r>
            <a:r>
              <a:rPr b="1" lang="ru-RU" sz="3600" spc="-1" strike="noStrike">
                <a:solidFill>
                  <a:srgbClr val="ffffff"/>
                </a:solidFill>
                <a:latin typeface="Verdana"/>
              </a:rPr>
              <a:t>	</a:t>
            </a:r>
            <a:r>
              <a:rPr b="1" lang="ru-RU" sz="3600" spc="-1" strike="noStrike">
                <a:solidFill>
                  <a:srgbClr val="ffffff"/>
                </a:solidFill>
                <a:latin typeface="Verdana"/>
              </a:rPr>
              <a:t>О, имя Иисус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имя Иисуса!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сладостно о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енье, счастие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Бога в Нём да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Нём — исцеленье тяжких ра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зв души боль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 утешенье христиа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борьбы земн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 Нём — мой маяк, к Нему плы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правляю п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 пристань, где склоню гла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ечно отдох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 Иисусе — Бог мне не суд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Друг и Пастыр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мой покров и жизнь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дость, и покой.</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05:16Z</dcterms:modified>
  <cp:revision>3</cp:revision>
  <dc:subject>Slavic hymnal Гимны веры христиан, hymn 104</dc:subject>
  <dc:title>О, имя Иисуса</dc:title>
</cp:coreProperties>
</file>