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6926-61FF-45DF-95E8-6F676A31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516E-3DBD-4DD1-AC15-83B56F6F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80BE-6C52-4161-BED4-427D92975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ADCE-40D6-43BD-BD60-77545680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3D81-E2EF-4144-A76A-45355B7E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C3F8-C1D3-421E-9818-ED304F06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DC6F-305F-45D2-A262-BEA04089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D246-5788-49A9-AE8F-6FD15FF1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513E-2D67-42E5-87B7-DDD7BE5E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50FE-1CB8-4E90-BEE6-935BC201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65C2-2ED8-44D6-9322-E8D859EE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C360-B48F-4F77-9EE6-FB932208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1C706-B4C3-4725-8CA3-5EAD7C062B0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 I a soldier of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follower of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all I fear to own His cau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blush to speak His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за Христом ли я и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 Христос ли я и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оин ли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яться ль мне встречать враж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ыдится ль мне к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 I must fight, if I would reig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crease my courage,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ar the toil, endure the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pported by Th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бедить, иду я в б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, дай мне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ерно всё перено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л всегда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венец,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етленный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венец,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етленный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be carried to the sk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flowery beds of 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others fought to win the pri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ailed through bloody s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ль на небо понес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укете пышных 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другие в бой и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ьют потоки слё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венец,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етленный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there no foes for me to f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not stem the fl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his vile world a friend to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lp me on to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ов не вижу ль пред соб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уду ль призыва 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е спешит ли суе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мить Господень св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венец,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етленный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4:25Z</dcterms:modified>
  <cp:revision>13</cp:revision>
  <dc:subject>Slavic hymnal Гимны веры христиан, hymn 793</dc:subject>
  <dc:title>Am I a Soldier of the Cross? / Не за Христом ли я иду?</dc:title>
</cp:coreProperties>
</file>