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8E0-9D6E-4AB8-8089-57ABEDBE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511-82AE-4D26-A2BC-D8D69142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C5D-744B-4C01-A117-B7D3254F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F01-CAF7-40FD-923A-D1CF043E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3B3-C510-4167-A75D-2A7AA3D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8D9-EBE0-46C7-8384-B1FC81D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385-5863-45D4-B368-E3ED0575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2FF-E373-4D58-B59F-6753E775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6DD-0681-4108-9300-E44FDE01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90E-BF81-4C98-BC01-BCCB924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672-815B-4228-88EC-CE06985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7D3-4EB3-4C6E-9C6B-C4966CC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73A8A-2227-4D94-B4CE-AB2B8E55AE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04Z</dcterms:modified>
  <cp:revision>15</cp:revision>
  <dc:subject>Slavic hymnal Гимны веры христиан, hymn 338 (as amended)</dc:subject>
  <dc:title>Грешники, к Христу придите</dc:title>
</cp:coreProperties>
</file>