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53D-FA5E-4D6E-9E9E-96367E2F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EB9-9899-482E-8B6E-6DEA81F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0D-5BF2-4527-B3AA-90F315D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D42-6188-4519-A181-BB3F56D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E89-FED8-400F-8586-220DEC32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CDD-1779-4F98-837A-72CC9D6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6BF-ABC8-41C1-B453-DC22CFB8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5BE-AEFD-4751-BFBD-6BF2E3B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068-B451-43CD-AFEA-E63BC925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A3B-E6B1-4BFB-A9DC-6CF8E34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536-FE51-454E-9E8E-9993739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BA4-DB4A-4EB7-8CCD-CDE9ABC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3D1A-084E-4B28-82EC-2FF24B01F7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down, thou weary one, lay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d upon My brea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 as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and worn and s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und in Him a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I freely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ving water; thirs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op down, and drink, and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, and I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life-giving st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hirst was quenched, my soul rev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live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this dark world’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nto Me, thy morn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y day be br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ed to Jesus, and I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my Star, my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light of life I’ll wal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ravelling days ar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4Z</dcterms:modified>
  <cp:revision>13</cp:revision>
  <dc:subject>Slavic hymnal Гимны веры христиан, hymn 469</dc:subject>
  <dc:title>I Heard the Voice of Jesus Say / Иисуса глас я услыхал</dc:title>
</cp:coreProperties>
</file>