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3</a:t>
            </a:r>
            <a:r>
              <a:rPr b="1" lang="ru-RU" sz="3600" spc="-1" strike="noStrike">
                <a:solidFill>
                  <a:srgbClr val="ffffff"/>
                </a:solidFill>
                <a:latin typeface="Verdana"/>
              </a:rPr>
              <a:t>	</a:t>
            </a:r>
            <a:r>
              <a:rPr b="1" lang="ru-RU" sz="3600" spc="-1" strike="noStrike">
                <a:solidFill>
                  <a:srgbClr val="ffffff"/>
                </a:solidFill>
                <a:latin typeface="Verdana"/>
              </a:rPr>
              <a:t>Вечный Бог! Твоим слова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чный Бог! Твоим сло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границ! Над всей земл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шь царствовать Ты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 конца, как Царь бла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се: язычник, иу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дно в Тебе, при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Мессиею па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я дар любви Тво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знесут к Тебе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епко дремлющий Кит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фриканские ра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Египет, древний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ред Тобой венцы па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бе хвалебный т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пеньем дружным принес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вер, запад, юг, восток.</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0:03Z</dcterms:modified>
  <cp:revision>3</cp:revision>
  <dc:subject>Slavic hymnal Гимны веры христиан, hymn 33</dc:subject>
  <dc:title>Вечный Бог! Твоим словам</dc:title>
</cp:coreProperties>
</file>