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а</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is the promise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shall be seasons refres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t from the Saviour ab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обещал ниспосл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ним, чужим и далёк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небесную дать.</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cious, reviving ag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ver the hills and the valle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und of abundance of rain.</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свежат, ожив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холмы и дор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ю опять закипя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d them upon us,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to us now a refres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and now honour Thy Wor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свыше по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 Твой веди одинок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м больных исцел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that today they might f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to God we’re conf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on Jesus we call!</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наполняют весь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вствуем наши пор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ем ниц пред Христо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f we but trust and obe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shall be seasons refres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f we let God have His way.</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в Своё время пошл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во свете мы ход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Он с нами живёт.</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6:18Z</dcterms:modified>
  <cp:revision>3</cp:revision>
  <dc:subject>Slavic hymnal Гимны веры христиан, hymn 11 (as amended)</dc:subject>
  <dc:title>There Shall Be Showers of Blessing / Благословений потоки</dc:title>
</cp:coreProperties>
</file>