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958D-500D-48D2-BC03-AFE184D4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2B83-6B71-4A4F-BF29-A124A186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F271-45D8-40E8-8CB5-AA875A2F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3C9-702F-4898-96A9-3D1649E3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4AE-7FF2-4C16-83FB-3C6059DB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F8C-F60B-425E-9F20-3FF43EC8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99D-835C-423C-88EF-D2047A95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CE4-78E5-401C-9867-CCDC9BC6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9967-AA95-42FB-8775-3E718D40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F3E1-7771-4817-9E7F-56C2BF95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4C2-1DED-43AF-B670-C0B0C93B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E4D-45F4-46EC-9517-BBABC842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5E720-600B-4321-9D3D-57775D3C380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 Дух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ей мольбе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моляю всей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я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 Тебе пребыть (пребы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существом служить (служит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огонь во мне заж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ело Твоё по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Триединый, Дух Свя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мир лежит во тьме грех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ьбе мое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ть мне дай светле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я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 Тебе пребыть (пребы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существом служить (служит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огонь во мне заж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ело Твоё по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ольше душ привлечь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ьбе мое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лей всю Духа полн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я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 Тебе пребыть (пребы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существом служить (служит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огонь во мне заж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ело Твоё по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любви огнём го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ьбе мое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цо Христа уж здесь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я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 Тебе пребыть (пребы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существом служить (служит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огонь во мне заж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ело Твоё по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7:10Z</dcterms:modified>
  <cp:revision>13</cp:revision>
  <dc:subject>Slavic hymnal Гимны веры христиан, hymn 787</dc:subject>
  <dc:title>Бог Триединый, Дух Святой</dc:title>
</cp:coreProperties>
</file>