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5EC-0355-4856-8A40-1E5DA0D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B2F-51DB-4B0E-9688-74E24240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1A3-14F1-4161-AD29-19CAC902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76B-4EE8-4016-89F3-D7B6229C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CF7-997E-405A-B928-83038EF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D71-7EF7-4C65-8A77-B48E27F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199-B542-419A-9C17-E90E1E1F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502-8072-48A5-A011-F90B8B3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B03-A28E-4FE8-BCAD-8708BF5F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1D5-832A-4D2C-AF5C-BCF4229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81-B22B-4B1D-9445-F44BCAC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3C6-0ABE-428C-B872-599DCFD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CFBCF-7050-4250-B534-7F4B59FA9B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48Z</dcterms:modified>
  <cp:revision>12</cp:revision>
  <dc:subject>Slavic hymnal Гимны веры христиан, hymn 859</dc:subject>
  <dc:title>Твёрд будь в искушеньи</dc:title>
</cp:coreProperties>
</file>