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DE8-BD62-4CB6-8BE4-7B694320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ADE-4605-46F2-B080-8FAF9135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CE1-D7E5-4800-B00A-CC6167AA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05AC-8284-412E-919B-81F73B44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266-DEB9-4A43-88FE-D37FC5FE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CD7F-1A16-4238-AD86-C2DE1CC6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25CF-5E6F-44CA-B253-61C56FF7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D6A3-1290-4FA6-A000-E0C5A5CB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5D5-E1CE-4CA3-BAC4-3FB9A76F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380-47DE-4F6A-9B05-CEFC7400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C76-9380-47DE-9FC6-4A05B96B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1CC-23F0-4AF9-B2A6-FBE098BA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29BEC-7FEC-4F6D-AAF2-04612B76976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day,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has ma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rejoice, we shall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e glad in it, and be glad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7   Ныне есть тот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есть тот день, ныне есть тот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осподь нам дал, что Господь нам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, будем радост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ливы в нём, и счастливы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day 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rejoice and be glad in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day,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ha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есть тот день, что Господь нам 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и счастливы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есть тот день, ныне есть тот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осподь нам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18:12Z</dcterms:modified>
  <cp:revision>10</cp:revision>
  <dc:subject>The Source, song number 517 in Russian</dc:subject>
  <dc:title>This is the Day / Ныне есть тот день</dc:title>
</cp:coreProperties>
</file>