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4943-3430-4FDD-882E-40B762907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9183-7A21-4693-A0F2-813D11A2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A6E1-0E46-4D53-A12F-17C0832B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5527-AA9B-4653-B65F-64638CF77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3330-1D38-48D5-A641-15E4B309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28AE-E4B5-4961-B239-1BFD2266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CEDB-7A0E-4A9A-91A0-0D3DE5B6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BEA6-0DD3-43DE-96CD-DA925210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F41C-E614-4168-A981-3AEA8F49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A158-B73C-465C-A846-0BC26C62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F1CB-E41A-4952-B51E-E598DCC5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3848-0130-485D-BB9C-46BF4318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D543B-BF0C-475A-973B-B5C59465615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ee as a bird to your m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who art weary of s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 to the clear flowing fou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you may wash and be cl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горнем ущельи укрой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нем ущельи укро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изнурённый труд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Христовой омо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истомлённый грех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, then, th’ Avenger is nea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, and the Saviour will hea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on His bosom will bea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ou who art weary of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ou who art weary of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теснит иску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 твой услышит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всемогущий Хран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ы, истомлённый гре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ы, истомлённый грех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protect thee for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pe every falling t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forsake thee, O n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ltered so tenderly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ой и щедрой ру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едлагает нам да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твой польётся ре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хи исчезнут, как п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, then, the hours are fl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end not the moments in sig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ease from your sorrow and cry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aviour will wipe every t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aviour will wipe every t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! Господь призы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янь! уже ночь наступ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тебя не пуск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м предлагает Свой д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м предлагает Свой д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ой защитой Он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емя твоё понес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икогда не за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ёзы с очей Сам отр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ит твои Он скит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удалит воздых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ч прекратит и стра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слёзы с очей Сам отр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слёзы с очей Сам отр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ой приди к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изнывай под грех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ыл до смерти послуш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ь Его верным раб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твоё Он мо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тебе мир и прощ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ую жизнь и спас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ы, истомлённый грех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ы, истомлённый грех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42Z</dcterms:modified>
  <cp:revision>13</cp:revision>
  <dc:subject>Slavic hymnal Гимны веры христиан, hymn 348</dc:subject>
  <dc:title>Flee as a Bird / В горнем ущельи укройся</dc:title>
</cp:coreProperties>
</file>