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58B-C7DB-492E-877F-57556907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F67-F654-40BD-80CC-007A8D6F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9E9-774A-463C-9048-39B71E6C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ECF-D13F-4921-83A5-5E17FA86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0A47-9E78-4AC6-B420-4451FB47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FE4-14DD-4CC1-96F4-CFA98F43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3F0-398B-4E33-A461-2EBFC5A7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4CB-C631-4AB2-8A57-AFF52C8C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FC3-89B8-4081-88B4-B9781D03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2E1-EA76-48E2-AED5-317F3296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2EE-82E8-4DB0-9B58-656D5042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D19-7860-4B47-B59C-5937283C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340E0-63C7-4D22-896C-2A5709AF4C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beautiful beyond descri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 marvellous for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 wonderful for comprehen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nothing ever seen or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grasp Your infinite wisd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fathom the depth of Your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beautiful beyond descri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enthroned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8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Are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tand, I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, I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God, to whom all praise is d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3:09Z</dcterms:modified>
  <cp:revision>10</cp:revision>
  <dc:subject>The Source, song number 589</dc:subject>
  <dc:title>You Are Beautiful (I Stand in Awe)</dc:title>
</cp:coreProperties>
</file>