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26A-DFBF-412E-8116-6ECD4265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1EB-C87B-4B32-800F-D63256CA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778-58A8-4621-A237-FAC5FCD9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F34-A4BD-42BD-B6D2-8CAFF65D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014-4896-4097-B7E5-3126F0D1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9F2-56D6-4DCB-AAEF-7D95E1B9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F6D-5710-4472-80E6-2D9B41EE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289-D149-4256-986E-5BBB22E8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B4E-97EE-47B2-BA19-C26D4C2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75D-2EB3-4A73-8563-5BAA09E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488-3C67-4155-87DA-4A64AEE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06D-A2ED-4808-AB22-9F6DACDE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DBD4F-0253-46F5-AF6D-E4A3644D09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ебудь со мной! уж свет сменился мг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устеет тьма, Господь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лишусь опоры я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лот бессильных, Ты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к жизни день короткий утеч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еркнет всё земное и про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песни счастья только звук пуст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неизменный, о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 царским обликом ко мне при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с состраданьем нежным и в люб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ы исцеление неси с Соб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солнца луч, таким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ебе нуждаюсь каждый час, мой Б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б искусителя Ты превоз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 светлый час и облачной по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уководя, храня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ен враг, коль Ты, Господь, вблиз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орбь не теснит, не знаю я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смерти жало? Ад, где ужас тв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ссильно всё, — лишь Ты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предсмертный час на Крест Свой укаж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вездою утренней средь тьмы гор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етлеет небо новою зарё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жизни и смерти Сам пребудь со м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45Z</dcterms:modified>
  <cp:revision>13</cp:revision>
  <dc:subject>Slavic hymnal Гимны веры христиан, hymn 823</dc:subject>
  <dc:title>Пребудь со мной</dc:title>
</cp:coreProperties>
</file>