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52C-9688-4EF0-B25B-EDAA4F46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652-2F79-4EA2-BDA2-E0BFB44A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A3F-5E8D-424E-B672-AE57757C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08D-0542-4F19-AB1B-221CA896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B6F-67B5-4625-A346-273A74DF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19C-C885-496C-9922-3D144E3D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68C-2301-47C5-9EF4-5AC55C8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3C9-02DE-4C4C-9263-B38CA11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439-F320-4399-81DA-614EF28B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59C-2B86-471F-B6C5-6D8D62BE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8D3-F486-4C51-A344-9710C324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005-0B57-43B7-A32C-348E6AE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9BDB8-778A-4046-9BC8-6D4B209395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e, like sheep, have gone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f us turning our own sep’rat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all si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allen short of Your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r glory is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desir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presence is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14   All We, Like 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ing our sickness, taking ou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sacrifice Lamb, has been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desp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by men, He took our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us near to You,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Jesus,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46Z</dcterms:modified>
  <cp:revision>12</cp:revision>
  <dc:subject>The Source 3, song number 1114</dc:subject>
  <dc:title>All We, Like Sheep</dc:title>
</cp:coreProperties>
</file>