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45D-5B91-4418-8F05-49B38579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BFA-8483-4E8B-AA45-6F582FA0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F8D-13BB-431C-B466-99885122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E54-2198-43AB-B982-A1999324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50E-0E49-4ADF-81A5-B1AEA13B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EA1-9C4C-4583-B218-EF300352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6AF-0715-4EAE-A512-04B2F5B9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A15-B17B-491F-B620-4B4627A6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166-ED54-46F9-B411-23584C61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91E-12F3-4E44-B877-EFEF652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B06-948A-4D8A-AB91-2220098F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865-7848-418E-9C82-D0C38DF7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91C24-5353-443E-B103-84FD8CEF74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осле ночи, свет после ть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ь после зноя, блеск после м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сле смерти, песнь 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за горем, луч за д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 после жатвы, пир за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а борьбою, явь после гр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осле н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китанья — милост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траданья — слава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сть покоя — после угро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45Z</dcterms:modified>
  <cp:revision>12</cp:revision>
  <dc:subject>Slavic hymnal Гимны веры христиан, hymn 488</dc:subject>
  <dc:title>День после ночи</dc:title>
</cp:coreProperties>
</file>