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437-BA34-43FA-8F7F-B2654C32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EDC-CB69-409C-AE25-240F7304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2CC2-F099-44B7-8B28-161F6F3B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35BF-B19D-4431-8D32-453F9B72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448B-57F8-4232-92B0-0142B04B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7F4-6A9D-41E4-BF36-353A570E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B7F7-D6F0-4C78-9832-A9BDD8DF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737F-7EBA-4F04-AD73-88D5A94D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93F-9A24-404D-A22A-F94D80AC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9580-1C6D-49EE-9C12-6FEEB373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822-0322-4162-AC3C-0DFF1770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991-FA0E-4279-A048-8AAC241F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F6158-B05D-47FE-A87E-909BA5063A0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: Божьи дети вста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придут к лицу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тогда хвалой воспря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ечной радости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юноши, и старцы, дет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лечённые в висс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твями пальмы в чудном с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стекутся на Си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 будет: Божьи дети встан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обрадует и при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возлюбленных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х поношение Он сни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ёзы их отрёт с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лача никогда не бу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й дивной родине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ждый скорби поза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ляя жребий с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и призрака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ерть вовеки не прид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ет Господнего сия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мрачится, не з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не будут уж том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разит их больше з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удут вечно весе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ад, упитанный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, как камни, восси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нце Владыки сво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светила, заблис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веки на земл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5:52Z</dcterms:modified>
  <cp:revision>13</cp:revision>
  <dc:subject>Slavic hymnal Гимны веры христиан, hymn 681</dc:subject>
  <dc:title>И будет: Божьи дети встанут</dc:title>
</cp:coreProperties>
</file>