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0994-A72E-421E-AFB0-CF2F62830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B563-A593-46A2-A65C-3750AD58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3118-D43F-4C6A-A1A3-A07F0CB8B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849B-9FB7-40E1-8AB0-1BF7B7154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0B27-331D-47F2-9978-C9CD08A7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20BC-7FB1-40EF-A391-716BC883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9F61-6F71-4C62-858E-B101A155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DF13-EE9A-474C-8D24-38858667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8F1F-9B3C-4DDB-B9A7-795808E7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D79F-C320-49C1-B700-F50B5617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7A70-FC1A-4A36-860B-8FEC961E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42FB-277C-4387-B951-8FBC0035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102521-2773-4ACC-8689-074086C056C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стил! Да, Он прост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грешение Пет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мертный грех Он не вмен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еченье у кос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ангелы, с неб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хоры Божьих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а Господь прост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а Господь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н простил! Да, Он прости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, прельщённый суе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тив Господа греш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пришёл к Нему с моль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осподь меня прос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ангелы, с неб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хоры Божьих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а Господь прост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а Господь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каянья смолкнул сто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милован, прощ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 мой палач — зак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душе царит Си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ангелы, с неб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хоры Божьих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а Господь прост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а Господь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у грозного меч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у призрака су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ия све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жжена Им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ангелы, с неб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хоры Божьих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а Господь прост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а Господь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стил! Да, Он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т запада вос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души Он удал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покров небес облё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ангелы, с неб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хоры Божьих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а Господь прост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а Господь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5:29Z</dcterms:modified>
  <cp:revision>12</cp:revision>
  <dc:subject>Slavic hymnal Гимны веры христиан, hymn 606</dc:subject>
  <dc:title>Он простил! Да, Он простил</dc:title>
</cp:coreProperties>
</file>