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456-BF32-4FB3-A29A-8C66357E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432-284F-4871-BC2F-22DD89A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F16-7BC4-4587-B448-1CE121F1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64C-5C9E-4C98-9EEA-7A68FD37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9FC-920B-42B2-965B-29877E5C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EBA-1CE2-43A2-B612-D5E868C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5B2-3DB0-430F-B7E1-953A3D9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E57-29C1-48C9-9FE8-DA6D7215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C77-F411-49F6-99E0-BE32271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B68-44EB-4FA7-9501-D888A75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8E1-DD0C-48C3-9FE0-547E077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1F8-345B-4FF8-9481-38FEEB0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FD8CD-AA4E-4D80-8925-A58BC1238A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9Z</dcterms:modified>
  <cp:revision>12</cp:revision>
  <dc:subject>Slavic hymnal Гимны веры христиан, hymn 456</dc:subject>
  <dc:title>Не я ли в воинстве Христа?</dc:title>
</cp:coreProperties>
</file>