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7E8-9F53-4789-A1AF-76E2757F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30B-FAA3-435E-82DE-AC2DA0C2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231-AAE7-4229-B7A3-03D83293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02C-F980-4A9A-A300-7C33F0A6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479-A96A-47E9-963C-E5D4741E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188-C64A-4DB8-A608-60399A86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F00-6143-4A98-8062-79D3A3F6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749-023D-4594-80A3-A6524974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2AB-A48C-4093-94CC-E96334A9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FDE-2F5F-4E11-A211-C30745E3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900-391F-4399-959D-ECD3C9F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05B-EFDE-43C5-ADA9-632152E7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ADB7-25AD-4675-AE6D-E62AF37FA4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the wondrous lov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mercy and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ansions bright and blessè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prepare for us a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те о любв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о любв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арах людским сы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тчизне светлой,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л место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walk the pilgrim path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uds will overspread the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en travelling days are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hadow, not a s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ветров, бурь, дож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ей мир остав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и вздохов, н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then be true and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, serving eve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one glimpse of Him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e toils of life rep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и усерд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вёрды, как гран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г один Его я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руды воз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to the prize before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His beauty we’ll beh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pearly gates will op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tread the streets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к цели! Прочь заб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ведёт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емчуж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улиц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3:38Z</dcterms:modified>
  <cp:revision>12</cp:revision>
  <dc:subject>Slavic hymnal Гимны веры христиан, hymn 889</dc:subject>
  <dc:title>When We All Get to Heaven / Пойте о любви Христовой</dc:title>
</cp:coreProperties>
</file>