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63D-40F4-4715-9F9E-B5EDC587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4DD-525F-4674-98C1-D61F7449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56F-F186-44F3-8675-5F1E8ED6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A7A-FBBB-4C02-9823-6DA4B20D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DB7-81D8-453F-9716-0F73326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7E3-E9F2-4CDF-8054-CD7938C6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DE7-34BA-41EA-945C-BB1718B4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96F-05DB-4777-9056-F4E152A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5E1-03B5-43F6-8CE5-0793FEC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ECF-9640-4EE3-847F-9131F36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1DF-1EC6-4E29-A92F-B6D1D23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2E1-28B6-41C4-AC0D-D2BF521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F756D-7579-49B8-BC08-E8A14AAD98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cre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ternity in You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poke the earth into 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my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rried the cross for my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weighed upon Your should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0   You Stood Befor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walk upon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alive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to declare Your prom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stand with arm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rt a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we of the One who gave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tand, my sou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surrende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i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08Z</dcterms:modified>
  <cp:revision>12</cp:revision>
  <dc:subject>The Source 4, song number 2180</dc:subject>
  <dc:title>You Stood Before Creation (The Stand)</dc:title>
</cp:coreProperties>
</file>