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A98-64F0-4070-A027-65A7203D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D67-76BE-4652-AEBD-0BB3BD04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CE1-8A15-40D6-BAB4-A67E963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71E-1557-4793-A73C-EFA64AA0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1EA-4F17-4327-A79E-478C588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C8E-0D9E-4E0C-BD96-63A2997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343-906A-4278-8F4F-4D2998E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F00-5843-4699-A470-90467B44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28F-53DF-4116-8DDC-F00E510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355-5B25-40A1-BA08-2A7AFEA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8D0-E714-423D-8441-917BCE5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668-D3F7-493F-93C0-E948E1A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6CAAA-8A40-4547-AC1D-4BB88A7742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2Z</dcterms:modified>
  <cp:revision>13</cp:revision>
  <dc:subject>Slavic hymnal Гимны веры христиан, hymn 640</dc:subject>
  <dc:title>Standing on the Promises / Верю в обещания Христа Царя</dc:title>
</cp:coreProperties>
</file>