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EEB-9224-47A6-8DED-F586AB17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746-4F46-4D6B-8E68-59318717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6F6-FD43-4B0D-B459-D39E9F22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1FB-5F5C-4367-A165-755131E4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EE0-A989-44D1-8065-646A753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56E-1F42-4497-A99E-39C24E79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DAC-4554-43D2-AB1B-D1BF5CCA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D11-DC54-434E-AC02-6C5A8FE0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B11-2A0C-4B9F-8DE0-17DE628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987-2492-423E-B53E-5FD6B1C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5E4-7B1E-4957-A2F0-A92BF67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136-BDBF-46B4-A1BD-65637DE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32EDC-BF0B-4E15-AFB0-FB069B5037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eadfa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never ce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mercies never come to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are new every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ever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Steadfast Love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35Z</dcterms:modified>
  <cp:revision>11</cp:revision>
  <dc:subject>The Source, song number 505</dc:subject>
  <dc:title>The Steadfast Love of the Lord</dc:title>
</cp:coreProperties>
</file>