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85E-0260-4984-AD16-DE1143BB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E78-D226-4E6D-8AB5-D20C0C21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A3C-4C88-4F30-948A-A4A68FFC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F80-3FCE-4240-A11B-32F93DE9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42A-45F8-4BBB-A7F6-4A5A71C8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1438-8F91-4C90-9753-0FE65B62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A56-D721-4083-BBBA-09646388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D5D-1BA8-4D1A-B67C-466E7C75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0B9B-4FED-4C63-ACE5-BD3AD68A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8B8-52C4-4E08-8C44-A999369E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001D-E18D-480E-8461-91C7BAC8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8F1-18C1-4CC2-B302-3821017C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DF22C-FAF8-451F-9725-BC6736B884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comes to my heart one sw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glad and a joyous ref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it again and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сердце лишь песня од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рдце лишь песня од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радости льётся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, как живая вол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, peace, sweet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gift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onderful, wonderful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Christ on the cross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debt by His death was all p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foundation is l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пил мир страданьем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олг мой Себя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 миру лекарство от слё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, peace, sweet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gift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onderful, wonderful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as Lord I had crow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with this peace did a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m the rich blessing I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Иисуса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р в изобильи мне д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оре любви ощущ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, peace, sweet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gift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onderful, wonderful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Jesus for peace I ab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s I keep close to Hi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thing but peace doth be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пребываю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рибегает дух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мир я вкуша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, peace, sweet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gift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onderful, wonderful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02Z</dcterms:modified>
  <cp:revision>14</cp:revision>
  <dc:subject>Slavic hymnal Гимны веры христиан, hymn 582</dc:subject>
  <dc:title>Sweet Peace, the Gift of God’s Love / На сердце лишь песня одна</dc:title>
</cp:coreProperties>
</file>