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15C-48A2-4A87-AA07-5DEEEC39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06B-DF7A-4D0B-81DC-1C724EF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1AA-BC1D-4770-A3B2-273D2183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363-06E7-4976-8E2B-B5CF7DA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FE5-228F-4FBE-8777-2958414E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855-BF69-402A-BE80-FC32343A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FF8-7B9A-4288-8C00-73E8047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803-FD87-4A69-A14D-BC14FA75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1FB-ABF5-42EC-B888-F8904655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FCD-FE9B-4CB4-87D0-525FC34E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9FC-D2A5-4880-8645-8EAE809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A3D-CD12-4E8F-AB0F-F0C55CC0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5F198-E1AB-4F8D-B1A2-47E9129B94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благодать избер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лова воз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пасителя примешь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ую тьму изберёшь ил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: о, дай же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 благодать изберё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ечный суд угрож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ок путь жизни и тесн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и ты в царствие внидешь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н обрёл тебе кровью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спода крест по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ечная жизнь: ожи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скитаний твоих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вещанья Сво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ери Иисус к нам не вечно ст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ую цепь ты пор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жизни прид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ешь ли в двери отверстые н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Ему будет ли хр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тобою спешит по след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5:47Z</dcterms:modified>
  <cp:revision>12</cp:revision>
  <dc:subject>Slavic hymnal Гимны веры христиан, hymn 398</dc:subject>
  <dc:title>Христа благодать изберёшь ли?</dc:title>
</cp:coreProperties>
</file>