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FB9-2864-4283-B771-B791F0A8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E087-1537-4EC8-A9DF-B47FA1CB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5B86-76E9-4649-ACE1-A3FCA86B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1B75-6F17-441E-923A-279363A8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64D9-0055-40D1-89F6-9799E65C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6015-C9E9-47FE-8A75-860215CE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23CD-E4D5-439B-8ED4-91C1CC92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2DD7-2761-4F8C-BD7C-C1E34B5C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935B-15C8-4694-9E7A-058B4FDB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7C4F-9DA3-4273-9B0C-303C0FE3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40AD-5FF0-4B26-AB3D-494E55F6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251B-7404-4942-ACC9-1FF9D69E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BC947-372D-44AB-ABCB-CBB59DF9B69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какой беспредельный великий восторг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г греховные узы расто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, Голгофскою смертью разрушивши а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купил Своих избранных ч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ём вечная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любви полнота, полн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, да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какой беспреде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завершенье Своих величайших тру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стал из могильных о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 ликуют все люди и своды неб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ш Спаситель из гроба воскр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ём вечная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любви полнота, полн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, да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воскресеньи Его — оправдание все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скресеньем Его попран гре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скресенье Его — расторжение з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 воспрянут Ему честь, хвал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ём вечная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любви полнота, полн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, да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крес и со славою торжество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Божественным светом сия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и в славе Он той же любовью дыш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её верной пастве явля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ём вечная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любви полнота, полн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, да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ш Спаситель три дня в глубине был зем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из ней вынес дар дорог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сияет светлей драгоценных камн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 — Творца примиренье с землё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ём вечная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любви полнота, полн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, да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усть живёт воскресенье Христово в сердц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изгонит сомненье и страх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крес, и мрак ночи навеки исче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истину в славе воскр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ём вечная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любви полнота, полн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, да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7:13Z</dcterms:modified>
  <cp:revision>12</cp:revision>
  <dc:subject>Slavic hymnal Гимны веры христиан, hymn 294</dc:subject>
  <dc:title>О, какой беспредельный великий восторг!</dc:title>
</cp:coreProperties>
</file>