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90D-06B7-40BF-805F-3A65DF3C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BC9-568F-4F4C-825F-5CF6F504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E80-F85F-4047-BEBA-1F6BBB04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D46-2093-45ED-945D-E8E85C8C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8E4-8A55-4C15-8AA0-93673FF9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9D4-F74A-48CF-9E89-762A5E7F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A31-8CA0-48AD-852F-03666B71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554-CD64-47F1-85B1-45C0D7C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4CD-8946-4576-9D99-24542D52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150-8CE7-42DC-B166-76D92F9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B39-0718-4031-8130-B45D7C6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0BE-FD85-436B-8655-18935562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14E97-9D81-4257-A85F-D91E6985AC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s the time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arch up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the ground w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к земле нам обетованной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ёт нам Своё насле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ides in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ead us into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Christ is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о славе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к победе при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 узн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at work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urpose to perf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ilding a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power not of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ожий замы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ся через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ся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лах, а не в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ing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shall be made possi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giv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 свер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ерой невозмож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вучит п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ст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 are weak,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everything we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de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treasure is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 мы, но по благодати мы 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ценный Дух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аша плоть сла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urns ou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His opportun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that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es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ой слаб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ляет силу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да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30:10Z</dcterms:modified>
  <cp:revision>11</cp:revision>
  <dc:subject>The Source, song number 438 in Russian</dc:subject>
  <dc:title>Ликуй, ликуй! / Rejoice!</dc:title>
</cp:coreProperties>
</file>