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EDA-1B7B-46D4-A9AE-6D628382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36E-441F-436F-B78C-8397B31B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98F-551F-4925-B5E1-CFC2A937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05D-FA65-4E8D-917D-89AC15A8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980-078D-45E4-82B5-9CEAC5E5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A5A-6268-4E20-86E2-CD71A92F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D88-9DD1-4DDA-BE6F-50EE665D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7BF-85F4-44AF-BBDD-6E3FFD5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D43-4EA9-4699-B80D-741F119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515-3347-4866-9BD0-113B185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C9A-0922-45A8-A8E2-E55E45D1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7ED-9BEC-4C8F-A99A-505F17CA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93F3E-65F3-461E-8BB1-1BC26A7744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и в знойный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ясь ж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ст жатвы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на солнцепё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в тенистом м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прасны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сти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ей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идё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лачем отправляя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ободр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м не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атся ры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увидим н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00Z</dcterms:modified>
  <cp:revision>13</cp:revision>
  <dc:subject>Slavic hymnal Гимны веры христиан, hymn 540</dc:subject>
  <dc:title>Сей Господне семя</dc:title>
</cp:coreProperties>
</file>