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582-409F-40ED-8B0B-10BE4CBD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4AD-A4AF-47AF-B521-7AD5CB0F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100-DE04-4630-8F3C-712E460F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46FC-956F-45FA-BCA4-A8F0DD47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697-CDDE-4394-BCA0-309E5BFD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DD1-1B4E-4629-AEC3-3EEF043E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42D-67B8-4D54-8CBF-5AED4E50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C27-CC37-49BC-840F-EAE0F6AB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BC4-5932-49F8-A7B1-29F0A6E3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C84-0CE7-4DB2-8809-E0A44815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8B9-303F-4C40-8BE3-20422C3F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37E-6AE8-46F1-ABAF-620496B7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8F5C0-1CB4-41FF-BEB7-93A7E5E704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днимет свой в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окой обретёт в полно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, посмо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, весь мир воз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дал на кресте за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поднимет свой в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авил тебя от грозы и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тебя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 смерти! Где жало т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быт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зный ад! Где победа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осветная тьма над твое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дания жажды п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ами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в Нём правды сокр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тобой беззако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яжесть яр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снит тебя жизнь, как тюрь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грех Он в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вободы твоей Он в цеп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зачем же в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венных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нодушье бывает иль ст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 на Христа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деждой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ты дар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3:46Z</dcterms:modified>
  <cp:revision>12</cp:revision>
  <dc:subject>Slavic hymnal Гимны веры христиан, hymn 360</dc:subject>
  <dc:title>Кто поднимет свой взор на Христа</dc:title>
</cp:coreProperties>
</file>