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2CD-6218-46C9-8DFC-4630A30F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D95-C9DA-4643-8912-98D79201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3ED-3856-4118-A431-345EDC8D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71B-B5EC-4599-80A2-14536A8E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967-1AF4-4BFE-B7B9-3190783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066-98A3-434D-B4F2-060E619F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C0E-7FD1-456C-B452-35FCF9D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163-FC9D-4A2A-9B79-2CF7D80D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EF2-BDCA-4A98-884D-8BE19439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A45-B25E-4819-8D02-020F7AA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F18-B028-4213-9449-2AA3E69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1BD-0342-4913-9400-C7DB777A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86564-E246-4CA6-8913-54CB9E2A61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тільки є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є щ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, хто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ю новину не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3   О, скрізь розголосі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темна вже м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ння Зоря зій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ьму розганяє вж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ічний наст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ство гріхи лиш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ходить до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Цар ца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е з небес дол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и забрати нас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тих, котрих Він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труба зв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олос чути скрі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а це лю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нас Спас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нас спасти з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ти н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лава Бог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спас і 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59Z</dcterms:modified>
  <cp:revision>12</cp:revision>
  <dc:subject>Slavic hymnal Гимны веры христиан, Ukrainian hymn 93</dc:subject>
  <dc:title>О, скрізь розголосіть</dc:title>
</cp:coreProperties>
</file>