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63E-0D25-4A64-BE10-6EC9B3C2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F79-D0BA-4756-A89C-0CD12F3F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6F2-2A20-4577-B30C-F2E05E28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6A9-4C6B-4DA3-99FE-ECEA33A7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40B-6B7E-4416-997B-714AF0A3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13A-8335-4358-BF1D-5BA1277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FBD-656A-4A97-9E98-6E7CB4B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043-79E0-4ED0-8DD5-5301E97E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BCC-B739-423D-AF65-4BB61A62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A7D-85E3-4F75-A69F-B74C3F6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BEE-1A87-4FDD-8EB3-C59B677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69B-0079-4341-BF50-71F071C0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65901-2986-4829-8414-6807790882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a moment, You ar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the ages, God befor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a vapour, You are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everlasting, reigning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 who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st praises, honour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Your name, be unto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6   We Are a 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the broken, You are the heal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Redeemer,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ove-song we’ll sing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ing before You, blessing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 who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st praises, honour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Your name, be unto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12Z</dcterms:modified>
  <cp:revision>11</cp:revision>
  <dc:subject>The Source 2, song number 1026</dc:subject>
  <dc:title>We Are a Moment (Be Unto Your Name)</dc:title>
</cp:coreProperties>
</file>