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06C-A4BD-484C-8ED1-CD7EDFDC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2AE-D591-4FE1-AC35-2A30BF6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84F-8914-403E-97A4-CD64A8B4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FB7-BBFC-41A0-B1E5-2FB5EE34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BB3-B43A-4FA7-A324-4E664B3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A38-B3FC-429F-A84D-B54FB8C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1C8-21A2-41F0-8A6E-84C432D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11F-3BE7-4FC9-B7B6-196132F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FBE-9298-478B-B8DD-2956FB8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B2C-7FAE-44CD-8784-F68E683D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47C-DC73-4AC8-A216-0828AA7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061-8613-45AF-A0F8-710375A7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10CA-72B5-4160-BE89-41390C0469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56Z</dcterms:modified>
  <cp:revision>14</cp:revision>
  <dc:subject>Slavic hymnal Гимны веры христиан, hymn 628</dc:subject>
  <dc:title>Я не стыжуся возвещать</dc:title>
</cp:coreProperties>
</file>