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0FD-8235-4CD9-8201-9498668C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B01-BB9B-403E-BDA0-150992E2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E8F-0777-4EBB-AC55-4C6F9C39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94A-288D-4283-95A6-1FD6EC41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B46-B19C-4B84-8F41-80F8E5D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575-59ED-4724-8E25-FCC6A6BB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E0C-4888-4F7D-B9E3-927968D8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B2F-2EB6-4E87-9804-E5A7A91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C87-B34E-4CB8-9BE8-C77A951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CDB-4C98-4FFA-B12D-A23CB97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0D4-E7DB-4FF6-A3DD-352F896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46E-CDCE-46A2-BDF6-A6EB0C8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E003C-7AB4-4320-B0CD-BD3DCB8F30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7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ing Your prais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lose to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13Z</dcterms:modified>
  <cp:revision>11</cp:revision>
  <dc:subject>The Source 2, song number 1077</dc:subject>
  <dc:title>You Are Holy</dc:title>
</cp:coreProperties>
</file>