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A8A-BF6B-4F68-ABBF-B60A8AB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AB2-2D60-4AC8-91E2-7F8B942C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213-93A3-43C6-8324-4CF0E1C8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DC3-A01C-4DFD-A2FC-B913FB46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E13-4510-45C0-8A17-FDA2A2D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461-F076-41A7-A6E3-7576418D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169-A68B-4EDC-AE17-97C1924E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366-EC43-4A49-92E9-4C7C10DC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7EF-2BF4-495C-9530-9209020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5EC-797D-43A8-BC68-A47695A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EAE-08BE-47F2-A7F6-1188D28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28D-DA44-4AA3-924C-E44C9F7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E3DC-C5A4-480F-BA35-F161428D3B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принял я кре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ю дан святой об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ыть в со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блюсти свято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и ж моё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Тебя, о мой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стоянное ста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озбуждать, смирять же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ое принял я крещ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Христос, в Твоё стяж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тело, душу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твергни обещ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навек к Теб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длани, где Христов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е здесь меня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душа придё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47Z</dcterms:modified>
  <cp:revision>12</cp:revision>
  <dc:subject>Slavic hymnal Гимны веры христиан, hymn 722</dc:subject>
  <dc:title>Святое принял я крещенье</dc:title>
</cp:coreProperties>
</file>