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254-F740-421E-99FD-69509B96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88C-6FE5-46B7-BE5C-6A42B29E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C6B-7EBA-4DBC-AEFB-DB80404D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916-40B2-4D73-B386-0A1D8773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B64-EF94-4025-934E-5CBD5EA7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706-6815-4945-A162-7BF6FE59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399-D212-4A2D-9439-32C5ACC5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D3A-48B2-4DE5-BB08-91336B8E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FD8-8E5E-4F51-8344-DAE7A212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4E0-D567-43E0-919E-0338BF2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454-B254-4A09-89C5-9485EEB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5B7-9A50-424C-A6F7-B578162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ABD29-922D-46FE-8B55-8D40016E83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salms to Jesus v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ur joy full s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се лику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се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ден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ёстры, торжеств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n sin benigh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rs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s blood u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been made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чуж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ми м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by Sinai’s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face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he thunder frigh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s to u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приступ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 Синаю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уж не пуг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ы, мол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grace from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from wrath are w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со кре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аслись от г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love 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we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heav’n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и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uth ’t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rd, that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и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ить во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пойте: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мена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у жизни за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0Z</dcterms:modified>
  <cp:revision>13</cp:revision>
  <dc:subject>Slavic hymnal Гимны веры христиан, hymn 569</dc:subject>
  <dc:title>Let Us With Rejoicing / Братья, все ликуйте</dc:title>
</cp:coreProperties>
</file>