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5AF-B5D8-4B83-BA11-783F7182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879-6CC8-491D-AC9F-623701FD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B99-682C-4C83-8452-05EB43E6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C75-232A-451F-B2B6-FEA4BFD5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1C8-2B97-4F75-8336-9F397B20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CF2-06B5-438A-BAA0-94F68C14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D1D-00F6-4A94-BFCD-03FD9F73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8D7-1357-4E44-9F2B-391CCF85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9D1-4D16-4AFB-9ED3-A595B3B2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B4D-9E37-47C8-89D0-BCD4A396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964-BA80-4DCA-8CAB-02B0D101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A76-C6E6-4C57-BE32-C6353AB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2E7D5-4047-43EB-8AD6-A639C4D459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t the wedding feast at Ca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shores of Gal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 Lord, revealed Your power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wd received You joy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! Ты в К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Ты в Кане Галил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ый праздник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рвый раз средь тьмы жит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ву там Свою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10055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no power to live as You comm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You in us this power ig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, then, Your favour “till death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m part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You now fore’er u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! Для жизни этой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Тебя, Господь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годатствуй до мог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свершаемый сою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s an honoured Guest among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joy to all the guests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engthen in Your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union from its very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к нам, как гость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сех благосл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и Ты связью т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по вер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sanctify this holy 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have sanctified Your B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Bridegroom we await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ransomed at Y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брака освящ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вечной, как же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ом пире воссед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искуплен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dding of the Lamb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invitation is to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rant that these who join their liv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enter Your great banquet h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зовёшь на праздник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новая ч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я всегда Твои уст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ла войти на брак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here can we find the gla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the sunlight of Your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can we find true peace and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less You grant these by Your g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где в мире этом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вета Твоего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истинная сл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в мире без Твор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9Z</dcterms:modified>
  <cp:revision>13</cp:revision>
  <dc:subject>Slavic hymnal Гимны веры христиан, hymn 740</dc:subject>
  <dc:title>When At the Wedding Feast / Христос! Ты в Кане Галилейской</dc:title>
</cp:coreProperties>
</file>