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D87-7050-41FB-A77B-3C3C9C0F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621-8981-4126-B4D4-A99B81F0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026-BFDB-468C-9AC5-176A610E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B8A5-DE8B-4F83-BF32-BFE754FC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9A2-AE36-4A10-860B-D167DE99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3C3-6B5C-45FD-B6D8-A372A075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B0A-22E8-4E4B-AA3B-7E726CF7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432-EDBD-4DF7-A396-5598E93B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F62-B7D9-42A8-A283-19FC7A96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915-C2A1-43E4-B9D6-EE76162D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5BF-63C1-4F59-B466-FFCD5A0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4C2-7003-466F-8895-59525B70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D3630-8941-4B86-A5B8-B8F653955C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атся дни твое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ставишь: заботы и т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ебя после смерти постиг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бе будет вечный при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кончатся 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ты жаждеш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овольствий и выгод себ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всё это мин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то не поможет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возможно, подшучивал та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ризывом упасть пред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узнаешь ты я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пасенье и жизнь только —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ощённый, грехами покры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сможешь на Бога взир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чистые сердцем уви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т вечно Его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хочешь быть чистым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 Иисусу приблизься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Он небо отк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вятыми даст мест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16Z</dcterms:modified>
  <cp:revision>12</cp:revision>
  <dc:subject>Slavic hymnal Гимны веры христиан, hymn 358</dc:subject>
  <dc:title>Когда кончатся дни твоей жизни</dc:title>
</cp:coreProperties>
</file>