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442D-CCE8-47EE-A0E1-B360A2C4A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34C2-4212-4FF9-AE52-E9031013E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7F52-E744-4AF5-BE52-73908AFC7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2146-6C5C-4DCE-8455-28FFE03DB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9C48-1B30-4195-8712-401309F09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5CB8-259F-4253-8EAF-A88CDB8E3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F51A-177B-4E7A-B84E-914D99E9F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FD10-B9B9-46DA-ADEC-EA4BDDB1D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50A8-A94F-4FED-8752-4509876C1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1250-F580-43DE-BAD8-5DCC0AD14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F85E-01A5-41BB-B916-9A3BCDD95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6671-2235-4BB3-B2B1-AF6B5B824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ECE0F0-9385-49B5-9117-1C3481BC91E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ытой Библией вез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будем мы во всяки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слово правды о Хри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стичь могло широких мас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Боже сил, небесный 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шли скорей во все ме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и людей из ночи бе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познанью Господа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6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ткрытой Библией везд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приходит правды луч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аступает новый ден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тьмы греха, сомнений туч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дское «я» уходит в т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Боже сил, небесный 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шли скорей во все ме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и людей из ночи бе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познанью Господа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открывается Госпо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любви безмерной и свят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ает дух, врачует пло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ует жизнь душе боль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Боже сил, небесный 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шли скорей во все ме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и людей из ночи бе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познанью Господа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сталым — силу для тру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тым — покой среди забо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ежду с Богом жить всегда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ая Библия да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Боже сил, небесный 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шли скорей во все ме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и людей из ночи бе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познанью Господа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20:51Z</dcterms:modified>
  <cp:revision>12</cp:revision>
  <dc:subject>Slavic hymnal Гимны веры христиан, hymn 563</dc:subject>
  <dc:title>Открытой Библией везде</dc:title>
</cp:coreProperties>
</file>