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D0C-DA4F-4164-820E-09523FF2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1BD-6A48-4DCC-A215-4348F7A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F25-EEB7-4C3B-8119-1A8E724A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F86-EB05-4BA2-9E5D-0369FC80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402-00A7-4B02-90C0-61754895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A49-0D51-4EEF-AAC4-FF46537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C04-73D0-4E19-A973-C925FC2C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7BC-37EA-48EA-BBEE-719F6AFD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A98-AAFA-4132-87E7-FFB34A4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D91-00BA-4CF1-8CFA-6FA1C35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08C-A0BE-49A8-B148-18A01F2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A7D-35A3-403C-ABCD-60F65F1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DC03D-E73A-4F43-A44F-CAF318F65A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ібрання закін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одому йде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чого ми науч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ерця візьм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9   Ми зібрання закінч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ож будемо ми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учитися тут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житт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сть Бог жити, ми зійде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з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будень, чи в неділ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31Z</dcterms:modified>
  <cp:revision>12</cp:revision>
  <dc:subject>Slavic hymnal Гимны веры христиан, Ukrainian hymn 89</dc:subject>
  <dc:title>Ми зібрання закінчили</dc:title>
</cp:coreProperties>
</file>