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33A-F29E-462B-857C-8737A80A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A10-D398-49ED-B374-47E0626A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AAB-0C94-4250-B9CB-97CC2746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B8B-C78C-4621-B6B2-F60F6A29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E17-1456-4ABF-A8C6-CED4B4B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C1D-8F8C-4D8C-B833-519AE6D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992-EB22-46EE-B6E6-A6FB12B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6BF-9F3C-48CE-940B-84B893B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36B-0D31-4283-84E9-B22A642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C37-C484-4B0F-95AB-2A535AE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4CC-4388-4E04-80CD-2A1A675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C11-C776-4162-99CD-8D8C751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48256-184D-40CA-A297-33DDDB6232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Sent His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9-22T21:51:19Z</dcterms:modified>
  <cp:revision>11</cp:revision>
  <dc:subject>The Source 2, song number 701</dc:subject>
  <dc:title>God Sent His Son (Because He Lives)</dc:title>
</cp:coreProperties>
</file>