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28A-C5B8-4EFD-A147-CA6E69DD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1A5-30A9-4B9C-82F3-5A41A82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FE2-2BB9-45B0-87B4-2DEF3DB3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831-488C-4A86-957B-1C30A4B9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265-B391-406B-8AFF-E3332822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9F3-09DD-45BC-B1A5-F150E324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A7B-9E4A-442C-AB61-2539A76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B89-76C1-417B-8914-6B26DD36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C9F-BA9E-4264-8E39-8D2EF8A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057-D6E2-4061-AFEE-34E41CF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B99-C88C-4F57-A6D6-B75F54A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CD1-7D88-4B43-BA42-0069D3B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121A-B496-4CC7-BF46-458E23088C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Бог — всемогу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цар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чудный, лю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повторить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40Z</dcterms:modified>
  <cp:revision>11</cp:revision>
  <dc:subject>The Source, song number 418 in Russian</dc:subject>
  <dc:title>Наш Бог — всемогущий / Our God is an Awesome God (Awesome God)</dc:title>
</cp:coreProperties>
</file>