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86D-2C14-43A7-8B1B-B3B0DC36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9F9-E486-45F0-B68F-F8A0679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3B0-4D89-4143-8FDA-2210B7AD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BA4-A597-4BEC-ACB7-4F039FBC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017-57B2-4511-85AC-CBA1CBF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8FE-748D-4A5F-927A-327E85B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5B-A2AF-4A3F-BBE2-FC5D1B01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4EA-E444-403F-8A54-56FA741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55A-735E-44D5-9423-EA04A7A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22A-CB8B-492A-8F61-D624DAD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B05-44B6-43EC-A19B-0B48870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AEA-D21C-4BAB-A48F-7EA8139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32849-FB99-4A84-89D7-DC447F6D10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56Z</dcterms:modified>
  <cp:revision>12</cp:revision>
  <dc:subject>Slavic hymnal Гимны веры христиан, Ukrainian hymn 46</dc:subject>
  <dc:title>Дізнавсь я про Церкву живую</dc:title>
</cp:coreProperties>
</file>