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054F4-8525-4748-8A41-FBDEC4222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16B71-B6B8-42C0-A50D-3F587D4A2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E70B5-14B3-41A8-8734-73DFC0ED6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F2721-6FD2-4B59-A9DB-474094CA3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E9840-593E-4116-8808-41B4FB8AB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17B9B-EAB0-4D2E-9FD9-E897DAB8B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74986-41E5-4047-BFA5-7C0A0B0CC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4FC6A-C9D4-4776-A217-605DAD94F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B26E4-124E-486F-8A49-B72ED7148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2A7B9-B685-4312-94F8-9E6553D27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C2F58-0C74-42E7-8127-E1BA47482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CD029-442F-4B13-840C-3DFC0ACA2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E85F0D-96A8-470A-89F2-5B1C0A25D9B8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чем я так бессилен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чем страдаю 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сердце так печальн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т утешени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 мой Утешите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дь Он со мной всег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701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Зачем я так бессилен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птиц небес пита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забудет ли мен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птиц небес пита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забудет и ме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к запою от счаст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частлив, свободен 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птиц небес пита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забудет и мен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я в искушенья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круг темно, темн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душе замолкла пес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частье умерл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взгляд на Иисуса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жизнь возвраще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птиц небес пита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забудет ли мен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птиц небес пита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забудет и ме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к запою от счаст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частлив, свободен 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птиц небес пита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забудет и мен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бедах пусть ваше сердц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 не смущаетс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к слышу глас Иисус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успокоен 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ть, истина и жизнь О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х благ Он полно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птиц небес пита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забудет ли мен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птиц небес пита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забудет и ме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к запою от счаст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частлив, свободен 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птиц небес пита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забудет и мен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2:15:39Z</dcterms:modified>
  <cp:revision>12</cp:revision>
  <dc:subject>Slavic hymnal Гимны веры христиан, hymn 701</dc:subject>
  <dc:title>Зачем я так бессилен?</dc:title>
</cp:coreProperties>
</file>