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6E8-D650-45F9-A417-03DAE305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6DC-B545-4AF1-8A2D-E8D406E7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D17-8682-44F5-85DF-B6AC987A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EE5-959F-4C3F-9359-7BF8A5B7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21D-F60C-41D8-8259-1685937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E3D-4F4E-4F66-9ECE-E68E3EA1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19A-EEDA-472E-90E2-3281D54A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FE0-6CC5-4342-8699-FC96A962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CFB-1D61-4BF8-9453-2F8F6D31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7E7-BE80-418E-8577-5016704D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528-4329-46D8-9C9D-6E0E3ED0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A8D-34BC-4C88-B727-82FE462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3CC59-4CB5-4EC4-9DD6-FF6E0C1A29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and that is plen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streams of abundance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’m found in the deser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walk through the wilder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2   Blessèd Be You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blessing You pour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turn back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darkness clos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till I will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sun’s shining down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world’s “all as it should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the road marked with suffe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there’s pain in the offe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blessing You pour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turn back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darkness clos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till I will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choose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blessèd be Your na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choose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blessèd be Your na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24Z</dcterms:modified>
  <cp:revision>12</cp:revision>
  <dc:subject>The Source 3, song number 1152</dc:subject>
  <dc:title>Blessèd Be Your Name</dc:title>
</cp:coreProperties>
</file>