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1AA-8D40-486F-8F5B-D526D129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DFB-BE80-4287-8EBA-92A8DBAF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347-FE1C-4459-9FCA-A9744000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5A4-C689-4778-ACC4-86E4A1EA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D9A-74B2-423C-AC7D-D273107C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1AB-8589-4F43-A069-D3359412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D4B-4F29-4374-91D1-095F6C9F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FCA-DC7A-4B13-8B84-6B80599A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618-C61A-432C-91E3-233411F9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88C-75DA-45F8-A044-3585CEE9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8F7-489E-4BA6-83EF-DC23A6B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ABE-32EF-4CDC-82F7-522D8BDD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88FEF-C56E-484B-B4D2-563B032506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3   О, благай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лагай Христа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м часом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е будь байдуж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спі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 пок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итя Його пр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Він тебе безм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загибелі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t thrills our souls with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loving arms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songs our tongues empl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ерце утіш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 ім’я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лиш підкріп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е від зл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будуть зустріч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го Царя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 будуть прославл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ворця святих чу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5:49Z</dcterms:modified>
  <cp:revision>15</cp:revision>
  <dc:subject>Slavic hymnal Гимны веры христиан, Ukrainian hymn 13</dc:subject>
  <dc:title>Take the Name of Jesus With You (Precious Name) / О, благай Христа, мій друже</dc:title>
</cp:coreProperties>
</file>