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91F9-7CAE-415D-8EBF-1952CE6E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57B-B214-47A5-936B-EC9E903D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5D8-67BA-4101-8A01-DE1B5884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C01-FEAD-4E8A-989B-38CB40D6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CFA-1842-4F0F-B03E-09E1B87D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D4B-DA4B-49F9-B58C-536A316C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765-48F8-46F1-923F-53C9834E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A1F-3147-4B4F-B5C8-137E8747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096-371B-4F5C-9FAE-7E8D5CE0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E99-8ECF-47DE-9D53-27E2C598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417-43C1-4BFA-8671-FDE3F513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442-A969-45C0-9043-3D33E618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46122-9028-42BB-8746-66141C0428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God h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eary passer-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2   Дорогий Завіт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рогий Завіт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н вірним обіця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emptations almost win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y trusted watcher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promise ring with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орог тебе зв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шляху, що ти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, що Він говор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y secret hopes have per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grave of years gone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promise still be cher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ерце перест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повати на Христ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чуй з вірою слова 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hades of life are 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hour has come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thy trusty Pilo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ні життя кін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остання хвиля 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й тоді звучать слова 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2:32Z</dcterms:modified>
  <cp:revision>12</cp:revision>
  <dc:subject>Slavic hymnal Гимны веры христиан, Ukrainian hymn 42</dc:subject>
  <dc:title>Precious Promise / Дорогий Завіт Ісуса</dc:title>
</cp:coreProperties>
</file>