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4D6C-49A1-46BD-A79E-CEC11738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5C0-14EC-4A2C-BE97-87151F9F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EA7-BB98-4EA2-BA21-5E7A8F56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028-9DB6-4D2B-A1A8-F7DA63E2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ABA-0BAA-4D72-BB8B-23466002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C8F-38BA-41A7-A723-3DDA4CEF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7966-0CFC-469A-B360-EA8C0FD6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7CCE-7928-4DE1-84DF-A5808C36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B4F1-4EE4-4D00-9F70-6D4DDD8F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D10E-282E-4CEC-8F0E-A6D533D7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30E-E219-4AC2-84D1-785F6A15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C0BE-F52B-4EAF-8BB5-CF3D1C7C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2AF04-F7FA-4B3D-A333-9B77A91DE9F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приди, Е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 от власти тёмных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воле страждущи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ерпит, молится и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, приди, Еммануил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Господь, как на Син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ё величье по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нам волю откры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х и мыслях напи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Жезл Иессея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ди греха ра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оря зла спас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Дух истины из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Звезда, обрадуй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лизок, близок славный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ь от всяких бурь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прогони, пошли Тво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Давида Ключ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вери в Царствие откр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раг нам смертью не гроз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приди, Е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4:07Z</dcterms:modified>
  <cp:revision>12</cp:revision>
  <dc:subject>Slavic hymnal Гимны веры христиан, hymn 880</dc:subject>
  <dc:title>Приди, приди, Еммануил!</dc:title>
</cp:coreProperties>
</file>