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93FA-9837-4237-BA94-E779DBA7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9C45-2A43-477C-9811-190C789A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FE8-7F3E-4F3F-846C-4C5A78E1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12C-D04A-4F34-ABA0-131664F2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123-54AD-4695-8B21-53686E4E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7A76-63BB-4E4E-944C-4D5764DC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BA74-9289-4360-90F2-5E979377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EFA-E0AB-41F7-9C51-7C3554CD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4A59-C660-48EF-BAFA-E88A79B6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225-AEBE-4058-B408-2586E5F1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CD89-7543-4A6D-8117-43DAFC71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B71-FFF0-462E-8CF0-886D071F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742F6-51F4-4442-94E2-C159D9F29E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forgave my sin in Jesus’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been born again in Jesus’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Jesus’ name I come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hare His love as He told me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id, “Freely, freely you have recei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eely, freely g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 in My name and because you bel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thers will know that I liv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od Forgave My 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power is given in Jesus’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arth and heaven in Jesus’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Jesus’ name I come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hare His power as He told me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id, “Freely, freely you have recei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eely, freely g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 in My name and because you bel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thers will know that I liv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01Z</dcterms:modified>
  <cp:revision>10</cp:revision>
  <dc:subject>The Source, song number 123</dc:subject>
  <dc:title>God Forgave My Sin (Freely, Freely)</dc:title>
</cp:coreProperties>
</file>