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CB08-9B96-4E2B-A0BC-93E366965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E793-6A9C-4CFC-9954-AAD10413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BAC2-CF73-425C-9875-94962FF9B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CCB3-B224-4A25-AFA0-1E0B016A1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9A38-1C23-4DCD-8D41-74151985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3234-C220-4063-9256-CA4EA9AE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D026-ADDB-4106-BD89-F87998BF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378D-C9B6-4463-ACD8-A524AF7D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0C19-DBEA-4BE0-BB77-8CD0FCAC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6118-3E44-4EE6-8387-28A83F2C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EB8A-DD46-4C43-BE5C-0618C971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74CF-2576-47F8-A93F-EFDB861B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48A0B-D9F4-4334-BD14-2DB1DA33E81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and anointed One,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isen and exalted One,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name is like honey on my lip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Spirit like water to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Word is a lamp unto my f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love You, I lov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 first part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8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Jesus,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6:01Z</dcterms:modified>
  <cp:revision>10</cp:revision>
  <dc:subject>The Source, song number 286</dc:subject>
  <dc:title>Jesus, Jesus, Holy and Annointed One (Holy and Annointed One)</dc:title>
</cp:coreProperties>
</file>