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9F4A-8DED-4D07-B59D-D74F4B081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EA4C-30B4-47CC-B2EC-AC71AFFB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7427-1BDE-4815-A136-14398FAA6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151E-E351-4D29-93C9-A865F813B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5BA6-F7B2-43FC-AD18-58062E33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2631-B868-4E1D-B51A-7B7C3B01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66BD-910F-492C-8AC5-4606D42B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D40C-6266-42DE-923A-B217BFFE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DE9B-6BE7-40B6-BEA8-8BAC3420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8852-A240-4523-A15C-3E1F14C8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5454-B89F-441B-823B-B66ADD70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BF30-DC8F-490F-9586-2236C25F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D8550-2BA2-41C0-82AE-D05C1382AC9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может, не на вершину г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 дальний путь через м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 бой опасный, лицом к враг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ёшь Ты, Господь,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если Ты тихо призов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чуждую мне троп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чу, Господь, руку взяв Т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шлёшь, я пой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ыть мож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шл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йду!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горы, долины, мор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кажешь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я скажу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хочешь Ты, тем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может хочет слова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чрез меня с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ную душу с пути гре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годня к Себе приз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веди лишь Ты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скорбь, тесноту и ть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сть я ту чудную повторю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кажешь мне, то я ска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шл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йду!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горы, долины, мор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кажешь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я скажу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хочешь Ты, тем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дётся где-нибудь на зем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иренное мест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есть работа мне для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пятого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оте Твоей предав с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Ты любишь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сердцем служить буду я Т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хочешь Ты, тем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шл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йду!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горы, долины, мор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кажешь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я скажу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хочешь Ты, тем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1:21Z</dcterms:modified>
  <cp:revision>13</cp:revision>
  <dc:subject>Slavic hymnal Гимны веры христиан, hymn 556</dc:subject>
  <dc:title>Быть может, не на вершину гор</dc:title>
</cp:coreProperties>
</file>