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9230-E129-4606-BEB3-475CA07F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CECB-4970-4699-BB0D-73FE5FAA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CB3A-4490-44FC-AFD9-15B7FDB6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A61F-42B1-4584-AD84-DD57EDB8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A106-38C3-4218-8CC3-C76141D9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D5D7-2C3A-42A9-B34A-C99F5B08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F23-F293-4065-8835-CF39CA27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60A9-2DFA-4FBD-92ED-AA144D94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7DD2-7402-4841-9B14-DAD2454A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D0DB-BA77-4FAF-8279-CC0AC5C2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C233-832E-4231-AD0A-26DE6A61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FB5B-5CB7-4157-827C-6DB51BFA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5D72B-7806-42A7-879F-7D38F6095E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зья дорогие, взглян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траданье Иисус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жертву крови оцен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в сердце Ему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гордитесь, друзья, но смир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ь поверьте Иисус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 Господних принять не стыд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оверьтесь Ему, как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друзья дорогие, взглян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е будьте, друзья, равнодуш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этой жертве Иисус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Он к нам придёт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нья не будет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нье для нас невозмо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делами, ни жертвой, друз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нье для нас — только в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ь и тело Иисус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ьмёт только тех, кто послуш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л верен Ему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ойдите!» — Он скажет всем греш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верил учень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, дорогие, и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ст силы бороться с грех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жде царствие Божье ищ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льное приложится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3:41Z</dcterms:modified>
  <cp:revision>12</cp:revision>
  <dc:subject>Slavic hymnal Гимны веры христиан, hymn 406</dc:subject>
  <dc:title>О друзья дорогие, взгляните</dc:title>
</cp:coreProperties>
</file>