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E57E-1360-4436-8ED7-6FF8AC02A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880B-A78F-47FB-B2A1-0EE632FC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18F9-E069-4EB5-A260-B024AD7BF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8260-6927-4400-88E8-BFBE492A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57B0-5A97-4338-B0C0-A93577DC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40C6-0A85-462E-A3D5-B3BC86AF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4FE3-3CE3-4795-A9B6-FE047FDE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3F5F-D29B-4036-8FB5-560EDD0E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F453-8ECF-4972-9B10-079ADCD6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37B4-F10E-4451-A693-C57F14B2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A905-62F8-4C05-85F0-4D29EC61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F690-2BEF-4DAC-A704-F2627070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74AE6-A003-4E81-AE60-9C8D4EF2FA5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487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enter the Holy of hol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enter through the blood of the La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enter to worship You on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enter to honour “I Am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282   Вхожу во Святое Свят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жу во Святое Свя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жу 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жу, чтоб Ему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жу, чтобы видеть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487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worship You, I worship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worship You, I worship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r name is holy, holy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r name is holy, holy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лоняюсь Тебе, поклоняюсь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лоняюсь Тебе, поклоняюсь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Твоё свято, свято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Твоё свято, свято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7:29:40Z</dcterms:modified>
  <cp:revision>11</cp:revision>
  <dc:subject>The Source 3, song number 1282 in Russian</dc:subject>
  <dc:title>Вхожу во Святое Святых / I Enter the Holy of Holies (For Your Name is Holy)</dc:title>
</cp:coreProperties>
</file>