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6F2-3D7A-4E9B-ADBE-161C5CA7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66D-D24E-457E-9B8B-CBE5CED3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BF3-D327-400B-8B6C-808A157F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D22-F400-442F-85D6-B3230B8E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8F4-42F9-4ABC-91B9-98FD04C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F6F-3007-47D8-AB8F-B32F177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5AE-85EA-43AA-8A77-CB58BFFE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FD9-F525-4A51-B1E0-6544E4D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87F-DCA3-4875-A01D-65111AA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BCE-49ED-4200-AB0A-EB58ED44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2BF-2659-40E7-A031-15C996E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D85-B89C-4276-8B8A-72FBBB6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F20EC-5631-4EDC-8D0D-1E5115B3D8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God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that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peace, strength and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hat a Beautiful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revealed, my future s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ed my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and freedom, life and warm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d my soul, my strong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s me from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security, power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49:28Z</dcterms:modified>
  <cp:revision>11</cp:revision>
  <dc:subject>The Source, song number 301</dc:subject>
  <dc:title>Jesus, What a Beautiful Name</dc:title>
</cp:coreProperties>
</file>