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620-8F04-457B-B33A-F7AB6E3A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678-78A5-48F4-BEE5-FCE07224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8DC-3328-420E-B7F4-B752D1F7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BF6-5BC1-4406-BAB5-BA240931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31B-319F-45BD-91D9-C1E81449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866-5B7B-42F7-9FE3-2EE88E2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DDA-BA4A-41E5-A5A3-4FA91B1D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4FC-0FB9-4FFD-9D22-8121B3CF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CF8-367B-4B34-A88D-F3CD2BB1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460-9F93-48A2-A4E6-588F8A1A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E3B-3D2B-4435-972A-B0D4226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AEF-C477-424F-A40F-3033C30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F5407-E675-4E5E-AD65-C80816C928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have I in heaven b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thing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esire besid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and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y times they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ere is on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always will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9   Whom Have I In Heav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portio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56Z</dcterms:modified>
  <cp:revision>12</cp:revision>
  <dc:subject>The Source 3, song number 1629</dc:subject>
  <dc:title>Whom Have I In Heaven But You? (God Is the Strength of My Heart)</dc:title>
</cp:coreProperties>
</file>