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10F-4482-4351-B3F1-A7B57DB6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910-C2C2-4084-B842-76C6516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E76-6959-4B63-8286-D0D1CF71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416-61C0-44FE-AD6A-F5DA02D6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9A2-7E75-4E01-AC0C-9F5ED7B3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958-DE92-49F0-AC53-964478E3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814-B446-4C8A-B343-8D755C9F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C06-B73A-474E-97A3-10B91CC4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C2E-A1B7-4FE0-835E-DB7B6AB6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452-2AD7-4F44-BB2B-4839EB3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CF2-D47D-4B42-B803-860BFF4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936-7684-466A-9106-5EAB6D43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06350-A061-410B-9C18-9D7296322D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скажите Христовым друзь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 из гроба и нет Ег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ый Учитель придёт к ним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адовать их и в любви наст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, скаж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несите ту весть и Пет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рижды отрёкся пред Ним поут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онет теперь от печали и слё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из мёртвых воспрянул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ы малодушно Ему изме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осужденья тебя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рех твой простил и навеки за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ть тебе к жизни блаженный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серафимов, любимцев Твор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беспечальных без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, чтоб греш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х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ели славу Его алт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20Z</dcterms:modified>
  <cp:revision>12</cp:revision>
  <dc:subject>Slavic hymnal Гимны веры христиан, hymn 290</dc:subject>
  <dc:title>Идите, скажите Христовым друзьям</dc:title>
</cp:coreProperties>
</file>