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1</a:t>
            </a:r>
            <a:r>
              <a:rPr b="1" lang="ru-RU" sz="3600" spc="-1" strike="noStrike">
                <a:solidFill>
                  <a:srgbClr val="ffffff"/>
                </a:solidFill>
                <a:latin typeface="Verdana"/>
              </a:rPr>
              <a:t>	</a:t>
            </a:r>
            <a:r>
              <a:rPr b="1" lang="ru-RU" sz="3600" spc="-1" strike="noStrike">
                <a:solidFill>
                  <a:srgbClr val="ffffff"/>
                </a:solidFill>
                <a:latin typeface="Verdana"/>
              </a:rPr>
              <a:t>Христос в любви всесилен</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ос в любви всесил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благодати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манны дождь обил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мой покров от бе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сердца искуп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жизни нет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вечное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отдых для борц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лагословенья полно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полнота лишь в Н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Нём я покоюсь 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бъяснит язы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олн Он благосты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в любви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я песнь слаг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о, что кажды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ой я ощу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могучей сен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лагословенья полно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полнота лишь в Нё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ж увижу,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лицом к лиц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ещё дор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будешь пришлец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за все дая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я вос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му, Кто от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авил жизнь мою.</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лагословенья полно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лиш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полнота лишь в Нём!</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3:01Z</dcterms:modified>
  <cp:revision>3</cp:revision>
  <dc:subject>Slavic hymnal Гимны веры христиан, hymn 71</dc:subject>
  <dc:title>Христос в любви всесилен</dc:title>
</cp:coreProperties>
</file>