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a:t>
            </a:r>
            <a:r>
              <a:rPr b="1" lang="ru-RU" sz="3600" spc="-1" strike="noStrike">
                <a:solidFill>
                  <a:srgbClr val="ffffff"/>
                </a:solidFill>
                <a:latin typeface="Verdana"/>
              </a:rPr>
              <a:t>	</a:t>
            </a:r>
            <a:r>
              <a:rPr b="1" lang="ru-RU" sz="3600" spc="-1" strike="noStrike">
                <a:solidFill>
                  <a:srgbClr val="ffffff"/>
                </a:solidFill>
                <a:latin typeface="Verdana"/>
              </a:rPr>
              <a:t>Не пройди, Иисус, меня Т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е пройди, Иисус, меня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не ос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й у трона пре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найти бальз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остёрт теперь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мне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лагаюсь на Теб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к ищу я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и мой дух, спас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 источник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е всяких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г мой — Ты, как в мире т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3:38Z</dcterms:modified>
  <cp:revision>3</cp:revision>
  <dc:subject>Slavic hymnal Гимны веры христиан, hymn 16</dc:subject>
  <dc:title>Не пройди, Иисус, меня Ты</dc:title>
</cp:coreProperties>
</file>