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A97C-568A-405D-88E2-212C1333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ECA-CC52-427F-A454-803CF76E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0B87-3701-4860-9C62-AA40167F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E55F-9A65-4B83-BA91-4D78067E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214B-F54B-4D8C-8E4A-191AB4FE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EE7D-0CC7-407F-9E8F-A5497155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A859-4F17-443D-A7C6-7D250C2C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287-348F-4CF5-BC46-FB2EA790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1321-05C4-4753-A31D-98AFCC04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FA96-36E7-4628-9647-6B9279D2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4F0F-D921-4EFA-ADBD-BDC0E738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418C-F415-4618-9B7B-D013BF88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BE4B7-DB51-4E65-BD1E-2E9191ACE5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d me ere I knew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rew me with the cord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us He bound me to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ёл я Друга од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же всех на с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освободи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 греховной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ound my heart still closely tw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ties which naught can s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His, and H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ever and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ердце привязал к С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ко мне любов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 теперь и 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ю куплен к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led, He died to sav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t alone the gift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is own Self He gave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ёл Он на м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нам вечной жизни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м купить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that I have mine own I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hold it for the G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, my strength, my life, my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His, and Hi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имею, кем я 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я не счит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таланты, жизнь и 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я посвящ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ow’r to Him is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uard me on my onward cou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ing me safe to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хранить Он бу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ведёт Свое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веки не забуд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’ eternal glories gleam af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nerve my faint endeav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now to watch, to work, to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to rest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 славы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стремлюсь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корбь и труд мой путь л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ому пок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kind and true and te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wise a Counsellor and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mighty a Defend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чудный мой Спас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лизок, верен Он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сильный Утеш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m who loves me now so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power my soul can se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life or death, shall earth or h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! I am Hi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сила разл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м Другом несравнен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всегда соедин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ечным, неизме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00Z</dcterms:modified>
  <cp:revision>14</cp:revision>
  <dc:subject>Slavic hymnal Гимны веры христиан, hymn 583</dc:subject>
  <dc:title>I’ve Found a Friend / Нашёл я Друга одного</dc:title>
</cp:coreProperties>
</file>