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E5A-B6B5-40B9-9129-16D02ADF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234-EE83-4AB3-A434-DDCCEF97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181-0735-424F-8AE5-477CBA9A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E9B-BA72-4D7C-A28C-5A7B5049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DC4-C50A-4C81-965D-74E1910B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650-53A7-4FF7-9590-46F23853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9CB-30C4-495D-89C6-8FFE45D4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9A0-CF6B-4A41-A182-E95F3892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0E0-DE79-4764-837B-38FBD415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C1B-03FD-4153-B3C7-C035DDF4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541-CE43-4E64-9589-19F58DC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335-5EEB-4E58-8752-FE9FE95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C53FA-09A1-4C25-BA18-E3E80646AB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, далеко, далеко,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гранью небес голуб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ак нежно,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ак мило,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лаждаться в общеньи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леко, 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око, глубоко, глубоко, глуб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ечтаю о родине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слёз, ни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, лег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радный мой дом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, я хочу, я хочу,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быть в том блаженном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час придё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лу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место в блаженном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29Z</dcterms:modified>
  <cp:revision>13</cp:revision>
  <dc:subject>Slavic hymnal Гимны веры христиан, hymn 696</dc:subject>
  <dc:title>Далеко, далеко</dc:title>
</cp:coreProperties>
</file>