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DA2-C167-4881-B67C-D35612C2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869-DDE3-4014-B172-7C27BC4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BC8-412F-44CE-8031-D58DF837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AFA-B10E-4D55-A2C9-6F2146B1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FBF-49A6-4917-A789-B82C94D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CCB-0FD7-4DB1-B76C-808A20D2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888-8260-4928-A543-B54BA692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978-ABE1-41A5-A77E-E1BCFC41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581-1EB9-4486-8E9A-6789A7F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62B-B5ED-47BB-B326-FF67136D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017-DB59-437B-A38B-D9D1724B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8EE-5C84-433B-BD1D-6E05047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E8D6D-2650-495A-A6AD-D0913212B2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above, beyond our understa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love revealing who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lohim in whom we have our be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, the moon,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11   God Above, Beyond Ou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osts, the King of angel ar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ovider, Shepherd, Healer,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fender of the poor,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One, no eye has ever see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, in Christ, Your grace and glory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acing on our lips the “Abba, Fath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ster, Adon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01Z</dcterms:modified>
  <cp:revision>12</cp:revision>
  <dc:subject>The Source 4, song number 1811</dc:subject>
  <dc:title>God Above, Beyond Our Understanding (I Love Your Name)</dc:title>
</cp:coreProperties>
</file>