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567-9522-4BB9-B924-CC8F995E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F86-F311-412C-83F1-EA2B64D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B11-F340-4B8C-ABBA-73992C82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EAD-CD39-42DD-BC5B-C66C33F6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7D6-C308-4BE6-AF5E-01B61F4A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77E-00D4-494D-8449-00CCA52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E8E-D114-41AE-A512-AA03C7B2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289-C447-436E-A44D-18B220C7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579-BB4F-4BE5-B457-420004E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460-1FDC-4198-9219-1BE7698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963-08E5-4FBA-8A1D-AFC2B00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38B-4AE6-4593-A15B-1F6D38FE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C7C5C-E17A-4C6B-B44F-7E65B872F1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ask be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I doubt His tende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ro’ life has been my gu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ly peace, divinest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by faith in Him to d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know, whate’er befall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oeth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s each winding path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s me grace for ev’ry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eds me with the living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my weary steps may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ul athirst may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shing from the Rock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a spring of joy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fullness of Hi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rest to me i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Father’s hous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spirit, clothed immort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s its flight to realms of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y song thro’ endless 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ed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2:35Z</dcterms:modified>
  <cp:revision>13</cp:revision>
  <dc:subject>Slavic hymnal Гимны веры христиан, hymn 865</dc:subject>
  <dc:title>All the Way My Saviour Leads Me / Мой Господь всегда со мною</dc:title>
</cp:coreProperties>
</file>