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2F7-7328-426E-865E-8BA09A52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4CB-A528-4583-B403-37F4D819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10A-3D4C-4B25-A7F5-B7FF0939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73D-2D4D-4B11-876E-623A6EE3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729-3F85-4399-BDB7-AB80345F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7E7-024C-41BC-A259-34D400F0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B41-8AAF-49FD-9161-E8003D22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D62-E309-411E-928E-2FE184F8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B05-5457-479A-A52B-17E4539A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2F4-5B3F-4DB4-B784-186CB44D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740-39B0-4BB1-BFAA-01BF8A99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AB3-54EE-4526-BD59-F4AB5468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9C12D-9C54-441A-A2F8-A1C9FAD761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at the cross where my Saviou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where for cleansing from sin I c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o my heart was the blood appl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   Там, де один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один раз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ертву приніс на вівтар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ий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o my heart was the blood appl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wondrously saved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o sweetly abides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the cross where He took m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я дивно спасен від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носив я за гріх ко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кров Ісуса мене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the cross where He took m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джерело живої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всі мої т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ною насаджені 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ідними бу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ecious fountain that saves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I have entered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Jesus saves me and keeps me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Jesus saves me and keeps me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is fountain so rich and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thy poor soul at the Saviour’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unge in today, and be made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йте усі з джерел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о ходите шляхом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заспівайте хвалу Й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unge in today, and be made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7:04Z</dcterms:modified>
  <cp:revision>13</cp:revision>
  <dc:subject>Slavic hymnal Гимны веры христиан, Ukrainian hymn 11</dc:subject>
  <dc:title>Glory to His Name (Down at the Cross Where My Saviour Died) / Там, де один раз Спаситель мій</dc:title>
</cp:coreProperties>
</file>