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8BC8-527D-4FEB-9189-3AE87C13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8B70-160C-4045-BEF8-5324AD13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12C-0FBD-4A23-A3A9-3B21978D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DD8-3D00-4F94-ADDC-55E182B3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3DF-A4B8-43E0-A45C-A23BEA6F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C1E8-E26B-479B-991A-95D82160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593-DD6D-49D2-BDF6-668F6686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C6E6-9FFC-4C5B-87ED-CFCEBACA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AC72-C20C-4E72-9DD2-20BFF9F0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F61-57BD-40E6-AA6A-28F461FA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87C-0355-4EB4-A8C1-D09BC5C2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4A56-54A9-47E5-8F65-D367DED4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709B9-982B-491A-9849-CB033DA2C5D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ous, joyous, without cea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shed our light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we ever show to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joy we have from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82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ость, радость непреста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ous, joyous, without cea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shed our light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we ever show to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joy we have from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leading, let us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cling to Him each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tects from tribul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lead us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Сам ведёт за р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ает нам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хранит от бед и м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ей внемлет Он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ous, joyous, without cea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shed our light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we ever show to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joy we have from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пойдём Христо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льнуть к рукам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д бременем сур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опасть нам без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footsteps we are wal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in His mighty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rotect from dangers stal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eliver us from h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ous, joyous, without cea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shed our light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we ever show to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joy we have from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the joy that faith can bring 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, our cups are overr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keep our joy in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wing in us like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еры, жизнь дающ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, как солнце, в нас гор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грешных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благ Он нам 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ous, joyous, without cea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shed our light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we ever show to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joy we have from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52Z</dcterms:modified>
  <cp:revision>15</cp:revision>
  <dc:subject>Slavic hymnal Гимны веры христиан, hymn 567</dc:subject>
  <dc:title>Joyous, Joyous, Without Ceasing / Радость, радость непрестанно</dc:title>
</cp:coreProperties>
</file>