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EDA-7621-4311-AE95-9C93B98A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23D-CFE7-4520-BDC5-417421CA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EFA-78B7-4DD3-B5ED-AAF0D878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873-3C3C-4E46-B0D9-0ECE2FFE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C2C-5D6C-42D0-8DC8-1F9D3855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FDF-B54B-45F0-ADC9-9C978F32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B0D-C63D-45CC-B9AA-91555CFF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F2D-0EE9-4749-A766-9E584CD5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38E-C8F5-40B0-9CA6-66FBA443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1592-04D2-47FA-9449-1FF8E584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C48-CFFC-4304-ADB2-48F3FC93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863-C47F-419E-ADA3-0A79ED74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84564-6870-48A9-BB62-5040E25914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pirit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s up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like David sang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8   Коли дух Господні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, I will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like David s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, I will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like David s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, спі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, спі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pirit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s up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 like David prayed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, I will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 like David pra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, I will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 like David pra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,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,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pirit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s up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 like David wept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, I will w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 like David w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, I will w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 like David w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, я п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, я п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7:59Z</dcterms:modified>
  <cp:revision>12</cp:revision>
  <dc:subject>Slavic hymnal Гимны веры христиан, Ukrainian hymn 108</dc:subject>
  <dc:title>When the Spirit of the Lord / Коли дух Господній наповняє мене</dc:title>
</cp:coreProperties>
</file>