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CFE-CED3-4F98-8BA2-DFBD1971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5B1-79D2-449A-B0BE-5217FFEA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0C4-574B-4221-AEA0-8AE2A98C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172-1E9A-4138-B4D1-C372466C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892-0CD2-4E51-B5D4-D0D0F417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C72-356C-4D76-B01D-C1D47C4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455-8040-4C15-A92F-1B251724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AF0-3BA8-436C-A6F6-CE65D00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EE2-1B0C-43AD-BC1E-3FFC5AB0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F74-0507-45D9-9ECF-4ED7BCD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93B-EC29-495B-9DA9-9E532C4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D04-E0AD-48CE-9AC9-D610F040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4B220-7007-4186-8761-A600EF2C09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узеньким я 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мене в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їну милу дор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н при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2   Шляхом узеньким я і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тяжкий час Йому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іді Він хорон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падаю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Він дер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удові співи в ті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унають вічно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х! що за радість в тім к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01Z</dcterms:modified>
  <cp:revision>12</cp:revision>
  <dc:subject>Slavic hymnal Гимны веры христиан, Ukrainian hymn 102</dc:subject>
  <dc:title>Шляхом узеньким я іду</dc:title>
</cp:coreProperties>
</file>