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226-D4A7-48AB-B560-6D3FBE99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89D-FEC4-49B7-B142-3E927303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F0D-08C8-4ABD-9760-4B02073B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C23-0621-4A35-A192-F3D47911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A32-DBDB-4D72-8CE8-F14748EF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428-AB73-4D3A-B4BB-97697C4D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06E-C14E-4403-9FBC-C9C2663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D99-F42A-4575-9B4F-F1EAA23E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50B-CB59-4625-8230-581997F1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346-8340-444A-AB9E-E2D11B8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F46-A3CB-4225-829A-E4CF716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335-E96C-4EE2-81F6-2061366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BAF0D-EF8C-4ACA-A79D-48AFAD43A6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илосер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не сил да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азаться вер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 и бессил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е молю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идт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Христом пойд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ю вле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и скорбь зем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в смирен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Божь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ала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и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о и своб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укреп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Госпо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отверг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ой жизни вку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шаг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всех недугов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Исцел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Его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я стрем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давно жел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прекра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кругом буш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уж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реплю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ти по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4:26Z</dcterms:modified>
  <cp:revision>12</cp:revision>
  <dc:subject>Slavic hymnal Гимны веры христиан, hymn 445</dc:subject>
  <dc:title>За Христом пойду я</dc:title>
</cp:coreProperties>
</file>