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48C-122F-48B8-BABF-13FD2992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DF1-F8D5-42DC-BC39-03268722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676-F6AB-4A15-9E05-DB8C7618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3D9-B1F0-4EAE-A067-A12E036C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7A1-FCB3-4A71-B3D9-F1EC372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4A7-B2A8-4AD2-8A55-B5E6BE71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DFE-C7F1-4CEC-90C6-C034C63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60D-8C64-4379-90B6-4E833D14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BD8-21D7-4BC0-8DCA-8AE8E533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A48-B7E2-499E-A841-000C4E1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305-907C-4EAD-8F29-16306A4D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46F-3C47-4776-9B11-7F387AC0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237ED-77E7-4CE0-9D42-FE3F4ADB02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что может исц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чиститься, гля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кровь одну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щенья нах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крови святой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скупит дух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обро моих заслуг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надежду мне дар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святость мне не щ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09Z</dcterms:modified>
  <cp:revision>12</cp:revision>
  <dc:subject>Slavic hymnal Гимны веры христиан, hymn 425</dc:subject>
  <dc:title>Что вину мне может смыть?</dc:title>
</cp:coreProperties>
</file>