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866E-8A0E-4CC7-8EB0-139A8C280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FAB7-938C-4FA4-AA97-2EE96607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BC8B-618F-4112-8F97-3B7887279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FCF9-77A2-4669-A09F-71D0A6B43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DB11-0BDA-4D56-B6F2-76B257E9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CB86-EC74-47A7-880C-D9FFE03E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BFE4-E530-489A-8862-8013F685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0E1D-23B5-4413-8190-385CD0C0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002A-1F80-41A3-913D-1F3CA82F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F19B-D1A6-4A26-A443-F8711BBD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609F-F515-4A91-93BB-968EDB18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221F-3EC7-4B88-BEDF-3D42ADA0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EEA94-02D5-4AAC-9A49-8215CB700FA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с є Той Сам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й Самий, Той Сам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с є Той Самий для ме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прощає, Він спас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естить Духом, ісціл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с є Той Самий для ме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5   Христос є Той Сам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1:29Z</dcterms:modified>
  <cp:revision>12</cp:revision>
  <dc:subject>Slavic hymnal Гимны веры христиан, Ukrainian hymn 65</dc:subject>
  <dc:title>Христос є Той Самий</dc:title>
</cp:coreProperties>
</file>