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467-47D9-408B-B473-F5C064AF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8F4-4A0D-454F-86A9-EFC75F1A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D0C-6147-4D5C-9A4E-D29E05A6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E04-F470-48D3-B142-D0862BAE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645-9F16-4200-81C0-F4D5DA65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925-9B1D-4400-978E-F887BA0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8DB-00A8-4E15-8FC1-CEB6AC37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708-5913-4C00-A552-2993C9E4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969-977A-486D-BFB8-C18A9FE4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64E-1795-4C1E-A8E5-B85E281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BBD-A39F-41EA-8E83-0EC7A28F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3A5-97F8-422E-97E0-01BAA12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0C891-ADDA-4734-A48B-9BF35C807C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od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in the whol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lose your so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od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sweet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remain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view of God’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ffer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9   What Good Is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oad I’m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leads no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ife I 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ind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view of God’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ffer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17Z</dcterms:modified>
  <cp:revision>12</cp:revision>
  <dc:subject>The Source 4, song number 2129</dc:subject>
  <dc:title>What Good Is It (Living For Your Glory)</dc:title>
</cp:coreProperties>
</file>