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554-F0CB-4036-A13F-651D0F1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285-47A1-47BB-8460-7605F8B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9A3-2CDD-4A9A-B6E2-0AAC6F5C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850-24CE-451D-81C6-6CC61C59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0E2-489E-4E1F-8D33-BA6B81E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AE7-E315-4A5D-829B-A1639CC9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D0B-A40F-4E0C-835B-F629115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759-5E98-4B6E-83BE-B800038E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A84-CADA-45EA-944A-89F1376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3DE-F863-4F99-8B66-5C20863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09A-1BF6-4931-9F80-FD2CE6F5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C11-1C98-44FE-B503-FF57414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E177C-D599-40D0-A695-34BEF2487E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восстав с веч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шёл на крест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шли по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надцать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 смирень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звал с моль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един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восстав с веч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Отец всес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Предвечны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юбвеоб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правды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айна! Три —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м сущ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за нас про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ная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для нас откр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ая люб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источник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ёю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у нас Власт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чество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ждь у нас 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вой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разные друж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армия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одну пус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наш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одну свя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 кровав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пред нами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етило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ияет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56Z</dcterms:modified>
  <cp:revision>13</cp:revision>
  <dc:subject>Slavic hymnal Гимны веры христиан, hymn 728</dc:subject>
  <dc:title>Господь! восстав с вечери</dc:title>
</cp:coreProperties>
</file>