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7C5B-4301-4FE0-848E-610F278B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AD98-CEF6-442C-BACF-2DB85B14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B056-94FA-4665-AD6B-BFE31040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3A5C-EBF3-423F-834B-2A97DBE8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CC1C-94E0-4CF0-AC9E-60BA5C22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9196-6EF3-422E-8616-E1A18FC1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4B8D-1BEF-4B4F-B2B7-125AEA7F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B1B7-FBE1-46CC-9F70-AD88C578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9055-02EA-4E0B-9647-D32B940C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F7BC-7F62-4AFC-9082-1CE5106D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0B69-1F63-439E-9F11-A20F0554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1439-C7D3-429A-83E0-1B4C5D3C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A252A-75B9-4736-BBFD-0002B22945E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рийде Христос і спита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таланта, про талан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ти скажеш Йому про талан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таланта якого тобі да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множай талант, умножай талан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множай, мій брате, твій тала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множай талант, умножай талан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й талант який Господь тобі 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8   Коли прийде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2:28Z</dcterms:modified>
  <cp:revision>13</cp:revision>
  <dc:subject>Slavic hymnal Гимны веры христиан, Ukrainian hymn 98</dc:subject>
  <dc:title>Коли прийде Христос і спитає</dc:title>
</cp:coreProperties>
</file>