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39E-1707-4229-9507-066315FB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D10-3177-4BD8-A486-049A12E6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496B-84AC-423E-A071-4F2C96B5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6FB-77E5-4274-B02D-092127CC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12E-772B-4005-B3C2-242ED31D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090-265B-4F26-9E0D-FD422561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BD0C-367A-4230-B21E-24C8C818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8E1-0472-42BA-8BA4-A3DBDAA5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237B-FAFC-4DB6-9768-54999EAA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E60C-92DD-499B-921E-C8664014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1FB-6277-484A-B591-EDEB3C62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5FD-7D84-4620-8E2C-741F2A0E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B97E0-BA3E-4531-A8C3-2F438384AD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He left His home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cross of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пою вам песню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ою вам песню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любит нас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’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with the saints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by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’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with the saints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by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s lost but Jesus f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und the sheep that went ast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ew His loving arms ar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ew me back into His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 меня Христос от м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аблудшую ов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клонился, взял на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ёс меня к От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’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with the saints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by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s bruised but Jesus heal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nt was I from many a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ght was gone and fears possess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e freed me from them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ранен — исцел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лужданьях изне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щилась моя 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л вечных сил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’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with the saints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by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ys of darkness still come o’e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rrow’s path I often t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is presence still is with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guiding hand I’m 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я перед ть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едой не раз тесни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тель мой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укой Его хра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’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with the saints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by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keep me till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lls its waters at my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He’ll bear me safely o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loved ones I shall m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ордану с Ним при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шумит у ног мои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войду в страну свят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я встречу доро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05Z</dcterms:modified>
  <cp:revision>13</cp:revision>
  <dc:subject>Slavic hymnal Гимны веры христиан, hymn 599</dc:subject>
  <dc:title>I Will Sing the Wondrous Story / Я спою вам песню веры</dc:title>
</cp:coreProperties>
</file>