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5C1-85A3-4F0D-8314-9AB9693A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E94-6D5E-453E-9447-96B18B5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085-6118-4925-8E13-55C4771E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4FA-A825-439F-9129-6E775D80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263-9FE9-4C9F-8349-0E23CBB9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F46-375E-4A24-835F-1B32F2FF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27F-767C-45F7-BD35-42170CA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05C-3B13-4BA5-A8A7-6AB6EE76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39D-BD01-4011-993A-11557E31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B26-D0A5-43FC-B390-1BE204A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62F-4F3D-443E-937E-0FB148D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150-DCC7-410F-A747-2593693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43213-182B-4A25-A035-04A73C070D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46Z</dcterms:modified>
  <cp:revision>12</cp:revision>
  <dc:subject>Slavic hymnal Гимны веры христиан, hymn 834</dc:subject>
  <dc:title>Господь — мой Пастырь</dc:title>
</cp:coreProperties>
</file>