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D2F-29BC-461B-A5D9-D4EFE026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600-E547-492E-9584-32A1D9D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DCE-CBFE-4683-BF12-CC1D2C4C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439-4A5C-44B6-8BCA-A2667A7A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D3A-4D1B-4B0E-B709-1B7BE60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104-17D9-451F-B71A-D0BCB1C4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81D-D6DD-4969-A64A-4AFF4876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D0A-7E35-41C7-ACAB-E1E25B8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E41-044F-46A1-A97E-C20838BA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008-3A49-4292-9509-6E13233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5D2-953B-401D-B3EE-E643D5E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AD8-2C82-4314-942A-5FA50C3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C0742-FCB3-44D9-ABA7-E72EC4E90F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mountains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ocean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eople rose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risen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people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sing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lost began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saving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0   Did You Feel the Mount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ghty river through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you feel the darkness trem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e saints join in on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streams flow as on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ash away our 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time of jubilee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26Z</dcterms:modified>
  <cp:revision>10</cp:revision>
  <dc:subject>The Source, song number 80</dc:subject>
  <dc:title>Did You Feel the Mountains Tremble?</dc:title>
</cp:coreProperties>
</file>