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C67-FF06-4072-9A94-7B5AEA35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F87-619D-4262-9D79-F73D22C5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94FC-BED0-4162-9FB2-74BFC765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1D5-8D09-451C-ABA7-D3241695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0BA-018A-41F4-85D0-0BE51EC6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980-69C9-42CC-AC2B-50B48008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C612-F376-41DC-835A-329F8E92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158-128D-457D-B65B-EC6B613C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B84-4B60-4B46-BC4F-DF3B274D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B5EA-1E46-4290-9F54-E1D86F9D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ED8-31FF-4FAB-ACA9-4D6262F6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CAC-8F91-42A5-BC85-04A68341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51081-AC90-4E93-8BE1-956AC69AA7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Божье слово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сплавить мож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ете Его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ете Е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у нас Божье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песня веры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х может к Богу привле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им дать над зл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мать и копьё, и ме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мать и копьё, и ме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весть живая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оздатель дивных ми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слал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ть нам Отц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ть нам Отца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известен Спаситель народо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шёл страданья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дать спасенье мно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вернуть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вернуть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1:39Z</dcterms:modified>
  <cp:revision>13</cp:revision>
  <dc:subject>Slavic hymnal Гимны веры христиан, hymn 530</dc:subject>
  <dc:title>Есть у нас Божье слово</dc:title>
</cp:coreProperties>
</file>