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5A5-CCC0-48D4-803A-4132AF37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E14-E305-4FFF-8F9F-D70CAC4C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50E-5DBB-4DB9-94E6-EE0FEEEE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9FA-7461-4DF3-A2F5-9A8857D7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046-8540-4268-B660-551B2BF5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7CC-7D13-40CA-B202-F9107BCF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825-50F5-4813-A1C0-B6BF4D6E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27F-F794-408A-9894-B696C3E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B00-50D0-408A-AD3F-1079677F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CCD-E725-4D74-BB28-11DF1D60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88C-93E1-458F-86D8-AA69904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6C3-70DC-421B-B37F-F9EB702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6AB6A-A8DA-4B52-829C-1F15EBCABF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покорными сл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Твоими нам хочется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Твою сделать жизни ос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Твоею врагов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ными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отдавшим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ем, Владыке влад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м трудиться, творить Тв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чтоб славить мог вся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смиренными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станем, когда Ты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оцаришься, излечишь нед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удалишь, самолюбье и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00Z</dcterms:modified>
  <cp:revision>12</cp:revision>
  <dc:subject>Slavic hymnal Гимны веры христиан, hymn 874</dc:subject>
  <dc:title>Верными сердцем, покорными слову</dc:title>
</cp:coreProperties>
</file>