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787-9D33-4EC9-B5E7-35523A7E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D78-86B3-48B4-B086-FA7B8D9E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3B9-BED8-4E1A-85B4-62FE343C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67A-391E-4478-81E6-61DB47A5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2B4-B160-4F81-B122-5575FC95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C58-6EB5-4AAC-8058-FE00B879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809-289B-46C3-81B6-AC2C2BD0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A60-DBA3-4F3C-B066-ED299ABD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DBD-88B2-44D0-8E74-D223CCA1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2BF-90A7-471D-9513-8C46535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3B4-FCF4-40EE-A5AF-54083AA6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552-3A0D-4710-83FC-8331BB6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5951E-B2A7-444B-BBF7-9796F1F758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uch more worthy than I’ve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im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how glorious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begin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deep a love You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my ears have heard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now my eyes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37   Worthy, You Are Wo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I giv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One who saved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ound me and You fre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ame that was 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begin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erciful You’ve b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my ears have heard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now my eyes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 reache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igh above the heav’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 reache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igh above the heav’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45Z</dcterms:modified>
  <cp:revision>12</cp:revision>
  <dc:subject>The Source 3, song number 1637</dc:subject>
  <dc:title>Worthy, You Are Worthy</dc:title>
</cp:coreProperties>
</file>