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BE4-4D21-4CBE-B071-437925B8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9A1-1B31-496B-8804-322714D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12D-915E-4B1F-9E8E-2196CB4B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727-9CA4-4353-B2DF-A3B01A97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2E5-CBC7-4DCB-8BEA-F699D7C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4A9-2045-4B5B-A669-B0CA142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F8B-3C8C-4D91-AAC6-5AF1B62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6D6-7F65-4571-AD4F-310FDACC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FA0-8A90-4683-9825-AB71292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553-962C-41E6-8E07-3140D23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3C8-CC60-4F56-A013-5EDCA46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383-8B34-44CF-9C8A-DE62557B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89B46-D586-43C9-BD8A-D265D5E535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you been to Jesus for the cleansing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fully trusting in His grace this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lking daily by the Saviour’s s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 you rest each moment in the Cruc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ridegroom com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robes be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soul be ready for the mansions br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914400"/>
            <a:ext cx="973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y aside the garments that are stained with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fountain flowing for the soul uncl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e washed in the blood of the Lam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0:31Z</dcterms:modified>
  <cp:revision>14</cp:revision>
  <dc:subject>Slavic hymnal Гимны веры христиан, hymn 428</dc:subject>
  <dc:title>Are You Washed in the Blood? / Ты познал ли благодати полноту</dc:title>
</cp:coreProperties>
</file>