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DA43-6044-470A-A127-28335AE65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A92D-952F-4583-B8E8-65EBDAB8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0B73-EF5D-4C87-A113-E608D1394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6084-816A-4BBD-95C9-38EDA8281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63DE-6A15-4174-9438-60F6A1EC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C8C8-715E-4CF5-949E-F42C9F2A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FB83-FBD1-44C3-890E-D5D6FD50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DDC0-D08B-419F-99DA-DD7A3F52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DE30-8E5F-4E67-AE98-B0FD6418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1880-4E66-4FDC-B756-EB496072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6B50-B1B5-40FD-8081-FF34D9C9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6675-83A1-4038-8F64-1950409B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F8994F-5896-43AF-A410-FDF693CBDC9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untain mak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cean ta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impses of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rn in my 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ship of he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s up the sk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989   Mountain Ma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made it 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id: “let there be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re 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at we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ound of Your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ks of Your h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o all things 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o all things 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o all thing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ar creat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nd bre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trokes of Your beau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ushed through the clou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ght from the heav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uching the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made it 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id: “let there be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re 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at we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ound of Your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ks of Your h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o all things 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o all things 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o all thing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magination runs w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breathes the breath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cross the fiel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cross the m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made it 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id: “let there be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re 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at we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ound of Your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ks of Your h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o all things 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o all things 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o all thing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7:08Z</dcterms:modified>
  <cp:revision>12</cp:revision>
  <dc:subject>The Source 4, song number 1989</dc:subject>
  <dc:title>Mountain Maker, Ocean Tamer (You Do All Things Well)</dc:title>
</cp:coreProperties>
</file>