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CBFD-0FD8-4551-B51C-7F5ADDE90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5452-986A-4FF1-AF70-135CE19A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ED1D-EBDA-4A1A-8B15-C01F14B24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E199-E00C-4780-B67B-60F863991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64D1-4467-4F97-BE3D-E01FA9C0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6FC7-ACB2-4EFD-B628-5C102E40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7844-98B0-4955-B146-B6C6357E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3AE5-7B71-483B-BDF4-41DF9D79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29F3-943D-40C7-A233-3A858B18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8F34-40F8-4675-A40A-C6C5504D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CE89-D1B4-43E1-9BB5-AA7C4735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0D73-CD2B-4212-BFAC-02BA3B58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231FD-48D9-4C07-9639-95BAE845369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ee from the law, O happy condi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has bled and there is remiss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ursed by the law and bruised by the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hath redeemed us once fo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няв с нас зак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в с нас закона порабощ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ос пролил, вот в ч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ь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чен, истерзан, в язвах Он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нас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for all, O sinner, receive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for all, O brother, believe i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ing to the cross, the burden will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hath redeemed us once fo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! Прими Божью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найдёшь свет и си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л с нас греховное бремя и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Сын Божий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we are free, there’s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ndemn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provides a perfect sal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unto Me,” O hear His sweet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and He saves us once fo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о Христе, тем нет осужде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готовил наше спас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о Мне придите!» — Христос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Он снимет гн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for all, O sinner, receive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for all, O brother, believe i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ing to the cross, the burden will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hath redeemed us once fo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! Прими Божью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найдёшь свет и си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л с нас греховное бремя и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Сын Божий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Children of God,” O glorious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ely His grace will keep us from fall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ssing from death to life at His c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èd salvation once fo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— Божьи дети, вот наша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нас в мире лука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жизни от смерти мы пере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покой на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for all, O sinner, receive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for all, O brother, believe i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ing to the cross, the burden will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hath redeemed us once fo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! Прими Божью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найдёшь свет и си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л с нас греховное бремя и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Сын Божий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2:54Z</dcterms:modified>
  <cp:revision>13</cp:revision>
  <dc:subject>Slavic hymnal Гимны веры христиан, hymn 385</dc:subject>
  <dc:title>Free from the Law / Сняв с нас закона порабощенье</dc:title>
</cp:coreProperties>
</file>