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2C42-50B1-4EEE-862C-D72635E70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5529-9751-4032-AFD0-3210ECFE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2B24-1B0F-4FBC-8735-3D5AE79FA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4439-7551-448E-9EA9-28EC7465D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297E-AF70-4AA0-81A2-C96B7DA6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4335-B0FE-446A-8707-CDC1015D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3884-E18A-461F-91BF-E81F8A8F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6F36-3F8C-4B69-87F8-BF604A8B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7D81-ED79-4AC7-9EE1-5FC553FC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3291-5B8C-4080-9A46-E1E705A0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7D7C-B143-46A9-812D-82681589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5057-3A3B-49E3-AAF2-BE710186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D9B4D-CFD9-4EBE-B7FB-68F61394838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мыслить о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ангелы жив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яркой снежной белиз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лю я мыслить о стр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мыслить о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ог любви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краше лилий по вес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 радости г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мыслить о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утники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ливши кровь в святой вой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побед на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мыслить о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осле битвы з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ют вход свободный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найду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3:28Z</dcterms:modified>
  <cp:revision>12</cp:revision>
  <dc:subject>Slavic hymnal Гимны веры христиан, hymn 816</dc:subject>
  <dc:title>Люблю я мыслить о стране</dc:title>
</cp:coreProperties>
</file>