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F8D7-BA21-469B-936A-106DED48E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D409-12B9-44B8-9418-F4FE49D6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2690-53F3-48F5-AF2F-CCE1B338C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75E2-D847-4561-88A1-76F9D1153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9B47-BF9D-412C-9031-37574480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8B1D-2794-4477-AD3C-09A5750F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925D-FA3F-4A90-ACD6-77F407A9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50B5-8F96-4FE4-900C-18B7F6FA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ECF1-456B-4767-B3CA-F7DF8041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1E89-D522-4ACF-BBAB-412EF6C5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820F-7AA2-4859-9E9A-37A834F4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0E7E-CC27-4FF2-A0F6-9577BDA9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1A527-3141-4908-A93E-09C0536B408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that You’v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thank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that You’re going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that You’ve promi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that You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all that has carried me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thank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thank You, thank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thank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For All That You’ve D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l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etting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g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ife just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I thank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thank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atefully thank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5:25Z</dcterms:modified>
  <cp:revision>10</cp:revision>
  <dc:subject>The Source, song number 108</dc:subject>
  <dc:title>For All That You’ve Done (Thank You, Lord)</dc:title>
</cp:coreProperties>
</file>