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D76F-3847-4BB9-9182-1AD5B30F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44C-4A03-46B9-9656-265A4498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C91-6339-4E49-A7F9-D6CCB33B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45E-975F-4B05-8200-994CF74A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2A8A-4DA6-4A42-AF12-017AC564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510-FE9C-469D-A64E-39EFEFE0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34C-96BF-4F3D-93D2-DA18108A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209-4149-4247-BBB6-DD610BB3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55F-AE8D-445A-AB5B-EE7237D7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C79B-309E-4AC6-8697-A3ADD138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61D-B7CD-41E7-A5AE-40EB3B05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6E7-7296-47C5-87EB-9813E362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5C719-E36F-4869-9B28-E752D3854C8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 and worthy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 and worthy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lift up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lift up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0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reat Is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holy and j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His power we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s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faithful and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His mercy He pr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 and worthy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 and worthy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ft up my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ft up my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0:42Z</dcterms:modified>
  <cp:revision>11</cp:revision>
  <dc:subject>The Source 2, song number 706</dc:subject>
  <dc:title>Great Is the Lord</dc:title>
</cp:coreProperties>
</file>