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CA0-17DE-4D38-8666-F15D2EAD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C9F-433E-4177-8062-C54B46A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906-1E98-4CB0-AF0E-B1B62620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9E0-94BD-4311-8B42-7BE2D0B3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14E-DF68-4B26-8593-0E66C01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993-9949-44B7-8BE7-DF8B419B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4ED-93D3-445C-8B95-3914C68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D3F-F6C5-49DE-851D-ED1AAAAD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715-616B-42E0-B142-D896E749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A23-A27E-492D-960E-559D4DBE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380-BC9E-477E-950C-11AAA171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6E7-EDBF-4CBF-AFD3-C9C692B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EB7ED-5E3C-4068-AA14-92296659B4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16Z</dcterms:modified>
  <cp:revision>12</cp:revision>
  <dc:subject>Slavic hymnal Гимны веры христиан, hymn 851</dc:subject>
  <dc:title>О вера, стойкая в борьбе</dc:title>
</cp:coreProperties>
</file>