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C562-648E-4DD4-8022-7954887B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6207-1B3E-459A-8460-116B0C90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CF8A-2CE6-41CD-8B09-310A5637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07ED-E8F6-4A10-8D15-FAC1B0A0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602B-9F94-4F6F-8E39-74BE6BB2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DBDC-129F-4575-A35F-A15A4A1D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5B23-4C46-4A82-A415-6D8E59ED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2CBC-E43A-40D5-B4BB-3FA9AFA6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12D3-CEEB-4B92-B39F-D571D222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3CC9-D069-4218-B15D-5CFC9A0D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F8A0-6D3A-4528-A313-50ADF09E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297B-569F-4898-847F-D5AAE3D8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560D2-24ED-40E3-B25A-318B82B2AA1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елись, печальный дру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, Христа лю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дел твоих и без за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уе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овию спас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шь ты вен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пора, положит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ей борьбе ко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звеселись, печа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роптать среди заб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чалясь день и н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идит твой душевный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нает, как пом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чала дней твоих зем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Им ли ты хран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ешь ли, что Он в С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ях не постиж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 же ник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жизненной гроз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шь ты счастлив т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м, 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6:12Z</dcterms:modified>
  <cp:revision>12</cp:revision>
  <dc:subject>Slavic hymnal Гимны веры христиан, hymn 699</dc:subject>
  <dc:title>Возвеселись, печальный друг!</dc:title>
</cp:coreProperties>
</file>