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D76-1161-4567-8A2F-441225E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61E-4142-405D-93C8-BB84028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9A5-6803-47B7-9C80-3B251C9C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D02-4D0B-45DC-95CC-EAB95646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14B-A33F-439C-B303-38A0982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9E8-50B9-4086-9094-6FB1FA0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F3B-4B02-47AF-B73B-18329ED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FFC-A709-43ED-A8C8-A8C39E4F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2CB-FCE7-44B4-99E5-87481256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B76-4289-4601-AEF4-C1FEF0AF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5B1-A6D6-4C2B-B605-0A5176A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A23-66EA-4D0E-82E1-13E2F83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E405-D9DA-41BC-A153-F740335229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06Z</dcterms:modified>
  <cp:revision>12</cp:revision>
  <dc:subject>Slavic hymnal Гимны веры христиан, hymn 345</dc:subject>
  <dc:title>Есть для плачущих земли</dc:title>
</cp:coreProperties>
</file>