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231-9254-4FDE-93A4-7C1260F9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286-ADCC-4616-8E78-EEDA1C43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A9E-AE13-49DF-BFD9-9ADC2177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875-A534-408C-9036-7E790BE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117-4FAD-4551-857D-B93E890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3D9-08AD-4A3C-8533-36F0EC46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757-9240-437C-A2DC-11A82A87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E4E-5287-4602-99BB-528C169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68A-9948-47B1-973D-8B3273D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A35-4D75-4553-99AF-D71A328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0E8-70F2-4DBC-9283-27FAFCF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FD1-B1F1-4607-905B-DD6E6E8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2DF0A-A372-443F-9959-DBC23728F8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43Z</dcterms:modified>
  <cp:revision>12</cp:revision>
  <dc:subject>Slavic hymnal Гимны веры христиан, hymn 672</dc:subject>
  <dc:title>Не здесь мой дом родной</dc:title>
</cp:coreProperties>
</file>