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12E-E429-4126-A267-D09E5F97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1D7-37F3-4C2E-A802-4933FEA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174-415D-4575-B1F1-B7FA2B92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B53-2C31-47CE-A697-2FA428E2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458-99BA-44B6-8942-4256F3B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B40-462A-467C-BE05-59C17C99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061-A610-4B86-AC40-FB1616BF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71D-8D8F-49DB-8EFB-26169F31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C30-9083-4957-BD97-7A1B1EF0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E2E-268B-4006-9B67-4D8F80B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2F9-4632-4A03-8254-7348CE7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95F-4966-4E9D-9808-E85E099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37ECE-88CC-4FCC-8453-A5428B1604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07Z</dcterms:modified>
  <cp:revision>13</cp:revision>
  <dc:subject>Slavic hymnal Гимны веры христиан, Ukrainian hymn 11</dc:subject>
  <dc:title>Там, де один раз Спаситель мій</dc:title>
</cp:coreProperties>
</file>