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2BC-EEFE-455E-AD2F-224E1145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3D5-17E0-4E36-B584-00C6000A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A77-70B0-4CDA-91AA-D275B947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8B7-D200-45FE-AC57-F12AC44E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B1D-B5D2-442E-B7BC-AEB8B0D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12E-BEA5-479E-BC7D-5EC1E1D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B84-C5B4-4ED7-B82C-EBCEA9C2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22E-774B-4E68-A92B-220D4809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A18-141A-4A05-81AF-5AD0A597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36B-184E-4B1C-93E4-567D46C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087-39DB-4DA2-811C-A70E22A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404-50D9-407A-805B-5A5740C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6551C-1478-4F94-AD2B-2AAD92D8F2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48Z</dcterms:modified>
  <cp:revision>12</cp:revision>
  <dc:subject>Slavic hymnal Гимны веры христиан, hymn 861</dc:subject>
  <dc:title>Быть лицом к лицу с Иисусом</dc:title>
</cp:coreProperties>
</file>