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3C35-F8B9-41DA-AD9D-8C27BAEC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61F-47C2-4B33-9A94-3F4C441E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B194-26E3-494F-ACA1-451749C5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7546-4965-4201-8626-A5E77482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E230-2DB8-47AC-B8B4-19F984C5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2E2E-4B40-48A1-9F74-C202FADB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2C19-DB76-45D5-B42F-4A747465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2D9B-9232-4E3F-9B15-4F69DE3E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7D6F-2201-4E47-B8B8-FD7FECA7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D544-6AAB-4621-BA02-40B4977F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914F-8E78-4F8F-AA22-633D93DB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3CB7-4B5A-4AA3-8980-2974935C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DDDE1-BF16-48A9-9084-77C483D52C0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ога більшого, як на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, н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ога більшого, як на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, н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такого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велики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такого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велики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5   Нема Бога більш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нашою силою, не нашою мудріст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тільки Духом Свят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нашою силою, не нашою мудріст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тільки Духом Свят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всі горе пере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всі горе пере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всі горе пере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илою Духом Свя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1:38Z</dcterms:modified>
  <cp:revision>13</cp:revision>
  <dc:subject>Slavic hymnal Гимны веры христиан, Ukrainian hymn 95</dc:subject>
  <dc:title>Нема Бога більшого, як наш</dc:title>
</cp:coreProperties>
</file>