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E27-2D1E-481E-B09B-82A2D856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31B-6418-46C8-841E-C64A3648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8E5-E119-4A3A-ADC4-034ED6B4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D43-91C0-4562-B7C9-7797D7E8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6C4-87DE-4BE6-AB81-965D4DFD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0DE-35B6-486C-B2F5-2B580D15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F0E-DCCF-4B52-B619-02D14E24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8CE-641F-4BE7-BE14-CF7AD343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6FA-BE89-4D07-AED4-0A82FC84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C65-9A20-4F78-9AF9-9EB070EC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1C7-4AAD-45E1-81CD-6D959746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6D4-D3B2-4247-A2C1-98DF4474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A681B-B7F6-4965-9EAD-90A8663401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р ручеёк резвый быстро т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ежит, всё он б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у песенку звонко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ежит, беж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гор ручеёк рез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авку засохшую влагой жи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лестит, всё он блест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тичек, цветочки обильно п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лестит,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е и шире вперёд он 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е вперёд, шире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 пути он отраду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е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ю струйкой дитя может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служить, Богу служ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вать всех, утешать и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служить, служ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1:29Z</dcterms:modified>
  <cp:revision>12</cp:revision>
  <dc:subject>Slavic hymnal Гимны веры христиан, hymn 752</dc:subject>
  <dc:title>С гор ручеёк резвый</dc:title>
</cp:coreProperties>
</file>