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7656-89D8-4A6C-9B51-E111247C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8E49-7749-4351-B204-DAC08F7D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5D54-6F87-4A77-B994-10574BFB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B9A0-AACA-41D4-B04D-11F7548C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F92A-8289-44A8-B1AE-A249EF57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27DF-15FA-4302-ADAA-770067CC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A141-B2F7-484E-9603-54258717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C1B1-0F6A-42DF-B5E5-FDE58416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6EAE-30A2-4335-AE54-3F7FDAE6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A696-36AE-44D2-B363-014FE4A6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E2E2-6494-42F4-9F25-2472D20D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5B4D-3C95-4367-8023-292132B0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33312-EAE4-4AA1-AEC8-47322374791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3080"/>
            <a:ext cx="93726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май, душа! небесных хоров п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в тиши над морем и землё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адко там для душ успоко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греха, вражды и тьмы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 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 в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нимай, душ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вперёд, внимая чудным звук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иди, усталый, ко Христу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удешь скорбь, не омрачит разлука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бьётся радостно в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 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 в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43080"/>
            <a:ext cx="93726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издали, как сладкий зв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ер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аги Христа звучат в тиши ночн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брый пастырь Он идёт чр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людям дать надежду 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 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 в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43080"/>
            <a:ext cx="93726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вперёд; путь жизни крут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раче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ходит солнце… всё темней, темне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ец трудам… но радостная встре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ждёт в стране, где больше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 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 в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хор, на страже верно ст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 песни славы, радости псалм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убежит пред славным днём пок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вет любви, там нет мертвя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 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 в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3:03Z</dcterms:modified>
  <cp:revision>13</cp:revision>
  <dc:subject>Slavic hymnal Гимны веры христиан, hymn 615</dc:subject>
  <dc:title>Внимай, душа! небесных хоров пенье</dc:title>
</cp:coreProperties>
</file>