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F6EF-988C-4463-97F1-EFDE395EC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4535-8A30-41EE-9924-A545ED7F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0C08-234B-41C5-B513-7B6B6B63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8504-3DB2-4027-8B01-11A0465A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873D-8EAA-49D6-A538-8160B47B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DA7E-F9C2-4151-AF55-DD0ADF79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620E-6B91-4372-9319-EBA0212A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135C-5E73-4DA4-A8D2-7F322AEC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3F94-D103-4760-850D-92D3BB31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F3F3-85EF-4E25-907A-1AD3F128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235E-89F1-499C-ADBD-75BE784F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46C2-C750-440A-91E4-D687A6E3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1E1B9-F051-4FDC-A52A-1D516186CD3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солнце угас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еревней, за холм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о дух мой приз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олитву пред Твор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солнцем управл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по милости С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дитяти устро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й жизни средь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6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ли солнце угас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ждь планет, небес Владык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малое ди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, в прелести вели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Тобой бежит, све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мне Отцом открыл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Твой вечный стал мне бр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землю к нам явилс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ыл в Едемский с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 Твоего дых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о чувствую в мол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шь Ты моё стен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же всё влечёшь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т день, при всём стара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исполнил я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читал в Твоём Писа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е Слова Тв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 на раская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сти, Творец,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рши моё жел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был сильнее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годить Тебе жел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в жизни испы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е так я поступ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ы я того же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о дух мой равнодуш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и любовь — сло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о сердцем малодуш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лодна моя моль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достатки замеч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желанье всё силь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, как ангел, я желаю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м от земных стр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зьми меня за р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я впадаю в с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 тех, кто в тайной му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гает твой зак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верит, кто горди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 сомненьи, как в ог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 ты их мол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им счастье, как и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9:53Z</dcterms:modified>
  <cp:revision>13</cp:revision>
  <dc:subject>Slavic hymnal Гимны веры христиан, hymn 766</dc:subject>
  <dc:title>Если солнце угасает</dc:title>
</cp:coreProperties>
</file>