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28E6-722E-441B-9E95-94D1771B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AB6C-2CB5-483A-88C7-60F63394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355A-0DAC-4DEC-A933-1D0584DF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3045-A318-4AD0-AE8A-293EB747A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332D-64D9-4AB2-9AA0-3C797FB1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B8B1-630E-4CE5-9D8F-3660E681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893A-9FE8-4A00-8719-51F1642C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196A-6E67-4275-AFCD-7D062974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ABFC-4374-4672-94B9-B6F179EF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FC1E-B830-4AEE-BDE3-61F8FEEA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9377-1161-4B5C-B234-A4D9C488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C31D-E210-4006-BBE3-5CBC640F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36E9D-596C-4578-8724-AD362F13788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ftly and tenderly Jesus is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for you an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, on the portals He’s wa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atc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tching for you an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ротко и неж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тко и нежно Иисус приз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призывает, лю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 у порога, стучит, ожид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Он меня и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home, come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who are weary, come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nestly, tenderly Jesus is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, “O sinner, come 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), приди (при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, кто жаждет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Иисус при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не медли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should we tarry when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plea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leading for you and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should we linger and heed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merc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ies for you and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и медлить, когда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т, о каждом скорб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благодати принять не хотите 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для тебя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home, come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who are weary, come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nestly, tenderly Jesus is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, “O sinner, come 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), приди (при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, кто жаждет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Иисус при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не медли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me is now fleeting, the mo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pas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ssing from you and from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dows are gathering, deathb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co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ing for you an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ни сгущаются, смерть торжеств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беспощадно гу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приходит, в обитель и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личут меня 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home, come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who are weary, come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nestly, tenderly Jesus is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, “O sinner, come 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), приди (при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, кто жаждет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Иисус при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не медли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the wonderful love He 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mi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mised for you and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we have sinned, He 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and pard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rdon for you an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любовь нам Господь обе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ертву отдал Он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огрешили, но Он нам про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меня 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home, come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who are weary, come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nestly, tenderly Jesus is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, “O sinner, come 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), приди (при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, кто жаждет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Иисус при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не медли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33Z</dcterms:modified>
  <cp:revision>13</cp:revision>
  <dc:subject>Slavic hymnal Гимны веры христиан, hymn 357</dc:subject>
  <dc:title>Softly and Tenderly / Кротко и нежно Иисус призывает</dc:title>
</cp:coreProperties>
</file>