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21BD-C48C-4179-850D-C3D384416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F359-D8BA-4D7D-8447-E737DA7D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3C57-219F-48CB-921B-F6416EAAC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3F7F-2FC6-4A80-885E-8C4A94B6D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21C3-F928-4103-AA01-9A5F7375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A74B-F2FE-4151-8415-D1B8A61A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0AC9-8706-4B07-A4BA-1BA86546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A7B5-82A0-497F-AB80-AF70C670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9822-DCAC-4B0A-8C7B-493471BB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4632-B0AA-475B-8CF5-13C8DC86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849A-7746-459B-A07A-B8469695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68DF-A54D-40C6-9E19-8648DCAD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D01FD5-6599-470F-BA18-8500ECEC8E7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нявши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во грехах умир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и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лагает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лишь Его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0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уда ты пойдёш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нявши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Христе жизнь и св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очет быть другом тв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охра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житейских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держивать Духом Свят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нявши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приход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радать за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грешных с Отцом прими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умер за все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кровь силь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и и пороки омы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нявши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ушай, о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вергни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ство для всех только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ься 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пребудь всегда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Он введёт в чуд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нявши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4:15Z</dcterms:modified>
  <cp:revision>12</cp:revision>
  <dc:subject>Slavic hymnal Гимны веры христиан, hymn 404</dc:subject>
  <dc:title>Куда ты пойдёшь, не принявши Христа?</dc:title>
</cp:coreProperties>
</file>