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A81-068F-496D-9C84-16A374D5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BDB-7169-4D80-8216-04A6E219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012-29A9-421A-BD92-A726D61E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A97-E2F2-4900-A78B-B65102CA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1D1-F222-439A-B63D-49222558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402-89DC-47B3-85F5-D625C21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81E-1075-4EE7-8FF0-3E6E3EA1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18B-B70C-4379-9D25-440DF549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F3D-1A9C-43E7-8EE1-0A7FCE19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0DD-8B8D-4CFB-B837-B690727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DC2-1C63-4C1F-9606-855951C8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2EF-3BBD-46B7-A6F5-26C14D8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167E2-C930-4621-868F-A9C5E1ECA5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видит им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колосья 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 усердного жн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а   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ойный полдень вышли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к вечеру на н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ать жнец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труженик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и ячмень, пшеницу, рож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кончится, на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вечную во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10Z</dcterms:modified>
  <cp:revision>12</cp:revision>
  <dc:subject>Slavic hymnal Гимны веры христиан, hymn 784 (as amended)</dc:subject>
  <dc:title>Здесь и там поля белеют</dc:title>
</cp:coreProperties>
</file>