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E92-0E32-44AE-978D-5E5D1421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F3F-47E8-45D0-8936-CF90659F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92E-0B36-4F7C-8B6C-65E02BFE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0E8-3724-4AA6-A40E-4D2C1092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277-35A7-4DF1-920C-C72BCA27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7FC-38BA-4691-BDB0-36A011DE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E53-3158-4CDF-8652-6735E63F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36A-7AE7-4861-A33C-189EC3DE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F9A-D56D-4415-9835-9661F5D0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53B-4F4B-4753-8698-EA660E77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EC7-64F5-40A4-9A6C-3A532CE7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6A1-FB88-40B8-8196-0E660C7C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FA49E-BF41-4A57-B7BE-55C4DAF563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the silver cord will br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no more as now shall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 the joy when I shall w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the palace of the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порвётся жизни 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орвётся жизни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ая смолкнет пес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чно буду там хва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ах горних я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my earthly house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tell how soon ’twi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I know: my All in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now a place in hea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азрушится се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ещё не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наю, в небе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о место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when fades the golden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e rosy-tinted w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lessed Lord will say, “Well don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enter into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станет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 земной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уст Христа приняв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в покой Его в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till then I’ll watch and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amp all trimmed and burning b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hen my Saviour ope’s the g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ul to Him may take its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 веры пуст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бодрствовать и ж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 верным со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истова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0Z</dcterms:modified>
  <cp:revision>14</cp:revision>
  <dc:subject>Slavic hymnal Гимны веры христиан, hymn 693</dc:subject>
  <dc:title>Saved By Grace / Когда порвётся жизни нить</dc:title>
</cp:coreProperties>
</file>