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982-E01F-4DD0-A227-CAFC6FE5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B3C-87C8-4DE0-AD9C-E120F795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3F3-D795-4361-8256-8B4CE054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897-A3F7-4D5F-8E8D-3E8C2020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A90-9720-4A3F-8E72-74845523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EAC-DF61-4CD5-8B31-FB30EDD7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3CB-6863-46CB-BDE5-5711BEDE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0D0-F9CD-4986-B265-429D496C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19E-3224-4A2E-BE88-A5E99F15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DB2-0A6B-401A-94DE-F559EACC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1F7-9498-4887-B586-041AB503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1ED-81DF-4D44-9323-09F3A190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41632-740C-438C-B94F-4D2C94DE51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я скорблю и грущу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зей нигде для меня п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где ни в ком нет отрады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зде, кругом скорби лишь о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не ночной вспомню жизнь мо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ькою рекой часто слёзы л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о, трудно жить без счастл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шу горя пить только в жизни 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асто я скорб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злых людей, нет любви 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юбви моей воздают мне з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редь них друзей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ять порой плачу я в т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яркие в небесах гор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горькие на глазах блес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 от той тоски изба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 же мне найти утеш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понять, о чём плачу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один лишь Бог, Он поймё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ный, скорбный час я п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мою печаль расскажу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клонится низко над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горькие мне отрёт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близи Него отдохну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и Его я найд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7:27Z</dcterms:modified>
  <cp:revision>12</cp:revision>
  <dc:subject>Slavic hymnal Гимны веры христиан, hymn 505</dc:subject>
  <dc:title>Часто я скорблю и грущу душой</dc:title>
</cp:coreProperties>
</file>