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789-4305-431D-9FF2-687295AB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F93-A276-45D0-8D0E-7F7C47C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4A7-9919-4B1E-A25D-EDA225BE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101-57B0-4E5D-BA3C-001EBF05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674-753A-4340-ADB0-1E9EA68F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892-A36C-4600-B526-24D4E9B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36B-A89C-4A0D-8E4F-1AD8DD96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A77-3FE3-4363-B7FA-E0DB3BCD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EA0-1959-403E-BB69-2906CAB6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761-0073-4874-8650-15D2892B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D37-8B65-4D14-9400-984B0C6E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300-3EB4-440B-AC19-B41CC05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A7805-07ED-4754-8D0D-D53D8F5CD4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ободы! Цепи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разбей в людских серд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Дух усын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стал в Твоих детя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что в день Пятидес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апостолов с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ой даров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вори в нас Свой престо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ободы! Цепи тл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Утешитель! Скорб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и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Твой труд твор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ть сынов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дары нам врачев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роческих ре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что больше всех да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дар любви Т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верных излив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ас церковь созид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ей хочешь мир объ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! В любви Отца и С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церкви ожи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ольются все в е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м подвиге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1:58Z</dcterms:modified>
  <cp:revision>12</cp:revision>
  <dc:subject>Slavic hymnal Гимны веры христиан, hymn 299</dc:subject>
  <dc:title>Дух свободы! Цепи тленья</dc:title>
</cp:coreProperties>
</file>