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2B3-6BB4-4CAA-8600-8F3BBE61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EE7-CF5A-4415-A1A3-44BDE721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101-FA64-4722-B477-0DB33DDC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7A6-6859-4F21-8D00-2037EBC4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AED-2598-4C78-895D-E5F248FA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762-DC03-4696-9D49-7E17676A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FCA-C8B2-40CD-AB0D-E40B840F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0113-AB9F-46D8-9520-028336A8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6D7-4AAC-4AAC-B678-23E84302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D2D-62B8-4705-BA0A-3856029F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A86-8F47-46E1-899D-CDBB1214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09AD-4E22-45DE-A722-81B46534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42117-CE32-4F3D-BE56-DC991042DF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рогий Завіт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н вірним обіця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2   Дорогий Завіт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орог тебе зв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шляху, що ти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, що Він говор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ерце перест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повати на Христ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чуй з вірою слова 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ні життя кін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остання хвиля 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й тоді звучать слова 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7:18Z</dcterms:modified>
  <cp:revision>12</cp:revision>
  <dc:subject>Slavic hymnal Гимны веры христиан, Ukrainian hymn 42</dc:subject>
  <dc:title>Дорогий Завіт Ісуса</dc:title>
</cp:coreProperties>
</file>