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691-FEC1-420E-B5AB-3A6AB45E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556-96E5-4342-9CCB-7BE36BD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3FF-D599-4C56-B5A3-7C7AE6A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ADF-1D82-42A4-98DB-67C34FFE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2CB-7B41-4910-9BE3-77D3E3E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129-8EAE-4E88-9E67-1C977C98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824-DCAA-45F4-97A3-9C642AC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D47-B223-4E57-9470-DC5744F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FF9-7B59-418D-B135-DC7C7B3A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1F8-0665-40FF-87E9-E3826BF8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57E-E2D8-4C8E-9F6E-4292D32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E1A-39FE-478D-AA3B-BFC0C77B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8F58-9290-4501-970F-78AEBA49E1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ghteous, You love 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who honou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rise and lift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majesty, Your ho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I am will bles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8   You Are Right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help comes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trength,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st is in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17Z</dcterms:modified>
  <cp:revision>12</cp:revision>
  <dc:subject>The Source 3, song number 1648</dc:subject>
  <dc:title>You Are Righteous (My Hope)</dc:title>
</cp:coreProperties>
</file>