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7A9-E0E8-443F-8D49-17F96E1F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54D-D7CE-4391-97A6-DED0E752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70A-436A-4F8E-A0D9-02FBFB41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4DF-6CEA-4358-9944-6A672169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530-157A-4B6D-A27A-DA202E9F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581-0AB3-4C74-A3E6-AF7B418E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5B5-0A04-4247-8EA1-ED9D2B2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E01-FD43-4D3C-83DB-849A83A8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DE1-1222-4A27-9570-453702C6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9D7-48CB-438F-87FB-E7AB22F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F6C-B2AF-4674-8A93-7D2EA32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4F3-FE21-49FC-9BFA-977F989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3207-560F-47BD-9232-486CCBC0DC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can safely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He leads me in this world be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out Him dearest joys would f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am not afr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везде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ёмном царстве ночи Он — звезда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Него угас бы нашей жизни св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в сердце страха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am not al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ther friends may fail me, He is still my ow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His hand may lead m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rearest way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s a house of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не сам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друзья изменят, верен Божий Сы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хранит меня Он и в долине тьм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мне звучат псал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, over land and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ing souls in darkness of salvation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ady as He summons me to go or st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when He points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хочу ид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ий дар спасенья грешникам н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Ему послушным, к слову Божью льну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сен жизни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can go to sl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darkening shadows roun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cr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nowing I shall waken nevermore to ro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will be home, swee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готов по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ночь пошлёт Он труд мой прекра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еня пробудит к славе незем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сердцу дом 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3Z</dcterms:modified>
  <cp:revision>14</cp:revision>
  <dc:subject>Slavic hymnal Гимны веры христиан, hymn 631</dc:subject>
  <dc:title>Anywhere With Jesus / Да, везде с Иисусом безопасен я</dc:title>
</cp:coreProperties>
</file>