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EDAC-D050-4802-93A0-69422D8C5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2680-81A5-4368-A297-05FD7BE07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3F29-1D53-46E9-BD18-0B7F5B582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3E07-FEA8-4F9F-977A-8763322AE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5195-72CB-4D4E-A557-700778221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320E-2A9B-4958-9FB4-7643EFB1F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2388-45C6-4640-8F87-F75329EDC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9E57-6FF7-4B5D-BC4F-197B834AE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0E95-6B2B-4DB6-B26E-356760A41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CB49-56B4-4DA9-B5AB-BEE8E16C3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8D72-E377-411C-8747-62A81F4C2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E9D0-84FE-4C74-A73E-16E88FE0B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A1A74D-5ED9-4B10-AB42-EE58AB8DD21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, for the Lord our G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Almighty reig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, for the Lord our G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Almighty reig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us rejoice and be gl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give the glory unto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, for the Lord our G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Almighty reig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232   Hallelujah, For the L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09T11:35:49Z</dcterms:modified>
  <cp:revision>12</cp:revision>
  <dc:subject>The Source 3, song number 1232</dc:subject>
  <dc:title>Hallelujah, For the Lord Our God (Hallelujah, Our God Reigns)</dc:title>
</cp:coreProperties>
</file>