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90000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5</a:t>
            </a:r>
            <a:r>
              <a:rPr b="1" lang="ru-RU" sz="3600" spc="-1" strike="noStrike">
                <a:solidFill>
                  <a:srgbClr val="ffffff"/>
                </a:solidFill>
                <a:latin typeface="Verdana"/>
              </a:rPr>
              <a:t>	</a:t>
            </a:r>
            <a:r>
              <a:rPr b="1" lang="ru-RU" sz="3600" spc="-1" strike="noStrike">
                <a:solidFill>
                  <a:srgbClr val="ffffff"/>
                </a:solidFill>
                <a:latin typeface="Verdana"/>
              </a:rPr>
              <a:t>Муж Галилеянин</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уж Галилеянин тебя не про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ж Галилеянин тебя не про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ж Галилеянин тебя не про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ж Галилеянин тебя не про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если ты позвол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ам придёт, лю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илою Своею коснётся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ного пути нет, и не найдёшь, н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ного пути нет, и не найдёшь, н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ного пути нет, и не найдёшь, н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олько Иисус тебя спас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икогда мои вра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могут победи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уж Галилеянин меня не пр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ж Галилеянин меня не пр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ж Галилеянин меня не пр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ж Галилеянин меня не пр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Ему позволил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ам пришёл, лю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илою Своею коснулс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ного пути нет, и не найдёшь, н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ного пути нет, и не найдёшь, н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ного пути нет, и не найдёшь, н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олько Иисус тебя спас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икогда мои вра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могут победи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победа, победа в Б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а в Имени Иисуса Господа.</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3:41Z</dcterms:modified>
  <cp:revision>4</cp:revision>
  <dc:subject>Slavic hymnal Гимны веры христиан, chorus 65</dc:subject>
  <dc:title>Муж Галилеянин тебя не пройдёт</dc:title>
</cp:coreProperties>
</file>