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9E32-3907-41AC-AEC8-9AA3C5D9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880-3C7C-4701-83FC-61EC65B2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94E-1305-494A-B29D-006F8349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85E-6666-4B28-8982-F8850196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390-BDAC-4936-AEEA-7EB76581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6AE-A0FD-46EA-8B3A-4B596D26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C9E-CD2B-4B16-B9BF-78EEBA12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9CD-3CB2-4F93-9BEB-FEA8705B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3D2-46AE-4258-98D6-7294662B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4FE-542A-4C92-9728-49225811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6B2-9B0F-4E7A-A96E-09743A7C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8EB-59C7-4AC5-BE8F-B19550E3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3316E-FF13-4BA1-91B1-D85EE6DBC0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of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tepped down into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ed my eyes, 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y that made this heart adore Yo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a life spent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406   Истинн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шёл к нам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дай мне по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красоту, что пленила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могла мне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про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аза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чуде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мне близ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all days, Oh so highly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ous in heave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umbly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earth You crea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love’s sake became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сти Царь, Создател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Твой престо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рад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небрёг Своей сла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енно на землю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про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аза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чуде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мне близ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ll never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much it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e my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at cross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Твоя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меня Ты пролил кр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Твоя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меня Ты пролил кр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про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аза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чуде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мне близ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3T09:32:20Z</dcterms:modified>
  <cp:revision>12</cp:revision>
  <dc:subject>The Source 3, song number 1406 in Russian</dc:subject>
  <dc:title>Истинный свет / Light of the World (Here I Am to Worship)</dc:title>
</cp:coreProperties>
</file>