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B0A-F040-4EFF-8CB4-FEC8F294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FB5-7B78-4F9C-B904-9D57D2B5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752-1AB8-4527-8E7A-EDFB5281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980-7607-4CDF-9E41-0F881A70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598-F15B-447E-BBB6-222E8683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4B2-F050-4C43-857E-194460D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BEA-31BA-4FFE-B47B-AAF4C8D2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A82-8377-4331-A961-40D6C32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9D7-9CC8-49DE-A184-BA453B33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73A-7949-4D5E-833F-1822587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993-45CD-4972-8F7D-C68BDFA4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755-5D14-463A-8C9E-A87C8C0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C406A-8509-4001-B930-FB688D2A52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Свою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пров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чность ты об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частья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род золо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дужны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,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Я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х муках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зае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же жизн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оды посв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Ему слу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21Z</dcterms:modified>
  <cp:revision>12</cp:revision>
  <dc:subject>Slavic hymnal Гимны веры христиан, hymn 427</dc:subject>
  <dc:title>Я умер за тебя</dc:title>
</cp:coreProperties>
</file>