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39F-B708-4990-8912-136DFC38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DA3-B94E-4879-B81A-B42A8804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39E-54E3-4525-9C93-49A3CAFA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ACB-F8BF-43D2-9D26-21A0E4E3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4CB-8319-42A7-960B-CC124B9A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3F6-44CC-4DDB-B228-9329F3D2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F96-0F98-404B-92F1-FF67DCC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B30-C1C2-456D-BEDA-A8AE9C56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25A-DA3E-4998-9412-8DD2085F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594-5874-42A5-B381-8259243C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1B8-48E4-4988-84B7-973487A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6D4-730B-4563-9B2B-B008441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A719A-8FB5-4DDC-BDCA-E8B75AA3D9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ет славой, радость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 твои грехи на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, спа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зопасен под крылом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хрь бури разъя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ять не может мир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высоте дом вечный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славе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вой тебя туд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ойти в собрание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рдцем восхищ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 всерадостный спасенья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7:12Z</dcterms:modified>
  <cp:revision>12</cp:revision>
  <dc:subject>Slavic hymnal Гимны веры христиан, hymn 580</dc:subject>
  <dc:title>Ликуй, ликуй, спасённый</dc:title>
</cp:coreProperties>
</file>