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3</a:t>
            </a:r>
            <a:r>
              <a:rPr b="1" lang="ru-RU" sz="3600" spc="-1" strike="noStrike">
                <a:solidFill>
                  <a:srgbClr val="ffffff"/>
                </a:solidFill>
                <a:latin typeface="Verdana"/>
              </a:rPr>
              <a:t>	</a:t>
            </a:r>
            <a:r>
              <a:rPr b="1" lang="ru-RU" sz="3600" spc="-1" strike="noStrike">
                <a:solidFill>
                  <a:srgbClr val="ffffff"/>
                </a:solidFill>
                <a:latin typeface="Verdana"/>
              </a:rPr>
              <a:t>Услышь слова мо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Услышь слова мои Ты 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ду мою уразум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оей любви и благост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и мольбе души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едстану рано пре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дар Твой ожи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знаю, Ты не любишь зл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у не схочешь место да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я, по милости вели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йду в Твой дом и поклон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д Твоим небесным ли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страхе радостном смир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се, уповающие ду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осторгом будут лико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них соделался Ты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им должно восхваля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Боже! Ты благословля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ами сына С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ем укрыв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крепкой бронею, его.</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7:57Z</dcterms:modified>
  <cp:revision>3</cp:revision>
  <dc:subject>Slavic hymnal Гимны веры христиан, hymn 193</dc:subject>
  <dc:title>Услышь слова мои Ты ныне</dc:title>
</cp:coreProperties>
</file>