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DADF-ADD4-4AFB-8C3B-4ED98BBBC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6AED-D697-40CA-BE0F-379B5E95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5212-C8A3-4BCB-84A5-4163AA9DB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A40F-42A7-4742-8F61-7BF1609A1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F355-2C02-4163-8482-A9A38C18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75FE-7DFF-4FA5-91FE-E33CCB34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E016-B3E0-49E3-8E32-865DEE48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E958-F099-499E-98D5-577E87CB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962E-9F75-47CC-B4AB-A5138076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9149-C9E3-42B9-91C8-1335D4FE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009D-42F2-45D8-8D57-B5DF28E7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2922-0FFE-426F-8209-384B601E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8AAF80-0C16-4DC2-A05D-317287EA7D8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 wonderful Saviour is Jesus my L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 wonderful Saviour to 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hideth my soul in the cleft of the roc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re rivers of pleasure I s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удесный Спас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удесный Спаситель — Христос мой Госпо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удесный Спаситель живо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Скале благодатной мне отдых да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ам радость и верный по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hideth my soul in the cleft of the r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shadows a dry, thirsty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hideth my life in the depths of His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covers me there with His ha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covers me there with His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крыл Он меня в благодатной Скал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страшно грозы ника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крыл Он меня в Своей вечной любв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крыл меня нежной рук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крыл меня нежной ру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 wonderful Saviour is Jesus my L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taketh my burden aw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holdeth me up, and I shall not be mov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giveth me strength as m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удесный Спаситель со мною всег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нимает мучительный гн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Хранит и спасает меня от вр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к славной победе вед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hideth my soul in the cleft of the r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shadows a dry, thirsty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hideth my life in the depths of His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covers me there with His ha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covers me there with His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крыл Он меня в благодатной Скал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страшно грозы ника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крыл Он меня в Своей вечной любв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крыл меня нежной рук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крыл меня нежной ру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numberless blessings each m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crown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, filled with His goodness divi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sing in my rapture, O glory to Go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such a Redeemer as 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счесть Его милостей дивных ко мн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езбрежен любви океан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ю пред народом, пою в тишин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дивный Спаситель мне д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hideth my soul in the cleft of the r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shadows a dry, thirsty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hideth my life in the depths of His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covers me there with His ha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covers me there with His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крыл Он меня в благодатной Скал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страшно грозы ника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крыл Он меня в Своей вечной любв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крыл меня нежной рук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крыл меня нежной ру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clothed in His brightness trans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r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meet Him in clouds of the sk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is perfect salvation, His wonderful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ll shout with the millions on hi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детый в нетленье, при звуках труб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встречу Христа Самог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 жертву спасенья, за всё, Кем Он бы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ед всеми прославлю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hideth my soul in the cleft of the r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shadows a dry, thirsty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hideth my life in the depths of His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covers me there with His ha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covers me there with His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крыл Он меня в благодатной Скал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страшно грозы ника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крыл Он меня в Своей вечной любв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крыл меня нежной рук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крыл меня нежной ру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8:43Z</dcterms:modified>
  <cp:revision>13</cp:revision>
  <dc:subject>Slavic hymnal Гимны веры христиан, hymn 595</dc:subject>
  <dc:title>He Hideth My Soul / Чудесный Спаситель, Христос мой Господь</dc:title>
</cp:coreProperties>
</file>