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1D2-3BA6-4F3B-A9FA-91CB60D1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B7E-B925-4014-8A55-EAF327B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32F-B915-48F2-967C-A36345F5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A3F-5626-45A8-BA43-5B5B7AC3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78E-F5D5-4250-87F9-DE4F0C5D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4D4-F4D3-4CDA-A3D7-BD3B1F69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4A3-E4C9-4D4F-8D61-C0C1D31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5AD-8945-492C-A0D4-B1451AFA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281-549E-42F7-BB5F-F2E3C2DD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56F-AB7C-4C8D-8FF0-7660731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ECB-FE6C-4729-B814-9A8B536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8B2-B998-4B36-8A09-1C92488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F0819-528F-42C1-B0D6-3A3AEF0F3F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rumpet of the Lord shal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rning breaks e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and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aints on earth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on the other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at bright and cloudless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ead in Christ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lory of His resurrection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hosen ones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home beyond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abour for th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dawn ’til setting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alk of all His wond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all of life is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wor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6Z</dcterms:modified>
  <cp:revision>13</cp:revision>
  <dc:subject>Slavic hymnal Гимны веры христиан, hymn 690</dc:subject>
  <dc:title>When the Roll Is Called Up Yonder / В час, когда труба Господня</dc:title>
</cp:coreProperties>
</file>