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E09-93BD-49C4-8DC2-6D2671D1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5F0-DC39-4671-B004-5FD7B21D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1F9-F051-439D-A21F-9FE333E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D3D-F925-4F8D-9EA9-FFFD1604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339-BE71-4DD1-BEB2-8FA98BB2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287-853E-4232-8134-B289429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59D-FEA2-4569-803C-E733D49E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E07-C5A6-4998-A5DC-27A5DFB9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D65-0E38-4123-B9D0-4D3DE79B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7DD-9F61-4DE9-88B3-10A4EA1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386-4179-456D-9CCC-2AB49D6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B02-5630-4894-8213-9C75CA4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8673-A20F-4BDD-8FDA-10987821F6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бедн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где сил мне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желал бы 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 любви к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ладенцем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ию меня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я бедное ди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как жертво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приобр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за дар Твои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Тебе прин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ердце, Бог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, Твоё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знаю, вес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Тобой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олго сужд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ть в стране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 желанье мне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радостью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ято я завет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ю век целый с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ить дней моих пр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озьми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35Z</dcterms:modified>
  <cp:revision>12</cp:revision>
  <dc:subject>Slavic hymnal Гимны веры христиан, hymn 764</dc:subject>
  <dc:title>Господь, я бедное дитя</dc:title>
</cp:coreProperties>
</file>