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430-C825-4ED8-BCAD-BF2A36E8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0E9-6382-454D-8930-E6478759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590-ADED-4CD2-BB79-0B8D6E5C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1EA-6DAE-4F68-AD50-2AD4702F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338-74F3-49E5-A466-8DD3B24C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744-2D3E-4DB2-8354-D599D3F3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825-150D-48AE-89F6-60A38ACF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22E-E1D9-467B-A9A9-60FB8C4D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361-3DCD-4043-9C75-E8C2E938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551-3FA8-490D-B3D7-96E485D1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7C8-8488-4BDA-BC95-289C8E6D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72E-E6D0-4175-B029-80307C4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3EB24-B7FB-4621-A5D9-86DF76F51E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без дел, без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вши с радостью Тво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ерою в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не смея 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то меня мог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познавш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а   Таков, как ес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для всех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х, страхе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й бурею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увиде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путё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проложенным, прям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авеки быть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6:35Z</dcterms:modified>
  <cp:revision>12</cp:revision>
  <dc:subject>Slavic hymnal Гимны веры христиан, hymn 479 (as amended)</dc:subject>
  <dc:title>Таков, как есмь</dc:title>
</cp:coreProperties>
</file>