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0978-B183-46A7-B65D-1ACC0F2A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F7B5-7A52-4C50-8713-EECC2BCA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016F-5696-4E89-A572-C069D175F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EE23-60DE-467C-8071-EEBADAEE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CDFF-EDC1-4499-BE42-7DDB76B4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CC6A-7627-4F28-84EE-286237B8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E218-D591-43A5-A6E0-3D7FC4B7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AF15-D56F-49A8-90FD-5C2194BD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CB9E-5C90-4067-B7F9-062389E9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4F0C-6064-4F62-B092-5D836C1D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44D8-2A4E-4847-BAC6-31DCCD9A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5AFE-EADB-4F12-B55B-1BF26F12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D78D8-15C1-446D-8DD0-CFC8B975B41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мой, к Господу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ою жи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Его свято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йдёшь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прославят все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 грешников стра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м вечность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руг мой, к Господу пр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оставил Свой прест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авных небе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землю к нам со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рассеять мра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прославят все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 грешников стра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м вечность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! спасение тво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обрёл Христ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Он произнё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овершилось всё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прославят все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 грешников стра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м вечность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к Нему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рось греховный гн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крыл спасенья д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Себ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прославят все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 грешников стра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м вечность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2:40Z</dcterms:modified>
  <cp:revision>12</cp:revision>
  <dc:subject>Slavic hymnal Гимны веры христиан, hymn 347</dc:subject>
  <dc:title>Друг мой, к Господу приди</dc:title>
</cp:coreProperties>
</file>