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3CF-62D5-43C2-9FDD-C80707CD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A45-B9F2-4072-B001-BAA9224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420-2918-4E10-B8A6-4683CEFD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397-EF6E-4764-9357-C8721A4F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92F-DFCA-4F57-9A70-F0889F36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709-F216-44FD-B009-F3D420DD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A89-FA67-4223-85A8-F00A9C76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BF0-5723-4FEA-9BD6-A14AFC0B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098-BFD3-4EF9-AA29-DD723BBD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CEC-B329-4BD8-A3ED-CD03D903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9F6-A283-43C5-B1BE-4241289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A66-ADCC-4B23-8322-6C7DEFE7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A2936-5F2A-4441-B7B8-DA6B052CC8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нам всем пред Бого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ие великое увид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но кто будет вне в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х увидим тех, с кем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мерть внезапно, быстро разлуч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другой будет вне в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думай, друг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! Тогда настанет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плач обманут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шь, что напрасно провёл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напрасно, нет возврата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разлуки вечной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с отцом, брат с брато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лоне дня стучать будут в дверь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знаю вас», — услышат глас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т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разумным в брачный пир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во время запаслись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пришёл, они вошли в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жить, любить здесь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дать в полночь, когда жених пр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дрствовать с надежд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рядёт Он взять детей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18Z</dcterms:modified>
  <cp:revision>12</cp:revision>
  <dc:subject>Slavic hymnal Гимны веры христиан, hymn 321</dc:subject>
  <dc:title>Подумай, друг, когда настанет время</dc:title>
</cp:coreProperties>
</file>