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A7B-70F1-4F24-9643-4B3D3543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883-9147-4478-B67E-B41A872A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B58-C6E6-482A-B81E-363D0A03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A31-EC5B-4702-A0DE-EE4EE5E7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73C-3D5A-4619-9455-3E5938AF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3A0-4751-421E-95EE-F724691D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E27-1118-4448-BAF6-6585CC34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EA7-DBDD-484D-ADB3-6A6D48AB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A29-720F-457C-BBAC-3D11DE08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C18-A6F0-4515-B91A-A40C9C7E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D45-9679-45E7-9FA1-D453FE9B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FF1-9545-4F68-AF1B-ADB341E4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D16C2-29A4-47C1-9E21-3378080860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отрите,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льшим удивлень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удто мы сделали с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едный страдал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омой от рож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оровым стоит перед 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смотрите, лю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отрите? раз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бе не та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мало различных болез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 верой в молит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вас для жизни поле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отрите,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ас, как на ди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ело идём на муч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мы спок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ны, счастл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жизнь, благодать и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славный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енья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ите ль гордые в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друг завоп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спуге смертель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кройте нас, камни и горы!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, гля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на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ольбой, с покаяньем сердеч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вам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жет в служ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будете в радости веч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5:14Z</dcterms:modified>
  <cp:revision>13</cp:revision>
  <dc:subject>Slavic hymnal Гимны веры христиан, hymn 770</dc:subject>
  <dc:title>Что смотрите, люди</dc:title>
</cp:coreProperties>
</file>