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FE7-AAF3-470E-8CC4-61375FD7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897-4F61-48B6-A446-F4AD0BBC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96A-393A-46FC-8964-91FF3B45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A70-AF09-43DB-A903-2334B63C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3E7-C6C7-4215-81B4-020F6786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D6E-CDC2-4EB0-85BA-07FF989A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F37-5916-4B35-AB56-4968957C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A2B-9F91-4648-912D-1050F77A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17A-9FB9-4C92-9655-2B5ACFC7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D93-8D4A-4B88-B171-A311B73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CC6-4FB7-4D47-834A-08F5FEC0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F39-E40A-4D6C-9CA3-C3DD2B43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715F0-5C6C-47C6-86DB-4836907111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thousand tongues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eat Redeemer’s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lories of my Go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iumphs of His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престанно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мудрость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acious Master and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sist me to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pread through all the earth ab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nours of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лишь об од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удрости учить и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The name that charms our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bids our sorrows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usic in the sinner’s 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life, and health,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жизнь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всяк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музыки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reaks the pow’r of cancelled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ts the prisone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can make the foulest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avail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усталым тиш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от о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всякую в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ая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Him, ye deaf, His praise, ye du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loosened tongues empl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blind, behold your Saviour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p, ye lame, for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хой, внимай! Немой, хва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тесь все у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пой, прозри и сла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у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3:29Z</dcterms:modified>
  <cp:revision>12</cp:revision>
  <dc:subject>Slavic hymnal Гимны веры христиан, hymn 872</dc:subject>
  <dc:title>O for a Thousand Tongues to Sing / О, если б сотни уст иметь</dc:title>
</cp:coreProperties>
</file>