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28943-C631-42D6-816F-4BE060F19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70572-EAC7-4034-9776-BD50D765F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F2631-8885-4AF2-BEB6-55672B25A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AA367-7684-4951-AE43-D40A7590B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3A0DD-1A98-45D1-AF6E-60900541A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8833B-F9B6-461D-8A1C-C01C30912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8E197-17D6-4BC3-A1B9-A39F03C98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D7179-B2C8-4E14-9EF6-0996CBC19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B21CD-6BF8-47A0-9EA4-C0E94806B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666EE-0059-40C6-9A62-869E0A528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3AD90-C3C3-4DA4-AE2E-94A116EE1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16DD2-DADC-4591-8481-DB2EF4F78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66CCC2-0118-4B06-AEFF-39A69E449F31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en it’s all been said and do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re is just one thing that matter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Did I do my best to live for trut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Did I live my life for You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en it’s all been said and do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ll my treasures will mean nothing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nly what I’ve done for love’s rewa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ill stand the test of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1613   When It’s All Been Said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ord, Your mercy is so grea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t You look beyond our weaknes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find purest gold in miry cl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aking sinners into sai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will always sing Your prais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re on earth and ever afte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You’ve shown me heaven’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y true ho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en it’s all been said and do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’re my life when life is g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Barry Hart and Jonathan Bugden (compilers), The Source 3, Kevin Mayhew: Buxhall, Suffolk, England, 2005.  ISBN 9781844173327.
</dc:description>
  <cp:keywords>lyrics words praise worship songs</cp:keywords>
  <dc:language>en-US</dc:language>
  <cp:lastModifiedBy>John Zaitseff</cp:lastModifiedBy>
  <dcterms:modified xsi:type="dcterms:W3CDTF">2011-02-04T06:13:28Z</dcterms:modified>
  <cp:revision>12</cp:revision>
  <dc:subject>The Source 3, song number 1613</dc:subject>
  <dc:title>When It’s All Been Said and Done</dc:title>
</cp:coreProperties>
</file>