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0804-E3D0-4865-9E3E-A94391BC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D742-7672-4F73-9687-4C951A92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098F-7DA7-4EFB-B2D7-9CE02D9E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5FD1-5D1E-4206-9B4D-D5C2CCD07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F72B-ED94-4BD1-8D98-E2739F7C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C732-DF07-4BB2-AE0F-097CBACD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79D6-E9D7-4F75-A47C-076A8515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27BA-96DA-4A45-80D5-DBFEDF65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C0D2-633A-4F3D-87F1-4851DE1D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A990-46D8-4579-8B44-B4C5BD33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1A8B-C9A7-4FC4-8536-D5A99CE2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D3F5-459D-4677-8358-7369A961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594E7-8408-446A-B511-65FBB336362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the living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 afresh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the living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 afresh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lt me, moul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me, us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the living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 afresh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6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Spirit of the Living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2:16Z</dcterms:modified>
  <cp:revision>10</cp:revision>
  <dc:subject>The Source, song number 462</dc:subject>
  <dc:title>Spirit of the Living God</dc:title>
</cp:coreProperties>
</file>