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C464-F411-4942-A46B-BF861FD20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5B3B-57B3-4829-AC3E-3176E39B1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8FEC-BF3B-4ED6-A404-2D32C9D6E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1C18-8FF7-47B3-8FB5-9195E16CE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4727-9414-4E84-A525-501920D44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9DC6-5607-4D14-A2B4-682CE0437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6DE4-4840-45E5-8016-43C84AF1D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263C-4F9D-44F4-8116-589663909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9075-BAE7-4002-88AC-B95DB89B2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012E-0422-4E13-AF87-161DC17C2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31A5-195D-4EE8-A55F-91F553553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8C5B-20E8-4C88-B2D7-4B9A5C074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9E4831-F5A1-424D-9451-EF6EACC42A2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да б меня Он ни повё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ду без страха и сты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знаю: чтоб меня спас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 Голгофе пострад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нём, и ночью за Хрис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ду везде Его пут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я любовь Его позн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 Голгофе пострад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1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Куда б меня Он ни повё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 внимать Его слов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, чтоб Он меня держа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нас приблизить к небес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 Голгофе пострад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нём, и ночью за Хрис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ду везде Его пут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я любовь Его позн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 Голгофе пострад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 не страшусь я ниче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 испытаний, ни тру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бы во славе зреть То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на Голгофе пострад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нём, и ночью за Хрис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ду везде Его пут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я любовь Его позн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 Голгофе пострад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55:45Z</dcterms:modified>
  <cp:revision>13</cp:revision>
  <dc:subject>Slavic hymnal Гимны веры христиан, hymn 513</dc:subject>
  <dc:title>Куда б меня Он ни повёл</dc:title>
</cp:coreProperties>
</file>