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C5A-1E5F-4338-9538-551C9667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009-2E94-44CD-AFCF-B4211AC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5E7-72F6-4A1C-A18C-21FD7372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8CE-D8E9-440A-9679-862D23DF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043-D73C-488F-A773-B0145DE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BF1-D352-4A1A-9E82-5823575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D4C-4F9B-4AE9-9231-63BBD49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EF1-0ABA-4A56-8A1F-3B322E8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26C-E5F0-41E5-922A-5D8A355B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6BE-223A-49F1-B715-986D456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BD0-E8E6-4B2A-AECE-3CDE4CE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377-E4B9-46E2-98AA-39D5E1F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881C1-7AE5-4865-B325-089515F343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7:26Z</dcterms:modified>
  <cp:revision>13</cp:revision>
  <dc:subject>Slavic hymnal Гимны веры христиан, Ukrainian hymn 1</dc:subject>
  <dc:title>Люблю розповідати</dc:title>
</cp:coreProperties>
</file>