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EBF-25EE-46FD-876A-4B00B7A5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391-444F-4620-A450-9FD0E331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11D-9C8A-439A-A574-C7593D75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A36-34CB-4AB3-8994-33D587E5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66B-502B-44F6-9CC0-555F121A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DA4-CA6E-4522-97A3-04EE0D0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3B4-C716-45E4-A3BD-B17CA300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020-A375-4D1A-BC67-C5244A49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D37-75D6-48AC-92E6-33AB9F31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A29-92D3-460F-86A7-6AA1EE5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285-295A-4561-A498-35510AF9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AB4-9E22-4E8F-A707-9B9C9A9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C8AAE-CF8E-4AE2-B033-022AAE3B77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hrough the morning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while the dew is spark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’mid springing fl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, и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ердце озар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when the day grows bri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in the glowing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’s work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да воспр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ух в борьбе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hrough the sunny no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brightest hours with la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comes sure an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уж полдень зной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к тру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ю спокой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оможет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every flying minu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hing to keep in st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 works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труд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er the sunset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ir bright tints are g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daylight f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пожелтела н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жатва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ен звук призы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руж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ill the last beam fad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deth to shine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while the night is dar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’s work is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колос не ув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жи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единитесь,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ом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и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лабый не от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ущённою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4Z</dcterms:modified>
  <cp:revision>13</cp:revision>
  <dc:subject>Slavic hymnal Гимны веры христиан, hymn 529</dc:subject>
  <dc:title>Work, For the Night Is Coming / Друзья, взошло светило</dc:title>
</cp:coreProperties>
</file>