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B13-D5E7-4D29-A231-3C63DB49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DDE-1447-4123-A895-96DFAE06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577-BE18-4F8D-A72C-39C728F3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E97-E320-4A80-801F-94F41DC1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1CB-1285-4B06-A5B2-BD08FBB6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2C3-B82A-4528-9C64-35F60345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D49-AE01-4C69-9938-C2731726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E02-0B73-462D-BB1A-44B0865B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7DD-6E80-4C8D-AE31-444C20DC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7D0-7B17-4B1F-920F-287FED85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BD5-7564-47DC-90F5-9A7D7FD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710-4D13-47DE-943B-A60CD6A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CD33D-5EEC-46EF-BF4F-669ECF68E1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 из тканей ж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илосердный во мне сотво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ие мехи желаний плот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й десницею Он устран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вое сердце из тка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мысли — Христовы цв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чувства Его полн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радость и новый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жизнь с милосердным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172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умных домах иль безмолвных пол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раке полночном иль в звёзд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ль дворцы я, вхожу ль в шалаш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всё ново для новой д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ое тело осталось о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ж недолго: сотлеет о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тело, бессмерт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навеки Спаситель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весть услаждает мой слу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землю с сияньем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небо без туч гроз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готовил для вер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24Z</dcterms:modified>
  <cp:revision>12</cp:revision>
  <dc:subject>Slavic hymnal Гимны веры христиан, hymn 602</dc:subject>
  <dc:title>Новое сердце из тканей живых</dc:title>
</cp:coreProperties>
</file>