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a:t>
            </a:r>
            <a:r>
              <a:rPr b="1" lang="ru-RU" sz="3600" spc="-1" strike="noStrike">
                <a:solidFill>
                  <a:srgbClr val="ffffff"/>
                </a:solidFill>
                <a:latin typeface="Verdana"/>
              </a:rPr>
              <a:t>	</a:t>
            </a:r>
            <a:r>
              <a:rPr b="1" lang="ru-RU" sz="3600" spc="-1" strike="noStrike">
                <a:solidFill>
                  <a:srgbClr val="ffffff"/>
                </a:solidFill>
                <a:latin typeface="Verdana"/>
              </a:rPr>
              <a:t>Благослови, душа мо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и, душа моя,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я внутренность мо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ое им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и, душа моя,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забывай всех благодеяний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прощает все беззакония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яет все недуги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авляет от могилы жизнь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нчает тебя милостью и щедротам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сыщает благами желание тв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ляется, подобно ор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юность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и, душа моя,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я внутренность мо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ое имя Его.</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0:31:53Z</dcterms:modified>
  <cp:revision>3</cp:revision>
  <dc:subject>Slavic hymnal Гимны веры христиан, hymn 1</dc:subject>
  <dc:title>Благослови, душа моя, Господа</dc:title>
</cp:coreProperties>
</file>