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2A36-C944-407F-B506-ABFD32FB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9248-AB67-48EA-B235-1977C818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0894-CCA3-4C3A-9D52-026DB9AA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EB00-4550-4E85-8E99-4DA9ACB28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8AB1-A1A4-4976-BB83-D884CC29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4284-B079-4C1D-AF76-AEBB456C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6EAA-5651-4049-8B4F-EBE65E15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9A50-2641-4AE9-97FF-99BA3992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D6FC-A49D-4371-A454-280AD76F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7C7B-148E-4E6F-B93A-5439640D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817B-8F2E-4DEB-92D5-2B1F0297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0FE3-DCA8-40E9-B058-2187A22C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A0DFD-B37F-41AB-A4B3-884FE532DAA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 you believe what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s done in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 you believe what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s done in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saved me, cleans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urned my life arou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my feet upon the solid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 you believe what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s done in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755   Can You Belie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9:53Z</dcterms:modified>
  <cp:revision>12</cp:revision>
  <dc:subject>The Source 4, song number 1755</dc:subject>
  <dc:title>Can You Believe</dc:title>
</cp:coreProperties>
</file>