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CCC-70FC-475D-BAB1-102593B4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04C-0F33-4778-8C4C-52D46E22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C34-7DA9-4E3B-97C2-82E969C9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6DF-7AF6-47E9-8F2F-C45ACE69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1B2-5A38-4A03-8B5F-B2C4CF6F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1AA-2D42-46D2-84DA-C66CE123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72A-2E87-46AE-AB35-1DC4ED1A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CA3-29E5-4CC4-98B4-4D705100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65E-97A3-430D-B6A7-E0256BF0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32D-679E-4DD0-BC94-ACCA9582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D04-88C6-4E15-A887-256697F4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3583-18A9-4C1D-AAAA-59ACF0FE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03F20-5DCC-4700-AF1B-4F27A7D695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, радість буд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емний залишим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м в Божий 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сте там дерево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ам побачим м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нях слави не зем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ийме там Сво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1   О, радість, радість б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вузьким нам треба 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в небес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по ньому не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 вічних мук при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зійдем на шлях ву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живемо час тяж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, в небесах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емо в рідни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воскрес і щезнув ж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, ось, в велич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х, світли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глядає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, стомлені, сум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вічні радості кра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тяжко, журно в світ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те спасіння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2:41Z</dcterms:modified>
  <cp:revision>13</cp:revision>
  <dc:subject>Slavic hymnal Гимны веры христиан, Ukrainian hymn 31</dc:subject>
  <dc:title>О, радість, радість буде там</dc:title>
</cp:coreProperties>
</file>