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B1F8-7059-4CBD-B85F-9E515C929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4706-900D-44D6-8CD3-4EAD3FCB8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4499-AAC5-4F4D-A601-C56917EC8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B527-4345-490D-9032-585711C10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4AFC-538D-4395-973A-69CFF805F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5CE3-F4B2-4036-A72E-565E0632A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7755-4933-4710-8A50-2018C37CC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94A8-FDC6-40BA-BB52-E6FC25FAB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45B5-0FDA-4ABD-9FA2-6C94318BD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F39F-06AE-410E-950F-4F88DEF5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C033-AAAC-4D3C-BB4B-565920CB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52FC-9FA3-4F98-965A-4CD3E286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859AEB-D11B-4BC6-870C-7368D4A0942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! При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заблудший, к Отц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вдали от От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ьма греха без ко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заблудший 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! О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! друг, о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7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иди, сын заблудш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!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пеши в дом От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и верных скор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жидаю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заблудший 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! О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! друг, о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!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о в доме Отц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ир всерадостный в 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Иисусом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заблудший 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! О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! друг, о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!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как благ твой Отец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ос нежный,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ещает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заблудший 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! О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! друг, о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7:36Z</dcterms:modified>
  <cp:revision>12</cp:revision>
  <dc:subject>Slavic hymnal Гимны веры христиан, hymn 377</dc:subject>
  <dc:title>Приди! Приди, сын заблудший</dc:title>
</cp:coreProperties>
</file>