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F56-BE17-4E67-8C1E-E64C5614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E65-8FF3-4CB3-B050-5D0B0BEE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5D4-1E8C-433E-B2FA-105C3E55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CAF-685B-4233-A860-0E4B4F55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E7E-4D4F-4E28-A3E0-67A1D6E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AB1-2A1D-4504-90E3-2483C7AF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464-F77F-4F91-8F6E-9DBF5FB4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2CD-C15B-483A-A74D-C9DBB680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852-DA61-46D9-AD69-95F0923C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713-ACAD-404B-B9EF-25CC6869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736-412F-4A26-AA93-F3EEDCBD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895-DCB2-44CC-A2D4-D67AFD50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9610A-A793-4F24-8659-6700AE0571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Is Good All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’re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are shadows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o not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gu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keep you safe an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He has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never lea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r fors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word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ere sinn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un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for us He chose to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ed u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Holy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we can stand and tes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mer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never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may not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plans You ha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eyes of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clearly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He’s so g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He’s so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51Z</dcterms:modified>
  <cp:revision>10</cp:revision>
  <dc:subject>The Source, song number 125</dc:subject>
  <dc:title>God Is Good All the Time</dc:title>
</cp:coreProperties>
</file>