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A31-EBAF-48A6-A134-78DFA22C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F26-FB55-4874-A28F-7D746F73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C229-B10B-4ED7-B0B7-8988215C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373B-F4CA-4453-8FBF-3AEB4652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080-73E7-4508-B0AB-B2020289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FFB-A746-4C39-9255-0F9C84B8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345-AFA4-41D8-B3C1-8A1A661C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315-0AC8-49DB-AC52-643FAFFD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73F-D359-495B-8291-840D2F61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E06-8379-4E4F-A64D-B31E6A7D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E8F-92D7-46D3-8B42-BC4AFAA8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878-B7FB-4484-89A3-1B3ED736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CF4F6-EB15-4314-8FCA-A8A286FCF5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recious than sil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costly than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beautiful than diamo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thing I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ares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3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You Are More Prec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14Z</dcterms:modified>
  <cp:revision>10</cp:revision>
  <dc:subject>The Source, song number 339</dc:subject>
  <dc:title>Lord, You Are More Precious</dc:title>
</cp:coreProperties>
</file>