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BC7-A143-41D7-A2F2-2E1A7F4B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F8C-AF95-4208-BF8F-FCD10741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6C3-E433-4BC3-A879-26639044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221-BB4A-43AD-80B9-C7B6E4FB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2BE-3E55-48E2-9A21-0744F54F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258-1491-4972-B27E-5409C294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7D3-D1F7-4BCF-B65E-4DFBE46E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AE8-C3B7-44B5-A769-4A7FFBC9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1FE-04FD-4A08-B7D8-D7DB25BC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A9E-E953-4C48-A732-D5109ED6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A9B-51D1-42F7-9574-59FD231B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D52-523F-4311-977F-7B5D4157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5A2D4-B55B-4112-AA4D-64E58AF649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руг,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есть, во всех грех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врачует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сбрось свой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бодрись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: «не изгон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пред Ним вс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боль греха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друг,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предайся в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ушай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излечит вс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й нечист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Его проли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ешь исц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 ней ом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ешь ввек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свой крест и следу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узкий за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за Ним, не сет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ь ты под кре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путь к веч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ти ты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айдёшь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20Z</dcterms:modified>
  <cp:revision>12</cp:revision>
  <dc:subject>Slavic hymnal Гимны веры христиан, hymn 378</dc:subject>
  <dc:title>Приди, друг, к Иисусу</dc:title>
</cp:coreProperties>
</file>