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2FC-19E1-4BA1-88FD-AFB65A5E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E69-4EE5-4BD5-92FC-AFB4F85D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2EB-B026-45A8-9E02-9B40A2AA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EEE-DA15-466B-B855-9D4BA508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D18C-8AC3-4A0E-8D6E-708169BA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44AF-065E-4CE4-BB24-E0B7D7D2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91A2-20CD-40A1-BDC3-6F37A5D6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8C8-3B85-458E-A061-577C23FD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ACF0-AFE4-4DD8-B6FE-67FA4717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D8F1-C50B-4ADE-94CB-8D608A37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77B-21BC-442E-94F1-F36C8355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B619-D3D3-41E0-9655-CB0507F2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3A375-CC03-47D7-82BD-4E7D5D8520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your best to the Mas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the strength of your y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w your soul’s fresh, glowing ard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the battle fo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ё посвяти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ости сил не ща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живою согре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has set the exam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untless was He, young and b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your loyal devo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the best that you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стал нам приме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ед тобой вперед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надежду и вер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Него п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your best to the Mas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the strength of your y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ad in salvation’s full arm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in the battle fo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ми вместе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и Госпо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всту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your best to the Mas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first place in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first place in your serv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secrate every 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войдёт в твою гр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т всезрящего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ся скрывать что-ни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, and to you will be gi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His beloved Son 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tefully seeking to serv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the best that you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уй собою в смир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на тернистом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святое служ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Него п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your best to the Mas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the strength of your y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ad in salvation’s full arm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in the battle fo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ми вместе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и Госпо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всту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your best to the Mas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ught else is worthy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gave Himself for your rans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ve up His glory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дл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ердце радость н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несчастных сходи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чных, небесных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id down His life without murm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from sin’s ruin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your heart’s ador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the best that you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Свою полож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бречённых спас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ум, желанья и силы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Него п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your best to the Mas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the strength of your y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ad in salvation’s full arm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in the battle fo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ми вместе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и Госпо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всту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48Z</dcterms:modified>
  <cp:revision>13</cp:revision>
  <dc:subject>Slavic hymnal Гимны веры христиан, hymn 549</dc:subject>
  <dc:title>Give of Your Best to the Master / Всё посвяти Иисусу</dc:title>
</cp:coreProperties>
</file>