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D6D8-CE98-48AB-A094-1726EF61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1901-B623-4E4F-B3AA-885ACD82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C8DD-C89D-4A47-A95A-D228EBE36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A3C0-C56A-4DC6-9BB6-7CB575D3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EC7D-4B40-453C-AF9E-91EE7753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FF11-7EF5-4B2B-B749-99CE30CE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C6B6-087C-42F9-B2CA-652132A8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5D24-5631-4DEB-B7B4-F7A9C6DE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7BD8-9131-467F-A0DD-4AFA3481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646D-D635-442B-A6A3-4A8CB7AA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4546-E245-4B56-AB6A-2122B2E9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C206-0070-4A4E-9CE4-946A25FF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D8E69-EE98-4361-BD49-DB567AD411E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, поспеши на Голгоф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давно тебя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льётся поток благо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сякого, кто лиш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 скорей поспеш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 придите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и радость прим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годня зовёт Он всех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уша, поспеши на Голгоф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щиты от бурных порыв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 мире не сыщешь ниг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Боге ты станешь счастли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ежище наше в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 скорей поспеш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 придите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и радость прим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годня зовёт Он всех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и от греха изба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олитой Иисусом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наешь ты радость спа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ишь: «прозри и жив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 скорей поспеш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 придите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и радость прим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годня зовёт Он всех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л нам с надеждой прекра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ь, и мир для сердец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ли ко Христу не нап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нам сияе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 скорей поспеш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 придите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и радость прим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годня зовёт Он всех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3:39Z</dcterms:modified>
  <cp:revision>12</cp:revision>
  <dc:subject>Slavic hymnal Гимны веры христиан, hymn 343</dc:subject>
  <dc:title>Душа, поспеши на Голгофу</dc:title>
</cp:coreProperties>
</file>