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632-EDE3-465E-A54E-16724EB5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6C10-C415-493C-8907-BE3D419A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DB49-234C-4E4D-A09E-338C585F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69AD-1C12-46C0-AA48-F3A7C5EA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0206-ED43-4AC5-B045-5C85C082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A94A-4329-4CD8-8979-B693967F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314-327C-4C68-A5E5-9A88E306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D56C-28D6-48EB-85B4-6FFA7BC1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CBF-7277-4CE4-8AEE-E026D529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B114-7F54-4AE9-8B8D-DFF41E98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2B7A-EC27-481F-85B1-C36A2B71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B759-5BD3-4D07-B817-F61B2779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CACBF-9B1E-4F91-B702-1FEF9517AA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идите в серд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нье, скорбь и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каждый, кто жи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гом вос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сите эту в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ит ночи ть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к горит зар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крылася тюрьм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а п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ердца и 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т свет и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ий Царь ц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учах любви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лительный бальз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для все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ышим здесь и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смелей, друж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а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подходящих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ертным рас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жет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женных раб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у подня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7:15Z</dcterms:modified>
  <cp:revision>12</cp:revision>
  <dc:subject>Slavic hymnal Гимны веры христиан, hymn 305</dc:subject>
  <dc:title>Несите эту весть</dc:title>
</cp:coreProperties>
</file>