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7EF-BDE8-451F-85A3-B2DF9306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039-7A5A-4CF6-BFF2-282084B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D0F-B754-484F-89B6-CDB97A24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723-5FAE-4A5B-A7F5-0153A2DE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71D-6494-47C4-89A4-7C07A2B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DD3-A96C-420C-B4BB-E7949808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4E6-B530-4BB7-A32C-79C81F4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864-C973-4EF9-9441-F8F4597E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A6C-5F17-493E-9ED7-B00AD1A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602-5F8D-415C-AA74-76BDE94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F6B-97C1-49DB-AB2B-8E039D5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877-258C-459B-99AD-AEFCF24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1EB30-4BE9-4BCA-A56C-29A4A56D6B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царствуй глуб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и мне будь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ятую волю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вят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 меня луч разу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 во мне неверья т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лишь может вдох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вечной правды свет 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мне и утеше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Дух Утешитель, 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душе успоко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Тобою Божи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делай милостью Тво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исто и дух п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ей всегда моей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у воле, кротость в н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12Z</dcterms:modified>
  <cp:revision>12</cp:revision>
  <dc:subject>Slavic hymnal Гимны веры христиан, hymn 308</dc:subject>
  <dc:title>Приди, Святой Дух Утешитель</dc:title>
</cp:coreProperties>
</file>