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B9F-04CC-4BBD-8B1B-9B0F00F6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FE8-141A-4C83-92CE-2CF1C88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D03-124B-46E1-9F03-B930CA0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EAC-D9F7-4F30-B05B-8EC28E60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68B-2976-4D53-9D39-10BB448F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013-C791-40FC-96CA-391FBDB3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184-C8C7-4A7C-B096-11CEBEE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AAB-BADD-41C6-9FB4-EC79595B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D35-9583-4E9F-AD4C-CA3B2B5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3D0-71B7-4381-95C3-7963E67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02E-0CF7-408F-96A8-E443738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F9E-F8B1-4122-9EB3-645FD0A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C6117-D789-4234-BD9A-7A3E49F29E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48Z</dcterms:modified>
  <cp:revision>13</cp:revision>
  <dc:subject>Slavic hymnal Гимны веры христиан, hymn 239</dc:subject>
  <dc:title>О, малый город Вифлеем</dc:title>
</cp:coreProperties>
</file>