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AE8-A12D-4DB4-B5F5-44602383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8A1-2B00-453A-80E0-42A689BA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36E-7B65-402F-8A7F-295E15A4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3E7-4631-4CE7-AE8B-365C5519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837-7685-4F9C-8392-90E10BC0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69C-B4A4-498C-B00A-28C0A9A6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D1E-20CA-4BE5-89BC-B57A3030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E7B-900A-4D5E-BFBE-E98D95B9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91C-0FC7-4B61-8646-953B08D2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BA1-672B-4B1B-861C-BBD14AF1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38A-EC26-4CC1-A6EA-56328070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D33-C9DF-42B9-B12B-85E2F71F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EF558-0034-4100-B752-955F7076CC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утром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поём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ый, силь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, свят, свят Господь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и покло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ют Ему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ных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ют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щий от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ой облеч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ным нельзя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й славы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Он над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и креп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Божье имя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ре и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ят наши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3:18Z</dcterms:modified>
  <cp:revision>12</cp:revision>
  <dc:subject>Slavic hymnal Гимны веры христиан, hymn 804</dc:subject>
  <dc:title>Свят, свят, свят Господь Бог</dc:title>
</cp:coreProperties>
</file>