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E8C6-E8E6-4F71-8201-F745C0B7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76EE-6C11-446A-85BB-3C1C129D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0942-7078-42B3-8A2F-644FA09BA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8FA0-7E58-4EF8-82AE-4CC19AC56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0C0C-E667-4146-BE2C-D21AB769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E7D2-52FF-4753-A862-2A908591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0792-A3DD-4727-AD67-7003A9EA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7761-5D3C-4410-9B7A-605234C3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08F8-E26C-469D-8183-102F10C1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58C2-DDCD-4B82-B345-70D09E7C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1881-B6B0-4915-B5F3-7C6A1125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7C9B-792E-4A24-BFA8-D7C30CF6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F95A9-5853-4265-9A77-F47E807B128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nderful, so wond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Your unfailing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cross has sp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rcy ove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eye has seen, no ear has he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heart could fully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lorious, how beautiful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34   Wonderful, So Wonder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I ad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my soul must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werful, so power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lory fills the sk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mighty works displa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to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eauty of Your maje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wakes my heart to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arvellous, how wond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I ad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my soul must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opened my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r wonders a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aptured my heart with th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use nothing on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as beautiful a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I ad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my soul must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, my soul must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, my soul must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, my soul, Beautiful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I ad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my soul must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4T06:14:46Z</dcterms:modified>
  <cp:revision>12</cp:revision>
  <dc:subject>The Source 3, song number 1634</dc:subject>
  <dc:title>Wonderful, So Wonderful (Beautiful One)</dc:title>
</cp:coreProperties>
</file>