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FD2-96AB-4D11-91AD-7F876236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5D7-1AC0-451A-9903-8A65E8D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02B-E495-4211-823C-F98BA16E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925-1486-4C95-A824-02EF851E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90F-B937-480F-8C67-41E00EBF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4CD-CB38-46FA-BCEA-E29C4475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BDD-7DDF-44B8-B166-EA49E8F1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237-633A-4D08-B695-EB31C9D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08A-2B77-4994-8E60-C762C9EB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515-F0AE-416A-8768-A6279DEA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355-04EA-4E59-86E5-6E43EED7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24F-2D2F-4400-B546-2D720A2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3601-4A22-4CFC-94E1-A659AA6FC0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Спаситель на землю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и сил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н с любовью к Себе при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 чертог Свой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и минуты мелькаю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мная ночь уж прохо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вдалеке разгора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чный, день судный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корее на землю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ленье, и смерть разру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е царство вез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нам обители 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48Z</dcterms:modified>
  <cp:revision>12</cp:revision>
  <dc:subject>Slavic hymnal Гимны веры христиан, hymn 327</dc:subject>
  <dc:title>Уж скоро Спаситель на землю придёт</dc:title>
</cp:coreProperties>
</file>