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450-69B3-4ED8-90DA-9126B7EE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3C5-359F-41F4-B89A-9D3080BA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07D-0AA1-469B-B6E3-8F87ABC6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8FB-9BDE-456F-9CAF-CF7853EC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214-9025-45AF-9BE1-A43EC9E0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0DF-C0FB-4A41-BF54-A13249E0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E09-45B5-4FD4-B5F7-C1083EBD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E45-E96E-49D9-9FEB-007B1DA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662-6452-4264-B2A9-D2D62720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B07-B5C6-41BD-B109-468D8B8E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0BF-177B-4511-ADEC-5C5B6723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DF1-B602-4A9F-9D71-F06CF06A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B47CA-4868-4667-9244-DDB9F5916F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витый чистой плащан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, снятый со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ребён в чужой гробн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ней приложена пл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утихли гнев и зл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рагов: Он может в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ха их, у двери г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положена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бвитый чистой плащаниц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нула ночь, поутру 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гиле женщины спеш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 в одежде легко-тк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а светлых ангела си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ть отпала от гробн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лась на землю пл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обу лишь только плащан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нём лежащ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глядят в недоум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Учитель их исч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ат слово утеш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го вы ищите — воскре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ёны, радостью объя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ат к апостол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естить, что Бог расп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л из гроб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7:48Z</dcterms:modified>
  <cp:revision>12</cp:revision>
  <dc:subject>Slavic hymnal Гимны веры христиан, hymn 292</dc:subject>
  <dc:title>Обвитый чистой плащаницей</dc:title>
</cp:coreProperties>
</file>