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21</a:t>
            </a:r>
            <a:r>
              <a:rPr b="1" lang="ru-RU" sz="3600" spc="-1" strike="noStrike">
                <a:solidFill>
                  <a:srgbClr val="ffffff"/>
                </a:solidFill>
                <a:latin typeface="Verdana"/>
              </a:rPr>
              <a:t>	</a:t>
            </a:r>
            <a:r>
              <a:rPr b="1" lang="ru-RU" sz="3600" spc="-1" strike="noStrike">
                <a:solidFill>
                  <a:srgbClr val="ffffff"/>
                </a:solidFill>
                <a:latin typeface="Verdana"/>
              </a:rPr>
              <a:t>Христа да славит весь народ</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Христа да славит весь наро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ангелы да чту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сь мир осанну да по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ителю Христу.</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Вы, друга Божьего сын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се, кто спасен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спойте славу и хвал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ителю Христу.</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Бессильные оставить гре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скатели уте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кройте слабость и нуж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ителю Христу.</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Все расы, классы, племена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ставьте сует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ои отдайте бреме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ителю Христу.</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Когда ж придём на высот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ногам Его пад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есни славы воспо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ителю Христу.</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08:36:40Z</dcterms:modified>
  <cp:revision>3</cp:revision>
  <dc:subject>Slavic hymnal Гимны веры христиан, hymn 121</dc:subject>
  <dc:title>Христа да славит весь народ</dc:title>
</cp:coreProperties>
</file>