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47B-FA8C-4149-BF29-3767C18C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319-E384-4502-97F0-8A6F786E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250-3E96-4775-A6C9-5BE2D779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D37-57F4-4A13-B813-7B600D3C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89C-7309-49DF-B6D9-AA58936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ED8-3F6A-4B13-AB18-4EFB0800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DEC-8795-4FF6-BF7F-BC4DF4AC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C3C-B83B-4953-9E2C-F6284CF9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2FF-5FEB-4442-B83A-9ECEA4AE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F33-2B3A-440F-A991-96717DE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727-52F5-43DC-90DE-2BE7B8B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124-DBCB-4829-B8F3-C4649328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69BCC-461B-4188-8EA0-3F71A5306C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hrist alone my hope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light, my strength, my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cornerstone, this solid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through the fiercest drought a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311   В Христе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дном надежда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моя жизнь и сил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амень мой, скала и пес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ёжный спутник в страшный шт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eights of love, what depth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ears are stilled, when strivings c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er, my all in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love of Christ I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ысока любовь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ир глубок, как с Ним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Утешитель — Всё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пора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hrist alone!—who took on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ness of God in helpless ba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gift of love and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corned by the ones He came 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дном, принявшем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р любви, что дал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 народ, избрав по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on the cross as Jesus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rath of God wa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’ry sin on Him was l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death of Christ I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кресте Себя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ьи гнев Отца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на плечи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Его я смертью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n the ground His body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 by darkness s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bursting forth in glor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from the grave He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, как все, Он мёртвы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т был тьмою свет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третий день Он побе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мрачног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He stands i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’s curse has lost its grip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 and He is m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ught with the precious blood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Бог и победитель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не правит больше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Он хозя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уплен крови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guilt in life, no fear in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ow’r of Christ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life’s first cry to final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ommands my dest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траха смерти, нет в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олько сило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ервых дней,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, в Нём моя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ow’r of hell, no scheme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ever pluck me from His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He returns or calls 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pow’r of Christ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кого и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ырвет из рук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едёт меня в Свой 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пора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1:35Z</dcterms:modified>
  <cp:revision>12</cp:revision>
  <dc:subject>The Source 3, song number 1311 in Russian</dc:subject>
  <dc:title>В Христе одном надежда есть / In Christ Alone</dc:title>
</cp:coreProperties>
</file>