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80A-6258-492D-8630-835E1C58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CDAC-25C8-477A-A285-25031A92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4D5-6D53-4467-A258-57000ED6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EF2-E580-4788-808B-FB9AA512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D73-A4A7-40A1-84D6-8B020D2A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FFB-BE32-4A85-B3B5-F50CC2B7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452-E5DB-4756-9A81-6CC7C8DE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A0A-4CAF-4EB4-BA97-D59FA7AE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E17-B7E6-4BB9-8E24-DD631F53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672-CD52-4377-93FB-999E47F4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D4E-11CD-4C17-A15E-81FC7CC0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37D-5E57-4E73-9D30-683802CD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643CE-B542-4AA9-BF61-C974CA8AE2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eople be 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ur God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8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Lord Re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fire goes before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urns up all His enem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ills melt like w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presenc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presenc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eople be 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ur God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eav’ns declare His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eoples see Hi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, O Lord, are exa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all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eople be 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ur God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reigns, our God reig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1:48Z</dcterms:modified>
  <cp:revision>10</cp:revision>
  <dc:subject>The Source, song number 485</dc:subject>
  <dc:title>The Lord Reigns</dc:title>
</cp:coreProperties>
</file>