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DD2-C9DF-4C9A-A393-5F032549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A6D-582E-4BC8-A791-65B2455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6BB-DE58-4A9F-A4A5-F74C1A44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420-BA74-46B0-A2F9-F3D39A1F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AD5-67F5-492C-8FD4-8200260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7C5-E3D2-406D-BE5B-84E7DE0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C5C-C3D6-4AD8-98DC-6148CDC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546-33C1-4FDF-B7EC-8F5B1068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B7C-4AF7-4BD2-B8DE-2019ECC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B4A-5E24-4A3A-BCDC-9F1F7F7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8F8-7F24-483E-8C47-C7F8659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DF8-33B8-48BC-9A78-D1936C9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6447-AAF4-4257-89FD-8228747008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6:46Z</dcterms:modified>
  <cp:revision>14</cp:revision>
  <dc:subject>Slavic hymnal Гимны веры христиан, hymn 282</dc:subject>
  <dc:title>Умер Спаситель, умер за всех</dc:title>
</cp:coreProperties>
</file>