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E3C-9E10-4CE7-A7B6-ABDDA65F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6B8-B899-40D5-90D3-E049ADA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9A8-341F-44F3-B047-64DE94C5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EFF-9C45-4FB7-BD7F-1B7E716F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493-7302-4B80-82B9-228430D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95F-BBEA-4199-B2FD-2C864E1B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305-3911-4966-8812-B4C3AC7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1D7-49E7-4B96-94C8-FF256BF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970-FA0F-448D-8F3B-6A16099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014-65F0-4947-8287-4AEC5D7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02E-CA62-4DC4-BCF7-FF1D69C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823-3206-4CE5-9FEB-F835AC5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74D7-D0DC-4B37-A6D0-641D2F8D97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01Z</dcterms:modified>
  <cp:revision>13</cp:revision>
  <dc:subject>Slavic hymnal Гимны веры христиан, Ukrainian hymn 17</dc:subject>
  <dc:title>His Mighty Hand (I Am Saved From My Sin) / Від гріха я спасен</dc:title>
</cp:coreProperties>
</file>