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98E-A986-4ABF-923C-9DE5E41B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33B-D21F-4DF0-9EFF-2EF4751E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094-AC2F-495F-9AA7-D45D098D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C613-3DAB-4E0B-BFF5-320524F5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8519-0DF3-43D2-B54A-17876495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3B04-7E3D-4A4B-B059-565154BC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4A4E-F76B-4C63-B4CD-09F4F9DE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E9EC-B9E5-4B69-A3F7-F4A6FCC4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CE2-E612-4100-B2A0-EA3ED9D1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0814-B320-4AEC-ACEC-6F9154B0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2571-99C2-4C1D-A361-C0B5424A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D972-E61B-447C-B578-34C7984C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B8CFC-88EC-4DAD-BD8B-EAA9A916C58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спасён, спасён я от блуж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тливого и гордого у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от сердца тягостных стр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ошею житейского яр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от страха смерти, осуж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давно лелеемых страст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от бездны вечного забв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среди томящихся тен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, я спасё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спасён! Спасён я не дел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удростью людскою, не ум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жертвою тельцов и не дар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ленным золотом, не сереб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я безграничною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илою живительной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невинною и чистой к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тою с Голгофског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спасён! Пусть лев вблизи рык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шепчет смертный приговор зак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тьма неверья пытки собир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трашусь! Я знаю: я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льше чем спасён! Насыщен хлеб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ен я живительной вод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гащён дарами, принят неб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светлён негаснущей зарё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спасён! Не гордости то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песня славы Спасшему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лич о пристани, спасти гот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гибнет так, как гибнул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спасён, поставлен на тверд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т под крыльями любви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прервётся песнь моя отны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, хвала Тебе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8:22Z</dcterms:modified>
  <cp:revision>12</cp:revision>
  <dc:subject>Slavic hymnal Гимны веры христиан, hymn 575</dc:subject>
  <dc:title>Да, я спасён</dc:title>
</cp:coreProperties>
</file>