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6</a:t>
            </a:r>
            <a:r>
              <a:rPr b="1" lang="ru-RU" sz="3600" spc="-1" strike="noStrike">
                <a:solidFill>
                  <a:srgbClr val="ffffff"/>
                </a:solidFill>
                <a:latin typeface="Verdana"/>
              </a:rPr>
              <a:t>	</a:t>
            </a:r>
            <a:r>
              <a:rPr b="1" lang="ru-RU" sz="3600" spc="-1" strike="noStrike">
                <a:solidFill>
                  <a:srgbClr val="ffffff"/>
                </a:solidFill>
                <a:latin typeface="Verdana"/>
              </a:rPr>
              <a:t>Земля трепеще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емля трепещет и, сверк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тится гром из края в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ий глас гремит, взыв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раиль, Мой народ, вним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зраиль! Ты Мне строишь хра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храмы золотом блес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их курятся фимиа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ень, и ночь они горя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 чему Мне ваших храмов св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душный камень, прах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оздал землю, создал в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бо очертил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 чему Мне злато? В глуб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утробу вековечных 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лил, как воду дожде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расплавленный метал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 чему куренья?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я со всех своих конц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дит дыханьем под рос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ухающих цве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 чему огни? Не Я ль свет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жёг над вашей гол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Я ль, как искры из горн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осаю звёзды в мрак ночн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Твой скуден дар. Есть дар бесц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нужный Богу тво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 ним явись, и, примир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е дары твои при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Мне нужно сердце чище зл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я крепкая в тру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нужен брат, любящий б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рный Мне всегда, везд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2:03Z</dcterms:modified>
  <cp:revision>4</cp:revision>
  <dc:subject>Slavic hymnal Гимны веры христиан, hymn 46</dc:subject>
  <dc:title>Земля трепещет</dc:title>
</cp:coreProperties>
</file>