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18D-DF8B-41C4-BF14-A80DB44D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D06-7F15-426E-BF8F-028FB48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A33-0161-482B-B872-7096F999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731-8160-454F-9BDD-5D94677F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523-57FE-4E86-A83B-F83F0A14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774-300F-46D4-B282-8FEE3E69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DCF-F0B1-45E2-A0CF-58FE029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042-02F2-43BE-91C4-4572567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D61-CCB8-48AC-93C9-43B3168A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D5E-12F9-4C6A-91A0-2949D2E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CA8-471B-4754-BF2B-884C4244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C7D-5C29-40D0-A51F-A07CC09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B5B9B-4250-492A-B344-D82ADA84B2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1:38Z</dcterms:modified>
  <cp:revision>12</cp:revision>
  <dc:subject>Slavic hymnal Гимны веры христиан, hymn 840</dc:subject>
  <dc:title>I Will Arise and Go to Jesus (Come, Ye Sinners) / Грешник бедный, изнурённый</dc:title>
</cp:coreProperties>
</file>