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FA36-4E84-4BA7-A15B-CFBF4580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CCB1-FDA0-4A14-9CD0-7ED818D4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18F0-7C06-4EB1-B4CB-BE5444F4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CA08-15B6-44C0-83E7-6FD18C9E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9514-2BC4-4F56-8087-D9ED20EC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6796-1220-45A3-B2A1-87C09C76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4D9D-2AC1-4F95-BD4D-542DE997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7BB6-EFBA-4125-BF31-0A87BD19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98FD-B1CB-489C-B949-32B87C0B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68B3-B6E7-47E6-B347-A276CF72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8BAC-7CE2-460D-BDCE-71CBD405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1F7B-3C5B-4EEE-859F-BEEF3CE0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49070-446A-4D86-BB9B-CA631FD08C0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слушать об 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петь о 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ней песен по вес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то имя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 я слушать об Од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говорит, что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в чудный т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ходил на землю уме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мог жизнь им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говорит, что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в любви сберё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иной смерти ли по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ристом не пропа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говорит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любит день за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яжкий крест со мной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к небесам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5:40Z</dcterms:modified>
  <cp:revision>12</cp:revision>
  <dc:subject>Slavic hymnal Гимны веры христиан, hymn 605</dc:subject>
  <dc:title>Люблю я слушать об Одном</dc:title>
</cp:coreProperties>
</file>