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CAF-9D87-4F45-A00F-F187D1F0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242-BA9E-4C28-AA97-DB751362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25E-FE19-4ECC-80C0-6769779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997-DEC1-47B9-8B97-81A6F819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563-374B-45D2-BA6D-4B7E6311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643-D9DF-4D37-933C-3AC1DA47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FF8-81A1-4E79-B2A4-16F5132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2C2-BEA9-4C70-B1FA-D7E348A1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430-0062-494B-BD80-3750EFF1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180-10CF-49DD-B263-273783F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BB3-A281-4A67-8B0C-3B5D6F2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FE3-7F67-463A-AAC2-43DD00F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62E63-5B07-467A-AA0C-21B653B5C8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care for the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natch them in pity from sin and the gr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ep o’er the erring one, lift up the fal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m of Jesus, the mighty to s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they are slighting Him, still He is wai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the penitent child to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ead with them earnestly, plead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nt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forgive, if they only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human heart, crush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emp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elings lie buried that grace can re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uched by a loving heart, wak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ords that are broken will vibrate once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страдающем, в скорби сур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 Дух Божий лишь может соз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duty demands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for thy labour the Lord will prov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ack to the narrow way patiently win th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 poor wand’rer a Saviour has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9Z</dcterms:modified>
  <cp:revision>14</cp:revision>
  <dc:subject>Slavic hymnal Гимны веры христиан, hymn 531</dc:subject>
  <dc:title>Rescue the Perishing / Людям блуждающим</dc:title>
</cp:coreProperties>
</file>