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E13C-BAEA-431A-A96E-339B4CF3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618-BA4F-4675-9988-82CEEF16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F23-CA08-4137-BD51-5B355F43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C4D4-35B8-4D5F-9266-28DC590B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113-8ABF-4D81-889B-33F8D042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813-446F-4C37-88AA-A2B0EA91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DAF-0C35-4201-8CF6-58AD6B28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970-BC2F-44F7-A6B2-FA232FE5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D5B-5A24-44B2-ACA6-59C164E2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893-6A17-47DF-A707-E2F007A7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ED15-14C4-4D57-8B1A-883539D1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A44-C780-48BA-BE29-5055FB66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D832B-C978-466C-AE91-6B538F6A5C1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небі мій Отцівськ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 сліз, ні горя в домі т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ніхто не підк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чно в ньому буду 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чно в ньому буду 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4  На небі мій Отцівський ді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люди тут шукають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мають про щастя в 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 землі загине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є ж насліддя в небі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є ж насліддя в небі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дому хочу я ввесь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навіки Сам Він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щай, земле, йду в дім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щастя, радість і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щастя, радість і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йду вже до І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4:25Z</dcterms:modified>
  <cp:revision>14</cp:revision>
  <dc:subject>Slavic hymnal Гимны веры христиан, Ukrainian hymn 34</dc:subject>
  <dc:title>На небі мій Отцівський дім</dc:title>
</cp:coreProperties>
</file>