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6284-E25E-4294-82B0-F09639C2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41C-D1E7-435E-ABF7-FAA55539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E914-5E32-41D6-8850-3A6CA7F4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4F5D-AAD7-468A-ABA7-29BEC84C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A96A-6891-45BC-9E9D-4DD8D9A2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AE94-29A3-4FB7-96FA-F9C71EA7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0B85-48E8-40AF-AAAD-D8D67C80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48AB-F1B9-4CF3-8973-4DA64D82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68CA-872E-408B-8EF1-0CF30322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F511-645F-4F5F-9856-D9285A80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76C1-88E4-44C6-93FB-6B7D3C3C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F328-E945-4EDE-9B2E-45D4D340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71C23-3DFD-4DDE-9988-6E066672039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Master, let me walk with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lowly paths of service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y secret; help me b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train of toil, the fret of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дай сил ид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дай сил идти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ём смиренья и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учи сносить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оты дня, и труд и з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me the slow of heart to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some clear, winning word of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ach me the wayward feet to st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uide them in the homeward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медлительных заж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бы я любви ог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к истине привле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ить всех в Отцовск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ach me Thy patience still with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closer, dearer compa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work that keeps faith sweet and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rust that triumphs over w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щеньи сладостном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илы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уженьи верность сох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ло любовью побе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ope that sends a shining 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down the future’s broad’ning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peace that only Thou canst g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e, O Master, let me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ам души моей отк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ерных ждёт в краю р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мир пошли, и день за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дай сил мне жить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5:57Z</dcterms:modified>
  <cp:revision>12</cp:revision>
  <dc:subject>Slavic hymnal Гимны веры христиан, hymn 830</dc:subject>
  <dc:title>O Master, Let Me Walk With Thee / Господь, дай сил идти с Тобою</dc:title>
</cp:coreProperties>
</file>