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3</a:t>
            </a:r>
            <a:r>
              <a:rPr b="1" lang="ru-RU" sz="3600" spc="-1" strike="noStrike">
                <a:solidFill>
                  <a:srgbClr val="ffffff"/>
                </a:solidFill>
                <a:latin typeface="Verdana"/>
              </a:rPr>
              <a:t>	</a:t>
            </a:r>
            <a:r>
              <a:rPr b="1" lang="ru-RU" sz="3600" spc="-1" strike="noStrike">
                <a:solidFill>
                  <a:srgbClr val="ffffff"/>
                </a:solidFill>
                <a:latin typeface="Verdana"/>
              </a:rPr>
              <a:t>Я слышу голос Твой</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hear Thy welcome v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calls me, Lor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cleansing in Thy precious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lowed on Calvary.</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слышу: голос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овёт меня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ыться кровию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now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cleanse me in the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lowed on Calvary!</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now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cleanse me in the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lowed on Calvary!</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ough coming weak and vil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dost my strength ass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dost my vileness fully clean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spotless all, and pur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оть слаб и греше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илу мне да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маешь грех, живи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ию влечёш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now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cleanse me in the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lowed on Calvar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is Jesus calls me 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perfect faith and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perfect hope and peace and tru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earth and Heav’n abov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Жизнь новую С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ам во мне тво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 на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щедро мне дариш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now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cleanse me in the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lowed on Calvary!</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is Jesus Who confirm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lessed work with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adding grace to welcomed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reigned the power of sin.</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сердцу весть да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я — Твоё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Духом Ты во мне жив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в Нём вся полнота.</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coming,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ing now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cleanse me in the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lowed on Calvary!</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ж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Твоей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литой на кресте.</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And He the witness gi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loyal hearts and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every promise is fulfil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f faith but brings the plea.</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Господь! Тебе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воей кро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ец небес, Тебе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воей любви!</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10:22Z</dcterms:modified>
  <cp:revision>3</cp:revision>
  <dc:subject>Slavic hymnal Гимны веры христиан, hymn 23</dc:subject>
  <dc:title>I Hear Thy Welcome Voice (I Am Coming, Lord) / Я слышу голос Твой</dc:title>
</cp:coreProperties>
</file>