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864B-4776-4067-A588-374A2D89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CB2-5CE2-4228-9B0A-0F8AC9C8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9C0-78DE-40AC-8938-9D0E3A3C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97D-6998-4108-88D4-3CEADF10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5D0-05CD-4A6F-9672-6C96B20C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568-9A59-4230-A782-D4DFAA02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34E-0170-4C52-98A4-E90C22FA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BE9-835F-495F-881A-3E437CA3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BE0-A19A-4F6D-92F6-8C650C1D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441-9F37-4647-9343-088B7748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586-8ECF-4815-8BBB-9DD2BFFC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BD0-1D74-43F8-BD7A-3EBC4231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CA40E-BB1B-4F75-99E7-ACBB9B7829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y of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-consuming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glory, rose of Shar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are and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now my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forter and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nderful, so 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83   Joy of My Des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 in spirit and in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 in spirit and in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will never be a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dear to me a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7:46Z</dcterms:modified>
  <cp:revision>12</cp:revision>
  <dc:subject>The Source 3, song number 1383</dc:subject>
  <dc:title>Joy of My Desire</dc:title>
</cp:coreProperties>
</file>