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C72-7517-495F-B18C-CE3AD4C4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B4C-2B57-4BCB-BF94-F8DD4C29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4B9-AC18-4409-9F72-3C9AECC3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F4F-1CAA-491B-8D64-F3C55019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F86-FF9C-4AF1-A7B2-53A33CB6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860-E7B4-4CDD-AFFD-EDFA59DE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D2B-90C8-48A6-8DB4-C6E8E4A5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EE7-79D3-4BFF-8E38-1E5D4128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ACE-0059-4E39-A112-78CE640A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D27-F522-44B4-8342-18EB6FB0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A89-AA0C-47CF-802A-4602686B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DC9-4BE7-4E0E-A049-D0E4914C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B3759-4EFB-4162-821A-D4D1EC4D2F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’ve forg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ds that You have spo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s that burned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have now grown d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doubting heart I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aths of earthly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me for my unbel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new the fir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32   Jesus, I’ve Forgo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built an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 worship things of m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taken jour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ave drawn me far from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now I am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mercies ever flo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rdon my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love You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longe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tender merc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river of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flowing without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bow my heart befo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goodness of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forever sh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beacon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01Z</dcterms:modified>
  <cp:revision>12</cp:revision>
  <dc:subject>The Source 4, song number 1932</dc:subject>
  <dc:title>Jesus, I’ve Forgotten (Lord, Have Mercy)</dc:title>
</cp:coreProperties>
</file>