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7C58-F56C-4E56-8C67-DB725EEA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3EE6-9F26-4E82-964A-92D4107F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5F34-C5F6-4953-831C-58448FA66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82C8-1790-4556-81F7-02A922DB0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8A39-AF41-445A-9779-9994BE63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DDC5-0BC6-4E50-9004-0FB5CAF7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58E2-029F-45A7-9AB3-B629E333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7DC2-C51E-4B9F-AFCE-3E7948FC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D445-FF4B-4C03-8E6F-CCE528D3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E9F4-2D2E-4A57-B193-DE626A5B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1459-2E03-46F3-8F1C-D4751E7B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E61E-DD76-46D2-BD13-A0F9FAE0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0C165-8648-4691-B44A-5C5A4E4CDC4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, You are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, Lord of l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worth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, You are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, Lord of l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71   Worthy, You Are Wort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You ar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, Lord of l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o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You ar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, Lord of l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 ar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, Lord of l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 ar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, Lord of l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31:45Z</dcterms:modified>
  <cp:revision>11</cp:revision>
  <dc:subject>The Source 2, song number 1071</dc:subject>
  <dc:title>Worthy, You Are Worthy</dc:title>
</cp:coreProperties>
</file>