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CB7-4202-4742-944F-A903E15B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6E8-8368-4548-9531-72F452F7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68E-C08F-444D-93B6-D908999B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5B3-5991-4A27-A87D-16A54120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5C8-81A4-4924-A83A-47D3B1F0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4CE-D9BE-45E1-96C5-C34B908D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580-1DAA-44BC-8C30-4E12545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E7F-25F7-478B-9855-1CAD166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AE1-866E-4475-A9C3-59529BA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595-9A60-45FC-9FCB-B34AB28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9C8-044F-41ED-B268-8A0F30E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2AB-ED18-4110-8C3F-DB3918A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6F429-27AB-40FE-8CA1-055E9221CC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hron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ind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ullness of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 and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7   Lord, I Come Befo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heard my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torm You’re the bea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elter of You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my heart’s re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ll sov’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nting peace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comfort those who s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comfort You have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ell of Your grea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long as I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37Z</dcterms:modified>
  <cp:revision>12</cp:revision>
  <dc:subject>The Source 4, song number 1967</dc:subject>
  <dc:title>Lord, I Come Before Your Throne of Grace (What a Faithful God)</dc:title>
</cp:coreProperties>
</file>