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671-41A4-46D8-9899-B677CC3E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39F-9AD9-4300-96F5-E60A8486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E84-4538-4B70-8D3F-F5C1A5C0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424F-E1F7-43B0-9D92-F9DBDBC7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2F54-40B4-49F3-A135-E47E880F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44F0-3CFD-43DC-9123-93294BAD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5A89-3A6A-4780-919E-BAA9BE49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22F3-C1BD-4BC9-8E55-CDFF0B06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858B-6592-4536-BA1F-8FA47DE9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E48-F1B5-4146-BABF-704372F8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C148-09BC-42FD-92FB-3A9B13C0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8610-9CDF-434B-B281-DDE46C34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D586F-A603-451C-8265-E7C5E203FB1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утники к родине славной 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ни ненастья, н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ажити мира любовью цвет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етит, как солнце,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 путники к род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ни страданий, ни бу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мерти дыханья, ни 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ни насилья, ни злобны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частье, там радость, там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слышится клич, что страна 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 им поют изд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я та льётся, как Божья р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тречу пришельцам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я искупленных кров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ьют из источника бла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ая радость, любовью ч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т в их светлых оч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исла пришельцев и их и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ишутся в книге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Бог принимает, а Божья ст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сулит навек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4:51Z</dcterms:modified>
  <cp:revision>12</cp:revision>
  <dc:subject>Slavic hymnal Гимны веры христиан, hymn 686</dc:subject>
  <dc:title>Вот путники к родине славной идут</dc:title>
</cp:coreProperties>
</file>