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1</a:t>
            </a:r>
            <a:r>
              <a:rPr b="1" lang="ru-RU" sz="3600" spc="-1" strike="noStrike">
                <a:solidFill>
                  <a:srgbClr val="ffffff"/>
                </a:solidFill>
                <a:latin typeface="Verdana"/>
              </a:rPr>
              <a:t>	</a:t>
            </a:r>
            <a:r>
              <a:rPr b="1" lang="ru-RU" sz="3600" spc="-1" strike="noStrike">
                <a:solidFill>
                  <a:srgbClr val="ffffff"/>
                </a:solidFill>
                <a:latin typeface="Verdana"/>
              </a:rPr>
              <a:t>Как цветок в степ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ак цветок в степи безл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Христос среди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ит святостью неб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асотой души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овно путник в утомл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ит радостно цвет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жу я Христа в муч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жу я Его венок.</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блик кротости, с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прекрасней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гу без восхи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мотреть я на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ак волну благоух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ливает Он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вет святого одеян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есённой жертвы кров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Видишь ли цветок чуд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нет, то посмот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ечной клети т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анет всё светлей зар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7:23Z</dcterms:modified>
  <cp:revision>3</cp:revision>
  <dc:subject>Slavic hymnal Гимны веры христиан, hymn 251</dc:subject>
  <dc:title>Как цветок в степи безлесной</dc:title>
</cp:coreProperties>
</file>