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31C-EA8E-416F-8319-800424CA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6E0-8F59-42B4-AEE0-0F5155A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586-F77C-4CFD-8C8B-79A02CD2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39A-7895-446C-88C5-AEA6F915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CF4-3E6F-492F-9DD8-F19C146B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F25-4493-4E38-B574-AA67B74B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782-923A-4B52-98B3-F878CA22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B59-411A-4BF0-BC4A-A4A343C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119-9D0D-496D-876D-76207A47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5FD-6BF4-49FC-9D06-DE981F0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58C-ED83-49F8-AFB0-9343B74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C59-605B-4D31-8405-792C85B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CD16D-5E46-4DD6-BEC3-D21178EA07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29Z</dcterms:modified>
  <cp:revision>12</cp:revision>
  <dc:subject>Slavic hymnal Гимны веры христиан, hymn 553</dc:subject>
  <dc:title>Дружно, дружно будем мы трудиться</dc:title>
</cp:coreProperties>
</file>