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E999-1492-41F7-9842-9466EC54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C6CA-C3F1-40C3-978E-28D03FBC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065B-F539-4E33-A3A6-524FFF4A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5DFA-2CFC-4667-8549-515F7C5B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1B93-3768-4C2B-83FE-278F23FB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BDB7-3B58-4E3A-AD38-DB253228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A168-0AAB-4D38-A018-EB1000ED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CE9F-E4AB-4F52-94E3-B2092EBE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2F9B-9936-49F8-B090-6BF365CD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5E30-A2F0-49C5-AAE6-575F27AD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94FB-CC5D-4AA3-A08D-4978CF3B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A91A-8E61-4032-91BC-C46E6774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A418C-98FC-44FA-9763-900D88B38D9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guiding lap of the oce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e hand on my rudder’s he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y love behind the bill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ind within my s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08   Glory to Thee, O God of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my prayer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ccord with Thy sanctify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my heart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ccord with Thy loving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my deed on the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ccord with Thy satisfy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my wish on the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ccord with Thy holy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9:26Z</dcterms:modified>
  <cp:revision>13</cp:revision>
  <dc:subject>The Source 4, song number 1808</dc:subject>
  <dc:title>Glory to Thee, O God of Life</dc:title>
</cp:coreProperties>
</file>