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6216-A3CD-47B6-99A5-F9958A86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B161-06B5-49B8-9FAA-840F43A4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1348-B0C1-4B35-A928-167143C8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4C66-08EF-4F18-9F98-716D51D3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C228-861F-4C56-9A36-76D0F54C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F7E8-3E8F-4E17-B0D8-DCBB26D2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002-D7DE-456E-867C-1AA5734C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0481-0805-4092-934E-8C5B282A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D475-842C-43D7-A058-2A57BDFD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784E-9E32-4F01-9E80-0099DBEC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8DE1-988B-4E69-9B9B-94D65C37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C22F-0D4B-4272-9FE8-B8DB8D87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F8174-083E-4814-9DF3-C28C330101A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нас, Царь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в последний 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од Твой с громкой пес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вслед за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и благо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итывал Ты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слушной р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щенный дал прик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ди нас, Царь Небе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нас, Царь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грех исчез с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свету повсеме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е при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 копьями, с ме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 ужасом вой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 добрыми де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т Твои сы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нас, Царь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битва не стра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ы, там свет чуд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лишь хвала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крест, Твои за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кавый не затм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ждёт венец побед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нас, Боже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1:32Z</dcterms:modified>
  <cp:revision>12</cp:revision>
  <dc:subject>Slavic hymnal Гимны веры христиан, hymn 828</dc:subject>
  <dc:title>Веди нас, Царь Небесный</dc:title>
</cp:coreProperties>
</file>