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1C22-31B5-4313-A96E-462430A8A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139A-9700-43EB-8BA2-DBD3432EA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0502-C5B3-4297-A88B-D7F85F13B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2DD4-EC42-4AF0-9172-60E77CEF6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B1F6-C43F-425C-B26D-619FEEED9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0E66-46CD-4361-80FF-70498C12F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B390-51E7-4DC5-A3B0-A3D43AE1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F82D-BAF2-4A35-A15F-7D82C866E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DE5A-38C3-451F-99E4-BD49E36C4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7C89-A12C-41BB-895A-C394C530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FD0E-3794-41BA-B438-544E5AA3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9B31-E4C6-4B96-972A-7E842091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CB5CCF-4866-4E88-8FE9-F32CB77090A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upon life’s bill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re tempest toss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you are discourag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nking all is lo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1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сли в бурях жиз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в бурях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твой удруч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чами уны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твой омрач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unt your many bless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ney cannot bu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reward in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your home on 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ую нужду восполн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лота доро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, что Бог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unt your bless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ame them one by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unt your bless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 what God hath d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и Господни вспомин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их, до единой, повторя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unt your bless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ame them one by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t will surprise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the Lord hath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помни, как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щедро надел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ивиться буд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соверш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amid the conflic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ther great or sm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 not be discourag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is over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одрись же ду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взира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ою Его в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и побежда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unt your many bless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gels will att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lp and comfort give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your journey’s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амяти все мил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хра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йдёшь отра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ном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unt your bless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ame them one by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unt your bless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 what God hath d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и Господни вспомин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их, до единой, повторя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unt your bless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ame them one by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t will surprise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the Lord hath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помни, как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щедро надел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ивиться буд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соверш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unt your many bless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ame them one by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t will surprise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the Lord hath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помни, сколько мил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яв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ивиться буд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соверш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unt your bless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ame them one by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unt your bless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 what God hath d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и Господни вспомин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их, до единой, повторя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unt your bless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ame them one by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t will surprise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the Lord hath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помни, как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щедро надел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ивиться буд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соверш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you ever burd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a load of c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es the cross seem hea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re called to be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емя ли, з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душе леж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яжкое ли г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у тяготи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unt your many bless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’ry doubt will f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you will be sin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e days go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и как вспомни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несёшь гла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бросишь все сомн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ёшь хвал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unt your bless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ame them one by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unt your bless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 what God hath d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и Господни вспомин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их, до единой, повторя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unt your bless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ame them one by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t will surprise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the Lord hath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помни, как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щедро надел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ивиться буд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соверш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you look at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eir lands and go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nk that Christ has promised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wealth unt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ишь ли бога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ами з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помни, есть сокровищ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3:53Z</dcterms:modified>
  <cp:revision>13</cp:revision>
  <dc:subject>Slavic hymnal Гимны веры христиан, hymn 718</dc:subject>
  <dc:title>Count Your Blessings / Если в бурях жизни</dc:title>
</cp:coreProperties>
</file>