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5F3C-29E4-45B8-871F-2C248C224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E99D-E8A4-4734-87BF-424C44FB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FB5D-F0AA-4928-B5FA-D1FA1602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C9BE-8BEF-4213-A1FF-825D6FF5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22D3-DB2A-475A-A737-1F2DDE6E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84F1-B0A5-4199-8016-E3175205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969E-15EB-41E8-A2DB-C4FD2FDD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9029-EA39-4301-81F3-3117187E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926B-64EE-4202-A461-7567D745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E9FB-D8CC-41C4-B790-AE0D4256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C75C-5AD9-4E6F-B63D-14592715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0515-92F9-4E0A-A609-6DCBC2CB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1DA12-FDD2-4135-A8A8-A29C3451669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seen the lightning fla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heard the thunder ro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elt sin’s breakers da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almost conquered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веркали молний стре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кали молний стре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 землю потряс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ылся тьмой мир це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ужасе дрожа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all around me is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ly joys all fl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aviour whispers His prom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o leave me al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радостей не 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покрыто ть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утешенье слыш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везде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claim me for His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o leave m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ied on Calvary’s m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 they piercèd His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 He opened that f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imson, cleansing t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мер на Голгоф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ан Его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источник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для всех жив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 He waiteth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ated upon His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o leave me al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сто нам гото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лаве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десь мне сладко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везде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claim me for His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o leave m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heard the voice of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ding me still to fight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o leave me al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тихий голос не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ал над соб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ся сил мятеж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егда везде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claim me for His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o leave m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ld’s fierce winds are blow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mptation sharp and k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a peace in kn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aviour stands between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гне ли испыта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учами у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: постоя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tands to shield me from d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y friends are all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o leave me al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яжко расстав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рузьями иль семь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дал обещ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везде с тобой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claim me for His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o leave m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n affliction’s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tread the road of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aviour helps me ca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so heavy to b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ли скорбь и г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ткнусь ли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— моя опор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жет крест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31Z</dcterms:modified>
  <cp:revision>14</cp:revision>
  <dc:subject>Slavic hymnal Гимны веры христиан, hymn 633</dc:subject>
  <dc:title>Never Alone / Сверкали молний стрелы</dc:title>
</cp:coreProperties>
</file>