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AC2-D9B6-4C21-8D38-2AA26E46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249-87A8-428B-89CE-725D2950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F29-9C28-4B6D-A3EE-7FF0DBCB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1D1-CC58-4FF4-B81A-6FB43586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EAA-FC31-437C-8E09-90711F30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8EE-DFFB-43CA-BE89-12F2363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2D7-7483-4AAC-AE39-8EC90F4C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05D-40F0-476D-9594-8FEA1661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4A6-A936-40BB-81C9-19F6CA03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377-27F5-4D45-9C00-128C8B86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BC1-7DDD-4F77-8092-A9319381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089-2023-4FD8-A66A-5E4D459A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7D458-A14C-4888-90F9-1B35079284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робі Він леж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я слави дожи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1   У гробі Він леж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ере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а в гроб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а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ь й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смерть подо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скрес у сла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5:58Z</dcterms:modified>
  <cp:revision>12</cp:revision>
  <dc:subject>Slavic hymnal Гимны веры христиан, Ukrainian hymn 81</dc:subject>
  <dc:title>У гробі Він лежав</dc:title>
</cp:coreProperties>
</file>