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5EE0-DAFC-4676-A220-363F62529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9973-EEDD-44EA-BF62-542A7119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FD9A-A6B1-4389-9999-19785F6A4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9377-6F9B-45B6-8427-051E20B68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F0B9-0BE6-43E6-92CE-FCAAFAF5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63A5-978E-4249-A46B-DE0A689B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7D90-9C0C-4843-9B6C-1FF19A65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667F-728E-49E6-B177-EDE89499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E2FD-CB32-43D8-8B86-0F7BDDF6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623F-44E1-441D-AAB9-EF98EA12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B5DD-3C6A-4311-8C2F-7690CCD3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63D8-E7D9-470D-A011-9CDA10EC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DC5A9-CB3B-45B0-97B3-84872CB2DE9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ю, чому Бог ме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рив Свою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бо чому Спаситель м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лив за мене 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знаю, в Кого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що мене з Христом не розлуч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ені насліддя вр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ень, коли Він знов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8   Не знаю, чому Бог мен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ю, як Бог дав ме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іння дар прийн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ила Його Слова я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є нам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знаю, в Кого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що мене з Христом не розлуч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ені насліддя вр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ень, коли Він знов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ю я, як Дух Св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ронить в вірі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ідкриває нам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Божественних слов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знаю, в Кого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що мене з Христом не розлуч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ені насліддя вр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ень, коли Він знов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ю я часу, ні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Господь прийде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через смерть, чи Сам 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ой день Він забе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знаю, в Кого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що мене з Христом не розлуч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ені насліддя вр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ень, коли Він знов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9:43Z</dcterms:modified>
  <cp:revision>12</cp:revision>
  <dc:subject>Slavic hymnal Гимны веры христиан, Ukrainian hymn 48</dc:subject>
  <dc:title>Не знаю, чому Бог мені</dc:title>
</cp:coreProperties>
</file>