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99DE-FC90-46DC-98F2-F2F977C1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C3D1-9BB7-4087-9E26-D817E3CB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651D-1DDB-478C-9C5E-A01F1CF9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E7CF-CA1F-4743-8EA9-F20BE207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6C14-CF32-467F-AB5F-8D7B7C57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ED9E-AED2-48BC-8438-281CA452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5247-D910-4B26-8B9D-D1FFCFC5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E0B5-59E4-44FB-A292-0B7B268C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04A5-51E6-4748-AD12-E9AB2D4C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3EA2-1BBD-4FEF-855F-C5B9CFAF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B1A9-D96E-4220-BF0F-D244C5E4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227C-C82A-4334-92B1-966437A4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0B26F-DA25-437E-B41E-7DCD78C9596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лышу я шум, как бы множество 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он ожидания ми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ься, Невеста! Жених твой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изок час брачного пир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, мой Спаситель, отрада оч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а войти я в об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а в пречистой крови я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мой Царь, мой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ж слышу я шу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удь всё, чем мир твоё сердце мут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слёзы, печаль, ожи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помни, как Бог Твой тебя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е понёс Он страда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, мой Спаситель, отрада оч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а войти я в об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а в пречистой крови я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мой Царь, мой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, как один Он любить тебя 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й, на Иисус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ай, как Спаситель твой ди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л, за тебя уми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, мой Спаситель, отрада оч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а войти я в об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а в пречистой крови я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мой Царь, мой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рь, как поверил любви Он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рь, что Он любит наве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, выше и глубже всех гор и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Его вечна, безмер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, мой Спаситель, отрада оч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а войти я в об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а в пречистой крови я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мой Царь, мой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7:36Z</dcterms:modified>
  <cp:revision>12</cp:revision>
  <dc:subject>Slavic hymnal Гимны веры христиан, hymn 326</dc:subject>
  <dc:title>Уж слышу я шум, как бы множества вод</dc:title>
</cp:coreProperties>
</file>