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DF2-79E8-4087-B02B-ABE2C573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E21-DD0A-447E-BCE4-E708040D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0FC-F75D-4BB2-AA60-0FD6CED2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E03-F87A-4219-99ED-2FE020AC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65F-E89A-4E14-BC65-225D195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532-1FB2-499D-853C-6A36C0A5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DBB-E3E1-4833-8E91-A6D9695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202-8287-4198-B879-56553B8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E29-53F0-4721-8504-D2D80821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231-EF61-43B6-B363-7F1D3DC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67C-D476-47C0-966B-A48BAE4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33E-ED4D-4235-AC9B-38D3DD72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5F351-D8A0-4B28-BCCC-933A396378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our Rock, in Him we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cure whatever ill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aging storms may round us b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never leave our safe ret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ock divine, O Refuge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our helper ever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2Z</dcterms:modified>
  <cp:revision>13</cp:revision>
  <dc:subject>Slavic hymnal Гимны веры христиан, hymn 650</dc:subject>
  <dc:title>A Shelter in the Time of Storm / Мой Бог — скала</dc:title>
</cp:coreProperties>
</file>