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658-88AA-4565-840A-694834AE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2AD-76FA-4DCA-917A-441190A5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BA5-3F26-4813-9A27-4B9B991B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C61-D323-4850-AC67-0BFBE8B4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CF0-236D-4DBC-A615-A1B543B9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4F0-C481-45D9-915A-72373099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478-F648-41AC-83F7-557D2871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19F-D0C7-4FF6-BF07-A01D90E4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621-1FE6-4BA9-9B28-94DA17A7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412-7227-4335-A8AD-1C9B19FA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59A-E7C4-4DFD-88F7-F7EA94A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DCC-EAE1-4662-BA52-4B21237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92451-5066-462D-8DE6-76B56C71B2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валюсь кресто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ходит, он 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учах Господ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золота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житейская ли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ь тяжёлый гн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Христов терпенью 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м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валюсь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ль вешне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цветёт кругом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креста любовь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яет радость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печаль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свящ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ердечный, веры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навек д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29Z</dcterms:modified>
  <cp:revision>12</cp:revision>
  <dc:subject>Slavic hymnal Гимны веры христиан, hymn 864</dc:subject>
  <dc:title>Я хвалюсь крестом Христовым</dc:title>
</cp:coreProperties>
</file>