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C58-38D6-4CFE-96BE-DB7A7029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EC6-A9C5-4190-A032-75DA37A6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43F-E89A-46C8-AEC1-DAE35EDC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F18-FE10-4FAE-8BCE-F1C33519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4B0-DDBF-4BE8-80D7-DBFB103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75A-1BE2-45BB-81E8-BD20D16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303-E6EC-4C9C-A1EA-A34DE523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977-A67A-4BDA-9520-82AD79C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964-92E5-4D8D-8C47-0AF33235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EF3-3668-46D3-9DFF-91A3F64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076-01FA-4788-8D0D-1B3E8F87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F4B-08E2-4839-9D8F-D27D728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BE4BC-5C86-44A1-8AD1-130234A19C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cret, in the quie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illness You ar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cret, in the quiet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it only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айном 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ом месте, в тихом месте 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не и поко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ом месте, в тих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жду, только Т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ышать голос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коснутьс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идеть Твоё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reaching for the highest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ight receive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ing onward, pushing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ndrance aside, out of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гаю лучшего в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граду получить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аю всё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шает мне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знать Тебя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ышать голос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коснутьс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идеть Твоё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54:59Z</dcterms:modified>
  <cp:revision>11</cp:revision>
  <dc:subject>The Source, song number 233 in Russian</dc:subject>
  <dc:title>В тайном месте / In the Secret</dc:title>
</cp:coreProperties>
</file>