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2421-1676-4B0B-B032-216933D3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7D47-8DAC-4A1E-9058-B28006FD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C5E-8FC9-4643-BDB5-653074A8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C977-3F13-468B-8B34-EB1D2226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895D-377B-4C60-96C2-7106D5E9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B5E0-AD04-47FA-A285-89BADB1E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3802-3253-4261-B3DB-0267C22D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009A-09CD-4807-9A9E-DF75FCC4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858C-90F9-4F28-B399-44238C1A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D56-AC55-489F-8087-B73B323F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70D4-3E10-431C-9D58-7F5B6813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CF4E-3A30-4D1F-9894-9FE78664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5E5B4-EE18-470B-BB3B-69A6E1ADE56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тесь, братья моря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грозен бурный 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т уж видны мая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 их заси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видны уж бере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конец скорб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, пристанем скорее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ным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бойтесь, братья моря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и мы от бури з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волны мор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ерть грозила нам не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естокий, бур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видны уж бере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конец скорб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, пристанем скорее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ным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т награда к нам близ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гаван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ой унынье и тоск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радуйтесь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видны уж бере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конец скорб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, пристанем скорее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ным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лотитесь, как одна сем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ьте пару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ерегу нас ждут друз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лышны гол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видны уж бере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конец скорб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, пристанем скорее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ным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2:08Z</dcterms:modified>
  <cp:revision>12</cp:revision>
  <dc:subject>Slavic hymnal Гимны веры христиан, hymn 716</dc:subject>
  <dc:title>Не бойтесь, братья моряки</dc:title>
</cp:coreProperties>
</file>