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C1FA-7FBC-4E05-B2A9-84E3A5146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8356-B5F9-4B47-B0CD-09BF1BFE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413C-803C-44C1-A01D-71A73CFCD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FFFA-7A0C-4AE1-B099-971F4CE8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3D7B-B49D-441A-BD1A-64FA31E9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AD63-AD33-4414-AD9E-0AC0C836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C4F2-7936-4DAD-A624-19504F9D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E18A-8250-428E-9789-60C0AF53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092E-9FD6-47C4-B8A3-CF634707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FC4A-4B02-456D-B614-D0C0BE7C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71EC-6F33-491E-93F0-6B661B4F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692C-390B-407A-A6AE-5A5833A6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5F4B7-10D8-4CA2-816D-86212130F61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чора, нині і наві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той сам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 зміниться, Він ніко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се той сам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а все Й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а все Й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 зміниться, Він ніко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а все Й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5   Вчора, нині і наві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5:58Z</dcterms:modified>
  <cp:revision>13</cp:revision>
  <dc:subject>Slavic hymnal Гимны веры христиан, Ukrainian hymn 115</dc:subject>
  <dc:title>Вчора, нині і навіки</dc:title>
</cp:coreProperties>
</file>