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4E0-C35D-4641-89E5-BD45D287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4A3-C016-479D-8193-019271EF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475-2F8E-42B4-A00F-97E520ED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4BC-340E-4B74-B73E-549B5B2F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D2F-AD08-4A7A-9DB0-EEC6CC40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B96-F809-4564-931F-9DA7CE98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CFF-502C-4990-AB45-1EF58002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6CA-B76F-46D0-8097-05CABD88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037-CAD0-4EA3-A89E-DF2B01BC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37B-6F94-47FD-B786-06DB8E41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5A1-B36C-470B-8165-93909CFD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96C-AA7D-4DFA-805F-2970783E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52149-97EE-4724-8340-EE1768A9BF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пасінням укри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з великим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’ю Христовою вми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обтяжений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стісняє спок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 ти на поміч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в Нім знайдеш ти притул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и, обтяжений грі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и, обтяжений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8  Вічним спасінням укри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оронити Сам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твій тягар поне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Він не поза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з очей Він у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ить твої Він страж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ін усуне зітх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ач відбере та ри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льози з очей Він ут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льози з очей Він у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4:40Z</dcterms:modified>
  <cp:revision>12</cp:revision>
  <dc:subject>Slavic hymnal Гимны веры христиан, Ukrainian hymn 28</dc:subject>
  <dc:title>Вічним спасінням укрийся</dc:title>
</cp:coreProperties>
</file>