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4B6-5361-4D54-9D16-CE117AB4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ACF-5529-4C82-9799-14A0CB37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3E9-4959-4843-A6A8-3AD2C8A5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4BC-7618-42FC-98C5-20954F9F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D31-FB0F-4F7C-BA78-BBDB515C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EBB-DABE-43E8-99F0-9E0A5BCC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FAB-6F9D-4AF7-83E7-AA46066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552-CBF9-4185-80FC-FB7F7A32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380-950D-42A7-8D95-5288D75F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086-2E66-43DF-A698-9010800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04B-F632-47ED-9719-1E02A76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F7D-E23F-4311-9DF4-69E78CF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78428-7146-442A-AABC-A8F6428FBB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3   I Cling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at the empty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omises I have in You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ali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You said wa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ffered, died and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u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bring 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43Z</dcterms:modified>
  <cp:revision>12</cp:revision>
  <dc:subject>The Source 4, song number 1883</dc:subject>
  <dc:title>I Cling to the Cross</dc:title>
</cp:coreProperties>
</file>