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E88C-9FD7-4E6C-B10B-4BBBF470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D94B-83A8-44BE-B337-4AF0C1E6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1A03-67F1-494F-B082-26A88C93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DA9-34D5-4930-AD11-18288E49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2D0D-BC01-4F5C-A43C-6E95E997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12F-ED1D-4165-A1CB-0BE05F59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A81-0956-43B3-B594-0DB0F460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4D9-65D3-4A2E-9C60-3851C23F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BB88-A866-46EA-B5A3-D4516235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CC2-8434-4876-A258-D575BA78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D409-29EB-40AE-ABA8-EAFD3C96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C6BE-76D2-46DE-91C9-56D46D2D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25B70-0DAD-4F78-962E-8B013097A5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our Redeemer died o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ed for the sinner, paid all his d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ho receive Him need never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He will pass,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мер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Спаситель, умер за все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ою смертью жизнь нам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го кровью смоет сво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ass, I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efest of sinners, Jesus will sa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has promised, so He will 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sinner, hear Him, trust in Hi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He will pass,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ты ни был — смело при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х, несчастных примет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ко Христовой прильнёт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ass, I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dgement is coming, all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have rejected, who have ref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sinner, hasten, let Jesus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e will pass,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д недалёко, все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там награда верная ж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мог укрыться в ранах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ass, I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reat compassion! O boundless l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hath power, Jesus is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ho believe are safe from the stor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e will pass,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ая жертва! Дар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Господня! Масса щед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чуждался крови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ass, I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9-08-17T21:38:27Z</dcterms:modified>
  <cp:revision>13</cp:revision>
  <dc:subject>Slavic hymnal Гимны веры христиан, hymn 282</dc:subject>
  <dc:title>When I See the Blood / Умер Спаситель, умер за всех</dc:title>
</cp:coreProperties>
</file>