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9A58-47B5-47C7-BAA4-7B23828A2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E431-2E1E-4959-91A7-82C7179A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DDA8-B4FC-41E1-83E3-B4E2919D7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B334-5677-40D4-9270-E0AE06144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743E-1BDD-49C7-BE6C-A64D9242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FDE3-80E0-4350-B6DD-B4D1E9F5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B381-E8B1-4255-BBDB-E602D3BE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1822-EE0E-4417-8F6D-77C3D0A0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C5F1-08B7-4944-8A32-0267B8CF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E420-2DB0-4E76-AFFF-7779BCC0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A42C-E4D2-4CA5-A797-D6CCDD2A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36E8-CFFA-4C23-9B78-305C46BD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8A8F0-DA09-485A-93E4-65FC02DB56E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make you fishers of m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shers of men, fishers of 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make you fishers of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follow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7   Я зроблю вас ловц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роблю вас ловцями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овцями людей, ловцями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роблю вас ловцями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ідете в слі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follow Me, if you follow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halleluj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make you fishers of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follow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ідете ви все Моїм слі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а, аліл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роблю вас ловцями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ідете в слі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53:41Z</dcterms:modified>
  <cp:revision>12</cp:revision>
  <dc:subject>Slavic hymnal Гимны веры христиан, Ukrainian hymn 47</dc:subject>
  <dc:title>I Will Make You Fishers of Men / Я зроблю вас ловцями людей</dc:title>
</cp:coreProperties>
</file>