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2183-3E5B-4D0C-A578-5597453C6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DBB8-CDD4-41A1-9F1A-4F8A7850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2D07-EE41-4570-8C05-DF3E26B4A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9D1E-5EA6-4ADD-BE55-CBAB8101D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CF45-D27C-4037-8CC9-6F8BB654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2002-BAC2-48A6-A5DF-2BE24FC1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C6D3-E606-46C3-80BC-8C69100E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05B0-3DD3-4E68-8211-280C0BCF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6BE5-42DB-47AF-B05A-361989AF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6B78-8531-4FC7-9700-7A566D74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2D49-6244-4AD2-A572-19DDF6CD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4237-62D8-4CF3-A6E2-B7A55869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B5599-4859-4E8C-88CC-D507B711B84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now is the tim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now is the time to give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just as you ar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just as you are before y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6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Come, Now Is the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day ev’ry tongue will conf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day ev’ry knee will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ill, the greatest treasure rem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gladly choose You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now is the tim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now is the time to give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just as you ar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just as you are before y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day ev’ry tongue will conf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day ev’ry knee will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ill, the greatest treasure rem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gladly choose You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ingly we cho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urrender ou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ingly our knees will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ur hearts,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ind and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gladly choose You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now is the tim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now is the time to give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just as you ar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just as you are before y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come,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0-12-18T08:26:00Z</dcterms:modified>
  <cp:revision>11</cp:revision>
  <dc:subject>The Source 2, song number 662</dc:subject>
  <dc:title>Come, Now Is the Time to Worship</dc:title>
</cp:coreProperties>
</file>