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980C-6550-4557-8824-B1A7E886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BFD5-312E-44EA-9000-6EA0BCD5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0CE8-D648-40BE-BBCE-3F25C44C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19F3-05E0-49F5-8252-451B1B54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D08F-A505-4B71-9115-51C89473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C0B7-9F13-46E1-B0A4-5EC4FAE3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0E22-3D44-4F01-AD93-76731EE4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08E4-C78D-4BD4-9B2D-EFF2E5AB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96DD-E86B-4247-B67B-2FC4366D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92EB-0F20-43BE-8DD1-558592ED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0417-ED22-4CE4-BDC1-4A68A3E8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0F34-2E35-4A22-B9D9-8DD68E6A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3BB00-04BD-45B1-9F9E-F7B9C1D1361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я для Иисуса я жизнь позн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я молюся, Он всё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отдаюсь Царю царе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уть, путь добра для душ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вя для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ой и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отд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 меня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господ бо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тремлюсь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миг принадл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лишь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я для Иисуса, Кто вместо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крестом на плечах на Голгофу шё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познаю, и молюсь не р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сердце моём был Ему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ой и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отд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 меня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господ бо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тремлюсь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миг принадл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лишь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я для Иисуса, среди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быть смирённым Его слу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рно нести крест тяжёлый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адать под гнётом земных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ой и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отд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 меня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господ бо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тремлюсь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миг принадл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лишь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я для Иисуса в наш краткий 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делать хочу, что любил Он С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ть одиноких, больных, кал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изнурённых к Его но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ой и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отд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 меня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господ бо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тремлюсь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миг принадл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лишь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2:21Z</dcterms:modified>
  <cp:revision>12</cp:revision>
  <dc:subject>Slavic hymnal Гимны веры христиан, hymn 845</dc:subject>
  <dc:title>Живя для Иисуса</dc:title>
</cp:coreProperties>
</file>