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9FA-BB79-464B-908A-DB664EA3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B8B-0DA1-4EA0-9EF8-30E68DB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EC4-04D6-42C8-9FA5-1C586EFE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C97-DB25-425C-B653-04BB3B9A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640-F5BD-42C6-9EDC-623EF264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7BB-3F63-4E6D-80F0-B0A4B017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04F-C90D-48E7-AB30-9FE69D8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73A-CAA6-421E-B733-5BF9F03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8C-A20A-4445-B7FD-3ADA157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67A-9102-460B-9B5E-D08C8F9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090-463E-4035-9668-967D548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9E2-5971-4297-82B3-D24CDF7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8825-9496-433B-952A-EF3BC6E580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9:49Z</dcterms:modified>
  <cp:revision>13</cp:revision>
  <dc:subject>Slavic hymnal Гимны веры христиан, hymn 844</dc:subject>
  <dc:title>Бывает, сгущается тьма</dc:title>
</cp:coreProperties>
</file>