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47AE-54F5-4437-ABD7-601DF172E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25C7-570A-430C-ADF4-6B0F17E3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FA71-F988-4B57-940D-4587AFDF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3CDE-24CA-4AB9-A8DC-796CB295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0102-1AEB-442F-8EE8-3F6C4580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E29F-D2D2-49DD-A815-2B4C5966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16FD-CD9D-4F28-8A5C-5AAA1AA9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A843-6640-4FB5-9C11-7BC429F7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28B7-CB67-4DA4-BC64-FE44481A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FBB1-8F05-4232-B7BE-26804A79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DCFD-36CB-4093-AF43-7684EB2C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87CE-0BEB-4C69-8BAC-24E922CF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88CC1-E944-483F-86B4-3F5B0DC9B7B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wing in the morning, sowing seeds of kindne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wing in the noontide and the dewy e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aiting for the harvest and the time of reap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удем сеять утр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еять утром, сеять слово Бож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лдень и к закату солнца над землё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ждать и жатвы, сбора урож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wing in the sunshine, sowing in the shadow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earing neither clouds nor winter’s chilling breez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y and by the harvest and the labour en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ясную ль погоду иль во дни нен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ли то во время бури и дожд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е устрашимся, соберём мы жа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ing forth with weeping, sowing for the Mas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the loss sustained, our spirit often griev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our weeping’s over He will bid us welco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о слезами сеять дл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и грудь порою дышит тяжел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час настанет, жатва вся созре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6:11Z</dcterms:modified>
  <cp:revision>15</cp:revision>
  <dc:subject>Slavic hymnal Гимны веры христиан, hymn 521</dc:subject>
  <dc:title>Bringing in the Sheaves / Будем сеять утром</dc:title>
</cp:coreProperties>
</file>