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B07-09FB-412F-A1E1-B3839ECD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BAA-E85F-4B44-80FF-54EDC4A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D39-8624-45A5-B6FB-C57BDC25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4D6-6D85-453D-9B5D-51EB394F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BBE-662B-4102-9025-2DF3F62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9D0-123A-4174-BFE6-89C5665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F34-30D4-4494-9F03-BBF4BC5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8A4-6EEB-433E-8FD0-DC1D6FF0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828-A3E8-4EB8-9DAB-00DB72D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166-E420-41F7-B3D6-F5522DD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786-93C9-49BB-91B9-90E674B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8F6-7DC6-4E21-B66B-BA36BE43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9B83E-5D2F-4F14-A7D7-13828A07D3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Господа сл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достойную Богу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 в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ся с ангельским пением с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ре искупленных,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 земле людей Церковь 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стремится,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ениху 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Господи, ви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Единому славу поёт, 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, прославленный, Ц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Христос Господь в неб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, в небе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,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8:09Z</dcterms:modified>
  <cp:revision>12</cp:revision>
  <dc:subject>Slavic hymnal Гимны веры христиан, hymn 805</dc:subject>
  <dc:title>Ангелы в небе Господа славят</dc:title>
</cp:coreProperties>
</file>