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755-7649-4E9F-99F4-6B19D910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167-FC0F-4B52-BEA6-AC8794B2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B41-EC38-4B5A-832F-6FB153F0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16C-EA7D-4ED9-AE9C-1EFD3CC5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FA8-697A-4F41-A0BA-0619379F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ADD-C465-4F01-8AD1-A18FE66E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B7C-3C69-44B6-BB98-87CB4E07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907-C32E-4DB1-A03F-782C76BE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56F-FE38-4BCE-A1CE-F03CBD6A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E72-5690-4F87-BF77-27AF6F1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3E1-501E-413B-9DA1-F25749A7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F54-6766-470D-B26D-D82D254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81252-BEDF-4020-A614-8EF44F7AB3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асла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могу ль тебя обн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ругие в звуках п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мне привет слаг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 верными общ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лучше буду зн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станет песнь при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льётся там ре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нет необъ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слышу голос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зов Христа, в тот день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там тебя иск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там повстреч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обнимет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сточник засия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шь ли меня ты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17Z</dcterms:modified>
  <cp:revision>12</cp:revision>
  <dc:subject>Slavic hymnal Гимны веры христиан, hymn 684</dc:subject>
  <dc:title>У источника спасенья</dc:title>
</cp:coreProperties>
</file>