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D7C2-D46F-4CA3-A01F-DCAE994B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E5E4-3672-4281-A717-226BD1D1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B114-45A5-457F-A992-0E5F61BB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DCEF-2270-4C81-A466-2F9584D0E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0754-1E33-4AC6-A789-0E5FA35F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5613-AD08-4526-B479-8A7241F6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3FC9-FAA9-4401-96E0-EC0A6124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3AAF-58B2-4ADA-BBE3-329156EA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F2D6-DBBE-4ADF-93B8-0FBF4164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A866-F0FF-4C03-9B09-69D1360A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802D-DB7A-48EE-92FE-6D625735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FD4F-938C-4D6E-9480-CDBA1088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F6C13-2948-41FD-A85F-326FDF40C8C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our Father in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s of His love in the book He has giv’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things in the Bible I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the dearest: that Jesus lov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Слове Своём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ове Своём Христос уч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я знал, как Он любит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святой много вижу чуд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ех отраднее эта мне в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me, Jesus lov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eve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assurance I find sweetest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in Jesus, I know I am bless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tan, dismayed, from my soul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th fl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just tell him that Jesus lov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ий покой в упованьи най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, кто к Господу с верой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 в сердце его станет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 любовь Иисуса твер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me, Jesus lov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eve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me, Jesus lov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eve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’ I forget Him and wander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He doth love me wherever I st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ack to His dear loving arms would I f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remember that Jesus lov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свела Его с чистых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несла Его за нас на крес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, что любит Спаситель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что также люблю Его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me, Jesus lov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eve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if there’s only one song I can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n His beauty I see the great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shall my song in eternity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hat a wonder that Jesus loves 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биваюсь я с Его пу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ырь мой ищет овечки С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огам Его я вернуться спе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любовь за любовь принош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me, Jesus lov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eve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me, and I know I love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brought Him down my poor so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redee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it was love made Him die on the t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I am certain that Jesus loves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Его стану я пребы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Его сатану отгон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який грех убежит о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спомню я: Христос люби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me, Jesus lov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eve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one should ask of me, how can I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Jesus, I know very we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Holy Spirit with mine doth ag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stantly witnessing Jesus lov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песнь прекрасная в сердце м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ё спою я на небе свя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увижу во слав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вторю: как Он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52Z</dcterms:modified>
  <cp:revision>14</cp:revision>
  <dc:subject>Slavic hymnal Гимны веры христиан, hymn 601</dc:subject>
  <dc:title>Jesus Loves Even Me / В Слове Своём Христос учит меня</dc:title>
</cp:coreProperties>
</file>