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820-D17A-4903-A9FC-E9D04580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90B-0741-4CAB-B12E-6D805D61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B85-BD72-42A4-89F1-8B6E1A57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2FB-A35D-4233-A76B-12E60AA5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380-19A2-49DE-886B-609479A2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502-C8B9-46B8-9B81-05DD6E63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7D7-A882-4B41-9E87-A3CA8628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5FE-F749-44B7-813E-35D6624B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0E5-08DF-4E92-98F0-071B25B8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DFE-AF9D-4BCE-A3FD-CFF4AED2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D8B-CD81-435F-9D05-324FA896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E84-EC4D-4579-BC00-0F722DC8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2B8D0-9C10-4F54-9E1B-F9070E17B5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’ incarnate God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s the merit of His bl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nture on Him, venture who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 other trust int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ew Him prostrate in the gar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ground your Maker 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bloody tree behold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will this not su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8Z</dcterms:modified>
  <cp:revision>13</cp:revision>
  <dc:subject>Slavic hymnal Гимны веры христиан, hymn 338</dc:subject>
  <dc:title>I Will Arise and Go to Jesus (Come, Ye Sinners, Poor and Needy) / Грешники, к Христу придите</dc:title>
</cp:coreProperties>
</file>