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215-30FF-419F-AD4A-D05DC23F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AB1-C08A-44A8-AF31-FD33FD49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1F3-C088-443E-9F4D-1408417A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B75-EAC6-46CF-A133-9DD28249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334-0BFA-4AF6-AC9A-54CDB915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965-8E24-43F3-911D-FDC7B25D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B49-CE36-4ED5-A753-2FC8B824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0E1-0046-48A9-A18D-8C44482B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AAE-5DC3-4B02-8BEC-EB29D782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313-2B15-453C-B3F2-B8AB88B5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476-D448-40B3-B53E-7CC708A9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EA3-A7C2-428D-83C7-0B20631F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DFDB2-F51E-4ECE-881F-37750965DA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daylight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noonday gl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fading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in the solemn n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ется семя на ранней з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ранней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полдневной ж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как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уж кончен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10058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wayside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on the rocks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here the thorns will spo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in the fertile so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торн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гол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колючих к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паханных бороз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страданий 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мучительных гр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позора,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обид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ith an aching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hile the tear-drops st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in hope till the reapers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to gather the harves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ердце бо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лёзы блес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вере до славной п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бирать уж начнут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3Z</dcterms:modified>
  <cp:revision>13</cp:revision>
  <dc:subject>Slavic hymnal Гимны веры христиан, hymn 539</dc:subject>
  <dc:title>What Shall the Harvest Be? / Сеется семя на ранней заре</dc:title>
</cp:coreProperties>
</file>