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a:t>
            </a:r>
            <a:r>
              <a:rPr b="1" lang="ru-RU" sz="3600" spc="-1" strike="noStrike">
                <a:solidFill>
                  <a:srgbClr val="ffffff"/>
                </a:solidFill>
                <a:latin typeface="Verdana"/>
              </a:rPr>
              <a:t>	</a:t>
            </a:r>
            <a:r>
              <a:rPr b="1" lang="ru-RU" sz="3600" spc="-1" strike="noStrike">
                <a:solidFill>
                  <a:srgbClr val="ffffff"/>
                </a:solidFill>
                <a:latin typeface="Verdana"/>
              </a:rPr>
              <a:t>Приди, о Боже, к на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иди, о Боже,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людски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Отче праве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ём прославл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и царствуй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век век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иди, Всевластный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атры любви раски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се грех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добр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а свят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ас из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ди, Предвечны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ерез верных 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и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а Твой мир все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в небесны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щь Твою я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ода в ро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ш Триеди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и в день трев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ём псал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мощь Твою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 в нас образ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 жит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умели мы.</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4:21Z</dcterms:modified>
  <cp:revision>3</cp:revision>
  <dc:subject>Slavic hymnal Гимны веры христиан, hymn 20</dc:subject>
  <dc:title>Приди, о Боже, к нам</dc:title>
</cp:coreProperties>
</file>