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E4B-E846-429E-9F25-04DF2CE7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C5-3EAA-4E22-ABD5-9405027A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115-A3B1-40D7-ADB5-3B3A484F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578-34A4-43C7-9F03-25FF9740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538-8B44-42D1-8341-5483B649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150-FED1-4E53-BA18-22DFF823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32B-F6AF-4254-ADFF-8E51E27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32A-03BC-4B4B-8933-CBB8472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3B5-BC91-491F-9885-3F89AAE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52C-1A88-4462-9F6E-EE194AA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593-989D-493A-B5CC-BA3B5FF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DDF-49C4-473E-A71F-A7DC09B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4BED-F254-414E-A18E-1191741F2A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35Z</dcterms:modified>
  <cp:revision>12</cp:revision>
  <dc:subject>Slavic hymnal Гимны веры христиан, hymn 578</dc:subject>
  <dc:title>Кто есть на небе у меня?</dc:title>
</cp:coreProperties>
</file>