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6C6-D461-4FA7-AE41-A5D8AC4F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D9B-6D20-4D3E-8634-C5FCB4C5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5D8-C810-4817-8010-DF8F6A51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74-4911-4057-B031-F0BC81A6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135-AC1C-4DF4-AABD-2A0E535D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435-A61C-4B83-BA22-A7E1601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C16-918B-4115-A893-69E284AD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83A-AA8A-47A6-93CA-BAAAB958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85B-46E1-49A3-8220-2DF91DBD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B19-09C3-4371-8A0B-DA3942B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B31-CF81-4E70-9788-01508219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8D7-D871-4023-9A13-FF127C8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3C822-4F4D-4BC0-B05D-988EA91C59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friend for sin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ver of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may fail me, foes assai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aviour, makes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strength in weak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hide myself i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, tried and sometimes fai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trength, my victory 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a help in s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billows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heart is brea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Comfort, helps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guide and keep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tempest still i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rms about me, night o’ertak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pilot, hears my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I do now recei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all in Him I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granted me forgive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39Z</dcterms:modified>
  <cp:revision>12</cp:revision>
  <dc:subject>Slavic hymnal Гимны веры христиан, hymn 883</dc:subject>
  <dc:title>Our Great Saviour (Hallelujah, What a Saviour!) / Иисус — Друг одиноких</dc:title>
</cp:coreProperties>
</file>