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3FAB-A41F-4ADE-A87E-74640F4E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F300-8433-4B41-AED9-384B1280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A92-DECE-40DD-80E6-8241ADCA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9E9-0902-473D-A7F5-BB431850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0EF-500F-430A-BE25-2F70B9B9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F2A9-F4D1-4038-8A6E-6C83C2E1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0C9B-DEBE-46E5-8786-6581A8BE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04CB-FF77-4E8D-A012-7CA13B61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E6D-4FDA-4A35-83C0-40327E0C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3F5-058B-4434-8488-01D3D6D8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B2F-D67A-44C3-A3D4-43875C1C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D49-7059-42A5-8F38-20D59A3C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42891-D43A-48E9-BC34-92FE5A026B6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ликий Бог! Коли на світ погля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ачу все, що Ти створив в кра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кожний цвіт склада Тобі поша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к обняв любов’ю Ти у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3   Великий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ивлюсь на мерехтючі зорі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де горять світи незнані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онце й місяць в вічному простор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ливуть в тиші, подібно корабл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весні природа розцвіт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чую я в діброві солов’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апах піль квітуючих вдих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’ю сповнена душа м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із хмар навислих грім лун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пітьмі ночі блискавка миг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 дощем природа ожив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селка в небі барвно заяс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беру я Книгу Заповіт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Твої читаю я ді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олюбив Ти нас, людей на сві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ля спасіння Сина нам посл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зрю Христа смиренного між лю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маю я про Його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ін прийняв за нас усіх нару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 хресті пролив невинну к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покуси серце огорт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х мій тужить у важкій жур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н пречисті руки простяг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кріплюсь в Його любві свят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сподь мене Сам закли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вітить промінь сяєва Його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в смиренні замов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знавши велич Господа с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6:57Z</dcterms:modified>
  <cp:revision>12</cp:revision>
  <dc:subject>Slavic hymnal Гимны веры христиан, Ukrainian hymn 83</dc:subject>
  <dc:title>Великий Бог</dc:title>
</cp:coreProperties>
</file>