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DD6-6456-4D4B-9F82-7F6CFE8A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476-47C5-4AF0-BC5D-9A17D3ED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1C0-F04E-4BDF-8617-F083D17F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5E4-52AF-4529-9431-D964F359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DC4-EDB5-412F-B9E7-5F5BD073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19C-B87F-46F5-8041-56FEC1A0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6EB-3520-4F06-97AC-D717C04D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F66-EB28-4FC1-90FF-CF3F0CCA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860-6622-4819-A196-144D2165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3D4-7827-429D-B176-951A28D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472-ECB6-408A-B44D-599DDE3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702-B070-484A-B9BF-B160BD5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565C6-78FA-44EF-9A22-3DD0F0AF1A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nd 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answered pray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ways being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that hears us when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rms that lift us when w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always been right bes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ing us all along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made it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days we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’s ye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ials we may hav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e’ll be leaning on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be Your strength that sav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makes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thi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24Z</dcterms:modified>
  <cp:revision>11</cp:revision>
  <dc:subject>The Source 2, song number 630</dc:subject>
  <dc:title>And Here We Are (Here We Are)</dc:title>
</cp:coreProperties>
</file>