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96F-5BC3-490B-BF81-C5874E1D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B6A-F6F7-48A6-8E9A-95860552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FBE-A640-4088-B7FE-C9BE0B9A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77E-7F70-4C7B-B72E-F1FA4493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FCB-F377-4FD8-895F-77AD7542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974-BEDA-4743-AD5E-5549F681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C01-70F1-4EB5-BBCF-06C5CB0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6EE-3B7F-4073-B2F1-1273366D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142-9D1B-4CCB-A556-4AF744A2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E1B-A28E-4AD2-BA89-886F0CF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8EB-1E16-4C6C-8526-6D1E863A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0EE-B99D-40D0-B82B-643C425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3F54B-101E-47B8-A52D-6DBD6C9ADA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далеко вже видно т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го вірні лиш люди ввійд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Спаситель веде у Сві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відкуплений і вірний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8   Там далеко вже ви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у славі, в небесній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чудова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Творця там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дкуплені кров’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є зібрання спасенних в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Духом обняті в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 співають піс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роном Його пре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15Z</dcterms:modified>
  <cp:revision>12</cp:revision>
  <dc:subject>Slavic hymnal Гимны веры христиан, Ukrainian hymn 68</dc:subject>
  <dc:title>Там далеко вже видно той край</dc:title>
</cp:coreProperties>
</file>