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9155-4B76-46AD-A8E5-9E208551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F36B-A893-4D81-8A7D-A84A1235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DDA1-D9CA-4967-8749-00AD92C3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6005-A15B-46DA-B71A-BC923C22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4034-2685-4AD1-8558-7CB94CEC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3355-671E-43CD-9DA1-B8A6E6AB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3B9A-A9F6-441D-9F09-7C31FC6C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5B5E-9DAF-4F6A-AFAE-60616C13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A60A-F587-45D1-95ED-ED4B4D7F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09B2-AE73-4826-A5F1-45606674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2C98-3C35-400F-AA18-EF715F22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E5C2-EF06-43DF-8D42-A5D345ED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4268E-32E9-4C07-A1E7-FE8F25A0926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погибающим правду с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пробудите уснувших душ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дям блуждающ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искупления всем понес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умоляйте к Иисусу при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г спасения славьте, хвал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несчастный мог счастье на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страдающем, в скор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р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здник Дух Божий лишь 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сияющим слугам Христ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но о том на земле возве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нуждение тяжкого дол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ать к бесконечному счастью люд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слаждение в жизни недол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утешенье безрадостны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1:28Z</dcterms:modified>
  <cp:revision>12</cp:revision>
  <dc:subject>Slavic hymnal Гимны веры христиан, hymn 531</dc:subject>
  <dc:title>Людям блуждающим</dc:title>
</cp:coreProperties>
</file>