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04AA-B489-423B-B8AC-45D16A65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ACA1-032A-4BE0-9FA2-BCB7E641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C490-180E-4C39-B550-45FCC73F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9595-A544-4AEA-892A-9A76C603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9610-7D35-48D6-8720-BA0BF0C2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7496-F06E-4551-BCCC-2375D938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7C9E-3E54-4D70-919F-943D6FB6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03D7-9ABE-4527-816A-D89C6108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59B6-4A69-49E9-A3B5-9495F92A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E79E-5F6B-40C4-ABC0-794B3CB7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FFE3-69F7-4288-B2EA-1BB01998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63B1-7879-4818-9F28-2FA00827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779F9-0E46-45E0-8606-5BEEEE31C0A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ом на небе, за облак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изни новой уж нет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, родные где будут с 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песни славы там у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ом небесный, где быть жел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стремлюсь я, чтоб вечно ж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у Бога я вечно сла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вете чудном Христу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90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дом на н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3080" y="914400"/>
            <a:ext cx="94867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 бурю с моря моряк стрем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чалить в гавань, чтоб отдох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рвусь я сердцем в жилище с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тдых ждёт всех свершивших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но будет в том вечном дом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Друга души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 Голгофе за грех наш у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рил нас с Отцом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914400"/>
            <a:ext cx="94867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чалях горьких слёз лить не бу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славу мы будем пе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луки, скорби, болезнь забу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ем больше нужды тер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04-05T20:12:36Z</dcterms:modified>
  <cp:revision>12</cp:revision>
  <dc:subject>Slavic hymnal Гимны веры христиан, hymn 903</dc:subject>
  <dc:title>Мой дом на небе, за облаками</dc:title>
</cp:coreProperties>
</file>