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5F6-A339-4EFA-909B-11BD0E3B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D89-0037-4BA5-8214-3378965C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7C8-ABD0-4D59-AF4F-89F4EA28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ABF-B146-4F90-B33B-5917BF4E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EEF-1B98-491F-9B6B-DFDFE330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189-446D-41D7-8E0F-EB6D7E83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C53-4E5A-4A9A-8296-5F08D00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8CA-EFBF-4199-95A7-184AB04E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474-DA80-4338-BAF9-6D383BBE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FA6-CC6F-4E28-A0AE-9FA3F49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E0E-E5C9-40B0-A094-E78853B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0BA-8EA7-4977-AE89-630ECCC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E1B91-62E2-45FB-BAA2-F74579F197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ов Его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ернистому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иходи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надо побеждат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емной позором здесь клейм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ненавидит з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а любов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забывае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Спаситель Иисус приз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к Нему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 острые, ш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мученик Стефан, удары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на земле здесь прох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окружающих 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аситель, 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, чтоб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бить, прощать, страдая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земной тернист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дашь от бури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скорбных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ёшь слезу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ящей пронзённою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52Z</dcterms:modified>
  <cp:revision>13</cp:revision>
  <dc:subject>Slavic hymnal Гимны веры христиан, hymn 472</dc:subject>
  <dc:title>Мой Спаситель Иисус призвал меня</dc:title>
</cp:coreProperties>
</file>