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AB8-D027-4D59-A572-40767156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E4D-44A6-4713-9C0D-63B4F0E7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834-7FDC-4EE9-8E13-6566613C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B86-83DC-40E0-989D-5178BFD8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974-BB27-4F91-93CD-2607162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526-D061-4D28-B1E6-7A09C089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FC8-CA31-4A41-AFB7-EA5837A5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4EF-2806-4355-9301-2F5A20C5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58E-793E-4F2E-880C-D957992C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120-A90A-4302-835B-F6BC402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ACD-CAEB-4345-A684-7B95ACE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9A0-F900-413C-BE87-1A046C7E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82C02-F409-4904-9DED-C7844B9C5B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wondrous lov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uel cross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urse t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tell the wondrou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y lost estate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boundless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 ransom freely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ise my dear Redee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iumphant power I’ll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the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sin and death and 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heav’nly love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rom death to life hath br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with Him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9Z</dcterms:modified>
  <cp:revision>13</cp:revision>
  <dc:subject>Slavic hymnal Гимны веры христиан, hymn 570</dc:subject>
  <dc:title>I Will Sing of My Redeemer / Буду петь, как Искупитель</dc:title>
</cp:coreProperties>
</file>