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9C2-7B25-4031-8F10-15A66D53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ED6-E6D5-4182-A1C9-3136D87A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4CD0-019F-447F-911C-07A6F4BE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CDE-7583-479E-B14B-95E615AC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7B8-9276-4499-A9B2-8DBF7244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8281-8D81-4FDC-90C1-640041E1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84C-1A99-4BEB-897C-1EBE9549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0EC-40B4-439B-A95C-23712DEA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84A-91A5-4796-8FC4-0E6D8BF1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82A-F92F-4553-AC61-23F91179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167-02E8-4406-91AD-528A4AE0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228A-007E-4C7E-A5C2-7A057FDF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9D3FE-58EB-42D1-BE43-31FE928FAAA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a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God’s own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cious Lamb of God, Messi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O our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iving us Your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aving Your Spirit 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 on earth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9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re is a Redee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cious Lamb of God, Messi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for sinners s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O our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iving us Your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aving Your Spirit 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 on earth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stand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ee His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I’ll serve my King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at Holy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O our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iving us Your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aving Your Spirit 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 on earth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5:59:47Z</dcterms:modified>
  <cp:revision>10</cp:revision>
  <dc:subject>The Source, song number 492</dc:subject>
  <dc:title>There is a Redeemer</dc:title>
</cp:coreProperties>
</file>