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888-D2A8-4969-9385-B67CEF3E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DB1-6ADD-4314-A87A-078B8B7B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B09-AD20-4FB9-9757-780B2AAE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E37-AFC8-49E2-A963-0D46980C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FAC-B6DA-491D-A0BD-405C10E3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F24-092F-4962-A133-2F5E164C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ED4-3451-4D81-90E8-1E3F01FD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DCF-9C4D-41C9-A36B-D60FBC3A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22C-A10B-4F55-B678-3E62462F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04F-17FF-48C1-B788-6DD7C7D0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758-E26E-493E-AA0C-916D49FA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76D-6716-4545-B0FB-050C6694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C96B8-9C7C-4DF4-A62E-52A44782BB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a hill far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ood an old rugge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emblem of suffering and sh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love that ol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he dearest and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a world of lost sinners was s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0   На Голгофській гор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Голгофській горі бачу там хрест стар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є символ мучення й нару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ле люблю цей хрест, він мені дор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нім Спас за весь світ постражд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that old rugge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despised by the wor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s a wondrous attraction for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 dear Lamb of God left His glory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bear it to dark Calv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й старий, шорсткий хрест, що світ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низ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всіх вірних збира і ме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Христос у цей світ прийшов, щоб хр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яж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гріхи нести всіх і мо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at old rugge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ined with blood so div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rous beauty I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’twas on that old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suffered and di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pardon and sanctify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хресті тім старім, кров Христа видно 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минаю все я час гір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за мене текла кров Ісуса свя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Щоб обмити мене із гріх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the old rugged cross I will ever be tr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’s shame and reproach gladly b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He’ll call me som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my home far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His glory forever I’ll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глядати буду на старий хрест шорст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уду нести я стид і ган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паситель мене в дім Свій вічний візь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навіки там з Ним я б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3:56Z</dcterms:modified>
  <cp:revision>12</cp:revision>
  <dc:subject>Slavic hymnal Гимны веры христиан, Ukrainian hymn 80</dc:subject>
  <dc:title>The Old Rugged Cross / На Голгофській горі</dc:title>
</cp:coreProperties>
</file>