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E16-3B3E-41A5-A204-7A5F8875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FC5-BDDB-4662-801D-DD39411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FE6-53E3-4366-90BA-4CE0E626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F28-0B17-41A1-80E0-E9D2D19F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C4E-9506-4C0A-96BA-7CD67C5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C68-6473-4223-9757-21BDAA0F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699-15B5-40EB-A150-2DC081A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782-5344-4453-84F5-D1DBCCC9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864-7A50-4AD2-844D-5F7AC65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73A-51ED-4F67-AC57-92034FA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2FB-CAF1-43A5-AB16-66E7FF7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E13-4580-4A59-A6FF-AB5BC8C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7AB67-F4DF-467E-A77E-94C25DB8E6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это глуп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хочется пля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же, как и мы,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увидев свет, будет танце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09Z</dcterms:modified>
  <cp:revision>11</cp:revision>
  <dc:subject>The Source, song number 421 in Russian</dc:subject>
  <dc:title>Через вершины и моря / Over the Mountains and the Sea (I Could Sing of Your Love For Ever)</dc:title>
</cp:coreProperties>
</file>