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F8A-8001-4FF7-BD61-DDA7430B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216-465B-40BE-8556-F17D784D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EB7-4DE0-42A9-A286-30C93A6E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8E0-CEFC-48CC-8512-A4A05178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870-6B0D-448D-AA5E-6BCE0F64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CCB-8068-45E3-A561-C4D57895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0A2-EEFE-41E0-BBA8-C0BB934A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6C2-FF96-48D4-88F3-2D7EE809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25A-5061-4B86-89F9-186B130B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5A3-BAA3-46A1-9F67-42938DB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CA2-A491-4539-B42D-245A6867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6E2-0789-443A-87A6-E900702D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55365-2E43-4378-81A6-5270D1E349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is daw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ather, let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king or in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with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д новый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наступ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е, уд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иль ожид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жить сей год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og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esence all the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ы здесь не о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ль в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нами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serv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itness for Th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olier work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луж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д пригот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Ним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is daw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ather, let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or else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… Новый жреб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м д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й земле иль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только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6:15Z</dcterms:modified>
  <cp:revision>12</cp:revision>
  <dc:subject>Slavic hymnal Гимны веры христиан, hymn 894</dc:subject>
  <dc:title>Another Year Is Dawning / Год новый наступает</dc:title>
</cp:coreProperties>
</file>