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052-D3BD-4E5D-9CC7-860216CE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DF9-8B3F-4490-8C7F-BD412338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4E7-CDAB-446A-B824-964C5FCD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B1D-5593-4517-8B1E-232FB2D9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B99-A320-4437-9566-356B69E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76C-7E04-4730-95D8-A86FC31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22D-6F97-4819-BA65-C364766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672-696D-438E-BD55-9E1403A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7E8-FF78-4982-8BF8-1031123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73-4196-459B-A5BD-3F275857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382-75CA-47E1-996B-4CE3D63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EAF-7278-4481-BA37-1158DC7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B9FA3-48B7-4544-BCF7-E561FDC77E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I belo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ow me all of the things that are worth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I thought were so valuable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ll I Want Is to Know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 power that raised You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lp me forget all the things that I’v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t my heart on what lies a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38Z</dcterms:modified>
  <cp:revision>11</cp:revision>
  <dc:subject>The Source 2, song number 619</dc:subject>
  <dc:title>All I Want Is to Know You, Jesus (Nothing Is As Wonderful)</dc:title>
</cp:coreProperties>
</file>