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a:t>
            </a:r>
            <a:r>
              <a:rPr b="1" lang="ru-RU" sz="3600" spc="-1" strike="noStrike">
                <a:solidFill>
                  <a:srgbClr val="ffffff"/>
                </a:solidFill>
                <a:latin typeface="Verdana"/>
              </a:rPr>
              <a:t>	</a:t>
            </a:r>
            <a:r>
              <a:rPr b="1" lang="ru-RU" sz="3600" spc="-1" strike="noStrike">
                <a:solidFill>
                  <a:srgbClr val="ffffff"/>
                </a:solidFill>
                <a:latin typeface="Verdana"/>
              </a:rPr>
              <a:t>Перед престолом благ</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еред престолом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лоняюсь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мой,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чни Свой труд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души мой грех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ь всегда по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всё во вс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каюсь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лач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веры мне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умер за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ир душе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ь всегда по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всё во вс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голос услых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ладкий зв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н мой вопль прин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л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мнение прош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ердце ожи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селился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сё во всё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о у престола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сё ж ст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 Твоих дар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мне больше 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больше я 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ь в пути зем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всё во всё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4:06Z</dcterms:modified>
  <cp:revision>3</cp:revision>
  <dc:subject>Slavic hymnal Гимны веры христиан, hymn 19</dc:subject>
  <dc:title>Перед престолом благ склоняюсь я</dc:title>
</cp:coreProperties>
</file>