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1D94-6523-42B7-AB9E-477810E0F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410F-AB2E-445F-A359-3A5CF6AC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9755-974C-4FB5-8FC9-61201E894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DFFF-44B3-4464-BD76-FBDA62288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1CE0-DD3E-4C27-9DCF-F6CF06C0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5718-EC5C-4390-BFB5-F987412A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08DC-A708-4822-9898-D8B192AE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02EC-18FD-43D0-8D22-17D8FE32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96A8-41EC-42FF-B87D-7A207D30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F455-80F6-4B9D-84CA-30C51E55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A651-0488-4341-8A9C-4FE62F31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6514-F7A8-4F07-945E-15B9CCBE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C1331-7C38-487F-B840-3A590D62585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лежимо до церкв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’ятидесятниц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’ятидесятниц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’ятидесятниц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гонь Святого 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н непогасне 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н непогасне 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н непогасне в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96   Належимо до церк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и Святого Духа, що дію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церкві ц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и ті дорогії, що діяли колис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итви в інших мов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 оздоровлення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лежать лиш до Церк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’ятидесятниц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2:00Z</dcterms:modified>
  <cp:revision>14</cp:revision>
  <dc:subject>Slavic hymnal Гимны веры христиан, Ukrainian hymn 96</dc:subject>
  <dc:title>Належимо до церкви П’ятидесятниці</dc:title>
</cp:coreProperties>
</file>