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D27-B3CE-46E1-A577-CA341257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A29-FD5F-4C00-97E4-10DE3A9B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093-B8E8-4304-AB37-05E72A21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A00-77C3-477B-9D3F-3A7EDA80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C48-E3F2-4F8C-9F80-BDE30455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0B7-4F09-4C2F-9743-F8A2AC3C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5A3-F2C2-4E18-9FD2-605FA6BD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FC7-039D-46D4-A72E-5766BDA8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45E-0393-40A5-9013-3BC8AB19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6F5-AC9F-4E82-9E97-49A636DD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50A-2DA8-473D-9A30-1B97F08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0B2-3A81-4CB8-8CC5-0B35B101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D3442-AFFE-4F98-8F2A-7BCF297FB2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несущий крест тяжё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блегчу твой тесный, уз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озвращу потерян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целю надорванную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печаль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скать отраду у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любовью, лаской и при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ю и утешу 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 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израненный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ученный, истерзанный грех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ом драгоценным уврач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ую скорбь больной души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без страха, без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— Я дам теб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— Я дам тебе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дам душе твоей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26Z</dcterms:modified>
  <cp:revision>12</cp:revision>
  <dc:subject>Slavic hymnal Гимны веры христиан, hymn 792</dc:subject>
  <dc:title>Приди ко Мне</dc:title>
</cp:coreProperties>
</file>