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15121-830E-46EA-B40D-AAC9723F5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0209E-521E-4145-A321-050E56A1B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5F690-A536-47C6-B9DE-33C86449E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DB7B8-02F5-4FDA-93F8-2CFD983FE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76EC7-F968-4A11-846C-CF94831D0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C17FE-F4FF-4F6D-B3B9-883416B23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86065-E55F-423B-BB60-9D7E7F237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B5BAD-FFC1-406C-860F-A71791897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DCE6F-89CE-4F5F-A651-EF32B5D8E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AD8C7-1868-4A49-A233-46468A304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A38CD-E98E-4BCC-810C-E2A48D510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2A4C8-8DD0-4309-9FB7-E8ED782AD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A3208E-943F-43B6-AB49-4DC831F9B8C8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в бессмертьи иду, наступая на зл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 скорбей и страданий дорог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душе у меня и тепло и светл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тому что я верую в Бог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наю я, что мне можно и что мне нельз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наю, что хорошо и что плох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наю, что на земле существую не зр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тому что я верую в Бог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45720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798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Я в бессмертьи ид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тив истины войско ведёт сатан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хи зла ополчились жесток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дёт меня впереди неземная стран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тому что я верую в Бог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же если встречаю следы катастроф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счезает из сердца тревог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подумаю я, что есть любящий Бог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 я счастлив, что верую в Бог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т от радости слов — побеждаю я зло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ною найдена в небо дорог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душе у меня и тепло и светл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тому что я верую в Бог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2:34:48Z</dcterms:modified>
  <cp:revision>13</cp:revision>
  <dc:subject>Slavic hymnal Гимны веры христиан, hymn 798</dc:subject>
  <dc:title>Я в бессмертьи иду</dc:title>
</cp:coreProperties>
</file>