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7C53-1E8D-412E-8F7D-5FFB2B72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C5D6-C5AD-43C4-AFF0-1B270C03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0D4-2C88-4871-8E5A-BCD16F49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2BBD-ECD2-4D15-88A9-53E3CBEC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F25D-58A9-484E-8577-463D1297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7CC-5A3F-4C51-A2D0-F737CE21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F1BB-4CEA-4348-9C1E-E8264D72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3538-B1E5-4A53-AC5E-F0019F53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728B-1F7F-4296-94D1-30EAA13F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B650-30F6-4766-8EE5-1CA6C993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4AFB-663D-44BF-A18A-F6EC81DE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307-C741-430E-B912-49ED8D91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5C402-CA83-4ACD-A6C6-FEC881BED4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love (more lov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power (more power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of You in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love (more lov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power (more power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of You in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5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ore Love, More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worshi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worshi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m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worshi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love (more lov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power (more power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of You in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love (more lov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power (more power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of You in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worshi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worshi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m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worshi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eek Your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eek Your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m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eek Your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my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0:55Z</dcterms:modified>
  <cp:revision>11</cp:revision>
  <dc:subject>The Source, song number 359</dc:subject>
  <dc:title>More Love, More Power</dc:title>
</cp:coreProperties>
</file>