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3F4F-4D2E-43F8-B059-A128474C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675A-3793-46D2-93CC-C69FC6CD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81A6-A032-4B0A-A10E-E2810A09B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343D-C319-4D0B-A672-9B2F7A29A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6E85-25F2-4E3E-8E19-48A075DA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F2C6-F042-4A36-81C4-D6230051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EBBB-7868-4F4F-A08A-4894843C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AAEB-9B5D-423E-976E-E773DF6A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6DA2-55D5-455F-8D20-3C23A834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8A6F-4AF1-4A0E-8723-E9E5D360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71AA-0658-41E3-A55C-4748DF27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E927-1E50-4A13-9081-37F9152F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A7A1A-E807-4C5B-8069-CF5074EC922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сскажет ручей говорли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ому моей тайны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лугам и полям молчали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ежит он холодной струё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сскажет, что волны слых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ому моей тайны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тело моё погруж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крещеньи в полночной ти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расскажет руч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 мира сего отрека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 Богу в крещеньи дав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для славы Христа обеща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шой я тогда лико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полночный, при лунном сия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ршался священный об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блаженном, святом упов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ил я от Бога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итве священной вним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еслася от вод к небе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ом душу мою наполняя,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мне Бог в сердце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 великую тайну свят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храняю я в сердце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новой я ныне лик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 в церковь живую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поток был свидетель безмол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ей тайны великой,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чистые, светлые вол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моею прошли голо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ыть мне ручей одино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ыйду на берег вес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от берег зелёный, высо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завет заключил Бог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мне, мой Боже Вели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завет до конца сохран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скорбном, враждою покры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сёцело Тебе посвя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1:13Z</dcterms:modified>
  <cp:revision>12</cp:revision>
  <dc:subject>Slavic hymnal Гимны веры христиан, hymn 720</dc:subject>
  <dc:title>Не расскажет ручей говорливый</dc:title>
</cp:coreProperties>
</file>