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9F3-C963-4B2D-882B-AB62983D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AEC-62A5-43AF-92F8-4B2BF04A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C9F-B3C6-4801-AE9E-19D92311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8DD-0B41-49AB-BD33-4124149D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7AC-BF39-41DF-AA54-CD3DBB5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3CA-05A6-4879-A9DA-191B7B48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24A-2829-4790-91A4-85EAEDE1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AED-59C5-4AB7-9969-D921F9D2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B9D-9C4C-4A0E-9E0B-E429FAB4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00A-A183-40FF-915F-F590B99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D1A-90DD-4A12-A327-596C84D5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55A-DEC4-411E-BFA2-77A38282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60518-98B6-454D-8A79-E14519EFD7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с нами Бог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с нами Бог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Апостол Павел нам сказ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ами Бог, кто будет про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аждый д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аждый д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осподь Спаситель наш 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сякий гре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сякий гре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Апостол Иоанн 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бещ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бещ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оиль пророк так пред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4:48Z</dcterms:modified>
  <cp:revision>12</cp:revision>
  <dc:subject>Slavic hymnal Гимны веры христиан, hymn 590</dc:subject>
  <dc:title>С нами Бог, кто будет против нас</dc:title>
</cp:coreProperties>
</file>