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A167-1E48-4571-A541-A0435DB1C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AB9B-3E41-4704-861C-7E28DC45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325E-64AE-455C-BC90-20CE2DAB5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307D-41AC-432F-9015-CB30DFA8D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ADF4-150B-47EC-834F-66C92130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B623-7576-4925-AF5C-63263EBC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FDB1-EDE2-4EF3-BAE5-84F7F09B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25A8-CFD4-40C6-985E-4FED9997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A5C7-D26E-4E68-B7CA-70788B4F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24B2-7AB1-47E0-B9E8-339C87B0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F5BC-CF77-4549-BA7B-42D2203B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88B0-CDA5-4A54-ABB1-BF5D28DE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703FD-DBA7-4BC6-A466-4DE0AB78C74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шь ли жизни чистой, без грех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на Христа гл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умер за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вой Спаситель, тв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84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аждешь ли жизни чист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 ли смущает страхом и стыд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на Христа гл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ревозможешь в этом мире з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вой Спаситель, тв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л ли в бессильи, мрачен ли твой пу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на Христа гл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ым весельем Бог наполнит гр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вой Спаситель, тв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быть вскоре ты придёшь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на Христа гл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и, в горе Он всегда с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вой Спаситель, тв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2:35Z</dcterms:modified>
  <cp:revision>13</cp:revision>
  <dc:subject>Slavic hymnal Гимны веры христиан, hymn 715</dc:subject>
  <dc:title>Жаждешь ли жизни чистой?</dc:title>
</cp:coreProperties>
</file>