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392-8865-482F-9415-8925190C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634-2E5E-4A3B-B13A-9C7885C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1AC-2A88-4A46-8036-D2B45630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01C-0F8E-4F0B-8496-28441765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6E6-4A6C-4759-9033-854052C2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CA0-82EA-4506-8EF3-F9F7184F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32C-9705-47D9-9DC2-4DFE47A7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1CB-EEB9-4702-AE62-C4A3A38D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DC2-EB34-47DD-B2C4-B170E4F0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069-CEFA-418E-8E4A-6EA6734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D73-05BD-40BA-9527-E31AFD82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D69-BBCB-43A9-9FDB-3BBB1A71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07A21-2333-4ACE-9234-9DBFB6F0D5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ren of the heavenly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ly in His bosom ga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stling bird nor star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ch a refuge e’er w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м Его беспе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в небе, птицы в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еют лучшей д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own doth tend and nou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holy courts they flouris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ll evil things He spares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mighty arms He bears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род Свой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ляет и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ешает все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уках с любовью но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life nor death shall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Lord His children s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them His grace He show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ir sorrows all He know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ль смерть нас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юбви Христа могуч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нас терпел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в испытань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 in joyful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Protector never sl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will of your Def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foeman must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до малое, не бо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щитом Его укрой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 всём тебе по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отивников ни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 giveth or He tak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children ne’er forsak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he loving purpose sol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serve them pure and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иль отнимае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юбовь Свою я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ердце всюду п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5:03Z</dcterms:modified>
  <cp:revision>12</cp:revision>
  <dc:subject>Slavic hymnal Гимны веры христиан, hymn 876</dc:subject>
  <dc:title>Children of the Heavenly Father / Божьи дети днём и ночью</dc:title>
</cp:coreProperties>
</file>