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995-B185-47CC-BAB2-92F009DE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6A9-1096-4848-B056-0BBB31CA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C53-216C-4F35-B93C-199EAC1C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09C-FE32-4169-A1A0-EC10EF5E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82C-8EC3-4F16-BD1E-45DCFF41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26F-7984-460D-8EFE-3F58693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27A-21DB-41E1-8255-D403F4B8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17D-B942-4EFF-BE3C-CCB9F30D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C8B-AA83-4740-A912-172586DA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AD6-E81E-4935-9930-AE667C73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A25-E51D-45C3-867A-9850278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A2D-CB96-4F91-AD03-90F0E4B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0B88-81D2-4F9B-B6A6-AFB801519B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13Z</dcterms:modified>
  <cp:revision>12</cp:revision>
  <dc:subject>Slavic hymnal Гимны веры христиан, hymn 862</dc:subject>
  <dc:title>Со мной ли Он?</dc:title>
</cp:coreProperties>
</file>