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119-F61B-4E5D-91F6-DF275477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D23-55B2-4F29-82A2-D722F08D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592-3BBD-43B1-888B-3DF9AA3A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9FE-400E-4B06-8A80-F885211A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3B1-4FC5-4E93-B47A-88B608BD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C60-E760-4B25-89B9-1D99A044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F43-CC27-4E71-92A2-97E782C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186-CEC7-43CD-869D-40F10E62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F88-CBD7-49E4-9B17-2D12784E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32F-FFC2-437F-86F4-36B4B1D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285-9465-4175-80E1-2F619D9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E33-3464-43AE-87F6-88903BB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2D6B7-1E57-4710-873D-C6A6A106B4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and keep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’s the one I’m wait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50Z</dcterms:modified>
  <cp:revision>12</cp:revision>
  <dc:subject>Slavic hymnal Гимны веры христиан, Ukrainian hymn 114</dc:subject>
  <dc:title>Every Day With Jesus / Кожний день з Ісусом</dc:title>
</cp:coreProperties>
</file>