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8C8-2B0F-469A-A84D-F0CC643C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CF3-D763-4293-9F08-BA9E8D9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5A2-C9EC-4E92-A9D8-C31F1B7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56B-D3EF-4D23-8C1E-F2A57690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AF3-88BD-412F-A9B5-3F98126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C94-FE07-4C3E-8B25-7602916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0EF-C981-479B-A984-22B4178F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125-164F-459D-B1E6-DDEB99EA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221-B631-4ED7-9081-C4A8A8F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B32-05AD-480A-B2D2-5C9B52E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84D-024D-442C-9975-4977339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56C-57FA-4C02-8A31-D56125E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AC79-5F35-4487-9A8C-E2C9789950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2   Through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7:13Z</dcterms:modified>
  <cp:revision>12</cp:revision>
  <dc:subject>The Source 3, song number 1562</dc:subject>
  <dc:title>Through Our God (Victory Song)</dc:title>
</cp:coreProperties>
</file>