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A0C-4EC9-4E39-98EF-EF22E3C9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2A1-BFA7-4560-B4AA-50E0739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54E-6699-4566-8A47-89CA3EB0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EB9-DCD6-4356-B792-8E152E0D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886-155B-4C4A-B8F2-09DBB2F6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631-2A1C-4AFC-8A97-3B90BC02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497-08BA-4BDB-B755-BAA9312C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4D1-58BB-4EBD-9F58-7EFD78FA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633-C5D4-4B3D-9D3A-4ECD8488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D3C-4F50-4FB4-94E6-DB3678DE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219-61E9-4931-B076-019A6D0D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578-CE9B-437A-B02E-E4E72BF6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48F19-12C1-4144-BF50-6EB5A14ADC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 light of Your love is sh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idst of the darkness,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ight of the World, shine upo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us free by the truth You now bring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280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любв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юбви Твоей свет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огнём среди тьмы и мра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свет мира, сияет над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ым словом Он освобож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685800"/>
            <a:ext cx="98488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ome to Your awesome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shadows into Your radia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I may enter Your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rch me, try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ume all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 присутствие прихо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перь светом весь заль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ровь я Твою заси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ытай меня, тьму уда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gaze on Your kingly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our faces display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changing from glory to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rrored here may our lives 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ияньи, Господь, преб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м открытым Тебя отраж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лавы Твоей меняемся в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Тобою сиять мы жел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2:24Z</dcterms:modified>
  <cp:revision>13</cp:revision>
  <dc:subject>The Source, song number 335 in Russian</dc:subject>
  <dc:title>Господь, любви Твоей свет сияет / Lord, the Light of Your Love (Shine, Jesus, Shine)</dc:title>
</cp:coreProperties>
</file>