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B14-7F8F-46A7-BED0-7D40B720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7D8-F407-4F61-B2FB-A462190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F06-208A-4CB5-BDA1-5B4D3801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056-E81C-47F5-ADB4-01F33183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7CA-887F-4201-BFA5-29DED41C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5DE-F8FA-4407-86DD-3255688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0F4-7156-42F9-8A88-4E37A4E0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978-FBA8-4DF3-9093-82531C97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548-4212-4B9E-A513-5D86A50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B9B-5B5C-4121-9023-AB3B5ED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6D7-72E0-435C-9740-2CA541B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26B-8E99-4305-8F64-7FDBF33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EC5BD-4B53-45FD-B9AE-0EF5290FB2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49Z</dcterms:modified>
  <cp:revision>12</cp:revision>
  <dc:subject>Slavic hymnal Гимны веры христиан, hymn 811</dc:subject>
  <dc:title>Один ли Он был должен несть?</dc:title>
</cp:coreProperties>
</file>