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301-81D5-4976-848A-2CF6709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CF3-77AA-4968-B8F4-C5BB2A5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E26-2969-47E5-A291-4BB5E3BF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178-DB57-463C-A571-D3376FC2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390-1D2A-4012-B3D0-70D1661C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C87-3096-4E42-9377-05BC441E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6F0-7F00-4B11-AFC3-91AE4378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36C-C4A2-48D2-BFC5-63B78C82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555-E9D1-42E0-ADA4-5CA28173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C55-0477-4D0B-ADB6-9AC7B5D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024-5139-4DC9-831E-476602CF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96C-8D3C-45F3-BD08-E8B02FF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7AD6-2342-47F3-AB38-A7E3C96049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угроз, не муч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звёзд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й дом и мир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спасённы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нет угроз, не мучит 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земной ликует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река живой в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чистотой сияет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а ждёт за все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ший день взойдёт свет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ит Бог хвалой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родных, свои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айдём у но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08Z</dcterms:modified>
  <cp:revision>12</cp:revision>
  <dc:subject>Slavic hymnal Гимны веры христиан, hymn 812</dc:subject>
  <dc:title>Где нет угроз, не мучит страх</dc:title>
</cp:coreProperties>
</file>