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AC2-13B2-4235-B853-F3857F84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6CC-87B2-4D48-B5E7-4EA7B3F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5E5-3FF3-487C-BACB-FADE3063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7E3-C910-4ED4-8560-BFA649B1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CE5-1241-4582-94EE-E90C86B0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656-E87A-41F8-8C40-293A333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BF2-871D-463D-ADC8-7B87189A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3C5-EFCA-46F2-8515-41423D1D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259-B734-4E77-8F21-81B0FBC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48E-1A6F-4664-B13C-4B9E51F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B45-9A34-49B0-8E77-21CA0E5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DF8-66C5-4799-88BF-07C8C04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A5209-6737-4807-9F2D-668D390DE1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Боже, Тобой я из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Твой тернистый,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же людьми я, не знавш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бирь за любовь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ые цепи на ноги од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свой звон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чудны и дивны слов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авду я должен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Боже, мо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жу за решёткой, так тяжко и бо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мыслях моих лишь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забыли вели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т законов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ди, вы — братья, познайте же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законы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ужья, и пушки, и все пулемё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перекуйте в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ужны нам гордости, мести оруж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ужны плуги да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шли на нивы Христовы вс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полагал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ивы Христовы давно уж пос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до нам Бога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слал жнецов на поля и на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ать, собирать и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00Z</dcterms:modified>
  <cp:revision>13</cp:revision>
  <dc:subject>Slavic hymnal Гимны веры христиан, hymn 517</dc:subject>
  <dc:title>О Боже, мой Боже, Тобой я избранный</dc:title>
</cp:coreProperties>
</file>