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B4A-2089-4620-9026-7AE78ED2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F27-0740-4A14-91A8-D492044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31C-304F-4EC4-84C1-B205B3E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A04-0A58-469C-B40F-7FD079CB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EBD-9D11-4459-81CF-494CB38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0D2-9AB1-4BE9-8EEA-B7EBE300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B13-144B-4680-9B44-F373A95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F09-1C39-4714-9302-F50B3198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B32-B90A-45DC-BED3-6F176552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D36-93E3-4A0A-BC0C-E0AC609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936-8CC3-47A7-A17E-2AE2C73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939-DA9F-471A-8205-43259B6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8307E-4616-435A-9648-A4D45204A8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 Господь в чертог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Он Сам теб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зовут, ты зов не откл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ждут, туда, туда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ен пир в чертоге золо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Господь зовёт быть гостем в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и дверь не зап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открыл Спаситель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огих грешников принял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ещё есть место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мыты кров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овёт — омоет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, входи! пир этот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а там веселием пол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частье там, вся радость, о,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ты голосу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у дня не долго уж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ная тьма готова всё объ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ночь, закроются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ый вопль услышишь ты 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места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ворены вр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19Z</dcterms:modified>
  <cp:revision>12</cp:revision>
  <dc:subject>Slavic hymnal Гимны веры христиан, hymn 344</dc:subject>
  <dc:title>Есть место, есть!</dc:title>
</cp:coreProperties>
</file>