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150-C166-4EA5-8561-65231926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B80-C5E2-44BA-B7CE-96516A65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FEA-E2DF-431D-A69E-4FFA1392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4E-71B1-48BC-A3FC-E7A01719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303-2D1A-42D7-8BB7-BD86ABEE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912-1B11-49EF-AAC4-9ED373B5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CD3-2F73-47D0-89A6-AC7CF48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8D3-E26C-46F5-A30B-A5A9A1F8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13E-897F-4168-9094-3BBEC23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218-F2ED-4187-B2A3-6D87038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881-344C-4F04-92DA-C190810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B6E-47DB-4105-8260-CD26183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D0329-C133-46CC-9BC6-7AC5DBEEBE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Man,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mption’s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God’s Righte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expression of God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ace of God, the wor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holiness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37Z</dcterms:modified>
  <cp:revision>10</cp:revision>
  <dc:subject>The Source, song number 278</dc:subject>
  <dc:title>Jesus, God’s Righteousness Revealed (This Kingdom)</dc:title>
</cp:coreProperties>
</file>