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198-EAF1-42C8-8FB4-06362DF4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153-8FBB-47B3-BDF7-65AE07C9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DE4-601F-49C9-AAD9-7CF7E921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45E-69B7-4D7D-A51C-86C499E4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06F-5C5C-4213-8966-A112827D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6AA-2A54-42D3-A0A9-0B1FB7D0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46D-01B4-47F8-9A23-610188E0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587-356F-4A91-93B0-641B31BB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3BB-42FA-47E3-A0A3-1E625B8F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CBF-C11A-434A-B1DC-815AAE03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17A-1145-42EB-8458-C2FD523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830-68B0-4B3E-B9B8-6AF39949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1202A-7615-4975-A0D7-BC3BFD02C5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joy of what Thou 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inding out th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y loving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bid me gaze up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beauty fills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, by Thy transform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8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great Thy loving-kin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aster, broader tha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marvellous Thy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vished all on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rest in Thee,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what wealth of grace is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Thy certainty of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made i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mply trusting The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Thee as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love so pure, so chang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its deepest long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ets, supplies its every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sseth me round with bless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is love ind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lift Thy face up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ork and wai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ing ’neath Thy smil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’s dark shadows fl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ness of my Father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nshine of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eep me ever trusting, re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with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9T11:25:14Z</dcterms:modified>
  <cp:revision>10</cp:revision>
  <dc:subject>The Source, song number 280</dc:subject>
  <dc:title>Jesus! I Am Resting, Resting</dc:title>
</cp:coreProperties>
</file>