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8B1-9570-44AB-A95E-17443ACF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9F2-220A-4095-81BF-A38FA63D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8AF-5579-44AA-ACC5-3035BA59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0CC-7B71-49E3-AFD4-EC0CAEA8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4C3-C1E5-408B-8088-5F85D23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F89-AB5C-4D79-B820-D029353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C74-7A27-4661-A697-0F4B4BB1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D8C-BFFF-4ECF-AD93-86D46374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7A1-A2A0-4048-99B9-5D95A1B4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F80-1CB1-4B71-8C57-83CCBBA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625-89DE-45FD-885D-9B42D392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6DF-F1A1-4843-9205-5F0BFF9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045D-D9CE-4D94-8162-546DCB07B5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 my cross have t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leave and follow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titute, despised, fors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rom hence my all shal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ish every fond amb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’ve sought, and hoped and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how rich is my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heav’n are still my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orld despise and le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left my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an hearts and looks d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not, like man, un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ou shalt smile up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wisdom, love and 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es may hate and friends may shu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hy face and all is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 may trouble and distres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drive me to Th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with trials hard may pres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ll bring me sweeter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is not in grief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y love is left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were not in joy to char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at joy unmixed wi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on from grace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med by faith and winged by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eternal day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own hand shall guide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close my earthly 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shall pass my pilgrim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shall change to glad frui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to sight, and prayer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02Z</dcterms:modified>
  <cp:revision>12</cp:revision>
  <dc:subject>Slavic hymnal Гимны веры христиан, hymn 846</dc:subject>
  <dc:title>Jesus, I My Cross Have Taken / О Господь, мой крест беру я</dc:title>
</cp:coreProperties>
</file>