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14C-A2E2-453A-B684-DA6948B7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FC9-3B06-4036-B0A1-FC0D721D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70D-D0BF-4753-AE0E-DB438A6C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3B03-9654-407F-A14B-AF1C154A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B32-830E-4654-8690-E6899D18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A24-D208-4433-BB94-811FF25B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71B-4B6E-48FF-A2BB-5D400AFC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3B4-F179-4532-9400-D278D520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0D5-E22F-4946-A565-C8B2EB5D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C85-3C1B-462B-865D-6DB2DFDE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93C-D258-4C43-B806-4DC454FC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7D9-7B17-4273-945E-D46D0180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0A278-73CC-4FF4-83B8-4315744014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ге пребы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и мол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блию чит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будь со все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х поддер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инь заботы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служ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святости стрем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йдёт, как д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держ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 лишь за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лик и чу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е и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ют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не тороп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есту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и в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й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пуская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ым будь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мир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, водимый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вностью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йдёшь ты к слу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го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8:27Z</dcterms:modified>
  <cp:revision>12</cp:revision>
  <dc:subject>Slavic hymnal Гимны веры христиан, hymn 858</dc:subject>
  <dc:title>К святости стремися</dc:title>
</cp:coreProperties>
</file>