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5744-4C34-4F0F-83E9-C5A36800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F1A1-5569-4D7C-AA94-B12D56D0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6177-5537-4F33-AEE4-CCD10B447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3DFE-7BAB-44A5-9EB5-824C6405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9A26-3248-4056-8D63-EC284F67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69FC-9E48-4575-9C07-BBE80E65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B2F9-0450-4EC1-AB20-0DD324EE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58C0-4442-43C6-B198-095F71CB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2221-829C-43C7-A772-80344EF9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7EEF-71A9-47D4-A11A-2AADBAD9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CCC3-A459-4330-9845-BB313B18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CD07-7642-4049-976D-396A2334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5E1AB-E6BF-46D5-BA54-44111C2FC26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а жизнь корот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но птицы пол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ыстрей челн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летает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цветок поле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утру расцве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уж к вечеру в з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ёлтел и зав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ша жизнь коро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а жизнь, словно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нам д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ишь солнце зай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чезает 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а жизнь, словно зву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удар молот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ежданный исп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она коро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думаешь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о чём, чело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скоро умр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короток твой ве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оться же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риста поищ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отраду най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кой для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9:51Z</dcterms:modified>
  <cp:revision>12</cp:revision>
  <dc:subject>Slavic hymnal Гимны веры христиан, hymn 737</dc:subject>
  <dc:title>Наша жизнь коротка</dc:title>
</cp:coreProperties>
</file>