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BE1-8CA4-4AE6-9A6E-80F852B2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645-AA3D-4554-AA51-A4D4EDC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448-5F31-4339-B501-5C862EF4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29-EED7-422D-9B2C-8F6866FD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D2B-1425-4F74-92AD-9DB8747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C0-15BF-42F4-880A-36BFE34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2CC-CC14-443B-9D9C-66CAE91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169-46F2-4A79-A65A-77A80674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19-99D4-4F6B-9B81-2F01CC5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2F1-510F-45FF-BBB5-6FCE50B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69E-15DA-47D5-B178-18D84D4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B74-C90A-46E3-B2F2-6D3B4C4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0A249-F101-42B7-9772-916A193BDF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нам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м толпы, кругом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товят звон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обранья,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стражу сторож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: «Речь ваша у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олчите поскор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ходит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евангельских ве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1:34Z</dcterms:modified>
  <cp:revision>12</cp:revision>
  <dc:subject>Slavic hymnal Гимны веры христиан, hymn 560</dc:subject>
  <dc:title>Запрещают люди строго</dc:title>
</cp:coreProperties>
</file>