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2AC-7C45-4A30-9A5F-26C66AC3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CD4-54D5-4A7D-BE58-D224E454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45B-4404-4143-816E-0BCC071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C85-183C-463B-9DB4-A5531DD0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DD1-6748-46D4-A092-C19EFE4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7C3-F450-4517-B8BA-0EEE6AF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762-C7C5-4FE9-8A3D-3EDA20E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CC1-5B67-460A-985A-73EC120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0BA-65D5-42FC-9C70-350BD25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687-859D-4F5E-8264-30C1168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F46-6167-4BB9-A5E2-2D103A8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BC7-A420-4910-9A49-EEF5D11F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FF1C-42FC-4064-B9FE-3BBB97B44F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9Z</dcterms:modified>
  <cp:revision>12</cp:revision>
  <dc:subject>Slavic hymnal Гимны веры христиан, hymn 438</dc:subject>
  <dc:title>Сокрой своё горе</dc:title>
</cp:coreProperties>
</file>