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D58-A28D-4352-8908-CB68BF5D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A28-6D43-46C5-A133-4742A569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053-E4D3-4945-B9E0-FA44FE72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7C4-D297-4C55-AA7B-66E37FE2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D3D-1DF5-44CB-94AE-5BF85998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CA8-2B35-4251-8328-3280B729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6E9-37B2-447C-BB9F-0B65366F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369-8276-42AE-8612-5B2B9496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C96-E5A9-41D8-B1AF-88CBD979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B43-93F9-4473-80D9-A2765A0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EC4-D86B-47A3-9083-CA4AE68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62F-0292-44DE-B008-FADBD74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1AD34-E075-4B2E-9343-9C3CE5B6A1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лагай Христа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м часом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е будь байду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спі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3   О, благай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 пок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итя Його пр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Він тебе безм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загибелі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ерце утіш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 ім’я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лиш підкріп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е від зл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будуть зустрі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го Царя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 будуть прославл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ворця святи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8:47Z</dcterms:modified>
  <cp:revision>14</cp:revision>
  <dc:subject>Slavic hymnal Гимны веры христиан, Ukrainian hymn 13</dc:subject>
  <dc:title>О, благай Христа, мій друже</dc:title>
</cp:coreProperties>
</file>