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3B48-0F86-423A-8F73-7A31657E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556C-35D1-4A69-8B11-07FC4E1B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DF97-F8AC-4AC6-ABE6-2F505CD9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6489-2FD8-4711-AAC2-C7D6E128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7836-2E15-4AF4-9891-4C059709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A620-A06B-45D4-85D4-5DB4CDBA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CBBF-8636-40C2-B4C1-C1FD34C6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B3DD-C6E5-4E6B-95C4-AD97D281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F91C-19DE-43C4-96C7-50989800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BB6B-B7EC-46A5-8B23-5E9D1988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310-6115-4111-91AE-F96B6D23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2056-D4BC-4459-A574-D340EF4F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EB0C0-180D-4BDE-BBA8-53AC2F72F1C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Jesus, my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name is Jesus, Jesus, Jesus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3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’s the Saviour of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5:23Z</dcterms:modified>
  <cp:revision>10</cp:revision>
  <dc:subject>The Source 2, song number 732</dc:subject>
  <dc:title>He’s the Saviour of My Soul</dc:title>
</cp:coreProperties>
</file>