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546-074E-402B-8F1A-0C8A5EDD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1D2-7C94-4480-8A73-0ED5B99A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C19-5C0C-4A47-A892-11F0CD11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4E7-7DA1-4C6E-8C1B-EB7AE5A3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F57-69FB-46B6-B66D-D4CD1DD6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95B-18B2-48F8-BD13-7046C95C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A06-249B-485F-A4C4-12E1985D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CCF-4571-4298-8A06-3AE95ECB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CC5-CAC7-42E5-ABA2-30B0D9CA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7CD-2967-4CA3-8F2D-6B921A8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EFE-3675-4E57-93B0-B1565BE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FD3-ECE4-4454-B68C-29AD47B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732BB-70AE-4A5E-A8DC-60C9BC8844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воины рат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на битву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данья и смерть мы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мира награды не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сём избавленье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ёрдой вере — победы з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йдём чрез огонь и чрез в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с нами Господь наш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воины 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жаждем почёта ни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риятно в святой прост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ценою кров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на Голгофском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 Он готовит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верным за все их тру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приди, в небе каждому 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ойти в наши ря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38Z</dcterms:modified>
  <cp:revision>12</cp:revision>
  <dc:subject>Slavic hymnal Гимны веры христиан, hymn 485</dc:subject>
  <dc:title>Братья, воины рати Христовой</dc:title>
</cp:coreProperties>
</file>