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38F-64F3-43C3-826D-FB08803E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6C5-4DA2-4FE6-8EDC-0F9CCD30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206-CCA7-421C-9FD0-F82EBBBF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879-0737-4B7A-8EEA-0CB5BC00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FEC-BFF1-43E0-892D-40069215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346-192D-4012-8290-8C262AD1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EAC-7DDD-433F-B5BD-59D055B6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411-8591-44BA-87E5-5EA2D296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252-420B-49B8-A58B-284DE95A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94F-32AB-42E6-BB91-1ABEFAFD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EA9-EEEB-44E5-B038-42215AA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AE7-52C7-4967-A086-E258481A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2145-3CD2-42C5-AF6D-3212A3BE9C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arch me, O God, and know my heart to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y me, O Saviour, know my thoughts, I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 if there be some wicked way in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leanse me from every sin and set me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моё, о Боже, испы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, о Боже, испы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а исследуй, помыслы у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 опасном ли стою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от зла и в правде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praise Thee, Lord, for cleansing me from s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ulfil Thy Word, and make me pure wit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ll me with fire where once I burned with sh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nt my desire to magnify Th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! мой грех Ты снял с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итву, дай любви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 Духом, обнови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прославля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rd, take my life, and make it wholly Th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ll my poor heart with Thy great love di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ake all my will, my passion, self and pr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now surrender, Lord, in me ab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 Себе всю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я, волю — всё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ся в сердце, наставляй на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, и Сам во мне пребу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ly Ghost, revival comes from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a revival, start the work in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Word declares Thou wilt supply our ne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blessings now, O Lord, I humbly pl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, в Тебе источник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, чтоб к жизни многих пробу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и нужды всех сынов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Господи,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24Z</dcterms:modified>
  <cp:revision>13</cp:revision>
  <dc:subject>Slavic hymnal Гимны веры христиан, hymn 827</dc:subject>
  <dc:title>Search Me, O God / Сердце моё, о Боже, испытай</dc:title>
</cp:coreProperties>
</file>