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45F-68A3-4FAC-8355-B578AC54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815-E4EB-43B5-9269-14284E87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CBC-D596-4B34-9E2E-6611915A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CB4-5F00-418E-B13D-A5AC289A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A83-11C2-4D9E-AB62-E72715F3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E86-A778-4B94-B9E5-7CCB7EA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E83-54D7-4886-A998-B3C1DCC9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925-CE36-4D34-9566-9E04859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D2E-3D44-4DBC-BE53-A67A554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67E-4739-49BA-BBFA-E1E2B2A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07C-FE6E-4B1E-9CCF-5A3DE78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CE1-785D-4073-90AA-391D84F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6A8DC-055B-4641-B721-190D97778F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52Z</dcterms:modified>
  <cp:revision>12</cp:revision>
  <dc:subject>Slavic hymnal Гимны веры христиан, hymn 876</dc:subject>
  <dc:title>Божьи дети днём и ночью</dc:title>
</cp:coreProperties>
</file>