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0183-D213-48CC-AD6C-80F80141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D35D-4689-4600-80A1-84DDCAFB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44FE-894A-4CD6-8FE5-CE7DF85D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CE4F-C90A-44BE-A6B5-4E2D8938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2235-C1A8-4C4A-9786-37649FB6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7601-40DF-420B-A40E-C92ED3A3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B7B1-F22E-4ED1-94E9-33334F26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DB90-CDC4-4DE9-BC88-49660DC9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DE0-5429-4A1F-A0E8-2300C377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973C-338C-4731-844A-08F3F59E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9B38-7E84-4452-8207-02FAEF2E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3EEF-CF85-4225-854D-2282FBB5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36DFC-EC80-4031-9218-32E05199D7A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ly Father, Lord God Almigh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the Potter, we are Your c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uld us and use us for Your great serv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ght of the world, shine through u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2   Отче небес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тче небесний, Боже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Утішитель, Дух правди 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юди присутній і Всевидюч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 тут між нами, нас просві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ly Father, gracious and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e us, Your children, from day to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dwell among us in might and pow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 us, be near us, humbly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тче небесний, скарбе ласк многих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, Своїх діток, не забув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, вселися в серцях убо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и нас, щастя нам 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now upon us in all Your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us Your peace in this world of str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ly unite us in love and friend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s is the praise for ever.  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тче небесний, збав нас від сквер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чистотою душу вкрас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Твоя ласка радість нам вер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із неволі, Боже, спас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8-08-02T00:57:57Z</dcterms:modified>
  <cp:revision>15</cp:revision>
  <dc:subject>Slavic hymnal Гимны веры христиан, Ukrainian hymn 32</dc:subject>
  <dc:title>Heavenly Father, Lord God Almighty / Отче небесний, Боже могутній</dc:title>
</cp:coreProperties>
</file>