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216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7</a:t>
            </a:r>
            <a:r>
              <a:rPr b="1" lang="ru-RU" sz="3600" spc="-1" strike="noStrike">
                <a:solidFill>
                  <a:srgbClr val="ffffff"/>
                </a:solidFill>
                <a:latin typeface="Verdana"/>
              </a:rPr>
              <a:t>	</a:t>
            </a:r>
            <a:r>
              <a:rPr b="1" lang="ru-RU" sz="3600" spc="-1" strike="noStrike">
                <a:solidFill>
                  <a:srgbClr val="ffffff"/>
                </a:solidFill>
                <a:latin typeface="Verdana"/>
              </a:rPr>
              <a:t>Иисус — Друг наш</a:t>
            </a:r>
            <a:endParaRPr b="0" lang="en-US" sz="3600" spc="-1" strike="noStrike">
              <a:solidFill>
                <a:srgbClr val="000000"/>
              </a:solidFill>
              <a:latin typeface="Verdana"/>
            </a:endParaRPr>
          </a:p>
        </p:txBody>
      </p:sp>
      <p:sp>
        <p:nvSpPr>
          <p:cNvPr id="39"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e cares of life upon you ro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al the wounded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strength and grace imp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40"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яготят ли нас заботы 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раны исц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бодрость Он вс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lp you when you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ar you when you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42"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at a friend I have found in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ace and comfort to my soul He br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ning on His mighty ar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ill fear no ill nor har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44"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Иисусе нашёл я Дру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Он душе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пираясь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оюсь я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lp you when you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ar you when you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46"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287280"/>
            <a:ext cx="98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ough I pass through the night of s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 chilly waves of Jordan ro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ver need I shrink nor f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Saviour is so n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48"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охожу ли чрез воды скорб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ны страшные шумят круго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х мне душу не тес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Господь меня хр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lp you when you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ar you when you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50"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287280"/>
            <a:ext cx="98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When at last to our home we g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loved ones who have gone bef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will sing upon the sh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ising Him foreverm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52"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когда мы все соберём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етлой родине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осхвалим мы т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чудно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st friend to have i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lp you when you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hear you when you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est friend to have is Jesus.</a:t>
            </a:r>
            <a:endParaRPr b="0" lang="en-US" sz="3200" spc="-1" strike="noStrike">
              <a:solidFill>
                <a:srgbClr val="000000"/>
              </a:solidFill>
              <a:latin typeface="Verdana"/>
            </a:endParaRPr>
          </a:p>
        </p:txBody>
      </p:sp>
      <p:sp>
        <p:nvSpPr>
          <p:cNvPr id="54" name=""/>
          <p:cNvSpPr/>
          <p:nvPr/>
        </p:nvSpPr>
        <p:spPr>
          <a:xfrm>
            <a:off x="179280" y="3780000"/>
            <a:ext cx="9720360" cy="3492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Друг наш самый луч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т нашей Он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держит нас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Иисус — Друг наш самый лучший.</a:t>
            </a:r>
            <a:endParaRPr b="0" lang="en-US" sz="3200" spc="-1" strike="noStrike">
              <a:solidFill>
                <a:srgbClr val="000000"/>
              </a:solidFill>
              <a:latin typeface="Verdana"/>
            </a:endParaRPr>
          </a:p>
        </p:txBody>
      </p:sp>
      <p:sp>
        <p:nvSpPr>
          <p:cNvPr id="55" name=""/>
          <p:cNvSpPr/>
          <p:nvPr/>
        </p:nvSpPr>
        <p:spPr>
          <a:xfrm>
            <a:off x="9252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9:54Z</dcterms:modified>
  <cp:revision>4</cp:revision>
  <dc:subject>Slavic hymnal Гимны веры христиан, hymn 47</dc:subject>
  <dc:title>The Best Friend Is Jesus / Иисус — Друг наш самый лучший!</dc:title>
</cp:coreProperties>
</file>