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320-AF26-4119-854D-DA63DD85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2EE-DD76-4AF8-8E30-7EAD36F5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C31-F9F8-4848-82D6-B5C4A2D6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DAC-03A6-420C-A041-5A20482C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847-0033-486C-AE6B-FE8834B4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891-0C4C-499B-936F-4244DF2F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A42-5169-4870-ADAB-3B17ABE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F69-BA3C-4CC1-8D73-F0E04719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F74-14D0-47A4-B390-DA2EA4F6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A1C-A1BB-4BF0-AC6E-62A007F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036-AEA1-45AA-9870-E12BED3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DBC-A163-40BF-BCF7-47B386C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C39D9-B586-44C3-9AE1-1D6CEF1497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земного бы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х мой там в вечности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т ли петь мне друз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рю: собранья из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и здесь в мире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вечных ут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ать меня выйдут с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пред мной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ивных небесных ка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я город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свете Господни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мень охватит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восхищенье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искупленных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Творца и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50Z</dcterms:modified>
  <cp:revision>12</cp:revision>
  <dc:subject>Slavic hymnal Гимны веры христиан, hymn 656</dc:subject>
  <dc:title>В тот час, как навеки спадёт</dc:title>
</cp:coreProperties>
</file>