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BBA-20B3-450F-87F0-1DAC3A3C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F73-B35F-4E94-996D-F37F3B6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172-846F-4F9E-8EEA-64126A42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591-881A-4907-981B-939B483B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AE8-4B42-43B0-8457-88F4C993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DF7-D263-421A-87EF-C2272EDD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F8A-0993-4801-9221-2B478B6D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8DC-708A-4CE8-B1C9-0A8049C2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988-775B-4EDC-833A-4D06EA8E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179-BA4A-4CBD-95CF-755AD803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C90-D3EE-4B53-A86C-210564FB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B3C-3750-4EFC-BB9C-EFC8219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C4EEB-3389-4A5E-85D9-BF0EB1EA5C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пришла с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Всевышнего хва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небо и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Господ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наш славный Царь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скажи, где твоё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Он, чтоб жизнь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страшен нам ни м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подвиг совер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рагов унизи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Владыке не ме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всем людя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 крыльях мы ле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свыше, вслед за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еть с Ним, с Ним 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терпеть, с Ним веч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08Z</dcterms:modified>
  <cp:revision>12</cp:revision>
  <dc:subject>Slavic hymnal Гимны веры христиан, hymn 291</dc:subject>
  <dc:title>Наш Господь Христос воскрес</dc:title>
</cp:coreProperties>
</file>