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A98-71CD-4776-B5B8-AC3F291A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F06-0DC0-49B2-88AB-2DD2B4C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240-8E4D-481D-85B5-12C99551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413-013D-4FD6-A9AB-FDEF805D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F08-A2AB-455F-A6D8-4CBE871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02C-E265-4D7C-B7D7-D4193F7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4B8-D63E-47FA-825C-82C4CBBA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DC7-7F2A-4927-BD03-7ABA667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E42-FE1E-4444-AAC9-C64A3374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CD9-6670-470C-99EE-AA394C4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D22-DCEE-4BDE-8B97-54C9C77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633-F037-4F74-85F5-276755A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B6BE5-CB51-40BF-A24D-B8875CDEE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16Z</dcterms:modified>
  <cp:revision>14</cp:revision>
  <dc:subject>Slavic hymnal Гимны веры христиан, Ukrainian hymn 30</dc:subject>
  <dc:title>За тебе Я вмирав</dc:title>
</cp:coreProperties>
</file>