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495-D788-4E8A-A165-F05ADF8C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8A0-A0EA-4519-A379-27F6E93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D0A-DBA9-4C88-9E1C-F3DA7010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74-B353-4C6D-A903-02B7A0BD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A48-981D-44AA-AE6C-03B9200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6C5-EB97-4151-9FDA-9A48E0A5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82F-0747-41B0-BAF4-F88BEB5C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FAE-0DF7-4FD1-9966-45B36DB4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D93-13DD-4CD2-B696-2A2554AD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370-F6AC-4667-B9CF-0ABFB4C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C31-6564-4735-8246-69C0181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453-071C-40D0-BDB5-883E708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DE06-B288-47F9-9B62-EA73E29A79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22Z</dcterms:modified>
  <cp:revision>12</cp:revision>
  <dc:subject>Slavic hymnal Гимны веры христиан, Ukrainian hymn 93</dc:subject>
  <dc:title>The Comforter Has Come (O Spread the Tidings ’Round) / О, скрізь розголосіть</dc:title>
</cp:coreProperties>
</file>