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4C6-389E-460F-BC52-20D36806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788-BAC2-4571-BD9B-9B00EC84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7C4-49A1-4039-A056-86E17262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9E5-8C69-40C4-BC2A-7F82829C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85D-6099-4E4E-B941-1991E594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69C-D70F-4DA7-91D0-86CC0B7F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2BA-05A2-41FE-BB4A-C9200B54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ECC-F2B8-4F70-AC70-3830DF4F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60E-2A17-43CC-B545-8D2ECB0C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87C-20A7-47C3-852D-6EA97355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129-08D4-4F0A-B813-B8659954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AE7-41D2-46FD-A3BB-77DB5876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A1423-A2CB-4F23-8E30-9DBB43EC69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у я скит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лине сумрачной, 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транник, уж пора расст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 этой жизнью, и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служить хочу, Спас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уплен дорого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Царь и сильный мой Власт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сь и вечно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вечно буду я скита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мир святое наслаж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печальному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спошли мне утеш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лый, радостны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, чтоб с ревностью стрем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руд свой исполня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ы свет Твой не затм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смиренной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ету вдохнов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, нет любви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ровь Твоя, Твой крест, муч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дохновя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6:51Z</dcterms:modified>
  <cp:revision>12</cp:revision>
  <dc:subject>Slavic hymnal Гимны веры христиан, hymn 671</dc:subject>
  <dc:title>Не вечно буду я скитаться</dc:title>
</cp:coreProperties>
</file>