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9C1-B76C-41E6-86B7-BF64185B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4E2-B73D-4AAD-9559-34B0F177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B5D-127B-436B-8FB1-34B55610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E04-6BC9-4B2C-BE65-16DD57C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3D8-5760-4D04-AE5A-B5F5697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E79-663A-429B-8EB6-5BEA746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AE3-3427-4032-A34F-F0AA82E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438-9D55-433F-B940-948AD5F9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F3E-3FAE-43C7-A486-A841182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689-5E12-493F-A53F-1C700F3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2DF-55CA-46DE-BB82-89FB8DD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09C-8AA5-4001-AD4E-42F0388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C2D0E-4A71-41D7-A1FA-8F22623623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let me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lif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ever worldl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wilt have me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from sorrow, pain o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dom dare I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alone shall be my pr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9   Father, Let Me Ded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child presume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r how to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Father’s love re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best to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glad heart, while 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e in all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whate’er the futur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36Z</dcterms:modified>
  <cp:revision>12</cp:revision>
  <dc:subject>The Source 3, song number 1199</dc:subject>
  <dc:title>Father, Let Me Dedicate (Be Glorified)</dc:title>
</cp:coreProperties>
</file>