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E21-4B86-458C-8288-9F181EDE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4BF-189A-4538-854B-1AE6E5E2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7FD-1EB2-4DB5-9C47-B5D20B7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162-EA30-44FD-A1D9-E3A0BEB6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A14-DEF2-44B6-89CA-1DF39B31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9FE-79E8-4574-A4A3-C98637E7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C70-7E0E-421C-931C-B0BE8040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A49-E1AD-46DC-8873-0ABE08FA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677-D4A6-4DDC-899B-DD5EC7BB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3D9-F577-4800-A761-BAC9BDB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1EB-C456-4DBB-808A-2A2D41F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870-78CC-44F0-8683-7392B36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392D6-6595-4FB1-B4C7-654EAF5AF1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34Z</dcterms:modified>
  <cp:revision>12</cp:revision>
  <dc:subject>Slavic hymnal Гимны веры христиан, hymn 574</dc:subject>
  <dc:title>В сердце песня новая звучит</dc:title>
</cp:coreProperties>
</file>