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88C-53CD-439B-9CC6-13062742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93A-E56A-4CC1-BE7C-7FFC183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46C-6727-4EC0-8AE2-E909812C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870-AB9C-4BA7-89DC-4470FB68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2AE-88CF-45EB-B41E-DE43BD1A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1B8-A749-48DC-9D8A-29BB743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1A5-05A3-443C-896B-4A14F52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5E9-2DBE-41AC-B314-9060E92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80A-71E8-4030-AC07-7BA2AD48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C80-FBEB-49B7-AF7E-B270B27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52C-25DF-4C1B-A700-BCF6A5E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CB7-7BF9-4563-82F1-E42628F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48455-2637-4B4C-834C-A97CB1A05F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ёт Он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17Z</dcterms:modified>
  <cp:revision>13</cp:revision>
  <dc:subject>Slavic hymnal Гимны веры христиан, hymn 642</dc:subject>
  <dc:title>В моём сердце покой</dc:title>
</cp:coreProperties>
</file>