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3AA-1749-466C-8163-3BD48FF9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9B0-6D54-47CA-984C-B9339C37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E67-3F4A-44EC-984C-59424026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A8A-828E-410B-BDE3-D5A88C7E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B79-667D-4BF1-84E9-BB28354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44B-9249-4BC9-B7B3-322B7022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F7F-359D-46A7-ABDF-6E107DFD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6F3-4945-44B1-B072-0EE18C9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BF7-407D-46BD-8DBB-A410A777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29A-1E78-4A25-A7B1-80E3805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60B-E25C-43A1-9885-DE956A1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5E7-263F-4191-9D67-6D10F7A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4A386-2DF9-4C11-8640-2592057740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ittle town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till we see thee 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ittle Town of 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morning stars,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claim the holy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aises sing to God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eace up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Christ is born of M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ile mortals sleep,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watch of wond’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rous gift is giv’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essings of His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ar may hear His com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n this world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eek souls will receive Him,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st out our sin,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ear the Christmas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glad tidings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Lor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1:11Z</dcterms:modified>
  <cp:revision>10</cp:revision>
  <dc:subject>The Source, song number 393</dc:subject>
  <dc:title>O Little Town of Bethlehem</dc:title>
</cp:coreProperties>
</file>