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316-3020-42C9-80DD-CF28DA5A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266-19E6-4144-9CCB-C90FA76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BF1-C647-41C4-9D53-F4D85973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862-B5FF-4E5B-B8E8-E66CED23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164-E436-4457-B4A9-E7376A1B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07E-3F9D-4239-8A74-F390EDB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143-61BC-407D-800C-AAB4CF47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748-92B3-44B1-B86A-EED6B49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8F6-03B6-4A96-A4A3-E61B0C60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65A-F813-4434-905B-550DFD9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FBA-196A-440D-B5B8-05C1E34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F4F-3260-428F-9A6A-73D7577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B9A37-6F31-4893-B5F7-404A73E8CB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the Weak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10Z</dcterms:modified>
  <cp:revision>10</cp:revision>
  <dc:subject>The Source 2, song number 862</dc:subject>
  <dc:title>Let the Weak Say “I Am Strong” (What the Lord Has Done in Me)</dc:title>
</cp:coreProperties>
</file>