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E3C-D839-4907-BD44-EDF1C1E1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9C4B-BE0A-48B3-97E3-BF059594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2AB-D22C-48D5-935B-085B7E18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56D-2260-4F24-B69C-CAA3B9FC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6DBD-A9A6-4E42-8C89-6CD5C9A7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D03-7D71-4D76-8ED1-C18689C3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7DD-B579-455B-9FD4-2FD02EA7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11F-7275-42DF-9BF2-E5451239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EA4-7390-492E-B5D6-79BB3C2B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745-7828-4463-9F0F-E4B12DF6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238-2226-48A5-849B-C092343D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BDE-B1B6-4080-BCD5-18A20B2D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00F37-0EFC-48FC-B4EE-C557074ACC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тон бесшовный Господь но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ны аро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ой одежды меня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идти я р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итон бесшов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зведал страдани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ак алой горе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умер за Сво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учший дать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дежд запах ка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ходится кру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болезней и слаб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альзам целебный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ежде славной 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м лишь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н Своих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м с Ним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5:18Z</dcterms:modified>
  <cp:revision>12</cp:revision>
  <dc:subject>Slavic hymnal Гимны веры христиан, hymn 837</dc:subject>
  <dc:title>Хитон бесшовный</dc:title>
</cp:coreProperties>
</file>