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635-6F93-4B1D-AF1D-329FF9FC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4A2-C2C4-40FE-B068-1202C2CE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A66-BEA9-413B-88C1-876351BB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6FC-816F-4124-9852-C25E48E5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66B-EA0F-4729-8B77-747BECC4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BD6-C56D-4503-B0BD-A4D04501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D48-2082-4EC4-8D29-A7029CF8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9B6-7083-4B45-8758-7E2F8886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4DC-FD6D-497D-99D2-A2E22AE3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284-9E32-40F8-88CC-6B601DF1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5F8-FBAD-4EC4-9BDB-492A254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0D3-FDDB-4D01-98A3-434B91D8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42353-B606-46DE-BCDD-98275A7FB1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 небесную для серд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слал Отец, нам послал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и ясной собрал Он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Ему за этот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раду небесную для серд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браньи во имя Его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Сам обещал, быть Сам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, чтоб вечный наш с Ним 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ти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этот не знает отрады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, чт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 мы будем, чтоб Он,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ами преб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8:02Z</dcterms:modified>
  <cp:revision>12</cp:revision>
  <dc:subject>Slavic hymnal Гимны веры христиан, hymn 744</dc:subject>
  <dc:title>Отраду небесную для сердец</dc:title>
</cp:coreProperties>
</file>