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31E-4E6D-4E60-99F5-729A50D5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00F-0510-4CC1-81D1-6D7FA69D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9A2-07F0-4C5A-8BE2-57D9774C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048-7412-45A8-963C-CC5B0620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E28-52C5-4CAF-A0EA-7A71D318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B5D-C3F9-4A5E-A81D-1C096B4E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DA0-B0A2-4BAE-AFDE-7938259F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DB6-4FFE-4492-85E4-2EBB430D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A18-EB08-4E5E-9390-91B44AA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FAE-54C7-4062-9D3C-E47548F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BD8-0C75-4184-BFB1-0675973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F8D-4270-41BF-B175-2A2C37F1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28560-0F1A-44C1-A2FE-287B5F228C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блю Тебя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груди моей мал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дух изне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житейской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олела усталост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люблю Тебя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жги в моём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ог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радость и счастие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рным и твёрд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быть во вс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им ближним дай, Боже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кавый смущ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душу мою обма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Боже,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ердыня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дай мне духовно ус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Ты при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удить этот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ховный, порочный и з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войду, о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брачный Тво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й прекрасный чертог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51Z</dcterms:modified>
  <cp:revision>13</cp:revision>
  <dc:subject>Slavic hymnal Гимны веры христиан, hymn 801</dc:subject>
  <dc:title>Я люблю Тебя, Боже</dc:title>
</cp:coreProperties>
</file>