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F76-D2A9-46ED-94D2-E458DAAB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515-2B46-4CD0-8581-33D468A9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EFB-5262-47F9-A1DB-1683203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7EA-D789-4E67-9B5D-0388D3A6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206-E187-4C83-B2C0-C7AB8FE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AD0-D0BA-4B23-A647-8CDD49B7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D77-7C59-46E0-8F11-F1ECA5E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8C3-66CB-4624-8606-C467FDA2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929-1A49-46A8-B3D3-69A1907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728-71A1-4812-BF57-69A48C9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5B2-C0C5-4D75-818E-9917177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353-6870-4F3A-8DA7-7F3DC95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EE0B7-51D5-4CF1-A10B-AE0BF4CE21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48Z</dcterms:modified>
  <cp:revision>13</cp:revision>
  <dc:subject>Slavic hymnal Гимны веры христиан, Ukrainian hymn 17</dc:subject>
  <dc:title>Від гріха я спасен</dc:title>
</cp:coreProperties>
</file>