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6FC-287C-4782-AA13-8A62F175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1C0-7F0A-4774-AFDE-FEEA4B2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C5B-0FF3-43F6-8EA8-5B64BE6A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C61-CE7D-47F7-8575-0BE36AA0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92D-B4C3-4F10-BFD2-AC88409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C7A-F8F5-4F1F-981B-DD1D4D9B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A13-6B44-414F-9FF3-E298C97A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B6A-DB92-40E3-9825-B2283F0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452-C599-4ADD-B0A3-6581AD66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995-44C5-454E-BA7C-C7E4193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D2D-2447-486E-BC84-3DFB98BB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6AC-312A-44F5-8238-0A730D41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E4303-61DB-45ED-95F7-38E5954C23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11Z</dcterms:modified>
  <cp:revision>12</cp:revision>
  <dc:subject>Slavic hymnal Гимны веры христиан, hymn 511</dc:subject>
  <dc:title>Силой мира облечённый</dc:title>
</cp:coreProperties>
</file>