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11B-7C34-48A7-9486-B5C11E9F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580-49D5-44D7-9582-F8CB8CFC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94D-9495-4C13-B7C7-A969D6B0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C34-60CA-4BCB-87C7-B3BA1219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9F3-3B47-4120-A9A5-091C8FA0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172-DE31-4060-8D2E-7C5728CC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AA6-77D4-488D-8C14-585B1ECE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B41-B649-4A9E-AB5D-DACD347B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1F5-2068-4FC4-A38E-8BE25FA4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AFD-A59B-4458-9391-BF23C7E0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9C9-985A-481C-ABEC-8A88B5F5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B54-D2BF-4073-A29F-04BB3AC5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CC36E-0006-4B10-9787-6C6D04151E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to say, L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who gave me life and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’t explain just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uch You mean to m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have saved me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all that I am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ev’ry day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a light that shine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52   What to Say, Lor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, Lord, I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rn to stand upon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pray that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ay come to know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would guid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single step I t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ev’ry day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Your light unto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 it’s You I live f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 I’ll follow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 I’ll walk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I live for ev’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I live for ev’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I live for ev’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24Z</dcterms:modified>
  <cp:revision>11</cp:revision>
  <dc:subject>The Source 2, song number 1052</dc:subject>
  <dc:title>What to Say, Lord? (Every Day)</dc:title>
</cp:coreProperties>
</file>