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49B-F451-4744-943C-CD5AB3FE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AFB-4EA0-4FBA-A6B2-291D3981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B72-75D1-40B6-96AA-2B57392F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082-6641-49BD-AF7A-37935001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1DC-F765-47BC-B59A-6D7F66A5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BB9-411B-4155-BD62-391FB338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ECD-4C4A-4704-AA20-DEC0E914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230-5791-4E5F-994F-D2933544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96F-BA69-4A6B-9D5D-3C7CB63D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19E-C1C3-4189-96FE-78B4DB5F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A38-4E90-4BD8-B79B-2940A46E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EDA-3B69-49E6-8A92-7BD5ED12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7CA98-E565-4EA4-BCEB-02D6E70E27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w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You so much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than I hav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from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not mad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devoted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67   You Know That I Lov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Majesty, I have one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ever and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give my praise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w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You so much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than I hav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from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not mad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devoted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Majesty, I have one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ever and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give my praise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21:46Z</dcterms:modified>
  <cp:revision>13</cp:revision>
  <dc:subject>The Source 3, song number 1667</dc:subject>
  <dc:title>You Know That I Love You (King of Majesty)</dc:title>
</cp:coreProperties>
</file>