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267-1BE1-4C60-939F-2F5684DB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43F-7F67-42DC-8B2E-8CDF4A9A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150-AF7E-4CF6-92E2-9B4BE3CA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538-242C-4F1C-8106-B950B821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0A2-28A5-4C59-8F40-EE6961BD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B51-591C-4ED4-8056-CA35F54D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C53-FF84-461B-BC7F-95A9E7E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C3B-C78E-4B19-8309-D2822D7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DDA-B07A-4A2C-9517-62590D7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5E5-609F-4291-BDA3-C6E73DE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39F-3366-4AFA-9EAC-1BEB9CF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64F-B379-4512-9199-DF7AD91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6E850-0198-4F84-9B0E-C2873A935E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roubles ass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ngers aff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friends should all f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ll un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thing sec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 ass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, without g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torehouse, ar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m let us lea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God for our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aints what is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’er be den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as ’t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assail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top up our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urage all fai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iumph by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not take fro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 he has t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heart-cheering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rength of 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 goodness we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since we hav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grea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our strong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afety we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our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4:00Z</dcterms:modified>
  <cp:revision>13</cp:revision>
  <dc:subject>Slavic hymnal Гимны веры христиан, hymn 873</dc:subject>
  <dc:title>Though Troubles Assail Us / Нужда ли большая</dc:title>
</cp:coreProperties>
</file>