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04E-65E5-4A68-9F93-BF41D760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177-E548-4259-A6EC-8067AA9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C58-3ADF-457B-9381-FE077241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587-701E-41F7-B624-0B2E53EF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B49-690B-4BE8-AD19-A8A76CE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53C-91A0-422D-AB14-FB1785A2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6F1-95B6-4B11-88EA-672EF11C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C09-60A5-4CEB-AC67-9E6EBD3D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6A0-795D-4A59-AC5C-CC22D7E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D59-1CD0-48D5-8A57-94D794D3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E81-55AF-443E-9809-8C87BF0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C78-896C-4C72-BCFF-09F5DF3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1B09-9246-4697-A998-12E6910E7F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, братья, во Христе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 вами мы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 и вы, сёстры доро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больше вам не видет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ремя здесь мы провод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ясь на ниве в этот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горе мы вместе дел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стал час разлуки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щайте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е наши, все друзья, про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мы будем многие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, и вы нас добром вспоми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мять навеки да будет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вам прощальная теперь проп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е всё, что сказали мы в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ех да будет любовью сог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хранит нас милость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и недругам нашим: 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м вредили много, много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е вам прощаем, это твёрдо з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м свидетель в этот слав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27Z</dcterms:modified>
  <cp:revision>12</cp:revision>
  <dc:subject>Slavic hymnal Гимны веры христиан, hymn 747</dc:subject>
  <dc:title>Прощайте, братья, во Христе родные</dc:title>
</cp:coreProperties>
</file>