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BDA-A07C-4633-9040-69CB851F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007-4F97-451D-84D8-0E7FC8D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FC5-1839-40DD-A199-D081C3C3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EAB-9856-4329-B3AF-22D5BF6D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C3D-D8F0-46E9-8CD6-428F34A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819-A487-40F4-AA3E-F5013C70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AA4-9062-4983-9163-46B0B0A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4B9-0D74-4960-A668-BD37EAF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5B6-EEDD-4D7C-8A3E-7E119CD1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056-D3CE-4454-B710-44465E2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D23-2016-4945-BC37-0F9AC96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45D-A8AF-4C8C-AEBB-E9822E3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0E7B-03F1-41A5-8D75-12F897D64E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, к небу т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й любви будет Он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транник, к небу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близится грех к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вперёд по свят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света ли пред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сказал: «Буду Я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когда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 радость вечную ты в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03Z</dcterms:modified>
  <cp:revision>12</cp:revision>
  <dc:subject>Slavic hymnal Гимны веры христиан, hymn 457</dc:subject>
  <dc:title>О странник, к небу ты на пути</dc:title>
</cp:coreProperties>
</file>