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8B8-6578-4583-9DF6-81DB5F0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98D-BE36-450E-993E-7B51819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E58-F090-4FC9-8420-E4073659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996-D0D1-4465-BFCC-D4A4B059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E46-C9A7-4CEF-BB84-DDD0FCC0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615-FA12-4F9A-BB56-D82AF47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2B4-6AF0-404B-8990-9A0CB797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C8C-D876-4E1F-9B50-46930C1E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308-46C2-49BF-93E1-701E64C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61F-342A-4BF0-85E5-5B02C78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6A0-AAC8-416A-8EBD-307FF53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1EC-E24B-4DDC-AFB5-ED686A3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D591C-FBFD-48E6-8474-9B741C09D1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ещё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зким тернистым тро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емя Христа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елит Сам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силы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! С Ним крест на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лгофы не трудно 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трудить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роемся вдаль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пре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57Z</dcterms:modified>
  <cp:revision>12</cp:revision>
  <dc:subject>Slavic hymnal Гимны веры христиан, hymn 502</dc:subject>
  <dc:title>Только немножко нам</dc:title>
</cp:coreProperties>
</file>