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928-C51C-4056-9D93-E6A4D8FF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3C0-5441-4A4C-8CB9-C43002F0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F01-560E-48AE-BF58-ECF76234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09D-E518-4BCB-8084-B09383B3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F99-3533-4659-98D4-BC353E7C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DD6-BCC8-43AD-B0D2-044B6D5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FFB-4F58-45C4-87F1-BF9447C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829-B409-4FEE-A8B7-616B857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B18-93EB-44C8-951B-2569F731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E17-315D-490D-82EB-A9688C32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592-F2A4-4CDD-8D3C-94D2EC9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8FD-F482-4971-810D-8FF5380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21F5-C089-4BD3-9848-C54AC697D1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His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bad times and th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roved His love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00   I Will Always Lov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tru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lace my hope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been my hid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feel afr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taste, come an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oken in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God of the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st, and the w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shame fall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faces shine with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14Z</dcterms:modified>
  <cp:revision>12</cp:revision>
  <dc:subject>The Source 4, song number 1900</dc:subject>
  <dc:title>I Will Always Love the Lord (Honour the Lord)</dc:title>
</cp:coreProperties>
</file>