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9DD-8D42-4BC8-978E-6DAB71E6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60F-7B6F-4AA2-A18A-CC4FE96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55A-10F9-4611-9C0A-EDBB8F89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132-2428-4593-8CB1-52924F9E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6BA-FC7B-4A93-9300-BA8CF5E0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2F8-C7F4-4707-B3AC-3BDE1385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20D-EB2B-4DA8-BD1F-0458CD4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957-E4D4-442D-B30C-CF8E6FCD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AC1-5EDB-41BC-A7DB-790BA16E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49A-98C8-4082-A2E7-F344AEE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182-5A32-4DA1-A082-75DB8818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EB2-A964-4A58-8F55-92E78FE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F6386-F9E6-4C23-818C-38BA4A70F8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oly Spirit lives i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ppiness desc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ites the people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enemie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reigns abund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peace, no strife 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protects them faithfu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nee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dwells in 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ation is at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is ruling in thei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happi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40Z</dcterms:modified>
  <cp:revision>13</cp:revision>
  <dc:subject>Slavic hymnal Гимны веры христиан, hymn 741</dc:subject>
  <dc:title>Where Holy Spirit Lives / Где Божий Дух в сердцах живёт</dc:title>
</cp:coreProperties>
</file>