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834-1845-43D3-9AC4-94B2D469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238-8C0D-461B-BA0A-E772FECA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9F8-7100-43A3-8443-12585FA7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1C2-417D-4B10-8AB5-CCAFC0CA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F72-83C7-4B85-9A16-2274221C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DBE-7025-43A0-96EE-76A2A802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8A1-7BB5-41A4-BC05-8B50472A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E30-3BFE-450E-B2BA-2D486792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5FE-DB1D-4B26-9129-13D4F464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43E-19E0-4293-B3A4-610F7FBC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C28-D533-4CE7-8C8C-D80B840F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B29-4A83-4DB2-9AF7-B3ACB519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7F4D3-0DD2-4F72-860A-60BF1E285E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ere are the reapers that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the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sickles of truth must the work be 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one may rest till the “harvest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де же жне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где же жнецы, чтоб теперь со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олей, злом богатых, — добра сно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пами любви надо труд сверш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тени ночной класть нельзя сер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out in the byways and search them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heat may be there but the weeds are t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earch in the highway, and pass none b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gather them all for the home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щите колосья среди тра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шеницу средь плевел найдёте 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бросьте колосьев, что у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те их в житницу прин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elds are all ripening, and far and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orld now is waiting the harvest t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reapers are few, and the work is gre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uch will be lost should the harvest w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т колос созрел и к земле по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жатвы великой мир скоро жд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ников мало, а труд вел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длить же нельзя, ведь всё пропа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come with your sickles, ye sons of 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ather together the golden gr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il on till the Lord of the harvest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are ye His joy in the “harvest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рите же, люди, свои серп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ите с обильным зерном сно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тесь до встречи Царя-Г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житницу Божью войдёте 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5Z</dcterms:modified>
  <cp:revision>14</cp:revision>
  <dc:subject>Slavic hymnal Гимны веры христиан, hymn 534</dc:subject>
  <dc:title>O Where Are the Reapers? / О, где же жнецы?</dc:title>
</cp:coreProperties>
</file>