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F94A-CDB0-4758-8241-479890437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7985-94DF-432E-840B-4A29C012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EE12-6FCC-4226-861A-19E9F67F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E6CD-5B8A-431B-A323-2A86707F6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67F7-3C85-427D-987E-BD50E654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5057-869F-4CB8-A7F8-140B1C34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86CA-92BC-44CD-81D0-EAE9C167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B418-620E-46A2-8ACC-DA5593AC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BD9B-D5E9-437E-AE9A-215340F5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B076-046C-45E1-BE5E-FC624657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D633-006B-422D-96D9-DBC2945B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7558-F020-4BF5-9EEE-2C88041A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7ECE3-0ED6-413B-87CC-AC10807B4B2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coming to earth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if it were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ing in power and love to reig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if it were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неба Спаситель прид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Спаситель придёт оп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Его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 любви Он придёт соз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Его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gns of His coming multip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ning light breaks in eastern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tch, for the time is drawing n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if it were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дрожит, шумят мо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горит з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и жди с небес Цар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Его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 to my heart ’twill b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shall crown Him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Он нам 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престол вз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 to prepare the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ill come som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Он Свой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Господ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ing to claim His chosen br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redeemed and pur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is whole earth scattered w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if it were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рковь Свою к Себе возьм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й, спасённый Им 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но мгновенье собер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Его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 to my heart ’twill b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shall crown Him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Он нам 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престол вз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 to prepare the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ill come som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Он Свой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Господ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tan’s dominion will then be o’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at it were to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rrow and sighing shall be no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at it were to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мия главу Христос сокру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бы то Бог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и и горести прекра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бы то Бог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shall the dead in Christ a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ught up to meet Him in the sk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shall these glories meet our ey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if it were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ёртвых поднимет зо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ут к Нему на обла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их будет вел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Его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 to my heart ’twill b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shall crown Him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Он нам 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престол вз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 to prepare the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ill come som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Он Свой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Господ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ful and true would He find u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He should come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tching in gladness and not in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He should come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и Богу пусть нас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придёт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йте среди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Он придёт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33Z</dcterms:modified>
  <cp:revision>13</cp:revision>
  <dc:subject>Slavic hymnal Гимны веры христиан, hymn 323</dc:subject>
  <dc:title>What If It Were Today? / С неба Спаситель придёт опять</dc:title>
</cp:coreProperties>
</file>