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0CA-3D60-4FE9-9F39-21CB0C6D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627-7A80-4715-99F9-83699CBB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38E-17A6-4556-B815-1E19A6A5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5B9-79C4-48A9-9C01-5FA58F17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8FB-445D-47D2-83AA-261AD11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E6F-5B8C-4475-93C6-3B26E817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D98-4D55-47AE-8E0C-B7469575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D0C-0E09-454F-9491-790033D0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55E-1F0F-498B-8169-6B2C6247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B38-0BCD-46A9-BB8F-A45A00D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D19-078B-452D-B293-D4E1DF2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B63-D383-41D6-823E-480AB9DE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3370D-8B05-4255-A2EB-4FB18BDE73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жив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дать мне обе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, жи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десь я только жду призы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сердцем довер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распят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беждён Его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страдальц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придёт уж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еня туда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33Z</dcterms:modified>
  <cp:revision>12</cp:revision>
  <dc:subject>Slavic hymnal Гимны веры христиан, hymn 629</dc:subject>
  <dc:title>Я знаю, жив Христос Спаситель</dc:title>
</cp:coreProperties>
</file>