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AC11-33FE-40BE-A324-A355CFB5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4EF9-7E3A-478A-B58C-85BEAA2F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1B5B-6895-46C0-A91C-E0EF8123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2987-3C5C-4AF5-8885-FB45452B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5AE3-B414-4C3A-870E-B4F62395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D71-ACEA-4737-AF6B-782246CE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FCA7-C9B9-4E3B-9D8D-92025F25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3C7E-A7A3-4085-8AD5-AA801822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A625-4609-4D9A-A80B-F64000E2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53E9-E190-4A2A-90A5-A9FAA62E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FB90-F50B-46BD-8D39-132713CF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4059-604A-4A6D-A341-9EB5351E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D3851-B5FA-4C39-853F-5715B06FB1B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к Младен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е, с весель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скорее к Нему в Вифле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сего творе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 Госпо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те к Младен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е хоры, пойте с ликовань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е силы, звучите хвал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о веки, слава в вышних Бог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 Госпо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е, с моли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Тебе прихо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честь и славу от сердца 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е Слово явилось во пл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 Госпо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1:41Z</dcterms:modified>
  <cp:revision>13</cp:revision>
  <dc:subject>Slavic hymnal Гимны веры христиан, hymn 242</dc:subject>
  <dc:title>Придите к Младенцу, верные с весельем</dc:title>
</cp:coreProperties>
</file>