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AA0-136A-41F8-8EBC-738E6B1E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C97-A9A3-45B9-827B-E6185A54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D86-F3E8-406F-B0F4-DF33C4EE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590-E7CB-46A5-9B29-5B1FA61B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560-4212-41CB-A800-A138C5F5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D1E-9326-4B5E-9AE6-A0364328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78E-A5C3-4238-8FD3-A096F9C0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930-B759-4AE7-B7D8-6A7EDFE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E1E-3D7A-44FC-B972-F7BF56B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402-33E1-41A7-8B7C-66B491B6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457-88D2-484C-B80D-61B5620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9C8-E005-40E7-9E5A-DCADC93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32554-8E5E-4EB5-A6F4-EC53E947C0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тро юности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радостной рас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призыв вл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ять Христа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утро юности прекра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Нём благовест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милост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грешным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м же силы,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душ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ая жизни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трудом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23Z</dcterms:modified>
  <cp:revision>12</cp:revision>
  <dc:subject>Slavic hymnal Гимны веры христиан, hymn 526</dc:subject>
  <dc:title>В утро юности прекрасной</dc:title>
</cp:coreProperties>
</file>