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6DE-AB18-400C-BBA0-DF688414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0DB-F374-4735-9643-03AF1BDE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897-2966-4189-9411-2BCC1508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44C-5AD9-4829-A9DF-F160DB9F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211-E8BE-4C05-9D46-C9F00DD5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656-6EB8-4098-B180-A3A6A9B7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29F-C856-481E-8C05-D316B989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687-7D10-485F-94E4-592F652C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9A4-8844-426A-AFF3-1342DBD1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A28-7E27-4E91-B2ED-CA513DF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05A-46BC-47B5-9700-740B41A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85E-54F9-4726-8472-4292C81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B6832-2F85-4BA6-8E2D-AD254863BA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beams our Father’s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lighthouse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оза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е Он огонь прибр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храны пор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the night of sin has sett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the angry billows ro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греха жесток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стонет и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яжённо путник смот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с берега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m your feeble lamp,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светильник, бра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 гибнущий пл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 волной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т гибельный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5:00:01Z</dcterms:modified>
  <cp:revision>14</cp:revision>
  <dc:subject>Slavic hymnal Гимны веры христиан, hymn 555</dc:subject>
  <dc:title>Let the Lower Lights Be Burning / Ярко свой маяк Отец наш</dc:title>
</cp:coreProperties>
</file>