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CF0-452C-4EF7-93A2-4A1AE38A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5490-B9F9-412E-9E35-7017C797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F75A-366B-4288-BD9D-A8CC038C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70E3-810D-4266-B049-F05EF056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3969-998E-454E-974A-342F8E09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936B-128C-45E0-ADC8-F7D44C68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2EBD-F400-4B6D-A128-3D550CAB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10FC-B899-4DE3-8467-F041229F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A663-A260-49DC-8F07-6DC5417D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F4A9-BD84-4649-A09C-16E45109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DF46-D30B-4132-827B-8758170B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3127-67D6-4F7E-A0B3-DBE8C026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F9B37-D80E-4E20-9411-4833FE528EA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Friend we have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ins and griefs to be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privilege to car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thing to God in pray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за Друга мы име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Друга мы име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к жизни пробуд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мы счастием владе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источник вечны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at peace we often forfe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at needless pain we b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because we do not ca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thing to God in pray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как часто мы стра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 терпя напрасно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росить мы забыв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дин помог Он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we trials and tempt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here trouble anyw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ould never be discourag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it to the Lord in pr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шенье ль нас трево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ытки ль тяжки для кого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пусть из нас возло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свою всю на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we find a friend so faith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ill all our sorrows sh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knows our every weak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it to the Lord in pr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дин среди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свет средь тьмы про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Христос Один мгнов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горе облег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we weak and heavy-la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umbered with a load of c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Saviour, still our refu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it to the Lord in pr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ываем мы под зно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й жизни сует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лишь Ему откро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душ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thy friends despise, forsake th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it to the Lord in pr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arms He’ll take and shield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wilt find a solac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нас друзья забы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ем Господу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ристос проявит в си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верный Друг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45Z</dcterms:modified>
  <cp:revision>13</cp:revision>
  <dc:subject>Slavic hymnal Гимны веры христиан, hymn 594</dc:subject>
  <dc:title>What a Friend We Have in Jesus / Что за Друга мы имеем</dc:title>
</cp:coreProperties>
</file>