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B07-9287-4788-94B0-66D3D823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88A-85E1-4378-AE59-378E975F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926-B46B-44CB-BB66-741E4D9A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D27-1A48-47BE-A01E-FE92476B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ABA-AA8A-4C3F-B3DD-F7CB2B0B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2B9-C41D-466F-94A1-825FF819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E20-EF72-427D-B116-E1D5B3B3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763-5B64-41FC-8600-633227F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DAD-1E80-45B0-8B45-1FAB3871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962-A9F9-420D-A556-BCD455A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0D2-6C9E-48A8-80A5-5818D37A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040-DF54-48C0-8BBE-837B08D9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D983A-DC9D-46AB-9FBC-E8C941A72D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я веч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влечёшь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юсь тебе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безмерной глуб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се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вет, что следуешь за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оптящий факел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яркий вер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из страны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ветел и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я вечная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, что в душе м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ла ужас бурь и г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день и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там, где Царь 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тьмы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рест, хотя внушаешь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ез тебя мне нет ве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всё кладу во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я к славе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52Z</dcterms:modified>
  <cp:revision>12</cp:revision>
  <dc:subject>Slavic hymnal Гимны веры христиан, hymn 831</dc:subject>
  <dc:title>О, Божья вечная любовь</dc:title>
</cp:coreProperties>
</file>