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CAA-CA1A-4C29-B39F-BD1A44FF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98C-0D86-4257-B7D4-1A777193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BD8-5402-424F-A23C-10D49F63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15A-E750-4B90-BF38-2D1A82A6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160-F323-4273-94AC-AEB48317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A36-81CF-4A77-9C1A-893DD5BD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168-5E85-4826-BB53-78BD3E2F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8D7-3BE5-4E94-8933-395DDC76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B1A-F599-4AA5-9B9D-5F75248A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86D-D65D-4A67-A78E-703DAFCB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526-96D2-47C7-8E18-2AC41041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0C6-F58C-421D-BDD1-CEBBA3E8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EC21F-1E1E-427C-AC94-E99B5E3A66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I once held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ilt my life up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is world reve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ars to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1   Всё, что я цен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я ц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ил жизнь на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чтает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б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I once thought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counted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nt and worthless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pared t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терей сч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атой,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л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Тебя, Иисус, знать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важ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жизнь, лучше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им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know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ound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nown a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ебя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ывать в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ести Тв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ossess by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 could not ea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-surpassing 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правед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бесценный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Тебя, Иисус, знать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важ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жизнь, лучше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им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o know the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Your risen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kno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suffe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ья 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по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трад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come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death, m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ith You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ever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елить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, и смерть, и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и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Тебя, Иисус, знать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важ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жизнь, лучше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им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12:22:16Z</dcterms:modified>
  <cp:revision>11</cp:revision>
  <dc:subject>The Source, song number 11 in Russian</dc:subject>
  <dc:title>Всё, что я ценил / All I Once Held Dear (Knowing You)</dc:title>
</cp:coreProperties>
</file>