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1F0-FDE5-4637-8C95-8A34AD7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DBC-EF45-456D-B028-7BB79021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092-0BA9-4CEC-8992-73A27394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5F3-BA5D-4650-A6FE-B7D38C22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AED-4F5E-437F-B252-21232DD5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7AA-7C08-4FFD-871B-4F91D8D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4BB-37B4-4F76-A839-46F365D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CEE-336F-48CD-8148-F7AF0707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0FC-0B82-4957-9809-788BCE8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C9B-A45D-42D0-B5A5-391C893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9E0-5413-40BD-B134-7A8C755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5A4-B55C-4E82-B4B3-8E842B8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2CB7F-7DF7-417A-BAE2-4DC7F90C56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</a:t>
            </a:r>
            <a:r>
              <a:rPr b="0" lang="en-A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исус,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т подобных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жизнь, я вос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чьи Твоей дивн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риют, мой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и сил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, всё, что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удет слав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и, земля, Господу тв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о, сила и слава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растают, моря зашум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иц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о делах Твои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люблю, буду в вере сто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Твоя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0:41Z</dcterms:modified>
  <cp:revision>17</cp:revision>
  <dc:subject>The Source, song number 367б in Russian</dc:subject>
  <dc:title>Мой Иисус, Спаситель / My Jesus, My Saviour (Shout to the Lord)</dc:title>
</cp:coreProperties>
</file>