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270-B43C-48E3-897B-13118494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553-BC99-47B3-90FF-8BB90444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FF3-1F32-46B2-90B1-F28A0531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BD9-E6E6-4D88-BFA1-26860DBE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85F-2EBF-4DBE-A5F2-2541C95A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FDF-2830-4930-A34E-2647979A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3BA-B590-4250-878F-4B4B002A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012-83F7-407F-AAF4-6197FFC8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9F3-7462-4200-B05E-CF9E25B2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45E-1F92-47E5-9B4C-DF3A3897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63C-F2B5-4683-A4AC-E3594554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6CB-1C22-4786-9EBA-E4FF3D8F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A0FC5-6382-4AC5-A4FE-B17437B7C3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для Бога, всё друг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ты не назы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,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ервый пыл от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ив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— су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в нём от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блаженство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для Б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ирай борцов за в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круг знамён Его пол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опись, пока ест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тысяч душ несчас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без Господа влач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и им, что ты зн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паситель твой бог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идетель ты пред 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и, что видел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овь Свою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ённым дал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них дней твоих вес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Ему и зре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ень жизни — сед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себя всёце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то предал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дил презрён и бе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кто был Христу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награды не тер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в тебя,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покой тебя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03Z</dcterms:modified>
  <cp:revision>12</cp:revision>
  <dc:subject>Slavic hymnal Гимны веры христиан, hymn 443</dc:subject>
  <dc:title>Жизнь для Бога</dc:title>
</cp:coreProperties>
</file>