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84A2-CF49-44AE-B389-E6ABEB5BD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1E72-3917-459C-A76A-EA39954A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3CB3-4358-4AF5-A8FC-2B88A64B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63F0-71DA-4F19-B224-31973BDA0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7F78-C708-42FF-B33D-A541026E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1E92-80CD-4577-B2EB-55E7BDFB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30EC-8391-4C0F-B8B7-0753878D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2AAD-4911-46C7-B304-02A75710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E059-D2DD-436F-95E6-7C7918D8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C068-8D01-4F08-BBFB-910C2870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99E0-A789-4A70-8009-EFDF695F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1FA1-5CE7-4CF3-A6E6-7BDE9DFF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4F69C-5C19-4FDB-ABB8-0084BE8F6C0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 воины, смотр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а дан сигн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ые полки, гляд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Господь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репость Мою не сдав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Я прид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а небо отвеч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сдадим вра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жьи воины, смотр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идут полки чужие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тана ве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 падают род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х уж всех бер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репость Мою не сдав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Я прид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а небо отвеч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сдадим вра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мя выше подым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те труб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, дружно все бег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жию войн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репость Мою не сдав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Я прид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а небо отвеч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сдадим вра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ится бой, полки реде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щь уж близ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даются, не робе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ины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репость Мою не сдав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Я прид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а небо отвеч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сдадим вра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идёт Господь наш с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гионы с Н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и радость, и победа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возда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репость Мою не сдав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Я прид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а небо отвеч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сдадим вра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6-06-08T20:38:01Z</dcterms:modified>
  <cp:revision>13</cp:revision>
  <dc:subject>Slavic hymnal Гимны веры христиан, hymn 484</dc:subject>
  <dc:title>Божьи воины, смотрите</dc:title>
</cp:coreProperties>
</file>