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BF2-AAAD-4680-8E9F-2AE563F1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CED-33A7-47EF-9E94-847A5F1A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CDC-C1F2-4B88-8A7B-FDA0C3DA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426-8B05-4334-9115-83660007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BB9-ED8B-4CBE-B51D-EC02D8E0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E71-7C4F-4808-8DB4-BE26DDE4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0B3-0469-491A-8804-C77D2EF4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7BA-A51D-4C3B-BE80-A6BE8AF9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59D-1492-4F85-AED5-DF44835E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821-BC7C-4123-9A01-AA5F7BFA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D38-1C8C-4B25-A172-35DCB9FD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EF4-18A7-4A63-B9B7-AD5E442F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294F7-EECF-47CB-B091-AE8FEEF4D6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трах мене обго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оли ослабне ві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3   Коли страх мене обгор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можу сам трим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 Тебе покла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сний час, чи в час не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ні недолі, чи у ща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и Сам мою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купив мене ці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4:10Z</dcterms:modified>
  <cp:revision>13</cp:revision>
  <dc:subject>Slavic hymnal Гимны веры христиан, Ukrainian hymn 33</dc:subject>
  <dc:title>Коли страх мене обгорне</dc:title>
</cp:coreProperties>
</file>