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501-7BAB-4042-8FD0-F8777134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E27-29CC-40D7-B99A-B9E0AA59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666-C2C3-43A0-BB33-D8C48DD9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E99-7ED2-4EC7-BA57-A3812944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571-AACD-4D36-BD2D-15E23B98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3DB-CE72-4F25-A038-B7D044C6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B47-CD42-4DEA-8DFF-F0C63B46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697-AF7E-4237-AA35-CCBA59FD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120-C49D-4B7C-94EB-1EE66038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C55-70F0-4ADB-B9D0-8A426257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B2A-17A7-47A7-9F23-DE988EB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C08-70DC-4537-9315-79879FFD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5EAF4-64D3-4FD5-ACC5-11BAC8F0D4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хайте вістку святу в просто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и ще маєте ча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м дарує Спас вічне жит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3   Слухайте вістку свя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аль стане загублених дн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робиться сумно підч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що за грішних Ісус кров прол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душі від життєвих спо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жко буває не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що безмірно нас любить Ісу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7:46Z</dcterms:modified>
  <cp:revision>12</cp:revision>
  <dc:subject>Slavic hymnal Гимны веры христиан, Ukrainian hymn 43</dc:subject>
  <dc:title>Слухайте вістку святу</dc:title>
</cp:coreProperties>
</file>