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E2F-5850-4950-BA90-4F2DEE91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BEA-734B-44E7-B2D0-E1035382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A5A-BB94-44A4-8A5B-4EAF3914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194-EC37-4F39-9205-98F64D08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BD2-71BA-42CC-A0CE-1CFF841C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ACD-14F4-4EF3-AA50-686DA3E1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148-C8A6-4846-ADFA-484FF2ED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87B-1542-4725-90DB-8D8B36D8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32F6-3161-4853-91BD-D88EBA18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899-8AE8-4F99-97DE-CB344D3A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9D8-752E-4DFD-876A-20DA0DF8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42A-3791-4DA0-BA33-0FA9D4BA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4A8E5-F0DC-4A49-80C0-6C86191B35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правды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ия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мноте и грехе погиб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ликий Христос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благую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пасёт мир от края до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аждет правды на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олезнь исцел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сть греха сокру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олит все земные страд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братск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плавит ме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я радости сменит рыд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м, сёстрам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есут Христов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отдали за счастье нар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ю юность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и крас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ли во имя своб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зовите на п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всем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вающим слово отра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паситель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лазурных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орил всем «взыскующим град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Божие в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зиждем, труд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е будет раба, господ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лишь братство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гремите ж силь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все да будут еди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3:29Z</dcterms:modified>
  <cp:revision>12</cp:revision>
  <dc:subject>Slavic hymnal Гимны веры христиан, hymn 550</dc:subject>
  <dc:title>Жаждет правды народ</dc:title>
</cp:coreProperties>
</file>