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B650-A04C-41A5-8BEA-452FB569D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150F-F147-4E93-915D-CAE13329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1887-0B58-4194-8897-478B2C942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4E11-7EE0-4340-A9E3-CB69C1A9F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127A-897B-49AD-87A7-2D1B3AEB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E757-60D6-45F8-A930-216D1B03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00FA-5065-4821-972E-BBC6AD5C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51BA-A6DC-466F-BD73-4971B741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A6A4-CD3A-4F02-B64F-B9967D95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CE49-40E7-411C-8F7B-1C955B10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1271-97C5-4AB6-AA51-C295912F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5C4D-FF43-4C13-BBE1-749D8257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1BFBC-8790-4C02-976E-B192276F769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! Почему её не ви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х, кому навек она да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до горечи оби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уша так радостью бед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уша так радостью бед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корбим усталыми сердц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х ликований смолкла пес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нам не радоваться с в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кому же радоваться зд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кому же радоваться зде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Радость! Почему её не вид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йтесь! Чтоб радоваться в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йтесь в печалях и скорб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мог увидеть каждый встре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радость в ласковых глаз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радость в ласковых глаз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йтесь! Другим её дар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же будьте к Господу, друз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ю, как звёздочкой, ве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нущих в небесные к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нущих в небесные кр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4:17Z</dcterms:modified>
  <cp:revision>13</cp:revision>
  <dc:subject>Slavic hymnal Гимны веры христиан, hymn 611</dc:subject>
  <dc:title>Радость! Почему её не видно?</dc:title>
</cp:coreProperties>
</file>