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FE99-31A2-4A75-A55F-9AA349B0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C81-7592-429C-82BD-6C804FC0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46D5-D716-4017-973F-8A4F277D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686-912A-4281-A4FA-40851163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58E8-A350-4B78-BFDD-F25D3CF9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9B4-D46F-4F52-8569-4BCF889C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0E8D-6245-4506-BF7D-BF82AC6D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661-20C9-4973-834C-F296E63D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7DE1-C23A-425C-8940-0DC16789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B53E-E2D9-411C-8383-1A3BDE6A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81D-8DC0-469E-98DE-7C329883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266-43BE-4627-90E7-06D0000E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83A7D-2473-4C74-836F-3CD4E970121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агрянице стои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рновом венц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го спереди связаны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скорби глуб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едном л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жалости к людям и му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багрянице стоишь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телом скорби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позорная пытка ужас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шный час для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равненно боль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, что жертва для многих нап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любовью го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яя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нежно объять мир стремило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многим понят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лпа над Ним злобно глуми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кипетр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лени скор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равствуй, Царь Иудейский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ич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затекшие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я всех ц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остниковую палку влаг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ли тростью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колючкам в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 впалым ланитам хлест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евали в лиц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лилася с че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они всё сильней хохот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традал и терз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порочный над Богом глум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, о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Спаситель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так тяжко том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10:15Z</dcterms:modified>
  <cp:revision>12</cp:revision>
  <dc:subject>Slavic hymnal Гимны веры христиан, hymn 285</dc:subject>
  <dc:title>В багрянице стоишь Ты</dc:title>
</cp:coreProperties>
</file>