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51E-12FB-4FF0-B2CB-0752464B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B07-79CA-456D-9885-11379C3F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235-CC78-4DA8-9995-75C958E9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76C-75E4-43E4-9FD0-8B739D3E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C05-094B-4CAF-9F02-FC5E23B9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148-8DB7-447F-B2E5-AA96F3D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B83-B58F-4443-8FCC-792CDB72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C29-6C88-4AF4-970E-F3C9BD6B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E29-C207-48C3-8F66-C181221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6B1-6C2E-49B1-954D-1692A4D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58B-B283-487C-90E2-93202D9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E59-B665-42F5-8469-778B6A2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E76D4-91F0-4EC4-8B84-6520DBF3D8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од реки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рег зеленью о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л Саронски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колодца Сих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с Христ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епоясан, я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аву пол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н хочет награ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ого сл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корби верю я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 Ем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путь, каким Он 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ть Отца зак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за Ним, путь не тяж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так как люб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буду я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й душой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57Z</dcterms:modified>
  <cp:revision>12</cp:revision>
  <dc:subject>Slavic hymnal Гимны веры христиан, hymn 651</dc:subject>
  <dc:title>Моя душа нашла покой</dc:title>
</cp:coreProperties>
</file>