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649-D87A-49CB-BC0B-C5400983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047-0057-4672-A193-6E3957B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613-05B3-4263-8958-8904F7E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506-9DE3-425E-9B4E-5A45F007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1BA-79EF-4419-A798-FC6C68D9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EB8-57E8-4EE3-B883-7513C9FE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734-1301-4F52-8F2B-6B5EB3B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193-CFC5-416F-99B1-5FE8F00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9BA-64A8-4C5C-84C0-5FE3862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0FF-6665-4B84-B50C-D52D2CC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132-DC4B-4FE0-ACBC-6D4FD60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5F3-2D74-4504-A1C6-D002549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8BA1-248D-45FE-B8EC-A599A3F161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2:52Z</dcterms:modified>
  <cp:revision>11</cp:revision>
  <dc:subject>The Source, song number 243</dc:subject>
  <dc:title>I Stand Amazed in the Presence (My Saviour’s Love)</dc:title>
</cp:coreProperties>
</file>