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A33-C7F0-4F92-A77D-12159E6E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F30-2AC7-42B0-A1F4-EF82A9A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EEC-6550-4317-8396-CB26D1E1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687-BEB6-4D2C-8493-1CC3B225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81F-7BD3-4657-A225-83631410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23F-5897-4ED6-9248-655963BA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F99-AA6C-4DE1-912D-6AFE5AE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D62-87F6-4B11-815D-B17ED154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9ED-5068-4046-863F-9BE67123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529-C8A5-46FD-8C5F-38C30003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290-EAEC-432D-BDED-6D56086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276-6BB0-4707-93CB-F53F08F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63442-3E6C-42A8-AE8A-EE5DC5C8E9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14Z</dcterms:modified>
  <cp:revision>13</cp:revision>
  <dc:subject>Slavic hymnal Гимны веры христиан, hymn 654</dc:subject>
  <dc:title>По равнине океана</dc:title>
</cp:coreProperties>
</file>