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406-F4C7-4134-A42B-B0E7CBE9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2F3-8330-4E9B-BB97-27AB780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C63-1678-4459-B9EA-664E82F3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641-9729-4754-B8A3-EAF4CF49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968-0CE1-4FE7-866D-5FA08AB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6F1-7CB7-4D9F-A553-F5FAA81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91C-474B-4A30-AA39-3E098FE3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B6E-821E-43D6-9537-260914B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894-BBAC-4A5A-8BE9-F9D1DD0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165-AA5F-478F-A9E9-B0EF01E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2C5-32FB-4602-A12D-9A15502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40F-48C3-43A6-9AF1-D4EE235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E20A9-C1ED-4228-ADDF-09675BAA15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a   I Have Decided to Foll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02:23:52Z</dcterms:modified>
  <cp:revision>14</cp:revision>
  <dc:subject>The Source 2, song number 766a</dc:subject>
  <dc:title>I Have Decided to Follow Jesus</dc:title>
</cp:coreProperties>
</file>