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F2B-008D-464B-99E9-0D2206A8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915-AE94-47F3-817B-7405818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5AF-A5C6-4759-9FE0-6893F650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AFB-645E-491F-80A0-56505CA3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731-9E77-4DB4-8916-67CE66D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04D-282C-4071-A526-3FB5E6D9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52A-3235-4196-85AB-D88172A3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89A-CEF1-40EC-846E-47CC4E2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8ED-E887-4011-98EF-9FF847AA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E19-18BA-4571-9895-9CCDB81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0DE-0ACD-4F50-9D4E-6C9DB22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756-34D8-437D-8EC5-6D86D08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2B90E-319D-443E-B147-4058087A9D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02Z</dcterms:modified>
  <cp:revision>12</cp:revision>
  <dc:subject>Slavic hymnal Гимны веры христиан, hymn 501</dc:subject>
  <dc:title>Укрепляйся Христом</dc:title>
</cp:coreProperties>
</file>