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50E-3400-46FD-B464-6B00270C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78A-51B9-44F0-B203-5179603A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937-9EF1-49C8-8D3D-62384B8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2D0-9FB7-47D4-9B0A-DDE9C79A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FC0-5C51-4558-A73E-C9599727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432-0336-4D5C-AC1F-E1D8CB7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282-01D8-42C6-B335-CC4846A8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149-8E05-4576-B189-2C09E978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AA4-EDD1-4C98-BB3C-43870DAA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9AE-010E-42B5-8546-A03ABF1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E15-1EBF-4066-A986-02908AC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57E-6D15-42CB-A3FA-193E1BB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D6420-713C-4726-9F9E-BC69C7AEFE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а, любви торж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приглашён был давн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призыва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же на путь в ту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ешника с радостью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имет тебя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благодат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обитель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подобной ей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нет ни палящего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ури, ни скорби, н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ьоны спасённых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ками и ветвями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там в соглась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азарь, страдалец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ный в жизненном б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нят, как гость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мыслить о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, средь житейского ст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и, Боже,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29Z</dcterms:modified>
  <cp:revision>12</cp:revision>
  <dc:subject>Slavic hymnal Гимны веры христиан, hymn 658</dc:subject>
  <dc:title>Я знаю обитель покоя</dc:title>
</cp:coreProperties>
</file>