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A79-5F93-498E-BAF9-9725BA01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A9E-0C94-4F59-8807-BFE3332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EDB-F784-4003-95CC-BA2EFD88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787-E2B5-4A69-8049-2BFC828A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2D2-1AAF-4C2B-9D51-A5307B35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8BD-1025-406B-BEEF-28AEE10B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C1C-AD85-425E-A927-E7EE3597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DF5-FFD2-4E3A-A5BA-09C708E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053-B887-44E5-9B98-7146984C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48D-CF54-4DCA-BCE2-AF7B415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B8A-0288-48EF-B4EA-2FFBA129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E1E-1823-4698-B959-E1B67D7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C49D1-1B78-4BF3-ABEE-180B3B0949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0:46Z</dcterms:modified>
  <cp:revision>12</cp:revision>
  <dc:subject>Slavic hymnal Гимны веры христиан, hymn 418</dc:subject>
  <dc:title>Есть холм зелёный там вдали</dc:title>
</cp:coreProperties>
</file>