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4AD-B00C-4620-8C8D-DB03153E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4EE-F2B3-45EF-95DB-4D110FCB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713-9CD2-490A-A515-A7BA41F2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4BF-190F-4DC7-B42D-C24DACCD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E20-10CE-41CE-9823-C522D481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363-2208-4FD8-BBEE-97CCFAD0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75F-2976-46EE-AF44-E20587F8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237-B8DE-4ECC-BD8A-1DEBB999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F46-0103-475E-B734-2EB0BE2C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94C-4289-4674-8FF1-CBDF8F5F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D99-43E1-46BC-AF50-9300DFB5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C09-E4F7-468E-A3F9-7F79EC8B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4AF57-2E49-48E0-A990-4F723575B3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essing on the upward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w heights I’m gaining every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praying as I’m on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емлюсь впер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перёд прямым пут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подвигаясь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Тому, Кто жизнь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 силы мне достичь высо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ift me up and let m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on heaven’s table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igher plain than I have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has no desire to s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doubts arise and fears dism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some may dwell where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rayer, my aim is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есен мой земной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учит страх, сомненья жг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корбь близка, а грех гне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тремлюсь достичь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ift me up and let m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on heaven’s table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igher plain than I have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live above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Satan’s darts at me are hur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faith has caught the joyful s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g of saints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ться к небу я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цепь тяжёлую в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ой слышу песни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м поют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ift me up and let m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on heaven’s table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igher plain than I have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cale the utmost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tch a gleam of glor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till I’ll pray ’til heaven I’ve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ead me on to higher groun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ам души моей отк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ья славы не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вперёд, молюсь Хрис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осподь, веди на высот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ift me up and let m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on heaven’s table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igher plain than I have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8:19Z</dcterms:modified>
  <cp:revision>12</cp:revision>
  <dc:subject>Slavic hymnal Гимны веры христиан, hymn 853</dc:subject>
  <dc:title>Higher Ground (I’m Pressing On the Upward Way) / Стремлюсь вперёд</dc:title>
</cp:coreProperties>
</file>