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7D5-90CE-4523-AC1A-8E7D3191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35F-D72B-4BED-B54A-AD981D7B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BEF-643E-484D-9B66-2CADE574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FE8-B1D9-4229-8BA9-83409762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A9E-9D2A-4A39-8021-AE1ED52A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882-12B5-4C76-A606-D8ADEFF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A0D-9FE6-4BBA-B837-DF6B5E84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643-F5F0-4686-8652-6869903C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2B3-3F66-43D8-B8DA-3BF6BC5F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1B6-BA5D-46AC-8872-1247F7A1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E98-C513-4EEC-9574-E1342AF0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789-EF5E-49E6-8DF6-776D27C7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F9387-E3B5-420F-9A54-172668777B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dawn there came with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women to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angel stood bes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cattered all their g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на гроб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жёны с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я туда, смут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там ангел 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quickly, tell the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is risen from the dea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its d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йдите, всем скаж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ечную принё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Mary stands bewild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grieving in he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ees her risen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n’t contain her st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тут в вол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, скорбя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идит в изумл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тоит пред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houts in exul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Lor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ly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Ему в востор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ввуни!» —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о Нём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icked hands of s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nailed Him to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uilt and our transg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caused His ag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злодеев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страданья,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мы на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at, like blood, was f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disfigured b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ask was do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aise Him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авый пот стру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Его ч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 Он труд, Ему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ody then was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Joseph from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own tomb he laid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counting it a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Иосиф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л Его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рёб без страха,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аду своём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uddenly the sun s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ness took its f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had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re be l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лнце лишь блесну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казал: «Да будет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3Z</dcterms:modified>
  <cp:revision>13</cp:revision>
  <dc:subject>Slavic hymnal Гимны веры христиан, hymn 295</dc:subject>
  <dc:title>He Lives! He Lives! / Он жив! Он жив!</dc:title>
</cp:coreProperties>
</file>