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18D5-99E3-4577-A00D-5AA99B25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DF33-D309-4A58-9FF4-BD783CF0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B651-A386-4E65-AD1B-8AF02ABB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2214-31C7-418E-A11D-976FE0F1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7277-C764-4231-A3FE-4E0AD4B0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5924-546B-435D-8FB8-D76ED6C8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6E28-6678-4740-9899-68E58B3A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5DA6-AC32-4BA9-9632-607BEB8A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47A0-98CE-400C-BF07-990827B8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EC45-0876-4F0E-BBBE-F6FD261D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5101-89B6-40CB-A9BE-26144924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36F6-082F-4015-8AC5-CCD4F151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E6154-DDAF-47FD-8779-982F55F9125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паситель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взыв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ь мольбу м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ног Твоих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ду слагаю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ю печаль свою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 Спаситель 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Твоя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а, постав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ла мне: «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вечной рад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ь застав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ь зажгла в груди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жным голо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л душе мо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 бурь в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один п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акже буд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с тобой идти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ты, скор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лачешь ин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борьбы и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у Я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у т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ой кровавый след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обессилеш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тьмы и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ись пред Мной в моль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уть твой оза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ы не пал в 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илы дам тебе.»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ово ист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так сладо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ей больной ду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мир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мой радо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поёт Теб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4:37Z</dcterms:modified>
  <cp:revision>12</cp:revision>
  <dc:subject>Slavic hymnal Гимны веры христиан, hymn 799</dc:subject>
  <dc:title>Господь Спаситель мой</dc:title>
</cp:coreProperties>
</file>