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A8D-5BA8-43B0-8D32-4E824955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CE5-DD2D-4FCC-8C0D-8D9F51F0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E2A-CA0B-48B8-9D53-29277A72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228-7B65-408A-85C2-96A1FFF4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BCD-D7F9-4996-8053-DC7EE73E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422-BA3B-4969-AD7B-CC0934D0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66D-3ED7-4DFB-9168-2426EB20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FB0-F819-4480-8C25-C02AEAED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282-4DE9-41AD-A35A-01FACE36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0B6-3DA5-41E7-9AB3-64C7C8B8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C62-E0D4-4795-ADDB-F0FD162C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606-FC2B-435E-B96F-144EF5C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3D777-FE2A-4BEA-9C07-FEFEBF4584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кой обретёт в полн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doubt not thy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has decl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remaineth no more to be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й беззако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есть яр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ит тебя жизнь, как тюр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nce in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world He appea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mpleted the work He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грех Он в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ободы твоей Он в цеп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ake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Jesus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fe everlasting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зачем же 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енных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ье бывает иль с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now with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never canst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Jesus, thy righteousness,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 н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 надеждо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ты дар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ook, sinner,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nd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Who was nailed to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посмо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весь мир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л на кресте за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was H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Bearer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n Jesus thy guilt was not l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ил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озы и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тебя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from His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ed the sin-cleans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is dying thy debt has no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мерти!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ло твоё для бы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ный ад! Где победа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not thy 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epentance or pray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blood, that atones for the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на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вое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ния жажды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Him, then, who shed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mayest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eight of iniquitie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ами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в Нём правды со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0Z</dcterms:modified>
  <cp:revision>13</cp:revision>
  <dc:subject>Slavic hymnal Гимны веры христиан, hymn 360</dc:subject>
  <dc:title>There Is Life for a Look / Кто поднимет свой взор на Христа</dc:title>
</cp:coreProperties>
</file>