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9A5-5867-4A13-83AB-EA87E30A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5F7-C718-4B0E-BB35-DC55CDE3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CE6-A577-4AA8-AAB9-C768CA58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E6F-678F-485B-A2FB-2106B735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D3B-3994-463F-AF6C-BE13DEDB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26D-6C80-4628-8E5F-764708DD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1EA-3CBF-4FF9-8DBE-9056CB83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105-49BE-478D-88E7-09550C71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5DE-CF14-41D5-AFCB-D2DBA1AB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268-529D-44CF-9E6F-9C6426C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6E9-4478-4CBB-A39A-07A069D8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362-5A97-45DF-B68B-756ABF91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D028C-7A6F-4250-B7FD-18E185BF44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робиться на сер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глянеш ти навкр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их людей, що спокус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увши про Бож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не підеш ― всюди бач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н на батька повс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мати гірко, гірко плач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робиш ти, дитя мо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0   Як тяжко роб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іж братами нема ми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діти батьк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любові ― скрізь розд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правди ні в 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все тому, що залиш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ивий запові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все тому, що призаб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илась кров Його св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ди, люди, схамені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йтесь, до Христа прийді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Нього сили набер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віт гріховний пр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58Z</dcterms:modified>
  <cp:revision>12</cp:revision>
  <dc:subject>Slavic hymnal Гимны веры христиан, Ukrainian hymn 60</dc:subject>
  <dc:title>Як тяжко робиться на серці</dc:title>
</cp:coreProperties>
</file>