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ABA-14EC-4D9B-8C89-B6EF923B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99B1-0726-42C0-A28B-3F52D699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D211-A035-45B8-BB30-C4756F29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08E-7C5E-4242-BEF0-8E359C45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B3EA-5E9C-41E8-890F-B7F34AEA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4441-975E-4293-86A2-E69EC952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1F7D-98AB-4319-992E-113A0458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BC33-2DC4-4CE8-AF35-26D46851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B91-28C0-4C41-A6DC-610B387E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C4EE-E536-4A51-8A19-A88C9AAC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E1F5-F37C-4B58-9891-E2966671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2A7-8A5E-488B-AC29-32476508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E0F53-C7A2-4FF1-97B2-0FA3C98AA5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сь покр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и пел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аяк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е знает с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е знает 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в мире страж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кто-ни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маяк ука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истань верны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истань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ир весь покрыв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в мире э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ждущих люд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дают с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а в тьме но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а в тьме н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кругом темн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ы нет ни в к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ори яс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ь маяк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ь маяк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3:43Z</dcterms:modified>
  <cp:revision>12</cp:revision>
  <dc:subject>Slavic hymnal Гимны веры христиан, hymn 566</dc:subject>
  <dc:title>Мир весь покрывает</dc:title>
</cp:coreProperties>
</file>