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4F3-9253-4F8A-A978-9700074E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866-F8BA-4B73-A9B6-EB9524D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5B1-5DB8-4F96-8D5A-FB49C3BE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E42-2768-4A6A-BC7D-D8DC3CBE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6E9-269E-409A-9A64-D2D68FC4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729-00BD-4D0C-BEEB-109A073F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3A2-CE3D-4A6B-B257-EF81367D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212-2FAA-402B-9E5D-D87125E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EE6-E760-49F6-B5E2-41ADC8BC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D90-8963-45AF-BEEB-03A81B5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5B7-D6E5-42B7-ABFF-C03EA8B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0A7-86DA-42A7-AAA6-4379411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5B009-B147-45DF-B0DE-EBB3E81656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 all of my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,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aid, “I’ll never forsake the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 divine that never can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ound me, shadows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onceal my Saviour and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Light, in Him is no dar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I’m walking close to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right sunlight, eve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my way to mansion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 gladly I’m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, sunlight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0Z</dcterms:modified>
  <cp:revision>13</cp:revision>
  <dc:subject>Slavic hymnal Гимны веры христиан, hymn 439</dc:subject>
  <dc:title>Heavenly Sunlight / В свете небесном</dc:title>
</cp:coreProperties>
</file>