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4221-6433-4799-8B31-06F32F74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3AB-7861-44DB-A5BE-9ADE9EA2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0238-AC17-4E67-ADBA-09DF6871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F918-0A76-4AD1-B963-915F5A70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A9DC-5054-4BED-906A-480203F0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8627-DC91-4003-A292-99149AD3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3415-C279-4113-9C95-7BCE2159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B0DD-B06A-4339-B118-273D0082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8664-2A86-4C91-8F33-452A205B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C39D-5C87-400F-BD9D-154DF694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B55A-6386-4512-A9E4-F76A94AD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20FC-5326-4EA1-AAC0-6D69CAED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FEBB1-AFE8-443F-ABC5-E05104F2C18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Jesus, wayward sinn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Him, He calls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, the source of every bles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and joy will grant an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9  О, приди заблудший греш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заблудший греш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Иисус тебя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всяких благ споспеш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 душу Он проль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ho long for inner clean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and pray and His forg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r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Jesus and rep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что жаждешь очи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молись,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у Он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your sins and all your burd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foot of the cross now le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Christ Who died on Calv’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 forgiveness now rece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хоть, грех, сложи всё б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подножия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дёт благ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ебя, друг, от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ho long for inner clean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and pray and His forg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r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Jesus and rep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что жаждешь очи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молись,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у Он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, the light has shone for 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their sins to the cross have br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rich and for the nee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 salvation Christ has wr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сияет уж для мно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кто грех слож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богатых и убог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пасенье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ho long for inner clean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and pray and His forg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r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Jesus and rep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что жаждешь очи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молись,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у Он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05Z</dcterms:modified>
  <cp:revision>16</cp:revision>
  <dc:subject>Slavic hymnal Гимны веры христиан, hymn 369</dc:subject>
  <dc:title>Come to Jesus, Wayward Sinner / О, приди заблудший грешник</dc:title>
</cp:coreProperties>
</file>