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31F-9250-4700-8338-B9664FC2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9E4-F313-421A-80B3-C2166730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BBC-3818-4BBE-962C-5CBC0AC9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87C-8051-4A79-83D0-C0ED162E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8CE-E80D-4010-B86F-3BBFF4F9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7FEB-EA8F-433D-86C1-49D18E3E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CDC-85A6-4A4A-B707-1D3823B9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79C-6E87-4AFB-AA3B-35D54822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861-A580-4182-9B5E-04B90ABA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362-0999-459D-8DDE-3CFD0968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144E-66BB-4DD5-8053-99DC2750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512-129C-4BB0-8E5B-6ADF9B72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91942-F800-4ED6-A326-A6D4A3C6B2B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ated on the throne, exalt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train of His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s the temple with gl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is f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is f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is fi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3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See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holy is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holy is the Lord of l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1:51Z</dcterms:modified>
  <cp:revision>10</cp:revision>
  <dc:subject>The Source, song number 238</dc:subject>
  <dc:title>I See the Lord</dc:title>
</cp:coreProperties>
</file>