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5DA5-D268-422B-AEB8-AF92EA11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22E9-5874-4147-A94D-766FDB2F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63A-8437-40FF-B4ED-821DDDC6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D8E9-2A5C-481E-99B1-8BD71EE8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F08D-3B0A-40A9-AB5A-B9ED978E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5C7C-3EFD-421B-860C-C8EDBC43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0182-9B5F-447A-A52E-4F1AF496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ADCC-6ECA-44FE-BA5E-4099A872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1CFF-0AAC-468D-A8E6-EFC2601F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E798-B574-4408-8A76-8D4803C0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EDCC-9BB4-4990-AC95-ED8E0EE6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4B6-99B5-4E80-8347-CD9CF3FC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992FC-4F3A-40E1-A5FA-17DC6900D70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ерусалим прекрас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боре чисто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 зарёю я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 и дивен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локом и мё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ильно надел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ющим нар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громко оглаш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ерусалим пре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труд Царя Си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лн дворцов одн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земля мощ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литок золо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як, в тебе приня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нется пыш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амый и бога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ный из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род, где не зн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кладбищ, ни гро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ышно расцве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ды живы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город жизни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бури и трево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бе приют серд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гото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ерусалим свобо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лёз не льют ра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вражды хол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бедных жертв борьб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стенах нап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льётся братьев кров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бе царит всевла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город мир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краше стен т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грани из сапфи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камней доро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огнём сия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жиих о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рко отраж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г Его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7:14Z</dcterms:modified>
  <cp:revision>12</cp:revision>
  <dc:subject>Slavic hymnal Гимны веры христиан, hymn 666</dc:subject>
  <dc:title>Иерусалим прекрасный</dc:title>
</cp:coreProperties>
</file>