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1D09-9145-4E5C-A0D5-E9C82AD86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04C2-3F1E-4B9D-B241-88E99A20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0D08-CF0C-4D82-B767-08B28ADCC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409A-845A-45A0-9465-936EA44B5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D0E1-C14C-4DC1-8B3F-0362413E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B1D2-8F5C-45F3-98B0-4C892E47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922B-C51B-4B2E-B693-01830814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B47B-B9E1-4F21-B4D0-E4F2A04B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C08E-539C-4761-9497-23F58FC8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DA72-EB07-4891-9645-CE65FB01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92A2-A76F-404D-97E6-84FAD8BB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63F3-1BB1-421D-9047-D148EF4C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A8A1F-C85C-4E9C-9CD7-E44E9DC6125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land of strang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ther thou art g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a far voice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on! my son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з чуж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ужого к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луждал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 зов, встав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, wand’rer, wel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 back to h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wandered far aw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home! come 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See the well-spread t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forgotten 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s rest and plen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on! my son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 на гр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 перед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, обилье всю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, wand’rer, wel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 back to h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wandered far aw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home! come 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7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Thou art friendless, home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less, and und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ne is love uncha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on! my son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живи в надеж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, как и преж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, wand’rer, wel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 back to h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wandered far aw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home! come 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, wand’rer, wel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 back to h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wandered far aw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home! come 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From the land of hung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nting, famished 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love and gla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on! my son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траны голод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м иди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и свободно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, wand’rer, wel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 back to h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wandered far aw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home! come 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Leave the haunts of ri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ted, woebeg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ck at heart and we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on! my son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сь путь грешной во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разбит борь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ез сил от бо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, wand’rer, wel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 back to h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wandered far aw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home! come 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See the door still op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art still my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yes of love are o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on! my son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тебе запр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ежь дверь, ты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р Мой полн приве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, wand’rer, wel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 back to h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wandered far aw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home! come 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Far off thou hast wande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t thou farther roa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and all is pardon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on! my son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далё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риди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ю грязь поро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37Z</dcterms:modified>
  <cp:revision>13</cp:revision>
  <dc:subject>Slavic hymnal Гимны веры христиан, hymn 353</dc:subject>
  <dc:title>Welcome, Wanderer, Welcome! / Из чужого края</dc:title>
</cp:coreProperties>
</file>