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1E9-E63B-42A2-8A75-EF3D7349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612-EE9F-484D-A7E5-68BA1156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A36-5ECF-46DC-B748-E25ECA03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932-ED37-48DD-BC3E-1027F721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064-A997-4ACA-A934-F59AECE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F52-0145-40C7-8D32-E1D8EF1F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C55-92F3-45DE-B42B-47962147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F79-91B2-4245-8BC4-7D4F666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6BB-F91B-4E3B-BC05-29C78E4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9E1-2D45-44E7-92F1-7E3B6A7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FD-2CB2-4416-9F4E-DFC82976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E10-27D3-4C71-A224-92B7408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21CCF-2131-44B9-92FF-CD9DAED5BB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рата с ликованьем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: сотворил Господь се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 будем радостны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01Z</dcterms:modified>
  <cp:revision>12</cp:revision>
  <dc:subject>The Source, song number 262 in Russian</dc:subject>
  <dc:title>Мы войдём во дворы / I Will Enter His Gates (He Has Made Me Glad)</dc:title>
</cp:coreProperties>
</file>