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56D-FFEF-4D2C-BEA3-6F5CAAC3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923-6403-4AFA-A06D-DE3F4228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DAF9-9A0D-4DA8-9CE7-A3309964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CF2-49FC-4F94-B652-A71E714D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4BD-CF98-4DC8-A783-968CD696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CED-1E79-4301-A8C8-36761AEC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EF2-315B-49CB-9D12-94F764AC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FAD-B769-4242-B501-5F2A4E15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C92-8249-45B6-8E42-5D742B57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E04-5AC8-483A-8454-DDF8356D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CF2-1024-40B7-85BA-DB444E3A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076D-61D9-4E0E-8B65-7C3E1B81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E5136-B5A2-4132-9CB8-F9853380B1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уть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ир его не зн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уть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ибели в грех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о спас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есть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женных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путь спас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друзья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омые, р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астники в грех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верг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и узн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лся я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этот уз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скорби 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 об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в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 за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нуту восх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блаках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16Z</dcterms:modified>
  <cp:revision>12</cp:revision>
  <dc:subject>Slavic hymnal Гимны веры христиан, hymn 349</dc:subject>
  <dc:title>Есть путь спасенья</dc:title>
</cp:coreProperties>
</file>