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DF4E-273A-4D82-A1D0-1FB6E9D3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C76C-00EF-4595-9CEF-046FDBB2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437-B2F6-4659-87A4-BDF7E64C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D897-F2FA-4E81-A56E-16BC02E8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E27D-9416-434A-B569-4E304CB3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2FFE-E767-4AFF-A6C7-E69F5FFF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EBFB-6869-46E8-99E9-9961A188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A46-17C9-4243-976C-628E031C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D0F-72BC-4E3B-8242-85D245EC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1582-F0F2-4D14-BB6B-2F2C13DC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FCD-EBF8-471A-B1DD-ABF72B71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13E9-0D6A-44F7-AC2A-EA095030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1EA64-8581-4169-9B87-93367E4805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чудесная звуч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ся Церковь повто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стью радостной —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ёмный мир скорбей и слё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ознает весь нар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сть чудесная звуч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пускайте по волн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свет земли сын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жители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тесь бурь 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Божий юби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в шуме битвы зл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ой чистой 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если в сердце ст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пред лицом угро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песнь в день похоро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несите вдаль и вшир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ликует целый ми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еньи да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е в царстве слёз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вечный наш псал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8:57Z</dcterms:modified>
  <cp:revision>12</cp:revision>
  <dc:subject>Slavic hymnal Гимны веры христиан, hymn 572</dc:subject>
  <dc:title>Весть чудесная звучит</dc:title>
</cp:coreProperties>
</file>