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72F-BD51-4347-9662-59369ECF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553-02B8-4819-AC9D-E74629F2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410-91E7-43BA-B74F-074B69A2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A89-6F19-46B2-A0D4-E5E3E64A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959-E355-474D-9363-F9794BF9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369-4EA9-4F15-A9D1-B76AD622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3A7-099F-4697-A1F6-1F37FBE7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8AB-8BDC-429A-A411-203F8716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1EE-4F19-4BB9-9580-FC0B1848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464-F022-45AF-A398-6DF7BFE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5CF-D7D3-41CF-A89A-A981EBCF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24D-CA7E-410E-B9DA-87246202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5412E-ADEF-4CAD-AD00-13CB81C61F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on of Jud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that was s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scended to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more will reig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end of the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earth You re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gather the nations bef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’re the Lion of Jud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yes of al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fixed on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 wisdom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ustice He re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ather’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ngels will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il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slain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ule in pow’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King of all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ord of all lor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a shield in 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sword at 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a fire in 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annot be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Father has told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se You hav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nations that gather bef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s of al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ed to hear of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descended to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was raised up to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ather’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ngels will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il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slain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ule in pow’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King of all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ord of all lor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33Z</dcterms:modified>
  <cp:revision>12</cp:revision>
  <dc:subject>The Source, song number 606</dc:subject>
  <dc:title>You’re the Lion of Judah (Lion of Judah)</dc:title>
</cp:coreProperties>
</file>