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257-51FE-459E-A98F-9289A2F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D12-ECDA-4962-A728-95EBF1C3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074-BFCE-4FDE-816F-25A6FC95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11B-E4F4-4F62-BF0B-7E5317CC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1C0-41BF-4F9C-85E6-6AFBA85D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F3D-0E65-4CF9-9913-6C7E1B2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F7D-740F-459B-A4A7-6697300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BB7-0516-4D11-A5D8-B164640C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884-B5D5-4663-BC28-51D4BC2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C30-B13F-4069-A439-3B922C1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A57-34DF-4552-8BA6-F17B761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F1B-5F49-4598-B7A1-80C751F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2CCC0-13CF-47BC-870F-50365C6D68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37Z</dcterms:modified>
  <cp:revision>12</cp:revision>
  <dc:subject>Slavic hymnal Гимны веры христиан, hymn 830</dc:subject>
  <dc:title>Господь, дай сил идти с Тобою</dc:title>
</cp:coreProperties>
</file>