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0DC4-A888-4F91-B125-FD94610B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77EA-B63C-471E-97D9-3D826572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92BB-AE06-4622-BDBC-ABE5A5B42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9DF7-0E99-4005-8B9C-3C1E39908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286B-0E2E-45EF-8EA5-8899BF4E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A4E6-BE78-4E8A-AD5F-031C13D5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34D5-8663-4770-86A1-4739E87B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5412-A9E5-4884-9638-14EB4962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90B1-CA82-4E92-9B61-4C56E02F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B234-FAC5-4AC1-A04E-CF84C006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F624-BE96-4582-8D24-FF22C91B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B8B9-BFC1-4441-A8C7-4EEC7B05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59A9C-5AF6-40A3-B2B2-40F059288FD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’s my shepherd, I’ll not wan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makes me down to 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pastures green; He leadeth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quiet waters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 — мой Пасты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— мой Пастырь, я ни в ч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у знать нуж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лачных пажитях пас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близи живой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oul He doth restore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e to walk doth m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in the paths of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’en for His own name’s s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дкрепляет жизнь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 путь доб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ляет мне любовь С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утра и до у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a, though I walk in death’s dark va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will I fear no i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u art with me, and Thy r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taff me comfort st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иной смерти ли пой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боюся з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ю Ты; рука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з меня спа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table Thou hast furn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presence of my fo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d Thou dost with oil anoi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cup overfl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риготовил пищу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ду моих враг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ил на голову е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клад Своих да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odness and mercy all m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surely follow 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n God’s house forever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dwelling-place shall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любовь и доб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т за мною в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оме Божьем на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йду в небесны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8:09Z</dcterms:modified>
  <cp:revision>12</cp:revision>
  <dc:subject>Slavic hymnal Гимны веры христиан, hymn 834</dc:subject>
  <dc:title>The Lord’s My Shepherd / Господь — мой Пастырь</dc:title>
</cp:coreProperties>
</file>