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BAC-D38A-4DD4-AFDA-A2EB6944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BD6-5840-4113-91B2-D38B43B4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25F-1559-496F-8677-D32DE881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05D-F5A5-429F-AE39-2DC75E63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C7A-C470-40F3-A49E-A3681544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BCF-B3AA-4D5D-8684-D6CD106A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791-6641-4F20-83D5-45EABBA5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426-42B5-4C9F-9815-E6A04939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B9D-A1A9-4415-8BB3-A4DBBE23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088-17E9-4F3D-9E16-8DDA9B58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0F5-0F30-4F00-9108-973959F0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2CD-437E-483F-ADB0-165F7EDB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1C8D2-861A-496F-9825-78B2FF9C0E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y blood and righteou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eauty are, my glorious dr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dst flaming worlds, in these arr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joy shall I lift up my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ва правед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праведность и кровь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а лучшая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осмелимся пред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жий суд в конц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ld shall I stand in Thy great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o aught to my charge shall 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y absolved through these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sin and fear, from guilt and sh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ний, страшный, суд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танет обвинять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, помилован, прощ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вечн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believe Thy preciou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, at the mercy sea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 doth for sinners p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, e’en for my soul, was 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я верю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чистилище ви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ликой силой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грешник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believe were sinners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sands upon the ocean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for all a ransom p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a full atonement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только грешных, как пе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ах земн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традал за всех в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крови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1:00Z</dcterms:modified>
  <cp:revision>12</cp:revision>
  <dc:subject>Slavic hymnal Гимны веры христиан, hymn 884</dc:subject>
  <dc:title>Jesus, Thy Blood and Righteousness / Христова праведность и кровь</dc:title>
</cp:coreProperties>
</file>