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1AB-BFAF-473A-82F3-CFD2389C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C88-DA09-4FBA-9820-B178759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E12-6064-446B-BDE1-D64EE44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97E-32EF-4F7F-9657-B8949F8B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714-5838-4156-8B7B-8AB6848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DE6-7D38-4809-8554-1215EC9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7B9-8B6A-4819-AB67-D733D1E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23E-50A7-4E86-8D93-A5960E11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682-353A-4740-BFDE-E7919588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1A4-D0DB-4627-B945-615110D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718-8AEF-4979-8FD6-818C745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53F-2B1F-4919-9A8C-C91F188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AF851-064D-4032-95F3-0E69CD6C1F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8:12Z</dcterms:modified>
  <cp:revision>13</cp:revision>
  <dc:subject>Slavic hymnal Гимны веры христиан, Ukrainian hymn 3</dc:subject>
  <dc:title>Спасе мій, тримай мене</dc:title>
</cp:coreProperties>
</file>