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A41-A54E-4509-804B-48AD09F9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D5D-3B89-483F-A970-EB8A667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B68-D570-49EF-AF34-DA720C38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19D-E614-437A-ADE1-DFCE9198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043-628D-4027-AE90-A142ABA3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04C-B641-4A09-AFEB-4683A97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C3F-F6B3-4F91-BDDB-D5BC6062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DB3-E644-4D8E-8D26-F4BBF0A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CEB-3D9B-4530-90F0-2DB67F93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CAC-5615-411A-8D8E-80CDFAE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A88-A13F-49B0-AE3A-DBB9F9B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96E-084D-4361-8C14-39B4F69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33D3B-512C-41EE-A29A-03EE413F79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51Z</dcterms:modified>
  <cp:revision>12</cp:revision>
  <dc:subject>Slavic hymnal Гимны веры христиан, Ukrainian hymn 79</dc:subject>
  <dc:title>As News of Your Impending Death / Коли Господь ученикам</dc:title>
</cp:coreProperties>
</file>