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D0E8-202B-4A1E-9205-BD2F7B42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86B-6652-4E95-9978-8044B3F3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6C8D-F0D9-4FD4-A9E2-D0A664DF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E62A-6FD9-43CA-B6E8-34A691A9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A57-98BA-4887-9A35-02FD8671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A05-2BBF-43B3-B661-47CC3EAF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FFCD-73A1-4E0A-B7E1-BC74B917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A1CB-DDED-4D26-B52F-B2D00559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35A-3104-4BB1-AE22-A383C81C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1C6-B5B9-4353-8D51-841498E8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79B-3550-4E9E-9FD3-36B921B0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E234-51ED-4488-AF59-4BA34E13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07E45-75F1-4D0C-8FFC-A0941F1EF02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hose the cross with ev’ry br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erfect life, the perfect dea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hose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crown of thorns You wore for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rowned us with eternal l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hose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ugh Your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 overwhelmed with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bedient to death You overc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59   You Chose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ost in w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ost in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ost in praise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Jesus’ unfailing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for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res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oosed the cords of sinfu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roke the chains of my disgr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hose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p from the grave victo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ose again so glorio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hose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rrow that surrounded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not My will, but Yours be don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ost in w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ost in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ost in praise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Jesus’ unfailing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for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res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3:20Z</dcterms:modified>
  <cp:revision>12</cp:revision>
  <dc:subject>The Source 3, song number 1659</dc:subject>
  <dc:title>You Chose the Cross (Lost in Wonder)</dc:title>
</cp:coreProperties>
</file>