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A701-6D1E-40CE-91B4-13E02ADFE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1F4B-8AB1-450D-96E2-61A8D1DF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DD95-3103-42AC-8BCB-FD73211AF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3BC5-3F8D-4AC8-A979-8E8EB21C8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BABF-B9BF-4446-9356-383AB056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6A4D-427D-436E-81FB-325A3821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01D1-3B12-4B9F-838D-C641453E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C7F4-BB3F-4A77-B07E-FE010ADF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C7A2-E0FF-43CB-85CA-7E75853A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384D-9322-45F2-90FA-9AB91453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B8A5-A4EC-4A90-B7DE-41DFE726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BCFE-0BFB-4AD6-97C8-BF878325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D4E7D-099B-4988-A793-E8B371D8CB1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уждаюсь в Тебе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елаю всегда быть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Господь мой, любимый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ванье моё и по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ду Тебя, люблю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трудно на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Пастыря, Храни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смогу до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9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нуждаюсь в Теб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чищенья душа моя жажд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оть желает противного 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борьба и борьба, о, когда 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остигну небесных двер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ду Тебя, люблю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трудно на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Пастыря, Храни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смогу до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огда в этой жизни уныл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борьбы утомится душ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ойди ко мне ближе, мой Пасты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с Тобою так жить хорош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ду Тебя, люблю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трудно на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Пастыря, Храни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смогу до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елись Ты во мне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руй чувствованья Тво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верным я был Твой служ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же ко мне и жи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ду Тебя, люблю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трудно на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Пастыря, Храни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смогу до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1:56Z</dcterms:modified>
  <cp:revision>13</cp:revision>
  <dc:subject>Slavic hymnal Гимны веры христиан, hymn 797</dc:subject>
  <dc:title>Я нуждаюсь в Тебе, мой Спаситель</dc:title>
</cp:coreProperties>
</file>