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01C-18F7-4143-98BC-0E4C412B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237-1381-403D-9E8A-7719AED3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8AB-D03F-4000-8170-7521FE31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6B2-A0C7-479E-A3D9-50D6EA12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24E-6B79-4BE7-BBDC-CBFA44D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F6F-0B3F-4D60-B03A-A6F2D015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FF0-B839-434A-922A-327792AF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168-FFA6-413D-9295-E383E14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F83-2810-4087-8A99-3958FBD1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B84-9348-4D6E-A4BF-1B22402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83E-3867-446C-88C5-48CCDDB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B2D-D1E8-4219-B59B-94D6965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318F7-96FC-4AE6-A4A8-2E011B0F8E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angels and dem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keep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’s darkest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secur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pathway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 is my strength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weetest of h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choicest of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atis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epest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n Jesus it’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43Z</dcterms:modified>
  <cp:revision>10</cp:revision>
  <dc:subject>The Source, song number 171</dc:subject>
  <dc:title>His Love</dc:title>
</cp:coreProperties>
</file>