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F3D-8B0C-4F6C-B8B6-3F773B5D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E56-B8EF-4FBD-82FA-1618147B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143-A8B6-458B-8C64-C01C092E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AE5-5138-4F27-9505-B700976E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111-21C2-40DF-AB38-F67E9D6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FE3-C007-47ED-BDF0-EC876BE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BB0-25E8-480D-A677-231DE34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69-9678-4AF8-AC43-18322181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252-16F5-41C7-A3FD-E3869A8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D0E-6450-435C-8D21-6780243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7C9-74B9-47AE-B9DD-EDCB728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606-01C9-48F1-BE76-209AD20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F5783-7537-4459-BBD4-001670CF63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ate that stands aj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its portal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diance from the cross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’s love revea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ajar stands free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eek through it salv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ich and poor, the great and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every tribe and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ward, then, though foe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ercy’s gate is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cross, and win the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everlasting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iver’s brink we’ll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that here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 the crown of lif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e Him more in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1Z</dcterms:modified>
  <cp:revision>13</cp:revision>
  <dc:subject>Slavic hymnal Гимны веры христиан, hymn 371</dc:subject>
  <dc:title>The Gate Ajar For Me / Отверста дверь для нас одна</dc:title>
</cp:coreProperties>
</file>