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27F-CB5E-4A9D-A9C9-E1D4D23E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E96-78B7-4C00-B470-416AF47E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493-04ED-4821-A115-CC801373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47C-2426-45D7-919D-D27FC4D4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8B0-76BE-4C58-BFC6-8E26568C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ECE-59BC-4429-9FB2-A4FA4DEA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DF9-A220-42F7-A4DA-43A6C6DC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77A-BD54-4FC6-828D-C16B5315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434-89F6-4000-9AA6-CAD8E11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67A-B5E3-4658-B6F4-33B4468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CC2-1935-4F75-B605-C5EFEC92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9EC-283A-44F0-B393-CB80EE21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C52EA-A05E-4483-AA9B-75B5CB45C7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O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what I lov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Тобой склоняюсь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ут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у Твоих н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re my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подобн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любов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11-26T21:35:18Z</dcterms:modified>
  <cp:revision>11</cp:revision>
  <dc:subject>The Source, song number 271 in Russian</dc:subject>
  <dc:title>Перед Тобой склоняюсь я / I Worship You, Almighty God</dc:title>
</cp:coreProperties>
</file>