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17A-F202-4AA7-B83D-621006BD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2E9-7474-48B2-ABE1-5E764A18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6FA-A138-419A-B55B-E28D9ABB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D0B-F38A-4E20-9CD7-B7377299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B44-4F78-42CB-B525-CA591CE4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A16-1030-4508-9650-C201C4DC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161-2E41-4103-8FAB-3B558B3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A4E-BE3F-4A4E-92E0-CBBD272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BCB-E8F9-4576-9E2D-68E0A27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391-85AA-4525-B7CC-20B02EF4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D99-928D-4271-8A54-5000394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DA2-2390-4CA6-96DB-6860999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E94C6-D322-4305-87A7-FDEEBEE37B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and marvellous are Your wor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nd true are all Your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sain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hall not fea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ify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nations shall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52Z</dcterms:modified>
  <cp:revision>13</cp:revision>
  <dc:subject>Slavic hymnal Гимны веры христиан, hymn 902</dc:subject>
  <dc:title>Great and Marvellous Are Your Works / Велики и чудны дела Твои</dc:title>
</cp:coreProperties>
</file>