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7DA-4A5D-473A-AF16-8CA1BF7E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B68D-49C1-429A-B102-E798B7B2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9A53-7589-4D32-AC5C-D9467F34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BD3B-10F1-42A8-8820-5062D71A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0665-972B-470F-A855-6814E942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5E5A-6514-4895-934F-20138996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6F6D-7226-4569-A586-54AED710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E034-0994-425A-B34C-E229EB6F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2AAE-4376-474F-A498-C5EFAE5B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186-8EA1-4FC7-B6F5-20107AF6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8B99-ECD7-4A1F-AF4B-91BCFC62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4FCE-18D8-4EE1-8A02-7A0A720D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5809C-0D59-4109-A625-BDC694D64BE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валой к Отцу небес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ердце возно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, Творцу чудесн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славу прино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ёс Христос м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ерть в любви ко м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дав Своё спас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л меня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хвалой к Отцу небесно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еснь благода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 Его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за дар прощ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ощь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, о друг возлюбл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упи в союз с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и ты, искупл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идти с кре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рестом, Отцом возложен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ех влеки серд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и, Христом проложен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рная ов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елай преткнов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жизнию с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ожьи откров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рыть от глаз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се в тебе служ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его най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нашему Учит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жизнь твою прид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с благогов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к стопам От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усть благослов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будет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8:22Z</dcterms:modified>
  <cp:revision>12</cp:revision>
  <dc:subject>Slavic hymnal Гимны веры христиан, hymn 783</dc:subject>
  <dc:title>С хвалой к Отцу небесному</dc:title>
</cp:coreProperties>
</file>