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987-8F17-45B5-8F6F-9C427E7C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B25-23E5-4831-BE4C-8B33A376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BC1-A759-4249-80BE-52D4CD30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B7E-8EF3-46D9-AFEB-80F3AB6D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C9C-A3B5-4A87-BB1A-3BFCCD30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9F2-B64F-48CC-B68A-83FC5D4F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8B1-2EA0-49F0-B55E-049E81C9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3D4-F7A3-4D11-8F5C-A29C1375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6A4-8CC2-4C9D-94B3-3C9DD2D4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504-8759-4027-ABF3-8B6C509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014-70F9-4C14-A814-0A7BB6A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AB7-32B0-4340-925D-17919114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A5A69-9F5D-46A7-80A1-7B2766DC01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99504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2   Were You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20Z</dcterms:modified>
  <cp:revision>12</cp:revision>
  <dc:subject>The Source 3, song number 1592</dc:subject>
  <dc:title>Were You There When They Crucified My Lord?</dc:title>
</cp:coreProperties>
</file>