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E32-FDDD-42B9-886D-06A2DD17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FE6-83B7-44F9-8C08-6D932D0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04C-B764-4B25-A9AB-2634B4C7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330-76A2-4F7A-8F23-2B60FEB7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485-C7A1-4368-814F-1DC39C8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A82-BF9E-4852-AC91-59D7B56B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232-2267-47C5-B55E-EDAFF8B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F31-EC17-4187-9406-736A1667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FC7-9218-44EE-BC55-3E10880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9A7-BA69-419E-8053-FC359EA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16-F3AB-49BB-9E77-B4ABFDF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A4B-AAE9-4A99-8807-E970BD8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7F04A-A46E-4735-BBA9-7494A66251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22Z</dcterms:modified>
  <cp:revision>12</cp:revision>
  <dc:subject>Slavic hymnal Гимны веры христиан, hymn 829</dc:subject>
  <dc:title>О Агнец Божий, Ты</dc:title>
</cp:coreProperties>
</file>