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79C-43E1-4236-B5DA-25598E05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79D-0F96-4078-BA85-F9F4EFA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F42-7A31-487F-BFDC-7D9C0498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4FB-D577-4F6F-A32C-8939B4F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141-C699-45AA-92A7-C4A90DE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2CA-AF53-4D98-8781-652B8436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C2E-A060-4E38-927E-3799460B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C3F-7506-4F24-85B9-E975DD2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C7B-5976-4F1A-A4E9-E487A08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191-4027-4C02-9F15-B793911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A01-CED7-450D-93A3-5F98FAC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747-960C-48AC-A929-0F7587B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34D3-167A-48F9-A6D3-E12AEEFC8A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род убежища, там за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ает беглец молод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он усталый по степи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т он клики врагов за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род убеж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а земле нет, беглец,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ста покоя, ни крова жил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ч, отточенный враждеб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сюду висит над твое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род убежища, тихи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кони мир и соглась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здан для счастья, свободы,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ститель и враг не проникн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54Z</dcterms:modified>
  <cp:revision>13</cp:revision>
  <dc:subject>Slavic hymnal Гимны веры христиан, hymn 331</dc:subject>
  <dc:title>Вот город убежища</dc:title>
</cp:coreProperties>
</file>