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452-5D56-44F0-86F2-6BD5551F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979-84A5-4BE1-ACCD-EB63B622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5E6-85A4-4483-85C0-26A8521A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AC8-F17E-44EA-9ED7-35759CA0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1E3-851F-4CE6-86CC-AB0CF629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143-FE8B-4DD4-B409-05DE04A5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E68-EB95-40FA-B1F4-A8390FDC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F1F-252A-4C34-8F6E-9D5677C9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278-70A0-4274-AEA3-9A65AF73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479-DA07-49D5-9276-4CF497AC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DBC-4BE0-4080-8435-71DAA492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522-0860-4684-B4D2-80B8976E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21C94-3FD5-410A-B326-AC2B87B231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eep the Father’s lov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vast beyond all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should give His only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ake a wretch His tr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велика любовь От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явлена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Сына Он от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шных в искуп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the pain of searing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 turns His fac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ounds which mar the Chose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any sons to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лубока вся боль б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смотреть не мо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ны на руках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 славе,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the Man upon a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in upon His should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hamed, I hear my mocking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out among the sco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, Сын Божи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взвалил на пл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, но слышу голос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других насме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my sin that held Him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 was accomplish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ying breath has brought m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it is fin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привёл Его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и всё — сверши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вздох Христа мне 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ительн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boast in an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gifts, no pow’r, no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 will boast in Jesus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eath and resur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хвалиться не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дростью, ни си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иться буду лишь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жертвою М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I gain from His re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give an ans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I know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unds have paid my rans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что Он дал награду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 меня от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всем сердцем вер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искуплен жер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8:56:01Z</dcterms:modified>
  <cp:revision>12</cp:revision>
  <dc:subject>The Source, song number 185 in Russian</dc:subject>
  <dc:title>Как велика любовь Отца / How Deep the Father’s Love for Us</dc:title>
</cp:coreProperties>
</file>