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516-EA1D-4B4D-87A4-B82950BE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992-AAA7-458D-B9B6-F0C3B075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366-BACF-4BBB-AD27-BA509803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A0D-42FD-4078-888A-90C189BA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8D3-FC14-40A1-9EEF-8BAF34C0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13E-0F0D-4D0B-A542-7BC222B4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BEB-3055-4B16-BAEC-0161AFF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70A-426B-4D08-8F47-0DF06DD9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B08-26C5-41C9-83E6-32F006AD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035-8089-401F-9F90-41B2673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588-19E8-4063-A1D1-F9B5487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9C8-D595-41CD-92ED-C121D18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17A8-4147-445A-9204-C50341C54E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про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те в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слава,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адлежат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обедивши смер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, Владыкой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и ад поп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ё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жди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ранных 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32Z</dcterms:modified>
  <cp:revision>12</cp:revision>
  <dc:subject>Slavic hymnal Гимны веры христиан, hymn 882</dc:subject>
  <dc:title>Ликуйте во Христе</dc:title>
</cp:coreProperties>
</file>