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A1B-1173-4166-A904-ABC891C1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F8C-86F4-4A3C-863A-A727519B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15D-0374-49F7-8D1C-13813BD0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50B-6F6D-4C83-AC8F-4BD25B97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114-AAEE-4D73-80AE-C751CA5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B77-8E96-4F8A-8759-B2E2F1B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911-5299-4680-A4FA-1444FF65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9F3-8171-4770-9571-8064575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D49-E600-4BB3-AEA5-6753E63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9EF-6CB0-4B7F-AAFC-289B829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719-C78C-4EE5-86BC-0B30D98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D76-EC05-429E-B84B-9B11ABFF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4FAD-7631-4183-9810-12202C3755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full of sorrow and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eception and falsehood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ntinue to follow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footsteps of Christians who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st of the evening grow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travel this vale full of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my trust in the Lord wavers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I’ll rest from all f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courage, my friend, do not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Christ, He’ll protect from all f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journey on earth we’ll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ever forget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7Z</dcterms:modified>
  <cp:revision>13</cp:revision>
  <dc:subject>Slavic hymnal Гимны веры христиан, hymn 675</dc:subject>
  <dc:title>In a World Full of Sorrow and Sin / Пустыней греховной, земной</dc:title>
</cp:coreProperties>
</file>