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EAB-3313-47BF-9016-8C9C2740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8EE-769A-4DA1-9F6B-6434534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301-EE8C-4B69-BD72-E4C81B1F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450-706B-413E-8B5C-D6E742B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655-A6CD-492D-8230-1F7A27E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FF8-6AA7-483D-AD2C-5C13A32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03C-2B5A-457D-98AA-3A9C137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DA4-4AD0-475B-A66B-4FD2F968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60F-1D8E-4F4F-9983-5EC9A9F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0D5-E3C5-4F33-BC53-5CC0557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920-8A17-4301-95C5-667AD180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864-25F5-4F82-BDEB-56A0DE68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0F591-ECA7-4A84-94E8-286BA09437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церковь ждёт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его я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идёшь Ты в све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нять её томл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, идя навстречу к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ьёшь поток любви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церковь ж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отя во всяки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пребыв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звучит из уст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Ты утеш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же жаждем мы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ть лик чудесны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именем Твоим к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ышим поно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тех, кто, горды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ли дар спас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и пред людьми я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лавы и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бодрость нам, чтоб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погасли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о тьме не сп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когда раздастся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ених идёт!» — сказать: «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ебя уже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облекшись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ем, Боже, мы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ть на брачном п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смотрим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исходит в сердце к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03Z</dcterms:modified>
  <cp:revision>12</cp:revision>
  <dc:subject>Slavic hymnal Гимны веры христиан, hymn 325</dc:subject>
  <dc:title>Спаситель! церковь ждёт Твоя</dc:title>
</cp:coreProperties>
</file>