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BE5-E89C-40AA-A9E7-9876EA73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763-EB89-4FBF-B113-0C5F717C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504-C4D7-44B3-A54D-9DD6767F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2BE-C254-4B0B-BDB3-FCAF3AF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EFF-1A53-4ECC-AA6C-BCC8755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3B2-950F-4A8E-84FF-E448B18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83F-C489-4051-8FCF-1676CC5D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B9E-C26E-4258-BEEF-4ED931A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235-A467-4691-9C66-EBE0DA5A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51E-DABC-4F57-9A69-0452974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854-652B-469B-9B28-131C0B6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168-7F0B-435D-9BA6-9EA9E25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25B00-A75B-4359-8B6A-2D671CEE14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there is, above all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is love beyond a brother’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fail and le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soothe, the next day grie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Friend will ne’er d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eternal life to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, oh, think how much we ow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recious blood He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ilderness He s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fold He safely br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Jesus! Would you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yourselves entirely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no longer of the 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past new courage b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rries all your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shall be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wards shall your foes be dr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t of blessings He’ll prov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ught but good shall e’er bet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to glory 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9:31Z</dcterms:modified>
  <cp:revision>12</cp:revision>
  <dc:subject>Slavic hymnal Гимны веры христиан, Ukrainian hymn 62</dc:subject>
  <dc:title>Oh, How He Loves! / Любить нас Христос безмірно</dc:title>
</cp:coreProperties>
</file>