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4A2-A226-4B71-92F2-FB8FAD80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CC2-A596-468B-A987-E8B2EEAB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C8C-3F56-47C2-9D89-41BA7D45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E8B-0C3B-49AB-BCD4-7503786E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E63-BA8E-4413-9F73-3908B22E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259-02A8-4C5A-A33E-A6D9C88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D97-389F-4944-9A91-957F9F39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D9B-24A6-4B54-945B-84626D0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8B4-7A85-4203-BB4E-167254A7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B68-823A-4004-AA04-255A67E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951-78C0-4282-8A7D-CDCFC97C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6C0-FE80-4BE1-9F52-DBE2FFF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8B4C-F0B9-44C3-B1DD-37231B81FD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зовёт Спаситель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двери и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Я сердце жить хо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ощенье Он грех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 мир в тебя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ит дверь лишь от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 зовёт Спаситель 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умо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к себе Его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 же, друг, Его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, кто всей душой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ител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нимателен к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чувствовать в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я в земной свое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ять он будет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40Z</dcterms:modified>
  <cp:revision>13</cp:revision>
  <dc:subject>Slavic hymnal Гимны веры христиан, hymn 361</dc:subject>
  <dc:title>К тебе зовёт Спаситель сам</dc:title>
</cp:coreProperties>
</file>