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F76-0F4D-4AB4-B537-27439804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F34-394D-48E5-AF6A-B4E48C5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481-AEBF-4157-A43F-6AFA75C0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8E6-A28C-4158-AF9F-42286176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379-BDD5-41CF-85D7-E1D3CDE5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ABB-D442-41AC-97BB-57B399D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58E-E928-4673-BE24-7E2EF6AA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415-E120-4F02-8C98-EA8EB53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E9C-DD40-40A0-A209-4039421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B70-B342-4A10-9ABD-3966A39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7D8-1FA7-4254-ADBA-2FFA0BE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9B3-1EB9-4D54-AC21-A33A9EF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94B33-08E8-4A3C-BA2D-B481BA231D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32Z</dcterms:modified>
  <cp:revision>12</cp:revision>
  <dc:subject>Slavic hymnal Гимны веры христиан, hymn 353</dc:subject>
  <dc:title>Из чужого края</dc:title>
</cp:coreProperties>
</file>