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4CA-40F7-42B8-B491-61AC67E4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869-0446-45BA-AA65-996CE754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FF0-709B-4168-A789-BF612FF4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4D0-3956-405B-BF27-F1E3645F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D42-2183-4732-B1BD-741B110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9B5-ADE9-4401-9BA5-156F8C2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15B-D451-466B-ABBA-8B6C446F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8FC-DC78-45B9-9077-637A79E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8C8-324F-4839-8EAC-567B38F0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C51-ABF2-4C13-BCFB-8801E46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468-5730-4524-86EA-9D6E80B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0E7-F5B5-4B6C-9F49-9385C05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1B7A-D5C8-4311-8C01-2E234F19C6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0   Ісус прий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55Z</dcterms:modified>
  <cp:revision>14</cp:revision>
  <dc:subject>Slavic hymnal Гимны веры христиан, Ukrainian hymn 110</dc:subject>
  <dc:title>Ісус прийде, Він знов прийде</dc:title>
</cp:coreProperties>
</file>