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830-82B9-46DA-BB0B-86F1EF5A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AA9-6E8E-49B2-84AD-76DE7EE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243-070B-4863-B758-09B1369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526-78AD-4257-92C1-12CB1141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EDE-79C2-475D-B057-83C7ECE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1CF-C515-4D42-964D-EE74EA5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D75-2366-4DB0-81FF-ED26EBA5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DEB-3720-4773-BC59-ABB5FA96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AB9-DC84-45D6-8465-8D62A24F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FE4-E2F5-41AD-AE36-3E49136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205-661A-42F8-9801-C29DF21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CFD-2167-42B1-AFD8-A892886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7ECC-317F-4157-A14E-7CC089345C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дорогой один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дел странника с су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нулся, шёл под ношей тяж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казал, дав знак ру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я дорогой одино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ворил ко мне и сраз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л, что это ―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мне жизни настав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то, шедший в Емма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, Боже, нести крест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передо мною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от которого я сердца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до сих пор закр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крест нести я буду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достижения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ятой Своей десниц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ошу снимет Сам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24Z</dcterms:modified>
  <cp:revision>13</cp:revision>
  <dc:subject>Slavic hymnal Гимны веры христиан, hymn 447</dc:subject>
  <dc:title>Идя дорогой одинокою</dc:title>
</cp:coreProperties>
</file>