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736A-22DA-487E-8A49-3412944D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5829-3B7E-46A4-B41B-7F404218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3F9-1500-4FAF-9E56-75BB6234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B5CE-BA54-42F5-A3BC-0BDE9DCD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A725-AB8A-45CB-B8C4-D77238A1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3C7B-2C58-4D95-9B1F-8E6ECCF8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879D-9677-49BA-9647-97B556B3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C1AD-9ACD-4E7B-912B-A487A19B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D4E-BD56-4CCD-8D9E-5589930A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BDDD-E8B3-4B16-96FB-CAE55BF8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92B5-CE1A-4EE3-BB90-51309AF5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72EA-133F-42D0-A595-ADB689B7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42208-408F-48CC-BD7E-C519D0502C0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, мир Он всем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с Богом прими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народы вознес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ангелами съеди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ясли ради нас со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Чей небо и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сти ангельской вн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Христа — наш дол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Христос — Предвечн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к концу веков рожд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речистой Девы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плоти Сам Бог яв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з взяв раба, смир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людьми благово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Эмману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нязю мира всех при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правды Ты и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ля нас принёс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целенью всех воскр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, оставил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и упразднил держав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, чтоб нас под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рожденье свыше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5:22Z</dcterms:modified>
  <cp:revision>15</cp:revision>
  <dc:subject>Slavic hymnal Гимны веры христиан, hymn 227</dc:subject>
  <dc:title>Вести ангельской внемли</dc:title>
</cp:coreProperties>
</file>