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3BED-6F7E-4C3B-A1C8-B3AD6EC0C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910D-718F-4C45-A14C-CC0176DCD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248E-FA41-40F9-8ACC-A0037411B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E847-D563-4E76-BDAC-7D5FF1E31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CB3F-78B3-46CC-A05F-FF8932490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AFB3-193E-48D1-BDD5-BA6102F12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EC9B-CFF7-41CA-BF7C-329524AAF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C4D9-D344-48C2-A7CB-8D7A0425B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46F7-6057-41D2-8014-F8AE0993C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A068-4FE1-4EE6-A071-9B52AD0C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C5F5-1224-4FCB-87C1-2E64D82F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B4AD-02FB-40F1-84AE-BAB2B348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A892C2-4924-48C6-93A0-BBDC41762FC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 open Bible for the world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this our glorious motto b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ev’ry breeze its flag unfur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ll scatter blessings rich and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6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ткрытой Библией вез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ытой Библией вез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будем мы во всяк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лово правды о Хри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стичь могло широких мас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est Word of God! send forth thy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’er every land and every se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all who wander in the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led to God and heaven by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оже сил, небесный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и скорей во все ме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и людей из ночи б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познанью Господа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’er it goes its golden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reaming as from an unveiled su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ll dissipate the clouds of n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do the work that sin has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приходит правды луч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ступает новый ден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тьмы греха, сомнений туч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ское «я» уходит в т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est Word of God! send forth thy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’er every land and every se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all who wander in the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led to God and heaven by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оже сил, небесный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и скорей во все ме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и людей из ночи б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познанью Господа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shows to men the Father’s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radiant with forgiving l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o the lost of Adam’s 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oclaims sweet mercy from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открывается Госпо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юбви безмерной и свят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ет дух, врачует пло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ует жизнь душе боль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est Word of God! send forth thy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’er every land and every se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all who wander in the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led to God and heaven by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оже сил, небесный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и скорей во все ме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и людей из ночи б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познанью Господа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offers rest to weary heart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comforts those who sit in tear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all who faint, it strength impart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gilds with hope th’ eternal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талым — силу для тру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тым — покой среди заб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жду с Богом жить всегда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ая Библия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est Word of God! send forth thy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’er every land and every se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all who wander in the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led to God and heaven by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оже сил, небесный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и скорей во все ме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и людей из ночи б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познанью Господа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7:56Z</dcterms:modified>
  <cp:revision>13</cp:revision>
  <dc:subject>Slavic hymnal Гимны веры христиан, hymn 563</dc:subject>
  <dc:title>An Open Bible for the World / Открытой Библией везде</dc:title>
</cp:coreProperties>
</file>