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E64-9D2D-4500-AFFA-EF210B0A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0E7-11DD-4152-AC74-F3B4AA9F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72D-DBC1-47BC-9C92-6A9F4749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0BC-0ABA-44CB-B7F3-F213152D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3DB-1A11-44D3-A30E-D4DAA00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9EF-85AB-44F9-B06F-1B059A5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4D4-A0B6-4678-923F-30B57FCE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98F-6831-495C-8CEA-9D0E91E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C8A-0E78-42D4-A734-9A3AC8D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DFC-C6F7-4DAA-91B4-F0392E6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A91-7D0C-4C70-96FD-772A7A1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FB0-67E4-4194-A54C-47F29A7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C453B-9369-4A2F-A0DD-4583953F9B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7:07Z</dcterms:modified>
  <cp:revision>13</cp:revision>
  <dc:subject>Slavic hymnal Гимны веры христиан, Ukrainian hymn 1</dc:subject>
  <dc:title>I Love to Tell the Story / Люблю розповідати</dc:title>
</cp:coreProperties>
</file>