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CDF-AEBE-4D39-85CB-0E1E359A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6BF-2CD3-42BC-AA4C-2AEFF673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F78-EB8E-4EF2-9109-946DA6B6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496-C752-4BF5-9A46-572B3D22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EC1-0872-4E90-A052-A2F8E777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060-2E98-4703-8E5F-EB844410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4D0-BEA6-4D5C-99D7-5B95E4BD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065-2110-4212-8DD9-93B5B975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45D-54A7-4F55-A13F-A1CEF815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A29-5D5E-48E8-B5A9-61018910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C8F-AB53-49CE-B0CD-40D3C4B7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A8F-433A-425A-87F1-9E7281CB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720BF-58E6-4038-8F5E-9DE4A3B8F6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come into Your presenc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sacrifice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song I will exalt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ive You all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elivered me from sh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created in Your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1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Come In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Him up, His name be lifted hig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Him up, exalt His holy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Him up, His name be lifted hig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xalt His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7:37Z</dcterms:modified>
  <cp:revision>11</cp:revision>
  <dc:subject>The Source 2, song number 815</dc:subject>
  <dc:title>I Will Come Into Your Presence (Lift Him Up)</dc:title>
</cp:coreProperties>
</file>