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775-C365-46F3-B053-677F0EB6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A58-A9F2-408E-BEC0-F0BB17EC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995-78D5-4965-8218-0E01BECC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A8C-BC50-4D4E-9240-DFF55CA9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683-375D-4F0C-ADC2-D8FB0EB0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90E0-3E2A-413A-94DD-3E02FE57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71B-9199-49B8-BB2A-A1B13F9A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071-97C5-4724-90CA-5C48554C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7EE-693E-48FC-A3F2-73D35472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0B8-D20F-4CF2-97EA-B460A2CD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544-2788-4ACE-8C78-877F7F0F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EEE3-17CD-487D-8C80-1A4DD07B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85B77-0F7B-43B3-89F4-42BF4B8756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e enthron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proclaim You our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nding here in the midst of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raise You up with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worship, build a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worship, build a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worship, build a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ord Jesus, and take Your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0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We Enthron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37Z</dcterms:modified>
  <cp:revision>10</cp:revision>
  <dc:subject>The Source, song number 300</dc:subject>
  <dc:title>Jesus, We Enthrone You</dc:title>
</cp:coreProperties>
</file>