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0C99-B2BC-4A04-9D14-5D2B23150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DE32-A376-4E21-871C-20381541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7FDC-6422-49E9-AB53-5E2A529E2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6652-E2FB-4E5E-8E69-E6C6B72F3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7F24-1724-4063-A6EA-437C356E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376A-7413-460D-AD3E-BC168F13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4BBE-5F3D-48FE-99AB-B4BEFC3B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B4CD-6D80-4FFE-B391-A828A6A2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5C2C-E2C4-49D3-951E-86FA7542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B419-35A8-4B84-9286-A9D705FC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47F1-D5CD-45EB-9004-02DFA483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C5F8-A8DA-45EE-A934-769145A8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136F17-EA45-421B-A07A-9C3F64B22EC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our pray’r, we are Your childr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’ve gathered here to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ve gathered here to pr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our cry, we need Your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 need Your grace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us as we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714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Hear Our Pra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Father, who art in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owed be Thy 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Father, hear us from heav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give our sins, we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our song as it rises to heav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Your glory fill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the waters cover the se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 our hearts and remove any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is standing in th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coming to You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Father, who art in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owed be Thy 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Father, hear us from heav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give our sins, we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we are f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re surrounded by 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have crossed that river bef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is is the s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ll be singing for e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is the Lord, holy is the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is the Lord, holy is the Lord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our pray’r, we are Your childr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’ve gathered here to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ve gathered here to pr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our cry, we need Your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 need Your grace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us as we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Father, who art in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owed be Thy 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Father, hear us from heav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give our sins, we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0:15Z</dcterms:modified>
  <cp:revision>11</cp:revision>
  <dc:subject>The Source 2, song number 714</dc:subject>
  <dc:title>Hear Our Prayer (Our Father)</dc:title>
</cp:coreProperties>
</file>