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DCC5-587F-4764-BD9A-451A83FE5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8ADD-6796-4146-A570-11E2161D7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DBC2-B01F-4E9A-B3C1-39BF0206C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12E3-A1C0-41D6-B9BF-D724F74F0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2582-7C27-4051-BF47-43FB456F4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C179-0BA1-4868-95B6-F60E9906A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8FF2-2E60-4550-A277-C16609119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C8B5-208D-43BF-85C3-B9BBA3F09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6121-A081-46E2-AC24-9A99BD275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831E-1F1A-4DDB-86AB-0A042272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1201-CFD9-4966-99A7-554A4997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2C07-C009-4CD4-9B5A-33EE865A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CDBE56-5316-4FCE-96CB-03D2FDDA350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наю, почему откры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благодати да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почему спасенья щ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дан от вечных ка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я знаю в Кого я ве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что меня с Христом не разл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мне наследье вруч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ень, когда опять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8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знаю, почему откры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наю, как мой Бог да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веры слух жи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ак та вера мир нес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ящему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я знаю в Кого я ве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что меня с Христом не разл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мне наследье вруч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ень, когда опять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наю я, как Дух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ыл мне путь Христ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ак даёт Христос благ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щенье всех грех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я знаю в Кого я ве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что меня с Христом не разл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мне наследье вруч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ень, когда опять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наю я, что в жизни м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значено не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ак меня к родной стра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хочет дов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я знаю в Кого я ве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что меня с Христом не разл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мне наследье вруч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ень, когда опять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наю времени, ни 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сподь пр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как: чрез смерть, иль Сам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от день Он по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я знаю в Кого я ве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что меня с Христом не разл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мне наследье вруч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ень, когда опять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26:12Z</dcterms:modified>
  <cp:revision>12</cp:revision>
  <dc:subject>Slavic hymnal Гимны веры христиан, hymn 585</dc:subject>
  <dc:title>Не знаю, почему открыт</dc:title>
</cp:coreProperties>
</file>