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294-4B2C-4780-9C6A-D5F8F726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F75-4D41-4CD1-93F0-3B9777DD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94F-90FD-42AC-B603-6DE7BD5A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042-0BEB-44E7-B499-CE315A76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F19-3ABB-4065-ABD1-9A737F6C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97F-1614-4E9F-9124-A6A91EFF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FFD-48F1-4F4F-9815-DE536AE6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729-BB69-4BBD-9100-AB90F10A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E2D-2D4E-4DA2-AFA2-297233AE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4C4-C999-438F-94B5-2A22A129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A6E-AD3B-452E-A2AA-DDB4EF74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FEC-FCB7-4C3B-A81C-D42A71B3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A5F49-8781-49EA-B795-D18371790B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mply trusting eve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through a stor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when my faith is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ли ты, грозит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ль воет, ночь круг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doth His Spirit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is poor heart of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e leads I cannot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иянье л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едно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прямым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if my way is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ing if the path be dr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n danger, for Him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й — я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? — сильней мо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? — слышу как бы г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ile life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till earth be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hear His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Тому, Кто сп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и в смерт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вечность не у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9Z</dcterms:modified>
  <cp:revision>13</cp:revision>
  <dc:subject>Slavic hymnal Гимны веры христиан, hymn 645</dc:subject>
  <dc:title>Trusting Jesus (Simply Trusting Every Day) / Доверяй Христу всегда!</dc:title>
</cp:coreProperties>
</file>