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F45-8022-4854-B65D-5F343B24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A40-7394-405E-BB8C-2CEB6E77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037-86EF-4AA1-8180-61DF20B5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18E-6DEB-490B-ACDD-AB9EBF02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FB6-AEE7-4F20-B127-2431A842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B4E-981F-4193-B137-7E136424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632-A220-4850-8E8A-617DD14F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E0FC-683F-4CBD-AC7E-0617739F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48D-EE44-4817-A918-8A4DE94A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11A-B850-4384-AF0B-273CBFDF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8EF-B50F-4B8F-982B-8D1232E0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6B4-6DDF-4113-89AC-A06DFC9C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1681A-8AE4-4C8C-A2C0-0F8F6CA234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я пришёл утром в 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шина. День будет пог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ачалом дня свет проник в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ся мне Сын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я пришёл утром в с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ворит Он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ают песн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удесный гимн о Его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мне и в пусты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остаться в с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ит покой безмят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труду зовёт и чрез шум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ен голос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3:21Z</dcterms:modified>
  <cp:revision>12</cp:revision>
  <dc:subject>Slavic hymnal Гимны веры христиан, hymn 848</dc:subject>
  <dc:title>Один я пришёл утром в сад</dc:title>
</cp:coreProperties>
</file>