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467-6025-49AD-B154-68DF64D1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0DD-CD6B-4326-946E-FC11C370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958-E45F-4EC6-8508-E3A37E9F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740-F0DF-412F-86F5-C3F0B911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4C2-4F2D-4EAD-B998-9C7AFA80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2A7-7389-4E97-BBE3-7A04FB13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AB2-E5AA-4C18-A3F5-4FDCA32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D11-C914-4836-A499-B833E8E8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94D-A4FD-41FB-82D2-FEB761F2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21B-D3FF-404C-AE10-FC08FD5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46B-D0B2-4B7B-9157-2BB51586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425-ACFF-43D6-A2B6-C254194E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27DBF-1EF0-4D9A-9B06-7AE5A10B14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пред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звавшего к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мертных Твор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обращ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тягостной д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ты у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го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корно преда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етуй: Кто пр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ён сущ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авит с премуд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ми пл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ихрям и мо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 указ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уть безоп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обре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ю благ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м с споко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и все та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увен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ым ко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в заб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е непоси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делу стремиш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атишь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, и получ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илу оби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а даёт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е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ред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ая в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м благо дл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ред при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му по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 д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ных Своих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 чём нет прег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начерта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творен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Его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ь же Госп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м обеща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чны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йся! Он 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скорбь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стоко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ь и у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есомн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ё Он устр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благу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адостно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м быть спасён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мешь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нидешь с хвал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искуп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вечный, го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ных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32Z</dcterms:modified>
  <cp:revision>12</cp:revision>
  <dc:subject>Slavic hymnal Гимны веры христиан, hymn 653</dc:subject>
  <dc:title>Покорно предайся Божественной воле</dc:title>
</cp:coreProperties>
</file>