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E6E-47CC-4196-B56D-D145E51F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CB0-E5CD-4E1F-AECD-2C6D3CFA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F5E-6128-4BB9-AD8F-CAA68196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177-FE33-4DA4-B4F4-E6B86BB2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6D2-E01C-437D-A62B-4D3CCBEA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AD3-1330-42E1-A87C-77D1D862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324-2255-4708-B057-4678475D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2AD-6353-4407-AC93-CE22EE54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8B5-A53C-4EEF-92FB-3F49F4DC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041-3D68-4232-8CB3-306E3717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B90-8A47-4894-A9CF-16CE8DE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90C-D2D2-4658-8C0B-40BD9C99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D571B-8024-440F-B291-C9A4CD5792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kingdom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se of Thine abo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our blest Redeemer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4   Люблю Господні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Господні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там Хрис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куплени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Church, O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walls before The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as the apple of Thine ey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ven on Th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лю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 церкву ― храм жи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боронить Дух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оря ― буре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tears sha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prayers asc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my cares and toils be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oils and care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церкву я м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х її ді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люблен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my highest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ize her heavenly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weet communion, solemn v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hymns of love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, брат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віку бути в 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помогти в порі сум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а нести ї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as Thy truth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Zion shall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ightest glories earth can y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er bliss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Господа ми 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ю, вірю, що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 пе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8:00Z</dcterms:modified>
  <cp:revision>13</cp:revision>
  <dc:subject>Slavic hymnal Гимны веры христиан, Ukrainian hymn 14</dc:subject>
  <dc:title>I Love Thy Kingdom, Lord / Люблю Господній дім</dc:title>
</cp:coreProperties>
</file>