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F70-9256-4837-B804-95EE52E5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5E5-0B7F-4733-A111-192E47E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C1D-3F79-48BE-B3DF-21B1BF43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68E-CBE6-4460-BCAB-9DB27E2D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451-9596-4428-AEC5-DB2DCA41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04B-03C7-4E53-B148-E26F106E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4F6-7068-4836-B153-7078D1F9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89E-529C-4654-A9D6-3FE88F6E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C36-ADC9-4D46-8C89-EAE974BD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F9E-59D8-4EA3-B48E-324620FD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EBC-DDB0-487D-B23A-6D413479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552-4D9E-4597-8558-5C11E7AD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11C2A-2F6D-4257-A64C-9160C4DC19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ся мне пятна кровавые тё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тся мне: крест на Голгофе сто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ся мне очи, как небо лазур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тся Христос ― на кресте Он ви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подвиг велики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жертву от ран всю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я призыв и нежный, и вл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ердце своё целиком подар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тся мне пят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, как волны всю жизнь залив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, как море в ненастье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людей, за Христа что стр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 дела, что лукавый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о подумать ― насилье и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, куда я не кину свой вз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Христа пригвождённые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в очах Его горький ук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как больно страдать Ему 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ие раны опять на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поспела, давно уж гот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Он ― Хозяин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Он, уж близится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яжело отчего так и 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ведь не дремлет, и сеется с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о времени жатву с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придёшь Ты, Христос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царство наступит Тво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ы миром от всюду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дь не знает, что в нём всё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44Z</dcterms:modified>
  <cp:revision>12</cp:revision>
  <dc:subject>Slavic hymnal Гимны веры христиан, hymn 423</dc:subject>
  <dc:title>Снятся мне пятна</dc:title>
</cp:coreProperties>
</file>