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4990-7FD8-429A-B945-1379BA44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99F4-C2D8-4154-ABAC-E18CBC03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81AF-EC77-4123-97C4-ED10E07E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7E4F-9EA0-4D4D-B1FF-4C997570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BFAD-E643-4D93-AEC3-804E1304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39CE-8BFE-41B2-986A-D39BFEE2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F79E-C4B7-4691-BA67-D674B565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810E-255F-4509-8066-D1D9445E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C2F9-5B52-4D7A-BF0E-D08CA39F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F67E-264F-48ED-A280-AD972602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5B6D-B680-414C-B16A-4DDE1B7A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0698-BDEE-4F74-A7D3-5B6C927B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BBE5C-985D-4834-8917-E8F29DD2D22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ко верить 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ить всем Его сло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ю возношу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, прямо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 мой,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ну к Тебе я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Господь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, есмь и буду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адко верить в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я на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Его святую кр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Ему служу, молю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посвящаю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 мой,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ну к Тебе я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Господь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, есмь и буду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риятно в Бога ве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ом пребывая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м Господа жизнь ме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новляясь с каждым д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 мой,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ну к Тебе я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Господь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, есмь и буду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емлюсь найти отр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Голгофского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очу за грех в нагр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ь праведность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 мой,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ну к Тебе я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Господь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, есмь и буду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4:11Z</dcterms:modified>
  <cp:revision>13</cp:revision>
  <dc:subject>Slavic hymnal Гимны веры христиан, hymn 622</dc:subject>
  <dc:title>Сладко верить в Иисуса</dc:title>
</cp:coreProperties>
</file>