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1A5-B96D-4E35-B0A8-529E9B3E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28E-F13F-4DD6-8E79-C6E16EF7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F94-6567-4707-84D6-D48D3411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C77-4DC8-40C5-BB56-4C52D4E6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8C2-3494-4EA1-BDF8-00C08E5B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CA0-F79E-41CF-BE7D-B1C446CF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112-CF74-4184-BD1B-423344A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EE6-3868-43D9-967C-1C11A15B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20E-1F0C-4610-B0F5-DD37DC7C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8F8-A72F-4F87-9D4C-6AEEEBB8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34B-B955-4ABD-83B3-481991E7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1A9-4A61-4FB3-91B1-342040A4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EC712-42F8-4960-8D6A-2200506343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river glorious is God’s perfec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ll victorious in its bright incr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, yet it floweth fuller eve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, yet it groweth deeper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ою ре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ю рекою льётся Бож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гая, разливаясь вш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уже он полон, всё ж течё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же проникает и живи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den in the hollow of His blessed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foe can follow, never traitor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urge of worry, not a shade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blast of hurry touch the spiri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сокрытых в мощных Божи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льстит лукавый, не настигнет вр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снутся сердца ни печаль, ни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облазн неправды и ни тень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joy or trial falleth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ced upon our dial by the Sun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ay trust Him fully all for us to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trust Him wholly fin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lly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ли горе свыше су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по силам Господом д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гу верим, то войдём в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ог для тех, кто верует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7Z</dcterms:modified>
  <cp:revision>14</cp:revision>
  <dc:subject>Slavic hymnal Гимны веры христиан, hymn 600</dc:subject>
  <dc:title>Like a River Glorious / Славною рекою</dc:title>
</cp:coreProperties>
</file>