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EA75-0A22-4303-85BD-4DAC05F7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4D35-45BB-4BA7-9773-16808D02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C36-D9DC-47E1-8713-43551ED4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17E-EA30-4ABC-A860-85CCCBAE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2FD3-31D2-4793-8A4A-E846A87B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408-ADB3-41A9-9191-87B17E08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13BD-2C67-45AA-BFC1-F86E1823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E3EA-26E2-4ACD-933B-3EA0B794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5B2-83A8-4EEE-A8A7-84BAAD6B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D9A-9E92-429A-932A-D744816A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4C0-1176-4194-BF17-0681F5A6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135-7521-447A-84C2-5DC60E21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16360-4010-442A-A2F8-DE0ED4336C6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ого звёзд на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т в бесчисленных луч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лучше звёзд всех крас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ственной любв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ственной любв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ветлее всех све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много звёзд на небес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торжествуй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ифлеемская звез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в пути тв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тебя в Отцовски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тебя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ветлее всех све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с тех пор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 очей теперь вид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е лишь она о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сердца просветить силь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сердца просветить силь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ветлее всех све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орем, сушью ночью,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горит она ог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ьёт с небес свой кротки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утешенье в мире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утешенье в мире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ветлее всех све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едёт меня к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жизни мрак и темн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 неё хочу взи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й лишь в жизни довер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й лишь в жизни довер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ветлее всех све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8:16Z</dcterms:modified>
  <cp:revision>13</cp:revision>
  <dc:subject>Slavic hymnal Гимны веры христиан, hymn 471</dc:subject>
  <dc:title>Как много звёзд на небесах</dc:title>
</cp:coreProperties>
</file>