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699-BD87-4A60-AE51-3B6BFE3C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DA4-2695-4890-B7AA-AFB57FE3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25F-F2D9-4828-9B3D-ABBE1F79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24B-9CFB-45D2-B8FB-B0BD8B44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4C3-1763-4643-806B-F9EEFE2A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473-527E-4324-8970-96064B1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CCD-536D-41EB-B1C5-572D2542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48E-E7EF-44C2-A8BF-A735854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C22-A712-414A-94B6-BF3B3AAF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3DF-07CF-428F-980E-FDBDE66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F6F-5078-4295-81B3-70C9D34F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FAE-85E2-4024-8373-06A3195A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EF85E-6A4D-4E03-8ECF-E492A15A2E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look into Your ho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gaze into Your love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ome shadows in the light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n I Look In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’ve found the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reaching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y will becomes enthrall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ome shadows in the light o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ason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ason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6:58Z</dcterms:modified>
  <cp:revision>9</cp:revision>
  <dc:subject>The Source, song number 571</dc:subject>
  <dc:title>When I Look Into Your Holiness</dc:title>
</cp:coreProperties>
</file>