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6B38-C3D7-4EB9-8099-F193D634D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5DDB-D565-41DE-88CF-B4B26A4D8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0B47-295A-4425-95E6-378193381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FF4F-19C7-4A46-AC07-3421EF5A3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92E2-BDDD-40DB-8640-550FA6493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1A73-1C8F-4B24-8A8B-E639DBE85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F116-1EF5-4D22-90F2-1B55D61B7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7360-07B0-453C-B9B2-77E84FF3C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F95E-9E9E-41F9-88DC-163625CD7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DA2B-E535-4030-A520-CD065431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6735-81F4-4844-B76B-F9E9B613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DA0A-B62F-44DC-B7ED-3B151FC2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AB0061-0983-406C-8F75-D364B08D66B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Must I go, and empty handed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us my dear Redeemer me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one day of service give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ay no trophy at His fe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3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хотел бы я бесплодны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хотел бы я бесплод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рону Господа прий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одну хотел бы душу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оп один в руках 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go, and empty hand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meet my Saviour s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one soul with which to greet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empty handed g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хотел бы я бесплод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рону Господа при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одну хотел бы ду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у при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at death I shrink or fal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y Saviour saves me n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o meet Him empty hand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t of that now clouds my b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мой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рти ночь мне не страш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пустым пред Ним яв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что так страшит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go, and empty hand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meet my Saviour s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one soul with which to greet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empty handed g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хотел бы я бесплод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рону Господа при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одну хотел бы ду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у при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 years in sinning was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uld I but recall them 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ould give them to my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is will I’d gladly b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 мне года был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но было возврат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и радостью, и счасть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о б Господу слу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go, and empty hand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meet my Saviour s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one soul with which to greet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empty handed g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хотел бы я бесплод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рону Господа при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одну хотел бы ду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у при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ye saints, arouse, be earn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p and work while yet ’tis d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re the night of death o’ertak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rive for souls while still you m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трудитесь, дети Бож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проходит, ночь близ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пока не поздно, ду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вербуйте для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go, and empty hand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meet my Saviour s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one soul with which to greet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empty handed g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хотел бы я бесплод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рону Господа при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одну хотел бы ду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у при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7:07Z</dcterms:modified>
  <cp:revision>13</cp:revision>
  <dc:subject>Slavic hymnal Гимны веры христиан, hymn 532</dc:subject>
  <dc:title>Must I Go, and Empty-Handed? / Не хотел бы я бесплодным</dc:title>
</cp:coreProperties>
</file>