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AC3-EC10-41E2-B6F4-4401C349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65D-E770-4609-A156-D29DBBAF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D46-B149-4F06-83C3-75FB81F5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2DF-8F04-4B08-B1A4-29ADA69E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A37-A3AF-4A8D-A569-B628A060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FAC-33B0-4960-8627-FA384263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B5D-181B-4037-9170-5E2C98F8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0CA-A246-4747-A062-252CEA3F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A29-5BE9-4339-9FEE-47B6DD20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68A-F4D0-4E1E-84AD-61C7AEA5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55C-83BA-40B5-AAA1-5C0D4FD1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3FC-A697-447D-A477-B8001800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D5126-FF1B-49AD-83CF-7C41EF683D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о славе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, средь земного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она полна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она полна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ойте о славе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ись в Христовой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 только зова т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частливы в Божье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частливы в Божье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изваны к Агнцу на б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в восторге т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же нас холод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же нас холод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ественном слове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ьётся живая в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люч средь пустыни сух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люч средь пустыни сух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нас Бог окру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хочет от нас Он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ере полученных си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ере полученных си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о от мысли 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коре минует ну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ый увиди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ый увиди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40Z</dcterms:modified>
  <cp:revision>12</cp:revision>
  <dc:subject>Slavic hymnal Гимны веры христиан, hymn 663</dc:subject>
  <dc:title>Воспойте о славе небес</dc:title>
</cp:coreProperties>
</file>