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63E-5E99-4B37-B587-493CB169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A41-51FF-4BF7-B5F5-AE0B1B5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8E3-5DAC-4D7C-8CE8-E07D152A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FEF-F369-4FE9-BF02-9C97E9D6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7B6-A5C6-4B2D-8C73-646A878E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D52-0EAC-4EDB-BD82-34E377A2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716-F19E-4223-9D3B-D4E2C57B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866-7183-4B65-B6EA-F68D088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D4A-FAF2-4FE7-86EA-D005F70D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5B5-A266-49AC-AF02-A672D0E3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476-E4B5-4AD2-B188-CC1EB5AE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5F4-9188-4AA1-A717-9F900C6A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8258B-4F91-485D-80F1-4A4A8452CC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Христом освоб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близкие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 ты обно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ди к сво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грехи твои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шего взыскал 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ны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чужим и воз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о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за них пришёл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жизнь дат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и дальним о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овь Христо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елый мир, чтоб всех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ушу п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38Z</dcterms:modified>
  <cp:revision>12</cp:revision>
  <dc:subject>Slavic hymnal Гимны веры христиан, hymn 564</dc:subject>
  <dc:title>Пойди к своим</dc:title>
</cp:coreProperties>
</file>