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1945-F109-419F-91D5-F3746FBB9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2B04-5EB5-48B2-93EC-94245BC36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3460-9FDF-46A5-89B0-87A17969B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9807-AD37-469E-91D4-16FB021A8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95ED-7D4D-42C5-8F03-2DEC67E1C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078C-DA56-41CD-94A0-8EB1B0447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4ABD-F11C-4CEC-9C71-7C914D910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6B0D-7FC0-4E56-A8CA-040289B9D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8986-854F-4FA4-8729-00247B8F4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437A-28F9-4D65-8236-BA3D8AA90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1065-8114-41AB-8588-69E0C5786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A1C8-E47C-4BA9-A954-D9742982A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CF0EA9-CF23-4804-A5A5-1B1F2794ED0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God be the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God be the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God be the gl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 things He has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1021   Иисусу хва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у хв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у хв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у хв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любовь Его к н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His blood He has saved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His pow’r He has raised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God be the gl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 things He has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ей кровью омыл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ей силой поднял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у хв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любовь Его к н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9T08:14:38Z</dcterms:modified>
  <cp:revision>11</cp:revision>
  <dc:subject>The Source, song number 1021 in Russian</dc:subject>
  <dc:title>Иисусу хвала / To God Be the Glory (My Tribute)</dc:title>
</cp:coreProperties>
</file>