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31BC-55E4-4E77-A81A-85CA2521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D44-7416-4895-B071-6B6F159A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9920-90CB-406C-B1BB-7AA10AC1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F8F-5488-408D-91E9-12E4FDC2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E808-832E-4615-BFE7-9B9B80B0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F6FD-0DC1-4948-A60B-2818AFC6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AB49-4945-4E05-9FA6-872E1198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9780-3045-43C9-A8E1-D761A2C0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585B-3F92-4664-992C-274B05DC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D6BB-2CB7-4739-9A1B-8ADDFCBC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A5E7-6178-438A-ABBA-BBDC536A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EAB0-63BB-4D4D-8CBC-4C1B8D79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ED432-5DB8-45D5-B7B2-4720841EAF2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you any room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ho bore your load of s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knocks and asks admis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ners, will you let Him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ли место Иисус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ли место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ьею кровью мир омы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дверь открой скор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Господь к тебе ст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om for Jesus, King of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n now His Word ob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ing the heart’s door widely op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Him enter while you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om for pleasure, room for busi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for Christ the Cruc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place that He can en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heart for which He d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ам, и весел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ты да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Умершего за грех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жели оттолкн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om for Jesus, King of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n now His Word ob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ing the heart’s door widely op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Him enter while you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you any room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in grace He calls a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oday is time accep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morrow you may call in v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и отдашь ли Иисус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ывае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быть то день послед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ьше Он не будет ж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om for Jesus, King of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n now His Word ob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ing the heart’s door widely op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Him enter while you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om and time now give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will pass God’s day of g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y heart left cold and sil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y Saviour’s pleading c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же Иис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ердце всё от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с замолкнет благодат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уж не будет з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om for Jesus, King of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n now His Word ob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ing the heart’s door widely op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Him enter while you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40Z</dcterms:modified>
  <cp:revision>13</cp:revision>
  <dc:subject>Slavic hymnal Гимны веры христиан, hymn 350</dc:subject>
  <dc:title>Have You Any Room for Jesus? / Есть ли место Иисусу?</dc:title>
</cp:coreProperties>
</file>