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B88-EEAB-41FB-B8A7-6A2AE501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774-F867-4718-9BC6-254364A4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413-2D88-42FF-A324-EE404555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751-A1F1-4E81-861C-68D25802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7BD-8D31-420D-854F-2EC34DA6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CDE-889C-40A9-A13F-6C2B1792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D5F-0536-4211-A831-73C2559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56A-B140-4C90-9108-3A9DD354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418-CF3A-4305-AC43-A883E12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C56-626E-44A2-BD80-911F540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9AF-A03E-445A-8D4F-6F18872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7B5-848D-4B2C-8CAA-CB3CB19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009FB-1E5A-400A-BF48-546FC36567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ros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bought our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pa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ling river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0   Through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ind up wounds within our h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e husbands and w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the fathers’ hearts to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down walls of iso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 those who live in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lonely find love in Your fam’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church rise up as on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the streams in one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ng and old will stand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our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4:57Z</dcterms:modified>
  <cp:revision>11</cp:revision>
  <dc:subject>The Source 2, song number 1020</dc:subject>
  <dc:title>Through the Cross (Healing River)</dc:title>
</cp:coreProperties>
</file>