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57DD-B71E-49B5-A710-3267B6AD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A05-F019-4FDC-BB47-92C110AC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5CF8-08BB-4E3B-8104-FEBD8645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BD79-0263-40BD-B2BC-9C5CDDCC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470-5702-450E-A168-D5165532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9F8-EE8E-4A03-B96B-7559C6F3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6483-F9E9-4624-9B62-1DD73346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BED7-1B84-4B9E-8C02-2CA1ECB6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3201-4DBC-4008-BE59-F3875733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F02-7125-4194-80AE-84D8784B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332A-B279-4E3A-8B8D-F61C3181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E420-38B1-4AB6-9488-4427CE20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69707-AEF1-424F-A86F-C58E8BCA74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ы богатства я дости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ёд, и хлеб в моих рук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той вечный день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очи мрак навек забы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аны богатства я дости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 идёт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нье мне даёт с С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рукой ведёт Он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край богатства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евья в той стране цве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ромат повсюду ль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журчит волной в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не вяну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терок, лаская сл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с высот чудесный зву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— песня ангелов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щих счастье душ людск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1:33Z</dcterms:modified>
  <cp:revision>13</cp:revision>
  <dc:subject>Slavic hymnal Гимны веры христиан, hymn 592</dc:subject>
  <dc:title>Страны богатства я достиг</dc:title>
</cp:coreProperties>
</file>