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C96-8828-4B9B-A260-11B2A4FC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745-9291-4953-A50D-74C00950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0B4-E763-423E-A350-5AC66866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C23-235E-475D-84CD-F0AD0359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F16-B836-4517-8525-EB207AE3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EB87-8F04-4039-8A14-2A7ACDC5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D60-264B-46F9-8445-537D4DB6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B8E-1FCD-46E6-8C3E-40FCA08A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B29-609D-475F-B71D-14772832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26F6-D521-48C4-9EA9-60463D1A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963-8718-4388-9665-5F4A55A6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1A5-1B3C-4D84-BFF0-2BEC3CDD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D9417-E634-4BE3-9CC6-442A7817DE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orning gilds the sk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awaking cr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ток горит зарё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к горит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поёт дух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ike at work and pray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Jesus I rep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иль тру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твердить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night becomes as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rom the heart we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еет всё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ружней по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ow’rs of darkness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is sweet chant they h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ят силы ть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звучат псал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nations of mank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your concord f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и луг и л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и круг небе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ll the earth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ng joyous with the s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ы всей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возглас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is, while lif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anticle div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в теле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ет песнь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is th’ eternal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all the ages l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о все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льётся, как ре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51:28Z</dcterms:modified>
  <cp:revision>12</cp:revision>
  <dc:subject>Slavic hymnal Гимны веры христиан, hymn 822</dc:subject>
  <dc:title>When Morning Gilds the Skies / Восток горит зарёй</dc:title>
</cp:coreProperties>
</file>