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790-C0B2-41D4-9E1A-4E6CDFF7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670-3335-4B42-A880-F9FFD25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BBC-0EA8-4441-A942-8D910EFE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A22-715D-4E85-9DBB-675D9B9A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94B-17FA-41A2-B46F-E2BD871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F9D-4B11-4811-B4BE-AA6EDAFA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926-DE22-4FB5-B892-48F9BEB4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918-1139-4F98-9A7B-12F6E42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96D-F86E-4383-A6F3-6130B5AE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C85-ADA2-4239-96CC-1CFE145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73B-04B4-476A-8C36-70DF46F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00-105D-4BB5-B92E-1B66CA2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C9A0-6CAF-48C8-87E6-B62D6F10C3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на небе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была светла, ти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сять дев беспечно с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я Же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в руках и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ая светильник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а взять не захо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ёзды на небе сия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раздался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ий клич: «Жених идё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лашатый полном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обужденью все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ь разумных пробу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 пламя поправл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режде, засвет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ильники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—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о покупать пош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Жених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е на пир в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при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видят дев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ёма не на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крыт навек для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3:56Z</dcterms:modified>
  <cp:revision>12</cp:revision>
  <dc:subject>Slavic hymnal Гимны веры христиан, hymn 318</dc:subject>
  <dc:title>Звёзды на небе сияли</dc:title>
</cp:coreProperties>
</file>