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12B-5811-43B1-80B3-BC976EBE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072-D545-44C3-AB57-83688349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649-251D-44E0-A927-FE7A27C7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3D9E-9A38-4EFE-88F7-85640398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220-A8E1-4014-951C-0B42B939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949-7A65-48F3-BBDB-719F0274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EA7-D0DE-44AD-9A87-FFD8E137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95D-C76C-4521-AB3A-C1554B43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F28-6233-4B8C-A3F4-2C00249F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2FF-716E-4808-851A-BEA68321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E4E-1E79-4472-A2AA-A5DE565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F9A-1251-4749-87A3-AA54C441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BABF4-108A-493D-989D-E333D6484C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иля на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а Царь и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имя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рны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санна, честь и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ит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с ветвями, с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тречу шла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мс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еред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ла дар при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небес си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валу и 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песни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теперь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мир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21Z</dcterms:modified>
  <cp:revision>12</cp:revision>
  <dc:subject>Slavic hymnal Гимны веры христиан, hymn 891</dc:subject>
  <dc:title>Осанна, честь и слава</dc:title>
</cp:coreProperties>
</file>