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D6B-C249-485E-BC2C-872CA213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BCB-B567-4FE1-A04F-F4C432E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872-64A7-4014-97DB-AF016C1C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05A-CD83-440B-9D41-A587C4D9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717-A413-4C42-8B08-C0BC5C07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C86-701E-440E-B608-0374611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01F-08A5-44A0-A6C4-FF9F70A9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FAD-7067-4B23-815A-2FC6CBDD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29A-D51A-40A0-8690-D22DE8D9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D40-9AA9-4100-BB50-20C3D5FC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03D-0D35-4A4E-9A95-430743FB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AD6-94E4-4BB1-844F-4408A3AB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E27E4-2755-479E-AB60-2C673CD5C9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, робкий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Спаситель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душе твое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иют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Господню добр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яет Он по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 чист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сть душу пусть не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ом не меч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ведав грех гнет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Господень при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й и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скорбей и раб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ебя ты не исправ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губиш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6:33Z</dcterms:modified>
  <cp:revision>12</cp:revision>
  <dc:subject>Slavic hymnal Гимны веры христиан, hymn 840</dc:subject>
  <dc:title>Грешник бедный, изнурённый</dc:title>
</cp:coreProperties>
</file>