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ABA-91CA-437E-892C-CC79ED42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BC4-7E7E-4C73-8016-CD21F045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A9C-8D39-4C94-B748-F37F2E93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20E-5C13-4BA8-A73F-B217B7E1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99F-235A-441B-BE5C-591080A3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EF8-78FD-46A0-89C6-A52C6787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2DC-2F70-4910-8706-4F6394D6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761-C913-4BBF-8F6C-0B8172D3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1EC-ABD5-4EF1-A5DA-55D66A0C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FA5-72C7-4A15-A3D0-6F86514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28C-FFB7-444D-BCDE-4D1C1F41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A90-7E8A-4455-B1BC-766FD453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881D3-E42C-4E47-81B0-37DF321B63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чую про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серці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співаю в просто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на тьму гріха і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гинув, поди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вучить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1а   Коли я чую про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ій безодні потопа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адати я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і звідти врятув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одиноким в світі б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не знав, томив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и мене Сам від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я веселю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дух від смерти ожив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радість дав душі мої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 Тобі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01Z</dcterms:modified>
  <cp:revision>12</cp:revision>
  <dc:subject>Slavic hymnal Гимны веры христиан, Ukrainian hymn 71а</dc:subject>
  <dc:title>Коли я чую про Христа</dc:title>
</cp:coreProperties>
</file>