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4C6-487C-4383-8474-0AC48313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3E3-D14E-4EE1-9280-D71B8793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3667-C60B-4ECF-BA2B-02C6BFA8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3906-41C4-4BFA-A26D-A8D31AFE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239-1565-4154-BF9D-DE3A0C20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AD7-20A0-4ECC-AEC3-2C419D18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6177-0ECA-4151-8A0F-5C4E0282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442-62A5-4057-932C-6F940228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009-ED1C-40D9-92D4-F60A20CF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7D82-CEAD-468C-B34E-6F5CBB47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0A4-E3C7-473B-9AED-A3331529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692C-C3E5-44B9-8120-C6B03FDB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A55C4-60D7-4422-AD76-C01E18E621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є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,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є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ш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ене Він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є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8   О, який я є р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4:51:01Z</dcterms:modified>
  <cp:revision>12</cp:revision>
  <dc:subject>Slavic hymnal Гимны веры христиан, Ukrainian hymn 58</dc:subject>
  <dc:title>О, який я є рад</dc:title>
</cp:coreProperties>
</file>