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C2F-1629-4281-98C8-0573F265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A2F-B50A-496E-9E6A-1BBAC0B2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263D-0370-4025-BFC1-CE22CF59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3F4-E8A0-41AE-B781-C0D07719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922-6AF8-4F40-BC57-024DE800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57B-BA68-45F8-9D2B-B01D5FC1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CD25-256A-4B1B-B213-C3F00D1A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D14-07D3-479B-ACE8-BDB3D9A9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EAE-B087-470F-A032-83881273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C5F3-4045-4AD0-8186-D55F5A6A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E93-D8E3-49E5-86A5-697D2D0F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3DB2-A3F3-40A6-B7C9-ABA09599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32300-67FC-474B-8585-285CD550DB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, кто сии и кем облеч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лые ризы снежной белиз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уста хвалой п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, кто с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это те, кого Христос приз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, за кого Он умер и стра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х спас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, все за Агнцем вслед они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через скорбь великую пр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Нём мир душе на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х земной тернистой шёл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исус с любовию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ёл их сильною ру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тем, кто верой в Господа посм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вступить средь раскал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м славу дал в уд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ьем чертоге вечен их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х забыта, слёз они не ль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 новую по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Агнец нас кровью омыл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6:56Z</dcterms:modified>
  <cp:revision>12</cp:revision>
  <dc:subject>Slavic hymnal Гимны веры христиан, hymn 788</dc:subject>
  <dc:title>Кто, кто сии?</dc:title>
</cp:coreProperties>
</file>