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0FC-E6AA-4A36-BC25-EC39610C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377-33E7-45AE-88B2-2373CF4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272-3B98-4A74-8FD0-AA8EF815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0EC-1F1D-40F0-8393-741E7C6D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365-FCB2-4DFC-A686-91AF3163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01A-1DE1-45E7-9ECC-C97DB39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56C-1C69-4189-8E5D-79D6026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733-8BA5-4EC1-8F11-835EDB1F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BA4-CA6C-4497-A4FF-8E49E34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1F4-8A5C-4A2A-AC27-96A88869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B98-4B26-477E-8FFD-67492D2D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E41-CC7A-4FB8-92F7-6849C33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F263F-9F76-4E86-904C-71BEB4D8B6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idst accept their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praise we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all good deligh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good and grac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the King of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avid’s royal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the Lord’s name com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and Blesse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pany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raising The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rtal men and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d make re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eople of the Heb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lms before Thee w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praise and prayer and anth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e w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before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ang their hymns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now high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melody w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15Z</dcterms:modified>
  <cp:revision>12</cp:revision>
  <dc:subject>Slavic hymnal Гимны веры христиан, hymn 891</dc:subject>
  <dc:title>All Glory, Laud, and Honour / Осанна, честь и слава</dc:title>
</cp:coreProperties>
</file>