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E64E-413A-46C2-931C-A9BAF86F9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EFFC-81A8-455E-BB94-064EC3C2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DAF9-B3C6-4371-93FB-C4383611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7B16-29DE-45B9-AC4E-3A05E437D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8474-1B40-4302-8569-7E5F0F6B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8F80-C37A-46D6-B72C-56245C23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8F30-730A-4DCA-883D-47C592A7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EB58-9120-448A-B222-3ADEB435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A23C-DC5F-4586-99C4-2926EED9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7E15-D362-4228-90EA-F64AE1A7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6041-448F-4AFD-9CA0-D1C1E4A3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DF6D-77AD-48FC-9DB7-07674F9E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08F04-015F-427B-B1DD-230D907187C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тільки ві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тільки ві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все можливим 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тільки ві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2   О, тільки ві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5:30Z</dcterms:modified>
  <cp:revision>12</cp:revision>
  <dc:subject>Slavic hymnal Гимны веры христиан, Ukrainian hymn 112</dc:subject>
  <dc:title>О, тільки вір</dc:title>
</cp:coreProperties>
</file>