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2AAF-DCA5-401C-A1F8-C5EEF9A27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A748-2769-4186-9C1F-0613CD41A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BC53-35C2-4DD1-A7C4-4156398FB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BE5E-68CF-4FCE-A3E0-69A4FB195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17D6-ADCB-42EB-B14F-CF3EE21F6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1D48-F38B-45B6-BBA1-87F658945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0E45-A760-4909-8549-A871BA698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6E82-B430-4D88-B371-A961A75FC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4A46-9541-4030-9E5F-09F565781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ED78-DDB9-44FD-A8C9-88DC85855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156A-FB87-4E6E-AF20-D653B1CC9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18E8-7B84-4D5F-8283-3EB29C0B3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F54D94-07F6-4841-B97A-A639A330FF2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King of kings and Lord of lor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,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King of kings and Lord of lor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,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Prince of pe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,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Prince of pe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,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307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King of K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25:27Z</dcterms:modified>
  <cp:revision>10</cp:revision>
  <dc:subject>The Source, song number 307</dc:subject>
  <dc:title>King of Kings</dc:title>
</cp:coreProperties>
</file>