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C24-A13C-4311-B3F7-0C570123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0AA-1CEC-496A-B4A9-62A874F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6F4-CA4A-4FE1-9424-12C1EF01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09B-FA4D-4A64-AC4B-3D18795F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A16-4EDD-4EC0-B4B8-BA08CF1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F48-3E00-4F46-996E-469865E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421-C529-478D-A9E3-5449345C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EDB-EE17-4119-B346-BE3581C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D86-3EDB-4AB8-8C9C-209C194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944-4C37-466D-9040-DDF6492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DA1-DB03-40ED-A3A9-FDE7DE5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2FA-D6BA-45C1-81FA-D874EBF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2CFA2-B141-490C-8CFA-1B8CF239A5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price You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ring all my sin and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ove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is lo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nail-pierced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ed me in Your cleansing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all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orgiveness and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23   Thank You Fo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You now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ign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arling of heaven,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9Z</dcterms:modified>
  <cp:revision>12</cp:revision>
  <dc:subject>The Source 3, song number 1523</dc:subject>
  <dc:title>Thank You For the Cross (Worthy is the Lamb)</dc:title>
</cp:coreProperties>
</file>