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9C52-950E-4AFB-B5A2-65C9E472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8161-5AE8-45B0-A46A-2DD51DDA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BD3-0D27-4875-A128-6B2461EE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8065-F091-49A2-B920-A30C596A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77E-D36E-4090-BD4F-CBB30A04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178-B18E-4BEA-97B0-E04B141C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B21-E9D3-4E4C-8A61-94A1320B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A7F-1E6F-4871-81D8-F4841CCB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93E-242F-4F01-B9A5-CFC94E1C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88B-F1F4-47A7-897C-59121694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CEE-9410-4665-A3E4-158DF69F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284-DF13-44B9-A34B-94F27488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F4123-A03C-4386-B7B2-34207D4A70C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мой усталый, о чём ты горю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твоё отравляет печ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 унылы, как поздняя ос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холодно и твёрдо, как ста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я и бед испытал ты нем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ы растратил в житейск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желанной любви не встреч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ожь и обман надоели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 мой уста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с тобою дружить не хоте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как цветочек, расцветший в те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оем дохнуло — краса облете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ы, счастливые, светлые д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мой усталый, учися всеч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творить в этом мире до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доверься, живи для несчастных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твоём не погаснет зар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5:19Z</dcterms:modified>
  <cp:revision>12</cp:revision>
  <dc:subject>Slavic hymnal Гимны веры христиан, hymn 703</dc:subject>
  <dc:title>Брат мой усталый</dc:title>
</cp:coreProperties>
</file>