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8</a:t>
            </a:r>
            <a:r>
              <a:rPr b="1" lang="ru-RU" sz="3600" spc="-1" strike="noStrike">
                <a:solidFill>
                  <a:srgbClr val="ffffff"/>
                </a:solidFill>
                <a:latin typeface="Verdana"/>
              </a:rPr>
              <a:t>	</a:t>
            </a:r>
            <a:r>
              <a:rPr b="1" lang="ru-RU" sz="3600" spc="-1" strike="noStrike">
                <a:solidFill>
                  <a:srgbClr val="ffffff"/>
                </a:solidFill>
                <a:latin typeface="Verdana"/>
              </a:rPr>
              <a:t>Когда безбрежный ропот</a:t>
            </a:r>
            <a:endParaRPr b="0" lang="en-US" sz="3600" spc="-1" strike="noStrike">
              <a:solidFill>
                <a:srgbClr val="000000"/>
              </a:solidFill>
              <a:latin typeface="Verdana"/>
            </a:endParaRPr>
          </a:p>
        </p:txBody>
      </p:sp>
      <p:sp>
        <p:nvSpPr>
          <p:cNvPr id="39"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огда безбрежный ропот океа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осает, словно щепы, кораб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ся их вдаль навстречу урага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говорю: «Как слаб, бессилен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земли!»</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молитву я т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Богом в сердце го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p:txBody>
      </p:sp>
      <p:sp>
        <p:nvSpPr>
          <p:cNvPr id="4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молитву я т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Богом в сердце го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огда смотрю на путь созвезд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млеч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олнца, что бегут из века в 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круг миров в пространств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бесконеч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говорю: «О, как ничтожен человек!»</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молитву я т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Богом в сердце го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я слышу, что Творец тво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ущий мир стереть в единый ми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овёт людей в объятия про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ыслю: «Боже! Мир не стоит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Твоих.»</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молитву я т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Богом в сердце го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я слышу: Бог для счастья тва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лал на муку Сына Сво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огружаюсь в мысль о Божьем да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человек, что помнишь, Боже,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его?»</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молитву я т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Богом в сердце го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 человек, что помнишь Ты его?»</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ы окружён пресветлыми дух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ангелы у трона Тво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т хвалу безгрешными уст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человек, что помнишь, Боже,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его?</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43:05Z</dcterms:modified>
  <cp:revision>3</cp:revision>
  <dc:subject>Slavic hymnal Гимны веры христиан, hymn 48</dc:subject>
  <dc:title>Когда безбрежный ропот океана</dc:title>
</cp:coreProperties>
</file>