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75A-F987-4F43-8614-16A2DB1D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479-EC10-4134-9431-9282B52C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BE7-C693-43D3-ADC6-7CA05CA6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EF0-285B-46E5-AFE5-8DD55531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37D-2139-453B-9DCA-F17785EF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6CA-0F5F-4C87-A61C-251CA49D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978-CCD0-4BAD-8285-2171C6C4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63C-B97C-4367-8787-9CEC86DB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2BD-BD5D-4D44-A6CA-2E44F909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6A7-B460-4256-90CC-5B1E42F3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1059-475B-4415-BE56-C535210B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7E0-E9EB-458B-93AF-BD8BEDF8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CAB7D-0D6D-473B-9A13-7A7702A55E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у я всем живущ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ристос мой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д бременем гнету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н умир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у я всем живущ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ристос мой по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всем, к Нему идущ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об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сскажу я всем живущ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я не слышу 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уждаю, как ов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ня находит 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ию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орьбе с грехом был ра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стал и изне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был скорбью затуманен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е мне во всём по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мо смерти прохож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зол в пути м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ед ними не па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сражу святым меч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ерёт меня за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пять вперёд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знаю с Ним разл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знаю с Ним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36Z</dcterms:modified>
  <cp:revision>12</cp:revision>
  <dc:subject>Slavic hymnal Гимны веры христиан, hymn 514</dc:subject>
  <dc:title>Расскажу я всем живущим</dc:title>
</cp:coreProperties>
</file>