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E6F-DB7C-4647-95FC-2347FE2B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F97-52BB-4CFE-8B12-886A54F9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5F9-CEE8-46F0-9C68-635F871C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3F8-DC27-41C1-9574-4B5EB622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6A9-4336-46D9-89F9-93B121EC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440-AEFE-41F0-B5A6-649AB94D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C91-A983-4ECB-A0A8-EFC4F55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A98-3E83-4F9C-B5BD-95B083D2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B76-14F5-4E22-892A-0C4D9DEF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92A-5B0B-47FE-BD9A-EA641305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F16-BED4-48EB-90D3-699A618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C32-04C1-4539-8013-EDA7C4C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9B3E-2BD3-4F1D-BCDE-483DA78FB3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к я не залишу святую Біблі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ій знайшов спасіння 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5   Повік я не зали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є спокусі і обгортає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дає побіду і розгоняє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іб’юсь з дороги, с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євих фи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мене справляє до віч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їй лиш довіряю, знаходжу в 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м сяє Сонце Правди й люб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34Z</dcterms:modified>
  <cp:revision>12</cp:revision>
  <dc:subject>Slavic hymnal Гимны веры христиан, Ukrainian hymn 45</dc:subject>
  <dc:title>Повік я не залишу святую Біблію!</dc:title>
</cp:coreProperties>
</file>