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51F-BE86-484D-9986-6CB6902F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1C7-61CE-4710-8A19-6707F2D7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117-79CD-49FE-AC94-8D5A90F4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75B-92F1-4F7B-B5A4-AF8FFB65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E56-61E3-4C24-995D-A532EE15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795-4DB3-4DB5-9AB1-14227468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7B1-9748-4AAC-A9C8-EE34F637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3F2-C670-4756-ACD6-0F925B03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2EE-49D1-44E3-B5F1-C5F53759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A13-FDC5-499B-A475-322D2242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290-5C14-4788-B1A2-6CC3E497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CF4-FC55-4919-9485-773E1E47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1D7EA-91DB-4D31-886D-16E0420010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boundless salvation, deep ocean of lo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fullness of mercy, Christ brought fr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hole world redeeming, so rich and so f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flowing for all me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6   О, світу сп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іту спасіння, любове св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наші провини лилась кров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есь світ відкупив Він, і дав спокій Св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любові святі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s they are many, their stains are so d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itter the tears of remorse that I wee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useless is weeping; thou great crimson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waters can cleanse me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агато провин в мене й темний мій ду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 Божого слова торкнувся мій слу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ерце скорилось, і сльози я лл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ас душу м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tempers are fitful, my passions are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bind my poor soul and they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to wro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neath thy blest billows deliverance I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come, mighty ocea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хочу молитесь і вірить Й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міць перемоги в Христі од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світлом небесним весь світ освіт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анна, осанна, осанна, осан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анна Спасителю Господу си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ide is now flowing, I’m touching the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ear the loud call of the Mighty, to sa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faith’s growing bolder, delivered I’ll 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plunge ’neath the waters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roll ove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ин Божий розп’ятий вмирав на хрест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озп’ятий для світу і я у Хри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віт вже для мене розп’ятий є з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 Ісусом мої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, Hallelujah, the rest of my d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gladly be spent in promoting His prai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opened His bosom to pour out this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boundless salvatio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u and fo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меркнучу славу, безсмертя віне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ені дасть у небі Всесильний Творец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іллються там хори землі та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Христі я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30Z</dcterms:modified>
  <cp:revision>12</cp:revision>
  <dc:subject>Slavic hymnal Гимны веры христиан, Ukrainian hymn 76</dc:subject>
  <dc:title>O Boundless Salvation / О, світу спасіння, любове свята!</dc:title>
</cp:coreProperties>
</file>