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E56-5648-4605-A4E5-0AA0D6DD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F09-8E79-4BC9-ADC7-0B19A94C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519-1CDB-4437-AF1D-884270CC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854-2D4C-4E3C-8AB2-0738B1FF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C7D-5D40-4C4E-A006-21A2AA5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D21-E8E1-4D2D-AB1E-F91B109D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A6C-8ABD-4D45-8924-CA878ADB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62D-917F-42B8-BC4F-88BE5C3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C79-51C2-4304-8793-C5C75BE6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EA9-8669-466E-9D3E-F334B84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714-8656-4D57-9957-1A7BC4E0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528-FE3B-467F-866E-B3EE9AC2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FFE14-A8C6-44B7-95A7-C4253BD5BE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1   In Christ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39Z</dcterms:modified>
  <cp:revision>12</cp:revision>
  <dc:subject>The Source 3, song number 1311</dc:subject>
  <dc:title>In Christ Alone</dc:title>
</cp:coreProperties>
</file>