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044D-EC82-42B3-93DE-D99BDC98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6E4F-C923-4D27-8F8A-5ADB8DD3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5ED3-F68B-4D66-91B1-057FAA62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2D0D-E326-491F-AA26-5FAD75D0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EB4C-19C4-4054-824F-793E3221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DB5-E509-4A33-9010-CE53F639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924A-1AE2-4B38-A3D9-D7CE6A4C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1E6B-5267-41CF-838C-10CC24AB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166B-0815-4396-83E0-D47E70C4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65D5-E94D-4B92-8C2D-4AEA5439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9F24-C78F-4CC4-AA67-0B4786F5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BBB4-99BF-47D0-9D0F-15496477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2CD78-8B1C-4FBA-AD52-E0E759956AD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! жаждет петь мой 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Твоих засл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петь, мольбу тв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сил Ц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моги мне возвес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мени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сть Твою распрост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людей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! жаждет пе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имя гонит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ит из плача п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адкий звон звучит в сердц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нам радость,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крушаешь власть грех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шь от 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овь Твоя, Господь, стру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вает грех люд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3:57Z</dcterms:modified>
  <cp:revision>12</cp:revision>
  <dc:subject>Slavic hymnal Гимны веры христиан, hymn 591</dc:subject>
  <dc:title>Спаситель! жаждет петь мой дух</dc:title>
</cp:coreProperties>
</file>