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C0A-1DAA-454F-83A7-ABCBC8CB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D29-4D2A-46F6-BFFC-3051AEDA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8A0-C1D9-4060-881E-3FE33470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E585-5DF6-4B91-8810-6F00E9B0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8BD-902A-4EDF-AB52-2E330944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F4B-A592-466D-9959-3C9AC2FF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618A-5B0C-4247-82C4-87514589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55D-8EDA-40F5-8C06-DA99BD03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08B3-9334-480B-9962-8A1A8CEA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159-5CB7-497A-A5E2-E3894086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AED-436F-4CF5-99E3-4E6F77CB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B0FD-254C-441C-BF75-00D90DF8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C06D9-FCB9-4AD6-A9E8-22AD340774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на этой дор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тяжело нам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плетаются н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зком, тернистом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травят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чи яд разоль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у вас не бы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таких же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асто на этой доро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и тяжёл и так д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ется — вот уп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шь, ах, где же те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победой зажг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же на ноги пост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е я дальше пой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у вас не бы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таких же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чутясь на колен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затворив за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е эти мгнов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взлетишь ты с моль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забьётся так гул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ручьём по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у вас не бы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подобных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годатны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наполнят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о поднимут на крыл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облегчая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ки мелодии ди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неземной уве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у вас не бы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подобных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орогие мгнов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дающи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любви, дерзнов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надежду сердц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е! в эти мин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в небе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у вас не бы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таких же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7:28Z</dcterms:modified>
  <cp:revision>12</cp:revision>
  <dc:subject>Slavic hymnal Гимны веры христиан, hymn 786</dc:subject>
  <dc:title>Часто на этой дороге</dc:title>
</cp:coreProperties>
</file>