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DC2-900B-4012-9DDF-43FAF93B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159-CE45-490B-B668-1CA588C0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FE0-E1EE-415D-9371-099440B5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81A-CCED-4D5B-A6C8-E543B444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C0A-B2B1-44DE-B2CD-093A087E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942-56C0-4C36-94E2-2AADFE76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57F-286A-49BE-9701-5D4E3884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32C-D489-46BA-9535-035BC9F2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C38-3150-4343-BA5B-876124A9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C0F-5938-411F-936D-2EFD21F3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7B6-399C-4BFB-9384-5E7253DB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D4B-D7A2-45EA-A146-D674FFCC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30B91-5D99-4A96-88E6-2D8E837627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 есть я в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реда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цел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адостн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пас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частлив есть я в ду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лишь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, мир ты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ирское прой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то ты там пож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только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ман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у всю нам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ить Духом Свят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люблю Его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55Z</dcterms:modified>
  <cp:revision>12</cp:revision>
  <dc:subject>Slavic hymnal Гимны веры христиан, hymn 604</dc:subject>
  <dc:title>Счастлив есть я в душе</dc:title>
</cp:coreProperties>
</file>