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965-A5BB-4A84-85BF-7D68BA82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5F2-F8F4-4C8E-B126-96B1576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118-75FF-42F3-B36B-B667631A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E56-ECC9-45D3-A2EC-0015261A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536-5F56-4B91-9D38-F70D667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11F-581D-4A64-8008-F2C7FC1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FE8-46BC-4722-8E52-C71680A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08C-5B90-40BC-9434-E20BEE51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287-1A86-45E8-B4F2-E9545F7D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564-FC23-4564-BDE6-8B155D8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094-8ED0-4F00-A772-6C2FBC2E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6C8-ED42-41B8-911C-D3D0BAD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CA286-FF59-419D-92F6-F7EC259583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! Тобой, как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ился обл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аждало, прос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арок,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ленья были тще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как прежде, бе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, как Друг за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за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! Тобой, как сил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един с Отцом и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ей души Т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будет властели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ь иль ты, земной го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я в раска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мирясь, молись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вой Царь, прид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обою обла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руди зажёгся пл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я, трепетом ды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аял в сердце к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а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о себя все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,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Царём души и 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ерди в них власть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л я в те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Вечное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нял венок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радостей кольц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ех пор Он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как Друг, в беде лих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чали под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итель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читель, на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истин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анитель, изб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ой насту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ходит в тот же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 мой 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бед Его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1:06Z</dcterms:modified>
  <cp:revision>13</cp:revision>
  <dc:subject>Slavic hymnal Гимны веры христиан, hymn 303</dc:subject>
  <dc:title>Дух Святой! Тобой, как силой</dc:title>
</cp:coreProperties>
</file>