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CD2-24AB-4D65-A02C-6E44DC36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95F6-D8EF-4BF4-B097-63EDC763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6A7D-73FA-4730-81DA-E698EAE0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7D0E-B072-4CAA-8F21-4366F1FE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F3E-8212-4AF8-8716-76DE6A6B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12B5-7A5A-4518-8AAC-03FDA331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FBAB-ACD1-4BEC-BA41-ACD8A840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BBDE-79EA-440D-88F4-B99E1DFC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35A9-0AA7-4434-A900-5C7DDE60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885A-969D-4FCE-BEF2-2728624D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1E5-D955-4179-8D44-A338FA84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79E0-E00E-4E6E-8FA5-DD624EA1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0E32E-AB1B-45C0-95B7-0CACB79B8F2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belong to the K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a child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dwell in His palace so fai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e tells of its bli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yon heaven ab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is children in splendour shall sh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подвластен Хрис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6576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овеки жить буду я с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небес крас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я души показ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теперь Его Духом вод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belong to the King; I’m a child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 never forsaketh His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call me some day to His palace abo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dwell by His glorified thr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6576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век не оставит ме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оный день с Ним вой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край, что Он завещ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ы жить в свете вечного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belong to the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 loves me I kn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is mercy and kindness so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unceasingly 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soever I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y Refuge unfailing is 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6576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меня возлюб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изобильи Он всё мне даё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сполняет нуж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де б я в мире не ж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— мой щит от врага и заб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belong to the King; I’m a child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 never forsaketh His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call me some day to His palace abo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dwell by His glorified thr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6576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век не оставит ме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оный день с Ним вой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край, что Он завещ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ы жить в свете вечного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belong to the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is promise is s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we all shall be gathered at 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His kingdom ab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life’s waters so p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is life with its trials is p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6576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но слово Е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Своих Он в свой час забер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небес выс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дом Отца Свое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с шумом земное прой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belong to the King; I’m a child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 never forsaketh His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call me some day to His palace abo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dwell by His glorified thr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6576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век не оставит ме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оный день с Ним вой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край, что Он завещ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ы жить в свете вечного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6T21:34:39Z</dcterms:modified>
  <cp:revision>14</cp:revision>
  <dc:subject>Slavic hymnal Гимны веры христиан, hymn 598</dc:subject>
  <dc:title>I Belong to the King / Я подвластен Христу</dc:title>
</cp:coreProperties>
</file>