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D532-7928-459D-AECF-07BFFF99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6F22-474E-4AA6-AFEC-4A4FADF3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93AA-2A53-403A-BCB1-17DC0493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735-C1D9-456C-A573-F03BFEAA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261F-DD28-45A8-82AD-3AB44D91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FBAA-42A4-40D9-9E6F-328EABE7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5F42-36F2-4DBA-9C18-14E45AB4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1BD7-05F9-458E-9400-FC4B2775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D697-FE02-40F8-A0A8-6C6DFB88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3F78-0368-4C6F-985F-2BF5AC55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E48F-BFE3-487B-8EAA-0E7448DE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AB92-BEF3-4454-9156-1F203ABA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D07B5-215A-4A71-90D0-31910037FAE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placed all my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 crucified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wounds in His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feet and His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traded my p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 share in His sh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glory that on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burst from His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93   I Have Placed All My H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stand at the 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no other pl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placed my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 crucified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the thief nailed beside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no other pl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placed my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 crucified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abandoned my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wise and the pr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is fragile, myste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akness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dare to bel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is scandalous 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is blood cleanses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hoever will call on Hi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ve or die, here I st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placed my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 crucified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believe as they b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 His beautiful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turned a torturer’s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an altar of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 worst we can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t the best that God do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unspeakable 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t the gaze of unstoppable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crux of it all there He ha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placed my hope in a cruc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n of sorrows, Man of gri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He stay beyond bel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purest and 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ok the force of our cur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ath’s vict’ry arm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ddered into re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ither we b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we stumble and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wisdom of a suffering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s made fools of u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ladly admit that I 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I’ve placed my hope in a cruc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n of sorrows, Man of gri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He stay beyond bel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buried m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cold earth with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a seed in the win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it for the sp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at garden of tomb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den rises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Paradise bl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His body and never will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ll finish all He beg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eation h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 crucified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8:32Z</dcterms:modified>
  <cp:revision>12</cp:revision>
  <dc:subject>The Source 4, song number 1893</dc:subject>
  <dc:title>I Have Placed All My Hope (Crucified Man)</dc:title>
</cp:coreProperties>
</file>