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DB8-770F-487A-9493-4A230F31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8C9-9716-4C09-AFDA-C107996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06E-D738-419C-B354-9D83BFCD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66B-D2CC-40A1-94DA-595F3EA5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1B4-6D65-4664-A000-DD4A3A3D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AFF-C51D-4BB8-8A1B-80D712B4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1EF-0D35-4358-B3B9-E04921FB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E45-6BA1-4361-A7CB-E5398733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9B7-67E5-4F4E-AE30-92FF4BF9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EE7-8EAE-4ABB-A3F9-F476387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AE9-6E09-4E82-8C42-ADB0C85C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276-AE85-4E4E-B91E-AC3F708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FCFCF-26AE-4F72-B36D-BEED6E9C21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manuel, 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called Emmanue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th us, revealed in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calle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Em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03Z</dcterms:modified>
  <cp:revision>11</cp:revision>
  <dc:subject>The Source 2, song number 675</dc:subject>
  <dc:title>Emmanuel</dc:title>
</cp:coreProperties>
</file>