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934-4734-4795-A323-9B95FEB1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D3E-1698-44A5-A1E7-F055E98F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FCA-E564-4B6B-9494-48DA72AC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FB8-FBDD-4AC6-AC00-FC365AA6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E2F-3C56-4F71-A402-2EC219B5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0E0-6439-4EF5-B9B9-4F3DF7DA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E9E-4DE3-403E-8123-9E42A42F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8E2-69EA-4B1C-A8A9-6097AE6B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483-3110-47C5-8095-A4E01E7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F5D-304A-48C1-8F44-C3AE754A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B72-E9E6-4DE4-9C02-E15FA003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547-1331-4939-9B9E-3E95AC27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3E07C-B863-4936-BBED-E04BECCF8E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p unto my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t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treasure that I 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finest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t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amp Unto My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worship You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ev’ry day I need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wings of heaven I will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y broken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e to Yoursel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You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ing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worship You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ev’ry day I need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wings of heaven I will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57Z</dcterms:modified>
  <cp:revision>11</cp:revision>
  <dc:subject>The Source 2, song number 851</dc:subject>
  <dc:title>Lamp Unto My Feet (It Is You)</dc:title>
</cp:coreProperties>
</file>