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8E1-A78C-421E-B01C-416735C5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46C-941B-4039-948A-A3011DA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874-5B5D-48C4-86AE-FCBA86A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BC1-8CC5-4499-9935-F0466F1F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FCD-5C3C-4DE2-941B-A445486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F73-EB51-49AE-95E9-2CA0B33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DF6-D34E-4257-AD00-C76821B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65F-2DA3-41C8-A7B0-CAC1A4CF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A96-6A08-4ABB-A4F5-13C775B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DB0-B839-48BD-A342-0245ED6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407-E4CD-430F-B37C-AD344CB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470-8026-4EC5-913E-D38D8A2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A9031-9D99-4C9F-869C-923FFF591D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Lord is on thy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patiently the cross of grief or p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ave to thy God to order and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ev’ry change He faithful will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best, thy heavenl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thorny ways leads to a joyful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God doth under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uide the future as He has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hope, thy confidence let nothing shak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now mysterious shall be brigh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waves and winds sti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voice Who ruled them while He dwelt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 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! The hour is hast’n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shall be forever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disappointment, grief and fear are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rrow forgot, love’s purest joys re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when change and tears are pa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safe and blessed we shall mee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37Z</dcterms:modified>
  <cp:revision>12</cp:revision>
  <dc:subject>Slavic hymnal Гимны веры христиан, hymn 860</dc:subject>
  <dc:title>Be Still, My Soul / Не унывай! Господь всегда с тобой</dc:title>
</cp:coreProperties>
</file>