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D2D-C9F1-47D7-87D1-F849F2D6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61E-D7E9-4D60-877D-55828D29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04C-2331-47E0-89D1-5D612662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9FE-99C7-405A-8035-85898ACA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2C7-E3A6-4751-9BCA-93C604E9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66E-82F1-470E-909B-BAC223A3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5A1-724B-45E2-ABCE-70E51276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78B-2AB9-4E7C-8247-50283E55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E9D-0C7A-4F0B-88E4-61AA5B23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EE1-2C24-4ACE-912A-66705EA0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EE7-3705-4504-9106-A275BC7A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E35-4E17-4184-AA9C-C1E4B20E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EAD52-EA4D-4B52-A9CF-7E6F3DC516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внемли отрадной в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за тебя Христ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рехи и нака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Сам по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аших сог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го на смерть обр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, мёртвых в преступл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овьями Он нар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! внемли отра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ты давно оста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по собственным пут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 вечности не ду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ваяся страс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 от сна и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скорей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 тебя Он с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, текшей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бя спасти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рабства су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, как раб Христа,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шь быть свободен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дай Ему жел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душу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что ты спасён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Его святую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54Z</dcterms:modified>
  <cp:revision>12</cp:revision>
  <dc:subject>Slavic hymnal Гимны веры христиан, hymn 342</dc:subject>
  <dc:title>Друг! внемли отрадной вести</dc:title>
</cp:coreProperties>
</file>