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9EA-5E83-4907-8D70-B0AF6A6D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FAF-09F1-4C2E-8837-96574D1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7CA-6EAC-466F-B8D8-F47A949C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AE8-521A-4376-8DC6-D0D418B7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203-39C0-4EC0-90D6-93B2D58B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752-753E-46AE-9479-FE04B946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C74-7A15-4116-A110-1A31C1F5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13E-5683-4E6E-BEBA-FADFC06F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8EB-6E8C-4B18-AD20-7948DF10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00E-73F9-4F74-AE19-755FEB14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163-66BB-45A4-BC59-6B5B7E0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D1C-55A1-4A48-8E29-470A5FEC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AA31B-8A5A-4FF7-A50D-16E8512EC9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Слова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славу Он даст нам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инуясь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ребудем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слушно с Ним хочет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нь ниспа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туч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улыбкой заставит пр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будет ни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еза на о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лишь в послушаньи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ремя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традае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янье не медлит прийт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утраты нам ж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 горесть,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мы в них можем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ю радость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всё нам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бя на алтарь прин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блаженство д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м, кто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быть и послушно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общеньи с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 ноги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союзе с Ним будем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скажет —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кажет — снес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, но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9:17Z</dcterms:modified>
  <cp:revision>12</cp:revision>
  <dc:subject>Slavic hymnal Гимны веры христиан, hymn 647</dc:subject>
  <dc:title>Когда мы со Христом</dc:title>
</cp:coreProperties>
</file>