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D47-1568-4040-8D38-92CE5443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FD5-09F3-4A54-9B3C-BF594261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298-7665-4EF3-A2F9-91FBC256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7EB-DD39-4660-B1ED-387ABB6F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1E4-91DA-469C-A1FD-2BEE2256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B6A-0694-4C2C-BCB0-2A70E83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668-682F-4AA6-8ADF-CFF2901C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AC3-E0D3-453B-8ED6-D34E54F9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DBF-7B18-431D-B56C-636D648F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B3F-664C-4590-BEDA-80B52F3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C31-8CF0-4511-A621-DD508585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02A-2E66-4194-8576-FC5BBA9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4A2C2-6AE1-4B68-B9C5-8CB10C4E59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мне, страннику, в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мне в сердце живо, мило, н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ос пришёл меня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те мне Библ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когда я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и то слово утеш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трахом сильно пере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ней найти спас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источник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мог видеть я стез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 в согласии её со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конец, обресть жизнь ве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етильник прав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ести мог верно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же Иордан, реку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я в страну Ханаан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29Z</dcterms:modified>
  <cp:revision>12</cp:revision>
  <dc:subject>Slavic hymnal Гимны веры христиан, hymn 791</dc:subject>
  <dc:title>Дайте мне Библию, святое слово</dc:title>
</cp:coreProperties>
</file>