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676-1424-474F-A095-60B2B767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644-5AE3-4E9E-AB78-83693BB3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241-3FEA-4551-9C47-3CC44CC9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5D2-8F5C-4C33-A2DC-6B9B4CE9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4B4-6334-4EF5-8746-4E361806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23F-D292-4362-821B-FC71B80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3F1-1946-46D5-A5B8-29BC703E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910-8356-4A0F-9E64-5DAD5757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58C-2D97-4B33-92A4-911204BF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287-2919-4B4D-BF8E-FEC20DB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96F-3C02-4DD1-A9A1-075F768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49C-D124-46F6-8B70-2C04389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18AEA-5924-490F-A016-7AE3EA91C4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closer walk with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alm and heavenly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ight to shine upon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me to the Lam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общеньи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жить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зарил Он мне стез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the blessedness I k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rst I saw the L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the soul-refreshi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о блаженство, что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а любовь, какой г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, к Его сло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turn, O holy Dove, ret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messenger of r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te the sins that made Thee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rove Thee from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 вернись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редное гу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ел я тот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дали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est idol I have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that ido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o tear it from Thy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ship onl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амый дорогой ку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 мне сокру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 мне в сердце радость,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hall my walk be close with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and serene my fr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purer light shall mark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me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светлой мне сте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1:36Z</dcterms:modified>
  <cp:revision>12</cp:revision>
  <dc:subject>Slavic hymnal Гимны веры христиан, hymn 885</dc:subject>
  <dc:title>O for a Closer Walk with God / В общеньи с Богом жить хочу</dc:title>
</cp:coreProperties>
</file>