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915-6037-439E-80D7-EB86239A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7E6-3EDA-49F5-AA20-9877FA8C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A43-4E1B-4A84-87E8-4D82CD2A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E0C-F3A3-4266-8D94-DA5890D6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EA5-66EC-4F52-BA52-E8863DAB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A99-11E1-4503-B188-CEF7DC2C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13B-7C49-4A61-A04A-C9F49BCD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E7F-3821-4DC5-AF03-37073BA0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1DB-FF17-47C0-BF46-8043754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28B-2B5D-44C9-8AA7-73C3760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A33-3BB0-4986-BB2C-6F941C5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88D-482E-40BA-94A7-1596446E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12425-7877-4706-B1D1-33EB60B2CB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кал так мног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жемчужину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шёл почти весь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моря и вс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е дорог жемчуг то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его — спасенье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его живых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онул в морской в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искал так много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, долго я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стречая нич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в пути я у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комц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комца взор си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Он в руках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редкий,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блеснул в моих гла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тел домой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ома свои пр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еть его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кротко мне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ло мир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жемчуг Свой про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Я даю е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руку протя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 жемчуг получ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взгля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мой не дар м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Господней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ю при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усладу скорб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07Z</dcterms:modified>
  <cp:revision>12</cp:revision>
  <dc:subject>Slavic hymnal Гимны веры христиан, hymn 603</dc:subject>
  <dc:title>Я искал так много лет</dc:title>
</cp:coreProperties>
</file>