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BE13-4942-4CB8-8445-C0BAA946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BDB1-FB4E-4D78-B6F1-DB2E0988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D7B8-07C7-44F9-A163-E53448BB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F993-71BF-4CD5-911A-0B3B17C9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AACB-E55A-422A-A837-62EE3A49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5B65-F53B-4C2D-A34F-FD2601BE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D66B-28CA-45AD-9A1C-8AA9BD24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5538-D19F-41AD-806B-BB45921A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828F-1DBC-43F0-8995-EBDB4156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6231-D450-40B6-9BA7-E4803D86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657B-0440-4EE9-B422-5123CC62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44D8-F628-4A63-AF40-8556D6DE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F9AD2-9E80-46F6-AB84-501946C77DC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так много печ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ны и вздохи круго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о мы счастья иск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о скорбели о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ушедши в земно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ли добра от люд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лишались пок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ых не видели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мире так много печа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Господня нежда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й, могучей р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из густого тум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вела к жизни и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тал нам любящим Бо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ым Небесным Отц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не стонем под и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, надеждой жив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грехов очищ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а Христова да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хи, тревоги, сомнень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мутся и тают, как л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наш путь озар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нам свыше д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с в пути подкреп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ль перед нами вид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2:21Z</dcterms:modified>
  <cp:revision>12</cp:revision>
  <dc:subject>Slavic hymnal Гимны веры христиан, hymn 630</dc:subject>
  <dc:title>В мире так много печали</dc:title>
</cp:coreProperties>
</file>