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C7B-2FDC-4CB3-B725-3439B9F2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C65-AE98-463F-BBB2-81B7F99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087-89C6-414C-9886-46F9817A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EE5-A886-4542-B296-79046277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611-B004-4225-A0AD-F18C1A5D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B4D-1794-41AC-ADCF-FA95948A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9AE-E292-453E-AC5A-BB24BA3E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FC0-8037-41C5-A544-20BD635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5BF-40DC-4652-9B8D-F0C96F7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4C9-4A23-4B16-B770-216212C7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50E-85F9-43D1-AA92-3CF5E3F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4C9-7808-4AD0-85F6-C4AC7C8F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F0508-B3F5-4A48-AF06-CA6A34747D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9Z</dcterms:modified>
  <cp:revision>12</cp:revision>
  <dc:subject>Slavic hymnal Гимны веры христиан, hymn 479</dc:subject>
  <dc:title>Таков, как есмь, о Боже мой</dc:title>
</cp:coreProperties>
</file>