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3F4E-95F4-4347-9A60-73B4597A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3E70-3C72-4D49-94DB-2EA4DB16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2703-15AC-4480-B58D-C68FAF41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25F-F8AD-4DF9-9A37-D4BFA0AA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CA8-46C9-48B2-B5F7-90971F9A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D5A-E745-49FD-B2D1-B8AC36DE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C798-C282-40AE-B2CB-A36F2F71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87E-7189-4B7A-9F35-A85622D8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CE94-E8AD-40B2-9F04-DBED6F33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C83-8895-4C1B-8ADA-6064D6B6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6158-395C-4AAF-BD66-59F20DF2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C6A-DE2C-4411-968B-373389A1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BBAD0-E84C-46CD-A298-9673F4B710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mock purple arr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rns piercing Thy b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ands bound, taken out of the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багрянице стоишь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агрянице стои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рновом венц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го спереди связаны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lood from Thy fore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now trickling dow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more they are engulf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ughter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евали в лиц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лилася с че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они всё сильней хохот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традал и терз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порочный над Богом глум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, о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Спаситель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так тяжко том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face showing the suff’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Thou didst a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so for Your tormentors—what p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скорби глуб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едном л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жалости к людям и му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y suff’ring transc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ere physical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hough Thou art in dire situ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телом скорби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люд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позорная пытка ужас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er far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ual suff’ring endu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they would reject Thy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шный час для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равненно боль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, что жертва для многих нап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compassion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ches out to Thy foe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eart for them is o’erfi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любовью го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яя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нежно объять мир стремило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do not under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 their hearts are clo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y prophecy they are fulfill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многим понят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лпа над Ним злобно глуми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Bring the sceptre to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your knees, every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forever, O King!”—m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wors’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кипетр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лени скор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равствуй, Царь Иудейский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ич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nto Thy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 God’s only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the reed of bulrushes are for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затекшие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я всех ц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остниковую палку влаг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reeds they bea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sharp thorny cr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laps on Thy gaunt ch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af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или тростью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колючкам в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 впалым ланитам хлест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39:37Z</dcterms:modified>
  <cp:revision>13</cp:revision>
  <dc:subject>Slavic hymnal Гимны веры христиан, hymn 285</dc:subject>
  <dc:title>In a Mock Purple Arrayed / В багрянице стоишь Ты</dc:title>
</cp:coreProperties>
</file>