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24</a:t>
            </a:r>
            <a:r>
              <a:rPr b="1" lang="ru-RU" sz="3600" spc="-1" strike="noStrike">
                <a:solidFill>
                  <a:srgbClr val="ffffff"/>
                </a:solidFill>
                <a:latin typeface="Verdana"/>
              </a:rPr>
              <a:t>	</a:t>
            </a:r>
            <a:r>
              <a:rPr b="1" lang="ru-RU" sz="3600" spc="-1" strike="noStrike">
                <a:solidFill>
                  <a:srgbClr val="ffffff"/>
                </a:solidFill>
                <a:latin typeface="Verdana"/>
              </a:rPr>
              <a:t>Скрылись солнца лучи</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Скрылись солнца луч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яча землю в кольц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охлада ноч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ышит снова в лиц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бо стало си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то ближе ко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удь вздыхает силь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 родной стороне.</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Над зерцалом вод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вы лозочки гну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веченьи звезд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жно в косы плету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еребринках рос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иден месяца св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о Божьей крас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Творца только нет!</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Тихо шепчется ле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ть листвою шурш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тичий гомон исчез…</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у внемлет душ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ь, говор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 мой жаждет Т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в тиши подар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любовь, и Себя.</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Чуден весь небосв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позолоте свет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ль же дивнее То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его сотвор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е бьётся в гру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й вдыхая е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паситель, гря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невестой Своей!</a:t>
            </a:r>
            <a:r>
              <a:rPr b="0" lang="ru-RU" sz="3200" spc="-1" strike="noStrike">
                <a:solidFill>
                  <a:srgbClr val="ffffff"/>
                </a:solidFill>
                <a:latin typeface="Verdana"/>
              </a:rPr>
              <a:t>	</a:t>
            </a:r>
            <a:r>
              <a:rPr b="0" lang="ru-RU" sz="3200" spc="-1" strike="noStrike">
                <a:solidFill>
                  <a:srgbClr val="ffffff"/>
                </a:solidFill>
                <a:latin typeface="Verdana"/>
              </a:rPr>
              <a:t>(2 раза)   </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8-02T01:53:12Z</dcterms:modified>
  <cp:revision>3</cp:revision>
  <dc:subject>Slavic hymnal Гимны веры христиан, hymn 224</dc:subject>
  <dc:title>Скрылись солнца лучи</dc:title>
</cp:coreProperties>
</file>