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6D1-7160-4015-A2DE-307C124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FC0-D3C7-4B53-ABA1-5663F73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EBA-F9F6-477D-874C-0788E0A1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BEE-3FF2-4BB4-AD92-188972B6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C25-D2A9-4B92-A9C4-84FC4326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212-3D82-4D56-8F05-E7A7DF27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FB4-C222-4461-9A87-9E32858C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AB8-F681-4FA0-935D-1C408EF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6BC-693F-4747-AF6C-5CCA038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286-5570-4008-A2A5-F6A4D7A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67F-F078-4F25-9570-31175F4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3D6-FF70-4EFF-A137-C8267940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5423B-35CB-4F0E-9E20-6288DBF644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Saviour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trength indeed is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weakness,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in Me thine all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now indeed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and Thin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change the leper’s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the heart of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hing go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by Thy grace to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wash my garments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lood of Calvary’s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before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in Him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my soul to sav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ps shall still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41Z</dcterms:modified>
  <cp:revision>12</cp:revision>
  <dc:subject>Slavic hymnal Гимны веры христиан, hymn 857</dc:subject>
  <dc:title>Jesus Paid It All (I Hear the Saviour Say) / Спаситель говорит</dc:title>
</cp:coreProperties>
</file>