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4B1-9BD5-46C2-887D-577B4D3B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9B2-3669-409D-A40B-3CC17C6C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2A8-EEA0-491E-A64C-7A71D960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FA1-F39C-4081-8512-EB342A44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99A-F21C-4C99-A873-EC9BFA8C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265-84A0-4C3C-B084-D0A56A5F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71B-9328-4FD9-AEBE-FFCCAF24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5B8-B621-44F4-B6F0-C841719C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982-B177-4E45-B476-247C1F8F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FA2-0779-4C5D-8775-D029087E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99F-5DD8-41CB-8707-803E07B4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3E4-4D19-4960-865E-784DB8F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3169D-15EF-4E98-A562-78E826A82D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at it will be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walk by Y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at my eye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face i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2   I Can Only Ima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will my heart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dance for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in awe of You be st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tand 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to my knees will I f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ing halleluja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be able to speak at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that day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find myself standing in the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all I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rever, forever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will my heart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dance for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in awe of You be st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tand 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to my knees will I f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ing halleluja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be able to speak at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all I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rever, forever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12Z</dcterms:modified>
  <cp:revision>12</cp:revision>
  <dc:subject>The Source 4, song number 1882</dc:subject>
  <dc:title>I Can Only Imagine</dc:title>
</cp:coreProperties>
</file>