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A79F-BD76-4F31-A966-5A4AFD78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DFE8-53DB-4A25-A4C2-60161F82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4410-AF70-4E42-9DBB-D67B364F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D8DE-5751-4B47-BCCA-AE0E3CA7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01C4-30CE-4C03-9231-A2D47236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7BBE-640C-40E4-A90B-730E4923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35BE-3CB8-451B-96E3-D93F33C0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BD44-9AB8-4FE3-A67E-3AB12ECA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05B9-ED42-4F68-B4B2-EB1F38AB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049D-F02A-43A9-A236-C9311DDC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4D4C-6E68-4127-8A2A-A98CD5A8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96C7-3A37-4B00-9664-8073DEE0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A75EF-EFD6-40E1-B14E-FFB5DA5E7A5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would I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You had not been by my 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could I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eet the morning of the 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tende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ways calling from beh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imes I could not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though You were clos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21   Where Would I B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ord, You are good, You are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mercy forever end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 are good, You are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mercy forever end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would I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You had not been by my 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could I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eet the morning of the 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tende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ways calling from beh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imes I could not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though You were clos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ord, You are good, You are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mercy forever end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 are good, You are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mercy forever end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to see Your loving kind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to see You as You 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to see Your loving kind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to see You as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 really, really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would I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You had not been by my 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could I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eet the morning of the 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tende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ways calling from beh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imes I could not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though You were clos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ord, You are good, You are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mercy forever end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 are good, You are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mercy forever end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3:28Z</dcterms:modified>
  <cp:revision>12</cp:revision>
  <dc:subject>The Source 3, song number 1621</dc:subject>
  <dc:title>Where Would I Be? (Lord, You Are Good)</dc:title>
</cp:coreProperties>
</file>