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F1C-4D41-4572-A9D8-1D7DEF61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573-A090-444B-ABBE-D6A48750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E36-A4E4-426B-80D3-B05CAAE0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33A-0FE1-42B4-8E85-FB89D743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DCF-0B2F-4CF4-A732-36698B4C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308-5A73-4524-A967-31B91BD4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B6B-4356-42A0-A863-529B38BD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0B6-838C-434E-9DE7-804B2EC3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352-8BB5-4FF2-89BF-6F8EAF39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6E2-8D15-4372-8A3E-D6CB94AF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CB6-3623-4D4B-B4D8-347E6E94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A86-EA30-4CFA-90E3-5271057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0A2C9-2A89-439C-A1F2-ED03CDB808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st me no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y presenc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not Thy Holy Spirit from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ore unto me the joy of Thy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reate In Me a Clean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47Z</dcterms:modified>
  <cp:revision>11</cp:revision>
  <dc:subject>The Source 2, song number 669</dc:subject>
  <dc:title>Create In Me a Clean Heart</dc:title>
</cp:coreProperties>
</file>