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CD3-ABDB-4471-8DD5-AC48D758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16E-EDCF-409C-9673-A625971E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45E-425A-49A1-A32E-71C828E9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A44-64B0-4B30-BFCB-86B73C52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5D4-48D1-4E0E-BD25-74FA200E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FC1-9697-455A-9BFE-69C4C532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7AE-15FA-40C8-A17C-60F19356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2C9-F804-49D0-8695-99A8A35A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3D5-2B6E-4DB2-8F64-8C69C7D8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2B0-C566-4C92-9104-3AF35A45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0FE-AE58-44A3-8066-895905BF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C50-50E2-4769-BD4C-C8B9E1BC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283E1-A017-403C-B827-DC56A4091D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name I love t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sing its wo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ounds like music i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etest Nam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слушать об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слушать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петь о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песен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of a Saviour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to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of His preciou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nner’s perfect pl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чудный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а землю ум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мог жизнь им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what my Father h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tore for ev’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’ I tread a darksome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s sunshin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 любви сбер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е проп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of One whose lov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feel my deepest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each sorrow bears a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none can bear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яжкий крест со мно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0Z</dcterms:modified>
  <cp:revision>13</cp:revision>
  <dc:subject>Slavic hymnal Гимны веры христиан, hymn 605</dc:subject>
  <dc:title>O How I Love Jesus / Люблю я слушать об Одном</dc:title>
</cp:coreProperties>
</file>