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CA8-ECAA-4D44-99AD-80BEF0CF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40C-5A77-4C5A-8FBC-29470EF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ADA-1044-4B97-9DCB-0C4417C8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476-09D7-475E-854E-FE430B57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341-6786-4CF7-B0B8-77143606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B41-2052-408E-8550-3B23945C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ADC-5B13-4855-A8BF-A6BF375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940-DC3D-42D0-8C29-96086C7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EE8-5D99-4227-B208-38BD8ED1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2BB-1018-4223-AB5D-6700421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ADD-81B9-4F0A-83E4-A2BCBE0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A03-0F69-418A-8C07-BC6A818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6D8A5-1BAB-4762-92BB-9A018F2BF8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го есть Христос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богатства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моё есть сокрыто в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же всего ест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грешник великий и был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не сиял мне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шёл, — меня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наследье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а одна была в силе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Богом меня прими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был Искупитель, отдавший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Он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л и наставил, и путь у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мне в сердце в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Он учит и в свете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в сердце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ать и отец мой оставя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теряю я здес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ул я к Иисусу,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я сокры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18Z</dcterms:modified>
  <cp:revision>12</cp:revision>
  <dc:subject>Slavic hymnal Гимны веры христиан, hymn 417</dc:subject>
  <dc:title>Дороже всего есть Христос для меня</dc:title>
</cp:coreProperties>
</file>