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FF2-63B8-46BA-9393-7766C1FF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29E-5A73-4083-9E29-D91B782C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174-0D8F-4E15-AD8B-8F176B15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E51-8AE2-4031-9B08-72CD08D7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B1C-7076-466D-826D-B3446623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1F9-30B5-4B75-B61A-15AF87B6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DE0-EB21-44B8-91B8-128AFB90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18A-2CD7-43EA-84BB-8137C261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EC2-5C85-4DF1-8F13-A0FD2583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FB3-79A2-49ED-8F74-2BA58D5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A10-088F-4B1B-956E-C7B43E98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3C3-0548-4DA5-B231-6432E96D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597AC-7D4C-406C-8DEA-B6F709E705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because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rt of Your great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to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the wonders of You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es, we need Your tou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’ve given us so mu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just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0  We’re Here Because of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cleanse our hearts with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 us with desire for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Your presence in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’ve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r great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hearts are filled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 ha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faithful and so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just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cleanse our hearts with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 us with desire for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Your presence in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48Z</dcterms:modified>
  <cp:revision>12</cp:revision>
  <dc:subject>The Source 3, song number 1590</dc:subject>
  <dc:title>We’re Here Because of Grace (We’ve Come to Bless Your Name)</dc:title>
</cp:coreProperties>
</file>