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5C1-3E3C-40C8-A93F-08414000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58A-6251-45C3-BEB9-C225BB0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008-15F8-4C28-A959-78FE8C2A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D5B-4AD7-4A3E-BE01-049AD502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DB6-E1F4-48C9-9482-8148FAAF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9F6-B8A9-4EDA-90BF-D51DBE62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B5D-4E2A-4801-8866-E5AF76B6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864-0EEB-46B7-A6D1-280C605E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04C-E4A2-4410-B2F7-6EC5556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4A2-4FDB-4F2C-B84D-403DF28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052-A8AB-47EA-BE04-005049C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A72-7098-4F7D-8C82-EF613B9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503FE-8D7B-4064-A383-94BA1D93FC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54Z</dcterms:modified>
  <cp:revision>13</cp:revision>
  <dc:subject>Slavic hymnal Гимны веры христиан, hymn 717</dc:subject>
  <dc:title>Не тоскуй ты, душа дорогая</dc:title>
</cp:coreProperties>
</file>