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CCA-012C-4829-9CF5-95E158CF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2CF-48F4-4C94-AFB8-3A9F584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451-DBF3-40E6-A8DE-29E461A2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51B-E116-4875-A6DA-564B07A4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DCE-63FA-40AC-9012-8F6EB998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5B5-88F4-4011-A4CE-3E875CA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176-A41C-49B7-98C3-77F2114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2D4-5B7E-453E-9459-0A34F08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A15-AF9F-4F3C-B36D-57A9B56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741-8A59-43AE-A0D4-1AEA97C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91C-0ED4-4DE0-B39D-51D4073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79E-4BA0-4ACA-91FF-45081FC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DB48-7A9A-44B6-9883-7D4273F545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n of faith, rise up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great and glor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trong when you feel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broken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en of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women of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 and sing to broken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know the healing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awesome King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allen deeper in love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burned the truth on our 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church with broken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place with song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God who reign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grace again we’ll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32Z</dcterms:modified>
  <cp:revision>10</cp:revision>
  <dc:subject>The Source, song number 354</dc:subject>
  <dc:title>Men of Faith (Shout to the North)</dc:title>
</cp:coreProperties>
</file>