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DA8A-F631-4857-8848-3F3A66FAF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A554-30BF-4714-9389-9AD1297C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CD35-CE0F-43C3-87C9-FDA8708B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B5A7-06F7-4E46-B733-91F93E328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9643-2CB5-4C7C-9F65-C56287F5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C068-2128-494E-8725-DBB46591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661A-5432-454D-B6AA-41BF8F92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41B0-7E42-456F-BCB9-35F2FB11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96BF-28C7-4CBE-BC44-46DB336A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ABB2-87C4-405F-A7BA-1926E8AA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25F9-E7AC-4F05-83C8-856589BC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0AED-2020-472E-9F4E-885F9D5F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0A732-C762-4AC8-A3DE-3E0FD531778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, I have promi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erve Thee to the 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Thou forever nea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Master and my Fri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, обещал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обещал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жить Тебе все д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 в земных скитань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т зла хра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hall not fear the ba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Thou art by my s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wander from the pat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Thou wilt be my Gu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у я в битву см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о мною 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клонюсь от де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страшусь враж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et me feel Thee nea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rld is ever n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ee the sights that dazz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tempting sounds I h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всегда со мно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близок мир ко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ьстивой мишур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ечёт меня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foes are ever nea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ound me and with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Jesus, draw Thou near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hield my soul from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 действует укры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аружи и внут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удь моей защи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у светом оза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, Thou hast promi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all who follow Th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where Thou art in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shall Thy servant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дал Ты 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лицом враг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де Я в грядущей сла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ет Мой слуга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Jesus, I have promi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erve Thee to the 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give me grace to fol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Master and my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служить хоч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кладая ру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, мой дух врач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тель мой и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4:49Z</dcterms:modified>
  <cp:revision>13</cp:revision>
  <dc:subject>Slavic hymnal Гимны веры христиан, hymn 478</dc:subject>
  <dc:title>O Jesus, I Have Promised / Спаситель, обещал я</dc:title>
</cp:coreProperties>
</file>