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1EB-29BD-4CAA-9B9C-1243E77D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83A-81B7-453A-8C67-AC9E90C7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89B-D01B-4612-BF36-EC023761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94E-59DF-48D3-8425-32CA0628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1CA-1A67-4991-A42D-5D248F90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6E8-6EED-49EC-8FE0-44552CF2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9B6-B401-462C-8C44-02FD902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A1A-3BC7-46F0-841A-5194FBF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EE7-9721-450C-BEEA-E69F70F1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644-7140-4343-9FE7-CF48C54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DC8-AF3A-4073-93A7-7E41989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AEA-4DAF-4902-968A-B4BCABC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E86B6-F77E-4E98-AFD6-48C476C3FD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y by day and with each passing mo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I find to meet my trials 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in my Father’s wise bestow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no cause for worry or for f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heart is kind beyond all m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unto each day what He deems b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ingly, its part of pain and pl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ngling toil with peace and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’ry day the Lord Himself is near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a special mercy for each hou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my cares He fain would bear and chee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name is Counsellor and Pow’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protection of His child and tr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a charge that on Himself He l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r days, your strength shall b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asure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he pledge to me H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 then in ev’ry tribu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to trust Your promises, O Lo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 lose not faith’s sweet conso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fered me within Your hol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Lord, when toil and trouble m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r to take, as from a Father’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by one, the days, the moments fl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I reach the promised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22Z</dcterms:modified>
  <cp:revision>12</cp:revision>
  <dc:subject>Slavic hymnal Гимны веры христиан, hymn 863</dc:subject>
  <dc:title>Day by Day / День за днём</dc:title>
</cp:coreProperties>
</file>