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5E5-EFCD-4315-9736-5CA13E9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998-A302-414D-BDB5-DCEEEBA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37E-2754-43E3-BA6D-D7D11413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D34-C296-4269-9081-C07F3BC2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5C0-D328-44B5-8FB7-479E80B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A21-7E5A-4CE5-B8D6-CE60872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FBF-EC6C-4786-85ED-1FC995D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FDD-081F-47C1-86D2-B3A995A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E05-CEF1-4921-9618-36398679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8ED-4E02-4586-A057-A48F4E2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9F3-4C14-441C-A0D1-9E120F2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C9D-B9D1-48A2-BF1B-04BA3A7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4C80A-D10D-41AE-ABF9-290FD502C1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ur confessio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very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are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we’ve noth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come to You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ay, “Help us alo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Our Confession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broken heart and a contrite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yet to de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rt of mercy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’s strong curr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river flow by Your Spiri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ies fall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mercies flow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mercies f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shower them dow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9Z</dcterms:modified>
  <cp:revision>10</cp:revision>
  <dc:subject>The Source, song number 248</dc:subject>
  <dc:title>It’s Our Confession, Lord (Sweet Mercies)</dc:title>
</cp:coreProperties>
</file>