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252-9664-46F9-85A7-E72291F2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2DA-37FF-4279-82AA-489FA601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A1C8-9EDE-4562-8A1A-ACFDD37C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F0D-A8BF-4B18-92A8-E2510A58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EA8-6AF6-4584-BDF5-9B86A875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2CA-7732-43BB-BB2A-7477E019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A88-5607-47C9-ACE2-3856B90B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C4B6-9FC1-4E23-A3D9-CF8C0C76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19D-B99E-4865-ADCA-9146D3E8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866-91AF-4F13-9AC8-E300920E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F34-ADED-4685-8706-78A8F892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D56-7FD3-4ED5-AA57-919F0A7F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5380A-2A3F-41BE-9B98-71320B276D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, всі раді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ний день на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стри, весе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м радість д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були чуж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епер друз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з’єди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вят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   Браття, всі раді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акон Синайськ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овіт стар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прийняв Ізраї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вятій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слова ми чує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спасла від гні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дать свята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живем в наді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і і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усі обм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вятій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Господній ті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елить се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мо, браття-сес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до кінц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5:41Z</dcterms:modified>
  <cp:revision>13</cp:revision>
  <dc:subject>Slavic hymnal Гимны веры христиан, Ukrainian hymn 10</dc:subject>
  <dc:title>Браття, всі радійте</dc:title>
</cp:coreProperties>
</file>