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0EB-A1B8-4EA2-9445-FA84ADB4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F0F-EB06-43EB-84BB-D7B8AA8E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C79-3C2C-4128-81DB-AA03D8C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B72-D570-456A-A3B4-622ACF06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457-EC6A-4E00-A3AA-45BEBAE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7C7-79DF-4F7D-A7A3-94A3F0F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D70-E4B9-444F-A8B3-ECD8D5A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730-BCE6-4B8B-9864-34FC429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B35-6A18-419E-AC77-097B2E0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E22-82AE-483A-9650-BBB0507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838-14AB-41B4-ACD4-5DABDAC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2E5-46CD-455B-B682-2739936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42487-D171-4364-ACD8-FC43552AEC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о Христом на земле я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н я с Господом к доле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зачем и на горечь вз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Христос всегда силен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в Свою славу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о Христом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я тщетно отрады и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вечный мне мир даро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ворит Он средь горьких 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ет с тебя благодати Мо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водимый пойду я см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, и труд, и печаль на пут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омой надлежит мне д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мне отрады не может п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Христа моё сердце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 Ком живёт полнота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придёт встретить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юсь близости славного д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ещё день и мир ветхий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ник! стремись неустанно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за тобою гря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10Z</dcterms:modified>
  <cp:revision>12</cp:revision>
  <dc:subject>Slavic hymnal Гимны веры христиан, hymn 446</dc:subject>
  <dc:title>Здесь со Христом на земле я чужой</dc:title>
</cp:coreProperties>
</file>