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E0E-CEF2-429F-BBA4-F53E7EEB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640-2D74-4F0E-9645-EEEE8629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BF6-4753-465F-9A7D-12E205A2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E6C-ED57-4435-BD6F-CB6DDA33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0F8-D38C-40B5-953D-CBCEFD9C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A43-0802-4035-8386-6E599FA3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17C2-6DAF-4A47-A60D-F5299550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617-62BD-4847-AFB5-957774FB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B01-DEED-478B-BFCA-DC640179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A10-7E9F-4D91-AF24-54B58015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4C8-9E37-4586-8028-6B13AC85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E33-638A-460E-BEA6-A67553DE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FDD9D-3010-47B8-BCEB-E0269D6F74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тесь, братья, и в песнях дух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и честь воссылайте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нашёл всех в оковах грехов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явил к нам любви полн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ен в Своей благодати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храняет нас в жизни зем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оздвигнет святую об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арит нам венец зол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уйтесь, брат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, братья, тяжёлый наш жреб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мы в мире строптивом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ст покой нам блаженный на н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крепит нас в тернистом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10Z</dcterms:modified>
  <cp:revision>12</cp:revision>
  <dc:subject>Slavic hymnal Гимны веры христиан, hymn 609</dc:subject>
  <dc:title>Радуйтесь, братья, и в песнях духовных</dc:title>
</cp:coreProperties>
</file>