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455-43A7-446A-BC3F-CF7624AC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313-A062-4510-826C-DA160038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80C-5770-4CD0-9704-1EA09FE1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67B-15C5-4AEC-BAA2-0C5E3721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61C-45AE-4AD3-AC0A-71846D23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B86-DD06-4BCD-BA5D-FD6A610F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DD2-315E-493D-8D6B-3026DAB3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FF8-5FEB-480D-BDD3-37ADE41A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9C0-6BEB-422B-AF88-F642B8F6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EF3-C8CF-4D2E-A608-523E8A1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914-0D99-4FB5-9795-89A72927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8B6-8468-44EF-8417-4B59563B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70924-E6AA-4FFA-905B-EEB6A1697C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ording to Thy graciou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eek humil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ill I do, my dying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membe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слову Твоему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ову Твоем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ной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лись у Тво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, broken for my s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read from Heaven sha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stamental cup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remembe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истерзанная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а чашу я б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thsemane can I for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there Thy conflic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agony, and bloody sw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remember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имаю взор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умер Ты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оминаю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o the cross I turn mine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my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remembe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страданья, Твой за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ч в ночной борьб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етят мне, как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мнил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these failing lips grow d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ind and memory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shalt in Thy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rememb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омчится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ну в земной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шь на обла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об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8Z</dcterms:modified>
  <cp:revision>13</cp:revision>
  <dc:subject>Slavic hymnal Гимны веры христиан, hymn 729</dc:subject>
  <dc:title>According to Thy Gracious Word / По слову Твоему, Господь</dc:title>
</cp:coreProperties>
</file>