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B53-4C2E-455B-BF7F-61AEF091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C34-465F-43A0-B6C4-95EC7599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40E-4BD9-4676-8CD4-D2453E4A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BD1-7DED-4FBD-9703-1C47E71D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A6C-8C30-4AE6-8146-567A35D1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1DA-FF4F-44E4-9423-1D754AC8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6D7-3EFD-4257-B3D6-AE98B6CD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F57-EE9D-43B5-8419-EB58FF0F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8C6-6038-4BB5-9547-0C65CE6C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6E1-7AF6-4830-A8A9-AD5F99F5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04A-5033-4E2D-B0EA-1EB2374B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7C9-F542-4833-8CF1-B3BC9398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00A38-E5E5-4499-A31B-5373D6CE84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ропинкою лес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учейку спешит ол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я стремлюсь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ову жизн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печальный утеш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хожу я в книге кн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отрадный поу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ёт любим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тропинкою лес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га побеж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грех, души нед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сердце услаж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ю усталый ду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смело отраж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ия вра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исуса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пасённый Им сл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путь я ос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он во тьме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ля сердца облегч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шу скорби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еня Господне слов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вечного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слитка золо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клада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18Z</dcterms:modified>
  <cp:revision>12</cp:revision>
  <dc:subject>Slavic hymnal Гимны веры христиан, hymn 492</dc:subject>
  <dc:title>Как тропинкою лесною</dc:title>
</cp:coreProperties>
</file>