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195D-1FE6-4DFC-9CF6-5958B77B3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90C2-93CE-4390-B1C3-4A2C0709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8615-497A-4193-B207-06201BAC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2D05-C273-4780-B099-CD3C354A5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BCA6-E824-48D6-A7DE-91100C5C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EB4A-9135-4D0D-BF2B-3653C2BC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CE12-558A-4957-8A34-F22C6F30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8A71-1031-4EEF-BA9A-28EA2D22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8D70-FCA9-47E9-B187-77C13FE2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5EE2-16D3-4BCA-AB3F-9FE1B645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DB0F-86B2-4A2D-B6CE-F3585B4C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83EC-F04B-42DA-BFA5-6A3C1048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04BE5-5109-4688-991F-DFBD3F52729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ая ночь! Сверкают ярко звёз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иши ночной нам родился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мир тонул в грехе и беззако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Божий Сын нам спасенье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счастьем сердце наполня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горит грядущих дней з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еловек, внимай певцам из ра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ночь, о ночь Христова Рождест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ночь, о ночь Христова Рождест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вятая ноч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свет рассеял мрак печ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огнём в душе мы у яслей ст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мудрецы Царя царей иск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ли дары, — и склонились пред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господ лежал в хлеве на сен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чувствовать Он может нам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нает жизнь, Он испытал мучень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и пред Ним, признай Его цар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и пред Ним, признай Его цар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учил всё покрывать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закон и Свой мир Он нам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долг спасать несчастных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доль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сех людей наш Господь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есни славы льются словно ре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каждый к Богу с радостью спеш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— Господь, хвала Ему во ве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вся власть и честь принадле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вся власть и честь принадле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28:51Z</dcterms:modified>
  <cp:revision>13</cp:revision>
  <dc:subject>Slavic hymnal Гимны веры христиан, hymn 802</dc:subject>
  <dc:title>Святая ночь</dc:title>
</cp:coreProperties>
</file>