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5456-A6DC-4712-877D-0E846CB39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ECEE-2C4E-4E19-8DE3-7E0E1330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1D4F-2F05-41EC-A982-06C5290F9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F194-72E7-4501-B032-52D7972AA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FB4B-DDA1-4DEB-BE25-27ADBE03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B622-B7A2-4DFB-B47C-4D3FADE2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F702-6327-4DAF-93A1-ADE12DBD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ECA3-29EC-4D80-931B-E5F9D929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E0E5-758C-4056-8B8F-C870235D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374C-F8D2-4AB9-8C8D-FEFA4F3C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CF19-B138-4B58-BE3A-22A47CBF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0343-BB37-48D1-AECC-A8FED3E4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953E3-D9FA-493F-9AAC-D824A0DE3DF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, любви и силы пол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ес огонь Твой нис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бы познал весь мир грехов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— Царь неба и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ападе и на вост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онь Твой видим здесь и т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битых, жалких и далё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ечёшь к Спасителя но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Дух, любви и силы пол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ги, зажги святое пл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видим грех и з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бы Христа святое и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жизнь и радость прине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христианские на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ъедини, исправь, очи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унылый да уви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их рабах иную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счерпаемый источ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х и святых да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к огня, поток предве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в сердца Твоих ра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жги суетные стрем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храм живой из нас созд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ламя веры и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грело наш остывший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и Твой свет, огонь, сия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верным новых сил зал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веди людей к познан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х Спаситель, Царь и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4:59Z</dcterms:modified>
  <cp:revision>12</cp:revision>
  <dc:subject>Slavic hymnal Гимны веры христиан, hymn 314</dc:subject>
  <dc:title>О Дух, любви и силы полный</dc:title>
</cp:coreProperties>
</file>