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3EB-0B7C-4A87-B22C-BE666FC7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B55-18E1-47F8-BAF0-E362D6D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362-BC55-4744-BAFD-D902F7D1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514-B6D1-4B84-848E-75F94BD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A11-714C-47E9-9D39-272E4C5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E15-1EFF-4F1E-8232-6219B5F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CA0-B74E-43B5-8A75-DE245E3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658-F2C8-4051-8029-7692262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63B-12B0-48D5-A39C-F084E453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34F-96A6-421D-B5E3-E31720E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EE2-106E-4B86-9E49-213BB06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032-BCF1-4DFE-A346-851B5FC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43938-309D-4834-ADF2-CF085BF850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he day is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ight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of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eal across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ive the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weet rep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tenderest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ine eyelid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bright of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 the sailors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deep, blu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long night w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ne angel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hite wings 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round my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morning wa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may I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and fresh, and s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y hol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34Z</dcterms:modified>
  <cp:revision>12</cp:revision>
  <dc:subject>Slavic hymnal Гимны веры христиан, hymn 825</dc:subject>
  <dc:title>Now the Day is Over / День прошёл</dc:title>
</cp:coreProperties>
</file>