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E78-C1ED-434B-A95E-6EE28B76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938-3500-4C2F-A890-AFD0D45B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A20-5022-40A9-9F4E-903B227D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4D4-2F1A-437A-8E36-9BDEEF95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BB7-C4BD-4D99-A3D9-1E5213DB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B45-E18E-4318-871B-B23B15BB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D65-C43B-475D-BAF1-7363F57A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446-374F-4D00-A43E-984F8C78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C0C-CAC8-4E59-8E4C-2B58131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DF9-EAE7-489D-B078-DD8CC536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D0E-7BA2-4A48-9A52-B4AE77FE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BC0-F8E4-4397-864B-1D0D6FFE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8F7CC-B0A3-411A-B30E-12B27B6579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кали молний стр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 землю потря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лся тьмой мир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ужасе дрож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тихий голос н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над с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сил мятеж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кали молний стре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гне ли испыт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учами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 расста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зьями иль семь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л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ли скорбь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ткнусь л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я оп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адостей не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утешенье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на Голгоф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Его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источник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для всех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нам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мне сладк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47Z</dcterms:modified>
  <cp:revision>13</cp:revision>
  <dc:subject>Slavic hymnal Гимны веры христиан, hymn 633</dc:subject>
  <dc:title>Сверкали молний стрелы</dc:title>
</cp:coreProperties>
</file>