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B6A-3940-4B69-95FB-C367A75A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3BD-9645-4EB4-B6A0-78618D52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46B-F830-442F-ACC5-1BAD5194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163-AF19-4E31-B40C-6378CB6B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80C-04BD-43A0-BACE-4045900A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6DE-C78A-4759-BA95-EDC00CD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BD4-D3F6-4FD9-9ED3-4215FF8E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967-00E4-488C-B709-035484F4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EED-6133-4675-B23D-033FB49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847-4820-4E9F-835E-58DE23C4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878-9DFC-4603-A33D-AB969AC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F1E-84B7-4C8A-B12F-A4C66F4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5A0B3-188A-4C33-B34A-BD7D4403EE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обитель сияньем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же место готово и 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и при жизни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ящённым открыта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обитель сияньем по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печалей земных, ни трев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бители нет и сле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полон чер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, кто приходит т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же мы благость От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жизни недолгой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рует нам жизнь без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о, и веч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14Z</dcterms:modified>
  <cp:revision>13</cp:revision>
  <dc:subject>Slavic hymnal Гимны веры христиан, hymn 697</dc:subject>
  <dc:title>Есть обитель сияньем полна</dc:title>
</cp:coreProperties>
</file>