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603-FEBE-4752-8C45-DD61DD7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BBD-C19B-48FB-9952-3EC250F8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8AE-80EB-48FF-ACF4-BE4E1482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441-2FF8-4B64-BA50-13AB235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D8C-D638-4864-A995-83B54D8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453-C978-4C46-8587-86DC85F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CF4-0359-445C-B9A2-B59624AD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B66-176B-4C95-A96E-62FB0B7A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B9B-09F2-41FE-81A3-7A3C903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965-DA99-4F9D-8D33-03121DF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9A3-E8D8-4387-9655-7DE9587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D00-AD4B-45FF-B800-CF7C7B5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1D517-4F4C-44DD-AD30-4FD5391C22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at of good or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e reserv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eary ways or golden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face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8Z</dcterms:modified>
  <cp:revision>13</cp:revision>
  <dc:subject>Slavic hymnal Гимны веры христиан, hymn 585</dc:subject>
  <dc:title>I Know Whom I Have Believed / Не знаю, почему открыт</dc:title>
</cp:coreProperties>
</file>