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6D90-4126-45C1-9906-8EED74AC2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4556-96CC-4969-A6D2-10C4FFFC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2A99-6F31-4CAE-A1C7-98F36FFBD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7D33-18A7-4EA0-8578-0E8DD2C75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9380-5701-4593-BAF5-A49FDC9A2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A151-23B2-4528-8FA7-F45A30855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1B9C-35EA-4C6D-90D6-A3FDB476B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9ECA-A3F8-492D-9781-753F23221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78CE-B807-4C03-B955-FB74C130B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23D8-AB1C-4163-BAF9-0C594FD4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3A02-9CEC-4964-9E47-E98A458D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9839-8F91-462D-AED6-84CCC89E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53A748-95B5-4E7E-9445-7771FACE3A8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bless the Lord for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trust Him at all ti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has delivered me from all f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has set my feet upon a ro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not be mo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ll say of the Lor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343   I Will Bless the Lord For E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shield, my streng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portion, deliver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helter, strong tow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very present help in time of nee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m have I in heaven but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’s none I desire besides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have made me gl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ll say of the Lor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shield, my streng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portion, deliver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helter, strong tow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very present hel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shield, my streng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portion, deliver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helter, strong tow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very present help in time of nee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have made me gl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ll say of the Lor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shield, my streng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portion, deliver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helter, strong tow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very present help in time of nee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9T11:34:00Z</dcterms:modified>
  <cp:revision>12</cp:revision>
  <dc:subject>The Source 3, song number 1343</dc:subject>
  <dc:title>I Will Bless the Lord For Ever (Made Me Glad)</dc:title>
</cp:coreProperties>
</file>