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4</a:t>
            </a:r>
            <a:r>
              <a:rPr b="1" lang="ru-RU" sz="3600" spc="-1" strike="noStrike">
                <a:solidFill>
                  <a:srgbClr val="ffffff"/>
                </a:solidFill>
                <a:latin typeface="Verdana"/>
              </a:rPr>
              <a:t>	</a:t>
            </a:r>
            <a:r>
              <a:rPr b="1" lang="ru-RU" sz="3600" spc="-1" strike="noStrike">
                <a:solidFill>
                  <a:srgbClr val="ffffff"/>
                </a:solidFill>
                <a:latin typeface="Verdana"/>
              </a:rPr>
              <a:t>Ты есть достоин</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most worthy, O Lord our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most worthy, O Lord our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most worthy, O Lord our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orthy are You.</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остоин Т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receive glory and honour and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receive glory and honour and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receive glory and honour and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orthy are You.</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остоин Ты.</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9:41Z</dcterms:modified>
  <cp:revision>3</cp:revision>
  <dc:subject>Slavic hymnal Гимны веры христиан, chorus 44</dc:subject>
  <dc:title>You Are Most Worthy / Ты есть достоин, Господь мой Бог</dc:title>
</cp:coreProperties>
</file>