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6373-F676-46B2-AF9F-BD93C0537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8A80-653C-43FC-8E46-D96A7E25A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77B8-2F13-4B47-ACF8-FFF3FA627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D40C-EE63-4AC5-BDA9-560C67BB4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8371-BAA8-4EBA-AF7A-C3D2BB43E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661B-DA6C-4615-AE48-F42AB575F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4800-EC68-4DB0-8C9D-5A6800360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3E9B-D473-48B7-AD92-0B1C6B3F4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0F03-1417-45AE-B53D-B0A1E1B2D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3876-4663-45D8-9CED-35BDD3D59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88B6-8B17-4747-B5BA-201658A7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2A36-11CC-4FE2-BC5A-A389C1AAB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B46480-4BC6-4F58-A08C-CF8084CB619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пришлець в земній долин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ругом мене чужи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ле вище зір небесн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я рідна сторо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27   Я пришлец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країна свя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вітчизна м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Отець мій благий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я родина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вони в рідній сторон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я блукаю по чужин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ут гріхи скрізь і нещаст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ут ненависть і злоб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ле там край, повний щаст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любов живе свя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країна свя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вітчизна м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Отець мій благий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я родина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вони в рідній сторон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я блукаю по чужин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ут мене всі зневажаю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навидять тут ме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ле там, там мене любл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моїй рідній сторон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країна свя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вітчизна м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Отець мій благий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я родина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вони в рідній сторон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я блукаю по чужин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ут мені смерть загрожу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цій похмурній чужин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життя мене чекає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моїй рідній сторон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країна свя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вітчизна м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Отець мій благий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я родина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вони в рідній сторон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я блукаю по чужин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31:28Z</dcterms:modified>
  <cp:revision>13</cp:revision>
  <dc:subject>Slavic hymnal Гимны веры христиан, Ukrainian hymn 27</dc:subject>
  <dc:title>Я пришлець в земній долині</dc:title>
</cp:coreProperties>
</file>