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81C-CBA1-49B6-A859-5D9A0DC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DC8-3CA8-4DAA-8259-8A9404C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206-336A-4431-BA71-D0DC9C77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70C-1473-4159-954B-8A2B5DD0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662-2DFA-429F-9097-F9071DB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5DC-1A13-4E1E-A622-FBEDAA9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590-0410-4012-A055-25A97258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523-32D6-4341-B4AB-DFE0BB1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815-E7AC-4B34-9B63-2163D5E7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F00-C787-48BA-B0A8-258DDC5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DDC-7CB5-45CE-8D94-5BB17E2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0A0-80AA-4BEE-8A9B-1BEA4E9B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FF9C-440E-4DF0-8C2E-FB4E68C0B7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мрачных скал, средь тер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уть им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 блуж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м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идут, не з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рть кругом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ртвы не стра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готов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х овец заблу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сп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казать пойдёт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авды, дом От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то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е серд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стрече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кажешь: «Добры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ечка най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луши она блуж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а в бе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зял её боль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у, бери к Себ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22Z</dcterms:modified>
  <cp:revision>12</cp:revision>
  <dc:subject>Slavic hymnal Гимны веры христиан, hymn 535</dc:subject>
  <dc:title>О, сколько душ блуждают</dc:title>
</cp:coreProperties>
</file>