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0FE-D1F9-4927-9F4A-BA3400CA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BF1-5669-4F4F-A45B-38D48A1C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920-7710-4476-ADFB-3C2C35E4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3C5-1FD4-43FB-859F-2D1FCFBC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6A0-B00B-4794-B5DB-2B485F6A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BE0-FAEA-482D-86DA-B661499B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203-5102-4C9E-AF8B-5BF1FA8D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162-BDF3-46A8-B186-2A47C15E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C10-0B2A-4B94-93B0-2916698C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A8E-2837-49F7-B7BF-533FB130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850-0BEE-4541-B903-86DAC0F2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0E0-AC21-426A-8628-A5CCB2A7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5B138-A701-4070-8B93-76EAD3F964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хом, не страш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в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падай духом, не страш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удов, среди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пасность всюду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ужды Он предусмо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 дал тебе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но ль света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рипасть к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55Z</dcterms:modified>
  <cp:revision>12</cp:revision>
  <dc:subject>Slavic hymnal Гимны веры христиан, hymn 706</dc:subject>
  <dc:title>Не падай духом, не страшись</dc:title>
</cp:coreProperties>
</file>