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2DB-FDC4-45B5-BD30-62AF3959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58F-D6BF-4B03-9407-BFA93174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487-43EF-4F18-8CCD-21A424DC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C87-572F-462A-ABC9-5FEA6F95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201-617E-4DD2-AC4A-A0AA1ED2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38D-054C-4AF0-BD0A-506DB2D7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11F-1B86-4A99-A6F5-CA4C03E1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316-8163-4283-B31F-635D915A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4D0-0131-41E5-B702-7632E78E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194-CD02-4741-9EB5-299E29D4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F5D-0B02-4FA5-B107-78E633F2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3EC-4265-4E5E-BC82-58D0D3D7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55843-2D3D-40D7-9FC3-D8952845A5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ткрыла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пас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л Христа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ил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Божьим дор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юбви святой 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тало мне р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земля красот пол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жизнь кипи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ась во мне в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тички радостно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ля, на лес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торгом дышет гр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чера внушало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егодня не с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 Христа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й и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 страхов и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радости дро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Себе меня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ов, навек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может разлу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— надежда и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зде отрад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е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дним лишь я с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знали там и 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6:02Z</dcterms:modified>
  <cp:revision>13</cp:revision>
  <dc:subject>Slavic hymnal Гимны веры христиан, hymn 856</dc:subject>
  <dc:title>Божью вечную любовь</dc:title>
</cp:coreProperties>
</file>