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1D3A-3EC5-4817-AB95-8C4128440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DC71-0B3A-4F9C-8F53-01B1020D4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2431-1C62-4CA6-80DB-4136870E9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87EC-81D9-40BE-8F43-AF1834717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3694-FF88-4C4D-B928-40314257E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6FE3-7591-4732-9E62-60BB119B0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D76A-A36F-4847-85EC-2DAC71D05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ECAF-0D01-477D-AC14-659F7F5BB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B508-41ED-4BF0-BAAC-644EDD3A0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6897-C0DA-4A6C-B7AC-B61129D91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141F-02F1-4B13-AF0B-AB10F4D4F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2DD3-F716-4F9B-BCC1-580D9F815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38C538-3A42-4EF8-810E-E11D1B6D231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но я ищу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ше вижу с каждым дн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сегда хочу пойти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лед за Ним Его пут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Он меня, Он люби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ю, любит Он мен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едь умер за ме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ю, любит Он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5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Рано я ищу Иису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ойду, куда велит О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я юн, мне дано зн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идти Его троп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волю исполн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Он меня, Он люби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ю, любит Он мен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едь умер за ме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ю, любит Он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тоит в дверях спас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бросить иго просит О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к Нему стучаться буд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отворит: я спас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Он меня, Он люби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ю, любит Он мен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едь умер за ме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ю, любит Он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30:31Z</dcterms:modified>
  <cp:revision>12</cp:revision>
  <dc:subject>Slavic hymnal Гимны веры христиан, hymn 756</dc:subject>
  <dc:title>Рано я ищу Иисуса</dc:title>
</cp:coreProperties>
</file>