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48D-4F3E-42DE-A157-2E7F897B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55D-99BC-4A06-94CA-560F4F1F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2F1-6EBC-49D3-8112-84CF9567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E89-0151-448E-B8FA-C0D5DF7F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CDA-DB2F-43A8-8F07-3A544539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D55-602D-4BE7-82A2-7CF0B510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CD9-A973-411D-B80C-EFABB732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38F-FA0B-49BA-B682-795E30FD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705-DEA3-4A07-A64B-084C9C30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2D9-05F4-43A2-A8C8-00188409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F47-D8BF-4D5E-8A40-26962344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0E8-44E9-49D1-ADD1-784C5B27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70892-9879-47C5-89E3-47575B2ADB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ost worthy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ity of our God, the holy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joy of the whol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hom we have the vi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aids us against the ene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bow down on our kn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reat is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Lord, we want to 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name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Lord, we want to 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works You’ve done in ou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Lord, we trus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unfail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lone are God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out earth and heave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13Z</dcterms:modified>
  <cp:revision>10</cp:revision>
  <dc:subject>The Source, song number 137</dc:subject>
  <dc:title>Great is the Lord and Most Worthy of Praise</dc:title>
</cp:coreProperties>
</file>