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C66-0664-4D2B-BEBD-7E5FF750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FF3A-EF10-4567-90A8-A65C0147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F1B-FE2B-4156-8B3B-38985DB8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3BBB-14E9-4F7B-B704-9070D70B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27C-E8CE-4648-8FC8-E8521BA0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D30-4F81-4C51-B091-14CF9557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C68-242D-4059-A618-2C09EF65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F65-C4BF-47AA-8A29-6F2CF22D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FF05-5DA1-43EA-8E2E-517A73E8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905-8B1E-40CD-B1B5-2445CFCE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AD66-CCBE-4C29-B1D6-B465E017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95F6-2598-494A-B21E-DEECF68A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93BFE-4DF7-4441-80D3-17FB0CC617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, о,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смотр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реди скорб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те, как Вися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ятую ль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за нас скорбя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к Себ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ти, о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! умил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ом страшных му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ьте и склон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ронзённых ру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ёс Он гнёт грехо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сь мир, з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нас виновн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тяжек гр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бег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дь смерть приш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го не тво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аите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ердец го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корень з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корбь, спе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с моль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Ему нес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д Его скорб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ы — Твои!» — скажи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чный Друг дет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обой добы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ены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 Тебе омы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свят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8:57Z</dcterms:modified>
  <cp:revision>13</cp:revision>
  <dc:subject>Slavic hymnal Гимны веры христиан, hymn 762</dc:subject>
  <dc:title>Дети, о придите</dc:title>
</cp:coreProperties>
</file>