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CE2-6A2E-4EB0-8EF5-A719FC26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57A-8475-47E5-93EE-40B7EF79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DDF8-55A6-480F-BC61-8E2730DF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8C2-7BA7-4F62-9720-9352C5C8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B341-8E9B-4777-AFCD-E5720373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4F4-6017-4266-8A66-6B47DD5B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9D3-DD60-4434-A39E-72411C6E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E34-91BD-4956-A40E-2DF7427F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D02-D602-4157-A3F1-15AA2691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CDD-BCC7-40B5-9413-8F6FC473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CA5-59BC-4CDD-9E4A-DC22262B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52F-4D65-427B-A141-C0F4F344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D64D8-B6FB-4972-9D39-67DDBE22FA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лозунг, данный молодё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зни и борьбы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— лозунг силы, лозунг Бож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зирая на Иисуса, в 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нами веет Божье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озунг юности на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т, как радостное пл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жённое Самим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лозунг, д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тав героями, как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мело в бой с врагом вступ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ужасе бежит др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мир неся закон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любовью покор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дножию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 Его и на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ест свой скорбный приним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ликой радостью сер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идя как ужасен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овой жаждою пыл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убелить себя, как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чуждаемся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зы тюрем приним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радостных псал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ушах мести не та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ога правды умол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ть грехи врагам лю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браз совершенный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раз неба отраж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ём хождени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нам неведомы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и сердцем усво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добие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 волнам огня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ёрдо мы за Ним шаг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пожаров и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укрепляясь верой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ри мира укрощ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й вселенной мир не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5:20Z</dcterms:modified>
  <cp:revision>12</cp:revision>
  <dc:subject>Slavic hymnal Гимны веры христиан, hymn 442</dc:subject>
  <dc:title>Есть лозунг, данный молодёжи</dc:title>
</cp:coreProperties>
</file>