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44E5-DCAE-4C5C-902F-D6E0C88E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EAA8-E37B-49EF-94AF-1777D62D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F0BB-BBC4-4119-BDE2-EFD1DB0E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4615-09C3-443E-A188-EDE359BA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5DDF-FDBD-4EAA-BE19-03DBFAB6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14B5-4E24-4D88-9103-E1897097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D802-3A36-447E-A35C-2F6660E3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599E-BEB2-4507-9F83-EFE8B3EC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874A-5984-4E74-8C7C-370978AC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F981-EDC9-4270-B1EC-336598C5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D059-5A11-4597-BD21-CB294356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8990-1E66-4579-A1DF-ADD65DCF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AA6E4-AE80-449B-B7F6-C527D517F95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долеют тебя испыт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непосильной устанешь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плю за каплей из чаши стра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ить будешь, упрёки бросая судьб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адай душою, судьбу не злослов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вера, надежда,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одолеют т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твоё сердце заноет тос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упят страданий тяжёлые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ова душа не услышит к по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ей не скажет: «Иди, отдохн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помни, что греет и душу и кров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вера, надежда,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игнет ли в жизни утрата ка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лачь безутешно о ней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участь начертана свыше так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шенье сбылось неземного с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утешенья ищи и даров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ера, надежда,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пенья не станет, ослабнут ли с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умане сомнений потонет душ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евизом иди ты до самой мог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жизнь и в страданьи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ош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большего счастья не 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яться, верить,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5:25Z</dcterms:modified>
  <cp:revision>12</cp:revision>
  <dc:subject>Slavic hymnal Гимны веры христиан, hymn 702</dc:subject>
  <dc:title>Когда одолеют тебя испытанья</dc:title>
</cp:coreProperties>
</file>