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082-579B-4A6C-8A90-068E3609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D29-51CC-4E13-8603-E081DC2E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25A-02A5-434F-9F8D-862694AD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363-7377-49EB-942C-47249F85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8D1-899E-41BF-BD5F-8690AFF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D92-BC33-49D0-A7F8-04964C3C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66D-4C84-4071-99DD-B5F31A22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AD1-760C-491F-BA33-16729EC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0C8-6423-4012-A26A-2033C6B0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4FD-5AC1-4C52-BE4F-4BC6B27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89C-A09D-49E0-83EF-6B88408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98A-CBCD-4276-AC48-3DA2ABA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9195-3005-4745-88AC-507BCBBD6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spea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nguage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I may fa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s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into the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faith that moves moun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I am witho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00   Though I May 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if I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or my poss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endered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ied for the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highly resp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cessful and gif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love was ex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wasted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we pass through th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see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26Z</dcterms:modified>
  <cp:revision>12</cp:revision>
  <dc:subject>The Source 4, song number 2100</dc:subject>
  <dc:title>Though I May Speak (Language of Angels)</dc:title>
</cp:coreProperties>
</file>