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3123C-F737-408A-A6F6-14D15441A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7B925-71A0-4299-B315-DAF5C3FD4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2F7B8-37CB-40EE-9BE2-7CF5065D5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5052A-2BAF-4D82-9BD3-90DF9B15B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4D348-45F7-477D-B888-EE6641CFA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B1490-96E1-4818-8AE5-B205C983B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49B18-3A6E-44B4-91A6-93AF3C0F7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6A65D-6235-4258-83E8-6D3FD9E76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91A0E-BFF5-4634-B995-5B0D0B762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44908-5120-4BE9-A8E4-317393969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60207-57A8-47E6-AA99-5DC930694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1B771-ED58-435D-A86D-5BE03122E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F2BA0A-5CE3-4258-AA1C-C07C6E0994A0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 are marching in the light of G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 are marching in the light of G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 are marching in the light of G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 are marching in the light of G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 are marching, march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 are marching, oh, we are march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the light of God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539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We Are March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 are living in the love of G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 are living in the love of G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 are living in the love of G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 are living in the love of G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 are living, liv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 are living, oh, we are liv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the love of God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 are moving in the pow’r of G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 are moving in the pow’r of G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 are moving in the pow’r of G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 are moving in the pow’r of G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 are moving, mov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 are moving, oh, we are mov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the pow’r of God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1-02-07T06:20:18Z</dcterms:modified>
  <cp:revision>10</cp:revision>
  <dc:subject>The Source, song number 539</dc:subject>
  <dc:title>We Are Marching</dc:title>
</cp:coreProperties>
</file>