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58F6-9FB8-400E-84D0-703369AFA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E7DB-121D-4730-88CD-DE5BC73BE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44CB-5D4B-4E83-B116-56762E6B7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D4E2-F795-4142-8BED-36E6638AE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9999-38A2-469B-ACB5-7513F79E8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E478-1298-4CEE-B850-45D11588C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5B69-BD3F-4AA4-91AD-AAC332221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416D-4A62-44E0-9720-EAE8C09AE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17FD-02D9-4980-8E2E-47BB89DEC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A9A5-5F99-47E1-92D6-43852FC0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5BBE-8989-4F9B-B15A-8E9096FF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33B2-F669-4DF9-A734-07E01535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6AB055-6EE0-44ED-981C-3B54A93E1C6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Jesus I knew not I did not know lif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spent all my days in contention and str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n I heard a voice which all trouble surmou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loves you, He loves you,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ow sweetly it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49   Не знав я Іс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знав я Ісуса, життя я не зн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ріхами обнятий, у тьмі я блук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ж ось, як почув я Господні сло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любить, Він любить! бодрися, душа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sin I was d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now I am sa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oves you, He loves you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sweetly it sou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гріхах я блук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ене Спас знайш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любить”, я зна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до нас Він прийш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I am depressed by life’s trou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wro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nowhere my spirit finds solace and song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is message from heaven in echo resou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loves you, He loves you,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ow sweetly it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я втомлюсь в житті цім земн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має спокою й душі в світі ці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ж ось чую, ллються небесні сло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любить, Він любить!”, то віс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жи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sin I was d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now I am sa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oves you, He loves you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sweetly it sou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гріхах я блук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ене Спас знайш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любить”, я зна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до нас Він прийш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trusted in Jesus, I now live in Him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go through the valley—the pathway is di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ut He never leaves me, His grace still abound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loves you, He loves you,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ow sweetly it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истові довіривсь, тепер з Ним жи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 смертній долині, без страху я й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ін не залишить!”, слова чую зн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любить, Він любить! Бог наш 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ов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sin I was d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now I am sa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oves you, He loves you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sweetly it sou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гріхах я блук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ене Спас знайш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любить”, я зна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до нас Він прийш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54:39Z</dcterms:modified>
  <cp:revision>12</cp:revision>
  <dc:subject>Slavic hymnal Гимны веры христиан, Ukrainian hymn 49</dc:subject>
  <dc:title>When Jesus I Knew Not / Не знав я Ісуса, життя я не знав</dc:title>
</cp:coreProperties>
</file>