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002-8056-4C94-9B04-72F18834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930-D5E4-45B9-8534-CCC4D6C2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038-910E-4B74-B081-B228AF8B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3BC-652A-4198-9BFD-77264F30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B8C-D106-4E50-9930-D30BF4EB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E90-1B93-437E-8400-C4A2ED7B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595-252C-4168-8B4F-691D485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37C-BBD0-4B9D-9C73-F4C42AE0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D03-98BC-4540-8C7D-0F33534B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9C0-F25E-4C45-9ACC-0ADA5B8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345-1484-4EC4-89C7-6A2A316B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70C-D8BA-4683-9B47-13FF935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4069-83EF-4690-BCE0-7712E0E08A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3   Слово, Слово Бо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испуг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бился я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ежде Ты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х уходит пр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рядом Ты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за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вят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воем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4:06Z</dcterms:modified>
  <cp:revision>11</cp:revision>
  <dc:subject>The Source 3, song number 1563 in Russian</dc:subject>
  <dc:title>Слово, Слово Божие / Thy Word is a Lamp Unto My Feet</dc:title>
</cp:coreProperties>
</file>