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D40-DE14-4258-AA31-59D6AA52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D78-5784-410D-9163-4335D86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DC6-D559-467B-8B1D-2AE004F5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229-00DE-470F-BB3C-6C9A88A8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D0C-3CD0-4396-87A2-0736155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C6F-7D9C-44F6-976E-E3F4A684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51B-E7D3-4B08-98D5-C7DFDB3D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B15-B9F5-46F0-95C7-9B64EDEC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E99-82B1-4BD0-B8AE-E2B3B59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DEE-7673-41E8-9C0B-CAC049A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44C-2003-4405-B922-0A3C261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86F-A520-4375-9087-722A1AF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AC39-D4E4-43F1-BBDC-86E1C6A53D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’tis the voice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e in a song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field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jasper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corroding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the world’s temp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cannot harm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blight of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heart’s dear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 of 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my trust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let me wait with pat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the night is o’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I see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on the golden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5Z</dcterms:modified>
  <cp:revision>13</cp:revision>
  <dc:subject>Slavic hymnal Гимны веры христиан, hymn 643</dc:subject>
  <dc:title>Safe in the Arms of Jesus / В руках я Иисуса</dc:title>
</cp:coreProperties>
</file>