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DAF-7A3E-40E2-BE00-A70BAFB6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E01-D426-4047-9816-39729E81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CCB-6733-40CE-A7D7-42DE6067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4C9-FFE9-4D17-8BF3-1C99DFDD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A45-523B-463E-9D97-5BF037BC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A0B-39DB-4D3C-BD27-C093DBE0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2027-25DB-43FC-86EE-58EC587B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D603-1A61-48A6-A9A4-74AD217E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B475-18FA-4A0A-A200-43C5AF60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895-41CD-45AC-A430-1EAB2E1D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B96-2FB3-4C46-98BF-7725099D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6EE-ACCF-455E-9E1B-346D286F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1B551-1994-46D3-B9A8-EBFC7CE002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нас Христос безмі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вжди ніжно, завжди ві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тя світу проми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друг нас забу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же ні, не залиш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2   Любить нас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хресті Ісус в страждання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м дав Він оправ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инуле все прощ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дивну посил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Йому лиш довір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пізнать Його баж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, щастя той піз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илічує всі бо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ове життя дар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ає Своїм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до Себе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н прийм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блаженство обіц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орі завжди помаг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веде Він нас до 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1:03Z</dcterms:modified>
  <cp:revision>12</cp:revision>
  <dc:subject>Slavic hymnal Гимны веры христиан, Ukrainian hymn 62</dc:subject>
  <dc:title>Любить нас Христос безмірно</dc:title>
</cp:coreProperties>
</file>