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5F8-569B-4CF2-A80C-411B5D58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1C8-205B-4D9E-9F62-13EFE4AB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622-9924-4801-AE6A-C2017831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B0B-933B-4E8E-947B-7BCA6CA5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910-E159-46BF-A165-6502347F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858-1E39-451F-B7D8-64EDC784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4FE-739F-45A5-AFB5-A0204B05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08F-1FE9-4FAD-9854-9611F3A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3C1-5293-4E2F-BED3-0048836D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077-2078-42E1-9531-0143AC8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074-6170-4AAA-93C1-0500675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331-B50E-424B-AC88-39D42F3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C8C3F-F662-4C02-B789-06F5DE9BD9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dying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hope of vic’try i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faith defending and neve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saking this world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 though life is br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ing death’s shadows, sorrow and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triumphant, never despon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at last our crowns we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conquering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the cross ’mid mock’ry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journey ended, our tent up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everlasting we’ll then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8T07:52:59Z</dcterms:modified>
  <cp:revision>14</cp:revision>
  <dc:subject>Slavic hymnal Гимны веры христиан, hymn 468</dc:subject>
  <dc:title>Living For Jesus, Dying With Him / Жить для Иисуса, с Ним умирать</dc:title>
</cp:coreProperties>
</file>