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AE40-1D6B-4BED-A473-7315708E5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8269-CDB9-443D-B5F0-B9BCD1EDF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0982-0101-4A70-A662-0338CAF1E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E97E-5843-4517-8015-7203EA62B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8470-6990-4ECA-B1F5-5E04ED78A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4700-DC0B-4DAF-82E4-163D87D90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62A1-F3CE-43CB-89FD-5E60B7C11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10ED-C3C0-4F8A-844B-0550E812D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27E7-8A96-4F7E-AD94-66F83FEF5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40CB-85F5-44E7-B02D-4A384D21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14D8-1686-4EC3-9663-45317F16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3130-B2C0-495A-BF50-0145098F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8FA6C8-37A3-4EA6-9A91-606DA8AAE27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o Jesus, I surrend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o Him I freely gi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ever love and trust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His presence daily 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4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сё Иисусу отдаю 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 отда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ь Ему принадлеж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упованьи и смире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лицом Его хож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urrender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urrender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o Thee, my blessèd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urrender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 (всё я отдаю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 (всё я отдаю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Тебе, мой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urrender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urrender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o Thee, my blessèd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urrender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 (всё я отдаю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 (всё я отдаю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Тебе, мой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o Jesus I surrend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umbly at His feet I b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ldly pleasures all forsak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me, Jesus, take me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 отда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кладу к Его ног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уету отверг земн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вляюсь к небе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urrender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urrender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o Thee, my blessèd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urrender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 (всё я отдаю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 (всё я отдаю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Тебе, мой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o Jesus, I surrend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ke me, Saviour, wholly Thi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me feel the Holy Spir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ly know that Thou art m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 отда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ь хочу Христовым бы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Предвечный да науч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ть Христа, Христа люб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urrender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urrender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o Thee, my blessèd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urrender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 (всё я отдаю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 (всё я отдаю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Тебе, мой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o Jesus, I surrend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I give myself to Th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ll me with Thy love and pow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y blessing fall o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 отдаю 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, храм во мне созд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ю и любов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 и сердце наполня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urrender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urrender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o Thee, my blessèd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urrender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 (всё я отдаю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 (всё я отдаю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Тебе, мой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o Jesus I surrend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I feel the sacred fl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 joy of full salv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, glory, to His Na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 отдаю 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о Он во мне сверши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радость дал святую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 Богу с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6:52Z</dcterms:modified>
  <cp:revision>12</cp:revision>
  <dc:subject>Slavic hymnal Гимны веры христиан, hymn 547</dc:subject>
  <dc:title>All to Jesus I Surrender / Всё Иисусу отдаю я</dc:title>
</cp:coreProperties>
</file>