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B10-0F68-4F76-98FA-DE0EB3A6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495-A946-45EB-A39B-274EE110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72F-9039-467C-ACB1-28592ACE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2947-7AA8-47B5-B88E-495348BF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FFF-10E8-4DED-88A7-969452A6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CD3-FE30-4584-98A0-826994DB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309-9F77-4484-AC0A-E3721E6A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6F6-F81C-4AF2-A01F-9751BC3B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AB3-0CBD-40EA-8288-DA4370E3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6DFA-7789-4BAC-BAFC-6B3F301F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3AC-E508-4CEF-842B-1CCC35D2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383-CBC2-461A-9B0E-8E7CA36A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69625-5FEA-445E-95E5-6B86395BBA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2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pen the Eyes of My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 high and lifted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ing in the light of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ur out Your pow’r and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ing holy, holy,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 high and lifted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ing in the light of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ur out Your pow’r and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ing holy, holy,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46Z</dcterms:modified>
  <cp:revision>11</cp:revision>
  <dc:subject>The Source 2, song number 926</dc:subject>
  <dc:title>Open the Eyes of My Heart</dc:title>
</cp:coreProperties>
</file>