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39640" y="395280"/>
            <a:ext cx="899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1440000"/>
                <a:tab algn="l" pos="21607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оро день тот придё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coming a da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no heartaches shall com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more clouds in the sky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more tears to dim the ey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день тот придёт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 будет ни забот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печали и невзгод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нужды и ни трево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He’ll take me by the h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ad me throug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omised Lan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, glorious day that will b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у даст Он мне Свою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с Ним туда войд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ень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день будет там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is peace forevermo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at happy golden sho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, glorious day that will b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царит в стране святой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ы не будет никако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ень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день будет там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 that will 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y Jesus I shall se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look upon His fac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One who saved my by His gra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ень будет там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тречу я Христа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ьмёт меня с Соб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небесный, неземно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He’ll take me by the h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ad me throug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omised Lan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, glorious day that will b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у даст Он мне Свою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с Ним туда войд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ень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день будет там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sorrow ther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more burdens to bear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more sickness, no more pain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more parting over the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 будет забот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е пройдёт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болезни, ни слёз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будет без конц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orever I will 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One who died for 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, glorious day that will b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вечно я то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Царя Христ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ень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день будет там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 that will 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y Jesus I shall se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look upon His fac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One who saved my by His gra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ень будет там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тречу я Христа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ьмёт меня с Соб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небесный, неземно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He’ll take me by the h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ad me throug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omised Lan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, glorious day that will b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у даст Он мне Свою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с Ним туда войд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ень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день будет там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 that will 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y Jesus I shall se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look upon His fac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One who saved my by His gra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ень будет там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тречу я Христа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ьмёт меня с Соб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небесный, неземно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9T07:29:31Z</dcterms:created>
  <dc:creator>John Zaitseff</dc:creator>
  <dc:description/>
  <dc:language>en-US</dc:language>
  <cp:lastModifiedBy>John Zaitseff</cp:lastModifiedBy>
  <cp:lastPrinted>2024-07-26T05:33:12Z</cp:lastPrinted>
  <dcterms:modified xsi:type="dcterms:W3CDTF">2024-07-26T05:31:19Z</dcterms:modified>
  <cp:revision>4</cp:revision>
  <dc:subject/>
  <dc:title>Скоро день тот придёт / What a Day That Will Be</dc:title>
</cp:coreProperties>
</file>