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E6D2-1727-46C6-8E68-29D6202A4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C33C-FF54-4D1B-B562-10F78EC72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2F2F-9523-486C-8E4A-47543A749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2E62-AFFE-41D0-87AA-3E9417FD0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477B-F3CC-4EA3-9BB1-CF2C637E0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2EA7-F2E8-4991-9752-B49B75EC9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7239-D347-4832-9464-B0D22AF5C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4B0E-6745-488D-BCC1-FB142E6B2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C2BC-1E74-497D-9B74-4814A8BA1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7CC2-E051-44AA-A7A6-15BCF8D4F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7EF3-F140-4D64-A15F-2AADC1E90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9D3C-1187-4736-A5ED-5CC9D630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21664B-2328-4D8F-A79B-D393A884DCC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no other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which man can be sav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no other name under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rest for my so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 wounded made who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 captives set free and forgi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996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There Is No Other N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uch love as I had never know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ve found in the grace that flow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me in my unrighteousnes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why my heart and so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ongue conf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no other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which man can be sav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no other name under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rest for my so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 wounded made who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 captives set free and forgi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28:35Z</dcterms:modified>
  <cp:revision>11</cp:revision>
  <dc:subject>The Source 2, song number 996</dc:subject>
  <dc:title>There Is No Other Name</dc:title>
</cp:coreProperties>
</file>