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8CFA-C2D6-40D4-BF09-7E6BC814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B04-7AF3-441E-A06F-58881079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1817-2D4B-440D-AB70-2462FDC5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137A-6927-4B27-B3F2-F31EB8C3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CFFE-9C92-46CB-9F6A-B4A4B6DB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4CB-F5B2-42BC-AB51-F78641E1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56D2-1EBC-4ADC-9E47-705FDD06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3BE-9EA4-409D-A0EE-1A1563CA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B1F3-64A7-4A9D-8B7E-DC4CD850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79A-1F2D-40CC-B215-7B0ECC25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FF20-162A-42F4-A736-3C359F73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05D-A67B-4B55-A156-7526E8A5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1F4FB-9AD1-4A95-B83C-D1C11A6FA2A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о велике щаст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любить Він і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 радісно співає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хай славить: Бог є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; ми Його не зн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Він нам світло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 радісно співає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хай славить: Бог є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8   Бог є люб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. Ми гріху служил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― нам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 радісно співає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хай славить: Бог є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Спаситель вмирав за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Відкупитель спасіння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я буду величати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уду славить Твою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6:03Z</dcterms:modified>
  <cp:revision>12</cp:revision>
  <dc:subject>Slavic hymnal Гимны веры христиан, Ukrainian hymn 78</dc:subject>
  <dc:title>Бог є любов, о велике щастя!</dc:title>
</cp:coreProperties>
</file>