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20B-1E1A-4F39-B817-5B6F361A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FD5-A1F5-4E2D-8651-96561C99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DA1-90C4-4858-8F4A-77468DD2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0A0-F503-471D-89E7-882062A8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6E1-34A4-4CAC-9ABB-90E2C5B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EB3-B9B3-4269-9D53-52F3850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BDF-400B-44EF-962B-3D2DF4A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5DD-BBB5-40A9-8E10-0A503B9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930-CA02-4F72-AF3F-6CA7CA9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E02-AE57-4030-B3B4-F7BEB6D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6E4-2874-478A-AD91-20E6CDF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A7-48F3-4C33-9C0A-848DAD38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A467B-C5CC-4D70-A915-47C934DF95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57Z</dcterms:modified>
  <cp:revision>14</cp:revision>
  <dc:subject>Slavic hymnal Гимны веры христиан, Ukrainian hymn 38</dc:subject>
  <dc:title>Вірю я в обітниці Христа Царя</dc:title>
</cp:coreProperties>
</file>