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3004-DEBB-471D-A78E-3499E695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DDF3-8E02-4827-8D4D-5FD019D5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5E85-A822-487B-A80D-8E2A32BE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047-7B39-4F5D-BE0B-73472C01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1201-446E-4052-8CFE-3F7FA0C8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5F16-5E3D-4B14-B458-823FEF90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4692-B45A-4DCE-BFEC-A9F304F5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FF6-1F5F-4196-A698-AE8AD9C9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EAD-B7F9-4147-96B7-46C5A0AD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A9F5-EE7A-47AC-8ACA-60F72711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72B8-378B-44C4-81AF-5BADB70F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B90F-58D1-4415-A3EB-9B4C4F63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0A21C-6F1A-4390-BFB7-EA5A1A78A8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ово дорого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жизни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то в нём свят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о благ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ю иль стра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мненья ли вп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зов: «Прийди!» услы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у я ко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слово дорого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утружд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отд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иг не удаля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га ник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ы! Я один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ен усто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ухожу далё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льну к Нему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утружд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ки к Себе Ты мощ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изко дай прильн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й и в час полн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ю мне усну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й чрез все невз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стречу я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 земные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радостно ид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утружд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7:16Z</dcterms:modified>
  <cp:revision>13</cp:revision>
  <dc:subject>Slavic hymnal Гимны веры христиан, hymn 370</dc:subject>
  <dc:title>О слово дорогое!</dc:title>
</cp:coreProperties>
</file>