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7D4-894B-4CA7-A82A-8AE93136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C7C-5515-487C-BADA-3367B317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CAB-E2B4-4EA1-8FF9-0FB9A965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AD7-3782-4BB5-923C-06AEC7E6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889-064B-4067-9027-19851CE2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C99-AEEE-4A86-87B4-876E4991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B2F-ABDB-48B4-9AAE-7FB49AA0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6D2-1A07-4ABD-BF03-E9F1C418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778-F27A-41F0-9B97-53D830CF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561-3F28-47D3-B4D4-6BDB5C2E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D6A-0CC1-4B03-89E2-F790D581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93F-FD4A-4B1B-9656-4484BB63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9D188-3C13-479E-8875-F87E5DC2A1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it tru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hen people 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udless skies will br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s and queens will sh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t’s true and I belie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iv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s It True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t’s tru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hen people 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dead men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blind se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t’s true and I belie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iv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history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speaker of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run into Your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, into Your arms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t’s tru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hen peopl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fire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truth in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broke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ing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 it’s true and I belie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iv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history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speaker of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run into Your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, into Your arms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59Z</dcterms:modified>
  <cp:revision>10</cp:revision>
  <dc:subject>The Source, song number 241</dc:subject>
  <dc:title>Is It True Today (History Maker)</dc:title>
</cp:coreProperties>
</file>