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DCC-2D8A-4AA0-B31B-46F12CE7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C63-2A4D-47F6-8D23-47DF2A24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71D-69FD-4361-A261-9B7A5F82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723-C2BD-400F-9FE5-5BC33FD7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B7D-469E-49DF-9097-D4A8859F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74E-5B77-4DB0-A7D3-EF121CB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DBA-A478-44EF-AED5-E6F7F5B2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495-5994-4462-9084-7BDF7799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8A7-AD96-48FE-AFC4-131B78FF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FA9-78EF-49E1-90CB-3D060E1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93E-CDF8-437E-AA17-C5908EB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928-DD72-4AA4-92FD-61DBA81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848E3-092D-4696-8BDA-B234C029A5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о светлых надеж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шло много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ю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Иисус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устные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ую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дух возму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частья ты прос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я и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в молитве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тяжком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мученный 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ваясь и по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ю,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вспом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 нас О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слушен От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15Z</dcterms:modified>
  <cp:revision>12</cp:revision>
  <dc:subject>Slavic hymnal Гимны веры христиан, hymn 516</dc:subject>
  <dc:title>Если в жизни твоей</dc:title>
</cp:coreProperties>
</file>