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74D-4293-4219-BADF-E0B6216E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C2C-C468-485B-A5BC-1D688067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A19-38E2-4521-9CFF-CAE109DB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768-8666-43D6-93C2-3CD109B2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291-19EA-4FCD-9505-58ED7A70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B89-68D1-4370-8B8B-CE0BF6C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68E-3A93-4BED-8AA7-0BED48C2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1D5-EB0A-4760-8901-51F94BE7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E8F-2C96-44EF-973F-D54AF39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392-CD02-4AA3-A63F-878D09FD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D5A-8605-4858-A349-B0562A7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09B-3B8B-4EC9-9858-433B479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8722A-951F-48FF-AD00-2392FB95F9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, брат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ь уныние и стр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нас Христос в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т в Своих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! радуйтесь о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Его святых дел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осторгом без трев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те вы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радоваться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гибель нам всеч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грозила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ристос рукою влас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извал за Ним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и в рубищах мы бед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мы богат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 сокровищ заповед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ст в раю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епые, в тьме грехов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без пу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есный, свет духо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нам зренье для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скорби, иску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пустил на на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ильна вс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чаль в нас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средь бед и испы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ых помыслах серд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будет уп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благой От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наша соверше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, не о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ладеть не может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49Z</dcterms:modified>
  <cp:revision>12</cp:revision>
  <dc:subject>Slavic hymnal Гимны веры христиан, hymn 568</dc:subject>
  <dc:title>Будем радоваться, братья</dc:title>
</cp:coreProperties>
</file>