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360360" y="395280"/>
            <a:ext cx="936000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44</a:t>
            </a:r>
            <a:r>
              <a:rPr b="1" lang="ru-RU" sz="3600" spc="-1" strike="noStrike">
                <a:solidFill>
                  <a:srgbClr val="ffffff"/>
                </a:solidFill>
                <a:latin typeface="Verdana"/>
              </a:rPr>
              <a:t>	</a:t>
            </a:r>
            <a:r>
              <a:rPr b="1" lang="ru-RU" sz="3600" spc="-1" strike="noStrike">
                <a:solidFill>
                  <a:srgbClr val="ffffff"/>
                </a:solidFill>
                <a:latin typeface="Verdana"/>
              </a:rPr>
              <a:t>Будьте бодры</a:t>
            </a:r>
            <a:endParaRPr b="0" lang="en-US" sz="3600" spc="-1" strike="noStrike">
              <a:solidFill>
                <a:srgbClr val="000000"/>
              </a:solidFill>
              <a:latin typeface="Verdana"/>
            </a:endParaRPr>
          </a:p>
        </p:txBody>
      </p:sp>
      <p:sp>
        <p:nvSpPr>
          <p:cNvPr id="39" name=""/>
          <p:cNvSpPr/>
          <p:nvPr/>
        </p:nvSpPr>
        <p:spPr>
          <a:xfrm>
            <a:off x="360360" y="828720"/>
            <a:ext cx="936000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Будьте бодры и всегда молитес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оро наш Господь прид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возьмёт лишь тех на пир небесн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то Его в молитве жд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Жди, молись, ещё немно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Жди, молись, Господь вел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оро Он придёт во слав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с возьмёт, где свет царит.</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360360" y="828720"/>
            <a:ext cx="936000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Будьте бодры и всегда молитес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раг лукавый ведь не сп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броню праведности облекитес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озьмите веры щ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Жди, молись, ещё немно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Жди, молись, Господь вел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оро Он придёт во слав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с возьмёт, где свет царит.</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360360" y="828720"/>
            <a:ext cx="936000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Будьте бодры и всегда молитес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спасёт от всех грех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ровью Иисуса укрепитес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ступайте в битву внов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Жди, молись, ещё немно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Жди, молись, Господь вел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оро Он придёт во слав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с возьмёт, где свет царит.</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360360" y="828720"/>
            <a:ext cx="936000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Будьте бодры и всегда молитес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готов вам отвеч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истою молитвою стремитес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благодати возраст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Жди, молись, ещё немно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Жди, молись, Господь вел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оро Он придёт во слав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с возьмёт, где свет царит.</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3T11:04:29Z</dcterms:modified>
  <cp:revision>3</cp:revision>
  <dc:subject>Slavic hymnal Гимны веры христиан, hymn 144</dc:subject>
  <dc:title>Будьте бодры и всегда молитесь</dc:title>
</cp:coreProperties>
</file>