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98B-420D-47FD-9234-6F54169F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C99-97A0-4FDA-AE98-99B9CB5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3C0-48A1-4185-8C40-B2A8B1A4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EC5-7584-4F6E-A8BF-8DAEAB50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569-1C8F-428F-BB57-9DC3A26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B63-0731-49CA-AEBC-E89352E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D41-048B-4275-8C91-6CE31809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979-53DA-41A7-861C-B5B6F82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BF2-7B99-44FC-8061-E34EE19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D1E-4BD6-4B6B-A11B-2B0FF37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4FA-3DFA-4C3C-BDBA-4D7B79B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58E-A3BA-4AD4-9D8F-4E3548D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26CBF-B983-4DAA-ADDE-B83AC62E45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Lord and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How Lovely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forgav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eek and low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the Bridegr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ride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18Z</dcterms:modified>
  <cp:revision>10</cp:revision>
  <dc:subject>The Source, song number 279</dc:subject>
  <dc:title>Jesus, How Lovely You Are</dc:title>
</cp:coreProperties>
</file>