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609-1723-40A8-8308-08CD71FE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562-E954-4510-BC13-A1437917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6DA-2AE8-4C86-B4F4-543407C5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845-F356-42A5-9AC8-6EA39139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4DB-4911-4EAF-8446-A8113911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856-3D09-4134-A25B-ABAA639E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B99-010D-4F65-8059-307970C1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7D5-D061-4334-BC8C-8433E54F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8D9-0C7C-4479-B3E7-112C67C7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022-8924-4730-81ED-5E414BE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AF2-8050-4F02-88FF-45F24DE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DE7-F181-47C7-AF67-C5821E10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73C47-0EA1-413F-A516-1BF9AEDD94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counsels guide, uphol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sheep securely fold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с тобой, доколе свиди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н да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шаг твой напра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His wings protecting h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manna still provid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да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нной свыше Сам пи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love’s banner floating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mite death’s threat’ning wave 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зла тебе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ся жизнь твоя сокр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’s perils thick conf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His arms unfailing round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иди,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бовь Его яв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3Z</dcterms:modified>
  <cp:revision>13</cp:revision>
  <dc:subject>Slavic hymnal Гимны веры христиан, hymn 745</dc:subject>
  <dc:title>God Be With You / Бог с тобой, доколе свидимся</dc:title>
</cp:coreProperties>
</file>