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65B-D4E7-45D1-A1D2-9B445FBE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C00-31AC-471E-A6A6-C0D39075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BCB2-CF87-4AAD-8E81-A354D409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407-C987-44A0-A797-A385CBF6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3B7-7222-4475-B986-82E7EAC2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49B-4600-4BD6-B5E4-263A00CB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8F9-239A-4EA2-8651-B4B89D17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08F-E0E3-4CC9-BB5F-B28E1CD3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2D1-1DC8-4616-AA28-056EB445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EA2-803C-40CA-BD53-E8E388E9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DEA-7557-422A-8C86-37202748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A66-7E60-4F90-8766-D01FCA19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0349F-B88C-4656-9224-E9860F1F9B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і, слава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і, слава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спас, гріхи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оє серце кров’ю ом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7   Господі, слава Тоб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22Z</dcterms:modified>
  <cp:revision>12</cp:revision>
  <dc:subject>Slavic hymnal Гимны веры христиан, Ukrainian hymn 107</dc:subject>
  <dc:title>Господі, слава Тобі</dc:title>
</cp:coreProperties>
</file>