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02</a:t>
            </a:r>
            <a:r>
              <a:rPr b="1" lang="ru-RU" sz="3600" spc="-1" strike="noStrike">
                <a:solidFill>
                  <a:srgbClr val="ffffff"/>
                </a:solidFill>
                <a:latin typeface="Verdana"/>
              </a:rPr>
              <a:t>	</a:t>
            </a:r>
            <a:r>
              <a:rPr b="1" lang="ru-RU" sz="3600" spc="-1" strike="noStrike">
                <a:solidFill>
                  <a:srgbClr val="ffffff"/>
                </a:solidFill>
                <a:latin typeface="Verdana"/>
              </a:rPr>
              <a:t>Среди волнени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реди волнений в житейском мор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страданья волнуют гру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я нуждаюсь в Твоей опор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ю, Спаситель, со мной пребу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жаждет сердце моё пок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так устал в борьбе зе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а страдает в потоках гор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Милосердный, пребудь со мн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ражда, неверье и лицемер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ловещий отблеск греха ог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ло торжествует, но мы в предвер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ликих, славных грядущих д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жаждет сердце моё пок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так устал в борьбе зе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а страдает в потоках гор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Милосердный, пребудь со мн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Я верю, Боже, Ты очень скор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ёшь, положишь всему кон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дежде жившим Твоей опор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них возложишь Ты Свой вен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жаждет сердце моё пок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так устал в борьбе зе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а страдает в потоках гор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Милосердный, пребудь со мной.</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20:52:17Z</dcterms:modified>
  <cp:revision>3</cp:revision>
  <dc:subject>Slavic hymnal Гимны веры христиан, hymn 202</dc:subject>
  <dc:title>Среди волнений в житейском море</dc:title>
</cp:coreProperties>
</file>