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A0CB-C0CB-4611-B523-575D72F6C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3D62-69C1-48E5-983F-56FFAC00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7221-C9A3-47B8-8CE4-096622230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5300-7503-4E6A-9267-1E50C47DF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BCB2-6740-4A56-8853-1FE3B50F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AEB9-53DA-44F3-AFCF-6AE4C985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F332-ED48-404C-838A-F0E33879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8065-FC0D-4F3C-BBEE-782C9105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A4E6-4838-445A-9612-7B092962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BFAB-D4EA-45B9-A3F2-8A66A22C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5E67-EA04-46F8-842C-98B997CF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2685-4BCC-4A14-AE67-4E9C8AEF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A9A90-6B19-448C-A574-B1239891EC4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5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н — Госпо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Господь, Он —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скрес из мёртвых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ним склон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 свой возвыс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Христос —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Lord, He is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risen from the d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is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knee shall b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tongue conf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Jesus Christ is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12:22:11Z</dcterms:modified>
  <cp:revision>14</cp:revision>
  <dc:subject>The Source, song number 158 in Russian</dc:subject>
  <dc:title>Он — Господь / He is Lord</dc:title>
</cp:coreProperties>
</file>