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0</a:t>
            </a:r>
            <a:r>
              <a:rPr b="1" lang="ru-RU" sz="3600" spc="-1" strike="noStrike">
                <a:solidFill>
                  <a:srgbClr val="ffffff"/>
                </a:solidFill>
                <a:latin typeface="Verdana"/>
              </a:rPr>
              <a:t>	</a:t>
            </a:r>
            <a:r>
              <a:rPr b="1" lang="ru-RU" sz="3600" spc="-1" strike="noStrike">
                <a:solidFill>
                  <a:srgbClr val="ffffff"/>
                </a:solidFill>
                <a:latin typeface="Verdana"/>
              </a:rPr>
              <a:t>Иисус — покров душ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Jesus, Lover of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to Thy bosom f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the nearer waters ro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the tempest still is high!</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исус — покров ду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укрыться мне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шны волны, Ты спас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ный ветер укрот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de me, O my Saviour, h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the storm of life is p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fe into the haven gu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receive my soul at las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рой меня,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житейской бури з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ристани меня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Себе мой дух прим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ther refuge have I n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ngs my helpless soul on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ve, oh, leave me not al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support and comfort m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т другой защиты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аюсь Тебе впол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кинь меня, м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поддержи мою!</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y trust on Thee is stay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y help from Thee I br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ver my defenceless h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 shadow of Thy wing.</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надежда вся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агаюсь на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защитную г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од сень Твою клад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ou, O Christ, art all I wan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than all in Thee I f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the fallen, cheer the fain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l the sick and lead the blin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то, Господь, к Тебе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оту любви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мощных Ты укреп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недуги исцелиш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ust and holy is Thy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all unrighteous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lse and full of sin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art full of truth and grac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 и праведен ли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он я нечи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де грех и где нуж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 Твоя сильна.</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Plenteous grace with Thee is f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o cover all my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healing streams ab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ke and keep me pure within.</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датью дай мне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мне не греш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чистым сотво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ё тело освяти.</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of life the Fountain 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eely let me take of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ring Thou up within my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ise to all eternity.</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меня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путям Твоим хо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сердце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вечной жизни возроди!</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8:18Z</dcterms:modified>
  <cp:revision>3</cp:revision>
  <dc:subject>Slavic hymnal Гимны веры христиан, hymn 160</dc:subject>
  <dc:title>Jesus, Lover of My Soul / Иисус — покров душе</dc:title>
</cp:coreProperties>
</file>