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   Бог, хранивший в дни труд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г, хранивший в дни тр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теперь привёл сю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ести Ему хва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ступить к Его сто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окоя — зна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нас в небе ждёт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окоя — зна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нас в небе ждёт пок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же Вечный, чрез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им милости для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открой небес вра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дали наш стыд и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забот освобо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близь к Своей гр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забот освобо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близь к Своей груд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ы пришли Тебе прин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рность, славу, ч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чувствовать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близость, Тво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Ты нам в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без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Ты нам в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без конц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решных Словом обли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ешенье дай свят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всех 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ых сил пошли боль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окоя сделай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нём, ведущим к небе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окоя сделай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нём, ведущим к небеса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2:52:12Z</dcterms:modified>
  <cp:revision>5</cp:revision>
  <dc:subject>Slavic hymnal Гимны веры христиан, hymn 21</dc:subject>
  <dc:title>Бог, хранивший в дни труда</dc:title>
</cp:coreProperties>
</file>