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952-4DAF-4D0C-86D1-373DFDB0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C7A-9A8E-47BA-AFD1-EDCDD9D8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F6B-53C0-474A-9DF8-0F934349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384-FB3E-4005-B407-FF2ED716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900-4025-4AF6-85CA-561DFB31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994-F98F-4DE1-A1B3-18DE41CD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B8C-38A5-4AC8-80C7-33AAD093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298-DE53-4C35-ACD1-D2A004C6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9D7-7F3B-440E-9A86-728A604D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A61-6D74-4C0D-9BA5-4F55DFED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F2F-F45E-4FB0-988E-50E827B7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8D1-DF13-40C3-93EC-89977D1B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29DBD-E8EB-4638-AE90-18B7FE880F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с Ним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ую долю можно ль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смиряться, стоит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за это мир весь от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краток хоть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далёко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я, не уста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трудиться пусть нам не лен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ь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грех поб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поношенья бодро с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ив путь жизни, чтобы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й бессмертья венчанн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20Z</dcterms:modified>
  <cp:revision>13</cp:revision>
  <dc:subject>Slavic hymnal Гимны веры христиан, hymn 468</dc:subject>
  <dc:title>Жить для Иисуса, с Ним умирать</dc:title>
</cp:coreProperties>
</file>