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3C12-8EA3-492E-9AF8-FA36F1634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DB28-4668-4FF5-9DDF-AEF242EC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B4C4-5461-4CCB-8264-DEDA37B7F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5B81-552E-4B5B-8FA7-DB7F7F33C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8C71-D9C2-49F2-9950-47341FF8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C3BE-2BC6-47C0-B750-E69D070B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C0D4-41EB-42C0-8A81-99E135FD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D481-C706-435E-BBEE-D51D334F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6BF1-D61C-4A89-8898-C7E246CB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3B3A-0EF4-4347-99DB-DF70BCD8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4223-66B1-47AB-80C9-EFE7F046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BE46-4390-4BA9-82E7-708944F3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B66CF-1013-4FEF-B0B4-19E4E0446C6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all for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I am and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er hope to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of my ambitions, hopes and pla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urrender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You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82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esus, All For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it’s only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will that I am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it’s only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will that I am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all for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I am and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er hope to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7:26Z</dcterms:modified>
  <cp:revision>11</cp:revision>
  <dc:subject>The Source 2, song number 825</dc:subject>
  <dc:title>Jesus, All For Jesus</dc:title>
</cp:coreProperties>
</file>