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4AD-1F57-493E-A578-AD2972BE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08F-B43F-489D-B622-A5C299D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277-ABFE-4231-8872-D6490C99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3D9-E537-49CE-9F51-FC57E7A6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23F-A797-4AF2-9F67-09C3AC4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B70-6B74-4C9D-A440-859B72B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487-2D5A-4FEC-872E-79F9E6D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BC5-0BE4-4C46-86CF-447EAA83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605-AA0E-45FD-BB6F-760792C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38F-0D73-44AB-B83A-50683E7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77A-FE61-4C8E-A214-0E26D86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E67-8D88-4B71-94DB-AFD64AE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0F00F-C864-4509-8BC5-F1EDFA790B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39Z</dcterms:modified>
  <cp:revision>12</cp:revision>
  <dc:subject>Slavic hymnal Гимны веры христиан, hymn 820</dc:subject>
  <dc:title>О, если б сотни уст имел я</dc:title>
</cp:coreProperties>
</file>