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B4F-1B14-4523-945C-F00EE52A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D8B-229D-43B0-8307-395FA4C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C68-535E-4A92-AF4E-A56ED962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2B6-6811-4359-B972-03C5F5E9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175-BA93-4179-B467-67D6547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022-116C-479C-827B-A5B072E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E44-D3B6-4FBB-8258-2FE2B103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A6F-D0EC-4958-B47C-DEC5FE14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5F1-008E-4CFE-877D-6E24FBC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9A7-D4B7-4649-8559-1458AC5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BDF-8124-4A82-85C6-0FA6554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A82-1E7F-4C8D-9198-A5FEB9E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2880-398A-45FC-88BD-49DD12F463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здай во мне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гони меня от лица Т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ятого не от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озврати мне Твоего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правым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6:46Z</dcterms:modified>
  <cp:revision>12</cp:revision>
  <dc:subject>The Source 2, song number 669 in Russian</dc:subject>
  <dc:title>Создай во мне сердце чистое / Create In Me a Clean Heart</dc:title>
</cp:coreProperties>
</file>