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D767-166E-47DF-975D-C9C8A62D7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B9EA-715D-455B-AE08-7C899AB93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32A5-E946-4CCB-AF39-888EBA7F5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DF41-DED9-4D1F-A7EB-F827233F8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3506-A0D1-4E53-8664-0AC0E0664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6681-CA51-4F7E-A25D-94DB05422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F898-72D5-4912-ADC8-AE7C235AB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7003-DC3D-4B8B-9CF0-462B5283B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D388-F13C-4644-8539-D4F2D814F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CF9D-7B45-4647-B738-B95E18BE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63D5-479A-4492-8E31-F86284B2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7043-4981-45A3-94DD-09FE1F9F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C9C0D8-AD73-4FEF-901C-7570E57D29C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43080"/>
            <a:ext cx="91440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ень, когда труба Госпо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пред Ним нас собер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ретимся ль мы в н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кристальных вод (чистых вод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 брачную вечер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Христос ве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огочисленный бессмерт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й на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7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день, когда труба Господ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343080"/>
            <a:ext cx="91440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ая встреч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О, какая встреча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там народ пребудет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бавленье возвестит гл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бный нам (трубный глас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ая встреч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Там мы встретим наших близк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и райских рощ тенистых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разлучны будем мы навеки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343080"/>
            <a:ext cx="91440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стит Господний Анге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ремени уж больше нет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схищены мы буд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блаках (в облаках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 нас Творец вселе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ольёт Свой дивный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 счастливы мы буд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343080"/>
            <a:ext cx="91440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ая встреч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О, какая встреча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там народ пребудет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бавленье возвестит гл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бный нам (трубный глас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ая встреч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Там мы встретим наших близк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и райских рощ тенистых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разлучны будем мы навеки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343080"/>
            <a:ext cx="91440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, что тайно и сокрыт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ень явления 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т явно и откры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судом (пред судом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ет праведным: «Войд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дость Бога своего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ое мы блажен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йдё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343080"/>
            <a:ext cx="91440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ая встреч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О, какая встреча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там народ пребудет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бавленье возвестит гл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бный нам (трубный глас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ая встреч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Там мы встретим наших близк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и райских рощ тенистых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разлучны будем мы навеки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343080"/>
            <a:ext cx="91440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при звуках гуслей стройн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рф небесных золот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имн победы в день спас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несём (вознесём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ю Агнца, Моисе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сонмом праведных свят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ь, неведомую мир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п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343080"/>
            <a:ext cx="91440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ая встреч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О, какая встреча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там народ пребудет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бавленье возвестит гл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бный нам (трубный глас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ая встреч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Там мы встретим наших близк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и райских рощ тенистых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разлучны будем мы навеки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59:18Z</dcterms:modified>
  <cp:revision>12</cp:revision>
  <dc:subject>Slavic hymnal Гимны веры христиан, hymn 679</dc:subject>
  <dc:title>В день, когда труба Господня</dc:title>
</cp:coreProperties>
</file>