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932-42EA-4E66-A8FE-0D049A75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9B2-6DCE-4149-97C4-1438F0C8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F5A-C7F8-4043-BF0F-DF79C10E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B68-8065-441F-8EB7-4F24F55D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D59-BDC0-40E2-B07A-733AAB7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6F0-70C1-41B0-9363-C442D34B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3FE-BEB4-46EA-AEC6-AAC1B88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F32-8AB1-481E-8C46-A5E7E40B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9F0-333A-49DD-A925-5689D57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99D-055B-41ED-A601-4275DFE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D1D-1D0B-4E14-98C3-996E055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0DE-5ACF-4F63-ABC1-262D4DD4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C1431-A8AC-4352-8FAD-883C2ECBF3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ood a lowly cattl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a mother laid her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manger for His 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ry was that mother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er littl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down to earth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God and Lord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shelter was a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cradle was a st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oor and meek and low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d on earth our Saviour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all His wondrous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y by day like us He gr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little, weak and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rs and smiles like us He k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feeleth for ou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reth in our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among the poor and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n Christ is brought to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romis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n Him our life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ope of heav’n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eyes at last shall se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His own redeem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hild so dear and gen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our Lord in heav’n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eads His childr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lace where H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in that poor lowly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oxen standing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see Him, bu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t God’s right hand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like stars His children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n white shall wait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34Z</dcterms:modified>
  <cp:revision>9</cp:revision>
  <dc:subject>The Source, song number 404</dc:subject>
  <dc:title>Once in Royal David’s City</dc:title>
</cp:coreProperties>
</file>