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AE1-2F9A-447A-9E2B-7E952620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F94-F21A-4288-A099-0FF3B3CF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292-482E-4CAE-A423-AAF3DB52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AC11-52C2-4165-859D-D543F593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6156-CEAC-4342-A8AE-623A5D6D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0E8E-BB33-4648-8933-76AD2E64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A00D-8207-439C-B155-4CB5F32B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1C6E-FCDB-4116-A4A0-6424A54A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833-8F6A-47DF-96EF-E85CBDA0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DD07-6D3E-4845-B387-735B4F59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FC1C-9D18-424F-B47A-4B8546B0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1B3-0949-4C4E-9AD3-13A529AF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71E16-0EBF-403B-B2A3-367BD74C64D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в с нас закона пораб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ос пролил, вот в ч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чен, истерзан, в язвах О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с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! Прими Божью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йдёшь свет и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нас греховное бремя 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Сын Божи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няв с нас зак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о Христе, тем нет осужде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готовил наше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о Мне придите!» — Христос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Он снимет гн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! Прими Божью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йдёшь свет и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нас греховное бремя 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Сын Божи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— Божьи дети, вот наша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нас в мире лука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жизни от смерти мы пере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покой на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! Прими Божью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йдёшь свет и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нас греховное бремя 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Сын Божи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8:36Z</dcterms:modified>
  <cp:revision>13</cp:revision>
  <dc:subject>Slavic hymnal Гимны веры христиан, hymn 385</dc:subject>
  <dc:title>Сняв с нас закона порабощенье</dc:title>
</cp:coreProperties>
</file>