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926-1D4A-4670-807C-8E9E4C26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2A8-7DB1-4871-9E13-E5E19665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BDC-8E69-454B-B203-45E640C8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C68-B6F4-4EEA-8D2F-6AC364CF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B41-F844-4258-8C47-24283EA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EFD-08CA-42F0-A904-B8D68EDD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F23-2D8C-4008-997D-B619985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45D-256A-4A0A-9B46-927A6713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FFA-5FF8-472B-908B-7262FF7A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2D4-4265-423A-A581-3560FE5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9B1-2906-4F7F-8F83-340F1230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F3D-DA61-43D3-9D1D-794D5A54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4A525-A9A0-49A6-9D7B-D58372DC1C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home by the wa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e’er get sight of the gate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way of the cross I mi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on in the blood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inkle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 that the Saviour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ever climb to the heights subl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oul is at home with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bid farewell to the way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lk in it never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rd says, “Come,” and I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waits at the op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08Z</dcterms:modified>
  <cp:revision>12</cp:revision>
  <dc:subject>Slavic hymnal Гимны веры христиан, hymn 843</dc:subject>
  <dc:title>The Way of the Cross Leads Home / Крестный путь пред мной</dc:title>
</cp:coreProperties>
</file>