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CFA-32CA-46E7-B973-A148C56E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BD0-81AF-4135-8B6E-2F1431B5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93C-081C-4E72-9CDA-00FBDECD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0FA-BFF9-44AD-8C89-BD135D9C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2C2-08CA-44B5-ADAA-D319B367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354-868D-43C2-BFC8-6046FC2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277-ABA3-4CC0-8B80-9DE14F7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09E-79F3-480F-9E0D-4AA786F0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BA8-E10D-4C31-B7E7-0A996B71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D61-5008-4DA7-BE65-5E5D09DE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6C3-9B34-4373-8376-60AFC12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6B9-0E80-44E3-ABB7-E070FD2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2EF16-2933-46FC-B55D-E06EBD35C8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,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being’s ransomed po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thoughts and words and do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, всё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чувства 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силы и позна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hands perform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feet run in His w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eyes see Jesus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усть Ему лишь служ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ги пусть за Ним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— на Него вз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my eyes were fixed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lost sight of all be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enchained my spirit’s vi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душой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рское не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wonder! how amaz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lorious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igns to call me His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s me rest beneath His w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ий дар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целый мир соз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бедное тво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now beneath His w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now beneath His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1Z</dcterms:modified>
  <cp:revision>13</cp:revision>
  <dc:subject>Slavic hymnal Гимны веры христиан, hymn 548</dc:subject>
  <dc:title>All for Jesus / Всё Иисусу, всё Иисусу</dc:title>
</cp:coreProperties>
</file>