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8C1-62E2-48AF-8D2C-F65EA87E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492-D99A-4124-9C7F-0CE6CA0A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864-C30B-4F4B-ABC7-91573496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75B-C705-4CAE-BE11-5A94F587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9B2-DF5F-4082-83EB-C4290B79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DBF-E550-4557-8177-A5A75085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8B5-D4A2-4F07-B28A-52E39800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D3A-5546-4394-9BA1-6D08AC45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3E5-9FCD-4B33-A4FE-46DABDB6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1C7-D327-4B82-B476-583157F0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42E-38DE-485D-AFE3-CF5B131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CCF-5BBD-4439-8BB1-F728054C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D3093-61BB-4B9D-A782-FB4E9E851F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Божьем С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юбви и добр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итался Он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 о Божьем С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с радостью и ве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другим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открыл нам д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ый рай,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лился Он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бедой на Голг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аняет Он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хвал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Его д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с Ним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Его мне жизнь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25Z</dcterms:modified>
  <cp:revision>12</cp:revision>
  <dc:subject>Slavic hymnal Гимны веры христиан, hymn 639</dc:subject>
  <dc:title>Буду петь о Божьем Сыне</dc:title>
</cp:coreProperties>
</file>