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16AB-B340-4560-B860-0D5EE7D90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7A37-E4BD-4429-9797-236C913E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40E4-050F-4CD4-AE70-7C99594E7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23B5-E36F-4DEE-B859-022791CA9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5E5C-D2AD-4207-B869-201ADDD4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2085-2E3A-4D4C-A9AF-804D1406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7002-52AF-40DA-86DB-067FD101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48C5-03F4-4B0B-821D-5322318F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A0DF-2FDB-43A5-A96C-5A53E2D7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A07B-849F-443B-832F-F467400F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7206-0037-4DCB-91EC-0B6DBCF4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783D-2496-458C-962E-91CBBA6A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8A71EC-1F6F-452C-8C56-72F7E43E9BC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Tis so sweet to trust i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to take Him at His w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to rest upon His prom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to know “Thus saith the Lor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4   Любо вірити в І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о вірити в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 святі Його слов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душею підношу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сто в самі неб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how I trust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I’ve proved Him o’er and o’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precious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grace to trust Him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Спасителю, І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Спаситель вірний мі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Спасителю, І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же буду вічно Тв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sweet to trust i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to trust His cleansing blo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in simple faith to plung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th the healing, cleansing flo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адіюсь на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Його святу люб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Йому служу й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пролив за мене к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how I trust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I’ve proved Him o’er and o’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precious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grace to trust Him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Спасителю, І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Спаситель вірний мі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Спасителю, І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же буду вічно Тв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’tis sweet to trust i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from sin and self to cea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from Jesus simply t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e and rest and joy and pe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риємно знати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ом пробувати в Н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ідкріплятись Його Слов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ходити завжди з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how I trust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I’ve proved Him o’er and o’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precious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grace to trust Him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Спасителю, І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Спаситель вірний мі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Спасителю, І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же буду вічно Тв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so glad I learned to trust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Jesus, Saviour fri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know that Thou art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t be with me to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аходжу собі раді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голгофському хрест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я можу виправдат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звершитись у Хрис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how I trust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I’ve proved Him o’er and o’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precious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grace to trust Him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Спасителю, І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Спаситель вірний мі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Спасителю, І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же буду вічно Тв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8:25Z</dcterms:modified>
  <cp:revision>13</cp:revision>
  <dc:subject>Slavic hymnal Гимны веры христиан, Ukrainian hymn 24</dc:subject>
  <dc:title>’Tis So Sweet to Trust in Jesus / Любо вірити в Ісуса</dc:title>
</cp:coreProperties>
</file>