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a:t>
            </a:r>
            <a:r>
              <a:rPr b="1" lang="ru-RU" sz="3600" spc="-1" strike="noStrike">
                <a:solidFill>
                  <a:srgbClr val="ffffff"/>
                </a:solidFill>
                <a:latin typeface="Verdana"/>
              </a:rPr>
              <a:t>	</a:t>
            </a:r>
            <a:r>
              <a:rPr b="1" lang="ru-RU" sz="3600" spc="-1" strike="noStrike">
                <a:solidFill>
                  <a:srgbClr val="ffffff"/>
                </a:solidFill>
                <a:latin typeface="Verdana"/>
              </a:rPr>
              <a:t>День мира и весель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ень мира и весел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света и теп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сил восстановлен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а Творца д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атый и убог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чёный и прос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славят вечно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сякий дар благ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сей день Господь наро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есный хлеб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вангелье повсю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дей к Христу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чат слова проро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ипит духовный тру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ой воды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иссохший мир теку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ходим в день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образ дня и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ойдём в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мы со святы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вившись пред Хрис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Отцу и Сы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у вознесём.</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6:04Z</dcterms:modified>
  <cp:revision>3</cp:revision>
  <dc:subject>Slavic hymnal Гимны веры христиан, hymn 22</dc:subject>
  <dc:title>День мира и веселья</dc:title>
</cp:coreProperties>
</file>