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414-6970-4D60-BE9D-9CF30862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066-42F4-4B4B-9326-32BE7527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E59-4DE3-4654-A8AD-EA023A9D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EBE-4B5B-4C0A-8FBB-7247BAB5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743-34F3-4C8E-9BCE-D530E97E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84E-9B29-4ECA-BDFB-6E5F5B90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57D-9C45-46D7-8FEF-1CCBCE7F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713-5F0A-4A91-B2D0-9BD6548F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19D-0AF0-4E74-87E1-98B2991B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7FF-63F1-41AB-95DD-E135FAB8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EB7-F97D-4494-B6D3-C9720619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548-94AF-4EBF-8624-716FA3E2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A3D86-8D2D-4004-BC56-E3DDD4C265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Когда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 Свою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 любовью, как к друз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хлеб,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ломив, им всем ра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слова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рузья, примите, ешьт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тело есть Мо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когда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с вином Ты чашу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, о ней м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ия есть кровь Моя», — с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е пейте из не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т новый Мой завет в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ам, друзья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е всегда творите 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спомните Мою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же кровь Твою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ую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истерзан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помнить в этот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Господь, всегда во в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мыслить лиш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Ты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ко уми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6:29Z</dcterms:modified>
  <cp:revision>13</cp:revision>
  <dc:subject>Slavic hymnal Гимны веры христиан, hymn 727</dc:subject>
  <dc:title>Господь, когда ученикам</dc:title>
</cp:coreProperties>
</file>