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9</a:t>
            </a:r>
            <a:r>
              <a:rPr b="1" lang="ru-RU" sz="3600" spc="-1" strike="noStrike">
                <a:solidFill>
                  <a:srgbClr val="ffffff"/>
                </a:solidFill>
                <a:latin typeface="Verdana"/>
              </a:rPr>
              <a:t>	</a:t>
            </a:r>
            <a:r>
              <a:rPr b="1" lang="ru-RU" sz="3600" spc="-1" strike="noStrike">
                <a:solidFill>
                  <a:srgbClr val="ffffff"/>
                </a:solidFill>
                <a:latin typeface="Verdana"/>
              </a:rPr>
              <a:t>Бог есть любовь</a:t>
            </a:r>
            <a:endParaRPr b="0" lang="en-US" sz="3600" spc="-1" strike="noStrike">
              <a:solidFill>
                <a:srgbClr val="000000"/>
              </a:solidFill>
              <a:latin typeface="Verdana"/>
            </a:endParaRPr>
          </a:p>
        </p:txBody>
      </p:sp>
      <p:sp>
        <p:nvSpPr>
          <p:cNvPr id="39"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г есть любовь, о, какое счаст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есть любовь, Он нас воз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всякий радостно поёт и слав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да славит; Бог есть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г есть любовь, Он прислал к нам Сы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есть любовь, Он избавил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всякий радостно поёт и слав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да славит; Бог есть любов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г есть любовь, мы греху служи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есть любовь, Он освобо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всякий радостно поёт и слав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да славит; Бог есть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ой Искупитель меня изба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Искупитель меня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я буду вечно петь и слав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славить Твою любовь.</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8:10Z</dcterms:modified>
  <cp:revision>3</cp:revision>
  <dc:subject>Slavic hymnal Гимны веры христиан, hymn 29</dc:subject>
  <dc:title>Бог есть любовь, о какое счастье</dc:title>
</cp:coreProperties>
</file>