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E33-531F-4E0E-990D-C84D406D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7E7-472C-4C5C-A3A0-BF73240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F3E-0605-4DAF-991B-D4D7116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1F3-08DA-4BFA-A3B7-59944A01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2B1-ADAA-49DE-A8E8-390336C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168-20C4-46E2-AC19-3F9C404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594-E01A-4465-9D9D-2C2EEBA6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991-C404-413C-AFCD-72C0032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53D-AC32-474B-BD79-4E52F3F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6E3-EB03-4D60-97DB-434FA7A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29F-E470-4762-8C97-CB36676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10C-7EAC-483B-8E4C-48D6F2B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EA2F2-12D1-475A-A5DF-0CCE8DB50E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4   О Иисус, как жертва ве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как жер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 Тв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ложил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вновь взираю н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Тебя вновь и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ы 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й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нас зов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ка я преклоня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воей вновь и вн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12:33:40Z</dcterms:modified>
  <cp:revision>11</cp:revision>
  <dc:subject>The Source, song number 274 in Russian</dc:subject>
  <dc:title>О Иисус, как жертва велика Твоя / Jesus Christ, I Think Upon (Once Again)</dc:title>
</cp:coreProperties>
</file>