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18D-4873-4322-8551-38B4A2A6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B48-2693-44E5-9B82-88BCB5CF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5A1-DDE1-42A4-AFBA-AA1958E7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F61-3F29-42D4-9054-C494F112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7D2-CAE7-48D3-927E-4A8BC4DE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E17-A1C7-4854-8D9F-0453CBE9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08E-42A5-4010-9099-E1149A32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591-383B-4E45-A9C4-06FE13D4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7BF-7406-45D2-AE7C-69ADCC06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6CD-2A6A-43BB-BB4C-EA37136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8DC-32CE-4E29-8F26-5E53AEB9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7F4-3306-4911-809F-F8388261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D1A49-9184-472F-8DAB-62D80AB049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I walk 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hadow of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erfect love is casting out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when I’m caught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torms of thi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turn back; I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80   Even Though I Wal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ear no ev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God is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f my God i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can see a light that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heart that holds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lorious light beyond all comp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ill be an end to these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until that day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live to know You here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ear no ev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God is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f my God i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can see a light that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heart that holds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ill be an end to these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until that day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 will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 will prais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I walk 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hadow of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erfect love is casting out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when I’m caught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torms of thi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turn back; I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47Z</dcterms:modified>
  <cp:revision>12</cp:revision>
  <dc:subject>The Source 4, song number 1780</dc:subject>
  <dc:title>Even Though I Walk Through the Valley (You Never Let Go)</dc:title>
</cp:coreProperties>
</file>