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803-6EDC-44D6-BA79-B0E4E5E3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23E-1AE1-467B-A13A-4B8E1C83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19B-CC85-40CE-8768-BED937B6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4D0-5007-4364-82F8-CF2289C3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752-0851-4733-912A-0352C286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B4B-091A-4080-83CB-A76A65E9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D5F-35D1-49E2-B916-592FE257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22B-EAF6-45DC-A160-F84FD9B3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13D-B708-4C89-979B-86062AEA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1BB-6D46-4C65-A557-CF11856E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947-1733-4F5F-94C3-BB9CF043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AAC-5D0C-444E-8F25-3022C45C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85A6A-DBAF-42EA-BA27-941341ABA9B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ift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earts full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xalted, O Lord, our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osanna, Hosann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King of k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King of k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ift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earts full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xalted, O Lord, our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King of k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3:27Z</dcterms:modified>
  <cp:revision>10</cp:revision>
  <dc:subject>The Source, song number 182</dc:subject>
  <dc:title>Hosanna, Hosanna</dc:title>
</cp:coreProperties>
</file>