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A36-E3FF-412D-91B8-7E98D418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9C73-589D-406F-8784-9FA867A4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B5EB-63FD-4744-A846-F1BCDBE0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5B1-680A-4176-B918-4B7A19B4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1AA-25CF-4D0A-9B8F-A334A605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A8A-6205-4AE1-85E9-9E045A6A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58A-ED6F-4FFD-B078-36A0B27E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D5E-55B5-4A55-ABC1-963A722D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6B4-CA82-4D4B-A307-97E5D1BC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A0E-092C-42FD-A78C-51A83244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7AB-0DE8-4129-A8C4-5FD21E0E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CDA-0CB3-4BE4-AFD7-2371E0DE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75784-CECF-45C8-AFCA-B7A6A7FCF1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етки, идите, идите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щеру и к яслям спешите жив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акую святую и дивную н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 Сын Божий, чтоб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те, как в яслях Спаситель л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те, как свет Его чудный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Младенец прекрасен и м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ей и приятнее ангельск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етки, идите, идите скор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ит Он, ах, детки, в соломе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, Иосиф с любовью гля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ли пастухи поклониться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славу воспели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4:31Z</dcterms:modified>
  <cp:revision>14</cp:revision>
  <dc:subject>Slavic hymnal Гимны веры христиан, hymn 754</dc:subject>
  <dc:title>О детки, идите, идите скорей</dc:title>
</cp:coreProperties>
</file>