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CBE-C64A-41E7-89D2-798D518F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E7D-77F1-45B0-8397-96EF916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93E-A4AD-48D2-88EE-D4A67F29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595-BC16-4EE1-BED6-EBC23957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31D-EDFE-4D6D-8A77-3BDD7660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9BE-112C-4892-BAFA-0AA1C73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117-EBF5-4B41-944C-C4A6B32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B10-9717-43B3-8A63-A6D406A2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BCF-13DE-48C3-9B85-65F9E4E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828-ED09-4792-AD6F-8395A18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7C3-EDFE-4A2C-8FEB-89614F7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8D4-E623-4DC7-806F-9BC7138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8B403-F2D6-44DA-BCA6-A33375CDA0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ather, We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36Z</dcterms:modified>
  <cp:revision>10</cp:revision>
  <dc:subject>The Source, song number 103</dc:subject>
  <dc:title>Father, We Love You (Glorify Your Name)</dc:title>
</cp:coreProperties>
</file>