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085-7FB2-45C6-B959-F1F2909D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1A9-4678-4A86-998A-3A16C4F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6FA-18C8-4AA0-A2A5-87E2C49E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9F8-B7D3-4BB2-B731-B263605E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B4C-F492-4892-9E21-50A2531D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ECC-1A49-421B-A17E-90C082E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74D-1E63-47FD-B995-F1A0E16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05E-563D-4C26-9920-E0CA80B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A92-012E-4B2A-8EFC-E539015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B5C-CFE0-4556-9365-AD08DE8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B3F-9026-4254-91E7-133C9A5D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50F-9510-4CEC-8688-A9F540E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7683F-88A8-47E9-B466-59AD90E8F0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grace and suff’ring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shown m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judgement You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35   At the Foot of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am made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m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eath You bo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ade these ashes 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34Z</dcterms:modified>
  <cp:revision>12</cp:revision>
  <dc:subject>The Source 3, song number 1135</dc:subject>
  <dc:title>At the Foot of the Cross (Ashes to Beauty)</dc:title>
</cp:coreProperties>
</file>