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7</a:t>
            </a:r>
            <a:r>
              <a:rPr b="1" lang="ru-RU" sz="3600" spc="-1" strike="noStrike">
                <a:solidFill>
                  <a:srgbClr val="ffffff"/>
                </a:solidFill>
                <a:latin typeface="Verdana"/>
              </a:rPr>
              <a:t>	</a:t>
            </a:r>
            <a:r>
              <a:rPr b="1" lang="ru-RU" sz="3600" spc="-1" strike="noStrike">
                <a:solidFill>
                  <a:srgbClr val="ffffff"/>
                </a:solidFill>
                <a:latin typeface="Verdana"/>
              </a:rPr>
              <a:t>Ты для меня, Спасител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ы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шёл с святых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ил Ты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 полную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ирившись, в яслях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епым Ты был вод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бедных мира 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красот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Твоей плен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жить хочу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бою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Тебе лишь, о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сокрыться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мне Твою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трой Ты для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ебе лишь петь хоч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да, во всякий м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принадлеж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сь в руках Т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3:20Z</dcterms:modified>
  <cp:revision>3</cp:revision>
  <dc:subject>Slavic hymnal Гимны веры христиан, hymn 117</dc:subject>
  <dc:title>Ты для меня, Спаситель</dc:title>
</cp:coreProperties>
</file>