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89F9-1531-4ECB-8046-D562DBC7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A30-BB3A-4795-B3DC-ABE68B58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916-D555-47F9-828D-FE712F52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0443-C2E7-485C-B057-50D55732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390-1461-45A3-A6A6-5095D11E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647-ED86-4439-B469-9D2ADD9C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03F2-4ACE-498B-881E-C4031547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DDA-20A3-4493-A406-01B97BD9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708-D5F2-44E2-B0C3-4943DA4D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EDBA-C565-4EC8-B2FE-460E6316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6B7-9F62-4204-915C-7D858F90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51BE-3568-49C6-BB0F-3EB70885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726AE-F5C2-4AAF-93B2-D12185987AF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ло сердце, ноют н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мучились на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ы не знаете дор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вам надобно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ите на дорогу в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злым не ходите на со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е всех людей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раем станет этот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стало сердце, ноют но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вам кривить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ься: «Господи, прост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ердцем, дышащим вражд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й Каина ид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тайте с верой книгу Бож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сил в ней почерп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покажет в бездор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пасенью узкий,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8:57:00Z</dcterms:modified>
  <cp:revision>12</cp:revision>
  <dc:subject>Slavic hymnal Гимны веры христиан, hymn 395</dc:subject>
  <dc:title>Устало сердце, ноют ноги</dc:title>
</cp:coreProperties>
</file>