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CB3-2F85-4400-ABFF-EE5FFB97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C90-4AEB-4859-A89A-84877542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BE4-8726-4837-B81E-7CEEBE8C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ABE-C80F-4471-BA32-F98900A3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6C7-42F1-4017-A4FD-81CF8EDA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397-B38E-4AEE-8D37-36912261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56A-6F73-4834-9709-FF88F406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43C-3F1C-47F5-9BE2-6673410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337-449B-4603-99A0-2668F37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651-F93F-46A9-B48B-23EE422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6C4-F292-416A-8704-F20F3F52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F05-2D8E-4E46-8A46-91084A8B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67D7E-F4D2-4ED0-A17C-9463D1E112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lvation belongs to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its on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alvation Belongs to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, the redeemed, shall b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urpose and u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alo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16Z</dcterms:modified>
  <cp:revision>11</cp:revision>
  <dc:subject>The Source, song number 443</dc:subject>
  <dc:title>Salvation Belongs to Our God</dc:title>
</cp:coreProperties>
</file>