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359-4942-441A-B796-FC3AC15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30C-14E1-4E0C-A989-0666D605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B2A-2490-44DF-9A91-E4E1B789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E16-726C-484A-877B-A8FF4CA2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A6F-64BD-46C8-9E70-027922D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103-2034-4073-B351-0ABC2AFB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0EB-C5AF-4EAD-B51E-102781F6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F06-FE76-4C1F-BB24-6345C4D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3CC-2AD7-4670-8CD2-43F49EF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CD0-076D-45FE-A7CA-5B94C65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ED-77C0-446C-89A0-2FE53FD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356-9F9E-4D9F-9296-AA8F168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5A26E-0907-4420-BA8F-0FBDBDADA3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but a strang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is a desert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nger and sorrow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me on ever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e tempest r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is my pilgri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’s cold and wild wintry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be over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ach home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Saviour’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be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the good and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I loved most and b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too, I soon shal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fore I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my earthly l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urely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Lord’s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04Z</dcterms:modified>
  <cp:revision>12</cp:revision>
  <dc:subject>Slavic hymnal Гимны веры христиан, hymn 813</dc:subject>
  <dc:title>I’m But a Stranger Here (Heaven Is My Home) / Мой в небе край родной</dc:title>
</cp:coreProperties>
</file>