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AED-D34A-4613-B4D9-E5D81F3D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7A1-978B-44F5-852B-CAC4F3EC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216-4460-4696-876E-CC12095B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888-1FD7-417C-BB6D-BD52933A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6DA-5143-4B3F-93E9-31481534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13B-2A82-4C87-A400-F9096F56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6FF-7898-4717-96CC-930CCFDB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106-18A0-4086-8A0E-B0588035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E54-4F74-460D-AEEB-608B278D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42B-7BFD-4878-86F6-F4B5AF8D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D84-41AD-486B-82AE-4718CD8A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F54-776D-4C30-A773-21F8D27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78C11-0442-4D62-8259-AF799CFC83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Христом бодрее в путь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радостен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и вечной я стремлюсь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дёт лишь Он меня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дёт лишь Он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реки, чрез моря и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Свое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я поднимаю вз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й дом, где ждёт меня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й дом, где ждёт меня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Христом бодрее в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меня средь тёмной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ждает при восход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 Он мне отирает 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 и креп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 и креп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жизни Он мне посы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т Он всегда нужд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ильем благ меня пи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ет мне любов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ет мне любов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 пути со мн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зовёт меня в последни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жизни вечной вновь пробу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авек откроет рая с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авек откроет рая 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2:21Z</dcterms:modified>
  <cp:revision>13</cp:revision>
  <dc:subject>Slavic hymnal Гимны веры христиан, hymn 618</dc:subject>
  <dc:title>Со Христом бодрее в путь пойду я</dc:title>
</cp:coreProperties>
</file>