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152-1CF4-4068-95B7-CDED7823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F06-F1BE-4B06-ABC8-BFD86477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34D-F0CB-4464-8C13-DB9B7299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F73-EDEA-4F79-93A9-03C5C146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294-719E-4C06-B531-877C194E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F89-5D2C-4DD4-A9DD-888B3A5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FBF-755E-4818-8A15-A91EF514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221-3954-48A2-B7F7-DE58BC64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EB3-FBD7-4245-9E68-FC8CBA9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71E-02E2-44F5-9114-BC3F847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3A0-5E8B-4707-9C79-4D028A6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CAD-A9C4-4640-9677-8D53A50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FF3CD-4276-458F-89F4-192FEC6647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о плакав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отній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чисті лилися 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даремно Він плак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ачив у з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рно гинучих бідн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9   Гірко плака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чого же Ти плач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на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 храми Твої не бл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ж не Твій віков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страждання Тебе тягот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ж за це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ивлюс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людей, як брат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траждають в гріхах на зем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е згадують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них Я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ають страждання Мо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олюся за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ю куплені 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іть святу жертв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аю ва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ли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ддав за вас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24Z</dcterms:modified>
  <cp:revision>13</cp:revision>
  <dc:subject>Slavic hymnal Гимны веры христиан, Ukrainian hymn 39</dc:subject>
  <dc:title>Гірко плакав Христос</dc:title>
</cp:coreProperties>
</file>