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6D3-DA34-4823-9FEF-80057F56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B58-9485-431C-8440-006ADE23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A42-FA2A-40BF-8CD9-5E0F8798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AB8-EA9D-413D-A9AD-D25E0800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0C3-C099-4F5B-96B4-0FE4027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9E0-018A-460A-8894-21665EB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9D5-D4E3-4165-B1C0-1ECA7C7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F4C-63C2-4953-8EA1-4A754611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753-F2BD-4390-A97A-9642922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E54-DE64-4285-8740-ABD7EE6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618-9C34-41DA-B721-48D4B47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5BC-96DB-41B1-BCB0-BAE47CB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96DD8-77A1-4A2F-8ACD-40738EDF7E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ноги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урь и нен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 мире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изнь их при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но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благод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да проль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ь и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жизн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 всех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ить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освя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аим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у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веры бесц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их соблю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идеть им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ими Т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 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ть их, как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28Z</dcterms:modified>
  <cp:revision>12</cp:revision>
  <dc:subject>Slavic hymnal Гимны веры христиан, hymn 739</dc:subject>
  <dc:title>Дай, Боже, им счастье</dc:title>
</cp:coreProperties>
</file>