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FFC-3824-4C47-9F62-0D565B25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DDE-AFF8-4911-ABF3-8CA67F56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B0C-159E-48A7-82DE-E4130763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DC7-1B7F-41B3-AF7E-31027A4F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DB1-8A69-4E3D-BE22-178E1729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AD1-393C-4B3F-A62C-38BC5D55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51D3-61FE-4AD3-92DE-7ECC6749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9C97-7F72-4816-AC04-694EDD6E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D01-EDCF-4BE5-9279-BEA4B332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F62-2124-4B26-9202-7EDC8ADF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AFD-0DEE-4D7F-AA80-A8D49A3E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7953-F8D7-44B7-BD3E-2834AFBA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16726-C083-4D7D-BA51-F746AE7FA2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work! To the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servants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follow th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ur Master has tr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е к труд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ги Господа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пойдём, что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Сам проло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work! To the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trength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robe and a c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our labour rew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небесны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кончится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арует вен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home of the faith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dwelling shall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shout with the ranso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is fre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 обитель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одвор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и песнь воспо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ристом спасе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on, toiling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hope and tr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abour till the Master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balm of His coun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trength to re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do with our m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our hands find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овета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нас напр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силы и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обно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on, toiling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hope and tr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abour till the Master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work! To the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hungry be f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fountain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weary be 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чущий хлеб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жаждет, к источн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 and its b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glory shall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we herald the ti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is fre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ье кре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ть мы долж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слугой сво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ристом спас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on, toiling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hope and tr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abour till the Master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work! To the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abour for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kingdom of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rror shall f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много тр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мрака и лж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ь должно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love of our 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xalted shall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oud-swelling chor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is fre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Господа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ославить долж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ржеством воспев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ристом спасе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on, toiling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hope and tr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abour till the Master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16Z</dcterms:modified>
  <cp:revision>13</cp:revision>
  <dc:subject>Slavic hymnal Гимны веры христиан, hymn 525</dc:subject>
  <dc:title>To the Work! / Все к труду!</dc:title>
</cp:coreProperties>
</file>