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B34-9068-4850-A58A-C150636A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A97-B684-4144-AC61-01DA1EEA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4A7-A85B-4CF0-95FA-DECFD0D8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492-85B5-4802-B4D2-5C6458E8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B49-1311-4221-9533-3EBF7B85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F71-7A27-4EA8-99FC-0AEA6809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658-046C-4660-BBD0-6C09C5AF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389-4308-4B64-8028-2D2D59AD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908-84C4-4F45-B65B-676B794A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5BC-0972-45FD-8FEB-0465887B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FB6-1FBD-4E88-92E0-A8C8ADE8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371-D00C-43D8-A08D-448A7C78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E4475-C202-48EE-9F5F-AD9AA0C169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ты для Господа сердце откроеш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ты с молитвой падёшь перед Ни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ставишь неверье, наклонности зл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мир этот грешный не будешь люби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есть время, об этом подума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завтра не знаешь ― день будет ли т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открой своё сердце Иису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медли, подумай, сегодня реш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ты для Госп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жизнь без Христа есть не жизн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страдань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борьбе непосильной ты весь изнем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горе и слёзы и все испытанья 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ё видит и знает Один только Б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есть время, об этом подума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завтра не знаешь ― день будет ли т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открой своё сердце Иису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медли, подумай, сегодня реш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бавишься вскоре от всех испытани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от угнетающей душу борьбы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примиришься ты с Господом Бог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ердце омоешь в Христовой кров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есть время, об этом подума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завтра не знаешь ― день будет ли т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открой своё сердце Иису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медли, подумай, сегодня реш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7:07Z</dcterms:modified>
  <cp:revision>13</cp:revision>
  <dc:subject>Slavic hymnal Гимны веры христиан, hymn 411</dc:subject>
  <dc:title>Когда ты для Господа сердце откроешь?</dc:title>
</cp:coreProperties>
</file>