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8</a:t>
            </a:r>
            <a:r>
              <a:rPr b="1" lang="ru-RU" sz="3600" spc="-1" strike="noStrike">
                <a:solidFill>
                  <a:srgbClr val="ffffff"/>
                </a:solidFill>
                <a:latin typeface="Verdana"/>
              </a:rPr>
              <a:t>	</a:t>
            </a:r>
            <a:r>
              <a:rPr b="1" lang="ru-RU" sz="3600" spc="-1" strike="noStrike">
                <a:solidFill>
                  <a:srgbClr val="ffffff"/>
                </a:solidFill>
                <a:latin typeface="Verdana"/>
              </a:rPr>
              <a:t>Глядя на волн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лядя на волны, в раздумьи я сто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ова от сердца сомненья отго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 излился над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к любви Его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омненьи Его встре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ова и снова сильною вол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любовь Христ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ьётся надо 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нова могучий Христа я слышу з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раб, будь вечно свобод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от о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 страха по морю х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лей за Мной во след 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у,» — я тогда сказ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ова и снова сильною вол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любовь Христ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ьётся надо мн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нова и снова раздался голо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есне хвалебной с восторж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мол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Христа превозмог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волна меня не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рах мой пред ней беж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ова и снова сильною вол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любовь Христ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льётся надо мн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1:37Z</dcterms:modified>
  <cp:revision>3</cp:revision>
  <dc:subject>Slavic hymnal Гимны веры христиан, hymn 38</dc:subject>
  <dc:title>Глядя на волны, в раздумьи я стоял</dc:title>
</cp:coreProperties>
</file>