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750-430B-48B6-9C29-7DD6D2B1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553-5019-4CD6-83D5-D816BD0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99D-54C9-4C31-ADF7-39300817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54E-A211-4485-9A54-3A2EF797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BAD-5504-4921-9957-D718D632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EA7-EB7C-4D0B-BAEB-3078CD3B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803-074A-4247-8ADA-949EC4A1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83A-763D-4BE7-AB98-1E9AFE7A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BFD-D380-4618-A5FC-3E70BC8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32A-3D15-46A3-A4CB-6285DCE9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F15-E4DF-4255-9399-92F628F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934-3857-465B-9A43-92F0977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0C08E-2D4B-4CE5-8289-CC2BFA3F67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27Z</dcterms:modified>
  <cp:revision>12</cp:revision>
  <dc:subject>Slavic hymnal Гимны веры христиан, hymn 386</dc:subject>
  <dc:title>Во тьме и грехе погибает народ</dc:title>
</cp:coreProperties>
</file>