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603-0C65-4B42-BA23-085BFB6C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047-330C-483A-95EC-7415AA60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540-343B-47F1-A164-5681D6A7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E38-62B6-463B-959C-3EED934D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87B-EDE3-4FB3-948B-67879351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985-1367-426C-BA2B-BE497151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19B-54E1-49E9-8F93-AB1A705F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B4B-42A5-45B2-AB8B-924EF3D5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02C-30DD-4DB8-9B8E-61298A1A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3E5-D01F-4D7B-B54F-A3DF2FFA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7F3-5674-4201-B676-8E62366A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FCE-1550-4524-9BEA-A5A979B6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32B59-3B25-40B4-AEF6-A73A36922F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26   A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we as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that we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come and change ou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King of k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as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 up, we lift You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 up on 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King of k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as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59Z</dcterms:modified>
  <cp:revision>12</cp:revision>
  <dc:subject>The Source 4, song number 1726</dc:subject>
  <dc:title>Arise</dc:title>
</cp:coreProperties>
</file>