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E00-346D-4294-9924-842EDA88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59D-5826-4EBE-AF23-711C3D3C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4F6-8CBF-4864-ACBD-9D363276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448-6869-4AB2-9D9F-C546A8E8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A26-81E9-4F22-8DB1-BDB9E4D4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6EE-213C-4CA5-A28B-300AE7C6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A41-057A-497C-A20E-5861F9FA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3B9-2B9B-4E71-A600-CFAC300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F1A-68B1-45AF-B192-32570185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65D-C2B9-4B97-A5EC-85ED4EAC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AEC-0893-4840-B07C-218A059A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155-4658-4D72-8110-3D8224E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C7633-16EB-44DB-B28D-D206A86BC1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Иисус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ы достоин ли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мои дни буду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чудеса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мой, прию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пасенья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ой вздох будет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осит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воскликну я Богу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величье и слава Ца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склоняться, моря восшум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Бога возно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песню хвалы я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т пусть все, как Тебя я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, что могло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внить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1:37Z</dcterms:modified>
  <cp:revision>14</cp:revision>
  <dc:subject>The Source, song number 367а in Russian</dc:subject>
  <dc:title>Иисус, мой Спаситель / My Jesus, My Saviour (Shout to the Lord)</dc:title>
</cp:coreProperties>
</file>