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7C9-61A9-41A5-A1E9-6908F7DA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681-DE29-4D43-B32A-2E80809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E39-6D3B-41C9-8266-B1CC23FA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D8B-9602-4E35-8F16-D2448CAE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549-8491-4F4B-BDBB-1214A52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DA2-1401-46CE-9E51-A728E963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6C1-778A-4CCE-BDBC-3997B9DA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772-CF34-4566-9B57-DEEBF1B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3AF-C0C0-4C9B-856A-22CC21A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CC9-2B59-4734-8A9E-9F11FEE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9AD-E9B5-4B7E-87AF-86A1E29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5D4-6AC8-4E8E-A974-ED98224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BBC43-FAA5-4248-A88B-05B9CF2626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2:58Z</dcterms:modified>
  <cp:revision>13</cp:revision>
  <dc:subject>Slavic hymnal Гимны веры христиан, hymn 634</dc:subject>
  <dc:title>Построил на крови Христа</dc:title>
</cp:coreProperties>
</file>