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767-52E4-4769-864B-7C2B534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9E8-D9BB-4CB4-981D-1A59505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2FB-C231-4822-AF65-326358A8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1F7-C2B0-47FD-9041-38027E43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ADD-DC3B-4F78-8EE5-939D93A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7EB-5036-4195-98DA-7D4024E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B95-CE0A-4DCB-9895-77FCF98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7C6-F392-4514-818D-5AFEE06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363-F53F-4762-BAFE-E116E202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529-410A-4D47-AABE-7441FF4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02D-113F-4F7B-A103-D9A75E9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BDC-92D9-481F-B8DB-49FB6F8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B9AF6-FAAA-466B-8FBA-CB430F2F00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Jordan’s stormy banks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st a wishful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naan’s fair and happ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possessions 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ose wide extended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s one eternal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God the Son forever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s n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hilling winds nor pois’nou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ach that healthful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ness and sorrow, pain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felt and feared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I reach that happ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forever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shall see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His bosom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53Z</dcterms:modified>
  <cp:revision>13</cp:revision>
  <dc:subject>Slavic hymnal Гимны веры христиан, hymn 677</dc:subject>
  <dc:title>On Jordan’s Stormy Banks / Стою у Иордана я</dc:title>
</cp:coreProperties>
</file>