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FC03-9150-4F58-A01D-3B45E4D5B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4863-6797-4055-82F7-BFAEAA63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2658-B88D-424D-B5F9-F2552CFFB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8611-DA7A-475E-BDB8-9AADE2A0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32CF-C4F5-40FC-BDD5-79928752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9940-2206-42E6-AD48-7AE75BB8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E3CC-66EE-479C-A888-AD404493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BFE5-8686-4538-BBC9-EA61DDCF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0FF6-5767-41CB-8250-487E7B41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B522-392E-4F86-AB0B-EAF5AB1B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0E4C-F375-44D2-B48F-27F7E4CF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881C-6403-411A-9628-4AA9ECC4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649F9-729A-409C-8C91-61CD646908D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спустися к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ждого затро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ах холодных дивно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ги святой ого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ьно песни мы п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плодно мы вста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нас нет радости в сердц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енья на ус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Дух Святой, спусти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лго будем прозяб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с неба ветер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ой любви в нас не ви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ж — так вел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спустися к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с чувства обно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излей в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ашу — о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19:30Z</dcterms:modified>
  <cp:revision>12</cp:revision>
  <dc:subject>Slavic hymnal Гимны веры христиан, hymn 311</dc:subject>
  <dc:title>О Дух Святой, спустися к нам</dc:title>
</cp:coreProperties>
</file>