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958-CB39-4804-A12F-478F48A9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554-190F-4E6E-896D-2392C3EF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FC3-9F0B-4592-8452-D3592CB9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BFC-57C9-40DB-9664-7A02BD32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DA1-BE3F-4066-B832-1A4952A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245-0D77-43C7-8EC7-099F4771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9C6-AAF7-4D31-AC9F-15ACB1D5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BF2-8570-49DF-8C2A-2971BA9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3DE-2AAA-476E-94CA-D325A394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B42-D14D-4ABF-B96A-A42137E5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473-F903-451A-84F5-83F10423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ACC-17D1-455C-BC40-E9E6699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997C9-1DAA-4529-8B74-4A203618B5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thered as Your fam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You and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ithfulness and mer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1   We’re Here to B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to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elebrate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You for Your bles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reason why we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o glorify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worthy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we offer up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living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accept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38Z</dcterms:modified>
  <cp:revision>12</cp:revision>
  <dc:subject>The Source 3, song number 1591</dc:subject>
  <dc:title>We’re Here to Bless Your Name (We Give You Glory)</dc:title>
</cp:coreProperties>
</file>