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095-68CB-41E3-A0A8-A901F0A7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E2E-2007-40D9-8361-F1DB98A1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9D7-E76E-4BD7-94C0-60C6D0A1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3FE-704D-4FF5-BDB8-7F6FC7BD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E30-9FB8-41D7-B71A-07B03669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2A3-43D8-45FB-97E4-A412A823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06D-4D7B-47C3-B8B4-5FE2B655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F3F-9416-4CD5-AE98-012BAA46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1E0-B4B4-4835-9595-2EFD2E94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960-FA9B-4A92-82C2-9C280AD8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981-39A8-4746-B0FD-5943E574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881-D29D-470E-B162-DBCCE968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A6991-CBA6-4879-996E-5B1DD6BC87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He rolls up His sle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ain’t just putting on the ritz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thunder in His foot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ghtning in His fist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18a   Awesome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ord wasn’t j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He kicked ’em out of E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n’t for no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shed Hi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return is very 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 you better be beli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 from heav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wisdom, pow’r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sky was star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void of the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poke into the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reated the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dgement and wr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oured out on So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us at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ope that we have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 quickly forgo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 from heav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wisdom, pow’r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9:27Z</dcterms:modified>
  <cp:revision>13</cp:revision>
  <dc:subject>The Source, song number 418 (as modified)</dc:subject>
  <dc:title>When He Rolls Up His Sleeves / Our God is an Awesome God (Awesome God)</dc:title>
</cp:coreProperties>
</file>