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838-EA01-42DB-978B-E8145F32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F71-59DC-47E4-B8EB-5940C04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F94-321D-44E8-A6EB-37314362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DF7-2122-47C8-AF2D-CF85D22B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7D8-835D-471C-A065-6E7CA7E3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BD4-0AB9-4215-8086-80F703D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37D-1813-48FA-8EE6-DBC34871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D5E-2D79-4069-90D2-83ACA399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FD8-A724-4C04-9777-B95F83C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55A-6633-4D73-8225-CD5AB639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62D-8ED1-45BB-A2D6-B8EEF72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01D-E5B7-469C-B8CB-1E42164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847FC-2DF3-4D7F-9F24-1CF7135970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4Z</dcterms:modified>
  <cp:revision>13</cp:revision>
  <dc:subject>Slavic hymnal Гимны веры христиан, hymn 708</dc:subject>
  <dc:title>Never Will I Forget / Не оставлю Я вас</dc:title>
</cp:coreProperties>
</file>