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077-FEC3-4DC3-AFB6-A2DCAEB8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F23-4CB9-4C71-8624-FC760092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EB2-470A-45DD-8F68-0B5E31BD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BB7B-07B0-48B0-AB9F-E2EC3923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57B-AD05-469F-96E4-B7A08FA7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E85-865D-4246-B694-803EBF42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5BF9-8B5E-47E1-9E47-587580A1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A6B-9870-4AB6-8478-C6549AD1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37C1-2DA3-4241-B109-655061CA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CCDE-DBF7-40FF-9270-48B1873D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D1E-528C-4AD5-830B-CAFB0057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93F9-9D43-4E11-9E8B-ED09B8C8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DA0B4-CFF2-44D3-8A20-E124562B13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cribe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our God, the Ro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work is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His ways are just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od of faithfulnes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injust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od and upright is He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5   Ascribe Grea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5:45Z</dcterms:modified>
  <cp:revision>10</cp:revision>
  <dc:subject>The Source, song number 25</dc:subject>
  <dc:title>Ascribe Greatness</dc:title>
</cp:coreProperties>
</file>