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9</a:t>
            </a:r>
            <a:r>
              <a:rPr b="1" lang="ru-RU" sz="3600" spc="-1" strike="noStrike">
                <a:solidFill>
                  <a:srgbClr val="ffffff"/>
                </a:solidFill>
                <a:latin typeface="Verdana"/>
              </a:rPr>
              <a:t>	</a:t>
            </a:r>
            <a:r>
              <a:rPr b="1" lang="ru-RU" sz="3600" spc="-1" strike="noStrike">
                <a:solidFill>
                  <a:srgbClr val="ffffff"/>
                </a:solidFill>
                <a:latin typeface="Verdana"/>
              </a:rPr>
              <a:t>Измученный жизнь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змученный жизнью суро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раз я себе нахо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лаголах Предвечного Сл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точник покоя и 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ладко читать эти стр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итая, молиться в ти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лакать, и черпать ур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них для ума и душ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ак дышат святые их зву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ственным чувством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ердца тревожного му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коро смиряют о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всё в чудно сжатой карт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ставлено Духом Свят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ир, существующий 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ог, управляющий и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Сущего в мире знач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чина, и цель, и ко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чного Сына рожд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рест, и терновый ве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ладко читать эти стр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итая, молиться в ти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лакать, и черпать ур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них для ума и душ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5:05Z</dcterms:modified>
  <cp:revision>3</cp:revision>
  <dc:subject>Slavic hymnal Гимны веры христиан, hymn 79</dc:subject>
  <dc:title>Измученный жизнью суровой</dc:title>
</cp:coreProperties>
</file>