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09D3-379E-4747-B3FF-27E5A4BC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9756-5720-4CCB-959B-620D7CAA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929C-F207-4227-AAF8-0251425C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6770-3AA0-48C9-9CB7-B5D61F84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DDE7-E83F-4E3F-87C8-188FB744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27C9-844C-47D7-8DD0-E08E4CE2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6EC8-4CF8-49C3-8F13-61600C07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8E2B-F8D3-45BF-B3A3-1BCB8F11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4BFF-1142-4921-83C0-8CC03F79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9547-3D57-43B9-BDD1-4A518456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B49A-33A0-407A-9A6C-373B0E45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53DA-691F-4512-9890-BAD2DD66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D4BF2-48F9-448A-A112-29F4B94A826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am saved from s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have peace with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 walk with Jesus day by d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His hand so str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lds me all day l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ith Him I will not go ast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 греха я спасё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 греха я спасё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Божий мир водворё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покой мне да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нял с души всякий гн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emptation He will help me st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He will hold me with His might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any passed me b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eding not my c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the Saviour heard and rescued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was lost and bli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 was so ki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, He touched my eyes and now I s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принял то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еизменной люб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— хранитель душ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emptation He will help me st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He will hold me with His might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promise s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t shall end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, I will be with thee all the way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ough foes ass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all still prev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I know He helps me watch and p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как радостно м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со мною вез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Жажду вечно хвал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исусу служ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emptation He will help me st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He will hold me with His might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40Z</dcterms:modified>
  <cp:revision>14</cp:revision>
  <dc:subject>Slavic hymnal Гимны веры христиан, hymn 612</dc:subject>
  <dc:title>His Mighty Hand (I Am Saved From My Sin) / От греха я спасён</dc:title>
</cp:coreProperties>
</file>