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EC4-59CA-4AAF-9D2C-1B468C1D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654-0496-49F9-813E-FD7A4D63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A3C-D745-46EE-8096-F7A3A738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4EB-DA19-47E8-A6A7-3687F4D5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BC3-214F-46B5-ABBE-6C500AD2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739-CCE5-41CC-B858-0AD26F52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491-09E7-4D94-8628-FBF2B5C6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912-F1DA-4D0F-957F-D3F25B72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513-A450-406A-AE39-03F42A42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358-65D5-47AF-A62A-EC0500D7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33BD-2DCC-4D8C-8B84-AD01815A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D5C-EFB5-454D-ADA5-4984DB1E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768AD-B8FC-4DF4-9498-65C8023500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Господь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ведёт в Хана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проведёт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Иорд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айся,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твёрд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ст тебе Бог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ве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ж скоро Господь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ая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м мы ви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х пи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уж разл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уже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х уничт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лог уж путь наш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ратья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восклон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ожий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Он спас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 Сво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овую мёрт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жи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коро уви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лаз не 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им про та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зум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игнем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удрости Бож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мём 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лишь войдёт, 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здесь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а не сты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детеле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жизни, в борьбе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ёкс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чёл всё за сор 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9:45Z</dcterms:modified>
  <cp:revision>13</cp:revision>
  <dc:subject>Slavic hymnal Гимны веры христиан, hymn 678</dc:subject>
  <dc:title>Уж скоро Господь нас введёт в Ханаан</dc:title>
</cp:coreProperties>
</file>