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CF2-0614-48D3-8679-531E1E89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566-DCBF-454F-AAF6-A0819019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BD1-AB71-4067-AB51-E77E7161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9F3-34EE-4E94-95E1-CB87CEBF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B48-0F0B-44B6-A80E-DECFD3C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A60-D436-4408-855F-1A74075A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613-7940-42D4-8198-6420C58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9AD-0AFC-4358-9BA7-2C0D799F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96F-B49F-4E52-8D53-9E7A58A2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A38-3899-4DD3-90AA-D1C3C8F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F26-1F71-4199-AF65-991B7172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708-C0AB-4750-996F-DDC4B99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7E9B3-48F6-4041-A76F-3FDEEE644A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53Z</dcterms:modified>
  <cp:revision>16</cp:revision>
  <dc:subject>Slavic hymnal Гимны веры христиан, Ukrainian hymn 22</dc:subject>
  <dc:title>Зійдім на Голгофу, друзі!</dc:title>
</cp:coreProperties>
</file>