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CBC-A2F0-41EC-A434-2AA848B6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FFF-1DEA-401D-8607-522F8BD9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B37-C389-45F9-8054-6C165F5A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178-B6A4-495E-B62F-ECF3725B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BAA-79A4-4CE1-923B-1A3F905A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370-2EAF-4644-A8C2-3CB0524F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0AA-CC0C-4FF1-8340-C154828F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03D-9B16-47C5-9ADD-85994423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E0C-C26B-4F8A-9800-499B429B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D39-2837-408F-9268-371F7CBC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AF6-77B7-4768-9435-AE7FDFC3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D15-93F1-4C9F-9CED-FB53C1F6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220CE-1B03-4816-8C90-192CB7C867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поток: он могуч и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по равнине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ещет, сияет, как ключ огнев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 тот чудный по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 по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ьё сердце проникнет тот чу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струёю заб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ет забота и тайный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благодати с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токе том слова Господн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от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 драгоценную пролил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тебе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жаждет, придёт пусть и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ьё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ух и Невест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удет в потоке том сердцем ом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Бога во славе уз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ветел источник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кус его сердце жи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ет и силу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ое чистым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7:37Z</dcterms:modified>
  <cp:revision>13</cp:revision>
  <dc:subject>Slavic hymnal Гимны веры христиан, hymn 402</dc:subject>
  <dc:title>Я знаю поток</dc:title>
</cp:coreProperties>
</file>