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17C-D059-48D9-B20F-55B02F2D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84B-E4B3-46D2-818A-F25A23C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620-CF95-49AF-BC35-F0174AD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9DB-E4E3-438C-AB03-E54D82CF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941-8CEF-4932-942E-5F979ACD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1DC-A4A6-4742-B190-59D92D6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F78-901D-4FA8-828E-636B2D8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C7D-4F88-4CDD-BDAF-8510DFA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7DC-42A8-4237-9B93-98D090D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82A-A9F8-43BE-B5A7-C7B1AE1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B99-1D56-43D1-8963-24E0A8F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9DD-8AA8-4A82-BE66-D744AA9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C6A4B-6C1B-4551-A569-7113BF3EA1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е дни наш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жие силы весны мла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святим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р для Него дорогой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нам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земной, необъя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ристу посвятить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учшие дни н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, как Он при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посвященья для нас н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мы больше не мо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дь нам жизнь даровал (даров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днимем ж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менем чудны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горае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енной крови Христа (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о 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йдём на борьбу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по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благой мы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 ним пойдё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постигнут го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ной песней хва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долеем врага (победи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19Z</dcterms:modified>
  <cp:revision>12</cp:revision>
  <dc:subject>Slavic hymnal Гимны веры христиан, hymn 554</dc:subject>
  <dc:title>Лучшие дни нашей жизни</dc:title>
</cp:coreProperties>
</file>