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5206-621B-49D5-A615-9295FF3C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C33-98B3-4997-9503-09025D8E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EB3-2CC9-4DCC-8B52-4945CB8C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9CE9-BB66-412E-AB90-9409482A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788-D347-4DDF-A1D0-F168E5EA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F329-C43A-4CFA-BEB1-358455D5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A850-8BAC-4C59-8DC0-A1281E2B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2FD6-9EA8-4BDA-B03A-42207BF0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0A9C-ADD2-43AA-9D36-B8C5DF19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6B7-2B52-45ED-90DA-0BD4F3BB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B2E9-8D73-4ADB-ACD0-2FDE9B10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C9B8-CFFA-456E-A209-D359CE30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E6FBF-D11E-4F8C-AC2F-048A5553BD4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make Your face to shine 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ft me up, I’m cleansed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mountains fall I’ll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power of Y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Your heart of hearts I’ll d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0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You Make Your Fac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y and strength each day I f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ness, hope, I know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mountains fall I’ll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power of Y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Your heart of hearts I’ll d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9:13Z</dcterms:modified>
  <cp:revision>10</cp:revision>
  <dc:subject>The Source, song number 604</dc:subject>
  <dc:title>You Make Your Face to Shine on Me (And That My Soul Knows Very Well)</dc:title>
</cp:coreProperties>
</file>