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078-BEFD-474E-9DB7-CFFCF07A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439-6F90-470D-AE77-FF9F2772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9CF-F0EA-48BC-B7D8-65E0A63D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F64-69AD-4564-8536-00D38A83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122-CED1-4226-9906-274F8652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400-B288-439E-92FE-E3B58494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7E4-E389-4CD5-8A00-4B094837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C15-F264-40B5-B5D8-A43D7C6E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B77-C298-493A-A476-488FDEC1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11F-21C8-46D5-87A3-101FE2C3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42C-985F-4F4E-8ECF-FF184708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4E2-DBE7-4EA9-9E8D-E410A95C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9ECC8-FADD-4648-86DD-B844CB8F2D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алеко, за ріко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рег вічного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ідем туди з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1   Недалеко, за рі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ікою сонц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овий Є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радісні лун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дивні, незем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же многії свят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ой берег пере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уть хвилини дорогії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кнуть нас, щоб ми 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холодна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далі світ с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Христа ― то Край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з Христом нов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16Z</dcterms:modified>
  <cp:revision>12</cp:revision>
  <dc:subject>Slavic hymnal Гимны веры христиан, Ukrainian hymn 91</dc:subject>
  <dc:title>Недалеко, за рікою</dc:title>
</cp:coreProperties>
</file>