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F1C-3714-4555-AB5F-28D4E136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00B-8BD1-4F42-9ED5-E417CCFC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0C7-D0C5-4B03-9887-DDDB650A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DA2-EB1F-4666-80EB-FFB208E2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5AF-2F9E-4E55-9C43-C5400507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317-089C-4BB9-AD30-31287EB3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4A0-01FC-4A79-8611-A9BE9FA2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32E-11E7-48D9-BA1F-D4D3B1C7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B01-1004-4E18-8314-3BD95C99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595-2642-49D5-AC15-7D491988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EC9-5216-4619-B86C-E22937F3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8E8-02F1-4D83-937F-95E43285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E05F5-8419-4260-A430-EB65F990B3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not dismayed, whate’er be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His wings of love ab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падай духом, не страш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й духом, не страш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в Е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days of toil, when heart doth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angers fierce your path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удов, среди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пасность всюду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ou may need He will prov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you ask will be den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ужды Он предусмот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ший дал тебе у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atter what may be the 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, weary one, upon His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но ль света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припасть к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6Z</dcterms:modified>
  <cp:revision>13</cp:revision>
  <dc:subject>Slavic hymnal Гимны веры христиан, hymn 706</dc:subject>
  <dc:title>God Will Take Care of You / Не падай духом, не страшись</dc:title>
</cp:coreProperties>
</file>