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84A4-39E8-43F1-BD0C-5F9AC1C29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B31-0B47-46AC-884D-ABD0A354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CFF0-37A4-4DA4-9155-135B22B1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5127-BFC2-4E58-89FC-792F13D5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5C0A-0A6A-4305-8709-91A5A3DA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7342-C9C3-4814-8A6D-DDA2142F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4B1B-82A7-44F6-BCCD-00502EFC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8577-E088-4EC4-9027-067EABEC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FFFE-3BD8-41DF-AA86-ADB162BC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C13C-07A2-46F0-B4A3-14D1E286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3309-F9E7-4ABF-A0A7-EDD9B015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0D81-9E36-4CEA-91D3-1604F384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E6FA8-4138-42AD-A9FF-2CC172E0CBD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Son, man’s Messi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hangs on the t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зойдём на Голгоф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сланный Богом Мессия расп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finished! My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mit I to Thee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ied that from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might ever be 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вершилось: Я дух Мой Тебе предаю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Он пожертвовал душу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Jesus Chr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bears sin’s penal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м, как нашей греховности 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ied for mank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ankind not be lo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He buy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what infinite co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даниях горьких Христа истом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о Он нам спасенье куп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Word He proclai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led the sick and the l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d raised to lif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imself now is sl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святой проповедыва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ных исцелял, а теперь Он казн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, how He s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cruel agon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траждет и жаром ланиты горя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ter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soul that belie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cries out, “I thirst!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negar He rece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аждет и уксус Тому под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ьи воды живые для мира тек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give them! They know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y do to 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ости им, не знают, что худо творя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’s haste, you and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ur names may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ose be 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raised up His pray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т. Взойдём же, дабы и за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а Христова к Отцу вознес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voice onc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 to heav’n raises 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снова Он к небу подъемлет С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Father, why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forsaken by The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brother, that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 receive you and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ец Мой! Зачем Ты оставил Меня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рат мой! Чтоб принять тебя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se words of our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be heard by you and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ьца Святого слова там звуч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14:58Z</dcterms:modified>
  <cp:revision>15</cp:revision>
  <dc:subject>Slavic hymnal Гимны веры христиан, hymn 724</dc:subject>
  <dc:title>Come, Let’s Ascend Mount Calvary / Взойдём на Голгофу, мой брат</dc:title>
</cp:coreProperties>
</file>