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B03-6829-40F2-93EB-9057F8A5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741-0C04-4231-A413-B797F197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8DB-32AA-4387-B836-96D6383F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741-91FB-4149-AE2F-D2696BA6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72E-F921-4CF7-8258-273E6605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6A2-DFB1-4255-AF7D-BF18E42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3A0-90C8-4D74-AC64-DA9C713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E94-208B-46EE-9E5C-819BC112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D89-8C2C-459F-991E-D3F37364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928-B86B-44A2-B6E9-27BB2B7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21B-020F-4035-B93D-6DAEDCBE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D21-BF86-4412-9C92-327B0ED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A0A81-581A-4800-ABC2-CCFC8D15C5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 me not, O gentl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at Thy thron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a sweet rel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eling there in deep contr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y unb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only in Thy me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I seek Thy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 my wounded, broken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me by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, the Spring of all my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life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 on earth besid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5:03Z</dcterms:modified>
  <cp:revision>14</cp:revision>
  <dc:subject>Slavic hymnal Гимны веры христиан, Ukrainian hymn 7</dc:subject>
  <dc:title>Pass Me Not, O Gentle Saviour / Не минай мене, мій Спасе</dc:title>
</cp:coreProperties>
</file>