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4171-E8F9-4A9F-A11A-8B747910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77AA-7994-4A71-BF26-2C794B07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FE49-B63F-4179-9513-67147BF8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FE79-2546-4CAB-9D30-778AA5C6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F713-4DF0-4DE9-8BF1-BDD421EB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1159-B414-4B77-B9FC-A5B8B262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58F6-45F1-4D74-B11B-2E50DD69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4B8A-347D-4C5E-9CB3-5E370C21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93A-BFDB-43EE-A757-6C58550E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1739-0266-43F0-8E36-F0B58C24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58A2-5E88-49F5-80A9-35B1AABB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1BC2-39D7-42BB-9C50-D6F527C0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57185-5411-4EE3-9B1A-6D4E73DD59A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источник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роявлял Твою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х моих дел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так очи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касалася гр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земная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вей, Дух Божий, вн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этом мире з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всегда везде г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ть Твоим ог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мерти я не 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десь и там во век ве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прославл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19:36Z</dcterms:modified>
  <cp:revision>12</cp:revision>
  <dc:subject>Slavic hymnal Гимны веры христиан, hymn 312</dc:subject>
  <dc:title>Повей, Дух Божий, вновь</dc:title>
</cp:coreProperties>
</file>