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F29-8070-4B66-B38E-235CDD75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C17-3A56-4BAC-8BF0-2D0539C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4AC-46CE-4823-B3B3-2E36943A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B31-DDA9-46CE-8F7C-8DE39505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E74-1630-4EF5-8E50-12C3ADF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352-A010-4DEF-857C-2643886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721-2624-40AD-8AE6-60632D2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5EE-C3DF-45E0-9293-E8D9810C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39B-2F66-4DAD-A28C-186794F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D46-8638-431F-8058-A1620B0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5E5-BC2D-49A3-A90B-546F65C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F9D-4A63-47E9-96D2-88030E2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70427-E0B9-4F42-9694-DEEABD8604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про Бога зав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 мій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м, словом і ді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 світі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обі все так говори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одий, то весе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коли вже постарі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кайся і мол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3  Пам’ятай про Бога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щасний, ти не зн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у пору ти помр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вже не вста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 більше не бу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побуду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б сосновий вж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емля навік покри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тіло в глиб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уша? Душа заг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агине назавж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о каятися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й друже, вже тод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сі гріхи лиши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у, це пам’ят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и Христа прийн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життя Йому від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о тім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лодих твоїх лі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й Христ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меш з Ни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45Z</dcterms:modified>
  <cp:revision>12</cp:revision>
  <dc:subject>Slavic hymnal Гимны веры христиан, Ukrainian hymn 63</dc:subject>
  <dc:title>Пам’ятай про Бога завжди</dc:title>
</cp:coreProperties>
</file>