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EFB-1340-45ED-9BB9-FD799C93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E25-C0BF-4AE2-A55A-CFDDC48A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033-9C15-4EFF-9161-9AE54AE8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337-E191-4C23-96BE-83BC15D4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8DE-4605-4577-8F4D-FD9343A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014-A7A0-447F-A896-D8772EFE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DCA-CBD4-40AB-97B8-A22B461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63F-777B-4C44-ADE6-64776FF1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4D3-E00C-40DD-9EA1-DDB58FD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ED3-F7C6-487E-BA1F-25CF855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66F-4E3D-4B40-915F-252E1E0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A78-F4B4-4149-84F0-257A325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299A0-BCE7-433E-88ED-A79E415654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00Z</dcterms:modified>
  <cp:revision>14</cp:revision>
  <dc:subject>Slavic hymnal Гимны веры христиан, Ukrainian hymn 4</dc:subject>
  <dc:title>Never Will I Forget / Не покину Я вас, не забуду</dc:title>
</cp:coreProperties>
</file>