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271A-2D15-483C-B419-7DB3407F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5982-E352-4DA9-B011-7362A380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E386-3612-489C-B8BE-2EE1A250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F6E7-C36A-47D8-B639-F0DF464F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A431-41FE-452A-8FC3-A31CB520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C6C4-91A1-4A74-B888-F194E04E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842D-0817-4F00-987B-59299301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B1A6-3253-4B45-B4A5-9A595DC7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1E0D-E4E6-4B43-9BF9-8FFB44D3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20EB-FEBD-41C6-A355-F95E933A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BB34-5CE8-45DA-B72E-E06170F5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5802-97CA-46C5-8035-FDC0B607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8A52E-7936-482F-9955-2B77212EAC2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огу теперь п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 небо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упила в душе тиш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а сомнений у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даётся хва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могу теперь пе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 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со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рюся с гре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усь лютой битвы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 зло побежд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 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хлеб Он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ути береж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ает, Собой ос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ч недугов м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ад сокровищ живы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 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стречу гроз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Иисуса гля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дежда и крепост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живёт в темн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крыт во Христ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 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0:17Z</dcterms:modified>
  <cp:revision>12</cp:revision>
  <dc:subject>Slavic hymnal Гимны веры христиан, hymn 420</dc:subject>
  <dc:title>Я могу теперь петь</dc:title>
</cp:coreProperties>
</file>