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B68-360B-4FFA-9DE6-DE6EC2C4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EF9-7FAF-432D-8B35-380A178A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649-EB0D-4E5D-B4D9-22F5AF3B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B05-4F42-4325-8951-A1891E9E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496-3BB5-4EBA-81B3-84C5129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FDB-947F-4E3C-B310-D73D9E4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F71-5408-49B4-A094-AF3FF73A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33C-11E6-41F3-91E0-0A08393A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B51-F05A-4B90-84B9-FBAA8AA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5FA-ECF4-49F7-8283-FAA4596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9C8-DF30-4DEB-B7E4-520CE03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482-31D1-4239-B93A-284549E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4386-60E9-4DB8-A68E-B2ABFCE5B8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0Z</dcterms:modified>
  <cp:revision>16</cp:revision>
  <dc:subject>Slavic hymnal Гимны веры христиан, hymn 338 (as amended)</dc:subject>
  <dc:title>I Will Arise and Go to Jesus (Come, Ye Sinners, Poor and Needy) / Грешники, к Христу придите</dc:title>
</cp:coreProperties>
</file>