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0</a:t>
            </a:r>
            <a:r>
              <a:rPr b="1" lang="ru-RU" sz="3600" spc="-1" strike="noStrike">
                <a:solidFill>
                  <a:srgbClr val="ffffff"/>
                </a:solidFill>
                <a:latin typeface="Verdana"/>
              </a:rPr>
              <a:t>	</a:t>
            </a:r>
            <a:r>
              <a:rPr b="1" lang="ru-RU" sz="3600" spc="-1" strike="noStrike">
                <a:solidFill>
                  <a:srgbClr val="ffffff"/>
                </a:solidFill>
                <a:latin typeface="Verdana"/>
              </a:rPr>
              <a:t>Рабом я был так много ле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абом я был так много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бом страстей и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годня чудо из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Божи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окий мир живёт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так счастлив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радостью стремлюсь вп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нец там ждёт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Он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Дух Святой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Тебя,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пасенье д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знаю имя моё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ть в книге жизни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нял мои грехи 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древо вознёс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ебо есть моя стр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стремлюс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ий и болезней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ждёт Христос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Он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Дух Святой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Тебя,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пасенье да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чудно будет там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распри, ссоры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 небе, чистом и свя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каждый мир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и там не буд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чный мир ц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ерных Он детей С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еки награди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Он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Дух Святой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Тебя,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пасенье дал.</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49:03Z</dcterms:modified>
  <cp:revision>3</cp:revision>
  <dc:subject>Slavic hymnal Гимны веры христиан, hymn 110</dc:subject>
  <dc:title>Рабом я был так много лет</dc:title>
</cp:coreProperties>
</file>