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71B-6806-4AE8-8656-CB391076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6BD-286E-4A31-9280-A840057B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ACA-FE57-42A0-8D6E-85A32DF1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247-7F0E-4FFD-BD23-B7BDA130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9DF-C382-4195-9392-B159A413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1B1-01EC-4C11-9227-4BA6D639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05B-B37A-4F4D-9BFE-FA029DAF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0AA-0197-4DF2-BEF3-5BA1CC3C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B68-6FF3-4B89-89EE-F3599ACB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C3F-9006-44AB-96DF-5CFD1618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7F9-1DED-4DF9-83DA-B35608D7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BC2-4443-4FF1-8D79-E8F8B159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74DE6-4A5B-4613-B58A-C273CF9E7A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ерусалимских 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л Иисусу детский х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перь детей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т петь хвал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нну, и осан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 Царю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Иерусалимских г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ат н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Его ученью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дить Его пут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наш Господь во вс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нну, и осан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 Царю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матери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йте дружно голо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слась среди жи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«осанны» в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нну, и осан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 Царю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08Z</dcterms:modified>
  <cp:revision>12</cp:revision>
  <dc:subject>Slavic hymnal Гимны веры христиан, hymn 758</dc:subject>
  <dc:title>У Иерусалимских гор</dc:title>
</cp:coreProperties>
</file>