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22A-529B-4462-99EE-044B62B9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3FF-F39C-4A53-9D46-70756E7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EF5-7443-4A95-A0B4-772F289B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C29-2F7F-49D4-B25E-366A10AB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E93-C6B5-4C7F-8A62-68AF222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471-212D-407E-992F-72C61EC2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D3D-445E-44A1-91FC-E40FCC6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95E-C146-4F74-A366-6E7C312B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1A3-38B9-4261-A4E1-9CF8145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E94-B42D-4492-A087-3933099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BFB-D65E-41BB-9ABC-07FE1D1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CDA-CC12-4C3F-B66A-F432CF5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0BEF-136B-45AB-85E8-6B7A989707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! Верь без смущ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орьба дол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ог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разит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вер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!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вихр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жизни без па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пр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жизни помертве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Бог может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35Z</dcterms:modified>
  <cp:revision>12</cp:revision>
  <dc:subject>Slavic hymnal Гимны веры христиан, hymn 638</dc:subject>
  <dc:title>Брат, верь! Верь без смущенья!</dc:title>
</cp:coreProperties>
</file>