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008-FF40-482B-B02E-E6C43F94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959-2DC1-404F-92A9-382A20F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4C5-7DB3-4BB4-9DE7-B9031228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82E-FF1C-4E11-9741-9F2296DB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44E-9AE1-4EF1-8B59-8030441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DBF-FE51-4EC4-BB1C-F11B6E4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E20-8788-48DB-8C33-64593E3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A74-A568-4146-BCEA-040AEA4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F5F-568F-4521-ABB5-E62C69DF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167-3BB2-464B-8155-0B23E65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1CC-8C69-4FF0-A9DC-09DCAFD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488-0146-4964-A72D-4DAB992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E02E-DF13-4A66-98D7-A52DF5B965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rried on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y soul long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s to worship You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ower and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hands, lift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voice towards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sun and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9:01Z</dcterms:modified>
  <cp:revision>11</cp:revision>
  <dc:subject>The Source 2, song number 715</dc:subject>
  <dc:title>Hear These Praises From a Grateful Heart (Love You So Much)</dc:title>
</cp:coreProperties>
</file>