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8186-5A11-4141-BBDC-858A6B5B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E69-5AE0-43B6-BA01-D2A5DCC9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542A-CB6B-4241-A603-7CA2543C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631E-4170-4ACE-8D23-404423F7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2F3-8D44-431A-B5AC-ECB160D2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EBDE-B443-4E7F-B064-B2101441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5C2-5741-4EBE-87CA-D39C84BD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3FD0-2736-489A-B641-0FBBAD45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7CF-36F5-454F-AD2F-44B104DD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DB7-223E-423C-928A-29EB6FFC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5D2-C0AE-42B0-8C04-F9F73761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0E3E-0352-4C32-A4CF-8A73AF80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4AA71-C2CB-43D9-B83C-3656614B84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и рази що денно Даниїл моли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и рази молився й Пророк Іл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ові Даниїла Бог сам хорон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лля як молився дощ з неба полив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9   Три рази що де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2:37Z</dcterms:modified>
  <cp:revision>12</cp:revision>
  <dc:subject>Slavic hymnal Гимны веры христиан, Ukrainian hymn 99</dc:subject>
  <dc:title>Три рази що денно Даниїл молився</dc:title>
</cp:coreProperties>
</file>