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7C8-E8AA-4483-8523-513CD639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E75-CF66-471D-898A-8ADBD716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FE3-33D0-44AB-A144-1020DD6C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012-FF7F-4E48-9227-D010F51C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D2B-5ADC-4346-A7A9-BF757B8B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B39-EB73-4332-BF20-CC101B1E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8E5-700E-4812-AC37-3CBFBC0D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C67-7AA9-48B2-82D5-872C2AD2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27C-5EED-4545-9CA7-73E1C366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5F7-D19C-43F2-B07C-9F4EE11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06E-4D38-4188-ABF1-6A0338D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058-BEA1-410C-9DDA-BB764CE8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4C96C-455E-4CFF-B262-16AD516DDA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salvation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death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uls of people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gladly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Евангельскую в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вангельскую в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пост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Его прим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, вперёд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ly, on the battle r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grows dim—the end seems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attle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keep Thy banner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рок бой и страшно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еблются м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те выш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of cold in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from Thee turn a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to reveal the diffe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 Thee, what e’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и равнодуш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пренебреж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им единод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го святой зак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ortress Faith,” as Zion’s dau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, Jesus, to prot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give our foes no quar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orldly lures re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веры, дщерь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ружно защи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ружьем Геде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ью силу отр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in our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aithful to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bound’ries of Thy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pow’r we may ex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правды, тру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мело совер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атры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 мире расши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4Z</dcterms:modified>
  <cp:revision>13</cp:revision>
  <dc:subject>Slavic hymnal Гимны веры христиан, hymn 490</dc:subject>
  <dc:title>Tidings of Salvation Bringing / За Евангельскую веру</dc:title>
</cp:coreProperties>
</file>