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C94-05AB-4056-ADA2-4E1F3473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FF8-2489-47FC-BB97-04F1FA7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156-62F9-4EDA-99F7-565E92CB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93F-AB46-46D4-B323-A3D91C67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0F3-9EE5-4C94-8AE8-EF7210DB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541-E249-4C10-8903-B40138DC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497-AA9D-4968-8548-F8C565F9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139-B747-4711-BC00-8AFDCC0A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A60-0B66-4D67-97AE-0E20B734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930-1D56-451C-86F1-F7F245A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866-B798-45B3-AD85-F645A7DE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6F0-1CDC-4A6A-A287-1182DE4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A78A8-8B57-4A08-A798-A1543BBF46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ur God is an Awesome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00Z</dcterms:modified>
  <cp:revision>11</cp:revision>
  <dc:subject>The Source, song number 418</dc:subject>
  <dc:title>Our God is an Awesome God (Awesome God)</dc:title>
</cp:coreProperties>
</file>