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08F-4997-422B-969D-E987E14B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320-765D-4AA4-AB97-55968248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FD4-8FE4-4F14-9059-C8C35A2D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7A8-2AEE-4667-8D86-FE6DF07B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832-3650-4D7C-8F20-7F100BD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3A7-E39E-44F5-859D-75D3E5C2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627-2AFA-46D8-9133-51293E27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A74-929F-4443-B081-99C1BFD7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F55-D70C-46C9-935F-A678FF3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044-277A-4930-9C58-CBC7722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77C-4614-48B1-8893-9F5E6C97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B95-E86B-41C2-BCC4-88594AD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713D2-1D22-4089-9866-9513B9A751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camped along the hil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hristian soldier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ss the battle ere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veil the glowing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s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raiment shall b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angels he sh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confessed in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ward from the hill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with love afl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vanquish all the host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’ conqu’ring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the foe in vale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our strength b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,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anner over us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word the Wor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ad the road the saint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houts of triumph t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they like a whirlwind’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pt on o’er ev’ry fie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ith by which they conquer’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till our shining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ery hand the foe we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up in dread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ents of ease be left beh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ward to the f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’s helmet on each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ruth all girt ab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tremble ’neath our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cho with our s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9Z</dcterms:modified>
  <cp:revision>13</cp:revision>
  <dc:subject>Slavic hymnal Гимны веры христиан, hymn 552</dc:subject>
  <dc:title>Faith Is the Victory / Во свете жизни будь готов</dc:title>
</cp:coreProperties>
</file>