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CD44E-B311-4749-9DE4-86D5588F3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76CFC-95B1-47D8-94CE-B9E5A96AA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4F0AD-AC3C-4D78-8BA8-C0F60C234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7A0F8-53A9-4CFC-8BD4-91DA249EF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D4F22-2B6C-477D-8D5F-A8C39FD27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DF7F0-E5DB-444C-A384-15A0327BA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7E378-BC3E-43CF-B6A4-80089AFBE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5763B-C51A-4176-9063-AB2895F44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4CD2E-F6D6-403A-B6C4-1E3300485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D47BE-0AFD-49FA-A344-16007BB3C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F7D2C-68DA-48C8-A79F-5C1338964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E0CB6-5B99-4DE7-B37D-D109EF908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5AFF6D-42C6-4AB7-9B72-66E132CA090A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том возрадуйтесь, друзья Христов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Иисус Своими нас назв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ос воскрес, и смертные оков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оею смертью ваши Он порв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ая честь и царственное звань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м во Христе на небе суждено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кровь Его, за смерть и за страдань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нас оно Христом обретен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45720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296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О том возрадуйтес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28600" y="914400"/>
            <a:ext cx="100584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ть нам о чём в виду врагов хвалитьс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дним Христом — ничем, ничем свои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радость в Нём здесь на земле продлит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редь бурь, средь волн, чтоб веч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иться с Ни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йдите, все земные наслаждень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сёте вы тщеславье лишь с соб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я душа познала утолень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руках Христа; вам части нет со мн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может быть с той радостью сравним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нас вручил Спасителю Отец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руках Его могучих мы храним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астырь знает нас — Своих овец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6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ез воли Бога не падёт на земл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диный волос с нашей голов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 рук Отца небесного приемл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все дары Его ко мне любв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7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дь Бог за нас, кто против на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сстанет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бойся, стадо малое, ид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бе Отец дать царство обеща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о Христом врагов ты побед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8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т облака свидетелей пред н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с ожидают встретить со Христо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нас украсит славными венцам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ш Иисус, — во след за Ним пойд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9T23:06:33Z</dcterms:modified>
  <cp:revision>12</cp:revision>
  <dc:subject>Slavic hymnal Гимны веры христиан, hymn 296</dc:subject>
  <dc:title>О том возрадуйтесь, друзья Христовы</dc:title>
</cp:coreProperties>
</file>