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8D51-712D-45B2-BD6B-E55F0EFC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6621-1670-4224-AA20-58886D7E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DC13-38B1-4765-B822-E0D59C81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28D9-DE77-4F7D-8DFC-98FD7EB7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8DE7-AF86-4021-A82F-CE46429D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BDD7-9C37-4496-B7D7-1E1A3A33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822B-7466-481B-8F18-C9A079D0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1E08-79B0-4C82-8807-F897288F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4D3F-531E-4408-8EC2-871FBFA9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A366-C91B-4E4A-BF47-646EBB7C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809-E98E-4301-8CC7-6C00C42A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6B29-551E-4C53-8B26-BFBBBFC6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7926D-1E3D-468C-AFFB-21E1B9AEF76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повнить твоє серце до розли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ільки до Нього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оє серце відчи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повнить твоє серце до розли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ятим Духом і вог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3   Він наповнить тво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5:40Z</dcterms:modified>
  <cp:revision>13</cp:revision>
  <dc:subject>Slavic hymnal Гимны веры христиан, Ukrainian hymn 113</dc:subject>
  <dc:title>Він наповнить твоє серце до розливу</dc:title>
</cp:coreProperties>
</file>