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5E03-54F6-4B30-9D8A-0307D3E9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664-DD03-4359-A798-A5095C67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B24E-B545-4A03-BD32-4FD1B471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5804-DF80-4D87-8176-5791AACB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221-76A1-4919-A369-1E790C60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298-BA3D-4F3E-A6A2-A32514B9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E607-05E1-45D2-839D-436DF84E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EC5-4F64-4F21-8CCD-755561C9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4BF1-A8AB-4DA8-98AA-7B366B42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7CB-F512-48C3-B012-3B79B76E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702-8EEA-40EA-9A9B-3F20DB70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FDF-48CD-4D30-A169-67327814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6E467-35ED-4A2C-B4A3-8897704B20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, Творца святых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те все сердечным пень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с радостным хвалень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восторг —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уди весельем сердце б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юду песнь теперь нес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а, Творца свят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вселенной до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из уст народа ль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ь восторженно по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, Спаситель, Божий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и слава, и хва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, честь и поклон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еки вечные!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19:19Z</dcterms:modified>
  <cp:revision>12</cp:revision>
  <dc:subject>Slavic hymnal Гимны веры христиан, hymn 298</dc:subject>
  <dc:title>Христа, Творца святых чудес</dc:title>
</cp:coreProperties>
</file>