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64E-5721-48B2-AD89-7C536543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FE0-0A7A-40F5-BB4B-0D7F0FCE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0E4-7E31-440C-9026-AEB05668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C03-316F-44C4-936F-7BF77090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F71-8723-4EA3-83D5-88B9A34E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049-E203-4D54-A57B-33C31883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2A1-7EA0-4377-B6BD-5801DB90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A98-72D1-4DC6-AF09-4B586E4E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148-3A8D-48FB-839D-D4B13761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EB3-2F73-4468-827C-CF8D06F5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5E7-299F-408C-BD3D-31736F57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D99-48BA-438B-84E4-D8771A66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09B7F-ED2C-439C-B08F-D7E79423D8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м дарует жизнь в пол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славляйте Его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Иисуса воспойте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открыл Он для всех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ы пойте 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возвещайте вы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бедила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ом будьте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иден миру издал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открыл Он для всех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ы пойте 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о Нём,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спасеньи для все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исполнил завет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овершил Он в любв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открыл Он для всех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ы пойте 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6:18Z</dcterms:modified>
  <cp:revision>12</cp:revision>
  <dc:subject>Slavic hymnal Гимны веры христиан, hymn 559</dc:subject>
  <dc:title>О, возвещайте вы о Христе</dc:title>
</cp:coreProperties>
</file>