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8</a:t>
            </a:r>
            <a:r>
              <a:rPr b="1" lang="ru-RU" sz="3600" spc="-1" strike="noStrike">
                <a:solidFill>
                  <a:srgbClr val="ffffff"/>
                </a:solidFill>
                <a:latin typeface="Verdana"/>
              </a:rPr>
              <a:t>	</a:t>
            </a:r>
            <a:r>
              <a:rPr b="1" lang="ru-RU" sz="3600" spc="-1" strike="noStrike">
                <a:solidFill>
                  <a:srgbClr val="ffffff"/>
                </a:solidFill>
                <a:latin typeface="Verdana"/>
              </a:rPr>
              <a:t>«Взывай ко Мне!»</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зывай ко Мн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вот Божье приглаш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ывай ко Мне среди трев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у тебя, и ты воздашь хва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Я — твой Бог! Ведь Я — тв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у тебя, и ты воздашь хва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Я — твой Бог! Ведь Я — твой Бог!»</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зывай к Нему, когда несутся ту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ураган сгущает ть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рех грозит надеждам жизни лучш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ывай к Нему! Взывай к Н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рех грозит надеждам жизни лучш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ывай к Нему! Взывай к Н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зывай к Нему при вражьем искуш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воём дому, в твоём до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е страдать ни в страх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ни в сомнень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ывай к Нему! Взывай к Н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е страдать ни в страх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ни в сомнень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ывай к Нему! Взывай к Нем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зывай к Нему! Не встретишь укориз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любви, Его у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годно дать тебе наследье в жиз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ывай к Нему! Взывай к Н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годно дать тебе наследье в жиз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ывай к Нему! Взывай к Нему!</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Но жить не должен ты без прослав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Его! Любви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на земле яви благодарень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ь Его! Прославь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на земле яви благодарень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ь Его! Прославь Его!</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Для грешных от греха освобождень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у Него, лишь у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лишь Он дать может </a:t>
            </a:r>
            <a:r>
              <a:rPr b="0" lang="ru-RU" sz="3200" spc="-1" strike="noStrike">
                <a:solidFill>
                  <a:srgbClr val="ffffff"/>
                </a:solidFill>
                <a:latin typeface="Verdana"/>
              </a:rPr>
              <a:t>	</a:t>
            </a:r>
            <a:r>
              <a:rPr b="0" lang="ru-RU" sz="3200" spc="-1" strike="noStrike">
                <a:solidFill>
                  <a:srgbClr val="ffffff"/>
                </a:solidFill>
                <a:latin typeface="Verdana"/>
              </a:rPr>
              <a:t>обновлень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ь Его! Прославь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лишь Он дать может обновлень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ь Его! Прославь Его!</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8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Лишь пожелай, ведь Он готов откры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тям Своим, детям С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 Нём дарами можешь</a:t>
            </a:r>
            <a:r>
              <a:rPr b="0" lang="ru-RU" sz="3200" spc="-1" strike="noStrike">
                <a:solidFill>
                  <a:srgbClr val="ffffff"/>
                </a:solidFill>
                <a:latin typeface="Verdana"/>
              </a:rPr>
              <a:t>	</a:t>
            </a:r>
            <a:r>
              <a:rPr b="0" lang="ru-RU" sz="3200" spc="-1" strike="noStrike">
                <a:solidFill>
                  <a:srgbClr val="ffffff"/>
                </a:solidFill>
                <a:latin typeface="Verdana"/>
              </a:rPr>
              <a:t> насладитьс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лонись пред Ним! Склонись пред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 Нём дарами можешь насладитьс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лонись пред Ним! Склонись пред Ним!</a:t>
            </a:r>
            <a:endParaRPr b="0" lang="en-US" sz="3200" spc="-1" strike="noStrike">
              <a:solidFill>
                <a:srgbClr val="000000"/>
              </a:solidFill>
              <a:latin typeface="Verdana"/>
            </a:endParaRPr>
          </a:p>
        </p:txBody>
      </p:sp>
      <p:sp>
        <p:nvSpPr>
          <p:cNvPr id="46"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5:53Z</dcterms:modified>
  <cp:revision>3</cp:revision>
  <dc:subject>Slavic hymnal Гимны веры христиан, hymn 148</dc:subject>
  <dc:title>«Взывай ко Мне!»</dc:title>
</cp:coreProperties>
</file>