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6CECB-BB21-4CC3-BD85-21677BA19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417DC-EB4E-446B-B2EE-3D532E04B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956C1-B99C-4FFD-BCEA-1320B828C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29035-3909-4E84-8726-726158188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E30DD-D818-4C02-BA36-006ABD379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923DD-3472-44DE-B291-712136369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AE98F-B646-4784-B028-4983B08A9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FFF91-47B5-4943-B12B-CCAD43E15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D0EA4-0FB2-432D-ADB2-FE6B1C246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A97F5-2072-4B85-A272-D085ED59A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83653-FE2C-424E-A36A-E2C75037D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89605-A22A-47C2-B6DF-B86E1EB8B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A12F54-2742-4253-A9CB-98DDC36D9948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 still, for the presence of the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Holy One is he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ome, bow before Him no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th reverence and fe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Him no sin is fou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 stand on holy grou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 still, for the presence of the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Holy One is he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47   Be Still, For the Presence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 still, for the glory of the L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s shining all aroun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 burns with holy fi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th splendour He is crown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w awesome is the sigh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ur radiant King of ligh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 still, for the glory of the L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s shining all arou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 still, for the power of the L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s moving in this plac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 comes to cleanse and hea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minister His gr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No work too hard for Hi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faith receive from H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 still, for the power of the L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s moving in this pl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1-02-07T06:15:58Z</dcterms:modified>
  <cp:revision>10</cp:revision>
  <dc:subject>The Source, song number 47</dc:subject>
  <dc:title>Be Still, For the Presence of the Lord</dc:title>
</cp:coreProperties>
</file>