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7C6-EC8F-44DA-9542-7E3369AD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C9F-999B-4AE1-9DA6-CF62842E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922-DFA8-48A9-97B7-5128EE3A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5E4-8F11-40E9-987E-A74579D0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250-FEF3-41AD-ABD3-8EDD2A25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C22-0F99-462B-9299-5F854E3A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EA7-8B48-49D7-97FD-FA2054EB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3AA-3225-4DDF-B2D3-C9FC45DD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22F-31C7-4D32-8690-80FD4639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B3B-7EAE-42BA-A089-BD741FF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7D5-F540-4C75-BEB6-2CBA4D08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240-7622-41DA-B412-1FE96B62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CDB5D-98E0-445B-BCA2-AEBBF2CE82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ing for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крепляйся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апостола так учит 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thy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battling for the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thou s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more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оды ли по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ламя попа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тит Он, чтоб верный у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all lead you safely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hickest of the f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conquer in th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ствий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аркой битве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 имя — нам победы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urning from the 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f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я битвы не пытайся убе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surely by you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battle for the r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er of His m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всюду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жет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егда мы будем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promises shall ne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f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крепче вечных 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6Z</dcterms:modified>
  <cp:revision>13</cp:revision>
  <dc:subject>Slavic hymnal Гимны веры христиан, hymn 501</dc:subject>
  <dc:title>Be Ye Strong in the Lord / Укрепляйся Христом</dc:title>
</cp:coreProperties>
</file>