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7</a:t>
            </a:r>
            <a:r>
              <a:rPr b="1" lang="ru-RU" sz="3600" spc="-1" strike="noStrike">
                <a:solidFill>
                  <a:srgbClr val="ffffff"/>
                </a:solidFill>
                <a:latin typeface="Verdana"/>
              </a:rPr>
              <a:t>	</a:t>
            </a:r>
            <a:r>
              <a:rPr b="1" lang="ru-RU" sz="3600" spc="-1" strike="noStrike">
                <a:solidFill>
                  <a:srgbClr val="ffffff"/>
                </a:solidFill>
                <a:latin typeface="Verdana"/>
              </a:rPr>
              <a:t>Дай, Боже, сердцу</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й, Боже, сердцу веры кры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ознестись т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нет неправды, нет наси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мир царит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о святых ожидает нас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лаженства,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емится в торжественный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го Бога небе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Здесь на земле они страд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ыне терпим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пути ослабев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житейской ть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о святых ожидает нас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лаженства,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емится в торжественный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го Бога небе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о чем они, какою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звергли цепи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а Христа их дух креп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обеде их в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о святых ожидает нас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лаженства,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емится в торжественный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го Бога небес.</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6:12Z</dcterms:modified>
  <cp:revision>3</cp:revision>
  <dc:subject>Slavic hymnal Гимны веры христиан, hymn 157</dc:subject>
  <dc:title>Дай, Боже, сердцу веры крылья</dc:title>
</cp:coreProperties>
</file>