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ACC-36BB-4ECE-870C-060A2D92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7CC-7533-4583-9FC1-1E035997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CE1-044C-4989-A568-C9E633FF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90D-2892-4F15-BF0D-76CEA851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B2E-EFEC-48C9-8CD5-7323B73E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875-A3E6-44C2-B21F-77AB7C12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592-85FE-4EE0-846B-FE986CBD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BB5-4291-4FD6-A6AE-48997F47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2DE-3A46-4235-B94E-43D975E1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158-752F-4955-9357-6A55CE2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B9A-3889-4FEA-8881-D94AFDAF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C35-B961-43BB-A68E-72254FE7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42DB9-2EB5-482A-81D6-9709857236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ilent midnight wat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ing at your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s the Saviour, pleading, knoc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as oft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! слушай ухом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! слушай ухом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звучит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, любящий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ould enter with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 oppressed by s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now the door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m enter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емной стучит прохож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зовёт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, Агнец Бож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will come some day, relent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every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heedlessly ign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his entry b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елье сердца сокр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греха ц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йдёт Он и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в ней заблест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its in mercy plea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door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, not death, the cruel rea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turn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чь любви Его по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ток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стук тот разда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 hear the Saviour knoc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at your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ceive Him, let Him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soul rest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и же сердца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танет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ный пир веч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 твор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when breaks the golden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, eternal,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open Heaven’s por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eive you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слушай голос ди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н главу скло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олкнет звук призыв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ть пройдёт; тогда, ры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 склон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в дверь стучать ты 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ывать тогда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шь ты несчаст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ойди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54Z</dcterms:modified>
  <cp:revision>13</cp:revision>
  <dc:subject>Slavic hymnal Гимны веры христиан, hymn 337</dc:subject>
  <dc:title>In the Silent Midnight Watches / Грешник! слушай ухом веры</dc:title>
</cp:coreProperties>
</file>