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445-600C-4381-9002-9D31EC2B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D3C-DB5A-42A8-8C84-1166184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FA0-D519-4EF1-9257-4FA99817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477-F6CB-44CC-82AB-526A5314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56F-B81B-4C02-83C6-C681EEB5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3A1-A62D-4B7C-B593-3884A3BB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AC0-3800-4842-9770-FFA88945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162-11EC-4C06-8984-3D3625AB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8B1-8A45-4305-8607-58F08C66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376-B324-4406-9D4A-F67AF8D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F45-7787-4629-8BD9-356634B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F34-C079-493B-A410-A069A1D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15C96-886C-4AF4-9C56-56A2E6225D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ovelier spot in the d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lace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on a clear Sabbath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’n to the clear ringing b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tones so sweetly ar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close by the church in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one that I loved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leeps, sweetly sleeps, ’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urb not her rest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lose by the side of that lov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trees where the wild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farewell hymn will be ch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st by her side in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y fades away into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fain from this spot of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h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my way to the mansion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28Z</dcterms:modified>
  <cp:revision>12</cp:revision>
  <dc:subject>Slavic hymnal Гимны веры христиан, Ukrainian hymn 46</dc:subject>
  <dc:title>Little Brown Church in the Vale / Дізнавсь я про Церкву живую</dc:title>
</cp:coreProperties>
</file>