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8AE-262A-4E55-B835-6EB1F6F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7E5-265C-42DB-ACC6-35A7CD9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346-18DF-46EF-ABC3-0FE69170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070-979C-42EF-9F73-EAD8FCC6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997-FB0F-4DE0-84EC-BE8C6A8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A6F-BE18-40EC-93FA-2D028F0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C94-582F-43F8-BE39-3814ACEF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794-D665-4C60-90CF-A1A152A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2C6-3DE5-490D-8C07-F5C7BE39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EEA-1FC4-4DB3-9693-138DA5E2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4D2-0593-443E-AFA2-8E7B4C4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305-8809-4BBC-A4FB-84E9ADE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4CDAC-A6F9-4171-B483-247DB80800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— орудье ка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без боя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хот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и я в терп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 — орудье ка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идя смир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естом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л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лаз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же крест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облег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греха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усла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иго бла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отв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крестом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ремя,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мне лег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не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09Z</dcterms:modified>
  <cp:revision>12</cp:revision>
  <dc:subject>Slavic hymnal Гимны веры христиан, hymn 493</dc:subject>
  <dc:title>Крест — орудье казни</dc:title>
</cp:coreProperties>
</file>