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938-06BA-4FA7-AF8B-1BBA6A25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B5D-EA5A-48F8-B455-EE104AFD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40F-2BEF-4A8E-8FB8-02D7CE0D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ED2-8BF3-4514-A44C-E1A03F1E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D6E-628E-4C06-8465-D9529F24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12E-0DAB-41E8-B369-FC227314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1BA-2246-4D38-A393-D0EA7D5C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E74-44EF-4897-9586-82B2140D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D79-2437-47C5-B885-56C597F1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8F4-7D8F-478D-9DD9-D4DEEECD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04D-CC19-483F-BC6B-742BCFFB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1C6-DEEA-4A1A-90F8-508C24F8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0EEC2-9F87-4E58-AFAA-F627949007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ый, Незр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знаю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и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не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енный, С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авим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ссмертный, Незр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посто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ихий, как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ит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ходит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ивная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ага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ённых и ве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цвет, наша с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епел и тл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янем и сох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без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вечно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ый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сл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нас, Предв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нам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свете ходи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ва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7:46Z</dcterms:modified>
  <cp:revision>12</cp:revision>
  <dc:subject>Slavic hymnal Гимны веры христиан, hymn 878</dc:subject>
  <dc:title>Бессмертный, Незримый</dc:title>
</cp:coreProperties>
</file>