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7E6-003B-4CF5-8106-B5814FF3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E5E-E7C0-45F6-9B2C-16B9D13D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E0E-DEA4-45B1-AA2F-C6CFE21C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D22-F85C-4FBE-9587-0FDA1937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A5C-E25C-4DD7-A177-73B35E48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79D-4EFC-461F-91DD-AB89AB5F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D49-EC7F-4FEF-B553-45D3E6E3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492-1F0A-4BF0-9659-6B7CC410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B26-FAF1-4147-9C56-2AD1B668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589-6E82-410C-BAD5-D8C2708B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7E3-A360-46C9-93A9-CE887BA5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15A-132A-4386-809E-C907A68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2B933-89AA-4B9C-92B3-90B9A16192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арянка не гад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Христос її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она з Ним розмовля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ти Він прох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Він їй відкр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она колись 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серце те вр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сказать піш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4   Самарянка не гад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аїні, де схил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льми й мирт вночі дрім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е йшли і диву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х Спаситель 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арянка розпов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Чоловік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прийшов то не Ме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му Божий сві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пер вода ж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лється для усі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таланним Бог втир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і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грішників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дкрив всім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, Він тебе шу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іння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1:25Z</dcterms:modified>
  <cp:revision>12</cp:revision>
  <dc:subject>Slavic hymnal Гимны веры христиан, Ukrainian hymn 94</dc:subject>
  <dc:title>Самарянка не гадала</dc:title>
</cp:coreProperties>
</file>