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32</a:t>
            </a:r>
            <a:r>
              <a:rPr b="1" lang="ru-RU" sz="3600" spc="-1" strike="noStrike">
                <a:solidFill>
                  <a:srgbClr val="ffffff"/>
                </a:solidFill>
                <a:latin typeface="Verdana"/>
              </a:rPr>
              <a:t>	</a:t>
            </a:r>
            <a:r>
              <a:rPr b="1" lang="ru-RU" sz="3600" spc="-1" strike="noStrike">
                <a:solidFill>
                  <a:srgbClr val="ffffff"/>
                </a:solidFill>
                <a:latin typeface="Verdana"/>
              </a:rPr>
              <a:t>О Господь, благодарим</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 Господь, благодар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Своё Ты дал нам слов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угам немощным Тво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илу дай в борьбе суро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а нам пошли без мер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крепи в служеньи веры!</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Ты нас в Слове науч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ть в отрадной скорбной дол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же нам небесных с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тремленье к Твоей вол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к стремленью исполн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воё благословенье.</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ри отходе нас в дом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гради благословень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вства сердца, мысль ум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дохнови Твоим смирень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нам словом и дела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ть Твоими лишь рабами!</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10:06:01Z</dcterms:modified>
  <cp:revision>3</cp:revision>
  <dc:subject>Slavic hymnal Гимны веры христиан, hymn 132</dc:subject>
  <dc:title>О Господь, благодарим</dc:title>
</cp:coreProperties>
</file>