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9</a:t>
            </a:r>
            <a:r>
              <a:rPr b="1" lang="ru-RU" sz="3600" spc="-1" strike="noStrike">
                <a:solidFill>
                  <a:srgbClr val="ffffff"/>
                </a:solidFill>
                <a:latin typeface="Verdana"/>
              </a:rPr>
              <a:t>	</a:t>
            </a:r>
            <a:r>
              <a:rPr b="1" lang="ru-RU" sz="3600" spc="-1" strike="noStrike">
                <a:solidFill>
                  <a:srgbClr val="ffffff"/>
                </a:solidFill>
                <a:latin typeface="Verdana"/>
              </a:rPr>
              <a:t>О Иегова, через волн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Иегова, через вол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пустыни нас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ы мы, но силы пол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рижми к С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анной с неба, манной с не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ых нас, Господь пита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открой Свои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скалы святых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лб Твой огненный, высок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хранит нас от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о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для наших душ щито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ы стоим у Иорд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ожи чрез реку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 равнинах Хана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народ мог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и славы, песни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утся там Теб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4:10Z</dcterms:modified>
  <cp:revision>3</cp:revision>
  <dc:subject>Slavic hymnal Гимны веры христиан, hymn 179</dc:subject>
  <dc:title>О Иегова, через волны</dc:title>
</cp:coreProperties>
</file>