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7</a:t>
            </a:r>
            <a:r>
              <a:rPr b="1" lang="ru-RU" sz="3600" spc="-1" strike="noStrike">
                <a:solidFill>
                  <a:srgbClr val="ffffff"/>
                </a:solidFill>
                <a:latin typeface="Verdana"/>
              </a:rPr>
              <a:t>	</a:t>
            </a:r>
            <a:r>
              <a:rPr b="1" lang="ru-RU" sz="3600" spc="-1" strike="noStrike">
                <a:solidFill>
                  <a:srgbClr val="ffffff"/>
                </a:solidFill>
                <a:latin typeface="Verdana"/>
              </a:rPr>
              <a:t>Иисус — Друг наш</a:t>
            </a:r>
            <a:endParaRPr b="0" lang="en-US" sz="3600" spc="-1" strike="noStrike">
              <a:solidFill>
                <a:srgbClr val="000000"/>
              </a:solidFill>
              <a:latin typeface="Verdana"/>
            </a:endParaRPr>
          </a:p>
        </p:txBody>
      </p:sp>
      <p:sp>
        <p:nvSpPr>
          <p:cNvPr id="39"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яготят ли нас заботы 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а раны исц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у, бодрость Он вс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ет нашей Он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ддержит нас в бе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Иисусе нашёл я Дру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и радость Он душе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пираясь на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боюсь я нич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ет нашей Он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ддержит нас в бе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охожу ли чрез воды скорб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лны страшные шумят кругом,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х мне душу не тес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Господь меня хра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ет нашей Он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ддержит нас в бе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когда мы все соберём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ветлой родине на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осхвалим мы т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я чудное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ет нашей Он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ддержит нас в бе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42:35Z</dcterms:modified>
  <cp:revision>3</cp:revision>
  <dc:subject>Slavic hymnal Гимны веры христиан, hymn 47</dc:subject>
  <dc:title>Иисус — Друг наш самый лучший!</dc:title>
</cp:coreProperties>
</file>