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5CD-EEE4-4525-BBC4-48F9283E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CF0-83C8-4186-BB58-FDCBC094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FDA-1596-4874-BBA3-0BD51502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C6B-117F-4CD1-9EEC-2F376A4F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C1A-B9A0-4DC3-8B53-CA071C9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E07-3871-4198-9DC2-4B58B559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CCF-84B7-4DD7-980F-9B59D2A9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FAC-9D1C-48B3-982A-889D20CE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AA4-09AF-4857-B0AB-D7C3F31B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85F-BF74-4881-AE09-0B41F99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3CA-26CC-462E-983B-CE713D8B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C74-F696-4191-8021-23131CF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0C077-9AF4-442D-AD15-61755A0D16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ушай, о грешник, последнее в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сёт Иисуса последний призы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овёт Он сложить твоё грешное б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 подножью Голгофы, и будешь ты жи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ушай, о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стало несёшь ты нелёгкое б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рочных привычек, греховных страст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вдаль убегает всё лучшее врем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ишая надежды и радости вс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чем ты томишься в страданьи напрас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чину нося постоянно в себ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, что твоё состоянье опас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, что ты гибель готовишь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51Z</dcterms:modified>
  <cp:revision>13</cp:revision>
  <dc:subject>Slavic hymnal Гимны веры христиан, hymn 410</dc:subject>
  <dc:title>Послушай, о грешник</dc:title>
</cp:coreProperties>
</file>