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A35-B7DA-403E-BB7A-992289B9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82A-A4F8-4BB6-8A1E-0A5BF4EB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0C2-A5D5-4294-9B75-DD874E41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ACD-71F1-4CA7-AC1B-8D32A01F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F43-A4FB-43D4-9EAE-29A679C4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185-1333-4F14-92A4-6C43B009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685-D949-4AC6-B49F-DE1CFC4A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47A-2819-4ABA-BE12-E999C63F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48C-90EA-44BD-81F6-D0F699AF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910-2F96-4224-B2CE-B127690F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4F5-C424-4195-962C-E85DC507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25B-9010-4C92-B9E7-A10DC63A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EAA73-FE89-4631-AE1F-27E299B0E7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562   Чрез Христа мы побед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Христа мы победит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Он, который поразил в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, воскликни с торжеств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— наш Царь!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(Бог — наш Царь! 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обеду одер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ловом победил вра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ся земля воспой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овторить с нача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our God we shall do valia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He who will tread down our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Hi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is King! </a:t>
            </a:r>
            <a:r>
              <a:rPr b="0" i="1" lang="en-AU" sz="3200" spc="-1" strike="noStrike">
                <a:solidFill>
                  <a:srgbClr val="ffff00"/>
                </a:solidFill>
                <a:latin typeface="Verdana"/>
              </a:rPr>
              <a:t>(Christ is King! Christ is King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od has won the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et His people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rd has slain the ene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arth shall stand and see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repeat from start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3T09:33:37Z</dcterms:modified>
  <cp:revision>12</cp:revision>
  <dc:subject>The Source 3, song number 1562 in Russian</dc:subject>
  <dc:title>Чрез Христа мы победители / Through Our God (Victory Song)</dc:title>
</cp:coreProperties>
</file>