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265E-5E05-4B1F-9C22-4815366E0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9661-008C-462B-88AA-558878AF0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C051-59DC-467B-84C7-2261309E5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5955-F46D-4A23-8915-68FA583DF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CE90-E0C9-49BA-A379-A22F0DC9D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C649-8B83-4570-9262-3D5A0812A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4F73-FB2D-44EC-9930-C913CC5FA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DD70-4A84-44D6-AF0B-C7EE02BD2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2794-B129-45C8-A3D8-0369E88C0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F9DB-94B2-410D-938A-4FBFF596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D6C7-CC99-4666-907F-1FFE90B5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EDCD-E1BC-4AFD-8A37-D530301B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EA0C1C-4BCA-4846-9C06-4604BB76540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thanks with a grateful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thanks to the Holy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thanks because He’s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Christ, His Son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11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Хвала Тебе, наш Госпо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а Тебе, наш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а Тебе, Бог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а за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а Твоего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now let the weak say, “I am strong”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poor say, “I am rich”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cause of what the Lord has done for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than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слабый скажет: «я силён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ый скажет: «я богат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ря тому, что Бог нам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7:23:58Z</dcterms:modified>
  <cp:revision>11</cp:revision>
  <dc:subject>The Source, song number 118 in Russian</dc:subject>
  <dc:title>Хвала Тебе, наш Господь / Give Thanks With a Grateful Heart</dc:title>
</cp:coreProperties>
</file>