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D59-272E-449C-B88B-4A832FB4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B27D-6F55-4ED3-8FA5-94422554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051-314B-440B-ACF3-0D2D5AC1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166-829B-4D0C-B57C-F1D4EA20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69B2-9A4A-41EC-A871-F339DB16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AC64-D310-40E9-A6C4-44DB23E7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6B3-4789-4112-BA4F-1C2AA3E6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F07-6E33-4877-AE54-8395DE29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473-9423-4D63-86D7-9B0B829D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211-0530-45F2-82DB-8EDE16A1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C16-91A3-4B52-9D45-F4356FEF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59E-9A81-4233-B85F-8F3BB0F8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52115-38DC-4654-8721-6AD7038E69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keep me nea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 precious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to all, a healing str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s from Calvary’s moun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креста хочу сто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хочу сто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ерцать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 Голгофы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течёт ре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, a trembling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and mercy found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he bright and Morning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d its beams aroun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меня на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везда свято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мой озар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! O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its scenes befor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e walk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shadows o’e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открылся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ий Агнец Б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влёк меня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 всего доро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 I’ll watch and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ing, trusting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I reach the golden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я буду 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и надеж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Бог велит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безмятеж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44Z</dcterms:modified>
  <cp:revision>13</cp:revision>
  <dc:subject>Slavic hymnal Гимны веры христиан, hymn 424</dc:subject>
  <dc:title>Near the Cross / У креста хочу стоять</dc:title>
</cp:coreProperties>
</file>