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683-01AD-4AD4-8054-2D2EB0BC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A18-C4E9-4422-81EE-DD9C3D1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89B-9641-464C-AB37-EE5CC70B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E58-DEF8-4E0D-BA50-3E9AA34E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489-9BB7-481D-963F-F3ED8088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4BA-C918-441D-9FCB-4CBDE03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948-04BC-4536-847D-9C7AE4C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026-6874-4DB9-AF8F-F1953025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492-341A-4825-A8B6-40277C5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99F-E559-4AA7-9652-29017B9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212-37FA-4F67-8A8D-C7672112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E0F-DB99-49C8-83CD-15F5A64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3AB76-5C83-491C-A3B6-1E020A0518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― ім’я найвищ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Спаситель, Славн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Еммануїл, Бог є із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Відкупитель, Слово жи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6   Ісус ― ім’я найв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6:20Z</dcterms:modified>
  <cp:revision>12</cp:revision>
  <dc:subject>Slavic hymnal Гимны веры христиан, Ukrainian hymn 116</dc:subject>
  <dc:title>Ісус ― ім’я найвище</dc:title>
</cp:coreProperties>
</file>