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5B5-F794-4782-9BEF-9E16AAC6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2F5-CD1F-4DAB-961D-1B14369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7E6-DDC7-4791-A2EC-E5AA0868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4DE-F2CF-431C-84A1-B012FDEC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766-3386-429D-AB40-22E78850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D17-0A4D-414E-984A-8FE25C1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AE7-8959-43DF-B304-E189BB16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DFE-BCD3-43B2-AB53-F6AC5E4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E26-AA8F-4847-BD5D-CC87A66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A7C-B069-4662-A6FA-73CF0DFB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99B-5587-4320-A87A-0687597D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191-52C8-4D68-95FE-3E97414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F746-03FE-4258-A9E1-317C91F06A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cleans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gives me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took m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edeeming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shes me 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God’s precious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0Z</dcterms:modified>
  <cp:revision>10</cp:revision>
  <dc:subject>The Source, song number 250</dc:subject>
  <dc:title>It’s Your Blood</dc:title>
</cp:coreProperties>
</file>