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619-9F0A-4C2A-A88F-BDB6E65E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988-F739-4A7E-B59F-BC46591B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727-C6A9-40E1-B873-F2DA2745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AA5-F8FB-44E0-A477-30DD811B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DBD4-F68A-4AF6-8E81-30E48CA3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2BD-F069-4682-9964-FB95C279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5BC-30D9-405B-86BB-250E412C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F4E-21FA-487D-AEC5-F3B1394B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AF2-913F-4197-A677-CB3E39AD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E11-D6D4-4CF6-A815-1BE861E8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401-6551-4742-9638-D18B2132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6AF-CB34-49F2-BDD5-1D9E49AD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5BB7B-9D3F-4108-AE99-12053457CE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Господь, Твой д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тог любви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церковь и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х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пред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церковь — Твой алм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как зрачок лучистых гл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шь её пор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, Господь, Твой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еркви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и душ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ываю сердцем и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 мольба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 имет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ье духа с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ти все тяжести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ест её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и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Церковь Сам 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ы всё здесь побор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вой покой в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разд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славу я Тв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буду петь перед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ою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1:21Z</dcterms:modified>
  <cp:revision>13</cp:revision>
  <dc:subject>Slavic hymnal Гимны веры христиан, hymn 561</dc:subject>
  <dc:title>Люблю, Господь, Твой дом</dc:title>
</cp:coreProperties>
</file>