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61F8-0829-40F6-897D-4F55AF98D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F057-7B98-4623-B7F4-34FF3024F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49F0-81D1-4044-928A-B288C110D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75FB-07AC-4477-8151-C71EBB5C3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E9DB-5BA6-4480-9B33-1787CB7F7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D348-D9C9-425F-A0B5-444F378F3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372B-D6A4-42E7-90DE-9DA7A8388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C9FE-C4A4-4538-BB44-940B98871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9F3C-3CDF-493D-ABEF-E42766EA7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A0C0-7E63-4842-895B-3313504C9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46FA-E593-47FA-9BEC-474B1859D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66DD-B0D1-4F87-90D8-EC3BBC6B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184C9D-0A45-40DE-B70B-66806F22194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can wash away my s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hing but the blood of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can make me whole aga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hing but the blood of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2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Что вину мне может смыт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вину мне может смы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ничто, лишь кровь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новь что может исцел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ничто, лишь кровь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! precious is the f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makes me white as sn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other fount I kn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hing but the blood of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дорога стру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вшая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а сильней мор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ничто, лишь кровь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my pardon, this I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hing but the blood of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my cleansing, this my ple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hing but the blood of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очиститься, гляж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кровь одну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 прощенья нахож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в крови святой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! precious is the f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makes me white as sn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other fount I kn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hing but the blood of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дорога стру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вшая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а сильней мор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ничто, лишь кровь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hing can for sin at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hing but the blood of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aught of good that I have d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hing but the blood of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греха искупит дух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ничто, лишь кровь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добро моих заслуг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ничто, лишь кровь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! precious is the f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makes me white as sn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other fount I kn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hing but the blood of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дорога стру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вшая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а сильней мор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ничто, лишь кровь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is all my hope and pe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hing but the blood of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is all my righteous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hing but the blood of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, надежду мне дарит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ничто, лишь кровь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я святость мне не щит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ничто, лишь кровь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! precious is the f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makes me white as sn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other fount I kn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hing but the blood of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дорога стру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вшая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а сильней мор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ничто, лишь кровь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3:42Z</dcterms:modified>
  <cp:revision>13</cp:revision>
  <dc:subject>Slavic hymnal Гимны веры христиан, hymn 425</dc:subject>
  <dc:title>Nothing But the Blood / Что вину мне может смыть?</dc:title>
</cp:coreProperties>
</file>