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696-01B8-4990-B6B2-3A1C9472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D35-8BF3-44E8-9593-6011F2B7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DA6-0E05-4A26-B364-B97E4B27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B5B-D4DB-477B-8C9C-42A5F4A5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B73-1D73-4499-8356-22E8AF99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85D-F99C-4E4A-8035-9EED90AA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045-B547-48CA-924F-159F44A1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C8E-F540-48A8-966E-413CCF7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8EC-A9ED-406B-913F-315F2792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325-247A-475E-BA4D-F2BA4A90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71F-4236-4EBB-B632-F1C34819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9BA-0C09-473B-AE90-73D78DC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E5421-73E4-43A0-AA56-5A26DEF0B0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quie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sin cannot mo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корбь, ни смерть нам не страш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comfort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we our Saviour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утешень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прощенье, мир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full rel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all is joy and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жденье от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осторженно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4:44Z</dcterms:modified>
  <cp:revision>12</cp:revision>
  <dc:subject>Slavic hymnal Гимны веры христиан, hymn 854</dc:subject>
  <dc:title>Near to the Heart of God / Есть место сладкой тишины</dc:title>
</cp:coreProperties>
</file>