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D5C-BDC6-47AD-AE6D-E5D6FE76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6042-11AE-472A-B87D-29FCCF6D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D63F-3A98-47B3-926A-9AECA02D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C43-A67A-47D2-84AA-2E269F9B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CE9-472C-4F65-A71F-A3E37356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6AD-7301-4E7E-9524-846A21A6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8A5B-AD2A-4266-86E6-FB902706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A26-8F89-4D41-A8CB-F889B38D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041-608D-44C9-A357-6839D827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4773-4E8E-428B-BC17-29FFBCB4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305-65A3-4C12-9C4B-717CC9F7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C378-DCA6-46C0-A877-AF70F8BA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1BEA2-3A2F-466F-9D25-2B5E8710676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reat Physician now is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ympathising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peaks the drooping heart to che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hear the voice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4   Єдиний лікар є для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диний лікар є для на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аскавий наш Спас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ранами Своїми с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вірних ― наш Збав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ote in serap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on mortal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carol ever s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lessè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ote in serap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on mortal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carol ever s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lessè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any sins are all forg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hear the voice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 on your way in peace to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ar a crown with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сі гріхи мої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Лікар, мій Збав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ім Отця мені відкрив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наш Примир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ote in serap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on mortal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carol ever s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lessè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 to the dying Lam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now believe in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e blessèd Saviour’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e Name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агну щиро все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, мій Відкуп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воє ім’я люблю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едвічний Цар,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ote in serap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on mortal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carol ever s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lessè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dispels my guilt and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name but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how my soul delights to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harming Name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уг невиліковний тв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ізціляє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могутність зрозумі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ірним помага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ote in serap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on mortal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carol ever s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lessè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rethren, help me sing His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praise the Name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sisters, all your voices 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bless the Name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мо, браття, всі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 Його безмірн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славить серце 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ню милість див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0:49Z</dcterms:modified>
  <cp:revision>12</cp:revision>
  <dc:subject>Slavic hymnal Гимны веры христиан, Ukrainian hymn 74</dc:subject>
  <dc:title>The Great Physician / Єдиний лікар є для нас</dc:title>
</cp:coreProperties>
</file>