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CA7-7BEB-4420-8296-8EBED1D3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015-8D1D-4D22-BD7C-FB2B63D8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15A-CA3D-4029-A53A-F2C350F5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B0A-3B99-488E-BEA7-B7112AA4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23D-2EAA-4D49-9016-DE4425F1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B45-C18F-4C73-9E10-C3A60A25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CBA-5320-4DE0-BEE0-9A7D93EF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58A-F9A2-4D60-8C9B-F21BB627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9C8-2DAE-4B22-8A44-55C9E5DF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8D3-7736-45EE-A65C-F2623B4D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91E-39F7-4D5B-83B7-A305B44E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414-5CD4-4E66-880D-5209FE5C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AF182-63F3-4D2B-AD58-F50EB31F2F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’re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ce is all I s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hen Your eyes are on this ch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abound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please light the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nce burned bright and cl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place the lamp of my firs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burns with holy f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0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Lord, You’re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na take Your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hine it all a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first help me just to live it,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I’m doing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never seek a cr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y reward is giving glory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’re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ce is all I s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hen Your eyes are on this ch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abound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0:35Z</dcterms:modified>
  <cp:revision>10</cp:revision>
  <dc:subject>The Source, song number 401</dc:subject>
  <dc:title>O Lord, You’re Beautiful</dc:title>
</cp:coreProperties>
</file>