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E62-6D7B-4AF5-B726-39723955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E5F-CBA6-4266-A7A2-C21DDB34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FB15-79F9-4FFC-A1CC-60FE3FDE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E979-CCD5-430C-AB03-930CB208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9820-11F4-4C76-B38D-4AD6ACFE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52F-02B3-448E-A209-998711F0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6A1D-7C58-4279-8AC5-AA39208F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739-36A1-4833-B35D-90A14106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429-7819-4CC6-A69D-21E05281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7B0-2521-42F8-A1F7-D1A9E66E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1C00-9DF3-48E5-85CC-71DC74FA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4E89-60D6-4877-A102-58585E96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1A437-E7A5-406A-AA03-D2602EB605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ть ли в мире равн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 меня, когда не 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ви я слав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 Собой соеди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держа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вство веры мне в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Его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Друга дивного поз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, о люди, верь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грехи с меня Он с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 меня от смер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 к стопам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пытом измерь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любовь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, и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илой обла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если б мир мне угро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мощь обещ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ера от Него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мой ободр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кругом борьба, войн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 покой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ящ бесконеч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м советником Он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ём к отчизне в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сила разор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 мой с Ним сердеч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жизнь, иль смерть, иль чад забо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Его вове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3:03Z</dcterms:modified>
  <cp:revision>12</cp:revision>
  <dc:subject>Slavic hymnal Гимны веры христиан, hymn 597</dc:subject>
  <dc:title>Я Друга дивного познал</dc:title>
</cp:coreProperties>
</file>