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440-3434-48C5-A11C-A46A9FA3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B59-35C5-4D46-8E7A-250FA92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4AE-567E-4402-B468-EB5B064D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3AF-6B6F-4B59-86EC-CBF509EC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7DA-3C57-4ADA-A2CC-722DD554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72C-ACF6-4872-8A1B-09A952C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1C8-30DA-4BD5-9BBA-5DBE2DCC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590-FE64-4DE1-B0B5-443D4F8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DD5-FDE4-4F28-9B99-83C8BD26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A15-335A-4597-AF7F-D05B892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B89-C4B0-4918-AD05-019FBA3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054-FB5B-4722-B5D6-A1A4DD1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7A21-00D3-4829-95FE-F7E8920BDA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in Pilate’s h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less, forsaken, betrayed b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ken! what meaneth the sudden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on trial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lse to Him if you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ithful through good or 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evade him as Pilate tr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choose Him, whate’er bet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you struggle from Him to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like Peter, your Lord d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scorn from His foes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ing for Jesus to live or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Jesus, I give Thee my hear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’ll follow Thee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obeying Thee!” will you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 will do with Jesu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38Z</dcterms:modified>
  <cp:revision>14</cp:revision>
  <dc:subject>Slavic hymnal Гимны веры христиан, hymn 408</dc:subject>
  <dc:title>What Will You Do With Jesus? / Перед Пилатом Иисус стоит</dc:title>
</cp:coreProperties>
</file>