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B01-99BC-4C1D-BA0C-3D3C550E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0FD-371F-4C01-8788-E26551E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D62-149E-4CA1-9621-3286DDEE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ADF-9FC2-48C3-9D03-20AB766A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CD8-B0AF-4BD9-8DB0-A58551A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DF4-1BF8-4B3C-9A70-8AA2AEB9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3AD-842E-400B-8B3A-5C3A9240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8B3-DF80-42F6-9BCB-6B142A69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ACE-40F6-43F6-A69A-FAC2B1F3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D51-9FA9-48C7-9469-138BC59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BE9-2D76-4A14-9422-856C3AAF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CA3-24E9-47EA-9024-AD5B93D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AB305-71C0-4C98-9DAF-2E79450490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to the garden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ew is still on the ro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voice I hear, falling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disc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, and the sound of His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o sweet, the birds hush their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elody that He gav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my heart is r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d stay in the garden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night around me b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bids me go;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to me is c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55Z</dcterms:modified>
  <cp:revision>12</cp:revision>
  <dc:subject>Slavic hymnal Гимны веры христиан, hymn 848</dc:subject>
  <dc:title>In the Garden (I Come to the Garden Alone) / Один я пришёл утром в сад</dc:title>
</cp:coreProperties>
</file>