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70</a:t>
            </a:r>
            <a:r>
              <a:rPr b="1" lang="ru-RU" sz="3600" spc="-1" strike="noStrike">
                <a:solidFill>
                  <a:srgbClr val="ffffff"/>
                </a:solidFill>
                <a:latin typeface="Verdana"/>
              </a:rPr>
              <a:t>	</a:t>
            </a:r>
            <a:r>
              <a:rPr b="1" lang="ru-RU" sz="3600" spc="-1" strike="noStrike">
                <a:solidFill>
                  <a:srgbClr val="ffffff"/>
                </a:solidFill>
                <a:latin typeface="Verdana"/>
              </a:rPr>
              <a:t>Слушайте повесть любви</a:t>
            </a:r>
            <a:endParaRPr b="0" lang="en-US" sz="3600" spc="-1" strike="noStrike">
              <a:solidFill>
                <a:srgbClr val="000000"/>
              </a:solidFill>
              <a:latin typeface="Verdana"/>
            </a:endParaRPr>
          </a:p>
        </p:txBody>
      </p:sp>
      <p:sp>
        <p:nvSpPr>
          <p:cNvPr id="39"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Слушайте повесть любви в просто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ушайте дивный рассказ:</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с навеки простил во Хрис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с от гибели сп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с от гибели сп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с от гибели сп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Бог нас навеки простил во Хрис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с от гибели спас.</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Если неправда потерянных дн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учит вас в тягостный 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рьте всем сердцем и верою вс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с от гибели сп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с от гибели сп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с от гибели сп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Бог нас навеки простил во Хрис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с от гибели спас.</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Если под мраком житейских скорб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ламень надежды пог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помните только хоть мыслью св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с от гибели сп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с от гибели сп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с от гибели сп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Бог нас навеки простил во Хрис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с от гибели спас.</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36036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Если при виде соблазнов земн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бый смущается глаз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ово да слышится в чувствах прост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с от гибели сп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с от гибели сп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с от гибели сп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Бог нас навеки простил во Хрис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с от гибели спас.</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04T10:42:39Z</dcterms:modified>
  <cp:revision>3</cp:revision>
  <dc:subject>Slavic hymnal Гимны веры христиан, hymn 70</dc:subject>
  <dc:title>Слушайте повесть любви в простоте</dc:title>
</cp:coreProperties>
</file>