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3D6-DDB5-446B-8E8C-D546EC17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7C6-9B04-4D0D-A42A-B7E3C4B6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79A-6DF5-4EF8-AD38-9358F70B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398-2CAA-4F0A-B220-636EC475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E97-4A73-4EEA-876C-D4F67246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0AB-D920-4143-912E-28C8CC0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B6F-A565-4B0E-A32E-3A95003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54C-3264-4E09-979D-613F2D8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C17-130C-471E-BE5B-D360D3E5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B8F-CF19-43FA-8B94-0EB28E4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A2D-1D01-4EA0-B985-2B113573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9D1-5063-4BAC-8931-66DE58D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E4456-EE22-4F69-8886-A01A6E32AE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рдцу даст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аждущих нап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ю удру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враг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ащитит,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жизненном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ех меня терз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усь я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— 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мне где и в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ты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26Z</dcterms:modified>
  <cp:revision>13</cp:revision>
  <dc:subject>Slavic hymnal Гимны веры христиан, hymn 330</dc:subject>
  <dc:title>Ах, в этой бурной жизни</dc:title>
</cp:coreProperties>
</file>