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BE3-8460-43DE-920F-D061EB6B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F1A-0B1D-473C-928E-F48BDE22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303-CEE9-4968-8CF6-4DE21A62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8836-E29E-4050-9BE4-0383415E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35B-3948-4C66-99FC-E8878FDF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E9C-2427-489A-A53E-8D53A0A7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F03-04DE-4073-BC94-22FECEBB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975-D437-4E7D-8192-B6033B2E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734-AB0B-4298-A9D8-35220985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E729-A317-486D-93FE-EF1C6FA5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EDD-571F-49AF-8DBF-7AA59BCB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A304-BB83-4E32-8AD3-3ED0BF00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EC610-A5F3-4A0C-BE74-D943871F30E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o else would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ir lif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suffering in my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o could repay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creation look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provid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You hav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26   Who Is There Like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m lifting up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my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grace I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love has come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trusting in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Your faith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pow’r at work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chang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o else would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ir lif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suffering in my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o could repay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creation look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provid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You hav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m lifting up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my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grace I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love has come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trusting in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Your faith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pow’r at work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chang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m lifting up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my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grace I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love has come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trusting in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Your faith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pow’r at work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chang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3-13T19:34:25Z</dcterms:modified>
  <cp:revision>12</cp:revision>
  <dc:subject>The Source 3, song number 1626</dc:subject>
  <dc:title>Who Is There Like You?</dc:title>
</cp:coreProperties>
</file>