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407-2591-49F1-9C65-8DA72355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EF1-91D6-4F86-9FB1-6BA664E9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7B0-5A7D-4C40-95AE-1A54EB3A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7E8-055D-4E20-A62E-7AABCB15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11D-B0D6-4064-8642-8439B058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8BA-CB80-456E-90BB-B497544B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156-CA8B-4F25-8A5C-0A0E5DBB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928-7C53-4661-B75B-D532B734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51E-9BC3-4AC4-ACEC-9B82DE57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6C7-03ED-4F66-9E1B-B9F0918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ED7-63BA-4BF6-9947-B080CEF5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699-85FC-47E1-BA2C-6EA0584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8FA30-E6FA-48FA-812E-7F543E53F1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remember, your God loves you sti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waits you a brighter tomorr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od promises, He will fulf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ace your trust in the Lord; doubts will v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mmune with Him often in pray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your heart every fear He will b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your soul He will lift from des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in mind, Jesus Christ died to save yo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cross for your sins He did 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lasting salvation He gave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said, “I am with you alway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despair when your burdens appa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complain at the load you must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t times when hard trials befal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 assured: you are under His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life’s winds and waves He’s the mas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rotect us, He ever is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ave from the brink of dis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craft into port He will st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rd trials are still undergo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soon life’s final battle will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finish our course, fully kn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’re off to our heavenly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we’ll have peace and quiet—for 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disturbance or storm will be t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, our Saviour, will reign there forev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glory and splendour we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9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ansition for us may be ni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e know not—today or tomor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may be in our “homeland”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5Z</dcterms:modified>
  <cp:revision>14</cp:revision>
  <dc:subject>Slavic hymnal Гимны веры христиан, hymn 717</dc:subject>
  <dc:title>Precious Soul, Cease From Sadness and Sorrow / Не тоскуй ты, душа дорогая</dc:title>
</cp:coreProperties>
</file>