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F62-A4A9-4EB1-9384-21D0EB0C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69E8-5428-40A4-9F50-4A54938D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04D-7E6D-48F8-A52B-D2DA73D8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D8A-F1B5-468E-82CD-1A7A1F11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E21-13C1-4BF6-A599-3506BD23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CB2-CEF1-4B67-99D4-667864EA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5A8-2616-43D0-90E7-E4290A44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B4C-A2BD-4FCA-A802-00210C85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92A-E35D-41BA-A8EE-247F7BB1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514-4F8A-4481-87EB-DD81E92F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B3B-B78B-4F9A-BDF4-5D99661E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8B6-CB78-4500-B8CF-028227C7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07407-33FE-46BA-A7F3-62C4CF5846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тру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 нам выступать в пох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Начальник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!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не бойтесь, н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Побед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вучит тр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душно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мся к вечной цели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х войско благослов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евностью горели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раг си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тив нас не усто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чрез Агнца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― наш Вож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крепкий щ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 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ожию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душно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мся к вечной цели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х войско благослов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евностью горели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лго будешь ты враг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ь сво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ай в ряды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скорей в Отцовск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ав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го тр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душно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мся к вечной цели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х войско благослов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евностью горели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3:40Z</dcterms:modified>
  <cp:revision>12</cp:revision>
  <dc:subject>Slavic hymnal Гимны веры христиан, hymn 491</dc:subject>
  <dc:title>Звучит труба</dc:title>
</cp:coreProperties>
</file>