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63A-1A55-41D1-AAC2-1D2BF7D0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BA8-7B24-4590-9DF8-FC16B43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033-82F2-4D04-B20F-1EACEEF1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A20-E863-4790-AAEE-7BC59F20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438-A5F0-4C50-84DF-991A23C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A07-BC51-40AE-A33C-5992C53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C53-7FA0-48C1-B801-D01E28A4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65A-BCE8-4EFA-86F0-8FB7EAD5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D13-5081-4A14-A780-4F62EF1E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21D-7545-4129-93BE-368B5D27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4CE-2251-4E9E-A404-8510CE1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8C1-BACE-4B82-AA00-0E579528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BED9F-863A-4871-B9E6-95D09B0BAE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shore, heaven’s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long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my loved ones who ar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ide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earn for heaven’s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to be with all the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ward, heave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lift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promised rest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enter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s are long, the battle fi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do m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 find no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healing for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be soon, very so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ake my f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last to enter into rest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eye has never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human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mind could not con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3Z</dcterms:modified>
  <cp:revision>13</cp:revision>
  <dc:subject>Slavic hymnal Гимны веры христиан, hymn 688</dc:subject>
  <dc:title>Heaven’s Shore / В край родной</dc:title>
</cp:coreProperties>
</file>