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05F-9D59-4E4B-A291-A16D9A10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B47-3A68-4959-9B9C-29465A27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9AD-2A9F-4300-B0F9-64C22514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2E0-A657-481C-9989-D8E37B34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4F9-53AE-4BB4-A874-36CF66C2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60C-88D1-461A-A36C-88D183C2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C1B-120E-4BC1-A0A0-BB1E274C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2F2-748F-4AFA-B569-4EF4AEE9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935-2E09-4F45-92C6-8B53C601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442-A7EA-4C5E-932A-8C555387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A28-E527-440B-BAC3-FE65EE7B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7C7-DA02-4598-8B25-29D826C6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108DD-4AD6-4373-83E0-8BFE016964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день тот уж близ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4:13Z</dcterms:modified>
  <cp:revision>12</cp:revision>
  <dc:subject>Slavic hymnal Гимны веры христиан, hymn 317</dc:subject>
  <dc:title>Да, день тот уж близок</dc:title>
</cp:coreProperties>
</file>