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A7C-C5BB-462E-9115-D39E02E5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CD5-6981-475B-87D9-8634985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B0A-4639-406F-9133-D2370151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433-047B-4534-808D-D62C9148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764-B624-42B0-BE43-64C6245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E44-1A21-445F-9C70-692D4EE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24A-E674-4297-9359-2A755FEB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862-286A-472A-8989-A760DDF0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81D-3CB6-4EC2-8ADE-E28F68F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F41-4FC1-41FC-824E-C8A3FA3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051-0979-45D1-B0AC-1D223C7D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84F-1E44-4CD5-9163-91408F7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3194D-82BC-4EC4-869E-DC1B476C79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путь борьбы кров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ю я Твоим сло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вой я воин, Боже пра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ебя иду я в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, нет больше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почест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,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среди дневного зн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яжело моим ру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— духу насла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риносит мне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серд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вой раб нашёл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благ обет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радость рас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забвение гре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звал к жизни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, любовью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и думать дерз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вых благах для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бы песнью соверш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любовь к Т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а песнь мо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ывае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ам польётся в сен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достойною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38Z</dcterms:modified>
  <cp:revision>12</cp:revision>
  <dc:subject>Slavic hymnal Гимны веры христиан, hymn 454</dc:subject>
  <dc:title>Не ради почести и славы</dc:title>
</cp:coreProperties>
</file>