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EC3-62E1-41B1-A358-91B1ACFC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E1C-93C6-474D-9D2B-FF9CCB5E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015-311C-4A8E-B0E8-B7D37E7B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4DC-E04F-4A77-A31D-FFB86C46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B04-088C-4BE4-B90A-899770A9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48A-A68C-4E82-B7A6-5AA1A449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8D6-AD66-4BA6-A273-0833067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11A-0F5D-4EDC-9217-BA343DCA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57C-C876-43E5-A8BB-549ADF1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B71-44DD-4485-AE8F-806392C3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DFB-509B-4AE2-AECE-088DF4D1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608-4AD5-43E9-BD91-9FF4280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A9475-8D04-47A7-8AE4-956B8DF470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аполня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гонь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не пог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любовь объеди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 нас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ёт, нам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дим друг другу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ьются песней зв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сной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паситель будет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ёт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шёл добра пу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наш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енья дай на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возв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ир, пленённый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ебя по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и нас силой с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 нам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я могли усл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нц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сширь сердца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рукой пронз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в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любовь к святому де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ширяй наш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знь не проле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есплодный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34Z</dcterms:modified>
  <cp:revision>12</cp:revision>
  <dc:subject>Slavic hymnal Гимны веры христиан, hymn 483</dc:subject>
  <dc:title>Божья сила, Божье слово</dc:title>
</cp:coreProperties>
</file>