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522-F4CD-4B02-BAB7-90F17F55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6FC-78D9-4625-B410-83018CB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90E-6AA5-4BAB-9055-165BD050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6C3-0361-47CA-A4AE-8DEA1CBD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C84-9B9D-4CF3-97D4-018B9F7A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D91-C023-4CC2-8403-3A62003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3FF-8CC4-4394-9548-F8D0EF5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DFB-E966-4644-874C-CF05ED7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EDB-43D4-4E71-BA8F-021151D2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4B5-165F-4469-84CB-6F9E5C2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9F8-7B6D-4485-9072-AB170551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75A-4D2E-4428-9C3B-04C1FA9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1F09A-7D09-491A-A5A0-3EF22A24E8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Господом идт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не страшусь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 цель Он ясно откр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ля, луга, леса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в небесны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не был мне Господь о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с Господом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почи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ясь, беседую я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путь Он Сам мне изб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желаю быть в об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ой свет, и пища, и питьё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Он мне дал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мой день придёт к зака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ёт Господь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меня в Свои пала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02Z</dcterms:modified>
  <cp:revision>13</cp:revision>
  <dc:subject>Slavic hymnal Гимны веры христиан, hymn 462</dc:subject>
  <dc:title>Только с Господом идти желаю</dc:title>
</cp:coreProperties>
</file>