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030-0A3B-4998-8C2D-54D24053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AF0-4F44-4A73-83F7-DD69428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255-9FBD-499E-8DB5-40EA429B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333-D64B-4D4D-BE0C-177AADE8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C7D-3D1C-425C-8DAE-75503B0D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CB0-DFDB-4597-BB5C-5DD4856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6E2-66B2-4C43-89B9-81AE743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391-B7E2-4535-8EFE-B1BD147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AFD-6AF6-4300-9151-5CD6912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630-711E-4C6D-A242-722CC8A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DFA-2DDA-4839-AC5B-EB51CEB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77A-CEC6-40CB-BE49-7A56C70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3236A-82F9-4CDE-B846-AD43A7B596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my hands to the coming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I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re th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ift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rve no foreig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any other treasu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eart’s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without m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ring m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13Z</dcterms:modified>
  <cp:revision>11</cp:revision>
  <dc:subject>The Source, song number 212</dc:subject>
  <dc:title>I Lift My Hands (I Will Serve No Foreign God)</dc:title>
</cp:coreProperties>
</file>