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8689-B119-4D2E-9140-75FB0E576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8860-3375-46E2-A804-A0B53065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A252-6E50-4ADF-987D-66C5A1B7F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23F4-8CD4-4BBF-B876-89F8EE834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7695-FAD6-4F85-9EC9-D6E9A8BD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AA39-47FC-4660-A57B-E338C774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ABD0-7E98-4092-BFD0-6469C02D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5C38-B9F6-4062-ACDB-6BFA7B91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E805-7308-4FB4-B77C-A6788EA0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6CFD-E54C-41FA-B232-33E0FC0C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21B5-5560-4F7B-A60A-9C867C25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2106-EB72-4FDC-9363-28421AA2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2BFB96-94CA-4B77-BE7D-E2FFFDAA0CF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оины рати Христ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льцы за веру 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на подвиг суров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одвиг великий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стали меча не име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льём мы горячую кр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ерой в Вождя пламене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ем в сердцах лишь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7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ы воины рати Христов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бьют, всенародно руг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ут на суды и к власт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 цирках со смехом брос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ищу голодным звер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мнями нас мир поби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нусным позором клейм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мир на крестах распин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тюрьмах холодных гно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зло мы добром отвеч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им Творца за вра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миром вражду побежд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стен путь нам Хрис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— воины дружной семьё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за великим Вож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ажаемся с ложью и ть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авду Христову не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7:42Z</dcterms:modified>
  <cp:revision>12</cp:revision>
  <dc:subject>Slavic hymnal Гимны веры христиан, hymn 473</dc:subject>
  <dc:title>Мы воины рати Христовой</dc:title>
</cp:coreProperties>
</file>