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DA50-747A-40B2-AB6D-5297D227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575-688F-48AF-90F9-4864874E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2227-2BB0-45C8-8251-8DFA6254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15F-4A01-4DBB-8427-8CAD1699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2FDE-C147-40B8-A051-916F3576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D79-BB96-434F-9CD8-A0C9BD81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88D-FCC1-4C08-8190-05AFF271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A770-1422-4215-A585-1E2498BA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40AD-AB9F-4D9A-A3C6-48C14D76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5DB-4F9F-4838-92B4-2CD60E96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6139-69B4-4D66-9CA8-2BA45180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01E2-89E0-46EA-9948-4F3DF89F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C805C-4FE0-4ABB-A2B5-7EC0BE18C0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реть, как све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тёмно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добра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х Он не с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менных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видит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лядит н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ви и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ример подас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, нужду 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ждай доб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для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нести бла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зные 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, будем вер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5:07Z</dcterms:modified>
  <cp:revision>12</cp:revision>
  <dc:subject>Slavic hymnal Гимны веры христиан, hymn 897</dc:subject>
  <dc:title>Мы должны светить</dc:title>
</cp:coreProperties>
</file>