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D69-9BBB-4496-B8D5-45B72440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C42-21CC-4598-B20A-FDD459FE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CC4-E7FA-4BCC-BDBA-94670316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7BA-F0F1-4A28-9285-3198A2F5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0E8-6BD3-4C93-AC66-4DFB3D8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0EB-BEEF-466D-91FE-53C1966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2D6-5F92-40CE-A28D-15C9E585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FF0-E3D3-4832-B1B2-C60A0631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08E-9FC7-4D7F-BFEC-F649493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593-E51F-48B7-AEEC-B330349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CAB-C931-401F-BDE5-8AA0734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393-2828-40B5-845D-DA9ADE9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FDAA0-41C9-491E-A33A-A6AFFB7A26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тес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узкая стез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дали леса, бол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 и бури жду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широ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остранный вид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ём толпу без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и праздник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ропой борьбы, трев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луч и рай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конце другой дор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гнетущая и 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56Z</dcterms:modified>
  <cp:revision>12</cp:revision>
  <dc:subject>Slavic hymnal Гимны веры христиан, hymn 332</dc:subject>
  <dc:title>Вот, ворота пред тобою</dc:title>
</cp:coreProperties>
</file>