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F27-918F-4894-9C63-A318492E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9EA-53D4-420C-8C1D-2D054579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598-4096-47DD-83AF-75761555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3BD-6C01-4671-9B55-BB58A666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957-F3E5-4DB4-AC94-E74FEE57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D18-2319-41B7-88DB-B1081834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EBD-B370-4D36-9D7C-16B46117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CDB-684F-4221-97C6-1F41A2C4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A70-9450-4BE7-AC29-B051B337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A49-ECD1-42F3-81BE-C7978C53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B90-743A-41F4-BCAE-3470BC21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5CA-A749-418C-9B83-DC62960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3279C-69CC-4BF9-931A-2125ACBFB1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y cross and follow, follow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у призы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ты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,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траданья, скорби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Иисусом всюду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стигну вскоре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o with me, with m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престолом Бога в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уж вскоре взя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9:53Z</dcterms:modified>
  <cp:revision>13</cp:revision>
  <dc:subject>Slavic hymnal Гимны веры христиан, hymn 459</dc:subject>
  <dc:title>I Can Hear My Saviour Calling / Слышу призыв Иисуса</dc:title>
</cp:coreProperties>
</file>