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ED10-E062-4FFD-85A5-D2A400B7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D91-775F-4965-80FC-8FE3CB0A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C72F-FAD4-4696-9AB1-52E1C27B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134B-8EB0-45D2-A9E7-043BBBCF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8D2A-C056-451B-9B65-16BC1EF0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4DF0-7F0A-4EC1-902F-FC793B97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88F6-AB75-42FF-8433-54664D1D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DE60-2B30-45E7-8B3E-B8B04524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96BD-7A2E-40AB-B522-F0EE92C2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AC2E-B1BD-4F0B-92BC-4E834C07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F74C-E56B-4D6B-8570-DB6E1371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DE3C-4E4E-4983-983B-29CCF777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32324-2423-481E-8505-618245644E3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Він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Він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6   Бог добрий є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Й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Й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Він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4:09Z</dcterms:modified>
  <cp:revision>12</cp:revision>
  <dc:subject>Slavic hymnal Гимны веры христиан, Ukrainian hymn 106</dc:subject>
  <dc:title>Бог добрий є!</dc:title>
</cp:coreProperties>
</file>