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773-B812-427B-8DD9-7C9EDE9B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DFF-0D87-470C-BD84-692C6A77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BC5-22C0-4750-8B96-AB42DCF9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5F7-CD51-4806-938B-14E6043A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1A3-D81C-4E8B-9E1F-1360B053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5E2-79A2-41D6-86BD-7A26CCFC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9F5-9423-4491-9B4E-218AD8F4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530-9C9E-4032-B80F-546641FB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304-E69F-4529-BEB6-7B64E16B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CD6-10D1-456E-8247-4E83027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151-40EF-4B2B-9128-5A1F50C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685-6D5A-4274-936F-565B9F4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BFA01-65FF-49DC-BC81-AA68DA6AEB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   Ищите прежде 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прежде Царства Бож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льное приложится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ие Божье не пища и пить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о Святом Ду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е и дано буде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и найд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е и отворя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близилось Царства Бож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и жд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, всех хочет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05:48Z</dcterms:modified>
  <cp:revision>13</cp:revision>
  <dc:subject>The Source, song number 447 in Russian</dc:subject>
  <dc:title>Ищите прежде Царства Божия / Seek Ye First</dc:title>
</cp:coreProperties>
</file>