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F98-926E-4FC1-8343-C227CF6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792-5961-4A01-8F67-1E61838B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FB4-404F-44BC-87AC-D28D7944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A58-D1D4-4719-ACEF-F1C70AFF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AA1-73F4-4A83-A9AF-864AE70A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4AC-E999-44CC-8CA2-26AF4E4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5EE-3F93-427B-952A-AC8EA2C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4F3-6C13-4493-9393-461D35EC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A67-865C-4DA1-B316-0E672246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06C-9A73-46C3-8D43-3AEFAE8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3BC-0AD6-4F91-89BC-035A154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3C1-8ECA-4845-8FD7-163A882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53DB1-3016-4EBE-AAA8-0FD419D19F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астырям ночью голос прозвуч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таньте, не бойтесь, Бог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ть не страш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ад Давидов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Христос рожд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пастырям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ях Младенец в пеленах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м Господень ангел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пали на кол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я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паситель от греха 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обещан от начала 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цари, пр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ждали, а уб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ся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говеньем станем перед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пасенья Он даёт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чистую все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13Z</dcterms:modified>
  <cp:revision>13</cp:revision>
  <dc:subject>Slavic hymnal Гимны веры христиан, hymn 233</dc:subject>
  <dc:title>К пастырям ночью голос прозвучал</dc:title>
</cp:coreProperties>
</file>