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00</a:t>
            </a:r>
            <a:r>
              <a:rPr b="1" lang="ru-RU" sz="3600" spc="-1" strike="noStrike">
                <a:solidFill>
                  <a:srgbClr val="ffffff"/>
                </a:solidFill>
                <a:latin typeface="Verdana"/>
              </a:rPr>
              <a:t>	</a:t>
            </a:r>
            <a:r>
              <a:rPr b="1" lang="ru-RU" sz="3600" spc="-1" strike="noStrike">
                <a:solidFill>
                  <a:srgbClr val="ffffff"/>
                </a:solidFill>
                <a:latin typeface="Verdana"/>
              </a:rPr>
              <a:t>Сам Твоё дитя веди</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Saviour, lead me, lest I str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ently lead me all the 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am safe when by Thy sid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would in Thy love abid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ам Твоё дитя в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мне светом на пу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Спаситель и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ышишь каждый Ты мой вздох.</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ad me, lead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aviour, lead me lest I str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ently down the stream of ti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ad me, Saviour, all the way.</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Б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меня всегда в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когда не дай сой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воего, Господь, пут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hou the refuge of my sou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n life’s stormy billows ro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am safe when Thou art nig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my hopes on Thee rely.</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Грех ли хочет соблазн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Спаситель защит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боюсь я нич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поваю на Него.</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ad me, lead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aviour, lead me lest I str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ently down the stream of ti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ad me, Saviour, all the way.</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Б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меня всегда в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когда не дай сой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воего, Господь, пути.</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Saviour, lead me, then at l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n the storm of life is p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the land of endless d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re all tears are wiped away.</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ерю, Ты хранишь 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оставишь ник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град Небесный приведё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все слёзы Сам отрёшь.</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ad me, lead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aviour, lead me lest I str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ently down the stream of ti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ad me, Saviour, all the way.</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Б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меня всегда в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когда не дай сой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воего, Господь, пути.</a:t>
            </a:r>
            <a:endParaRPr b="0" lang="en-US" sz="32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20:54:35Z</dcterms:modified>
  <cp:revision>3</cp:revision>
  <dc:subject>Slavic hymnal Гимны веры христиан, hymn 200</dc:subject>
  <dc:title>Lead Me, Saviour / Сам Твоё дитя веди</dc:title>
</cp:coreProperties>
</file>