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54F-317E-4BD3-80D3-0BC73508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A35-1CD5-4FA8-BE4F-5FAC6995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D9E-3457-4BF0-AFC7-9B493275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AF7-9030-481C-9DC0-52D50BE4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DCA-6B96-41D4-8A5A-869A3F53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8FF-F9AF-4170-AE35-5081AEB3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B63-3AD8-4635-B52E-5E92473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47A-2876-4FE8-A280-EAA6C7C1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86A-B423-4200-9AF9-C04D9E13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29A-25B5-4282-94FE-A357334F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7D3-06FF-4583-9FB1-E836893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A82-2263-4954-956E-5AF88EDC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FCC46-7431-4573-8D47-9A20580069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просьбы, слыша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я нужду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под Отцовский 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ся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а  Слыша просьбы, слыша 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ело душ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ань во тьме блу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щетно ты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шному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, Он д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у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ткрой 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я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и будь с Его детьм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Он тво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14Z</dcterms:modified>
  <cp:revision>12</cp:revision>
  <dc:subject>Slavic hymnal Гимны веры христиан, hymn 335 (as amended)</dc:subject>
  <dc:title>Слыша просьбы, слыша зов</dc:title>
</cp:coreProperties>
</file>