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7A8-029E-405C-AB82-88FA3058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073-BD2F-47B0-8714-DD80D390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864-1190-41D8-825A-08AAB02E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B15-47C1-46B6-99D3-03C22C6B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386-7CC4-4D9E-9FA0-8950D383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6B9-0AB8-49AF-A3EA-28D0E7E8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D08-5C71-456A-B73A-E13077E7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621-29BB-4637-9466-23600162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B6D-E4F8-4609-8395-1F201B86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926-8615-4DF3-A9EF-B005184A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296-2867-4F96-835E-271BEF7A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651-DCAC-4ED4-904D-06723A59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24960-B5E5-4FF3-A9EB-8A614B3CC5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Царь вселен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ясли Сам изб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дитя, смир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щере возлеж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глядел, как зр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дям говор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, в яслях был Спаситель,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мне чуждым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сильный Царь вселен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олос я услыш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 яслях был в ч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щеры тесной дыш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к тебе и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 тебе ро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жить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изобраз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зеркале живо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ко мне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освет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 Тебе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ал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о! Ты ро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ал опять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мне всел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сли обре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и ж, Дитя Свят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и во мне,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, дитя зем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дыне не возр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сь я умаля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в любви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ь преображ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ы веч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8:31Z</dcterms:modified>
  <cp:revision>14</cp:revision>
  <dc:subject>Slavic hymnal Гимны веры христиан, hymn 232</dc:subject>
  <dc:title>Всесильный Царь вселенной</dc:title>
</cp:coreProperties>
</file>