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1</a:t>
            </a:r>
            <a:r>
              <a:rPr b="1" lang="ru-RU" sz="3600" spc="-1" strike="noStrike">
                <a:solidFill>
                  <a:srgbClr val="ffffff"/>
                </a:solidFill>
                <a:latin typeface="Verdana"/>
              </a:rPr>
              <a:t>	</a:t>
            </a:r>
            <a:r>
              <a:rPr b="1" lang="ru-RU" sz="3600" spc="-1" strike="noStrike">
                <a:solidFill>
                  <a:srgbClr val="ffffff"/>
                </a:solidFill>
                <a:latin typeface="Verdana"/>
              </a:rPr>
              <a:t>С тихой утренней зарё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 тихой утренней зарё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творенье, всё жив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будясь, поёт как мо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Тебе, великий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Человек же, что так 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учил даров от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познал путь жизни пра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жет ли Его не слави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Утром, лишь глаза откр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ановлюсь пере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ошу Тебе хва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ошу 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очью многих смерть скос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чера цвела их с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же поднял Бог с пост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Ему хваленье пели.</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52:20Z</dcterms:modified>
  <cp:revision>3</cp:revision>
  <dc:subject>Slavic hymnal Гимны веры христиан, hymn 221</dc:subject>
  <dc:title>С тихой утренней зарёю</dc:title>
</cp:coreProperties>
</file>