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BD6-96B5-4514-95DB-2443AB5F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704-B10D-4E03-AB35-95E7A3BB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895-A6C8-488D-96EA-B5814498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E93-6126-4BDA-9E57-27B0C39F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87C-8053-45E1-A455-D8464804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3F7-F47D-4FBA-9BE9-90EF73BC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C54-3986-4949-AFE8-07975676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64E-3A50-420C-B9F0-8B2EB1BD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C62-5CFC-4F28-A0F1-890C52DB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B6E4-F259-4702-96EA-5E572196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827-F548-4516-888D-80BF5F26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B10-916B-411C-83D4-EE52091F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FDF6C-4B5B-4D38-AD7B-8728F2F8BB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wandered far away from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’m coming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aths of sin too long I’ve tr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от Бога я блужд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Бога я блуж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но все силы расточ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home,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more to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ine arm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wasted many precious y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’m coming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ow repent with bitter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ного лет без Бога 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грех мой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home,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more to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ine arm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tired of sin and stray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’m coming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trust Thy love, believe Thy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Бога тяжко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очу теперь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home,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more to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ine arm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29Z</dcterms:modified>
  <cp:revision>13</cp:revision>
  <dc:subject>Slavic hymnal Гимны веры христиан, hymn 432</dc:subject>
  <dc:title>Lord, I’m Coming Home / Вдали от Бога я блуждал</dc:title>
</cp:coreProperties>
</file>