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5189-10CD-4A8C-A9D9-9CFE3466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9D8E-6743-4A21-BCDC-E9C05942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5F88-7777-41E9-A853-CFE315F3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280C-AC10-40F6-A94D-A7D12DD3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D1A2-3937-449A-A01A-3EF2D448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24E5-AB11-4FD9-8EB1-610C8D31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A3C9-37BB-4DB5-9BEC-AE9DFCB2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88A2-8DB8-47B5-AB81-B5C9FE9B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C968-5DCE-49E6-9953-0DF5940F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F311-BF2B-466A-9A6B-770B562D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0096-83BF-4354-A940-70381649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258B-BA8D-4C83-9551-6D59D4A6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9DA2F-C513-4960-A791-0F3B26EFCB6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it at Your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Your love surround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akes me 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my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this is my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my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this is my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2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o Be In Your Pres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rest 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rushing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herish each mo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would I st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my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this is my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my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this is my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0:37Z</dcterms:modified>
  <cp:revision>10</cp:revision>
  <dc:subject>The Source, song number 524</dc:subject>
  <dc:title>To Be In Your Presence (My Desire)</dc:title>
</cp:coreProperties>
</file>