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0</a:t>
            </a:r>
            <a:r>
              <a:rPr b="1" lang="ru-RU" sz="3600" spc="-1" strike="noStrike">
                <a:solidFill>
                  <a:srgbClr val="ffffff"/>
                </a:solidFill>
                <a:latin typeface="Verdana"/>
              </a:rPr>
              <a:t>	</a:t>
            </a:r>
            <a:r>
              <a:rPr b="1" lang="ru-RU" sz="3600" spc="-1" strike="noStrike">
                <a:solidFill>
                  <a:srgbClr val="ffffff"/>
                </a:solidFill>
                <a:latin typeface="Verdana"/>
              </a:rPr>
              <a:t>Ты знаешь, Боже</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знаешь, Боже, моё жел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 молитвы слыш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известно моё 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 стремленья и меч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знаешь, Боже, что не ищ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ств и почестей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м всем сердцем Тебя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с Тобой быть каждый ми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орблю я часто, душа том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ижу радости бы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одинокий, как в клетке пти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молкает пес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икто не знает, не спросят да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и что меня вл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то утешит, кто путь ука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 сердце тяжкий гнё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Мне мир чужим стал, и я — для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дай мне Тво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ал бороться, слабеют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путь далёкий предо мн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7:02Z</dcterms:modified>
  <cp:revision>3</cp:revision>
  <dc:subject>Slavic hymnal Гимны веры христиан, hymn 190</dc:subject>
  <dc:title>Ты знаешь, Боже, моё желанье</dc:title>
</cp:coreProperties>
</file>