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05A-4AC7-424F-B79C-22E1EAB4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422-9E78-4F45-8BF9-4773D0BC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089-C65C-4FE5-9C9D-79AB27AD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458-B072-4456-B403-AF47B36D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F34-B697-4357-AEB2-DA6D24A4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FA6-67B5-41AF-86B1-5C97B94B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304-3203-42DB-8AC0-5CE2E927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A09-E24A-4822-BC5F-B2532058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7CB-ACC1-40E5-9105-D41C14E0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821-F47B-4B00-AF5E-A9AE1527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CF6-72CE-4B26-9C7B-4DDD048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179-C448-4661-AE70-5B9937F6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DE16D-15DA-40F8-B6B9-DC538DECB2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ейск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грает волн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радость, то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тебя пригр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не горди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и душе см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Ешь, пей, веселис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ейское море игр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ведь ст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однишься с сум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шь ты ски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рячей слез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быть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ая мог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ипучие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59Z</dcterms:modified>
  <cp:revision>12</cp:revision>
  <dc:subject>Slavic hymnal Гимны веры христиан, hymn 773</dc:subject>
  <dc:title>Житейское море играет волнами</dc:title>
</cp:coreProperties>
</file>