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DC90-8B63-4748-9131-B9C3F8A8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BE1-6C98-4CB0-AA95-3E903A9F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FEE-75CC-4C8D-9EF5-0C94E395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1DC-9618-400F-958A-5D52117D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1AC-70FD-4C5A-AE17-AD334B85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280-AF34-4E2C-991F-D9E07692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11C-34EA-42DB-A60A-BFBBA4E5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B7F-3D78-4E47-B20B-103A1490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D1C-9661-457F-AB26-5C2694DB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728-9446-42AA-9F62-3187ACAF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3ED-13D1-46CF-8091-D6A3B2A2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9A4-688A-4F7C-ACE9-3F3DDA1E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202A1-CBDD-4DC8-916D-36DE786DB2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молитвы, в час про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твоей нужды боль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риятный, в час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ли, брат, до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час молит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еко ты заблу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Христа в путях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примир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мой друг, вн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йдёшь ты уте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ешном мире сём, брат 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Иисусе в день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обретёш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прийти к Нему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зыщи прощ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с небес об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твой иску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6:35Z</dcterms:modified>
  <cp:revision>14</cp:revision>
  <dc:subject>Slavic hymnal Гимны веры христиан, hymn 335</dc:subject>
  <dc:title>В час молитвы, в час прощенья</dc:title>
</cp:coreProperties>
</file>