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DA6-FCD2-40D2-B3C3-61FA0D5B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952-2893-4C8A-83B1-9BE97E37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23F-958F-4783-A9BE-1F0DD1F7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056-87CC-4F5C-892D-A451665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46F-FC3E-49C4-8BC1-6D63A11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AEF-60D6-4763-A3BB-2D471FB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704-992D-449D-BF2A-EF76677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9C8-7A09-403F-960B-441709CD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578-A715-474B-81FA-5CCE7BE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F7B-E296-4D9B-9E0B-FF90622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B70-E1A0-4C9D-963A-A22B457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858-D14B-417E-979C-19916DE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CF4E6-3E4F-4C43-A745-FF045BC6BA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13Z</dcterms:modified>
  <cp:revision>12</cp:revision>
  <dc:subject>Slavic hymnal Гимны веры христиан, Ukrainian hymn 70</dc:subject>
  <dc:title>Ясно Свій маяк Отець наш</dc:title>
</cp:coreProperties>
</file>