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AE8-4952-4921-A140-D6ADD192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895-0159-4C33-8CC7-A94F9A1A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9D4-2423-4908-9624-84589D3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045-4B1E-417A-8545-77EE92E0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951-20F9-4364-ABDA-CC455F2E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A6-9D1F-4FCA-97F1-D1A43652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1FE-3AA5-4D43-9960-6D5BBD48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40F-6565-43B1-BE7C-B38D4FF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68D-CF83-4D7D-9BE2-F3717C0B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B87-5C1C-4D65-9813-C03E0355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181-E470-4B2F-B51C-921F70A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555-D7A8-43FE-8EC9-904975F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FDF23-F50C-4C70-A917-8177F4C6FE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   As the Deer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7:22Z</dcterms:modified>
  <cp:revision>11</cp:revision>
  <dc:subject>The Source, song number 27</dc:subject>
  <dc:title>As the Deer Pants</dc:title>
</cp:coreProperties>
</file>