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580-AF52-4801-9AB2-E51A15B2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C85-879C-47F8-9747-8EB8B76E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A0E-47C2-48E2-870B-0BC217E5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9EC-8166-44D5-B893-28CD0378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6DA-CDEF-4680-817C-8ACC9B7F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6EC-41E7-4CA6-B09D-514F595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16C-A25E-4E8B-BBF9-50643EB2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69C-39E7-48D2-9AC9-2BC509B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9E1-6915-461E-B555-12B5762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101-E3A6-4F04-87BE-2F1EB7B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95C-DAC2-4648-8EBC-DE6E39D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365-219A-4A52-8742-87C3C7C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CC74-E426-437B-99A0-0D76AFBBF2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ule all things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holding all things by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ule in power and reign in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heave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C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35Z</dcterms:modified>
  <cp:revision>10</cp:revision>
  <dc:subject>The Source, song number 590</dc:subject>
  <dc:title>You Are Crowned With Many Crowns</dc:title>
</cp:coreProperties>
</file>