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1E6-3CA0-4D74-94CE-E6EBFF9F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D09-62CB-4517-B542-C35FDEE0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3F8-D6F7-4AE5-B717-52FB230F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895-1FC7-4997-A03D-83E21193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9A8-12E4-4773-8B7C-B5E84C13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C14-5884-45C2-88D7-02DB14A0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2AA-A624-4283-BD41-373ED0C4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8AC-E63C-4222-BC4A-C069D911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7A9-5A90-43BA-802A-0F8A67D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1B0-5B7B-4F07-AB71-E5A5C45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40F-3DC3-4FCA-800F-9D3712CF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496-104A-4410-B794-DD8324E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21A6B-076A-4ED0-8ADE-AF2F770CD1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традающ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 Ты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рабов греха,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ровь и слёзы 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ифлеема д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скорбей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 мир, объятый тьмой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Отца Ты 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страдающ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ы ли плакал на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лимовых сы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 велик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оне их о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ал бы мне источник в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, томясь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и ночь за сво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кал б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ни, сёла,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ерии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бессильного 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и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00Z</dcterms:modified>
  <cp:revision>12</cp:revision>
  <dc:subject>Slavic hymnal Гимны веры христиан, hymn 528</dc:subject>
  <dc:title>Господь, страдающих людей</dc:title>
</cp:coreProperties>
</file>