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40E-FF6D-4125-9D92-E83A9665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D50-2CD2-47EE-A247-0A04FE39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4B4-EE65-4B59-90B2-84A5C571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B90-375E-4023-8C5A-FA9ED586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E88-E903-4134-BC87-2791F82C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2BA-1187-40B2-9DBA-D83E2E02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DD8-E9C8-47C3-8FE6-6D752FF2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672-4F37-43D6-8592-F62D346B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857-C5D4-47D0-91F2-A4445F7F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A94-5387-4200-B680-CD6CBE07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6B7-8553-45A6-BDF3-DE80E064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E2B-40DF-4DC4-BADB-BE802F3B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09A07-4C5F-4CBE-BE9C-F2D2DFE9CF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Saved! Saved! My sins are all forgiv’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is mine! I’m on my way to heav’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ce a guilty sinner lost, und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a child of God, saved thro’ His 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асё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грехи мне прощ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й Христос! я к небесам 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л рабом греха и суе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теперь я стал своим Хри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thro’ Christ, my all in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whatever may be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ied upon the cross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bore the awful penal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 I’m saved eternally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aved! Saved! Sa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9766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Saved! Saved! By grace and grace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what wondrous love to me was show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y stead Christ Jesus bled and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re my sins, for me was cruc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 любовью незем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Свою явил Он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меня Он плакал в тиш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меня был жертвою жи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thro’ Christ, my all in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whatever may be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ied upon the cross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bore the awful penal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 I’m saved eternally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aved! Saved! Sa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572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Saved! Saved! O joy beyond comp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my life, and I His constant c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ielding all and trusting Him al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 now each moment as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Покой в Нём нахо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моя сокрыта во Хри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мнит Он меня всегда, вез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Ним живу, Ему принадле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thro’ Christ, my all in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whatever may be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ied upon the cross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bore the awful penal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 I’m saved eternally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aved! Saved! Sa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6:25Z</dcterms:modified>
  <cp:revision>12</cp:revision>
  <dc:subject>Slavic hymnal Гимны веры христиан, hymn 855</dc:subject>
  <dc:title>Saved! / Я спасён!</dc:title>
</cp:coreProperties>
</file>