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CF6-F56E-4C54-AEE9-D8105A87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31F-DE8C-4DFA-97CB-924165C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E56-ACB0-42A2-8882-DEFF80A9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A5F-95F9-430A-8BBE-524CE4FB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609-CC67-4648-9F31-C090A31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450-4E3A-4F6C-A232-86A4303A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0BC-C34B-4212-9A1F-FF957A9B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E3D-8EF9-4910-9645-3F90396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B2B-3CE9-4044-B78A-D9FFF9E0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96E-2E82-4013-906C-092CB83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525-DE2F-4EDF-8D2D-430864F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450-3FA2-4B20-BCEB-EBCBD30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E73A-F611-4FA8-A990-9E677F9C2F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выш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земных богат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муд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утей люд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все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виде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ее, чем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нёс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тий день воск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птанный в п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ш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1T14:51:02Z</dcterms:modified>
  <cp:revision>11</cp:revision>
  <dc:subject>The Source 2, song number 611 in Russian</dc:subject>
  <dc:title>Превыше силы, превыше царств / Above All</dc:title>
</cp:coreProperties>
</file>