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E62-AF16-4B66-9BE6-3999E44A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432-59DA-4066-AA56-DD5C112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17E-BE88-4AA6-B2E3-B48607DB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C93-EC34-49F6-9078-07D9C092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362-C624-49BE-8658-0CBE89CD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31A-66D4-4FA1-B25A-CF1ECDD5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9D9-C64D-4626-8988-B6A62116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AD2-2AE8-4EA4-922C-A7D782C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131-3D2D-42E1-94F7-BC50D0DB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5F1-CB13-43A6-9BAB-615A84CA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FDA-3A75-4A60-A1AA-925B5415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B27-5FAB-4645-86ED-7B251F6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BF8AC-48F6-4E6D-97F2-59CF1623B8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Спаситель с небес к нам нис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у плоть на Себя восприн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решную землю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раба ныне скромный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Спаситель с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на землю Господь Сам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почёте, не в царском вен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чертоге, не в пышном дво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пещере приют Он обр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с надзвёздного трона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ладыка, Господь и Твор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радости — скорбь Он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пасти Своих бедных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5:40Z</dcterms:modified>
  <cp:revision>13</cp:revision>
  <dc:subject>Slavic hymnal Гимны веры христиан, hymn 229</dc:subject>
  <dc:title>Вот, Спаситель с небес к нам нисшёл</dc:title>
</cp:coreProperties>
</file>