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F8A-9D7A-4D85-ACAC-FA2464D5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EBF-8020-46FB-A822-1ED2C9FA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A2E-E94E-4FD1-85F7-F56B08E3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2D8-5747-4838-8D3A-A17A8827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4AB-8ADC-426E-9B93-B023C505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088-7908-46F9-8BC9-6FEE0AA9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484-AC85-4084-8CA5-E060411D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127-E37C-4B3A-9400-3FDBC498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456-FBF3-495A-B597-1ED03262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D4F-6039-44C7-B344-9D24D17D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B66-C18A-4B46-ABE6-E8C690E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AA3-28F6-4DC3-B658-22E778D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6E1F2-1DFC-478C-AA42-94E27F2C4E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olds the heavens in His h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made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word of His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put the spirit in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uses all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y out gl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63   Who Holds the Heave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worship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od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honour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, He rules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ghteous and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orshipped and ad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s an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olds the righteous by the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marvellous 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tirs the heart of a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uses all His s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y out gl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worship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od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honour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, He rules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ghteous and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orshipped and ad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s an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10Z</dcterms:modified>
  <cp:revision>11</cp:revision>
  <dc:subject>The Source 2, song number 1063</dc:subject>
  <dc:title>Who Holds the Heavens In His Hands? (Glory to the Lord)</dc:title>
</cp:coreProperties>
</file>