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32D-AE56-4EED-94F8-DA3A47DE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333-D96E-46A4-A1E4-413E91F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1D6-CC22-46BB-874D-87995349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635-ED6E-4EEC-8FF3-C218B1C8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AE0-63EA-4969-87D8-E0121ED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E7D-5B86-44C6-9E63-9E71584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4DC-3734-4470-8A5F-4935F09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469-9D46-494B-892D-7646950F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9FE-3617-4899-A6D2-E1D8E48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9F1-AFF5-4D9E-AE7D-6A529C0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66A-2E5B-4530-89E7-E2280D4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3BD-ED4C-4C54-9352-841B377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A9A1E-7F51-435E-B52A-1BC5747A5A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указан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тут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ипов ку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овьи зар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аскают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акалов 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лит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охлады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алящий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жёт и ночь, и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иш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ремнист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осясь на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реди л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шумок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амням хол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ра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треч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крови сл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-то шёл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орьбы 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ой мгле со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уров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дали бле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хоть вихрь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30Z</dcterms:modified>
  <cp:revision>12</cp:revision>
  <dc:subject>Slavic hymnal Гимны веры христиан, hymn 449</dc:subject>
  <dc:title>К неземной стране</dc:title>
</cp:coreProperties>
</file>