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53A1-35DD-4783-BB69-428689E3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0F7B-2FC3-47CE-81C0-27F81945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C85F-1CDE-4EB3-95F9-69856739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5C0D-DF5E-418A-9936-23CC2A170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0529-9682-4A32-9738-206DB982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89DE-D7D1-460E-93F9-5281F799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F4A1-453B-4C93-8C48-8A9678EA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82D9-0163-424C-8EC4-01679ACD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B591-6753-484A-B55F-7E960889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3C3F-5C84-4141-88A2-9C140661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36F4-44D5-4BB0-8EF7-FAAD77E3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14EF-E8E1-4C3F-A023-CEC92347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0D095-6013-41AD-AB2D-F75988A274D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 хочу сто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ерцать душ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 Голгофы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течёт рек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, у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моя и сл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енья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лаженство 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 креста хочу сто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 меня наш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и с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везда святой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мой озари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, у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моя и сл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енья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лаженство 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 открылся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ткий Агнец Бож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влёк меня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 всего доро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, у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моя и сл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енья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лаженство 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 я буду ж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ой и надежд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Бог велит при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безмятеж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, у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моя и сл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енья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лаженство 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9:37Z</dcterms:modified>
  <cp:revision>12</cp:revision>
  <dc:subject>Slavic hymnal Гимны веры христиан, hymn 424</dc:subject>
  <dc:title>У креста хочу стоять</dc:title>
</cp:coreProperties>
</file>