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AB1-F2A9-4509-8D6B-BA094B1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B3F-F51F-4CE4-85C5-AB89D658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79A-774D-458D-9B90-18813B24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183-555C-4FAF-BE62-23F3B075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517-6F4F-4488-A00A-00B6C52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4CB-D006-46D1-BFA6-BD1C692C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061-3B2F-4BFD-B374-BE2E5F12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BC9-944A-49A8-8589-2548842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9DF-1619-4383-963A-0274AFC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D65-0C4F-480C-B328-0ABC7A3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661-4FD1-46C1-A1BB-B381F71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2BE-8D6F-4811-9BE0-238D1C4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EF7E-99C2-403B-958A-730D2388A5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ен колодец в пустын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ен он светлой кристальн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идут по неровным пу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, к далёким кр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гие с жаждой в устал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т, не видя колодца т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шего ищут они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ибнут в пути, не найд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роен колодец в пуст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колодцу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вопрошают: когда, поч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ем он был вырыт? и спорят 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поре проходят их лучши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источнику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ьют из живой глуб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овою силой стремятся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 небесно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идишь ли, друг, ты колодец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нися, не спорь о начале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аждешь, ― и пей из колодц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век на земле не возжаж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18Z</dcterms:modified>
  <cp:revision>12</cp:revision>
  <dc:subject>Slavic hymnal Гимны веры христиан, hymn 396</dc:subject>
  <dc:title>Устроен колодец в пустыне сухой</dc:title>
</cp:coreProperties>
</file>