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F9117-D164-43EA-9552-EC96070CA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68327-9265-4763-A6AE-80A6FD726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2ECC3-D3C2-447B-A7BB-E04763D37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FDBA6-E8A3-4070-B218-FFBDB8FD8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E785F-8FF2-4260-AFFA-703005D28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570A7-934F-403E-95E5-BE745B87E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E9350-7076-4599-AA9B-9C14F1667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01F94-801E-41D8-BB08-A3669E73C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FD922-AE21-426B-A50A-77FB74C70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C679A-B3DC-496C-8EDE-8296CCB06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C0C4A-4DF5-4D30-AE86-AFEA44742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AEBDF-DE68-4ACB-922E-15BD37A33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F5D533-5357-45D3-8F2D-2CCB87EF18D5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 щоб не було б то через Хрис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 щоб не було б то через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уша моя була би пропал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 щоб не було б то через Хрис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уша моя була би пропал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 щоб не було б то через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97   Як щоб не було б т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21T07:02:16Z</dcterms:modified>
  <cp:revision>13</cp:revision>
  <dc:subject>Slavic hymnal Гимны веры христиан, Ukrainian hymn 97</dc:subject>
  <dc:title>Як щоб не було б то</dc:title>
</cp:coreProperties>
</file>