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39F-3068-48A5-AE3A-48D6F987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A68-F3A7-46AE-AEE6-A7800BB0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7F1-A0D3-484A-A4FC-7A076DDF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D44-9A6D-46F5-AB5B-929CC45E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0B1-0849-4F9F-A9DC-64AA57B5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8B4-74DC-4946-B74B-ADF5A171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531-723C-47AE-ACF2-08250A50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A48-74F8-498B-A4F9-360CC43D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5A4-2B8F-4369-980F-7314B981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69D-B61E-4184-91BE-48D76364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493-7ED7-45F9-A078-FD6AB19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D2F-6C4E-41BB-9466-DEA6BE28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0E576-38EF-4F6F-964F-463D93BE0B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среди п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ночи мрак исче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ть песню для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ир на земле! Господь пос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лог любви свят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в безмолвии в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иши но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ают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ной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несут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адост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горе, плач и с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ат они с хва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глушит наш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есни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, под бременем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бённы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рудом идущие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, новый день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десной быстр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те с радостью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ступают дни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ждётся челов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и войны и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лавны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оцаритс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ури 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ются все сердца в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8:24Z</dcterms:modified>
  <cp:revision>13</cp:revision>
  <dc:subject>Slavic hymnal Гимны веры христиан, hymn 795</dc:subject>
  <dc:title>В тиши ночной</dc:title>
</cp:coreProperties>
</file>