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7FC-B989-4316-BA0F-19E8E6E1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F15-909E-4552-97DF-78A4733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73D-629F-491B-BDCF-31D2601A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455-51AB-4260-BF5B-9DBF3238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861-6C3E-4C20-8192-9AF792F6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1A9-3030-4A9A-9E38-41165D08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078-C4FC-48DD-BE64-21C9D226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AD6-737F-4FB2-A678-4F83ED8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295-5604-4B5A-86AE-9255D28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559-1373-4358-A7F4-0D9FE48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498-3C0B-481F-B164-E72A167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DAF-E8F3-40E7-8EB2-9173D660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9B288-F049-4B68-860F-555EDE4810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я у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Уте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ам навек при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овь Божия, вста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полноту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ики во все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ются в своих гре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у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силой полны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ас, для вас,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молясь и ве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а будет нам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ть 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ад к Пятидесят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е поспе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етхой жизн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щенье Духом и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вымо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59Z</dcterms:modified>
  <cp:revision>13</cp:revision>
  <dc:subject>Slavic hymnal Гимны веры христиан, hymn 309</dc:subject>
  <dc:title>Я не оставлю вас одних</dc:title>
</cp:coreProperties>
</file>