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2D3-75F8-4185-9B92-9D540353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6C1-5AD5-44E9-9848-4EF6146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790-453E-497C-BA14-EB4B2738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41A-5564-441E-BD02-88B402CC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705-0BEE-47BD-868B-4CF3CBC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402-6CE4-47BC-AF0C-7FC1BE3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460-D78D-490E-962A-2C7AA5D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67D-4F82-4420-80F9-E89BE75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637-94AE-402F-BFE2-2EBFE6B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F80-20A8-4CDD-9BB6-C73434C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53F-4399-4E4C-9960-11BA52F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78F-E79C-4AC1-9F2F-BBA00DC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DA876-4957-4904-9FDF-FEDC6A7F1F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sins He forg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37Z</dcterms:modified>
  <cp:revision>12</cp:revision>
  <dc:subject>Slavic hymnal Гимны веры христиан, Ukrainian hymn 100</dc:subject>
  <dc:title>Rolled Away / Він обмив</dc:title>
</cp:coreProperties>
</file>