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05A-7428-4F06-9A24-0987F8CD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1DE-14F6-4AA8-A393-09CC56E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B6F-163D-4324-8B04-9F58EAE7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7B5-1B83-4EED-8D6E-CAD57C0A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AE1-1085-481C-A8F0-FCC68B7C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674-BEE9-43F4-BEFB-D77643F7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50A-0250-4C24-8DEB-C0537A14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2E8-F6C4-4D3A-B476-F8E97030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20B-C458-46E8-9824-69C9DF06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9A2-2602-4024-B90F-F089F26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AB1-3ED1-4F28-B589-0C972F4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05F-B2C0-41E8-8557-4B6D393D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7BF13-C593-40EE-B41A-0DE9A63459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5Z</dcterms:modified>
  <cp:revision>13</cp:revision>
  <dc:subject>Slavic hymnal Гимны веры христиан, hymn 640 (as amended)</dc:subject>
  <dc:title>Standing on the Promises / Доверяю слову Вечного Царя</dc:title>
</cp:coreProperties>
</file>