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11B-1AB5-4A14-A8C6-ABE1A5E1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B36-B081-4A66-8016-88E395B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A79-F469-4137-92D0-1DA4E825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3E0-13E8-4FB1-AF6C-F0E45571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92C-7068-4D0E-93BB-1E210614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E3C-5F5A-454B-9922-325C4D1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64A-2962-411E-BCE8-49AE214A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D3A-894B-4A96-AD59-17F6972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49F-D8AC-4250-9EB7-7CBDFDFC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F0E-0AB7-4563-B361-0A13DA8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18D-3B3A-4511-9146-202C13DD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773-3F38-4542-B091-FF25253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EDEA-AB39-4456-B8D4-2912B41F19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ure as Jesus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is strength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fear, anxiety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faith o’er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Shepher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heep He leadeth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leasant pastures gui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ters fresh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 sunlight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me o’er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through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uard me with Hi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f my faith should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nemy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o the Saviour’s heart I’ll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ind a reme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unto Him I loo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to Him t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esus loves me tender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my comfor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9Z</dcterms:modified>
  <cp:revision>13</cp:revision>
  <dc:subject>Slavic hymnal Гимны веры христиан, hymn 461</dc:subject>
  <dc:title>As Sure As Jesus Lives / Спаситель мой живёт!</dc:title>
</cp:coreProperties>
</file>