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C1B-81D4-41D5-845D-6CC33808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08C-0B1E-4484-AAA0-B90D441E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629-2013-4C45-8878-21981242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D8B-E0D5-4245-8682-484A5FD9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F39-41C0-454F-808F-B7B6649D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4AA-94F5-4775-90FB-3603F8B2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2B6-83A7-4BE8-8BE0-30ADC3B1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103-903F-4769-BF66-8505720A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E5A-B14C-499B-89DC-FF3A9C46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946-E8CD-4E74-9ED3-E802A896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C27-0D6F-4F95-87C0-A90AFA87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EFE-D636-4B11-B2F4-01620960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F19F7-F7F5-458D-86B5-ED5C51D458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те, все,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Он на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ликуют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чудесный х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душа, и п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спас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Искупитель дивный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Царь твой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славьте, все,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ы глубоких 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на небе сохра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ля жизни 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еет сераф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еть на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т голову пред Т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ами в тел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ве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мерть побеж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людей от всех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рука си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хвала и ч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― и жив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, чтоб нам жизнь прин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, чтоб смерть поп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го с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Он Духа, чтоб при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чну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щедротам нет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0:55Z</dcterms:modified>
  <cp:revision>12</cp:revision>
  <dc:subject>Slavic hymnal Гимны веры христиан, hymn 808</dc:subject>
  <dc:title>Прославьте, все, Христа</dc:title>
</cp:coreProperties>
</file>