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ABD-A3D2-4BB3-A811-F4482496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346-C5AA-4FC9-87B8-49B3A804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9AC-2AAC-40D9-B051-6E841F42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2F7-44D7-481C-80F6-BD14D9B6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35C-7CBD-4D94-BD24-93F05010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334-02BC-483B-A38E-F412F1D2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753-9955-4030-A3E4-AB941B8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333-412A-47F5-A980-7A6B1812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96C-BA6F-4FFC-9AF2-F80931E1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DB1-1AE0-486A-BD96-2705CE6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2A4-EC5D-4963-A874-7A95523C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BD0-4378-457E-A39E-0C14BE7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36744-596D-413C-8845-28D3008B38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, ye saints! The sight is glorio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Man of Sorrows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fight returned vict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to Him shall b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те с ликовань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 с ликова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непоб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клоняется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become the victor’s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become the victor’s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, angels, crown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the trophies Jesus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at of power enthron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vault of heaven r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венец нес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в спасень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тол вступил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хвал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 King of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 in derision scorn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cking thus the Saviour’s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and angels crowd aroun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ли люди з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ем Христа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вс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честь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ose bursts of acclam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ose loud triumphant ch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takes the highest s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joy the sight aff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гимны ликова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хор небесны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Царь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му всё пок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and Lord of l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and Lord of l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1Z</dcterms:modified>
  <cp:revision>13</cp:revision>
  <dc:subject>Slavic hymnal Гимны веры христиан, hymn 297</dc:subject>
  <dc:title>Look, Ye Saints, the Sight Is Glorious / Посмотрите с ликованьем</dc:title>
</cp:coreProperties>
</file>