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647-9633-4400-B563-5BF14BAF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3BE-B345-406F-B052-73F16838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AF1-B4C1-4348-B637-F9A63464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227-9723-4F7C-B862-C2341D2A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103-9591-4A2C-9876-3CA743A2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6C9-4C8B-4BF4-B3BA-98D8E2DE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496-DF3A-4B62-B6EC-9DE9C2BF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DF4-3310-4F32-B33B-495C850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330-0C5F-4F35-9B39-A548DBCB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29B-AC49-46ED-BA83-8BB9D1C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A0A-F06D-4F41-8A09-43317004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B4B-4BFA-435E-A50D-2C573CB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2DA7D-FF90-4098-97B3-DA51BFDFCE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 Христос ли я и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ин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ться ль мне встречать вра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дится ль мне 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а Христом ли я и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ль на небо понес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укете пышных 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гие в бой и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ют потоки слё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вижу ль пред с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ль призыва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е спешит ли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мить Господень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бедить, иду я в 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дай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но всё перено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06Z</dcterms:modified>
  <cp:revision>12</cp:revision>
  <dc:subject>Slavic hymnal Гимны веры христиан, hymn 793</dc:subject>
  <dc:title>Не за Христом ли я иду?</dc:title>
</cp:coreProperties>
</file>