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CE8-BDE2-4070-884F-FE4FFEF1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A17-6A23-4FBC-A821-0B287DCF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C5A-D4D1-4F9D-A976-C26CAB12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1BC6-FDEC-450B-A4D0-D0CCF235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F5C-229A-4FFC-8C12-0BA3D35E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0A6-8061-48A8-A92D-A60B8511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F23-D7A2-4D79-92DF-C440F850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DFA-33F5-4626-8A97-D6FC1F67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D43-C8DC-4D27-904A-6B034E13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34D-DBAA-4230-9056-5F8B0C9A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0F7-E2B5-4012-AFEF-F2B114D5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994-1A41-4AC9-B567-62FE0EC6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254DE-1F65-41A7-8337-4B4EC77545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избитый в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на Голгофу, нёс тяжкий кр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мученье и гнё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для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Искупитель, изби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Отче!» — неслась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ручьями из ран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от гнева всех защи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ын Божий мог так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я должен любит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иновных Он жертвой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, и в небе Его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авить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2:06Z</dcterms:modified>
  <cp:revision>12</cp:revision>
  <dc:subject>Slavic hymnal Гимны веры христиан, hymn 414</dc:subject>
  <dc:title>Мой Искупитель, избитый весь</dc:title>
</cp:coreProperties>
</file>