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8B2D-C6D9-4E74-A246-CB0ABA3CC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DB98-B35D-4405-B156-2C97F5C86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9FDE-7DB6-4875-8F68-423B95B11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8BEE-64A5-40F5-9FCE-261925601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E760-70F1-407E-AD2A-451971C6E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1CFD-DA40-4FF6-A223-8EE301CA9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6A88-F690-4A4C-AC34-D3EFAD7DA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02C8-E84C-4598-9E8D-36F910ED3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7DC0-06C0-4B20-8265-1A8E04C88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7CB8-048F-45F9-9F21-E705D9E5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4035-B15B-437F-8F19-F89CB499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FC95-59B9-430E-B7FA-C3892AEA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75EF14-E98B-42FC-826E-8E2511F0228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итель моя у потоков жив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веты там не блекнут от зн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ечное царство лучей золот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ви совершенной, пок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люсь я душой в надежде жи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от край, где нет зла, ни страд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силы, Господь, идти за То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тчизну чрез тьму испыт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829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7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битель моя у потоков жив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чизна та сердцу дороже вс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я отдохну от боре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место мне есть у Царя мо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али от земных искуш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ончится путь, нет бури в душ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вере победу мне дал О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блаженных толпой, как радостно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 вечную славу призвал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зей там увижу, их смерть унес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с на земле разлучи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стонов и спали оковы грех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корби там радость смени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бщеньи святом пред Господом с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ою мы в песне воспрян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Агнцу, что смертью смерть побед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ть славу и честь не престан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18:32Z</dcterms:modified>
  <cp:revision>13</cp:revision>
  <dc:subject>Slavic hymnal Гимны веры христиан, hymn 673</dc:subject>
  <dc:title>Обитель моя у потоков живых</dc:title>
</cp:coreProperties>
</file>