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7CA-5740-43BB-BA13-24188BD8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39D-69A7-4769-96A4-619443D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093-5C5B-4DBA-896B-27E37610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E6B-CAA8-4CC8-801B-D77A5BCD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42F-0852-4C78-8B2A-4D76ADA4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B92-993A-4976-8BC4-7E9D232A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6CE-7E8C-4554-9F50-91D9AC5D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523-70FD-4A44-9515-1422128B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63C-18F3-4D35-BD83-E818F899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FEF-8EC2-42EF-B10A-E002C9BC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BB3-4AFA-42BA-8FC8-2685A32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BDC-B313-460B-9365-FF3AE11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93C26-9DDE-4E7B-807D-66DEA3FD06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to the world! the Lord is c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earth receive her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every heart prepare Him 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 and nature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 and nature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, and heav’n and nature 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ся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уйся мир! Господь гря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я, ликуй пред Н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ми скорей Царя ц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,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to the world! the Saviour reig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n their songs empl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fields and floods, rocks, hills and 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 the sounding j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 the sounding j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, repeat the sounding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уйся мир! Христос при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ерквах поют о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я, сады, леса, хол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,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more let sin and sorrow g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r thorns infest the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comes to make His blessings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 the curse is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 the curse is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, far as the curse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грех не ослеплял нар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терны не рос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жизнь даёт, снимает гн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, 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rules the world with truth and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the nations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glories of His righte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, and wonders of His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ёс Он мир и благо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се могли позн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Бог велик и справедл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, 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9:53Z</dcterms:modified>
  <cp:revision>14</cp:revision>
  <dc:subject>Slavic hymnal Гимны веры христиан, hymn 243</dc:subject>
  <dc:title>Joy to the World! / Радуйся мир! Господь грядёт</dc:title>
</cp:coreProperties>
</file>