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FA7-5041-42DC-8894-BBE613D7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7AD-2C13-46D8-98E4-05F79E3C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029-87B7-4EA8-8B52-7F6D9246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8D6-16B8-4D2D-A199-9E83FF94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06C-3B79-44B5-96F5-230D6432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126-42FE-4BF9-B416-6B69F14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C30-77B4-4DC2-9B63-D15739BC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869-7F24-44CD-A620-F963ED37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B16-8A11-4C02-B61A-E73821F4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D39-0E6A-4FF2-9AA8-C4AAE63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827-2E8F-492E-957F-5DF18CD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144-5A94-4DCF-8B9D-A017405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356CB-327C-4222-AFBA-179A813671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Whosoever heareth,” shout, shout the s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blessèd tidings all the world ar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joyful news wherever man is f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cometh need not del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Now the door is open, enter while you m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Jesus is the true, the only Living W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Whosoever will,” the promise secur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forever must endur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’tis life forevermo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18Z</dcterms:modified>
  <cp:revision>15</cp:revision>
  <dc:subject>Slavic hymnal Гимны веры христиан, hymn 382</dc:subject>
  <dc:title>Whosoever Will / Пусть берёт, кто хочет</dc:title>
</cp:coreProperties>
</file>