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A56-A064-4F2A-8493-ECB5E44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C52-EDFD-4118-B685-5C1FFA4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5BD-105C-4F71-A54A-93B027E8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6B1-AC14-49CB-9E7D-E5C1172E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F50-07C8-4EB6-AFDE-D9D970B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08E-D339-42E9-AC28-9B4DDC6F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20F-C073-4524-9C65-8517026B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638-64ED-4902-A1F6-6896FD14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FAB-43B5-483A-AF26-91B89493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BCE-4E30-41CD-BD2D-CE961AAA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306-D043-46D8-AF9B-4D3C4F0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6A8-3498-4B64-A844-75DDB85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65FED-EA5A-48EC-9801-304D479FBC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тебе уж проб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а ты снова возврат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приходит 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глас внутренний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щадит теб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ё Собою напол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а грешных пере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ра тебе уж проб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душа, а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и тихо слёзы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греховной тьмой од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мерть тебя, как жертву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ридёт, как гость не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весь ужас з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час неведомый, нежд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опомнись, хоть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оже мрачное взгля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увствуй стыд и ун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н греховный отг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вно к тебе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ты светом озар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 — Он длани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, просн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враг твой бдит всечас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бездна по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жий гнев, как гром уж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мит над греш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, скоро разраз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якнет благости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верь спасенья затв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49Z</dcterms:modified>
  <cp:revision>12</cp:revision>
  <dc:subject>Slavic hymnal Гимны веры христиан, hymn 376</dc:subject>
  <dc:title>Пора тебе уж пробудиться</dc:title>
</cp:coreProperties>
</file>