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D670-1E7F-431A-8F7B-E6D24E093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0A3F-F3E4-404C-BDC5-2D5905722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A2AD-041B-44E5-9CE2-0E64EC63A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0F8F-7C92-4F26-A4F7-0C405FAB0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5D71-3F20-403A-AD57-31EB30F49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7101-04F1-459E-878B-9B70B0FBE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F4B1-3B4C-487C-96D4-438D0012D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05E5-AFB2-46CC-9631-E9760ABE6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824A-0E7B-4764-8131-B15A8371C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22B3-74A9-491C-B5CC-416EF3C4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5745-9798-485F-BADB-F7DF868E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64D6-3CEB-488E-B79A-56F4B582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19B20D-8F3C-4D38-B09B-28E01B597D4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aise the name of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aise the name of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s my rock, He’s my fortr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s my deliverer, in Him will I tru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aise the name of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435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Praise the Name of Jes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4T06:00:22Z</dcterms:modified>
  <cp:revision>10</cp:revision>
  <dc:subject>The Source, song number 435</dc:subject>
  <dc:title>Praise the Name of Jesus</dc:title>
</cp:coreProperties>
</file>