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5260-CFC6-4EA3-AA28-800B1349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418D-7610-44A0-9436-13D7DE30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F4B2-68D8-47C7-B1EF-30E08C8F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D96-32B8-4E46-809B-BBBB13B3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8C52-5564-4F4F-9491-4134D419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53B8-D573-4CCA-946C-135E7888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FF2E-BC26-4BCD-8FFE-C216971C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BCA2-64DE-42A5-A485-80B8BADD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B858-B70E-4076-90F2-58D1FA7C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8AB8-A528-4A81-AB16-C2279D67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B88B-3763-4B2E-B87F-81232568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4409-8994-4A56-A446-7F966190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8CF8F-F920-478C-AAB8-8B4841A0CD1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о время: я, лик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ёл на Божие д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ворил я: «Всё мог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о мной падёт скал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рудился, рвенья пол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оил дом, пахал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ой дом размыли вол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ла плодов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ло время: я, лику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гда душой смущ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юдей на помощь з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работе обновл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совет не помог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утешный и уны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пал на берег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Беден я, во мне нет с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его я не мо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еня достигло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к тебе так близок б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силой, к помощи гот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 Мне ты позабы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ань, возьми Меня за ру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, много силы в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ой труд, рассеяв му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вершу рукой Своей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нял я зов и см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лся за руку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пошёл на то же д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есплодные м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о, чудо! Зреет кол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рос дом на берег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пел мой громкий гол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сё я с Господом мо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7:17Z</dcterms:modified>
  <cp:revision>12</cp:revision>
  <dc:subject>Slavic hymnal Гимны веры христиан, hymn 434</dc:subject>
  <dc:title>Было время: я, ликуя</dc:title>
</cp:coreProperties>
</file>