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DA7-480F-42CC-9893-A5249170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1A9-D7DD-4D94-A702-D849A02D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67E-F19A-4EFC-90AA-B83B52A5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9F7-AC39-4D1F-AFAE-D643CABC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8A9-BF49-4E78-828B-2990BED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A73-A41B-410F-B702-2BE6DB9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911-69AD-4A22-83ED-6A355E15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A95-ED05-471F-87A5-5910AC49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051-408F-4BF4-81BE-8F107327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97A-87F5-453B-964C-E925878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555-990C-42A8-99D8-01157B4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DE1-C6BA-4F3B-BF2B-5A176FA4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6BF55-4E14-4483-A767-5167279804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итель стражд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одно,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байдуже стоїш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кров проли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7   Чи тобі все од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на Голгоф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уми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провин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ебе Він уз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кого ж Він вмир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и думав про 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ріхи Він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лага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упитель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в Царство теб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евжеж в своє сер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ймеш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ближається вічніс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умай про 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уді, знай, ніх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ступит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ануть всі перед бі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столом Христ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ж тоді ти сховає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чисті ді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18Z</dcterms:modified>
  <cp:revision>12</cp:revision>
  <dc:subject>Slavic hymnal Гимны веры христиан, Ukrainian hymn 77</dc:subject>
  <dc:title>Чи тобі все одно?</dc:title>
</cp:coreProperties>
</file>