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058-20D2-4972-858A-5BB5FBDD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CE9-8DAC-45EA-A7E0-01B48643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BD3-5435-4797-8EF5-E4DF1A50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A8C-1036-4940-9227-16BEDAFA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79A-FF78-4861-ADF8-C8568408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1A5-3B3B-45A7-90CB-ACA1EDAD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75E-3F2C-459B-B9ED-6FAF7411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65B-F77C-4942-A8EC-340A2724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F7F-383D-4C2A-B259-2E6F1AFA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E72-E01A-49DB-87AB-D528034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63F-D7E9-4503-B344-F78927F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44C-3B82-4A0C-B199-850981AD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118E2-D2C1-4C8D-98E8-3CFA65137E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God be the glory, great things He has d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loved He the world that He gave us His 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yielded His life an atonement for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pened the life gate that all may go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7   Христу лине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ристу лине слава, Бог нас оправда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к світ полюбив Він, що Сина нам 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кров’ю Своєю гріхи нам ом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всім нам двері життя навік відкр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perfect redemption, the purchase of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every believer the promise of G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vilest offender who truly belie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moment from Jesus a pardon rece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ощення дарується Богом т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то вірить у смерть і спасіння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йгірший грішник, як вірить Й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митий, спасенний у крові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eat things He has taught 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eat things He has 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reat our rejoicing through Jesus the S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purer, and higher, and greater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wonder, our transport, when Jesus we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г нас викупив і нам мир дарува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радість по вірі в Ісуса нам д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оли Він візьме нас до Свого Отц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ді ми всі разом прославим Хри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8:29Z</dcterms:modified>
  <cp:revision>12</cp:revision>
  <dc:subject>Slavic hymnal Гимны веры христиан, Ukrainian hymn 67</dc:subject>
  <dc:title>To God Be the Glory / Христу лине слава, Бог нас оправдав</dc:title>
</cp:coreProperties>
</file>