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E94-D420-4CAA-819D-AAA0117B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AB6-2498-4093-B6CE-5A132FD1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94C-A071-4E74-8A99-E6F194EC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DE85-19C9-418C-A0E8-260F2DB0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B53-8022-4A27-809D-CBFB1855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4C1-149C-4BC6-A9B7-3D2AC279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4FC-CFF8-44C0-A03B-FC49ADE3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7FF-B201-4CF7-9430-58CDD1FF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DA0-5D1D-4C16-8823-AEC7A90D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C46-6578-4954-A5EC-6F45E1B4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123-1EEC-4DCF-93DE-49545C94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B10-358B-4A2B-A156-C7E934C3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4BC48-6391-4214-A82B-900558C9D6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ь от сна, друг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 полуночи ж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шествует побе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мертными судить жи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рядёт, и всех пробу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ая Его труб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удья тогда осу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енивого ра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будись от с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лажен, кого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уде Его на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бессмертную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лой радости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гись же постоя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, душа, и бодра 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лночный, в час нежд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ут тебя на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дивые вздрем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кудел у них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то несчастны 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тались вне дв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ь, о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жги светильник тв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грядёт в венце побе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ластен на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9:24Z</dcterms:modified>
  <cp:revision>12</cp:revision>
  <dc:subject>Slavic hymnal Гимны веры христиан, hymn 380</dc:subject>
  <dc:title>Пробудись от сна, друг бедный</dc:title>
</cp:coreProperties>
</file>