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25A-C3E3-4F16-ADDF-D2AC1CEE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584-D3EE-4A82-997E-4489272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2C6-FDC2-4BF1-B90A-B89082D4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638-5A29-42AD-8C2C-631B7895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EE5-E5D7-47A7-846C-D914CA33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7AE-CF84-4714-BB7E-A4790118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9B0-65F6-48DB-A1ED-4BF276BE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BC9-DD90-4B45-9664-7C80C71C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7EE-0859-4F48-8F61-B5F6FCE6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39D-B970-42A2-A4B7-CFE516D4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7EA-1593-4487-A611-D25CFFE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EF2-6D7A-45DA-86A7-0FC8805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C0ACE-40F6-4CC0-93CD-51F9765727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ain would take my 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hadow of a mighty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пре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калы высокой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дых от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within the wilder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est upon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burning of the noontid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утнику надёж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а от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траданий отдох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емны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fe and happ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fuge tried and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ysting place where Heaven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’s justice m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абым обод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наннику при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лость Божья в мир со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менил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o the holy patri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ondrous dream wa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eems my Saviour’s cross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adder up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Иакова в ну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м чудным обод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мертью Агнца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 в небо нам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eyes at times ca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ery dying form of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uffered there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Христ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я в свет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, Верного От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rom my stricken heart with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o wonders I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redeeming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unworth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прильнувши ко кре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лубже по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Господне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от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ake, O cross, thy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abiding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sk no other sunshin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unshine of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н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до ко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мне иных луч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вет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tent to let the world go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now no gain nor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inful self, my onl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 all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кидаю, не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сё здесь нипоч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лишь самого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юсь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6Z</dcterms:modified>
  <cp:revision>13</cp:revision>
  <dc:subject>Slavic hymnal Гимны веры христиан, hymn 415</dc:subject>
  <dc:title>Beneath the Cross of Jesus / Вблизи креста Христова</dc:title>
</cp:coreProperties>
</file>