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597-B3EE-4D65-B807-9A77FA9D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1A6-76E0-490B-BF69-080C40A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7AB-2E09-4EEB-91D9-D44FD8C3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BBC-627C-44AE-A45F-6506EEC9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B21-DF46-4575-835F-37541E4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44F-80E4-4487-8EDF-6AD182CA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180-E6EE-483F-9683-0C672B34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5DB-5189-4500-8230-24CB2F7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6CD-C4AA-4C46-BFAB-829BE06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1F6-D536-4D0C-AE59-85FD2FC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B72-92EE-4930-B5D2-482691E7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24A-8398-4959-85B2-7D6C080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1306-75B4-40FC-AACF-37B3012B4C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чашу 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ам Божи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ко мучи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герой Один сто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трость воин в рук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уничиж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 на крест повеш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какой зло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, кто всем добро 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ён был о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 медлишь, о мой дру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дали сто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 молитвой и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обра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27Z</dcterms:modified>
  <cp:revision>12</cp:revision>
  <dc:subject>Slavic hymnal Гимны веры христиан, hymn 284</dc:subject>
  <dc:title>Там в Гефсимании Один</dc:title>
</cp:coreProperties>
</file>