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1315-7FD1-4F72-84B8-1B13E57A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E448-88A1-438C-A823-98006A96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8CC-EC1C-4C9F-AA31-E4A18BC4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0754-21BD-4785-8620-18206FA4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A78-43B6-4F48-BB95-0C3E6F98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234-665C-45B3-8D38-8F8F9315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8125-C68F-4E97-9FD6-CB08EC34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584-43B5-40E9-BFC5-AEBF5575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FE5-C3B6-40E6-B5B3-9811FF89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2B0-DE17-4739-B10D-9C5957CC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F4D-E128-4ACA-85AA-3653B1C9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360-AE4E-415A-9733-5151857C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710EC-24BD-418F-8CE1-AE74A0993A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же всех на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освободи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 греховной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ердце привязал к С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ко мне любов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теперь и 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ю куплен к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ёл я Друга од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ёл Он на м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нам вечной жизни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м купить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имею, кем я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я не счит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таланты, жизнь и 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я посвящ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хранить Он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ведёт Свое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веки не забуд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славы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стремлюс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корбь и труд мой путь л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ому по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чудный мой Спас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изок, верен Он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Утеш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сила раз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м Другом несравнен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всегда соедин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чным, неизме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5:34Z</dcterms:modified>
  <cp:revision>12</cp:revision>
  <dc:subject>Slavic hymnal Гимны веры христиан, hymn 583</dc:subject>
  <dc:title>Нашёл я Друга одного</dc:title>
</cp:coreProperties>
</file>