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E763-0F09-4BC4-9C7B-59AF79495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7CEE-F619-4BF6-85F7-921D8461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6E01-1105-48B0-9E4B-575A2196B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CA43-CDB8-4C42-B19E-BA9A56104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2019-BF90-4805-BDD9-FD68C6E0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2558-5D43-40B8-A529-172D19B8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2C53-90A0-45A1-821D-888C992B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0101-23F1-402D-BA59-14F25F24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7F75-54DC-4C98-AA15-A5297D6C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6A06-9A86-402F-ADCD-F8601860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B7E7-333E-4233-B755-4AA0E92C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26F8-D50D-40EC-B4B6-2731194B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9F660E-C312-4D18-AAD5-022C4D9C1FE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we gather at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bright angel feet have tr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its crystal tide for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wing by the throne of G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третимся ли мы с тоб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имся ли мы с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вятые все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покойною ре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ы чистые теку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we’ll gather at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, the beautiful ri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 with the saints at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flows by the throne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ы встретимся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чудною, над чудною рек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 неумолкаемой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мы будем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we’ll gather at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, the beautiful ri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 with the saints at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flows by the throne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ы встретимся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чудною, над чудною рек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 неумолкаемой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мы будем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margin of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hing up its silver s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walk and worship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happy golden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прозрачною ре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ой, светлой, как кристал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оскликнем мы с Тоб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день теперь наст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we’ll gather at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, the beautiful ri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 with the saints at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flows by the throne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ы встретимся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чудною, над чудною рек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 неумолкаемой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мы будем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we reach the shining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ay we every burden d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our spirits will del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rovide a robe and c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жду нами и ре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непроходимый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коль тяжкою цен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м его откры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we’ll gather at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, the beautiful ri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 with the saints at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flows by the throne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ы встретимся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чудною, над чудною рек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 неумолкаемой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мы будем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smiling of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rror of the Saviour’s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ints, whom death will never s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their songs of saving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жаясь над ре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 Христа мы будем з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а землю за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сходил, чтоб умер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we’ll gather at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, the beautiful ri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 with the saints at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flows by the throne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ы встретимся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чудною, над чудною рек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 неумолкаемой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мы будем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we’ll reach the shining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our pilgrimage will cea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our happy hearts will qu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 melody of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будем над ре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путь придёт к конц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встретимся с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нося хвалу Отц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01Z</dcterms:modified>
  <cp:revision>13</cp:revision>
  <dc:subject>Slavic hymnal Гимны веры христиан, hymn 689</dc:subject>
  <dc:title>Shall We Gather at the River? / Встретимся ли мы с тобою</dc:title>
</cp:coreProperties>
</file>