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07CB-BF02-4ABC-ABA4-6D5E1DD9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4D7F-4128-418A-A43F-A3CB97D6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18A1-7B9E-4B02-96A1-B4368779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5381-EF3C-4DDD-AD4A-0EBE7A2B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A0A1-C82E-41CA-9718-C6FDA095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CF0C-BDB2-427E-9986-AA3B7A9C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47E4-7DE5-4129-89CC-0AA6C532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64F7-8D2A-41BF-B744-CC4020F3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CE4A-DBC9-4DAA-8FF7-07BDABEA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1901-A5D8-443B-AD25-59BADB28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65D1-1FBD-4242-99FB-7DC51765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B9E1-919A-423B-A4EF-A9F905CC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0F17C-631C-4413-8BCE-0A8F34B87FC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unto the Lord a new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unto the Lord,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unto the Lord, a new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unto the Lord,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od is great and greatly to be prai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reat and greatly to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 Chor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08   Sing Unto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49:53Z</dcterms:modified>
  <cp:revision>12</cp:revision>
  <dc:subject>The Source 3, song number 1508</dc:subject>
  <dc:title>Sing Unto the Lord</dc:title>
</cp:coreProperties>
</file>