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CF96-D581-438D-BAB2-23998AB87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5F91-45A9-47E9-A4F2-AA9D6FBA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FB23-1D9A-4787-A74B-1494B5013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0C2D-B64B-4606-B4AB-6B1D2F3B9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6EE0-EBFD-477D-84CD-A3E2111E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F72E-A95A-4639-9FDC-B4973E68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9250-42CC-4515-91B4-1521C69F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07B7-AD2E-48AC-8FF9-EFA50C92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21C4-8CF8-4CEF-A9E8-9BD34BC0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E4B1-DD4C-4B0A-B3B4-6386D337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F2AB-9340-4AD4-A420-9E759354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A681-86B6-43B5-9404-D8D0CE0B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8F7E2-7F77-4BCF-846D-7C4B6170A79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news of Your impending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Your disciples bro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ovingly You took the b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ords of blessing spo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, когда ученик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Когда учен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мерть Свою я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с любовью, как к друзь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яв хлеб, благосло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read You broke, and with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stributed to a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body—take and ea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rtake of it, all of you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еломив, им всем раз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м слова сказ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рузья, примите, ешьте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тело есть Моё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n, O Lord, You took the c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rayed, and then You sa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blood—by it, for s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onement will be mad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ем с вином Ты чашу вз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дал, о ней мо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ия есть кровь Моя», — сказ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се пейте из не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This is the covenant of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other can there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e’er you do it, do it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membrance, friends, of 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т новый Мой завет в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ам, друзья, да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е всегда творите 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 вспомните Мою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blood we would remember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us shed on the t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mutilated body, to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et us ever s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й же кровь Твою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литую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истерзанную пло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вспомнить в этот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ossess our thoughts, that ever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seek the reason why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You on Calv’ry’s rugged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ose such a death to 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й, Господь, всегда во вс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мыслить лишь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ного Ты за нас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яжко умир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1:01:08Z</dcterms:modified>
  <cp:revision>13</cp:revision>
  <dc:subject>Slavic hymnal Гимны веры христиан, hymn 727</dc:subject>
  <dc:title>As News of Your Impending Death / Господь, когда ученикам</dc:title>
</cp:coreProperties>
</file>