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D68-2F39-4F41-B319-AA3E0194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D2E-89AE-4B9C-B840-1BBB8EE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701-2C76-4589-AD87-AD66A395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E64-2393-43B8-AFB7-B4505002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E87-80F4-4AD7-A32B-2A75922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B8D-A1CA-4E1B-BBAA-DD514A9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DBC-769F-4555-AFE6-91640606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412-0033-4661-9881-50E08D58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814-D092-40B7-861A-53A6E9A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23C-719D-4159-A0D1-B0D0517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613-15BB-4B11-98B8-62F33D2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7C3-39BD-4201-BB76-A235E44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F9E6-A94D-419C-8565-EB316B8711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, небо и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орже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юдям, ангелы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весть бла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 и земл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Вифлееме, там в Вифле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ри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ая Дева, чистая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дила С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, Веч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иняло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овной, во тьме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засвет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хвы с востока, волхвы с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и смирну, ладан и смир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ато прин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и Богу, Христу и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оклон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озгласим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21Z</dcterms:modified>
  <cp:revision>13</cp:revision>
  <dc:subject>Slavic hymnal Гимны веры христиан, hymn 238</dc:subject>
  <dc:title>Небо и земля ныне торжествуют</dc:title>
</cp:coreProperties>
</file>