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3007-3632-43D9-811F-E821CE4A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C4BE-C838-4860-9743-32033063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DC6C-3434-4B4F-BF2E-FFA4C9341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F2DC-C03A-49FC-B9DB-29C6C4B52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92FD-98EE-44A4-8BD1-D9070A08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24EF-0CE7-4E24-A94F-83D2E5C9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1B9B-3E71-4224-A3C5-E5330780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960E-6881-4150-BF29-C0F4EBEE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19FE-55D6-44BC-A244-76561471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8038-A121-44C8-BB01-8C412367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C5B0-CB4D-45D2-B70A-F7DFD845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04E6-D22B-4A4D-AFC6-C2E7AF29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60D8BB-79D7-430E-8770-3BDB827CC3E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чных обителях вечного 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с Спаситель давно ж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Он на пришельцев взи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ангелами встретит у вор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ённые нас ждут (там нас ждут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ённые нас ждут (там нас жду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ённые нас ждут (там нас ждут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и славы Господу, Господу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5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вечных обител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 любимых мы встретим серде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раньше нас ушли т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Агнцу Божию там бесконе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хвалы они поют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ённые нас ждут (там нас ждут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ённые нас ждут (там нас жду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ённые нас ждут (там нас ждут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и славы Господу, Господу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ретенью Бога готовься, спас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остаться вне две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прославить душой восхищ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 явления Царя ца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ённые нас ждут (там нас ждут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ённые нас ждут (там нас жду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ённые нас ждут (там нас ждут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и славы Господу, Господу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6:38Z</dcterms:modified>
  <cp:revision>12</cp:revision>
  <dc:subject>Slavic hymnal Гимны веры христиан, hymn 657</dc:subject>
  <dc:title>В вечных обителях вечного рая</dc:title>
</cp:coreProperties>
</file>