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C709-8253-4010-B0D0-2ED2CF3E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3AC3-CF93-4BB0-99CD-E573B8F0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DBF0-B44D-4AD7-958F-7AE4C0A6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829D-D0DB-498A-8228-64277C48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0CDD-F599-4ECC-802F-99383CF1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AD07-343C-46C9-B3BE-903A00D6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E62-C6F7-4FA5-9F45-FF97EB75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2E91-2F76-4DC8-B998-9F0F9AC5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401A-1743-4ACF-83AD-63133B5C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67CD-4B98-4D04-A530-1B55ED5A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F83B-1DA5-4BA9-A354-927458BF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4929-44F2-49C9-BACB-7ECF7253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23C65-548B-4D0C-8604-C890AE2E6C0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s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the builders rejec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rock of ref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my pride is brok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sure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sand is sin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we are built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living st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54   You Are the 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els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els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Man and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Man and Son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from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 the depths descen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st of hell consp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ake You capt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ev’ry chain of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death You’ve brok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e triumphed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mighty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els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els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Man and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Man and Son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race You’ve set befor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uff’ring of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 might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rize for which You call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with You, Son of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with You, Son of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on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n from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 the heights ascen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You are s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Your Father’s right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ever pl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souls You’ve captu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ever w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 call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els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els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Man and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Man and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Man and Son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2:06Z</dcterms:modified>
  <cp:revision>12</cp:revision>
  <dc:subject>The Source 3, song number 1654</dc:subject>
  <dc:title>You Are the Stone (No One Like You, Lord)</dc:title>
</cp:coreProperties>
</file>