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054-D53A-43E3-895A-D1A8D030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FE1-6BE5-4E7E-ABF4-98F1A499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887-035A-406D-A8D6-DB4994F1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044-AFCC-422A-8EC3-994BE7E3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42F-9311-4236-AECC-F71010B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AE4-168E-424B-B02B-883692BA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AE1-5186-417C-9C80-5AC8BB9B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ACF-7865-41E4-8D36-38AFB33B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A60-6880-4490-985D-3E3A6C9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F8C-C827-44E4-8595-123E334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E51-1654-4234-A127-ADE0BFA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6C2-463E-49F6-9B5A-35C7EC8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133F-0FCD-4AFE-8940-6E612E7227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, полно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коленье моло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т жертвенно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епко спит оно дос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едко кто на труд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й плетётся еле-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и в жертву не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ужно нашей молодё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ться Богу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тогда глаго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ут её святы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народ тогда воспря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гому Пастырю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Божие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мира вкусят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меня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, горящим с алт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пойду благовест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, любовию г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ртвы кровно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― отрад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ть хочу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мой, пошли ог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я, огня Святого Д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й помощ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чуткого дай сл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ышать глас Твои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пойду без колеб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у Тебя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нужно, на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 радостно от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04Z</dcterms:modified>
  <cp:revision>12</cp:revision>
  <dc:subject>Slavic hymnal Гимны веры христиан, hymn 464</dc:subject>
  <dc:title>Я слышу слово огневое</dc:title>
</cp:coreProperties>
</file>