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2FB3-ADAA-4E0E-97B7-B6C68059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7E4E-2EDA-4C4E-828F-49495DE9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D3B-FF74-4C8D-9DA8-19D55CEE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C2D-55DA-43F2-8E29-E56D37EF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E330-D598-4903-AE9C-C6B0EA3E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9DB6-793A-48E3-B1B7-3705E54D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DEF-4F77-4A23-B8D4-A6C7BDA4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38EB-E1E8-4F06-9586-605772AD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119-53C1-4E81-94E8-C02F98D7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2099-5FC1-4291-88BB-2587B897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F173-CE1E-4DB5-8DE9-A2EE88CC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DBC-21BB-4839-A9DA-3E3D655A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5BA83-F0FC-4325-AEDF-796C3BA28C3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луч в душе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ей он всех лу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ветят ярко над землё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луч — Спас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есный луч в душе м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гимн в душе мо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Царю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 песню слышит веч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 я петь не 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на царит в душе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изок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лубь мира в клеть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любви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радости в душе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Ему зв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блага, что Он мне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частье лучш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6:49Z</dcterms:modified>
  <cp:revision>12</cp:revision>
  <dc:subject>Slavic hymnal Гимны веры христиан, hymn 587</dc:subject>
  <dc:title>Небесный луч в душе моей</dc:title>
</cp:coreProperties>
</file>