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F8C-CA27-4617-BBFE-918B72A7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ECB-89A8-40FC-ACCE-16065958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2EA-68D2-42E4-B694-23280B14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82D-C881-498C-8920-80DAF2D0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4CD-6E24-4550-AB6A-327BDD23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149-8B86-4E4B-9FDB-7A2C58E5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E11-64AA-4B70-A923-7F776EA4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2E9-8632-4D06-9C47-0D0B4AD0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B3F-33B3-4251-9B87-24982255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A14-191F-42A4-84A5-CFD154CC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167-B1F7-4AA8-9575-8DD7D375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688-2421-4063-8A36-881523C0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688B1-2054-43F6-804C-0A10707566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ли жизнь мирно, подобно р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сь ли на грозных волн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ое время, вблизи, вдал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чёт ли жизнь ми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ражьи нападки, ни тяжесть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лонят меня поза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мой меня из пучины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восхотел иск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мире сравнится с усладой т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весь, как есть цел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кресту пригвождён и я кровью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 всесильны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скажу: для меня жизн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мой всесильный оп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от греха, искушений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еня Он любовно с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воего я пришествия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ою душу гр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тогда лишь я сердцу 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у Тебя на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18T21:24:10Z</dcterms:modified>
  <cp:revision>12</cp:revision>
  <dc:subject>Slavic hymnal Гимны веры христиан, hymn 817</dc:subject>
  <dc:title>Течёт ли жизнь мирно, подобно реке</dc:title>
</cp:coreProperties>
</file>