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0C5-5B64-486B-95EE-05D639FA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3DE-9B2F-4B68-86EA-4657653A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492-7A63-44FA-A74C-5F11055C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CFC-42E3-4D0A-B020-56B364A1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4D4-BB24-4114-BE75-79A8404C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DDE-F544-4F26-AB76-9EB6922B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FC1-CFD0-4202-B7E4-50FA7356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F10-9DDA-4398-94C1-05D7CEB2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F6F-92AF-4E6A-B166-2D1EC495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662-EF1F-453E-AE7F-B0D98C5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079-ADA5-4895-AD00-FA152DA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7B4-19C2-43BC-9317-1E141911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23C53-C195-42B7-9281-6A7B5230A3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, down in my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 to st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 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37Z</dcterms:modified>
  <cp:revision>12</cp:revision>
  <dc:subject>Slavic hymnal Гимны веры христиан, Ukrainian hymn 111</dc:subject>
  <dc:title>I Have the Joy, Joy, Joy, Joy / Я маю радість, радість</dc:title>
</cp:coreProperties>
</file>