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4DD2-D8B2-40EE-8BA7-F362C8FF0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4C59-89D5-4B4A-9A7D-DFB8E4C5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C4B3-B8A8-4262-9470-0378EC723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CEEF-9BBA-453A-ACEF-6B7A0FF0F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8AE2-FD9B-4FE1-AEE8-2E7CB293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3EE5-2571-48AF-8F21-EC609D7A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4AF2-03AA-4B7A-B013-34B0C1EC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EEAF-0D2E-4F59-9221-2DD0C173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C3FC-E9F8-468A-844E-9A025B13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CADD-65D4-490F-8451-7CEDCE0C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6308-685C-45D2-A003-961C7C3C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5800-F7A0-4DC7-AF28-6D0AEB92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6F0E7E-5E10-4D5E-A2CC-B2577B9418C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all the world come and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the mercy we’ve rece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You can set them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all this joy that fills our he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ing a hunger and a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ose who’ve strayed so f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3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As We Worship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bow in ad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tand in rev’rent aw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w Your majesty and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anointing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declare Your name, Lor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only one who sa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the pow’r of Your sal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each heart, we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all the nations hear our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ong of Jesus and His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proved His love fo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all the lost and broken c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they hear Your still small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ll out their names, each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bow in ad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tand in rev’rent aw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w Your majesty and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anointing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declare Your name, Lor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only one who sa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the pow’r of Your sal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each heart, we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orship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2:08Z</dcterms:modified>
  <cp:revision>11</cp:revision>
  <dc:subject>The Source 2, song number 638</dc:subject>
  <dc:title>As We Worship You</dc:title>
</cp:coreProperties>
</file>