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252-9774-488F-BB2F-1C6E82CD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2D6-F2ED-4AAC-8683-8C601BB4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0F6-DF46-47A4-9058-0A6BEF6E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C1B-6D00-4289-9CDB-0DB46846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07D-2915-43ED-BDF9-B32B2D6D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27F-9D5B-4857-8B39-890B2EC0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AE2-0BC8-446E-AEB3-1B51690F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BF9-475A-4024-811B-E782C5A1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123-BB72-4A28-B8FC-0049B39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704-22F2-43F0-A52F-2C650A55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9ED-58EF-43B0-BD03-AD324FC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0AB-AAD4-4E16-BE95-B8841B69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CBEFA-9B14-4AD3-B32A-AAA465751F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медлишь на грешн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зов Иисуса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ты не хочешь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есценный, Его благо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Агнца святого взгля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страдал без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скорби до дна Он ис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 от суда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же Ему жизн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мерно счастлив буде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ятая омоет весь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лее ты станешь, чем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5:05Z</dcterms:modified>
  <cp:revision>12</cp:revision>
  <dc:subject>Slavic hymnal Гимны веры христиан, hymn 400</dc:subject>
  <dc:title>Что ты медлишь на грешном пути?</dc:title>
</cp:coreProperties>
</file>