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136-0E3A-4B8E-9616-378C3CF2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D5C-01D1-4CB6-B092-46059DE5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8AE-FF03-43A4-8FCE-AFF78082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6C7-F780-4444-9DF7-C20D9E1E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67E-7937-44E1-B4A3-0E3DA66A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D18-68E2-4667-95C1-1B97DED2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890-B051-4682-9979-8E3D2960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20A-1BCE-49DD-AE1F-1B213907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863-45CA-4815-A214-AC35C930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CC5-8F72-4CCD-8113-DFBA578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EE1-1444-4480-8B34-069DEF11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E26-CCA7-41B6-94B0-F22DB1CB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3A04E-0FC8-4F9A-840F-79CCA3A026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: вблизи пот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озрачных, чист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травы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шно лилия цве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 вблизи по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ни крепкие пи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га чистая руч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осою на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ранняя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лилия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лекут её у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омных пчёлок к лепест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 приятный и пах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ивается из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гаче и кто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вался из ца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ивёт Творца тво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дивной кра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заботы и муч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печален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22Z</dcterms:modified>
  <cp:revision>12</cp:revision>
  <dc:subject>Slavic hymnal Гимны веры христиан, hymn 712</dc:subject>
  <dc:title>Посмотри вблизи потока</dc:title>
</cp:coreProperties>
</file>