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710C-9A1F-4D44-AF2E-D0EB3915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192D-7821-4C3E-B668-C29BA6E3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6C41-AB7A-4C54-AD37-0DBCCA70C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0D95-5E79-43DB-BD2E-D58FB28F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8CAD-A2C0-4A33-B261-AE8AA025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5A21-E87B-45B9-BB39-2341310F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455B-12A2-4B8A-A684-2CBCCA3F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6D1B-6E76-4B96-8EF9-FAC5AB89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992B-5260-4F57-BD62-715DF871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71AF-F19B-4C41-BB1F-46893EA5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FB7C-DB83-4158-B6ED-17B78CA9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61D7-49BC-4749-850C-A0ED46A7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AC2D4-17DC-438A-9479-799C5694C47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обещал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ить Тебе все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в земных скитань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т зла хр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я в битву см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о мною 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клонюсь от д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усь вра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, обещал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всегда со мн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близок мир ко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ьстивой мишур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ечёт меня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действует укры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аружи и внут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удь моей защи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у светом о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дал Ты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лицом враг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де Я в грядущей сла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т Мой слуга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служить хоч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кладая р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, мой дух врач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ь мой и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6:44Z</dcterms:modified>
  <cp:revision>12</cp:revision>
  <dc:subject>Slavic hymnal Гимны веры христиан, hymn 478</dc:subject>
  <dc:title>Спаситель, обещал я</dc:title>
</cp:coreProperties>
</file>