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888-A65E-45ED-91F3-ABEC514E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51E-EC2A-4200-B403-B0CE01D3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670-AE66-449F-B74D-FF9B92FB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878-15B6-4D07-BB87-15418A3F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96F-063D-4611-83CC-7C95563C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A66-49F1-4860-9D7D-E15FA31B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418-2612-4D78-8A26-EFCBAFFC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3D7-D9AA-4C5A-8F6A-A615F5F0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A0B-741D-4B19-8FF8-BC4544B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3F6-ACAD-46DE-9FC5-DC4FCE6F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6EA-0515-4605-8028-FB4E86D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F96-B085-4BF2-ACC5-BAB27426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28A86-831A-4249-AD52-2B1E18DAC5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уж скорбей!» так назван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заоблач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л спасти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боль извед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руган,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древу смерти пригво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Муж скорбе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реха и зла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згла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смерть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с радостью вст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ть искуплен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ерный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34Z</dcterms:modified>
  <cp:revision>12</cp:revision>
  <dc:subject>Slavic hymnal Гимны веры христиан, hymn 838</dc:subject>
  <dc:title>«Муж скорбей!» так назван Тот</dc:title>
</cp:coreProperties>
</file>