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0FB-8A4D-4669-9FC5-CFF10C81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BA7-C10F-46A1-B791-F2E05E1B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CE4-07CE-434A-984D-8E41D591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477-8C17-4E9E-9971-30D91705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7C8-59D7-4E47-A0B7-DA8EA196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19B-AF7B-4FCF-836E-0DAA3FB8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60E-4E75-4585-B74B-62B80247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21C-A8AE-4675-ACBA-0B9DFCF5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7F1-8B8A-4286-9294-BB7248C8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844-937E-4233-B427-E5AAB968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E9A-DD5F-4501-9692-D683721A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BEC-7B56-4A79-92EC-89169836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AFC99-279E-46F9-A91C-B8795867B5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звись, мій милий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радість Ти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звись в тяжку год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дам свій голос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і тісно було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и дав мені прост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пер мене помил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іддай на погов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0   Обізвись, мій милий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йте страх та віру в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 люди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важайте ви про Нь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важайте ви в тиш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засяй над нами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м Твойого ли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 святим, чудовим світ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ам сяє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32Z</dcterms:modified>
  <cp:revision>14</cp:revision>
  <dc:subject>Slavic hymnal Гимны веры христиан, Ukrainian hymn 20</dc:subject>
  <dc:title>Обізвись, мій милий Боже</dc:title>
</cp:coreProperties>
</file>