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048-5E5C-4C22-A333-E98B6529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578-48B3-40CC-A507-41CD22DB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4FF-ABF6-4AF9-9410-F1C59F09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241-6944-4334-AACB-592D759D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705-1C04-41B6-A4AD-F58F2AE1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6EE-0304-4540-83BE-3114B3BD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D69-C882-4426-86E2-F31EC1CB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A51-18BF-45E1-8703-8D0D3814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A67-8E04-47A6-BA30-19AB1CF9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D74-ED39-4397-BA56-D16A2F4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B4F-C27F-446A-B131-9F39F59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905-783E-404E-B0B6-5BAE406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FAC13-FA01-410F-BA5D-2050C0C521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6:29Z</dcterms:modified>
  <cp:revision>15</cp:revision>
  <dc:subject>Slavic hymnal Гимны веры христиан, hymn 240</dc:subject>
  <dc:title>Он оставил престол</dc:title>
</cp:coreProperties>
</file>