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DCF-E6C6-4034-B2D7-06966628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DBC-FDB0-41B6-8C50-103A652A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214-47C4-4C06-A91B-54EB7B45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956-2B30-42BE-80D4-8A35E99B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D5C-40CE-46AF-8030-062281F0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E65-C15D-4529-8C0B-38F097D4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EE1-6368-4C8E-80B4-F0EEF743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BDB-2963-462B-99D2-BBDBA722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EA9-0C78-4EE6-B90B-B46D7A39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B23-3A9B-43E2-B108-ECFFF7B8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600-F7E8-46D9-8E79-6EC19FCF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2A1-9E73-477D-AFDE-94E8D350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A60DA-D2CA-4787-954A-C20CA02F1B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 of Christ I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w’ring o’er the wrecks of ti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light of sacre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s round its head subl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валюсь кре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валюсь кресто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ходит, он 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учах Господн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золота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woes of life o’ertak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s deceive and fears ann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shall the cross forsak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it glows with peace and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житейская ли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ь тяжёлый гн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Христов терпенью 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м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un of bliss is b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and love upon 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ross the radiance str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dds more lustre to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ль вешнее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цветёт кругом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креста любовь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яет радость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ne and blessing, pain and pl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cross are sanctif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is there that knows no m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s that thro’ all time ab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печаль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свяще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ердечный, веры сл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навек д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1:45Z</dcterms:modified>
  <cp:revision>12</cp:revision>
  <dc:subject>Slavic hymnal Гимны веры христиан, hymn 864</dc:subject>
  <dc:title>In the Cross of Christ I Glory / Я хвалюсь крестом Христовым</dc:title>
</cp:coreProperties>
</file>