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63B-4B35-4D77-BED0-99BF68C7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81F-8F02-4EC7-915E-1E1BAFBD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132-EBB4-4A71-9CD3-B2ECC402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9AA-E1DF-45A4-81F1-46587C20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20F-05E2-4F80-A09B-F411357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66E-7DA5-40C2-B79C-B3E7C5E5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E4E-7296-4883-9220-DB73CAB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1F4-D554-4F52-8155-133DA5A6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72C-B0D5-4299-A142-DD0EEDBE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0D6-9C42-4236-B4A1-2A7C953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5D7-0435-4324-883E-6E3879E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B8F-A174-4F41-AEEE-42C354B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9F578-9921-4DF6-A44F-488AB1FE9F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жити раді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но, раді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веде в небесн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світли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3   З Ісусом жити раді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д смерти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в,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ловом правди відр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відрод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Духа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ослав,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ом Він мене хре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ожи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Бог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,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адість ту вели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лість ві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сім серцем я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,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своє я від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я від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9-22T21:54:31Z</dcterms:modified>
  <cp:revision>13</cp:revision>
  <dc:subject>Slavic hymnal Гимны веры христиан, Ukrainian hymn 23</dc:subject>
  <dc:title>З Ісусом жити радісно!</dc:title>
</cp:coreProperties>
</file>