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494-60D5-450C-AC00-A887B072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974-AECF-4E54-9F77-CDF4495F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9F8-2E2F-4294-8CBE-8337D1CA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8D4-DF7A-407F-9A32-629DF841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14D-DB16-49FD-9560-D17BCF9F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4DC-B1C4-4D0E-9A2D-88A56502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91F-5329-4D36-91CB-D19C7E6D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4DE-BE17-4E26-9E91-B441F316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40C-34E2-462B-AAE8-2569195F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E80-8011-4506-9A3D-6B65B640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634-BBDB-4929-A145-B14200E4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352-E22F-4648-85AF-F489D314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F0103-F745-45C7-9A39-EEAAE2F44E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 тепер сказати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ю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люблю Тебе, бажаю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ерцем св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 тепер сказати Тоб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 правду впов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люблю Тебе, бажаю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ерцем своїм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3   Бажаю теп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тиму я, співатим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маю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лачу і я, заплачу і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щастя зна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 тепер сказати Тоб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 правду впов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люблю Тебе, бажаю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ерцем своїм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17Z</dcterms:modified>
  <cp:revision>14</cp:revision>
  <dc:subject>Slavic hymnal Гимны веры христиан, Ukrainian hymn 103</dc:subject>
  <dc:title>Бажаю тепер сказати Тобі</dc:title>
</cp:coreProperties>
</file>