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E23-1AD0-42C4-AAB7-38FB4C68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D0E-3D6F-4702-8462-DA325D1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F6E-D1B2-41E1-8C80-2CB76C7F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DF7-9849-48EB-B428-ED024283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41D-B997-4C44-8543-24DDF03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F7B-C54E-4813-8E69-FE372424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15D-6053-4A0A-B05F-F28B9DC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BA6-820B-435A-81F2-179F7D5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6E7-C160-41D5-B49E-95D9DD8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E8A-CD0F-488C-AB86-6C869AB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9AA-F93A-4569-BD1C-C4DDEAE0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C44-7AF5-47E3-B44F-2BA1DC3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715B-8F7C-4600-B9A9-AD212518C4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12Z</dcterms:modified>
  <cp:revision>12</cp:revision>
  <dc:subject>Slavic hymnal Гимны веры христиан, hymn 692</dc:subject>
  <dc:title>Отчизна моя в небесах</dc:title>
</cp:coreProperties>
</file>