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57A5-CEE4-4287-965D-D65DFAC05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7100-0E78-4F73-9A01-F5DDF1BCC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093D-8F20-41FF-8D68-E8E2B1736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D6D1-5758-40EE-B509-1D19E2393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5EFD-FF02-457A-BF1A-C2D84B987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B79F-2BED-4D04-9F60-D6A3BCCDD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2FD7-3F33-49DE-9AF8-0E5E4E809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1CE4-6BD2-48FA-B43A-4EB2F2C77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25E5-BBC4-4C74-B374-E42A0551F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5ABA-2CB2-49AF-86F8-2B60C395E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2206-2A5F-47E2-ABD7-383B2F8E5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38EC-2E93-4368-8CDF-75B9DB893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F2866B-70E1-420F-833E-B5A9E1AF690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брат! пора уж пробуд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сна греха и пустот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давно к тебе стучи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ротко ждёт твоей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ттолк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кротко ждёт твоей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спеш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ей, скорей к Нему при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6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ой брат! пора у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озлюбил любовью веч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крестной смерти возлюб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я, тебя, мой брат беспеч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вечной смерти искуп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ттолк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кротко ждёт твоей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спеш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ей, скорей к Нему при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ран и сердца кровь струила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ак горел любовью взор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брат! Он пострадал невин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заслужили тот позо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ттолк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кротко ждёт твоей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спеш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ей, скорей к Нему при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ая кровь всё очищ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имает с сердца страшный гн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а всю душу обновля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 тихой пристани ве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ттолк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кротко ждёт твоей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спеш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ей, скорей к Нему при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12:25Z</dcterms:modified>
  <cp:revision>12</cp:revision>
  <dc:subject>Slavic hymnal Гимны веры христиан, hymn 362</dc:subject>
  <dc:title>Мой брат! пора уж пробудиться</dc:title>
</cp:coreProperties>
</file>