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704-7D6E-4138-B4C3-679522D2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BDA-3CCA-4661-9718-401971F1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B73-0D20-4B28-B5BD-940FCD73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231-59AE-4BE1-A4C8-89848F67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537-C4B5-467E-9EB4-AC6A659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B97-1F8B-49D1-943D-0A4C2B99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382-5BFB-4305-AE02-A7130443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0D9-EF2B-4287-83E4-C816CA14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EB8-F9B5-4C2C-934B-0C98CDB1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906-1DAF-4863-9F39-0165D270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9B2-2DE2-418C-992D-C9264FD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663-AF38-4FC3-AEA0-CDBE7B82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97296-AA21-4080-9AC5-5E4AD59D21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once held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ilt my life u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is world reve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ars to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once thou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counted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nt and worthless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red t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   All I Once Held D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known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ossess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I could not 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-surpassing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o know the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risen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suffe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com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eath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ith You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ever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08:37:59Z</dcterms:modified>
  <cp:revision>10</cp:revision>
  <dc:subject>The Source, song number 11</dc:subject>
  <dc:title>All I Once Held Dear (Knowing You)</dc:title>
</cp:coreProperties>
</file>