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DDE-F65A-4E9E-A318-3F365D66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B82-0B8E-44D6-A60B-626CCE8E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704-1385-401D-9D46-B4CA95EF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A0C-F2F8-471A-86C4-9D085B90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9B8-E3BC-459F-8A56-52C72D7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7ED-A1B0-4196-877A-E71209F8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B8F-861D-4953-B160-F85F5DD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682-AF07-474C-BFDD-ABD3EFA8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22C-59F4-41FB-BDD5-33D6FB2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FFF-8F10-4006-9423-E95CDAF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459-FB6A-4D2F-AAEC-EA8FE91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C04-D0CF-4ADA-8120-8F701AD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38EC2-D8E0-4B8C-9C82-9C1DDC0EF7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15Z</dcterms:modified>
  <cp:revision>12</cp:revision>
  <dc:subject>Slavic hymnal Гимны веры христиан, Ukrainian hymn 25</dc:subject>
  <dc:title>Я не хочу багатства</dc:title>
</cp:coreProperties>
</file>