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6</a:t>
            </a:r>
            <a:r>
              <a:rPr b="1" lang="ru-RU" sz="3600" spc="-1" strike="noStrike">
                <a:solidFill>
                  <a:srgbClr val="ffffff"/>
                </a:solidFill>
                <a:latin typeface="Verdana"/>
              </a:rPr>
              <a:t>	</a:t>
            </a:r>
            <a:r>
              <a:rPr b="1" lang="ru-RU" sz="3600" spc="-1" strike="noStrike">
                <a:solidFill>
                  <a:srgbClr val="ffffff"/>
                </a:solidFill>
                <a:latin typeface="Verdana"/>
              </a:rPr>
              <a:t>О, как трудно следи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как трудно следить за с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миг своего быт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огда я, Спаситель,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огу не тревожитьс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о с Тобой не всегда я б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влекает меня су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бя я позвать заб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ладеет душой темно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вери сердца для входа закры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ёд нетающий — вместо ог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ишь Ты вдали позабы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печалью глядишь н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о душа прозревает слеп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Тебе прихожу я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родного меня обним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аёшь мне Свою благод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Мои дни на земле быстротеч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ровен извилисты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Любимый, Единственный, Веч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кинь, не оставь, не забуд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3:32Z</dcterms:modified>
  <cp:revision>3</cp:revision>
  <dc:subject>Slavic hymnal Гимны веры христиан, hymn 176</dc:subject>
  <dc:title>О, как трудно следить за собою</dc:title>
</cp:coreProperties>
</file>