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80F-9328-4745-B86E-BFB3ADAB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AF7-7C5B-4583-AA6A-AD9CCA45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D597-8896-46DD-B9E1-0EC9B8D7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DC4-9F49-436A-958C-BDA6747A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B4D6-CDB5-424D-9EAF-086DAAC0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AD6-6CBE-4BAB-8158-7179073F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F97-3C1C-42D8-A7DB-3EA0D56B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AA1-3F39-4621-9538-12CE8449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731-5A3F-40C1-A34F-8ABE10C4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00E6-2218-4F1F-B96C-F2B532D9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326-C1C1-4D0C-802E-1F1F4BC3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291-4953-4F7B-9953-03FD11E8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FFDED-084F-4C14-8F2B-B00D1565D4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fetime is working time, spend no idle day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is calling thee on the harvest way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ing with a willing hand, sing a s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prai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руд в жизни для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 в жизни для Христа радостно сверш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ижних люби всегда, слабых подкрепля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жизни ты всегда проводи в тру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iftly the hours of labour f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ighted with love let each pass b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joy in labour for the strugg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eighbo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вперёд стремитесь, Богу покорите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fetime is working time, learn where duty li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sp ev’ry passing day as a precious priz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ad to help to sorrowing, glad to sympathi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ни все учись считать, праздно не гуля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ань ближним помогать, падших подни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жизни ты всегда проводи в тру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iftly the hours of labour f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ighted with love let each pass b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joy in labour for the strugg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eighbo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вперёд стремитесь, Богу покорите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fetime is working time, do thy honest p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’ in discouragements, bear a cheerful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sting Jesus as thy friend, ne’er from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p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руде не отходи взором о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 Господа проси силы для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жизни ты всегда проводи в тру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iftly the hours of labour f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ighted with love let each pass b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joy in labour for the strugg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eighbo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вперёд стремитесь, Богу покорите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54Z</dcterms:modified>
  <cp:revision>15</cp:revision>
  <dc:subject>Slavic hymnal Гимны веры христиан, hymn 544</dc:subject>
  <dc:title>Lifetime Is Working Time / Труд в жизни для Христа</dc:title>
</cp:coreProperties>
</file>