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402-5BE5-458B-9F6A-C5DAAEFB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208-2CDE-4CA0-B114-3EF3BC4A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DA0-DA8F-4CD2-9F4A-606DD31D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C61-C2DE-4B49-BA2F-950E7D65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58A-68A7-4E2C-8E55-3950BFFC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8B7-5C3D-4FE8-A501-B6D5102A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8C5-18D2-4482-80DD-60503939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78F-CD76-4C07-9EA8-79183FA0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A70-A443-42C6-9CFE-502EE519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98C-FDA0-4FB7-A7B4-74C9DB7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C23-D411-4B82-A5A8-FE7CB81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251-9702-4A2C-8B73-CC20F9F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FAC0E-76DE-4B81-9BB4-7BE78D2DE8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reign wherev’r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its successive journeys r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spread from shore to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oons shall wax and wan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доходит солнца лу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доходит солнца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царствовать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тупит вся земля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будет Он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the islands with their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urope her best tribut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north to south the princes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y their homage at Hi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народов и пл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ногам снесут д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знатными почт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б зайдёт в Его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shall endless prayer be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less praises crown His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like sweet perfume sha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every morning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молиться будут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главу Его вен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ой славе и кр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и будет Он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ople and realms of every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well on His love with sweetest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fant voices shall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early blessings on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анет бурь, уйдёт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мирно зажи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лолетних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«Осанна» вос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displays His heal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and the curse are known no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the tribes of Adam b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blessings than their father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цел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нет смерть, исчезнет ст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ьше даст людским сы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потерял тогда 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s abound where’er He reig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soner leaps to loose his ch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ary find eternal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sons of want ar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живущее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рабства раз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нит ложь и су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ery creature rise and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rateful honours to our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descend with song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 repeat the loud “Ame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— хвала от всех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тдалений, из пусты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енье ангел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емли услышится: «Ами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7:46Z</dcterms:modified>
  <cp:revision>12</cp:revision>
  <dc:subject>Slavic hymnal Гимны веры христиан, hymn 833</dc:subject>
  <dc:title>Jesus Shall Reign / Куда доходит солнца луч</dc:title>
</cp:coreProperties>
</file>