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440-F7F4-4848-8207-E5CE7A16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717-6A85-49BB-8CC6-11BC83A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81B-C5BB-42EE-8704-0FEB48B5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83C-FE65-4C80-B4F4-5DCEBB86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EE8-A2D6-4BAB-9307-A01901F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DCF-4CFC-42AD-8B45-FDA6BA24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676-C536-426A-835D-317EF567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20E-1BD5-4510-A76F-CDB69C9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B89-5B27-4035-8D64-AEE72FB5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C6B-0FC4-48F6-9A74-6CD8248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689-47C7-4DF4-97AF-B5B44EC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8B5-E783-405A-88A9-F4F771B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2C855-E902-48CD-B2CC-41B8D731FD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 a capti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 shall b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ce me to render up my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conquero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k in life’s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myself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prison me within Thine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ong shall be m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is weak and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 Master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has no spring of action 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varies with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freely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wrought its ch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slave it with Thy matchles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less it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ower is faint and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have learned to s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needed fire to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breeze to n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dri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elf be dr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lag can only be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breathe from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ill is not my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made it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t would reach a monarch’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its crown res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nly stands unb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clashing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n Thy bosom it has le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in Thee it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8:16Z</dcterms:modified>
  <cp:revision>12</cp:revision>
  <dc:subject>Slavic hymnal Гимны веры христиан, hymn 899</dc:subject>
  <dc:title>Make Me a Captive, Lord / Плени, Господь, меня</dc:title>
</cp:coreProperties>
</file>