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3BD7-3ED5-49CD-B597-B5DEA74E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DD9E-82F6-4639-BA56-025F9103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A7A5-8987-458B-97C2-FCA9703F7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9948-96F5-4E53-9F4E-5DB3FB42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D8C-CAF4-410D-BC64-DF53E4C2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BA65-E14C-423F-9A97-F1290223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2744-9929-472E-9765-0138D9AF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FD99-0BC2-44C7-B2CA-4FB3E289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7513-7B2F-4F6B-8757-DAA7B8BF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783C-5F85-4892-A6A2-8DDF61B8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7EF0-A3BB-4433-90AD-AAA2C476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5480-C245-46C8-BA11-C72F21C6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81B4A-9855-4C52-B72D-5750D130D09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, and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ye that are upright in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e that have made Him your ch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 sadness and sorrow de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пряньте, воспой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те, воспойте, лику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е кровью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овую песню воспо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вас спас от гре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 and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 and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joyful, for He is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arth and in Heaven supre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fashions and rules by His wor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“Mighty” and “Strong” to rede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им Того, Кто на зем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шёл, чтобы нас оправ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с ценой Своей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ье навеки нам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 and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 and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ough in the conflict for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enemies almost preva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armies, just hid from your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more than the foes which ass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илу нам даст и побе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итву с грехом укреп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Своею поддер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ом Своим утвер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 and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 and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, and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praises proclaiming in s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arp and with organ and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ud hallelujahs prol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со всеми свят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ебную песню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с искупил Своей кров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лава вовеки Е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 and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 and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45Z</dcterms:modified>
  <cp:revision>13</cp:revision>
  <dc:subject>Slavic hymnal Гимны веры христиан, hymn 573</dc:subject>
  <dc:title>Be Glad in the Lord / Воспряньте, воспойте, ликуйте</dc:title>
</cp:coreProperties>
</file>