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BB2-EE59-44FF-8BC1-9E0E0821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FE4-AA81-4224-8B07-0711C0D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62E-EB10-4966-AC34-F32F757D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3E3-CC5C-44C0-87AB-55B70EB8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89F-F418-404D-8AB0-0F87EA6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074-E1B2-43DF-9F78-11E2131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19E-D44D-4F85-BEC9-2BE88738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3CE-213A-4928-A357-081272DC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EB6-0CBA-4EC5-A424-D591CF7C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26A-A173-4829-A545-BB52C873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00A-EB16-4049-992F-5EAC98D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5EB-B7A4-46C0-9549-51E05B8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774B6-586A-42EF-8532-5E7328DAF9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05Z</dcterms:modified>
  <cp:revision>12</cp:revision>
  <dc:subject>Slavic hymnal Гимны веры христиан, hymn 886</dc:subject>
  <dc:title>Душа, ты в борьбе и томленьи</dc:title>
</cp:coreProperties>
</file>