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C237-C63C-4C76-8ABB-691BC3C4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C4F5-3418-4B8E-8BFB-834D6F63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FA2D-0699-415B-A25A-1C4E6EFD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D40A-E645-450F-81BD-E8C29270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E802-E253-4852-BD42-A411E379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6931-9B36-45EB-8874-496C74C2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A9B1-86E9-4A1D-91B7-22935A71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AF00-DCA1-47A9-9934-609E7BE4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62FE-04BF-4D69-B1A9-8B891D42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A04C-2F56-49A0-8C4C-7A7AA52D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2196-20A3-4D86-867F-61FBEE49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D088-37AB-401E-86E8-50DB8EE5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D9D1F-3DB8-45F0-8849-494C2A736BE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uman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uman woes ab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сите эту в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идите в серд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ненье, скорбь и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rough the vacant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ong of triumph r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ышим здесь и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смелей, друж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Ghost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’s promis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boundless love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hall this tongue of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ond’ring mortals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atchless grace div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а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подходящих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мертным расс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ожет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, a child of h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uld in His image sh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женных раб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у подня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Ghost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’s promis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ev’ry Christian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claim the joyful s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каждый, кто жи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гом воспо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Ghost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’s promis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ng, long night is p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orning breaks at 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ushed the dreadful w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ury of the b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ходит ночи ть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к горит зар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крылася тюрьм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а пред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’er the golden h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y advances f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ердца и 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ет свет и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Ghost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’s promis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, the great King of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ling in His w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ev’ry captive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full deliverance br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чий Царь ца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учах любви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лительный бальз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для все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45Z</dcterms:modified>
  <cp:revision>13</cp:revision>
  <dc:subject>Slavic hymnal Гимны веры христиан, hymn 305</dc:subject>
  <dc:title>The Comforter Has Come (O Spread the Tidings ’Round) / Несите эту весть</dc:title>
</cp:coreProperties>
</file>