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CBD-9DC2-441B-BF17-7F7689B7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87D-2392-410C-B8E0-B29699BA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6C0-CB23-4DFC-B02D-0CB50BE8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CC9-C40F-4EDE-A7F0-EC1976DF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C1E-5293-438C-BF31-34A4A114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AD5-1AE0-41ED-B40C-6D8F3316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40B-9B98-4880-BF80-309A875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B3E-D020-4EA3-90E9-9C634FB1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3A0-3004-4C7E-B2EE-E77A7147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646-9847-4A0D-B06A-AE38C9A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504-6298-409B-9E76-4DBAF23B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174-9A38-4273-BBB5-F93A8E7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BE990-638F-4B6C-900F-D624DCE22F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7:22Z</dcterms:modified>
  <cp:revision>13</cp:revision>
  <dc:subject>Slavic hymnal Гимны веры христиан, hymn 683</dc:subject>
  <dc:title>После заката</dc:title>
</cp:coreProperties>
</file>