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BD99-13FE-4BA9-909C-5600ADC2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0F3D-B076-4CE3-BA0F-D3AE5778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EB12-5262-4FF9-8D37-06923399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D867-A45F-4E88-9D18-70ECF465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C1CA-BA1F-4B1F-B7CF-69DEDEFA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AC8E-16F6-4D66-9F08-D8C009E5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8A2D-7770-48E0-9C0B-6E959B0C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43DF-3F34-440B-9B0B-1CE8B971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01B7-BD4A-4596-ACB8-5973443E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F324-DC63-4CB5-965B-0FBC134E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1BF0-2F1B-427D-834C-D3B47CC9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E566-5CA9-40B5-9723-3F4F2687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A7E50-9066-40AD-8D03-1CF4DA6C68C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ознал ли благодати полн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ешься ли ты во всём Хри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ли грех, всяки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творною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ли ризы белые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ы познал ли благод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янно ли идёшь Его пут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ываешь ли в общеньи со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ли грех, всяки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творною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ли ризы белые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янья светлые хранишь ли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елённые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готовлен ли ты жить среди свя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ли грех, всяки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творною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ли ризы белые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ложи всё, что запятнано гре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ым будь кровь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источник для живущих в мире 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ли грех, всяки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творною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ли ризы белые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8T02:17:24Z</dcterms:modified>
  <cp:revision>13</cp:revision>
  <dc:subject>Slavic hymnal Гимны веры христиан, hymn 428</dc:subject>
  <dc:title>Ты познал ли благодати полноту</dc:title>
</cp:coreProperties>
</file>