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0ED-6A87-4224-A672-260F046C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CFA-CD13-4245-85CA-A4027790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A13-59F7-4A8A-8FB5-1432C325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14C-5B3E-40A3-9E35-3F64443A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6C8-83E3-4C1C-9DE3-DAC5B44F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54A-D7BD-4A46-87FB-C96D1F4A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714-F4DC-4ACC-A8F0-25473F34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379-082F-4C6A-BBD8-1A9C95E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B6D-59D7-4128-8937-549FE52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DD0-C6C7-4E29-AF12-8B8048C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F01-5DAF-4EF5-8E8B-F4FE594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927-12FA-4EA0-80F6-B59E494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17CE7-F1B6-40C2-9A71-905D723DAA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06Z</dcterms:modified>
  <cp:revision>12</cp:revision>
  <dc:subject>Slavic hymnal Гимны веры христиан, hymn 557</dc:subject>
  <dc:title>Больше скажите о Христе</dc:title>
</cp:coreProperties>
</file>