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C46D-C5DC-41BB-BFBA-3EE18635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EC54-DD63-4541-AD75-350A4AF8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44B4-3674-4658-8CCC-5482568A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98D1-357B-410D-BFC7-7BA51E75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54EA-D882-437B-8F23-D1B1BF31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EB32-B9A7-43D0-B192-C6F586F8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B58C-4ECD-4D4A-BE11-F06B9F09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DBF0-B9D2-4871-831F-9629B87E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AC86-CD62-4D7C-A8DC-349B905B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E0A-648E-4232-B0AF-8CD4315E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D09E-48CE-43C5-9BC9-21A320B4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9403-12C2-43A9-9BC7-8D290B7E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2DD74-F17C-469F-97D7-1BF9F62A5BE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 страхи поборо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жизни укрепля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ить: «Так сказал Господ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2а   Сладко верить в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ить в мощь Его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ерой прикосну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ю душу обно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цепи все пор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Него потоком ль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мир 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, что познал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Бог, моя звез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живу, к Нему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сстанусь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4:28Z</dcterms:modified>
  <cp:revision>12</cp:revision>
  <dc:subject>Slavic hymnal Гимны веры христиан, hymn 622 (as amended)</dc:subject>
  <dc:title>Сладко верить в Иисуса</dc:title>
</cp:coreProperties>
</file>