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E8F-C665-4089-89A7-9F3F9917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83A-7022-4F1B-85E4-2D113999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A33-C719-4C19-8267-3989D979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E0F-70BA-471C-A50E-35ABE236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2EC-4674-4938-9495-817D8534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5F5-FFFA-48E2-AB78-1FE51C66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4631-75F0-47EF-884A-5125ECC4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4C75-6DAB-4F96-A0E3-C25290BC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0D08-44EB-49EB-82D2-93AD0C40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6F8C-61BC-49EF-8952-D2C524B3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3E2C-08A3-41A6-98D9-A9A05978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CE5F-BD4E-4567-8726-3D99B55F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3AA8C-16B4-42F6-95BF-1A489499AA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morning, sowing seeds of kindn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noontide and the dewy e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iting for the harvest and the time of reap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1   Будем розсів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розсівати Слово Боже р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заході сонця, і вдень, і вноч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о чекати урожаю з л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sunshine, sowing in the shadow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ing neither clouds nor winter’s chilling breez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and by the harvest and the labour e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о в пору добру, чи в час непог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ть у час бурі, спеки чи дощ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не занедбаєм славної наг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ing forth with weeping, sowing for the Mas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the loss sustained, our spirit often griev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our weeping’s over He will bid us wel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розсівати правду Божу вс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і перешкоди різні навкруг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час настане, жниво все достиг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1:58Z</dcterms:modified>
  <cp:revision>12</cp:revision>
  <dc:subject>Slavic hymnal Гимны веры христиан, Ukrainian hymn 41</dc:subject>
  <dc:title>Bringing in the Sheaves / Будем розсівати</dc:title>
</cp:coreProperties>
</file>