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5DA-3ECC-4520-BC7C-231FFCE0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786-F742-413B-A9DA-E7D80DF0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872-94D5-4C87-9A50-EB85E61E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1E3-5B58-4700-9D75-E3AF5B82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D1D-C70E-4F58-894C-A7654995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D3A-ACE7-450E-92FC-57687E11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AD6-ACD6-4D6C-9488-1DD1AEB9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929-CFEA-4B37-A695-28D12DC6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5EA-2722-43E0-A5A0-6C1149AF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EE0-3C01-47A6-A79F-361406E2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A75-C095-46AB-B6B7-4D6C59B6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565-9A2C-405E-8DFE-FA2A59A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FC83-2FE0-4F34-BBED-0FD0F593FD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ord has garments so wondrous f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rrh their texture fil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fragrance reached to this heart of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oy my being thr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итон бесшо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тон бесшовный Господь н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ы аро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й одежды меня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идти 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fe had also its sorrows s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oes had a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I think of the cross He b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eyes with tear-drop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ведал страдан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ак алой гор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за Сво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учший дать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arments too were in cassia dipp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a tou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time my feet in some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slipp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e from its clu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дежд запах к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ходится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болезней и слаб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 целебны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arments glorious He wi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pen wide the do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enter my heav’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well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ежде славной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 лишь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н Своих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с Ни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9:53Z</dcterms:modified>
  <cp:revision>12</cp:revision>
  <dc:subject>Slavic hymnal Гимны веры христиан, hymn 837</dc:subject>
  <dc:title>Ivory Palaces / Хитон бесшовный</dc:title>
</cp:coreProperties>
</file>