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B6CD-79B5-4576-8868-28071461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E7A2-FC79-4C87-9302-E8AFCAA1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8D18-490B-45FB-AC62-1DED0CDD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7F1B-98B5-48E4-8F96-249E153E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19DF-1447-4DC8-991C-8C28E215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67F-02F2-48BC-B953-68CAA361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A83-F408-42AF-83C5-4CD89712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9756-C10E-4DA7-8C5B-5B337106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816-F7FA-42AB-BEB3-22E774FA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6FF-7031-46CE-9D13-863162B4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309-491D-4565-9DCB-1A93B37C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C856-72B3-4C62-979C-D3026441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864E4-7A2C-4556-8AF9-60365B5909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Богом! — Двери 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отверз, как брату бр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безмерно я бог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прощеньем облада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нашла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в мире с Бог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вит сердце мне тос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ю я, что для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там в чертогах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блаженной за ре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нашла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Богом! Он со м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на всех путях м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евогах, горестях зем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с неправдой и нужд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нашла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счастье, так и в тяжкой д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твердят мои у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усть воля Господа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ею вечно будет воле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нашла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3:18Z</dcterms:modified>
  <cp:revision>12</cp:revision>
  <dc:subject>Slavic hymnal Гимны веры христиан, hymn 596</dc:subject>
  <dc:title>Я в мире с Богом</dc:title>
</cp:coreProperties>
</file>