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7</a:t>
            </a:r>
            <a:r>
              <a:rPr b="1" lang="ru-RU" sz="3600" spc="-1" strike="noStrike">
                <a:solidFill>
                  <a:srgbClr val="ffffff"/>
                </a:solidFill>
                <a:latin typeface="Verdana"/>
              </a:rPr>
              <a:t>	</a:t>
            </a:r>
            <a:r>
              <a:rPr b="1" lang="ru-RU" sz="3600" spc="-1" strike="noStrike">
                <a:solidFill>
                  <a:srgbClr val="ffffff"/>
                </a:solidFill>
                <a:latin typeface="Verdana"/>
              </a:rPr>
              <a:t>Во грехе я утопал</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 грехе я утоп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нал, куда мне пл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вигался грозный 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навек по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был неда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л тихий ст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калу меня извлёк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спасё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тёмной бездны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ердце отдаю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быть вечно с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на выс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вал рабом С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любви, так дивной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всеми вос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ы все Христу отд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изнь мою.</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тёмной бездны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гибающий!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тебя спа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й силою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бездны возне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Творец и царь м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держит ярость в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сь к Нему скоре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ь спасён!</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тёмной бездны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1:24Z</dcterms:modified>
  <cp:revision>3</cp:revision>
  <dc:subject>Slavic hymnal Гимны веры христиан, hymn 37</dc:subject>
  <dc:title>Во грехе я утопал</dc:title>
</cp:coreProperties>
</file>