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F9A-AFFE-4756-9BDC-BA0C1421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8F3-4FE7-40AF-A536-90A74BA3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599-9896-4FE2-AFC8-DE7FF15E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FA6-CD2A-4D47-A96D-EDF8A05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A3D-DF9E-4FC5-AD20-30C9F67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A36-A4FC-478D-BCE6-BD8F7F6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D8D-382F-4532-89FD-B496DA8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2E6-453D-47CE-A354-07B9367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11E-CEC3-4ACC-9587-63663C12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4B-C2D7-482C-BF72-988AAA1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9C2-3B6B-4EC4-A1CE-E987140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26D-F9A9-493A-8D52-2564C3B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16B7-87C5-41FA-9D78-5597922863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малых воробьё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хра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пташек люби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любит малых воробь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лилию в п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ихого руч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любит Он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творил цветы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ом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абудет и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39Z</dcterms:modified>
  <cp:revision>12</cp:revision>
  <dc:subject>Slavic hymnal Гимны веры христиан, hymn 750</dc:subject>
  <dc:title>Бог любит малых воробьёв</dc:title>
</cp:coreProperties>
</file>