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C45F-A353-4608-9D14-4252729D9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A966-CFE1-41E3-82AF-C6B15286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6840-2661-41C3-BB33-9613C9E6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01D5-A0EB-405E-BB91-D6F9DB158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B484-8F5F-49EB-A15A-8F2B06F7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FEF9-5755-4E5A-92A7-CBE33DB7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C047-D8EF-42DE-AEC5-8400FA59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60C5-6F5B-476F-A1D8-B2F6F829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8B5D-A3D6-4C07-B3F0-FB67EFB2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FDC5-FAAF-4C7B-9047-B0DD5FEA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B251-E817-4FD1-8AAE-2E0911FF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5E12-9054-4D1D-9868-B63031B3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93A65-7D65-4376-914B-F94406A136D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дверь для нас од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возь неё си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Спасителя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рай всех приглаш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дверь всеблагостью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также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(меня), меня (меня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верста дверь для н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проходят дверью 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 рай войти жел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тый, знатный и прос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призы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дверь всеблагостью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также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(меня), меня (меня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то чрез эту дверь в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Спаситель прим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мир душе своей на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Отец обним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дверь всеблагостью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также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(меня), меня (меня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врат святых отчизны 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крест земной он сло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небесный золо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Господь возлож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дверь всеблагостью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также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(меня), меня (меня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8:51Z</dcterms:modified>
  <cp:revision>12</cp:revision>
  <dc:subject>Slavic hymnal Гимны веры христиан, hymn 371</dc:subject>
  <dc:title>Отверста дверь для нас одна</dc:title>
</cp:coreProperties>
</file>