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160-C84D-4D4D-A8BA-FD7F0E7C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615-9F31-45C1-A7AB-ACB5196C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CB7-BAF0-4CEA-AF34-39E343FB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366-C635-4787-86CD-0AF51BAE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168-FBDB-427C-996D-6ED5939C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A3C-A4BB-4A2A-A618-EB738A2A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F3D-1011-4BE8-BAF8-FF06581A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F6E-BB37-4672-96E5-3752C07D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F24-D420-4F1E-9CCC-0AC86B66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8A8-144A-4412-A59E-3E89725C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2F8-E7BB-4C06-9448-2E98F843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287-BB4F-4AC8-B720-785F665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78E64-8DB7-40FC-964F-73763BD36F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escued me, and picked m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iving hope of grace rev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ife transformed in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have rescu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ing me, You healed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 from sin and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ught me life, You made me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have rescu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Rescue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oved me before I kne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ew me for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been created in Your image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bought me, and You sough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blood poured ou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creation in Your image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escued me, You rescu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57Z</dcterms:modified>
  <cp:revision>9</cp:revision>
  <dc:subject>The Source, song number 605</dc:subject>
  <dc:title>You Rescued Me</dc:title>
</cp:coreProperties>
</file>