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D55F-4CD4-4302-A220-222FEBE13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FFF2-50B7-43F5-BEA5-E88FA1C9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DD5D-99B0-4F52-A2D0-E9D74653D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B089-B955-4374-9412-7C3CEA556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35F1-C055-4ECB-8E1A-6DACCD42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9431-CBBE-48C7-978F-027E4285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40BA-425B-4D1B-AA28-A3BB5BC3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2264-645B-4ABC-9C33-A353285E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6924-427E-4AEB-AB11-2C5EB0EF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9131-BD35-4719-B3D9-D86A7853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E4EC-1D28-46DE-8C0D-C2928472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160C-68DE-4C45-A786-C9DB8054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BD99A-9530-458C-BB4D-A9D629F8F19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 Его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покой мне дал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ей ко мне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 есть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что я спасё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ждёт меня Отец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даст мне место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руках я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 Его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покой мне дал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ей ко мне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всех забо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ны искуш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в сердце не в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меня не мо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оспода отня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для Него готов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иться и стра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 Его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покой мне дал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ей ко мне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умер за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Него лишь толь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 вся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коро избав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зла пройдёт, как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сле этой но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нет вечный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 Его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покой мне дал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ей ко мне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0:55Z</dcterms:modified>
  <cp:revision>12</cp:revision>
  <dc:subject>Slavic hymnal Гимны веры христиан, hymn 643</dc:subject>
  <dc:title>В руках я Иисуса</dc:title>
</cp:coreProperties>
</file>