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214-96D3-4600-98A2-8737AB9C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833-C53F-411A-BE73-D9BC952A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CB8-0F34-46F8-A59D-7A13B92B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E23-CEF1-4825-B090-B2F239CE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B2E-CF42-47B4-8C0A-9835F9A4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989-E283-4A29-A774-BAF3B4C5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87D-3B19-4B46-83DB-D5711831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1AF-6125-4FF1-B512-B25E4768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46B-DE45-4695-9E92-199355BD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43A-7FEC-45A5-A580-B8F11B24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BE9-01B3-4D97-99BD-9C53266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F4F-BF73-4FFB-B24E-6F2D1CDF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A7ADD-C356-48AB-88DC-27CF158EEE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   Повість скажи про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how the angels in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ng as they welcomed Hi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God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good tidings to eart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гольську пісню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м пісням ти вол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ві в небі хва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покій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ing alone in the dese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days that ar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for our sins He was tem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as triumphan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стив Він у пуст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га як перемі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ережив невес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нений був від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years of His la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sorrow He b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 despised and affli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less, rejected and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безпритульний, голо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помагав у нуж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багатив Він нар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же був бідний т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cross where they nail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hing in anguish and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grave where they lai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how He livet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хресті розіп’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на ньому вми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домовину покл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воскрес Він і в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in that story so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er than ever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, let me weep while you whis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paid the ransom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кажи з напоми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 тому це ро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грішну бідну люд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д життя полюб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3:30Z</dcterms:modified>
  <cp:revision>14</cp:revision>
  <dc:subject>Slavic hymnal Гимны веры христиан, Ukrainian hymn 2</dc:subject>
  <dc:title>Tell Me the Story of Jesus / Повість скажи про Ісуса</dc:title>
</cp:coreProperties>
</file>