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DB0-F1E5-47EC-9041-9D8DD440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17F-6095-4A10-988C-E314A15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905-3FAD-41AD-BBA7-57AA3638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D6A-FC54-410D-B85C-951C41AF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D68-BD0E-41C0-8B86-7F12B16A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B65-F6D2-4E58-9299-CA856501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009-2AD3-4B50-A02A-5EC9D69A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EF4-DF7D-4465-82A0-7FA8EFF9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A0C-0348-4E65-A1B7-49D8D8B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E8F-1FCF-48FD-B544-A7156BCC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E7D-636D-4ACF-A7A1-6033CD7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6EC-0807-4CA1-9A80-CA64580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E7FC5-3E3B-4397-8143-8E5A102C2B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faith that will not shrin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pressed by ev’ry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tremble on the b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y earthly wo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murmur nor com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hasten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e hour of grief o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lean upon its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aith that shines more bright and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ests rage with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in danger knows n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darkness feels no dou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give us such a faith as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whate’er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taste e’en here the hallowe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21Z</dcterms:modified>
  <cp:revision>12</cp:revision>
  <dc:subject>Slavic hymnal Гимны веры христиан, hymn 851</dc:subject>
  <dc:title>O For a Faith that Will Not Shrink / О вера, стойкая в борьбе</dc:title>
</cp:coreProperties>
</file>