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28AA-73FE-4EC0-B2FA-57E8DBF9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4C26-C2EE-4F3C-AE9A-DB16EBB7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6D30-481D-40FB-9167-1887BD3B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6E21-6805-439B-BD52-087D38A0C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64C3-1A13-4F46-A13D-937FC4A7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0D06-10E3-4AB4-97D5-A6F82B8E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0ADC-519C-41CC-A6D1-C049EAAE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EE84-D23F-4108-9AA7-D4B938FA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1255-9AAB-4596-94BB-86D25A70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480D-FBFF-4FC2-BAB0-6D748F52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124C-4138-43CE-AA8D-EEF04B03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6D3A-277F-4B22-A71F-C32B3AE9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B8B4E-B3B4-42A2-83BB-B0A6F281F37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creation is a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iting to be su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of nature like a 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iting for a tong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who will give it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ake its anthem 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 rise to lead a cho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all created th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ear Your people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703   All Creation Is a S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ing, honour, glory,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reation’s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gs of earth and songs of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oin as one to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ing, honour, glory,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reation’s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nations are a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iting to be su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instrument and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reated for the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Maker of all th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majesty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bought us back from de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such a costly l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praise could be enoug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ing, honour, glory,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reation’s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gs of earth and songs of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oin as one to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ing, honour, glory,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reation’s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9:42Z</dcterms:modified>
  <cp:revision>12</cp:revision>
  <dc:subject>The Source 4, song number 1703</dc:subject>
  <dc:title>All Creation Is a Song (Creation’s King)</dc:title>
</cp:coreProperties>
</file>