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3AA-2BFE-4F3C-AE5C-EB6A7A02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DC2-B26F-4A57-B9E1-0EEEE1F2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525-0D30-42BD-95C7-0C65FAF8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70F5-A6F4-4733-B965-D286A18A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0B8-B5B9-4447-93EF-E9EEC893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978-7A69-47B7-9122-E17D7D97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5E2-3249-4852-8E1F-D5996D32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059-8263-42F4-AB03-E1CA44ED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651-E465-427D-BAD2-1B3E45C8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535-D184-46FB-BDE4-BF659858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40D-A468-468B-B887-CA0ACC26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40D-11C8-4330-B633-594DACCA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7427F-351F-41FF-9D15-6D7891FFCA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our homes be filled with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our streets be filled with j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injustice bow to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people turn to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mountain to the vall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ises ris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ens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singing fill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8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ay Our Homes Be Fi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a light shine in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lk before the cr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glory fill the whol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water o’er the 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mountain to the vall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ises ris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ens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singing fill the air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mountain to the vall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ises ris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ens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singing fill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6:01Z</dcterms:modified>
  <cp:revision>11</cp:revision>
  <dc:subject>The Source 2, song number 886</dc:subject>
  <dc:title>May Our Homes Be Filled (Hear Our Praises)</dc:title>
</cp:coreProperties>
</file>