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A2F-B1E6-4A1D-80AA-CA373D27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621-173D-478E-9F9E-6EC4E0C8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5E5-EFBD-4CC4-B831-1FB87D87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7E9-BD34-4F3D-977E-4DA5781F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610-BC65-482E-9FEA-6E3E896E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6E3-F01B-440E-9905-B5405F33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9B6-89FB-49F7-8F5F-63592514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A5F-4E68-4A05-B63C-5B29A89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259-201D-47EE-AC00-EA3CF964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368-411C-4E15-ACAE-4A84390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D59-6112-49E4-A0B4-54F78DA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FDB-F832-47DB-8E95-62640E88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9F9EB-766F-4427-9F86-603F0F96B8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учно на сердце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ижу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пустеет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ркнет, и меркнет, и мерк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ркнет её крас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ясно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е всё мёртво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ем пустыня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, когда я, когда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союзе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учно на сердце п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— сокровище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с Ним — дороже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ы со мною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ыло б, мне было б, мне было 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ыло б на сердце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л бы Он близок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с Ним ничего не жел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й любовь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ё бы, я всё бы, я всё 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ё бы за сор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06Z</dcterms:modified>
  <cp:revision>13</cp:revision>
  <dc:subject>Slavic hymnal Гимны веры христиан, hymn 504</dc:subject>
  <dc:title>Как скучно на сердце порой</dc:title>
</cp:coreProperties>
</file>