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9B5A-4A5F-45F8-B32A-9D21C7CB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9FB-207C-44B7-83AB-189A07E6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FD0-FE6C-4301-81BB-BBF58DAE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2A1-1F8E-4A67-ADD5-F559D6CF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4FA-B997-4AB8-AE1D-7EE1B92B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422-50D6-4B55-84F5-EB873568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969-B72B-4024-B35D-6C725D81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2B7-111E-4C06-A5B6-16B0F7F7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90D-B4FF-4516-B062-90E2963C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61D-3F07-4394-95A9-9D3F6657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A0A-DD73-4ADD-9F7B-ADA83DD0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6A2-3AF1-4DCD-927A-E5402320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DD976-A5C3-4728-B8D6-099AEBC9AF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, хто радість да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журбі благ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, щастя у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я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е від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вжди захис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 Нього не мож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віті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1   Хто, хто радість да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у жити з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Господом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тражданням відкуп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в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е Спас ус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корше прий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елику рад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е прийня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ій друже, вста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Христа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, щастя й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ьому й ти знай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1:16Z</dcterms:modified>
  <cp:revision>12</cp:revision>
  <dc:subject>Slavic hymnal Гимны веры христиан, Ukrainian hymn 61</dc:subject>
  <dc:title>Хто, хто радість дасть?</dc:title>
</cp:coreProperties>
</file>