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E455-9802-4871-836D-C069F555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5578-536E-46C1-BF25-E03AE3AC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1C8C-5255-4152-A7D3-849F7381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1E68-D096-4ADF-BD10-AF934FC7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E0B3-1DE5-4AF7-9ACB-277DB41B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FBE3-2DE0-4088-99EC-440DAD98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430E-349F-4C37-B6DB-82998A3C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3C7A-AACC-42AC-8EB5-7A038792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B096-F889-4777-ADB9-EF2405D4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7921-B256-4331-8D32-743DA58F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E7BE-C753-4BF2-B84C-A3A18A8B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75DB-CCD0-45B0-B614-C313F889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D6269-B208-43EF-BCB3-D1C536B33EF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prepare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a sanct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e and holy, tried and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anksgi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be a living sanct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3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Lord, Prepare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1:08Z</dcterms:modified>
  <cp:revision>11</cp:revision>
  <dc:subject>The Source, song number 334</dc:subject>
  <dc:title>Lord, Prepare Me (Sanctuary)</dc:title>
</cp:coreProperties>
</file>