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A10-85B7-43F1-960A-6E3525A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AD2-7A5E-4C59-B475-E57C922E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BE-A964-44B4-ADDD-4EAC8010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B52-5CBA-443B-AB63-ABB44CC2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B55-B8A6-45A5-A477-966C9669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EE4-055D-46C3-984A-0DB6106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DF6-8970-49BE-8434-76F40C5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338-760D-4493-A3BA-D06B618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703-55DD-4143-8225-895DDEAB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A26-74BF-4771-9DF5-3308D55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2D7-B6AE-4506-ADEE-DA50C64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FFF-D510-40E9-B864-453088D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59E6B-C022-482C-871D-1BBF2FF3F5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5   Воздайте славу Богу наш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ерный Бог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еправд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еден и истине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44Z</dcterms:modified>
  <cp:revision>11</cp:revision>
  <dc:subject>The Source, song number 25 in Russian</dc:subject>
  <dc:title>Воздайте славу Богу нашему / Ascribe Greatness</dc:title>
</cp:coreProperties>
</file>