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353-B2AE-4B22-B1B6-6A7DC9AE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D02-E9C0-40B9-96C8-7AE2F817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2E4-1294-4186-89BB-B25272A6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4F9-105F-4DB9-8FB3-90806CA3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261-6B51-4412-8266-FAF1CA2A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D72-D3CA-4425-A99B-801E0529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7D3-479A-47B8-A035-53042AF4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B66-820D-4E56-9A0A-D4FEE88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A75-95B8-4197-8189-DB96E38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384-4F4F-4079-8294-1863AA9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53F-2536-4486-B1F9-DE23177C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1E3-D1A4-4113-963C-6DD1FEDD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63368-5DB8-443F-A8DA-A7D389747A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чудной вести твёрдо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традал, умер за меня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умер я ныне для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нак того по вере я крещ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й чудной вести твёрдо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лилась святая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грех мой омыт и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совершила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чадом наре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а, в которой погружа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могилой для ветхой жизн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новь мне воскреснуть д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од Святого Духа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Христу хочу я под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по Его стопам х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Иисуса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ля того хочу отныне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0:17Z</dcterms:modified>
  <cp:revision>12</cp:revision>
  <dc:subject>Slavic hymnal Гимны веры христиан, hymn 723</dc:subject>
  <dc:title>Той чудной вести твёрдо верю я</dc:title>
</cp:coreProperties>
</file>