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FBC-0B3C-4AB2-8886-42048D8A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954-5380-4AD2-A2F1-FC97553D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137-C852-4C05-BE62-F4CE199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62C-D90B-4AC2-B0EE-57A8F8D8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808-0A29-46A3-8D65-540101AC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14-9817-4305-B3A6-812C052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978-57C6-44A2-97A1-BA52A75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604-75E0-4EE0-A215-D7AB6B5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CAE-CDC9-43E5-BC58-3909265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AB7-B09D-46B9-92EF-7C63182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CAD-A209-4C71-96FC-A8968F6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768-06AC-4B06-B409-CC90087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4FCFD-1C9B-4ED0-A87E-E92F289608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04Z</dcterms:modified>
  <cp:revision>12</cp:revision>
  <dc:subject>Slavic hymnal Гимны веры христиан, Ukrainian hymn 69</dc:subject>
  <dc:title>How Swiftly All Our Days Go By / Як скоро дні біжать вперед</dc:title>
</cp:coreProperties>
</file>