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AE3-0B69-47AF-8BC7-8E5D82AD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230-FBD6-43B2-A6D1-EA220237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BD8-7E35-412D-9411-1926E919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58C-69DF-440C-BA2C-0775F6AB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3BE-CFC4-4D34-B46E-DE3B8089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659-A0D6-46E7-9249-B4910FA4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EFD-694C-43D5-BC95-140798FC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9E7-E53F-4F33-997B-BBECDBC1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EA0-D5EE-4750-99E4-B8228A60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91F-75CD-451A-A6E3-33AF9797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9E4-B20C-4E0E-97D3-83F68DE2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81E-37B4-48A2-9240-9F169524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33219-5115-466F-9201-3014B94D433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we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bright angel feet have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crystal tide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ing by the throne of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6   Чи зустрінемось з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яті усі ж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окійною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чистії теч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margin o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ing up its silver s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walk and worship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happy golden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прозорою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нце вічне там сі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співаєм там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міністім світлі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we reach the shining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we every burden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our spirits will del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ovide a robe and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між нами і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в смертельний темний р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ин крови ці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 спасіння нам відкр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we’ll reach the shining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pilgrimage will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happy hearts will qu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melody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будем над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шлях наш ми про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стрінемось з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ворця ми рай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8:59Z</dcterms:modified>
  <cp:revision>12</cp:revision>
  <dc:subject>Slavic hymnal Гимны веры христиан, Ukrainian hymn 66</dc:subject>
  <dc:title>Shall We Gather at the River? / Чи зустрінемось з тобою</dc:title>
</cp:coreProperties>
</file>