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6161-C53A-4A70-A710-59824D775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41BD-3ADC-4467-BD5E-FB3BF91A6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50ED-16F9-45F3-9B5B-F14EDEC2E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947F-F431-4DE3-9B51-654874E89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11E7-7F87-45D7-B2BB-5D23351C7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51CA-EAFF-431F-9476-820BEAB89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6E9C-18C9-419A-AC61-6731DC6D4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81DD-E068-43F2-B757-556ED4D0C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6933-FE8F-4A24-8D60-0DCA2CC09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5CC4-AE98-4A8A-A393-CB8967CE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2244-1422-4F11-8FF4-F062D189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AC3D-EAB1-4B93-BE19-29DB92B4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D183FF-74FA-4455-A5BE-88FE8D15CF7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ужда ли больш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трудностей ря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зья ль изменя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ги ли грозят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в жизни суро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жду да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щенное слов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Усмотрит Господь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7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ужда ли больш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птиц нет амбар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песни по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малый и стар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р с них беру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держит Всевыш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сильную пло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ежду и пищ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мотрит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иску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путь омра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ужас охват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вера тверди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не суме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ых поборо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им ясне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Усмотрит Господь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ами ничтож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т в нас добр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илости Божь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шла нам зар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корбях и сомненья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ь бед и невзг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учит утешень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Усмотрит Господь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18:31Z</dcterms:modified>
  <cp:revision>12</cp:revision>
  <dc:subject>Slavic hymnal Гимны веры христиан, hymn 873</dc:subject>
  <dc:title>Нужда ли большая</dc:title>
</cp:coreProperties>
</file>