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E68E0-B386-4536-88EA-98795C215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0B412-5F42-41E5-B8E1-83AFEF8A6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AE799-6330-4DE9-8A88-214A77D75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E9A79-E536-4D0E-B048-0761876EC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339AA-6A21-4751-85DE-E7B5FDB70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DBECD-114A-4D1E-BF15-E5C74E39A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CC396-2FD1-4919-8921-526DF1599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0C62C-E732-4A7E-9CF5-BB6BFD438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597FB-2F93-4E7F-9FAA-4BDC43A8A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93583-1557-4023-8D30-E47F93713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DC72B-7182-438D-8C76-6C14D7702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BE25D-C6B8-4E27-9128-ECF4DE44F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FFD0DB-C466-45B9-8BF9-948D4CEED205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re I am wait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bide in me I pr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re I am longing for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ide me in Your lo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ring me to my kne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ay I know Jesus more and mo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724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Here I Am Wai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ome, live in me all my lif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ake 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ome, breathe in me and I will r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n eagles’ wing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 2, Kevin Mayhew: Buxhall, Suffolk, England, 2001.  ISBN 9781840037241.
</dc:description>
  <cp:keywords>lyrics words praise worship songs</cp:keywords>
  <dc:language>en-US</dc:language>
  <cp:lastModifiedBy>John Zaitseff</cp:lastModifiedBy>
  <dcterms:modified xsi:type="dcterms:W3CDTF">2011-02-04T06:09:35Z</dcterms:modified>
  <cp:revision>11</cp:revision>
  <dc:subject>The Source 2, song number 724</dc:subject>
  <dc:title>Here I Am Waiting (Eagles’ Wings)</dc:title>
</cp:coreProperties>
</file>