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ECB-9BC5-4B87-8087-324BCD1C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C52-7D87-4941-878E-2685D13D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D6F-3342-4659-AB16-E63610B6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CC6-D433-4B6A-8773-B626CA2D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706-C761-4767-A281-CD1F0722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B107-702C-42E6-9241-7C4D89B5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946D-DD7E-4F25-8E15-8181D33B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F83-A83F-4344-91F1-71F60715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B48-E7C0-476C-AB8C-1812577F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B0E-EC3F-40B3-ACE4-B8B8314F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1F4-6C43-4E10-8D00-129DF0B8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768-81E7-45ED-946D-E4D84796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CE9B1-1E6C-4886-B58A-6C07575A91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сотни уст им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престанно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мудрость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и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лишь об од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удрости учить и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мени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если б сотни уст им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жизнь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всяки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музыки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усталым тиш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от о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ет всякую в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ятая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хой, внимай! Немой, хва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тесь все у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пой, прозри и сла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у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15:22Z</dcterms:modified>
  <cp:revision>12</cp:revision>
  <dc:subject>Slavic hymnal Гимны веры христиан, hymn 872</dc:subject>
  <dc:title>О, если б сотни уст иметь</dc:title>
</cp:coreProperties>
</file>