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C42-EB3B-4AE3-ACD3-B30B0540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0BE-78D7-46B3-BA7D-6871FB2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BAA-7FC0-4E3E-A9BB-1E658899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2E0-7FB9-4CC3-9AE6-97A4CDCC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C75-E6DD-4C0F-BE36-03E7D9FD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C06-AE79-43CA-BA68-A4CD319C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926-9BD1-4256-A8E7-D0C80EE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45B-443D-4BD4-9942-01622EFD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0CC-77FB-4E10-B24E-9FEF3D2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7F7-ED48-42C4-921D-8334CB3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59F-6DEE-4BF6-A48C-D7E19EC5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316-94A8-4EDD-9C98-237C142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52750-79AE-43A6-9057-0A27D71A29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reached the land of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its beauty 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shines undimmed one blissful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my night has pass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ы богатства я дост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ы богатства я дости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ёд, и хлеб в моих ру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той вечный ден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очи мрак навек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zephyrs seem to floa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sounds of heaven’s mel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ngels, with the white-robed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sweet redemption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ок, лаская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 высот чудесный зв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песня ангелов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щих счастье душ люд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comes and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weet communion here have 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ently leads me with His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is is heaven’s bord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ид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мне даёт с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укой ведёт Он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край богатства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 perfume upon the bree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e from ever vernal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low’rs that never fading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treams of life fore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в той стране цве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ромат повсюду ль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журчит волной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не вяну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8Z</dcterms:modified>
  <cp:revision>13</cp:revision>
  <dc:subject>Slavic hymnal Гимны веры христиан, hymn 592</dc:subject>
  <dc:title>Beulah Land / Страны богатства я достиг</dc:title>
</cp:coreProperties>
</file>