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FF9-6EFB-44C6-9409-F5875313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75E-7B2A-4796-A836-EFAB621C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53B-9843-4BFB-AF5A-B0521678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8AB-DCBF-4B86-ABA0-17A834B3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D0B-20C1-4DFC-9987-52CCBD1C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BB5-DC73-49B5-A8F6-3DFF52A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405-FA47-444F-8A7A-F8B27BBC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E7F-56D5-4123-9D20-644DC0D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316-9DB0-4EDD-B937-F9E3D8E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FE3-F1AC-4651-8A17-A8B31EF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215-3B60-4804-BBC0-84691C8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223-A0DE-4165-BEDB-FA6D3A8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3817-A6DF-4C9A-96FB-5FF7DCD53D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19Z</dcterms:modified>
  <cp:revision>12</cp:revision>
  <dc:subject>Slavic hymnal Гимны веры христиан, hymn 735</dc:subject>
  <dc:title>Как скоро дни летят вперёд</dc:title>
</cp:coreProperties>
</file>