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529-72DA-405C-8455-1D78107E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F31-3321-43E5-BB5F-2BFF8B0F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50EF-7123-4C37-B9A1-67BC50A5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5FC-EEC1-41A5-9723-E3CA6135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792-8180-4FC4-83BD-20D0F467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D39-0BE2-4AD9-8CA4-6071B497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6E6-6260-4832-8492-B3BE253B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0AA-5AEC-46A8-A97F-4FB5B975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2D2-A4B6-4720-9420-9F6FE821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CED-00F6-4F29-9999-EB764088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8A8-FE92-4D0A-9355-E1E687F7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F5A-EEDD-4FB4-B65D-E0580BC6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94AB6-E4B8-4D83-AC64-A30914629F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God so loved the wor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gave His only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die on Calvary’s tr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om sin to set me f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me day He’s coming bac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glory that will 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nderful His love to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2   Так полюбив Бог сві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ак полюбив Бог світ, що Сина дав Св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Умер Він на хресті, з гріхів щоб нас сп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радість буде нам, як з’явиться Він зн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ивна є Його лю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1:28Z</dcterms:modified>
  <cp:revision>12</cp:revision>
  <dc:subject>Slavic hymnal Гимны веры христиан, Ukrainian hymn 72</dc:subject>
  <dc:title>For God So Loved the World / Так полюбив Бог світ</dc:title>
</cp:coreProperties>
</file>