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606-DC85-4DB1-88D4-16EE9765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B2F-1C5F-411B-96FD-4B9845C9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263-BD0A-4B40-B6F1-C96D3B1E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4F6-A2E5-4E2A-94EC-4CADB871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396-12E5-484C-93A3-DC0D6101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D98-DA97-4589-BF8C-4C9E21F8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512-D57B-4E8B-BBD7-F952E488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DF0-8590-4FB7-8FFE-728E562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A60-4B1C-4D04-9007-5BCD2D7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CE8-A80F-483C-82B5-CF62D30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5C5-268C-4F48-AEDD-77422FB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B6C-C3E6-46F2-BBC9-C3D3CCE1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98054-C8F3-400A-88CF-6AB2007D97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йте, браття, і в піснях духов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у і честь віддавайте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знайшов всіх в неволі гріхов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м любові явив повн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безмірно нас любить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хороняє в житті нас земн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готовив нам святі ос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городить вінцем золо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6   Радійте, бра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істю, браття, за Слово Господн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 і зневагу покірно зне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підкріпить на вузенькій дороз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у введе нас у Царстві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2:06Z</dcterms:modified>
  <cp:revision>12</cp:revision>
  <dc:subject>Slavic hymnal Гимны веры христиан, Ukrainian hymn 56</dc:subject>
  <dc:title>Радійте, браття, і в піснях духовних</dc:title>
</cp:coreProperties>
</file>