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B3C-52A6-4D50-8FA9-BED17E7A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E69-A479-476A-B5F4-249CE2D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DD3-A66B-4227-81FA-FAF24C33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C94-6F56-43EE-B265-16E86833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808-2FDA-480A-9CFC-706950A6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6A1-8062-48B0-83EC-FE43D265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D99-BB68-4150-9576-42A697F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BC1-9533-4DF3-BF31-37A455E4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DC8-62E2-4B28-B6C9-95CDE4F4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8DF-C885-455F-A4BA-815CEC8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981-8DD5-4703-A2E3-66F6CD3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09F-B5BB-484C-9A00-1E75A693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A62E2-F4D3-460C-B6B3-60078FC01C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jo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34Z</dcterms:modified>
  <cp:revision>9</cp:revision>
  <dc:subject>The Source, song number 438</dc:subject>
  <dc:title>Rejoice!</dc:title>
</cp:coreProperties>
</file>