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196C-0C38-420C-88EB-22AB92961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DD0B-564E-444F-8774-9531E9D9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A889-1964-4E98-B42E-6A7E4579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E267-A87C-43B1-BC18-8BA2CD612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35FD-3CF3-4570-8E42-1FBA0508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DA47-FEBF-46FC-9CC8-20515037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5F07-DA92-4D84-B439-EC2A81A4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7CD6-009A-450E-9957-A3D2E246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4EDC-BA72-48FE-B16D-432082AD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655B-D26A-4404-B27F-22F84E52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D2EA-CED8-4447-9267-56C12B1C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B040-F2E4-4944-BEE5-5E3AB53B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EB27A-4321-406D-9AC2-265D9836081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bury thy sorrow, the world hath its sha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bury it deeply, go hide it with c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think of it calmly, when curtained by nigh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tell it to Jesus, and all will be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огорче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огорченье ты встретишь в пу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людях утешенья тебе не най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лезах умиленья и в тайне ду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ристу сокрушенье излей ты в ти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tell it to Jesus, He knoweth thy grief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tell it to Jesus, He’ll send thee relief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gather the sunshine He sheds on the w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’ll lighten thy burden—Go, weary one, pr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любящий знает о горе твоё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бя ожидает на лоне Сво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знаешь, как властно спасенье Хри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 Нём ежечасно петь будут у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arts growing aweary with heavier w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w droop ’mid the darkness—Go, com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m,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bury thy sorrow, let others be bless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give them the sunshine, tell Jesus the 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традальцев так много под гнётом скорб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утехой от Бога спеши к ним скор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кажи им с любовью о дивном Христ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мывшем их кровью на скорбном кре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08Z</dcterms:modified>
  <cp:revision>14</cp:revision>
  <dc:subject>Slavic hymnal Гимны веры христиан, hymn 450</dc:subject>
  <dc:title>Go Bury Thy Sorrows / Когда огорченье ты встретишь в пути</dc:title>
</cp:coreProperties>
</file>