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3C7-98D0-496A-8FF8-C2708193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599-6A03-44C9-8BD0-C2CE3FF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A1C-A430-424A-A987-A71B0B96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7CB-4054-42BA-BA2F-57E3B6A2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241-5B07-45ED-A3F6-D0ACA6A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2C2-DA74-4E17-85C6-F0737FD4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4FA-6C53-4AAB-AB67-A4A6565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F31-EC51-4D1D-908A-65C5A3A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491-9F16-442D-AE4D-5BC07DC6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F15-6EEA-426C-AA8D-FC23314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F9C-04CE-4D66-AF55-E58D8C2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AA7-BD06-4A31-94A3-186DF22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D2BE9-6D4B-4923-B3FE-FE9C8C84DC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Духа Святого зв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, всі до Ісуса прийдіть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Він кличе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8   Голос Духа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кіш світу тебе обма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паситель все кличе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ж до Ісуса не йде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за тебе Син Божий в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тобі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и ж дар Ісуса теп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14Z</dcterms:modified>
  <cp:revision>12</cp:revision>
  <dc:subject>Slavic hymnal Гимны веры христиан, Ukrainian hymn 88</dc:subject>
  <dc:title>Голос Духа Святого звучить</dc:title>
</cp:coreProperties>
</file>