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C09-5B2F-4B17-BBF8-2BF5E22C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5EE-96FF-4027-A063-9D604BCB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B6B-8E0D-47D5-83A4-823051D2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8ED-A006-4909-9865-EBCFF66E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845-5FA2-4559-A077-B445549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4B3-B5C6-4AA8-AD07-B5D7EF1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BE6-5B33-42D9-A075-F921F31B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54D-F614-4ED1-8459-5BAF464F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951-A85E-47B9-A431-1225B9E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C5A-7EB8-4959-BEEB-68F55F8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676-F3DC-456B-96B9-7E5297C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351-B23D-4263-864C-5E28B1F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8E5E-CF98-434B-9983-D30E7943DF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Jesus, I love Thee; I know Thou art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 all the follies of sin I r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ious Redeemer, my Saviour art Th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и знаю — Ты 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, because Thou hast first lov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urchased my pardon on Calvary’s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 for wearing the thorns on Th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love Thee in life, I will love The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raise Thee as long as Thou len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brea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y when the death dew lies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ansions of glory and endless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ever adore Thee in heaven so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ing with the glittering crown 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6Z</dcterms:modified>
  <cp:revision>14</cp:revision>
  <dc:subject>Slavic hymnal Гимны веры христиан, hymn 648</dc:subject>
  <dc:title>My Jesus, I Love Thee / Люблю, мой Спаситель</dc:title>
</cp:coreProperties>
</file>