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D7D-8BE5-48D8-9FBD-37E87A64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62F-0912-426A-BD6B-2D772F8F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171-905B-42C9-91C5-057AEDE3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B72-7FEC-415F-BB07-5A1C6D0E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D66-50F4-4257-BD83-4822D762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EDF-68BF-4CB0-8403-011EB401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C48-982C-4BC0-B00E-7F46CBE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4D3-F69E-49F6-ACE7-68E55172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729-DD67-4992-9774-C3F1CE40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CC6-F482-4F8D-AD0E-A62DCBF5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BD3-ACBF-40F5-9CBC-2316ACA4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70D8-34CF-4098-BCCF-00067733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6BD52-2371-455A-A79D-91989B6D9C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м мог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вечный ж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грех обли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не проти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дли при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Дух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арства насле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грешных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ся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иром ц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я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огорч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же да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л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храм опоро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 крас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ь же Госпо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ыпан зо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новь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зажиг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ьше уж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уга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6:55Z</dcterms:modified>
  <cp:revision>12</cp:revision>
  <dc:subject>Slavic hymnal Гимны веры христиан, hymn 306</dc:subject>
  <dc:title>О грешник! чтоб в сердце</dc:title>
</cp:coreProperties>
</file>