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FDA-7BE8-4D94-A65A-89D926C6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AA7-162D-4EAC-8020-EAA6952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BEE-E820-4DDD-8C62-48173F77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AC1-C840-45EE-B256-2A444007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98C-FEC6-45EE-9D97-6FA7FFE0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8EE-8623-43B7-981A-76E4FE8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601-9AD9-4ADC-9F15-3775F6F8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70A-3C7B-4A0D-92EF-3A676645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60F-8591-487C-870B-AA1D038C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4C6-78AA-4202-A34E-C5687EC5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51D-D2C2-42CB-993F-0F9BF48B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D8E-B0B9-4C09-85D1-67E1958E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90B09-23E5-4839-AF64-A90A90237C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И там, где суе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даёт и там нам кровь Хрис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Среди земных забо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дежда на Христа нам мир да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р, пол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Вдали от дороги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осподь их сохранит в путях зем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Хоть будущ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мн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царит, и сила нам да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Хоть смерть вид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руг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а побеждена давно Хрис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ж придёт конец земной борьб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нас в край небес возьмёт к С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30Z</dcterms:modified>
  <cp:revision>13</cp:revision>
  <dc:subject>Slavic hymnal Гимны веры христиан, hymn 581</dc:subject>
  <dc:title>Мир, полный мир</dc:title>
</cp:coreProperties>
</file>