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638-82F0-4398-9D8A-68C24404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EA4-E5A3-4040-8C7B-C6F49A4E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03B-FAE5-4DAB-9F5D-93343D80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0CE-4733-4010-BB28-761A7AB6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B1E-4007-4111-A0B6-8015384A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8DB-31E5-4E96-B2E4-150E89C8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99A-6DF4-4A8D-A3AF-13018E64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37A-B74A-4537-92F0-AE4A8E98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FB2-DAB5-4C50-8CD8-91A1FFE1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8C7-C8A5-4444-B31F-B2A4E857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772B-2276-49D5-9865-D658C1EB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697-DED6-4376-B356-F04880F5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CD563-FE15-43C0-9214-4AEB139D06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so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strong and so 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thing that He cannot do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ivers are 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mountains are 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ars are His handiwork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so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strong and so 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thing that He cannot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2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ur God Is So 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38Z</dcterms:modified>
  <cp:revision>10</cp:revision>
  <dc:subject>The Source, song number 420</dc:subject>
  <dc:title>Our God Is So Great</dc:title>
</cp:coreProperties>
</file>