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8</a:t>
            </a:r>
            <a:r>
              <a:rPr b="1" lang="ru-RU" sz="3600" spc="-1" strike="noStrike">
                <a:solidFill>
                  <a:srgbClr val="ffffff"/>
                </a:solidFill>
                <a:latin typeface="Verdana"/>
              </a:rPr>
              <a:t>	</a:t>
            </a:r>
            <a:r>
              <a:rPr b="1" lang="ru-RU" sz="3600" spc="-1" strike="noStrike">
                <a:solidFill>
                  <a:srgbClr val="ffffff"/>
                </a:solidFill>
                <a:latin typeface="Verdana"/>
              </a:rPr>
              <a:t>Я хочу за Тобою идт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хочу за Тобою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паситель, куда б Ты не в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крест тяжёлый 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без ропота, с радостью 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я упаду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остри ко мне руку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за Тобою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Тебя я, Создатель, люблю.</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не легко за Тобою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ё улыбается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ак скорби придут, пом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дойти к той небесной стра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я упаду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остри ко мне руку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за Тобою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Тебя я, Создатель, люблю.</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ложиться мне дай н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ёрдость веры во мне со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традал на кресте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и мне часть страданий 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я упаду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остри ко мне руку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за Тобою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Тебя я, Создатель, любл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о ведь я — человек, без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у силы, я — прах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надежда моя н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лько Ты — моя радость,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я упаду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остри ко мне руку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за Тобою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Тебя я, Создатель, люблю.</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9:11Z</dcterms:modified>
  <cp:revision>3</cp:revision>
  <dc:subject>Slavic hymnal Гимны веры христиан, hymn 218</dc:subject>
  <dc:title>Я хочу за Тобою идти</dc:title>
</cp:coreProperties>
</file>