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CDE97-BFA6-4981-9456-F7DB647B050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83C42-A0FC-4A63-AD0E-2D9D55E7315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0C2D8-C669-4533-9D64-FF67BD3F984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0B58A-DEDA-40FF-9E27-C16CC28935A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51A11-DAC0-47CB-94D5-2CEBD4794A6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548-39F6-4DD3-921E-A6E40CD3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FB1-9839-441F-9B0C-C111B0D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FB5-CDC7-4500-8964-C291D1B0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26A-ADC5-40E0-A9F5-3CEF0931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D19-F263-47C5-B7C0-D4D2AB1E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723-9D65-4FD6-BB42-F49FC08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95C-74F6-4C79-95CC-57EFE1A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A3E-BB52-43CF-94AF-26EDDDE7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B1B-912A-43B6-9727-AA44CA7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8F9-3864-498F-9557-19B6FF1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401-BC83-4553-B6C0-EFBF63F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51B-1431-41B9-B30D-BC54DC81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95896-0CBE-4BDC-BCAF-B4E49EF2EF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1:14Z</dcterms:modified>
  <cp:revision>13</cp:revision>
  <dc:subject>Slavic hymnal Гимны веры христиан, hymn 668</dc:subject>
  <dc:title>Мы все войдём в Отцовский дом</dc:title>
</cp:coreProperties>
</file>