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A15-B162-40BA-87F3-A30DE672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042-D554-451A-B7FC-7FCC108B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F01-B321-4B59-9A10-711C743E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A33-F467-48EB-BAF5-6953101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A79-83D9-4F1C-8FEB-7D9CFE6A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DBF-0159-4706-80A5-4DAAD582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6B9-8011-4EAC-A5A1-84D19F0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913-D461-4A9B-9C79-3BE83BF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09D-5B69-4D4E-B55A-CFC42084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39B-2770-498D-B869-CC4951E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86C-F19F-4D50-8D7F-137FA750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ABF-8813-445C-9DAE-2FD8F85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610B3-C8F0-415C-AAD7-98FE996EEA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6   Your Blood 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testifies in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s of the Father’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ay for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oldly we approa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earthly conf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nly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05Z</dcterms:modified>
  <cp:revision>12</cp:revision>
  <dc:subject>The Source 4, song number 2186</dc:subject>
  <dc:title>Your Blood Speaks a Better Word (Nothing But the Blood)</dc:title>
</cp:coreProperties>
</file>