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38EB-71EA-492C-A464-8AF4BA93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AC2D-0AD9-4DCF-B66F-7088A703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FAA3-18A0-497A-8602-AA319D4D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366D-36F6-4ED0-AD71-3A42029F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0A62-82BC-4594-A579-A9BC2601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0F71-4829-4C99-9F25-D4429DCA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B8CF-3EAC-4CE1-94A8-49C8F7A9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0C15-D4AE-4E18-8326-6BC1E386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3774-33CA-45E3-9BF3-F3DADA80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741C-7771-4324-BB1B-F56D54D7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A03B-C64A-4644-98BA-A227DBC7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7A14-1ED5-4FEA-837C-C7DA1594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849B5-C709-485B-BD0E-9425A540F83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iend of sinners, Lord of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falling in lov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iend of sinners, Lord of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fallen in lov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love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by which we’re sa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love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by which we’re sa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8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Friend of Sin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iend of sinners, Lord of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giving my lif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iend of sinners, Lord of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given my lif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love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by which we’re sa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love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by which we’re sa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8:25:36Z</dcterms:modified>
  <cp:revision>10</cp:revision>
  <dc:subject>The Source 2, song number 687</dc:subject>
  <dc:title>Friend of Sinners</dc:title>
</cp:coreProperties>
</file>