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21600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1</a:t>
            </a:r>
            <a:r>
              <a:rPr b="1" lang="ru-RU" sz="3600" spc="-1" strike="noStrike">
                <a:solidFill>
                  <a:srgbClr val="ffffff"/>
                </a:solidFill>
                <a:latin typeface="Verdana"/>
              </a:rPr>
              <a:t>	</a:t>
            </a:r>
            <a:r>
              <a:rPr b="1" lang="ru-RU" sz="3600" spc="-1" strike="noStrike">
                <a:solidFill>
                  <a:srgbClr val="ffffff"/>
                </a:solidFill>
                <a:latin typeface="Verdana"/>
              </a:rPr>
              <a:t>Христа да славит весь народ</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All hail the power of Jesu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angels prostrate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ing forth the royal diade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crown Him Lord of all.</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риста да славит весь на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ангелы да чт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мир осанну да 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ю Христу.</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Ye chosen seed of Israel’s 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 ransomed from the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il Him who saves you by Hi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crown Him Lord of all.</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ы, друга Божьего сы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 кто спасе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йте славу и хва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ю Христу.</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Sinners, whose love can ne’er forge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wormwood and the g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 spread your trophies at His fee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crown Him Lord of all.</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ессильные оставить гр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катели ут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ойте слабость и нуж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ю Христу.</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Let every kindred, every tri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this terrestrial b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Him all majesty ascri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crown Him Lord of all.</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се расы, классы, племена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тавьте суе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 отдайте бреме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ю Христу.</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O that with yonder sacred thr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at His feet may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ll join the everlasting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crown Him Lord of all.</a:t>
            </a:r>
            <a:r>
              <a:rPr b="0" lang="en-AU" sz="3200" spc="-1" strike="noStrike">
                <a:solidFill>
                  <a:srgbClr val="ffff00"/>
                </a:solidFill>
                <a:latin typeface="Verdana"/>
              </a:rPr>
              <a:t>	</a:t>
            </a:r>
            <a:r>
              <a:rPr b="0" lang="en-AU" sz="3200" spc="-1" strike="noStrike">
                <a:solidFill>
                  <a:srgbClr val="ffff00"/>
                </a:solidFill>
                <a:latin typeface="Verdana"/>
              </a:rPr>
              <a:t>(×2)   </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огда ж придём на высо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огам Его па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есни славы восп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ю Христу.</a:t>
            </a:r>
            <a:r>
              <a:rPr b="0" lang="ru-RU" sz="3200" spc="-1" strike="noStrike">
                <a:solidFill>
                  <a:srgbClr val="ffffff"/>
                </a:solidFill>
                <a:latin typeface="Verdana"/>
              </a:rPr>
              <a:t>	</a:t>
            </a:r>
            <a:r>
              <a:rPr b="0" lang="ru-RU" sz="3200" spc="-1" strike="noStrike">
                <a:solidFill>
                  <a:srgbClr val="ffffff"/>
                </a:solidFill>
                <a:latin typeface="Verdana"/>
              </a:rPr>
              <a:t>(2 раза)   </a:t>
            </a:r>
            <a:endParaRPr b="0" lang="en-US" sz="3200" spc="-1" strike="noStrike">
              <a:solidFill>
                <a:srgbClr val="000000"/>
              </a:solidFill>
              <a:latin typeface="Verdana"/>
            </a:endParaRPr>
          </a:p>
        </p:txBody>
      </p:sp>
      <p:sp>
        <p:nvSpPr>
          <p:cNvPr id="4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41:10Z</dcterms:modified>
  <cp:revision>3</cp:revision>
  <dc:subject>Slavic hymnal Гимны веры христиан, hymn 121</dc:subject>
  <dc:title>All Hail the Power of Jesus’ Name / Христа да славит весь народ</dc:title>
</cp:coreProperties>
</file>