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2C3-43B1-48A5-9FD4-639E1C37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25B-9443-4589-8BD6-C4EBC401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D78-4E6B-4739-81D6-30831E9B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C6F-0410-4B7F-9770-01E858EA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3D3-2BEE-4843-B7F9-C19FFB94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D61-8925-4F6B-B5BA-66282951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4F0-3481-45BD-9F53-6CA89F73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BD7-1ABA-4340-B068-AB275F3D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187-2F74-4791-AB37-D2BE9AB8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E4E-38AF-4341-B4A5-DA38C8E6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B89-0370-40D0-81C1-DEECDB16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A97-6B33-4260-8808-3E575925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855E7-96F2-47D3-9244-5A17BE2AFD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Иисус воскр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явший торжест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ь людей к Отцу возн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лавленный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ее Ма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припасть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обзать перст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той радостной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осподь Иисус воскресш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 и цепи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вечною раз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ной землетря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звал мёртвых из мог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 и к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скре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благ го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моей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щё лежат пе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ём рабе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кани мёртв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аю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явися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ими следы мог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связи, дух гнету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Твоей свобод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всё светлей си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я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ой дух приготовл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стрече Вышнего Ц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ссмертьем в смертном т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е подобен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и святые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осущест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20:06Z</dcterms:modified>
  <cp:revision>13</cp:revision>
  <dc:subject>Slavic hymnal Гимны веры христиан, hymn 293</dc:subject>
  <dc:title>О, Господь Иисус воскресший</dc:title>
</cp:coreProperties>
</file>