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2DB-3A2E-4F56-AD06-5957C82C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00F-C1C5-4F6A-ACA7-BE55961D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595-CE1F-4D55-82A2-A297FE8A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CA6-517E-4802-89E4-0E14849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431-4D50-4E0E-B168-DF0E69D3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AB0-B0CE-4A38-A29F-5B537B2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249-8C6F-4DBD-A5FC-3EFAC9FD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1DE-8719-4C46-BFB4-7F2275E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997-A723-4F2E-AB5C-F2CC005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197-C979-40B2-9EA2-3527631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7D8-76BC-4CAE-9A46-03AD66B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3E3-E0C1-48E0-937E-B1A5622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6DE3-D868-4BF1-A59D-BFECA9F6FB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fe and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d, Lord,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hands and let them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feet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and beautifu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voice and let me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ps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messages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silver and my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ove, my God, I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y feet its treasur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self and I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5Z</dcterms:modified>
  <cp:revision>14</cp:revision>
  <dc:subject>Slavic hymnal Гимны веры христиан, hymn 437 (as amended)</dc:subject>
  <dc:title>Take My Life and Let It Be / Боже, жизнь возьми</dc:title>
</cp:coreProperties>
</file>