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24E-8DF0-4458-9742-45BD2817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EF0-A43E-46CF-BD22-6CC2FB03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104-DCA3-492B-A43F-F646558C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F9E-2AB3-4BE4-B355-2FD98654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B23-7EF9-41E2-8419-8645CE5F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A46-070F-42F9-B6FA-81178886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D38-899E-43C6-86D7-0E64D089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569-B750-45C5-ABDD-9CCE170B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F00-32A8-40E9-BC4C-FB1D0433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07E-49E0-40EF-A570-716F60E5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1EC-2C09-43E1-8845-D7AA3E53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849-016A-43C3-AC30-BD122817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8C85F-495F-4572-9FC8-AE402BD937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ы, и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ердце озар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, да воспр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дух в борьбе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! уж полдень зной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к тру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ю спокой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оможет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аш не у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труд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пожелтела н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жатва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ен звук призы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есь друж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колос не ув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оспода жи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единитесь, бра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н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ом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и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лабый не от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мущённою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51Z</dcterms:modified>
  <cp:revision>12</cp:revision>
  <dc:subject>Slavic hymnal Гимны веры христиан, hymn 529</dc:subject>
  <dc:title>Друзья, взошло светило</dc:title>
</cp:coreProperties>
</file>