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FEE-2FF2-46BF-9DBC-70EA4750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087-5903-4350-961C-EE25081E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6DB-5642-473E-B5A5-2F98E229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423-CD90-40AD-9905-9006CD26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4B2-182D-4AAD-9A2D-2C3A41D8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545-7A52-4E06-96A8-FCE48E5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19A-E5A3-48D1-A470-B9140053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502-8EC0-4C68-BD36-EC63DD3A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418-75FF-4585-A7C9-A234C75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5F4-CBCB-4EFB-AC61-E1A07DF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6DC-56AD-4E04-9E05-2D33CE5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E43-6DB7-44E4-B825-613E404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F3E82-22A0-4D33-9E19-C78D1F6CAE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know i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 hungering and thir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it like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n scene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the new,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have loved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4Z</dcterms:modified>
  <cp:revision>13</cp:revision>
  <dc:subject>Slavic hymnal Гимны веры христиан, hymn 649</dc:subject>
  <dc:title>I Love to Tell the Story / Люблю я весть благую</dc:title>
</cp:coreProperties>
</file>