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3F36-43F0-4E7D-9081-860218E8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5EB-598F-442C-8CAC-3C046009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DE78-2057-4D03-9D4A-E8AB55B7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2A5-AFB3-4B5B-BA2D-FA1ED2BD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7717-B38C-4506-B0B7-3BCA5DA7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A17-7323-4EA2-B27C-21EB6D7F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3478-2088-4189-A6F7-88F3B8AF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57E-3A24-4EC1-BE09-5D04B0F1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C949-86B8-431E-B69A-2B8F8DEA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AB1-8C15-48E3-8C2F-7CA3C613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AA9-18CE-4402-BA06-7CC9BA95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2DBC-0212-4207-870B-CEB00EDE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74E9D-EB5D-46D7-A226-283A95FD46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труба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землёю про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танет вечно светлая з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ена Он всех спасё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рекличке повт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по милости Господней,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час, когда труба Госп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блаженный воскре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умерших в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воренья их в обители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святых, омытых кров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той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овёт Он, и на зов отвеч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трудиться для Теб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всем сл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тра раннего и до заката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елишь работу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ую Ты сло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ый клич тогда предстан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3:50Z</dcterms:modified>
  <cp:revision>12</cp:revision>
  <dc:subject>Slavic hymnal Гимны веры христиан, hymn 690</dc:subject>
  <dc:title>В час, когда труба Господня</dc:title>
</cp:coreProperties>
</file>