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2BF-D376-4008-90AB-0F171244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B9C-15DE-4C3A-9312-DCD30C6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844-7E20-4DA3-8932-FF43BC15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46E-9AA6-4F24-AAB2-2D60D5D2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299-06E3-4752-9118-B5EBE6EF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D43-0E0D-46C5-8B58-2C725F1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667-1865-493F-A58D-69D71E27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936-0B27-4A3A-ABC1-926643B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8A7-CFDB-419E-8AEB-C729A4EA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A40-FF0E-491F-BFCF-94A60A1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96A-D838-4158-919A-EF1BC73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4D6-1D0A-4173-8917-126EF90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799A9-31C1-46B4-93FF-77DF91DBC3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со всяким ку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лядя на робки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быть перед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а не боятьс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руду ведь я призв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не любовью мир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же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, не щадя Сво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Себя муке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ин небесного 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авы не надо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лёзы, печаль, посрамл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58Z</dcterms:modified>
  <cp:revision>12</cp:revision>
  <dc:subject>Slavic hymnal Гимны веры христиан, hymn 452</dc:subject>
  <dc:title>К труду ведь я призван на землю</dc:title>
</cp:coreProperties>
</file>