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330-CA2E-4E74-BE3B-B9255EAA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B98-0119-4C44-9294-61BD37DB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50D-830A-460A-B39C-7CF0315D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6F5-8822-46F8-81BB-A2F85B01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80D-3F24-44CB-B757-1FD1B4C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A80-87A4-47C0-9877-5F599D2C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6ED-12CB-4932-87CF-79604FDB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F8B-CEB4-4084-99D9-F1EFE5B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703-EDDB-4E0B-B391-CAC80AE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E66-9A48-4049-978B-F21D9821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86A-EF64-417C-8545-284F4D2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CFB-BA25-4871-B658-7581B93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AA511-9696-4476-8F9D-32B37A3DE1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19Z</dcterms:modified>
  <cp:revision>13</cp:revision>
  <dc:subject>Slavic hymnal Гимны веры христиан, Ukrainian hymn 111</dc:subject>
  <dc:title>Я маю радість, радість</dc:title>
</cp:coreProperties>
</file>