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52B-0544-41B4-9E25-DF8CD3C4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A9B-5F89-41E4-ADA6-915BF118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1E1-C7E8-485E-9CE8-AB5F2BF8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60F-B2E7-4F8E-98B5-DD146355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9A3-32FB-498D-8532-16E0C62E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FF9-3256-44CF-9C98-F48D4A1F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E19-15E5-4742-9DA6-288A0874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AF1-1578-4D70-A1F5-B7A6D5C4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A88-F612-46DD-BDA0-781E375D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73C-B970-4775-B44D-58A6A8BA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D4C-3118-4113-9E83-AE25B0F0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C38-31DC-4C7D-A807-781BB0D2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0B69A-769C-4B3A-AD1F-10167A2511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decided to follow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6a   Решил идти я за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идти я за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идти я за Иисус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идти я за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не вернусь, в мир не верн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behind me, the cross befor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за мною, крест пред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за мною, крест пред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за мною, крест пред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ерну с того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none go with me, still I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none go with me, still I will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none go with me, still I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победу, Христо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победу, Христос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победу, Христо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свернуть с того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decide now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decide now to follow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decide now to follow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turning back, no turning b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пойдёшь ли за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пойдёшь ли за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пойдёшь ли за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свернуть с того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5-06-01T02:25:33Z</dcterms:modified>
  <cp:revision>14</cp:revision>
  <dc:subject>The Source 2, song number 766a in Russian</dc:subject>
  <dc:title>Решил идти я за Иисусом / I Have Decided to Follow Jesus</dc:title>
</cp:coreProperties>
</file>