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ECF-1C23-4D6B-8BD2-CFDB3327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933-63CC-4F19-BBBC-C94BF41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AB3-8644-41DC-BB71-65AC00E0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F0F-604D-4EE4-AECB-37071AB2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991-7E29-495A-9CAB-29DB12A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2A0-27FC-4336-AF0F-6F32477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AAB-FB32-4A6C-9B1C-02F0CE5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EC7-32C8-433F-B681-53F94EF9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A08-1E90-49E5-BDB6-5BFF1185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E76-E7DD-4C5A-B654-AF8EE2B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62E-7637-41DA-B171-9027AE3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9CE-B03C-443A-93DB-6ECA201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B512B-B44C-46CF-B88C-E671EA5E72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walk with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glory He sheds on our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we do His good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abides with us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all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мы со Христом в свете Слова и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инуясь во всём, все пребудем мы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hadow can r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cloud in the sk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is smile quickly drives i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doubt nor a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igh nor a 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abide while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тень ниспадёт или туча вз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ребудет ни страх, ни слеза на оч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burden we b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orrow we sh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ur toil He doth richly re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grief or a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frown or a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s blessed if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бремя несём иль страдаем в борь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ь утраты нам жаль, встретим гор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ч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e never can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elights of His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we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favour H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joy He best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for them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ю радость познать, нужно в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м от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блаженство дарит только т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пе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n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sit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we’ll walk by His side in the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He says we will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 sends we will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ver fear, only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общеньи с Христом к Нему в ноги пад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скажет — пойдём, что прикажет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есё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8Z</dcterms:modified>
  <cp:revision>13</cp:revision>
  <dc:subject>Slavic hymnal Гимны веры христиан, hymn 647</dc:subject>
  <dc:title>Trust and Obey / Когда мы со Христом</dc:title>
</cp:coreProperties>
</file>