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C2E-22BF-4E0A-9FD1-4638D102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51F-38EE-4683-9E6E-1C8EDA57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0FD-3DC5-4B7F-8526-B2DF4CF0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319-2DBE-4C72-9FED-776A291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FA8-B2A2-4CD2-BCBE-88BF0645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C85-ACF3-4874-9BFE-A2659668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AB8-9C7E-4096-BA04-34EC3C1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CAC-E75D-4C5C-BD03-C1FFA798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0DB-08DD-40F9-B84F-487361D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ABA-FD9E-4BCA-BC20-45FD8AFF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26D-4F70-4D8C-9FCC-0C47134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4CC-2EF4-46FE-A85F-7FA435A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E6268-8C7A-4D40-A7A4-D2E90CA99C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10Z</dcterms:modified>
  <cp:revision>13</cp:revision>
  <dc:subject>Slavic hymnal Гимны веры христиан, hymn 430</dc:subject>
  <dc:title>Начальник жизни, Пастырь мой</dc:title>
</cp:coreProperties>
</file>