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7A0-12CD-43FC-8C10-B09F46A7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81B-63AF-4933-9FFF-2F294AE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3A0-3A87-46AC-B9E1-6AE642FD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80B-DE73-419C-96C2-3D6E413D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ED5-7F1F-4E97-A54B-9DABC81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89C-672A-45EC-BC25-D5F7BDA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9D9-44A3-4858-B195-9E2B71FD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5A6-5370-4687-B19E-BC55D8B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712-AAE7-4411-9DF3-F2D6DE24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B64-2275-48FA-8461-4598982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CB3-5A45-4CE8-B78B-2BFBC78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A90-05F9-42AB-9ABE-310BC50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49519-843C-408F-81BE-397E078944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 сияет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облаков прекр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ь несётся на ве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Господь число их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й не поте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быст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бок плещется в вол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мотыльков пуш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ет на пол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звал их име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ли вместе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живёт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решников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в праздности с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взор на всех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грешник погиб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18Z</dcterms:modified>
  <cp:revision>13</cp:revision>
  <dc:subject>Slavic hymnal Гимны веры христиан, hymn 753</dc:subject>
  <dc:title>Знаешь ли ты, сколько ясных?</dc:title>
</cp:coreProperties>
</file>