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96C-067D-4716-A792-81DE7112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C43-9B34-4564-A8BB-D93AA5FD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52C-A506-413A-A5AE-BC11B48D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6BB-8D5F-4458-A960-2478C925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C94-CBFC-4670-8C00-C20A04A5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C79-F70D-4802-8EC4-F71459FF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1D3-949F-4E0A-BDEE-B8CEC14C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419-6EAC-41A3-87CB-B798B6D5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855-B2EA-465D-B494-4B7FF813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3FE-7B71-4826-9D67-3735265D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196-BB0E-40C9-8879-A7BBAF0A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F5C-02C8-4F91-AECB-AB003D71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52B3D-C6AC-4D8B-B778-24EE3012CC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p Calvary’s mountain, one dreadful mo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lked Christ my Saviour, weary and wo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cing for sinners death on the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He might save them from endless l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Искупитель, изби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избитый в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на Голгофу, нёс тяжкий кр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мученье и гнё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спасенье для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Redeemer! Precious Redeem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ems now I see Him on Calvary’s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nded and bleeding, for sinners pl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ind and unheeding—dying fo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Father forgive them!” thus did He pr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’en while His lifeblood flowed fast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aying for sinners while in such w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one but Jesus ever loved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сти им, Отче!» — неслась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ровь ручьями из ран те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от гнева всех защи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ын Божий мог так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Redeemer! Precious Redeem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ems now I see Him on Calvary’s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nded and bleeding, for sinners pl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ind and unheeding—dying fo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ow I love Him, Saviour and Frie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can my praises ever find 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ugh years unnumbered on Heave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o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tongue shall praise Him forever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я должен любит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виновных Он жертвой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, и в небе Его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славить во 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Redeemer! Precious Redeem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ems now I see Him on Calvary’s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nded and bleeding, for sinners pl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ind and unheeding—dying fo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09Z</dcterms:modified>
  <cp:revision>14</cp:revision>
  <dc:subject>Slavic hymnal Гимны веры христиан, hymn 414</dc:subject>
  <dc:title>Blessed Redeemer / Мой Искупитель, избитый весь</dc:title>
</cp:coreProperties>
</file>