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7A6-DDE5-4FCB-B434-92A43ED1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227-FD62-47BC-8FD4-27B50440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BF2-E169-497A-ADEB-1684CAE9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C03-18FC-4F0D-A3C5-E83AE90C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CBB0-6489-451D-A2D4-4AC41203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054-ABE4-4C65-876C-A7EFE2C4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48D-2DD6-43DC-83CB-6529C26A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048-78C9-43BD-8FB1-A410FD55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40D-5FEE-4D2B-AA32-D68F2397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BD7-2F58-4445-81D5-D8956967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3CA-001F-466E-98C0-66ACB871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44B-3EBD-48F6-9BE6-A4B2C4ED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3B87D-8743-40AB-B74E-B37900F38B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есть созн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сти жизни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есть жел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ных и радост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не ув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оровая ясность у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не нас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ртвящая душу 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кайся, пока есть созн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не яв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ная гостья с кос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не закры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я дверь пре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иначе прид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в ворота ст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твой стук пронес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никто отв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енью Господня тру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аче тебе угрож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в непрощённых судь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ведь время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олкнет небес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т приглашать пере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с к небу возн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ещё ж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приглашенья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ь же на Божьи призы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 и вечно ж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01Z</dcterms:modified>
  <cp:revision>12</cp:revision>
  <dc:subject>Slavic hymnal Гимны веры христиан, hymn 375</dc:subject>
  <dc:title>Покайся, пока есть сознанье</dc:title>
</cp:coreProperties>
</file>