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C61-BCE8-4CAA-97A1-D057D1C6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487-7B7B-4684-A43E-A3527E26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E4C-8EF8-45F3-9018-794A8093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07B-3606-48CF-BADB-994D24E0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EC6-7480-4A35-8419-38183130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2CD-1782-4AE2-97FD-5C16F6B9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7DE-64C2-4D74-B18B-73FD4C11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54D-1B9D-4C6D-8BF8-9A6E29C0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E7D-9D5B-43E7-9DCF-3890F91F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D94-BCBB-4BAF-B234-6F58A3ED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FD6-BC96-4342-A901-7E1247FB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154-7CDD-4019-958F-709FBBE7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81D60-4383-4AB2-9F96-E10994577B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lent night, holy n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is calm, all is b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ound yon virgin mother and chil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ly infant, so tender and mi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leep in heavenly pea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leep in heavenly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их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емлет всё, лишь не сп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благоговеньи, святая Ч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ным Младенцем полны их серд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в душе их го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в душе их г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lent night, holy n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epherds quake at the s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ies stream from heaven af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venly hosts sing “Allelu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the Saviour is b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the Saviour is born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ас с небес возвест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Радуйтесь, ныне родился Христо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р и спасение всем Он принё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ыше вас Свет посети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ыше вас Свет посетил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lent night, holy n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n of God, love’s pure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adiant beams from Thy holy f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the dawn of redeeming g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Lord, at Thy bi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Lord, at Thy bi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небу нас Бог приз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а откроются наши сер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а прославят Его все у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0:08Z</dcterms:modified>
  <cp:revision>14</cp:revision>
  <dc:subject>Slavic hymnal Гимны веры христиан, hymn 244</dc:subject>
  <dc:title>Silent Night (Stille Nacht) / Тихая ночь</dc:title>
</cp:coreProperties>
</file>