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E84-1EA1-47B4-8272-152786F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207-CDE7-4663-8326-2670173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D14-0450-4E36-B423-DE007277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AA3-A027-45E7-906D-AC4FA698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747-65FA-4E20-B521-C7302016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2AC-F5FB-4598-B307-9B7D8D70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E8D-A3E9-412D-B45D-F9C565D0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625-F6AD-49F5-8833-0B4339DE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A80-4848-4B73-BFBC-70D8BFBF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A03-2C89-4F82-B06F-332CE833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E9F-762E-46AB-9A0A-91454FE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C86-2B3B-4DC9-9E64-0594564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BE286-FFF7-4333-9ED7-EE85E1B768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a roadway in the wil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vers in the desert wi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 will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Word will still rem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do something new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29Z</dcterms:modified>
  <cp:revision>10</cp:revision>
  <dc:subject>The Source, song number 134</dc:subject>
  <dc:title>God Will Make a Way</dc:title>
</cp:coreProperties>
</file>