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C4B1-ECEF-4FBD-A519-71C3436E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3550-8979-402B-A513-38F753D7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584A-59AC-45F9-BE8D-390C224A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517-97E6-4602-A7E3-4FB60D2D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60F8-5489-464F-8646-D883C8C7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FC61-B666-4242-8DF7-158B2D37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AFE1-C270-4B52-B513-A226496C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554-5D34-4A3E-B565-246254DB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2E4-4DF1-492D-B591-17E3EF41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506E-E316-427D-ACB7-37BD5139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11D-F343-4B8F-BB2B-6CE724FC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E090-127B-41F7-92F9-B1BA566F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1042D-517E-4C18-AF6E-F5FD00039D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Друг одино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, немощных люд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наш может стать далёк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Иисус нам всех вер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— Друг одино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бессильных креп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ваемся мы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ит нас в искуш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победу над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Помощник скоры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раняет Свой нар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хе, в скорби, в лютом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ье на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Путе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устыни и л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, в бурю, в тёмных дебр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 наши гол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нас, грешных, прин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мир наш от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стил, дал Своё им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народ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9:55Z</dcterms:modified>
  <cp:revision>12</cp:revision>
  <dc:subject>Slavic hymnal Гимны веры христиан, hymn 883</dc:subject>
  <dc:title>Иисус — Друг одиноких</dc:title>
</cp:coreProperties>
</file>