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71F-EE81-4D47-9C7C-43E6B34D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37F-A8AC-491E-90D0-9F228996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AFE-E0A3-4F64-8D89-8BAD1663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568-AB6C-4D45-913D-248BB7ED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543-BB1B-4937-8F18-E693A197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D6E-71E4-490A-9066-A9F1D604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CF4-DC4F-4C77-9592-D0068151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28E-5523-4BC8-B501-CD9F8C91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808-26C7-48B1-A4C3-9778AC22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269-B347-48E9-B40D-C88FA1A6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37B-C102-4F4E-88B6-DD2F9368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8C9-CBDE-4E2B-BE58-0AC7562B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3E021-D11E-4105-8C92-D2892650F9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lled to the Lord and He answ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ed me from all of my trou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delivered me from all my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ejoice, I’ll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07   O Magnify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boast about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ll of the things He ha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hear about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y’ll rejoice, they’ll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Jesus toge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You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Jesus toge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You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38Z</dcterms:modified>
  <cp:revision>12</cp:revision>
  <dc:subject>The Source 4, song number 2007</dc:subject>
  <dc:title>O Magnify the Lord (Psalm 34)</dc:title>
</cp:coreProperties>
</file>