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7CB-CB6B-4FBA-8239-2F3C12DF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042-7BED-4F7D-8411-DC42E8AD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6C9-744D-4DB4-85D3-70DF5F77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0F0-0840-41A9-B46B-975C81F1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D65-3F5F-45B1-ABD6-A0509271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DD9-ECEB-40A5-BB86-9E42F32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520-52DA-41DC-B75F-92E5A9AF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CA1-7285-4E8E-AB79-74AE53E3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7F7-8D94-4F89-BDB7-14CC8535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E58-E62D-4C6A-9E1B-844CC5D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E8C-26A9-4917-BD58-BB213FC8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131-3F65-48F8-92AC-7A602DA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2B326-C3C8-41DE-8503-CB582942C7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hristians, awake! Salute the happy m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ereon the Saviour of the world was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ise to adore the mystery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ich hosts of angels chanted from abo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ith them the joyful tidings first beg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f God incarnate and the Virgin’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5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hristians, Awak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to the watchful shepherds it was t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o heard th’ angelic herald’s voice, “Beh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bring good tidings of a Saviour’s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you and all the nations on the ear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is day hath God fulfilled His promised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is day is born a Saviour, Christ the Lor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 spake; and straightway the celestial ch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n hymns of joy, unknown before, conspi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praises of redeeming love they sa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heav’n’s whole orb with alleluias ra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God’s highest glory was their anthem st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eace on the earth, in ev’ry heart good w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Bethl’em straight th’ enlight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epherds r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see, unfolding, God’s eternal pl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found, with Joseph and the blessèd m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r Son, the Saviour, in a manger l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to their flocks, still praising God, retu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heir glad hearts with holy rapture b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 may we keep and ponder in our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God’s wondrous love in saving lost manki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ace we the Babe, who hath retrieved our l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From His poor manger to His bitter cro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ad in His steps, assisted by His gr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ill our first heav’nly state again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may we hope, th’ angelic hosts am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sing, redeemed, a glad triumphal so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 that was born upon this joyful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round us all His glory shall disp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aved by His love, incessant we shall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ternal praise to heav’n’s almight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37:11Z</dcterms:modified>
  <cp:revision>11</cp:revision>
  <dc:subject>The Source 2, song number 653</dc:subject>
  <dc:title>Christians, Awake!</dc:title>
</cp:coreProperties>
</file>