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3FC-482B-42C3-ADF1-F7341EA5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7D4-4581-4A6D-8543-135B2486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328-D01D-436F-B2E0-C45DA5E5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9FB-77EF-4864-B8EC-392462DC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7FD-E502-4CCC-8F26-EBD8AC1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CBC-AAEA-4D1A-9C9B-BA649CC7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7FA-2FAC-4F03-81C1-7660761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A07-1DD9-4186-B1DC-4D98511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828-6A86-442B-BCD2-0DE036DF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3A5-DBEB-453B-AE3B-DB886F5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71D-025B-4492-B4CF-559F41E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A1E-7978-4519-9BB4-F598DC1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84DB9-1598-416A-8464-C10F074889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30Z</dcterms:modified>
  <cp:revision>12</cp:revision>
  <dc:subject>Slavic hymnal Гимны веры христиан, hymn 835</dc:subject>
  <dc:title>Иисус прекрасный</dc:title>
</cp:coreProperties>
</file>