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2890-54F0-4970-AFBE-AECE0162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C351-C0B8-4DD1-B2B9-B802494B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552D-B277-472B-B94D-7206E19B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B6C8-5E36-4D8B-A855-CEF44E9F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505A-55E1-4673-89E0-FB40E4A2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E37F-7297-4E16-A24C-9074E1F9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5D1E-AC03-4852-A493-D73FDF99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D6A3-EF50-418C-85D9-EB94286B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302-D56F-4206-A42E-BDD8B7A6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A27-3930-4280-9F5F-7AF304BB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EDA5-300E-4598-A340-7A27FC87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2E02-D119-43ED-AC79-08ECF030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9153E-DF1E-46E1-B0BA-D169205EED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овилось тем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ет наши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хий сад на молитву спе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всех подним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лени уп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ился под тенью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ановилось тем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лся, главу преклони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воля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творится все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просил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мира всего там легло на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н на коленях сто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чаша сия да минует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смиреньи и страхе взы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лся, главу преклони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воля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творится все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просил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моя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ходившем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традал Он, меня возлюб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осил Он за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принял мо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дин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лся, главу преклони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воля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творится все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просил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11:11Z</dcterms:modified>
  <cp:revision>12</cp:revision>
  <dc:subject>Slavic hymnal Гимны веры христиан, hymn 281</dc:subject>
  <dc:title>Становилось темней, когда Свет наших дней</dc:title>
</cp:coreProperties>
</file>