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C9C-2CC1-4573-827F-96DA3255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B61-514C-488B-9786-4165B807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5FC-ECBE-496F-80DA-0BCFB9A4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575-FB02-45C4-B99A-1B092DD4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DB3-7305-4F91-8E9F-25406308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F07-6A5C-434C-8CB2-80A12650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BE1-9D7B-41CC-B6FD-399A4CA7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2FD-7BBF-43BE-8220-CEA03886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39E-4BE1-4557-9F4E-B626D1A1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42D-985C-434C-AA99-720F7745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E14-7F90-4125-9E18-3B4FE9CA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DDF-92A4-40D5-91E7-F0BC7380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5D415-79DE-4611-9991-7832DBA077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hild is this, who laid to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Mary’s lap is slee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angels greet with anthems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shepherds watch are kee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итя в хлеву чуж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итя в хлеву чуж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охраня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поёт о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астухи вним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, this is Christ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shepherds guard and angels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haste to bring Him lau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lies He in such mean est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ox and ass are fee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 Christian, fear; for sinner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Word is p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яслях Он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вцам корм да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ий мог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ить свои печ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ils, spear, shall pierce Him thro’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be borne, for me,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, hail the Word made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bring Him incense, gold and myrr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peasant, king, to ow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kings, salvation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ing hearts enthron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 дар золото, ла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у принес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пред Ним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сердца отвор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, raise the song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irgin sings her lulla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, joy for Christ is b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3:13Z</dcterms:modified>
  <cp:revision>16</cp:revision>
  <dc:subject>Slavic hymnal Гимны веры христиан, hymn 800</dc:subject>
  <dc:title>What Child Is This? / Что за Дитя в хлеву чужом?</dc:title>
</cp:coreProperties>
</file>