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1BB-1B30-4285-B86A-710D264F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4D7-73B7-41DE-9F48-7FA7B329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443-9253-44D9-8CA3-10FDD9B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58D-6EAA-480B-999B-03A4B7FC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EF2-EFD6-4BF2-86E0-D46EBE7C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DA6-9690-455E-8E2F-39450F8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E25-2F49-4983-A27D-6CFBA8F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B8E-38B1-4158-88A5-1D67669B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BA7-A97A-478D-8149-A8967BA2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907-89F3-4E4E-A973-9D0AEB6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7CD-C241-48EE-A805-0C9175AF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3BE-6263-46A1-81CA-BE55223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97EEF-9C4A-44E3-8563-322FC272DA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t with th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in Him al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d o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friends with God’s child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those who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etting in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essing t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rushes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much time in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 thou sha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riends in thy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keness sha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be thy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un not bef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in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follow th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rust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calm in th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hought and each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contro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led by Hi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untain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oon shalt be 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ervi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8:08Z</dcterms:modified>
  <cp:revision>12</cp:revision>
  <dc:subject>Slavic hymnal Гимны веры христиан, hymn 858</dc:subject>
  <dc:title>Take Time to Be Holy / К святости стремися</dc:title>
</cp:coreProperties>
</file>