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C93-4C3C-43ED-8860-0688E00D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4D6-283F-4EEA-838A-3EBEB779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63E-D9C0-4382-BD95-A71661B2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BF3-45DC-4133-BA7A-3D60CE23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5F9-D495-428D-9BBB-79F6BBE3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371-6BAC-4B0C-B03C-1530DBA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59A-ABBA-4F66-A4FA-B9304DBC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E1F-F776-428E-97B7-5A22F2FF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C27-D03D-4A00-918F-AE325153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BD8-F736-48AA-8617-ABB0504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8B3-F8BB-4EAA-BAA9-8F1B220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8DE-1563-4D82-9B8D-242C4A0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CE76-A982-4744-9FB4-0F9BEDD715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3:08Z</dcterms:modified>
  <cp:revision>13</cp:revision>
  <dc:subject>Slavic hymnal Гимны веры христиан, hymn 243</dc:subject>
  <dc:title>Радуйся мир! Господь грядёт</dc:title>
</cp:coreProperties>
</file>