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4ED-B268-4870-BF0B-FADF94CF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19F-EBF7-4EB4-918E-6FE67612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983-699A-410F-8A1F-6FC18AA8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E5F-7380-464D-8FF5-3421F297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E1F-4D2C-49B8-90D6-3C971B95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F2B-F5A3-42E6-8515-FB1E45B1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F30-484C-43DF-99BF-D67C6DB6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F6D-95ED-4ADB-93F5-55F5776D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188-5A4F-4699-8F7B-A55BF8DC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09B-0FC4-486C-831D-20204143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1512-5037-4233-8B96-31AFB56E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7F4-B172-4DD7-AF03-19F53D7B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2E629-66B8-4551-9296-96FF0429D4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e-hearted, whole-hearted, faithful and loy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King of our lives, by Thy grace we will b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nder the standard exalted and roy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rong in Thy strength we will battle for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ными сердц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покорными сл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Твоими нам хочется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у Твою сделать жизни ос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Твоею врагов побе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Silence it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 of our spirits, rejoicing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Loyal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our lives, by Thy grace we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e-hearted, whole-hearted! Fullest alleg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ielding henceforth to our glorious K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Valiant endeavour and loving obe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ely and joyously now would we b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отдавшими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имеем, Владыке влады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м трудиться, творить Твоё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чтоб славить мог всякий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Silence it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 of our spirits, rejoicing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Loyal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our lives, by Thy grace we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e-hearted, whole-hearted, S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-glorio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ake Thy great power and reign there al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our wills and affections victorio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ely surrendered and wholly Thine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смиренными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станем, когда Ты во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воцаришься, излечишь неду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удалишь, самолюбье и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Silence it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 of our spirits, rejoicing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Loyal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our lives, by Thy grace we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3:43Z</dcterms:modified>
  <cp:revision>12</cp:revision>
  <dc:subject>Slavic hymnal Гимны веры христиан, hymn 874</dc:subject>
  <dc:title>True-hearted, Whole-hearted / Верными сердцем, покорными слову</dc:title>
</cp:coreProperties>
</file>