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E7CE-91E1-485F-A5B4-0AFC0B1BB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BFE6-6014-4C21-8966-64EDD8E2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488D-DB6A-40B5-9118-CA51D1BC7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DD4E-90ED-4005-98B6-489521F11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788A-A20D-46D9-B0D1-FCD52362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A4FA-0194-4B0B-BA3D-4F5CB20E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E342-F72A-4FDF-A6B7-6679B3F0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6D27-76ED-4D4A-833F-27FB871B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17A8-692A-4E75-B1B2-7319F9D7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D251-3E9A-43DF-AB8B-498291FF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4192-C532-4175-9672-E57DBFF3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2B94-488E-4802-8DC4-35EAF636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2864F-FB7A-4C95-B35C-4B51C3D0AD0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Jesus,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of my days I want to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nders of Your mighty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comfort, my shel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wer of refuge and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ev’ry breath, all that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ever cease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67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y Jesus, My Savi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ut to the Lord, all the earth, let us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wer and majesty, praise to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untains bow down and the seas will ro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sound of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ing for joy at the work of You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 I’ll love You, for ever I’ll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comp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promise I have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6:01Z</dcterms:modified>
  <cp:revision>9</cp:revision>
  <dc:subject>The Source, song number 367</dc:subject>
  <dc:title>My Jesus, My Saviour (Shout to the Lord)</dc:title>
</cp:coreProperties>
</file>