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947-084D-452D-B826-2F664955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B9F-6A39-4754-AFA3-2BFB7ED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921-D604-40D7-97BE-7FE3ABFE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1A7-4E1C-4B11-8369-91F4E55B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2B6-D423-4918-BC5F-C64C5FE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41D-A0D4-4EE1-ACC7-87C90D25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318-D290-4053-8F74-6CE0E9B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AAA-F8F8-4736-B16C-1CA3550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3B9-7869-4EEA-AEFA-611E26DA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1BF-F4A1-4742-97A6-B624826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5E5-F921-4E03-A1CB-83C0DE6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137-39CC-42EA-A000-D511E4D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8CFA1-9E29-4B66-96A7-DC7BEBC17D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46Z</dcterms:modified>
  <cp:revision>12</cp:revision>
  <dc:subject>Slavic hymnal Гимны веры христиан, hymn 637</dc:subject>
  <dc:title>Благодатная скала</dc:title>
</cp:coreProperties>
</file>