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1AE-0893-4271-8696-B0EABEB2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393-1A1E-4B68-955E-5C0EEB1A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445-E93F-4F39-9682-A4750B90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C40-67DC-445A-87AD-145C4D56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C57-F962-40D5-8B8D-6768A74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A77-D72D-4595-AFED-7811DC3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03D-6BE7-4C51-880A-190D8BB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22A-8E05-4141-8373-7B5C6BD0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7B1-81D4-4535-8118-D02602B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30D-BA36-4837-AAD8-E372A4A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C23-248F-45BE-893A-5F72520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687-3058-4B33-ACD6-D8F6C39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C8421-63FF-4E60-8768-4B1CEB145C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, my comrades! see th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ing i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inforcements now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ighty host adv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leading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y ones around us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rage almost g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glorious banner wa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e trumpet bl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Leader’s Name we triu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ev’ry f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long the battle r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ur help is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comes our great Comm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, my comrades, ch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6:54Z</dcterms:modified>
  <cp:revision>13</cp:revision>
  <dc:subject>Slavic hymnal Гимны веры христиан, hymn 484</dc:subject>
  <dc:title>Hold the Fort / Божьи воины, смотрите</dc:title>
</cp:coreProperties>
</file>