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936-EA89-4BB4-A451-9341CB0D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6A3-2EB3-49D0-B9A4-EDDA65FC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1F4-E235-4907-9180-6ECE692A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B66-BC8B-4A25-9357-75B9E7FD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B7D-C083-4DE4-913A-46B39D1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8C9-7575-40A0-BEEF-659F4262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689-1748-4801-967A-BEDB8B90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6D9-91FB-4B14-AB3E-B1A85776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412-CAC9-461F-B00A-82827540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8F8-E779-44C5-9C28-E5A3162F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84F-5B3E-47DD-9220-6530A19B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BFF-C8A0-46FB-8AA2-7E56055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F5FA7-8B18-47B9-ABC7-4A301EEB7C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very thought of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weetness fills my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eter far Thy fac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y presenc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сердцам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— лик Твой соз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voice can sing, no heart can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can the mem’ry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er sound than Thy bles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 of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вятое Им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и слав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звуки музыки, чем х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лава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pe of every contrite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of all the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fall, how kind Thou 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ood to those wh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для тех, кто н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ым самый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ищущим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at to those who find? Ah,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ongue nor pen can sh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ve of Jesus, what it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but His loved ones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Христа — важней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овом, ни п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исать любви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лаг, сокрытых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ight of all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fount of living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passing all the joys we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e can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вет живущим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ечных с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йны, скрытые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рабам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ur only joy be Th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our prize wi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Thou our glor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радость наша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шей славою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конца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27Z</dcterms:modified>
  <cp:revision>12</cp:revision>
  <dc:subject>Slavic hymnal Гимны веры христиан, hymn 847</dc:subject>
  <dc:title>Jesus, the Very Thought of Thee / Спаситель, мысли о Тебе</dc:title>
</cp:coreProperties>
</file>