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43D-B210-4000-8B07-09761ABD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B6C-05BE-4EF9-A36D-77188B1B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181-3BBC-4935-8290-3186E32D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6C6-BB0C-4AA5-BA18-78147344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8D0-27E2-4CB0-B905-DBF53FFE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442-C32B-4E21-BEBC-A21A772A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EF2-A265-4251-867F-DF4C130C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4D5-BD06-4F7E-BA5C-BA1C6846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057E-37F5-4D10-BFE7-D97B50CC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8F7-0C30-4F1A-A1A5-6C8D638A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371-CE90-4C89-BE3E-ACC17F10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1CF-42F6-4D7E-88BC-142A5AFF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29A03-1D7B-4CA5-AC72-FDA6C4C830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греховн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авда, гон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, неволя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ире грехов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злослов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жда, раз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волье в де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любв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сраж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успешности — к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стно, коль в на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х затемн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, коль ближний нам — вр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ретерпевши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спас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ая радость в серд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54Z</dcterms:modified>
  <cp:revision>12</cp:revision>
  <dc:subject>Slavic hymnal Гимны веры христиан, hymn 775</dc:subject>
  <dc:title>В мире греховном</dc:title>
</cp:coreProperties>
</file>