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6B9-7D71-45DD-A88F-EEB348A6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9FE-881E-4C30-9A39-7523D4AB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F9D-0A72-4676-89B1-D0E8ECB8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E3A-2737-4967-9273-8F105A2B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A73-AE53-4D1C-B1D9-BC2C5FA9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3A4-D60F-45D0-BCD7-B7C7EC5A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2DB-9A59-4AAD-826D-8C00F094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1B5-E8BF-4969-93D7-7A2A2E73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D6A-12BA-4AD8-8D07-982EF804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B1B-55BB-4573-BA1F-B37D12B5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E6B-A5AE-41B4-8F52-9B1E409E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8B8-19D6-4C14-BCBC-235EA4B9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9488F-AE02-471E-BD35-FF5B3A0653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городе Да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ён Господь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миренного Он ви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-царски дар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от смерти изба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вобод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вятого прими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енной Своей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ыне в городе Дав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риняли ту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регущие ст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ь сонную, глух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релася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пошли посл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чудные д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релась вера в душ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Младенцу прив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как раб людей смир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на землю при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жде всех веков Рожд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яслях здесь на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оскошного черт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ли ищет 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любил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ец для всех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нём скот, вертеп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родится в нём по ве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всё обновл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нии вел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ва ангел вос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рачном полуд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по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6:52Z</dcterms:modified>
  <cp:revision>13</cp:revision>
  <dc:subject>Slavic hymnal Гимны веры христиан, hymn 237</dc:subject>
  <dc:title>Ныне в городе Давида</dc:title>
</cp:coreProperties>
</file>