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2F1-8866-4685-989B-FB077336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858-BDC4-4CDD-8795-BE0C546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D02-8EEF-419B-B641-1518CBE8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042-05DB-4B0A-BDD7-F882F77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C82-336B-4943-B0BA-D696BB4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265-217F-4BC6-8E89-3624CD6F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CF7-E494-4E43-84FE-DE657536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BA4-8CE4-4699-ACF8-0F7AA6B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183-EFCA-494C-B014-3FFDB9B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D80-B82B-40DA-8157-CF5C050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921-C76B-4EEA-981D-330C16C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304-A60C-46EB-8AFF-AC2A0EE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F80B0-816C-4189-AEEC-15786F7713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ne Lik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ercy flows like a river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ing comes from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ing children a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36Z</dcterms:modified>
  <cp:revision>11</cp:revision>
  <dc:subject>The Source, song number 493</dc:subject>
  <dc:title>There is None Like You</dc:title>
</cp:coreProperties>
</file>