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E18-DC20-4DAD-812B-01469F9A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279-D442-4407-9A80-30467A2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00B-A7FD-4861-950C-21F4C4B5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CE2-ED14-454A-AEB2-1AB6E625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67D-7D56-4531-AF72-E1156855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56F-9A79-4375-9096-88B07C26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D68-2431-4B6F-8D40-A83EE9F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750-3474-4651-9B97-F1E5E5D5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227-5D6E-41C6-88F4-BE54F60A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0C0-B04C-4BAD-985E-333B9F7E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CA5-4D27-478A-AB8D-63CB256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390-1252-4D82-A1D2-E66920C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D1C10-9CB7-4FC2-9D40-3233CC53D6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18Z</dcterms:modified>
  <cp:revision>12</cp:revision>
  <dc:subject>Slavic hymnal Гимны веры христиан, hymn 623</dc:subject>
  <dc:title>Скажу Иисусу все мои скорби</dc:title>
</cp:coreProperties>
</file>