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023-A552-4693-B1E1-B7B2C1CA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071-1DA2-4A47-AD3B-E2CDA840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C04-B9AC-4EC2-947B-853FF89F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8FC-2B9A-4547-8EAF-9E367420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EC8-42E3-45B3-BDA3-B436D000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34E-2809-4566-A330-003D5445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43C-0CA8-4CA7-AB92-24F08C7C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7D3-7A81-4AAD-8530-CEF2C4E5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D84-CB74-448E-91B1-9CCE40A8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32B-7E89-49BA-BDC0-8654E2F0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FFC-A254-413B-8BD5-331AE4A3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3CA-128B-47F4-8CBC-637BC1CB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07650-6AD6-46BA-9B27-5B17705D5F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amazed in the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the Nazar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nder how He could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inner, condemned, un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гда удивляться 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удивляться я дол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что нас возлюб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был неправды ис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кровь за на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it was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ayed: “Not My will, but Th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d no tears for His own grie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at drops of blood fo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 за нас в Гефсим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, воля пусть Тв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претерпел Он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ранах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my sins and my sorr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de them His ver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ore the burden to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uffered, and die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ангел от Бога нис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чтобы подкреп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Гефсиманской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олжен был я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the ransomed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ce I at last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joy through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ing of Hi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а небо пре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Христа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Он грешников 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я гимн 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11-06T11:21:42Z</dcterms:modified>
  <cp:revision>12</cp:revision>
  <dc:subject>Slavic hymnal Гимны веры христиан, hymn 904</dc:subject>
  <dc:title>I Stand Amazed in the Presence (My Saviour’s Love) / Всегда удивляться я должен</dc:title>
</cp:coreProperties>
</file>