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766D-72E8-4C40-8FEA-A2716D41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1694-A112-4094-9C73-ED36DB62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A17D-B73C-42A4-A675-F97716AF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3843-E65D-4009-917A-9CA3B82B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8487-6709-4EE5-8CDA-E605B7AC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563F-DBB5-4C3A-A124-46124FB4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9BDC-47A9-4434-A7F9-38EFA71D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1BE7-C0EF-40CB-84C8-769B7F53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8950-E249-4F62-8B13-66440775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9F7D-71D7-4D83-8EEC-714DC02D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F32D-B724-4174-9A90-1531708D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9266-27C6-494D-9FF2-AD1F95FA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F5399-1F3F-455C-B5AD-8792DA6582B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O come, Emmanu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ansom captive Isra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ourns in lonely exi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the Son of God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, приди, Еммануил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приди, Емману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 от власти тёмных 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воле страждущи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ерпит, молится и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manu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come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Isra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manu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come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Isra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Thou Wisdom from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orderest all things mighti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us the path of knowledge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ach us in her ways to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Господь, как на Син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ё величье по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нам волю откры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ах и мыслях напи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manu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come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Isra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Thou Rod of Jesse,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e own from Satan’s tyrann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depths of hell Thy people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ive them victory over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Жезл Иессея,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ободи греха ра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оря зла спас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Дух истины из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manu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come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Isra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Thou Dayspring, come and c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spirits by Thine advent he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sperse the gloomy clouds of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eath’s dark shadows put to f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Звезда, обрадуй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лизок, близок славный ч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ь от всяких бурь и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у прогони, пошли Тво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manu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come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Isra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Thou Key of David,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pen wide our heavenly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safe the way that leads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lose the path to mis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Давида Ключ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двери в Царствие откр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раг нам смертью не гроз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приди, Емману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5:38Z</dcterms:modified>
  <cp:revision>12</cp:revision>
  <dc:subject>Slavic hymnal Гимны веры христиан, hymn 880</dc:subject>
  <dc:title>O Come, O Come, Emmanuel / Приди, приди, Еммануил!</dc:title>
</cp:coreProperties>
</file>