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638-B036-4335-AE96-17294333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FB7-368E-47DF-8E08-2BB23FAC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9D8-2A92-4916-943D-D651184C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0CE-D4BC-4ABC-A381-1676FC9F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38B-22BA-4DCB-A133-1B809C0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3CC-D19D-487F-94CB-52B73C56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FDE-44D8-4A49-97F4-0D13970F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A71-F385-47BA-A038-FFE39A27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593-4264-484D-A16F-9EC60F2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4FA-8CA7-4446-AB63-66DC5CB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C6E-01E8-4CC0-8F31-E12F2B3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690-61AE-4CF4-9DF0-2B08E3EA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A96D5-CC1F-4AE4-8518-5CFA9CC1BC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, достойний 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 від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серця повн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піваю вс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сюди славит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9   О, Ісус, достойний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правди осі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 небесний у серця посл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ою за нас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Ти нам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 д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хорониш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ш Духом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авди утішаєш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53Z</dcterms:modified>
  <cp:revision>13</cp:revision>
  <dc:subject>Slavic hymnal Гимны веры христиан, Ukrainian hymn 29</dc:subject>
  <dc:title>О, Ісус, достойний Ти</dc:title>
</cp:coreProperties>
</file>