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666-54A6-4488-ACD2-BF32D206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38B1-1915-4F21-9556-7392AE30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486-D191-42AF-ACDC-3AF332A1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D76-8B25-4A8B-8630-43AF7B80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C86-3DB4-492D-9DAD-0B17F3E0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148C-90AA-443F-9B96-DB3A5885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8F5C-7E68-4C68-833D-03975E93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0DC-A989-460A-8928-179F05D8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FB28-045F-4C6D-8310-780D0F4F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4C6-B530-439E-8D4A-73E13FCD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5F7-1895-4745-8EC2-BF458C90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0F24-D7D2-4E14-BFDB-5AE6F638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13E1D-E770-40DA-BBAD-7EACC5E6E5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y kingdom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use of Thine abo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urch our blest Redeemer s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own preciou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, Господь, Твой 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Господь, Твой д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тог любви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церковь и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х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y Church, O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walls before The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as the apple of Thine ey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aven on Th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пред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церковь — Твой алм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как зрачок лучистых гл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шь её пор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r my tears sha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r my prayers asc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my cares and toils be 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oils and cares shall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еркви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и душ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ываю сердцем и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 мольба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my highest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ize her heavenly w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sweet communion, solemn v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hymns of love and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 имет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нье духа с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ти все тяжести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ест её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ou Friend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aviour and our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and from every snare and f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great deliverance b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и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Церковь Сам 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ы всё здесь побор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вой покой в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as Thy truth shall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Zion shall b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rightest glories earth can y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ghter bliss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разд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славу я Тв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буду петь перед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ою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6T21:33:50Z</dcterms:modified>
  <cp:revision>14</cp:revision>
  <dc:subject>Slavic hymnal Гимны веры христиан, hymn 561</dc:subject>
  <dc:title>I Love Thy Kingdom, Lord / Люблю, Господь, Твой дом</dc:title>
</cp:coreProperties>
</file>