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9E4-49E7-4A18-9042-1D26BA54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E40-E06F-47DA-A140-77EDE71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C3C-F96B-4E32-935D-32214E60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BAE-AAB8-4FC8-A6CE-70F9003C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CC4-3398-4129-8598-FA18DAD9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99F-F405-454A-9EA9-F80097EE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0F1-E135-4776-8C30-08F0755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258-C830-4FED-AF8D-7DDC422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41C-2549-4053-BF51-60ADC2FE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AB1-067B-4DEC-8656-400B12C4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10E-33C2-475C-8373-C1A1301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3F9-926D-45E4-AA89-87DF9C17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B7771-D237-493B-9CEC-58030EA617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ой Иисус меня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етей к Себе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руки и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ит мой Иисус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юбви и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л Он на кре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кровь про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Он меня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любит Он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жаждою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ят сердце ин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у отраду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! Он вечно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го навек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икто не повре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зол Он со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3:20Z</dcterms:modified>
  <cp:revision>12</cp:revision>
  <dc:subject>Slavic hymnal Гимны веры христиан, hymn 869</dc:subject>
  <dc:title>Любит мой Иисус меня</dc:title>
</cp:coreProperties>
</file>