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952-5ADB-41E4-A387-307B90B7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98C-9CEF-4F16-B85C-A735A192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45A-CD92-49E9-A99A-CEF8BAB3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E2A-53E0-4192-83C5-323FCA7A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16E-434A-4A2E-A422-DDA07AB5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28E-526D-492B-9936-6F082E69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A1C-AE08-46F5-A15A-E86A79C4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0CC-7799-401E-946C-B5EF5F16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5FE-621E-40C4-8A21-34A3E1BE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32A-0D88-4EFF-BAAA-5936893B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E45-05E3-4A33-937D-6EFB2D99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416-8DCB-433F-B0C8-E97627BC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F2125-C8F4-4DEA-A614-614009090C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вестна мне церковь ж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ердцу отрадно так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у любовь воспе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жажду Его я хва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вестна мне це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вестна ль вам церковь ж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которой так сердц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к небу молитв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чим потоком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транник! ты знаешь, что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церкви той веет 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там не чувствует сир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тым себя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церковь есть неба предвер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милости Божьей прест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сцелён от неве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церковь Христову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иди в церковь живу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Божий и ты в ней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ь Иисуса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нись и мир обр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32Z</dcterms:modified>
  <cp:revision>12</cp:revision>
  <dc:subject>Slavic hymnal Гимны веры христиан, hymn 519</dc:subject>
  <dc:title>Известна мне церковь живая</dc:title>
</cp:coreProperties>
</file>