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092-8FFF-44B2-A025-50669FA5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92E-63F0-4FB7-AEA3-4A26DDC5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A2F-D531-4054-BA8A-E3124026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82C-05AC-4633-B93D-EA04DE36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4AF-FDC0-4ED2-8AAA-CFEBA741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218-A839-40F5-8BDD-CE14866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E50-4CE2-422E-A6A6-44B9B97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524-2687-4A7F-908A-09969429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7DC-B084-40FE-B44F-3E5CEB8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83F-1F9C-46E1-8B61-B8B554B2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E3B-5C0D-4FCA-968B-8EA2030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B8A-F4C9-46E1-A950-804936B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1511-224C-4970-A224-584EE1D326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urvey the wondrous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ich the Prince of glory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ichest gain I count but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id it, Lord, that I should bo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in the death of Christ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vain things that charm me m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acrifice them to Hi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from His head, His hands,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love flow mingled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e’er such love and sorrow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e whole realm of natu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re a present far too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so amazing, so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07Z</dcterms:modified>
  <cp:revision>12</cp:revision>
  <dc:subject>Slavic hymnal Гимны веры христиан, hymn 868</dc:subject>
  <dc:title>When I Survey the Wondrous Cross / Когда я поднимаю взор</dc:title>
</cp:coreProperties>
</file>