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387A-6732-47AD-A5FF-674E591B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E355-D34B-4A8B-B691-D2719B4B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73B0-801F-444E-A271-4626753C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3A05-851C-45CC-B675-C7D39C69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9FCE-A7A7-4493-AC66-5726730A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AA9E-B262-4F56-9B11-C41DDA93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80C1-639F-49C5-B6A9-8D31252E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FDD3-C439-4346-80E4-B367E14D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D4F3-AA54-462D-8D42-30F480DA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4FB4-271C-4C0D-9407-404AFE7E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6F11-574D-41F3-97CA-666EC0F0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0C6E-8528-4112-AD6E-D48A90CE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F86FE-6078-4E14-BFB8-E6768F152B6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у берега зем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а бурною ре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н берег жизни н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вечной 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верою жи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Вождя чрез И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ам Свое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нас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у берега зем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еске солнца виден пыш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ятой Иерусал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и радости там слыш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язык неизъяс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верою жи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Вождя чрез И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ам Свое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нас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уж многие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шли к тем берег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рядут часы благ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мы все будем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верою жи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Вождя чрез И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ам Свое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нас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мрак смерти над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за далью непо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 вечного пок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женства свет нас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верою жи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Вождя чрез И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ам Свое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нас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5:03Z</dcterms:modified>
  <cp:revision>12</cp:revision>
  <dc:subject>Slavic hymnal Гимны веры христиан, hymn 685</dc:subject>
  <dc:title>Мы у берега земного</dc:title>
</cp:coreProperties>
</file>