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8B74-F7B1-4305-A615-8DE0C822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CA3B-9EDE-4731-9469-07934E0D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85BD-4B7D-43D7-8B3B-8DBF0FC8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46BE-79AA-4942-87CD-AB474B4B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3107-9155-4814-814C-C7868948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FF5E-4C2E-4990-8B13-5D544A69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DCDC-7064-4799-B06A-4759DCD0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EAE0-2A71-4271-9965-07E7327F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412C-BB77-4B62-ABBB-DE07C6FF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49D7-6FBF-4EAC-905E-AAAFFC94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7A5A-837C-476C-855F-3BEB1E4E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984A-3C71-4A3E-A7A0-3637B432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9F819-6D4A-4E08-98B1-F16E82B3E1C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ем, к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Господь возврат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знаки тверд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 концу мир стрем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коре прид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ый день загор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знаем 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наем, ког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ждать и мол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 в обла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славе небе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знаем 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дям дал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знали спас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в сердце суд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Свои откров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мир от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исуса яв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знаем 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ждать и мол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 в обла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славе небе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знаем 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сь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людай Божье сло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ильник заж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гда будь готов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ба за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дрожат все осн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знаем 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ждать и мол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 в обла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славе небе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знаем 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8:30Z</dcterms:modified>
  <cp:revision>12</cp:revision>
  <dc:subject>Slavic hymnal Гимны веры христиан, hymn 320</dc:subject>
  <dc:title>Не знаем, когда</dc:title>
</cp:coreProperties>
</file>