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C0A-8EF8-4D36-8BEF-88837E5E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C84-1CCF-441C-B463-53018E4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7DD-E0DA-4B6F-99C9-FD5047AD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E93-5C26-49EF-B8E0-5457346A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0E1-996F-4909-A2EC-0DFD2A31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288-A5DE-451F-BDE6-AEE6FE36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FC5-E13E-4B39-901F-6272026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C4E-5BBC-4378-B4B8-DB287B14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BA3-140E-425F-8714-0D3219D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1E0-C22F-489B-9B9E-82470F5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A0F-809C-412F-A64F-136B96A5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6C5-7706-4A70-BFC1-D322E6E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EFE6B-1E76-4F0F-BDEB-DC8B9132E3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— путь, Я — воскре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жизнь», — Христос ска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рзай, о чадо, в слав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ка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ной во сл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Я — путь, Я — воскрес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 Вифлееме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сниз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тернистым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крестной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да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пить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Собой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поношенья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Он здесь прин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чи злословим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благословл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десь избра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ам нам царство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ежде здесь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устыни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Христову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людям про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ых здесь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ечь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йдём,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4:35Z</dcterms:modified>
  <cp:revision>12</cp:revision>
  <dc:subject>Slavic hymnal Гимны веры христиан, hymn 328</dc:subject>
  <dc:title>«Я — путь, Я — воскресение, Я — жизнь»</dc:title>
</cp:coreProperties>
</file>