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2FE-0526-4FBE-915D-32888E94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339-5D23-4D3A-AA52-E766720F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151-6FA0-4FC1-B1A9-9A4EE94C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2D4-158B-4BE5-906B-CC1E9338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439-3CF1-41F3-B6D7-A7B14EA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B7E-99A4-4741-9CEE-77EA451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4D4-64A4-40B3-8149-3FDADED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04B-4152-4747-A754-4AFB08D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D87-77E4-4E33-96FF-0B368BF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FD5-93F2-486E-AC13-CD97EC3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123-6181-4DA7-A501-2D7F90E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73D-B15C-4491-9932-7A758FD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96545-C35A-42F7-942B-84F9E4A28A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59Z</dcterms:modified>
  <cp:revision>12</cp:revision>
  <dc:subject>Slavic hymnal Гимны веры христиан, hymn 853</dc:subject>
  <dc:title>Стремлюсь вперёд</dc:title>
</cp:coreProperties>
</file>