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FA9-8D4E-4DCE-9D1A-D02C5F45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B90-6B7F-4B4F-A776-EE13B9A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90C-CAE7-43E8-99B3-9EDA9551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A55-36C6-4819-A615-B08EFD9D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B42-913D-4333-A235-A42D886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01D-C6DF-41DA-BC66-DC2DBCE7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2AE-4EAB-4BC1-BDD4-999F816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57B-6F7C-4DF6-8D68-D72C1132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842-6885-4591-88D9-E6789E4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7D3-3E86-4B52-BDC2-7465D9E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E8D-4D13-43DE-9560-2EB0411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0CE-188E-43C4-AFAC-57B6DD2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8D98B-AA2F-4602-AFB7-6D6BC8863D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falls the even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deepe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ith me ab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вет сменился мг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теет тьм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death’s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grave, thy vi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iumph still, if T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мерти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, где ужас т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всё, — л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ou Th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my clos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through the gloo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 me to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Свой у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здою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morning 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’s vain shadows fl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, in death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 смерти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ther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l and comforts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of the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лиш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ы я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лот бессильных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to its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bbs out life’s littl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joys grow dim;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es pas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й у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e and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around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 changest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есни сч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звук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неизменный, 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t in terro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kind and good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ing in Thy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царским об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со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м и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for all w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eart for every plea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Friend of sinner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сц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лнца луч,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ed Th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ut Thy grac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il the tempter’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нуж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евоз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, like Thyself,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and stay ca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loud and sunshin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чной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водя, хра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ear no foe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at hand to bl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lls have no weigh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no bitter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ен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Ты, Господь, вбли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не тес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 т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2:11Z</dcterms:modified>
  <cp:revision>12</cp:revision>
  <dc:subject>Slavic hymnal Гимны веры христиан, hymn 823</dc:subject>
  <dc:title>Abide With Me / Пребудь со мной</dc:title>
</cp:coreProperties>
</file>