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00F1-DFE5-479E-AEDC-73BCF3CB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3C99-E19E-46A0-9044-1182A094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FF9-5031-4BEF-818D-E19071C3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186-3E5C-4D98-94CB-B1E5BCB1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6A2-D38F-49BE-B12A-19DA6BB8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FC7-5DDD-4798-97B5-934E52A0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36B0-7CF5-4951-AD3D-1F482E06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598-4F2A-4FB8-B3C4-E56A4762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C8AA-665F-4E59-8D6E-550126D1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5CAE-D6EF-4DC9-B817-E2B5A9EC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139C-6D7C-463C-B34F-E7BADC64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292E-4F28-48E3-A927-511AE39C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08F4C-F380-4311-ACAC-CFD1EA5E8BD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окончили уч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мой пой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благие наста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мы возь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но, тихо и споко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мой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благие наста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мы возь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окончили уч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Спаситель, нам жел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колу посещ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учащим свыше з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ебе ве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но, тихо и споко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мой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благие наста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мы возь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дать мы воскре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пять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слушать настав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бя 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но, тихо и споко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мой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благие наста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мы возь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6:24Z</dcterms:modified>
  <cp:revision>12</cp:revision>
  <dc:subject>Slavic hymnal Гимны веры христиан, hymn 765</dc:subject>
  <dc:title>Мы окончили ученье</dc:title>
</cp:coreProperties>
</file>