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1   О, любовь Творца вселенн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любовь Творца вселе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неба, к нам сой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ушах кротких и смирен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ство правды утвер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Иисус, Ты — состра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предвечная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мир и оправ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храняй нас от врагов.</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ухом истины напол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чисть от всякой ть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послушно и покор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Тобой шли всюду 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м — Альфа и Ом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начало и кон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 грехами дай побе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вободу для сердец.</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семогущий Изба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и чувства обно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с устрой Себе об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тоянно в ней жи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разлучно будь Ты с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дохновляй нас, Боже,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м, словом и дел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лять Твою любов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делай новым нас творе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ым правды, чист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ели Твоим спасе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в Себе име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нови в нас образ Бож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рай небесный нас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Тобой венцы полож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осхищеньи и любви.</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9:26:45Z</dcterms:modified>
  <cp:revision>3</cp:revision>
  <dc:subject>Slavic hymnal Гимны веры христиан, hymn 61</dc:subject>
  <dc:title>О, любовь Творца вселенной</dc:title>
</cp:coreProperties>
</file>