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C18-352E-423E-B2A8-32C603DB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C58-0803-4EE1-A26C-79EF0AE2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077-C16E-41EE-AC9C-EC86FD27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A49-DB88-4C5C-8FE1-8D043D21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515-A9C6-41E6-A81B-3BA83B82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E09-32C2-4D4A-8FE3-3AAC2702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F42-9BC5-46FA-8A11-C32EFAB6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2F2-2019-4779-B253-68D2BF20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B71-9EE4-4DB7-9173-DEC77522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2E3-956D-4353-B8B3-27C4964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AE4-E71E-485D-8F24-F5C7C15C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23D-8F8A-4A73-BEBA-A010BBE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5F789-356F-4537-96EC-470503BB30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rejoice, we shall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e glad in it, and be gla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7   This is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 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rejoice and be glad in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7:14Z</dcterms:modified>
  <cp:revision>9</cp:revision>
  <dc:subject>The Source, song number 517</dc:subject>
  <dc:title>This is the Day</dc:title>
</cp:coreProperties>
</file>