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C3B2-D497-4FEE-AD3C-E34ED4D42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7F96-8EE5-42B7-8AAE-C8725B3E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8210-A946-4AF2-886B-AF547685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B4B3-F4C4-4881-A47B-DD1C14E3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85D1-9913-4AB1-BBF8-463F0AAB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4D08-2C6B-4F93-84D9-D3209424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17D5-3DA1-416E-9620-D3A4694C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EBDB-801B-4551-A221-1E4E395C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D6A9-289E-4130-8FA4-70A40637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B47B-D5E3-4E04-8AE1-86880974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F32A-1D0A-4703-A3A4-7B9B6699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4F76-1053-47C2-8C07-E348BA48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5888D-483C-408B-9E9C-5EE75954767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with Christ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, what will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ith rapture I behol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hrist, who died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ть лицом к лицу с Иисус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лицом к лицу с Иисусом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ть свет Его оч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к чему душой стрем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ороже жизни с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I shall behol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beyond the starry sk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in all Hi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see Him by and b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у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Его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faintly now I se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darkling veil betwe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a blessed day is co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is glory shall be s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видим мы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квозь тусклое стек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великий день гряд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есть узрим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I shall behol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beyond the starry sk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in all Hi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see Him by and b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у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Его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rejoicing in His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are banished grief and p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crooked ways are straight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dark things shall be 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ё тайное откро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 беды уст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справит всё крив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х верных награ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I shall behol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beyond the starry sk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in all Hi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see Him by and b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у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Его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! O blissful mom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, to see and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with m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hrist, who loves me 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лицом к лицу — блаженств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перь так чудно 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едёт нас к соверш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дал нам благод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I shall behol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beyond the starry sk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in all Hi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see Him by and b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у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Его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0:06Z</dcterms:modified>
  <cp:revision>12</cp:revision>
  <dc:subject>Slavic hymnal Гимны веры христиан, hymn 861</dc:subject>
  <dc:title>Face to Face / Быть лицом к лицу с Иисусом</dc:title>
</cp:coreProperties>
</file>