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186-D2FF-4603-8C3D-E8AD7B7C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D4C-C427-45DE-8609-0965AD56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147-C3C6-4232-BB2D-B0E0B547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E23-F365-4EC5-9A24-0467D308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441-7422-47D5-8A7A-ED99949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668-3E04-405F-920A-9FFE857E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FBB-9906-4B82-ACBC-2C445924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7D3-DF2C-42A6-9DE6-AA6CDFAA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E8D-FF12-421B-8C7B-3F1651DC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D39-CFAA-4837-9F56-75A3B8CD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637-6FDA-474D-A96E-95887C3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709-0024-4B7A-9ED6-B56B86B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30641-AEFA-450B-A4FE-194A83CD9A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Have Decided to Follow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I have decided to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, no t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04Z</dcterms:modified>
  <cp:revision>11</cp:revision>
  <dc:subject>The Source 2, song number 766</dc:subject>
  <dc:title>I Have Decided to Follow Jesus</dc:title>
</cp:coreProperties>
</file>