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50C-009F-4605-8385-FCDF99A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77F-14AA-47D1-98E6-F106779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A8F-774C-4695-84DD-30284542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681-24F7-4D97-98FA-A4986B2D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494-11A6-45A2-B088-C0B3E8CB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262-F5F9-4648-BCA0-6C33E1E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38D-10B4-49EC-B59B-ACA18FF1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118-9738-4C1B-8DF8-B49566D0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D22-DD5B-448C-A0AC-F6AE3265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385-0C32-4C88-91E7-3104904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25F-1E68-475E-866D-120EDA2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2DF-C41F-4FFC-A2C3-2484CB7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2A9C5-5051-4DC8-A9BE-E3DE550AA8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32Z</dcterms:modified>
  <cp:revision>12</cp:revision>
  <dc:subject>Slavic hymnal Гимны веры христиан, hymn 649</dc:subject>
  <dc:title>Люблю я весть благую</dc:title>
</cp:coreProperties>
</file>