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EC59-D692-4789-A97A-3067D75FE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468C-2FC2-403E-B8ED-1709C473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3453-85FF-45D4-881D-7F2C9F758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8AD3-FDCC-4BDD-8F7B-E4D5AED90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91F5-2C2B-4A40-B6EF-201CBD56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D3DF-CF5D-44B5-8033-826BCFC0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7B93-E02E-49F3-B3FE-4A0F4CFC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2681-B50B-4D0C-8792-C46F2AA5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0CF8-A435-41F1-8A4C-3D066D81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5BD8-3E49-4544-A344-B3E74889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84E4-ED46-45C2-A0F2-C5AC9D49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EFAF-1173-44C5-8A1C-3B6C8917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84938-ADDF-4CBC-BB73-985D3A67DF9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в виноградник, работа в нём 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чих в нём мало, а дела не сч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адо копать и полоть, расчищ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ой поливать и плоды собир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рные травы совсем изв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каждый по силам труд мо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надобно лозы от хищных стереч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холода, ветра и бурь убере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ди в виноград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, иди, иди в виноградн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та в нём 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, иди, в нём мало рабоч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дела не сч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в виноградник! Ценой доро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ной Моей крови ты куплен, ты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ремя, и мысли, и силы тво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ум твой, все чувства отныне Мо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царство Своё променял на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еснь херувимов на муки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чашу позора и скорби исп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знью Своей твою жизнь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, иди, иди в виноградн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та в нём 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, иди, в нём мало рабоч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дела не сч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в виноградник, пока ещё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поработать, уж близится т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сумраком вечера ночь наст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ремя работы навеки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тай с зари до зари, и Я 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ожу в тебя силы и средства все 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т блажен, кто себя посвя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ело Моё в этой жизни тв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, иди, иди в виноградн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та в нём 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, иди, в нём мало рабоч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дела не сч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2:34Z</dcterms:modified>
  <cp:revision>15</cp:revision>
  <dc:subject>Slavic hymnal Гимны веры христиан, hymn 520</dc:subject>
  <dc:title>Иди в виноградник</dc:title>
</cp:coreProperties>
</file>