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606-C191-4591-B61F-606F284E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1F2-B621-4BE9-ABCD-16A6A2BB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558-3AC5-49EE-A7F7-5331AA59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ED7-7AE9-4CB0-91C3-AA82436D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971-8344-4681-9103-7648193F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6AD-B4E3-4F56-82F3-1A66EAF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CB7-C22B-43EF-8FEA-565EDA1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057-4E61-4915-B54E-59698472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200-B41B-4199-8CE7-9776A269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D1B-0ED9-490F-BE8E-3823E5E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F9E-8BC8-4005-8604-65F6479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192-6E6E-4958-A6A0-34D29EB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E43A0-0484-4F93-8188-763B2061B1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of our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with u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, praise the Father, praise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 the Spirit, Three i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urning sun with golden 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ilver moon with softer gle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shing wind that ar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louds that sail in Heaven a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ising moon, in praise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lights of evening, find a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mother earth, who day b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ldest blessings on 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ers and fruits that in thee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m His glory als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ye men of tend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ing others, take your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 ye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long pain and sorrow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and on Him cast your c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ings their Creator b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Him in humbl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02Z</dcterms:modified>
  <cp:revision>12</cp:revision>
  <dc:subject>Slavic hymnal Гимны веры христиан, hymn 871</dc:subject>
  <dc:title>All Creatures of Our God and King / Творенья Божьи на земле</dc:title>
</cp:coreProperties>
</file>