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75A-86A1-4BF3-B179-02EC093D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29E-A0C2-49EE-BB2F-23E11A7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5BA-F7CC-4ED4-B1D2-A6EC0139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678-23B1-4567-8538-E302D484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170-2F20-4081-A555-F3A3DCA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FD6-B3EE-4FB8-9339-885464D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0D4-6461-4B75-82BD-C4FBF7BE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667-6CF2-4D5A-B108-E4E6D67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C6B-A6F4-4CBD-8DF0-69AA421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81D-B0FE-499F-99B9-A6AEE06F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22F-ECB9-4B19-A64C-DE90330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72F-532A-4FFB-B744-6587517C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64D4F-0E3F-4D56-A362-348FD907E7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Иисус моим сердцем влад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мыслях и в чувствах пусть Он л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й любви здесь никто не им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лишь покой моё сердце на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Иисус моим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лько Христос даровал мне свобо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щной рукою оковы разб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любви Он хранит меня всю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а елей в Мою душу из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в бореньи душой ослаб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лишь Один слабый дух укрепи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я поток очищенья им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у и радость душе Он да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нчится битва, в селенья свят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Он с любовью меня приведё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не нарушат страданья земны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Отчих объятьях мой дух отдохн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50Z</dcterms:modified>
  <cp:revision>13</cp:revision>
  <dc:subject>Slavic hymnal Гимны веры христиан, hymn 476</dc:subject>
  <dc:title>Пусть Иисус моим сердцем владеет</dc:title>
</cp:coreProperties>
</file>