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BF4-1799-4A0E-A21B-28888419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7A0-A532-4DF4-A7E1-1A07D8AC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557-CCA6-4F07-9CA0-78C71951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99D-2FF9-431E-B9C9-7716AF4D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E80-AD24-41E5-B523-329A060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258-EF65-4539-91AF-55C80C81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7FD-0E36-4D2D-AD5B-B1D59AB2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838-6132-45CA-BF7F-53B1485C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ED3-0234-4A53-9F98-3DCED857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54C-C7C2-4305-9569-23519A80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DDA-E8AF-44AA-A332-AF7BFD05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EF2-5FE1-4FAC-8FFE-1EC7466E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3D281-19A2-4640-98FB-3564AD2330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me before You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’s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want to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884   К Тебе, Господь, прихож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прих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дарность свою прино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you’ve give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the blessings that I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, что Ты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, чем Ты меня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и 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сло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You’ve done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ave me Your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ьму из жизни заб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ом правды Своей восси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sin and m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led all m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олезни мои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и 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сло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5:20Z</dcterms:modified>
  <cp:revision>11</cp:revision>
  <dc:subject>The Source 4, song number 1884 in Russian</dc:subject>
  <dc:title>К Тебе, Господь, прихожу (Я благодарю Тебя) / I Come Before You Today (Thank You, Lord)</dc:title>
</cp:coreProperties>
</file>