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C01-7ED9-470C-916F-6145C908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A40-8E1E-4FE0-BD8F-2CC4C9D6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4E6-7617-45DD-BC98-7C5DAB34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64C-935C-41B8-B61B-2429B2D1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AA9-D9CE-4B28-B01F-3A1E3FAD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C7B-C703-4B8F-9013-48F240A8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796-386B-4929-9D42-B6E9B389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B13-F86F-418D-ACED-8AE938C5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78C-8247-4AD3-8D05-FCEB079E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6E4-1393-41EE-A941-CC8DB266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0CA-7192-4C37-9C26-499B8181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827-063B-45EA-AE54-4A60BCDC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72E61-CE32-4456-8862-67D220904F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! I am resting, 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joy of what Thou 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inding out th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y loving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bid me gaze upo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beauty fills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, by Thy transforming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64   Jesus! I Am 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great Thy loving-kin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aster, broader tha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marvellous Thy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vished all on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rest in Thee, Be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what wealth of grace is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Thy certainty of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made it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mply trusting The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hold Thee as Thou 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love so pure, so chang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its deepest long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ets, supplies its every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sseth me round with bless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e is love inde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lift Thy face up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work and wait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ing ’neath Thy smil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th’s dark shadows fl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ness of my Father’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nshine of my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eep me ever trusting, res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with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57Z</dcterms:modified>
  <cp:revision>13</cp:revision>
  <dc:subject>The Source 3, song number 1364</dc:subject>
  <dc:title>Jesus! I Am Resting, Resting</dc:title>
</cp:coreProperties>
</file>