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558-6594-45CD-9775-4E26465B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772-9F83-48AD-8A7E-0581E606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4C2-41D8-4851-A3D7-D04C66F4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DFB-12F0-490C-93CD-788849CD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3D0-6498-4AAC-ACAA-054C221D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F35-4FDF-4DEB-BCFB-DDC64E67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792-AB1D-459A-8CC3-57409C41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202-5FD3-4319-B5C0-B3E23604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F40-BC03-41DA-8CC7-845827F3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27D-526E-45AC-A51D-30353AA4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B9F-E42E-46CF-B150-81A5E2A9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706-C1C4-49FF-AE5F-6D118434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1B80B-BC40-4850-82EA-D94F80BBF6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high and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thy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love and ad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high and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thy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42   He Is High and Exal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21Z</dcterms:modified>
  <cp:revision>12</cp:revision>
  <dc:subject>The Source 3, song number 1242</dc:subject>
  <dc:title>He Is High and Exalted (High and Exalted)</dc:title>
</cp:coreProperties>
</file>