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A7-8909-4CA6-848D-C51EE51A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87B-8E66-4157-9D04-A828B27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2E7-4905-44C8-AC40-65814A0D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CDC-D1A7-4D11-8809-A85CFCF9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45A-6E42-49A9-86C6-FE13579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581-AFF7-4793-AA45-E6B9F07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4E2-DD7E-4F22-8475-0EAA9F9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188-ABEB-47D9-8760-C8ADBB9E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50A-1CB7-46B3-B327-C48D0BAA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2D4-2A61-4A44-BCA1-196A7C11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B50-D714-4A39-B6CB-E16BE99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276-B9FE-472B-AF9E-4EA29D1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1F436-C003-406D-9AC1-8F27C4DDAA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58Z</dcterms:modified>
  <cp:revision>12</cp:revision>
  <dc:subject>Slavic hymnal Гимны веры христиан, Ukrainian hymn 55</dc:subject>
  <dc:title>Send the Light / Серед темряви нічної</dc:title>
</cp:coreProperties>
</file>