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867-8F14-4F13-8BD3-08171AB3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306-CF99-40A7-B7C8-9B82F423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443-25F1-4600-8BBE-803D643C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849-C307-4A1E-9115-25FA376E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739-70B5-44D1-83FB-72BA005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D1C-1E14-4333-BB15-1B9D27E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D73-6649-48C6-8FBD-D2CA9FA5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DB1-11C6-43B1-A4C1-36FA0DDD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774-9683-4D86-91B8-5BA0C39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ADA-4778-424D-8E12-57071E3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616-CD76-4E3E-835B-EE15B12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7E4-351E-4934-82C8-99BDFD5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248CE-473B-4142-A6A2-8164D45D3D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ith looks up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Lamb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hear me while I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all my guil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let me from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wholly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y rich grace im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to my faint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zeal ins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t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may my lov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warm and changeles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v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life’s dark maze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iefs around m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darkness turn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sorrow’s tear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et me ever 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e a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ends life’s transient d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eath’s cold sulle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Saviour, then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and distrust re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bear me saf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22Z</dcterms:modified>
  <cp:revision>12</cp:revision>
  <dc:subject>Slavic hymnal Гимны веры христиан, hymn 829</dc:subject>
  <dc:title>My Faith Looks Up to Thee / О Агнец Божий, Ты</dc:title>
</cp:coreProperties>
</file>