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234-0D9D-4984-A2D6-69E606BB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202-4414-427C-B189-1D32DA0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F64-94D3-44E3-9ECF-38951B3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458-7D2B-4162-A83B-9F254B90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EC-7F83-4184-B860-FDAFE37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55C-0475-49A1-A605-920830F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87B-0ECC-4688-8AF2-7F9FB89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E2A-C7E2-467E-9D11-5870026F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AF5-9222-48B2-8DA1-5108EB7D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8EC-1C2E-4CFD-BD11-24559A3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D44-7EE8-4E6C-8441-45241EF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8C8-D7E5-4E94-8275-15F62F7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9290A-FA15-4F10-8D98-785C7BD80E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и в родим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как кружатся тол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цы-пчёлы в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еял ты, друг 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лаков ли хлебных з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ев волной зол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о всё поле тво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ядом, — о, страшное по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раг ли посеял там з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ючей, опасной тра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усто оно заро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 на поле жизн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ли злую враж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т твой посев и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ности примешь ты мз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ем Учителя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е слов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жертве Его всем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литой Агнц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день, увидим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х, счастливых люд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жатву спас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ей, безустанно, друг, с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45Z</dcterms:modified>
  <cp:revision>12</cp:revision>
  <dc:subject>Slavic hymnal Гимны веры христиан, hymn 545</dc:subject>
  <dc:title>Что сеял ты, друг мой, весною?</dc:title>
</cp:coreProperties>
</file>