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874-3399-4937-925C-C6BEA264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F84-7E79-4B2B-BE89-274318E0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F8A-DE3B-4DEA-A8D7-3A21C623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5BC-B4AB-4C22-A76B-6EABD561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5AE-1223-4E2E-993D-2C58F60E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935-7D89-4C0E-9F90-97D17FBD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029-DA65-4500-96F6-3F15C734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C28-C5E2-4CE7-8402-66C3AE5B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F92-DA0D-4D0D-9480-BBAA569B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B54-07D2-4FEA-87BA-9180EE2F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9311-E9C3-4572-91D4-74C2F7DB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2D7-FD49-449A-BAC7-D5C3016F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F4904-BFED-4E0A-A864-CF5EFED753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sorrow and of w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ill joy and comfort giv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hen where’er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зови Христа на помощ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Христа на помощ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грешн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Он мир и р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ибнешь ты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shield from every sn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emptations ’round you g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that holy name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призови Хрис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тя зовёт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искушений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проси сил у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name of Jesus b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prostrate at Hi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we’ll gladly crow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ur journey i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о им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ляет нам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дости и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ёт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12Z</dcterms:modified>
  <cp:revision>14</cp:revision>
  <dc:subject>Slavic hymnal Гимны веры христиан, hymn 713</dc:subject>
  <dc:title>Take the Name of Jesus With You (Precious Name) / Призови Христа на помощь</dc:title>
</cp:coreProperties>
</file>