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8D8-4EC8-4A9D-BC34-8B89F902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E60-C0F8-4EAC-960F-426851C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0E9-1665-4D96-9B95-F9BD4D94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8BC-19F8-45F7-B2B2-16B58F6A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661-A601-48AA-82A3-E8DB8AC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963-6BE5-400C-AA3C-5B7B8574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11B-CB15-4DF8-BA75-DD4E740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78B-176E-4A1A-B86F-4A06A6A0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C14-BFC0-4019-BA85-A41D135A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33D-FF79-44F4-AAB9-4C2B9D7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98E-B253-474B-A18E-12A41D1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BBB-0DDE-4AE7-AF86-B6FA40F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B6111-5B2A-47D3-B673-CAB16E6814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58Z</dcterms:modified>
  <cp:revision>14</cp:revision>
  <dc:subject>Slavic hymnal Гимны веры христиан, hymn 620</dc:subject>
  <dc:title>Я хочу не богатства</dc:title>
</cp:coreProperties>
</file>