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8E47-DE3E-46E0-94CE-327AB29A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A1E2-C0E7-426C-9BBD-2A0E4C42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41BF-689C-4673-8B46-8BF58E75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067E-566A-4CBC-AB18-3761C9B1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C2AF-0502-456A-B1BC-49D17C12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BF4B-5785-465D-85B5-5E90A067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0D63-9072-446D-B6B3-D509D426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7C13-9FB8-453E-A570-0FE90CE7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4B60-BB70-4E0B-8D6C-CAA9CCAE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974D-A384-4F74-A3AC-045AF1DB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E28A-16FE-4FF4-867D-B28E5D79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3C10-0511-4C4C-B9FF-FC8C9936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185B5-0786-44DB-A551-C79A115ECD8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шь на пороге ты в ве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ёт тебя счастье: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так красив и так м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удто цветы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мей, укрываясь цвет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их жало своё прита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овок, чарует грех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отвечай ему: н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оишь на пороге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отвечай ему: н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бы красивым был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, о, цветы, не рви их, не р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альше и дальше 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 так прекрасны пор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дки слова их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часто горячей слез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оешь ресницы тво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друзья искуш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ти, где не будет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розами путь устил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отвечай только: н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друг, лучший друг Иису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с Ним, куда Он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горе твоё и радость пойм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с Ним, куда Он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твоё сердце напол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й Дух и дивный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в мир с оружием в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, всё зло победи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если хоть капля сомн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ится в душе у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громко в ответ всем мучень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: здесь победа мо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рьба со грехом тяж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ненья так трудно прогн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олько борьба к победе ве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ин Христов, твёрдо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7:57Z</dcterms:modified>
  <cp:revision>12</cp:revision>
  <dc:subject>Slavic hymnal Гимны веры христиан, hymn 389</dc:subject>
  <dc:title>Стоишь на пороге ты в вечность</dc:title>
</cp:coreProperties>
</file>