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D98-0D5D-4DE7-9D6B-BE9C779B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17C-F72E-42B1-9C2A-55B8C49E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311-B532-49EF-8DCD-9EC26563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284-9E83-47D9-A50A-E0B8E6D4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CD3-1CCC-45B0-ACA8-AD1BEE1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371-41EF-45C9-8A39-DD966C5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E81-17FB-408C-8246-A0FE102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F1F-6970-4DB9-87AF-E48F2862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4E0-E931-4805-8B97-8D893DA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5D6-8A00-47E9-849C-F7CFD745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0E1-CE05-49EF-BF25-DCB460A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B13-8933-4E48-9925-E5F78C6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D3B84-6E26-4041-9E78-99320A9DEA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ёл я пустыней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а терзал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готы жизни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страшнее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стном мире огро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тейски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я калекой бездо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ой ничьей не сог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ёл я пустыней грехо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, когда гибель гроз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оззвал я к Творц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семогущ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суждает к конц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ял Он мольбе сокр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из бездны из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за это свер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рогой огонё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гасимой лампа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оём сердце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вывел из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под кладбищенск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любов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Зиждитель —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незабвен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, неж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48Z</dcterms:modified>
  <cp:revision>12</cp:revision>
  <dc:subject>Slavic hymnal Гимны веры христиан, hymn 771</dc:subject>
  <dc:title>Брёл я пустыней греховной</dc:title>
</cp:coreProperties>
</file>