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798-6E01-4142-9B13-B127EB4D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89A-6402-4104-865E-9D86F79C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739-725E-4DEB-9236-5ADA539F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7C2-36AB-4FC4-B44D-5A64DEED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651-5731-470E-9580-AD27A737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BAB-A213-47A2-8E33-67B5C33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5B7-B311-48E1-A716-F93B5916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612-5C93-4BD8-9FBB-75373D7E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1A1-9E01-435E-92DD-AC30D0D9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AB5-EEC2-49D5-B75C-B637A51C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91C-2BE2-49E5-80F6-EA9CF041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432-1E15-405A-B367-5B04A63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79DE2-0106-4C9E-85EB-66CB08F5BB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те вы, все свят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рвутся силы зл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ветильники поправ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я встреч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дрствуйте вы, все свя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ие Христ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яется всем сн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ссон белый, венец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Своим сей Царь держ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а мира уп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се силы проп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 землю пос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прийти к нам обещ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! Христос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датай защи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зайтесь, коль воз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то всем будет поз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14Z</dcterms:modified>
  <cp:revision>13</cp:revision>
  <dc:subject>Slavic hymnal Гимны веры христиан, hymn 319</dc:subject>
  <dc:title>Бодрствуйте вы, все святые</dc:title>
</cp:coreProperties>
</file>