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E058-5BB0-469A-915B-73096F81D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3A2E-E964-4BB3-AD5A-BB551F10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863D-5204-4F59-BB5F-59B8C1514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3E91-B974-40E0-90E9-A5BB4007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53DA-8233-4F13-A419-4492BCB5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0057-E044-4055-892F-0EEC0F27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E008-9B74-4254-866F-55C448E4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B83D-A7CF-461A-ACC6-F8C4AA41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06D3-DCC4-42FD-A67D-C34060F4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348E-0D8C-416B-97B3-C851FE46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E273-55E7-4D56-89D3-B07C0EF8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4A14-85D4-4A34-988D-FD8FCB43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4BE66-0321-4ECB-9D61-36B1300FCC2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enter His g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thanksgiving i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enter His courts with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ay this is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the Lord has m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rejoice for He has made me gl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has made me gl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has made me gl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rejoice for He has made me gl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6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Will Enter His G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3:54Z</dcterms:modified>
  <cp:revision>13</cp:revision>
  <dc:subject>The Source, song number 262</dc:subject>
  <dc:title>I Will Enter His Gates (He Has Made Me Glad)</dc:title>
</cp:coreProperties>
</file>