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F4EF-C870-4AC3-8D87-FBC59906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CD0-44E7-4F11-A5F0-1B909BF2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33B-C3AE-4616-822F-23292B76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28A-D4C7-43D7-BD7F-FD1C41A1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53A-F8BA-43E3-AD87-1AC56067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D9B-A153-48AA-9FE4-27EA97BB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E4C-0FCE-4693-BF92-EF4EEE3B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8516-3F16-4C6F-8070-85F99553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451E-1830-4E1E-BE43-D1712E14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0AEC-8015-4CA2-8167-8A5BADE1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450-0A42-4100-BECA-71C659B6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0122-73E3-4983-92EB-1F4BBA4E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F893D-4EAB-46D2-9D0C-88C7382596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праведность и кровь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а лучшая для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кой осмелимся предс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ожий суд в конц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следний, страшный, суд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танет обвинять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, помилован, прощ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от вечног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ва правед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я верю, кров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чистилище вид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ликой силой го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грешникам 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столько грешных, как пес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ерегах земн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традал за всех в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кровию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0:09Z</dcterms:modified>
  <cp:revision>12</cp:revision>
  <dc:subject>Slavic hymnal Гимны веры христиан, hymn 884</dc:subject>
  <dc:title>Христова праведность и кровь</dc:title>
</cp:coreProperties>
</file>