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242C-7ADE-4D97-A335-2D859E00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697-E73E-4CFE-9926-57BCAA06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7DAE-21B1-4F73-B9C0-79A5C741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AEF2-8FD8-4B8B-8512-85CD8F8E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6873-E4B1-497E-9E53-DA9D1800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305C-9846-4719-9809-1E4A8325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466E-9E2E-4F99-804E-73B40239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AB6-F7C5-44F6-A90F-D6B56CA1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D2E-067D-479C-9E49-FEBB30A7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7745-B8EC-4A7D-BF32-42DE440A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4FA-6609-416E-918F-955F871A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7E9A-139A-4070-B36E-A9EA56FB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D805C-9F41-43EA-BDE5-080D5225E2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stand in the mi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 mul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ose from ev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ibe and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Your peo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deemed by Your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chased from death by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16   Lord, I Stand In the Mid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are no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od enough to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are no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express my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 will lift up my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ing from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 to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blood of Christ we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, ev’ry tri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people, ev’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glory, giving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praise un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stand by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eansed by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Your childr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ed b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umbly we bow and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lease You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ork in us and throug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 we are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more lik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n all the nations wi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 reve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 to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blood of Christ we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, ev’ry tri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people, ev’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glory, giving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praise un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knee shall b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Lord 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 to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blood of Christ we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, ev’ry tri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people, ev’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glory, giving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praise un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8:03Z</dcterms:modified>
  <cp:revision>12</cp:revision>
  <dc:subject>The Source 3, song number 1416</dc:subject>
  <dc:title>Lord, I Stand In the Midst of the Multitude (Hallelujah to the Lamb)</dc:title>
</cp:coreProperties>
</file>