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07D-B825-4350-A45A-C4E622D3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493-D0DB-495E-A219-1FA91452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D31-52FB-4812-BB5F-A25755C9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C9A-B200-485B-B3D4-C24B1BE8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643-EBE3-4E59-8C62-CBB47BD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40D-8A51-4222-B4C9-C1308CB5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05A-767B-4013-8369-1C6AAF42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A7E-0668-41BA-A9CB-A0B6B3F8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185-2E94-489B-A83F-7AF2816D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2ED-1A85-41E4-A336-7A2F5F52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DEE-0179-4D2D-8D41-C3EE6F94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1CF-D414-4C7E-8223-4929C4C7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4DF6C-62DC-4F23-AA5D-26FA571942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Твои, Иисус бла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же нам плодов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р прославить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тви малые Л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,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Лозе предвечной ль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отим на ней пре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че, крепче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рас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осят плод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м, Боже, 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асти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34Z</dcterms:modified>
  <cp:revision>12</cp:revision>
  <dc:subject>Slavic hymnal Гимны веры христиан, hymn 761</dc:subject>
  <dc:title>Ветви малые Лозы</dc:title>
</cp:coreProperties>
</file>