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96B-7B11-42E4-8246-8590B966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4C7-486D-4E0E-A09C-E5CEDDD3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2FD-ED71-40CE-9C01-32AE21C7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5D9-EEF7-4017-B590-D604D54C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D31-45B2-4A1B-9E92-B5BFC36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352-A93A-49FD-B01B-910CE3D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F78-7E99-4375-BB08-A33F9D3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705-EB78-4180-96D3-1B89B81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BF1-872F-4E25-B870-C9E8967D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F43-E7FB-4564-831E-9F129B9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B48-7DC9-4B0A-B899-59D186D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3B0-4802-408E-A07C-48471F1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B12D7-C9E6-4EDE-85CA-BBF278101E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burden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o’er evil a victory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passion and pr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for a cleansing to Calvary’s t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 и стр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whiter, much whiter than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 stains are lost in its lifegiving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do service for Jesus your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live daily, His praises to 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4Z</dcterms:modified>
  <cp:revision>14</cp:revision>
  <dc:subject>Slavic hymnal Гимны веры христиан, hymn 416</dc:subject>
  <dc:title>There is Power in the Blood / Грех победить, о, желаешь ли ты?</dc:title>
</cp:coreProperties>
</file>