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7</a:t>
            </a:r>
            <a:r>
              <a:rPr b="1" lang="ru-RU" sz="3600" spc="-1" strike="noStrike">
                <a:solidFill>
                  <a:srgbClr val="ffffff"/>
                </a:solidFill>
                <a:latin typeface="Verdana"/>
              </a:rPr>
              <a:t>	</a:t>
            </a:r>
            <a:r>
              <a:rPr b="1" lang="ru-RU" sz="3600" spc="-1" strike="noStrike">
                <a:solidFill>
                  <a:srgbClr val="ffffff"/>
                </a:solidFill>
                <a:latin typeface="Verdana"/>
              </a:rPr>
              <a:t>Под сенью крыл</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д сенью крыл Всемогущего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и и страхи меня не сму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 я верю: в Нём милостей 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мой Спаситель, Его я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 сенью крыл умолкают ры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не мучится тайной то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е избавит души от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оге находим желан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д сенью крыл — о, какая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мой приют от скорбей и невзг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 чего ещё над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ивном Иисусе — надёжный опл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8:35Z</dcterms:modified>
  <cp:revision>3</cp:revision>
  <dc:subject>Slavic hymnal Гимны веры христиан, hymn 67</dc:subject>
  <dc:title>Под сенью крыл</dc:title>
</cp:coreProperties>
</file>