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91B-AD23-474B-A6D9-E41EEC64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BF9-85F5-4B36-87C9-65F25DB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5F9-30DD-40E7-90A7-6A54FD0E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D94-9425-4542-8FA1-3760729B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A4C-7D68-42E0-9C4D-25C79BD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884-25E9-48B7-B1AC-87E96F2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9B5-45CC-482B-B84E-70697632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3B4-C49F-4CD3-9169-ED00AE1A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B6A-AA02-486F-8E1C-A3E91DFA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235-B307-45AD-BE2E-BE7D775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AD2-408A-4306-BE10-9FAF3B2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B9D-556E-4567-9C32-01F25C3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895AD-C5CD-414F-AF88-EF48A1DF7C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3   Thy Word is a L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31Z</dcterms:modified>
  <cp:revision>11</cp:revision>
  <dc:subject>The Source 3, song number 1563</dc:subject>
  <dc:title>Thy Word is a Lamp Unto My Feet</dc:title>
</cp:coreProperties>
</file>