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A48-50A3-4389-87DB-9BB6C2C2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F65-5F99-4EBF-8CD3-D8D6A8A7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26A-AA75-4E9F-A8BF-7061B96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89E-A5E3-45F3-8849-E6AB3583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8AF-BB12-4E76-9CCF-D64D7643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173-68D1-4FAF-B01E-5A9E8D7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618-7B3B-4BA9-9467-0536B38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A6F-2E13-464D-ACDC-FD9331EE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B1D-4246-4386-966C-99D7915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08E-258D-4BC4-A167-421B4D9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FC7-FD8D-45CE-84BC-2F29205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D3D-5E8F-44F3-BDD6-E61497D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56910-82E6-4C05-BD0A-3D8890252A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a life that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ing to please Him in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ing allegiance, glad-hearted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athway of bless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through earth’s 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arest treasure, the light of His s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he lost ones He died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he weary to find rest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o died in m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on Calv’ry my sin and dis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love constrains me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His leading and give Him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erever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ing each duty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 to suffer afflictio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ming each trial a part of m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4:30Z</dcterms:modified>
  <cp:revision>12</cp:revision>
  <dc:subject>Slavic hymnal Гимны веры христиан, hymn 845</dc:subject>
  <dc:title>Living for Jesus / Живя для Иисуса</dc:title>
</cp:coreProperties>
</file>