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659-4476-41BD-B575-3CC32585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FEB-5A1C-47B3-B1EE-4BE21DA3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D7C-3F5B-43FE-8394-6EE4D140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2A8-94A6-4EAA-87CF-09874D2C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A3C-63F8-4FDC-AD3A-8E61A1BD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AAB-B3CD-4D03-9105-A773B73F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956-83BF-431E-9CFD-E85C8F94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3B3-AC83-4B7C-8F8F-A7B65C7E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E4E-7823-41A6-BCE1-F405F127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F67-5266-48C2-B5C6-41D813D2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DF4-619B-4DD3-8B42-0C0EA43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97F-DECA-4BC1-B705-7ECE76FE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5D0FB-39BE-4158-8D9F-29FCB814B8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звучит длинный ряд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стоит выше вся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ам петь ангел бы го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Эта весть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важней всех других ве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нужна для жив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еси для твои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жизни весть передать 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павших в грех, для больной ду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й сердца, наставляй в тиш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27Z</dcterms:modified>
  <cp:revision>12</cp:revision>
  <dc:subject>Slavic hymnal Гимны веры христиан, hymn 565</dc:subject>
  <dc:title>Эта весть звучит</dc:title>
</cp:coreProperties>
</file>