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15F-B8B5-45FA-832B-31A20AE7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FDC-B4D9-4D89-88BB-55398BD7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E57-FB47-4A0A-B155-A0B565D5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F64-B1FA-492C-8710-FF70D557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878-DAD8-477D-B13E-FCAD83E2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DE2-F2F4-400C-BA58-289FA3D4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BFD-0F73-4C50-A63B-7FC74C97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09B-0EA5-4C80-AE60-EF53D3CD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918-5891-478D-8406-B5DE0C00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1E4-D373-4DD8-A490-DE4F8B3B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2BC-A68E-48CD-A628-588DEBD0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83E-3AF1-4950-9866-88BCF9AD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5F05D-59FE-44AB-AE60-C8E2F66082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now, but in the coming y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be in the better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read the meaning of our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, some time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, а там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тём значение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кровенное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catch the broken thread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inish what we here beg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will the mysteries exp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ah then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м потерянную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ончим начатое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айны сможем уяс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земное там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know why clouds instead of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over many a cherished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ong has ceased when scarce beg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re, some time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емнело всё во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пеха не было ни в ч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я обрывалась вдруг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небесной мы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knows the way, He holds the k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uides us with unerring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 with tearless eyes we’ll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here, up there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нает всё, Он держит клю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в небесный д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ноя нет, ни грозных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т и мир, там всё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1:37Z</dcterms:modified>
  <cp:revision>13</cp:revision>
  <dc:subject>Slavic hymnal Гимны веры христиан, hymn 667</dc:subject>
  <dc:title>Some Time We’ll Understand / Когда-то в свете без теней</dc:title>
</cp:coreProperties>
</file>