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3E12-06C9-45E2-B1CB-710281BC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3221-8CBC-476C-8F9D-55654465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66FC-39F1-4EED-85B3-E0FB6D51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01CC-EEF0-4309-A315-53A02B5A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3396-6713-4A95-A5DB-A53D25D7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A800-7E8F-4E8D-B74F-EE686389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9EB8-D656-4194-980E-3D2F2E9F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7307-E1B4-48B8-9733-A760A9C9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FC24-4AD1-480A-AA5E-E862FD81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2E7B-93A3-4E74-926B-84FE54FB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CBEB-7B74-40CD-B6A5-053286C2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5DBD-D6FE-47C5-8C76-B8E8430F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33442-FAB3-4B83-BB9D-C2FC90D025C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к горит зар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поёт дух 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итве иль тру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твердить вез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ток горит зарё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еет всё кру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дружней поё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ходят силы ть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звучат псал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и луг и л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и круг небе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роды всей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 возглас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в теле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ет песнь мо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о все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льётся, как ре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45:29Z</dcterms:modified>
  <cp:revision>12</cp:revision>
  <dc:subject>Slavic hymnal Гимны веры христиан, hymn 822</dc:subject>
  <dc:title>Восток горит зарёй</dc:title>
</cp:coreProperties>
</file>