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FE5F-B313-46E9-93DF-A343E9FE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62E9-CD26-4807-8B5D-AC31B910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608A-8233-46C4-A98B-13C73FD9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649D-12E2-41EB-BD34-F42E569F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7B7A-6B3A-4861-A366-662BF9F4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26F-1BC9-4C7D-915D-8FF64EA7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D9A7-F369-41A7-91A6-C9239F09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B2E-F801-40F3-B0EB-7E585F15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6FBF-8E2D-43FC-A075-0C6D4D7E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105C-123C-4BF8-8004-DF6102D1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CA47-D038-4743-8115-4995647C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4913-3251-4807-B780-3FCCA6AE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561C9-27EC-4EA6-A35F-E851B6127B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exalt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King is exalted on hig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will praise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exalted, for ever exalt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 will praise His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н возвеличен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звелич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ш Царь возвелич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го я прослав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звелич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веки и я поклоню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мени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the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ever His truth shall re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aven and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joice in His holy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exalt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King is exalted on hi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есть Господь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веки Царство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роды в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еклонят колени пред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звелич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ш Царь возвеличен вове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5:52Z</dcterms:modified>
  <cp:revision>12</cp:revision>
  <dc:subject>The Source, song number 156 in Russian</dc:subject>
  <dc:title>Он возвеличен! / He is Exalted</dc:title>
</cp:coreProperties>
</file>