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CC0-B156-41CF-807F-FC28DFDD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BB2-55F9-453A-ABAB-FC3207F8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33E-717B-4F90-B84E-B25495E4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02E-15E8-4D68-9443-10EBBAC6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3B4-8259-4E8C-BE62-07E4217A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845-73DA-4987-8C5E-6556354E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9CB-DE6A-4550-9B9E-934F756F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C9C-9C34-4E3F-9262-C8BF6F4E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11F-435B-4EAF-B1EE-B17F79C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67F-119F-4903-823E-5E02F0C7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9A5-1CDB-4541-BD64-15D866F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D58-4CCA-4B5C-8D1D-C4F6287B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1353E-2A24-4F31-8763-B55282A314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бро земных кра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ары Твоих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, что с перв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ет жизнь дет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добро земных кра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учи светил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веты Твоих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каждый данный м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дня, во тьме ноч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родителей,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иль чужи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ремления к доб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у юную пор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всякий вышни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шь Ты нам,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зов, молитвы ж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бещанный венец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Церковь, что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родов всех и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 уст несёт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дар, что свыше д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4:12Z</dcterms:modified>
  <cp:revision>12</cp:revision>
  <dc:subject>Slavic hymnal Гимны веры христиан, hymn 819</dc:subject>
  <dc:title>За добро земных красот</dc:title>
</cp:coreProperties>
</file>