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33E9-9463-4E7B-A63B-91BAE761B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3D52-D4CA-4D4A-8584-E009B73F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C7B3-8669-410A-BC00-4ED1F8003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DA46-B39A-4857-9636-9797F21A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9429-EB60-46DA-99FA-954721F1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064B-2C09-48A3-A924-8ED507CC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41AD-C120-4720-82B6-FD26737E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7FC7-819C-436B-87C0-F7C570CD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1A62-266B-4BAA-B6F2-8E8612C4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CABB-7548-4EBD-81B2-B8F45A76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E172-E369-4318-BDA6-D23CB1AF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A390-8641-4836-93DA-3AC35CC9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30890-B754-463D-9337-1D89E6CD00D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Father’s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o my list’ning ea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nature sings, and round me 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usic of the sphe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ня вся зем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лышится по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сё кругом поёт псал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салом любви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Father’s wor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rest me in the th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rocks and trees, of skies and sea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hand the wonders wrou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е издал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ассивах гор, в красе озё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на Его р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Father’s wor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irds their carols 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orning light, the lily whi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clare their Maker’s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блюдать люб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еск зарниц и пенье пт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ят Ему хва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Father’s wor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hines in all that’s fai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rustling grass I hear Him pa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peaks to me every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реньи виден О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уг небес и луг и л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Его зак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Father’s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let me ne’er fo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ough the w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ms oft so st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s the Ruler y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не забу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 мире зло везде вошло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му Суд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Father’s wor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attle is not d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ho died, shall be satis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arth and heav’n be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щё не кончен б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Христос в долину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— радость и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6:57Z</dcterms:modified>
  <cp:revision>12</cp:revision>
  <dc:subject>Slavic hymnal Гимны веры христиан, hymn 832</dc:subject>
  <dc:title>This is My Father's World / Господня вся земля</dc:title>
</cp:coreProperties>
</file>