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1B9-D50A-460B-AADD-937B77FE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BA0-0DD9-43BE-862B-773CBB21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AD0-1997-4F1F-9176-B65CDBA5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862-AF2C-41F1-ACC3-B01674DB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A18-24E6-40B6-93FA-D3D18EF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D09-BCFA-42B8-8A07-945938DD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50B-40F0-4DAD-8CD7-EFBE2DD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4A2-DAD3-4D8A-BBF6-7B4EEE47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84E-7604-461F-AD18-B733F874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F59-12C3-4448-8405-F58A2DB2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639-5167-4ED2-8288-0F7EF9CF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53E-5FF4-414F-8CC7-463F7BD3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CED0F-A856-4D7F-991E-2C88474DC0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hole world wa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sunshine at no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sho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тьме и гре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и грехе погибает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озаряет, как солнце с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darkness have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Jesus ab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alk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follow our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а нет в том, кто идёт за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ивный свет избавляет от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dwellers in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in-blinded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, wash at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ght will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ослеплён и во тьме не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 Он зовёт, слушай голос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eed of the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eaven, we’re t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 is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ity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солнце нужды в ди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е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Его будет вечно све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1Z</dcterms:modified>
  <cp:revision>14</cp:revision>
  <dc:subject>Slavic hymnal Гимны веры христиан, hymn 386</dc:subject>
  <dc:title>The Light of the World Is Jesus / Во тьме и грехе погибает народ</dc:title>
</cp:coreProperties>
</file>