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9A7-9E56-413C-BA91-9F55B4E5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074-2BA8-4552-B613-B872CC04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D15-D07A-4A5E-B3AB-D527869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5F7-632E-459D-A869-29A3E46C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6CC-F85B-4C76-B9C8-165D2044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773-17B6-48AD-B649-976BDE0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101-997A-4BCF-BED3-4C50E2A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8BC-B66E-4598-BD20-06FE55A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82B-DA6C-4277-8386-433FDFEC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C79-0892-4ADA-BBD8-5E5A764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719-96A9-47B3-A7EE-114AEEE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21E-B02F-466B-894E-176140C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B522E-0297-4670-A9D4-BFF2919B20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1:04Z</dcterms:modified>
  <cp:revision>13</cp:revision>
  <dc:subject>Slavic hymnal Гимны веры христиан, hymn 335</dc:subject>
  <dc:title>Why Not Now? / В час молитвы, в час прощенья</dc:title>
</cp:coreProperties>
</file>