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BBA-84F6-4F09-B5A3-9522CD25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A0F-87AB-4896-9437-150F7E40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2EE-BF10-41B2-B633-42C22628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DCA-610D-41A2-997C-AB8EFA3B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1F4-BDE4-4385-8F7F-AF5AA408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3D3-6981-47EF-A893-50919ADF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7AD-CE10-4384-9EA3-67E685A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F07-41A8-4D96-A286-053F70E8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117-048C-4382-AABC-DAF5870E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74B-2865-489B-BE60-6584329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41A-92C5-47DF-AAF5-04641C1A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8E6-3E44-4760-B713-227AB15E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A7E95-BEEB-45D9-A5C2-89AE80CF16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бедился я в Божьих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прийти к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 неотвязно мне в сердце 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м мою бедную душу 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егодня не время, ведь ты не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равься, очистись, себя приготов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бед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я верить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отдатьс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Его приглашает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, о грешник, приму Я теб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ыне открыта спасения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заблудший, иди же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, но поздно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закрыта мне райская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приговор уж готов рок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открылася бездна пред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друг бедный, иди же сей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близок конец и последний т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11Z</dcterms:modified>
  <cp:revision>12</cp:revision>
  <dc:subject>Slavic hymnal Гимны веры христиан, hymn 374</dc:subject>
  <dc:title>Почти убедился</dc:title>
</cp:coreProperties>
</file>