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560-F9D4-4B3C-8935-63D79DAF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F74-7538-42BA-9287-9B321BF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E7C-3710-4B38-8E8C-4DA57A48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F25-C020-40FE-9423-14DDDAAD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EE8-75B8-4DD9-9A87-F3C98FA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FDD-2679-4DA4-9810-D9C4D04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FE6-C953-4F5A-9824-EEDA6A0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BD7-E79C-40DC-8BB2-7B0190F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26E-58D3-4A2C-AC7F-686A5B22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D5E-370F-4095-9EE0-C7AEDE0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BE7-70D8-4D1A-9599-D5E9ECE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331-70F9-4F9C-B556-D189500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FF3C-DE23-4C2D-8C52-733946C870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ill never let You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let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20Z</dcterms:modified>
  <cp:revision>10</cp:revision>
  <dc:subject>The Source, song number 290</dc:subject>
  <dc:title>Jesus, Lover of My Soul</dc:title>
</cp:coreProperties>
</file>