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D9C-07CB-4E21-BBCB-CE150EA2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F52-2B03-40F1-8EAC-2128AE8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CB8-5E3C-4C7D-8965-4D47C6D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7CC-D758-4C4B-9489-78003CDC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611-9D42-4357-BF56-93F019E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7B6-843D-4252-AC31-EB861639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A7B-DE15-4CEF-B517-14D201D2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94D-E252-4A9A-BDE8-95383F1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D7F-3368-4BBC-9ACD-2E4FBBDE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BFF-51B8-4B04-94B2-5C8F4782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74E-C54F-47FD-97C2-9D7C0B8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ABC-1BE9-47A8-A039-80187F4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0AD30-8B61-49FD-94B4-36F4F009AA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пи, милый друг, тот 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апол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правь твой светиль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в Твоём сердце заж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ливо ска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 покой мой блаженный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мил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 отве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ов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скоре услы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ь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яжите и бросьте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51Z</dcterms:modified>
  <cp:revision>12</cp:revision>
  <dc:subject>Slavic hymnal Гимны веры христиан, hymn 346</dc:subject>
  <dc:title>Купи, милый друг, тот елей благодати</dc:title>
</cp:coreProperties>
</file>