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77C4-ACE9-47A1-8246-DE31649A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9448-D9E3-44D6-BAF5-31661436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9C4B-4CF8-435C-A52C-CE02A993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C7E2-8533-467A-B654-0C9D0F6A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2156-E927-4760-B4F0-1C5F94B8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F66F-DDC1-4602-9E1D-FBD815B7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F6BB-3DD7-4925-8CE0-D73AE847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2BE3-DAEE-40CC-8875-311DC4AD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56D4-AEE5-4842-80BF-73399207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F28F-6D72-4718-973A-2BE7A677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C953-4474-46B5-819A-1D9F5D6C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311D-07D0-48A5-AA12-A536D4F6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B36C1-609A-4C7C-AF5F-D5A62960395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humbled by Your majes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vered by Your grace so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knowing I’m a sinful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vered by the blood 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’ve found the greates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ll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ce You laid down Your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reatest sacri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45   Here I 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jesty,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race has found me just as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mpty-handed but alive in Y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jesty,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ever I am changed by Your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presence of 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humbled by the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g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n so that I can forg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stand, knowing that I’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nctified by glory and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’ve found the greates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ll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ce You laid down Your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reatest sacri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jesty,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race has found me just as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mpty-handed but alive in Y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jesty,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ever I am changed by Your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presence of 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5:11Z</dcterms:modified>
  <cp:revision>12</cp:revision>
  <dc:subject>The Source 3, song number 1245</dc:subject>
  <dc:title>Here I Am (Majesty)</dc:title>
</cp:coreProperties>
</file>