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369-79CD-43E6-B399-E9B0894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15C-EAF4-414A-A6C9-262D6F5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83E-CE14-44A8-A5E4-B4B778B8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619-6615-48DD-83CF-EB5DD439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1A0-57E9-4F7C-B1BB-D8BDBBCF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8BA-52F4-4185-9E6C-26ABB4B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0CD-AFDA-4226-BC94-826DCDB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2B8-4E8E-4393-9185-DBF20739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757-2898-4AB7-97F7-F50FE0C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CBC-0CC5-4B72-8D83-61584B8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22D-6696-425A-B829-909D1BA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61A-6F6A-489D-B946-86D087F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8AE89-A9D1-47C8-8D0E-49AF48598E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, we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glory, L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unfold like flow’rs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ing to the su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lt the clouds of sin and sa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ve the dark of doubt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r of immortal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us with the light of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with joy sur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en reflect Thy r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s and angels sing a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ntre of unbroke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rest, vale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ry meadow, flash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ting bird and flowing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us to rejoice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 join the mighty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e Morning Stars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Love is reigning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 Love binds man t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singing, march we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s in the midst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music lifts us sun-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3Z</dcterms:modified>
  <cp:revision>12</cp:revision>
  <dc:subject>Slavic hymnal Гимны веры христиан, hymn 610</dc:subject>
  <dc:title>Joyful, Joyful, We Adore Thee / С ликованьем прославляем</dc:title>
</cp:coreProperties>
</file>