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DF9-A694-4996-B8C6-DF6D7CCD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63F-B692-4672-B333-BD614D14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EDE-55A1-4D5D-958C-00A6073C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B40-4D50-4E4B-B593-35ED4A18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F4E-D0E1-4C38-BC7B-9AE69FA1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DA0-4A09-4C35-A984-990324CB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6E1-E37E-41CA-A295-E28ADB25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E67-DB03-4F0B-A7E4-64990C44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83B-E10A-4B49-B48E-4EC91769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B99-4DFB-488E-A9E4-1D3D1966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B46-0B9C-474D-9120-B596BE67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98F1-F2E2-4E78-B51F-9454F6B0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9E18B-482E-41A6-9590-7F3B8853A3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223   Добрый наш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й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й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й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6-06-08T20:35:32Z</dcterms:modified>
  <cp:revision>13</cp:revision>
  <dc:subject>The Source 3, song number 1223 in Russian</dc:subject>
  <dc:title>Добрый наш Бог / God Is So Good</dc:title>
</cp:coreProperties>
</file>