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EE8-840F-40D1-8D0A-18EB815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B26-33C9-4745-BCFC-2360D8BF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300-2FB1-4159-81C6-564C3F7C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797-4A51-4770-894F-C5F8C1EF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221-A443-4E38-8BB4-4BFA9EB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2DE-C31D-475E-B7FD-A665E2AB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74B-2D2C-4253-AD1E-8C5595C3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ABA-1CFF-4151-AA89-5B07065F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821-F8D0-4A5F-B79C-7F4352FF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AD0-A148-47F7-A1A7-C13BF21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1FE-E8D3-4A6E-946E-900445F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605-B0CE-4281-8665-93F2A8D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B36CE-163D-4540-A22C-6D5BE8B895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15Z</dcterms:modified>
  <cp:revision>12</cp:revision>
  <dc:subject>Slavic hymnal Гимны веры христиан, hymn 635</dc:subject>
  <dc:title>Спаситель за меня в могиле был</dc:title>
</cp:coreProperties>
</file>