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A7A-F989-42FD-88BA-EBEF96FB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7C0-1EDE-4E24-BDCD-9162E64C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0D4-4781-49DF-AA91-32FD1B01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F8A-56A0-4672-B387-111058D0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F67-B48C-4AA5-B23C-6ACD92BA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FE1-52E6-4661-B607-E8D10F14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538-E4ED-487B-B320-A756B796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E54-F07E-4391-A0D4-4639A8E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4B0-1609-4B0A-80B1-8FCB7F7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F8B-615D-45E5-B0A0-6F85080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B72-D6B9-4027-8D8C-D194F25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C08-E6D1-47E7-B749-A33C112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35333-2227-4907-AE82-61589FD5BA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ый день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вет хран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сбивает с н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ерой ус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, горький жизн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твёрдая, ч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23Z</dcterms:modified>
  <cp:revision>12</cp:revision>
  <dc:subject>Slavic hymnal Гимны веры христиан, hymn 898</dc:subject>
  <dc:title>Братья могут изменить</dc:title>
</cp:coreProperties>
</file>