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3E6-EE4B-4B78-BE10-15E1BEEC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544-3337-46DB-85A2-1A543A66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0D7-EC34-42CA-81AD-4DB0C362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C68-885E-4778-BA83-87EADE6B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0CF-B813-474A-BC48-83F46E8E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693-6481-4546-B418-D4D5077D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3E2-18B1-4768-8A13-ABE4781C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0FE-A99C-463E-979C-C530BB6E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21D-59DC-4C1D-9A04-F5D00F1E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593-7241-4E40-B352-1F442F04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7FE-774D-477B-B76B-1DB0315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27C-6179-4996-B5AD-3E02037E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84CAA-530F-4FB2-8FCA-1F58E3E934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сёстры, время приближ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наш Спаситель в мир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ночи пред зарёй сгущ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еверие вокруг рас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сёстры,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 нужны бури и ненаст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вы зла и мира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ладеем дивной тайной счаст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 Боге богатеть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че пойте песни предрассве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радальцы обрел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тесь, души беззаве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Христа найдёте вы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3:25Z</dcterms:modified>
  <cp:revision>13</cp:revision>
  <dc:subject>Slavic hymnal Гимны веры христиан, hymn 329</dc:subject>
  <dc:title>Братья, сёстры, время приближается</dc:title>
</cp:coreProperties>
</file>