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74E-48F1-4F2A-BAD5-8A094340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895-75C6-4DDC-B55D-0246EF4E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BB1-7F13-4E1A-A37F-52D0499E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B18-E7D0-4A2F-B34F-A3BFE973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D5B-DE2B-47E2-98A5-35363B33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F34-C850-478B-A08C-FB0DE528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42F-4D2C-4456-8F5E-A021A2F8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BBD-4887-49DA-80DD-AAF9DBEE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E4A-82C5-4E93-AECE-59627946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BF8-ADA9-4D90-A46C-29E4EB56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5DC-D7F7-491D-962A-B9DDF26C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656-A742-4782-8A0B-E9DAEBC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092F0-199C-44C0-80A4-0540FC498A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ed me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aw Your face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at place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opened up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lieve Your sweet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d been so bl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at I’m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all-forgiv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ery road leads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69   You Led Me to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teach me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an empty to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ells me of Your resu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lif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one lies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ose folded grave-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ody 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at I’m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risen chil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ery road leads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teach me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1:53Z</dcterms:modified>
  <cp:revision>12</cp:revision>
  <dc:subject>The Source 3, song number 1669</dc:subject>
  <dc:title>You Led Me to the Cross (Jesus, Keep Me Near the Cross)</dc:title>
</cp:coreProperties>
</file>