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274-42B3-41B7-BFEC-43E876C5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D75-485E-4480-AC1A-3FF138C9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22B-22FB-4F13-8F3D-38B1D499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8E9-5D6A-4DE1-BC49-8E64D879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309-800C-4CE2-B1B7-93319F50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78E-DDEF-4429-A28E-A0F8D05C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FBA-5C15-479A-8FF6-80186B23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2D2-7512-42D8-BF2C-AF2DD43A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86F-23C5-4DD2-A946-5DB82F0C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DCA-3F73-43F1-9A15-91489042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39E-EF83-4799-8AB3-F5C35A70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3A0-241C-482E-B6FA-56BFB293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C8F89-D515-48B6-A045-8455843B12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ove, this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peace of God, t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faith, this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complet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healed and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isen in His 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in Him, He lives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ed with this hope i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lecting His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Love, This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offe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thoughts, my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l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I’m found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Your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52Z</dcterms:modified>
  <cp:revision>10</cp:revision>
  <dc:subject>The Source, song number 521</dc:subject>
  <dc:title>This Love, This Hope (Now Is the Time)</dc:title>
</cp:coreProperties>
</file>