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17B-1E2C-48EF-8760-506B2569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A1C-2378-480D-848E-2AF4E8EA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E1A-1EBE-429D-A8B3-2422A75A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F24-4CAD-463D-9F68-C574902D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D17-C720-46FE-A35C-9C1E60B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8C7-D9AE-4100-8643-C9D71B60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552-753C-4226-945C-D081DD98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4FB-5BC0-47F4-846F-8C90C94E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A07-9AE6-4D5C-B034-F30E0355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970-C52C-400F-BFDB-6542C7D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95F-C477-48F5-8720-80C1431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62D-F42A-4788-BD4F-0C0BC79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EA1C5-537B-41E5-80AD-21DE91448E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ighest of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depth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ion’s rev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colours of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ragrance of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creatu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ong that it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exclai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97   From the Highest of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as told ev’ry lightning b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t shoul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seen heavenly sto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den with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magine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s source to its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conceals it to bring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olness of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ne can fath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omparable, unchange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e the depths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ove m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06Z</dcterms:modified>
  <cp:revision>12</cp:revision>
  <dc:subject>The Source 4, song number 1797</dc:subject>
  <dc:title>From the Highest of Heights (Indescribable)</dc:title>
</cp:coreProperties>
</file>