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0B40-6D1A-4DA8-8751-30899C06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2F71-84AE-41BA-AB56-A7A8E28D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DCF7-12C1-4FBE-940E-218F74F6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28F8-36DA-4B05-B07D-1A968DE8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3A26-08F0-4C96-87BB-AFC34632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DA5F-268C-49D7-9012-DAD44F1B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6365-12BF-41C5-B326-7FEF870C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8066-45A2-4D23-901C-5021B184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F0FC-FFB8-418B-8F58-31737245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39E3-81A8-4559-83FE-0EC73D5C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7806-DDB3-45ED-A2F7-0113063D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B518-006C-48F5-878A-BB94CA16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A6CBD-8AC9-4038-BB40-C44B51097FF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ing, honour, glory to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righteous, worthy is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ing, honour, glory to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righteous, worthy is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ath could not hold Him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He is ri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ated upon the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5   Blessing, Hon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2:48Z</dcterms:modified>
  <cp:revision>10</cp:revision>
  <dc:subject>The Source, song number 55</dc:subject>
  <dc:title>Blessing, Honour, Glory to the Lamb (Glory to the Lamb)</dc:title>
</cp:coreProperties>
</file>