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6</a:t>
            </a:r>
            <a:r>
              <a:rPr b="1" lang="ru-RU" sz="3600" spc="-1" strike="noStrike">
                <a:solidFill>
                  <a:srgbClr val="ffffff"/>
                </a:solidFill>
                <a:latin typeface="Verdana"/>
              </a:rPr>
              <a:t>	</a:t>
            </a:r>
            <a:r>
              <a:rPr b="1" lang="ru-RU" sz="3600" spc="-1" strike="noStrike">
                <a:solidFill>
                  <a:srgbClr val="ffffff"/>
                </a:solidFill>
                <a:latin typeface="Verdana"/>
              </a:rPr>
              <a:t>Тому, Кто смертью крестн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ому, Кто смертью крест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ровию нас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оём благода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оём сто тысяч р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ныне в сердце каж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к Нему го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неуста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а благодари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 тысяч раз, сто тысяч р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мы возгла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олько ж раз за жизнь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жить мы будем с Ни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если б было мо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огам Христа прин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ец и жизней столь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их не переч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 тысяч уст да слав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за столько му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Он — наш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самый лучший Друг.</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 тысяч раз, сто тысяч р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мы возгла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олько ж раз за жизнь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жить мы будем с Ни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ристу благода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о, что кажды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ю избавля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ляе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 за бурным мор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увидим 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веки не умолк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сладостной хвалы.</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 тысяч раз, сто тысяч р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мы возгла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олько ж раз за жизнь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жить мы будем с Ним.</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3:03Z</dcterms:modified>
  <cp:revision>3</cp:revision>
  <dc:subject>Slavic hymnal Гимны веры христиан, hymn 116</dc:subject>
  <dc:title>Тому, Кто смертью крестной</dc:title>
</cp:coreProperties>
</file>