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A6A-396B-4237-960A-A35F2E0D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106-45BC-428C-9E1C-753A2D0B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543-69C4-4732-A4A7-1F6E2D6E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68E-8CB2-4528-846F-8C94BF76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CC3-410A-4700-9764-E04150E8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177B-157C-42EC-8443-F5883DB0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BFE-7CA1-4899-B119-831525E3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C3C-35D9-4330-8601-10FAB1B2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741-7307-4F9A-B703-667324F0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2CA-3A9D-44A4-A11F-944DAF15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4A7-A9B0-4AC5-B183-78017E8F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CFC-1002-4CA8-A500-E7F23B35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10612-4BDA-4ABC-8910-CBA4468CD7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лишь песня о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дости льётся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, как живая вол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сердце лишь песня од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л мир страданьем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лг мой Себя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 миру лекарство от слё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Иисуса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р в изобильи мне д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ре любви ощу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пребыва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рибегает ду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ир я вкуша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45Z</dcterms:modified>
  <cp:revision>12</cp:revision>
  <dc:subject>Slavic hymnal Гимны веры христиан, hymn 582</dc:subject>
  <dc:title>На сердце лишь песня одна</dc:title>
</cp:coreProperties>
</file>