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6FF3-E8A1-4F6C-9936-9A6C4DBD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344-FF8E-475A-B6A0-3FB0F1B1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6664-E862-4413-B303-AF9DC66F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FC5D-8C7A-4CD4-8A28-11F069BE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A3E-761C-489E-9B92-6E48932C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B2C6-144B-4504-93FE-AEF81960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0265-AD70-409C-8506-96EF8577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73D4-0241-47E9-9600-96120E0C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6DAC-D570-4990-98C4-1FBE4C42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3EE1-6A9E-4DEB-A0F0-9B947F55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31EC-0C7C-4556-B600-DFB742B4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ADD3-0D4E-4B95-B89A-3A80E0CA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73473-7664-4FF4-9D47-6778FB24079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for love, a Father g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only love could make a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for love, the heavens cr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love was cruc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how many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I broken Your he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still You forgive, if only I 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ow many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You heard me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near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04   All For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need is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beginning, my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need i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sing all fo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join the angel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 holy is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glory, King of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how many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I broken Your he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still You forgive, if only I 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ow many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You heard me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near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need is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beginning, my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need i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for love a Saviour pray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ba Father, have Y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they know not what they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cross draw man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, to You,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need is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beginning, my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need i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10:08Z</dcterms:modified>
  <cp:revision>12</cp:revision>
  <dc:subject>The Source 4, song number 1704</dc:subject>
  <dc:title>All For Love</dc:title>
</cp:coreProperties>
</file>