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43A-048A-4E42-8177-7D196CDD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B08-3123-4518-8EBB-30E2C5C1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012-6F42-482B-89AB-7013BF54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A30-58A1-4A69-B6E8-5982D6A7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891-B5B2-46D0-991C-F63DCBF0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B6D-BE8B-4C66-8877-564E2FF3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59F-F804-4882-BB58-75722222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A7F-9FED-496F-92EF-E8FE4F94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D7C-68A0-42E7-BC30-A98C9084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AB9-6969-49D7-8A00-7D79549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AE2-A9A5-462D-8E20-D5D1F8B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099-54BA-4476-8BF0-6FA4835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8649F-2C5F-41E7-BF15-077BB01531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hree kings of Orient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gifts we traverse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 and fountain, moor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yonder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лхвы с востока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лхвы с востока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дары, не глядя на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ю к Божью Сы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ий кончаю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a King on Bethlehem’s 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ld I bring to crown Him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forever, ceasing n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us all to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Царь нам рожд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м почту Его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ковечно,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буде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ankincense to offer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ense owns a Deity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er and praising, all men rai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Him, God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в дар несу я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ебес пришёл в нищ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опенья и м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дут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rrh is mine, its bitter perfu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s a life of gathering g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ing, sighing, bleeding,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ed in the stone-cold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ны горькой запах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хранит в юдол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Умерщв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ерт был в гроб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ous now behold Him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and God and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,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to heav’n re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Он, Воскресш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и Бог страдал за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7:30Z</dcterms:modified>
  <cp:revision>13</cp:revision>
  <dc:subject>Slavic hymnal Гимны веры христиан, hymn 231</dc:subject>
  <dc:title>We Three Kings of Orient Are / Вот, волхвы с востока идут</dc:title>
</cp:coreProperties>
</file>