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ACE-7150-4AE8-9FAC-4D9B4DB0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57D-9515-49FF-A3EA-1E12793A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00E-7700-4610-94CA-570CD27E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4A5-A725-49DD-BADD-A9062221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4C1-7519-4D11-9913-606AFE5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216-19F7-4235-90A5-76D23B54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27A-5E18-49F3-9EAF-78B3D8F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6E5-6515-4A7D-B25A-8F157AF5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8C5-07FB-4B61-963B-DA53F7A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B80-AE72-4117-8CE7-5BB85FD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811-A7F9-482D-B60C-61BBBA1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A59-AFAE-4097-9F33-2BD037F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2A20F-8F8F-43C7-9824-03DEB7864A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worthy, 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00Z</dcterms:modified>
  <cp:revision>10</cp:revision>
  <dc:subject>The Source, song number 480</dc:subject>
  <dc:title>The Heavens Shall Declare</dc:title>
</cp:coreProperties>
</file>