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A41-D1F7-481C-B8E3-2772896E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F8C-0B38-4A48-8907-5DFB36D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3E9-CD1B-4818-A249-9C6859BE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E7F-25F0-4E56-B0E7-E95F3C24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D29-B496-42BE-A4C4-85046DA2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AF9-6BD8-4744-8CC7-F2AFAB68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D30-FACC-42C3-A124-C4ACE05E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809-E440-4213-B75E-A10A05D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2C3-8E55-42C9-92C4-DDC95304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223-20DD-4E9C-B557-8FB69B6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384-9F08-4870-B74C-6F3D7CF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4A4-BA31-459F-A830-A11CFD4F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A3963-130C-48DB-93AF-882D0C0838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й нам путь откры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 царствие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 с небес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х туда в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Он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Он вос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тости для всех тру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, потом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нам путь откры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ок дней по воскрес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являлся вс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Себя на осмот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Фому уверил 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л им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Дух Святой пош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олгофское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о свой славный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брал потом на г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апостолов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ыл простому вз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в вид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два мужа им пред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азали: «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— вы видал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пять придёт на су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45Z</dcterms:modified>
  <cp:revision>12</cp:revision>
  <dc:subject>Slavic hymnal Гимны веры христиан, hymn 310</dc:subject>
  <dc:title>О, какой нам путь открылся</dc:title>
</cp:coreProperties>
</file>