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F3F-3C78-4FFC-BF65-4FDA95EB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258-21C2-45E5-927A-1DF5BB2C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B05-6DAE-427B-AC38-964368F8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99C-33CA-4600-8808-02E306C5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42C-8224-4B20-B57B-5751997B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554-3CA9-4B1E-B541-7BC501AB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748-09E7-4292-A3D4-44B0A0D2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C12-025C-4107-9B6C-296E07BB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7ED-9297-4829-8001-1FD547BD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8F9-F184-4674-A8F0-38658785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058-191D-4B30-A4F0-3862D93F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58D-4836-4467-9A6F-EF9D48E3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5A2CC-0AB1-4DCD-8748-FCA30BE723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tedious and tasteless the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Jesus no longer I se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eet prospects, sweet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weet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ve all lost, have all lost, have all lo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ve all lost their sweetness 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кучно на сердце по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скучно на сердце по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я не вижу Хрис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рода пустеет пред м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меркнет, и меркнет, и меркн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меркнет её крас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mid-summer sun shines so di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fields strive in vain to look brigh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when I am happy with Hi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cember, December, Decemb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cember is as pleasant as M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олнце неясно гор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поле всё мёртво круг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раем пустыня гляд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я, когда я, когда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я в союзе с Хри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name yields the richest perfu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weeter than music His voi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presence disperses my glo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akes all, and makes all, and makes 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akes all within me rej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Иисусе — сокровище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быть с Ним — дороже вс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бы со мною Он бы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не было б, мне было б, мне было б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не было б на сердце лег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ould, were He always thus nig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ve nothing to wish or to f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mortal so happy as 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ummer, my summer, my summ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ummer would last all the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ишь был бы Он близок всег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б с Ним ничего не жел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частливый любовью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сё бы, я всё бы, я всё б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сё бы за сор почит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0Z</dcterms:modified>
  <cp:revision>13</cp:revision>
  <dc:subject>Slavic hymnal Гимны веры христиан, hymn 504</dc:subject>
  <dc:title>How Tedious and Tasteless the Hours / Как скучно на сердце порой</dc:title>
</cp:coreProperties>
</file>