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58C-94DE-41F4-9B4A-4B0BAE31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3B3-DB1F-4F26-B48C-62B6E2F8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545-2591-45D5-BEA9-D348DB5F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720-9AD0-4F07-8564-8743B2C5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DE4-24AD-481C-A445-0F28885E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3C8-B6E1-432E-9A4B-1E98197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273-AA57-4631-9154-3873B598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364-9D2B-4643-B129-563B636E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9DD-71CB-4A9B-A32E-6FCB7D95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1A6-2F84-4AEE-9245-C130D51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E52-1599-495C-A8E2-5712AA2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E0D-3F10-4341-A36D-342310C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7BF0-D5CE-4FEA-B847-4C64B2E30B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heard so many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stened to a thousand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ounds abov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, the Fathe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ng it ov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ritten 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0   I Have Heard So Many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eator’s symph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Love has sent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You’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46Z</dcterms:modified>
  <cp:revision>12</cp:revision>
  <dc:subject>The Source 3, song number 1290</dc:subject>
  <dc:title>I Have Heard So Many Songs (The Father’s Song)</dc:title>
</cp:coreProperties>
</file>