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884-112E-4824-A220-DF744A15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A5C-D00E-4CB0-B4BB-95782AB5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144-FE6E-445F-9FCA-3888AD8C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6E5-57B6-4DF1-8A8F-60C5A272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AB1-AD8D-4D53-A6D8-A620719B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161-54D3-4AC3-91F9-B0A4FE21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0A3-FD8B-485F-9BBF-EAED8E77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C44-D9E5-4DC1-B26B-66EE68C4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E6E-8CF6-4F04-8DC1-845899B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439-193E-46CD-8965-FEDDAA5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C2A-E4E6-48C6-9F40-4B363D0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A8E-6397-4C8F-AC85-E9C743E0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0E0BC-1EC2-4E22-9220-B80B62E824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ым орлом я хотел бы ле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подняться, Христа уви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чему-то тревожно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ознестись над землё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м хотел бы я быть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ольщений греховных да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не знаю: зачем же п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 бессильному сердцу по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стрым орлом я хотел 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Твоим я хотел бы си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на земле для людей мая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чему-то могу лишь м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й лучиной, бегущим луч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зачем я не столько бог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хотел бы, чтоб кротким я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гордился средь Божи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ближе к Предвечному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06Z</dcterms:modified>
  <cp:revision>12</cp:revision>
  <dc:subject>Slavic hymnal Гимны веры христиан, hymn 465</dc:subject>
  <dc:title>Быстрым орлом я хотел бы летать</dc:title>
</cp:coreProperties>
</file>