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800-9B8E-4FD5-8F6B-DDC82120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1B5-CC02-4FF4-85E3-A092162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4E7-5451-4399-A37E-6D7CF283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05A-9D55-4D33-8202-0B274317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9A1-4A22-4E67-866D-C4C8440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AB0-198B-41E5-B0B4-05FAEF5E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BBA-694C-4F2A-A6A3-F2B5E41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0FE-250B-4243-900F-AFA2E62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9A5-1DA4-45AF-85FB-33778BC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FBF-4655-4F34-AF59-2A708EE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841-45D3-4F30-B69D-A3FD4BF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9B7-8457-4332-AF48-9CBAC66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30BFF-C942-4B52-9E9F-4999D8ADA7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9Z</dcterms:modified>
  <cp:revision>14</cp:revision>
  <dc:subject>Slavic hymnal Гимны веры христиан, hymn 479</dc:subject>
  <dc:title>Just As I Am / Таков, как есмь, о Боже мой</dc:title>
</cp:coreProperties>
</file>