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F6D-8B59-4831-9E38-DFBFAC18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B7F-FBD9-4A46-B39A-85481A03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132-1E80-4F5E-8960-56BC6DDD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0CE-1590-4674-9B2B-AD7DD48A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AD3-FAB7-4BB4-9AF6-01BFE207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237-49AD-4C54-BB80-41C5215F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A68-5CB1-40EE-92F3-AD54E4A1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772-1F90-4C73-8BE6-98E67805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B5C-1EA0-4693-978C-E234804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232-770B-4DC3-BD15-345DEC4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F8F-E268-4CE2-A117-F3D7498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AB1-BA49-48F4-AD8F-D9602B5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ED1E0-6B7A-47A6-869E-FB2B282503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меч не из стали блестя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лотом кован людск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ламенем правды гор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ван нам Богом Сам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оть он людей пораж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атскую кровь он не ль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и дух проник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, и неверье с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меч не из ст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греха разруб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ным свободу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дебри он путь прола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истине путь тот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ния грозные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зает он вражеский ст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меч наш могуч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ужен ли меч нам и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точим же меч наш ост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и молитвы ог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его и сме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за Велик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огнем, когда на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алек ряды потря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сквозь тьму и смят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лавной победы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cp:lastPrinted>2010-11-29T06:51:50Z</cp:lastPrinted>
  <dcterms:modified xsi:type="dcterms:W3CDTF">2010-12-20T00:42:50Z</dcterms:modified>
  <cp:revision>12</cp:revision>
  <dc:subject>Slavic hymnal Гимны веры христиан, hymn 495</dc:subject>
  <dc:title>Наш меч не из стали блестящей</dc:title>
</cp:coreProperties>
</file>