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2E4-5D81-48EC-A560-878BAA89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5EC-D612-428A-BB48-F721609E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A36-195E-4D77-B9AE-B996AAD6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E32-4370-4CF5-AA04-0A825A20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5AA-CCC5-49CC-8487-A2DF735F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646-C8D0-409F-82CF-8FC551B8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885-2278-445D-A3A3-C1F42D7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336-4EFE-48F2-A6ED-D02960F3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20B-F3D1-4639-8CE0-5BAD383F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268-97AC-4C6E-902A-7320FBDF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E9E-1329-496A-A223-B11DDAD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8A6-1FFE-49A0-B27E-67089269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9CFBB-E5EA-4766-8D95-4745CAFC0A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heaven living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ntle Saviour,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deliverer, beginning and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ithin me falls at Your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 царей,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ей, велик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бес, живущий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,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ц миров, начало,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ложу к ногам я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! О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юсь я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ой царскою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 как Ты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nd heav’n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eternal,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ought the nations, ransomed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ught this sinner near to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ithin me cries out i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круг поёт хв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и верност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енье на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грехи мои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мне слав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! О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юсь я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ой царскою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 как Ты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7:11Z</dcterms:modified>
  <cp:revision>11</cp:revision>
  <dc:subject>The Source, song number 309 in Russian</dc:subject>
  <dc:title>Царь царей, великий Бог / King of Kings, Majesty</dc:title>
</cp:coreProperties>
</file>