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a:t>
            </a:r>
            <a:r>
              <a:rPr b="1" lang="ru-RU" sz="3600" spc="-1" strike="noStrike">
                <a:solidFill>
                  <a:srgbClr val="ffffff"/>
                </a:solidFill>
                <a:latin typeface="Verdana"/>
              </a:rPr>
              <a:t>	</a:t>
            </a:r>
            <a:r>
              <a:rPr b="1" lang="ru-RU" sz="3600" spc="-1" strike="noStrike">
                <a:solidFill>
                  <a:srgbClr val="ffffff"/>
                </a:solidFill>
                <a:latin typeface="Verdana"/>
              </a:rPr>
              <a:t>Больше любви к Теб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ore love to Thee, O Chri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Thou the prayer I mak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bended kne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мой Господь, вн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ой моль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is my earnest pl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аждый миг дай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nce earthly joy I cra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ught peace and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Thee alone I see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e what is bes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Жаждал я благ зем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ья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ыне у ног Т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рой уп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all my prayer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одно лишь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Let sorrow do its wor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grief or p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 are Thy messengers,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 their refrain,</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 устраша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и тр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ьи служит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нам несу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they can sing with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ми поют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n shall my latest brea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sper Thy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be the parting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heart shall rais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в час отшеств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чны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ать хотел бы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ихой мольбо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still my prayer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O Christ,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love to The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ё, что дал Ты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к Тебе.</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0:45:32Z</dcterms:modified>
  <cp:revision>3</cp:revision>
  <dc:subject>Slavic hymnal Гимны веры христиан, hymn 8</dc:subject>
  <dc:title>More Love to Thee, O Christ / Больше любви к Тебе</dc:title>
</cp:coreProperties>
</file>