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CA5-E11A-4812-8F7D-2E2C5DBF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0C4-BE39-419B-ABC0-C3E7A333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66E-641A-47C9-AB81-924849D1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90F-4F57-417C-AD13-34855AFE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0F4-A1D9-4164-B607-DAD9DB69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1A2-7D6A-474C-BE06-9AF8A6CA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024-A89E-4E77-AD92-B298DD4E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492-CFC9-442F-83CA-F737E2B9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2E0-4C57-4597-A63B-AFB0C04B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2BF-EF01-493D-895D-5FA6564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A7F-B300-4477-81DF-626652AC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83C-FFBD-4585-A402-FF039754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1BFE0-348B-4728-8705-A79D12B80B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ний по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и знайдуть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овій святій кро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2  Буде дощ благослов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а Святого з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е Господь нам хре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мари надходять 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скорійш нам зі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м нове відродж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щ благодатний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и нам, Боже, теп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шукаєм про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й нас, просим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33Z</dcterms:modified>
  <cp:revision>12</cp:revision>
  <dc:subject>Slavic hymnal Гимны веры христиан, Ukrainian hymn 92</dc:subject>
  <dc:title>Буде дощ благословення</dc:title>
</cp:coreProperties>
</file>