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FAF8-A0F7-42F3-89C5-E10C7336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D25F-6014-4150-988A-43D64255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6D7-D23F-4344-A002-86121D8A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3412-6B60-4AA6-81CA-6D4605D7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484E-3E1C-4F86-AB82-D4B4B997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5D2-94FC-4B71-BD39-9CF848BC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BBAD-F3DA-464A-A638-6E4E5A2F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3E7-4088-46A8-A53E-EE7BC6CA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EBE-40C2-4AF4-B9F2-C3FD7BB0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E0F2-D522-4B48-B21B-763FF837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2E3-2231-4C00-B8C7-97779430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405-4FF5-4756-BD56-375FC42C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EF82F-3259-4967-BAB6-32DABCC1BDA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, как там и 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 ждёт больш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доме сделать для нас ую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, как много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бёнок всё лома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терпит душой за нас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икто не зн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, как жизнь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овно протек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асто плачет в мольбе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 уроков т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юный ум плен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добро, ненавидеть грех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 тревоги 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акой вперёд вз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ясь за сына иль дочь свою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, как много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нько проли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лудном сыне, что в грех погря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, как всех ещ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ёт Бог в двери р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де-то молится горяч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, как та моль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сердце сокруш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Отцу приводит страстей раб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9:15Z</dcterms:modified>
  <cp:revision>12</cp:revision>
  <dc:subject>Slavic hymnal Гимны веры христиан, hymn 778</dc:subject>
  <dc:title>Никто не знает, как там и тут</dc:title>
</cp:coreProperties>
</file>