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224-4C69-42B0-AC35-86609F13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18A-EBE3-40BB-8C97-C7934901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6F7-8440-43E0-841A-07A6AEE4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E1A-B487-42D6-9656-2CAA30FB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F32-0C3E-470B-A9CF-303CE50E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DDB-5B65-43C5-8558-5A07CA4A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6AD-8638-4A0F-B486-E30FAB52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28F-6332-4E7E-A6DD-965C743D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70D-B0BC-466C-A08A-8CA058A3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F8A-BB42-4509-A26D-6488BDB3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F30-6F52-402A-860E-F71A9A5D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0E5-918F-4F5A-8D45-E83AA49C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CBBBE-470E-445D-B246-1923F8F609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ight broke through m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tored exceeding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fell like the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de this deser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sorrow into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95   Your Light Broke Through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and lifted me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tand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aise ros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de this valley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sorrow into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sorrow into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57Z</dcterms:modified>
  <cp:revision>11</cp:revision>
  <dc:subject>The Source 2, song number 1095</dc:subject>
  <dc:title>Your Light Broke Through My Night (This is How We Overcome)</dc:title>
</cp:coreProperties>
</file>