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A3C5-B4CC-48CB-B451-F61D6B9CE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6649-5F81-4E56-A3F1-00499E126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367D-A0B8-4B1D-BB2A-6AE693024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EAC8-F39A-411E-8BEE-A12F1FE76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515C-F418-48B9-BA8F-501619E53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FF78-9641-4F2C-9DF9-3FF644979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0D96-007D-463E-932E-3AEBCE199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27E6-4092-44C3-8CAF-71E10FC0C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D7A3-C7E7-47DC-A21B-FDE5056CD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7835-F29B-4590-B8DC-88E28461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AB32-E6BA-4153-8C16-A8BE58EE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1674-4B1F-402A-98E8-6A6EA9FA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4ADB3D-78BE-4665-B7DB-E5BEDD84521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я чую про Христа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 серці веселюс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співаю в простоті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итель мій ― Ісус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на тьму гріха і з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гинув, подивлю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звучить моя хва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итель мій ― Ісус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71   Коли я чую про Хри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ші моїй Ти радість д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я тепер молю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цілий світ, як я, спів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итель мій ― Ісус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якій безодні потопав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гадати я боюс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ене і звідти врятува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итель мій, І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світі я без Бога ж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пер же я учу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щати, як мене прост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итель мій, І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ші моїй Ти радість д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я тепер молю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цілий світ, як я, спів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итель мій ― Ісус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Тобою мертвим був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пер же я учу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Тебе, як Творця люб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итель мій, І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Тобою мертвим був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пер я веселю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дух від смерти ожи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итель мій, І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ші моїй Ти радість д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я тепер молю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цілий світ, як я, спів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итель мій ― Ісус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44:46Z</dcterms:modified>
  <cp:revision>12</cp:revision>
  <dc:subject>Slavic hymnal Гимны веры христиан, Ukrainian hymn 71</dc:subject>
  <dc:title>Коли я чую про Христа</dc:title>
</cp:coreProperties>
</file>