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1C7-32B4-4098-B86D-7216BBD8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95B-896C-43A5-B211-201D75A3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DAA-11DC-4807-B5E1-C64F5924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B72-6659-44F7-8C5C-5AAFE1FA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4E1-2D08-4853-958A-FBD870A9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03D3-9A70-4392-926C-F2328A79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F8AB-FAB6-4A14-B5D7-BD65890F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C5A4-8A46-496F-926A-0BD99419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EC3-2841-4BD1-9E5F-C3B69B88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FC8-20B7-4D90-A5F4-64948256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315-3539-467E-A67D-CDFC35D9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74B2-4FA5-4091-BB33-3F5BD600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B7423-E7FB-4DDB-B41E-B6F948DB6F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ile shepherds watched their f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seated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angel of the Lord came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lory shone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Fear not,” said he, (for mighty d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d seized their troubled min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ad tidings of great joy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and all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59   While Shepherds Watc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To you in David’s town thi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born of David’s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aviour, who is Christ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shall be the sig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The heav’nly babe you there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uman view displ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meanly wrapped in swathing b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a manger lai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us spake the seraph, and forth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ppeared a shining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ngels praising God, who 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ddressed their joyful so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All glory be to God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the earth be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odwill henceforth from heav’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gin and never cea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6:42Z</dcterms:modified>
  <cp:revision>10</cp:revision>
  <dc:subject>The Source 2, song number 1059</dc:subject>
  <dc:title>While Shepherds Watched</dc:title>
</cp:coreProperties>
</file>