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0DA-FF1E-4541-9500-169E5B77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5C2-165E-44DD-B844-9A9CB822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D43-B7EC-48B0-8E18-0B6D5949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ADD-1F23-41A2-8FCD-9CC2FCC8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A1D-10F9-4C8A-9218-1D40F73B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656-B3FB-422A-AD59-51A27B19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9BF-D218-4EC0-9A7B-BCA8617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888-E6E3-404E-BB9D-08338CC7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FF1-9879-47F2-BB8D-CFE37395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B15-AE6B-487C-AE4B-A09F640A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BDF-5C53-4E56-8DD3-F2C2F80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155-4B96-4BF0-973E-3492456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86896-0A3A-4C2D-AF2A-EF6AAAA182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the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cre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soul, prai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is thy health and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а славь ты, м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валяй Всеблаг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еснопеньем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его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e wh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o His temple draw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me in glad ado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Твор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Его без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рует так 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Who o’er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ondrously reign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lters thee under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so gently sustaine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Он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ям Своим нас ве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зёй сокров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not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all thy longing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ed in what He ordaine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по пути, где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ты, тревогой смущ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! O le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in me ador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at hath life and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now with praises befo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Кто д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к устр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о сих пор всё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л, и пок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from His people a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for aye we ado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спас,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благой удосто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Who d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sper thy work and def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ly His goodness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daily atten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и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тебя ут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тру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nder a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Almighty can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ith His love He befrien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лишь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ез Него в мир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ия, мира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4:30Z</dcterms:modified>
  <cp:revision>13</cp:revision>
  <dc:subject>Slavic hymnal Гимны веры христиан, hymn 807</dc:subject>
  <dc:title>Praise Ye the Lord, the Almighty / Господа славь ты, мой дух</dc:title>
</cp:coreProperties>
</file>