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177-E449-4F6C-AFB9-0B883A82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A75-8DC1-41F9-AE7D-9E0446A9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B85-0CDB-405A-BF6F-D852FB4E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F55-8B98-427D-BFC3-C6E2E56C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221-5B42-47D7-9F14-9F0DAF30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FD0-CD31-4B4A-88F2-9C6CA552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C14-8017-41FE-8B05-2715A752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916-8D4B-457B-AF64-AE2A9D47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D79-228D-4C44-BE20-6189E6A7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A11-651F-45EC-85BA-67C76D75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2DD-1D8B-4552-AF03-54631213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516-1FA9-4895-AB4A-62E52BC7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FECB4-5DD9-4A33-9FB4-9C976D38FB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их слів не забу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и несуть тобі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Бога серце відкри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1   О, Божих слів не забув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віт твоєму серцю дав?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ягар, журбу душі твої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же щастя 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прийняти хоче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спасіння дає С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корбних хоче уті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32Z</dcterms:modified>
  <cp:revision>12</cp:revision>
  <dc:subject>Slavic hymnal Гимны веры христиан, Ukrainian hymn 51</dc:subject>
  <dc:title>О, Божих слів не забувай</dc:title>
</cp:coreProperties>
</file>