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BA7-177F-4D27-A477-48234A76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B41-47AC-4BB7-9B95-21810FD9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24A-E5CD-4CCB-925E-4D922792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E17-709A-4F5A-B28F-E7E51D84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CCF-549F-4620-BA6D-8B1A7D04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1B5-DCE7-4C32-BC3E-45D09E8E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920-E1BF-4D6D-9268-09F08EF2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18A-ACB1-4A0C-B290-933B0EF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C03-54BD-4EA7-9BDB-2565019E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0D9-62BE-4389-AD39-F2113A6B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5F2-E11E-461E-9CE1-653CA139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132-7928-45A1-A586-537E466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DCA26-016C-40C7-8235-E1541F886D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ift Your name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ove to sing Y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You’re in my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You came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зношу Тебя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шу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ю Тебя в пе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 я, что Ты —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, Отец чуд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me from heave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how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earth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bt to p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на землю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путь продолжил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з заб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ift Your na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креста в царство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ттуда о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, чтоб нам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0:32:59Z</dcterms:modified>
  <cp:revision>11</cp:revision>
  <dc:subject>The Source, song number 330 in Russian</dc:subject>
  <dc:title>Возношу Тебя, Господь / Lord, I Lift Your Name on High (You Came from Heaven to Earth)</dc:title>
</cp:coreProperties>
</file>