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5389-EDBA-4195-A1E1-DA809F774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456D-396E-4DD1-A0BA-C912B871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4BAA-0E11-4E02-8243-0EEE9B493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CA1A-6973-41BC-8AA3-C02937AA0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480B-4057-4913-A097-10CB16AF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AC03-7F55-4ADC-9128-DDBAA454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CBB1-4259-449A-837A-162A5838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2B10-85B0-41B4-983B-5B99BBFF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7893-3D23-413A-BE07-6FD3ACCE9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4E84-C3E0-49FE-ABFB-12F32532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34E4-D846-437C-AEBB-27F96BFC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D9E1-092C-4FE4-817F-81631A9E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D90F81-F843-402C-88B1-F813391CFA9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esus, what a beautiful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n of God, Son of Ma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amb that was sl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oy and peace, strength and hop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race that blows all fear a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esus, what a beautiful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0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мя так прекрасно Твоё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мя так прекрасно Твоё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исус, Агнец наш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удный Господ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дость, силу, мир даё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лагодать рекой течё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исус, чудно Имя Твоё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esus, what a beautiful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ruth revealed, my future seale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aled my p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ove and freedom, life and warmth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race that blows all fear a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esus, what a beautiful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мя так прекрасно Твоё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стину Свою откры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нял мою бол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Жизнь, свободу, любовь даё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лагодать рекой течё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исус, чудно Имя Твоё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esus, what a beautiful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escued my soul, my stronghol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fts me from sh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giveness, security, power and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race that blows all fear a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esus, what a beautiful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мя так прекрасно Твоё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пас и сокрыл, искупи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нял мой позор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оя безопасность, прощенье грех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лагодать рекой течё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исус, чудно Имя Твоё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1T14:50:18Z</dcterms:modified>
  <cp:revision>11</cp:revision>
  <dc:subject>The Source, song number 301 in Russian</dc:subject>
  <dc:title>Имя так прекрасно Твоё! / Jesus, What a Beautiful Name</dc:title>
</cp:coreProperties>
</file>