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0B6-E07D-4A0D-B740-957C37B6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100-FFA4-4AD3-BA64-A4A109F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A8C-7339-4229-9FA9-A359C3D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5C6-C1F4-4BC5-B286-983CC9F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6F4-04A5-4BC1-BF25-2544C22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FE0-C1F7-4AB1-B185-DDBF4BED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4F9-252E-429C-BF8E-ECAD2BD1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2C4-B93F-4C26-8802-50782FDA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53D-74B6-4021-8914-C5D7EDCC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B37-BA86-413F-AA2E-7666810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438-27A7-45DE-98E4-443EFC5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C33-8F17-424E-AAE2-F0919CF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856B6-3D33-44AC-A6C4-9316236CBD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56Z</dcterms:modified>
  <cp:revision>13</cp:revision>
  <dc:subject>Slavic hymnal Гимны веры христиан, Ukrainian hymn 30</dc:subject>
  <dc:title>I Gave My Life for Thee / За тебе Я вмирав</dc:title>
</cp:coreProperties>
</file>