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8C2-964C-4224-969F-A4885A35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8AC-43F4-42A5-87B8-8FE1F35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260-3178-4F8E-A7B6-ADC947FB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9A7-57DD-4405-AD6B-8D2D0A0A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802-19BF-468B-9D0C-5968678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89B-702E-4A1A-A171-5D347C6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FF4-CEF1-479F-B167-48D06EBE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E55-3C46-46E4-B719-13AB4D7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5A3-E5E4-4682-87BD-2E78033C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C4-72B7-42F0-94B8-244D7042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B72-FD1A-4EBA-B0BB-C0969B8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253-E6DC-4148-ADD6-6E1F9245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D82D7-7E12-4CB5-8311-C74848CC90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mercy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hose to redee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rgive and rest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call us 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osen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holy and bla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lor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h, the Merc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richnes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pths of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is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ed us as righte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destined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praise of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luded in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glory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pressed in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image and lik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lan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d in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b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erfected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13Z</dcterms:modified>
  <cp:revision>11</cp:revision>
  <dc:subject>The Source 2, song number 914</dc:subject>
  <dc:title>Oh, the Mercy of God</dc:title>
</cp:coreProperties>
</file>