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D4C-89FF-4B3F-B0AF-909B3598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10C-6BF7-4924-B5E8-8A9C24D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44F-BBA0-4A4B-94E7-0272EABD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011-F386-4F3B-B2F9-78D60A99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8E2-C422-4714-8F43-383BE364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BAC-6FEE-486C-A909-2E4F689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38B-EB7D-4DBB-92E5-2812E426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A24-0BE5-4C36-872D-9969542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4E-77E0-44F0-B30E-1817CF33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FB7-8396-4BF9-9514-8B144F4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1C6-971B-457B-86F6-A7B3915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2CE-2D1B-4468-BE37-A35D863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EF03-4558-4267-A49A-ED525A96E4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20Z</dcterms:modified>
  <cp:revision>14</cp:revision>
  <dc:subject>Slavic hymnal Гимны веры христиан, Ukrainian hymn 6</dc:subject>
  <dc:title>Коли горе на серце наляже</dc:title>
</cp:coreProperties>
</file>