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F465-CE26-43BC-A860-68E3EF61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AB09-07DE-474F-85C1-E6B4BEC4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3EB5-42FC-460B-9A3C-DE2DEF8C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185-12BE-43C9-8F59-4BF199EA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EED-CAB0-4DCD-AD30-3D128C82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65B-4440-4C07-8ABF-88820462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207C-99FE-4351-B504-00EF868F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5C22-A6E5-4907-9675-181D1817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7288-9181-42C5-A60B-AE111CF2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EB2-DAE2-42A0-AE7E-23E43391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25B-1FD7-4752-825D-7C2C7D23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C123-A2E5-445A-94CD-17048261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0A870-8E99-4A0C-8DFC-124199E96F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a church in the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lovelier spot in the d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place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звестна мне церк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вестна мне церковь жи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ердцу отрадно так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у любовь воспе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жажду Его я хва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иди в церковь живу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м Божий и ты в ней на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рудь Иисуса свят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гнись и мир обрет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close by the side of that lov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trees where the wild 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oo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farewell hymn will be chan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rest by her side in the to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вестна ль вам церковь жи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которой так сердце влеч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к небу молитва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ячим потоком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иди в церковь живу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м Божий и ты в ней на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рудь Иисуса свят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гнись и мир обрет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 on a clear Sabbath m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list’n to the clear ringing b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tones so sweetly are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транник! ты знаешь, что ми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церкви той веет 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там не чувствует сир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ытым себя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иди в церковь живу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м Божий и ты в ней на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рудь Иисуса свят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гнись и мир обрет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church in the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day fades away into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fain from this spot of 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h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ng my way to the mansions of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церковь есть неба предвер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милости Божьей престо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исцелён от невер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 церковь Христову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иди в церковь живу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м Божий и ты в ней на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рудь Иисуса свят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гнись и мир обрет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40Z</dcterms:modified>
  <cp:revision>14</cp:revision>
  <dc:subject>Slavic hymnal Гимны веры христиан, hymn 519</dc:subject>
  <dc:title>Little Brown Church in the Vale / Известна мне церковь живая</dc:title>
</cp:coreProperties>
</file>