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EC3C-49E8-477F-A11D-BABF4A84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31C9-7230-4B61-9821-77322E07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12B5-613E-40C9-A4FA-674ADF02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D78E-86C3-4CEE-B5EC-DEF100BC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AC40-FA08-4B67-AA3D-D0B051D6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AEF7-9BC7-4334-8039-88226315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49C0-A6D8-4576-A348-843BFE3C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DEC8-F18F-4116-B0EB-D4A6BD8C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9614-8597-4C1A-A924-A7E8869E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FD33-27C5-4E67-A4D0-C5552A5F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66C5-057E-4F9F-A9DE-138FEBB3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ED36-A116-4E56-A2AB-7D368750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7B6E2-BF92-4E4A-9A31-0C02EFABA83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де невірний та серцем лукав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ді вже Бога Святого гніви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ді грішити, неправду твори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реба вже Богові вірно служи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ога ― велике це щас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вжди повинні про це ми подб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і тіло на Божеє ді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 повинні Йому ми від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9   Роде невір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 подивіться на Божеє ді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о страшнеє Він всюди тв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океани для Нього слухня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они діють, що Він їм вел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ва дозріла, робітників м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аця велика потрібна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у не гайте та з Богом руш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вам поможе усяким доб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і ті люди навіки щасли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трі мамоні служить відрек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трі в кайданах ― гріховних тих ран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ли рабами у неї ко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яка велика Тобі, наш Влади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Тебе усі 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Твого Сина гріхи наші зм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всіх звільнила з тяжкої тюр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4:51:35Z</dcterms:modified>
  <cp:revision>12</cp:revision>
  <dc:subject>Slavic hymnal Гимны веры христиан, Ukrainian hymn 59</dc:subject>
  <dc:title>Роде невірний та серцем лукавий</dc:title>
</cp:coreProperties>
</file>