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E23-1972-4484-BC15-8AD263A9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415-98F4-48B9-B5C1-2B42A1D2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ABA-335E-4DE5-BBCC-73EA52CE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D2B-FE54-482C-898C-52D1C1E3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74FA-1818-4105-9B7D-0A071BE0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10A-3119-493E-9352-FF35EACB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A9C7-6EB4-4D15-9814-FA85FE81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68D-D5B5-4AC0-B589-0C8BAF30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124-1A63-443B-A0A7-5BCBA56B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7473-DABF-4995-B9D4-8DCBF24C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1452-23C9-42D8-9CFD-0605C59A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002-9C3F-49FE-9DEC-A1839303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4F11B-6AB9-4E9D-9264-4F7A3508F2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nder of Your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be our medit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ather in that sha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sun wen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eep with those who 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were lea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ere leaving,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umble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never wore an earthly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55   The Wonder of Your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teal away a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y took down Your bo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love and tears to leav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borrowed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o with Mary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place they lai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y laid You,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nd the stone was roll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, O the wonderful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lory, what victory I’ve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come to the wonderful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whole life I lay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re heaven’s praises si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ose hours of dark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oly Spirit br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ound that empty thr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the decl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se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risen,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not de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hold He lives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, O the wonderful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lory, what victory I’ve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come to the wonderful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whole life I lay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0:23Z</dcterms:modified>
  <cp:revision>12</cp:revision>
  <dc:subject>The Source 3, song number 1555</dc:subject>
  <dc:title>The Wonder of Your Cross</dc:title>
</cp:coreProperties>
</file>