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5BC-9A02-4DF2-94A5-E3B21202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E2FA-9E37-453D-A746-ED7DC666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CD5E-57EC-490E-85A2-51495B20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E135-F8F7-421F-A62D-F0CEEB9C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C3FB-2EEA-4E3C-9F12-17C99C17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9F8-7316-483F-959E-46381F5D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12A-B6C7-49EB-9AC0-F218470E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D19B-7159-4599-99FE-574ACDD0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9AC-6947-4B58-943A-0299ED9B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7533-07F6-4A73-8F2E-15E2CF1C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9C0-9346-422F-B091-5DDA050A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E9D3-4DF5-4E7F-A6D8-FD936A50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21BDA-7448-406F-A63F-EC3B688C943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here in unity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ong of Your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in this generation for our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ong of Your forgiv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t is with grace that river flow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ity of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19   Take Us to the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Your throne r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ive us ears to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y of hea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at cry is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rcy to the fallen sons of m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ercy it has triump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iumphed over 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the throne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ity of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Spirit of the sov’reign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upon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year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pirit of the sov’reign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upon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year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the m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us in the shadow of Your han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his Your mighty ang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stands astride the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n his hand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wers on a dry and barren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the 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ity of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Spirit of the sov’reign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upon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year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pirit of the sov’reign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upon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year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9:29Z</dcterms:modified>
  <cp:revision>12</cp:revision>
  <dc:subject>The Source 3, song number 1519</dc:subject>
  <dc:title>Take Us to the River</dc:title>
</cp:coreProperties>
</file>