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3C0-F1C2-4AF1-BB61-8E3C9D4F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34B-C325-47E8-8CD0-5C56041C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814-B007-459E-99C5-5542CBE6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636-84C1-4C89-B53A-AEB2934E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FC5-BF74-4145-A71D-95006F17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5E7-B5DB-4550-8598-165A1BA1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803-0EAA-4EF2-9D27-D76C88BF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366-E75A-41A2-8FE0-69BD15E8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82F-25DF-43E8-B535-A141EFE1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254-45F7-4A10-B090-7C5E6251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C25-C723-4E84-B62F-D65725D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ADC-70D0-4D0D-8B71-D3FDC83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3208E-9442-42A6-990F-24D5956832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пирал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чадом тьмы, рабом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о мной была звез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пирал любовь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родной, в чуж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разных бед, от зл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ерегали жизн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гнал из сердца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стал всего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влекли мен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25Z</dcterms:modified>
  <cp:revision>12</cp:revision>
  <dc:subject>Slavic hymnal Гимны веры христиан, hymn 777</dc:subject>
  <dc:title>Я попирал любовь Христа</dc:title>
</cp:coreProperties>
</file>