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B5F-0E50-4D43-A8C1-46F0427D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773-C2A0-4326-B658-A948CE37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D07-A6A4-4E97-9476-D4C7F56E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84F-3FA6-4618-812F-58D7F0BC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98B-E2D7-4F48-AF59-C24106E3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5E2-6A45-4A06-8BD0-25F0B70A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405-D609-409D-9395-706344A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965-1DFF-4CBD-8AB2-FFAAE782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B65-3DF1-4269-B178-0E83C0A2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D41-3BFB-40C1-9A3E-FD7E44A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B24-BA98-4C56-83C7-1663685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36D-8CB8-4878-882E-DB83B350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CD0D0-21B5-4EFD-B307-8C35A73C0C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тьму сияе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ок уж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волнами м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а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онец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би, друг,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 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возь тьму сияет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ладью надей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вздым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 ре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мрака, г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 не страш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рассветает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воскл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и рассе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ава вблиз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 вос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ждёт теб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истан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28Z</dcterms:modified>
  <cp:revision>12</cp:revision>
  <dc:subject>Slavic hymnal Гимны веры христиан, hymn 704</dc:subject>
  <dc:title>Сквозь тьму сияет свет</dc:title>
</cp:coreProperties>
</file>