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3B9-6650-49ED-9869-944740E0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DD3-C3C0-4C1D-9675-783D9C6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DF6-0560-4C4A-B4BD-507AAB29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EAF-87C9-4C09-921D-FCDA59BF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F99-1F90-4DA0-9FB0-77735F9A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67-F4A6-4CF5-8F71-BADC464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99D-A0E8-4EE7-AC96-6493248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C35-F998-4CD1-8F03-DC9D0F7F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716-D2B8-4C22-9945-E1170930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D19-D45B-49B1-9FA0-721F8A8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87E-3553-4AA4-AE03-FDF0202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6A2-1024-4BF1-BEFC-B3B4926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430E3-3905-4944-B738-E66293F850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my Redeemer liv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s prepared a plac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rowns of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would His childre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rusting Jesus Christ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is blood now speaks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listening for the welcom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ay: “The Master waiteth th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now enraptured with the th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nd wonder at His lov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from Heav’n to earth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ie, that I may liv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soon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e tim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shall reach my heave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in the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52Z</dcterms:modified>
  <cp:revision>13</cp:revision>
  <dc:subject>Slavic hymnal Гимны веры христиан, hymn 629</dc:subject>
  <dc:title>I Know That My Redeemer Liveth / Я знаю, жив Христос Спаситель</dc:title>
</cp:coreProperties>
</file>