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484-6B43-46D9-BDA3-1339DAAB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FED-CB8E-41E7-AE12-8C6AA4B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551-8150-41E5-B4FE-C821E040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C8A-3A8F-49F4-84E1-FF5F8B66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C37-642E-4DDE-93DA-80C2AEA6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F3E-9FC4-4253-866D-A6008D9A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E60-CAFD-44F5-BDEF-DE4936F3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491-74C8-471C-A6D5-3B18BE27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E6C-F5E6-4939-9727-D11969B3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2AA-5CD0-4B3A-A2D8-01D6915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F6E-4C0F-4C86-8681-941C0E3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75F-DC11-4F3B-A88C-51AD101E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30F98-3AAB-439D-8361-AE239D92D7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я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й мир водво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кой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души всякий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 греха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ринял то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изменн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хранитель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адостн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 мн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вечно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4:00Z</dcterms:modified>
  <cp:revision>12</cp:revision>
  <dc:subject>Slavic hymnal Гимны веры христиан, hymn 612</dc:subject>
  <dc:title>От греха я спасён</dc:title>
</cp:coreProperties>
</file>