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7932-9CD5-45B4-8636-EDFB2FC40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B22A-16C2-4613-8D16-8A417391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CE82-BB92-4BE3-ABCE-0F0C19856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D287-7845-4C4C-9469-FE1D8B2C8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ADB1-3E11-4D79-BAB0-AA1C5572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D64D-FF28-4955-A360-633480F0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A095-C010-45B3-A3B5-A46D61F2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F386-B9EC-4DC5-836D-ED1B491F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0BDA-0E78-4785-9253-54EA911B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C5F0-3AB1-4713-A4F2-FD334D0E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1FAD-DAC4-41E0-B011-AA4073A3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9B3E-1937-4EC4-ADB8-B8B3F749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9454F-57E1-4DE0-8216-2D6094BC58F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страдалец, н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 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пасает мир с кре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древо вознес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 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а Меня взглянь!» — молвит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зглянь, страдал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! Господь твой вознес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! Всё ж близок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, не уми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ты нищ, грехом покры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 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отбросив страх и сты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, кто был врагом плен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 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а Меня взглянь, будь спасён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! Господь твой вознес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! Всё ж близок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, не уми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блуждал ты долго,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 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ертви свой слабый дух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Отец домой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 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 ни был, пуст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! Господь твой вознес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! Всё ж близок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, не уми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51:46Z</dcterms:modified>
  <cp:revision>13</cp:revision>
  <dc:subject>Slavic hymnal Гимны веры христиан, hymn 334</dc:subject>
  <dc:title>Взглянь, страдалец, на Христа</dc:title>
</cp:coreProperties>
</file>