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87C-54D7-49AA-A9B8-A9CC9D97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109-2A90-4ED8-876B-3B9497F7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2F7-BDFB-4BD4-9F3D-48A12DBD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61E-C428-4C7E-9425-BBD722A2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F76-C549-4E7E-8F55-9BEE9CF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EEB-6A0B-4390-BC4B-52EAF3E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890-666D-4372-936A-D0438B78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77E-383F-4888-A471-1965C82B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D5B-0DDE-494E-8A9A-8FFF2E21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6BF-42CA-44E0-BE41-5C8388F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FE6-3752-4E8B-BBC2-B26DBBB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5A0-5D90-409C-83F1-D9D7CF76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EBB0F-B716-40C4-A5CF-9C82391F0D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 вам, Христово цветущее пл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ждённое в бурях великих судь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грозно встречает последнее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на последний решитель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ною стальною, полки боев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ье идёт к вам на лютую бр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книтесь теснее, ряды молод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ешительной битве никто не отст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вет вам, Христ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ите победу, священное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ярче горит над руин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вперёд христианско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бескорыстной, Христова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сердца молодые пусть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еньи одном на груди у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, быть может, кого и подним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ой разъярённой на древ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не робея, на смену 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борцам, не страшитесь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те, цветите, плоды прино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е в мире наследь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5:48Z</dcterms:modified>
  <cp:revision>12</cp:revision>
  <dc:subject>Slavic hymnal Гимны веры христиан, hymn 794</dc:subject>
  <dc:title>Привет вам, Христово цветущее племя</dc:title>
</cp:coreProperties>
</file>