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202-325B-48AC-9EE5-C991FA00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8A9-3885-4412-B954-0CC1B4BC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FD3-5862-4426-A61E-D0E8E6D7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B23-6EFA-4A97-975E-3345E3E0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EB4-B059-4C0A-BEB3-297B91ED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BB5-CE6D-41E4-A39C-91DA41C8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938-382B-4795-9376-9389F3E2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219-0447-44DF-BA55-89F378A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D15-145B-4C79-9206-A293B47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A8D-58BC-4A6B-96ED-A079024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BB9-CA31-4E60-BA1F-BE0D234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9E1-BDEA-4868-8ECA-E639CE54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F912C-AA26-43B2-9521-A5B75FB619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moments we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rejoicing, a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in the name of our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ие минуты нам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е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ог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видели братьев, сестё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thwa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y Him will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God all our needs will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бронёю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покровом 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по Господним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mised that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ent with us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our hearts beat with His in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доро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ыть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дим Богу в сердце прост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pleasan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to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tting out the world’s tumult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нам встрет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ами пред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нение мира за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rewarding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sit at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untold blessing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традно, исполнивш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ие душ разд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vel-weary, we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is haven of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lax where God’s waters still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, Сионские путни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ов Божьей в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renewed and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Spirit refre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way with rejoicing we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Фаворе по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ова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осподом мимо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fellowship bl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have been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manna from heaven been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общении слад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ли мы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уровые кам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wonderful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bread we hav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ew strength for the pathway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енье нашли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сподних слов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 силою новой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close-knit comm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hrist as our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ued with God’s power from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снее окру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зирая к предвечным го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5Z</dcterms:modified>
  <cp:revision>13</cp:revision>
  <dc:subject>Slavic hymnal Гимны веры христиан, hymn 742</dc:subject>
  <dc:title>Precious Moments We Share / Дорогие минуты нам Бог даровал</dc:title>
</cp:coreProperties>
</file>