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038D-78A8-42AF-96B7-58C40368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C874-22F6-4FD3-B6EB-1443CD7B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7BF1-2D2A-4F3F-8550-51CA71ED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E3FB-1CD8-46E0-8F06-FAADE039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80CA-9549-4C64-88CA-A2531D4A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8EED-26F8-4692-9F8B-C824E3D5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EE72-5F9D-4ADD-BE51-497C10F3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2ECE-70D7-4D07-9401-18643174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5E8D-A212-4D5A-91C1-C64A417B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89AF-D2A8-4352-AD77-20E789B4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8B1F-3A87-4335-BEF0-728EEA2D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7A72-FC43-4687-85F8-95BE5009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E59EC-B5FD-4994-AEEF-0630851CEB1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ожий Дух в сердцах жи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частье! Там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олько милых обойм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акже и вра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любовь, Господь,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той их оза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делай так из двух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мя славилось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де Божий Дух в сердц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ожия любовь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ир, там нет враж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пасностях Господь хра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т ни в чём нуж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любовь, Господь,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той их оза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делай так из двух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мя славилось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ожия любовь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роде иль в сем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изнью Бог руково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счастье там впо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любовь, Господь,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той их оза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делай так из двух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мя славилось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5:11Z</dcterms:modified>
  <cp:revision>13</cp:revision>
  <dc:subject>Slavic hymnal Гимны веры христиан, hymn 741</dc:subject>
  <dc:title>Где Божий Дух в сердцах живёт</dc:title>
</cp:coreProperties>
</file>