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7ABC-235F-4508-AFB6-F25C9BD9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B1F9-9462-49E6-9329-A3026F75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8A8-380D-4583-8527-96EDDD75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CAC-2332-4C9C-AD4F-3B3720BE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4E2-9E65-4711-8D46-32F258E4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416-647E-40A5-93C3-8CE68BD4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D0C7-584C-4DEE-87FD-25D59329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84D3-80C3-4837-A877-FEA70265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8417-65BA-4B54-B94A-4DBAE2F8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51F8-8FEC-4D55-9945-F71BCAD4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884D-C645-448E-9582-6B4E350B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F089-ED24-49C8-8BAF-98EF157A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16D29-5404-4D10-A5AD-648BA56195F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 днём и каждое мгнов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мне силу для борь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Божьим откровень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 «изменчивой судьб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Чьё сердце любит беспредель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нам лучше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и радость отмеряет ве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вятой — сред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нь за дн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ко мне Спаситель бли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ивной милостью на каждый ми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заботы прогоняет сраз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оветник дивный для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рука Всевышнего прикр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Кормилец и Покров С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И как дни, так будет ваша сил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е дал Он 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во всяком испыт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Тебе, Господь,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ть твёрдо все обетов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ходим в Слове мы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, встречая труд и г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имать их из руки Т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 днём идти, поднявши вз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й стране, где нет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0:58Z</dcterms:modified>
  <cp:revision>12</cp:revision>
  <dc:subject>Slavic hymnal Гимны веры христиан, hymn 863</dc:subject>
  <dc:title>День за днём</dc:title>
</cp:coreProperties>
</file>