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E1D-EE50-4A89-9B56-9EB480CF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E13-1689-4DC5-B92D-BB876B30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475-6F87-4629-BD77-EC70EA24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AEB-9872-4206-B9E6-BDD8671F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61C-E402-435D-839C-C8E654F1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4C1-4BBD-4358-B72B-9AD31E0A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945-AEF9-459C-99E3-90EF48FB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7E0-BD0E-4636-B6A1-1A2BBC9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92D-404F-4A22-880B-903AD9A8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76A-FF20-4893-BE73-23EBF6D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CA0-E56B-4A55-9FF6-911BF17B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31D-FF93-4004-B663-16FBACCF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B7476-5689-4164-9A41-2A9DFAD06B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seem so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llion miles or more it feel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haven’t lost my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confess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t’s hard for m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6   Lord, You Seem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t’s hard for m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houghts and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put my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that You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42Z</dcterms:modified>
  <cp:revision>12</cp:revision>
  <dc:subject>The Source 3, song number 1426</dc:subject>
  <dc:title>Lord, You Seem So Far (I Will Sing)</dc:title>
</cp:coreProperties>
</file>