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A4A-0C1B-471D-AABE-73A60DCE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307-1B76-4B97-95A3-BCB7002E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097-B8E7-4D3D-8DAD-6D8D30F8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34C-2FDB-4BA9-A77B-0EE0574C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E57-134B-46A2-B560-189CFE15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1F6-76AE-4145-95AB-003823E9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2E8-B5C7-4E27-855B-610817B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C4B-4867-4D8B-AB52-A5E2523D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829-9CA5-4A76-9135-A2043B42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A90-0834-4171-A7C2-12A7B96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5A0-F564-4722-9FD2-518231BD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54A-9A5E-4474-9368-C79EF0D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7300F-55A8-4BC8-B932-F67846CFB4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heart be changed, renew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from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хожу к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жу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томлён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Твоя меня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Lord, I’ve come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aknesses I see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stripp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чистишь сердце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в нём си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яни руки мне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и Сам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арю к Тебе на крыльях вер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ечу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едёт Дух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unveil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see You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nowledge of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ой гла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ебя увидеть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познать любовь Твою к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renew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r will unfolds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ving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и мой у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мне открой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л я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сило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яни руки мне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и Сам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арю к Тебе на крыльях вер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ечу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едёт Дух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7:42Z</dcterms:modified>
  <cp:revision>11</cp:revision>
  <dc:subject>The Source, song number 329 in Russian</dc:subject>
  <dc:title>Прихожу к Тебе (Твоя сила любви!) / Lord, I Come To You (Power of Your Love)</dc:title>
</cp:coreProperties>
</file>