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3A0-70E7-4386-8710-08D20A7F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9D0-F9D8-47B8-9BC7-CBADA46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A1D-943A-4945-8948-C56758D0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17D-8433-4D34-901C-F20D4270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286-DFFF-4DC1-8768-C757DCE4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FF3-94F5-4302-A783-22866141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E59-DC24-4D86-AC4A-193FDA3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A4A-087F-4C0F-BBE5-8043DC2B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47E-49AB-4A14-A03D-8D36FC87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AB4-A6C3-4A0A-A18A-BFF7F82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48B-71ED-44A9-A128-42E173D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7A1-E246-4B99-A94F-B96C894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6D138-8CF8-4AF4-A5B7-BC4B885F1B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terday, today,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03Z</dcterms:modified>
  <cp:revision>11</cp:revision>
  <dc:subject>Slavic hymnal Гимны веры христиан, Ukrainian hymn 115</dc:subject>
  <dc:title>Yesterday, Today, Forever / Вчора, нині і навіки</dc:title>
</cp:coreProperties>
</file>