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57</a:t>
            </a:r>
            <a:r>
              <a:rPr b="1" lang="ru-RU" sz="3600" spc="-1" strike="noStrike">
                <a:solidFill>
                  <a:srgbClr val="ffffff"/>
                </a:solidFill>
                <a:latin typeface="Verdana"/>
              </a:rPr>
              <a:t>	</a:t>
            </a:r>
            <a:r>
              <a:rPr b="1" lang="ru-RU" sz="3600" spc="-1" strike="noStrike">
                <a:solidFill>
                  <a:srgbClr val="ffffff"/>
                </a:solidFill>
                <a:latin typeface="Verdana"/>
              </a:rPr>
              <a:t>Скажи мне весть благую</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Tell me the old, old st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f unseen things ab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f Jesus and His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f Jesus and His lov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кажи мне весть благ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и, Спаситель, вн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 смерть и жизнь свят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о Твою любов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me the story simpl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s to a little chil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I am weak and wea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helpless and defiled.</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и мне весть спас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просто, как детя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тал я от хожд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суетным путя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me the old, old st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me the old, old st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me the old, old st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f Jesus and His lov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и мне повесть чуд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и её мне вн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и в минуту труд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про Твою любов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Tell me the story slowl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I may take it 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wonderful redempt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od’s remedy for sin.</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кажи мне весть благ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я постиг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ю тайну дорог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ар спасенья Твой.</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me the story oft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I forget so so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early dew of morn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s passed away at noon.</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щай мне повесть част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душе мне начерт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людям, в тьме несчаст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крыл Ты вечный ра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me the old, old st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me the old, old st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me the old, old st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f Jesus and His lov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и мне повесть чуд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и её мне вн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и в минуту труд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про Твою любовь.</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Tell me the same old st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n you have cause to fea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this world’s empty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s costing me too dear.</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кажи мне весть благ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замети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в душу мне боль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никли суеты.</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es, and when that world’s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s dawning on my sou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me the old, old st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Christ Jesus makes thee whol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же предо 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станет мир и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сделай весть жив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Ты — Спаситель мой.</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me the old, old st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me the old, old st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me the old, old st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f Jesus and His love.</a:t>
            </a:r>
            <a:endParaRPr b="0" lang="en-US" sz="3200" spc="-1" strike="noStrike">
              <a:solidFill>
                <a:srgbClr val="000000"/>
              </a:solidFill>
              <a:latin typeface="Verdana"/>
            </a:endParaRPr>
          </a:p>
        </p:txBody>
      </p:sp>
      <p:sp>
        <p:nvSpPr>
          <p:cNvPr id="5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и мне повесть чуд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и её мне вн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и в минуту труд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про Твою любовь.</a:t>
            </a:r>
            <a:endParaRPr b="0" lang="en-US" sz="3200" spc="-1" strike="noStrike">
              <a:solidFill>
                <a:srgbClr val="000000"/>
              </a:solidFill>
              <a:latin typeface="Verdana"/>
            </a:endParaRPr>
          </a:p>
        </p:txBody>
      </p:sp>
      <p:sp>
        <p:nvSpPr>
          <p:cNvPr id="5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8T07:17:50Z</dcterms:modified>
  <cp:revision>3</cp:revision>
  <dc:subject>Slavic hymnal Гимны веры христиан, hymn 257</dc:subject>
  <dc:title>Tell Me the Old, Old Story / Скажи мне весть благую</dc:title>
</cp:coreProperties>
</file>