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945-7DAB-4D9B-B6CD-E9D003CE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898-9551-42D8-AC70-9410C986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F80-723E-4426-B03F-DF21F7F4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E33C-E1E6-4BD5-AD8E-95BE8B9D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27A-DBA6-4D74-B3EF-02294B45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FB9-6DCC-4597-A327-26DF027F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E79-487F-4E04-A76B-45ED9870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546-64B9-41E0-85C0-65BEFEDB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2FD-DCD7-4865-A78E-A37C26E5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984-A20E-4FCA-9ACA-925B8BC2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DFB-7410-4258-A4F3-A1DAF4CE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8E41-ADE2-4753-A613-F9ADA917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6739B-3FED-424E-9B74-330A2C39A4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дрей на жизненном пути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Божию в работе мы на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бодрей на жизнен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станут нам я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полнит сердце всё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Божию научимся тв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взоры к небу возн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49Z</dcterms:modified>
  <cp:revision>12</cp:revision>
  <dc:subject>Slavic hymnal Гимны веры христиан, hymn 453</dc:subject>
  <dc:title>Мы бодрей на жизненном пути пойдём</dc:title>
</cp:coreProperties>
</file>