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F4A-3E30-45DA-9F96-322FEEF5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1AC-C2C0-4F49-AFC1-F3FDC201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E59-925E-48D6-BCF6-8E8C2347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C7B-BED5-4B9E-8AF7-06B71E35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734-94CD-4BE7-9781-51710AFD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DE3-CFC9-484E-B5E8-DFB18AB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44D-2307-42B6-97E1-9FF6903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677-50E2-4229-900D-3A6B77EA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47B-D9C4-49C3-B5D0-A7453EE4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18E-7733-4A1D-8B1A-31C69C8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2FD-A41A-4F61-8951-98BB869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8D6-C0B2-4640-A54B-C72BE05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6D7BC-A341-4284-962E-1650CBF751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моє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у чуеш Ти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єш серця мого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гіркі сльози л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що я б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слави, скарбів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щирим серцем Тебе кох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їх весняних юних д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4   Ти знаєш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ує серце моє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стах моїх немає слі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, самотній, скорблю душ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овкає мій весняний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, усім байд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душею лину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то спитає, і хто по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умна душа м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чужий вже мені зробив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, зі мною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слабнуть сили і я втом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е далека моя пу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я й далі йду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ітер стогне, буре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сердито шумить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боюсь, бо Ти Бог м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30Z</dcterms:modified>
  <cp:revision>12</cp:revision>
  <dc:subject>Slavic hymnal Гимны веры христиан, Ukrainian hymn 54</dc:subject>
  <dc:title>Ти знаєш, Боже, моє бажання</dc:title>
</cp:coreProperties>
</file>