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FAA-CCB5-41A2-A0C2-FB76D0EE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CE6-5DF6-4C91-A4B5-B6304ABE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CC5-E6DF-4BC7-8CB1-15F67061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E64-14A8-4A2D-9897-512FA932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0CD-DA03-478B-BC88-862E3713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24C-D1A0-4833-BB4E-E85D61CB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61F-AEF6-4227-A1B6-C844248E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D18-E5BC-42A6-B9A1-B8733CBC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D48-E82A-453C-9A3F-50CD1484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659-9097-4726-898E-24170065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741-C815-4593-825A-5CBAACA8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BDF-962E-4A60-850B-B8C8827F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C10D8-43FD-4C5E-B78B-25923CE5AC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hore of Jordan’s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xpectation we a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faith we see the sh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our new and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1   Недалеко, за рі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алеко, за рікою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рег вічного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ідем туди з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un in radiant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s the new Jerusal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s of praises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precious, priceless 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ікою сонц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овий Є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радісні лун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дивні, незем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saints their race have fin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ssed the Jordan with a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, too, shall cross that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y soon we’ll a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же многії свят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той берег перей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уть хвилини дорогії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кнуть нас, щоб ми 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es of death engul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beyond its deathly th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the kingdom of the bl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end of all our w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холодна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далі світ с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й Христа ― то Край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з Христом нов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7:03Z</dcterms:modified>
  <cp:revision>12</cp:revision>
  <dc:subject>Slavic hymnal Гимны веры христиан, Ukrainian hymn 91</dc:subject>
  <dc:title>On the Shores of Jordan’s River / Недалеко, за рікою</dc:title>
</cp:coreProperties>
</file>