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A54-4F35-4C2B-A4E7-F79E8C52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723-B541-4287-85B1-90533CE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E0F-27B2-483A-959B-7C02A026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AD8-4622-4F41-AB7D-64C6404A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1C8-D455-4590-AFD0-610DDB0B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698-D952-4D9C-A2C9-077D12D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27C-C637-4C75-BAD4-95DC9F27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8B9-A672-46AE-8578-CA563B3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7FE-D835-4B9C-8414-2F4650E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BBD-86C8-4ACC-8533-3FA9DDA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E57-CC3A-4852-B468-C7285DD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B17-FDAF-478B-B188-9A13749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C2AC8-E9C3-4631-9578-FACF8280F3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мы беж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видны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дали горят вен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ённые для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яются двор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близок славны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ежали о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тиг над бездной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ой любви с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нас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пред нами п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за Ним беж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Его д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емся мы с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сь святую над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д миром суе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взор наш устрем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поднятый пер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вслед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, мимо грешных м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59Z</dcterms:modified>
  <cp:revision>12</cp:revision>
  <dc:subject>Slavic hymnal Гимны веры христиан, hymn 494</dc:subject>
  <dc:title>На ристалище Христа</dc:title>
</cp:coreProperties>
</file>