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9BF-189B-44DE-8294-E64675DD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AA2-91BC-4E0D-8D46-08C1465A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374-695D-4A90-8D15-8E3CD381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2AC-C341-46F1-B732-78D0A66E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6C1-D75D-4884-890F-46A83366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57B-F1D5-4FE0-8D14-27391F73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2D9-DC28-473A-B0F6-ACE5006D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3CF-8E60-4D25-8ED0-D3524424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B8F-F52E-432D-B93A-DE5C60FE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06C-263E-4127-8B2C-B2041282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72B-74DC-456F-AF68-D44C135D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8E0-690C-41D4-B4DA-5E1B5EA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27302-7733-41D7-8BA6-146248E230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ame of Jesus is so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its music to rep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kes my joys full and comple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ecious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имя сладк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сладко мн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и радость в Нём д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Его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O how sweet th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every day the s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let all saints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worthy prais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Name of Him Whos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s all my griefs and bears a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ids all anxious fears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м сладко имя 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, мир даёт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Божией пол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O how sweet th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every day the s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let all saints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worthy prais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word of man can ever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the Name I love so w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its praises ever s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the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лов, чтоб выразить впол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ю в пламенной хв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O how sweet th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every day the s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let all saints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worthy prais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47Z</dcterms:modified>
  <cp:revision>13</cp:revision>
  <dc:subject>Slavic hymnal Гимны веры христиан, hymn 607</dc:subject>
  <dc:title>The Name of Jesus / Иисуса имя сладко мне</dc:title>
</cp:coreProperties>
</file>