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724D-611B-40BF-A80C-895E22F72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0392-03DF-4E65-A8C3-69F416261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586F-CF92-4247-942C-395CA8A8A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E8D5-B6ED-437D-92C8-45EB9D891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A3C7-A2D7-45E3-A79E-A4DC0A465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6FE2-12FF-4A8A-852C-0616A6564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0E7A-2608-42B4-82AC-059DF925C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9901-2F58-433C-81EE-74372ED1C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8D5E-5EF5-4AD3-A7F3-D35B43C08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BA9D-B15E-4641-8804-3C7131A52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B09F-AC6C-46E0-B17C-913BDEBDA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1608-A2C8-44BE-B0A3-DAE11989F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B96274-9355-4F8D-A509-44209D22A67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посвяти Иисус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Юности сил не ща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ой живою согрет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битву за правду и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ын Божий стал нам пример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ред тобой впереди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, надежду и веру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для Него посвя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4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сё посвяти Иисус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посвяти Иисус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верными вместе терп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всеоружьи Господн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битву за правду вступ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посвяти Иисус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бо войдёт в твою гру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от всезрящего Бо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йся скрывать что-нибуд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ертвуй собою в смирень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ь на тернистом пу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а святое служе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для Него посвя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посвяти Иисус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верными вместе терп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всеоружьи Господн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битву за правду вступ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посвяти для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сердце радость най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и несчастных сходил 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вечных, небесных высо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шу Свою положил 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обречённых спасти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ум, желанья и силы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для Него посвя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посвяти Иисус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верными вместе терп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всеоружьи Господн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битву за правду вступ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13:44Z</dcterms:modified>
  <cp:revision>12</cp:revision>
  <dc:subject>Slavic hymnal Гимны веры христиан, hymn 549</dc:subject>
  <dc:title>Всё посвяти Иисусу</dc:title>
</cp:coreProperties>
</file>