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5FE-7E0E-495C-9A72-3AC7A8A6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CA5-1535-4E5D-A25E-DC5A9F7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71C-AD73-4F81-B58B-5756F51D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549-A7EC-4363-9892-F9417168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C68-F3C3-415C-8D4D-8573A729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DA2-F84A-4C8F-8D40-20DE3F2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FBD-9C59-4079-AB47-5DE3CE5B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59E-C5EB-4FB2-8570-FF6567E8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A66-F061-4376-9D67-32098807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AA8-273D-4BAB-9569-B873ABFA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10A-8B49-4A9D-83F3-B322C44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C25-EE72-4937-80BB-8F1117C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E4987-B7A7-4429-9E68-E5B96F6E23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59Z</dcterms:modified>
  <cp:revision>12</cp:revision>
  <dc:subject>Slavic hymnal Гимны веры христиан, Ukrainian hymn 66</dc:subject>
  <dc:title>Чи зустрінемось з тобою</dc:title>
</cp:coreProperties>
</file>