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30E-4310-4C95-B748-FA43E09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824-3EF9-4DB3-AA5E-3829463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89E-3268-4B57-9395-8BCE168D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580-6EAD-4763-8522-3406A1B2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AAB-A674-48A4-93BB-7B11259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B61-B8F2-4353-BB45-06D95FA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AFE-2B25-4A67-84F4-7AECDE6E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FD9-BC92-4BAF-9766-04FBD79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E7D-A989-4F23-A2B7-6AF20F5C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1B2-15CE-4A77-B4AA-548FC0CC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DD8-CC7D-464B-957B-02F0456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6F1-BC82-4EE7-A7EA-E24DF71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03E3-5B9D-4E7A-A2EE-B86ABC16CD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12Z</dcterms:modified>
  <cp:revision>12</cp:revision>
  <dc:subject>Slavic hymnal Гимны веры христиан, hymn 731</dc:subject>
  <dc:title>Великий Бог, рукой Своей</dc:title>
</cp:coreProperties>
</file>