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5E9-032A-49A1-A059-B8A96F03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095-A989-4797-A88A-2B44681B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78E-708F-40C0-A392-44934FEE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E2E-D761-41A8-865D-DD7847D5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C6D-E8D7-4F4B-AD7F-0ED2BA49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4CE-8551-4DF3-BF17-E3EEBC2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374-06DB-43B9-8ED5-2B38537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640-9066-40A8-81C3-A83C6FC7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CBA-6A88-4E99-8C9A-8DC2C5B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123-7D7E-4D48-9926-B40B370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10F-0849-4E80-BC9D-8A1ED6A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238-722A-429E-847D-9AF5BC5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9067B-DBCF-48D7-84C5-04A0F22EE3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С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ы найдёт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ещет там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стоп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всю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Он примет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омоет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белит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ы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т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етёте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остный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вение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ют ярч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их там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м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Бог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43Z</dcterms:modified>
  <cp:revision>12</cp:revision>
  <dc:subject>Slavic hymnal Гимны веры христиан, hymn 352</dc:subject>
  <dc:title>Идите все на пир</dc:title>
</cp:coreProperties>
</file>