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6283-5F52-46C1-9740-00820EEC5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4DF7-2A72-4E41-B21C-B0C88F81E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0C59-980E-4802-9D4A-8F8346351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85B3-D0EB-4EF8-9E39-405E4ACA8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9B61-8C4B-4051-8E65-032761965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668D-7C27-4299-9B08-A8E9BFBD2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04AE-BDC2-45E6-8642-D32745347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31FA-2414-43EE-A2A0-5A69B0C65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4946-B7A3-4FC1-BD3B-C099A3FDB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94C5-2D0E-46A7-B70B-87F3D8CB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4FE1-FC57-469A-95C4-071FBC2F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46D2-4987-4D26-B394-CB424BC9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46FE64-255E-4C7A-B40E-01A067C7018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ины Христо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ло в жаркий б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а гото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ртвовать с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ждь небесный с н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мы побед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ьётся наше зна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жно вслед за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8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ины Христов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ины Христо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о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Его покро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победа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полки отборн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ерковь Бога 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ступает строй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Он чудно сл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 Он повел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едино в 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ере и в уче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ужестве свя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ины Христо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о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Его покро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победа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оны и кор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ют, словно лё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Христова церк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пережи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д не превозмож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бранных Христо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о слово Бож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ен Он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ины Христо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о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Его покро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победа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и, поспеш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армию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у посвят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уки и у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ен и чуд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Иисуса труд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и лю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сть Ему по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ины Христо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о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Его покро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победа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09:12Z</dcterms:modified>
  <cp:revision>13</cp:revision>
  <dc:subject>Slavic hymnal Гимны веры христиан, hymn 486</dc:subject>
  <dc:title>Воины Христовы</dc:title>
</cp:coreProperties>
</file>