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FFFE-0B18-4219-BA5D-0E4C631C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18EA-271B-4596-A2F4-48EA0E22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350F-7448-40F6-8C35-C9576C0D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587C-796D-48C6-8AFC-CB4D0072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051-7AF2-4949-BC44-E2D03B79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7CC-B5CD-40CA-9F10-493520AC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996-1F45-44AE-BE80-665FF4D5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6DC2-1414-4E36-AD35-38DFC1E3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8F1E-45F1-4867-9797-688CB6C3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1DE7-8276-40D4-87B1-46FEF58A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AE16-3C55-41DC-82FB-4FB0BE46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B250-B606-4BE0-B143-303DE0F1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7472E-2842-42B7-BDB5-AD66FA036F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Небесный, только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ержись промыслом свят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крощаешь ураг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послушен океан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деснице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ывущих по морю люд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ец Небесный, только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Ты ― Бог долин и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которые бег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и наши с давних п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егчают всякий труд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деснице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щих, едущи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Ты над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голубь, крылья простир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свет не гаснет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удрость избранным давал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деснице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тящих в воздухе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 жизнь и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людей от всяких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им разума и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радостно спеш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валенье воз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оре, в воздухе, в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6:26Z</dcterms:modified>
  <cp:revision>12</cp:revision>
  <dc:subject>Slavic hymnal Гимны веры христиан, hymn 875</dc:subject>
  <dc:title>Отец Небесный, только Ты</dc:title>
</cp:coreProperties>
</file>