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0896-2F75-4C8E-B36A-88BBC4333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1B56-119A-4EF5-922A-FFD1EA1AE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0E59-7500-411A-8CFC-B6363EA1F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8810-A368-4BA6-BE52-BC079947C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6143-4366-4C32-836B-F7FD1139C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AE53-8F00-467F-ABE3-85DCA241B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51C6-421C-4D07-B51F-CB009E526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826E-630D-416C-ACCF-5555C22DF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8242-1AED-49A5-AF8E-1079FB782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374B-843F-48A0-8E72-719E7FE6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99F9-CC6B-4E2C-894A-E22590EF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07A5-1435-4261-9E00-FE38D7E1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624B11-E990-4C52-9E29-AD73E36EE45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лю Господній д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 там Христа лю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лю я церков із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икуплених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люблю, Боже м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у церкву ― храм жив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Її боронить Дух Свят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 горя ― бурев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4   Люблю Господній ді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церкву я мол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всіх її діт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лю я церков із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люблену Тв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ажаю, брате м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віку бути в н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помогти в порі сумн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еста нести її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наю, що раз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Господа ми йде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ірю, вірю, що буд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івати перед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27:11Z</dcterms:modified>
  <cp:revision>13</cp:revision>
  <dc:subject>Slavic hymnal Гимны веры христиан, Ukrainian hymn 14</dc:subject>
  <dc:title>Люблю Господній дім</dc:title>
</cp:coreProperties>
</file>