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C53E-F9C9-4DB8-A1FE-DE0F3139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8CF-83CE-416D-BBE3-2B7FEB7D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356-EEF6-4E6C-B4E4-699A0B73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7F0A-EF4D-4B5D-B64D-BBE64FAC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404-502B-4134-A55C-D37873DA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5A45-55F6-4D87-960E-18C51E0E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BC9-F2C9-40D0-821C-95AA1F63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F579-CA48-4789-8987-F1B1FA96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F466-F8BF-493E-9686-31C019BE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EBD-F4FD-4D2A-AF9D-946A4F21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F79C-23F3-4F60-8A16-A7B51936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88E-E3F5-419F-9087-1B30B230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14044-AE2D-465D-90CC-88D5A2ACD3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а Сион, гора свя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стол где Господа сто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стремлюсь, гора род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олнце вечное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ри нет и нет нен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радость вечная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согрето светом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ная хвала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ра Сион, гора свят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ш Господь Свой лик я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м детям С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ам слезу их у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город благ — Иерусал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ся там, неумол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к песни дивной,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какая речь люд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ть не может песни 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оро, скоро я там 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на той гор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я вечно не за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ровью я спасён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8:10Z</dcterms:modified>
  <cp:revision>12</cp:revision>
  <dc:subject>Slavic hymnal Гимны веры христиан, hymn 669</dc:subject>
  <dc:title>Гора Сион, гора святая</dc:title>
</cp:coreProperties>
</file>