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285-EC86-43EA-9757-B3F824F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C8B-0842-4399-80FE-A0B565F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96E-F04B-43BD-B6A8-8A20A700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AC2-4EB7-475C-88ED-D3201976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334-D9E0-4D12-849B-437782C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7F8-D156-465A-8DC8-B2BF628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8BC-CBBE-42AF-AF00-8CF99A4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649-5367-4C4C-A412-AA68623C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AC7-3DFD-4321-900A-991E3BC9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8E1-8DCA-44BD-A0B1-D6995B4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A34-3483-4AC2-BFD4-8EAE7290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DD2-9BEB-4D20-8078-2852C52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20704-1B7C-4CCF-BE76-4EA5A80324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дух живущих ды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ссилен горды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н верой чуткой сл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голос Божьих 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а — щит от ст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верой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к на труд спе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, в битве побеж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н пламенем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ост живой воз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тель мира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волны мо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ой вдох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силенных борц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царства побе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ает власть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 нас недуг с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шает мертвец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унынья уте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х сы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грешников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квозь тень грядущи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ам нашим от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га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29Z</dcterms:modified>
  <cp:revision>12</cp:revision>
  <dc:subject>Slavic hymnal Гимны веры христиан, hymn 641</dc:subject>
  <dc:title>Вера — щит от стрел сомненья</dc:title>
</cp:coreProperties>
</file>