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A66-0DD6-4DFA-B90D-E0153395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6CB-E1D3-4F56-AE66-C305531C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188-366D-40DD-A7F7-B453982E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D21-5C9E-476E-BAA1-E533CADB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09D-64C1-4EF2-9F63-BE78CE0A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5B3-C748-4F32-9D6A-15FD7ECC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5E2-AA95-4AFD-A6CF-E083BDD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221-E7E9-438E-9F68-8323B76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A47-94D5-47BF-AAD5-C9297B17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344-D6BE-4493-ACE7-85F7386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208-4FF1-4078-877F-AB74F54C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27B-C456-44D1-81B1-C53F64BD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FF677-804D-4A37-8238-1B5939FCA9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, sweet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we forth with willing hand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soe’er to us He has appoi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ly our mission to pur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, sweetly, we will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love to mortal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rightness of the Father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here His blessing will best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kly, meek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faithfully the path H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ing wand’rers to the dear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ing sinners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12Z</dcterms:modified>
  <cp:revision>13</cp:revision>
  <dc:subject>Slavic hymnal Гимны веры христиан, hymn 553</dc:subject>
  <dc:title>Gladly Toiling for the Master / Дружно, дружно будем мы трудиться</dc:title>
</cp:coreProperties>
</file>