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35C-99AF-47D4-8EE3-FA5CE4F6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645-9FBA-46FE-8549-9A463EB0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605-200B-4E19-A5BB-BB29B26A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16D-39A6-434D-9623-0FFEF788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1ED-C700-4862-9639-527AD63D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38C-4898-405B-89BA-1D7A2DC7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C90-075F-4851-A778-911C05A5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75B-9ED9-435B-96F1-390DA311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6DC-2075-4E1D-A0CF-5416E055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503-839C-4D6F-9C17-26A400BF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D35-4989-4AC7-904B-A5BF8D77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C55-A3ED-4B48-A4B4-4F9F32D7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95663-C846-4EA9-89E7-95DCB059D0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ittle town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till we see thee 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thy deep and dreamless sl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lent star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алый город Вифл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алый город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л спокойным с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ождался но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змолвии ноч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in thy dark streets shin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verlasting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s and fears of all th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met in thee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тьму рассе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ди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Тот, Кого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 много,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morning stars,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holy bi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ises sing to God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 up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небо нас прив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царство зла с небес при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ангельская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is born of Ma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gathered all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mortals sleep, the angels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atch of wond’r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ёзды, весть о Ч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вдаль и в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песнь Тому, Кто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м дар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ilently, how sil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rous gift is giv’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od imparts to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essings of His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дар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устился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им сердцам Господ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ы в тиши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ear may hear His com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n this world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eek souls will receive Him,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r Christ enter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 и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шума,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ым ждать Его приня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ly Child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scend to us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out our sin, and enter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born in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ий Сын, нас не поки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в любв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згони и в наш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сь в сердц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ear the Christmas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glad tidings t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us, abide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Lord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о Бог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ейчас, вселися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Э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8:21Z</dcterms:modified>
  <cp:revision>11</cp:revision>
  <dc:subject>The Source, song number 393 in Russian</dc:subject>
  <dc:title>О, малый город Вифлеем / O Little Town of Bethlehem</dc:title>
</cp:coreProperties>
</file>