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19FB-B9A8-458E-A33B-3D9100A9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20BE-2F4C-45E6-9716-1B974487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4836-053B-4D34-9C85-58D0FFB8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6069-90D6-4A16-8988-6A139B14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D2D8-FD60-461B-9512-3A258003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76C-F2FA-42F9-972C-364D9D35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2AE-8CCC-4656-BA2A-A4613E17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472-1120-4C89-A841-DAAF44F1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016A-0A41-422B-84B6-296174CF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0318-5CC5-415C-B650-3F10AB4F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B59C-CFDE-4FE0-8802-8E277064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5BE-F2B6-492D-BBE1-5F79E8D9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CE4FF-E25E-4082-8E61-094F24BCCDE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чудов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паситель в перший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 мною в заповіт вступ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оєм серце наді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5   О, дивний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айшов мене в долині сліз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Він Пастир добрий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Його, я вже не св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в любв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руку простягнув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іви серця розіг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валу я Господу від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пізн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ею я любо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серце Господа прий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ливий став на вс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9:18Z</dcterms:modified>
  <cp:revision>14</cp:revision>
  <dc:subject>Slavic hymnal Гимны веры христиан, Ukrainian hymn 15</dc:subject>
  <dc:title>О, дивний день, чудовий час</dc:title>
</cp:coreProperties>
</file>