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622-677A-4869-A655-48A44E54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802-B82F-4AD4-BE0D-A38E228E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2B2-3D58-49FE-91D5-6D530035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D92-2A0E-4F9D-8EAF-8AA3229D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B8D-E371-4059-BC46-4FDD9F64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93D-4AD6-4CBA-A95B-91F4D8AB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A8A-549A-42E8-ADB7-6A272B99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352-DCCE-4462-9EE1-253A2FB7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A4C-BDCD-4760-8525-52111D5E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270-2AED-4214-A6A8-E8681C04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E42-D046-4795-9115-C54777F6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907-DE1A-451B-AA5F-5767C600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D55C8-C89D-4154-BA35-AF50607B01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Своём Христос 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знал, как Он люби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вятой много вижу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отраднее эта мне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лове Своём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вела Его с чист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несла Его за нас на кре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что любит Спасител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кже люблю Его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биваюсь я с Его пу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мой ищет овечк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гам Его я вернуться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юбовь за любовь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стану я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Его сатану отго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 грех убежит о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помню я: Христос люб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еснь прекрасная в сердце м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спою я на небе свя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во сла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вторю: как Он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покой в упованьи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к Господу с верой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 сердце его станет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 любовь Иисуса твер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44Z</dcterms:modified>
  <cp:revision>12</cp:revision>
  <dc:subject>Slavic hymnal Гимны веры христиан, hymn 601</dc:subject>
  <dc:title>В Слове Своём Христос учит меня</dc:title>
</cp:coreProperties>
</file>