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85C-580D-4B8D-A5C7-34B5F0D7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9FC-1AAD-4EAD-93EF-2909EAAB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9D5-6BFA-40AB-B1CF-8690BE33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6AE-5F92-4DF4-971C-53267110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818-CF48-41FB-9821-F31435E7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8C9-07A5-47C1-91EC-FD912151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119-F6C7-49E1-A216-ED1ACF58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1C6-7626-4F49-8272-98F5F820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C19-7E9F-407A-8E66-065D517B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FB2-8879-432D-8EB6-9282675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193-B7DC-4BA8-8788-62A7BA9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910-B8BF-4065-B42B-BD4FBC2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EBB3A-9247-43C2-8BB2-EE3C2CDC31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d me from the miry c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mighty,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You ca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world w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only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41   My Saviour,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ived, and You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rose again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opened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ld to liv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d me from the miry c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mighty,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You ca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world w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only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ived, and You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rose again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opened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ld to liv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42Z</dcterms:modified>
  <cp:revision>12</cp:revision>
  <dc:subject>The Source 3, song number 1441</dc:subject>
  <dc:title>My Saviour, Redeemer (For All You’ve Done)</dc:title>
</cp:coreProperties>
</file>