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0D85-39AF-43C2-9163-A39C0CA9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8311-1A56-4468-B417-D196DF0A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050-B142-47AD-A67B-9644D34E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6D9-880B-4EF4-B5B4-37EDF499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EF4-6F00-4DD8-9188-501D046F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07A4-50E5-47E2-A3A8-23198E05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2E5-9C3D-4A24-A255-513E47C2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C92D-735C-4DD0-8DF0-55EF1E49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DE9-3557-41DF-8D18-666D9503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F252-80DC-4417-BA34-8DD5749E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3C97-AEED-412A-AF34-57C03C35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E144-C65D-4630-8F21-0EFB17B3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E3E91-CF90-4842-8607-48D0E8F9D6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лось чудо воскре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ц пали стражи, видя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дрожала в те мгновень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Христа во гробе,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 Он людям двери 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ерти власть побежде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знеслася весть благ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Нам жизнь да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ершилось чуд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и сегодня разда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из уст народа л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светлым куполом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Воскресни,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ши души о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будут все сердца гот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заве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Христос Воскрес», как эхо гр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в пустыне и в го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ся с дивных мест С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зывается в серд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 для всюду сущ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мрачных тюрем, рудни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ех, Его к себе зовущ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спасенье от 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Божественною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и Он наши иску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прощающей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Царство вечное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этот день, друзья и бра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достный призыв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ем с радостью объят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истину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19:07Z</dcterms:modified>
  <cp:revision>14</cp:revision>
  <dc:subject>Slavic hymnal Гимны веры христиан, hymn 286</dc:subject>
  <dc:title>Свершилось чудо воскресенья</dc:title>
</cp:coreProperties>
</file>