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5</a:t>
            </a:r>
            <a:r>
              <a:rPr b="1" lang="ru-RU" sz="3600" spc="-1" strike="noStrike">
                <a:solidFill>
                  <a:srgbClr val="ffffff"/>
                </a:solidFill>
                <a:latin typeface="Verdana"/>
              </a:rPr>
              <a:t>	</a:t>
            </a:r>
            <a:r>
              <a:rPr b="1" lang="ru-RU" sz="3600" spc="-1" strike="noStrike">
                <a:solidFill>
                  <a:srgbClr val="ffffff"/>
                </a:solidFill>
                <a:latin typeface="Verdana"/>
              </a:rPr>
              <a:t>Благость Господняя</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Merciful God of omnipotent pow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a lost sinner, am coming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ve heard Thy Word—in this accepted ho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o Thee I come, Lord, with my earnest plea.</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ть Господняя, вечная с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ик усталый иду я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спасенья мой дух пробуди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обуждённый, склоняюсь в мол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Fortune I sought—dealt in shady transact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ght I could find Thee amid vanit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came a change: I experienced react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in my darkness, terror took hold of me.</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частье искал я в делах бесполез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 хотел я найти в су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ред собою увидел я безд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страшился в ночной темно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Thou, in Thy mercy, on me had compass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alvation’s pathway did Thou show to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eholding Jesus, His love and His pass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for salvation am coming to Thee.</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о, Милосердный! в Своём сострад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ко спасенью Ты мне указ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святое к молитве жел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д Тобою я с нею предст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I bow before Thee in deepest contri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y sins forgive, help me start life ane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come to Thee, Lord, oh, grant me remiss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crease my faith daily, Lord, keep me true.</a:t>
            </a:r>
            <a:endParaRPr b="0" lang="en-US" sz="28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адаю в горьком души сокру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прегрешений забвенью пре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вши прощенье, как дар искуп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Спаситель, мой дух утверждай.</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17:15Z</dcterms:modified>
  <cp:revision>4</cp:revision>
  <dc:subject>Slavic hymnal Гимны веры христиан, hymn 145</dc:subject>
  <dc:title>Merciful God / Благость Господняя, вечная сила!</dc:title>
</cp:coreProperties>
</file>