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a:t>
            </a:r>
            <a:r>
              <a:rPr b="1" lang="ru-RU" sz="3600" spc="-1" strike="noStrike">
                <a:solidFill>
                  <a:srgbClr val="ffffff"/>
                </a:solidFill>
                <a:latin typeface="Verdana"/>
              </a:rPr>
              <a:t>	</a:t>
            </a:r>
            <a:r>
              <a:rPr b="1" lang="ru-RU" sz="3600" spc="-1" strike="noStrike">
                <a:solidFill>
                  <a:srgbClr val="ffffff"/>
                </a:solidFill>
                <a:latin typeface="Verdana"/>
              </a:rPr>
              <a:t>Вот настал молитвы час</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т, настал молитвы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верою прине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и страх, что муча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жим их пред Цар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дано давно позн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ет Он нас при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оё благослов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полноте всем нам да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ый час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ный час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с священного общ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так сладостно бы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от, настал молитвы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им: «Вечный наш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Ты повей на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Твоих все мы н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ю нам в уста вдох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и воспламе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укой любви и мир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с сердца осен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ый час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ный час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с священного общ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так сладостно быт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от, настал молитвы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их и скромен наш 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ша к душе меж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ьнёт в общеньи свя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разлей по всем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пошли с неба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еперь подобье неб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сделай в них Сам!»</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ый час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ный час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с священного общ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так сладостно быть.</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4T11:02:34Z</dcterms:modified>
  <cp:revision>3</cp:revision>
  <dc:subject>Slavic hymnal Гимны веры христиан, hymn 6</dc:subject>
  <dc:title>Вот настал молитвы час</dc:title>
</cp:coreProperties>
</file>