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9F7-744C-4F00-9FBA-00888A12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CF2-8F84-4C11-9246-A171EC0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E00-9E00-4F5D-A1F0-E7C9789E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8B5-2C22-44D6-88CC-4B78745A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A9E-F60D-41F6-99A2-83A00E27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BC0-E6F8-4983-9446-29CD883C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FCC-0E4F-4CE0-8C3F-8EFE1984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217-C750-44A1-92D8-1C11AA4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353-323D-40EF-B923-A38FA0B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670-77A3-435D-A356-FE2656E9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EC3-4A40-41B0-8024-E0F1607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47E-AF22-4084-9426-527B434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44A7-AD36-461A-9A1B-D475BC4D44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веты не 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и в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, 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за Ним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пойду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, утеш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и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30Z</dcterms:modified>
  <cp:revision>13</cp:revision>
  <dc:subject>Slavic hymnal Гимны веры христиан, hymn 842</dc:subject>
  <dc:title>Вслед за Христом хочу идти</dc:title>
</cp:coreProperties>
</file>