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996-5F78-48F2-A14B-E1714DF7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E4F-687D-4AB9-8160-D440F0C9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1B5-3487-4BD7-86A7-8E80534C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4A6-9793-485A-AC06-279D0C03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74A-5F8D-4AF6-9CC8-18ABC136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6FA-5CA4-449C-AF46-EB6BD093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ADC-7819-4E57-85DA-6F9E326C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72E-B3FE-463F-BC9A-A4E4C319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0A1-3406-4DED-BE89-DE291EC5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EDF-2B78-4BE2-9E66-CAE50FC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96C-2ACB-4A2A-90F4-3621BA81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960-EC79-438B-8428-BECDE49F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3970F-34B0-4D98-9960-77D703AC8F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all ye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and triumph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ye, O come ye to Bethle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e King of ang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Младе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Младе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с весел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скорее к Нему в Вифле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го твор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choirs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n exul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ing, all ye bright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’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God, All glory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хоры, пойте с ликова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силы, звучит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о веки, слава в вышних Б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Lord, we gree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is happy mor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to Thee be all glory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 of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n flesh app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е, с моли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Тебе прихо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честь и славу от сердца 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 явилось во пл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9:34Z</dcterms:modified>
  <cp:revision>14</cp:revision>
  <dc:subject>Slavic hymnal Гимны веры христиан, hymn 242</dc:subject>
  <dc:title>O Come, All Ye Faithful (Adeste Fidelis) / Придите к Младенцу, верные с весельем</dc:title>
</cp:coreProperties>
</file>