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C25-4881-4D26-8FC4-1684EA1E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B86-9D93-4E62-956C-18858ED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FED-82DC-4D8A-A57A-05811F82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958-E292-4734-98C7-19C9AD0D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D1B-F64A-4C4D-9D3E-9B24628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98E-C8C0-4B2B-9A06-899369DD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F0D-A6A2-4216-BA12-C9B126BC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004-3532-4028-8813-72116F65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254-4EA2-4FB3-903B-ED18C4C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C19-BAD7-43F6-B746-C941875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983-2752-4A2D-B70A-D7B9185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2CE-2E1D-4D1F-AD84-9F25F67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DC1B-42C2-4DDF-A2FB-242400B5CC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припал я к груди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 нашёл я, там мо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пко люблю я, Иис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 же дружбы нет, как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состраданья, миром све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Твоё я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остишь мне, если споткн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ешенье; гимн мой —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— Друг не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Тебе Сам сделай дух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 сердцем, ум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смирился: будь мне Цар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, вечно Ты —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ль смерти духом я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48Z</dcterms:modified>
  <cp:revision>12</cp:revision>
  <dc:subject>Slavic hymnal Гимны веры христиан, hymn 785</dc:subject>
  <dc:title>Крепко люблю я, Иисус, Тебя</dc:title>
</cp:coreProperties>
</file>