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15AE-969C-4594-A9A3-C86921E3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ABDC-6575-4D31-BC7A-720D394E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71A7-608B-49BA-92FE-9D730263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F351-C49C-4163-A0DD-B25A7647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DF33-F50C-4ACD-B96E-F260C43E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7594-7AE8-4A21-990B-FF4F7C9D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7B56-5B97-4A2C-B5E2-3717E04A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E553-67D2-48A4-BEAA-4B500063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79A6-F3D9-497D-A422-2E04ACE6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2BB5-2210-4AB8-A280-FAF02209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2814-6519-4B4C-8764-FD788C04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BE78-C7C8-452F-A9EB-32A4DED6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8D985-07A9-401E-B174-D8BBD45A9F1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, Дух благо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приди в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а сюда при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енью дружному наст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нас петь ту песн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ют на выс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ы ангелов небе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ух Святой, Дух благод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мы ставим Авен-Ез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оселе нам по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веки будь к нам бл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храни в нас Твой з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луждали в мире э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паситель нас взыск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зарил небесн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лгофе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, мы всей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наём наш долг т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оею добро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овала нас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ак склонны заблужд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ходить с Твоих пу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е сердце, наши чув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ебя запечат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06-08T20:38:20Z</dcterms:modified>
  <cp:revision>13</cp:revision>
  <dc:subject>Slavic hymnal Гимны веры христиан, hymn 304</dc:subject>
  <dc:title>Дух Святой, Дух благодати</dc:title>
</cp:coreProperties>
</file>