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C6F-B8C2-4137-BC33-F1F430D1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97D-F862-4267-BC18-A92084E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CC6-97FF-43F2-8E3F-4CDF78C5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E53-2B0D-40A8-BCA1-9436FAA1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0F0-ADE2-476E-ADED-9C84567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6DA-9971-4B0D-9C84-128D4F9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86E-F6A1-4119-B6FB-4C80356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6F0-9B12-4AEB-B692-ABDA4F2B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327-2A8F-498F-86A5-363236B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CB0-545C-4CFE-94AB-D27192C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370-07C1-4DB9-9308-1515882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06F-71E1-44CF-A134-CAAFEAE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542ED-2595-486C-9F10-73559E7581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fill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(we wait on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 (we pray to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 into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ve Y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1:28:57Z</dcterms:modified>
  <cp:revision>12</cp:revision>
  <dc:subject>The Source 2, song number 712</dc:subject>
  <dc:title>Have Your Way</dc:title>
</cp:coreProperties>
</file>