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a:t>
            </a:r>
            <a:r>
              <a:rPr b="1" lang="ru-RU" sz="3600" spc="-1" strike="noStrike">
                <a:solidFill>
                  <a:srgbClr val="ffffff"/>
                </a:solidFill>
                <a:latin typeface="Verdana"/>
              </a:rPr>
              <a:t>	</a:t>
            </a:r>
            <a:r>
              <a:rPr b="1" lang="ru-RU" sz="3600" spc="-1" strike="noStrike">
                <a:solidFill>
                  <a:srgbClr val="ffffff"/>
                </a:solidFill>
                <a:latin typeface="Verdana"/>
              </a:rPr>
              <a:t>О Спаситель, благодат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Спаситель!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благую весть из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все слова по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слова любви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общение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в одно соеди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рати лицо Ты к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еседу в нас начн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ы открой всем нам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вои слова пос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на них падёт ро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и, любви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общение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в одно соеди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рати лицо Ты к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еседу в нас начн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а удобрит Божий Д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е сердце и наш сл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скорей произраст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шей жизни вечный пл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общение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в одно соеди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рати лицо Ты к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еседу в нас начни.</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4T11:01:46Z</dcterms:modified>
  <cp:revision>3</cp:revision>
  <dc:subject>Slavic hymnal Гимны веры христиан, hymn 4</dc:subject>
  <dc:title>О Спаситель, благодать</dc:title>
</cp:coreProperties>
</file>