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7F5-EF3D-469B-940F-FF08EDD6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1DA-55D8-4FB3-AD83-42D217A8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58C-AC9D-4ACB-BD0D-EEE302C0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8DA-B77B-4E68-97D4-B821706F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C72-6326-4B28-BFBA-A12D6335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79F-13E7-4997-9EA0-E9216AAA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48D-B81B-4EE0-800B-08DA14F7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30E-E104-4A80-806E-A35EFB8A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00F-E512-4626-851C-C81FBA56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99A-3BF7-4A4D-A1A9-25B0C8A1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59A-E7FC-476D-972B-F100B04D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FEF4-A67E-4B0E-BD12-09C46E6A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E1044-7A76-4561-92A4-C250108D02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у Иордана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ижу чрез стру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анаански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умы все м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ю у Иордана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поля вдали г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ый вечный д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ожий Сын в любви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в ночи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могу в тот край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светлеть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лик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а, чтоб мир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чистою надеждой пол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 бежать отс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страшен гул шумящих вол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достичь я цел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5:31Z</dcterms:modified>
  <cp:revision>12</cp:revision>
  <dc:subject>Slavic hymnal Гимны веры христиан, hymn 677</dc:subject>
  <dc:title>Стою у Иордана я</dc:title>
</cp:coreProperties>
</file>