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4032-7E1E-4C2A-AE3D-B882EACC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2A21-7739-4F7A-8BA4-A50C0DAB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612-20FA-4562-A45D-26E76B9C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98C-35C3-40FE-A990-FCF518D0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35E-A2AC-4A61-BC8A-257B426B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0B29-57C3-48F3-81AA-8C033D6D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789C-E6C1-4041-84E9-B020E4C4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07E6-B228-4DEC-A886-2A925C99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733-58B4-4FC8-A939-8196B48F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8EF-2DC9-4ED5-870E-925F7378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287-E896-4BC5-AB66-B7B96C35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4685-D033-4974-A0EF-BE0BE6F8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98D4E-AC42-4785-AB5B-4DACDE3BD6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снит ли враг со всех сторо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мраком путь твой окруж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ой силой облеч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шь побе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еснит ли вр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еет небо над глав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предавшись всей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 сомненья не вним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ись и упов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й опоры ты лиш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ь душою удруч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певших Бог благосло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ыше надел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ся ль скоро гнёт н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горечи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ова обод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, укреп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о путь земной пр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в небесный свет в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хваленье при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5:52Z</dcterms:modified>
  <cp:revision>12</cp:revision>
  <dc:subject>Slavic hymnal Гимны веры христиан, hymn 481</dc:subject>
  <dc:title>Теснит ли враг</dc:title>
</cp:coreProperties>
</file>