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E747-067F-40BB-813D-F9AA92F8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2DA8-CFAC-4C50-93BA-F04708CC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EC58-2197-4E49-9D80-AC0494D6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EF12-DCDA-46B1-A2A4-7C659DC84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4359-C6C0-486C-9512-EAD0156F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1463-BBB8-4966-9E8F-30C1C8CB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B6DF-876D-4481-AE34-73119BF7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64DE-8857-464E-BF17-137DE246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43F7-BCE0-47AA-BA20-E0995F13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3BC5-8966-45A0-A605-CC11578F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1FF3-CE32-49CB-8DB0-29BD723A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8499-9EFE-40B9-9F16-78211A77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BBE45-2324-459A-A3BA-04544FBE5D4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ill, still with Thee, when purple mo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eaket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e bird waketh, and the shadows fl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airer than morning, lovelier than dayli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awns the sweet consciousness, I am with Th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Тобой,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й, Господь, люблю бы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рассвет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ходит ночь, проснулся шум днев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лучше дня и мягче ночи лет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нанье сладкое, что Ты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one with Thee, amid the mystic shadow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solemn hush of nature newly bor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one with Thee in breathless ador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calm dew and freshness of the mo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едине с Тобой вникаю в тай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 рук Твоих и вечного доб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едине я вижу лик Твой сла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яньи рос и в свежести у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ill, still with Thee, as to each newborn morn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fresh and solemn splendour still is giv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 does this blessèd consciousness, awa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eath each day nearness unto Th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ea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, измучившись в борьбе сур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 к Тебе с вечернею мольб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ятен отдых под Твоим покр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пробудясь, приятней быть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 shall it be at last, in that bright morn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e soul waketh and life’s shadows fl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in that hour, fairer than daylight dawn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hall rise the glorious thought, I am with Th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, придёт торжественное утр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нутся все… умолкнет шум земн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снее солнца засияют чу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всегда останемся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50:54Z</dcterms:modified>
  <cp:revision>12</cp:revision>
  <dc:subject>Slavic hymnal Гимны веры христиан, hymn 821</dc:subject>
  <dc:title>Still, Still With Thee / С Тобой, Господь</dc:title>
</cp:coreProperties>
</file>