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8</a:t>
            </a:r>
            <a:r>
              <a:rPr b="1" lang="ru-RU" sz="3600" spc="-1" strike="noStrike">
                <a:solidFill>
                  <a:srgbClr val="ffffff"/>
                </a:solidFill>
                <a:latin typeface="Verdana"/>
              </a:rPr>
              <a:t>	</a:t>
            </a:r>
            <a:r>
              <a:rPr b="1" lang="ru-RU" sz="3600" spc="-1" strike="noStrike">
                <a:solidFill>
                  <a:srgbClr val="ffffff"/>
                </a:solidFill>
                <a:latin typeface="Verdana"/>
              </a:rPr>
              <a:t>О Спаситель, да пребудет</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Спаситель, да пре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о мной Твоя ру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ни движутся повсю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проходит, ночь близ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ебудь со мной, мой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 и сердце ус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ден я, кто мне помо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и ночь пребудь со мн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Жил я некогда с родны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дел радостей пото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закрылся гроб за ни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остался одино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ебудь со мной, мой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 и сердце ус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ден я, кто мне помо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и ночь пребудь со мн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олнце ясное погас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р клубится над ре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и ночь приходит быстр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есёт ли мне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ебудь со мной, мой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 и сердце ус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ден я, кто мне помо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и ночь пребудь со мн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 Господь, пребудь с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прильнуть к Твоей гр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еня в стране пок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царстве вечном проб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ебудь со мной, мой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 и сердце ус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ден я, кто мне помо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и ночь пребудь со мной.</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7T21:34:00Z</dcterms:modified>
  <cp:revision>3</cp:revision>
  <dc:subject>Slavic hymnal Гимны веры христиан, hymn 178</dc:subject>
  <dc:title>О Спаситель, да пребудет</dc:title>
</cp:coreProperties>
</file>