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2E1-177D-4722-B465-09D3001A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4E8-95EA-44EC-9985-35564B63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791-3388-43C1-B4E4-660389EA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403-6EA5-4912-A85F-55754EFA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BDC-1F0F-491F-B727-3266409A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3AE-B9A0-4B94-B5E2-4934593F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E01-BE20-4EA7-86A6-E3601379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F34-0A32-4C95-8928-5035C4F5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FB3-2EAD-4F89-A8E8-92FE5E1D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BAC-3BC3-4917-BFB6-6CBB57FB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46C-1AB5-40B0-B1EB-9D3522D3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1CE-E78E-4167-A7BE-225EB4D5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49442-3AFF-4FB1-9D09-EDF9F070D5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ебя, о Цар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е раньше я по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ал блаженства в жизни т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и бесплодно я теря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ни в сомненьях и печ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ныне мрачно протек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Тебя, о Ц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л в обмане, в заблужд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ал чего-то, сам не 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м безумном ослепл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ари, не Творца иск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с любовью бескон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л и вот, я Твой уж ве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небесах моя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 престоле Бог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Христос, мой Бог,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одесную воссе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я духом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ть с хвалой к Его черт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32Z</dcterms:modified>
  <cp:revision>13</cp:revision>
  <dc:subject>Slavic hymnal Гимны веры христиан, hymn 444</dc:subject>
  <dc:title>Зачем Тебя, о Царь вселенной</dc:title>
</cp:coreProperties>
</file>