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9E5-ADF2-4AC5-9FF8-5DAA94D5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11C-0A0A-401A-AD2D-0CCC6912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9F6-8C49-4A5C-B651-9B376D04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B3D-2745-4A7F-9CE7-0F37900C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6FC-BFDB-4AEA-866A-5768939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B2D-74FB-4CEE-91AB-B4654A3A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B5F-EABF-49E7-8462-06D22B41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EEB-E9D2-423E-AC55-CBDAF530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AB9-9CE5-4AD3-89C9-42FBBA90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66A-32B2-439E-8C21-BE405EF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4D8-4982-41EE-9FDD-0D76C8D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8D3-9C0A-48B3-9A2F-B132782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DD903-7A70-40F7-8477-5B95A4E166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1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31Z</dcterms:modified>
  <cp:revision>12</cp:revision>
  <dc:subject>The Source 4, song number 2161</dc:subject>
  <dc:title>You Are My Hiding Place (Hiding Place)</dc:title>
</cp:coreProperties>
</file>