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2BF-1E9E-4416-9407-D433EFD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03E-21F6-4606-89B2-EF6A1B2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82B-329D-4610-AC89-C647F4D3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612-D202-4CAF-9F1D-2174C837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ED9-5878-4CBA-BABE-A1C4D710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1CE-F1D8-4C40-A9BB-97BFB111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0EB-6AEB-4547-A279-88AC1E9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3E5-8256-481C-A58D-9E06BD5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1C7-1F7F-49E6-9B6D-1F5B1D7B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F9A-5EDF-4AF2-9392-A6A4535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A24-6FFE-4A99-9C9C-AD87E7F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872-783D-4314-9DD2-4E4F2E9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136BB-1941-470F-A5D5-C281324231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   Celebrat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22Z</dcterms:modified>
  <cp:revision>10</cp:revision>
  <dc:subject>The Source, song number 67</dc:subject>
  <dc:title>Celebrate Jesus</dc:title>
</cp:coreProperties>
</file>