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EA9-A527-4B77-A259-49B11F52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194-0DBB-4B8A-8FCC-B8E79C0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71A-0B0A-4B83-90DD-1809D439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61F-1BA8-412B-B833-03E0CE05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0B1-9BDF-4A34-91C2-A3014EA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09A-2448-424A-A091-7C93875C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409-30BB-4399-8D57-ED51DD72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23D-C35F-4914-99DD-962E556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658-52F1-4228-8EFE-E2B0169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AC6-5967-4744-B5C8-5FFBA57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62F-E1EA-4F0E-9E17-771A8BC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368-AB69-4A9B-89A3-05052F2F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FCB35-F778-4F40-8521-30DAD8ACA6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ее небо меня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м мой Спасител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этом мире бесследно к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не будет скорби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нее небо меня так м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но небо Божьей рук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и звёзды, и наша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ражаюсь всей красо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ю неба, прелест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влекаюсь неба твор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ю здесь скорбны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к бы манишь, друг, не печал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Богом дальше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51Z</dcterms:modified>
  <cp:revision>12</cp:revision>
  <dc:subject>Slavic hymnal Гимны веры христиан, hymn 694</dc:subject>
  <dc:title>Синее небо меня так манит</dc:title>
</cp:coreProperties>
</file>