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E12-24EB-4EC6-9512-807F4899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C46-718C-463B-BE07-FB75B960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187-7FEA-4BBB-9785-1A59CE70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DF9-1A8D-4D08-A719-D9DD8A25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ACE-3FCF-4BB8-AA3F-037F66E5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42E-8B5A-452D-9081-51AE130E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3EF-C2B1-47BB-88A7-899C849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EEB-BA88-41BB-92E4-8002B5C0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6F0-A234-47D3-80FF-47E3FC4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5BE-A560-4241-99F6-2B26138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E61-4170-4FFB-B36C-67BAA75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EE2-7B06-4C3F-84FA-65EA1E4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008F1-B688-49CD-B107-677ADB6128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prais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magn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Our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52Z</dcterms:modified>
  <cp:revision>11</cp:revision>
  <dc:subject>The Source 2, song number 916</dc:subject>
  <dc:title>O Lord, Our Lord (How Majestic Is Your Name)</dc:title>
</cp:coreProperties>
</file>