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A93-9B75-4A9D-9506-E68AB6BB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164B-7BA9-471F-AE60-419D75B2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D95-D436-40EA-83A1-5EE7FA03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5B12-9FD0-44EE-AEA1-655ECD1D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725C-7E58-4F52-BD9E-DC952415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308-4EA0-446B-9C61-7ABAC41E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417-4887-4784-9C11-EE2E388B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E6C8-BD4A-4D41-9591-3E02F9D0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59C-20E6-43EF-90B9-AC28E3B0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0659-6689-4995-9C69-0C7C49E9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0C6C-5CAA-4C87-94C3-BF94C075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2A7A-AB7A-4DFD-A146-72490009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0395D-A479-43F8-848C-F7BE7F31EDD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within my heart a mel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hispers sweet and 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not, I am with thee; peace, be sti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ll of life’s ebb and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ердце песня н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песня новая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не дал Спаситель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 тобою всюду, Я — твой щ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угайся тьмы земн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s my ev’ry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s me singing as I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s my ev’ry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s me singing as I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life was wrecked by sin and str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cord filled my life with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wept across the broken str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rred the slumb’ring chords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ю терзал грех и пор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разбитый я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Господь меня к Себе привлё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новую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s my ev’ry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s me singing as I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sting on the riches of Hi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ing ’neath His shelt’ring 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ways looking on His smiling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s why I shout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итаюсь от Его сто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лю я под Его кры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 Его не закрывает м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егда пою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s my ev’ry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s me singing as I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sometimes He leads thr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ers d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ials fall across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sometimes the path se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gh and st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His footprints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порой чрез воды Он ве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ат меня тру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стречаю длинный ряд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зде — Его сл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s my ev’ry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s me singing as I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He’s coming back to welcome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beyond the starry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wing my flight to worlds un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reign with Him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Он придёт опять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ьмёт меня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ойду я в светлый мир чуд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вать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44Z</dcterms:modified>
  <cp:revision>13</cp:revision>
  <dc:subject>Slavic hymnal Гимны веры христиан, hymn 574</dc:subject>
  <dc:title>He Keeps Me Singing / В сердце песня новая звучит</dc:title>
</cp:coreProperties>
</file>