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DAB-8A10-4994-9ADD-8C34902E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4D0-BB8A-4CF0-9261-0CED1ECD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E86-236F-4496-8981-9EB7D221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3A8-9D39-440A-8A54-323C4B4C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282-D95B-4E0F-82D4-65EB02D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63C-1CC9-4DDF-BF50-6B33F7C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5E3-9C97-44F7-915D-9F70069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BA7-E9CA-43FB-BEDF-DDABDE5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B34-0334-4FD6-A870-C19071C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E53-66F9-4E24-B078-F0D8835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C9A-0FDC-4F32-B30F-508A1B3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7DC-F7ED-466C-A13E-B62F157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3C09-E953-403A-8522-8D28C76E37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8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35Z</dcterms:modified>
  <cp:revision>12</cp:revision>
  <dc:subject>The Source 2, song number 1078</dc:subject>
  <dc:title>You Are Holy, O Lord, So Holy</dc:title>
</cp:coreProperties>
</file>