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8F18-6C8A-4184-95AE-EBA3E333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30C-D7C8-4AC5-BFE3-072B2EB5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C26-9650-4134-8544-5B97AAE0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9B4A-960A-43EB-9223-79EA253B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704-11CF-468A-B65B-BAD0047E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9BD-171B-451C-A77E-5A77C81D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26D-75EE-4407-82AE-6E15023D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266-A94F-423C-A7D4-5CB895E7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3BE3-A950-4856-A2F1-42027D49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33C-566E-4438-B321-6017F7DE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035-1FE1-4B7D-A45E-C5629A9C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CDD-F850-4D1F-8DA4-BFD618A2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252A4-FDFD-4F15-9604-3144DB4C952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words long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our walk in thi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resound with God’s own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ds of life, words of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us strength, help us cop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world where’er we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cient words will guide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67   Holy Words Long Preser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cient words, ever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ing me, changing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ave come with ope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words of our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nded down to this 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me to us through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eed the faithful words of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words long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our walk in thi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resound with God’s own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cient words, ever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ing me, changing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ave come with ope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5:08Z</dcterms:modified>
  <cp:revision>11</cp:revision>
  <dc:subject>The Source 3, song number 1267</dc:subject>
  <dc:title>Holy Words Long Preserved (Ancient Words)</dc:title>
</cp:coreProperties>
</file>