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F65-8A51-4C2D-B12E-E1A2605D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334-9E90-4EDE-9993-B5713DD2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6FA-DDA1-4048-B497-2D385BE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C49-BF69-4188-B608-669A965E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5EA-9D8C-4564-986A-996CD416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7CE-7E2E-48AB-B279-0A40396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B60-FA4A-46F1-8FBD-73EF936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433-1304-4B12-88FF-51390902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E8B-CFA8-423C-8DBB-E7E18031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8B5-8563-4EC6-AD12-1EBE4C4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00D-A898-4475-AD81-C7555AF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ABB-9614-4748-A99C-BC9D7ED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9254D-DBF1-4805-852A-BB4B5DC5B0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 not to temp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ielding is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vict’ry will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other to w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 manfully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passions subd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n evil compan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d language disd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ame hold in rev’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ake it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ghtful and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-hearte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o o’er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giveth a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faith we shall conqu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en cast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is ou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will re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00Z</dcterms:modified>
  <cp:revision>12</cp:revision>
  <dc:subject>Slavic hymnal Гимны веры христиан, hymn 859</dc:subject>
  <dc:title>Yield Not to Temptation / Твёрд будь в искушеньи</dc:title>
</cp:coreProperties>
</file>