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7A2-D72E-4722-B5E8-ACCE1FBD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A16-769E-4515-8F52-803A3F58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81F-85C4-4B30-B80B-93815D13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4A0-2A20-4CE9-9747-BD793E1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2C8-C72A-4F17-9D49-03113ACE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FA9-9446-4930-8E19-46FC899C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585-7BEC-4048-97CD-9EB6E81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21F-5A4E-4794-B9CF-AD779F4B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FE8-A19C-453B-A944-D0285628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3C0-0B3D-44C2-9815-FDBFC18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287-E293-4FB4-A4C8-A48ECE6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5E8-4D77-469C-80A6-44315D9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C25FA-8171-4966-93D4-E6A36EAABD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59Z</dcterms:modified>
  <cp:revision>12</cp:revision>
  <dc:subject>Slavic hymnal Гимны веры христиан, hymn 547</dc:subject>
  <dc:title>Всё Иисусу отдаю я</dc:title>
</cp:coreProperties>
</file>