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AEA-4170-40B0-8DE2-1FAAC443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D37-29F5-42CF-8EBF-9A1E38A4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AEA-DEC2-4BD8-BA7B-FA1E5A05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A12-7564-4BBE-8D28-39203286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4A3-2292-455E-A64C-440F6BB9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BD1-0608-4AA3-BD9D-79CDE27A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FC2-171F-4E95-B227-3CBF6062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B32-0420-4E69-B784-2AFF01E5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78E-D6C4-48BF-A4FE-AB1C8F81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7F5-2598-43F5-8F0E-2781C4F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C85-90A1-4BD9-B068-A9BAC724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413-BE37-4D96-96BB-0640A827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428C4-EAF2-41AF-8EED-5B9D924D11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мне радость даст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скорбях вз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а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я у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одном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рады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ышу я, без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и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мне радость дас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вечно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Вождём м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ньем иск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Он в сердце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 ныне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: «ото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 ты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стоте при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веки свет от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08Z</dcterms:modified>
  <cp:revision>12</cp:revision>
  <dc:subject>Slavic hymnal Гимны веры христиан, hymn 451</dc:subject>
  <dc:title>Кто мне радость даст?</dc:title>
</cp:coreProperties>
</file>