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605-042C-4E03-8B39-5E4D8C44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EFA-EF9E-48F2-AF38-70A43701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616-0CC8-4CE2-90DE-2779329D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D36-FD77-4732-BD2D-CF87D5D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14B-D51F-4FA3-9AA3-13180D64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9D2-B443-4972-ADE1-98BFE982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659-CA61-4539-ADEE-3E018AD3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E40-EF5A-4FFC-973A-92AF98A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53E-3651-4FFB-8ECD-25BFA66C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197-519C-4D15-995E-ED18A05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B74-08D7-48AD-94F8-828ED1FD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798-B9BB-4FFF-8443-D7A441A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8267-6EAA-4B5B-B354-96AD711A81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ar my faith will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empter woul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never keep my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ve is often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ust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precious in His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He saves are His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not let my soul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by Him at such a c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0:31Z</dcterms:modified>
  <cp:revision>13</cp:revision>
  <dc:subject>Slavic hymnal Гимны веры христиан, Ukrainian hymn 33</dc:subject>
  <dc:title>He Will Hold Me Fast / Коли страх мене обгорне</dc:title>
</cp:coreProperties>
</file>