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D2A-98C7-4C05-A425-284387AE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400-CB46-4762-B33D-68E516C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D01-A7EF-4B34-91F5-3056C1C3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FA6-5B88-4066-8213-754D1581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F9D-B054-4AE5-845F-DF8C34A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563-F2DA-42A9-BD7E-B2CCF7A3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4B0-4322-473A-9133-844B746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B05-57DB-4161-BB5E-B6F4F87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4DF-500F-4901-B86B-1AE3902D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DAE-1C46-4AF5-9890-0435E1B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98C-56C3-4DCF-85FA-F6DB7E4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C5D-F675-41E3-9A26-F896AEB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3E70A-7F0E-46C0-AC6D-6922B905C7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Father, stro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arm hath bound the restless w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’st the mighty ocean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own appointed limits k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! Whose voice the water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ir raging at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lkedst on the foaming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 amidst its rage didst sl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Holy Spirit! Who didst b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haos dark and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id its angry tumul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, for wild confusion,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inity of love and po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m’ly shield in danger’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rock and tempest, fire and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tect us wheresoev’r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evermore shall ris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hymns of praise from land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4:30Z</dcterms:modified>
  <cp:revision>12</cp:revision>
  <dc:subject>Slavic hymnal Гимны веры христиан, hymn 875</dc:subject>
  <dc:title>Eternal Father, Strong to Save / Отец Небесный, только Ты</dc:title>
</cp:coreProperties>
</file>