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DBB-4B32-4974-8EAF-EC9C2C9D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93F-5C24-4195-841B-02C94DC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949-3B41-4479-8358-21D2298B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B2F-F881-4AC9-BEA7-B344ACE2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710-69D5-4F8C-A61F-EB51FE0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E77-65D3-44E7-8A99-7EE53ABB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936-D1A1-47E8-B02F-859893D8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3D3-FFA1-42CC-9A9B-11A48D91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87B-A336-4300-B8D1-A7F614D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173-8B4D-4105-8314-855AA1A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A57-6177-4968-B0C4-FA99893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AD4-8C50-4A95-B6F5-31F7F76C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0491E-2903-43F0-AE1E-5800E2BA94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5:40Z</dcterms:modified>
  <cp:revision>12</cp:revision>
  <dc:subject>Slavic hymnal Гимны веры христиан, hymn 855</dc:subject>
  <dc:title>Я спасён!</dc:title>
</cp:coreProperties>
</file>