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9130-9010-4721-8449-5E3374CF3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1C52-49E4-4D91-86CA-912C12D42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91D1-BAA0-44E3-9EB9-7668D8BD7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DA53-D727-4375-9861-45C1A9924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78C8-798B-4388-B3B9-070B3BB01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B829-CF2E-4EFC-9588-11ED622D8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3264-E1EC-40EF-A0F7-406F818DF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381F-75B2-4E39-BEBE-8E3417728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7D9C-6622-42DC-A901-7DC348DA2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C879-754F-4418-8F7E-4C6E9858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C609-4E87-45E9-B397-D289553F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4D28-8335-4E96-BA6D-8569630C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847550-D874-43CD-B1F5-F59E822A4CD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ive thanks with a grateful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ive thanks to the Holy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ive thanks because He’s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Christ, His Son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now let the weak say, “I am strong”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poor say, “I am rich”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cause of what the Lord has done for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ive than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18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Give Than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8:14:59Z</dcterms:modified>
  <cp:revision>9</cp:revision>
  <dc:subject>The Source, song number 118</dc:subject>
  <dc:title>Give Thanks With a Grateful Heart</dc:title>
</cp:coreProperties>
</file>