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B30E-5D08-4DDE-8F61-AA8E76A71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B4B5-A74C-47FE-908F-6C88AEA20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D262-2D07-4BD5-9AEE-BFBD5106D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9AF1-BB43-49C2-871E-3C69478F0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2338-1ACA-44F2-A89A-347175DE5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091C-954B-4FCE-BE9A-B20118941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9144-7595-4914-B26C-F0EC602D4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56EE-D708-4F18-8D4C-224F6E10D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DA9C-8222-4590-8EEF-902C0AC33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1F6D-FE09-4975-B81A-4A83B9BB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36F3-3AE7-44AF-829C-C4A715FF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792D-7D48-488E-BDA2-A59EFBAC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21DC6A-CD34-44FC-959D-C8B5B8B063C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worship be the f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mission’s fl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re going with a pa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re going for we care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nd us 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402   Let Worship Be the Fu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worship be the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mission’s a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ee the nations recogn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f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il every tribe and ton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voices Your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nd us 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hould be the praise of ev’ry tongu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hould be the joy of ev’r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Until the fullness of Your kingdom com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’til that final revelation daw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nd us 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worship be the f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mission’s fl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re going with a pa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re going for we care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nd us 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hould be the praise of ev’ry tongu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hould be the joy of ev’r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Until the fullness of Your kingdom com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’til that final revelation daw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nd us 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tribe, ev’ry tongu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creature in the heav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ea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heart, ev’ry so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 sing Your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 sing Your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note, ev’ry str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melody will be for You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harmony that fl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ev’ry ton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 sing Your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 sing Your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 sing Your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 sing Your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hould be the praise of ev’ry tongu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hould be the joy of ev’r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Until the fullness of Your kingdom com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’til that final revelation daw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nd us out, send us ou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nd us out, send us 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0-12-18T08:44:25Z</dcterms:modified>
  <cp:revision>12</cp:revision>
  <dc:subject>The Source 3, song number 1402</dc:subject>
  <dc:title>Let Worship Be the Fuel (Mission’s Flame)</dc:title>
</cp:coreProperties>
</file>