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1E5-BE55-470C-8F99-8EDF8C33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B58-8FE3-4845-BC8F-D190E6E3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895-FC3E-4EBC-BE52-A413A10E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38E-03C3-48CF-A1DF-02334420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127-2811-431D-9817-51B6E1CF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EE9-EEEC-4404-B7E2-F9E5E34F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1EF1-83FF-4FE4-82FF-14A1CA76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C33-53AE-40A2-94BB-E8E18AC5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07B-892B-4BE0-83DF-2A1D6D78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3D4-7B71-40AB-B8FD-F0EABE98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5E7-8670-4DCA-90D3-B554C3D8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3FE-D9B0-410C-A5FF-B4E53BAB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4A564-AC51-4306-A6E0-10B618EFE6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опрос ко мне, к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ответ найдёшь в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удешь ве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ие к Христу при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и греху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й небес в удел на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узкий путь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ты на друг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конец тебя там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 этот самый час по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ся ты Ему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 всем возвес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буду вечность провод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13Z</dcterms:modified>
  <cp:revision>13</cp:revision>
  <dc:subject>Slavic hymnal Гимны веры христиан, hymn 336</dc:subject>
  <dc:title>Где будешь вечность проводить?</dc:title>
</cp:coreProperties>
</file>