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119-2BF9-476E-B111-83C264F2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F4F-BBF1-4DB8-90A7-FA4D298A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F5F-7C05-441E-9EEC-A57ED55D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D3F-B3A3-4DAA-8671-E02C3E5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711-FB7B-4F0D-B52A-C85FA948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439-CD8A-404A-99DE-1C550B5E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94-46BF-4A44-863E-E6C803E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B30-DE8F-49DA-9FE6-8A044A0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8D1-D157-4783-B81B-ED11AAD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18A-5A5F-4014-B15E-76FE255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E73-5801-423F-998C-4E0CFD6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C4B-92FC-45E1-877C-0E7BFBD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F4005-BBA0-460D-8CFE-FFCCFDF3BC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on His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 tear you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precious in Hi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   Before the World 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you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to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your gift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 hearts, broken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tak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11Z</dcterms:modified>
  <cp:revision>11</cp:revision>
  <dc:subject>The Source, song number 40</dc:subject>
  <dc:title>Before the World Began (So You Would Come)</dc:title>
</cp:coreProperties>
</file>