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9F0-4D81-4D10-AEEA-74224B02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0E4-F5C2-4DB7-A897-097E4B7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2C7-8489-4F0B-B860-4CC5D578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29C-3B7B-4FF5-A341-4B0B224D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AD3-1DB5-44A1-9880-837F5DB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8C8-F98D-427B-91F7-5F207DFD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C8A-F8E2-46F8-88E5-A3CDCB9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A1B-06C3-4C2E-BB41-842492DC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E70-1F2F-45F3-8FB4-BC9AD3E3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ECE-C7AA-4701-8182-76A0C13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B8E-C2F3-460B-A007-585D760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A3C-416C-42ED-B863-5B7B633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358D2-9F70-4A38-9C02-E70A000834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done with lesser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eart and soul and mind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tarri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n the day of brothe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the night of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.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for you doth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trength unequal to her tas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and make her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the cross of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ead where His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brothers of the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8Z</dcterms:modified>
  <cp:revision>13</cp:revision>
  <dc:subject>Slavic hymnal Гимны веры христиан, hymn 524</dc:subject>
  <dc:title>Rise Up, O Men of God / Воспрянь, Христов народ!</dc:title>
</cp:coreProperties>
</file>