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42   Если б знал я, Боже правый</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Если б знал я, Боже прав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на небе любишь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нгелов, питомцев слав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хов вечной чистоты,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б то мыслью постиг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бы сердцем песнь слаг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бы сердцем Богу правд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снь слагал, да, песнь слагал.</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Если б знал я, правый Бож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Ты любишь только те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то на образ Твой похож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кого не тронул грех,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б то мыслью постиг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бы сердцем песнь слаг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бы сердцем Богу правд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снь слагал, да, песнь слагал.</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Но когда я слышу пов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Ты любишь и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то грешил, поправши сов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раз Твой в себе казня,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могу я постиг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хочу я песнь слаг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у любви хочу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снь слагать, да, песнь слагать.</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2T22:53:31Z</dcterms:modified>
  <cp:revision>5</cp:revision>
  <dc:subject>Slavic hymnal Гимны веры христиан, hymn 42</dc:subject>
  <dc:title>Если б знал я, Боже правый</dc:title>
</cp:coreProperties>
</file>