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E7F9-9A0B-47AF-B1AC-3B02E531A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47E7-2D5A-4D29-ABE4-56EFFCC5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8F3A-AEFE-4AB6-9014-FBB8482F3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C6AB-86AF-48BE-8BD6-9D93C9966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2C9C-FF23-4884-AF5F-402D3E3B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FE43-0AB2-4BE2-9B7F-558F70AC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2F2F-4E5D-4530-BFBA-82169B60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FE58-61D0-4781-A3AD-22F7BA37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6112-7A8F-44E4-B54A-2EE4CED3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57D4-CE32-4D3D-9DC1-B0CAA915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811B-22F0-4FEF-AB59-B5141FC1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90C9-AB41-4B8B-B418-0FB2611F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436BB-46C8-4630-AE3E-7FC42F95CF0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горит ли свет т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душою смерт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евая светочем ночную тен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дует она за ним стезёю светл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овершенный Божий ден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рат, горит ли свет тв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рат, горит ли свет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ол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еваешь ты власть ть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рака проч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шь ли ты грядущий сла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Госпо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я весь день и ноч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горит душа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нём небес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авая грешникам во тьме усну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ешь ли ты 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край чуд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азав им верный пу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рат, горит ли свет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ол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еваешь ты власть ть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рака проч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шь ли ты грядущий сла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Госпо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я весь день и ноч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горит алтарь т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раме непрестан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пусть тво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к Богу льн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горит свети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ы постоян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солнце не вз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рат, горит ли свет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ол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еваешь ты власть ть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рака проч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шь ли ты грядущий сла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Госпо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я весь день и ноч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0:55Z</dcterms:modified>
  <cp:revision>13</cp:revision>
  <dc:subject>Slavic hymnal Гимны веры христиан, hymn 558</dc:subject>
  <dc:title>Брат, горит ли свет твой?</dc:title>
</cp:coreProperties>
</file>