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3BE-7DD1-4790-B322-AFBBCC4B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FA8-7A8A-4CE1-87AE-B8384CFF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1E4-7E59-4169-99C1-B395C5EA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EF5-56A4-4AA8-B360-CE1CE576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6A2-31B0-4C72-96F7-1342E982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D7C-9848-429B-910E-43A9BF14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9DD-E9E9-4E24-8BE1-C7BFD8D7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249-4806-47AA-BA1C-C0BC4FC9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A7D-F725-4AD0-BEE1-FCEAE72E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DAB-B194-4BD0-9E4F-DFAB3D3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6C0-DABF-40A1-8115-5A554723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0B2-7B02-4240-B8D2-FF64ECA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67981-204C-4AD5-9D11-47E87AE6A5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 в отчиз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ьно,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ит источник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зрачный, как стек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небесах, в отчиз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ажити чуд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лавный пир там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хор неб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дивный, чу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жизни тру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ится дух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01Z</dcterms:modified>
  <cp:revision>12</cp:revision>
  <dc:subject>Slavic hymnal Гимны веры христиан, hymn 670</dc:subject>
  <dc:title>На небесах, в отчизне</dc:title>
</cp:coreProperties>
</file>