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B50-0103-438C-A9E0-441B5A1A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B3F-3992-4B50-AE40-F48254CD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222-81D8-45D7-90D3-C9A1B12E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783-90EB-43F8-AE17-68162718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0DE-B515-49F5-AE64-26C08F6C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997-7E5F-415E-928C-23AABC83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C31-76B2-4811-9CA0-0975AD6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AD8-41A5-457D-A3C6-D0398A9D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8D0-9B24-4646-B193-3F909F24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B5F-2E14-421F-9958-F05D7B1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C1E-9042-4B84-9988-F710416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DD4-D2DE-4797-8E77-45B9B44E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AC6AD-2DEF-41B9-BDA6-39DFB23227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44Z</dcterms:modified>
  <cp:revision>12</cp:revision>
  <dc:subject>Slavic hymnal Гимны веры христиан, hymn 339</dc:subject>
  <dc:title>Грешных всех Христос зовёт</dc:title>
</cp:coreProperties>
</file>