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2</a:t>
            </a:r>
            <a:r>
              <a:rPr b="1" lang="ru-RU" sz="3600" spc="-1" strike="noStrike">
                <a:solidFill>
                  <a:srgbClr val="ffffff"/>
                </a:solidFill>
                <a:latin typeface="Verdana"/>
              </a:rPr>
              <a:t>	</a:t>
            </a:r>
            <a:r>
              <a:rPr b="1" lang="ru-RU" sz="3600" spc="-1" strike="noStrike">
                <a:solidFill>
                  <a:srgbClr val="ffffff"/>
                </a:solidFill>
                <a:latin typeface="Verdana"/>
              </a:rPr>
              <a:t>Христос, Богом посланный</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Христос, Богом посланный, вышел из храм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ед крестною смертью Свое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 глубокою скорбью простыми словам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чил Он возлюбленных друзе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Скажи нам, Учитель, последнее слов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ка ещё с нами живёш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кажи нам, Учитель, когда это буде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огда Ты судить людей придёшь?»</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Услышите всюду военные слух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сстанет народ на народ,</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будут болезни и глады, и мор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братская кровь потечё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Уменьшится вера, погаснет надежд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сердцах охладеет любов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многие люди тогда соблазнятс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твергнут Создателя миров.</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Когда же увидите мерзость во храм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о знайте, что суд при дверя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трите, чтоб вы не уснули сердцам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ержите светильники в рука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6.</a:t>
            </a:r>
            <a:r>
              <a:rPr b="0" lang="ru-RU" sz="3000" spc="-1" strike="noStrike">
                <a:solidFill>
                  <a:srgbClr val="ffffff"/>
                </a:solidFill>
                <a:latin typeface="Verdana"/>
              </a:rPr>
              <a:t>	</a:t>
            </a:r>
            <a:r>
              <a:rPr b="0" lang="ru-RU" sz="3000" spc="-1" strike="noStrike">
                <a:solidFill>
                  <a:srgbClr val="ffffff"/>
                </a:solidFill>
                <a:latin typeface="Verdana"/>
              </a:rPr>
              <a:t>И солнце померкнет, и месяц, и звёзд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А люди покинут свой труд</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скажут: «Падите, покройте нас, гор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горы на них не упадут.</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7.</a:t>
            </a:r>
            <a:r>
              <a:rPr b="0" lang="ru-RU" sz="3000" spc="-1" strike="noStrike">
                <a:solidFill>
                  <a:srgbClr val="ffffff"/>
                </a:solidFill>
                <a:latin typeface="Verdana"/>
              </a:rPr>
              <a:t>	</a:t>
            </a:r>
            <a:r>
              <a:rPr b="0" lang="ru-RU" sz="3000" spc="-1" strike="noStrike">
                <a:solidFill>
                  <a:srgbClr val="ffffff"/>
                </a:solidFill>
                <a:latin typeface="Verdana"/>
              </a:rPr>
              <a:t>Тогда придёт с неба Христос лучезарны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будет как солнце сия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А верные Богу, из праха поднявшис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ед Ним будут в радости стоя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8.</a:t>
            </a:r>
            <a:r>
              <a:rPr b="0" lang="ru-RU" sz="3000" spc="-1" strike="noStrike">
                <a:solidFill>
                  <a:srgbClr val="ffffff"/>
                </a:solidFill>
                <a:latin typeface="Verdana"/>
              </a:rPr>
              <a:t>	</a:t>
            </a:r>
            <a:r>
              <a:rPr b="0" lang="ru-RU" sz="3000" spc="-1" strike="noStrike">
                <a:solidFill>
                  <a:srgbClr val="ffffff"/>
                </a:solidFill>
                <a:latin typeface="Verdana"/>
              </a:rPr>
              <a:t>Тогда соберутся пред Ним все народ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т края до края земл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каждого дело откроется верн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ед ликом Небесного Судьи.»</a:t>
            </a:r>
            <a:endParaRPr b="0" lang="en-US" sz="30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0:03Z</dcterms:modified>
  <cp:revision>3</cp:revision>
  <dc:subject>Slavic hymnal Гимны веры христиан, hymn 262</dc:subject>
  <dc:title>Христос, Богом посланный</dc:title>
</cp:coreProperties>
</file>