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49A-3DAA-4BEB-BEFB-A059B855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6CF-7BBA-47B5-AF1F-9469BE1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02C-53DA-492E-A48C-8192063A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2A3-6C0D-4270-839C-EB13A020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40D-CB5E-4431-8E42-75553300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7D4-9249-4B85-8F4D-70E8499D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C88-3CDE-4A3D-9CE3-FA256809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CF6-14BE-4A52-BA6D-6FB010E7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8AF-E4F3-43BF-BA38-A0196412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9C1-F0A8-4F7F-B27E-1A702060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118-8EE3-499C-9718-FA830BA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358-D910-4B6D-9EBA-14DA2BF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945B6-EB12-4BE8-9FC9-C44441FA1C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fore the redee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shall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with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upon their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36   Therefore the 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shall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adness and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rrow and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fle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fore the redee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shall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with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upon their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54Z</dcterms:modified>
  <cp:revision>12</cp:revision>
  <dc:subject>The Source 3, song number 1536</dc:subject>
  <dc:title>Therefore the Redeemed</dc:title>
</cp:coreProperties>
</file>