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FCD-247A-4543-BF3B-DD59704E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09C-E734-4D84-A94A-E05FDF3D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CA7-DB1F-4DF2-BD69-418B0A60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4A8-4CA5-47A4-A9E8-B1BE5209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39E-9074-4739-BA24-19ED2A64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3D9-BC7B-4AFA-A159-7B045F4C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812-CF46-4BB8-9D14-1268C257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554-1740-447B-BC49-8693DEE2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D77-15CC-4940-9EB0-3022E6E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542-E4DA-45FC-9DA1-3C1F229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776-DF94-439D-936C-10CBCA3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EB2-F67D-44FA-ACE4-F8FBEC44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96FB1-9A92-456D-A444-807A1A931E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O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s what I love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orship You, Almight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11-23T10:08:38Z</dcterms:modified>
  <cp:revision>11</cp:revision>
  <dc:subject>The Source, song number 271</dc:subject>
  <dc:title>I Worship You, Almighty God</dc:title>
</cp:coreProperties>
</file>