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B7C2-CA60-4E32-B153-21EDE3D3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5E41-D6A1-464D-B89D-77FCAAD8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76A2-0B4D-4B3A-AE68-B0C0D45E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56BE-C7C3-4318-A549-7E5CC014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8610-45D1-4098-AFBF-16209EB2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9971-0225-459F-B05B-32C94386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6DD7-0902-404B-84A7-5724DEA6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1C2E-7FE9-4C0D-AFFB-6D89FB71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7862-793F-46CE-A515-B75B57EA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381E-2A6C-4753-A1C9-01BA0504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008E-8487-4D4F-9D1D-FC11B6FA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5C0A-1502-4677-85F3-4A2AD672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DB6F5-A7C8-4647-8C62-0DEB252F0F5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keep me nea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 precious f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 to all, a healing str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s from Calvary’s moun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   Спасе мій, тримай ме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 мій, тримай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спас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пречиста кров те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мого сці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, i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my glory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y raptured soul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при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йшов спас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маю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ічне вдово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he cross, a trembling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and mercy found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the bright and Morning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d its beams aroun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душа м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мир діст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, ясна рання з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осія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, i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my glory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y raptured soul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при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йшов спас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маю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ічне вдово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he cross! O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 its scenes befor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me walk 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shadows o’e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о, Боже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кажи увічч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міч дай, щоб я служ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бі днем і нічч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, i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my glory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y raptured soul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при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йшов спас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маю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ічне вдово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he cross I’ll watch and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ing, trusting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I reach the golden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стою і ж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іюсь і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Господь візьме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ну ос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, i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my glory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y raptured soul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при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йшов спас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маю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ічне вдово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38:17Z</dcterms:modified>
  <cp:revision>13</cp:revision>
  <dc:subject>Slavic hymnal Гимны веры христиан, Ukrainian hymn 3</dc:subject>
  <dc:title>Near the Cross / Спасе мій, тримай мене</dc:title>
</cp:coreProperties>
</file>