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73A-4DD7-404D-B1BD-7CC1AAE3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344-E2A3-4421-BA66-31B18AA2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140A-89AA-4F0D-86C1-65991653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6E2C-284C-4A83-AB59-03633A9A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A991-44AD-4964-9FF2-AF78813D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6BFC-8177-4587-A723-2D669331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0B6-D996-47C3-B02F-29727C00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D90-2130-48B0-8915-C26C70F8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797-D1C7-44D5-B4D9-8B8ED332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3C7-4B33-4B54-92A7-16F48D52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039C-F113-4391-A8CE-D0A8DA65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DBC-103E-4FD8-91A0-E56639B5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1E226-A665-4D53-8C2F-59B2334826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свод уже темн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забвенья наст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теперь Созд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в вечность от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 ты правду вспомн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 Евангельи чи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 ты плакать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риста ты не прин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освод уже темне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увы! уж будет поз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льзя уж возвра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, что в жизни раз отвергну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льзя о том прос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иги жизни там откры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кличка там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той книге не записан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Божье не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, сомненья пол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еряй напрасно 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приняв призы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ись к Отцу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1:47Z</dcterms:modified>
  <cp:revision>12</cp:revision>
  <dc:subject>Slavic hymnal Гимны веры христиан, hymn 365</dc:subject>
  <dc:title>Небосвод уже темнеет</dc:title>
</cp:coreProperties>
</file>