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786-7A29-4719-84B3-5899D875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C77-F58A-4129-807F-BE9E9A3C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AD1-205A-43F2-8687-58EB21DE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A8A-EAAC-401B-8B0E-630746B1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E27-4C0C-4205-A812-E79A0F4B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16F-41BB-4524-AB5F-9A2DBAAF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752-2882-4E16-A430-DE8024AB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418-BF38-465A-BCB2-3C2C4B4F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2E4-40F3-4DC6-8694-DF9178CD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9CA-AFD2-46E4-9811-6AA540FB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4A8-4A66-4142-A0BC-EFAF9F23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A0A-233E-4BEF-B765-F0D36FF0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9577B-AA70-4E8B-BA1E-6E7FC96AA7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ecret, in the quie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tillness You ar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ecret, in the quiet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it only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reaching for the highest go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receive the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ssing onward, pushing e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ndrance aside, out of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07Z</dcterms:modified>
  <cp:revision>10</cp:revision>
  <dc:subject>The Source, song number 233</dc:subject>
  <dc:title>In the Secret</dc:title>
</cp:coreProperties>
</file>