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0B96-0DEA-4E72-88A9-3C92462DE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407D-BC07-4370-870E-502FB2E98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9B09-E1BF-4C66-B1A9-0678A50A3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38D1-A7F6-4119-8BBA-04AAB90F4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F5ED-3189-468D-B67E-794C4D154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E148-339D-4862-893F-B5EE2A1E3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6614-0644-42EF-B9E7-99CCA0F77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ED66-8922-4697-BF28-15AEF90E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E76A-AFD7-40C3-AB92-F4712B181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4EBE-BE09-45F0-B316-B46C1070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77EA-EDE4-4993-9D45-B15B6FD0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96F4-0BFF-4BA9-AF10-DF63C615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086CEA-4649-4811-ADE3-9DB37E4BF24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mmortal, invisib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only w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light inaccessib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d from our ey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7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ессмертный, Незрим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смертный, Незрим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знающий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ий и див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нас недалё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st blessed, most glorio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Ancient of Day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mighty, victorio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great name we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енный, Сущ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зде и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всемог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лавим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resting, unha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ilent as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wanting, nor was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rulest in m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ём постоя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ихий, как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авит всел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ходит в за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justice, like mountai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gh soaring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clouds, which are fount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goodness and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справедлив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еки век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дивная мил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вляет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all, life Thou giv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both great and sma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all life Thou liv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true life of a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им и мал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блага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ирённых и вер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лаженству ве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blossom and flour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leaves on the t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ither and peris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naught changeth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цвет, наша сла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пепел и тле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янем и сохн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― без перем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eat Father of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ure Father of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ne angels ador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veiling their s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ец вечной сла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ивный во вс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р ангельский слав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чье Тво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praise we would ren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elp us to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s only the splend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light hideth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лышь нас, Предвеч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й нам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м свете ходить, ч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рывае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16:27Z</dcterms:modified>
  <cp:revision>12</cp:revision>
  <dc:subject>Slavic hymnal Гимны веры христиан, hymn 878</dc:subject>
  <dc:title>Immortal, Invisible, God Only Wise / Бессмертный, Незримый</dc:title>
</cp:coreProperties>
</file>