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FC9-9F47-4373-B22E-A832BF82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238-A06E-4060-93C1-5D60FCE3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E03-FEC8-4409-AC9A-0525CFB0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78E-F9CF-4095-91DA-DA194559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CEB-6C25-45C8-9BE4-56C8DBB3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BBA-B3CD-4CF5-B5F2-A16FEB58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837-14CB-4D56-B4D3-CE52C414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40B-5A66-4754-B9B7-3F1A59D1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28D2-E5A2-4FDA-B413-50F3E98B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589-9E54-4D1F-8523-7083D043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DBD-815F-4381-A71E-FD3644C4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273-AD37-4D55-B33C-697D0911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31819-A2B1-4A93-A498-95B106E81D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склонялись н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солнечным луч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нецы, народ счастли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каждый со сно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ой глядел уны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дома сво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аб, к труду нет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ела Твоег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склонялись н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 ночи путник даль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к дверям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кан с водой криста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нес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освеж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утник вдаль у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ноп позолоч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х дверях на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огу со слез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он: «Сноп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ёс я, но не м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язан,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во имя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жему я 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утро у п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п этот увидал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уте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он: «За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упок в награ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лен сноп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кто, стра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силах жать в пол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скорбным пом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т свой сноп в дверя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3:29Z</dcterms:modified>
  <cp:revision>12</cp:revision>
  <dc:subject>Slavic hymnal Гимны веры христиан, hymn 523</dc:subject>
  <dc:title>Вдали склонялись нивы</dc:title>
</cp:coreProperties>
</file>