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1A2-081B-45E2-887E-393AB393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C00-D1BD-4B40-A308-311AA51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F73-F15A-4F34-B6A4-19AA8457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E63-4055-4E2A-B5B2-B23AD4CB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83B-193D-47DD-B4F8-60A0015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BDA-3170-4D9E-9F93-D181BEA1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063-79DC-4F3A-AB63-6AE9386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0D8-AEE9-43FC-BFA0-AC170924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212-E392-4399-876A-74001DD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31A-C68D-4C03-A465-EA8DD52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458-4D2C-4B54-B5C3-0319A16D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B23-ADC7-45D8-BACE-A9DFB21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97FF9-7505-4847-B9C4-D1E26BDFB1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thank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among the peop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praises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ong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y steadfast love is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great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faithfulness, Thy faith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clo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Give Thanks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, let Thy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48Z</dcterms:modified>
  <cp:revision>11</cp:revision>
  <dc:subject>The Source 2, song number 817</dc:subject>
  <dc:title>I Will Give Thanks to Thee (Be Exalted)</dc:title>
</cp:coreProperties>
</file>