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11A-ECA3-4D4E-96BA-8A813CB3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DA8-7F03-4D9B-971D-EB0E81A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66F-DCCA-470F-9986-3AD40B6F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18B-ACA2-4DBF-B5B2-927200CD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784-496D-459F-96DA-6BE9D08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FC4-4DCF-45B3-B826-0A70DE19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87C-F771-44A8-9085-D1E618F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0BF-E262-4685-900E-7FA8906A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1E3-BA25-428B-80E5-32D32602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313-7161-4C80-9A73-0BAA04C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9DA-77B1-499D-A15D-89F63E1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F6B-69C3-4CC0-A5DF-C0755CF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FE8D2-0645-43B0-81C3-9EF54D4F8D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, имя всех вы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имя всех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, Славны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Бог вечно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тель, вечно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40Z</dcterms:modified>
  <cp:revision>10</cp:revision>
  <dc:subject>The Source, song number 291 in Russian</dc:subject>
  <dc:title>Иисус, имя всех выше / Jesus, Name Above All Names</dc:title>
</cp:coreProperties>
</file>