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360-00BA-4ECE-A514-FEA4223E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8EB-EDC8-47A8-AD5A-A2818FAD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AAA-058F-4610-9BBD-684B6834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AD0-16A3-49E3-A634-D6422159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6BF-A1CA-4F87-9574-9178274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C1C-290E-4D94-AB30-86398C22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734-FECB-4D59-828A-7F3AB556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67F-F245-4FFC-8695-E819E700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EC3-3691-41A5-83A0-3045598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366-728D-4E93-8AF2-3054F6E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934-83C7-4347-8E56-1F7E4D7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8CA-0842-4DF9-95DF-4B445F9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B05DD-35DA-4DE2-85E7-A3DD177681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в большом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осподь и Власт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нам в нази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ы в большом собра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Его Священ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нимателен, как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полненью будь го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бочий на за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танков, маш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рудящемся на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емли родной раб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евая мир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оляр или как пл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к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детный семья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ой отяг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а, в школе, на з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лесу среди троп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оезде, в в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44Z</dcterms:modified>
  <cp:revision>12</cp:revision>
  <dc:subject>Slavic hymnal Гимны веры христиан, hymn 509</dc:subject>
  <dc:title>Если ты в большом собраньи</dc:title>
</cp:coreProperties>
</file>