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F87-7662-40D7-B2C8-68C023C6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614-39E9-4A19-8547-7E28579A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D79-9D6A-4455-8294-51014DAC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F8B-7095-4C24-A173-BAC30ECE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F5F-638D-44A2-9F27-ACF6DA5D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AD4-3339-4790-89C3-99A04B95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894-D4D1-4AF5-B9A1-13B91EF5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B33-A0BE-493E-813F-CE1642C2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6F6-9776-4285-8480-1F6546C9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102-4400-4B93-9A4A-3BD4F24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BFB-40BB-45D5-999B-7D7305AA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DEF-6251-49C9-9BDE-6A67DE5F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DF0FA-D9EC-4D21-9D9D-36B58F4506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! о ди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в первы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й моей в завет вст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сердца под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ивный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шёл в долин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пр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Он руку, я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увидел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любовь Его вос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жизни радостной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счастье,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 душу мн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ил я в любов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омыт крови стру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кавшей некогда с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4:16Z</dcterms:modified>
  <cp:revision>13</cp:revision>
  <dc:subject>Slavic hymnal Гимны веры христиан, hymn 721</dc:subject>
  <dc:title>О дивный день! о дивный час</dc:title>
</cp:coreProperties>
</file>