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F66F-C2F3-4349-8E3C-E936F9F3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F0B2-22E1-44DC-BEC8-154A2F8A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B62A-D92E-4292-932C-F7E003A7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3857-28CD-4085-91D4-794E8D23F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B3C4-DF61-4551-813D-1ED6852A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4D0D-19FA-40CC-A6C9-804AE888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8D8B-6401-49DA-ADAD-12621083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B40E-11D4-480D-B9AC-437857F8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1D5F-04BB-473F-B437-B2A48855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0EF5-9937-4B3C-8244-BA6EEB4F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93DA-9171-42F5-9B7C-381F3658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F24C-CC46-44FB-985A-FB7C0D9C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08F98-4349-4473-B12B-D69B10CBA04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огонь с небес свящ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нам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 возносим дар смир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нам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низойди к мольбам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им нас Духом Ты кр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бещал, то совер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нам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, огонь с небе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Илии, внемли молен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нам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освяти нас на служ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нам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усть Он сердце возро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овое в нас сотв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вное пусть всё с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нам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м холодным и беспеч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Ты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ги любовью бесконе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им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ражью силу попир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вято жить и умир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благодать Твою являт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нам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мелым, твёрдым быть в служ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мне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спасать, о, дай мне рв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мне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вой алтарь слагаю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всё моё, прими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й прославить лишь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мне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8:36Z</dcterms:modified>
  <cp:revision>12</cp:revision>
  <dc:subject>Slavic hymnal Гимны веры христиан, hymn 300</dc:subject>
  <dc:title>Господь, огонь с небес священный</dc:title>
</cp:coreProperties>
</file>