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EFC-C680-47BA-A5B1-7E916D59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1AB1-3863-4BD4-984B-CD9AD3A0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017-F9A9-4169-B40E-ABCC7C34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45E6-B996-4F22-964F-569DEBBE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D6B-08EB-4234-87F2-DFF8ECDA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C24-01F1-407A-9DF1-1DB8EA21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5CB-45DF-40F9-BE6E-34CAAD0B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7E79-97C4-4460-B3B9-928EF593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241-9F27-4044-AEF3-3610E0C6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B31-15CA-419D-83C2-0A75DE65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776-299B-4290-8B89-D03208C4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312-F0DC-42A8-9D9D-30821A41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7CA2F-E26E-482C-82CB-66DFC8DD14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, кто хочет без сереб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жий дар спасенья, вечного добр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лушайте, идите и спешите взя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о, что Бог всем хочет д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ь берёт, кто хо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ходи, бери, бедный друг, скор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ыне день спасенья для души тво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втра будет поздно, уж не будет зв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льше Божья благод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, кто хочет! Путь Божий пря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стинно, правдиво слово Бога к на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ё, что обещает, Он в любви да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ищий духом да прид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6:13Z</dcterms:modified>
  <cp:revision>14</cp:revision>
  <dc:subject>Slavic hymnal Гимны веры христиан, hymn 382</dc:subject>
  <dc:title>Пусть берёт, кто хочет</dc:title>
</cp:coreProperties>
</file>