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6A1-8326-4E9B-B030-EC262229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282-0923-4ECC-BC54-4D9C98CF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51D-237E-477D-B91D-911AD06C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83C9-E33B-49A9-B2AF-8A97C6B5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1458-76BB-4DB6-9F0B-C9F73CA8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955-29CD-4371-B862-62494D46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5E4-CC1E-4ACB-9D66-D1BB3298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5FE-0E67-48DB-94DD-2B1ADF8B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034-549A-4A07-9437-92EC09B7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7BD-E8C1-4521-B670-2B1074EF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039-F24D-403E-9C30-051ADDA8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F030-BFB4-4242-B5CB-C2328851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B8660-0D30-41D2-904E-B30B4AF6B8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re be glory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rais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01   Let There Be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7:36Z</dcterms:modified>
  <cp:revision>12</cp:revision>
  <dc:subject>The Source 3, song number 1401</dc:subject>
  <dc:title>Let There Be Glory and Honour and Praises</dc:title>
</cp:coreProperties>
</file>