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9C62-F566-42CB-8922-E3A283A3D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AEE6-76EE-4280-B037-302EC3FA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64D5-EF09-4738-BF5E-E8DD115D0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ADE2-3E17-4734-B39B-60E80C76E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3FEA-4359-4FF1-B059-42D3929F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586F-23C6-4D49-86CC-1B76C0C7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C313-99DA-4044-909D-00DCA8D2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8D51-6231-4F7F-9740-653229FB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0029-F3A8-45B7-8D9D-5243F5E7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0712-0703-48F3-9EAA-D2F76083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EBA2-DD1B-4AD5-B033-67088782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A961-0473-40B8-9CDD-C9A0F494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BA660-59E5-4E81-A2DF-48F7C97BADC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ead that once was crow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o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crowned with glory 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royal diadem ado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ighty victor’s b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нец терновый возложи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терновый возлож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а главу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честь и власть Ему вруч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,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ighest place that Heav’n aff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longs to Him by 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ing of kings and Lord of l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aven’s eternal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хор Ему по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салмы святых побе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Царь царей, Господь госп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ба вечны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joy of all who dwell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joy of all be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hom He manifests H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rants His Name to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и на зем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счастья —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о приблизил Он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 дал любви зак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m the cross with all its sh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ll its grace, is giv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name an everlasting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joy the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крест нести им сужде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давит скорби гн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имя славное да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радость не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suffer with their Lord bel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reign with Him ab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profit and their joy to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ystery of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страдают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жить на небес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познают они в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ивен Он и бл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 He bore is life and heal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shame and death to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people’s hope, His people’s weal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everlasting the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терновый, крест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ринял наш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ют надежду для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ли в небо вх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17Z</dcterms:modified>
  <cp:revision>13</cp:revision>
  <dc:subject>Slavic hymnal Гимны веры христиан, hymn 436</dc:subject>
  <dc:title>The Head That Once Was Crowned With Thorns / Венец терновый возложил</dc:title>
</cp:coreProperties>
</file>