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AAFC-9325-46DB-8050-3054BCA57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72B7-E4A8-49BA-B6A3-69E2F553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249C-0BC2-485F-A00C-258C629F3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EB8E-ABE6-49E0-9531-435CE0CBC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54D2-EAB7-41EF-A866-988634C0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180E-D3B3-4240-ADBF-2E31094C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2801-2B07-4EB8-9D37-986B5C26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008E-4A47-4E88-8BDA-4C72DE9A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8BE0-BA22-41BD-8546-D8A437B2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395B-4CE7-4C49-BF80-9B5FD0F7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3461-9E96-424F-AD5D-880A109F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8837-F155-47F8-82BE-57A60F6B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D616B-B094-47ED-8A74-F2CFFDC7032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an it be that I should 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 int’rest in the Saviour’s blo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ed He for me, who caused His p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e, who Him to death pursu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гу ль постичь люб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 ль постичь любовь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вет Его крови свят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е ль Он умер за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был Ему чуж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43080"/>
            <a:ext cx="96012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ld I approach th’ eternal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laim the crown, through Chr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ld I approach th’ eternal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laim the crown, through Chr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 в пути, а, нако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ст мне золотой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 в пути, а, нако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ст мне золотой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43080"/>
            <a:ext cx="96012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azing love! How can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ou, my God, shouldst die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azing love! How can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ou, my God, shouldst die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― побед зал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за меня страдал Сам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― побед зал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за меня страдал Сам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Tis mystery all: th’ Immortal d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can explore His strange desig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vain the first-born seraph 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ound the depths of love di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тайна, глубже всяких тай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винный злыми умерщвл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я согрешивших пл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цом Небесным утвержд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43080"/>
            <a:ext cx="96012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mercy all! Let earth ad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ngel minds inquire no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mercy all! Let earth ad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ngel minds inquire no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да знают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 и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да знают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 и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eft His Father’s throne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free, so infinite His gr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mptied Himself of all but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led for Adam’s helpless 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ил в небе Свой престо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к грешникам с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ничижил, смирил С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ёл на казнь, нас возлю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343080"/>
            <a:ext cx="96012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mercy all, immense and fr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, O my God, it found out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mercy all, immense and fr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, O my God, it found out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светлее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тьме греха нашла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светлее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тьме греха нашла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ng my imprisoned spirit 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st bound in sin and nature’s n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e eye diffused a quick’ning 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ke, the dungeon flamed with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ух в темнице изны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цепями скован бы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небесный свет посл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овы крепкие разб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343080"/>
            <a:ext cx="96012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chains fell off, my heart was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rose, went forth and followed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chains fell off, my heart was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rose, went forth and followed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милости я стал друг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ялся, встал, иду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милости я стал друг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ялся, встал, иду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condemnation now I drea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and all in Him, is m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ive in Him my living H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lothed in righteousness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осужденья, не страшу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за меня свершил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― мой Спаситель и Г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жизнь дают Его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19:35Z</dcterms:modified>
  <cp:revision>12</cp:revision>
  <dc:subject>Slavic hymnal Гимны веры христиан, hymn 881</dc:subject>
  <dc:title>And Can It Be That I Should Gain? / Могу ль постичь любовь Христа?</dc:title>
</cp:coreProperties>
</file>