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17E8-6020-45F1-88EF-D6A1644D7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A49C-819E-4D9D-9058-0F729A03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C794-8A23-4F28-AC0C-F32B5858F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7EBA-AC75-4AD6-82AD-CEBA11D4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3536-4550-43EC-9A77-C25FF5B8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5B15-7D90-410D-98A1-DED064D9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DFD0-C8D1-4C07-9F40-19F24329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2918-77A9-4139-AE19-8283FDDC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6C76-2C4C-4C50-B444-22E8FB68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D513-C6FF-42EB-9128-143E129E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5332-9B56-4E99-AB99-04AD5EEC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F54F-33E0-45DD-ADEF-A2D288CB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6B0FD-18C9-487D-B60C-A5CC7FFC71F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в небе край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ой Отец бла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анник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путь лежит во мг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орби лишь кру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в небе край род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олог путь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яжек жизни 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ё пройдёт, как с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т путь сверш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 Отц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где Христа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туда влеч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у лико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воспе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Его лиц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ль я стра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ж не могу роп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Сам Христос стра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 обещ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асить Он венц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2:27Z</dcterms:modified>
  <cp:revision>13</cp:revision>
  <dc:subject>Slavic hymnal Гимны веры христиан, hymn 813</dc:subject>
  <dc:title>Мой в небе край родной</dc:title>
</cp:coreProperties>
</file>