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273E-7ED6-41FA-97F3-0047A040E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4839-A90A-44CC-A857-506D50F4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079F-7321-495E-A159-9FCC3DAD2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D5B7-0196-460C-B344-E71D76A0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238D-986E-4D0C-8342-059AD909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AFB7-171B-4D50-9D6E-F2346C6B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CD63-F6ED-4554-AA5A-1AC873F5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D98C-D110-483E-922A-54814F60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5A62-401A-46CC-8E95-9268CF6B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7CA1-06F6-4B4A-BA43-29FF97D0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5A12-5274-4217-A958-A8B80CDE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9F11-C0E7-4CB6-9B7E-9C4B64CA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2D100-4ED1-4080-88A7-B664446AB9A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strength when I am w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treasure that I see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all in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You as a precious jew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to give up I’d be a foo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all in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Lamb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 is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Lamb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 is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81   You Are My Str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31:21Z</dcterms:modified>
  <cp:revision>11</cp:revision>
  <dc:subject>The Source 2, song number 1081</dc:subject>
  <dc:title>You Are My Strength When I Am Weak (You Are My All In All)</dc:title>
</cp:coreProperties>
</file>