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68E-89EC-4EE7-B875-A3BFFB36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A79-4F0C-4B96-9E9D-B2B15476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E8F-C64A-4B2E-BBA0-5F22C284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C7C-9281-4496-9C16-76A8F6F1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2B6-FD12-4CC4-B7E1-10B9337B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78A-C1F3-4093-9803-C32B87B1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E81-0055-470E-B386-FE1D8A60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D56-3144-45E0-B509-BC9B816F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576-26A3-464A-914D-446E3435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1B5-B8F0-44EB-9A85-BF3F801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FE0-435E-4D33-A68E-D102ECA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6B0-459A-4B18-886B-CC518F9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8934F-2859-4851-8EBF-9BD8BC1463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thy sins to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thy burden of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ry them deep in its wa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ou wilt find a rel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ошей греха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у её погруз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ду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s thou art to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thy sins are like crim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 as the snow they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ы покрыты в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ас омое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блечёт бели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are the words of the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repent and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are willing to trus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t His hand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 при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покайся и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жью слову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т в отверстую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be healed at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st to the peace-speaking v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 sinner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let the angels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живые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живляют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скается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ликует о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5Z</dcterms:modified>
  <cp:revision>13</cp:revision>
  <dc:subject>Slavic hymnal Гимны веры христиан, hymn 356</dc:subject>
  <dc:title>Come to the Fountain / К водам живым поспешите</dc:title>
</cp:coreProperties>
</file>