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C64-69C2-4D11-B1B4-EEDC2D73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E92-D5AD-45BC-B1DB-DC1372A1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87C-FEBE-4DA6-8E8A-F994CF06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023-08EA-40E3-A9F5-1B3C6496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8DD-01CA-4084-827E-6845680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11A-4DA6-4D7A-AC06-10BD4EEE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B2D-1F59-4218-873F-85972646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795-1F4A-418E-8F26-5ED0EB3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F8C-CE7D-465E-B55A-E63F418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3F7-7897-40FD-A490-C21D9570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B9D-7BA9-460E-864F-85DD68D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48C-BBEB-4E5B-B8C9-C83A40A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EA17-7F91-4811-AC58-06A6164367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8:26Z</dcterms:modified>
  <cp:revision>12</cp:revision>
  <dc:subject>Slavic hymnal Гимны веры христиан, hymn 826</dc:subject>
  <dc:title>Скажи, Господь, чтоб передать</dc:title>
</cp:coreProperties>
</file>