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78D-CF5B-4383-B8D0-D7E996F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AA5-2ED9-42DF-954D-54C6501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269-5FEB-437A-B66A-F012EAC5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1A9-BFBF-4FE8-92B0-95DEBBCA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E47-1838-4664-8294-4715F40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4E8-CEA2-486D-B401-14BFC490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170-CEBC-4D50-867A-5C75D04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A05-EE61-44C2-8B17-1D48E57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85D-AD29-4414-9D37-F334A1A4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2C8-0A14-4BEC-897F-C96BB83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841-3265-4B6F-A04A-856C043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06D-7564-4DF3-8FCB-39128E1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A6F02-469D-4D9D-982D-72E8E90EC5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05Z</dcterms:modified>
  <cp:revision>12</cp:revision>
  <dc:subject>Slavic hymnal Гимны веры христиан, hymn 708</dc:subject>
  <dc:title>Не оставлю Я вас</dc:title>
</cp:coreProperties>
</file>