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02A-AB10-4285-B5BD-F9AC592F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649-4D0B-4755-B3A2-55632D04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EF5-807E-45CC-A5E3-7A2DC6B8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BE5-F1F0-4923-BF08-0C2D8C06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FCC-B9DD-450F-A95C-02C14AB0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3CC-B0C0-4AC7-8FFB-5691FB14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D57-42E2-4A7C-AB0C-24CBDB1B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73A-BA94-42B8-8544-F15205EC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CEA-A901-4ED0-9F81-FEF50FE2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3E3-4D0C-4960-BCB4-F59089B8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BCE-4305-4438-9EC2-2B45B190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6A7-105D-460A-8FDA-64310C86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6B9DE-7E24-4A54-8373-56458C9510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door of salvation now stands open w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beckons; oh, what you will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out hesitation, proceed right ins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lay could be fatal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йдите, друзья,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йдите, друзья, все в отверстую две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ос Искупитель зо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мало не медля, войдите тепе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знает, что завтра нас ж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Christ as your Saviour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life everlasting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eav’n will be waiting your eternal h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say to Him: “Jesus, I co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Jesus to earth very soon may retu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usher in eter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im will all reign who His call did not spu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out Jesus, where will you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может Спаситель наш скоро при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станешь ты делать тог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асённых Он всех в Своё царство возьм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кроется дверь на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Christ as your Saviour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life everlasting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eav’n will be waiting your eternal h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say to Him: “Jesus, I co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nt now before Him: He will pardon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guilt will be all washed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body and soul by His grace He’ll rene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’s calling—receive Him to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кайся пред Ним, Он сейчас всё прост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моет пороки тво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ушу, и тело твоё обнов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медли, к Иисусу при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Christ as your Saviour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life everlasting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eav’n will be waiting your eternal h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say to Him: “Jesus, I co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29Z</dcterms:modified>
  <cp:revision>14</cp:revision>
  <dc:subject>Slavic hymnal Гимны веры христиан, hymn 333</dc:subject>
  <dc:title>The Door of Salvation Now Stands Open Wide / Войдите, друзья, все в отверстую дверь</dc:title>
</cp:coreProperties>
</file>