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1D6-2DF1-4CA2-80B3-2CCAD9B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ECB-06D9-4CB5-A55A-C78F147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E8-B15D-4FE5-B403-38C993CC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B34-2338-41BE-857E-D5FD3772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9A4-48A7-4823-98E3-6678F18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D6A-4A1E-42D1-9424-B1BA5BE8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597-FE44-4998-84B7-AA559CA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279-2BDD-47C2-928F-299FC276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97F-0EAC-4BC0-95B2-0AD21DD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97D-FACA-4CBB-A102-DDBB9C1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9DD-CAE6-4BC0-B00D-E01300A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484-D12B-48AD-8C83-DC131B20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E087A-D3E4-488A-AFC7-FF1142BFA9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наш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ш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дей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уду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зр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ердцем я просла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4:57Z</dcterms:modified>
  <cp:revision>12</cp:revision>
  <dc:subject>The Source, song number 492 in Russian</dc:subject>
  <dc:title>Вот наш Избавитель / There is a Redeemer</dc:title>
</cp:coreProperties>
</file>