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468D-4856-4FE2-859E-BC4164375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F34E-3E5D-4F00-828D-BCAE077B1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5382-BA9A-461E-BF29-37590B383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F1A6-6141-487D-8F52-4AB6185FA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D8B2-07D0-478F-8B87-955C4801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475F-B6D1-48E0-BBA0-ACA7B6BC5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FD5D-E69B-4753-9652-8D49EF29D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B7BE-B861-4AFE-ABA8-EB7847672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8E5A-E1E6-4D69-9B64-8AED7AC69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020A-72AA-4F9C-951A-EF5EAC0D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B2D1-5BCB-481E-88C9-7401DBBA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C66E-09BA-4D97-A2BC-1B511D52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94F4F7-9618-448F-8665-405475F6590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древо вознес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мой! Твой л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даньем изнур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на кресте по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ло в венце терновом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красота Тво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мольбой и жарким сло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ебе взыва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6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а древо вознесё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мой, чьим взо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грешный потрясё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удручён позор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руган, истомл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то на истяз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укою посягну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чей Твоих сия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омрачить дерзну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яд мучений цел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ытки страшный гнёт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их проступков де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их пороков пл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душою сокрушё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ю я пред Тоб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ать казни заслужё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олжен над с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руд Твой и страданье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жертва за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умер за созд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зван к жизни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нято осужд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глажена ви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частьем искуп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а моя пол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душой страд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а святую кр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ест Твой я взир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исцеляюсь вн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сть ли в мире пес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торые б мог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еть Врача болез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я зем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3:52:41Z</dcterms:modified>
  <cp:revision>12</cp:revision>
  <dc:subject>Slavic hymnal Гимны веры христиан, hymn 867</dc:subject>
  <dc:title>На древо вознесённый</dc:title>
</cp:coreProperties>
</file>