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6</a:t>
            </a:r>
            <a:r>
              <a:rPr b="1" lang="ru-RU" sz="3600" spc="-1" strike="noStrike">
                <a:solidFill>
                  <a:srgbClr val="ffffff"/>
                </a:solidFill>
                <a:latin typeface="Verdana"/>
              </a:rPr>
              <a:t>	</a:t>
            </a:r>
            <a:r>
              <a:rPr b="1" lang="ru-RU" sz="3600" spc="-1" strike="noStrike">
                <a:solidFill>
                  <a:srgbClr val="ffffff"/>
                </a:solidFill>
                <a:latin typeface="Verdana"/>
              </a:rPr>
              <a:t>Мой Иисус, Спасител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y Jesus,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Lord, there is none lik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of my days I want to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wonders of Your mighty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Иису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нет подобных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ю мою жизнь, я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величьи Твоей дивной любв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y comfort, my shel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wer of refuge and streng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Let ev’ry breath, all that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ever cease to worship You.</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приют, мой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репость и сил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мой вздох, всё, что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чно будет славить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hout to the Lord, all the earth, let us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ower and majesty, praise to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ountains bow down and the seas will ro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t the sound of Your na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скликни, земля, Господу тво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личество, сила и слава Ца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ры растают, моря зашум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т лица Тво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sing for joy at the work of Your han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ever I’ll love You, for ever I’ll st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othing compares to the promise I ha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You.</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о делах Твоих р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я я люблю, буду в вере сто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илость Твоя бесконеч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мне, Господь.</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8:10Z</dcterms:modified>
  <cp:revision>3</cp:revision>
  <dc:subject>Slavic hymnal Гимны веры христиан, chorus 56</dc:subject>
  <dc:title>My Jesus, My Saviour (Shout to the Lord) / Мой Иисус, Спаситель</dc:title>
</cp:coreProperties>
</file>