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D33-85A9-45B4-B82F-DF9E527C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DFD-333D-4DA4-8B4A-FF304DF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BAA-D9A0-43DF-AF1C-1E9760BD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8D6-4A69-4B6C-B9D5-454435AF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E6B-BB85-43F1-B8E1-EF3E9100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D9F-C81A-43CB-AC33-70CAC4F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837-7425-4C18-B36B-8FB0DA1D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981-CDCB-4981-9B38-B10F085C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3B3-35DD-452D-B525-2931BFBF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CBB-2865-4002-9771-00F0997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088-DD3F-4F65-B9FD-F9E7C45E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F3B-E5BE-4B2D-BAA2-71DD535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6EA88-616A-42ED-A8C9-430BFDC1E9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rs I spent in vanity and p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ing not my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ot it was for me He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God’s Word at last my sin I lear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trembled at the law I’d spu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guilty soul imploring 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ve giv’n to Jesus ev’ry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gladly own Him as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raptured soul can only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love that drew salvation’s pl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grace that brought it down to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mighty gulf that God did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0Z</dcterms:modified>
  <cp:revision>14</cp:revision>
  <dc:subject>Slavic hymnal Гимны веры христиан, hymn 419</dc:subject>
  <dc:title>At Calvary / Жизнь моя терялась в суете</dc:title>
</cp:coreProperties>
</file>