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40A-4087-420A-A673-3D214E8F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E68-CDF6-4E81-B576-736EA1F4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787-1139-4238-90B3-32D20C4B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575-F302-490D-8890-613F1EA8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0CA-CEFE-4089-AB3F-0D6A103C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02D-2145-489B-ADEA-AFA39FE5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7AC-8BDA-460C-9587-59EC020A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DF5-BE9F-442E-9D61-CA536CB5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C8A-64E5-4487-AA74-318EFD9F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7E0-122C-46AB-B9E8-2989B876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06C-DAA0-4DF8-A233-979CBA54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749-CBE1-4D11-BC9F-FB5A4D2D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CAAF4-571B-4AD9-803A-2F968F77D7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morning, sowing seeds of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noontide and the dewy e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for the harvest and the time of rea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й Господне с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й Господне семя с раннею зарё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й и в знойный полдень, не боясь жа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даст жатвы время, сбора урож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sunshine, sowing in the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ing neither clouds nor winter’s chilling bree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and by the harvest and the labour e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й на солнцепёке, сей в тенистом мес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напрасны будут верности тру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Господней воле день придёт чудес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ing forth with weeping, sowing for the M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loss sustained, our spirit often griev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weeping’s over He will bid us wel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плачем отправляясь на поля Христо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ом ободримся, мы там не о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чатся рыданья, день увидим нов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0Z</dcterms:modified>
  <cp:revision>14</cp:revision>
  <dc:subject>Slavic hymnal Гимны веры христиан, hymn 540</dc:subject>
  <dc:title>Bringing in the Sheaves / Сей Господне семя</dc:title>
</cp:coreProperties>
</file>