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7B8-1BAE-46D1-9D0E-FD7B4E23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082-64E2-4D70-A096-1651B588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09F-86F9-4BBD-B466-B4313DB3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298-42DD-4904-BB48-7E83F014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BEA-DE5F-494B-BEAB-007ADEC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DB9-1BF0-43E6-9C9A-7A76E2E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C24-160A-40C2-9641-D4E1A96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EF2-EF66-436C-B544-DED0866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5FA-B0E8-411B-B6D5-E27111F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506-1450-4508-85A5-76EC49F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9C4-D61B-4408-A872-69A9CB3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DD-AEAA-4537-824A-BCF74DC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1D336-2045-4E71-AF44-80E28A3E44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ove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5:33Z</dcterms:modified>
  <cp:revision>10</cp:revision>
  <dc:subject>The Source, song number 214</dc:subject>
  <dc:title>I Love You, Lord, and I Lift My Voice</dc:title>
</cp:coreProperties>
</file>