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E44A-0A78-42E3-9ABE-D0505F00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B7FA-E843-4849-828B-450EACAA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4C3C-424D-4454-9AF8-683389D8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0B52-D2CC-42A1-9561-B09B3B2A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6BCC-53FC-4F63-A15C-AAEFA79A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A2D-7410-4F6E-9E65-1488147E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114C-8027-44ED-91CE-6E98294A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05C8-596C-402F-AEB3-2302404D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4AD6-F3D4-4673-94BA-E87F9022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3D93-C152-435B-9B8E-CBD308CA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0C4-886A-411B-A729-6ACCF63A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6036-9837-42AB-AA04-40EB5AD5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DF1C1-BA50-4D49-8E24-0E69EB75092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aid aside Your majes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ave up everything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ffered at the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ose You had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ok all my guilt and sh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 died and rose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today You reig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eav’n and earth exal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0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You Laid Aside Your Majes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really want to worship You, my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won my heart and I am Y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and e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lov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only one who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ave Your life to set me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lift my voice to You in ado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9:24Z</dcterms:modified>
  <cp:revision>10</cp:revision>
  <dc:subject>The Source, song number 601</dc:subject>
  <dc:title>You Laid Aside Your Majesty (I Really Want to Worship You, My Lord)</dc:title>
</cp:coreProperties>
</file>