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653-020B-4511-8AC9-0B0563FA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6C3-F282-4172-A6C7-C498DBBE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B36-21AC-44B9-A387-7606F72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E04-9CBB-443E-B26E-1C4B04B7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9D5-A1A9-4493-AAC0-8EA07C95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98A-5CFC-4FDE-97F3-F6559CE5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7BC-09BD-4EDF-BB79-6F6BFFA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D10-88BB-44D0-B3AE-FE816D3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C58-B677-41C0-9D7D-8A3DC860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709-2FEB-41CB-A2CE-F4C7CB1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4FD-E64D-40EC-ABA0-8C1DDF3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15A-C66E-45D6-A323-2CEAA27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0831-7B1A-401A-8DE3-02CC2BB2B5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38Z</dcterms:modified>
  <cp:revision>14</cp:revision>
  <dc:subject>Slavic hymnal Гимны веры христиан, hymn 902</dc:subject>
  <dc:title>Велики и чудны дела Твои</dc:title>
</cp:coreProperties>
</file>