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7CC-0E7F-4DDF-ACAC-468D863E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171-24E8-4E14-8E02-57877555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28A-15FB-47C7-9F38-E0AE2954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BF3-43F2-4E3B-8A43-E5CB75CC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447-CFE9-4EC0-857A-8AF0226C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AD4-C62B-48EB-8DBE-762CA2F6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966-EF4C-4FFB-9FD2-802F0B10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B76-D6BE-4375-8807-E3149E2A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3F9-C19C-4C82-BEC3-B728FF5D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DBA-584F-419B-AE80-6A0E9BC9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E4B-F30F-44F8-8B84-59DE109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7E5-898E-4DBB-90E6-2CC25693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8DB40-5A33-48DE-9A4C-1538D2A878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8   Коли дух Господн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35Z</dcterms:modified>
  <cp:revision>12</cp:revision>
  <dc:subject>Slavic hymnal Гимны веры христиан, Ukrainian hymn 108</dc:subject>
  <dc:title>Коли дух Господній наповняє мене</dc:title>
</cp:coreProperties>
</file>