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463-D1AE-4678-B035-3E0BE356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A68-2A27-47A9-B114-B20CD88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27B-AE22-46B9-B197-B9494263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526-D423-4F32-82C3-37535A4B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1B8-1B35-47E3-9FA0-516D2E36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384-2D5E-474D-968B-7310D689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1DA-4AFA-40D7-AA37-F62432F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81B-0784-419D-B0AF-1FCECD76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58F-209C-4F41-A664-B9B17BEE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A7D-0501-486D-8033-20BFDAE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268-C70D-4CE2-8187-05C9C4B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27A-241F-4B1C-AAB7-E13034F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CB1D5-7257-4804-B8B9-CD8229B0F4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это слово мне ми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 оно ласки,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 на руках нас но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храняла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ты пере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горя с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ы берегла и хран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орога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ама, это слово мне м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любит, жа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к сам не ценит с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нежно леле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а ты только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ко Христу возно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помогала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 болезни взрост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нет подобной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часто дети не цен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олне всю забот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у, доброту они гу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у не жалею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, поздно будет у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и терзаться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Ваша кратка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гостя с кос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10Z</dcterms:modified>
  <cp:revision>12</cp:revision>
  <dc:subject>Slavic hymnal Гимны веры христиан, hymn 815</dc:subject>
  <dc:title>Мама, это слово мне мило</dc:title>
</cp:coreProperties>
</file>