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FFA-F05E-4028-BD54-25735CCC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13A-F676-47E3-B6C9-9AC32B6D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2FD-2704-482C-B581-31C0AD03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E30-4EAB-4C3A-987E-C5E77788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D81-1380-4FF4-90D1-4754772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E77-39E6-48F9-A4A9-02F10B90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5FF-1B18-472E-806F-A2EC5498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34F-87A1-48BF-ADF1-57AA9564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5C3-13FF-4874-80A2-1ED1AAE0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937-DC6A-49B7-9AB7-191C62D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528-3C2C-40BF-B545-29CB2CF5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131-6C2A-4AC4-929D-7190A74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9B881-04B6-4142-AE1A-F21E07BB2D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робуждения, нет по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е души блуждают в поть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ссвета везде увя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спокойствия — ужас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о Господи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заменивш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ленные ценности стали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х сокровищ и славы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т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ам придёт, если мы неради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полюбит, коль души тем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орили нечестием ни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е дочери, дети,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, Всевышний, на нас Ты в оби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возмездий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ишь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удрыми девами будет ж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аша с каждым мгн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ч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жидает нас всех впере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сцели наши уши и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окаянья в сердцах проб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каявшись, мы пока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другие сумеем заж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ся над нашим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сто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страни Твой карающий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59Z</dcterms:modified>
  <cp:revision>12</cp:revision>
  <dc:subject>Slavic hymnal Гимны веры христиан, hymn 780</dc:subject>
  <dc:title>Нет пробуждения, нет покаянья</dc:title>
</cp:coreProperties>
</file>