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53D-2560-40CB-B6A8-58A106A4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B7C-0723-47BD-AC02-33F7AF9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CBE-DE16-461A-8BFF-3159E3CD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6CE-C5F8-4564-A3C8-2130660B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DD5-197E-462A-9B72-084FA01D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FC3-A2EA-4634-AECD-712305F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F62-AAF9-4F04-AE03-399DDEEA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837-61A9-4B37-8EEB-6D32CA25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A10-9800-4D67-978D-BF873302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E2C-E232-4DF6-8AC2-06533304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94D-9584-4CD7-B506-18735A1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0A7-2E1F-4344-8756-06EF45D5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69CED-2C1F-4530-930C-F2EEF410D9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54Z</dcterms:modified>
  <cp:revision>13</cp:revision>
  <dc:subject>Slavic hymnal Гимны веры христиан, hymn 397</dc:subject>
  <dc:title>Хочет всех людей Господь благословить</dc:title>
</cp:coreProperties>
</file>