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E8E-9259-49CB-AA3D-2E0E3A8F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D54-C04B-4B13-81CF-47E4FA47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25B-1FAF-45F8-9162-FC84AF2C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8B4-3916-4529-8805-4AF573B3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EA5-709B-4AE8-ADA9-6CDE36F6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2C4-BE0F-4726-A018-402C79B3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00B-A67C-4E6F-9FAC-5479573F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62A-CA5E-4CD1-83F9-D71787B6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2DD-B578-4C60-BD8E-C4FFCD20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F91-616F-465C-AF10-034BF3A7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8A1-4E60-48CF-8947-AFC78206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737-3DAB-43A8-B7FD-8A6EA8A9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63A85-696A-4DEC-B408-6141CEF283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л я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лой сторо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ожье о ней го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от всех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 будет то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Бог сотвор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ал я о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той сторо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бури земной не д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ашен тот г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всех Божь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там никогда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ево жизни цв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д небесный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вая река там б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арфы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хвалы не мол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Бог со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той сторо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бури земной не д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ашен тот г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всех Божь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там никогда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сную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битель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конечная радост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сна не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 туда не вой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Бог со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той сторо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бури земной не д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ашен тот г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всех Божь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там никогда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5:46Z</dcterms:modified>
  <cp:revision>12</cp:revision>
  <dc:subject>Slavic hymnal Гимны веры христиан, hymn 676</dc:subject>
  <dc:title>Слышал я о стране</dc:title>
</cp:coreProperties>
</file>