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20A-A63E-4F90-9F40-619FB8F2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AFD-B932-4F59-9127-FFA0903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527-E0A4-49B2-8FA6-27461B71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C8B-8D51-484E-8FB5-D56F3CE6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E54-1E16-405C-AD07-8C41C44A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A05-2F29-4167-8B8A-3E2E2A11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0FF-72DC-4711-B15A-CFBDD7F2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329-33A7-41AD-A61A-7FB5728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AB3-02F9-4683-A622-624C93E8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895-1BF9-476A-8651-7EF1E64E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96C-ED51-4A1F-A4A4-21ABC30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2F7-49D6-4EF1-94D0-2AB3DBA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43A63-C381-4CB0-A722-D64F09D33A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повисла над городом юж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пыхнет восток голу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на земле мне не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олько Спасител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шёл меня в мире су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моей тягостны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всемогущим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ё сердце от счастья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 повисла над гор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ичего не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е прожить не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пою 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Нём отдыхае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ывают минуты лих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как море, запенится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не боюсь я сти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ядом Спасител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йный ветер над городом 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ажая деревья в с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 от Христа не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, ни за что не п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40:37Z</dcterms:modified>
  <cp:revision>12</cp:revision>
  <dc:subject>Slavic hymnal Гимны веры христиан, hymn 790</dc:subject>
  <dc:title>Ночь повисла над городом южным</dc:title>
</cp:coreProperties>
</file>