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B1E-C588-4018-8C3C-EEBADE22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70B-45ED-4C2E-8462-20DC65A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38E-A7ED-4C75-BDB6-8AB3F1C7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77A-A4B6-4308-9F35-6DD109D3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EEA-5C3F-48D2-B00E-2B1CF42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62C-F9B6-4099-B2CE-A3EC2B8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C61-5FB9-4528-9C55-49CF7840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E1B-B033-459D-946F-CA0148D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9C9-A9EB-4657-8D29-5AFD7BFE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160-0E5B-4D33-8586-2015C89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483-5177-4CD3-95C6-D493DF4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5A7-D468-4DE9-99AA-133DCBA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B945-9867-4DFC-B483-26D60C4FF4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Спаситель для моей д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Иисус, Иисус,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27:00Z</dcterms:modified>
  <cp:revision>9</cp:revision>
  <dc:subject>The Source 2, song number 732 in Russian</dc:subject>
  <dc:title>Он Спаситель для моей души / He’s the Saviour of My Soul</dc:title>
</cp:coreProperties>
</file>