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539EE-B3B0-4683-B290-B86329D04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395DB-CA31-48B5-854C-47FD72EF0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E2EEA-0C0E-4B9C-AFB7-F2A167084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E18D6-BAC9-46B0-B0FB-67E8641D8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367B1-475A-4161-B1C6-BEE4ABFCD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FBE93-A638-4CEF-93FB-3A3F1995A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09B6A-F5ED-4C2A-A6F2-0CD068614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88A4F-2B2A-4DB3-B68F-114A6F74B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839B9-F7C8-48CF-9FB8-55E6B577C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A946E-C1DC-4736-86EE-8C1BBA3B7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1059E-BD0E-4C19-A696-71BB7BB30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E63B6-6DBB-4648-85DE-08E318428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80037F-180A-47EB-A2FE-ED97F98B78EC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think of the home over the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y the side of the river of ligh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re the saints, all immortal and fai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re robed in their garments of lig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26   Насліддя моє в небесах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сліддя моє в небесах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агне й рветься туди все душ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ам спасенні, в небесних луча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ославляють свойого Творц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ver there, over the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think of the home over the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ver there, over the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think of the home over the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небесах, в небеса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сліддя моє в небесах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небесах, в небеса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сліддя моє в небесах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601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y Saviour is now over the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 my kindred and friends are at res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n away from my sorrow and ca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me fly to the land of the ble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Господь мене жде в небеса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прийме у оселю Сво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ддих мирний на травних луга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Його світлім, блаженнім ра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ver there, over the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think of the home over the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ver there, over the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think of the home over the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небесах, в небеса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сліддя моє в небесах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небесах, в небеса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сліддя моє в небесах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ll soon be at home over the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the end of my journey I se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any dear to my heart, over the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re watching and waiting for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скоро у небо під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акінчу шлях тернистий, зем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ам всіх вірних слуг Божих знайд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Дусі Божім пречистих, святи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ver there, over the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think of the home over the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ver there, over the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think of the home over the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небесах, в небеса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сліддя моє в небесах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небесах, в небеса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сліддя моє в небесах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3T06:51:51Z</dcterms:modified>
  <cp:revision>12</cp:revision>
  <dc:subject>Slavic hymnal Гимны веры христиан, Ukrainian hymn 26</dc:subject>
  <dc:title>The Home Over There / Насліддя моє в небесах!</dc:title>
</cp:coreProperties>
</file>