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AC4C-111A-4C24-81B2-4C062DEB4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2ECB-A48E-446A-BCA4-FB1EA485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37EC-866A-41D2-AE9E-DE6B6F18E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DBA7-9B86-4CA5-81C0-CCDBAA9C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ECA7-A873-44AA-AD8A-78494BD4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8090-75E0-47C5-AC7F-AFD04C8D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EFCB-B620-4F05-B554-61500E7F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49FB-EF6D-4245-9AD3-C2F3FD59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E112-51C2-48A9-B14F-4B308468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6E96-59E5-4C40-87EF-61DD988F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0B09-FADE-4BC2-9654-985BC5F6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B095-8D63-4E55-B216-99A90873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7AFA3-47E8-480D-BB17-00ED25EB5AE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Даятелю всех бла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земле и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Тебе, наш Бог жи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и Сын и Дух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вала Даятелю всех бла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11:41:29Z</dcterms:modified>
  <cp:revision>12</cp:revision>
  <dc:subject>Slavic hymnal Гимны веры христиан, hymn 818</dc:subject>
  <dc:title>Хвала Даятелю всех благ</dc:title>
</cp:coreProperties>
</file>