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E989-60D5-423A-AAF0-977FE8C11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CD92-2A1A-4547-949F-762F909F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7CA1-7F0E-4260-8F9F-593E4B358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A953-7E45-4862-BB37-E0489E035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9DCD-2F16-432C-813C-10505E70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4D82-AB07-471E-8CC6-A7A7A6AD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CB6B-6CB6-4151-ABF2-3FFB8A6D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9597-6378-462D-AE40-22269CCB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6104-B952-4C89-B70D-0B5CA771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8690-FD6B-447A-81B1-2C226494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DD82-A3F2-42B7-8DCC-6DD07BF5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1A9C-B6FF-4D32-BF14-2469F158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87E42-8C12-4734-9C8E-8F3350431F6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music fad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s stripp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simply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nging just to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mething that’s of w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will bless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7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When the Music F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bring You more than a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 song in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not what You hav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earch much deeper with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way things app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looking into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coming back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eart of worshi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t’s all about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about You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sorry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thing I’ve made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t’s all about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about You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endless wo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one could exp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uch You deser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I’m weak and p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 have is You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single bre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bring You more than a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 song in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not what You hav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earch much deeper with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way things app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looking into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coming back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eart of worshi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t’s all about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about You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sorry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thing I’ve made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t’s all about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about You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5:59:12Z</dcterms:modified>
  <cp:revision>10</cp:revision>
  <dc:subject>The Source, song number 576</dc:subject>
  <dc:title>When the Music Fades (The Heart of Worship)</dc:title>
</cp:coreProperties>
</file>