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43B-BD03-474A-B53A-0656FF67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A6A-4B45-414F-AAE9-2F7048C0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BEC-92A4-442D-AE4D-6799CA4E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E35-0727-4F43-8697-D56371FD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B9F-71DA-477E-B55A-D0AA13ED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679-BEA3-44D5-B40A-EEF9A5B3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6F8-7022-4F23-9DE1-E93BF2F0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BD2-C981-4C70-81C9-C546DF70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F6B-0699-4DCD-83C1-E88CDB44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ACD-EBA4-498F-AA0F-05BBDB8B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7CD-CAC9-48E6-AEFA-077D9090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590-B1D9-4E89-BDF2-B8D4B30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7D402-EC48-4A67-9D47-3BD480C8B4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очами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чет Он точило гн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полнил грешный 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ый меч Его свер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жает ложь и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истина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ижу я очами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герях Его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ымящихся к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и Ему воздви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ах, в глуш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истины ч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огнях и фонар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ден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звук всех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отступ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илище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язаны пред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, душа, всегда г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торжеств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Иуд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сило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еображае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, чтоб спас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мы должны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2:55Z</dcterms:modified>
  <cp:revision>12</cp:revision>
  <dc:subject>Slavic hymnal Гимны веры христиан, hymn 890</dc:subject>
  <dc:title>Вижу я очами веры</dc:title>
</cp:coreProperties>
</file>