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E6D-BAC6-4DC3-94C7-E70AACB7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985-5EBE-4A29-BDBF-C81CD00F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E81-1647-471C-8C7B-347FD965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801-1369-4DA6-B7D7-11B515E0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7F7-EE5E-4A2C-955B-FC8290B1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214-6362-4771-B82B-D5D7802D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134-8615-4B75-B91C-5158E49C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252-477D-4824-8B54-9F0E70AD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0C8-EBD0-4106-9C2D-45E80FE7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D5B-61D5-4B24-85D6-BAB7A95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EE2-8EF8-435A-B4A9-EC93492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FF9-E9CD-4F4D-899C-EDA4C26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C7B80-12A8-49D1-90FC-4EDC31228C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friends may prove un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ubts and fears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till loves and care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ый день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вет хран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sky be dark and dr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and strong the g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member He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ill not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сбивает с н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ерой успо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fe’s dark and bitter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will still preva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s everlasting pow’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not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, горький жизни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твёрдая, ч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6:49Z</dcterms:modified>
  <cp:revision>12</cp:revision>
  <dc:subject>Slavic hymnal Гимны веры христиан, hymn 898</dc:subject>
  <dc:title>Jesus Never Fails / Братья могут изменить</dc:title>
</cp:coreProperties>
</file>