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2AA-A120-412B-9F27-59E4A0A0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4C0-BECC-4121-8093-A7228A6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5B0-DFF7-4703-B43D-ADB2B645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1CC-8851-4023-9C02-A602476D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F5E-D05B-4DBD-83B1-32D1493D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225-BDF9-4BD3-AE14-476CE6D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B5A-FA71-4F51-8387-594EB2C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B87-4B2F-46A7-92E7-D059944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29E-8E95-4364-B278-4D24431B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345-B265-4005-BD2B-95AB376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9AF-2B59-43BF-B18E-B989268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22F-EF76-4D0F-8320-2759A83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F4FD-5B85-4AB3-BF79-E8DBF43C18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умом Тебя, всем помыш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ушу Тебе по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с каждым сердца бие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меня со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ю милосердную в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икогда не роп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вою многотрудную д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которых пришёл ис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пречистою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рыстной глубокой люб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33Z</dcterms:modified>
  <cp:revision>12</cp:revision>
  <dc:subject>Slavic hymnal Гимны веры христиан, hymn 474</dc:subject>
  <dc:title>Научи меня, Боже, любить</dc:title>
</cp:coreProperties>
</file>