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51A1-38B7-4ED1-B416-8F98C596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7844-7F5C-48CC-98DA-F1587B2B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F9F7-9C97-4C6F-8EDA-0AAF23D1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8CF7-DFC0-4328-B127-50715D89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00AC-0890-40F2-9B8F-DB367813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C9CD-C228-488D-9D25-D1DCE34B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DE10-8462-468D-A5BD-EB035FCB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5E42-A478-4777-9D21-B3300AC3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7D59-B0FC-453A-A3AE-9DFCCA6D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FC69-F967-4633-BC65-123752C4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A573-DD4C-441C-9558-908E5B22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7303-2F7C-4275-9731-4B04FC35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731FA-C7EE-4B7E-ABFE-F76371C2860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те с ликовань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ж скорбей непобед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щается в сия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клоняется пред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мотрите с ликовань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, венец несит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ив спасенья тр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рестол вступил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а хвал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нчали люди з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нием Христа г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и все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ют честь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гимны ликова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хор небесных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Царь мироз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Ему всё поко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6:14Z</dcterms:modified>
  <cp:revision>12</cp:revision>
  <dc:subject>Slavic hymnal Гимны веры христиан, hymn 297</dc:subject>
  <dc:title>Посмотрите с ликованьем</dc:title>
</cp:coreProperties>
</file>