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F8D-E429-48D6-BF2D-FE06C305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75C-1933-465E-928B-9773CBF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A4B-89DA-41CE-ADC1-AD3999BB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3FF-54B9-468E-A4FC-E5C2C5EB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B45-B616-4D06-95E6-CEDF0763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717-F9E9-457E-8AB1-48C5F4A3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44A-6220-440E-8F39-1EBA4011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4B2-CF7F-493B-B6C7-2D45107D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4E3-E3C3-44CB-8D14-FCA08EAC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F83-63F1-4C90-BA7A-17F77777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B49-A26C-4643-8D8B-8625321F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E2C-DAB8-4EF7-AB54-0267665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79473-6479-4110-985F-FA89396A41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пісню співаю 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колись не зн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ої гріхи з мене з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0   Солодку пісню спів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ну і дивну любов не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, що є су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тоді в душі співаю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спільність ми має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ик не роз’яс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е щастя нам є з Ни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прийди до Нього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учений та сум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ш співати в Його любв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47Z</dcterms:modified>
  <cp:revision>12</cp:revision>
  <dc:subject>Slavic hymnal Гимны веры христиан, Ukrainian hymn 90</dc:subject>
  <dc:title>Солодку пісню співаю я</dc:title>
</cp:coreProperties>
</file>