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BEB-522D-468A-A59C-2344DFEE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B1A-F0ED-4B0B-BD67-FD3A468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41D-CABD-45B0-9106-5B00019B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79D-532D-4FE0-8D51-989FC792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5BA-D61C-4851-9623-DAFF11F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1E7-CC6E-4A76-B18C-4F754D4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C07-924E-4255-8C17-B6C6B95F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EFA-B884-426E-B08F-C50814CF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6D7-B633-4DE8-9B99-5733683D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4AA-008A-4B32-B625-86E151E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290-94DE-471A-A1AE-B434B8A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6BB-DB5F-45FE-AF39-0C48092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695C9-EA16-4EBA-B550-AAE5AD6A43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music fad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stripp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imply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ing just to b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thing that’s of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ill bless Your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смолкнет вс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молкнет вс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утонет зву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к Тебе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ести хо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ердца мо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жную хва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endless wo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could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much You de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’m weak and p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 have is Yo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 single br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агоценный Ца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ыразить т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го достоин 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ен я и сла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сё, что есть — Тво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просто вздо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6T20:47:59Z</dcterms:modified>
  <cp:revision>12</cp:revision>
  <dc:subject>The Source, song number 576 in Russian</dc:subject>
  <dc:title>Когда смолкнет всё / When the Music Fades (The Heart of Worship)</dc:title>
</cp:coreProperties>
</file>