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211-A63E-4253-9B91-6DA7EAF8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A7A-06BE-4666-834C-01CF1540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60A-316F-4489-8BED-A82884F9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300-7790-43FC-8AEB-56A7434F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430-E5D4-406B-B269-2B1F482C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E3F-8D6E-404A-B3DC-704EAD4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0BE-EE5F-431B-82AF-9835C7B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656-B7CE-47F3-B7AA-A374FF1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B1A-05A2-463E-AADD-6FF072B3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112-754F-40B1-AA8C-F299EC6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BF1-7392-4D92-ACC6-FA5636F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65A-E5DA-4858-BF28-BBBA7E4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0FEA5-0930-4D9E-BC59-6F688E78C1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36Z</dcterms:modified>
  <cp:revision>13</cp:revision>
  <dc:subject>Slavic hymnal Гимны веры христиан, hymn 595</dc:subject>
  <dc:title>Чудесный Спаситель, Христос мой Господь</dc:title>
</cp:coreProperties>
</file>