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B9D-511C-4C4E-8644-69266BDE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089-6AF3-455F-82FD-83B0FAEA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A07-3949-44CB-A2E7-3F83C5D6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B1E-6AB0-4998-A8E8-E38F7AC0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B3F-17C6-49D2-BE14-3AEF0023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56E-DC6D-4EC7-B976-B11BCD11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EA5-3785-43A9-85AB-4AD01EA2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6A7-0980-4B25-A90C-33716923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A8C-6441-4A70-AC3E-F1FE9758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8F4-F687-4775-BFFA-4F45C3E2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579-ABF8-4601-B01E-558C59C6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A36-A737-42AF-9942-8632C1CC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E98DA-7509-46AD-8D37-0D45F325F9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! ободрись, дни протек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! ободрись, пусть все вним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чался после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г зовёт к труду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! ободр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, брат, Христа за радость наш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, брат, Христа за скорби чаш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Царь небесный к нам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блаженство Он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ободрись! Лета проходя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! молись, враги подход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ин, стой ты на ча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ечом Божественным в рук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брат, смотри! Уж день све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о, хвали! Господь с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детей на вечный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т слава, радость,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5:12Z</dcterms:modified>
  <cp:revision>12</cp:revision>
  <dc:subject>Slavic hymnal Гимны веры христиан, hymn 707</dc:subject>
  <dc:title>Брат! ободрись, дни протекают</dc:title>
</cp:coreProperties>
</file>