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602-03CD-444E-A704-1BA9F42C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167-1E4E-4DC1-A8D7-E3328E5C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325-B195-4551-BE55-F3EC38CF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E30-4EB9-4894-A13F-0A4F3885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FDA-AFEC-414E-80AD-92B653A7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99B-658D-4931-8551-6C352F0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864-BA2D-484F-9AFA-3F3FE015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E5B-DCF2-46A6-B82B-F585C8CA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278-15D8-4103-8CA0-433C6B71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83D-AE6C-41A1-BD17-8D6A6F0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79B-C5EA-4653-B50B-381F6E7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7D2-9116-4C45-B647-3592B7E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DE6B2-2643-4FCA-A161-E38D739A46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28Z</dcterms:modified>
  <cp:revision>12</cp:revision>
  <dc:subject>Slavic hymnal Гимны веры христиан, hymn 433</dc:subject>
  <dc:title>«Возьми свой крест, иди за Мной»</dc:title>
</cp:coreProperties>
</file>