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EE4-AAE4-4AEB-ADED-60AE501B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8EE-4BB3-47BC-8198-E86B2E04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EE5-B237-413F-AC1E-71D2AAAA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7D3-0A2C-42AE-8109-B73FD605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3FB-312D-4845-A5A5-DB04AC8C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4A9-C11A-430C-B721-C94B7A7F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05B-1709-44EA-B3D5-0F057BF0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2B7-E750-479F-B1A3-BDD1233E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85A-D189-40A7-A389-015338A2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C03-D63A-433F-B4DD-0687CA8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909-A63E-4B39-AF7C-F8820F2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28C-C99E-4C27-BF58-3204DCEB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F75DC-EF30-4A99-8EF3-96A37D6781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my heart is p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o deeply for mirth and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burdens press and the c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way grows weary and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мной ли 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в сердце ст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корби сжимают гру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яд забот с каждым днём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тёмен жизнен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my way is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nameless dread and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aylight fades into deep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He care enough to be n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омра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тучей скорбей и б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сный день скрыла ночи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Он мне помощь 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I’ve tried and f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ist some temptation st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or my deep grief I find no rel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my tears flow all the night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я сраж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не спешит пом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жат к стене, нет защиты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ыдаю горько всю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I’ve said good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dearest on earth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ad heart aches till it n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it aught to Him? Does He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путь прой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«прощайте» скажу друзь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кончит труд, в вечность отзо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ли Он со мной 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0:53Z</dcterms:modified>
  <cp:revision>12</cp:revision>
  <dc:subject>Slavic hymnal Гимны веры христиан, hymn 862</dc:subject>
  <dc:title>Does Jesus Care? / Со мной ли Он?</dc:title>
</cp:coreProperties>
</file>