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87F-8D4A-42E8-A9F8-6FBD5909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E45-1322-4236-B29B-69CFF29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436-36B7-4090-BA68-D0499C8F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918-4184-4F49-820D-5AF9F0E2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F26-00AF-48A5-A53C-239CDA1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6DF-941D-43C9-B06A-7A58CA2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817-4AE4-426E-85DC-E615BF3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E56-0AF3-4330-B04A-6258D5FE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7BE-999A-484A-A27B-B300D796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EFA-64A1-4029-A771-A3BD7DE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655-8425-476F-AA43-3A7019B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FF9-BB77-4EC9-8948-FF76D47D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ECDFE-49DF-4DFD-AAC5-030B39036E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for the feast is spread, hark to the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living Bread, offered to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His house of wine, low on His br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cl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at He has is thin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дите все на пир! Зовёт Сам Б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вы найдёте мир, там нет трев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покой, и блещет там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ток воды живо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where the fountain flows, river of lif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ing for all thy woes, doubting,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llions have been supplied; no one was e’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ni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crimson tid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 к Христу, к Его стоп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всю полноту Он даст серд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Себе Он примет всех, с души омоет г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убелит, как снег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throne of grace, boldly draw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 would win the race must tarry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’er thy want may be, here is the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thine only plea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ы скорей к Нему теп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н рукой Своей откроет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бретёте в ней, как сладостный 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бвение скорбе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, друзья, в Отцовский д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ют ярче дня святые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нец их там блестит, и песня там звуч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славе Бог царит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9Z</dcterms:modified>
  <cp:revision>14</cp:revision>
  <dc:subject>Slavic hymnal Гимны веры христиан, hymn 352</dc:subject>
  <dc:title>Come, For the Feast Is Spread / Идите все на пир</dc:title>
</cp:coreProperties>
</file>