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C2F-24B9-4656-B759-FD072A80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621-3111-4BA1-A8BE-FC718F88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47F-FBBB-4C44-B600-28EDB4F7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289-A699-4C82-8E65-CD53106A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840-BC7D-4959-9FAA-EE6FAD61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F9B-93A5-4CA9-A0E3-F6BED257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DBB-5330-47FB-84F6-4E33BAB9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AD1-E8C0-439C-AC71-1E492D09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FCE-571A-40A8-94D8-1C142232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803-5DC1-4CFA-8BE4-9DA9C129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D77-1D9A-4DC5-A775-46DEA3EF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2AB-B91C-45EF-A7C5-FC64BC4A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5D9EA-0B46-48AD-8F59-8A0A350A13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my labours and trials are o’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am safe on that beautiful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be near the dear Lord I ad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rough the ages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кончится труд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тся труд мой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мне Спаситель на неб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всегда буду с Ним пре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will be glory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for me, glory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His grace I shall look on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be glory,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the gift of His infinite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accorded in heaven a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be there and to look on His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rough the ages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даровано в доме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еспредельной люб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Его уви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will be glory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for me, glory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His grace I shall look on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be glory,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s will be there I have loved long a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like a river around me will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, just a smile from my Saviour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rough the ages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огих встречу любимых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о свиданье вдали от скорб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ть Христа будем все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will be glory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for me, glory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His grace I shall look on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be glory,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5:03Z</dcterms:modified>
  <cp:revision>12</cp:revision>
  <dc:subject>Slavic hymnal Гимны веры христиан, hymn 870</dc:subject>
  <dc:title>O That Will Be Glory / Когда окончится труд мой земной</dc:title>
</cp:coreProperties>
</file>