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EBC-0287-4EB5-8BCC-F4F6E3FA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F1B-4224-4668-A783-7611733C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A7C-F181-4FC6-9AC9-0C0ABBBF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DB0-145D-4393-A4B0-B9453B51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A45-EAF7-42F4-81F4-DDB10F59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A01-4EC7-42EB-B848-5F7ED7D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D9E-0F0D-4934-86CC-74118F4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DE1-1470-43B5-BACD-413B8621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21C-4947-4DAC-B056-03E80FC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72F-EC54-49DC-AF66-EDB1C9D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CED-AA31-44E2-A51B-F413CD4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478-DE6D-4ECE-B57F-896234C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F3BBC-9EFB-4D68-8809-060910BFC6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 that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impses of truth Thou has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ace in my hands the wonderful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unclasp 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 that I may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s of truth Thou sendest cl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e wave-notes fall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false will dis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mouth and let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he warm truth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 and let me pre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th Thy children thus to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51Z</dcterms:modified>
  <cp:revision>12</cp:revision>
  <dc:subject>Slavic hymnal Гимны веры христиан, hymn 839</dc:subject>
  <dc:title>Open My Eyes That I May See / Открой глаза мои</dc:title>
</cp:coreProperties>
</file>