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F3D-AE0B-4B22-8006-63756DE9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447-70DB-4A8A-8BDD-4166933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FA1-F897-4EF4-BE1E-9CB39AA8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BEE-6AD5-4489-85BF-E33AA117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0EB-4486-4A7B-A097-3F0089D9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D3A-226C-481D-A953-2CB4DAD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0D5-80C9-4602-823F-DDC759A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32E-51A0-48D6-B685-52593D3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BE6-C505-43CA-A1D1-ED572FB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AB5-3E7C-432D-8BB1-828846B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D3B-6809-42E7-A087-D727FE8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A76-1A24-4F46-9029-F4B8E06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6C5FC-48C7-46D3-90E7-1331250876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39Z</dcterms:modified>
  <cp:revision>12</cp:revision>
  <dc:subject>Slavic hymnal Гимны веры христиан, hymn 887</dc:subject>
  <dc:title>Send the Light / Ночью с моря люди громко</dc:title>
</cp:coreProperties>
</file>