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5593-54E1-4778-AD55-42ED45D5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3D2-8D73-42B3-8365-B1CE11F4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F567-BE9E-4E33-8A03-B15C9473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1E0F-D0C6-469F-885D-1FC746F6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29D-C527-4DF9-89E4-192153B5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F4D-122D-49DC-80B9-DE4B22F2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615D-3014-4417-85F0-0589567D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0FF3-987D-4AA1-8907-7928BAE0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8E02-E80E-46FD-888F-A2CDEEF7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C2E6-B0C3-4667-A17A-7D310C62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335-61DA-496D-B75C-ACFB7228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9930-B8B2-4325-B86C-8C6CB9CE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DE66F-68EA-4DE9-B4D5-EF2BDE5528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удивляться я долж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что нас возлюб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я был неправды исполн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кровь за нас про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егда удивляться я дол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т за нас в Гефсима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ец, воля пусть Тво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претерпел Он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ранах жиз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ангел от Бога нис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, чтобы подкреп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рьбе Гефсиманской сур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олжен был я стра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на небо пре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Христа уз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Он грешников лю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я гимн с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11-06T11:20:26Z</dcterms:modified>
  <cp:revision>12</cp:revision>
  <dc:subject>Slavic hymnal Гимны веры христиан, hymn 904</dc:subject>
  <dc:title>Всегда удивляться я должен</dc:title>
</cp:coreProperties>
</file>