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DCC-F38B-45E2-BF5B-6E14C702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242-640A-481D-8B6D-CB7382DB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6F4-C7CD-4302-A06F-100A75D9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737-4FC3-4551-A8E1-7A2363AD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CEF-691B-450B-A77D-0510ED9E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1AF-1A66-48EF-8CF3-5CC9504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864-CA42-41CB-A5E6-EE08AFE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815-22F8-4969-93A9-8BF728C7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1A2-40A1-4F48-9B8E-ED3F27D9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C70-A4F2-47B5-B8D8-9694E73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074-3C51-44F2-B80D-0B91407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AFF-9CF3-48AE-B815-D42A16CF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AA555-F41A-4DEA-98EE-A4128620F8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03Z</dcterms:modified>
  <cp:revision>12</cp:revision>
  <dc:subject>Slavic hymnal Гимны веры христиан, hymn 689</dc:subject>
  <dc:title>Встретимся ли мы с тобою</dc:title>
</cp:coreProperties>
</file>