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442-60FD-40CE-961E-ABF0906F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A43-25B5-44B5-8D99-05F59F4A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6B3-7150-4805-B602-637DD3DC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0AD-6B5B-48B8-93E1-BE561913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5E4-DF4C-4BC6-8987-D326647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0BA-83B9-472A-BB99-98955C6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B1D-4364-4323-883D-4350757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087-805D-4BC2-BE50-79D3640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6E7-76CE-4FBB-8275-2D4B2DC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102-6957-494D-ADAE-8AA2B5E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160-FBE6-4023-BF1A-F554209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C01-5520-4DCD-9019-09B623B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0AF78-FAFB-4A92-B12E-40BCCFF339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ясный лучший мир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 ни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песни там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ухи светлы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ам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ясный лучши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уч на небе голу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тонет под тр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там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ком Господа От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м ликуют в мире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ы виновны п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весь мир объят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пришёл за нас тер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ожет все вины ст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у блаженства вновь в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время нас не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спешит оно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час наш под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32Z</dcterms:modified>
  <cp:revision>12</cp:revision>
  <dc:subject>Slavic hymnal Гимны веры христиан, hymn 665</dc:subject>
  <dc:title>Есть ясный лучший мир иной</dc:title>
</cp:coreProperties>
</file>