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08F-7C07-4B12-9758-DD845526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178-DEAB-420F-8C52-9EB35A48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332-2EC7-4357-8A5B-1ED22A3A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14A-CCF5-43C8-9072-C67B992D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7EF-114C-448E-BA08-35DF5B82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DC9-39EB-4D4A-8F2D-9FB73579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8AD-B5F5-4FED-830A-1DF4C462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BA0-ECC6-4963-A9D5-650BC05E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EFC-DE8D-4E6F-8D64-F68A5D5A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60A-B6C1-47B1-8289-4B2188AF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41F-6027-43BF-AC48-291FD3BF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DBF-1285-48E4-9598-40A7D3EB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6ECB3-D5FA-40AC-9645-9BFEF3D6E3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пре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калы высокой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дых от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утнику надёж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а от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траданий отдох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емны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абым обод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наннику при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лость Божья в мир со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менил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Иакова в ну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м чудным обод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мертью Агнца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 в небо нам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Христ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я в свет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, Верного От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прильнувши ко кре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лубже по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Господне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от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н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до ко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мне иных луч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вет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кидаю, не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сё здесь нипоч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лишь самого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юсь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55Z</dcterms:modified>
  <cp:revision>12</cp:revision>
  <dc:subject>Slavic hymnal Гимны веры христиан, hymn 415</dc:subject>
  <dc:title>Вблизи креста Христова</dc:title>
</cp:coreProperties>
</file>