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1</a:t>
            </a:r>
            <a:r>
              <a:rPr b="1" lang="ru-RU" sz="3600" spc="-1" strike="noStrike">
                <a:solidFill>
                  <a:srgbClr val="ffffff"/>
                </a:solidFill>
                <a:latin typeface="Verdana"/>
              </a:rPr>
              <a:t>	</a:t>
            </a:r>
            <a:r>
              <a:rPr b="1" lang="ru-RU" sz="3600" spc="-1" strike="noStrike">
                <a:solidFill>
                  <a:srgbClr val="ffffff"/>
                </a:solidFill>
                <a:latin typeface="Verdana"/>
              </a:rPr>
              <a:t>Воспой ты Богу нашему</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Воспой ты Богу наш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И ещё говорю, воспой.</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Воспой, вос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7918560"/>
                <a:tab algn="l" pos="8096400"/>
                <a:tab algn="l" pos="8636040"/>
                <a:tab algn="l" pos="9175680"/>
                <a:tab algn="l" pos="9715680"/>
                <a:tab algn="l" pos="10255320"/>
                <a:tab algn="l" pos="10794960"/>
              </a:tabLst>
            </a:pPr>
            <a:r>
              <a:rPr b="0" lang="ru-RU" sz="3200" spc="-1" strike="noStrike">
                <a:solidFill>
                  <a:srgbClr val="ffffff"/>
                </a:solidFill>
                <a:latin typeface="Verdana"/>
              </a:rPr>
              <a:t>И ещё говорю, воспой!</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1:17Z</dcterms:modified>
  <cp:revision>3</cp:revision>
  <dc:subject>Slavic hymnal Гимны веры христиан, chorus 21</dc:subject>
  <dc:title>Воспой ты Богу нашему</dc:title>
</cp:coreProperties>
</file>