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087A-5969-442E-9A44-A8024F4EC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A08D-1393-40CB-A908-A629E452A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2B6F-BF15-4C77-8A56-2BA1905CE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450E-2C49-4CC5-9285-A0FF0B0B1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ED08-B930-4CBB-ABD3-DE43FD81B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E149-30B3-493A-B6DB-B8E1E8382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1AF9-F6EC-4737-A107-61DE6ADF8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8280-8A57-4BA5-AF70-5F3F6A6FE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F10E-EA46-4FE1-828B-63CAF9CCF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E3BC-2E4C-47A5-B287-9AF216453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01BB-4384-44A1-9AF8-69FD1AA14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DEE0-3D46-4EEC-A22F-3CEA271C1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B2EB41-9420-4363-B89A-90E4A30ADDB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never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same aga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can never retur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ve closed the do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walk the pa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ll run the r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 will never be the same ag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264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I Will Never Be the Sa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all like fi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ak like ra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low like mighty wa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gain and aga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weep away the dark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urn away the cha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let a flame b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glorify Your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re are higher height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re are deeper s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atever You need to d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do in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glory of God fills my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 will never be the same aga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 will never be the same ag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7T06:11:19Z</dcterms:modified>
  <cp:revision>10</cp:revision>
  <dc:subject>The Source, song number 264</dc:subject>
  <dc:title>I Will Never Be the Same Again</dc:title>
</cp:coreProperties>
</file>