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506-4874-4D92-A3A6-98624567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823-D8D0-4142-ACA3-B314FEE5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751-5B94-4A63-AB75-F74BE585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4C7-AD7C-4CAC-8646-5C1748B6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09C-7C26-45B8-B39E-83E50DF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A19-89C2-4B2A-89CF-91EFAE11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BE9-8DAC-4D5B-AB9D-601EF680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4B2-1142-4D2C-822E-145A868E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7BC-F94F-4540-AFF3-4D4B399C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881-75A2-4B4F-B81B-AD7055C0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7B0-55BA-423F-ACD2-18F86AB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BC5-AAB1-488F-A4CA-FB15647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BCF4E-44FA-45A1-8ED7-299F624CB2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ever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ed Your bloo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n and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inner called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7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ank You for Saving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e know Your truth has set u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Your hop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and grace are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’n is my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my only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aviour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”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let Your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has let me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e know Your truth has set u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Your hop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58Z</dcterms:modified>
  <cp:revision>10</cp:revision>
  <dc:subject>The Source, song number 472</dc:subject>
  <dc:title>Thank You for Saving Me</dc:title>
</cp:coreProperties>
</file>