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F895-759A-42AD-B5CC-65EF3ABF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3E7-63D8-4ADC-9F0B-667C9129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625-8D33-404E-810C-7962D316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2B6-3B25-4464-A719-138FDCB3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5B9-86FB-49C1-9311-25F495BE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A01-3ADD-406A-A02E-6D25C0CF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966-374B-4CE7-9F91-EE25B925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F35-4581-4011-B420-8F785F09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85C-BE8C-4F2F-B852-25000F72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52C-22C1-4B8F-98FA-E770A12E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311-0800-4E84-9195-346D3008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CBA-BE6D-4040-B25B-6B690BA7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FBFE8-E3C1-49FF-A330-24AE686FA8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ины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днимите 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шего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за поб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Бог войс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Христа низло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х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мкните к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ас на бой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е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вас обл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 страшит вас би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ужий гул и г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за нас сраз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счисленным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крепость и за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ерный Вождь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ч Слова обн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обеждайте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бодрствуя в моли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стойте на ча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битвы прол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о день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все оз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енец гот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вере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чет, чтоб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им во славе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1:55Z</dcterms:modified>
  <cp:revision>12</cp:revision>
  <dc:subject>Slavic hymnal Гимны веры христиан, hymn 498</dc:subject>
  <dc:title>Примкните к Иисусу</dc:title>
</cp:coreProperties>
</file>