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94E1-3F46-4164-A213-2F2807B6C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CA88-180E-4A57-B999-E2E594F99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DB5C-00F6-44FF-8683-AC1662464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3738-C065-44D0-92FB-8D034A4E7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1161-22DE-4BAD-BF23-57BBF5EF9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6ADA-2F78-4E65-8AD6-231B338C6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1F97-66E2-48A0-A3FE-1B0857F42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F4DF-4F05-4B90-9C6C-5AE5BDDE3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BF25-69A4-480C-BC82-8AD3C7B8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01E1-0363-4B4C-BBDE-7F057F99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3F67-675F-4A25-8D85-DA383E82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7E9B-2277-4CC8-8BF5-FB1A7344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9F3A45-BEDA-4860-9A5A-9C8B658F46D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hold Me standing at the do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ear Me pleading everm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gentle voice: oh, heart of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I come in? May I come 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9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У двери Я твоей сто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двери Я твоей ст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ердце грешное стуч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жно так зову извн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йти ли Мне? войти ли Мне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hold Me standing at the do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ear Me pleading evermo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y, weary heart, oppressed with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I come in? May I come 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двери Я твоей ст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ердце грешное стуч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жно так зову извн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йти ли Мне? войти ли Мне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bore the cruel thorns for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aited long and patientl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y, weary heart, oppressed with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I come in? May I come 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нец терновый был на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а тебя страдал и жд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 Мне, преданный грех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йти ли Мне? войти ли Мне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hold Me standing at the do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ear Me pleading evermo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y, weary heart, oppressed with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I come in? May I come 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двери Я твоей ст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ердце грешное стуч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жно так зову извн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йти ли Мне? войти ли Мне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ould not plead with thee in v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member all My grief and p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died to ransom thee from s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I come in? May I come 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ю тебя, откликнись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корбь и муки испыт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мер, чтоб ты не стра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йти ли Мне? войти ли Мне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hold Me standing at the do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ear Me pleading evermo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y, weary heart, oppressed with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I come in? May I come 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двери Я твоей ст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ердце грешное стуч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жно так зову извн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йти ли Мне? войти ли Мне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bring thee joy from Heav’n ab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bring thee pardon, peace, and lo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y, weary heart, oppressed with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I come in? May I come 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ир с небес несу т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щенье, радость и любов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, что ты впустить го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йти ли Мне? войти ли Мне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hold Me standing at the do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ear Me pleading evermo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y, weary heart, oppressed with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I come in? May I come 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двери Я твоей ст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ердце грешное стуч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жно так зову извн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йти ли Мне? войти ли Мне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2:47Z</dcterms:modified>
  <cp:revision>13</cp:revision>
  <dc:subject>Slavic hymnal Гимны веры христиан, hymn 394</dc:subject>
  <dc:title>Behold Me Standing at the Door / У двери Я твоей стою</dc:title>
</cp:coreProperties>
</file>