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8</a:t>
            </a:r>
            <a:r>
              <a:rPr b="1" lang="ru-RU" sz="3600" spc="-1" strike="noStrike">
                <a:solidFill>
                  <a:srgbClr val="ffffff"/>
                </a:solidFill>
                <a:latin typeface="Verdana"/>
              </a:rPr>
              <a:t>	</a:t>
            </a:r>
            <a:r>
              <a:rPr b="1" lang="ru-RU" sz="3600" spc="-1" strike="noStrike">
                <a:solidFill>
                  <a:srgbClr val="ffffff"/>
                </a:solidFill>
                <a:latin typeface="Verdana"/>
              </a:rPr>
              <a:t>Я жажду петь во всякий час</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I feel like singing all the t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tears are wiped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Jesus is a friend of m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ll serve Him every day.</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жажду петь во всяк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чаль и слёзы, проч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мой Друг, меня Он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мной Он день и ноч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sing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sing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hen on the cross my Lord I sa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ailed there by sins of m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ast fell the burning tears; but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all the time.</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плакал в день, как уви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за вин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в страданьи уми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же я пою.</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sing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sing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When fierce temptations try my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sing, Jesus is m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o, though tears at times may st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all the time.</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тяжёл греха иск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 я: «Мой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слёзы близки ин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пою всегда.</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sing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sing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 wondrous story of the La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with that voice of th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others, with the glad new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 singing all the time.</a:t>
            </a:r>
            <a:endParaRPr b="0" lang="en-US" sz="3200" spc="-1" strike="noStrike">
              <a:solidFill>
                <a:srgbClr val="000000"/>
              </a:solidFill>
              <a:latin typeface="Verdana"/>
            </a:endParaRPr>
          </a:p>
        </p:txBody>
      </p:sp>
      <p:sp>
        <p:nvSpPr>
          <p:cNvPr id="5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Я буду всем повество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е м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не станет воспе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грешный мир о Нё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sing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sing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p:txBody>
      </p:sp>
      <p:sp>
        <p:nvSpPr>
          <p:cNvPr id="5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42:54Z</dcterms:modified>
  <cp:revision>4</cp:revision>
  <dc:subject>Slavic hymnal Гимны веры христиан, hymn 128</dc:subject>
  <dc:title>Singing All the Time / Я жажду петь во всякий час</dc:title>
</cp:coreProperties>
</file>