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AE5B-F460-4DAA-903E-534B07D9D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AD5A-7FC9-4153-9FBB-3B78C270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ECE8-43C7-4C92-8646-4AA0A41AE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719D-E7A1-4333-805A-0B613B6E1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2BE6-2D36-4B2F-99A3-CDE3B8FF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D48C-BB70-4D9C-BD0F-1C2C6041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A99C-2D73-494D-A6D8-191A8347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95AF-677E-434D-AAB7-60E6E161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8726-2F4C-47B8-9084-6DCC438D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9F71-4662-4E41-85A1-08855A1C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2351-6EDA-45D4-A2D1-4A24FC0B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D49A-ED77-4F85-9164-4C85C583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FD59DD-EEF4-4113-A9D3-439D64B1760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way in a mang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crib for a b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ittle Lord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aid down His sweet h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tars in the bright 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oked down where He l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ittle Lord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leep on the h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6   Away in a Ma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attle are low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baby awak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little Lord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crying He mak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ove thee, Lord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ok down from the sk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tay by my 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ntil morning is n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near me, Lord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sk Thee to st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lose by m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ove me, I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 all the dear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y tender c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fit us for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live with The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5:35Z</dcterms:modified>
  <cp:revision>10</cp:revision>
  <dc:subject>The Source, song number 36</dc:subject>
  <dc:title>Away in a Manger</dc:title>
</cp:coreProperties>
</file>