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479-33E1-4F5C-A3D4-986D4E21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88E-D28B-4A1B-BD6C-13487B2D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CA7-5074-4A07-8A74-8E34C7B1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208-D226-4A3F-BDD5-98729B47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7B4-244A-4F80-A873-4AB8C43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455-7B26-424B-91D0-55324535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B91-B792-4E81-A3FA-A094AED4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51A-ECC1-451F-A4DE-E0BE35A6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0E4-E0CC-4CE6-844E-66CA472D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971-4CC4-4D6D-A419-DD76E60A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70B-7231-458E-81AB-72168B9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088-2D70-4357-BF8D-B7B30DCB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F9CD4-D235-4B75-9779-B162D8466B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Spirit, faithful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near the Christian’s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ntly lead us by the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ilgrims in a desert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ждь наш 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аш верный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сегда Ты близок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ди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 жизнен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 souls fore’er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y hear that sweetest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голос мы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ой радостью в гру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тник слабый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present, tru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near Thine aid to l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ve us not to doubt and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oping on in darkness dr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изкий, вер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гда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Своих Ты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скать на ощупь в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torms are raging s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grow faint and hopes give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ря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лабнет под ну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days of toi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still for sweet rel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left but heaven and pray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ing if our names are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ень пройдёт тр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м сладкий 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бо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ся мы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ding deep the dismal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ing naught but Jesus’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я в мощь крови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ток нас про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49:30Z</dcterms:modified>
  <cp:revision>13</cp:revision>
  <dc:subject>Slavic hymnal Гимны веры христиан, hymn 302</dc:subject>
  <dc:title>Holy Spirit, Faithful Guide / Вождь наш верный, Дух Святой</dc:title>
</cp:coreProperties>
</file>