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9B69-6432-48F5-9EDB-02CCE0B8D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5C3F-73A6-4B5A-B2DA-439E30D1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BB3D-476B-4480-8018-DBA0903A6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970E-9D6B-485E-A65C-1B92EC642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19B2-FC36-4C62-91CF-065795AF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1AB5-2C80-447E-9EBB-4B4A5F6F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C1A5-B660-46D7-AABC-326D981D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6FEE-67C3-4F62-8CA3-BBED4AF1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6589-1016-4DCA-9497-BC64E457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CE9D-A79E-4930-B976-B6A98A3F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303B-CF40-47D0-9280-0B2F3866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8294-86F0-4DB9-B248-996CA871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DAE56C-ACAF-432B-A5AE-EDE3DC700EF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mmanuel, Emmanu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name is called Emmanue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th us, revealed in 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name is called Emmanu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ммануи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мануил, Емману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зван был Емману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 нами Бог» открылся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зван был Емману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14:04Z</dcterms:modified>
  <cp:revision>11</cp:revision>
  <dc:subject>The Source, song number 675 in Russian</dc:subject>
  <dc:title>Еммануил / Emmanuel</dc:title>
</cp:coreProperties>
</file>