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0FD-A662-4DDC-9AAF-5FB2512B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7E3-2197-4BA5-B3C2-27F67EE4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4E1-A815-41C8-AE52-268F53AF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F8F-B741-4AAA-8998-E6F447D5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134-B4C5-472A-BD88-068C34BC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149-FEB0-49F9-BF5A-B5366151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4BE-F933-4733-887F-90AEED95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E31-BD07-4607-949B-A421309D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7EB-365D-4927-9D0A-4E199F04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AEE-7788-4826-AA61-0833B8C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40B-96E7-4EBB-88EF-AA0C0E4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49F-8522-4B0A-BFFF-36CFAD7F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FB128-E185-432A-99D7-62F8400B88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тро нач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ечный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туманы проб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те Свое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 от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и в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час полу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уви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наши о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с источником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зять от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инства Бож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уск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ядущим сли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месте 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ют песнь хва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зял Он с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 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ти без страд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оли нед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мук умир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с Господом в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осхищён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Он возьмё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55Z</dcterms:modified>
  <cp:revision>13</cp:revision>
  <dc:subject>Slavic hymnal Гимны веры христиан, hymn 315</dc:subject>
  <dc:title>Быть может зарёй</dc:title>
</cp:coreProperties>
</file>