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AE2-91BE-4C0B-97C3-48342436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4D9-B61E-4FA1-92A5-5FEDD150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5EA-BAC2-4C4F-8A43-DDBBD536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FAC-547B-47F9-A637-2BA37BD9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359-4F65-46E6-80A4-E80C4F5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6E3-C4DF-44EC-BE91-8B0A06C6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69F-1955-4D30-95FB-622BDF04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E28-9229-437A-9482-62820ABE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0C6-00A8-4EDF-8D05-1E5AEB4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9B5-9FC6-4F95-9D3A-37496D1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FDA-C4B2-440E-B823-5BFC084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4A2-23EF-401D-8A96-01DB604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26781-C964-4FB1-9D01-445D265542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л уже разлуки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ноет сердц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нает только Бог да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олько Бог да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ил уже разлуки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е есть, чтоб вместе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м слёзы и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жду нами Друг сто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тешител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скитанье жизни с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оставим м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зьмёт нас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бра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с вами Бог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с нами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м нам ближе под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екрасной родине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к родине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38Z</dcterms:modified>
  <cp:revision>12</cp:revision>
  <dc:subject>Slavic hymnal Гимны веры христиан, hymn 746</dc:subject>
  <dc:title>Пробил уже разлуки час</dc:title>
</cp:coreProperties>
</file>