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BC6-EC64-46A3-8D0F-09F0AD89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6E5-99AB-40A3-8163-1E2D2BA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31F-B6EE-4BF0-9610-79D0125A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CC1-F66C-48A1-A642-3B81CE07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E2A-5B2A-496B-A1E6-0C7A4CF5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4A7-C69B-485F-943E-E2A5453C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6FC-F8A4-4F9A-897B-96D013E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D93-A1C9-4D8C-A64F-E6EB39CA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FCF-96F8-4A85-8D49-ED58C67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B70-AE0D-4FFA-9201-6E4FD9E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F4A-55CC-4BF1-9193-C8655DB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2A0-C596-4D63-81A7-0BA07C4F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FC6D8-8B5A-440E-9E31-9CBDBC4B47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траху люди побледне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унынья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умолкнут, занем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ет землю тьма гус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солнце, месяц, звёз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ры встанут в мор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раке буря зары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ёт нежд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с неба голос трубн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откроются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ящих в прахе непроб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удит слово вечно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т горько плакать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ут песн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ло, страшно, жутко 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01Z</dcterms:modified>
  <cp:revision>12</cp:revision>
  <dc:subject>Slavic hymnal Гимны веры христиан, hymn 322</dc:subject>
  <dc:title>Придёт нежданно судный день</dc:title>
</cp:coreProperties>
</file>