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F78-4D98-441D-8790-208B84D9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455-4E8E-4115-8F2B-0941988E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0B3-5203-458B-9718-CF8B0FC2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857-087E-4069-962B-6977AC41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D80-7AB3-43C7-A941-3A0F4C2F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7C8-4DE5-46F4-841A-22091B46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737-9E9F-455F-8853-17A60310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323-F47F-4A22-B3A6-AD9CB7D9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062-1999-4E9C-95E8-9A9535D9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565-19A3-47AB-A778-D020B6DA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903-C6D6-4A60-87A4-444C921D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71C-5BF3-4003-BB30-F4E9E44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0C26B-6A44-47A1-952C-20A683633C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расстанемся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 в истин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здесь — ты будеш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идно, Бог назначил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стезя нас ни в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добра или же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ть мы будем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ь в душе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так, расстанемся с т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стретиться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уждено уж тут суд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встретимся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м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0:31Z</dcterms:modified>
  <cp:revision>13</cp:revision>
  <dc:subject>Slavic hymnal Гимны веры христиан, hymn 748</dc:subject>
  <dc:title>Итак, расстанемся с тобой</dc:title>
</cp:coreProperties>
</file>