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3EC2-947E-4487-B6F5-19633048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DA1B-8DD1-4637-AA70-42CE1B26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B744-BD10-4230-A833-EC5FB987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2C9A-8B33-4B30-A94B-D2155D20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364F-6FE9-4B2A-924A-DDD6E2CA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C92E-BF51-47B9-9179-AF5C9E6E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C321-2D95-4F21-9CD7-004E92C6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7FDC-38FF-4F79-9E81-4C05B19A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957B-5A20-44A9-9937-95ED60F9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B8DB-8270-4C4B-9F2C-079CA0E4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D7AD-1DD7-40ED-901C-52B5DFEC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5805-F8A1-4489-ABB7-C6DDC853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6E9B5-C80A-48A8-9630-965CFCDE35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горченье ты встретишь в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дях утешенья тебе не на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езах умиленья и в тайне ду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сокрушенье излей ты в ти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ящий знает о гор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ожидает на лоне С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наешь, как властно спасень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ём ежечасно петь будут 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огорч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ьцев так много под гнё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утехой от Бога спеши к ним ск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им с любовью о дивном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ем их кровью на скорб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1:41Z</dcterms:modified>
  <cp:revision>12</cp:revision>
  <dc:subject>Slavic hymnal Гимны веры христиан, hymn 450</dc:subject>
  <dc:title>Когда огорченье ты встретишь в пути</dc:title>
</cp:coreProperties>
</file>