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F8B-3CE9-4041-884A-DA248AC3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E46-8BA6-4C55-9B74-E30C6E5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C54-8533-4896-807C-31482272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433-A822-486E-821A-767A15FC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656-296E-4BB0-B38E-C0DDCEA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AE4-4C4F-4B77-A583-53B7EB61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C7D-5DB5-4290-9134-51AC068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02E-51CE-431C-9959-F4BB0E9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5DF-5F70-4BA5-83B6-2EC03C1D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186-0B6F-413E-8A62-B5EC106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2A6-F945-4706-8A93-2FD6BA9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5B0-358A-4CB4-8725-00666EA3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FEE5A-523D-4CF2-B5D7-0F9128AA0A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Deep the Father’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42Z</dcterms:modified>
  <cp:revision>10</cp:revision>
  <dc:subject>The Source, song number 185</dc:subject>
  <dc:title>How Deep the Father’s Love for Us</dc:title>
</cp:coreProperties>
</file>