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A5A-AF19-4432-92FB-B27D2E4D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933-0A00-40CD-85A0-B754213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0B9-CB1F-40EB-8FB7-5F215DB2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EFB-A50D-4A09-85CA-8EE0EBE8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5BE-741F-471A-BECB-620FC8C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FCA-8F55-4F4F-B894-43387A9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26D-E804-431C-B0E0-A7767CE8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5F0-C0EA-465E-A434-7742050B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71F-A091-4A64-9AE6-83C8739D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3E7-A8E6-4B98-87B9-CD8F1A4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10E-32D5-458C-8C27-5338906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9FA-F2BE-4236-8508-C572BFAF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E686-2A64-41C8-825F-D39B2E1649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зарёю свод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паситель мо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рак рассеял, грех поп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и жизнь мне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ит зарёю свод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тель! Нет врагов та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разил Ты власти 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мень и с груд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нешь сило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! Что ж мне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меня пришёл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покинет мир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й, и счастлив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н пища, мой Он щ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ру я, Он меня при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надежда Он и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тремлюсь всегда отс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я прощ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ом с Богом примир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царству вечност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, от гибели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у любовь и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будем просла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там, когда в сво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 обитель примеш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32Z</dcterms:modified>
  <cp:revision>12</cp:revision>
  <dc:subject>Slavic hymnal Гимны веры христиан, hymn 289</dc:subject>
  <dc:title>Горит зарёю свод небес</dc:title>
</cp:coreProperties>
</file>