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1ED-7755-41E0-AFC7-41DCBDDD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7A5-BC89-45FC-80B5-4B2552A8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D2E-0BD6-404D-87BE-089B58C9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5EA-AAD4-4DF6-AB11-A74450A2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31E-EA28-410B-91A0-883691A3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C6B-FEC0-49F1-A117-F630C56C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DB1-4999-4A4C-BA57-4EE2989B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BF1-0079-4D02-AEBA-9771E705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3A3-0229-4E99-920F-F31F5D72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255-6EC6-448A-9639-3BBA2574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5D1-FD78-4827-8B60-97FFF2AC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B39-7803-4932-9B98-5121285C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A7CA1-971B-4035-83BC-64CF085D39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sent His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called Him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me to love, heal and for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миру Сына дал,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иру Сына дал,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целял, прощал,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as death gives way to vict’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ee the lights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ll know He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сто смерть отдаст по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я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арствуе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 меня есть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ходит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, что живу я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в Спас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в Его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d and died to buy my pard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empty grave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ove my Savi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ёс Он крест, чтоб дать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щает гроб Его пус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 меня есть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ходит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, что живу я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в Спас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в Его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to hold a newborn ba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eel the pride and joy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— держать млад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жность и мечты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greater still the calm assu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child can face uncertain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льше счастья в упов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преодол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паситель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 меня есть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ходит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, что живу я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в Спас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в Его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one day I’ll cross the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ight life’s final war with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рейду за реку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ней битве с ней сра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5-06-01T12:34:46Z</dcterms:modified>
  <cp:revision>11</cp:revision>
  <dc:subject>The Source 2, song number 701 in Russian</dc:subject>
  <dc:title>Бог миру Сына дал, Иисуса / God Sent His Son (Because He Lives)</dc:title>
</cp:coreProperties>
</file>