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3A4-F4C6-4F67-B2DE-A76D563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F1D-2E13-4ABF-B43D-C54F6E9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6A2-CD1F-43DE-95E6-6B9E6EFF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E8B-FAC2-4155-ABCA-9977D746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C14-4139-4930-95FB-49D5DED0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1C1-1A65-4B60-BC5E-3B477E6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02C-C62E-4612-B33C-4F6BB1B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26F-52F9-4C55-A53F-A3074D2C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635-7B53-4369-AD8F-E09C2BB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E20-A528-456E-B0D2-6D9F017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7DD-0FAB-4779-883D-0E5B9EC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EDB-5E91-4F9A-B138-100BEBB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387B7-D79F-45C5-A104-4538BB429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лилия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цветая, оживи, душ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рёл стремись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ёко к небу, в Божи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емись к стране жел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! Там тебя давно уж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Божьего прест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весёлый хоры ангелов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овно лилия степ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олн не бойся;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ело в челноке Христа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 пристани при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будешь испытания с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бя не привл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еняет мир блестяще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для мира драгоценны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рак тленный, поглощён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т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Врач земли несчаст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жечасно дух несётся мой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же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енье, а прими меня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Своё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траданья от меня не от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 в часы па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омненья мощной верой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как Царь по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аш бедный и меня воз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конце борьбы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екрасный двери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инял нака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янья и за грех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Тобою побежд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ажёна: воцарись, мой Бо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30Z</dcterms:modified>
  <cp:revision>12</cp:revision>
  <dc:subject>Slavic hymnal Гимны веры христиан, hymn 510</dc:subject>
  <dc:title>Словно лилия степная</dc:title>
</cp:coreProperties>
</file>