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731-F0CA-462E-9962-CC29FB37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068-EA77-4FE4-9964-86E76ECC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1A7-4963-4AF6-8300-F3FF6254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119-F587-406A-807D-9FA0863C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AAF-E4F9-487A-AA1A-22E7B368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A56-89E9-412D-9995-B902D2A5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38F7-0CEC-4EF0-95CA-90117D57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934B-3007-4F6D-9EA0-A435671C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5DA-B8F4-4C91-9924-BE8D2196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27C-9DC4-4287-8165-415809C2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733-3998-42B1-BEE3-3DC932DB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626-2337-4853-8C41-E98E1A96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29C46-80D2-4A9D-962F-A494E627F4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путём, Своей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бедствий береж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даёшь совет бла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Ты Сам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управляешь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их желаньях и дел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рошо мне быть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иться в Твоих рук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хожу чрез мглу до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под сияньем снежных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поток, чрез гладь озёр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со мной мой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нце пути через тум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еснёт мне вечный Хана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 спасительных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у горе, смерть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9:25Z</dcterms:modified>
  <cp:revision>13</cp:revision>
  <dc:subject>Slavic hymnal Гимны веры христиан, hymn 644</dc:subject>
  <dc:title>Господь, Ты Сам меня ведёшь</dc:title>
</cp:coreProperties>
</file>