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1242-BE51-4CE0-AC58-C0F0568BD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11A4-4229-480E-A889-8F86C3EE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F60B-910E-4A29-8224-500C378A3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EF25-0C5C-4FDA-8A33-4E16AE39E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37B0-78F0-4530-920B-A647E794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F6B1-8318-47FE-B05C-483C8ED6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3CE3-E680-4E7C-9739-F77A53D7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AE2A-43CB-44E2-B982-61D24ADC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7594-0D7A-4FDD-93C4-11F26DC1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63D9-01CA-4213-990B-2832FE41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683F-4848-4AEF-B5B8-5E5AE8DF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A503-C552-4313-9FD3-050F97A0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9A3B2-F20F-4B87-A8DB-BF0FB33D1F3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нас, о Боже, к забыт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сь исстрадался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к одиноким, забыт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ольше не верит в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нас, о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выше Свою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ы всем страдаль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у могли возвещ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шли нас, о, Бо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тихой, смиренной люб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душам усталым пойд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как искупил Ты их кр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ную весть прине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нас, о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выше Свою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ы всем страдаль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у могли возвещ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кажем, что жизнь нам зем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только, как школа д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-то… страна уж и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ельем навеки пол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нас, о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выше Свою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ы всем страдаль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у могли возвещ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 радостной, светлой улыб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люди свободно вздох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жизнь по поверхности зыб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страха уже поплыв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нас, о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выше Свою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ы всем страдаль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у могли возвещ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9:54Z</dcterms:modified>
  <cp:revision>12</cp:revision>
  <dc:subject>Slavic hymnal Гимны веры христиан, hymn 537</dc:subject>
  <dc:title>Пошли нас, о, Боже, к забытым</dc:title>
</cp:coreProperties>
</file>