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3BD6-9D77-485C-AD35-B00EF363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0119-229E-48A7-95D2-CD9F8005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0ADF-F2C0-467A-AF76-55BDA83BE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9D88-3191-432E-8E15-7056CA45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82C1-2200-4DCA-AD6E-613AD0BD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700E-6189-4AAF-8335-3762FDE7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BA2D-0A9C-46A1-8BD8-24B9611D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C558-0D0F-4776-9ADD-596B08D6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4045-2332-4C34-BDD5-4B2AE435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B315-713F-4CAC-9860-C41B733E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097D-8480-4293-9C3F-2FEEC628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B397-29B1-48AE-8095-6FA85E85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55043-183D-42AD-9799-FB3F6F6718D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take a dying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raise him up to life a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heal a wounded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make us white as s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fill the empti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mend our broken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oken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28   What Can Take a Dying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ighty, awesome, wond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he holy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 Lamb laid down His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ift us from the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ighty is the power of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restores our faith in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reveals the Father’s l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lead the wayward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melt a heart of st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free the guilty on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save and over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ighty, awesome, wond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he holy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 Lamb laid down His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ift us from the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ighty is the power of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a miracl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a miracl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t’s still a myste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t’s still a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a miracl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ose who b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ighty, awesome, wond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he holy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 Lamb laid down His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ift us from the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ighty is the power of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6:11Z</dcterms:modified>
  <cp:revision>12</cp:revision>
  <dc:subject>The Source 4, song number 2128</dc:subject>
  <dc:title>What Can Take a Dying Man (Mighty Is the Power of the Cross)</dc:title>
</cp:coreProperties>
</file>