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FF1-6CD9-4CD3-883C-1A90261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771-D271-4F32-8F85-8FB711A5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9F-3F90-412A-902F-9419818D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7FD-B243-4FDA-B61E-63E85E3B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621-3414-4BF0-B9B4-1E27DEE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4B2-C04E-4469-96A5-EEE9BB35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B9B-1BCF-4208-9D63-5EF123D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957-4461-4F93-BBA6-005ACDD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523-68B9-4131-93A6-82AA9FE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4E8-B704-4635-A388-8AE7DE5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ADB-EC82-4536-A3A9-1A3BAC6D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7C4-0905-4860-B18C-277E5D9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0844D-3852-43F2-BAA3-1ECDD39AC6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ет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т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пас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ведать ут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емим взоры в 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, милы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стра,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кнет солн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«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е скажем «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рдишь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м будь, не гор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будет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ердцем смир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яжет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ён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ст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й друг, не гр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раждует, смир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любит, лю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брат, берег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не сгу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ждаться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рпи,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 сердцем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иг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07Z</dcterms:modified>
  <cp:revision>12</cp:revision>
  <dc:subject>Slavic hymnal Гимны веры христиан, hymn 435</dc:subject>
  <dc:title>Сердцу всюду беда</dc:title>
</cp:coreProperties>
</file>