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40</a:t>
            </a:r>
            <a:r>
              <a:rPr b="1" lang="ru-RU" sz="3600" spc="-1" strike="noStrike">
                <a:solidFill>
                  <a:srgbClr val="ffffff"/>
                </a:solidFill>
                <a:latin typeface="Verdana"/>
              </a:rPr>
              <a:t>	</a:t>
            </a:r>
            <a:r>
              <a:rPr b="1" lang="ru-RU" sz="3600" spc="-1" strike="noStrike">
                <a:solidFill>
                  <a:srgbClr val="ffffff"/>
                </a:solidFill>
                <a:latin typeface="Verdana"/>
              </a:rPr>
              <a:t>Ближе, всё ближ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лиже, всё ближе, Боже,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ью, скорбью меня привлек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ирном шатре мой дух укрыв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илу давай мне в житейской бор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илу давай мне в житейской борьб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лиже, всё ближе, нет нич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у меня, чтобы дал Тебе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шное сердце — часть лишь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и! Кровью омой Ты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и! Кровью омой Ты его!</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лиже, всё ближе, ныне гот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ергнуть помехи к общенью с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и мира, прелесть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обольщения жизни зе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обольщения жизни земно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Ближе, всё ближе, сердцем пол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ергнувши «я» и «своё» целик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ажду явленья славы Т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Ты сделался мне всё во в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Ты сделался мне всё во всём.</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1:03:29Z</dcterms:modified>
  <cp:revision>3</cp:revision>
  <dc:subject>Slavic hymnal Гимны веры христиан, hymn 140</dc:subject>
  <dc:title>Ближе, всё ближе, Боже, к Тебе</dc:title>
</cp:coreProperties>
</file>