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E70-AA72-4A45-933A-C6A70C76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F1A-5891-49BD-A141-6FC1F0B6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E18-F16A-4792-BDD6-96B9D0ED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DB6-091B-4D57-9576-D5DC9746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89B-9C18-4915-9A9A-437D1C1B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796-B045-4510-9CC3-0D13993A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59D-5ECF-4BB7-9D04-DE54CF22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2B8-7AD5-4D02-9B8A-640BEFE0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520-BABC-4C55-B34F-65ACE37D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E8F-1DAF-409F-B7F9-7AF03CEE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7EC-5BE1-4CC7-8831-8B5C12F2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3A0-46D6-4572-A909-57BECDDB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6823C-EEF0-4E41-9AFA-480774B80A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eav’nly armour we’ll enter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weapon that’s fashi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gainst us will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2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n Heavenly Arm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power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s like a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ll raise up a stand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enemy p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ard, do not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courage, my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redemption is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2:04Z</dcterms:modified>
  <cp:revision>10</cp:revision>
  <dc:subject>The Source, song number 228</dc:subject>
  <dc:title>In Heavenly Armour (The Battle Belongs to the Lord)</dc:title>
</cp:coreProperties>
</file>