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1B4-1DB1-4B8C-8906-453466F5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3FD-4A3C-457F-A35D-B2BEF6C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603-35B3-4495-8630-2CA25542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A8E-A55A-4BD2-A892-5D8752B4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2E3-428C-4BB0-AEF9-F290952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DF6-919E-46E0-A1E2-EA5F7A2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986-23CD-47D8-863E-D38E3A5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46F-5A6F-436E-A73B-D4D5898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662-E1FB-4FB9-BFAD-4E0F806C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CC3-1387-4AFB-A57C-B3988A4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258-007D-4EC0-89A7-A6ABF57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750-339D-4718-8072-A8CD2C5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CFFE8-E74E-4DCD-AC02-00E3218E88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22Z</dcterms:modified>
  <cp:revision>13</cp:revision>
  <dc:subject>Slavic hymnal Гимны веры христиан, Ukrainian hymn 37</dc:subject>
  <dc:title>Як чудесно змінилося моє життя</dc:title>
</cp:coreProperties>
</file>