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8EB-0A60-47E0-BE95-120A4CE7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593-BBE9-4DB9-8953-787F1163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FBE-4EA5-4735-8581-8688C6B8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587-927A-4DA7-AAC5-50F15185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153-905B-49C3-91C2-7A01CED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375-1D59-4E26-9CE6-D7A28C16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CAD-29CF-4A4B-A809-2589A456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18C-946C-418E-A9CA-6FB9D09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CCA-1A52-4797-86F4-4EB41DDD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329-76DC-4920-AABE-088D9F5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955-7C58-4CD9-A4B5-0F94FD0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65E-ACBC-4963-A3CE-69AA642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573BE-D855-4DB8-B569-016BA61791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рам, не золотое з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руг отобранных друз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есть соб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искуплен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теперь на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тягостны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времён про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жидаемых ве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рам, не золотое зд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с пустыней ю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падных, восточных ст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вера, где вечна 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снежный ура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из всех на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й земли и всяких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юрем, из-под царских св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бщин всех и всяких па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, кто в царстве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лись в блаженстве и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 молитвы воссы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ьях скорбных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— мир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новлённый род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наделит крест По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ым небом, 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покоя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изб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гом и Его за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только битва су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борцы теперь в изгн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 кровью бое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 слезах, она в ры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р, объятый суе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нь уж близок, и 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а — Жених её — 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радостные к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шум морей и гром невзг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Он взять её из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есных уз тюрьмы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ут её венец, пор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рай, и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ь Давид, певец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т Лазаря в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ывший нищий с сыном 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ягут в Божием двор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аведный Енох, как с бра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имется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збойником, Христом прин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имя жертвы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Церковь вечна и ед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в ней быть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луг там нет. Прими, как сы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ту Церковь, Бог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58Z</dcterms:modified>
  <cp:revision>13</cp:revision>
  <dc:subject>Slavic hymnal Гимны веры христиан, hymn 562</dc:subject>
  <dc:title>Не храм, не золотое зданье</dc:title>
</cp:coreProperties>
</file>