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C663-A692-4939-B49F-A7E5F2BD8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4702-95DC-4C6F-BC7A-33334D0D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69BB-A076-49E5-8C40-4FA71182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C448-C515-42AC-AF20-6033DF35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4444-280D-4C8E-8790-EEE978C5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6CDE-9374-4320-9A99-FAC67DA7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D357-E99A-497A-94A0-FA970A36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9DBD-DBB6-48CE-B294-F942B1F1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3D37-4D9F-414A-B468-2E3A04FC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58AC-BD71-478A-AB8E-2F75FB27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02F2-D23B-460B-889A-11EFDE13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C57E-5ABD-4B2E-93F5-6CD06831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1BD0A-737D-40B4-9BD1-9FB7CEB826F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Он в яслях… чтоб согл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и шли со всех стор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ыну Божью. Кто сей ноч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флееме нам рожд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Богом был от в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л образ челов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збавить род людс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т, Он в яслях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ходите и пойм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 землю к нам при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в небе всех сильн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имеет Свой пре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Ним падём в смир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сольёмся в дружном пень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и слава Богу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Боже, из нас кто 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оценит и пойм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решился и яв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радать за весь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любовь Твоя сверш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грешникам откры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Бог нам стал От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10:39Z</dcterms:modified>
  <cp:revision>15</cp:revision>
  <dc:subject>Slavic hymnal Гимны веры христиан, hymn 230</dc:subject>
  <dc:title>Вот, Он в яслях…</dc:title>
</cp:coreProperties>
</file>