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613-744B-4271-9AD3-280B7393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0E2-3A98-4E7C-9448-251E4770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165-1994-4CFE-9557-955DDD09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5B5-2029-46DC-A189-16B480B0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D44-E6A6-4F9A-B9DC-AFDD7910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AC1-D721-4276-A942-4385253E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684-B6BB-4AAA-97F5-9A0383C8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AAC-61BD-48E6-A0EF-036125C3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C65-95EF-4427-BC63-78EB1DB6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B2A-B625-4194-AF1C-1CE0ABC1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2E2-509B-4143-B87A-AD099E98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FC4-CA13-4435-BB64-00AE6A22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B66D9-B89B-45ED-8E2C-8675954870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worship His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Jesus be glory, honour and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kingdom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s from His throne unto His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anthem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4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ajesty, Worship His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exalt, lift up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gnify, come glor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Jesus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worship His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who died, now glor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all 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04Z</dcterms:modified>
  <cp:revision>12</cp:revision>
  <dc:subject>The Source, song number 346</dc:subject>
  <dc:title>Majesty, Worship His Majesty</dc:title>
</cp:coreProperties>
</file>