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3D88-6429-429C-998E-482B1472B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A370-DA82-40C0-942E-536940D48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B5C2-222B-4854-AE40-AA96A14AC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4860-BE8E-48D2-A8B5-05DFAD325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A80A-5CC2-40E7-A83A-016EE4933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74A1-DAB4-4FF8-8632-1339C99D5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5AAA-5C61-4E19-8EE8-8DE42CBE1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352F-EE33-4AEE-AE0D-C22A27BB7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F8F3-43AC-461B-89DB-F1C123079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D0B6-8073-4B7B-8765-41284B285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A8D2-C6D6-424B-81F9-E64C4C743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7B4C-FD6B-488F-A169-F25E20BD5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FF91C6-C8DD-4845-A642-8DC4835697A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горнем ущельи укрой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, изнурённый трудо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ю Христовой омой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, истомлённый грех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шу теснит искус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ов твой услышит Спас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— всемогущий Хран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ты, истомлённый грех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ты, истомлённый грех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4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 горнем ущельи укрой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жной и щедрой рук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предлагает нам дар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твой польётся рек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ахи исчезнут, как па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ушай! Господь призыва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лянь! уже ночь наступа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же тебя не пускае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сем предлагает Свой да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сем предлагает Свой да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ной защитой Он буд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емя твоё понесё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икогда не забуд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ёзы с очей Сам отр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идит твои Он скита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удалит воздыха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лач прекратит и страда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слёзы с очей Сам отр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слёзы с очей Сам отр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верой приди к Иисус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изнывай под грехо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был до смерти послуше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ань Его верным раб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ет твоё Он моле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ст тебе мир и проще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вую жизнь и спасе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ты, истомлённый грех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ты, истомлённый грех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02:28Z</dcterms:modified>
  <cp:revision>12</cp:revision>
  <dc:subject>Slavic hymnal Гимны веры христиан, hymn 348</dc:subject>
  <dc:title>В горнем ущельи укройся</dc:title>
</cp:coreProperties>
</file>