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4A16-804B-4A27-AD64-3C83D55A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D4CD-2C15-469D-A9EB-165D9FCB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E39E-3CAC-4534-B7E9-6080FE2E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577F-D984-45BE-B110-6FAA045BB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E028-873E-4B2D-BC51-7EB438AC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D035-7966-4D86-B551-B1F1EDE9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CDE4-54FE-4385-AFFE-6F100CA3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AFA5-05E2-48F7-AFF4-8C435F3B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72A1-03E5-412A-B103-90AB4BA2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727B-F2D0-4CFF-8DDB-574E6FBE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B601-42AD-4AF6-9C8D-D4CB372A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7C5A-1F11-4BF4-8DFD-E9AE09C4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5D1ED-71E4-475F-9824-E3DA76089F2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 бурях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твой удруч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чами уны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твой омрач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сколько мил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иться буд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ли в бурях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Господни вспомин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их, до единой, повтор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как Он щедро надел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иться будешь, что Он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емя ли, з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уше ле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яжкое ли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тяготи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как вспомн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есёшь г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росишь все сомн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ёшь хвал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Господни вспомин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их, до единой, повтор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как Он щедро надел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иться будешь, что Он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ишь ли бога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ами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есть сокровищ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ую нужду воспол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а доро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, что Бог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Господни вспомин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их, до единой, повтор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как Он щедро надел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иться будешь, что Он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ись же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ю Его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и побежд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амяти все мил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хра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йдёшь отр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ном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Господни вспомин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их, до единой, повтор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как Он щедро надел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иться будешь, что Он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1:41Z</dcterms:modified>
  <cp:revision>13</cp:revision>
  <dc:subject>Slavic hymnal Гимны веры христиан, hymn 718</dc:subject>
  <dc:title>Если в бурях жизни</dc:title>
</cp:coreProperties>
</file>