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B6F-FE60-4ED5-B6C5-24B8E141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A85-4CCA-4F18-91DA-4DCBB1B2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C9F-B45A-4E88-8B57-35397F9B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77C-236E-4B99-81B9-04022F83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987-3DD7-4B72-B958-FE5F7F7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254-1DF4-47AB-9A34-7ECD9B74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22D-9800-413F-BE98-07ABF94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07C-92F7-4940-8B91-1D239C18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E76-2BA4-45A9-865C-4905D2F8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236-2C7E-4F23-8894-0BF02806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F0C-EE05-4FF9-809A-72F6CF9C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421-B34E-4B3C-927A-C1243B35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B9052-F180-4B22-847C-ADD75E97FF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pure, clea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little c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rning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ть, как св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et us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тём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добра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st of all for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He sees and knows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ur light grows d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х Он не с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менны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oks down from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 us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видит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for all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kinds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are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лядит н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ви и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имер пода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and want and s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e must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ужду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й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ти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будем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7:48Z</dcterms:modified>
  <cp:revision>12</cp:revision>
  <dc:subject>Slavic hymnal Гимны веры христиан, hymn 897</dc:subject>
  <dc:title>Jesus Says to Shine / Мы должны светить</dc:title>
</cp:coreProperties>
</file>