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DEE-BA6C-41C0-85C6-DC6BFEEB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370-73D5-4A7D-A32B-52A4B68B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71D-085F-4343-8E46-B2B946F2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42A-A6F1-4662-8640-A8BC9DF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E8C-B84B-48E5-99D4-4BC873E6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680-8471-41D4-A6B8-7C55BCCB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250-5304-4C23-923A-987F628F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C32-F61A-4326-A26F-C81FCF00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34D-F5D5-4FAB-AF3D-9D698F75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206-46D6-4120-A6FD-FD27CA5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6FF-6856-4146-9A81-7B7F981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505-BAFD-450C-89F3-7EB0AA1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90AEA-066E-4880-B9CF-C5945D3B14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ень желанный, день блаж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нам тот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торый дух наш освящ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 ко Христу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гу песнь, не 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, там слышно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сем Своим блаженств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ит Божь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день жел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— зреть Его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с Ним в любви 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здесь любим Он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ст блаженство там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лике душ, Им исцел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еть будем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ю огражд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и ввек не огорч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ши песни в плот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 земной нечист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н, Творец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 сияньи кра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душою освя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оспоём мы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и песни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 Богом славы съедин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41Z</dcterms:modified>
  <cp:revision>13</cp:revision>
  <dc:subject>Slavic hymnal Гимны веры христиан, hymn 682</dc:subject>
  <dc:title>О, день желанный, день блаженный</dc:title>
</cp:coreProperties>
</file>