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F87-40AA-474B-BD8A-4A23D4DB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C4B-1CDD-4BD6-9172-25CCB064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A13-D890-4035-9CB5-971734A3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3A2-916E-4346-B0E2-F742E5B1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749-B5EB-4758-AEAC-FE3C3931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5CB-343A-4595-9FEF-850BE0C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D65-0030-45AD-888B-683FCD9F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77D-92C9-4308-B58E-66AE32CB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48C-F39E-4E71-B282-358E505F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6F1-B116-4313-84E1-24D77850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BA0-DA8A-45D5-9CED-205A33A3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95A-91DE-4BBC-8CC3-F134678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954E7-CC7D-4F85-B807-34C45D30C8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pe is built on nothing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Jesus’ blood and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trust the sweetest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olly lean on Jesus’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rkness seems to hid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on His unchang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high and stormy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anchor holds within the ve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oath, His covenant,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 me in the whelming f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around my soul gives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n is all my Hope and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shall come with trump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y I then in Him be f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ssed in His righteousne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ultless to stand before the thr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4:32Z</dcterms:modified>
  <cp:revision>13</cp:revision>
  <dc:subject>Slavic hymnal Гимны веры христиан, hymn 634</dc:subject>
  <dc:title>The Solid Rock / Построил на крови Христа</dc:title>
</cp:coreProperties>
</file>