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65EA-2B9A-4AF6-9E3E-5EFB3C66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E056-317E-44EE-92D9-57DB2BB6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9F72-A38A-4E2F-8481-63876174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6307-14DA-4F54-999A-FE8E303C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1A3B-88A2-4A7E-99C6-30A19771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0378-F47A-4BC5-9E47-3A71C05F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17CC-3DDC-4FBC-9F9F-B389B3FC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1807-D22A-464D-9473-78975380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FC9F-4BCA-40BA-90ED-7018B84B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9057-FA01-4A52-AE99-CE43AC91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5DE5-E17C-4014-A8C4-DDB15294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CE48-DBB5-4EFF-9A2E-7762A33C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1DD6B-7A48-4E95-9C6A-5ED3D5E999E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 в жизни для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сверш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жних люби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бых подкрепл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жизни ты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води в тр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руд в жизни для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стро часы вперёд ле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учитесь сохра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вперёд стрем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покорите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и все учись счи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здно не гуля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ь ближним помог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ших подн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жизни ты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води в тр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стро часы вперёд ле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учитесь сохра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вперёд стрем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покорите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руде не отх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ром от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Господа про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ы для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жизни ты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води в тр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стро часы вперёд ле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учитесь сохра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вперёд стрем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покорите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4:31Z</dcterms:modified>
  <cp:revision>12</cp:revision>
  <dc:subject>Slavic hymnal Гимны веры христиан, hymn 544</dc:subject>
  <dc:title>Труд в жизни для Христа</dc:title>
</cp:coreProperties>
</file>