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6B9A-DA04-433E-B616-34EB8C2B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238F-CA31-418F-A009-8221F250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0E39-DC4C-4F5C-9A9B-01B2DD3D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FA4E-8050-414A-91A9-F5B13381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ED51-1BFA-4B63-9BE5-738957D8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FD40-0C34-4516-9CBA-0E6E4AD6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92CB-967B-436C-A6F1-6300CF6C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1567-B7D2-4162-9CBC-9EF75E14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7AA4-60CE-48F8-9772-73670480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28F4-DD91-4745-9CC7-CC8CA2E6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98CC-4B57-4AB3-9DE5-D14E808D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782F-A908-4FF2-9224-F6FC60CF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AFF42-A4CB-46B5-92CB-207486BED65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 скиталец, вдали на чужб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ько тебе, ты один, как в пусты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одины голос Иисуса зовёт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едный скитал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твой усталый, как отдыха жаж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стомился, и стонет, и стражд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шь ли голос с небес: «У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больное утешить Он мож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ы твои исцелить все Он хоч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е противься, Он громче зовёт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 и горе земное мину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Он в жизни и смерти дару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вечный манит тебя, о, спе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4:27Z</dcterms:modified>
  <cp:revision>12</cp:revision>
  <dc:subject>Slavic hymnal Гимны веры христиан, hymn 403</dc:subject>
  <dc:title>Бедный скиталец</dc:title>
</cp:coreProperties>
</file>