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AEBA-89B9-47C9-9EA8-89197F32E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4310-F3D6-4600-8C01-3BCD76D8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C206-E339-4F56-AD52-6BEBCB069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3F8B-151F-45C4-8346-8D3FFD347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FAEA-7B32-4293-8148-96D13AFC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56A6-B9CA-47B5-8A2D-F85A5A6A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6CE4-F772-40E6-94E9-890EBA97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D9A2-9301-43D0-A8A4-3811C82C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D24E-E2CB-46BC-BC3D-C4DCC9DE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73B1-54E5-4F32-8204-15A2B51D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D0C8-8E97-4A72-8ED5-2E50685E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7ABE-AB01-46A9-B154-4937056E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AB479E-AAE1-4042-A0A8-6C226325E4B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In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let us sing for joy to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let us sing for joy to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let us sing for joy to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let us sing for joy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let us sing for joy to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us shout a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Rock of our salvation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171   Come, Let Us 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us come before Him with thanksg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xtol Him with music and so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Lord, our Lord, is the great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great King above all g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let us sing for joy to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us shout a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Rock of our salv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us bow before Him in our worshi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us kneel before God, our great K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He is our God and we are His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’s why we shout and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let us sing for joy to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us shout a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Rock of our salv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6:32Z</dcterms:modified>
  <cp:revision>12</cp:revision>
  <dc:subject>The Source 3, song number 1171</dc:subject>
  <dc:title>Come, Let Us Sing</dc:title>
</cp:coreProperties>
</file>