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uk-UA" sz="3600" spc="-1" strike="noStrike">
                <a:solidFill>
                  <a:srgbClr val="ffffff"/>
                </a:solidFill>
                <a:latin typeface="Verdana"/>
              </a:rPr>
              <a:t>Укр-118   Хай не сумує той</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1.</a:t>
            </a: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славить Бог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рославля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славить Бог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рославля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uk-UA" sz="3000" spc="-1" strike="noStrike">
                <a:solidFill>
                  <a:srgbClr val="ffffff"/>
                </a:solidFill>
                <a:latin typeface="Verdana"/>
              </a:rPr>
              <a:t>Приспі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Тому я співаю, співаю: «Алілу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рославля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Тому я співаю, співаю: «Алілу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рославля Христа.</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2.</a:t>
            </a: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вірить в Бог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вірує в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вірить в Бог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вірує в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uk-UA" sz="3000" spc="-1" strike="noStrike">
                <a:solidFill>
                  <a:srgbClr val="ffffff"/>
                </a:solidFill>
                <a:latin typeface="Verdana"/>
              </a:rPr>
              <a:t>Приспі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Тому я співаю, співаю: «Алілу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рославля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Тому я співаю, співаю: «Алілу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рославля Христа.</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3.</a:t>
            </a: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любить Бог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олюбив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любить Бог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олюбив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uk-UA" sz="3000" spc="-1" strike="noStrike">
                <a:solidFill>
                  <a:srgbClr val="ffffff"/>
                </a:solidFill>
                <a:latin typeface="Verdana"/>
              </a:rPr>
              <a:t>Приспі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Тому я співаю, співаю: «Алілу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рославля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Тому я співаю, співаю: «Алілу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000" spc="-1" strike="noStrike">
                <a:solidFill>
                  <a:srgbClr val="ffffff"/>
                </a:solidFill>
                <a:latin typeface="Verdana"/>
              </a:rPr>
              <a:t>	</a:t>
            </a:r>
            <a:r>
              <a:rPr b="0" lang="uk-UA" sz="3000" spc="-1" strike="noStrike">
                <a:solidFill>
                  <a:srgbClr val="ffffff"/>
                </a:solidFill>
                <a:latin typeface="Verdana"/>
              </a:rPr>
              <a:t>Хай не сумує той, хто прославля Христа.</a:t>
            </a:r>
            <a:endParaRPr b="0" lang="en-US" sz="30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1: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0-11-29T06:20:32Z</dcterms:modified>
  <cp:revision>3</cp:revision>
  <dc:subject>Slavic hymnal Гимны веры христиан, Ukrainian hymn 118</dc:subject>
  <dc:title>Хай не сумує той, хто славить Бога</dc:title>
</cp:coreProperties>
</file>