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95D8-062E-4314-95B9-5D4C0D91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613B-4E26-4853-8865-461EC18F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DA23-FD00-4527-AF24-CA07A68B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FA78-FC50-43A3-AFF8-F4AB3429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3728-FD26-4949-9B79-BF16398F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169C-7CF5-4228-B1F1-9AC0C73A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9BFB-7C8B-48E0-ADA4-52EAC11A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AA7B-3758-4162-99D0-19390966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265A-44B7-47FE-99D0-01B974D5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930D-7B60-49AC-9378-4C26F35E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B034-E5C7-46D7-A2CB-7F90F489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F86F-1EEF-4E3E-B925-214ACFA5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A1B00-785E-44B3-993F-5CD6C9830A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peace in my 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the world never g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peace it cannot take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the trials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ay surround like a clou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ve a peace that has come here to st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моём сердце по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моём сердце покой не от мира се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мир сей не может от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оть беда за бедой здесь лишают все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адкий мир мне даёт благо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nstantly abiding, Jesus is m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nstantly abiding, rapture div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never leaves me lone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spers, O so ki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will never leave thee,” Jesus is m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юду Он со мною, мой Иис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юду Он со мною, я не страшу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ня Он не оставит, Он слово даё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Я всегда с тобою, Я — твой Господь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the world seemed to 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 a Saviour and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peace sweetly came to my he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oubles all fled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my night turned to d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essèd Jesus, how glorious Thou 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ышу песню везде об Иисусе Хрис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моём сердце по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корбь ушла со стыд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чь сменилася днё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 Господь! как отрадно с Тоб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nstantly abiding, Jesus is m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nstantly abiding, rapture div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never leaves me lone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spers, O so ki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will never leave thee,” Jesus is m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юду Он со мною, мой Иис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юду Он со мною, я не страшу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ня Он не оставит, Он слово даё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Я всегда с тобою, Я — твой Господь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is treasure I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a temple of cl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le here on His footstool I roa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He’s coming to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e some glorious d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ver there to my heavenly ho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храню этот клад в слабом сердце мо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уждая по стезям земн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придёт Он опять и возьмёт меня в д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царство света, в отчизну свят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nstantly abiding, Jesus is m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nstantly abiding, rapture div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never leaves me lone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spers, O so ki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will never leave thee,” Jesus is m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юду Он со мною, мой Иис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юду Он со мною, я не страшу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ня Он не оставит, Он слово даё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Я всегда с тобою, Я — твой Господь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20Z</dcterms:modified>
  <cp:revision>13</cp:revision>
  <dc:subject>Slavic hymnal Гимны веры христиан, hymn 642</dc:subject>
  <dc:title>Constantly Abiding / В моём сердце покой</dc:title>
</cp:coreProperties>
</file>