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A21E4-0998-43A6-BAFC-E22E39389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1DA6A-0E0F-4119-BB74-E0F893BBA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A60A3-84C4-4FA5-8BA9-A7D3A2227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0C510-83A4-4B76-9453-2CE4411A3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D2AE2-F4D4-4CB1-9E96-9A8BDC176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6D1E6-5A1A-4F7D-AF61-73B605F9E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701BB-2422-47B9-BC35-3E990643B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33E8E-3F75-4F6C-B32F-497D340D8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C5B72-6ECF-4CE8-8BA7-52EDEA288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E7677-4622-4A35-BD40-D8541072F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259B4-10F2-4EDC-AB1E-BA40B93DB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D8868-DDA5-4B50-B044-E80645506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6C02BD-1F6B-4576-9509-55758196F859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а имя сладко мне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кой и радость в Нём душ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лю твердить Его везд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 имя Иисус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, Тебе хвал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изменный, навсегд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ьте, славьте, все ус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 имя Иисус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07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Иисуса имя сладко мн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радальцам сладко имя т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раду, мир даёт он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овью Божией пол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 имя Иисус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, Тебе хвал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изменный, навсегд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ьте, славьте, все ус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 имя Иисус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т слов, чтоб выразить вполн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дорого то имя мн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славлю в пламенной хвал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 имя Иисус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, Тебе хвал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изменный, навсегд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ьте, славьте, все ус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 имя Иисус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1:35:12Z</dcterms:modified>
  <cp:revision>12</cp:revision>
  <dc:subject>Slavic hymnal Гимны веры христиан, hymn 607</dc:subject>
  <dc:title>Иисуса имя сладко мне</dc:title>
</cp:coreProperties>
</file>