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8</a:t>
            </a:r>
            <a:r>
              <a:rPr b="1" lang="ru-RU" sz="3600" spc="-1" strike="noStrike">
                <a:solidFill>
                  <a:srgbClr val="ffffff"/>
                </a:solidFill>
                <a:latin typeface="Verdana"/>
              </a:rPr>
              <a:t>	</a:t>
            </a:r>
            <a:r>
              <a:rPr b="1" lang="ru-RU" sz="3600" spc="-1" strike="noStrike">
                <a:solidFill>
                  <a:srgbClr val="ffffff"/>
                </a:solidFill>
                <a:latin typeface="Verdana"/>
              </a:rPr>
              <a:t>Я прихожу к Тебе в грехах</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Я прихожу к Тебе в грехах, Спасител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много сделал зла за жизнь мо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ути не зная Твоего, Кормител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грехах, во тьме, бродил, прости, мол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ь, Господь, мою молитву ны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сти, прости грехи, омой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сознаю греха и зл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смилуйся в любви, прими раба!</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Хоть недостойно возношу молитв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о ради смерти крестной и кров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шу, прими, покрой грех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жажду мира, святости, любв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ь, Господь, мою молитву ны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сти, прости грехи, омой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сознаю греха и зл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смилуйся в любви, прими раба!</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Не отклони моей молитвы, Бож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верю в силу Сына Твоег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верю в Кровь пролитую и Слов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ерю, прощаешь мне ради Нег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ь, Господь, мою молитву ны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сти, прости грехи, омой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сознаю греха и зл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смилуйся в любви, прими раба!</a:t>
            </a:r>
            <a:endParaRPr b="0" lang="en-US" sz="30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3:41Z</dcterms:modified>
  <cp:revision>3</cp:revision>
  <dc:subject>Slavic hymnal Гимны веры христиан, hymn 208</dc:subject>
  <dc:title>Я прихожу к Тебе в грехах</dc:title>
</cp:coreProperties>
</file>