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4E0-B1FB-41D5-BE8C-9E894D29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330-36A3-4E18-98D8-BC46A7A6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B69-7FA6-4D94-AE3B-61651E2F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C83-0B0F-4518-97DC-89481D66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906-1496-4AD7-B434-4483C42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1A6-A9B5-4E26-82B9-5DFEFCC6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186-EDFF-4239-AC9E-45A7F6E8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798-A09B-4C62-A7CB-4941E8F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FB5-41C7-4A5A-B752-AF526995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119-7D90-4668-ADC8-E845F61C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FB8-5AC7-4AC6-B0B1-AF392021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000-AFE9-4C66-8F34-C44498F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B5B98-9493-4FE9-A93B-955DFD6682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нам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разил греха нап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с Собой на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с грешных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не поща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молил 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нам, мёртвым,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л мрак и ть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нам Своё вру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вать других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— ме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порок и грех каз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мир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17Z</dcterms:modified>
  <cp:revision>12</cp:revision>
  <dc:subject>Slavic hymnal Гимны веры христиан, hymn 387</dc:subject>
  <dc:title>Спасенье вечное Христос</dc:title>
</cp:coreProperties>
</file>