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5</a:t>
            </a:r>
            <a:r>
              <a:rPr b="1" lang="ru-RU" sz="3600" spc="-1" strike="noStrike">
                <a:solidFill>
                  <a:srgbClr val="ffffff"/>
                </a:solidFill>
                <a:latin typeface="Verdana"/>
              </a:rPr>
              <a:t>	</a:t>
            </a:r>
            <a:r>
              <a:rPr b="1" lang="ru-RU" sz="3600" spc="-1" strike="noStrike">
                <a:solidFill>
                  <a:srgbClr val="ffffff"/>
                </a:solidFill>
                <a:latin typeface="Verdana"/>
              </a:rPr>
              <a:t>Иисус, имя всех выш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Jesus, name above all nam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Beautiful Saviour, glorious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Emmanuel, God is with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Blessed Redeemer, Living Wor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имя всех вы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удный Спаситель, Славны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Еммануил, Бог вечно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свободитель, вечно живо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8:19Z</dcterms:modified>
  <cp:revision>3</cp:revision>
  <dc:subject>Slavic hymnal Гимны веры христиан, chorus 55</dc:subject>
  <dc:title>Jesus, Name Above All Names / Иисус, имя всех выше</dc:title>
</cp:coreProperties>
</file>