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AEC-406A-4B4E-A1B7-4F6B2F6B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7CF-0674-408C-8BCA-EEAC10FB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8D7-B672-4F26-A851-9D01FB94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4E4-9D41-4958-BDDB-00BB6EE0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74C-CECD-4681-B426-45362603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DDF-822D-46F9-8469-B23AB63F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968-9E53-46B9-9764-CF52432D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89D-387C-4091-BD7A-1D99387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3AB-7643-482D-9154-625545A2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2CC-B682-4A08-86FC-EBD4079D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060-BD73-429A-AA85-DD21B64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889-2545-453D-960C-AA550316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E82FA-55EA-482C-9A81-CF89FCBDDC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God from whom all blessings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, all creatures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above, ye heav’nl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Father, Son and Holy G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е и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8:34Z</dcterms:modified>
  <cp:revision>12</cp:revision>
  <dc:subject>Slavic hymnal Гимны веры христиан, hymn 818</dc:subject>
  <dc:title>Praise God From Whom All Blessings Flow / Хвала Даятелю всех благ</dc:title>
</cp:coreProperties>
</file>