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E3A-DC88-43C1-9FEB-58377E1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2A2-73F9-4BFA-8A5B-5BB7EDC6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99E-EB91-4C49-A099-AF3700E4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BDE-151E-424D-8487-FDDD98D9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487-F4E1-4590-B641-C5C3105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1AB-0B20-4C92-B0BA-8D3FD1B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1FA-A7E2-4EA5-9097-BA53A85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333-3114-4A06-BBE3-3E0E9A59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AE8-07C5-4CEC-B6B0-9D68847E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D8D-1E31-40E7-BADF-C98EEC1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A0C-7587-41B0-9EE0-83D819F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FEC-2A04-4A4F-A252-27054EA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207C-CE1E-4E02-ADA1-89094B2144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29Z</dcterms:modified>
  <cp:revision>12</cp:revision>
  <dc:subject>Slavic hymnal Гимны веры христиан, hymn 439</dc:subject>
  <dc:title>В свете небесном</dc:title>
</cp:coreProperties>
</file>