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F5CC-B2F2-42AD-AAF6-71F8F2303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41CA-8A48-4BC1-8088-C5F60220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9ACF-8283-4EDA-9C0A-D7B7FA1B3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0FAE-5F3A-45F4-9168-F869E015F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8191-4DB8-4838-A657-F849003D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50B4-6E7D-4532-B846-24C4B27D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E812-482B-4D0E-B890-6C85EAAE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B9A7-CA27-464B-9950-617FA78D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5908-43FE-4254-9B90-72FDBB58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A9DD-E28B-41B5-9FA9-166F7919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B624-932C-4946-8C36-D867D781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7470-5910-4B82-9B5F-F1C1E332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C6038-274C-49D1-9571-3BE40A6283A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Nam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worthy to be praised and ador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we lift up holy hands in one acc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ing, “Blessèd be the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Name of the Lord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47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Blessèd Be the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1:19Z</dcterms:modified>
  <cp:revision>11</cp:revision>
  <dc:subject>The Source 2, song number 647</dc:subject>
  <dc:title>Blessèd Be the Name of the Lord</dc:title>
</cp:coreProperties>
</file>