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769-4B4C-43D8-BA00-3DAC1BED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801-D671-4DCC-AEB9-2C960CAA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535-4AFE-4B32-A4C3-B0BEF35D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BF0-8A5C-4713-A1E2-C6C54778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2F1-8E01-4F7C-AA2D-1898505F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E64-B03D-47E1-8834-8980A01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864-488A-4C5C-BF1D-23DE2B9C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C76-F510-4CAE-99A1-15CADFAD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6E1-224E-4783-871C-A6B1CAC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21E-7ABB-4408-87A2-AAEE982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334-1F0B-4C46-8330-CD1CFE8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96C-1563-415A-8905-073C529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DBFE1-6604-41B1-BC3C-685F8F2715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25Z</dcterms:modified>
  <cp:revision>12</cp:revision>
  <dc:subject>Slavic hymnal Гимны веры христиан, hymn 524</dc:subject>
  <dc:title>Воспрянь, Христов народ!</dc:title>
</cp:coreProperties>
</file>