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BF6A-46FC-46C7-A617-D6891933D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B3FB-AA93-4027-8364-200EA7DA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3131-4C59-4F79-9AEC-14E219312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4867-9405-455E-AF62-9B3B35182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2398-A9B4-4A40-B019-8185B7CE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B093-F910-4F3A-81A7-915E9A64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4938-85E1-4DF7-ABAE-4B4ACA90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B379-53AF-42FF-B82C-90F09E3D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0669-38B7-4A9B-9010-62929FBD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E63F-0F3F-4C41-B47C-5B9ED37F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A98A-2F4A-4692-B162-82878E4D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1D81-5914-439B-BD87-6C97C086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B9FE2-99D8-4B97-80A5-6E29A1CB541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seek You first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ill hear our voic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arly in the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ate in the n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sing Your prais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ing You the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fering our lives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holy sacrif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02   We Will Seek You Fir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our praise a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incense, O Lord, to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our worship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fragrance, O Lord,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seek You first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ill hear our voic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arly in the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ate in the n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sing Your prais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ing You the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fering our lives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holy sacrif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3:37Z</dcterms:modified>
  <cp:revision>12</cp:revision>
  <dc:subject>The Source 3, song number 1602</dc:subject>
  <dc:title>We Will Seek You First, Lord (O Lord, To You)</dc:title>
</cp:coreProperties>
</file>