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852B-F0A4-478C-B6F7-8EF43B44C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7552-13A4-438D-BB81-154826E9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9AD5-E92C-4675-8696-1A510D785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202A-0CCC-4AC8-A305-32381D03A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9EB7-8EED-4AFD-B53F-E2983007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E054-E301-434C-8284-B6E8D7DCD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18AA-D6CC-4272-B897-82CCC85D6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0F80-26C0-4F2D-A87A-91EA8479E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1E33-C2FD-42A1-BEAD-0309DB22C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C04C-6762-490C-9511-53B07183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950F-31BC-4B1E-8005-F966CF45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25FB-7F75-4E23-8238-8F2596ED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75B1B7-0F6E-4828-A38C-863D842FF07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! Ты ― Избавитель м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― Твой удел и достоянь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приобрёл меня Со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ею кровью и страдань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ерю, любящий Иисус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обою вечен мой сою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обою вечен мой сою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ы всегда со мн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6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сподь! Ты — Избав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― мой Учитель Всеблаг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― ученик Твой маловер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аставляешь разум 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юбви Твоей святой, безмер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ерю, любящий Иисус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обою вечен мой сою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обою вечен мой сою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ы всегда со мн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― Пастырь верный, сильный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я ― овца Господня ста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я тернистою троп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разрушаешь все прегра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ерю, любящий Иисус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обою вечен мой сою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обою вечен мой сою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ы всегда со мн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― милосердный мой От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я ― дитя Твоё наве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дал мне жизнь, как Твой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бя явил Ты в челове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ерю, любящий Иисус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обою вечен мой сою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обою вечен мой сою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ы всегда со мн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― всё во всём, вся полно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я ― ничто, я ― прах могил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Сам Ты жертвою кр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двиг меня и дал мне си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ерю, любящий Иисус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обою вечен мой сою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обою вечен мой сою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ы всегда со мн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― свет, а я ― светильник Тв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озарит Твоё сия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ьму Египта, мрак земн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примет мир Твои даянь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ерю, любящий Иисус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обою вечен мой сою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обою вечен мой сою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ы всегда со мн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9:44Z</dcterms:modified>
  <cp:revision>12</cp:revision>
  <dc:subject>Slavic hymnal Гимны веры христиан, hymn 467</dc:subject>
  <dc:title>Господь! Ты — Избавитель мой</dc:title>
</cp:coreProperties>
</file>