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25E-6B02-4704-BA53-1B647AB4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3AD-71E6-45DA-A77A-36C0DA4E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5BF-425E-435C-80D6-F6B155C5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9FC-F55E-4B45-8DA9-83FBE009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11F-D268-492E-9D55-FD6CE83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275-1DFA-4FCB-B350-3BA2AB1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DB9-1379-4D38-ABF4-21DEB8F9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EFE-F649-42BA-8D35-9089DF0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323-481E-4CC9-963F-CCB3722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F70-5528-4632-B02C-AAD6DB2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593-AE7E-482B-93C6-DE0EBCA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24F-6FBA-4233-B810-C609C74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2F39D-E232-452F-903C-5EE71834B9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3   The Splendour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39Z</dcterms:modified>
  <cp:revision>15</cp:revision>
  <dc:subject>The Source 4, song number 2073</dc:subject>
  <dc:title>The Splendour of the King (How Great Is Our God)</dc:title>
</cp:coreProperties>
</file>