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09F-3907-4D14-BFB6-748EA775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E70-3087-4323-A4F4-FA46223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18D-18C5-4C6F-BC3B-8AEE7857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B37-7A42-4387-BBD3-1284F747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9F5-CECD-4CC2-9998-849BB3F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3AC-4CA5-4248-B9DF-3CCAC2B0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06D-72EE-4615-8B87-6558C7D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8E1-9857-44FA-BCCB-3399FFE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FB5-8963-4E5D-A481-DEB5577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A9E-C801-49E4-A9FB-491AE5C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6C8-8754-470B-A41A-46776D5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1C2-827A-4DA3-8026-D7977F3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F99B9-A6DE-4E0A-80CA-B5263FCA74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0   I Was Made to Prais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I’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13Z</dcterms:modified>
  <cp:revision>12</cp:revision>
  <dc:subject>The Source 3, song number 1340</dc:subject>
  <dc:title>I Was Made to Praise You</dc:title>
</cp:coreProperties>
</file>