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1B51-8608-4762-9DF8-B85B6A4C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2812-E646-4C82-B369-A262992F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C66F-8AE4-4065-9CDB-5766AB08E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E201-025D-4272-8F2A-65EFB6CA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4689-EDE3-45C1-A66E-E7073527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1E53-1566-4C8F-8ACA-F9E30BAC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1364-C1DC-4090-A78A-AEF4EBBB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88C9-26A2-4112-B5F2-CE5CB3FB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C3D8-DE07-4983-B065-31F7E535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3F21-4E73-4415-B7E0-D20BDCFA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79D4-5195-4002-BD91-92C07D73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4B0B-4882-4B60-8062-63966426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C61E9-B163-4627-B61F-46611CD9538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 есть славить Госп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имени Твоему, Всевыш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ть утром милость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у Твою в но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лаго есть славить Госп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звеселил душу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Господь, Тебе хвалу 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а Твои велики, м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Господь, Ты мой Твор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звеселил душу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Господь, Тебе хвалу 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а Твои велики, м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Твор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и, Ты защит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мой Бог, Ты — твердыня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землёй небеса, выс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Твоя вовек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звеселил душу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Господь, Тебе хвалу 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а Твои велики, м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Господь, Ты мой Твор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звеселил душу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Господь, Тебе хвалу 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а Твои велики, м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Твор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ожу мои очи к гор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ошу мои руки к не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знал, что Господь мой ве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лость Его над всей землё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звеселил душу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Господь, Тебе хвалу 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а Твои велики, м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Господь, Ты мой Твор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звеселил душу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Господь, Тебе хвалу 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а Твои велики, м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Твор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5:23Z</dcterms:modified>
  <cp:revision>12</cp:revision>
  <dc:subject>Slavic hymnal Гимны веры христиан, hymn 796</dc:subject>
  <dc:title>Благо есть славить Господа</dc:title>
</cp:coreProperties>
</file>