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E43D8-295B-4350-BFA7-244716A5A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1A503-0679-4CD1-BDF8-2E4EB3BF4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E1A9D-EEF8-4ACE-B6BB-6F371D947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1569D-D6CF-423C-8DD3-00B8181C0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8667A-6E61-4FB4-A050-83A6C67E3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1CA70-EC50-4008-BCED-2C86BEC91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97016-7F10-492F-8C3F-3E0F9E482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9AA30-041E-4574-8374-F82E47249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B5346-84E3-4F41-9BCE-255F40901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8EF19-FA22-46CD-B779-8C7F0C06D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D6DB3-9630-4872-89DC-B2718DFAC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C90EB-8336-4C63-9756-95C7488B9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74AA81-91BB-44DC-84F7-3BFDFA265314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овість скажи про Ісу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про життя нам Його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стка та в Божому дус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сім найдорожча всьо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Ангольську пісню спасін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Усім пісням ти волі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огові в небі хвалін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Людям спокій на землі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2   Повість скажи про Ісус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овість скажи про Ісу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про життя нам Його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стка та в Божому дус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сім найдорожча всьо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постив Він у пустел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орога як перемі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ні пережив невесел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Гонений був від усі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безпритульний, голодн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сім помагав у нужд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сі збагатив Він народ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ам же був бідний тоді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овість скажи про Ісу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про життя нам Його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стка та в Божому дус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сім найдорожча всьо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на хресті розіп’я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Він на ньому вмира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в домовину покла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як воскрес Він і вста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овість кажи з напомин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о Спас тому це роби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о грішну бідну людин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над життя полюби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овість скажи про Ісу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про життя нам Його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стка та в Божому дус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сім найдорожча всьо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9T02:26:15Z</dcterms:modified>
  <cp:revision>14</cp:revision>
  <dc:subject>Slavic hymnal Гимны веры христиан, Ukrainian hymn 2</dc:subject>
  <dc:title>Повість скажи про Ісуса</dc:title>
</cp:coreProperties>
</file>