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A96-B6E8-43FA-9365-A27EF30C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937-1388-4E2C-8FA2-00EB258E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DD4-E6CF-4D56-AA80-382F7292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ED4-C10D-4CEB-9124-51DC09B5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64A-FAE7-4091-83E4-F31AC74B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6A4-0791-4703-BA1B-C700D211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5FB-6293-46C3-B385-AB88684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5E7-1C34-4B8F-B6BC-2DB6FF2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47E-F7BF-48F3-9719-F30F2434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F6D-5116-4987-8B41-947FC82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0BA-6F75-4505-94F9-BBBA30E2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E2F-6C75-4782-9C99-18D317F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32FC2-F90E-4F0F-A935-C206C63290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98   You 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fear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made the heav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be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put the stars in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l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know how great You 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plans are full of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e will have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have overcome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58Z</dcterms:modified>
  <cp:revision>12</cp:revision>
  <dc:subject>The Source 3, song number 1698</dc:subject>
  <dc:title>You Shine (Why Should I Fear Man?)</dc:title>
</cp:coreProperties>
</file>