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7BE-6143-4F72-BCA0-CEA6FD61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EF0-8F5B-4F16-86A9-834F4F1D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DA5-3DDD-468D-ABD7-F4D651EC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FD0-8ECC-45E8-B733-7552D49F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04B-8263-4E27-AC74-346AA7C3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BF1-D0F0-4DF9-8FB9-D56D1BDF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A93-5729-43BA-8226-3A2CB49A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536-3F9B-4F3A-8828-CC7874F7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13D-D16C-4F46-9091-2A313617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920-067A-407A-BEA6-34C9ECA2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FAC-1FA6-4126-98A9-A53C3F17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EE9-2639-4853-AEB1-C0148315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98081-AE2C-4A70-B049-DB5940B8C3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возьми, пусть кажд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Ты хваленья гл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волю, должно 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ей только быть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направь, чтоб Тво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ах был исполнить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сердце, Сам уст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стол Ты царски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6:18Z</dcterms:modified>
  <cp:revision>12</cp:revision>
  <dc:subject>Slavic hymnal Гимны веры христиан, hymn 437</dc:subject>
  <dc:title>Боже, жизнь возьми</dc:title>
</cp:coreProperties>
</file>