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D35-482A-4E42-A1FB-EB3B6594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EFA-14F7-443C-B40F-DA04A484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B99-7CFA-4D05-A9A3-CC234391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5E3-D6E6-4F79-90CB-98EFB922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10E-5175-44D2-8372-2968BFE7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5C9-A575-4C45-9FDD-C986497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92F-D54D-4468-A320-728C82BA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790-5116-4458-B397-6AF3D0D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E26-20B8-4E41-8745-32E0CD82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733-6CC9-494B-BD3F-CBDF16F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085-7DD5-4FE9-BFCD-62F02DB2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70C-FF0B-492B-AC76-74AD794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6E956-5157-4E1A-AFC8-D5B5764732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онской горнице убр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рапезу раздел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ред тем, как был пре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Свою им возв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л Он Свои стр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сию ночь предсто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озьмут Его во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удят, чтоб рас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ионской гор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следний раз, друзья,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ху эту совер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ами, верными сы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Свой новый заклю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вете новом завещ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г друга, как с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сем Я вам про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айте такж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ю Я Св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 иду стра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оспримет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му не мин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кушайте М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пейте Мою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те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оведуйт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редание вы 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ть только об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каждого на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л в вере каждый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азал вам пут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же ноги вам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рец Своё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вас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делай своё де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уде Он сказ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дилось твоё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б света не ви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зачем ты поднял ру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был всегда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знал Мою нау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вал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те, братья, и пойдём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 место, где нас жд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те бодры, в вере сто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еня от вас возь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пить сию ч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цом Мне сужде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сю жизнь в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в мире рожден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50Z</dcterms:modified>
  <cp:revision>13</cp:revision>
  <dc:subject>Slavic hymnal Гимны веры христиан, hymn 726</dc:subject>
  <dc:title>В Сионской горнице убранной</dc:title>
</cp:coreProperties>
</file>