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40AD-A9F7-4A97-A50D-E1A9C44FD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90D1-87B0-4D8C-837D-26E39128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5C32-931B-49A1-9C26-51E31F811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6831-70F6-4201-83A2-DF12C7878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705E-745B-4BBF-A06C-9DA031EC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9A7A-7C2F-4367-88A9-CC913178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F9D8-5828-4C5F-B2FD-4C93939C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44C2-F4AC-4258-AF7C-C1C0B617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9A96-B5B2-4F16-B863-AA4C4077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1A3F-F73E-479A-8FAA-89630B53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8AC9-73D0-4414-B71C-07BB4AA2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B206-7745-4B7A-AE9D-6B1F8889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8E071-0E35-4AA4-AF4E-704B27B95AA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as I am, without one pl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at Thy blood was sh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at Thou bidst me come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amb of God, I come, I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9а   Таков, как есм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без дел, без сл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вши с радостью Твой з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верою в святую кр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, Господь, иду, и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as I am, and waiting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rid my soul of one dark blo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e whose blood can clea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ch spo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amb of God, I come, I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не смея ж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кто меня мог оправ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познавши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, Господь, иду, и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as I am, though tossed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many a conflict, many a doub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ghtings and fears within, withou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amb of God, I come, I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для всех чуж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омненьях, страхе и боль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битый бурею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, Господь, иду, и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as I am, poor, wretched, bli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ght, riches, healing of the m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a, all I need, in Thee to f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amb of God, I come, I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увидел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елика любовь Тво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мой Отец, моя сем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, Господь, иду, и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as I am, Thou wilt rece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t welcome, pardon, cleanse, relie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Thy promise I belie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amb of God, I come, I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путём жив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бой проложенным, прям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бы навеки быть Тв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, Господь, иду, и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4:27Z</dcterms:modified>
  <cp:revision>13</cp:revision>
  <dc:subject>Slavic hymnal Гимны веры христиан, hymn 479 (as amended)</dc:subject>
  <dc:title>Just As I Am / Таков, как есмь</dc:title>
</cp:coreProperties>
</file>