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9D7-0E12-49A6-9262-E8E275E8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8CC-F767-44A5-9E3C-2DE7621E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A0F-9E51-460A-B3B4-34513525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C17-FA1A-43D4-88C9-70F2A16D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FC2-68CB-48C2-A0C3-9F9F3A9F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D27-9860-4B68-9BE8-3805DBEB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BEE-9726-4BEC-98AE-255BB5F8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BBF-3625-46BD-9A17-9A281F57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DC8-CD65-49D7-A06E-C00BD5C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53B-D467-40FF-A3D8-FF6E921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454-F8CE-43A0-9FC5-BD1DB600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C29-8F7E-45E0-A717-990565FB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941D-BFA5-4247-B9C9-12FADDCD63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these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distress He kindly will hel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ever loves and cares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kind, compassionate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but ask Him, He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of my troubles quickly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 and tried, I need a great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ho can help my burdens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, I must tell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all my cares and sorrows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the world to evil allur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my heart is tempted to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nd He will help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world the vict’ry to w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3Z</dcterms:modified>
  <cp:revision>14</cp:revision>
  <dc:subject>Slavic hymnal Гимны веры христиан, hymn 623</dc:subject>
  <dc:title>I Must Tell Jesus / Скажу Иисусу все мои скорби</dc:title>
</cp:coreProperties>
</file>