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3C3F-DBD9-4A71-8FEF-2B01FD95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8865-2339-4F86-9B1E-F3E237EE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23F4-4836-4A11-8251-D45D6960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75E7-88E3-4892-AA87-F93E3F54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2B39-C63E-4358-81A8-E104AE39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9ABB-477C-4FDB-B5FE-2B271C0C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E2A8-8A13-4E7A-9AF4-A81D3915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4461-F25B-43C4-8BA3-FB0C08AF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87AA-07EC-4F9F-A70F-20DEA703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5EF6-57F8-47E7-AC63-BC7443AF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E92-1AB8-4DFD-B09B-5B1C54AB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530-717E-4595-919F-E7E90CA5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E767F-B8EA-44CE-8CD7-4292158069E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my life down at Your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I n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urn to You, and You are always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roubled times it’s You I s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put You first, that’s all I n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umble all I am, all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95   I Lay My Life Dow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Here we go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ay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that I could liv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ay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that I could liv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lways, always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how and ev’ryw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abounds so de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never ever chang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terday, today the s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till for ever meets no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Here we go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ay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that I could liv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ay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that I could liv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truth and the li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ve by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t by sight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living all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Here we go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ay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that I could liv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ay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that I could liv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4:18Z</dcterms:modified>
  <cp:revision>12</cp:revision>
  <dc:subject>The Source 3, song number 1295</dc:subject>
  <dc:title>I Lay My Life Down At Your Feet (One Way)</dc:title>
</cp:coreProperties>
</file>