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991-345A-4536-9065-3C6C95CF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927-BEB7-427F-8976-AFF4F328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909-D32C-42CA-B472-A433E291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DDF-FC6D-4B50-A97C-89E65D15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A14-3561-4C85-8B20-89650FA7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5C1-BD04-4B4F-B249-9972B28A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E01-40AB-4123-8394-B517DC7C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B8D-1605-4414-8F27-6FC954C7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B08-5895-42E0-995C-BF615123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2F4-D45F-4CE6-8C8C-127BD21D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CDB-E871-4871-8EF1-39484DC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076-430D-4524-9F00-F6278F8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F0168-EE44-4332-B2D1-6F0CF070CA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look into Your ho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gaze into Your love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ome shadows in the light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Твою взираю святость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ю взираю святост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ю взираю 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вете всё мерк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е не ман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’ve found the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eaching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will becomes enthrall’d 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ome shadows in the light of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я в Тебе нашёл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воля стала волей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вете всё мерк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е не ман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ason I live 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ason I live 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, славл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для того, чтоб хвали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, славл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для того, чтоб хвали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17:54Z</dcterms:modified>
  <cp:revision>11</cp:revision>
  <dc:subject>The Source, song number 571 in Russian</dc:subject>
  <dc:title>На Твою взираю святость я / When I Look Into Your Holiness</dc:title>
</cp:coreProperties>
</file>