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316E-B49A-49F3-AB2F-283BE2340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F94A-0AFF-4B51-9425-63CBB85AB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9925-B8B1-4378-8A5D-5E6353F61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A51E-E8B3-4AD8-A945-0453C8A0D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2663-3F3A-4CE1-998E-41F5CBDA9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34EF-D58D-461A-9135-9DD1BBF4B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6158-AA0C-4AE4-A8E1-223EB96E7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D49D-1837-4998-AEDB-88380512F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8BEF-15C6-482B-A556-B05263C65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B240-641D-4035-9DB9-E4CB1571D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F294-4EE7-4581-A05A-8D3B1C791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DE64-1CED-4E92-BEA3-11BFE007A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E91DBD-FFF8-4746-A646-AA30F04B1F5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cious promise God has g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 weary passer-b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 way from earth to Hea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guide thee with Mine ey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8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орогое обещань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рогое обеща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м, грешникам, даё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о дороге испытань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ду тебя вперёд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guide thee, I will guide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guide thee with Mine e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 way from earth to Hea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guide thee with Mine ey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ду Я, повед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ду тебя вперё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дороге испытань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ду тебя вперё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emptations almost win th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y trusted watchers f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this promise ring within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guide thee with Mine ey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ас, когда в огне терза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друга не най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звучит то обещань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оведу тебя вперёд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guide thee, I will guide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guide thee with Mine e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 way from earth to Hea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guide thee with Mine ey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ду Я, повед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ду тебя вперё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дороге испытань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ду тебя вперё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y secret hopes have peris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grave of years gone b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this promise still be cherish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guide thee with Mine ey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сердца упова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речь жизни разобь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й с верой обещань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оведу тебя вперёд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guide thee, I will guide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guide thee with Mine e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 way from earth to Hea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guide thee with Mine ey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ду Я, повед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ду тебя вперё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дороге испытань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ду тебя вперё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e shades of life are fa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hour has come to di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r thy trusty Pilot call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guide thee with Mine ey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ночи тень спад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ончины час гря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й, Кормчий твой взыва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оведу тебя вперёд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guide thee, I will guide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guide thee with Mine e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 way from earth to Hea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guide thee with Mine ey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ду Я, повед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ду тебя вперё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дороге испытань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ду тебя вперё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6:21Z</dcterms:modified>
  <cp:revision>13</cp:revision>
  <dc:subject>Slavic hymnal Гимны веры христиан, hymn 489</dc:subject>
  <dc:title>Precious Promise / Дорогое обещанье</dc:title>
</cp:coreProperties>
</file>