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0B2A-2974-4E75-B2EC-7B2185FA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847-B9B3-4090-8CFD-A683B377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D79A-BDD3-4313-B412-EDB2CA86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56F-4F43-4EA3-95CF-7D14F901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743-2723-4604-AB7E-D0EE80E6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807-51D9-4466-8302-580619FE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136-433E-4B7D-972A-1B7FD05D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72E3-234D-4F58-91A6-FCB63C88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3F4-78E9-4CF1-88B5-6B0FD7DF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C6E-F375-441B-BFEC-18E03414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0E5-49AE-4FB4-8009-0E560D36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DF10-470E-41C7-BEBC-083FFDB3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42FD2-BEEB-46AE-B097-154D3844B0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He rescued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blood has covered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lieve, I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ame He’s taken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ain is healed in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lieve, I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aise a bann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has conquered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6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Know He Rescued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He rescued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blood has covered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lieve, I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ame He’s taken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ain is healed in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lieve, I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aise a bann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has conquered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my bur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ise with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dancing on this mountain-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Your kingdom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9:13Z</dcterms:modified>
  <cp:revision>11</cp:revision>
  <dc:subject>The Source 2, song number 768</dc:subject>
  <dc:title>I Know He Rescued My Soul (My Redeemer Lives)</dc:title>
</cp:coreProperties>
</file>