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9C0-4199-4EB7-B683-2674484F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AAB-6B0A-4AE8-8A99-66AD8AC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A5D-408B-4035-86D6-3446C987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255-E72D-492F-9C07-48D2A7FB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4F3-C931-4D6E-A261-8999CF5E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9EF-E4C0-4799-9E0C-8C0FBE9B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3BD-6F9D-4BB5-BBCA-59EF620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AD8-9751-4815-9323-06880F84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C10-C875-4C06-A77B-667D9C2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3C0-D98B-478E-8707-856F536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3B3-0CEF-4E0F-B40B-65A899D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11C-1721-474C-9CE3-6B70C83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0524C-8006-4554-8829-456E323B1D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ящий в вышне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Властел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веков, тысячел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как день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, царящий в выш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туча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блеснёт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аснет без сл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как лёгкий п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 летний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пе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ава, что лишь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вянет под жа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ушающи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бренность нашу зна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е нашей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ысяч лет счит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шь бессмерть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Царь дружине в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нь битвы дарит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улишь в любви безм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ь нам за ден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41Z</dcterms:modified>
  <cp:revision>12</cp:revision>
  <dc:subject>Slavic hymnal Гимны веры христиан, hymn 738</dc:subject>
  <dc:title>Царь, царящий в вышнем свете</dc:title>
</cp:coreProperties>
</file>