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90C-3E3C-44BA-8EE6-4F43B3E1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15A-38B4-4D8A-A557-1936F41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1EB-9CF1-4365-8421-2176BDBF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966-19FB-4732-9F8F-7D1ADBDB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399-AA7F-47E4-93A8-4E804B3E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111-38E3-4203-BC30-8CF6351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3C1-C0C1-4E06-8AFF-9200A6E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E9E-A334-463F-8810-2F5EBC35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DB0-CA32-42A2-8432-5AC22899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5B8-4E94-42B6-A247-7A587EBC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FB5-B24B-4693-905F-0FAB636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026-5BC2-490A-81B0-40C5B33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9BD5B-2382-4DF4-A378-8D9CD41CA4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 grace of our lov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exceeds our sin and our guil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on Calvary’s mount out-p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here the blood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sp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despair, like the sea wave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aten the soul with infinite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, yes, grace un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s to the refuge, the might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is the stain that we cannot h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e do to wash it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There is flowing a crimson 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than snow you may b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, infinite, matchles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bestowed on all who belie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hat are longing to se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this moment His grace rece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09Z</dcterms:modified>
  <cp:revision>12</cp:revision>
  <dc:subject>Slavic hymnal Гимны веры христиан, Ukrainian hymn 101</dc:subject>
  <dc:title>Grace Greater Than Our Sin / Милість Господня велика так</dc:title>
</cp:coreProperties>
</file>