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73C1-6E65-4FD4-A1AA-39089806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EDEA-8AFC-4033-8459-8A254750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CCDC-226A-4A3F-8A55-4A1C9D05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04F4-185C-4484-9AA0-A7A62740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12BF-9EEA-4208-8674-ED281B43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DFC4-615B-4934-A4A1-6B3D197A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6D0D-1D7F-4DE6-9102-EC670C3E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19CF-9247-4026-BE12-492BB917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6F17-6332-4215-91DD-F56BFD6F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3F92-D675-40F8-A7F3-1F6E7534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6ED2-E4BC-4DD7-878C-768718F3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963B-3C0D-4E62-8793-4255295D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F819B-B7F0-43D9-A310-494A2A57E7E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е, знову нагад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вяту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моїм серці буде х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свята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 любови ллє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до неба рве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Христа! Слав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любов Христа!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   Брате, знову нагад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ям в світ Христос прині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небес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тішає в хвилю слі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любов навчає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х Бог прощ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Христа! Слав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любов Христа!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е, знову нагад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вяту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икне з серця сум, відч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радість з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личе спів люб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життя об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Христа! Слав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любов Христа!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6:57Z</dcterms:modified>
  <cp:revision>17</cp:revision>
  <dc:subject>Slavic hymnal Гимны веры христиан, Ukrainian hymn 5</dc:subject>
  <dc:title>Брате, знову нагадай</dc:title>
</cp:coreProperties>
</file>