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8984-DA5E-4E57-A120-F31BD49DD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70CE-0FF1-4FB1-971C-4F26B56D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4BC3-FE74-42C0-8818-1F5F3EE5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B397-8CC4-4ADD-97A4-60E652CB8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3BEE-EC82-4A52-A0F2-31188F44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FC39-76A4-45D8-99FA-168FC531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0CBD-64BA-4307-AEFF-DB732709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5913-E052-4FDD-A357-8C33A47F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E323-CCAB-40B7-B450-8CA9D287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1505-98EC-4A2C-97FC-ACC24174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691E-9A94-4752-B861-0926BCF0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C566-FA37-4FB0-8963-597CF1F0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2D176-095F-40B0-906B-87C2F8DDDB2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о мне недостойном печ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и мои кровью Своей Он омы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Его мне прощенье даёт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Он вашим Спасителем бы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 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 молюсь я за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 о м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 Отец мой, благой Промысл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даст бесконечную радость вкус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ам меня ждёт в золотую оби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я с вами туда мог вступ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 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 молюсь я за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есная есть у меня там одеж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не видал человеческий гла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й я предстану, моя в том надеж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в неё облекли также в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 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 молюсь я за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мир Свой Спаситель мне в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л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торый людским непонятен ум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тот сердца во Христе соблюда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тот мир был дарован и в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 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 молюсь я за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принял Христос вас, друг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теперь вашим Спасителем ст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ясь за других, вы к Нему прибег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ашей мольбе, как моей,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им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 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 молюсь я за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3:05Z</dcterms:modified>
  <cp:revision>12</cp:revision>
  <dc:subject>Slavic hymnal Гимны веры христиан, hymn 624</dc:subject>
  <dc:title>Спаситель о мне недостойном печётся</dc:title>
</cp:coreProperties>
</file>