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965-4B9C-47EB-BA7C-6135642A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810-8026-4FA3-BD43-D6E34BD6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DD1-1D14-400E-8F4F-8A96C9DA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769-0800-468E-897F-EF8DE81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2CD-E667-48A3-A183-EE4620B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652-D9A8-4841-9A7B-2819826A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238-3EF4-4357-B4EE-950A18D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BA9-153A-455E-BB73-A841F16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148-243D-4E7C-BA84-BE68E85B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B5F-7CBE-4A6F-9AED-C0243EC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569-9954-4B3E-86D7-643042C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189-79AE-4EFC-9613-7E4B6CF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D3C76-4998-46D1-BE8D-B611284CDB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десь лишь странник, странств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одину я свою спе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расстанусь я с этим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небесный к Отцу в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десь лишь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ойду я всю тень раз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торой тяжко бороться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у я к блаженству б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гибнет ещё во т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тер веет, несутся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грожают мне здесь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то лишь, что Бог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пребудет, как вер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я слышу вокруг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стонут во дни трев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я больше ищу п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я отдохнуть с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горе, минуют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новый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ою я в нём песнь по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буду с Христ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42Z</dcterms:modified>
  <cp:revision>14</cp:revision>
  <dc:subject>Slavic hymnal Гимны веры христиан, hymn 659</dc:subject>
  <dc:title>Я здесь лишь странник</dc:title>
</cp:coreProperties>
</file>