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36B-8CBF-4A3C-BD91-32F452A6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597-6FAC-491E-98FB-55D9C052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F4D5-D61B-4627-9290-156F89B2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585-01B1-4DDC-9CC4-6FF14216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82F-2970-4B84-8659-C05E9743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E2A-CD7E-433C-80E2-6140E500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2C02-0485-4B7A-A5A3-C3246942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DEA-1EEF-4FDD-B32D-240B6619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6CE1-8958-428D-BC5D-E03A9FC8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B0A-5955-45A3-9850-82AF0C0A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922-B099-4753-8B23-03B618F6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B6B-D916-48FE-AF1C-F707CEA9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774C7-8F34-4773-9784-B0D5663202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есно вся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илас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брёл див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скал много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чудесно вс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блужданьям 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— мне добры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грехи мне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потребных мне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пованьи жи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сту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яд скорбей и об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й путь не зат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м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грозны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видит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лавы в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чудный в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у от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икованьем в ду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с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7:57Z</dcterms:modified>
  <cp:revision>12</cp:revision>
  <dc:subject>Slavic hymnal Гимны веры христиан, hymn 577</dc:subject>
  <dc:title>Как чудесно вся жизнь изменилась моя</dc:title>
</cp:coreProperties>
</file>