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55E-E357-4705-850A-1154D946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D6C-0B78-45B1-8389-7B4F9739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A1F-AA3D-4A72-9DDE-93AD45C8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207-4F8B-460E-BE31-0AC6C7AB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73F-E8F4-4351-B24C-0F5875B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80C-7122-4458-A4A7-9005045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D86-1DD4-43F6-A89F-A09B54CF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EA2-B190-480E-A892-4FFAF11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DAF-51A5-45E6-B65D-616A6F7F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D5F-E0B5-431A-A4DF-B31DEA20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8B5-294D-46A1-A66C-D2DCD7C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426-4EB9-43A3-9412-375F868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AEEE4-B62A-44DD-818D-AD56856517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Тебя и пою хв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ю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мой Ца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удет ра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песн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6:02Z</dcterms:modified>
  <cp:revision>11</cp:revision>
  <dc:subject>The Source, song number 214 in Russian</dc:subject>
  <dc:title>Люблю Тебя и пою хвалу / I Love You, Lord, and I Lift My Voice</dc:title>
</cp:coreProperties>
</file>