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883-4F8B-412D-B41F-5A0EFC24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50C-8AD1-4977-B2DF-C2CD3C5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57F-31CC-4F80-8A16-07283146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D32-225E-4614-A756-0814A50D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929-0240-4AC3-A0A1-5AEBE09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CC5-2D50-4F05-9BE4-BAD21FE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6FA-BA3E-4040-BE11-8E3AFA59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90C-0027-4ECE-9280-07D0045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B75-3758-4BDC-BF4B-3E1D3A10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668-C4C3-4810-94E4-DD81B91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388-EDB8-4A63-8999-E633B50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471-2B91-4E11-92E0-F03A449C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264F3-8768-48F9-858E-EBA53EA181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14Z</dcterms:modified>
  <cp:revision>12</cp:revision>
  <dc:subject>Slavic hymnal Гимны веры христиан, Ukrainian hymn 25</dc:subject>
  <dc:title>Is My Name Written There? / Я не хочу багатства</dc:title>
</cp:coreProperties>
</file>