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462-BC9C-48B4-A412-C8FECC6A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F9A-B463-45FF-A183-F1ED4FE3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CCC-BFE9-47D2-99C0-C767E600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723-8DE1-41A9-940B-9A17F53B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4DE-FAD3-4374-8788-86D4D70C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812-0100-471A-8CCF-86FF156C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986-32F2-4EC8-9ECB-E351B6C8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8E0-2534-4095-9CA8-9EC37304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D2E-A17D-4D5E-888C-A4092CF7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4FF-5D9C-4083-ACDE-6E686CB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B29-1773-4171-AD28-F3A9DC1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90B-56FD-42D8-A99C-FA10A07A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51D3B-57FD-48B6-AFDF-6E82453E03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Иисусу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и хочет тебя Он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ло Своих верны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же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ты дума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 людей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нет в жиз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 чувству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х обличает во вс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прими и будь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расстанься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нежданн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Господню семью не при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 смерть того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5:16Z</dcterms:modified>
  <cp:revision>13</cp:revision>
  <dc:subject>Slavic hymnal Гимны веры христиан, hymn 399</dc:subject>
  <dc:title>Что же ты медлишь, мой брат?</dc:title>
</cp:coreProperties>
</file>