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E00E-2C6D-444C-A439-B671AF4A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8735-2185-4EC9-86AE-BDA3A3F1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66D2-1216-40C6-AA7D-267346B4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E505-6F5B-4510-B234-A60A17CE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2E31-E04A-411B-937D-C8D47A5E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B561-F5FF-4924-A1E5-F0B77F54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CE93-D7BE-4224-AAC6-F928FA66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9F54-A2EB-400C-BCCD-B42FAA86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11F0-918D-4114-8A03-9C05D273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0026-8757-4149-B7C9-1E1A60AD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AF7B-4B23-448A-AD00-3B8FCEF5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17C5-D4A2-47B6-9B7B-D29296DD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74D47-3D79-4AF6-83B0-05493C6AF5E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ve fo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at I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that I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eart beats with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ach day I wa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think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97   I Live For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why I sing, You are why I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’rything of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place at Your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why I love, You are why I 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’rything of me belongs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of me belongs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ve fo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are m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all I ne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ul, it lo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mo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why I sing, You are why I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’rything of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place at Your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why I love, You are why I 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’rything of me belongs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of me belongs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4T06:14:01Z</dcterms:modified>
  <cp:revision>12</cp:revision>
  <dc:subject>The Source 3, song number 1297</dc:subject>
  <dc:title>I Live For You (U.R.Y.)</dc:title>
</cp:coreProperties>
</file>