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32B-76E8-45DA-A262-F2406D10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E27-62AD-4158-8A79-56FD62CD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D3A-BD95-4C92-B688-FD68F4A4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469-A040-4E3E-8CB1-0FDAF389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868-9DB2-4852-BCB1-1369277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FC2-9996-4261-A2EF-4748B338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F3F-3365-45A5-96CB-AB73D60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133-F367-4A0E-A4E6-4525D6F2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7EE-3C1B-4655-9FB1-B99760F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BF9-9F32-48A4-9D43-D49A6B05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1A8-6AB6-4419-B012-2EDAD08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831-2EC9-4C59-A2AD-5020B76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D9539-6D8F-4BB3-AD83-B4FDBF0F6E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ze upon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of my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r of my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ch me how to liv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18   One Thing I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ay of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v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 place of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upon Your nam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want is You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upon your nam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want is You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46Z</dcterms:modified>
  <cp:revision>12</cp:revision>
  <dc:subject>The Source 4, song number 2018</dc:subject>
  <dc:title>One Thing I Desire</dc:title>
</cp:coreProperties>
</file>