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6</a:t>
            </a:r>
            <a:r>
              <a:rPr b="1" lang="ru-RU" sz="3600" spc="-1" strike="noStrike">
                <a:solidFill>
                  <a:srgbClr val="ffffff"/>
                </a:solidFill>
                <a:latin typeface="Verdana"/>
              </a:rPr>
              <a:t>	</a:t>
            </a:r>
            <a:r>
              <a:rPr b="1" lang="ru-RU" sz="3600" spc="-1" strike="noStrike">
                <a:solidFill>
                  <a:srgbClr val="ffffff"/>
                </a:solidFill>
                <a:latin typeface="Verdana"/>
              </a:rPr>
              <a:t>Честь Тебе, Иисус распяты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Честь Тебе, Иисус распя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анный народом Ца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традал за тьмой объят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аёшь спасенья да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сть Тебе, Господь Всесиль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зявший грех наш и позо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погибающим Ты див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у милости простёр.</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Агнец, посланный от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грехи взять на С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терпел от мира зл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знь и смерть, нас возлю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дям Ты даёшь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 Адамов Ты прос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источник очищ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емлю с небом примири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Честь Тебе, вошедший в сла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бывающий с Отц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нмы ангельские сно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ят мощь Твою в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ебесах Ты наш Ходат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готовишь место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одряешь нас всегда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даёшь не по дела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лава, честь и поклон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гнцу, Господу Хри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звучит Ему хва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ари все Его да чт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ры ангельские, с неб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пешите к нам оп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евать чудесный жреб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ына Божья прославлять.</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8:38:07Z</dcterms:modified>
  <cp:revision>3</cp:revision>
  <dc:subject>Slavic hymnal Гимны веры христиан, hymn 126</dc:subject>
  <dc:title>Честь Тебе, Иисус распятый</dc:title>
</cp:coreProperties>
</file>