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C99-2C6B-4CAD-A470-49D5CF68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925-D12E-41B4-9702-0015310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867-4A03-4A7A-9EA0-F9F57824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510-F26B-4D8C-B9B8-DF73BC1B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706-04ED-4503-BF93-E6A6B072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F8E-10B8-47A7-ADEB-E6DA8D9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289-1BE2-47AD-B521-966261B5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88C-4210-4558-8DC8-38CF13CA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6CC-A4FF-4C4C-9D5A-C18DD3E0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440-30C6-4051-94B3-CFADE07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A3E-89E2-457C-A31A-7AAED63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DBB-796A-404F-96C5-E511AC1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B853C-F196-4459-8421-D8031CFE49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cred Head, now wou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ief and shame weighed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scornfully surr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, Thine only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ips have often f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ords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pirit oft hath l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enly joy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ale Thou art with angu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re abuse and sc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oes that visage langu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nce was bright as m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, my Lord, hast su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all for sinners’ 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, mine was the transgre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e the deadly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here I fall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I deserve Th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on me with Thy f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uchsafe to me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in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born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t was my trans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brought this woe o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st me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ath were my rightful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mercy, I impl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r, spurn me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language shall I b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nk Thee, dear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Thy dying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ity without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ke me Thin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uld I fain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t me never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live my lov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hepherd, now r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uardian, own m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blessings Thou didst gi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rce of gifts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3:41Z</dcterms:modified>
  <cp:revision>12</cp:revision>
  <dc:subject>Slavic hymnal Гимны веры христиан, hymn 867</dc:subject>
  <dc:title>O Sacred Head, Now Wounded / На древо вознесённый</dc:title>
</cp:coreProperties>
</file>