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922-2EEB-4B9D-9216-BA44B29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310-EE7F-4F05-88B9-D1ECA3D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F30-23DF-4B43-BE26-5D66869B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675-5A7E-46D4-B8DD-2BAD44A1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047-BC98-40E3-B605-BD882B2E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888-20F9-4A29-9E8C-10A9F59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5E2-8BE6-4ADD-9A34-71A9DB8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583-CCA5-4A7B-ACD8-43077A3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8BC-9377-420C-9260-37DD8965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1A1-ED0E-4100-BDBE-AD31A20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85D-E9D3-4385-9020-78D9BD3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360-A72F-4213-9122-F3EFB71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1ADA3-70F6-4EA5-B7D8-29B7F10B01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сть 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40Z</dcterms:modified>
  <cp:revision>12</cp:revision>
  <dc:subject>Slavic hymnal Гимны веры христиан, hymn 416</dc:subject>
  <dc:title>Грех победить, о, желаешь ли ты?</dc:title>
</cp:coreProperties>
</file>