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FAE-435D-409A-83F8-6C75DA31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B69-479A-47A9-BD5B-08F83DC8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653-78EA-4C74-88FE-7C5D00B5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57B-1596-432C-AF2D-141A33F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763-A72B-45C0-8A3F-1CEBCDA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8F7-DB94-452C-BFA5-B6AB715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730-25A2-44FA-8B88-1CCFE2A1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365-D1FF-4174-9454-93FA6C6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A88-E700-44E1-8DD2-516B24F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A1B-D075-41EB-865F-30E1201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91E-7733-4B9D-B4F3-C27DE5E5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43E-379B-4A1F-8877-0F3B70EB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17F32-58A0-44B5-BAED-FAA7DEFD6B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riches of thi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sound of my friends’ 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biggest dream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just the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getting what I say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living the life that I want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love anyone could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0   Better Than the Rich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old me now in You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, O Lord, make the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moonlight in the night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me breath and all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hear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can’t stop 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stop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33Z</dcterms:modified>
  <cp:revision>12</cp:revision>
  <dc:subject>The Source 3, song number 1150</dc:subject>
  <dc:title>Better Than the Riches of This World (Better Than Life)</dc:title>
</cp:coreProperties>
</file>