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3CE-72F1-4321-B56B-1C4091AB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9E9-D78F-42CB-B580-E14E24B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D74-E433-4BE8-9493-A12A4A83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E9E-6AB7-4B63-9EAF-7E6C042E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0E0-B2D1-4A63-AE50-EF757B4B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D4D-A80A-4CFE-A92B-0D34E51D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B99-7731-4E8A-981A-89BDC84D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D59-A579-4122-856C-D5F270D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74C-9954-4437-8B5A-DC23545C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89A-5196-46B1-BC04-7276403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2C3-78A9-4550-8816-D83C4F5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EE2-B042-4A33-93C0-F9A841F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53687-793F-4ACD-BFA3-440440D29E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26Z</dcterms:modified>
  <cp:revision>12</cp:revision>
  <dc:subject>Slavic hymnal Гимны веры христиан, hymn 887</dc:subject>
  <dc:title>Ночью с моря люди громко</dc:title>
</cp:coreProperties>
</file>