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702-A0B1-4CF1-9E20-1821F076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A66-386A-43B7-B54A-6665248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9BC-A822-444E-8E06-BCA5AC56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BB2-8BE5-4678-8CC5-88AAAC45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0D-568A-45DC-8703-4798983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3BB-9C77-4FEB-B850-8B052AF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DA9-0A3D-4737-A683-4F3AD78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2A6-8F00-446E-A9FF-DE2B2E6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3CA-667A-47B1-BFE3-300564D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17E-1F73-4033-A0D2-7745822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D53-647B-45B8-87D2-E0C9ACC1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289-D341-44A9-B96B-EEE3686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4ABD8-7096-4290-B76A-E7079E29E8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9:17Z</dcterms:modified>
  <cp:revision>12</cp:revision>
  <dc:subject>Slavic hymnal Гимны веры христиан, hymn 287</dc:subject>
  <dc:title>Воскресшему служу я</dc:title>
</cp:coreProperties>
</file>