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4222-41CA-4672-8093-F06E73E4B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07A2-DE96-434D-97F8-5F310EFB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7090-2E52-4D5B-9947-EF3983EE5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B5D4-2C3A-44FE-AF19-42715C5A3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52ED-CEF6-43BB-8C50-AB61B8C0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07A9-A35D-4046-9B4D-A436B12D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005D-C810-44E3-B56E-8F709A9E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E192-2945-4FD2-985F-7A2B0A7E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5D29-76BA-4C9C-A900-C48A1284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3E97-C316-4AFF-9A67-18048D65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3AEF-1BE4-476A-8ABD-7EEEB601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A972-0E35-4080-BF16-1C1A1B06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904D9-64D4-4671-8276-565AD6B15CA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am a stranger here, within a foreign l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home is far away, upon a golden st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mbassador to be of realms beyond the se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here on business for my 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странник на зем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странник на земле, вокруг всё чуждо м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оя обитель там — в небесной сторо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лагую весть нести повсюду послан 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 повелению Цар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is is the message that I br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 message angels fain would 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h, be ye reconciled,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us saith my Lord and K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h, be ye reconciled to Go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немлите вести той благ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й вторят ангелы толп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О, примиритесь вы», 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зывает Бог и Цар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О, примиритесь с Богом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is is the King’s command: that all m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verywhe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pent and turn away from sin’s seductive sna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all who will obey, with Him shall reign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y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that’s my business for my 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г ныне каяться всем людям повел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отвратиться сердцем от греховных д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Христу внемли и жизнь прими, молю теб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 повелению Цар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is is the message that I br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 message angels fain would 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h, be ye reconciled,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us saith my Lord and K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h, be ye reconciled to Go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немлите вести той благ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й вторят ангелы толп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О, примиритесь вы», 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зывает Бог и Цар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О, примиритесь с Богом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home is brighter far than Sharon’s rosy pla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ternal life and joy throughout its vast domai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Sovereign bids me tell how mortals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ay dwe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that’s my business for my 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ияет чудный свет в моей стране род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радость вечная у верных над гла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умолкая, звать туда всех должен 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 повелению Цар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is is the message that I br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 message angels fain would 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h, be ye reconciled,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us saith my Lord and K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h, be ye reconciled to Go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немлите вести той благ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й вторят ангелы толп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О, примиритесь вы», 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зывает Бог и Цар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О, примиритесь с Богом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1:40Z</dcterms:modified>
  <cp:revision>13</cp:revision>
  <dc:subject>Slavic hymnal Гимны веры христиан, hymn 660</dc:subject>
  <dc:title>The King’s Business / Я странник на земле</dc:title>
</cp:coreProperties>
</file>