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FF1-D637-4C5B-84D4-E7D85F08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7AA-5A30-4A65-A39E-B9AD72B8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463-4197-4ECA-9730-E6EBDCEE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5BE-780C-4D42-BC3D-A4C8A4AA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67A-02B7-4313-8587-EB39947A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72E-0FDD-4DFB-BA44-0B4928FE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E39-AEEF-4D6A-AB51-F8CBCBE5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2BC-1086-43AF-BB9F-EFC1152E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F85-1E57-40E5-A9D7-A0836F1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88C-A5D6-4648-91CC-1C608FC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0DA-657F-4F0B-861D-4F48943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21A-3885-453F-A31D-E734B23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BD0F3-24AE-40CF-B884-A951345AA4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лхвы с востока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дары, не глядя на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ю к Божью Сы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ий кончаю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лхвы с востока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Царь нам рожд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м почту Его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ковечно,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буде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в дар несу я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ебес пришёл в нищ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опенья и м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дут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ны горькой запах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хранит в юдол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Умерщв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ерт был в гроб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Он, Воскресш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и Бог страдал за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9:00Z</dcterms:modified>
  <cp:revision>13</cp:revision>
  <dc:subject>Slavic hymnal Гимны веры христиан, hymn 231</dc:subject>
  <dc:title>Вот, волхвы с востока идут</dc:title>
</cp:coreProperties>
</file>