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FEA-A9DF-4971-A800-7AD3221F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755-AB9D-40E9-8294-AB710E8B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200-8D3D-4C14-BDFA-CE004942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6152-4A47-479A-A836-BFE504E5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6181-AC66-4F5B-B4CA-32CF32D0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A62-B76C-4CEB-8774-3D1317F5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41D-188A-4B04-8F9A-0C0CA997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6BB-EEB1-4FCB-9CE8-BE233E2B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10A3-2446-4F8F-A5F4-732538AE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D32-994F-491C-8FEA-CE926982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BD0-6D9F-4988-BEC6-E5084CBA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8F1-C6B4-4767-B216-2A956D21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D1B53-5CCB-4FDF-865A-F5FA4456DA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итя в хлеву чуж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 охраня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 поёт о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астухи вним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за Дитя в хлеву чуж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же в яслях Он ле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вцам корм дав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який мог у ног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жить свои печ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 дар золото, ла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ирну принес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Царь царей, пред Ним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сердца отвор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7:06Z</dcterms:modified>
  <cp:revision>15</cp:revision>
  <dc:subject>Slavic hymnal Гимны веры христиан, hymn 800</dc:subject>
  <dc:title>Что за Дитя в хлеву чужом?</dc:title>
</cp:coreProperties>
</file>