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5BD0-407C-41F7-8E78-71A52E8C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A7C6-6103-4E0F-824A-CF12D7E3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6F31-BA84-4AA1-A0BB-2CA10656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4C83-378A-49DA-B299-8BE84B83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A34A-FCF5-438A-89B7-67044BD8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DA9-1843-48CB-A8CC-B1DDBDBC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8C6-BFDB-483B-8649-71F55A9E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8CC5-4BF8-4BCE-B421-CEEA095B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A79E-B65B-4E6C-B26A-5028A101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5BE-48A4-495F-981B-C9D157AA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B60-2346-4C0B-9845-8B7AE11F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95D-6695-4063-803C-09BF0370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EC4E6-E42E-42D8-9C5A-F14CAD1E8D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brought us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s high as the heaven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56   Think About His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could I forget His l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could I forget His mer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tisfies, He satisf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tisfies my des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brought us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s high as the heaven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when I’ve strayed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has sought m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un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tisfies, He satisf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tisfies my des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brought us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s high as the heaven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0:08Z</dcterms:modified>
  <cp:revision>12</cp:revision>
  <dc:subject>The Source 3, song number 1556</dc:subject>
  <dc:title>Think About His Love</dc:title>
</cp:coreProperties>
</file>