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98E-34B2-45BD-9D3C-104492C4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FB7-2496-4661-B385-31B86CF4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812-1E6C-4E18-A87C-D377325D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761-E6E2-4768-B194-6904E030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5345-D541-45FA-95C7-3680635C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4F2-03F9-464F-B35A-3A0EEDD9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19A-5AE8-4DDF-88CC-1A6D26E5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B49-8209-4F79-8A67-D52E1F34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EF6-2FD4-4189-8D90-6A74D221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F97-A3C7-409B-A4F0-B918B4F4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D84-371C-4495-9C96-01AA2B32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BE5-B944-4460-9881-CC04C379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AAAF9-5806-41F2-AED3-892965EAEA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ve a story to tell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hall turn their hearts to the 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tory of truth and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tory of peace and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tory of peac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у нас Божье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Божье слово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сплавить мож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е Его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е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darkness shall turn to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wning to noonda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’s great kingdom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dom of lov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ve a song to be sung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hall lift their hearts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ong that shall conquer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tter the spear and s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tter the spear and s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песня веры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х может к Богу привл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им дать над зл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мать и копьё, и ме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мать и копьё, и ме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darkness shall turn to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wning to noonda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’s great kingdom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dom of lov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ve a message to give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who reigns up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 sent us His Son to sa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ow us that God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ow us that God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весть живая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оздатель дивных ми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слал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ь нам Отц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ь нам Отца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darkness shall turn to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wning to noonda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’s great kingdom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dom of lov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ve a Saviour to show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e path of sorrow has tr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all of the world’s great peo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 come to the tru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 come to the truth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известен Спаситель народо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шёл страданья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ать спасенье мно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вернуть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вернуть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darkness shall turn to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wning to noonda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’s great kingdom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dom of lov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1Z</dcterms:modified>
  <cp:revision>14</cp:revision>
  <dc:subject>Slavic hymnal Гимны веры христиан, hymn 530</dc:subject>
  <dc:title>We’ve a Story to Tell / Есть у нас Божье слово</dc:title>
</cp:coreProperties>
</file>