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41B5-4D8D-4EE5-9720-6E0F4A56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22D9-48CB-4B05-A5B5-8216008B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64A4-C4A5-4710-8B1D-9BB0DA75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75F8-7150-4913-8E4D-2867116A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CB7C-F4C9-457B-85D0-5E13B8EE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8030-6A9B-4CFE-87B2-CB6FCFC7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7746-C939-45EC-B30F-3F57032B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443D-2C55-4CB1-A85C-C58CB73D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0432-7E3A-45A0-B410-766582F7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FF37-D48D-407A-B22B-2DC4B2DE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FDDB-3D75-4218-BD79-E879D4B4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58D7-1574-46CA-B8BC-F07411B8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7B87A-A004-4A52-AAC6-F29AC95E3BF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kings and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hallelujah!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Prince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hallelujah!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Царь цар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царей и Господь госп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аллилуйя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князь Ты ми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аллилуйя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7:15Z</dcterms:modified>
  <cp:revision>11</cp:revision>
  <dc:subject>The Source, song number 307 in Russian</dc:subject>
  <dc:title>Царь царей / King of Kings</dc:title>
</cp:coreProperties>
</file>