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16A-CC96-4F59-AF3E-B6CF8958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C1F-9EF4-4371-A52F-67337829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C63-C24A-4D52-83C7-4F6ABD14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24C-D7C2-495D-B0FF-8D37D93C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5E6-FBD1-4CC6-BDF6-2DB715F5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190-5C6C-4B40-AECE-1A6E3205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241-2809-4A05-9A57-BD24D4A9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9A6-9857-427C-81EC-D585BD4D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47F-4C84-4E87-90FA-8426F2EF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691-D234-4F86-BFBE-659C1FDB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1F7-1D6F-4514-A7A5-11DB21FA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70D-E6B7-420C-9F4F-43A4FEFA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1FFB9-8AFB-4521-A655-8938EFB068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Saviour, glorious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manuel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ed Redeemer, Living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Name Above All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26Z</dcterms:modified>
  <cp:revision>9</cp:revision>
  <dc:subject>The Source, song number 291</dc:subject>
  <dc:title>Jesus, Name Above All Names</dc:title>
</cp:coreProperties>
</file>