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35</a:t>
            </a:r>
            <a:r>
              <a:rPr b="1" lang="ru-RU" sz="3600" spc="-1" strike="noStrike">
                <a:solidFill>
                  <a:srgbClr val="ffffff"/>
                </a:solidFill>
                <a:latin typeface="Verdana"/>
              </a:rPr>
              <a:t>	</a:t>
            </a:r>
            <a:r>
              <a:rPr b="1" lang="ru-RU" sz="3600" spc="-1" strike="noStrike">
                <a:solidFill>
                  <a:srgbClr val="ffffff"/>
                </a:solidFill>
                <a:latin typeface="Verdana"/>
              </a:rPr>
              <a:t>Бог мой, храни мен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г мой, храни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мой, хра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уй, чтоб прожил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аткие д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Книгой святой в рук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словом Твоим в уст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мой, храни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мой, хран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удрость мне в ум вло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 — в у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рдце любовь пош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ух — Дух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всем, как есть снаб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вечности Сам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мой, храни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мой, хран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сюду, где стан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Твоих сл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дям вслух возвещ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виг Христ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б враг, следя за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г мне грозить бе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мой, храни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мой, хран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Если мир ста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ой меня гн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помоги, чтоб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г усто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ым Тебе слуг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вере Твоей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мой, храни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мой, храни!</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0:06:56Z</dcterms:modified>
  <cp:revision>3</cp:revision>
  <dc:subject>Slavic hymnal Гимны веры христиан, hymn 135</dc:subject>
  <dc:title>Бог мой, храни меня!</dc:title>
</cp:coreProperties>
</file>