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67D-E606-490A-91E4-66218CF2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CB2-C8BD-479E-A98B-502C9A61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79D-9B25-4126-AC06-BD037A7B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0E1-330D-4407-A15A-DDD4FC20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F75-5A75-4337-A26B-ADFDE5E1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BBF-F3D7-474E-BB17-64EC5EDF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E5F-6AE9-437B-BDF6-2B54D81A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F1D-E105-40BA-B34F-E7F94820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924-10D5-41FA-B53C-950D0135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A65-AD39-454C-B67A-B0A7DECB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506-274A-420A-A185-DA176BCF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18C-03A6-46EB-87A9-FEED1984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4F3A8-2FE6-437D-A4BF-7CC03085B6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наш верный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сегда Ты близок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ди 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 жизненным пу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 голос мы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истой радостью в гру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тник слабый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ждь наш ве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изкий, верны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гда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Своих Ты 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скать на ощупь в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ря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лабнет под ну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ень пройдёт тру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м сладкий з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бо, как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ерёмся мы с мол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я в мощь крови свят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оток нас про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8:39Z</dcterms:modified>
  <cp:revision>13</cp:revision>
  <dc:subject>Slavic hymnal Гимны веры христиан, hymn 302</dc:subject>
  <dc:title>Вождь наш верный, Дух Святой</dc:title>
</cp:coreProperties>
</file>