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71F-FED0-4D24-B05D-676294BF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60D-E4AB-4585-9662-A4D477A8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578-C214-48FC-89E7-9A4D2E1A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5FA-CFB6-40CF-A5AA-65DE8FF7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DFB-F67D-42CF-B157-D3919F1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A3B-BE9A-4A4C-BB54-7EA6C1DA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5D0-8DBD-4D76-9B2A-E230E794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173-7BCE-4BE9-B9DB-8953F42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586-ED64-433C-8CC3-F1EA1B50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10B-BA0B-4C8F-96B7-158FCE4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A7B-C712-49A2-8488-D9FB4EBC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57A-40EF-4FB5-92BE-A912C1E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59952-D6A1-4C17-B759-B7C3D6E234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y God’s wond’rou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th made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hy, unworthy, Christ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d me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8   Не знаю, чому Бог м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чому Бог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рив Свою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бо чому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is sav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did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believing in Hi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ought peace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як Бог дав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дар прий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а Його Слова 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є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e Spirit m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vincing men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vealing Jesus through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ng faith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, як Дух Св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ть в вір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криває нам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ественни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en my Lord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night or noonday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if I’ll walk the vale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meet Him in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 часу, ні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прийд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через смерть, чи Сам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ін заб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4:15Z</dcterms:modified>
  <cp:revision>12</cp:revision>
  <dc:subject>Slavic hymnal Гимны веры христиан, Ukrainian hymn 48</dc:subject>
  <dc:title>I Know Whom I Have Believed / Не знаю, чому Бог мені</dc:title>
</cp:coreProperties>
</file>