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C3795-1D55-451F-8E2E-07DD9A530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FC61F-FC33-4DC0-8CCD-8F27348B8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A865F-90F5-41D6-B688-A854C65BF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F2BAE-D063-4385-8724-5DB2FC823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31AEE-E0B8-4B5D-A36D-4004B1532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7B557-5A91-49CC-BD50-41CFA9417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C4AAF-7100-4400-A5BE-991EBECA5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A8B3C-68D0-4D8F-AF39-136D4B87B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78718-AE7F-4E83-80BC-0985BB7DD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D5DC7-B92D-4553-B4F9-31E1F3731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90166-067B-4B42-9B81-516FD1291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5044B-5261-4A61-9B99-7EC8A7A77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42328C-E6DE-4536-8B5F-7E4D21F339D5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д новый наступает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Боже, удост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труде иль ожидань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жить сей год с Тоб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д новый — год сознан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мы здесь не одн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добре иль в испытань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с нами во все дн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94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Год новый наступае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д новый — год служен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любви и просто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год приготовлен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ть с Ним на высо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д новый… Новый жреби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, нам дай, люб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сей земле иль в неб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ть только для Теб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25T00:54:05Z</dcterms:modified>
  <cp:revision>12</cp:revision>
  <dc:subject>Slavic hymnal Гимны веры христиан, hymn 894</dc:subject>
  <dc:title>Год новый наступает</dc:title>
</cp:coreProperties>
</file>