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B41-EA08-48F5-965D-995FE0C4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984-A3F8-459E-9531-EE90F772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F7D-5655-48A4-88DF-1D728E6E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A8D-1601-4F21-9D54-7488A6AC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EF1-0043-4542-B865-03B98E8E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998-346B-43EE-9A48-9FB06A6B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36B-02BE-4E51-B50D-CD230A1B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5EF-4DF5-4C03-A780-30556273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AAE-2F6E-47B4-A203-BAC4C2F0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CFD-DA99-4350-B806-D95F5B03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640-7CBB-4621-8E90-B5D7A59D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03A-0BE7-41A2-B4D0-D48A6C4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6F0A5-CE62-489B-AB0C-E293F860A3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се ве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лику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вс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торжеству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Царь вам рождён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в хва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ыне все верные в ми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од с вой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ей уби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же Млад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ипет вступ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Млад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был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Он по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 мир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рожд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ивое твор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нцом на че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был ука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звезд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удре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лись с мольб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д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 прин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ли, Младенец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неба,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од услыш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арском рожд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замыс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ть преступл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о Млад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ить захот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ро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ать повел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оси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веле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Ирод заду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ть уби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зу возьми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а и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гстве не мед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иска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2:08Z</dcterms:modified>
  <cp:revision>14</cp:revision>
  <dc:subject>Slavic hymnal Гимны веры христиан, hymn 236</dc:subject>
  <dc:title>Ныне все верные в мире ликуют</dc:title>
</cp:coreProperties>
</file>