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9120-8FB9-462B-A6C3-104B548D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055-EAA4-4644-BAA3-F49D5912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9BBE-387A-4C17-842F-6F535422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2BC-8D06-4546-A19F-F982AFB0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A8E-98C1-44F9-9899-F743442A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8756-6C3B-4EC5-A31E-B34238D7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34E-2838-4BE1-9CEA-6125FD24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3469-DEB3-4A64-8769-FED1DD76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2F4-1FB1-4ED0-9BD3-2A1FDDF1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8BD-997D-4830-9556-E07C0F8D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EDAB-FF9E-4D2C-94CA-5590E6BD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AEF-95AB-42CF-94D6-A2855780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8CA7D-611E-4111-A156-089263A229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рогії хвилини Господь нам пос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обачили сестер, брат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Ісус з нами буде, як в слові сказ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лине з сердець Йому сп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приємно зустріти й побачити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траждання й земну сує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абути в єднанні святому на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відчути св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5   Дорогії хви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починемо тут, на Сіон ми 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зьмем сили нові в От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почивши за Господом далі пі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в світі лиш гріх без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сно, дружно єднаймось дов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чі в небо ясне підійм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перед, все вперед під захистом 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Господом сміло пійд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5:19Z</dcterms:modified>
  <cp:revision>13</cp:revision>
  <dc:subject>Slavic hymnal Гимны веры христиан, Ukrainian hymn 75</dc:subject>
  <dc:title>Дорогії хвилини Господь нам послав</dc:title>
</cp:coreProperties>
</file>