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F78-6155-4B0B-9915-CB5C8BE3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29F-9A86-49EE-AC3A-C135B410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7BF-6F89-441A-A3AE-DBC45874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FD9-8893-4C29-9B0B-FE03536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3AC-5631-4F8B-8C9A-1BB74CE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9EC-5E1B-418F-B5E8-6A7DE47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74A-896E-45BB-BBBF-DEF029C6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780-9CDF-42A1-BEE6-D87AF0C4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C98-90EC-4C37-BECD-15C2A3C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0C6-9028-433C-8089-D3DE98E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969-F3BC-4532-ACE2-7F70CBD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E67-9603-4033-A39A-0E232E4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FF75E-B748-4BB5-9907-D3F65D3FEC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11Z</dcterms:modified>
  <cp:revision>13</cp:revision>
  <dc:subject>Slavic hymnal Гимны веры христиан, hymn 881</dc:subject>
  <dc:title>Могу ль постичь любовь Христа?</dc:title>
</cp:coreProperties>
</file>