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FA35-5A4E-4DAA-B9FC-8B8321496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926E-0A2E-4D9B-81C7-EEBCE27E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EE0C-9168-486F-80E1-4F5AC5754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FB8B-017A-43BC-9E3B-7848D64DB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E548-E58C-4E72-86DD-472C2FFC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C8FF-3E31-4851-A07D-A68008B3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DB06-B76B-411E-803B-20526A2F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9A1C-0ABF-4A17-86D3-36EBD0E5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831E-A547-4CF4-82C7-A5A647CA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FAA5-0D9B-413E-ADD1-B2132B70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108B-2483-496C-AFA8-B1DABA17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C1F2-976E-4404-864F-D2084AC5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DE27A-C236-418C-B281-D03F6333567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Zion, haste, thy mission high fulfill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tell to all the world that God is ligh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He who made all nations is not wi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soul should perish, lost in shades of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ион, спеши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ион, спеши исполнить долг священн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м расскажи, что в Боге жизнь и св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Устроитель и Господь вселен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близок Он к творенью Сво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blish glad tid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dings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ding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demption and rel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с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hold how many thousands still are ly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ound in the darksome prison-house of s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none to tell them of the Saviour’s dy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r of the life He died for them to w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ляди, гляди! народы погибаю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х враг пленил и заключил в тюрь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м о Христе никто не возвещ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пасает души из пучины бе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blish glad tid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dings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ding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demption and rel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с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Proclaim to every people, tongue and 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God in whom they live and move is lo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ell how He stooped to save His lost cre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died on earth that we might liv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, возвести народам и племёна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Бог даёт нам жизнь и благод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Он сходил спасти порабощённы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Он страдал, чтоб грешников прин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blish glad tid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dings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ding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demption and rel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с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ive of thy sons to bear the message gloriou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ive of thy wealth to speed them on their w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Pour out thy soul for them in prayer victoriou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Zion, haste to bring the brighter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шли сынов нести в мир весть спасень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шли дары содействовать в труд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олись всегда за призванных к служенью, 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 всё награда ждёт на высо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blish glad tid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dings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ding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demption and rel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с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7:51Z</dcterms:modified>
  <cp:revision>12</cp:revision>
  <dc:subject>Slavic hymnal Гимны веры христиан, hymn 852</dc:subject>
  <dc:title>O Zion, Haste / Сион, спеши…</dc:title>
</cp:coreProperties>
</file>