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568-BBCC-460F-96CA-D973C038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581-AE49-41B8-9DDD-A135A719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4D0-1AFF-4C4B-82A1-C100C1A2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6BA-3E63-49BD-A573-23EDA7B1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99F-82B6-4205-988C-49EEECA8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94B-8885-43F7-95CE-940F23D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DCC-D50A-4DD5-8846-4379D7D9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209-2F22-4FA0-BDD3-D9C587F3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883-AD35-489E-9DC3-A6B5D44D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A7B-7577-47CD-A1AA-54A5D0E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FAD-2671-4765-83DA-A9D47B54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8C5-3BFF-4C7D-AFDB-FBFF283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361EB-194C-4899-97ED-DA133B0590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вой крест, в страданьях не роп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Творца и ты и жреби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нам. Общенья с Ним 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чрез тьму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учший друг, к блаженству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уныв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м так, как прошлым упр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ишь верь! Ничто да не смут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час поймёшь зачем ты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и буре и вол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ажет Он — настанет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уж близок сла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 Христом мы буде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святой отрёт нам слёзы с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ет скорбь, забота и ну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земное всё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нас дом Отцовский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9:27Z</dcterms:modified>
  <cp:revision>12</cp:revision>
  <dc:subject>Slavic hymnal Гимны веры христиан, hymn 860</dc:subject>
  <dc:title>Не унывай! Господь всегда с тобой</dc:title>
</cp:coreProperties>
</file>