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3F8-FB88-4C11-B9FF-CF36949A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478-6FC2-400E-9AA0-992FB62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B1C-F158-48B2-8FAD-442CFBA0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756-AFDC-4661-9287-B98BF6A0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DAC-E743-4A05-B48A-BB31C8F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D61-6AC8-410A-86B0-35956283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A7A-8D16-432B-9062-AFFBE1F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1B2-301D-4D0B-801C-A4619E8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113-B396-4667-85E2-0D58CC7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460-B8A3-4F25-88FE-31BDD18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79B-93AF-4FE9-946D-E2D8766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BB8-8CF0-41BE-977E-D6C29BDF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E9636-AC3C-47CA-BC15-BF8FBD17DC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26Z</dcterms:modified>
  <cp:revision>12</cp:revision>
  <dc:subject>Slavic hymnal Гимны веры христиан, hymn 599</dc:subject>
  <dc:title>Я спою вам песню веры</dc:title>
</cp:coreProperties>
</file>