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138-F5E9-4537-B5AD-4476E7ED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A32-1825-4B3B-996B-0EDFB617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4A6-6E88-40AE-8E9D-8EC2A90C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8FB-4931-443C-8991-0B4A8036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177-7BC9-4578-877B-5CA6E76C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4C5-3B3A-4C07-8AD1-388323B4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C46-7EE6-4073-8F38-32FBF269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30B-41F0-4631-8F48-51D781A0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4F3-F68F-4E67-A09E-FA1E7478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FEC-43F7-4655-85C5-318000E7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84E-E980-4DC4-8963-F7AD164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B6A-5B54-4BD4-ABEE-5D9042B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82176-1B91-428D-AD47-840C9AB315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ve that wilt not let m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y weary soul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Thee back the life I o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ine ocean depths its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richer, full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ght that follow’st all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ield my flick’ring torch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restores its borrowed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y sunshine’s blaze it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ghter, fair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that seekest me throug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close my heart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ace the rainbow through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omise is not v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rn shall tear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ross that liftest up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ask to fly from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in dust, life’s glory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the ground there blossoms 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that shall end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26Z</dcterms:modified>
  <cp:revision>13</cp:revision>
  <dc:subject>Slavic hymnal Гимны веры христиан, hymn 831</dc:subject>
  <dc:title>O Love That Wilt Not Let Me Go / О, Божья вечная любовь</dc:title>
</cp:coreProperties>
</file>