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17D-4C5C-4D4A-A55E-CECECD5F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90D-44C6-49C3-B4D3-B4CA9E33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66E-D3C0-47F8-8336-E4402DB7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3C3-9817-4542-8DAB-7E3F3546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633-E640-43F5-8FD3-8E77ED4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0A9-9A82-410B-BF0E-E5CBEE7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853-E26B-4E6F-B3C9-C3F62C33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25D-8070-4E95-B78B-33F7B55D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2FD-8B1C-4CAA-AD80-F088829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AEA-C796-4BB1-9505-89A3C28B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953-F7C4-4D42-9B8C-BB7D3EC4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E91-9A8D-40EC-9692-D5D59641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B8282-5371-4F1B-954B-3D47480EAB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47Z</dcterms:modified>
  <cp:revision>12</cp:revision>
  <dc:subject>Slavic hymnal Гимны веры христиан, Ukrainian hymn 79</dc:subject>
  <dc:title>Коли Господь ученикам</dc:title>
</cp:coreProperties>
</file>