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030-8325-4061-A552-6C4A0EFA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EEC-FD7A-47A2-BA2E-C63522A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127-3CFD-465B-AEA0-02836431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0A6-F7EC-4FF4-B691-2AFE8515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EFA-43FE-43F6-8DE7-5EFFE94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B4D-B282-4249-BF7E-75268AE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9B6-9A32-4910-B6DC-9C90D17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D5B-D4A4-49B4-B426-0A36313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E37-AE4C-4736-AA21-7929229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6E2-F755-4CD0-9F13-22F2631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1FB-0E84-41C8-872C-A5D8F4F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732-21CE-4CE3-B035-FB045D9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AAF3-003A-4B7E-AFDD-18635D5962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4Z</dcterms:modified>
  <cp:revision>13</cp:revision>
  <dc:subject>Slavic hymnal Гимны веры христиан, hymn 691</dc:subject>
  <dc:title>Sweet By and By / Издали нам сияет страна</dc:title>
</cp:coreProperties>
</file>