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4357-35CA-46DC-AD9E-22425C1D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E7F6-2C41-457A-B459-8689953B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A2CC-F231-4FBA-BDE0-7CACB052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A666-2DE8-4B39-A59D-797008E4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37AE-CB32-4F1F-86DC-3387446C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C4D3-BF7A-40FB-8B31-63F18419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B903-9825-4C48-865E-FB5439ED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87DF-B93A-430D-8A94-E9B89DA7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1B7C-A37F-4E93-9EC7-C13AF7AE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64F4-4E37-4043-9CB9-B91CE670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2E77-08CA-42D6-AE9B-C8CDC8C8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E476-03D8-4429-A045-4052EE8A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44339-E8FA-4693-AB06-91942FF0060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afe to the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s higher than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oul in its confl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orrows would f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как рвётся душ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рвётся ду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а и об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калу, что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м светом г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sinful, so w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e, Thine, would I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blest “Rock of Ages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hiding in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окутала мг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емог я в бор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кроюсь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ding i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ding i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blest “Rock of Ages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hiding in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кроюсь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alm of the noont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sorrow’s lone h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imes when temp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sts o’er me its pow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изнуряющий з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иночества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ситель пред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вит сети не ра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tempests of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its wide, heaving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blest “Rock of Ages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hiding in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раз, и не д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ю слабе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кроюсь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ding i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ding i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blest “Rock of Ages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hiding in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кроюсь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oft in the conflic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pressed by the f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fled to my refu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reathed out my wo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часто тес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естоким вра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ишь Богом од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мире 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often, when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sea billows ro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I hidden i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ou Rock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я жизни про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ярче блести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покой и мой щ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ding i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ding i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blest “Rock of Ages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hiding in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кроюсь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11-28T02:19:22Z</dcterms:modified>
  <cp:revision>13</cp:revision>
  <dc:subject>Slavic hymnal Гимны веры христиан, hymn 626</dc:subject>
  <dc:title>Hiding In Thee / О, как рвётся душа</dc:title>
</cp:coreProperties>
</file>