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C56-1764-4CBA-B711-8FB6E6CC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831-C8C7-4067-8E7C-6DE1FC84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B36-3E5C-43F3-A82C-81D0BEC9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198-737F-40D7-BE78-B3D6B276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213-C283-4A7C-A2A3-50B7093A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5A6-EF86-4E74-BB25-63632692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690-FC8F-47A0-A737-3A07100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80D-01B3-46C9-8105-174F25D7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24C-81BC-4237-B69E-4493BB9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30E-9EE4-4F4C-84D3-CDB3625A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729-B23A-4C88-BCB9-8A174A2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9F1-A533-47ED-80D5-4F94696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7E3D3-6B7E-4714-A2B1-6EA9B30883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, друг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ен долг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ожно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отдо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, друг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, вид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пи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исце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ую мину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ял л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в силу Б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веч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мен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твоя за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52Z</dcterms:modified>
  <cp:revision>13</cp:revision>
  <dc:subject>Slavic hymnal Гимны веры христиан, hymn 714</dc:subject>
  <dc:title>Скоро, друг усталый</dc:title>
</cp:coreProperties>
</file>