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24C-C0C5-46F3-991C-D565A4AD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A3B-B802-4834-9F49-9BD0E74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2D2-0364-4F76-B56C-A355EEC6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91B-E704-4DE9-97E4-F87700C3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BD2-618F-4F55-B062-D04BA754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0BB-F8D8-4990-BCE8-62DF3F78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C9B-9834-422C-9384-4872DCE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8FC-C756-47B7-9B95-FD7E7DEC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E4F-7A80-4C75-A7EE-3E034763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A22-82D1-4A09-BC08-90F7549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E59-D382-461F-8AB6-84B7F1B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1D9-E00C-4EA6-B6B7-768E30A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871B7-4CCC-427D-B48B-CCC3F63685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not skilled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pl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ly know at His righ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s One who is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0   I Am Not Skill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ake Him at His word and d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died to save me, this I 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my heart I find a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im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living, dying, let me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, my so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ho lives to be my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died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24Z</dcterms:modified>
  <cp:revision>12</cp:revision>
  <dc:subject>The Source 4, song number 1880</dc:subject>
  <dc:title>I Am Not Skilled To Understand (My Saviour, My God)</dc:title>
</cp:coreProperties>
</file>