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B0E-7A50-4A28-89BB-911D10F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878-1F6E-4C04-8657-F8E3AFF2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11C-4E49-408B-90D8-9DAF1228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E55-ADE2-431E-8827-5D55C379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F2A-33E0-474D-8ADA-EE13F703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465-0A3A-426B-BEE0-A5BDF253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408-42CA-4502-A2E3-7EE06F02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404-B6CD-4061-A125-5C7F4D40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08F-F696-43E8-B1EF-49CF6FE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309-7F70-4B58-A5E5-EC2AF58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624-B868-47FC-B82C-E69F0E45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BF8-3E48-4C16-B5EE-321D54A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CC5FF-DC3F-4C79-BF1E-05BBE2BAF7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8   Amazing Gra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0-12-18T08:49:35Z</dcterms:modified>
  <cp:revision>13</cp:revision>
  <dc:subject>The Source 4, song number 1718</dc:subject>
  <dc:title>Amazing Grace! (My Chains Are Gone)</dc:title>
</cp:coreProperties>
</file>