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A8E-0465-490D-9CEA-1C40558B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2C0-730F-4133-9654-3589733A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37B-9C89-4C3D-906F-9D7F54E0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420-E629-4425-8147-908D4043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B63-3864-4F19-9ACE-AD091432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527-2180-4409-8E13-38A77A6D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A58-F02E-408C-8309-9FC4C046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50B-7620-4A73-A714-BBECD01E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EEF-D1AC-4512-8FC5-CAA0AD05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169-3ACD-4FFF-BD94-9BBEE561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6FC-E312-4160-9C15-76C8E4EA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001-353A-416C-8687-B23883A7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90066-7C45-48ED-9E7A-DA483A7748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, Christian soldi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ching as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on bef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ины Христо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 жаркий 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гот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овать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then, ye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our happy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nd with ours your v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triumph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и, поспе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армию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свя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и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laud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Christ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through countless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n and angels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н и чу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Иисуса тру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и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Ем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, Christian soldi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ching as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on bef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the royal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s against the fo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ward into batt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His banners 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ь небесный с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ы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ьётся наше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, Christian soldi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ching as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on bef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a mighty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ves the church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thers, we are t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saints have t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лки отбор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рковь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тупает строй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н чудно с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not 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ne body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in hope and doctr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in cha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Он пове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о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ре и в уч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ужестве свя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, Christian soldi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ching as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on bef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s and thrones may pe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doms rise and w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church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tant will re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ны и к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ют, словно л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Христова церк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ере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es of hell can 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inst that church prevai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Christ’s own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cannot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д не превоз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ранных Христ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 слово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Он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, Christian soldi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ching as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on bef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04Z</dcterms:modified>
  <cp:revision>13</cp:revision>
  <dc:subject>Slavic hymnal Гимны веры христиан, hymn 486</dc:subject>
  <dc:title>Onward, Christian Soldiers / Воины Христовы</dc:title>
</cp:coreProperties>
</file>