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DDE-C9D5-490C-B698-35B4F8D3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C8D-AB67-486E-9F75-49451911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353-56F3-4ACA-9393-1CC6CE8A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0D1-9E68-42EE-89E0-A2B918DB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C5D-E087-4181-BB0F-3FF951CC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E46-7EAE-4219-ABB3-CD25080D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4CD-4ACB-4DAB-94A7-37BE6B80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B45-C1AD-499A-8180-F8AB11DC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EE5-D1A0-4C25-B4FA-25312A11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066-FE91-41CE-A17C-5D65CC8D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D6D-E2CC-4A45-BB46-AE20A9FD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41F-A644-4C62-9CD4-5330B1B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2DE66-FEF2-4BD5-AD2C-DFFC9B6917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оза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е Он огонь прибр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храны пор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греха жесток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стонет и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яжённо путник смот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с берега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светильник, бра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 гибнущий пл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 волной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т гибельный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4:56:19Z</dcterms:modified>
  <cp:revision>14</cp:revision>
  <dc:subject>Slavic hymnal Гимны веры христиан, hymn 555</dc:subject>
  <dc:title>Ярко свой маяк Отец наш</dc:title>
</cp:coreProperties>
</file>