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496-3A0D-440C-9E0E-65BE9E05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6D2-F585-40E6-AF9B-9C382496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3B7-69E5-49F2-BBD1-CDCA0F05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1EF-0FE3-4EA5-9305-F3C238EA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A21-6D95-42CE-86BB-4F55CE4A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D2F-5835-43B3-BCD7-747626D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6CA-EDF7-4E49-A99C-3F9C3476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A30-6237-4CCB-BB63-23E4A13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BA8-95B7-4364-AA13-63BB6B3F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74A-992D-4122-82A6-BA4E138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C3D-DC27-4443-A1FC-66D260F1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DA9-E0BA-43E4-AFA2-C90B241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C90B6-125B-40AE-98C4-DED9621B72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O blissful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our Saviour, heav’n is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’s toiling ended, O glorious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when day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 з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лавное ут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приме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заботам, светает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зем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no clouds will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torms will threaten, no fears ann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ay of gladness, O day un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eternal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нет места ту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м житейским, страхам зем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наступает радостный, лучш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отдых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a hand will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the Father, whom I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ious presence, His word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my portion on that fair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Того уви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за мой грех был изъяз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ышать,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чего жаждет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O glad re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dear loved ones who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n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fair homeland, we’ll know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оеди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и, кто раньше в вечность у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разлуки, там душ об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ухода с эт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9Z</dcterms:modified>
  <cp:revision>14</cp:revision>
  <dc:subject>Slavic hymnal Гимны веры христиан, hymn 683</dc:subject>
  <dc:title>Beyond the Sunset / После заката</dc:title>
</cp:coreProperties>
</file>