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8</a:t>
            </a:r>
            <a:r>
              <a:rPr b="1" lang="ru-RU" sz="3600" spc="-1" strike="noStrike">
                <a:solidFill>
                  <a:srgbClr val="ffffff"/>
                </a:solidFill>
                <a:latin typeface="Verdana"/>
              </a:rPr>
              <a:t>	</a:t>
            </a:r>
            <a:r>
              <a:rPr b="1" lang="ru-RU" sz="3600" spc="-1" strike="noStrike">
                <a:solidFill>
                  <a:srgbClr val="ffffff"/>
                </a:solidFill>
                <a:latin typeface="Verdana"/>
              </a:rPr>
              <a:t>Руки благодати</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уки благодати, руки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что подняли всю тяжесть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те творили много так доб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евайте руки, слава им,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елы, точно лильи, лилии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жизни были руки Искупите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епым дали руки зрение, 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нимите, руки, все грехи с ме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Руки исцеляли больные т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благодати моег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умножили хлеб у озе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уках благодати — жизни полно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Руки те страдали от гвоздей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искупленья моег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 святые руки мне даю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еня проводят в Божий дом свят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Господь, Твои руки вижу я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благодати моег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жу я две раны, вижу кровь ч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Сын Божий про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чтоб спасти меня.</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8:47Z</dcterms:modified>
  <cp:revision>3</cp:revision>
  <dc:subject>Slavic hymnal Гимны веры христиан, hymn 278</dc:subject>
  <dc:title>Руки благодати, руки Господа</dc:title>
</cp:coreProperties>
</file>