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765-4252-4DFF-93D0-D7737A60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026-0C0A-4F7F-8BD7-ADC1A282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D93-52A4-4FE0-B2A5-DC6FFA36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7DA-F4DD-4DA0-9C29-31EE933F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BFD-4FC8-4E7F-9ED5-F7B7CBD2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685-262B-4EC5-A247-3913ECD6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505-300C-4496-8AD2-34E23FDF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49B-27B1-42E6-BEE4-95A7B54D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9D7-CFF7-476A-85E1-38EAFEA4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7C7-F495-4447-817F-CDD12BDA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948-B503-4D07-BF32-E2B2A615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474-2B19-4C56-B6BF-4B13AF3E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10726-B10C-4493-AA6E-30765D5DDD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й путь, как других, не украшен цветам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ушистые розы на нём не цвету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й путь весь усыпан одними шипам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рновника иглы на нём лишь расту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у я, изранены ноги жесток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труден мне кажется пу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голос в душе моей, где-то глубок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веренно шепчет: «Не бойся, 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путь, как друг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т голос Спаситель мне в сердце вселя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илы даёт Он в борьбе со грехо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бесное царство Он дать обещ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де мир и блаженство вовек со Хрис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путь тот уж кажется мне не тяжёлы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радость вселяется в сердце полн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я приближаюсь к священным высот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де вечная радость и свет вечных дн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голос тот с неба меня приглаша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Усталый, измученный путник земл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града святая тебя ожид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небесную славу скорее вой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8:40Z</dcterms:modified>
  <cp:revision>13</cp:revision>
  <dc:subject>Slavic hymnal Гимны веры христиан, hymn 507</dc:subject>
  <dc:title>Мой путь, как других</dc:title>
</cp:coreProperties>
</file>