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20D-4659-4364-84CA-7637D413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660-524A-4F8E-9C39-F5ED2580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F5F-41B0-40DC-900D-51C3B933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9FC-4968-4C81-9233-ED1989D4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6DC-0AA2-4CFC-8549-90D629D5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983-D40F-47CC-BB1B-0536A20A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060-2D60-41A8-A143-A45EA798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BFE-0112-477F-B959-35759C6B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691-0B49-4630-88B8-3488A20A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6A4-38BD-49C2-B60C-D4528E91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8A4-A3BC-4B32-B442-8D9870CD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BCB-6289-49E7-A2F3-0DDCB410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BBEF6-EBE0-45AD-8576-A7AB9182C5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ты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траданья, скорби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у призы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Иисусом всюду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стигну вскоре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престолом Бога в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уж вскоре взя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7:00Z</dcterms:modified>
  <cp:revision>13</cp:revision>
  <dc:subject>Slavic hymnal Гимны веры христиан, hymn 459</dc:subject>
  <dc:title>Слышу призыв Иисуса</dc:title>
</cp:coreProperties>
</file>