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1AF-82C3-4245-B5C6-75F56296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6A1-289B-404D-A64E-8DB25E98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4E7-F1EA-409E-88EB-1CFA31A9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5A9-CE93-448D-AED2-272C2FB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402-B656-4759-ADFE-80E094B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DB0-C40B-4368-8380-6073AA1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00F-9E00-439A-AF88-3CA3E43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E79-C8D2-49FE-84D3-61B3A431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AC-68C8-457F-B74D-BE8B7380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133-B1B9-4A24-868C-7B92173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46F-19F4-48FC-A39E-AFF9D43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E18-F704-439F-A0CF-A65FCB8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42CC1-0041-44CA-825B-2E52B67154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un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   A New Comma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27Z</dcterms:modified>
  <cp:revision>10</cp:revision>
  <dc:subject>The Source, song number 23</dc:subject>
  <dc:title>A New Commandment</dc:title>
</cp:coreProperties>
</file>