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D83-5343-4273-94BF-E33AE9B2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2F1E-1E7A-4B02-AD12-A8C863F6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207-1F24-47D1-8495-42797BD5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988-452C-4825-B40B-C45DDDB3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15A-86BE-4670-A2CE-C1E3CE40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F0B-954B-43D0-8B83-5EA17F43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BD0-0BAE-4C7D-8375-E80CF5D6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B38-B639-438D-9B88-BFF3FCE3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674-7092-4383-B132-304BA507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22E-A109-4B40-B899-46EB5D52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DE7-A587-4E5A-BF47-8F111257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836-8695-46DB-A77F-5FE11CDC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E248C-E2DD-4EBB-AD02-5F0AC610E8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us a Child of hope is bo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us a Son is 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 shall the tribes of earth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, all the hosts of Heav’n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ладенца дал 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а дал нам вечный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ын дан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чество святой з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менах Его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shall be the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evermore ador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erful, the Counsell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eat and mighty Lord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ог крепкий и Творец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целый на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тник, вечности От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ный в род и ро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ow’r, increasing, still shall sp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reign no end shall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ice shall guard His thron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eace abound below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чество Он укреп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ела мира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Он правдой утвер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стол Свой и завет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0:37Z</dcterms:modified>
  <cp:revision>14</cp:revision>
  <dc:subject>Slavic hymnal Гимны веры христиан, hymn 235</dc:subject>
  <dc:title>To Us a Child of Hope is Born / Младенца дал нам вечный Бог</dc:title>
</cp:coreProperties>
</file>