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CC0-26EA-441D-9BF6-2DF82C3C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94C-0218-4C93-82FE-F853689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87B-6971-4375-8D81-05979D6C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74C-138A-45E9-971C-9A7A10E9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B32-3706-4BEF-BA35-433B09C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8F0-94F5-4C69-869F-032AC4E2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DC9-A89E-4051-B22F-618E9A2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C35-DF15-47A3-9195-C053699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618-4EF8-4EB0-91AA-0E5B140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CF4-3691-46E8-A6FC-074A3AD6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D95-606E-4631-ABB7-FD36A5B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326-5DFB-43E2-90F7-D3937FF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02B8-1FBE-40DE-AEF2-D21D3BD76C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нам каже, що користі нем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жить Ісусу, коли ми молод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4   Цей світ нам ка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30Z</dcterms:modified>
  <cp:revision>12</cp:revision>
  <dc:subject>Slavic hymnal Гимны веры христиан, Ukrainian hymn 104</dc:subject>
  <dc:title>Цей світ нам каже</dc:title>
</cp:coreProperties>
</file>