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126-8AE2-4ABC-92C8-3D2C3605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571-05C5-4DBA-83AD-09AD97D2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623-3E25-4E07-B3B7-8840B523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491-C351-432C-A1D3-2CD41A7B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90B-8ADB-498B-B2E2-E99034BD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F68-87A2-4426-84AD-785A1825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5D9-ED60-4DEC-95A0-F0B0588A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D9C-DFA1-4F0C-900A-17AF6A08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13A-78CF-482B-87AA-FC006BC2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9A9-1B56-4356-B687-335BA1C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5CC-6463-4D1D-99B8-B1A57EE5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0D6-89A2-45E5-A35C-75BA1388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17930-41BB-47CA-B833-4711AAB47F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йтесь дружными ряд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рните ряд знам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данными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те в Божий лег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ойтесь дружными ря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, лик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я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том, как Он, вра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пасает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брань и крик враждеб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граду прини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ю радостной, хвалеб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злобу заглу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шествуя, мол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раждебную толп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а могла смир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ть на Божию тро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очувственных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 собранье призо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вангельем, моль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привлеч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шествуя, усер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брошюры разд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юбовью милосер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к жизни пробу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17Z</dcterms:modified>
  <cp:revision>12</cp:revision>
  <dc:subject>Slavic hymnal Гимны веры христиан, hymn 543</dc:subject>
  <dc:title>Стройтесь дружными рядами</dc:title>
</cp:coreProperties>
</file>