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77F-E21E-4683-A430-2054C63D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DB3-D574-4B54-91CA-9E37E55E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288-4DC4-4E10-BD35-6C50C052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881-A094-49B8-949F-BB8B1FF9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574-16EE-4159-9E19-4A7E1D5D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E96-C1E4-45BD-96A1-13C4A21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9AE-ACFD-427B-8778-C8DF0BC2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751-8399-4EC1-8DA5-6EF6E08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DFD-A4E8-4482-B34C-290AE50C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941-08DF-4551-80F5-078467F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9BA-AB67-46C6-B628-A0D84C6A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6FF-58B1-4706-96DE-280F03D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52ABE-4250-4DD8-A0C6-7A45E911D0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e have heard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singing o’er the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untains in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ing their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, why this jubil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r joyous strains pro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gladsome tiding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nspire your heav’nly s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Bethlehem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whose birth the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dore on bended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, the newbor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ithin a manger l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rd of heav’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y, Joseph, lend your 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us sing our Saviour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8:17Z</dcterms:modified>
  <cp:revision>12</cp:revision>
  <dc:subject>Slavic hymnal Гимны веры христиан, hymn 879</dc:subject>
  <dc:title>Angels We Have Heard On High / Ангелы, к нам весть дошла</dc:title>
</cp:coreProperties>
</file>