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AC7-7308-4713-B6B8-1A6F4D0C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63B-43C1-4BD3-A283-2B477A9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D99-6273-40FC-A16C-10AEE536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F29-E1BD-4280-8E0E-5EDE8F1B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0EB-296B-4878-AF01-2E8B0F02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481-6B0B-4DF5-9A56-AE17509C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B0A-D43B-4EBF-8BDD-5DBF59BC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E3F-F667-4192-812A-A0D4A96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A61-79AB-4D37-9473-A5AE6FB4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40E-1BD6-4B9D-A11C-22602F9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4A5-D2E8-46F1-8E5A-D5C07A3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2D5-F054-4DF0-BA6D-97A13D0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C3844-CCCE-4729-B2C8-3E6BB13060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9   You’re the God of Thi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32Z</dcterms:modified>
  <cp:revision>12</cp:revision>
  <dc:subject>The Source 4, song number 2199</dc:subject>
  <dc:title>You’re the God of This City (Greater Things)</dc:title>
</cp:coreProperties>
</file>