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91C0-ED17-49FC-AA3B-765E2B8F2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A9E8-536B-4955-8E38-97E005DCA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6E94-125B-45E4-BE5C-DFE4A5F7B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C528-791B-41AD-A41F-1EDC11E22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A644-21E7-4C97-BDC4-B858B523E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5724-D9D6-43B7-9BEF-9D1D67CD8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D2D6-E795-4753-88E7-4B0E511EB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020E-A984-415B-8EAC-790EDF5E1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00A7-8E0C-4007-B723-2DAEE9BAA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3A4E-9374-4596-B5BC-5C178B4C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E0C6-7F00-45FB-A6F0-9088007E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7D86-E5A8-48DC-9DC2-1E8D223D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602F38-6556-42FA-9576-5C241E16C2A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идёшь к святой отчиз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помни, дети твои гд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ти алчут хлеба жиз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мечтаешь о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родные, ваших дет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Господь вам подар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ведите к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Он их благослов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7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ы идёшь к святой отчиз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, отец, сидишь в собра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уясь, что ты спас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где сын? Зачем в незна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ез Бога гибнет о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родители, хран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реха своих де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корее привед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лучшему из всех друз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ть, где дочь твоя? Скажи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не здесь он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она доны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уетой увлечен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родители, молите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детей своих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их призвал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священного тр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24:36Z</dcterms:modified>
  <cp:revision>12</cp:revision>
  <dc:subject>Slavic hymnal Гимны веры христиан, hymn 772</dc:subject>
  <dc:title>Ты идёшь к святой отчизне</dc:title>
</cp:coreProperties>
</file>