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504-157D-445F-A0D2-3A00231B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35E-FFB8-4817-80BF-2FC8D27A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390-BD28-4308-A853-5D166365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9C2-220F-45BA-B83D-1AA163F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CB2-F1FA-42A0-B341-9BF3014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AD8-F94B-42A9-9F80-B3FFC076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468-89BD-4ED0-AAB6-9436160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E8C-1130-4279-BA0D-BBAA008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38C-6CCC-495D-AE97-4036F6C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ECB-91F7-492A-BFA1-804AA91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228-E7E4-4D09-9201-660D114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FBA-9BD7-4049-9B03-9C15C27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20375-11CF-4744-ACA4-0662F5CD16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00Z</dcterms:modified>
  <cp:revision>15</cp:revision>
  <dc:subject>Slavic hymnal Гимны веры христиан, Ukrainian hymn 38</dc:subject>
  <dc:title>Standing on the Promises / Вірю я в обітниці Христа Царя</dc:title>
</cp:coreProperties>
</file>