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22F-DB90-4997-B993-CEDE8E19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841-664B-45FA-882F-3B6E6B41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8A5-27D8-45A7-BE94-C4422154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358-3EC0-47AD-8D25-18A289C1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E05-532A-4D94-ADC5-E7114F75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04B-22B4-48B6-ABAB-A1504B1A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978-8BB8-421A-80EB-B70F7792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C8D-EFCB-45A3-BCE9-FBCB015A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2BE-3EA4-48B1-82C2-EA63873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BAF-37C7-4B57-B65A-C35B2C8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831-0AE8-48E1-A241-CDA1DAA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885-5CD8-4D13-A1A3-39D3E50D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35677-BB38-448D-A0C1-D68C3851E3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 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 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 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 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 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 найден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35Z</dcterms:modified>
  <cp:revision>12</cp:revision>
  <dc:subject>Slavic hymnal Гимны веры христиан, hymn 372</dc:subject>
  <dc:title>Пастырь Добрый ищет бедную овцу</dc:title>
</cp:coreProperties>
</file>