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D04-960E-4A3E-9FCC-1920FB6E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F09-CA64-47F0-BF1C-31948D12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E27-D656-4478-B856-916C0765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0FA-E868-4565-92DC-5122F3E7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DA8-DE3C-4ED3-BD4C-963B0B5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A74-17E0-4D19-8AA8-74EBE8A9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B17-71C6-47DE-B872-3FB0C4D9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22E-8583-45DF-8928-3674B49F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7F2-C227-466E-B59C-3EB7192A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4AD-ED80-4D44-876F-7721F764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488-0034-41FB-9EC5-5F827E9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88E-55A8-4197-97DF-4BC2ACD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796E8-BF4B-401C-AC84-8E0EA0D84B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ow the heavenly anthem d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usic but its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ke, my soul,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died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il Him as thy matchles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all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His hands and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wounds, yet visibl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eauty glor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angel in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ully bear that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ownward bends his wondering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mysteries so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riumphed o’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ose victorious to the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He came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es now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and ros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eternal lif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s that death may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Fath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Spirit through Him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nder gloriou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ail, Redeemer, h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hast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aise and glory shall not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out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03Z</dcterms:modified>
  <cp:revision>12</cp:revision>
  <dc:subject>Slavic hymnal Гимны веры христиан, hymn 808</dc:subject>
  <dc:title>Crown Him With Many Crowns / Прославьте, все, Христа</dc:title>
</cp:coreProperties>
</file>