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E67-AD7A-436B-AB79-451ADFE6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EFA-7014-475C-AA03-4697575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0EF-86CA-436A-8540-1A75061C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200-8B73-421B-8CEC-5A4BC9F1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74D-5197-43E2-8F7A-04DC240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974-3C72-49AC-ACCD-1C289087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264-1104-432F-9956-C8A63208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E74-F094-4B2B-A4D2-35F5C35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5E5-A1F7-4106-9732-F3352CB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6AA-9BCA-4947-AF69-1946809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855-4827-483E-AC73-2E3CEDB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E30-0B2F-42DF-8B6F-AEBBDDB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67C56-A901-4124-B967-FA61EEC08A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03Z</dcterms:modified>
  <cp:revision>12</cp:revision>
  <dc:subject>Slavic hymnal Гимны веры христиан, hymn 489</dc:subject>
  <dc:title>Дорогое обещанье</dc:title>
</cp:coreProperties>
</file>