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06F-9F7D-4AB6-92F9-529D9D1F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A72-1FB1-4010-8923-9CD23970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78F-E12C-40F7-9644-88B593DA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36D-DC9A-4242-A33A-E891F794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9FB-1622-4C0B-93C7-637671E2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549-999D-44C3-97FC-039971BC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261-9AB8-4B96-88E9-EDFC8AB8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D76-AB24-46BB-A23F-06E6848C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B29-8594-4964-A557-FDD1DDCD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4BC-C1D8-4DDC-BC3B-30B8CAB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367-00B7-4EB4-A6CA-70E84B8B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556-86BF-4024-A299-62A42B8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0AEEA-4703-4EE6-BC62-E4FF0CB737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ыней греховной,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правды гнетущий об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отчизне иду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ровавым следам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ыней греховной,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вечерняя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тяжкий и скорбный мо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гаснет надежда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отчизне моей отдо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же смелей за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ясь людского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ияют Сиона 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руко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рёт пот и слёзы с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встретим родных и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лаженство и жизнь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56Z</dcterms:modified>
  <cp:revision>12</cp:revision>
  <dc:subject>Slavic hymnal Гимны веры христиан, hymn 675</dc:subject>
  <dc:title>Пустыней греховной, земной</dc:title>
</cp:coreProperties>
</file>