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822-A86B-4F79-A218-CBD8F601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A1C-C899-42BC-AA17-7E126E50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4F0-629A-458C-9F51-8C044ED5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552-8647-4EDB-AB74-68E89339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402-D3F4-485B-8780-312657CA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C38-4E7B-4E5B-A717-91A6A4B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9C2-4462-458D-BA32-8258888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B5B-6B6A-4E45-96DC-C0AB894A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294-D63E-496A-BE5E-2E1CB97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55B-89E2-4C45-B5A3-DA28989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A59-B347-40C2-85E3-2250F4C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4F0-0E89-465E-9338-7F55EF4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2883B-5132-4412-8F66-91392357F5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one drop of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mountain tow’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 single grain of s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blaz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a candle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thousand years to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nd we a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0   Like a Water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ride among the st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them each b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the galax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only dust upon the sc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was for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day o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angels s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ure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there and we we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 my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47Z</dcterms:modified>
  <cp:revision>12</cp:revision>
  <dc:subject>The Source 4, song number 1960</dc:subject>
  <dc:title>Like a Waterfall (Beautiful Mystery)</dc:title>
</cp:coreProperties>
</file>