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4F6-D179-4E30-AB7F-1191AD4E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C28-863C-49A6-8A3F-02AA9138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C81-C77D-4BEC-A39F-2D8E363B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16F-6B9B-41EA-89DC-B29B2A57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9F5-8AB0-44C0-93FA-CFECFE30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A37-EA18-4B1B-BB6E-B773CF5F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D56-749A-4F54-8088-CDC456EA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AD3-BD72-4AEF-9321-AF02A6C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C43-9A13-46B4-9337-B842F53F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5B0-6BC2-4009-B05A-497EE4C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F19-AB7C-47BC-8CB1-00869A2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134-6083-4BE1-BB58-C7408F44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DB1CD-C871-476B-91BC-D2A33E52F7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ство, где Иисус цар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Божиих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туда их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царство, где Иисус ца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еловеческих сы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нут тех 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, кого от все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увижу в том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х, кто средь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озлюбили больше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ечный Бога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47Z</dcterms:modified>
  <cp:revision>12</cp:revision>
  <dc:subject>Slavic hymnal Гимны веры христиан, hymn 755</dc:subject>
  <dc:title>То царство, где Иисус царит</dc:title>
</cp:coreProperties>
</file>