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79CF4-F9F3-4D58-B345-622EAEA21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C5476-C3D0-4019-9AF5-B1F796315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76F7E-30DE-4462-BDFD-F1C89020B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F1714-4366-4937-99F2-D91E2D10F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94A81-8B72-49FD-AA11-4F3AF1716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9D55C-6253-4885-A1E2-13AA4C3D3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B4CFF-48DB-403E-9A22-21C0F2990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4F7E2-0B7B-455A-9444-63D92B487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BE6DE-1494-499C-B14C-D3A9D2097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AFDA5-29C1-4B3F-8DF9-B63F75A24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8C1EA-6A4C-42A2-8F01-44DBBCF1E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92A43-DAC4-4776-93AF-9551FBD04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C20B96-10C9-42C7-A052-F70050F7349A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e, Holy Spirit, heavenly Do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th all Thy quick’ning power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Kindle a flame of sacred l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these cold hearts of ou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11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О Дух Святой, спустис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Дух Святой, спустися к н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каждого затрон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ердцах холодных дивно С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жги святой огон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vain we tune our formal song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vain we strive to ris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osannas languish on our tongu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our devotion d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ессильно песни мы поё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есплодно мы встаё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 нас нет радости в сердца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валенья на уст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Dear Lord! and shall we ever l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t this poor dying rat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ur love so faint, so cold to Th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hine to us so grea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долго будем прозяб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дать с неба ветерк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вой любви в нас не вид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воя ж — так вели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e, Holy Spirit, heavenly Do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th all Thy quick’ning power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e, shed abroad the Saviour’s l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hat shall kindle ou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Дух Святой, спустися к н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ас чувства обнов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овь Христа излей в сердц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нашу — ожив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40:41Z</dcterms:modified>
  <cp:revision>13</cp:revision>
  <dc:subject>Slavic hymnal Гимны веры христиан, hymn 311</dc:subject>
  <dc:title>Come, Holy Spirit, Heavenly Dove / О Дух Святой, спустися к нам</dc:title>
</cp:coreProperties>
</file>