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1FC-E038-48FE-A7B5-14BDE479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7C7-BEA3-4D1A-A53A-8BF0AA5F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156-3E91-4CB9-978C-3242CC4F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32D-39BF-4FC1-984D-B017AEFE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61B-5829-479B-BD71-3FBAE8AF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83B-F278-46E8-A8E3-A4F735C1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9F7-23D9-445C-A81A-1E7D8636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BD9-F868-4D74-97F9-2D9C78BC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E3F-3F52-4A05-9B26-E67F45C5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EDA-165E-40DA-B8B2-0D36B214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118-FBF3-42AC-826A-9286FFC0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90E-EFBD-4849-AC35-96029111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8A2DB-A6EE-4947-A73D-1220D4D31B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pilgrims we’re bound for our heavenly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ears will no longer be sh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heavenly roses eternally bl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rts of God’s children are gl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путники к род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ники к родине славной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и ненастья, н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ажити мира любовью цве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ит, как солнце,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pain, no complaining, no suff’ring we’ll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death will our bodies not was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sorrow of parting and no broken hear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 joy in green pastures we’ll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страданий, ни б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мерти дыханья, ни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насилья, ни злобны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, там радость,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land God has promised will soon be attain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ount Tabor’s already in vie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ong of the Lamb will forever be 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ose who temptation once kn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лышится клич, что страна 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им поют из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я та льётся, как Божья р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пришельцам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multitudes stand by the river of lif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deemed by the Lamb from all s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nstantly gaze at the glory of God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new day for us will be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я искупленных кров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ьют из источника бл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ая радость, любовью ч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в их светлых о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исла пришельцев и их и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ишутся в книге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Бог принимает, а Божья ст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улит навек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5Z</dcterms:modified>
  <cp:revision>14</cp:revision>
  <dc:subject>Slavic hymnal Гимны веры христиан, hymn 686</dc:subject>
  <dc:title>Like Pilgrims / Вот путники к родине славной идут</dc:title>
</cp:coreProperties>
</file>