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053-2D7B-422A-9207-68D21C91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CB8-46DD-445C-B94D-44D156F5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41B-6866-4DA5-83B4-8213BBDD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A82-7444-4BD7-961A-F3249335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C62-6BA6-4908-AA63-0F0F4C78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61F3-CE7F-4B54-BEBA-DA82547F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49E-A450-4FCD-A51B-82673FBF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B75-30DD-489D-A80B-BA705FB1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011-183A-4E18-9E24-AA785B75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8F1-7059-4F98-8B52-4CA08F0E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99C-C3C7-4719-88C3-AAAABB41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6AC-9A47-4BE2-A59F-7A51CA02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C229D-0BB6-4B73-803C-E3BB371432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янь восторг земной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вись союз плотской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стыне тьма но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я нету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исусе мир скорбей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влекусь земным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ечно с Ним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ые блага т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ха нет в них ц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у чужд их плен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вянь восторг зе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 мечтаний сон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екших дней урон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всё испы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чаяньи сто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довольно дал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мертное, пройди!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ое, гряди!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ир сойдет и к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ленным друзь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Спаситель, к нам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58Z</dcterms:modified>
  <cp:revision>13</cp:revision>
  <dc:subject>Slavic hymnal Гимны веры христиан, hymn 463</dc:subject>
  <dc:title>Увянь восторг земной, мой Иисус!</dc:title>
</cp:coreProperties>
</file>