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AE0E-6880-4C72-9977-E06E9EC4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A789-6723-40FC-BEA7-444B2DCC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779B-0C3B-4A14-8EC6-B27748F8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C93F-610B-4F80-A43E-9916F2EC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F15C-F34E-43B6-A030-BCC20CF6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1650-B6DD-4C8F-9D5C-AF448DAD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B34B-3180-471F-B8DD-98C3F1AA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24B4-8324-45FB-AE77-B8156043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C980-6224-41A3-9669-4AF7EFCC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C17F-DE32-4266-9F8E-B214386F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BDB2-0640-4EFD-8725-CDD59A34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19E8-D364-4A36-ACB2-6A7C7D08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F93E9-2792-4F4E-BA06-1743BBCBBB9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Не покину Я вас, не забуду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Бог каже тобі і ме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о вас турбуватися 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тражданнях тяжких на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в праці Я вам помаг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силу і міць пода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годину сердечної вт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в душу бадьорість вли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   Не покину Я вас, не забу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окину Я вас, не заб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батько, і мати, й рі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речуться від вас, то Я 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ідним Батьком для вас з т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жно буду Я вас догля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як мати маленьке ди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усякого зла захищ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вадить у вічне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амотнєє серце розва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ні думи Я геть відже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озбите життя Я полад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засмучений в вас підкріп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окину Я вас, не заб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віт вас забуде, 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ругом вашим як був, так і 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незмінна є вірність Моя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6:34Z</dcterms:modified>
  <cp:revision>14</cp:revision>
  <dc:subject>Slavic hymnal Гимны веры христиан, Ukrainian hymn 4</dc:subject>
  <dc:title>Не покину Я вас, не забуду</dc:title>
</cp:coreProperties>
</file>