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CE3-37E1-4164-B652-1B0BEEEF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6D4-DAB3-4F69-810F-31D90C0E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E33-355B-49DF-A5A7-3C9F9899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3AA-EDFF-44B2-932B-37774AE5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CBA-9307-469A-8822-7F7A5079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334-D5AB-445D-A921-9BE6BC47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F27-C53A-4052-A088-0E42E688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019-B15A-45A6-A96B-963E1202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A60-DB66-481E-8552-33FA6E46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60F-89E2-48AC-AB39-6084BBB0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90E-6550-44A0-98CC-9AFAE502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7F1-FF94-46B7-855B-EE8C3F7A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30672-3FB4-47D5-9C51-A9DB4234CE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have longed for sweet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for faith to increa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earnestly, fervently pray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you cannot have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r be perfectly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ntil all on the alta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покое взд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покое вздыхал, больше веры жел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ердечно, усердно про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забыл, что лишь тот мир и радость на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здесь всё на алтарь возлож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walk with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light of His 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contentment alwa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must do His sweet w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be free from all 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e altar your all you must 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с Господом жить, в свете слова ход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ердце Духа иметь вечный д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ужно волю Его ставить выш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ебя возложить на алт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e never can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the Lord will best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the blessings for which we have pray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ll our body and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oth fully contro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our all on the alta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их тайн не поймём, в Бож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ойд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ударом постигнет уд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зренье и слух, если тело и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озложим на Божий алт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 can tell all the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send from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ow happy our hearts will be mad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the fellowship sw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share at His fe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all on the alta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пишет любовь, кто оценит покр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измерит источники 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даёт Бог тому, кто послушен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себя на алтарь возлож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0Z</dcterms:modified>
  <cp:revision>14</cp:revision>
  <dc:subject>Slavic hymnal Гимны веры христиан, hymn 497</dc:subject>
  <dc:title>Is Your All on the Altar? / О покое вздыхал</dc:title>
</cp:coreProperties>
</file>