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E715-6A82-46D8-A090-6785893A5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0C7F-303B-4CB9-B8BB-B756D926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9101-7E33-4037-AC99-90C70AB0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7BBE-72AA-424C-AB9F-6D0A900A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4661-16F8-4CC6-ADDB-EA0A3B04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9AEC-89C0-4160-B619-3132DBF4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E109-D90C-4E0B-8B7B-DF9A007D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B765-FEB6-4DC4-B13E-F7BFDC2D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B1D8-59D8-42D4-9992-AE3C25E1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BA01-A6F9-40E4-B997-1EB6F8D3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D2A3-7499-476D-9EC9-19F8E524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EB2C-4029-4DE5-860D-7FA4F0E3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20CB1-5B03-4B26-9684-6A075B719C0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ени, Господь, мен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боду я вой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тавь меня отдать мой меч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озмогу враж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енье мне гроз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сам ст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и объятья заклю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илу дай Т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лени, Господь, м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зяин нужен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ердцем упр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мужества ни сил в нём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 веры соверш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 делу поспе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него войдё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оковы налож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владеет дрож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могу беж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не в службе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нь Твой нужен, чтоб пыл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ря мне нуж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могу в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не вод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мною знамя распу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ществом Т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ля не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делавшись Т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на царский трон взо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ечься нужно 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о ей впер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стоит в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рильнёт к Твое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найдёт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5:40Z</dcterms:modified>
  <cp:revision>12</cp:revision>
  <dc:subject>Slavic hymnal Гимны веры христиан, hymn 899</dc:subject>
  <dc:title>Плени, Господь, меня</dc:title>
</cp:coreProperties>
</file>