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8FE-5B1C-4976-9702-52A818E5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4C5-E490-4D41-B88A-820436A9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D8B-7B56-481F-9361-97636FC2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665-6DAF-4B43-94CF-DB4F4465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560-42E9-45A0-A50A-048150BD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34E-C193-40CE-AEC8-FC496B3E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3B81-2B9A-4116-9872-409CB389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ACA-D7D1-42EE-A105-99BC2682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0C6-7213-4396-946B-7E5A6C28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77E-E870-4B16-B0B7-C3C57EF3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5FA-ABBB-4BF4-A053-391CA54D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E56-B4E1-48A3-AAF9-599BD7D0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D7393-CED7-470F-B522-BEE13CE488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о водах оке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ідний край небес плив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знуть бурі і тума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дість вічну ми вві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забаром стихн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ір кинемо ми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о водах оке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ідний край небес плив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знуть бурі і тума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дість вічну ми вві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9   Ми по водах оке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ільки, скільки вже припл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тих рідних берег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найшли там спокій мил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дуть ще інших моря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забаром стихн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ір кинемо ми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ільки, скільки вже припл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тих рідних берег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найшли там спокій мил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дуть ще інших моря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працюйте небага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де кінець журбі, сльо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бесні вдягнем ш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чна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забаром стихн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ір кинемо ми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працюйте небага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де кінець журбі, сльо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бесні вдягнем ш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чна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8:11Z</dcterms:modified>
  <cp:revision>13</cp:revision>
  <dc:subject>Slavic hymnal Гимны веры христиан, Ukrainian hymn 19</dc:subject>
  <dc:title>Ми по водах океану</dc:title>
</cp:coreProperties>
</file>