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6</a:t>
            </a:r>
            <a:r>
              <a:rPr b="1" lang="ru-RU" sz="3600" spc="-1" strike="noStrike">
                <a:solidFill>
                  <a:srgbClr val="ffffff"/>
                </a:solidFill>
                <a:latin typeface="Verdana"/>
              </a:rPr>
              <a:t>	</a:t>
            </a:r>
            <a:r>
              <a:rPr b="1" lang="ru-RU" sz="3600" spc="-1" strike="noStrike">
                <a:solidFill>
                  <a:srgbClr val="ffffff"/>
                </a:solidFill>
                <a:latin typeface="Verdana"/>
              </a:rPr>
              <a:t>Даруй нам слова благодат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руй нам слова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илу все грехи сраж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окрушить нам смерти вла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охранить с Тобою ча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огущество Твоей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иру через нас я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х детей Своих хра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воспоют Тебя он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еченье жизни освящ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дух и сердце утеш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будь Ты с нами кажды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и от смерти к жизни нас.</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5:58Z</dcterms:modified>
  <cp:revision>3</cp:revision>
  <dc:subject>Slavic hymnal Гимны веры христиан, hymn 156</dc:subject>
  <dc:title>Даруй нам слова благодать</dc:title>
</cp:coreProperties>
</file>