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0857-DA59-43D6-AD71-B2AAAEE92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6376-3FD5-4AD8-85E1-5C16BF0F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6373-76C5-4942-BD65-AFC6F063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7300-CAC0-49F7-BA52-5598AB0D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D6B8-F968-496D-AB2D-BE3CF6F6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FFF8-DA25-4283-A6FB-5BD6D330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2581-F044-46DB-BB50-152914E1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0AB-1164-42AA-97AF-79AB965C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A828-BAD8-4037-A4A8-2AA74607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DEE8-DFB5-4EFC-9452-1C6B859B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F2D7-9E3B-4BDB-8E5F-EACC2849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DF01-F9F8-4FED-97A6-5C1996B4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53634-83A7-4AC2-A29A-7E87C38F2DA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may not be on the mountain’s he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over the stormy s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may not be at the battle’s 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ord will have need of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ть может, не на верши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, не на вершину г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дальний путь чрез м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бой опасный, лицом к вра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ёшь Ты, Господь,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if by a still, small voice He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aths I do not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answer, dear Lord, with my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You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here You want me to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если Ты тихо призов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чуждую мне троп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чу, Господь, руку взяв Тв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шлёшь, я пой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here You want me to go, dea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mountain, or plain, or s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ay what You want me to say, dea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what You want me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шлёшь, я пойду!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ры, долины, мо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ажешь мне, то я скажу.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ем хочешь Ты, тем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haps today there are loving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Jesus would have me speak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may be now, in the paths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wand’rer whom I should s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 хочет слова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чрез меня с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ную душу с пути гр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к Себе приз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viour, if You will be my Gu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dark and rugged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voice shall echo the message sw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ay what You want me to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веди лишь Ты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скорбь, тесноту и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сть я ту чудную повторю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ажешь мне, то я ска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here You want me to go, dea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mountain, or plain, or s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ay what You want me to say, dea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what You want me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шлёшь, я пойду!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ры, долины, мо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ажешь мне, то я скажу.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ем хочешь Ты, тем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surely somewhere a lowly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earth’s harvest fields so w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 may labour through life’s short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, the Cruc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ётся где нибудь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енное мест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есть работа мне для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пятого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, trusting my all unto Your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You always love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do Your will with a heart sinc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what You want me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оте Твоей предав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Ты любишь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сердцем служить буду я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ем хочешь Ты, тем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here You want me to go, dea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mountain, or plain, or s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ay what You want me to say, dea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what You want me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шлёшь, я пойду!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ры, долины, мо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ажешь мне, то я скажу.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ем хочешь Ты, тем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04Z</dcterms:modified>
  <cp:revision>13</cp:revision>
  <dc:subject>Slavic hymnal Гимны веры христиан, hymn 556</dc:subject>
  <dc:title>It May Not Be On the Mountain’s Height (I’ll Go Where You Want Me to Go) / Быть может, не на вершину гор</dc:title>
</cp:coreProperties>
</file>