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A94-FF00-4EFB-A6E2-C87F641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B3D-8631-4662-B59E-B6F0CBD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9CE-C215-478B-AD82-132CA6A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931-5442-49B0-85EC-57B11B30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0C3-4C0A-486E-B317-403FB7BC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8E4-8597-4C1A-9B12-D459B13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A45-D5CE-4F4E-B253-67278C1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E07-4EA9-491F-AF66-81FF804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0BE-84C8-4EB2-837F-46D13ED0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FC0-FB1F-4FD5-864B-4EFC6F0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C1F-AE01-4F2B-8A79-98D107D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8F1-6EC5-49D6-AAAE-F956AB4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DC28-C728-4BD4-B061-62D20247A8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всегда за приз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ужень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38Z</dcterms:modified>
  <cp:revision>12</cp:revision>
  <dc:subject>Slavic hymnal Гимны веры христиан, hymn 852</dc:subject>
  <dc:title>Сион, спеши…</dc:title>
</cp:coreProperties>
</file>