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BA3-708E-412C-915B-9AC8F8DD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D8B-73D7-4A9D-82DB-2D2F821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A57-2B92-42B0-B6B3-C29736A7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FB5-325A-4A81-B267-4042B326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788-4193-43CE-ACFD-090132F2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064-45E2-4B28-A65A-8EAEAAA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6C6-4F23-4C66-BC60-91DCA15E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915-EDF3-420F-8C17-5848005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175-6C3D-425E-8FFF-D2A6C3E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608-9C52-4179-80BC-56B01011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28B-C4B6-4CF2-B8B7-7DAE9CF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A9D-73A2-4069-80E0-BB14A6E6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3EBDF-12E2-49F4-9991-4ECD957072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мощен, наг, утомлён и у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уден Мой путь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таюсь Я по миру беден и нищ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уся у многих жили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ася, у двери твоей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лас Мой услы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верь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кто Меня призовё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Я войду и того воз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ерю с ним раз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б, изнемог ты в труде и борь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илы прибавлю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лачешь, последние слёзы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ру Я рукою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в печали тебя уте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яду с тобой веч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;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30Z</dcterms:modified>
  <cp:revision>13</cp:revision>
  <dc:subject>Slavic hymnal Гимны веры христиан, hymn 391</dc:subject>
  <dc:title>Стучася, у двери твоей Я стою</dc:title>
</cp:coreProperties>
</file>