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1C5-8BD3-4A8A-ADC0-34940319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0DD-91D4-44F6-BE15-DBA8A1DB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5CA-3C99-439A-B03F-9F49834D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99E-4ADC-4EF1-A79E-A5D8A936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644-A676-4D4C-9CD6-EB195B45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D1C-3A9F-48F2-AD7A-59DE9FB1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963-870A-4499-9C14-605C5FE8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0B1-B008-460A-8286-DCFA1396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F7F-0A06-421F-BC92-14078E02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BD5-68D6-4102-B70B-9AAA8331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63B-AFA5-4F5B-BEDC-A43D7FAC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B9E-91E4-415F-97B6-5979748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19134-6509-43FE-839C-6BE1B8800D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верных не ли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лоть боится цепи т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тюрьма её страш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сли, тьмой порабощ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Бог любви свободу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епи ей, освобожд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ныне мир не отков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нет, никто во в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чести нашей не лиш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кай с враждою от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позором нас клей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ем знамя правды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злобу обовь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есть не в славе быстрот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торжестве любви на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хитит богатств у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алтарь борьбы свящ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возьмут в жесто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ебро, и что имее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весть чистой сохра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йной счастья овлад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ю мир обогат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09Z</dcterms:modified>
  <cp:revision>12</cp:revision>
  <dc:subject>Slavic hymnal Гимны веры христиан, hymn 551</dc:subject>
  <dc:title>О, нет, никто во всей вселенной</dc:title>
</cp:coreProperties>
</file>