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EE9-0A85-4DEA-86F2-41837B82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47F-7817-4661-A12D-0D8731B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4C8-2A95-4280-86AA-F52AEB3A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9E0-0EC3-4AC6-8160-F2E3885F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15F-795F-4DB4-8584-DFEA0BFA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1D7-8F7F-4774-8D43-6245ECC7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313-2313-4385-8520-C2A2F20D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AF4-D265-431E-AA5B-3124668E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53A-7827-474E-87A1-8490E8F4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7FC-4711-4DEB-9608-2E7BB76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C31-A3B8-4F5B-A391-529B95C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E57-E85B-4878-AD14-E8457DD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0BE5B-B0DD-4BC5-B8FE-B7C4F2487F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тоим ещё у 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аю большой р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ем перев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Родину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уманы над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жасен гул ва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 ангельское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одных слышно бере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стоим ещё у 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уж виде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ен свет его преле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лекущий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отозваны и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на пристани,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 нас возьмё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ними, будем —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холодные тум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мы прой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вечное блаж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искупленных на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41Z</dcterms:modified>
  <cp:revision>12</cp:revision>
  <dc:subject>Slavic hymnal Гимны веры христиан, hymn 695</dc:subject>
  <dc:title>Здесь стоим ещё у брега</dc:title>
</cp:coreProperties>
</file>