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C33-20FC-453A-AE0D-C7F3F7DE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202-250E-44ED-8A63-352149C5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B93-81C9-4055-804A-F3BA2647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C3D-B318-4E45-B7B5-E2E7FFDE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DDE-6C65-4B32-9AAE-ECECC182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5D0-FC83-442B-81F4-AC7F254B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C00-310C-4A0F-84BD-33027DA3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8D8-E0F2-40DD-9F26-A87283E5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417-C0D4-4BCF-98A7-3E953E8B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D27-917E-464D-9099-30F11183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D5F-8B64-42D0-9B3B-DE259C9B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8B3-E35C-433E-A84A-D10577A1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E5DC2-0DC8-405C-A98C-C5F0F741A1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вал: «Ко Мне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, усталый, Мне на 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и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усталый 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ю и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отраду я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глас я усл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жаждущий, 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ю воду Я 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куси,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Нему я и приль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вительной стру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жду больше, в Нё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тёмном мире —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оззри, взойдёт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зглянул я и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олнце и звез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етом жизни оза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земной пр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50Z</dcterms:modified>
  <cp:revision>12</cp:revision>
  <dc:subject>Slavic hymnal Гимны веры христиан, hymn 469</dc:subject>
  <dc:title>Иисуса глас я услыхал</dc:title>
</cp:coreProperties>
</file>