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2DE-8EDD-4E7B-9512-8C8A7228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1A4-8544-434B-B82E-2DC061F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207-3273-4BE9-AFDB-EEB8855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D18-8323-46E3-9EBE-583C55FB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62D-32C2-44F1-AA36-EBF6986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468-21E2-4149-A9E1-EB8C175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F62-04D6-4CEC-AC50-A25AF2F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C1B-9580-4B30-9973-D8E83F7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6B4-D377-44A7-83DC-67CF6E7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87B-4FC5-4B3D-8E2A-63062CF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B97-44BB-4325-A760-3921E6B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66B-2D6C-43E8-9C8E-628EF76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08B5-7A86-45E8-8781-5C9995B703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57Z</dcterms:modified>
  <cp:revision>12</cp:revision>
  <dc:subject>Slavic hymnal Гимны веры христиан, hymn 713</dc:subject>
  <dc:title>Призови Христа на помощь</dc:title>
</cp:coreProperties>
</file>