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3F2-C0A1-488A-ABAC-D8F16BC0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E5B-15CC-43F0-BDB6-1C757145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8C9-8402-49D3-93B7-03CFDFC5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D9B-1B35-4FBC-9077-9C295922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21D-D4D3-4C48-82D7-5CC6E688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E0F-1824-4A27-8ACF-328A67AA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0A81-1DE2-4E68-8308-16F10786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FD7-E996-40DB-A7D6-73F28484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0AE1-EC1E-4239-BF9F-D19EDE56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F7F8-78A4-4C45-97BE-35DBFAC5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5626-B963-4185-A290-917FF897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4DE5-DBDD-4127-A5CF-B05746AA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32BD0-8ECE-48F7-98BB-C0DA14ADA7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ангелы лет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огда-то в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одился нам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е людям 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ангелы, лет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, оставьте стад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тесь тьмы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те: Бог пришёл к нар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блестит небе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ецы, довольно зн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ли не без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пришёл давно Жела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видна Его звез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е, несли вы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тарались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конец настало врем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пришёл Христос —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4:54Z</dcterms:modified>
  <cp:revision>14</cp:revision>
  <dc:subject>Slavic hymnal Гимны веры христиан, hymn 228</dc:subject>
  <dc:title>Божьи ангелы, летите</dc:title>
</cp:coreProperties>
</file>