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1</a:t>
            </a:r>
            <a:r>
              <a:rPr b="1" lang="ru-RU" sz="3600" spc="-1" strike="noStrike">
                <a:solidFill>
                  <a:srgbClr val="ffffff"/>
                </a:solidFill>
                <a:latin typeface="Verdana"/>
              </a:rPr>
              <a:t>	</a:t>
            </a:r>
            <a:r>
              <a:rPr b="1" lang="ru-RU" sz="3600" spc="-1" strike="noStrike">
                <a:solidFill>
                  <a:srgbClr val="ffffff"/>
                </a:solidFill>
                <a:latin typeface="Verdana"/>
              </a:rPr>
              <a:t>В долине сто тучных</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долине сто тучных паслися ов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угом их была тиши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астырь за ними смотрел, как от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от заблудилась од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лась без пастырских нежных заб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дали от охраны родимых воро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евяносто девять, Спаситель,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овцы, не видно 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Пастырь промолвил: «Овечк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а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ею отправлюсь Я вда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овцу дорогую спа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трудной дорогой придётся ид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икто из живущих в ту ночь не ви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Он во мраке х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за заблудшей по выступам 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грозную бурю бр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яла она над зияющим р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зял Он на плечи её с торжеством. </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глас тот покрыл и смятенье, и гр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райским проникнул вра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куйте, овца найдена Пасту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ёс Я заблудшую к 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нгелы вторили Божьим сло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еснь их неслася по всем небеса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19:08Z</dcterms:modified>
  <cp:revision>3</cp:revision>
  <dc:subject>Slavic hymnal Гимны веры христиан, hymn 31</dc:subject>
  <dc:title>В долине сто тучных паслися овец</dc:title>
</cp:coreProperties>
</file>