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8976-9FFF-4A62-B69C-FEAC00B93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F75E-EA99-428B-971F-5739D462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00D8-2186-4EA7-90AA-29FE82B9F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3EB9-2B31-4639-A1E2-B99FBBCC6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7C53-721C-4D92-A041-8EF07963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D5CB-5FEE-478F-8144-2827EDC0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635E-F30C-4EDC-9BF9-614BEE65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A8FC-A37E-4D98-B28A-51468782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02A1-718D-4550-B19C-04068F0D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8679-0351-44C3-89AA-F04687BE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5F59-C0D1-424E-8C02-0341A770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D2B8-D270-4D11-B9DD-57F0B0D6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CD5CD9-9E41-4612-AA50-464D5846E76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дали Христа блуждают миллион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Рабов, в цепях отчаянной тос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 долины тьмы несутся плач и стон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 помощи спасающей ру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ам сила Божия дана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ам сила Божия дана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дите в мир и проповедуйт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лагую вест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Се, Я с вами во все дни.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2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дали Христа блужда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то полный сил, любви и дерзновень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ести во мрак Евангельскую вест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Зажги огни всеобщего прощень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Зови на пир, там много места ес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ам сила Божия дана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ам сила Божия дана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дите в мир и проповедуйт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лагую вест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Се, Я с вами во все дни.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Зачем нам смерть? Вот жизни да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вященны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верьте в жизнь, и будете вы жи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Христос воскрес! Он — первенец нетлень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 нетлению стремитесь также в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ам сила Божия дана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ам сила Божия дана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дите в мир и проповедуйт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лагую вест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Се, Я с вами во все дни.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1:37Z</dcterms:modified>
  <cp:revision>13</cp:revision>
  <dc:subject>Slavic hymnal Гимны веры христиан, hymn 522</dc:subject>
  <dc:title>Вдали Христа блуждают миллионы</dc:title>
</cp:coreProperties>
</file>