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BD3-6021-4C4D-9DFB-B3FADE4C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07C-F08B-4ADF-8298-73F5CF98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944-4EC9-4677-B587-DD5465C4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731-1D8D-49D6-BC0A-7B56CBA4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84E-49DF-4FC6-9444-FBC4ABE3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0DAE-49A6-4FC5-866F-3F148B3A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2DF-52D4-4ADF-9EB6-FBB7D0B8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1B2-6156-49A8-AF20-5EFA853E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970-FC34-4EF4-A86A-8AEB9839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0F8-C475-47AC-BE58-A85BA4C6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7D1-A202-4EF7-9474-AF5AA76C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A95-E872-40AD-A12D-30667393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DF812-A9D1-49AA-BECF-D25FE1D436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 вірити в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святим Його слов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душею підношу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то в самі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4   Любо вірити в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діюсь на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Його святу люб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Йому служу й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олив за мене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риємно знати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пробувати в 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тись Його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одити завжди з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ходжу собі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голгофському хре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я можу виправд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вершитись у Хри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0:17Z</dcterms:modified>
  <cp:revision>13</cp:revision>
  <dc:subject>Slavic hymnal Гимны веры христиан, Ukrainian hymn 24</dc:subject>
  <dc:title>Любо вірити в Ісуса</dc:title>
</cp:coreProperties>
</file>