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152-42E3-43F3-8602-1F87A622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968-7C85-47E1-B633-3318C3BD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81E-A9B9-4F11-A715-26214F6D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DB7-5FA7-461E-B2F3-DDD9225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817-F5A7-4629-B48C-8FF1551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3DA-D8EF-4900-A1E1-6D00840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26E-3A4A-4567-9A28-669899D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A33-6203-4231-86F3-F5689170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5B8-7A7E-4132-93F0-A020F61A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C00-AB23-4117-BE85-3C510B6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7F2-C3DC-447D-AFD9-E5305C8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C91-AA09-4BFD-904E-7EC9913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BDC71-7515-4CC0-A21F-2C8B166FE7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have see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oming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rampling out the vi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grapes of wrath are st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eauty of the li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as born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lory in His bo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ransfigures you a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died to make men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to make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loosed the fateful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terrible swift s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seen Him in the watch-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hundred circling c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builded Him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evening dews and d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read His righteou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dim and flaring l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sounded forth the 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never sound retr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sifting out the heart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judgement s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 swift, my soul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! Be jubilant, my f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4:35Z</dcterms:modified>
  <cp:revision>12</cp:revision>
  <dc:subject>Slavic hymnal Гимны веры христиан, hymn 890</dc:subject>
  <dc:title>Battle Hymn of the Republic / Вижу я очами веры</dc:title>
</cp:coreProperties>
</file>