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F8D9-1120-4C35-8EBB-741DC4FC9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34EA-DAA9-4FB1-AC4D-FBAC194C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EF5D-16E9-46CB-994F-2104ED662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294B-5661-4464-AEAB-0E82B0F14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8522-D34B-41AC-9119-3BAA2562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8B94-E693-4A94-B51F-FBBDF5C9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51F0-F6B7-4D2F-8CCA-64C1F702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7AAC-9E8B-4C95-BD1D-180D38F3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CCC6-8582-4892-ADB9-5A9DD17E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B1B0-F70D-408B-B476-30503EAE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C67D-7EE6-46F7-807A-622B54A5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7B8B-CC98-4922-B1DB-31DF7166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962C18-2587-47E3-A2E7-7557BFE3286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Almost persuade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to belie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most persuade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to recei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чти увер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чти увере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юбви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чти уверен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яться 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ms now some soul to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, Spirit, go Thy 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more convenient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e I’ll call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то-то шепчет мн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доверяй впол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ой раз в тиш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шь к Нему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Almost persuaded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come to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most persuaded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urn not aw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чти уверен?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грехом пор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чти уверен?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удь в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nvites you 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 are lingering n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yers rise from hearts so d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anderer,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тебя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 ангельский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литве церковь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нник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Almost persuaded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rvest is pa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most persuaded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om comes at la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чти уверен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дно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чти уверен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крыта дв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most” cannot ava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most” is but to fai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d, sad, that bitter wa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most,” but lo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чти» свело с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ило сил ид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ало чрез «почт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бнет на 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25:38Z</dcterms:modified>
  <cp:revision>12</cp:revision>
  <dc:subject>Slavic hymnal Гимны веры христиан, hymn 892</dc:subject>
  <dc:title>Almost Persuaded / Почти уверен</dc:title>
</cp:coreProperties>
</file>