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FB4-361E-4D7A-9770-ACC930C4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DEC-7037-4999-B4C8-B1424B9C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3FC-A312-4DE4-9522-0AB54934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B49-A9CB-4C63-B466-9FB9A9A3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F3E-6643-4919-8A06-4611684C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631-EA4D-4752-8AA4-D4D55DB9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77E-8321-4226-829F-D921DBF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755-89FB-4ED4-BCC8-74715A0D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E26-A0A4-49ED-809D-5D4B0F6B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3D6-633C-4B60-8A8B-7F3AFE3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605-E2DE-4BDC-AE99-21FB727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56D-7828-41D9-B2B6-1A270A1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32332-7214-4563-B0BC-644E2DB5F5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54Z</dcterms:modified>
  <cp:revision>12</cp:revision>
  <dc:subject>Slavic hymnal Гимны веры христиан, Ukrainian hymn 70</dc:subject>
  <dc:title>Let the Lower Lights Be Burning / Ясно Свій маяк Отець наш</dc:title>
</cp:coreProperties>
</file>