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D0B1-481B-452A-9A95-83476130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1A4-5FD5-4E93-B9C5-74E7A816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5AD0-3CE5-4111-B973-EDF92F23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18A-5825-4F7C-8A59-3B166B95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946-FE6A-443F-B85C-7B68319B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F685-65AB-4BC5-B366-4CF2F145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D59-4326-4014-B206-48CE5039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1BD8-E44D-440B-A4E3-F8003AD2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CB4E-E930-46F0-B15E-3C379FF0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88BE-0F1A-48A3-B3BA-2F4EE148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06E7-3AE6-41D7-85E1-77FF2200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C472-C585-47A2-8E3A-5A71AC88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280F4-E713-41AB-83FB-C977A9B27D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мене повій, на мене по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Дух Святий, молю по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мене повій, на мене по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Дух Святий, молю по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4   На мене пові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0:23Z</dcterms:modified>
  <cp:revision>12</cp:revision>
  <dc:subject>Slavic hymnal Гимны веры христиан, Ukrainian hymn 64</dc:subject>
  <dc:title>На мене повій</dc:title>
</cp:coreProperties>
</file>