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65A-5CEB-42BF-9C1E-135F0282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A7B-8848-4CED-B7DD-08AF870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95A-61AB-4869-81E1-0BD4482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C2D-150D-450F-9C5B-BEECED57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616-DA4F-4750-AD20-00B1BED9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D11-06F1-4C4F-AF7D-369BEDE1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3C4-65EC-4DD6-A770-77CAE2E1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D3E-3247-483A-971F-89004C3D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7A5-3D72-41B0-8D4B-F86C3709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914-6FDB-41CC-BC7B-281F4EA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8B5-4BC0-40C8-872A-9EA7855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26A-C6AC-42E8-9F2F-BC45C39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011B4-08E8-4689-8F97-AD270B0246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-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ways fi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ongs of deliv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am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I am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0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55Z</dcterms:modified>
  <cp:revision>11</cp:revision>
  <dc:subject>The Source 2, song number 1080</dc:subject>
  <dc:title>You Are My Hiding Place</dc:title>
</cp:coreProperties>
</file>