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B5F-5115-4A93-8F0D-7F6D7E58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5C1-827A-4C46-B1F1-1EA640FA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275-818E-4472-8ECF-6D1ECEF5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4EC-09BF-4F9A-A990-11D6871E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1F3-4486-4F64-A78B-D257DF4B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7DD-A3FF-4BE8-A452-60DB4BFA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6FD-78C8-4534-B7DA-542379A1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7FE-E2E2-4DA6-9DDE-2B9FD550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2CA-FEFB-422C-A6FD-70827424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B24-A8E3-4D52-89BF-04C4830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B9C-810E-469E-8E00-5A092217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021-5900-4B57-9A5B-0CE6385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8627B-8818-4835-8F4B-46D58BA651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, are you weary and troub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ight in the darkness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light for a look a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more abundant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ты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ты в борьбе и том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смиренно склон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найдёшь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радость 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death into lif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assed, and we follow Him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us sin no more hath dom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re than conqu’rors we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мерть Он вошёл в Свою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нам идти суж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Он в борьбе не 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а победил Он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shall not fail you He promi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Him, and all will be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go to a world that is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erfect salvation to t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ржит Своё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Ему довер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в нужде и 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возве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2:06Z</dcterms:modified>
  <cp:revision>12</cp:revision>
  <dc:subject>Slavic hymnal Гимны веры христиан, hymn 886</dc:subject>
  <dc:title>Turn Your Eyes Upon Jesus / Душа, ты в борьбе и томленьи</dc:title>
</cp:coreProperties>
</file>