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A37-6D6C-44DA-BC1E-DE24F10B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BB2-513C-4336-B1DF-95290B24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237-5658-4E04-8D79-C1C937FD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1F7-4809-499B-865E-0F0AB405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0B0-5274-46BD-9449-0A9C4A00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3BB-E5C1-435F-9B19-CAE9D410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64C-E5E4-475B-8C31-37FAFEFB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4B7-363B-477F-91E2-17194DE3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F31-4A7F-4EA5-A4C8-3E010EF7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C58-6A5D-419F-AE47-4FB973C1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DA8-B44E-4567-A41D-2897512E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746-CE57-4C32-84FA-F90EA6B2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847CB-BB32-4462-8591-82D8114BC4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ги Господа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пойдём, что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Сам прол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овета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нас напр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илы и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обно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 к труд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чущий хлеб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жаждет, к источ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кр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мы дол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слугой сво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ного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мрака и лж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ь должно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Господа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ославить дол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ржеством воспе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небесны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кончится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рует вен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обитель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одвор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и песнь воспо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2:42Z</dcterms:modified>
  <cp:revision>12</cp:revision>
  <dc:subject>Slavic hymnal Гимны веры христиан, hymn 525</dc:subject>
  <dc:title>Все к труду!</dc:title>
</cp:coreProperties>
</file>