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1869-36BE-445D-A1BE-9633974C7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4238-C3F5-4928-90B3-9338BC68C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9A81-D2EF-438F-B3E5-0405288CB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657F-DD09-4588-B845-B8A87B876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D27B-481B-429A-B5C9-748B0940D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B9E7-706E-4949-B4D6-05D94C5FE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3577-3A18-4D41-A3AC-6FF29AED4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B093-35A7-44D3-AC72-486264C39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A6B9-7163-4146-B806-BFCF47A95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8145-3247-4D40-A41A-F8FC0F80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75C4-4E13-46D8-9B03-358120CD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0CE9-8255-4515-8230-AF3593995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E32D51-C2E5-43E6-B3CE-B2F69E9A196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annot t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He whom angels wo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ould stoop to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peoples of the ear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r why as shephe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should seek the wand’r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His myster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omise of new bi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99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I Cannot T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this I k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He was born of Ma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Bethl’em’s ma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as His only h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at He li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t Nazareth and labour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so the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aviour of the world, is 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annot t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silently He suffer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ith His pe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graced this place of tea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r how His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upon the cross was brok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crown of p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ree and thirty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this I k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heals the broken-hear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stays our s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calms our lurking f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lifts the bu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the heavy lad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yet the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aviour of the world, is 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annot t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He will win the n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He will cla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earthly heritag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satisfy the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spi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east and w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sinner and of s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this I k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flesh shall see His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e shall re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harvest He has sow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some glad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sun shall shine in splend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He the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aviour of the world, is kn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annot t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all the lands shall worshi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, at His bidd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 storm is still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r who can 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great the jubi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ev’ry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perfect love is fil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this I k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skies will thrill with raptu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myriad, myri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uman voices 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earth to heav’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eav’n to earth will answ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t last the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aviour of the world, is King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8:14:28Z</dcterms:modified>
  <cp:revision>9</cp:revision>
  <dc:subject>The Source, song number 199</dc:subject>
  <dc:title>I Cannot Tell</dc:title>
</cp:coreProperties>
</file>