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D6-19E3-4371-B261-81C81702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F40-FE86-493A-8040-F44BC3A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E7A-BFFC-4429-8CB2-C3A7A24B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887-BE20-48C8-A9B1-FF44CCCD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D05-0E68-4E5D-98BC-6562996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0A0-AAEB-485C-8A95-C75616F9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7FA-33F8-4D59-95D0-5C31774A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CCC-4585-4E9E-91D4-80DAE3E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53A-9F6E-4A20-9B91-03A7E9A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A4E-DE26-4C99-8F39-ABB7A59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FD8-12EE-4633-B1AF-EE64835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A64-0BD6-45A3-B296-B79D101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0556-7EEC-4EA2-ACEB-E2F373AACB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, Боже, їм 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ногі лі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бур і не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все захи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їх хай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ою м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ло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круг них сі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8   Дай, Боже, їм щас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їм мудрість Б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життю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а й важні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е в світі ц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25Z</dcterms:modified>
  <cp:revision>13</cp:revision>
  <dc:subject>Slavic hymnal Гимны веры христиан, Ukrainian hymn 18</dc:subject>
  <dc:title>Дай, Боже, їм щастя</dc:title>
</cp:coreProperties>
</file>