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DC3-ED90-4EBD-A714-6097284E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14C-85C9-47A7-B199-FB548E5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E98-BB10-4D62-B7DD-5A88EDA5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E4D-3736-4D8B-B14E-8FD64AC9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36D-D26B-43EC-97FC-5AC818B1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91D-12B8-42EE-8810-A7CA187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441-B157-472A-AC24-1B1B41B5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40F-AE5E-463B-9C3D-1B4C8A5F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16C-F0E0-4B44-925A-6AD1E09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561-5D24-494F-94B9-EC6BC05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054-4003-4D34-A955-84FF051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E09-1A61-432E-89CF-30A80F9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82D9C-BA41-4D9B-B902-9790889DAE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iche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have saved my poor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aketh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uilt on my 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heavy had g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only a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ade m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oveth my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in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not thus be bou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hath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6Z</dcterms:modified>
  <cp:revision>13</cp:revision>
  <dc:subject>Slavic hymnal Гимны веры христиан, hymn 421</dc:subject>
  <dc:title>Nor Silver Nor Gold / Не золотом тленным</dc:title>
</cp:coreProperties>
</file>