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EBC5-7931-49A3-8CF8-E9557321D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ECE9-20E2-44D1-AC34-279E67B8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AD5A-4B42-4313-A922-E11B928A2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CE24-3346-453C-8318-4595F108C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532D-35DD-40B4-A749-76040710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4EBD-58D2-45D4-9023-222F66F2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215B-BCCC-4020-AF48-68E82B18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F80E-8D6D-4080-9F41-97EC1B7B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59CA-3596-448E-8202-10A12349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93BB-56A5-40DB-855F-AC3E9FC3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4F9F-DF8B-4442-9725-251C6C81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3915-75C6-428B-B728-B23ED83B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8BBE1-FB50-4EBD-95CA-1FF5C137346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і дні останнього ча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радість нам тоді бу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ми побачим наяв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ам на землю Цар царі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прийде,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 радістю Його чекає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може рано, може і в півні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наєм, що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0   В ті дні останнього ча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небі вже ознаки 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на землі довкола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Боже Слово свідчить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Спаситель Ісус прийде по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прийде,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 радістю Його чекає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може рано, може і в півні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наєм, що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сі померлі у Хри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зазвучить труба з небес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ни воскреснуть перш усі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у славі Господь по нас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прийде,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 радістю Його чекає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може рано, може і в півні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наєм, що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ві — всі перемінимо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о підхоплені бу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 Господом зустрінемо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так ми завжди з Господом бу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прийде,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 радістю Його чекає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може рано, може і в півні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наєм, що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6:43Z</dcterms:modified>
  <cp:revision>14</cp:revision>
  <dc:subject>Slavic hymnal Гимны веры христиан, Ukrainian hymn 40</dc:subject>
  <dc:title>В ті дні останнього часу</dc:title>
</cp:coreProperties>
</file>