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A68F-AD2F-4437-95D9-1C08E9F3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7912-7525-41B8-9875-81BAEE1B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6AB0-4DE2-4EBC-8688-F996AA634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D6AC-9CAF-447F-BD34-EDC3C33E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3B12-C5C5-42D9-B90A-05E128DB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5725-DF17-4275-A6F9-F1CD7D74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FCCB-77C3-484C-9FB2-F35A3A58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31F6-D99B-47B6-8D5D-31BD359E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837C-1E37-4AF7-8815-F21A908B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3EAF-DBA2-493C-8C81-E749076D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4D2C-C9D3-4883-BB0B-138F24DB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FB64-96D8-49E2-9528-83514F62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8BCF2-C234-4087-9BDF-E967798E8B0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яслям бедным прибежали пасту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Младенцем ликовали, как мог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мир Бог да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яслям бедным прибежа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 светлый их на поле посе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ождённом в Вифлееме возве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мир Бог да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лонились Жизнедавцу всей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чистым Богу славу вознес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мир Бог да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открылся в Том Младенце Ц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родился, чтоб избавить все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мир Бог да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7:53Z</dcterms:modified>
  <cp:revision>13</cp:revision>
  <dc:subject>Slavic hymnal Гимны веры христиан, hymn 234</dc:subject>
  <dc:title>К яслям бедным прибежали пастухи</dc:title>
</cp:coreProperties>
</file>