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C33-71E8-4FE2-A121-19D961F4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EAC-A457-47BE-953B-41C6365B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4CF-ABA2-420B-9F77-3F939376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27F-D0A9-46E8-950D-F21874CC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3F9-A86B-4FDE-8B80-C1CBC36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54D-718A-4BB8-986A-9E669C6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DFD-2495-4186-AC63-5709C016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024-D9C7-447F-AA1D-5C144DD9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806-C764-4A4E-AA64-F50CE1B5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0E5-DF94-41D0-BB4C-1315021A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5F8-8DA3-4C44-8694-A4BE6D3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7E8-929B-4567-9C9D-20DA77DA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8D69-1968-432E-8E7C-4419507162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throne of God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a strong, a perfect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 High Priest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ever lives and plead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graven on His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written on His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while in heav’n He 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fore the Thron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Satan tempts me to desp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ells me of the guilt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ward I look and see Him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an end to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the sinless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ful soul is counte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the Just i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im there! The risen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erfect, spotles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unchangeabl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glory and of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ith Himself I canno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purchased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hid with Christ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4-04-12T09:21:53Z</dcterms:modified>
  <cp:revision>12</cp:revision>
  <dc:subject>The Source 2, song number 643</dc:subject>
  <dc:title>Before the Throne of God Above</dc:title>
</cp:coreProperties>
</file>