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324C-D6E1-47A8-9958-FE2E97B2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CEB-76FA-4B08-A446-BA13292B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D31-0512-4E85-877A-FFCF7BB3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B5A-A185-4889-9DAA-28EFA033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502-2466-42B9-B27F-B948C362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6B5-A1A6-4473-9BC0-2734D8A5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C51-CA41-4861-B241-56A26F22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B58-2A05-46AA-842E-FBFDB8E7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CC9-6BCC-4E00-BCD5-49769FA9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695-C121-4C3A-8619-24909BEE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91F-D3BB-4EAB-AD11-C1F42435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A43-88BA-4DF1-BA65-4D2628F8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790F0-0E46-4E3F-A47A-3DD8BE0FAF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ие минуты мы здесь пров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остоте и Христовой люб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нас разлука недолгая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Господ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видания! Здесь до небес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видания, брат и сест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м молиться, друг друга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Иисуса хва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гие минуты мы зд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6:23Z</dcterms:modified>
  <cp:revision>13</cp:revision>
  <dc:subject>Slavic hymnal Гимны веры христиан, hymn 743</dc:subject>
  <dc:title>Дорогие минуты мы здесь провели</dc:title>
</cp:coreProperties>
</file>