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42A-5BE2-487F-A480-E67346A3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E90-DE54-4819-A630-4719EDB5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17A-C2AF-4C92-9940-E1CC800F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FB4-F4DF-4B10-80A6-6F520989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267-A487-4A46-B115-88F41CB0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827-48C1-41FF-BD09-FECFE736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5FD-0838-45DE-817A-631BFBAB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BB4-A3EF-49AE-8E98-632D21C5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A85-3F95-4471-BE7E-913D6FD3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9E4-A810-4E56-9F29-BB0A999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C72-7C86-40B0-BE8E-534B1291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2F7-3F39-4754-965D-AE9D7257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BFC05-DB51-4BD2-A9FE-93AA142B75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rusalem the gol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ilk and honey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y contemp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k heart and voice oppr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боре чи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 зарёю я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дивен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is all thy splend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ucified thy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aud and ben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ransomed people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гнём 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жиих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рко отраж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 Его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, O I know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s await us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radianc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bliss beyond comp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локом и мё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льно над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щим на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огла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tand, those halls of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ubilant wit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 with many an ang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martyr th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руд Царя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лн дворцов од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земля мо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литок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nce is ever in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light is ser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stures of the blessè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decked in glorious sh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як, в тебе приня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нется пыш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амый и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ный из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ef life is here our por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ef sorrow, short live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fe that knows no 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arless life, i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род, где не зн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кладбищ, ни гро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ышно расцве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ды жив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retribu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rt toil, eternal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rtals and for sinn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mansion with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ород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ури и трев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приют серд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гото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rusalem the glorio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of the el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 and futur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eager hearts exp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лёз не льют р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вражды хол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дных жертв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now by faith I se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here thy walls discer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my thoughts are kind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ive, and pant, and yea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стенах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ся братьев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царит все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one, O only mans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aradise of j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ears are ever ba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miles have no al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город м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краше стен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грани из сап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амней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37Z</dcterms:modified>
  <cp:revision>13</cp:revision>
  <dc:subject>Slavic hymnal Гимны веры христиан, hymn 666</dc:subject>
  <dc:title>Jerusalem the Golden / Иерусалим прекрасный</dc:title>
</cp:coreProperties>
</file>