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22FF-B78D-445F-BE2F-5FFD3098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7963-8AEA-4E53-847D-74CB76A6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E63E-017B-49C5-BBA6-4945D500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50A5-F059-4EE2-8545-DF8F4F8B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8D6E-71DE-44C6-B4A4-26AF2069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CAB-EED6-4A79-BD71-40F2966B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E338-689F-48AC-B646-8E52D6E0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0C79-0BA7-43FE-A480-33847054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8D7C-B4B2-489A-8D94-98725434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1C81-3FDE-476F-BCD9-7DD07D0F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2549-FB6F-4EEA-82B2-DF82B2D5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B0E3-467F-4482-8E52-4C37191C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95C17-BC9B-4A04-AD7D-95060FB7743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чь Самарии не зн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, как бедную ов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ань Христа её и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ривесть к Твор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 Тот, Кто полн жел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ть с неё греховный гн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збавить от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олодц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очь Самарии не зн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дивную послуша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миру Бог даё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Христос, Кто любит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олодц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пальмы наклоня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й сказал Спаситель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её лета промча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земным пут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она спешит в се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роду весть нес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Мессия ль то в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олодца ждёт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дивную послуша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миру Бог даё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Христос, Кто любит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олодц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перь вода жи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ердец людских теч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в ней разли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Бог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ознает мир: с щедро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юч свой Бог на нас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любим мы Того, К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олодц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дивную послуша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миру Бог даё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Христос, Кто любит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олодц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4:08Z</dcterms:modified>
  <cp:revision>12</cp:revision>
  <dc:subject>Slavic hymnal Гимны веры христиан, hymn 341</dc:subject>
  <dc:title>Дочь Самарии не знала</dc:title>
</cp:coreProperties>
</file>