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1D3-DB73-4D2F-81A8-F835DFDE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A07-E4A0-4AD9-A1E5-FF18312C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368-1D5D-4E43-BDCD-85DBA029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AD8-7FB2-418C-92F8-DE234380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A36-89DF-4D08-B7E2-CA7F283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6A2-EAF7-497A-A8D1-9DEEC5CF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CD4-1B5D-4F52-BCA7-D94E0EB4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931-AFF9-43A0-8DBD-BB2E7F4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0A1-DABE-49DC-B0EA-A4FDF2EB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EF3-A746-428B-BF2E-70A1768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925-139C-43C1-A416-AFE13733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F2E-728E-46DA-9671-1AF031A9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025C1-3F53-49C0-8D27-F090A139C5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 и пой, пусть льётся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ой пламенной ре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си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ённым жизненной тюр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традаль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й усталому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 Божье ― исц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корбящему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стань и п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м в сумрак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лодушным пред бор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и надежду на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у в голос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во все концы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, кто мыслит, всем ж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ты с песней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 любви, грядущий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13Z</dcterms:modified>
  <cp:revision>12</cp:revision>
  <dc:subject>Slavic hymnal Гимны веры христиан, hymn 466</dc:subject>
  <dc:title>Восстань и пой</dc:title>
</cp:coreProperties>
</file>