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AC8-5A40-424F-8138-C441CC0C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CB1-2815-4726-987C-E2DC7824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714-8B8D-48A2-AD1C-82FF18E4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40F-4DAC-4D0C-9785-734FA686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01A-0450-4451-82AC-8CBFE269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F41-4DCA-450A-A5D1-8A650EEE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9FB-1553-49A3-9131-DD4F266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E4C-5D4F-4B49-9362-975200D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2B8-8CA1-4F46-ABE5-7E3F8EC4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6D2-F3B2-4A0B-9A01-8069CBD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F10-A81E-427D-BCB4-27405818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97B-628A-4732-9352-2C42CC6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05B95-43D2-4ED1-83BD-B9F1750D34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04Z</dcterms:modified>
  <cp:revision>12</cp:revision>
  <dc:subject>Slavic hymnal Гимны веры христиан, hymn 589</dc:subject>
  <dc:title>Радостную песнь воспойте</dc:title>
</cp:coreProperties>
</file>