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8A87-B456-4897-9959-867F83986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F37A-ABA2-454F-9749-41BED0EA7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1F59-9BDF-4DE2-9C8D-226068BF1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4024-121E-4EB8-A130-38512AAE3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ECDE-B917-4512-BD12-B8253E8B1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B26D-7973-4E0F-B7A1-6360AAD5F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F741-54E0-4256-AD67-9C2ADB850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D1F0-212A-487C-A232-5876AEDAB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763D-EC70-44C6-8EB1-7434FC18B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8C04-8CB0-4A92-8EF5-A2D9006EB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A541-572A-44D5-B5E1-190821867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5171-6C99-40D6-AFAD-EFFF1B5AC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25F31D-3339-4AA3-8B2A-EE72907A098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moments we sh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rts rejoicing, as 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ngregate in the name of our L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75   Дорогії хвили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рогії хвили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ь нам посл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побачили сестер, браті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promised that 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sent with us would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our hearts beat with His in acc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Ісус з нами бу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в слові сказ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лине з сердець Йому спі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how pleasant it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His presence to m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utting out the world’s tumult and d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м приємно зустрі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 побачити в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страждання й земну сує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rewarding it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to sit at His f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receive untold blessings from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е забути в єднанн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вятому на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радість відчути свя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avel-weary, we 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is haven of r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relax where God’s waters still fl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починемо т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Сіон ми ід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зьмем сили нові в Отц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, renewed and restor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His Spirit refresh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our way with rejoicing we’ll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почивши за Госпо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лі пійд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 в світі лиш гріх без кінц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a close-knit commun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Christ as our He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endued with God’s power from hig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існо, дружно єднаймо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вкола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чі в небо ясне підійме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pathway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by Him will be l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nowing God all our needs will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перед, все впере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ід захистом щи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Господом сміло пійде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52:18Z</dcterms:modified>
  <cp:revision>12</cp:revision>
  <dc:subject>Slavic hymnal Гимны веры христиан, Ukrainian hymn 75</dc:subject>
  <dc:title>Precious Moments We Share / Дорогії хвилини Господь нам послав</dc:title>
</cp:coreProperties>
</file>