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9A4-5E86-4862-9AA6-F789566F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531-4E3A-42F8-BFA8-C23428C0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BFA-49A5-4958-A5CB-25871379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A127-6674-4CF5-8B22-3963FB9B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F01-062C-4679-A2E5-739F7CC5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192F-590D-4525-856B-59886563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13D-EE6E-4935-A60D-DA5468F5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57A-5C88-43F1-9CA8-5577481F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24E-2693-4623-A56A-22434EAE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DF7-3254-4E47-871D-91EFAB44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2E8-A1EA-409A-BD5E-D07EF25C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18F-8CB9-4E16-B73C-6324DBD2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28BF8-90F5-483A-B8CA-C2042AB214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deer pants for the wa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my soul longs aft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7   Как олень ищет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лень ищет путь к ручью жив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ою том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уша моя жаждет встречи с Бо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щит, мой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 для души м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мир, моя от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friend and You are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though You are a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You more than any 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much more than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Друг, Ты мне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 лег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литель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юблю Тебя больше всех на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всей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щит, мой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 для души м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мир, моя от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You more than gold or sil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You can satis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the real joy-g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apple of my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нужен больше, чем богат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ща и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Тебе нахожу я р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ь, мой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щит, мой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 для души м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мир, моя от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2-02-29T06:58:51Z</dcterms:modified>
  <cp:revision>13</cp:revision>
  <dc:subject>The Source, song number 27 in Russian</dc:subject>
  <dc:title>Как олень ищет путь / As the Deer Pants</dc:title>
</cp:coreProperties>
</file>