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7BD-8E56-4F76-A840-0F272789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285-8AC8-4E96-829C-1138E931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4E2-0982-4440-9199-5F40E802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A8F-0F70-42DD-87A9-F75D79D7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A79-E39C-4846-A5FA-77CD0869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C16-C060-4CD3-A320-81008CE7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BFE-A79E-4558-B55C-5C5EA065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C98-5E5C-4BFF-9096-3FD20232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4BB-4C73-498A-A489-C9508F38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A0A-3751-4392-ACC8-0FDAB4E6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B6B-AFFD-45CB-8CBA-EF2087F2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9FF-1FDA-4588-8E6C-B80F5B54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97BD6-A3EA-48BC-B499-7C5D605B8B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com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heart be changed, renew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ing from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found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I’ve come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eaknesses I see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e stripp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2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I Com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unveil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ee You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nowledge of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renew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will unfolds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living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2:57Z</dcterms:modified>
  <cp:revision>9</cp:revision>
  <dc:subject>The Source, song number 329</dc:subject>
  <dc:title>Lord, I Come To You (Power of Your Love)</dc:title>
</cp:coreProperties>
</file>