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538-7E7E-4507-8EA9-FEF8CD5E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379-5EA6-4F2F-A680-8FF1208D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584-1E7A-4123-962F-FF41598E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F91-C9A3-417E-BED6-9328576D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8CC-50B0-48EC-9329-BF3BACE8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D5C-BE79-410D-AC04-AAA01B5F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A3F-6653-4215-ACA5-85D7978A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52E-60EB-4E12-B68E-499E75AF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5B6-021D-46BD-8B89-1B0BCA71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D52-97E8-4FD3-AE26-246BC621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514-EB20-4A6F-87E6-6A777E3B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372-F66A-4FB8-A375-84916AEB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E51E8-F750-4229-B67F-4700F29452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the Lord is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rd and King ad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tals, give thanks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iumph ever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те в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поб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про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Saviour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d of truth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had purged our s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His seat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слава,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адлежат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обедивши смер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cannot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ules o’er earth and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eys of death and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o our Jesus 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, Владыкой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и ад поп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ё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in glorious hop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judge sha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ake His servant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ir eternal h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жди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ранных с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0:03Z</dcterms:modified>
  <cp:revision>12</cp:revision>
  <dc:subject>Slavic hymnal Гимны веры христиан, hymn 882</dc:subject>
  <dc:title>Rejoice, the Lord is King / Ликуйте во Христе</dc:title>
</cp:coreProperties>
</file>