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082-16B4-4892-AD8A-44AC969C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BA4-62D4-49A7-A698-37DF89DA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954-596A-4952-8E66-B6EA5553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9D6-7A12-4BA4-865E-9434A7CC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232C-840B-44E9-A729-1D067874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749-5FF1-4322-B0F8-7117F17E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8CDB-1C31-4052-8BC8-50F1FB6C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74C-27EE-45E6-BE18-5DEF70B5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8B9-FC07-4475-BE94-1DF47108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66A-0E3D-490E-91B6-9DD61CC6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E30-5845-452A-970E-BA2B5968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52E-C63A-4D5B-A5B5-A61B9FDD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123F5-AD1E-4962-B9E6-E2244A527E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m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Lord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that’s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r face, touching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left of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24   In Your Pres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go where the 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overflow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my feet are on a roc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hide where the blazing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bur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m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Lord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that’s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r face, touching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left of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hide where the flood of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reac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’m covered by Your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be where the scheme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arkness cannot touc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m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Lord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that’s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r face, touching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left of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firm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rust in You all day l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Your child and Your serv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are my strength and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m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Lord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that’s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r face, touching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left of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25Z</dcterms:modified>
  <cp:revision>12</cp:revision>
  <dc:subject>The Source 3, song number 1324</dc:subject>
  <dc:title>In Your Presence</dc:title>
</cp:coreProperties>
</file>