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37E-3D50-42FC-B6DC-FA6FA481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B23-9D42-4908-82B1-7524143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298-6F36-4489-8701-51AE16A1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090-7468-43A6-9868-ACE2A2AB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862-7350-4B17-A729-E756FBFB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4AB-90B8-4E74-9B62-EE750E25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8B4-AC4A-4B18-8B1D-D126AFA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1BF-EB3B-4959-8931-49B9CD97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BC9-6DFF-4CB4-86C3-29EAF0D3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35F-1D5F-40E5-AAEE-7D95AC2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092-49D7-4250-9766-291FFB4D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C42-1EC8-4ACD-8ACE-52A09BA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68118-D6F3-43A6-9140-B5AF82D435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er, wheresoever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burden of th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in thy Saviour’s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away thine ever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speak, and He will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, wand’rer, tarry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at consecrated sp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y laden,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can soothe thy troubled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aviour find th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less sinner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Bride and Spirit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 living fountai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there for you a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and poor, for bon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thought! For ever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atoning work i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boundless mercy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 who thither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at all the world migh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4Z</dcterms:modified>
  <cp:revision>13</cp:revision>
  <dc:subject>Slavic hymnal Гимны веры христиан, hymn 345</dc:subject>
  <dc:title>At the Cross There’s Room / Есть для плачущих земли</dc:title>
</cp:coreProperties>
</file>