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CB9-2875-40D8-8C94-00A5ACCF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E95-D263-40D5-B17C-F4E2F73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734-AFB0-4A59-B828-3C1D0956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CA1-5727-4F8B-9F1B-6DBBE122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79F-E1DC-44ED-8F35-95E034FB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6EB-731F-4519-B529-456743ED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6C7-06B1-4A87-B537-89B61003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321-BF62-4CA2-8D41-DF07FCD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F27-B3CB-4ACD-9A95-D2B07639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37C-D3B4-4B4B-A8AA-3B5EB76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E80-A43F-44CC-9F96-E3C35A3E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726-11EE-437C-9095-DE47936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3DF52-87A3-4B7F-90D1-E04E3B1A5B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y joy and glory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, the great Delive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ave Himself a sacrific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th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a place that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m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ids thee dwell in safe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beneath the shadow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on high is waiting now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in all His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saints with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 to join the happy, happy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oon Thy Lord shall call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alms of joy and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3Z</dcterms:modified>
  <cp:revision>13</cp:revision>
  <dc:subject>Slavic hymnal Гимны веры христиан, hymn 580</dc:subject>
  <dc:title>Rejoice, Rejoice, Believer / Ликуй, ликуй, спасённый</dc:title>
</cp:coreProperties>
</file>