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053-B138-4DDB-8EB4-2D9F5EFF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C6E-B44B-44C3-B836-04F49B2D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2FD-EA67-41FC-8B24-B1DB32DC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A83-59CA-4D9C-9AE3-296871CC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1D8-C390-4DA6-BDBF-062ECF3B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10A-8EFA-46FD-9F2A-5BA35D60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824-B665-42A2-A659-CDA278B2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DA9-CCB3-4886-91FD-FA3485BB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724-35DD-415A-B8A9-65DDD0EA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9A8-4E5C-4D55-80A9-50E401F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54F-8D4F-42A9-B050-2007DB9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2BF-CAA8-42A6-A94B-96AD35C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2E72F-6A50-44B3-9FB6-9D34859B2F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Боже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Утішитель, Дух правди 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присутній і Всевидюч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 тут між нами, нас просві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скарбе ласк многих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, Своїх діток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, вселися в серцях уб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нас, щастя нам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2   Отче небес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збав нас від скве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истотою душу вкра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Твоя ласка радість нам ве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із неволі, Боже, спа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8-08-02T00:58:04Z</dcterms:modified>
  <cp:revision>14</cp:revision>
  <dc:subject>Slavic hymnal Гимны веры христиан, Ukrainian hymn 32</dc:subject>
  <dc:title>Отче небесний, Боже могутній</dc:title>
</cp:coreProperties>
</file>