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61C-9544-4B57-82ED-3B3387E4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E46-F798-4830-BF00-67D0BF96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F6C-92B3-43CF-BBB6-F6EA840A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286-4525-4A90-B364-D5BA097D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7F8-5F21-47DD-A828-AE1F3B82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10F-FAB7-4231-BD7F-70FF2460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FF5-094F-4FB3-BFDA-4D9BD3DE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C71-47BF-41F3-AB20-EDEB40DC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1C8-F28E-4110-93A3-5BB069DA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E5E-E9AA-40B9-9B13-D2D05B53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277-4BF0-4237-B4B7-FEA99D1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FFB-B19A-4645-8389-475036B1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CB196-3F94-482A-9D0E-6790BB42B7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 вести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асён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е грехи мои Ты с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спасенье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умер для греха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л бы лиш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ерю вест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я Твой,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спасён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похи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ам, Господь,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я сл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сила —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искупленный я р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оддержи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десь меня хран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покой дар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ведёшь меня с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край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 дай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всегда мне только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л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Ты жизнь прерв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уж зн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обитель Сам введёш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радость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32Z</dcterms:modified>
  <cp:revision>12</cp:revision>
  <dc:subject>Slavic hymnal Гимны веры христиан, hymn 627</dc:subject>
  <dc:title>Я верю вести той</dc:title>
</cp:coreProperties>
</file>