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780A-A0EB-4342-87FF-6F4AC265F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8B60-D7AB-4022-92CE-21A14225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3D84-C6BC-4DD9-BD23-06ACFC89C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B49D-0179-4B60-AEB6-80C7AC3FC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CF2D-2208-4AD6-B25E-51CB39F7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12F3-43C9-4676-9C47-1DD468D7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088D-C71D-45DD-8EA8-A116B3D2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5695-F2FA-467A-9BA0-23F72171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BA43-8135-4ADF-819C-F4297FDA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109A-252E-4055-BC32-491241B7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98E7-AA61-4E22-AEAB-76C88FD5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6342-68C5-4F27-A33D-3162DAC9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A563B-775B-4745-8E1D-018AAC84E24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ит основанье, стоит в род и 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е в Писаньи Бог людям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оброго смертный добавит к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радует сердце, рассеяло ть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бойся! твой Пастырь с тобою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обре и в несчастьи, в тяжёлом тру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на чужбине, в темнице сыро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где не покинет, пребудет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оит основа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через воды пошлю Я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яди не на волны, гляди на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ушным и твёрдым даю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нья и скорби в добро превращ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через пламя придётся ид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! только прямо, послушно 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огненной печи, душой невред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золото выйдешь на радость друг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тарости видит Мой верный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от не покинут, кто Богом 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шают на теле, теряют кра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ам их до цели святой доне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и, что с рыданьем к Иисусу приш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м на попранье служителям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мир негодует, пусть ад восст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где никому Я не выдам её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45:02Z</dcterms:modified>
  <cp:revision>12</cp:revision>
  <dc:subject>Slavic hymnal Гимны веры христиан, hymn 850</dc:subject>
  <dc:title>Стоит основанье</dc:title>
</cp:coreProperties>
</file>