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F2E1-29AD-4B3F-A847-E53737511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BA63-FBFA-4EF9-A9FA-5D2A70AE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CB94-2581-451D-806C-3629C822D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0D2D-EE7C-40E0-AC70-4B53C77CE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4FC7-CCB4-4578-86B2-0088CC5A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D265-4426-4B2C-A1E3-34FD4218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FFEA-EC5C-4E53-857F-A8630714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A811-444E-411D-B9B5-5144AE83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3077-A111-4A35-A65A-6E1C6080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8871-13CC-40A3-BF02-9A36EEDA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4143-65E7-41E8-A26C-1529F185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7049-86F6-4DE0-A8DC-8DC97AA6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87AE7-CB72-4268-B1C7-EC404791758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битве ль сердце изнемогае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ть тернистый душу устрашае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олнце ль туча грозная скрывае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 нами Бог! Вперёд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Хоть и труден путь земн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мнить мы должн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илой в Господа святой мы облече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кажем, идя в жаркий бой, Богом веден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перёд, вперёд, к победе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829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битве ль сердце изнемог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Если горестью душа теснитс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о Христу тотчас пусть устремитс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 Его тогда в неё вселитс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 нами Бог! Вперёд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Хоть и труден путь земн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мнить мы должн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илой в Господа святой мы облече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кажем, идя в жаркий бой, Богом веден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перёд, вперёд, к победе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одрым будь: тем бремя облегчитс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другого сердце укрепитс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Робкий духом лишь борьбы страшитс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 нами Бог! Вперёд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Хоть и труден путь земн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мнить мы должн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илой в Господа святой мы облече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кажем, идя в жаркий бой, Богом веден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перёд, вперёд, к победе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ен будь всегда, не отступа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а Христом иди, не уныва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а Него надежду возлага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 нами Бог! Вперёд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Хоть и труден путь земн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мнить мы должн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илой в Господа святой мы облече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кажем, идя в жаркий бой, Богом веден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перёд, вперёд, к победе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0:07Z</dcterms:modified>
  <cp:revision>13</cp:revision>
  <dc:subject>Slavic hymnal Гимны веры христиан, hymn 508</dc:subject>
  <dc:title>В битве ль сердце изнемогает</dc:title>
</cp:coreProperties>
</file>