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C20-8002-4FA7-9DE0-6E15D9BA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37C-FB7B-44AD-8A37-3B18E19B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064-1FC0-483C-B4F9-C4DE9D4D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6FC-7783-484C-ADB8-53537EA3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126-2EAF-4BBA-860C-5BD29700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390-3581-4974-848E-20300ABA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F4F-5B81-4122-9494-3FEE99A2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E32-854D-46AB-A617-87A59B2F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2BA-1DC9-4936-BC50-DA737C55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606-EE48-4452-B963-C99AFF93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37E-7B72-4C3F-9590-F8FEAB30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F6B-6B27-44B3-946E-44355D49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AFF40-F6B8-482D-A693-E8D9807F1A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дал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ужасы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я и тос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близ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готов 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от муки и ог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п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умраке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 толпой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ь невидимых сет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Он мой по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пути св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данно поскольз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груди Христа тотчас склон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люся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мне скорбе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в к стопам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тов всегда я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0:13Z</dcterms:modified>
  <cp:revision>12</cp:revision>
  <dc:subject>Slavic hymnal Гимны веры христиан, hymn 461</dc:subject>
  <dc:title>Спаситель мой живёт!</dc:title>
</cp:coreProperties>
</file>