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FA5-4F9F-4CA7-9D13-3F3383D0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44C-5477-4E43-AFFA-6A4389E8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B52-DD59-4A66-94F5-2161F2C0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2E4-3AEB-44A8-A6C4-A42072D1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2197-FD51-44A9-8C23-DE538FA2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289-F833-4926-A751-6E2F25C6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AB3-A1FA-44D0-9E69-15D6D3A8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01C-B439-4630-8374-3712E9E5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568-DCFD-44B0-A43B-39B79584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EA1F-53D8-45D8-8034-C1BAD449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4C1F-7A59-484E-BF46-D30B3C19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433-356F-410D-B634-55DF00CE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40CAD-93AF-4BBA-987F-4D3FEE4BEC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Church, arise, and put your armour 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 call of Christ our Cap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now the weak can say that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e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trength that God ha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hield of faith and belt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tand against the devil’s l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 army bold, whose battle-cry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aching out to those in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03   O Church, A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call to war, to love the captive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o rage against the capt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ith the sword that m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unded wh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fight with faith and val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faced with trials on ev’ry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know the outcome is sec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hrist will have the p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hich He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 inheritance of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see the cross, where lo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Son of God is stric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see His foes lie crushed ben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Conqueror has ris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the stone is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hrist emerges from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vict’ry march continues till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eye and heart shall se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Spirit, come, put strength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s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grace for ev’ry hur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may run with faith to win the p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servant good and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saints of old still line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telling triumphs of Hi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ear their calls, and hunger for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with Christ we stand in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2-03-05T10:19:09Z</dcterms:modified>
  <cp:revision>12</cp:revision>
  <dc:subject>The Source 4, song number 2003</dc:subject>
  <dc:title>O Church, Arise</dc:title>
</cp:coreProperties>
</file>