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286-C72A-4E23-9852-74D1ED79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22B-0912-4825-B9BE-1FC84D43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714-0419-466B-B33B-1DE62591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3CE-6ABE-48D9-933B-3807D237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DCD-C097-4578-BEDC-B8FC40EC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AF1-7F9A-45C7-A2AD-5B293F21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ECE-6557-4366-887F-D5F1AE4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C7C-45B3-4B79-B224-8E64AFD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EEB-2361-4173-A285-EF0EF46A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D46-D2D5-43E4-A7D6-B50D878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E74-6560-4460-947B-87C4FC9D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27C-6F54-4A18-8E86-CC55126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3B8BB-030D-4B1D-9E9E-15EE7DF3C6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7Z</dcterms:modified>
  <cp:revision>14</cp:revision>
  <dc:subject>Slavic hymnal Гимны веры христиан, hymn 685</dc:subject>
  <dc:title>On the Shores of Jordan’s River / Мы у берега земного</dc:title>
</cp:coreProperties>
</file>