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3BE-4524-4ABC-9F11-70A673A7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5FDB-16F0-4615-9A5D-DB5E34D0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C232-B026-44AB-93EB-50085A95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31C-091E-4211-ADC0-57D4259A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72B8-D311-4676-8D05-9D9D2B68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87FB-F8EF-4F88-82B2-E18817E2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35CC-F22F-4C8A-BF85-B14B98F4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C770-E31C-43AE-BEC9-D2E5E8D7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C53-F89F-453B-ABE3-FA7BA631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C5A0-D543-46F9-89B9-2C9651E6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2DB5-A377-4F20-B925-D3C23CBD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B74A-8F40-4142-ABEC-83321FE5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B41B0-0BF8-444D-BEB7-077476AB165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ш дом да будет Божьим храм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открытым для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н бывает постоян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изнь и счаст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ш скромный, тихий уго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евратит в святой чер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аш дом да будет Божь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н, там радость преб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нисходят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царствует любовь свя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лышны пенья голо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изобилье вечных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войти не смеет вр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ссветом нежно пробуж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литве пламенной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м участье приним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ает с сердца всякий гн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же, даже под кре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яжело идти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аждый день даёт Он с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ивает мужество в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яком месте нас Он ви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нас в вере до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ть порой чрез скорбь и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в небес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5:44Z</dcterms:modified>
  <cp:revision>12</cp:revision>
  <dc:subject>Slavic hymnal Гимны веры христиан, hymn 768</dc:subject>
  <dc:title>Ваш дом да будет Божьим храмом</dc:title>
</cp:coreProperties>
</file>