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CF3-4158-4CE1-920A-64057D3F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351-1C13-4AA9-97FF-8A5D0CD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F70-7981-4438-89E7-0EB4176D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F03-04F5-4E34-A308-68F0342F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8AF-6995-4076-BD15-A54B9AD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D13-615D-46B4-9937-3D03069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BC7-2115-4494-88B2-4BD4AB8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F90-6557-4C00-9C50-B320649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0BE-FBE4-4540-A989-6A6DD2A5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553-B946-4B87-B99E-37A7182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ECD-6063-465F-9824-C82F5F5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64E-FF62-410B-B43F-ABEBD1F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4404B-855C-42CA-BA0B-707150A738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   Благословенье, сла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, Ты прав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равн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9:35:09Z</dcterms:modified>
  <cp:revision>13</cp:revision>
  <dc:subject>The Source, song number 54 in Russian</dc:subject>
  <dc:title>Благословенье, славу и почесть / Blessing and Honour (Ancient of Days)</dc:title>
</cp:coreProperties>
</file>