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D45-DC85-4184-8939-E8907203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37C-622D-4301-8FDF-F43A44D6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4B8-83CD-4135-9C81-2C854691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98F-D191-4AD1-A7B8-4E00E981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975-C951-440A-808B-69984FDD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F18-DE3A-4B34-8750-4F13F931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B43-F2AB-4BC1-90B5-FEC89BEE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546-577D-48B5-BC93-DC078012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446-AA61-48B9-BE21-D7868ACF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1EB-0994-42D0-A1E5-482D1948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7D1-DF71-44BC-A8C8-2E775BC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652-8C84-45FF-AF48-4EBC2870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12A04-2089-42FF-A42B-C1CDF0DAF7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ранней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полдневной ж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как ляжет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уж кончен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ется семя на ранней за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торной тро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гол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колючих к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паханных бороз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страданий и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мучительных гр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позора,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обид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ердце бо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лёзы блес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вере до славной п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обирать уж начнут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4:36Z</dcterms:modified>
  <cp:revision>12</cp:revision>
  <dc:subject>Slavic hymnal Гимны веры христиан, hymn 539</dc:subject>
  <dc:title>Сеется семя на ранней заре</dc:title>
</cp:coreProperties>
</file>