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A90-7244-4CBA-9C9C-02AA0E4A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1A6-07C2-4377-802D-8ED09E23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BED-1725-42D8-A1ED-ED93DECC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F6E-9458-4B0B-86FC-A0526A65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449-2749-48A8-9D9A-E2C07790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1C6-66B8-438D-8F57-F07DCA1B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721-54EC-4B16-8401-69910C9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155-F0CD-467E-AA85-BB38A7C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604-ABB7-4757-825E-FD66B3D4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238-E27A-43E4-940F-0E69849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5A3-F3DF-43E0-8BC3-CDF015C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521-C9F9-4F50-9077-AFC2394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E543E-5731-4F7B-8B19-2A7CD95B93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0Z</dcterms:modified>
  <cp:revision>12</cp:revision>
  <dc:subject>Slavic hymnal Гимны веры христиан, Ukrainian hymn 114</dc:subject>
  <dc:title>Кожний день з Ісусом</dc:title>
</cp:coreProperties>
</file>