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FE0-5B87-44A8-BA04-DFE472B8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09D-105F-433C-BA04-684B4EE7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3026-DCCF-4F52-BDB1-445B8BB3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AE2-43A7-4DDD-B766-D9BA5AF8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37C-034D-4A47-90C6-7058295D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844-7677-4ED4-9A5F-A6C26FD8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4FB-3AEE-461C-A4F4-44396F83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149D-E529-4845-95C2-25AA9437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613-953B-42DC-901A-074B94FC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EB3-1595-40E3-A125-31181C1F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F374-0EBF-4B43-90D1-1B58C48B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D61A-B2C1-46CF-AFBF-05F14EBA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1C25E-A45E-420D-A0AA-B37B5C3D77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 был на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 и ж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преданный грех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 тебя, откликнись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корбь и муки испы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мер, чтоб ты не 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р с небес несу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, радость и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что ты впустить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6:40Z</dcterms:modified>
  <cp:revision>12</cp:revision>
  <dc:subject>Slavic hymnal Гимны веры христиан, hymn 394</dc:subject>
  <dc:title>У двери Я твоей стою</dc:title>
</cp:coreProperties>
</file>