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D39D-90B7-49EE-BB86-81FD0A062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4556-4FF8-4015-B1BA-6C1AD001E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46CB-2258-4583-A010-EE31ED050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B66A-F661-4E8C-8EF4-08702039E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A539-84E8-441F-AC29-0430006D1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61C1-7A74-43C8-AC69-8B57687DF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EC36-3ED7-4EC9-AFCD-74FCF0D3F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FD2C-9CED-4E65-94D6-F3AFC5890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E0DA-9B77-42BD-875E-1B224928A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451D-0C96-4D9D-BF6C-5465CFBFA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0D5B-D8FE-4BE6-BBFB-65AD23A13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9556-B71D-40A5-AB12-5B7AEBD3C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C5D427-C965-4FAB-BF5D-4EC4364244B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 is so go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 is so go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 is so go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’s so good to 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106   Бог добрий є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г добрий є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г добрий є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г добрий є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к, Він добрий є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loves me s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loves me s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loves me s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’s so good to 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юбить ме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юбить ме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юбить ме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к, Він добрий є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praise His n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praise His n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praise His n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’s so good to 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те Йо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те Йо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те Й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к, Він добрий є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1T10:47:39Z</dcterms:modified>
  <cp:revision>12</cp:revision>
  <dc:subject>Slavic hymnal Гимны веры христиан, Ukrainian hymn 106</dc:subject>
  <dc:title>God Is So Good / Бог добрий є!</dc:title>
</cp:coreProperties>
</file>