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DDD-80C8-49D7-8C56-A00E9947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B35-96FD-4D1A-BCD0-1608A550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062-78A5-4142-A38A-5657BDF7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7C0-64B2-4BBC-91AA-2E6DFBAE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719-ED3D-4AD3-B52D-D2128CAE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B74-67DE-4229-A277-2EB7CF6E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D7A-168B-499A-BA9A-32E95B1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204-D898-44D3-A936-CFE4C6F9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5A3-E09D-4AB2-8EBA-25181F4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2D0-A378-4BF1-A60C-F77B93F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33E-F3B5-4776-B801-B13BBF05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8C0-9E44-432A-B0DC-306DF8E9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4D28D-CDF3-4ACD-8284-3BF349DCB5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hite-robed angels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y a friend is gathered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fear and toil an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Redeeme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rapturous songs of triumph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ndless,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’ eternal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palms and robes and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’er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our joys ar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mised land so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my raptured spir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rever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7:20Z</dcterms:modified>
  <cp:revision>12</cp:revision>
  <dc:subject>Slavic hymnal Гимны веры христиан, hymn 816</dc:subject>
  <dc:title>The Heavenly Land / Люблю я мыслить о стране</dc:title>
</cp:coreProperties>
</file>