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CDC-EF3B-4AE3-9461-F43B93D9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AB9-A827-41B4-914A-B54D70C0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8AE-2E1C-4DD0-9FC5-345A82D6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92C-7F83-47C5-9D03-1AEFBC5C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10C-0248-404E-8E64-19F0F07F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84E-19E9-4AD1-B3FE-7524F903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105-EA28-4391-886E-15D7DBF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4A9-0573-4A38-B512-B5AD0A5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FC5-B579-426C-8349-B1788443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84C-0CFC-4184-AF4C-2F65357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BF3-F712-4CE2-9E3B-E1B1433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356-1653-477E-8CDF-A5659C5D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4FD2E-9862-4B23-BB1D-1888669CFA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23Z</dcterms:modified>
  <cp:revision>13</cp:revision>
  <dc:subject>Slavic hymnal Гимны веры христиан, hymn 324</dc:subject>
  <dc:title>С небес Своих лазурных</dc:title>
</cp:coreProperties>
</file>