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9</a:t>
            </a:r>
            <a:r>
              <a:rPr b="1" lang="ru-RU" sz="3600" spc="-1" strike="noStrike">
                <a:solidFill>
                  <a:srgbClr val="ffffff"/>
                </a:solidFill>
                <a:latin typeface="Verdana"/>
              </a:rPr>
              <a:t>	</a:t>
            </a:r>
            <a:r>
              <a:rPr b="1" lang="ru-RU" sz="3600" spc="-1" strike="noStrike">
                <a:solidFill>
                  <a:srgbClr val="ffffff"/>
                </a:solidFill>
                <a:latin typeface="Verdana"/>
              </a:rPr>
              <a:t>Ручьём святая кровь течё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учьём святая кровь теч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мытие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в ней страждущий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дых от труд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исуса кровь с креста тек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Его чела, с л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л в пороках без чи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ею я омы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Разбойник на кресте на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чудный ключ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ытый им и он обр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й душе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крови Его ст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никла в сердце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жила вновь душ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ной белизн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т Господа я был да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уждал в земных пут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Он меня к Себе прив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в Его рук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если в немощи я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а огорч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знаю, что святая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трёт вину мою.</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9:00Z</dcterms:modified>
  <cp:revision>3</cp:revision>
  <dc:subject>Slavic hymnal Гимны веры христиан, hymn 279</dc:subject>
  <dc:title>Ручьём святая кровь течёт</dc:title>
</cp:coreProperties>
</file>