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4AB-A7F2-48A2-A2DB-31FC627C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F0F-EB58-431D-9401-AF8C3DD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D64-CEB2-4BF4-8472-8B944A74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031-3B75-4EF9-9838-BB48582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2F5-8AF5-4015-8C53-82301DC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FDA-5A60-44B2-994D-6E933D7F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F8A-DE97-4A1E-8F37-D00DBCA5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89F-B9BD-411C-B52E-CB7487D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CFF-D9F9-4DBE-A15A-5498A0E4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52E-2D1F-47E8-9862-3C1F2F1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857-B2E6-4D39-BE7D-938A09A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A51-CDD3-432D-9308-AE0049A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A5857-799C-4E94-8420-6CEBA78BC9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Он к Иисусу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Он зовёт и т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 мира жалее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Иисусу ты медлиш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от любви ты беж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умер Он и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тебе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дар Иисуса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22Z</dcterms:modified>
  <cp:revision>16</cp:revision>
  <dc:subject>Slavic hymnal Гимны веры христиан, hymn 340</dc:subject>
  <dc:title>Голос Духа Святого зовёт</dc:title>
</cp:coreProperties>
</file>