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D4EF-DBA6-4087-A2DE-B837855D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FA4-DED3-40E7-812A-4D4504E3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BD2-FA74-442A-A1A3-BAC31FA3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2711-10EF-4F3F-AAF8-03B02094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A82-0461-4E3A-A99B-6DA193C2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DC79-F3D3-489D-8104-26369BDC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0AD-5326-4313-BE94-3FCE6679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113-A1B7-45C0-81D6-8B79F505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A08B-C185-4752-96FF-F787C940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6E3-F95F-4700-8E6A-C3131CE8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9210-EB88-482D-A1DE-57F07E74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0D44-CB5F-472E-8D8A-8D9D1862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52512-AFE2-4CB8-AB56-51CAE2CB78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, м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хваляй Всеблаго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песнопеньем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огущего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ты Твор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ты Его без кон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арует так 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а славь ты, мой д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! Он муд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итель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целям Своим нас вед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зёй сокров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ёл по пути, где скор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ты, тревогой смущё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! Кто ди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так устро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о сих пор всё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ранил, и поко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ам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мерти спас, воз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благой удосто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, м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и хвал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е тебя уто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струё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ге лишь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без Него в мире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ия, мира, пок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0:31Z</dcterms:modified>
  <cp:revision>12</cp:revision>
  <dc:subject>Slavic hymnal Гимны веры христиан, hymn 807</dc:subject>
  <dc:title>Господа славь ты, мой дух</dc:title>
</cp:coreProperties>
</file>