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DD7-1FA7-401D-9D45-2C91BD53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2D8-D12C-49CA-8FC5-B6B0D47F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666-45D7-4E1A-A8CE-EE551E69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9DB-E01E-4FE8-B431-87786194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926-6265-4406-8831-6254537C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F57-62C8-44A7-8E5E-63DC870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250-0B0C-474E-8EB6-2D54D6F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4C4-F51A-484A-9743-80E2448D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CDA-AF35-4399-B702-A905717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B09-5849-4CDF-AB38-E850194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732-8A47-4C22-A39A-CDD72E70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884-8951-44B7-8BCC-10AF9743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4E01C-4FFE-4C46-95E4-0F833940FB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43Z</dcterms:modified>
  <cp:revision>12</cp:revision>
  <dc:subject>Slavic hymnal Гимны веры христиан, hymn 313</dc:subject>
  <dc:title>Лишь Дух Святой влечёт сердца</dc:title>
</cp:coreProperties>
</file>