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1AC-B2BD-4C42-B052-B24BC577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EBD-3996-4717-89F4-3861A21C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063-A56F-46BD-96D1-C337DA16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833-912E-4270-9130-57EDCE8B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489-7488-4997-8BB9-70C423A6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597-F0C8-42DD-9CD4-1A6923BF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CEE-D391-4BDE-A904-C2DBF7D7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8B7-CC46-4671-86CF-92677B55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356-5E48-40E0-BECE-D27A76F6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6E4-A392-4CA6-BBD3-E7263610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114-0932-4421-8C69-5FEDF60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8F2-7B9A-4D60-AE6E-0FF46932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D667F-1C2E-4972-B7FF-5F57772B2A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, living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pite of dungeon, fire and s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our hearts beat high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we hear that glorious 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а костре, не от ме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дце радостн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ас вера горя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fathers, chained in prisons dar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still in heart and conscienc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would be their children’s 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y, like them could die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ы за веру шли в остр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олеть их мир не м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внукам их в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ую верност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, we wil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friend and foe in all our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each thee, too, as love knows h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kindly words and virtuou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уч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зей, люби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Христа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рочном царстве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4Z</dcterms:modified>
  <cp:revision>13</cp:revision>
  <dc:subject>Slavic hymnal Гимны веры христиан, hymn 616</dc:subject>
  <dc:title>Faith of Our Fathers / Живая вера не умрёт</dc:title>
</cp:coreProperties>
</file>