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61D-8103-47BF-9AA7-30962BB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3F3-33D4-4CF4-AB36-D0FFD7B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D04-7375-4AD3-86E0-E3D81380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B96-820D-40C1-94BD-7C9BB4D6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48A-72E7-4682-A552-D32A82E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7E3-E2C5-41A3-A0D2-2E7A24FE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F64-8F3D-45AB-B603-B870A78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E68-D48B-4598-9A57-C2A835FD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CEE-8755-4DE1-8F3F-32F406A3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070-2E8C-4A9D-B0B4-C15F677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67A-9472-48BB-8A56-CC8DF12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466-7E27-47FF-8DB4-D97FBEB5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FBCBA-92D1-4014-8693-F8500D66C5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57Z</dcterms:modified>
  <cp:revision>12</cp:revision>
  <dc:subject>Slavic hymnal Гимны веры христиан, hymn 600</dc:subject>
  <dc:title>Славною рекою</dc:title>
</cp:coreProperties>
</file>