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5E4-74D0-451E-81A6-716F26FF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853-43FE-4A7A-BE69-8C190EEF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8DA-0A68-4E9E-8EB3-269A5E3B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8FB-02DD-40EC-88CB-989A9A5E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4CC-571A-4742-B40A-43501C74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980-6B5A-4B44-8E26-79CAB93C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521-BD73-43B5-B1E0-6C88A142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592-BA4A-4F3D-B3D9-70BB74BB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117-31C5-4F84-A194-5201402A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479-AA1B-4119-8215-A8105F6A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D13-D262-4EDD-8578-7BA3AE76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DBA-C09F-4BFB-92A6-092303EA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7448C-4B61-48A1-9042-F9048F6CB7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fountain of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 world of sinners revea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dear Son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by His stripes we are he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вь Свою Сын Бож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Сын Божий пр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жизни откр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ами Своими Он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ных язв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I’ve wandered far from His f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ing to my heart pain and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вца блуждал я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округ меня всё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rny was the crown that He w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cross His body o’erc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ievous were the sorrows He b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e suffered thus not in v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нец терновый по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за нас Он вис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енья греш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Он всё претер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to that fountain be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to cleanse my sins here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that He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лечёт поток тот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ко Христу всё силь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святою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, I have wandered from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ten has my heart gone ast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mson do my sins seem to m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er cannot wash them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, согрешил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 хочу я откр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я виновен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ем греха мне не с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o the fountain of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y promise, I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nse me by Thy washing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к Тебе я и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еня поток тот из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благодатной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31Z</dcterms:modified>
  <cp:revision>13</cp:revision>
  <dc:subject>Slavic hymnal Гимны веры христиан, hymn 431</dc:subject>
  <dc:title>Whiter Than Snow (Blessèd Be the Fountain of Blood) / Кровь Свою Сын Божий пролил</dc:title>
</cp:coreProperties>
</file>