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3B-9C58-4D8D-B8AC-0D249055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39F-9C82-4BC0-9C90-5CE78719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517-B9C4-49F8-A85B-2CFACA0A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18A-2BA7-4E50-BEA9-CB0ADE2B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3AD-A53F-4E08-9E8D-8158F3BA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D87-364D-45CC-9E7B-0178586D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218-B311-4284-BD79-78C85478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D0D-DBE5-4E9B-AB58-46CA52FF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D02-5A35-40EA-AAAA-463DA475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92E-A1D8-4F90-94B5-B25D309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2C3-2E98-41EF-B538-698546D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5A8-F797-4B3E-9669-06FEEC3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47B26-E905-469D-911A-1782D337AC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59Z</dcterms:modified>
  <cp:revision>10</cp:revision>
  <dc:subject>The Source, song number 158</dc:subject>
  <dc:title>He is Lord</dc:title>
</cp:coreProperties>
</file>