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16B-CD5D-480B-8272-8D69D8FA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B71-16D4-4D0F-8C99-360CB4F7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52D-F192-47CE-A7A8-EB2224B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270-950B-4583-B106-14B5DC42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9F8-A89B-4BF2-93BC-2786F636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5D6-5546-4FA1-BEE7-F988B03C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4AC-D3E4-44F8-9164-2676591D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073-09B3-4EDB-8A84-0B99B301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F06-47DD-4468-AB41-F817FD28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06B-D701-4F14-BD46-58A2EBFE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CA6-7B7D-41DD-84FB-1F6BB07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565-21B3-40A6-9023-58F1045C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E36E8-7463-484E-B8A9-065E2692E1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of heaven living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entle Saviour,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ong deliverer, beginning and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ithin me falls at Your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King of Kings,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 and heav’n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eternal,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bought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ansomed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ught this s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ar to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ithin me cries out i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13Z</dcterms:modified>
  <cp:revision>9</cp:revision>
  <dc:subject>The Source, song number 309</dc:subject>
  <dc:title>King of Kings, Majesty</dc:title>
</cp:coreProperties>
</file>