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B3C-ED6B-4491-9531-533BEB32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8BB-C1DE-4E2D-81A8-73753F69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67B-23E2-47BF-BFDD-908698D2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A75-1EDB-4E96-8760-927D1EEA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5FB-8952-4360-88C2-46D9E9DD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E5B-72C4-4A37-AAE3-03DC7CA7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DC2-BD51-4ED2-8DB3-8887B9DF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6FF-80E5-4302-9E60-20C64228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8BF-545A-49EB-9DE7-326601DA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464-AC68-49BC-94AA-BF947C2D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8B1-0A24-4F3D-B7D2-8710EAE8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6EF-A755-42D8-B501-DADF9964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0D02E-A725-48BC-BA38-2CCF4FFAB6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ve search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when I f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ea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6   O Lord, You’ve Search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o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eld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 uphol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earth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s from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stand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52Z</dcterms:modified>
  <cp:revision>12</cp:revision>
  <dc:subject>The Source 4, song number 2006</dc:subject>
  <dc:title>O Lord, You’ve Searched Me (At the Cross)</dc:title>
</cp:coreProperties>
</file>