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BBCC-9CDC-4189-B486-FF2C1859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505E-6892-4B27-90FD-B5E7F630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55E7-F46E-4190-97B1-F3A29A19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959F-706D-4D5F-A6D5-02829C02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4699-AF98-43EA-92DE-0726246A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A9BF-0178-4F03-BCDF-2168E40C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73FB-0E7D-4EA8-ADC1-9F2D81F3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096D-A039-4E98-8BA4-598B173E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BEDF-0031-4A6F-AA2E-AC86F088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33AD-BCE6-4B5A-B3B9-D88C5102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B719-372C-4B23-9B02-6CEC06D4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2317-D395-4E8B-ADF9-DD27DA25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45A45-08B5-4302-97E6-039B4F5D7C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ождестве благую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ал Бог ангела прин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гачам, не мудре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бедным в поле пастух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Рождестве благую в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свет их оси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ень ангел им сказ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тесь! вам рождён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людям радость Он принё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е небес т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глась чудесная звез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стила мудре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Царь сошёл к Своим раб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луч звезды для уха 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ёл он мудрых в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, что ярче всех све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огий домик оза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шли смиренно в мал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али ниц перед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ладенцу поднесли да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шли с хвалой в свои дв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2:50Z</dcterms:modified>
  <cp:revision>12</cp:revision>
  <dc:subject>Slavic hymnal Гимны веры христиан, hymn 814</dc:subject>
  <dc:title>О Рождестве благую весть</dc:title>
</cp:coreProperties>
</file>