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7BF-0F96-4A97-B9C7-6F65FCDB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D1B-FB52-4DE0-A802-A5981ED2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265-408F-489F-A29D-EABC79B2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E7E-A15A-459A-A00C-C9BD69C6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D4A-0BCF-4596-8FEA-93D496AF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C55-B216-4D7A-A122-8C6B3D9D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C0C-281C-4C6A-A07F-0A90FA23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5CF-ED28-42DA-958C-19C3D138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740-B161-4617-AE52-9920B0A4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780-3F5E-4818-A415-AC9DF9C3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11C-68BB-4970-86A3-C25A445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8C9-0BAE-463F-B08D-278B3C46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E451C-CE0B-4340-AEC2-AB944BB64F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thousand tongue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eat Redeemer’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lories of my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iumphs of His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жаждет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жаждет петь м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за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петь, мольбу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сил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cious Maste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sist me to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rough all the earth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nours of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оги мне возве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Твою распрост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The name that charms ou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bids our sorrows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usic in the sinner’s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life, and health,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гон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из плач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звуч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нам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reaks the pow’r of cancelled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ts the prisone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can make the foulest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avail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крушаешь власть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шь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Твоя, Господь,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грех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0Z</dcterms:modified>
  <cp:revision>13</cp:revision>
  <dc:subject>Slavic hymnal Гимны веры христиан, hymn 591</dc:subject>
  <dc:title>O for a Thousand Tongues to Sing / Спаситель! жаждет петь мой дух</dc:title>
</cp:coreProperties>
</file>