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11EE-72AD-408E-8E7F-700716AB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226F-4377-457C-83E7-9B3A0BE7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FC1C-CCE4-42A8-8BFA-ABE4EFDD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7850-3555-4012-AF8B-CC06926A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FD3A-49A5-4D34-A44D-EA77C91E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05DB-462F-44C6-B072-6AC0A174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0319-4256-4493-90B8-7E180FD4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310D-83DC-4D00-94B4-DF55DE93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CC9E-5779-4FCE-AF3E-6CCA924C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4EF5-9180-44DC-8E0E-AFFB57E4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1C74-B1AE-4012-B5AF-6B6CB305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FE47-626D-4A2B-92EE-B8646EE0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D4232-744F-4FC6-8D16-F4249D64725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Man of sorrows!” what a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Son of God who c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uined sinners to recla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«Муж скорбей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уж скорбей!» так назван Т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 заоблачных вы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ходил спасти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ring shame and scoffing ru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place condemned He st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aled my pardon with His b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и боль изведа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поруган, осужд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древу смерти пригво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lty, vile and helpless 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otless Lamb of God was H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 atonement! Can it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греха и зла пол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Божий, только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нас от в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ed up was He to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is finished!” was His c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n heaven exalted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овершилось!» возгла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иновных смерть вку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о с радостью вст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comes, our glorious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His ransomed home to b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anew this song we’ll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ть искупленны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верный воспо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0:27Z</dcterms:modified>
  <cp:revision>12</cp:revision>
  <dc:subject>Slavic hymnal Гимны веры христиан, hymn 838</dc:subject>
  <dc:title>Hallelujah, What a Saviour! / «Муж скорбей!» так назван Тот</dc:title>
</cp:coreProperties>
</file>