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A5E3-BD45-4133-B723-3718D1B4C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0ED1-20A3-4A9A-832B-E4F1491F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ACFC-3343-419E-B90D-EC46CBC30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84B8-3725-4668-92C5-65110EC93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1E8B-4EFB-4ED3-BD29-2029F841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A15E-1C62-4D21-AF77-DC8B0B87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80D6-7191-41EF-86DC-E8D05806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7968-2A35-4411-A0C8-4621C49F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2A3B-D438-43A9-949C-7FBBD8A7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771D-680A-4D4A-A53E-8F7BBC13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E133-6857-4534-98F2-D889B8F3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B181-7CA2-4376-AB60-3B4FED2E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8A9388-FC57-4427-99FE-5C7C2923C21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hurch’s one fou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Jesus Christ her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 is His new 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water and the w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ристос — основа Церк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— основа Церк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Нём стоит о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бессмертным сл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возрожде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ll her sons and daught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by the Master’s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d through the deathly wat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pose in Eden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о их блаженств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й, Господь, и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обно им, в смир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ться к небес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eav’n He came and sought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e His holy br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is own blood He bought 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or her life He 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ес её взыска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жизнь её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л Своею кр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святости при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 is from ev’ry n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 one o’er all the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 charter of salv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Lord, one faith, one bir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яна повсю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ухом скрепле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ым хлебом свы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итаема 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holy name she bless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rtakes one holy f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o one hope she press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ev’ry grace endu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о святое И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ивает все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дином упов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терпят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with a scornful wo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n see her sore oppres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schisms rent asu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eresies distres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рзаема раздо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м угнете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верностью пред ми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посрамл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 saints their watch are keep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ir cry goes up, “How long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oon the night of w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be the morn of so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глас святых в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олкнет их моль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светлым ут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нится ночи ть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Mid toil and tribul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umult of her w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 waits the consu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peace foreverm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скорби и том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итвы со вра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жаждет наступ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я со Хрис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with the vision glo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 longing eyes are bl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great Church victo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be the Church at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иденье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зрят её гл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ржество поб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упит на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 she on earth hath 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God the Three in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stic sweet comm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ose whose rest is w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десь она в общ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Отцом и со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лаком объя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идетелей кру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59:40Z</dcterms:modified>
  <cp:revision>13</cp:revision>
  <dc:subject>Slavic hymnal Гимны веры христиан, hymn 866</dc:subject>
  <dc:title>The Church’s One Foundation / Христос — основа Церкви</dc:title>
</cp:coreProperties>
</file>