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7F6-DE61-4411-A6BC-950893FF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380-FA3B-45DD-838F-A1375482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1A3E-3A5E-4DD8-BC17-32F513C2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8BF-8232-4938-BFED-8547649E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6AC-2493-469A-99F7-8ED3A450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BF2F-18F6-4992-ABB5-46888AF9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E80-B7B5-4B2D-BF37-DBFB467D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94F-B96C-4466-8715-CEA6E718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364-C938-4753-AF9B-56E915C4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975-22B0-4D9C-AD4A-D7FB366A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E4B-6A43-42ED-8B48-889B675A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370-CF8D-498D-980F-9E2F5018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A8A83-B881-4CBC-9775-1F335A8785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walk the land with hearts on fi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y step will be a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pe is rising, new day daw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und of singing fills the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wo thousand years, and still the f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burning bright across the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ts are waiting, longing, ac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wakening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5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e’ll Walk the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flame burn bri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heart of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urning night to gloriou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song grow lou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our love grows stron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shine! Let it s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walk for truth, speak out for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Jesus’ name we shall be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ift the fallen, to save the childr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ill the nation with Your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flame burn bri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heart of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urning night to gloriou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song grow lou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our love grows stron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shine! Let it s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9:53Z</dcterms:modified>
  <cp:revision>10</cp:revision>
  <dc:subject>The Source, song number 551</dc:subject>
  <dc:title>We’ll Walk the Land (Let the Flame Burn Brighter)</dc:title>
</cp:coreProperties>
</file>