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4B4-C698-44DE-B213-A95407F6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E51-5C6E-441C-BABA-7F8045A2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613-04C1-41C9-A2EC-413EEDF9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E6E-A590-44BA-9B1A-D8354DB6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98C-E102-4C12-B11B-FCF09E11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4DD-4DA0-4A3D-BB72-3FE43AB1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ACC-D7A6-490C-BDBF-F08FFCFC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533-FAF1-4F1E-AD6C-1D785502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CDC-2789-4C0C-A899-0A1AC55F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53A-81A8-49A5-9BE1-A91C0F3A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89C-0CC9-47B0-9DD1-55CABF83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2F5-4527-4398-A40C-5A7FD38A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056B1-6CC6-42DD-9AFD-3EF5B11358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корбь, ни смерть нам не страш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утешень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прощенье, мир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жденье от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восторженно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4:25Z</dcterms:modified>
  <cp:revision>12</cp:revision>
  <dc:subject>Slavic hymnal Гимны веры христиан, hymn 854</dc:subject>
  <dc:title>Есть место сладкой тишины</dc:title>
</cp:coreProperties>
</file>