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ED1-6650-4768-82E8-E222730F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7AD-3CCD-48C4-80B0-93BBAFDB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204-03FA-4383-9DD5-9DA4EB5E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351-125C-4941-86DD-8D590E0C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9DF-8B4F-41AA-95CA-BD7DDA2C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0C1-A796-4C60-845D-09B9DBB6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ABD-0125-426F-85E2-0851057B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C76-4ADF-4F1E-811C-5829CEDB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38C-8BDB-4FD6-97A1-89A896D8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B5E-F62D-4B3D-B07D-87C87BC7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901-D948-4024-A1A5-486B728C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F47-1894-4562-808F-41A1C324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BCF00-87ED-4CA1-B1FC-42B2D1C725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assurance, Jesus is m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foretaste of glory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ir of salvation, purchas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of His Spirit, washed in His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о я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утешен и Им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а наследье хочет Он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приятно Им обла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submission, perfect del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sions of rapture now burst at my s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descending bring from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es of mercy, whispers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 час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отдался, дитя 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яет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хожу я хлеб и пить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submission, all is 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in my Saviour am happy and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and waiting, looking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ed with His goodness, lost in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ильно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рает Свой кров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случилось, радостен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о мною Пастыр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и полный мир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находит в союзе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Тебе я сердце от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умалялся, Ты б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7Z</dcterms:modified>
  <cp:revision>13</cp:revision>
  <dc:subject>Slavic hymnal Гимны веры христиан, hymn 593</dc:subject>
  <dc:title>Blessed Assurance / Твёрдо я верю</dc:title>
</cp:coreProperties>
</file>