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5</a:t>
            </a:r>
            <a:r>
              <a:rPr b="1" lang="ru-RU" sz="3600" spc="-1" strike="noStrike">
                <a:solidFill>
                  <a:srgbClr val="ffffff"/>
                </a:solidFill>
                <a:latin typeface="Verdana"/>
              </a:rPr>
              <a:t>	</a:t>
            </a:r>
            <a:r>
              <a:rPr b="1" lang="ru-RU" sz="3600" spc="-1" strike="noStrike">
                <a:solidFill>
                  <a:srgbClr val="ffffff"/>
                </a:solidFill>
                <a:latin typeface="Verdana"/>
              </a:rPr>
              <a:t>Боже Вездесущи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Вездес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и покло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аём Тебе в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ш между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в нас да сми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д Ним преклоним ли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ознал, испы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благ и дивен,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ит Его им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сё Ты проник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ом Твоим веч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зари наш храм сердеч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 свят, свят! Всевышни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афимов пес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лашают свод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нас в этот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покло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всего творень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наш Вездес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им херув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и ночь не утом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цветочек неж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шечку откро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ьёт солнце золот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 нам позволь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том и зи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ть перед Тобо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и, всели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их бедных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бя всегда дай слу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ам приди,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ятости и си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ебя мы всюду чт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стоим иль спе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 мире э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не тьмой, а свето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6:07Z</dcterms:modified>
  <cp:revision>3</cp:revision>
  <dc:subject>Slavic hymnal Гимны веры христиан, hymn 85</dc:subject>
  <dc:title>Боже Вездесущий!</dc:title>
</cp:coreProperties>
</file>