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8A3-F160-4F02-88F8-4EDA07F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834-D4A9-4D33-99F5-8CA17BAD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4B9-3603-468F-97AC-8879C3AC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474-D146-4A04-908F-34121960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5A9-637D-4930-B8BD-D72CD5D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87C-9D81-45C1-988E-30ABF0CD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372-A33A-4C96-9FD1-036AAFA0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1F9-42F7-469F-9E49-AA8DF81C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D38-0A12-409B-A52E-A17F709A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6D3-136F-45CB-8B5D-5828D72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30C-33A6-4E9E-9D81-75A4417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5EB-2BDC-4DFE-A6F4-18DEF6C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BEDDA-ED06-47C7-B8D2-E8065955E3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4:25Z</dcterms:modified>
  <cp:revision>12</cp:revision>
  <dc:subject>Slavic hymnal Гимны веры христиан, hymn 849</dc:subject>
  <dc:title>Твердыня наша — вечный Бог</dc:title>
</cp:coreProperties>
</file>