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345-DC77-4D57-A2DE-71466F6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8B6-8B3C-4E60-8AD8-14C9605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288-C7EF-492B-8A0A-901C73C1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FEB-2BB7-4332-B425-7DBD3F86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9CE-B0E1-45DB-AD33-E1DFBB2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CF7-0232-4EC2-87B0-813FAD34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760-7B2D-4BA1-91EA-050CABC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59B-B44F-49EA-B965-EE6CFDB6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340-C0B7-4008-BEA5-2D850AE0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EC7-C8E2-43E3-8703-E52A46B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D02-583A-47F1-934E-EAD5AFA0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B26-3CA7-4191-B80F-D599813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12FEB-3474-4734-AAF1-427B08F9BC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l by woe oppr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for thee He suff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amid the g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rystal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griefs He car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sins He b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ldier in the f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battle thic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ine armour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foes b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strength be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conqu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kies are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seas have their dang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iner, bew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re fle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s they c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 the toil and h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come the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Maste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uests are bid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feast is sp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t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, amid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endless f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will sing His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not be l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14Z</dcterms:modified>
  <cp:revision>13</cp:revision>
  <dc:subject>Slavic hymnal Гимны веры христиан, hymn 363</dc:subject>
  <dc:title>Look Away to Jesus / На Христа взирая</dc:title>
</cp:coreProperties>
</file>