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23</a:t>
            </a:r>
            <a:r>
              <a:rPr b="1" lang="ru-RU" sz="3600" spc="-1" strike="noStrike">
                <a:solidFill>
                  <a:srgbClr val="ffffff"/>
                </a:solidFill>
                <a:latin typeface="Verdana"/>
              </a:rPr>
              <a:t>	</a:t>
            </a:r>
            <a:r>
              <a:rPr b="1" lang="ru-RU" sz="3600" spc="-1" strike="noStrike">
                <a:solidFill>
                  <a:srgbClr val="ffffff"/>
                </a:solidFill>
                <a:latin typeface="Verdana"/>
              </a:rPr>
              <a:t>Луч последний за горам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Луч последний за гор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пыхнул и пог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останься с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т поздн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покровом ночи тё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ло и грех твор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у ног Твоих спокой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и верных спя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астухи овечек по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дут д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стырь наш, водой жи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у ус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цели все наши ра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рдость изго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зде нам будь охра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е наши дн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Ширь земную покрыв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риятный мра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злому делу приступ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арый, хитрый вр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когда и к нам придё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ять плевел с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разрушь его рабо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авдою свят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Луч последний за гор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пыхнул и пог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останься с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ставь Ты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смерти ночь наста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во тьме све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житейских испыта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край родной вед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52:57Z</dcterms:modified>
  <cp:revision>3</cp:revision>
  <dc:subject>Slavic hymnal Гимны веры христиан, hymn 223</dc:subject>
  <dc:title>Луч последний за горами</dc:title>
</cp:coreProperties>
</file>