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32B-A588-4BFD-9CA9-B92EFC9F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D28-0C2F-4E82-9E7A-AC362F19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A45-980D-495F-A75E-449CF43F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A94-C9F1-463E-9687-50589CBA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E23-EB33-4B97-B259-8D204132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2B8-1124-43E3-93E6-2CA2FCC7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67B-CE80-4F51-A56D-6B5943F6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0889-3292-40BE-9512-90006911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5B7-68DF-4561-8F7A-5261AF89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483-3E44-47CC-89DC-B419EBE8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21C-11A5-4ECB-97F1-459B3796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6F0-18C5-459B-807D-BB1A1CDA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5CD48-A190-4C12-B417-0DC81831E2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обедимое нам дано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гонений его возне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в удел приобрёл Себе 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победу даруе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в бой без сму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 пеньем по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без отступ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 с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победимое нам дано зна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йдем за стан ко Христу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ши наш крест, Его смерть возвес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традали мы с Ним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 во славе восцарствуем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в бой без сму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 пеньем по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без отступ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 с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ясь, носим бесчестие м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споведывать имя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мы глядим с уповань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т хвалой Его наши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в бой без сму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 пеньем по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без отступ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 с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овал нам державную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Спаситель врага побе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Он и в нас совершает поб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ем вечного Господ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в бой без сму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 пеньем по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без отступ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 с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2:39Z</dcterms:modified>
  <cp:revision>12</cp:revision>
  <dc:subject>Slavic hymnal Гимны веры христиан, hymn 496</dc:subject>
  <dc:title>Непобедимое нам дано знамя</dc:title>
</cp:coreProperties>
</file>