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6EA6-A652-48CD-96FA-00058B02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432C-AB09-4184-B4EF-06913B03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7E2E-5BE7-406E-BAA2-DE8B4675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C40B-4F22-49B2-A901-3A0ABA81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BC2A-083F-41B9-9718-A00F1877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D6AB-B9C4-40CB-AC87-C0727D6C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0C88-38B5-491E-8D10-26118DF3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3ADB-C2AD-4E61-8F83-41AECBB6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3B38-3F9A-444F-B7AD-0BEB3FC8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F7C4-95C7-453A-9B00-31A2BA9F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0CC2-B0DF-4318-A7D6-B4951374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0A56-1351-47E2-82A6-E3DE488A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2A241-DDCD-4513-B573-C41EDD6ACFA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у источника с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светлых, чистых 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вскоре встретим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всех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ы будем об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у источника спасе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путь земной тернистый, скорб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меним на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х брегах реки небе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ки воды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ы будем об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древо жизни над ре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ветлым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, кто устал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 к тем вод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ы будем об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7:42Z</dcterms:modified>
  <cp:revision>12</cp:revision>
  <dc:subject>Slavic hymnal Гимны веры христиан, hymn 652</dc:subject>
  <dc:title>Мы у источника спасенья</dc:title>
</cp:coreProperties>
</file>