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B81-0C78-4DE4-81EC-069666FF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8FE-15D5-4111-9ACD-0FE32F8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5E8-6120-4B24-B443-F6E8193E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2EE-A908-4AC8-A3E4-ACAFB6F7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B79-418C-429E-B04B-18D1DFB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690-64B0-4C2A-A10D-15C116DF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2E7-6A0F-4976-912B-C4F5972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79C-FB5E-45F6-B6CE-AFB0D654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72C-B86F-4D37-ACF1-701A0B0B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508-61AA-4FBA-884D-AB9570B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BD5-CE39-4092-92D9-4910E4A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BC6-CD1D-4010-9332-74E0DF1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B741-4735-4A95-89E3-EA6A1F53EC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Богом мне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ой жизни среди би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ла ты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ью я не с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ях я сто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ю с Богом 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ч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я выбился и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ол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частья не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пусть будет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ругих я жить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го прошу лиш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чувствовал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я любима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их плечах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реди житейских би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репляла ласкою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во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частье,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бурю падал я бе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где слышал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слась среди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олитве радость пол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54Z</dcterms:modified>
  <cp:revision>13</cp:revision>
  <dc:subject>Slavic hymnal Гимны веры христиан, hymn 895</dc:subject>
  <dc:title>О, молитва</dc:title>
</cp:coreProperties>
</file>