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D76-A46C-4357-BB68-07D1DFBA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35B-B15D-4CAE-A836-B77764C7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9B4-CD26-480F-BEA7-C1A14A2C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C40-48C7-4DE7-98D2-8B6D3C8B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2B4-E03B-453F-BC07-D6EAEF26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0BA-63AD-4246-86A4-6794582B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714-FC73-4442-8733-DF8ADD6F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B19-EEB1-4C47-AE39-4E54D070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0C7-B818-4BF4-B853-B93047E5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5EE-EB8F-49EE-B03E-18153AEC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FDC-E7B5-441E-8C35-BC177F32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2FD-7DC2-44E8-B6CF-061A1074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A633A-094F-444D-A136-25C75F07A1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 in heaven, how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kingdom be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our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people declare Your mighty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and is and i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reign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6   Father in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2:37Z</dcterms:modified>
  <cp:revision>11</cp:revision>
  <dc:subject>The Source, song number 96</dc:subject>
  <dc:title>Father in Heaven, How We Love You (Blessed Be the Lord God Almighty)</dc:title>
</cp:coreProperties>
</file>