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2FF-DEB6-44B0-A3E6-52B24D8F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45E-6B20-41A0-850E-F300955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9DB-A5D9-4A5E-AE7B-3CA2E389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166-0E83-463B-BB3C-14BC5B7C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0DB-F4D7-4A4A-AFE8-CAF2F8D8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524-ACA1-4689-BB82-EB468D76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CF8-C19E-4DE8-99B1-F4C703E0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200-E6EE-4E05-8033-04BFED9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349-CD63-4854-8207-39BD869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FF4-13B9-4325-9521-E162030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ADE-0117-4B94-A0C2-20FB8A2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F84-817B-4EB9-9B6A-2C29936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61D05-003C-4881-8667-F0CE52A880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57Z</dcterms:modified>
  <cp:revision>12</cp:revision>
  <dc:subject>Slavic hymnal Гимны веры христиан, Ukrainian hymn 80</dc:subject>
  <dc:title>На Голгофській горі</dc:title>
</cp:coreProperties>
</file>