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BC0-F0DE-4371-9D7E-0A5E4861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75F-025F-449F-B1A4-E7B4130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41C-AC0C-4AAB-BF82-E44A5F9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5EB-BDF3-453E-A4E0-34BCD1D0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CA7-0509-4FD5-A99F-2029636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41B-CF2C-4E54-9822-4FA00A6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F3B-6F70-42D2-B755-17460E3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03E-B9E9-47E1-8828-239EB6B1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85C-C6C2-4145-9FA5-86725085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35C-D84C-4EC9-8699-EB57010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554-1FBB-4547-B073-02445C7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694-6BC3-48B3-A52C-0CC3E36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258B3-454D-4757-AEEA-ED562AFC98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д пришёл к конч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ш Господь жи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радует нас 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Сво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а земле мину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, слава, кра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сть нам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любов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д пришёл к конч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всёц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и навсе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наш дух и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ого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год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был Твоим, наш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, в Тебе жив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 жизни быстрот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е нашей пл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 ко славе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жизни нашей х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 во все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познает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 в Твоих пу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53Z</dcterms:modified>
  <cp:revision>12</cp:revision>
  <dc:subject>Slavic hymnal Гимны веры христиан, hymn 732</dc:subject>
  <dc:title>Вот год пришёл к кончине</dc:title>
</cp:coreProperties>
</file>