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D7C-0A95-4F55-977B-661494F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51A-8583-4EEF-9B59-C791825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F7A-AA9F-4D17-9B99-48054F2B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940-FC00-4FB8-8738-44C514FD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776-63B2-49B3-B5D0-2684D12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A6C-5ED9-4772-B9BA-523DAAD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F69-2C3A-4915-9B40-00D318C1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153-C34F-44E2-88E8-056F3103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986-1795-4F3B-9625-08A62AFF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653-FF98-4CDF-8D33-231940F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806-F0E4-4CBF-B989-686BD76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1B0-0C1A-44D2-8CA5-438EE4C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7FDC-F259-4260-A3A5-8A644ECF3E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71   You Make Me Li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48Z</dcterms:modified>
  <cp:revision>11</cp:revision>
  <dc:subject>The Source 3, song number 1671</dc:subject>
  <dc:title>You Make Me Lie Down in Green Pastures</dc:title>
</cp:coreProperties>
</file>