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405-E7BC-4E06-BFD1-68A28EC1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A07-4FCC-47E9-9094-2C067AB4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535-3601-4875-8BB4-45D21B78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BED-3CC3-4125-870D-95C44835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C97-F6F2-4084-8F81-0F9C898A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D14-ACE5-4C92-AE2F-97A8ED0D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580-4B4B-4570-98AD-2933226C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5A8-3A0A-45D8-A135-0A797232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C8A-FEA9-4892-B584-003FC6C1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B68-272B-476D-9847-C048F9FF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962-CF6E-4EE4-96DD-1B7E767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210-F95F-4465-8876-20F4157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60B87-5907-4DD3-9808-780D98789F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me upon the midnight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lorious song of 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ngels bending near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ouch their harps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иши но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среди п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ночи мрак исче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ть песню для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the earth, good will to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all-gracious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in solemn stillness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ир на земле! Господь п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лог любви свят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в безмолвии в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thro’ the cloven skies the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eaceful wings unf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ill their heavenly music floa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all the weary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ают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ной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несут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адост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its sad and lowly pl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bend on hovering 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ver o’er its Babel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ed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горе, плач и 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ат они с хва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глушит наш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есни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e, beneath life’s crushing l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se forms are bending 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oil along the climbi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ainful steps and s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, под бременем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бённы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рудом идущие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now! for glad and golden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swiftly on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st beside the weary 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, новый день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десной быстр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те с радостью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lo, the days are hasten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prophet bards foret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ever-circling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round the ag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ступают дни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ётся челов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и войны и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лавны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peace shall ov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ancient splendours f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whole world give back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now the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оцаритс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ури 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ются все сердца в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2:47Z</dcterms:modified>
  <cp:revision>13</cp:revision>
  <dc:subject>Slavic hymnal Гимны веры христиан, hymn 795</dc:subject>
  <dc:title>It Came Upon the Midnight Clear / В тиши ночной</dc:title>
</cp:coreProperties>
</file>