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A1F-1FFE-492B-9A76-DED6E991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D4B-31FD-4660-8419-A080F249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81D-96B9-4D7D-88D2-CD67B463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A03-9FA9-41E4-A6C8-532BEDB6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C0D-E2F2-474D-85F2-AA3DA4B0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C3E-3366-4116-8897-14DF3914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B90-0BB9-43C2-9EF8-215D73D5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A93-7F29-4AAD-8440-A28B9F3F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AF9-0EBE-4ACF-942E-32C8ADBB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679-CDB3-499D-9FA2-CEBE2A0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A2A-36AA-48DA-9D60-08B29A6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E12-101F-4A8A-8330-1ABB544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87361-C94B-4DF5-9374-A2A51A5510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59Z</dcterms:modified>
  <cp:revision>12</cp:revision>
  <dc:subject>Slavic hymnal Гимны веры христиан, hymn 552</dc:subject>
  <dc:title>Во свете жизни будь готов</dc:title>
</cp:coreProperties>
</file>