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374-FE58-48AC-9FCE-C9EDD478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6ED-EBBC-4AC4-AE7D-1148483D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C96-D2ED-462B-BEA6-4AEE9A9F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F17-58D1-4B39-8735-395F203E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869-AAA0-405E-B14B-AB5A894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B3F-FE23-4D71-865B-987249F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276-A996-4AE2-B9F9-FD42C47D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1D5-EAC7-42C0-9456-B933AC28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6C2-ECEF-43E7-B597-AF766A5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05F-ED79-4F07-A174-6DC42ED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C02-EE3A-4D3A-9A8D-BF1E73B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212-607A-4FE6-AFEE-2322785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A4674-571A-4A11-ADB1-0849D707C5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 of words the swee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ords, in which there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omise, all fulfil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of myste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menting o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oubt or terror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“Come!”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His cross I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! why shouldst thou w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uch a loving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closer, closer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 with Him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I am so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very full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ever wand’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ing bac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each time draw me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oon the “Come”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but a gentle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ne close, close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over sea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from or near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ake Thy hand and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at sweet whisper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1:56Z</dcterms:modified>
  <cp:revision>13</cp:revision>
  <dc:subject>Slavic hymnal Гимны веры христиан, hymn 370</dc:subject>
  <dc:title>O Word of Words the Sweetest / О слово дорогое!</dc:title>
</cp:coreProperties>
</file>