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98</a:t>
            </a:r>
            <a:r>
              <a:rPr b="1" lang="ru-RU" sz="3600" spc="-1" strike="noStrike">
                <a:solidFill>
                  <a:srgbClr val="ffffff"/>
                </a:solidFill>
                <a:latin typeface="Verdana"/>
              </a:rPr>
              <a:t>	</a:t>
            </a:r>
            <a:r>
              <a:rPr b="1" lang="ru-RU" sz="3600" spc="-1" strike="noStrike">
                <a:solidFill>
                  <a:srgbClr val="ffffff"/>
                </a:solidFill>
                <a:latin typeface="Verdana"/>
              </a:rPr>
              <a:t>Прости меня</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Прости меня, хоть не прощ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 смерти лишь достоин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ости, хоть робок стон мол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ть нечиста мольба мо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й грех великий отпус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Господи! Прости! Прос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й грех великий отпус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Господи! Прости! Прости!</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Прости, хоть лучших дней потер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возвратят мои шаг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ости, хоть я нетвёрдо вер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ости! В неверьи помог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й грех великий отпус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Господи! Прости! Прос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й грех великий отпус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Господи! Прости! Прости!</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Прости меня и сердца кле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учами веры осве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обещал в Твоём завет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 имя слов Твоих прос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й грех великий отпус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Господи! Прости! Прос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й грех великий отпус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Господи! Прости! Прости!</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Прости во имя мук Голгофски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 имя крови пролит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 имя милостей Отцовски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ости, любовию покр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й грех великий отпус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Господи! Прости! Прос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й грех великий отпус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Господи! Прости! Прости!</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Как Твой борец, Твой раб Иак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отойду, пока душ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не приму спасенья знак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ка не принят я Тоб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й грех великий отпус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Господи! Прости! Прос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й грех великий отпус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Господи! Прости! Прости!</a:t>
            </a:r>
            <a:endParaRPr b="0" lang="en-US" sz="3200" spc="-1" strike="noStrike">
              <a:solidFill>
                <a:srgbClr val="000000"/>
              </a:solidFill>
              <a:latin typeface="Verdana"/>
            </a:endParaRPr>
          </a:p>
        </p:txBody>
      </p:sp>
      <p:sp>
        <p:nvSpPr>
          <p:cNvPr id="44"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28T05:49:53Z</dcterms:modified>
  <cp:revision>3</cp:revision>
  <dc:subject>Slavic hymnal Гимны веры христиан, hymn 198</dc:subject>
  <dc:title>Прости меня, хоть не прощенья</dc:title>
</cp:coreProperties>
</file>