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7E4-B745-4BB1-B688-61F4BA7B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152-8C0F-42B6-97E9-5F74D9EC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6E8-A81E-497C-82B3-74A02DAB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342-0A4D-4A1B-8CDA-150C8491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FF7-73C1-4400-B329-8AB05A2D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750-4614-4BF0-9C4C-433C1DAE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B74-C03A-417F-B355-C5604CCD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927-4456-454D-A69D-F9E8A3BC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BBC-8974-4621-BA95-6B65AE24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780-9461-48D0-91D4-E4C0D9E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3D1-FF08-4F96-8887-1C20E96E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49C-1230-42B5-83A4-9208F532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F3F72-D855-43D0-A02F-07D93D3152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 дрогнет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если даже и будет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 не страшись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 по тропинке с тобою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есь мир побе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тебе ведь Он даро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ты так слаб и без с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на пороге неведо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пает силу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, что даром дарит нам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то течёт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адеждой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Бог любовь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х обителях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38Z</dcterms:modified>
  <cp:revision>12</cp:revision>
  <dc:subject>Slavic hymnal Гимны веры христиан, hymn 719</dc:subject>
  <dc:title>Пусть на пороге неведомых дней</dc:title>
</cp:coreProperties>
</file>