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BAC-E1BD-4687-BAB5-380B7F94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8D2-7BC1-4FA1-A22E-C9BFE6DD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091-9F4A-4467-96A0-80C696DB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DEE-A360-4CC1-A938-8EE341A6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017-D240-49ED-9C02-F65B1B2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2B4-3AD5-4E95-970E-725193F3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A62-D726-41D4-A1F3-F0F2E9FC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D77-3198-459D-8096-F569B0C3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F4F-F992-4E6C-BE22-DEA79EEF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797-D0E9-44C1-9840-0E5E9C8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FDF-6126-448D-A3F2-C5FEB526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E5A-F47E-4BD7-A26A-57C318E2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83AC1-B708-4FB6-BDA2-FE3C1238DA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Ask and you will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ever you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Pray, and I’ll hear from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heal your la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Your glory will fi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water the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Lift up your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arvest is here, the kingdom is he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9   You 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, “Ask and I’ll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tions to yo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at’s the cry of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stant shores and the island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ght as it rises o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I ask for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I ask for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08:40:27Z</dcterms:modified>
  <cp:revision>11</cp:revision>
  <dc:subject>The Source 2, song number 1099</dc:subject>
  <dc:title>You Said</dc:title>
</cp:coreProperties>
</file>