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899-EDCB-469A-BCE9-09B3FBD8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7FF-5C34-4A32-9BE7-B5E7830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78C-4E4B-4C3E-84BB-EA02D8DF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93F-F2AB-4504-B152-89F0514D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9F5-3C56-46C4-AB7B-7894A040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D7F-A57D-4565-AE46-5D7EBCC3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93B-EEB7-4A9A-B35C-C2635398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330-5847-4539-93CB-4EEE45CE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217-D203-4BF6-B206-85D664CB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0A0-04F9-497C-B059-0B04725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2E7-E606-4852-8780-52DBA7E7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154-729F-47CD-86D9-66AB784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03263-27B3-4AC0-BB5E-B3F6A839D0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was but a little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well I recol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 would grieve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y folly and negl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забуду детских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абуду детских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атер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чинял не мало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ей 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y and night she prayed to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me in His c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ила к Богу день и н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не открылся 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a message ca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bade me quickly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would see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Saviour took her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жды весть ко мне приш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ть при смерти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домой, пока ж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 слезу с лан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omised her, before sh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aven to prep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л ей слово верным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that she has gone to Heav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iss her tender c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ушла… хотел б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её рук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was often way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as always kind and g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patient, gentle, l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cted rough and ru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оевольничал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был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ня всех моих про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спешила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ildhood griefs and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ould gladly with me 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е трудности м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ла попол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became a prodig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ft the old roof-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almost broke her lov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ourning afte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удный сын, покину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ёл я в край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ную мать покрыл сты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чем и то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18Z</dcterms:modified>
  <cp:revision>13</cp:revision>
  <dc:subject>Slavic hymnal Гимны веры христиан, hymn 803</dc:subject>
  <dc:title>Tell Mother I’ll Be There / Я не забуду детских лет</dc:title>
</cp:coreProperties>
</file>