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D245-EFA0-4DF6-8C02-0F1570E3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6D85-582B-4B47-BBDB-58FF9C95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A46E-5DF0-4634-834E-24CF248B8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4A33-8CE2-4AC6-8BCA-FA9323120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F0CE-79CA-4099-828F-EE43F307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52B2-B2A6-4F15-B862-6CED9249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7DD6-467A-4D52-9265-2751C3BF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EF78-BAF3-41DB-BD65-8679D40C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4759-5123-41D1-A140-45DEC664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9722-08E8-4065-9026-C87C8B63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0BAE-6AC5-4AC9-9228-3868EC87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3B91-8D86-4E96-A4BB-8877F305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33173-CFFF-42E3-8353-96C5444D478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к тебе Странник и в дверь стуч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! Откр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е твоей Гость святой тверд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! Откр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чах Его свет, речь дарит 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! Откр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ёт привет Он душе боль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! Откр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дёт к тебе Стран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Он войдёт, где приют найд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! Откр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ечный мир и любовь 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! Откр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Гость дорогой Сам Спаситель т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! Откр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ровью смыл тяжкий грех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! Откр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 хочешь идти по Его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! Откр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ертог святой за Христом во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! Откр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ть — значит милость Его прин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! Откр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один может всех спас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! Откр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0:53Z</dcterms:modified>
  <cp:revision>12</cp:revision>
  <dc:subject>Slavic hymnal Гимны веры христиан, hymn 355</dc:subject>
  <dc:title>Идёт к тебе Странник</dc:title>
</cp:coreProperties>
</file>