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FAD-705E-491C-A440-81F41510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D03-2E8C-4DF2-B774-9624C254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99D-3867-439D-8999-F3B77AE6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32A-1EB8-4481-B78D-0F354963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9DD-F88F-4819-9293-AF8B3B05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5E0-103D-43D9-B8B4-C00CE366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6A9-9238-4E2C-8496-C6B972E5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7E6-6CF3-43EE-B81C-67201C63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47A-35B0-4DB8-9EF2-756737E3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D32-7EEC-4CB4-B933-2D4CD1B6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E10-0B88-47F8-A1C3-ED55460A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C55-7979-43D4-8A08-1BF786B3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32777-F8EE-4B2D-9A3A-221D30470F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частный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безбож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тонешь под гнё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ёлой нуж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ёл сво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веселии лож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аясь рож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ской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счастный мой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адскими стре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жи и невер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нен смер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римым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ухла в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х искра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ишь ты прав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и ни в 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ска и отчая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ожут жест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изнурён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ину погря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трастей и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негод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чишь жизн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 жизни так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и ков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не смущ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ющий б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обе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адск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ен погиб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спас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ерой взгля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 образ свящ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браз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победной, свят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у получ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соверш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воскресн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зни и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01Z</dcterms:modified>
  <cp:revision>12</cp:revision>
  <dc:subject>Slavic hymnal Гимны веры христиан, hymn 364</dc:subject>
  <dc:title>Несчастный мой друг</dc:title>
</cp:coreProperties>
</file>