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7D6-821B-42BE-9FC5-A3C616AB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0C63-54E6-4784-B229-4BD08968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00E7-0FCF-4EAF-8257-B9187876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DD3-37E4-4F7D-85FB-8FAEFEFB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39B-D46A-4621-A667-C2B32E8D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404-F4AC-49CE-937B-D438B07C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3A27-C3E3-42BE-8E00-EA773F70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BB77-1912-476F-96B9-E63B5205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C488-5429-4231-9C31-40FA7E82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9B59-8422-43A2-BD81-5722DF56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115-21CA-4982-B4E1-4F582335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4412-A092-4CDD-993E-DC825D52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3C8AC-F5AA-42FB-A64A-AD72257EBB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зачем ушёл вда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! Господь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ы не слышишь з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, Спаситель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встречу т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ту мольб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82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3а  Друг мой, зачем ушёл вдал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, заблудший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уждающий душ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нешь ты на ве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 скорей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встречу т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ту мольб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любовь за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много, много 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дёт Господь от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дёт, тебя всё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встречу т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ту мольб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чно будет гол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Его зву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может зов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еки замол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встречу т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ту мольб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6:30Z</dcterms:modified>
  <cp:revision>14</cp:revision>
  <dc:subject>Slavic hymnal Гимны веры христиан, hymn 413а</dc:subject>
  <dc:title>Друг мой, зачем ушёл вдаль?</dc:title>
</cp:coreProperties>
</file>