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A85-C7D4-47A6-BFAC-25263EE9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9E02-A7FB-46AA-8F86-0296D6CC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3902-AC8C-46B0-91A2-12BECF4C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BE0-EA75-4F44-BB20-1DD3C3CF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3ED-5890-48C6-9363-EC248EA1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970-A15E-474B-9C95-F1764CB8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C291-E0D7-4EE6-8067-A3DD8DCD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93A-78E2-42C4-A92D-47C1DAB4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2E9-5F6F-4C22-9E0F-4397C538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A86F-187C-44D0-92DC-3CF6F14F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71D-4524-4FB6-BA62-77EFFFB0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960-E233-4C89-A5F4-F3DDC4D0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31A77-62D9-4714-A692-5BEB442763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стекала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уках умирав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явил Сво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лпе, Его предавш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ех врагов, за пал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носил молен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ом любви, крестом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вершил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ам на кресте стекала кр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, грешники, к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д крестом скло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исповедав нище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обогатит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и, сердцем и у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пасителю взыв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уповании жи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та ожида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омневайтесь в добр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а всего творен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в истине, ни в полн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ова служен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кровь омыть силь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чистоту п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ойдёт от вас в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апад от вос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3:22Z</dcterms:modified>
  <cp:revision>12</cp:revision>
  <dc:subject>Slavic hymnal Гимны веры христиан, hymn 407</dc:subject>
  <dc:title>Там на кресте стекала кровь</dc:title>
</cp:coreProperties>
</file>