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DEF-4BEC-4ECF-AA41-614FC3C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68D-2374-4898-9FA7-5DA0B148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8C5-BC57-40FE-90F1-5DF99B9D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91A-65CB-4EE4-B394-956EE98F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B49-C18F-4C7D-AECC-6B0F2387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477-2507-449D-8D18-7AD77D1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60B-A741-4273-9C19-784785C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377-D157-41B0-A44E-B40DA65B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E99-F5EC-44EF-B125-C6BEC3A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FA3-16CA-46BE-94B6-E7209FF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629-F32F-4A7A-99A7-795947E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ADC-9A31-4A9C-979B-5B751E6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2212-CDBD-425E-9AA2-D8480FF79C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clos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all down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ear You say that I’m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Draw Me Clos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will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eel the warmth of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fin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back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’ve ever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45Z</dcterms:modified>
  <cp:revision>11</cp:revision>
  <dc:subject>The Source 2, song number 674</dc:subject>
  <dc:title>Draw Me Close To You</dc:title>
</cp:coreProperties>
</file>