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F1D-964C-4D0C-AE4F-85872401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CC8-E4BE-419C-BDE2-38A462B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39D-A060-4EF4-9A90-71815F9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43A-B2D1-4D31-8EA1-E2B31368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9EB-BC88-4BDE-A95B-C001051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8F7-E376-48C0-8B1F-A32EE462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10A-588F-47FA-A187-779FDE81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02C-6C45-4633-9BC7-27108CB6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D6E-6605-4EF7-B7F9-731642B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170-89D3-4EA1-8A51-C0BD3308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0A-D1E8-4E9D-B418-CAC24C6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119-077A-401C-A7CC-40A171C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84D7-E676-402E-8384-A6D43D57F6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43Z</dcterms:modified>
  <cp:revision>12</cp:revision>
  <dc:subject>Slavic hymnal Гимны веры христиан, hymn 356</dc:subject>
  <dc:title>К водам живым поспешите</dc:title>
</cp:coreProperties>
</file>