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BC8-4D1A-4699-89E0-B15CCD2D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E0B-D235-41D5-AE63-6BD31FCF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CC4-3984-41ED-A8CC-09FF916A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DDF-1411-4944-8FFB-B01FC34D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4B3-E63C-459E-846F-12D5685C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254-1B04-4BF1-830E-730DEC20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15B-8052-40A8-BA77-E348D80A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5E5-7327-4F99-9AED-785A3DB6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9C5-7616-4DA3-A7BE-F43020D8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899-A4CA-47EE-8BBB-5AF420EB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57C-C1EF-4FB0-B6CE-C8285F09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258-DCAF-4282-B01F-7F4BAC2E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0A865-82C0-42CA-9B45-2F2890D9C0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лежит мой долиной смертной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, моим Спасителем хра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казал: не бросит Он меня од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жезлом поддержит Он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ть лежит мой доли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жою долины смертной т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невзгод и немощей навек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Пастыря мне щит от зла да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буду горечь смертных см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ду я долиной смертной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увижу славу утренних лу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енью Иорданских я примкну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любим я в немощ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ойду я долиной смертной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 за Ним, пусть Он идёт вперё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мглу долин меня Он про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ду я в край, где нет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47Z</dcterms:modified>
  <cp:revision>12</cp:revision>
  <dc:subject>Slavic hymnal Гимны веры христиан, hymn 503</dc:subject>
  <dc:title>Путь лежит мой долиной смертной тени</dc:title>
</cp:coreProperties>
</file>