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B4C-B4A4-43DF-9F34-26F9B931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96D-F674-4CAF-A178-7BCCFF7C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53F-B71E-4C76-87D2-133E202E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D14-4002-465B-934C-08F5E27D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F7C-607B-4BB0-9BB5-172C067B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3A3-1D4C-4E5D-924A-A6EFE81A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5C4-D2CC-4A21-9028-A00B2B38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36D-1A91-4C38-8DF1-59C9B333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B79-3A02-4A68-A538-8F82CBD5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3AB-3B73-4DF5-91F9-CAEC6E03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81D-ED7B-4F96-9C9E-796B1A31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A40-AE18-4695-97B3-0DFC35C2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14FC9-FC82-42A3-A917-F3BD3307C8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God,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ever prais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God,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ever prais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ek You in the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earn to walk in Your w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ep by step You lea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ollow You all of my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God, You Are My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cp:lastPrinted>2011-02-09T04:18:08Z</cp:lastPrinted>
  <dcterms:modified xsi:type="dcterms:W3CDTF">2011-02-09T08:25:35Z</dcterms:modified>
  <cp:revision>11</cp:revision>
  <dc:subject>The Source 2, song number 906</dc:subject>
  <dc:title>O God, You Are My God (Step By Step)</dc:title>
</cp:coreProperties>
</file>