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A67-DBFC-49E0-AC58-235D1BAB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724-1BD9-49E7-819B-297EB363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E2A-679D-4531-81DE-6B65E6FD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089-9EEB-480F-8BF2-6A70593A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73D-7A94-4AC7-83C2-09C1576F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5AB-7378-43AA-B082-F2ED2EF4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F64-62E1-46E1-AC2C-2B94960D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017-20DC-4E4E-844B-D7DFBEB6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824-8713-4688-8FF3-B54AC1D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E37-A2FE-4266-A617-94F81E5E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86A-611C-434D-A41D-606A954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8DD-97F6-4BD0-A640-A0B960FE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35AC7-F9BB-44B3-A9A9-73ED6A3302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, где Божий Сы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знаю греха по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того, что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рани меня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славы не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виг Твой, чтоб смерт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венцом моих пох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любовью, Ты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страдал и пролил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ражды, среди уг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я целый мир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р мой был бы слишком м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за любовь Твою я д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! Я Твой всёцел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2:56Z</dcterms:modified>
  <cp:revision>12</cp:revision>
  <dc:subject>Slavic hymnal Гимны веры христиан, hymn 868</dc:subject>
  <dc:title>Когда я поднимаю взор</dc:title>
</cp:coreProperties>
</file>