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B0C-39B6-4635-B39E-B5259552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E66-EC9D-4189-A57D-18A9DCE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C37-21A3-4FCE-A500-3F4CB65B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F8F-F1D7-4D6E-9F2F-A474AB0A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34C-D1E9-4C56-B39D-D8237C9C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E57-8405-4783-A55E-3FF48C0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D99-8F60-4FAD-9218-0C5EE68E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87B-6A03-41E4-848B-5ACCA9A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3A1-AFEE-42BB-9603-FF14EC9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AD9-980A-4A1C-98CF-EB3BEC2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B70-B553-48FC-A53F-AA3C6FF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A70-9E90-4130-9458-384D384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50E18-DBD4-442D-B324-4C51E7A3B3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s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the loving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wh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 of sin and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, by sin ensl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Himself He g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bor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will praise Thee, Thou Lov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 will praise Thee, while life shall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08Z</dcterms:modified>
  <cp:revision>12</cp:revision>
  <dc:subject>Slavic hymnal Гимны веры христиан, Ukrainian hymn 78</dc:subject>
  <dc:title>I Know God Loves Me / Бог є любов, о велике щастя!</dc:title>
</cp:coreProperties>
</file>