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15F-4116-46E3-BCEE-24856A45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D62-BA34-4339-A3B6-7735C707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BDD-6C35-44B6-9240-027BABC4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C99-BC3F-4F36-9AA6-CDE6957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5E7-55DB-4A84-A69A-8BBC7727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86C-DC5B-48C2-9E85-4BC0D1DF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0B0-ED54-43B5-AF64-9BC7D9AC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CCE-7F73-497D-B598-6B5901F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076-89BE-45F3-AE0D-BA475BDC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108-E2DE-4389-9E8A-1DFD25B4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2D9-ABF8-4D5B-8EED-513A156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F69-40A5-461C-BD9E-6793BAA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815C1-3435-46EC-93D2-6E71E1EA90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King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on the clouds with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His love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ing over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8   I See the King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gene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ing up to take thei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near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rring as we pray an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y heart and make it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my eyes to the things un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me how to lov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my heart for what break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am, for Your Kingdo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alk from earth into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00Z</dcterms:modified>
  <cp:revision>12</cp:revision>
  <dc:subject>The Source 4, song number 1898</dc:subject>
  <dc:title>I See the King of Glory (Hosanna)</dc:title>
</cp:coreProperties>
</file>