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6568-ACEB-4693-BC8C-8F86D69F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BF9-AB2F-4FEA-9AAC-62E9253D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D768-1624-4999-B001-DF8981EE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B60-0766-440B-9B81-7D79BD92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8C8-7A99-4145-94FB-497A1C92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CFFB-CAF6-4071-9C7E-0FEE99D7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BFF3-BD2D-4C2C-9663-A12A1580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8DC-2532-45B7-A5F5-ABFB19E8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5BF-FF45-4A16-A7FD-A5A8A08A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E72C-6C73-4B70-A33C-F7EB6043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4D7-CDC5-44D6-AC0D-95849C13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C177-F254-4621-A444-E615548D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68496-54F0-414A-9676-862E63C7EE7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you fear the f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in the conflict w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it dark without you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ker still with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очет всех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все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благосло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благую в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ому вл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кто Спасит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бя отда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го возлю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хвалу возд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хоть мра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Иисус 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рак земной небес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оз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your faith grow fa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ause you l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r prayers unans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your God ab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ёл за грех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ением Сво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uld you go rejo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upward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naught of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welling in the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дишь ли в пуст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шь путь на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таких Иисус при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ыскать,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45Z</dcterms:modified>
  <cp:revision>13</cp:revision>
  <dc:subject>Slavic hymnal Гимны веры христиан, hymn 397</dc:subject>
  <dc:title>Let the Sunshine In / Хочет всех людей Господь благословить</dc:title>
</cp:coreProperties>
</file>