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54</a:t>
            </a:r>
            <a:r>
              <a:rPr b="1" lang="ru-RU" sz="3600" spc="-1" strike="noStrike">
                <a:solidFill>
                  <a:srgbClr val="ffffff"/>
                </a:solidFill>
                <a:latin typeface="Verdana"/>
              </a:rPr>
              <a:t>	</a:t>
            </a:r>
            <a:r>
              <a:rPr b="1" lang="ru-RU" sz="3600" spc="-1" strike="noStrike">
                <a:solidFill>
                  <a:srgbClr val="ffffff"/>
                </a:solidFill>
                <a:latin typeface="Verdana"/>
              </a:rPr>
              <a:t>Господь, дай жизнь душ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осподь, дай жизнь душе м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ьми её как достоя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на кресте терпел для 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чали, скорби и страд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усть Тобою спасе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будет ввек Твоя он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Господь! дай жизнь душе м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чисти сердце, помышл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ть всё Один Ты можешь 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згляни на скорбь и иску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чтожен и бессилен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помощь, сила, жизнь мо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Господь! дай жизнь душе м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лей в неё Свою Ты сил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дай Ты здесь погибнуть 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вергни грешное в могил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буду сердцем и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ечно съединён с Тобой.</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22:35:33Z</dcterms:modified>
  <cp:revision>3</cp:revision>
  <dc:subject>Slavic hymnal Гимны веры христиан, hymn 154</dc:subject>
  <dc:title>Господь, дай жизнь душе моей</dc:title>
</cp:coreProperties>
</file>