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5D1-E2CC-4A85-8D0C-6DD16D20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AB3-3B1D-4F2A-B24A-D4AF8890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A1B-2B86-42B2-B809-9C686A4F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691-08EB-434F-A46F-65B8DC85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BCD-C616-47B5-9859-9670DCA8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ABE-4C9B-4617-B8C3-D81FF7C3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A51-1D89-429C-B217-A130F60C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D1B-A2AE-4C90-A020-E81F4944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E4D-094D-4D18-B964-D49AA4F2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FB9-B684-4084-9C89-710B823A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57D-1515-44E9-9745-0C74DA3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005-35F4-4518-95CD-79117FD8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C659D-8106-48DD-889A-7B0E764070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has lost its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rave has been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liv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allelujah! Jesus Is A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Alpha and Omeg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rst and last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urse of sin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have perfect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of God ha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has lost its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rave has been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liv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Alpha and Omeg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rst and last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urse of sin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have perfect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of God ha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03Z</dcterms:modified>
  <cp:revision>10</cp:revision>
  <dc:subject>The Source, song number 142</dc:subject>
  <dc:title>Hallelujah! Jesus Is Alive</dc:title>
</cp:coreProperties>
</file>