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2</a:t>
            </a:r>
            <a:r>
              <a:rPr b="1" lang="ru-RU" sz="3600" spc="-1" strike="noStrike">
                <a:solidFill>
                  <a:srgbClr val="ffffff"/>
                </a:solidFill>
                <a:latin typeface="Verdana"/>
              </a:rPr>
              <a:t>	</a:t>
            </a:r>
            <a:r>
              <a:rPr b="1" lang="ru-RU" sz="3600" spc="-1" strike="noStrike">
                <a:solidFill>
                  <a:srgbClr val="ffffff"/>
                </a:solidFill>
                <a:latin typeface="Verdana"/>
              </a:rPr>
              <a:t>Хвалу Небесному Отцу</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ll praise to Him Who reign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majesty supre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gave His Son for man to di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He might man redeem!</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валу Небесному От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шите воз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землю Сына Он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грешников спас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 of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2" name=""/>
          <p:cNvSpPr/>
          <p:nvPr/>
        </p:nvSpPr>
        <p:spPr>
          <a:xfrm>
            <a:off x="539640" y="4068720"/>
            <a:ext cx="918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is Name above all names shall st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xalted more and m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God the Father’s own right h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angel hosts ador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выше всех превозне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Отцом на трон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ый хор поёт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шему Христ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 of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6" name=""/>
          <p:cNvSpPr/>
          <p:nvPr/>
        </p:nvSpPr>
        <p:spPr>
          <a:xfrm>
            <a:off x="539640" y="4068720"/>
            <a:ext cx="918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Redeemer, Saviour, Friend of m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ce ruined by the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hast devised salvation’s pl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ou hast died for all.</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ристос — Спаситель, верны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ющих люде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рпел позор и много м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ех в любви Сво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 of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50" name=""/>
          <p:cNvSpPr/>
          <p:nvPr/>
        </p:nvSpPr>
        <p:spPr>
          <a:xfrm>
            <a:off x="539640" y="4068720"/>
            <a:ext cx="918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His Name shall be the Counsell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mighty Prince of Pe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all earth’s kingdoms Conquer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se reign shall never ceas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оветник, Чудный, Мира Княз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дыка всех влады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ёт опять в нежданный час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ет Он велик.</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Name of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54" name=""/>
          <p:cNvSpPr/>
          <p:nvPr/>
        </p:nvSpPr>
        <p:spPr>
          <a:xfrm>
            <a:off x="539640" y="4068720"/>
            <a:ext cx="918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41:36Z</dcterms:modified>
  <cp:revision>3</cp:revision>
  <dc:subject>Slavic hymnal Гимны веры христиан, hymn 122</dc:subject>
  <dc:title>Blessed Be the Name / Хвалу Небесному Отцу</dc:title>
</cp:coreProperties>
</file>