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C060-042F-480D-BB06-FE524EB6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F2CB-3BC0-4E0B-9293-3CBA2788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46DE-857E-4C81-A3A7-CB170BA3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B090-6F66-4935-B4BE-86B0815C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4EDA-3AC8-48BE-AB48-16435CE9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734A-A80C-4887-99FC-E0648477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BD0E-9C28-4CA3-80AC-EE309D4D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3129-EB10-47E1-8740-DC312C5A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4E16-8829-4D55-AA08-EF845FAE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4124-C36A-4EB8-8B8F-1A36B76E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6DFA-A1CB-4190-B354-B4806D5B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1E4C-E440-41B5-A793-7B6ECC47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0AF06-FE83-4FDF-AA5A-AEC311ABC81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зачем ушёл вда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! Господь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ты не слышишь з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! Спаситель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у встречу с Христом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ы твои и мольбу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, и мольб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ын мой, зачем ушёл вдал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, заблудший, где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уждающий душ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ибнешь ты наве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 скорей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у встречу с Христом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ы твои и мольбу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, и мольб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любовь за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много, много л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дёт Господь от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дёт ― тебя всё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у встречу с Христом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ы твои и мольбу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, и мольб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ечно будет гол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Его звуч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может зов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замол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у встречу с Христом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ы твои и мольбу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, и мольб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2:18Z</dcterms:modified>
  <cp:revision>13</cp:revision>
  <dc:subject>Slavic hymnal Гимны веры христиан, hymn 413</dc:subject>
  <dc:title>Сын мой, зачем ушёл вдаль?</dc:title>
</cp:coreProperties>
</file>