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C57-F593-410E-B56B-5D6F074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196-F634-4E5A-85B7-DEBD5101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EE8-D006-453A-B142-AB14C7EE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561-CDBE-45AD-8214-8DF96B5C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B47-FB56-41C7-AD7F-42A808F6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F44-B570-425A-95BF-714C0C5E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EBA-7010-4309-9E4C-9EA683F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DF7-1379-4943-8733-5D238721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EDE-8BAE-4CE6-B8D2-24772F0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56E-2CC4-4F36-8CBC-FC69B0C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F4-DB21-4FE5-A0BC-C1AEFBA5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773-E916-4DEB-923A-EE26AB4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F7BF-12F9-4899-AAC5-0B72D630E8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oubled heart, there is a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each of toil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here changes never 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not fain be resting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hen bowed down beneath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av’n allowed, thine earthly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p! thou’lt reach that blest abo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 on, nor deem, tho’ sore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igh unheard, one prayer forg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rest will dawn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9Z</dcterms:modified>
  <cp:revision>13</cp:revision>
  <dc:subject>Slavic hymnal Гимны веры христиан, hymn 674</dc:subject>
  <dc:title>Wait and Murmur Not / О, чудный край, где горя нет</dc:title>
</cp:coreProperties>
</file>