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4BB-88D8-4C0E-9695-A56E1C10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AD8-24A3-4A6C-AD76-C78A3D34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4A4-CD8B-4898-817B-6B70408A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D95-AF4A-4B41-831B-EC0FBADF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8D2-EB31-4EAF-A874-97104EFA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595-FFE1-4838-84FC-657B600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6A4-D932-4490-8D96-5C4F0D6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E38-04FF-48FA-BE64-9CABA86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173-FB99-4554-BEB0-FE61BD49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2F6-E5CC-4668-BB52-3752928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EAF-E2D1-4F7E-873E-62E205C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6B9-47CC-475A-BBD6-E2FF3D1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C12D-D8F8-4D7E-8E29-FD69A9FE98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’s Not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38Z</dcterms:modified>
  <cp:revision>10</cp:revision>
  <dc:subject>The Source, song number 133</dc:subject>
  <dc:title>God’s Not Dead</dc:title>
</cp:coreProperties>
</file>