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718-C67F-4FDE-8FA1-963B6658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CA3-B64D-4D13-8E1E-40C45507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7FB-AB89-4E47-A124-94AEB812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BDD-C61D-44B6-8511-349818CB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642-C639-4D25-9792-853A784C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2AE-9758-4A30-943D-E7A57711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6D3-CF5F-48FC-A906-5CA81D30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119-B569-4371-9D34-613E2DE5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CF72-0DAE-4BDA-86BF-EE48EC9E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81D-36E2-4634-8CC2-C94697DF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9F2-2C09-4B15-988C-2932CFEE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E52-2FE0-432C-AFDB-74D30521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C2F67-072B-49CF-8864-86E11EE8F1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enter the Holy of ho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enter through the blood of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enter to worship You 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enter to honour “I Am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worship You, I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worship You, I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name is holy, hol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name is holy, hol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82   I Enter the Holy of Ho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4:54Z</dcterms:modified>
  <cp:revision>11</cp:revision>
  <dc:subject>The Source 3, song number 1282</dc:subject>
  <dc:title>I Enter the Holy of Holies (For Your Name is Holy)</dc:title>
</cp:coreProperties>
</file>