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D74-37B8-48F5-A60A-BEC398F1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B9D-0BFF-45A8-8EDB-66A71122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9EB8-A5FC-4274-8119-3F11423C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5E11-CA5D-4829-8497-09523408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686E-4315-40B3-90E2-E06A6516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D9D-DF1A-4672-A481-ACE8BA30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99C-900D-41C3-A46B-BFBD22D4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7F3D-1CC2-437C-ADE1-325B59F6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190-DCDE-4580-8D8C-AE8085EB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686-E04A-4ADD-A9EB-7481826B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7AA2-46C9-4378-9352-2A0058D4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B6E0-4B3C-49F3-A344-5BBD086B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7E87C-A106-4012-BE46-8097751FE7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lovely is Your dwell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 Almigh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longs and even faint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ere my heart is satis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in Your pres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ing beneath the shadow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ow Lovely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ho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ousands else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thing I ask and I would see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Your beau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ind You in th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dw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ho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ousands else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and flesh cry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, the living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’s water for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tasted and I’ve se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once again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draw near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draw near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ho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ousands else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2:11Z</dcterms:modified>
  <cp:revision>10</cp:revision>
  <dc:subject>The Source, song number 188</dc:subject>
  <dc:title>How Lovely Is Your Dwelling Place (Better Is One Day)</dc:title>
</cp:coreProperties>
</file>