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194-4BBE-4973-B823-1F78F72A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141-E737-40A4-AEFF-B5D74B28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CF0-0209-4FB3-B41C-E95EE575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E48-35CD-41E3-BD72-40AEFB99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97D-78E1-4CD5-A157-F490325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ABE-C2E9-4BC3-8CA7-7EEA7D9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DD2-DC07-4E64-8485-FA22D63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ECE-AA4D-4782-B9E7-88A8C773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3BF-678E-408C-94EE-9458B1F3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D05-31A7-4412-A286-0A0B476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452-E68D-4F89-8C3D-7615522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A48-13BE-4611-98A6-45935A3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49029-A7CB-45C1-B15D-D8922F6906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fter darkness, gain afte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after weakness, crown after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after bitter, hope afte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 after wandering, praise aft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 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aves after sowing, sun after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after mystery, peace after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fter sorrow, calm after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after weariness, sweet res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after distant, gleam after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fter loneliness, life after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fter long agony, rapture of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ght was the pathway, leading t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2Z</dcterms:modified>
  <cp:revision>13</cp:revision>
  <dc:subject>Slavic hymnal Гимны веры христиан, hymn 488</dc:subject>
  <dc:title>Light After Darkness / День после ночи</dc:title>
</cp:coreProperties>
</file>