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FC08-7928-40D2-BB30-BAC44EDE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0597-D447-457A-AE32-ABFA5213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4077-814E-4440-A11C-474EC766B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6382-63EB-4038-A299-BAC0D5A8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12E9-6BCD-4119-B52D-3D6E0746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A715-9483-4986-90C1-ED81700B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584A-E0D4-4E83-B907-7C60C842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0742-642B-4651-BE56-6AE744D9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A489-07CE-4F33-9615-2CA8B9D9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4755-CAF0-492B-8DFA-484C0499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EDD1-B2FC-4AB0-8809-346CF972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6408-7229-46B9-9F21-34243C69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EFD11-64B2-4191-80EE-45D9284C302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Tis so sweet to trust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take Him at His w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rest upon His prom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know “Thus saith the Lor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адко верить в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ко верить 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ить всем Его сло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ю возношу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, прямо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 мой,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ну к Тебе я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Господь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, есмь и буду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sweet to trust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trust His cleansing blo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in simple faith to plung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th the healing, cleansing flo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я на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Его святую кр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Ему служу, молю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посвящаю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 мой,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ну к Тебе я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Господь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, есмь и буду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’tis sweet to trust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from sin and self to cea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from Jesus simply t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e and rest and joy and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риятно в Бога ве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ом пребывая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м Господа жизнь ме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новляясь с каждым д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 мой,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ну к Тебе я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Господь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, есмь и буду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so glad I learned to trust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Jesus, Saviour fri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know that Thou art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t be with me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емлюсь найти отр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Голгофского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очу за грех в нагр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ь праведность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 мой,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ну к Тебе я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Господь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, есмь и буду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00Z</dcterms:modified>
  <cp:revision>14</cp:revision>
  <dc:subject>Slavic hymnal Гимны веры христиан, hymn 622</dc:subject>
  <dc:title>’Tis So Sweet to Trust in Jesus / Сладко верить в Иисуса</dc:title>
</cp:coreProperties>
</file>