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3</a:t>
            </a:r>
            <a:r>
              <a:rPr b="1" lang="ru-RU" sz="3600" spc="-1" strike="noStrike">
                <a:solidFill>
                  <a:srgbClr val="ffffff"/>
                </a:solidFill>
                <a:latin typeface="Verdana"/>
              </a:rPr>
              <a:t>	</a:t>
            </a:r>
            <a:r>
              <a:rPr b="1" lang="ru-RU" sz="3600" spc="-1" strike="noStrike">
                <a:solidFill>
                  <a:srgbClr val="ffffff"/>
                </a:solidFill>
                <a:latin typeface="Verdana"/>
              </a:rPr>
              <a:t>Я слышу голос Тв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слышу: голос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овёт меня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ыться крови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ть слаб и греш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илу мне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аешь грех, живи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ию влеч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Жизнь новую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ам во мне тв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на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щедро мне да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сердцу весть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я — Твоё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Духом Ты во мне жив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Нём вс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Господь! Тебе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воей кр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небес, Тебе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вое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6:24Z</dcterms:modified>
  <cp:revision>3</cp:revision>
  <dc:subject>Slavic hymnal Гимны веры христиан, hymn 23</dc:subject>
  <dc:title>Я слышу голос Твой</dc:title>
</cp:coreProperties>
</file>