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022-EA1A-4816-AD9C-FBD91A64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966-B3EF-4C07-B80F-047840E2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E10-2572-4BCE-8EC2-48CD1599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8F6-A861-4626-942F-A0A0545A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C13-1018-413F-9102-46A0B80B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751-1B6C-4F9A-972D-0A2B218B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31A-23FE-4CD1-B1BB-A80F877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136-D125-4949-A7BC-ED54634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749-CD54-49A3-8F58-F93E9D4F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373-F8FC-4719-A5EE-BC1FF599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579-EE2C-4E7A-9863-4A6495A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17B-63DF-4054-A53C-457F16F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E5CB9-32A2-497F-958A-B74CB85ACA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28880"/>
            <a:ext cx="92584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48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клонись перед Велич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шай честь и хвалу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е в Царстве мог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трона, где корон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личь, превозн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, провозгла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Ц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распят, Т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06-08T20:36:08Z</dcterms:modified>
  <cp:revision>11</cp:revision>
  <dc:subject>The Source, song number 346 in Russian</dc:subject>
  <dc:title>Преклонись перед Величием / Majesty, Worship His Majesty</dc:title>
</cp:coreProperties>
</file>