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D2A3-1D09-4EAC-B9A5-187B5DB3B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CC93-06EE-4F8B-A68B-EAAD27D98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2CE8-DCBF-40C0-8631-1B36EB5A6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4A93-7A20-486C-91E5-4B183D7B1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549C-2DDB-4280-BAAF-252572CDA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6A32-BF1E-4B7B-8D1A-3ABD31A68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1734-B744-473F-BE0D-64730D1DC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681D-5844-4ABD-9059-EE6451AB4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25F1-ADC5-47F2-AA02-C86D09D1F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1446-0BF5-4289-85FA-AD8082678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2115-CB92-4AF8-897F-EEDAFC57B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F46B-B602-404E-88F5-03D55172F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004868-827B-4581-A7E1-53E8E7CD918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еред темряви нічної чути крик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йте світло! Дайте світл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ди гинуть і настав останній час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йте світло! Дайте світл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вітло ми спасіння понес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ай воно у тьмі гор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уть освічує в небесний ді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любов і мир цар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55   Серед темряви нічно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012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юди в світі чути Македонський крик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йте світло! Дайте світл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то почув цей крик, нехай скорі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іши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йте світло! Дайте світл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вітло ми спасіння понес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ай воно у тьмі гор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уть освічує в небесний ді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любов і мир цар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наші дні також жахлива темно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йте світло! Дайте світл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ільйони грішних гинуть без Хри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йте світло! Дайте світл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вітло ми спасіння понес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ай воно у тьмі гор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уть освічує в небесний ді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любов і мир цар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Ви для світу світло”, так Христ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аза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йте світло! Дайте світл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в темряві нам світити приказа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йте світло! Дайте світл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вітло ми спасіння понес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ай воно у тьмі гор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уть освічує в небесний ді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любов і мир цар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41:51Z</dcterms:modified>
  <cp:revision>13</cp:revision>
  <dc:subject>Slavic hymnal Гимны веры христиан, Ukrainian hymn 55</dc:subject>
  <dc:title>Серед темряви нічної</dc:title>
</cp:coreProperties>
</file>