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CF2-C95E-4D9C-BC2C-E14829B2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C57-B2AD-412F-A7EB-1A3C32FB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1CE-DEE7-4732-8A08-8E723446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C83-C484-420E-BF3F-2A0DA90A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59B-E21D-40FB-9CA8-ECE72B39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F17-099B-412C-BCA2-592DE910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404-EBD7-4015-B44F-FB7909D5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C0C-0145-441C-B6FD-290DE8B5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196-240B-48C5-9973-9B5ACAAE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88A-3A82-4AE2-B7B0-937C257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276-4029-49EC-9625-7135B9B0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F1E-A51C-426B-BE8B-4C42C9A4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42E38-D15A-4D1E-BECC-7EF2713334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шёл. Кон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вои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и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уст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ый сон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рика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ро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м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ям дай ви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х рай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ы н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да не пр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да стер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 зар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зволишь в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5:03Z</dcterms:modified>
  <cp:revision>13</cp:revision>
  <dc:subject>Slavic hymnal Гимны веры христиан, hymn 825</dc:subject>
  <dc:title>День прошёл</dc:title>
</cp:coreProperties>
</file>