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E27A-707C-406A-8173-D6AEE7C2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9DE9-9DB1-496A-8674-3DC12BFD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32C9-0090-4AD6-87E4-1B9520D5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EF63-9B01-4313-B541-CAD41757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EE8E-CDBD-4EFE-91ED-CE40B1A1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F2F5-C966-41C5-B073-50EC5D4A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C486-E8ED-46DB-8786-15BB5128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EA4D-F9B2-4C7B-9CE5-E279A38C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5014-089B-46B2-B1FF-7D0537E2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0FF8-D982-4689-A4E2-0724ADAC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2261-A02B-4A71-98B3-E8F351F6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D13E-BFD5-47F2-8162-33E3F113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7DA9F-CC4A-415B-8B8E-3DC993626CC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Твоего стола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ться нам да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леб — Твоя святая Пл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ровь Твоя — ви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ши души напи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ес сходил Ты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ира принял на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спасень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 Твоего стола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Ты умер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в могиле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воскрес на трети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путь к Отцу откр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й любви весь мир не 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мерной и свят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ж, Господь, Себе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 вечно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разум, волю, сердце, —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и управля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очешь Ты, чтоб мог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ти в небесный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1:15Z</dcterms:modified>
  <cp:revision>12</cp:revision>
  <dc:subject>Slavic hymnal Гимны веры христиан, hymn 730</dc:subject>
  <dc:title>У Твоего стола, Господь</dc:title>
</cp:coreProperties>
</file>