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683-483E-46C1-9FAD-6C3BA6A5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407-7795-40F8-AE1A-DECDC88C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38B-DFC7-47A3-AD06-60F523B9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8C7-855F-4F1D-851A-AAF4F3F3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453-6987-4195-85C7-A3B8465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E59-C6B6-4436-A641-E96EFA91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895-06C9-4BFE-AECD-F1E0A1F7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FB6-E352-4694-8932-B78BC96E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E23-316C-4FB9-A70C-37D0571C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04E-C100-4355-B1A8-47C3EDCC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4BE-B387-4AF7-8798-65B5DAF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A2C-AC60-4A6E-A9C8-B5D69F4F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BE628-0A1D-4EE8-A8F3-50C842A3A1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где гор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асилий и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царствует там жизнь и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чудесном 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чудны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нет мук, нет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страданий жизне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огил и нет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для истинных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трудись, в надежде 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ведёт нас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гибшим весть н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Иисусе ест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10Z</dcterms:modified>
  <cp:revision>12</cp:revision>
  <dc:subject>Slavic hymnal Гимны веры христиан, hymn 674</dc:subject>
  <dc:title>О, чудный край, где горя нет</dc:title>
</cp:coreProperties>
</file>