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424-8B3F-4FAA-9DE6-8D792DBC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7DA-5642-4630-A20C-0E1AD74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78A-002E-4548-9FE5-FA37FFC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2FD-ED00-4868-A894-25B3DA7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EE0-8DF5-4D94-8198-7030F31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624-0D35-40F5-8BEF-97EF886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DBA-1D14-4B1B-B5F2-F9785CDA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0E9-3926-4980-946E-191CB6A2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351-1103-49BD-B4CF-628BCB2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36F-0FC3-4F77-B731-A20A8631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4D5-81E5-429B-9015-E110606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B8B-4E01-4868-8D19-4BAB439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F1929-EA13-4CDD-9F54-1ED68085D1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45Z</dcterms:modified>
  <cp:revision>12</cp:revision>
  <dc:subject>Slavic hymnal Гимны веры христиан, Ukrainian hymn 109</dc:subject>
  <dc:title>В серце ввійди</dc:title>
</cp:coreProperties>
</file>