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A37-36F9-450E-B98A-64E33090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C12-688D-4470-A4A9-6D205E9B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5D2-4BB7-49C5-854C-64A4760B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63F-F2FA-46D9-BA32-11649502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0CD-4808-4813-8B48-F137CAC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A33-BA0E-4014-A317-6B031D12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2CC-177F-42D3-8A2B-2330360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AB1-6BFC-4A6B-A689-DA8B82B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312-B67E-4782-917C-EBDABD26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CB7-6EDD-4860-9976-D5FD96F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B86-0A47-4164-B633-6362D5F2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B01-1C52-40AB-8327-09EF6C3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123F-69C4-46EF-B61B-1ECD645790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18Z</dcterms:modified>
  <cp:revision>12</cp:revision>
  <dc:subject>Slavic hymnal Гимны веры христиан, hymn 429</dc:subject>
  <dc:title>Источник жизни Бог открыл</dc:title>
</cp:coreProperties>
</file>