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4530-3DC2-4565-9D3B-0850F2BE9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0E71-3B0D-4C23-8C7F-FA5E1879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3C0E-5E60-459C-80D9-8D0316F2E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BE6B-E1F7-4506-A7A4-CEF454D2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7354-B6EC-4DDE-B7DD-C393F417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0B88-02BA-4AD9-A366-9B2FB6BD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AE22-33BE-4BFB-9372-FD15172D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0817-FD68-4424-8FBF-79CEC126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8FD6-AE4C-486D-A8DD-815E0FE4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6003-98F3-4941-955B-98A4C518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E285-7A55-4617-9E25-1F38F480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364F-8F8C-447C-8092-618AB111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9769C7-3B72-442B-BA06-7215F875572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blood You have saved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blood You have freed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blood we can 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the holy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love You forgave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pow’r You have raised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blood, precious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158   By Your Bl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ther God in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ecious Lamb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umbly bow befor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ry holy,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of heaven’s si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ong of the redeem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ing glory to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blood You have saved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blood You have freed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blood we can 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the holy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love You forgave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pow’r You have raised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blood, precious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9:06Z</dcterms:modified>
  <cp:revision>13</cp:revision>
  <dc:subject>The Source 3, song number 1158</dc:subject>
  <dc:title>By Your Blood (Come to the Table)</dc:title>
</cp:coreProperties>
</file>