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F95-4F29-46BF-95EB-B4B59173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4DF-A5A8-4601-82DE-B2B0E37A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8EB-0621-4E71-92B1-E2BBFED1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693-BCDF-4E61-A0CA-756FB484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5DD-F378-4013-89A7-709F3B06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BD9-7615-41C4-8A21-271B57F3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32E-ABEA-49DF-85AB-6AD725B8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CBD-D8B8-40C2-BCC9-3B10C769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DD4-5973-4CD5-AC92-F21ED56E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DF4-1662-487B-B569-13498A59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711-E5EC-4D0F-A190-E95819E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B9A-AA14-477D-A665-8038E1C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73016-55AE-4801-98F9-C8EA383E26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аситель придёт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любви Он придёт с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Свою к Себе возь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, спасённый Им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 мгновенье собер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а Спаситель при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мия главу Христос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и горест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х поднимет з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ут к Нему на обл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х будет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Богу пусть нас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те сред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н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ит, шумят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горит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жди с небес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9:21Z</dcterms:modified>
  <cp:revision>12</cp:revision>
  <dc:subject>Slavic hymnal Гимны веры христиан, hymn 323</dc:subject>
  <dc:title>С неба Спаситель придёт опять</dc:title>
</cp:coreProperties>
</file>