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C58-8015-47BD-8A30-5BCD2CA4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E5B-4A48-4801-A29B-B9C0E748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1E5-3A77-4D89-92D9-2D14032A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8EB-CA7E-4CD7-81A4-DE52A861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C41-1182-4B9B-98A8-21048E70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8E6-ABD7-4E41-A48C-92C8D6B4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8DB-5A36-4DA4-BB70-12D98FA4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184-547A-4411-95C2-411BB6A7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A0D-BF5D-44DD-867A-43BFFEB8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2B7-A23E-4FC2-9482-A77CA3C4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CB6-9949-4593-84A3-19FDA149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0B8-D917-4845-B24B-309415D4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4C69C-9906-471D-8D3F-BE46D4951B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тся труд мой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мне Спаситель на неб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всегда буду с Ним пре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кончится труд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даровано в доме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еспредельной люб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Его уви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огих встречу любимых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о свиданье вдали от скорб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ть Христа будем все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3:38Z</dcterms:modified>
  <cp:revision>12</cp:revision>
  <dc:subject>Slavic hymnal Гимны веры христиан, hymn 870</dc:subject>
  <dc:title>Когда окончится труд мой земной</dc:title>
</cp:coreProperties>
</file>