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200A-5EB9-4002-88AA-F07EFA463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2F0E-EC9C-4BDB-9D66-122BB0F7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8EB3-44C7-4E8A-8376-5A205EA21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3D45-3D66-429B-8207-EF0D1BFE7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B3F4-6DDE-4D09-993B-4B3C4438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0F6A-5875-4A7B-B05F-88965644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1862-AEB6-425B-A014-3388F78D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B28D-B95F-47A6-ABC2-51F0248A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4EEC-1134-4FF2-9621-CD8538B3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975D-1E6D-4B53-8D9E-A1F32A7D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5A36-9720-4C0A-8EFF-1DACEE0F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F26E-017B-469D-A354-99234CC1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08E4CC-F7CE-4947-AF77-FC15BC05EBF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r and near the fields are tee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 waves of ripened gr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r and near their gold is glea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’er the sunny slope and pl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84а   Здесь и там поля белею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и там поля беле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видит им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ут колосья золо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 усердного жне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 of harvest, send forth reap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us, Lord, to Thee we c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m now the sheaves to g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re the harvest time pass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шли делателей,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озревшие по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обрали всё, что мож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жатва не прош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m forth with morn’s f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m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m in the noontide’s gl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sun’s last rays are gleam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id them gather everyw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шли с раннею зарё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нойный полдень вышли 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шли к вечеру на ни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держать жнецов Т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 of harvest, send forth reap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us, Lord, to Thee we c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m now the sheaves to g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re the harvest time pass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шли делателей,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озревшие по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обрали всё, что мож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жатва не прош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ou, whom thy Lord is sen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 now the sheaves of go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ward then at evening wen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shalt come with joy unt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й труженик Госпо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ни ячмень, пшеницу, рож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тва кончится, на отд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ь вечную войдё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 of harvest, send forth reap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us, Lord, to Thee we c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m now the sheaves to g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re the harvest time pass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шли делателей,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озревшие по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обрали всё, что мож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жатва не прош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4:29Z</dcterms:modified>
  <cp:revision>13</cp:revision>
  <dc:subject>Slavic hymnal Гимны веры христиан, hymn 784 (as amended)</dc:subject>
  <dc:title>Far and Near the Fields Are Teeming / Здесь и там поля белеют</dc:title>
</cp:coreProperties>
</file>