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F85-7230-4BCE-85BF-BF2855BE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A9E-97F9-43D4-83FF-8A1B9D0E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EE6-C3C9-406A-86BE-C741F22C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FDE6-A69C-4A56-84F9-E2C84648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71A-10AC-4390-A83C-7346FAAC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10F-AC5B-4265-8BA8-C97F8C64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181-8443-4E9A-8E74-B75E2FAE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70D-EA70-4C8A-85D0-C50ABDA5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C16-A981-41E4-82EA-C86543CA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900-B346-471D-80C5-05A20EFA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BA9-56AE-4813-BF44-95FA5C68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921-FA43-4C9C-AEC2-362289FB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D118D-24A2-4D51-8F3D-D53C09AB5D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rising of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going down of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’s name is to be pra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ye the Lord, prais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ye servants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is time forth and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15   From the Rising of the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6:03Z</dcterms:modified>
  <cp:revision>12</cp:revision>
  <dc:subject>The Source 3, song number 1215</dc:subject>
  <dc:title>From the Rising of the Sun</dc:title>
</cp:coreProperties>
</file>