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C5F-9867-4953-AA2E-90C203DD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4B6-68DC-450E-A662-61DA702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9B8-3537-40DB-841A-962DE5D2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984-CC0A-4D1E-B3F6-DF0E9970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8A8-3E40-4626-AA1A-C52DD406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C88-FD52-417B-9AC2-7F012B7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AE9-FEC5-4461-A639-CF807C9D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FB2-E169-4B2E-A7AC-3189773A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1F4-3AAE-4CB0-9E02-3E27840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242-15B7-4081-BA2A-BA9D9C6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7AE-C12E-4A79-979C-E3215DA5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6CD-2E36-4EEA-AAC2-47D19C13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C570B-47FA-4968-A0B3-526681B03A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past the oute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t the brazen al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ant to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s me by the crowds of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priests who sing thei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nger and thirst for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t’s only found on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7  Take Me Past the Oute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in by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the coal, cleanse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01Z</dcterms:modified>
  <cp:revision>9</cp:revision>
  <dc:subject>The Source, song number 467</dc:subject>
  <dc:title>Take Me Past the Outer Courts (Take Me In)</dc:title>
</cp:coreProperties>
</file>