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3579-628B-4A79-88AA-2BCBFA7A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0DFE-E3FC-4C8C-AECF-B107A7BC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C6D-EBA4-4B48-A300-088D024B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71B-D1C4-4E10-B6F7-1AF9DC6F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02C-ACA1-4C59-86C4-103F93C7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0683-CC24-48C3-A67E-931E32AF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8EB-BC69-4FB2-A37B-1542E61D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8A1C-610A-4DEA-ABCE-45204822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3C6-4929-4D86-BB33-07E6C8F0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C095-0916-4413-89FA-220924A6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4961-ABF6-412F-B338-F7DC64D8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29E7-3EFD-47E5-9085-095B454E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BC79A-FE53-4E44-92A2-6AB791CBDE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, what love is th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pays so dear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, the guilt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go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O what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n of God, giv’n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debt He pays, and my death He d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might live, that I might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7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y Lord, What Love Is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 they watched Him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spised, reject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O, the blood He 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ed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O what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n of God, giv’n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debt He pays, and my death He d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might live, that I might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this love of Ch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flow like riv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wash your guilt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v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O what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n of God, giv’n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debt He pays, and my death He d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might live, that I might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4:09Z</dcterms:modified>
  <cp:revision>10</cp:revision>
  <dc:subject>The Source, song number 370</dc:subject>
  <dc:title>My Lord, What Love Is This? (Amazing Love)</dc:title>
</cp:coreProperties>
</file>