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D774-04F5-4C48-954E-991AC411F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24D2-648D-4233-A01B-09CC7202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7D79-E043-4443-A007-67B73381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0D2F-DC0A-4AC0-B35A-B614EA14C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7083-ACD0-4D79-89ED-B56110CD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F520-EDCA-4059-A08A-98AE156E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F689-BED4-4705-94BC-C543208E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4860-DEB5-4FA4-A3F0-E103878A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09AC-C2A4-42E7-BE70-DAC9EC04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372C-7569-496C-B11A-7EABAF0C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F293-B75F-451A-958D-FB77CA7D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ACF4-287D-4F53-B1F2-BDBC71A5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8B36D-1DDB-4956-BC11-06B1C8F34EF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on, O King et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ay of march has c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nceforth in fields of con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tents shall be our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ди нас, Царь Небес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нас, Царь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в последний б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род Твой с громкой пес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вслед за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’ days of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grace has made us st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, O King et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lift our battle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и благо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итывал Ты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послушной р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щенный дал прик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on, O King et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sin’s fierce war shall ce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oliness shall whis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weet Amen of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нас, Царь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грех исчез с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свету повсеме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е при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not with swords loud clas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roll of stirring drum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deeds of love and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eav’nly kingdom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 копьями, с меч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 ужасом вой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с добрыми дел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т Твои сы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on, O King et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follow not with f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gladness breaks lik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’er Thy face app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нас, Царь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битва не стра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Ты, там свет чуд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лишь хвала зв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cross is lifted o’er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journey in its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wn awaits the con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on, O God of m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крест, Твои зав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кавый не затми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ждёт венец побед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нас, Боже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4:52Z</dcterms:modified>
  <cp:revision>12</cp:revision>
  <dc:subject>Slavic hymnal Гимны веры христиан, hymn 828</dc:subject>
  <dc:title>Lead On, O King Eternal / Веди нас, Царь Небесный</dc:title>
</cp:coreProperties>
</file>