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86F-7968-421E-BA3B-B63913CA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D87-8331-42AA-B2B4-C4519029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9E3-5C36-4A03-A70F-0C53871B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811-FEDE-47EF-832D-71DADB57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5CC-B54C-4E00-9CC5-EB1F3BAD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653-9FC9-4BE8-A879-B26BC1ED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04B-DA50-4513-A6AC-09505050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E91-8D1C-4B0D-AA7B-0B7A5203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BC7-8475-4F43-9BC6-D0F002C4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C66-69A3-4AB8-8087-C544EFA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844-7B92-4C3D-A9E3-59F5DCE6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B9E-A665-48F8-994B-19D406D4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53F18-D5CB-479D-AA5E-B5650AD004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 ныне в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и не выразит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согрешень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лёк моё сердц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частлив я н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ринош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лался другом м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ньше блуждал в беззако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ыне Им в правде во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, Иисус —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из Его я 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Святой Дух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Бог — мой Небес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брат мой грешный, несча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мли Его гласу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и тебе Он дать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с верой взор обр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09Z</dcterms:modified>
  <cp:revision>12</cp:revision>
  <dc:subject>Slavic hymnal Гимны веры христиан, hymn 576</dc:subject>
  <dc:title>Как счастлив я ныне в Иисусе</dc:title>
</cp:coreProperties>
</file>