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D433-27D2-4133-93EA-E5FA8C491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C2BA-F078-4169-87A2-0AD33FA92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BBEC-58E4-4E33-92DC-26A14D405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8F8B-5CBF-47F6-B922-DCB8AAF96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0493-6904-4BBC-8A7D-D9741C47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5F9F-ECA8-4025-B703-E39B17415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76DB-4976-439A-9F19-B96FBC907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C700-3AA3-4A1C-83D9-12B46B1BE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62C0-8A64-47C0-942B-9A110FDCD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CE11-73D7-4FBA-9D12-A6696751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3DCF-EC41-4014-BC38-2FDD19AE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A4B6-6D39-4640-9FC1-B232C7F7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12DC1D-4B4D-48C2-A427-47AE9C2AE44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віту спасіння, любове свя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наші провини лилась кров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есь світ відкупив Він, і дав спокій Св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світ весь раді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світ весь раді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світ весь раді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любові святі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76   О, світу спасін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агато провин в мене й темний мій ду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 Божого слова торкнувся мій слу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серце скорилось, і сльози я лл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ь мій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ь мій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ь мій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 душу м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хочу молитесь і вірить Й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 міць перемоги в Христі одн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світлом небесним весь світ освіт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санна, осан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санна, осан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санна Спасителю Господу с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ин Божий розп’ятий вмирав на хрес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озп’ятий для світу і я у Христі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світ вже для мене розп’ятий є з Н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 Ним умир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 Ним умир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 Ним умир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Ісусом мої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меркнучу славу, безсмертя вінец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ені дасть у небі Всесильний Творец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іллються там хори землі та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ля вічної сла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ля вічної сла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ля вічної сла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Христі я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46:38Z</dcterms:modified>
  <cp:revision>12</cp:revision>
  <dc:subject>Slavic hymnal Гимны веры христиан, Ukrainian hymn 76</dc:subject>
  <dc:title>О, світу спасіння, любове свята!</dc:title>
</cp:coreProperties>
</file>