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439-F885-402E-A32B-D1FC90FA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2F0-70DF-4970-A7D2-FEF64FE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853-E20C-49E7-9721-BF4A2224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2ED-17F4-4BC8-9BD3-DFEBCA59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A08-EE24-4743-AC31-8B95F5B4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7E7-A20A-46EE-BE25-239B0CB2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DB8-8D3A-4DAB-A30D-C2F2B18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E96-6CB7-43FE-979B-F024E3FC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B3E-659F-448A-8F9D-5D85A13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B4E-57B9-4321-A954-CE39248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8FD-E1CE-49BA-9876-920CFC2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747-2DCA-4459-9037-D1CA1E0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E2384-CF27-4E9A-86CE-BA73C0DC3E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и зна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50Z</dcterms:modified>
  <cp:revision>14</cp:revision>
  <dc:subject>Slavic hymnal Гимны веры христиан, hymn 648</dc:subject>
  <dc:title>Люблю, мой Спаситель</dc:title>
</cp:coreProperties>
</file>