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6A98-2775-4310-854F-1CA4FAD04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7954-9958-4112-B0D1-EC8C4A3B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009E-2C38-4025-9529-326EAB02E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DC0C-1340-4F5F-B485-0DC995146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A12A-320B-4A3B-970D-E3F704C4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9293-68CA-47FC-B339-2E13DE79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587C-B028-40A4-8C6F-FCAAEB48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6E9B-3B3B-4B64-B68C-AC98459A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502F-B1C5-4907-959B-550CBE1B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1594-BD26-4457-84A3-FFD688FB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652A-E573-4B29-9DE5-BA481629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FA8B-E3BF-4514-9D22-A2D0C3EC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EA6B0-95C4-4668-9F5A-69FD92D06B8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pirit, oh, sinn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mercy doth m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heart, so long harden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sin to repr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грешник! чтоб в серд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решник! чтоб в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вном мог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вечный жел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грех обли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ist not the Spir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longer del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gracious entreat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end with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не против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едли приня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может Дух Бож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замолч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child of the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sin service cea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filled with the Spir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comfort and pe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царства наследн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ось грешных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полнися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иром цв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grieve not the Spir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Teacher is H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Jesus, Th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glorified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теля 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е огорч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же дар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прославля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filed is the temp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s beauty laid 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God’s holy al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embers faint g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храм опороч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ерк красот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тарь же Госпо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сыпан зол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love yet rekind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flame may be fann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quench not the Spir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is at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вновь пла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бе зажиг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ольше уж 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е угаш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0:43Z</dcterms:modified>
  <cp:revision>13</cp:revision>
  <dc:subject>Slavic hymnal Гимны веры христиан, hymn 306</dc:subject>
  <dc:title>The Holy Spirit / О грешник! чтоб в сердце</dc:title>
</cp:coreProperties>
</file>