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E22-962A-4E8F-80DF-5851428A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E36-E2A1-4B72-82FF-77D6121F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060-0DCD-4679-AD5B-133D203B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D68-DDB9-44D2-8AC3-FFD9AE43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0FC-E820-4EFA-BCC0-CC6BF65F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A5B-D2EF-471E-899E-3CB7EB34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D90-F091-4960-9D01-F085FED1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D5C-05C0-4D1E-8B5E-93DEE5B2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5DC-6637-4E0C-B9C5-74F8ADE6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951-49CF-4FA9-BF38-335D763B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BD3-E675-4BAD-B2F7-A5D159D6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731-1DF9-49D5-BBD3-1EB7503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1B082-E7D9-43FB-81EE-2A8F1BD710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и лучше, чем солнце Вост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звезда, нашу тьму разг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нас к Младенцу веди издалё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небес озаряй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на поле роса трепет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 Младенец на сене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е небо в ту ночь ликова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Создатель Спасителем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че и луч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ем нам явиться пред вс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лы морей, ароматы лу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гор, драгоценные кам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ру деревьев, — Он примет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 пред Ним богачей прино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обладатель сокровищ зем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видеть сердец сокру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слышать молитвы прос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всех звёзд, что горят на Восто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звезда, перед нами св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холмы и по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Вифлеем к Иисусу ве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26Z</dcterms:modified>
  <cp:revision>13</cp:revision>
  <dc:subject>Slavic hymnal Гимны веры христиан, hymn 245</dc:subject>
  <dc:title>Ярче и лучше, чем солнце Востока</dc:title>
</cp:coreProperties>
</file>