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68A6-C339-499F-AE93-334BE9714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3FBD-1EBD-489A-84BF-C0FB8368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EF23-58A5-44E6-8B42-3F4837155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A347-04E6-4FF3-9E7C-6DCB70F08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E6C1-9162-43EC-B249-92B66A4A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2B9E-B323-46A8-A733-31C47800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94D9-3B9D-49F9-BD34-AA002D3C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8AA4-31C8-458F-9F4E-E9CDF6FE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E07E-ECDA-4D7B-9A74-A1ABE80B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347A-5FC1-46AD-9EDC-3A9BA0B3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153D-0ED7-4C41-949C-9401F702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0C40-3EB1-4D09-A007-53BD7940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7FBDA6-4746-4222-9F33-4329CF92B1B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л последний час разл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таться с вами должны 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сердца в скорбях и в му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рьбы мучительной пол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так отрадно было с 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ы счастливые дел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иться Божьими сло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иже, ближе к Нему бы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4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стал последний ч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щё немного здесь остало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ти тернистою троп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м — блаженство, Царство 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отрёт слезу с о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прощайте, братья, сёст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ас утешит Сам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назначил нам свид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ечной радости быть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6:38Z</dcterms:modified>
  <cp:revision>12</cp:revision>
  <dc:subject>Slavic hymnal Гимны веры христиан, hymn 749</dc:subject>
  <dc:title>Настал последний час разлуки</dc:title>
</cp:coreProperties>
</file>