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118-858B-4F8B-9195-712DCCEF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CC4-91D4-4C73-B557-B4059C23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BD7-9602-425D-9EFE-F0818866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5E6-236F-471B-BD19-5F1EAD27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8A8-E3D5-4DA9-8D01-92057388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CF4-174C-4950-8A44-ACD8D1E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133-FC77-48E2-AAF8-F9075C6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4E4-BFFD-4716-8F36-823D2B8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30C-1878-4DA2-9C3E-ADD98645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F2-22D3-4CEA-8379-459AA9C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07C-6BDD-406C-BFB0-7989719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C96-0801-4499-82D1-F818BDE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902D8-1EF8-454A-A4D3-EA8EB20FD8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the holy of ho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His presence with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at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hol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0   Come Into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43Z</dcterms:modified>
  <cp:revision>12</cp:revision>
  <dc:subject>The Source 3, song number 1170</dc:subject>
  <dc:title>Come Into the Holy of Holies</dc:title>
</cp:coreProperties>
</file>