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FB70-9592-4C4C-BB08-A97C71EF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5E33-205C-4588-B246-7D75E6A2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B315-325A-47E4-A9EC-47251E8C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F5AC-566A-45E1-943D-D8C6AC33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5988-9DD6-423B-9149-CF1700E9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9755-183A-43FE-8C8C-0EFB0718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5F88-41CF-4261-8015-5B35F699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4AF0-3F8E-457A-A090-6FCF2390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036C-23DD-4968-A301-1A33D808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41C0-44AF-4F79-BFEC-31110C00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C5C3-97BB-4DB3-BF8E-844FF403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2B0C-CD31-49F5-8BF9-234741E8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471D3-B082-4B80-85B5-B1F9688D51A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Lord, wonderful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for sure all of my day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d in Your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afted into Your perfec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gently call me into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uiding me by Your Holy Spir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each me, dear Lord, to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my life through Your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4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Beautiful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captured by Your holy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me apart, I know You’re dr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 to Yoursel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ad me, Lord, I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200"/>
            </a:b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me, mould me, use me, fill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my life to the Potter’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me, gu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ad me, walk besid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my life to the Potter’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1:56Z</dcterms:modified>
  <cp:revision>11</cp:revision>
  <dc:subject>The Source 2, song number 640</dc:subject>
  <dc:title>Beautiful Lord, Wonderful Saviour (The Potter’s Hand)</dc:title>
</cp:coreProperties>
</file>