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D72F-E400-4B62-AF4A-E9DC3F7A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41C0-D8AE-4BDE-BF3D-32F16502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F1B7-E049-424E-A22D-716E91E1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2088-1386-46F8-A893-F39D7DD1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F5EC-A28D-46E9-B406-83EEC419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3C86-AB76-4D5B-9A4A-BF4F39D7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BAB1-8C55-4319-9795-E643CC20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21D5-06CD-4C40-B20A-85EE67A8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5043-41DC-48C9-9C59-A3950CA4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44AD-EE8E-4BB2-B7FA-F47BBA2A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1A39-A028-42CD-B9F1-8BD6AC20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111A-F7D4-4FE9-81C8-2FA4B98B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C4B9A-464F-4314-AA60-52E2377399A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, к нам весть до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вучала над земл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чь Христова Рожде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лняя мир 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нгелы, к нам весть дош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, что тешит в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лняет торжеств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торите нам расс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ладенце не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в Вифле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лониться Богу с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е Хр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небесный возве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дных яслях Он л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ладыка всей зем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юдям руки простир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се к Нему при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8:12Z</dcterms:modified>
  <cp:revision>13</cp:revision>
  <dc:subject>Slavic hymnal Гимны веры христиан, hymn 879</dc:subject>
  <dc:title>Ангелы, к нам весть дошла</dc:title>
</cp:coreProperties>
</file>