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72D-BDEB-4661-9379-2FE8CDA2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52C-6CB4-433D-93F5-2763EDA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FAA-5500-4FDD-9B00-3A516E33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BE4-3804-41ED-9BC3-FCD5D2C5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305-EE9C-45EB-B4AA-ED56F15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4B-784D-4C16-8687-A0218DF3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D19-C545-4AA0-A42A-CD7A193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8F5-7C24-431B-B2DC-032037E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F68-D612-4396-A3E2-F529F76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B79-3B6D-472B-B134-6850E43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D8A-F9FD-4788-8BBB-6818F3A5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81F-7FB0-4E93-AA77-49B11E9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C8F1-FE4F-4D18-B444-D1B731C78B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ых идите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осподу их приве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м спеша у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те вы радость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 пути вы стрем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ыси, вперёд, в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за правду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тьме со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небесных кра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егодня з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их, о Боге забыв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на уносит со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лебом спешите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насыщены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36Z</dcterms:modified>
  <cp:revision>12</cp:revision>
  <dc:subject>Slavic hymnal Гимны веры христиан, hymn 546</dc:subject>
  <dc:title>Юные слуги Господни!</dc:title>
</cp:coreProperties>
</file>