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2593-C95B-409A-BADB-3BE7C11A3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3885-9996-49B8-9DAD-47BC58F2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4117-EAFA-469E-9E89-20B66B57E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DD02-087D-4A81-A1D1-1C9B5C97B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5E3F-319E-40B7-A54E-A4B1B4A7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5880-39BF-471F-9C35-4BD02D00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A0FF-828A-48C5-B1F6-E8975B67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9642-3EBB-415D-B498-5FED0D23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4F26-508F-456E-B469-B14A3983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79CE-8666-4F66-A39F-1D1EAF6F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5BD6-02FB-43BC-8867-DF260CBE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D05E-C108-4846-A1E1-36DD32D0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A3D23-2BBA-4531-807E-2D0C1F3C72E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a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pleading in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dear, loving S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earth friends be fe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 о м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о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достойном печ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и мои к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Он омы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has foun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others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y loving S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your Saviour, to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мир Сво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 душу всел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торый людск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понятен ум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pray that your S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bring them to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rayer will be answere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as answered for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тот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Христе соблюда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тот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дарован и в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prayi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сь я за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eak of that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Father in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harp, crown, and 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are waiting for you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принял Христос в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м возвещ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теперь ваш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ем ст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peace you poss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rest to be 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praying that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save them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ясь за дру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к Нему прибег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ашей мол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оей, Он вним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prayi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сь я за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 He is w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enderness o’e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h, that my S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re your Saviour,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Его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е даёт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Он ваш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ем бы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prayi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сь я за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a Fath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e He has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hope for etern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èd and tr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 Отец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й Промысл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даст бесконеч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вкус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oon He will call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eet Him in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, oh, that He’d let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ng you with me, to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ам меня ж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олотую оби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я с 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мог вступ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prayi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сь я за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a robe; ’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plendent in white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waiting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wondering vie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есная 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меня там одеж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не ви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ловеческий гла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hen I recei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shining in bright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r friend, could I se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ceiving one, to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й я предста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в том надеж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в не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екли также в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prayi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сь я за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41Z</dcterms:modified>
  <cp:revision>13</cp:revision>
  <dc:subject>Slavic hymnal Гимны веры христиан, hymn 624</dc:subject>
  <dc:title>I Am Praying For You / Спаситель о мне недостойном печётся</dc:title>
</cp:coreProperties>
</file>