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DD2-A324-48BB-9CBC-E5844B93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C5B-2ECD-469E-927E-D0681231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C02-E76A-4A66-8DCD-8A3C6C3A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551-B5B0-4006-AAEE-0A027CC6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37E7-B0E5-4260-952B-148C1AEC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CA5-6EB4-4134-AD9C-FEE11336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B25-F378-4BC0-9515-EDB6FA74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39B-3EB8-41D2-A7BF-ACBE0520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287-1E74-454F-B5D0-0CE8A263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586-2A2E-48EB-A7F3-C4614A02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4CA-0298-44B6-B6DE-22D56B1B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4C4-1246-4C25-BA62-49883F41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D6A15-3D0E-43F3-9971-2FC9E757AB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offer up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spirit and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ing out the oil of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my worship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surrender I must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ev’ry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receive the sacri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broken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6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Offer Up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can I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o faithful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o loving a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what can be 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be 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 praise of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s You hav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words could 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even in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debt of love that i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thank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eserve my ev’ry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’ve paid the great c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up Your life to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death on a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all my sham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defeated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ed up the gates 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beckoned 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can I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o faithful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o loving a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what can be 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be 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 praise of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s You hav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words could 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even in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debt of love that i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thank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3:38Z</dcterms:modified>
  <cp:revision>9</cp:revision>
  <dc:subject>The Source, song number 265</dc:subject>
  <dc:title>I Will Offer Up My Life (This Thankful Heart)</dc:title>
</cp:coreProperties>
</file>