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0F7-B8E8-481C-B7D0-B0E89D82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2B9-01BD-4B34-AD88-B47F7B7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CC1-92A9-45E4-BE5F-AD7E319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9E2-C463-4A49-9A87-00BB1600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893-CF59-4CEF-B28F-342B19D0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AB0-7937-423B-8D48-15143975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2F5-E11E-4538-8E6D-ECF55C3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940-B821-4C1C-9525-0EFC11D8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C01-4F50-46D1-B18D-722B26B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3EE-4D07-4993-982F-2295EA2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4AB-DDEC-42E1-863C-C117208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8E4-920B-4978-B0B0-E81DE73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D3D8E-E5D5-47FF-B282-54B4DD376E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, гляди на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36Z</dcterms:modified>
  <cp:revision>11</cp:revision>
  <dc:subject>The Source, song number 533 in Russian</dc:subject>
  <dc:title>Друг, гляди на Иисуса / Turn Your Eyes Upon Jesus</dc:title>
</cp:coreProperties>
</file>