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00F-F19C-4FDB-B173-78093A69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F4C-A5F5-4906-9E11-9F1546FE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422-121F-4B01-84CB-A9FDE54A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CF0-B792-4510-A1D9-621AADCC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68B-B826-4B1E-BBFE-699D7A2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904-4A51-4A43-9511-D5EBE532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3D3-F726-4971-9C1E-6BA69154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EE8-771C-4AB8-834E-D37C5775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730-56B4-42AE-866F-41C4A5D8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CFE-5FF3-4C56-B1F6-24514D5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D2B-64A6-41EB-A011-457128F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905-7C28-4C1F-A310-4C7574F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4B18-BB95-44C4-BCE4-4815E8F6B3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20Z</dcterms:modified>
  <cp:revision>13</cp:revision>
  <dc:subject>Slavic hymnal Гимны веры христиан, hymn 588</dc:subject>
  <dc:title>Придите, все сердца</dc:title>
</cp:coreProperties>
</file>