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328-973E-4C33-9A4B-9941DCE9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EA6-89C9-4578-87A5-1979E367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904-478F-4F52-A3C2-BA527E0B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893-F571-459C-847F-B893DF4B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CA8-C661-4099-B3E3-48D919A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F32-3C8D-4F48-A064-734AD82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584-E4EF-487C-BDFF-ADD34433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914-5B00-4198-A429-980685CB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689-C439-405D-B905-AB15EF8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B5E-EC45-4383-A816-5DE51C1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067-D058-4080-8F67-273A8F4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3B6-82F2-427A-A585-A9A677D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A9211-A09E-4165-A4C3-ED7539CBA5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л я на новую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ьмы тернистый путь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дали небесного черт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итель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тот чудный и прия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им живительны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меня в дороге тру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йти мне в Отч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ышел я на новую дор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еной, как волны у примо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страшно стонет и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от, не знающий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назад мен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азад я не верн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й путь и труден,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аких препятстви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еди лишь был бы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чил я всё своё им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им, как есть, иду к От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верю, верю без сомн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заблудшую ов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9Z</dcterms:modified>
  <cp:revision>12</cp:revision>
  <dc:subject>Slavic hymnal Гимны веры христиан, hymn 440</dc:subject>
  <dc:title>Вышел я на новую дорогу</dc:title>
</cp:coreProperties>
</file>