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0331-13F5-403E-81D4-B90DB4C3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C6D2-1B8D-49C2-A513-677BDDB4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3C5A-7F16-44D5-B77B-CF45073B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EF3D-B70E-4C07-955B-C281B20A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46AF-D7E9-41F2-AC02-2B44D8AA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CE1E-8A79-410F-B86D-2E25A2BA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E636-9470-4427-BAD1-2067EDD9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FDD8-1F7A-49C8-9268-9F2FFAA1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4DA0-54E2-4EB7-AE16-C3B7F9E8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B3C7-2CAE-4423-9357-96FBA829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D687-6B3F-44D6-A840-1FAFDCE0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6CAE-E773-4EA9-B77D-304A8B5B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9E432-5143-4440-A64C-EC46AFE916F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the very thought of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sweetness fills my bre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sweeter far Thy face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 Thy presence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ос, здесь мысли о Те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здесь мысли о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осят мир сердц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ая ж радость будет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пребыть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voice can sing, no heart can fr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can the mem’ry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weeter sound than Thy blest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viour of man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кажет сердце ни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ничего слав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го имен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ки все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pe of every contrite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oy of all the mee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ose who fall, how kind Thou 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ood to those who s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кающихся ду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а всем прос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каждого к Себе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мирённым близок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our only joy be Th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ou our prize wilt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be Thou our glory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ro’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, кого принял в Свой д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зык не переда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любовью дышат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ю дал им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5:58Z</dcterms:modified>
  <cp:revision>12</cp:revision>
  <dc:subject>Slavic hymnal Гимны веры христиан, hymn 893</dc:subject>
  <dc:title>Jesus, the Very Thought of Thee / Христос, здесь мысли о Тебе</dc:title>
</cp:coreProperties>
</file>