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45F-4E15-4086-80CC-B3B8E379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4F4-EFDB-4D9E-A012-DFFA8504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C31-AC63-4C46-A168-DB90065A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263-DD2B-4719-86DB-9593C091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76F-B60E-4F35-AFF3-8143FC03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DB5-5722-47C5-8082-74ACB5DB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495-2EF9-402F-9B0C-816D6558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563-C0F9-463C-8780-F5586E1A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8B0-D549-4A16-A69D-20810F2E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86C-2C0C-4D6F-8472-30A57DFE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3A8-89DA-4F43-9836-E669D118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3F6-0C21-4C8C-BD49-ED5CD7F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9B8D0-87AA-4ED4-B3D9-44C09DEBC1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олюбив Бог сві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ина дав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ер Він на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гріхів щоб нас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 буд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’явиться Він з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а є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2   Так полюбив Бог сві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24Z</dcterms:modified>
  <cp:revision>12</cp:revision>
  <dc:subject>Slavic hymnal Гимны веры христиан, Ukrainian hymn 72</dc:subject>
  <dc:title>Так полюбив Бог світ</dc:title>
</cp:coreProperties>
</file>