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C719-9C61-4DC7-A337-C24FD490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E485-7813-4D0A-888A-D0F5D70F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5C87-C652-4A1A-8B05-28B31ECB4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545B-383F-427E-ADB4-7D387CA8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E633-821F-45CB-A05F-4AD6D9DC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B847-848F-4D14-B392-7B483CE9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76BB-EE2F-44BA-989D-B4254F79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946B-EF8C-4925-B909-C822B32D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CB21-156E-41B9-AAAE-FC621978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B5D0-2E7A-412A-8C04-2915FB67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E82A-0F92-447E-BFE2-087992B6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A88F-C41A-4207-BE55-741A643B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ABC7D-F9CE-4CE8-9114-39178CA5DEA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able, He’s 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He’s ab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my Lord is able to carry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5   Він може, Він мо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оже, Він м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ю, що Він м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ю, що Ісус може ізцілять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ealed the broken-he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et the captive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made the lame to walk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aused the blind to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хворих ізціл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ртвім життя д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іпим дає Він зр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ивії ходять в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able, He’s 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He’s ab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my Lord is able to carry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оже, Він м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ю, що Він м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ю, що Ісус може ізці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7:26Z</dcterms:modified>
  <cp:revision>12</cp:revision>
  <dc:subject>Slavic hymnal Гимны веры христиан, Ukrainian hymn 105</dc:subject>
  <dc:title>He’s Able / Він може, Він може</dc:title>
</cp:coreProperties>
</file>