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057-A91E-4F4F-A9D1-800AE95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982-AB23-47D0-8E47-87C98E9B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D00-522D-4CE9-8343-38AFA885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0EB-8071-4964-AE2B-ECA7233B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EE1-79B8-47C1-973F-730DE54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624-6B6F-451C-899D-2E01C70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FA6-50AD-43D8-82F4-62F1C5E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3E8-26DF-4B68-98E6-CA049DB4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C0B-7181-45B6-891C-349B4DD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3BD-CE02-4E3B-B1FB-19190D1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229-C553-42FD-AEE8-EF046F2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1C6-E3F5-4C16-BCDA-1D06584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F0930-CDD5-4C1A-BC44-667C8775CB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rst Noël, the angel did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o certain poor shep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as they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where they lay keeping their sh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cold winter’s night that was so d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lookèd up and saw 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ing in the east, beyond them 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it gave great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 it continued both day and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the light of that same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e Wise Men came from country 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for a King was their in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follow the star, wherever it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id they know assur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at house the King did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entered it them for to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the Babe in pov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entered in those Wise Men th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reverently upon the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ffered there, in His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gold and myrrh and frankin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39Z</dcterms:modified>
  <cp:revision>12</cp:revision>
  <dc:subject>Slavic hymnal Гимны веры христиан, hymn 814</dc:subject>
  <dc:title>The First Noël / О Рождестве благую весть</dc:title>
</cp:coreProperties>
</file>