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BCC-477C-4044-8E60-7EF69D1A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2ED-0D53-4774-A895-212695F2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533-CC8C-4FCF-A124-D783DB7B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A20-5FAE-46BC-B56B-D9447CEC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2D0-C257-443D-9540-26C5FDEA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E00-1263-4F9B-BC84-034A398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FDE-A98D-4800-ADB7-EBE6533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3FF-42B9-4D3E-A916-DA27478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25C-1D06-48E6-A23D-221F4AA3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F9E-BC32-4D13-BCB6-BF8E0B1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A5E-C962-4EA9-A7B2-FBB3489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BD4-C98E-47FA-A414-9CF9D4B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AE240-25DE-49B2-A681-512934F0E1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ть чертог наслажденья для малых дете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Спаситель туда их приня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ебесною радостью их осия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еко от греха и скорб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чертог наслажд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ети ангелам вторят спасённой душ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авя жертвенный подвиг Хрис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гнец Божий, избавивший их от грех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 им видеть Свой образ жи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их в доме Отца Своего водвор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лебом жизни питает их С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т уж голода их искуплённым сердц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авеки его уто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поит их спасительной, чистой вод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их водит по дивным луг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кружает дарами, любовью свя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нимает их детским уст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31Z</dcterms:modified>
  <cp:revision>13</cp:revision>
  <dc:subject>Slavic hymnal Гимны веры христиан, hymn 767</dc:subject>
  <dc:title>Есть чертог наслажденья</dc:title>
</cp:coreProperties>
</file>