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80</a:t>
            </a:r>
            <a:r>
              <a:rPr b="1" lang="ru-RU" sz="3600" spc="-1" strike="noStrike">
                <a:solidFill>
                  <a:srgbClr val="ffffff"/>
                </a:solidFill>
                <a:latin typeface="Verdana"/>
              </a:rPr>
              <a:t>	</a:t>
            </a:r>
            <a:r>
              <a:rPr b="1" lang="ru-RU" sz="3600" spc="-1" strike="noStrike">
                <a:solidFill>
                  <a:srgbClr val="ffffff"/>
                </a:solidFill>
                <a:latin typeface="Verdana"/>
              </a:rPr>
              <a:t>На Голгофской горе</a:t>
            </a:r>
            <a:endParaRPr b="0" lang="en-US" sz="3600" spc="-1" strike="noStrike">
              <a:solidFill>
                <a:srgbClr val="000000"/>
              </a:solidFill>
              <a:latin typeface="Verdana"/>
            </a:endParaRPr>
          </a:p>
        </p:txBody>
      </p:sp>
      <p:sp>
        <p:nvSpPr>
          <p:cNvPr id="39" name=""/>
          <p:cNvSpPr/>
          <p:nvPr/>
        </p:nvSpPr>
        <p:spPr>
          <a:xfrm>
            <a:off x="179280" y="684360"/>
            <a:ext cx="9720360" cy="3816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1.</a:t>
            </a:r>
            <a:r>
              <a:rPr b="0" lang="en-AU" sz="3000" spc="-1" strike="noStrike">
                <a:solidFill>
                  <a:srgbClr val="ffff00"/>
                </a:solidFill>
                <a:latin typeface="Verdana"/>
              </a:rPr>
              <a:t>	</a:t>
            </a:r>
            <a:r>
              <a:rPr b="0" lang="en-AU" sz="3000" spc="-1" strike="noStrike">
                <a:solidFill>
                  <a:srgbClr val="ffff00"/>
                </a:solidFill>
                <a:latin typeface="Verdana"/>
              </a:rPr>
              <a:t>On a hill far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stood an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emblem of suffering and sha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I love that ol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where the dearest and best</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a world of lost sinners was slain.</a:t>
            </a:r>
            <a:endParaRPr b="0" lang="en-US" sz="30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На Голгофской горе вижу старый тот крес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 есть символ мучений, стыд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люблю я его, он дороже все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рех людей возложён на него.</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 забуду вовек я тот крес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прощенье дарует От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к нему привлечён на всю жиз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славный день заменю на венец.</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3240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2.</a:t>
            </a:r>
            <a:r>
              <a:rPr b="0" lang="en-AU" sz="3000" spc="-1" strike="noStrike">
                <a:solidFill>
                  <a:srgbClr val="ffff00"/>
                </a:solidFill>
                <a:latin typeface="Verdana"/>
              </a:rPr>
              <a:t>	</a:t>
            </a:r>
            <a:r>
              <a:rPr b="0" lang="en-AU" sz="3000" spc="-1" strike="noStrike">
                <a:solidFill>
                  <a:srgbClr val="ffff00"/>
                </a:solidFill>
                <a:latin typeface="Verdana"/>
              </a:rPr>
              <a:t>Oh, that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so despised by the wor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as a wondrous attraction for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the dear Lamb of God left His glory abov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bear it to dark Calvary.</a:t>
            </a:r>
            <a:endParaRPr b="0" lang="en-US" sz="3000" spc="-1" strike="noStrike">
              <a:solidFill>
                <a:srgbClr val="000000"/>
              </a:solidFill>
              <a:latin typeface="Verdana"/>
            </a:endParaRPr>
          </a:p>
        </p:txBody>
      </p:sp>
      <p:sp>
        <p:nvSpPr>
          <p:cNvPr id="44"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О, как стар этот крест, уж забытый людьм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к нему привлечён дух мой вес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едь на нём Агнец Божий заклан за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низойдя на Голгофу с небес.</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 забуду вовек я тот крес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прощенье дарует От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к нему привлечён на всю жиз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славный день заменю на венец.</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3240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3.</a:t>
            </a:r>
            <a:r>
              <a:rPr b="0" lang="en-AU" sz="3000" spc="-1" strike="noStrike">
                <a:solidFill>
                  <a:srgbClr val="ffff00"/>
                </a:solidFill>
                <a:latin typeface="Verdana"/>
              </a:rPr>
              <a:t>	</a:t>
            </a:r>
            <a:r>
              <a:rPr b="0" lang="en-AU" sz="3000" spc="-1" strike="noStrike">
                <a:solidFill>
                  <a:srgbClr val="ffff00"/>
                </a:solidFill>
                <a:latin typeface="Verdana"/>
              </a:rPr>
              <a:t>To the old rugged cross I will ever be tru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s shame and reproach gladly bear;</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n He’ll call me some 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to my home far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ere His glory forever I’ll share.</a:t>
            </a:r>
            <a:endParaRPr b="0" lang="en-US" sz="30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На том старом кресте вижу кровь я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споминаю всегда горький ча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ак страдал Иисус, пролил кровь за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мне вечную жизнь даровать.</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 забуду вовек я тот крес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прощенье дарует От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к нему привлечён на всю жиз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славный день заменю на венец.</a:t>
            </a:r>
            <a:endParaRPr b="0" lang="en-US" sz="30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9-28T22:04:46Z</dcterms:modified>
  <cp:revision>3</cp:revision>
  <dc:subject>Slavic hymnal Гимны веры христиан, hymn 280</dc:subject>
  <dc:title>The Old Rugged Cross / На Голгофской горе</dc:title>
</cp:coreProperties>
</file>