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029-EABF-489D-86EA-D2D9593E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F0E-299F-4EA0-A2B4-E853218B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AB6-81E6-4B60-9F77-E9B2D603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763-40B5-4F3A-A6E1-880A23BD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A90-0525-451D-AFB0-48CE7D26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873-D374-424B-ADE8-57030018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863-7D58-447D-9E57-90B77DE7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F3D-AA63-4DC6-8767-9A229F4E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7FA-5566-4971-A5DF-99642650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F7A-2311-4EC2-93AB-E83CBA40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AA1-31E2-4DE8-A84D-6609A7B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A52-A154-43EA-9E75-A27C7530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331A5-C219-43EE-AEFE-F7C5879D45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как река,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всё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аждым днём ясней пред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является с гроз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ремя, как река, т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еня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ведёт в борьбу со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утом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укреп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в пути зем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ия во вс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в сердце яд о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лить наш враг лука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, когда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ляют вдруг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нений ря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дут за Божь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42Z</dcterms:modified>
  <cp:revision>12</cp:revision>
  <dc:subject>Slavic hymnal Гимны веры христиан, hymn 733</dc:subject>
  <dc:title>Время, как река, течёт</dc:title>
</cp:coreProperties>
</file>