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B3A-C6F1-4977-ABD2-7D105288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2CD-AEF4-40F7-AF88-A56E1E4E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513-0756-43D3-AC83-7E567F8B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C05-B937-40BE-959D-7E70A9E0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215-18CB-4D34-984A-1D19AB4C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47A-42F5-46E3-A657-81D663AA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002-1F1D-46D0-8339-D9E257CA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273-7324-4AD6-9C47-E196C02E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A5B-B125-4C9B-98AF-0D4A6C15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627-271F-42C9-A5E5-13005B43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794-ADBA-4308-A383-685B64EF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D44-2D90-45C9-A3EF-E9E8DB9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C59FB-779F-4501-A95B-A651BEE98E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м и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пасенье от забо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ледует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бов снимает цепи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мир твор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зглашает Сво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уше, на мор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людям мир нес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им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другим достичь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ы добра вк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мечей куёт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чит не вр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кать в сердца вра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ренно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служить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, снимать тяжёл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ледует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горсточка, огнём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ревши скорбь и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ети Божьи, мир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езде и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и мы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 братству призо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жий мир царил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нам, Боже,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ье, прост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 в мире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ть к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15Z</dcterms:modified>
  <cp:revision>12</cp:revision>
  <dc:subject>Slavic hymnal Гимны веры христиан, hymn 500</dc:subject>
  <dc:title>Сын Божий людям мир несёт</dc:title>
</cp:coreProperties>
</file>