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0840-2D69-4F7D-BDCF-643A92D7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981E-4449-43E1-82D6-16DB47C8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11A7-3B9D-492E-80A0-438F0DF9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54AB-A420-4E5A-938B-BBC35C23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5823-0369-4CBE-9A2F-E2389F9C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DBCE-7065-4F3E-BEC0-0DCE096F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A5F5-D892-4118-8FEC-8D496EF0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1B0E-4EDA-429C-A4C7-86470404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D68D-07C8-405E-845F-32C425D8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15CD-4592-41C7-987D-8123207C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C6C4-B3B9-489E-BF9B-7E2C610F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EBF9-1B50-48D5-9D06-BAB7755A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2A90D-E5B9-4809-8E5E-B2C69248E04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Spirit, rain down, rain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Comforter and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we need Your touch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Spirit, rain down, rain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power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voice be he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and change our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tand on Your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Spirit, rain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4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oly Spirit, Rain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eye has se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ear has he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mind can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God has in st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open up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it w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 Your churc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ver ou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Spirit, rain down, rain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Comforter and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we need Your touch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Spirit, rain down, rain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power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voice be he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and change our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tand on Your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Spirit, rain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8:20Z</dcterms:modified>
  <cp:revision>11</cp:revision>
  <dc:subject>The Source 2, song number 745</dc:subject>
  <dc:title>Holy Spirit, Rain Down</dc:title>
</cp:coreProperties>
</file>