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3F7-6943-4F81-ABEC-5E58ABC9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B66-F1AA-45AE-827D-DAE05469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583-CA6A-468D-9D65-84CA8480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CBB-498C-40EC-BC54-F789465A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F49-5EB5-4ECB-AB78-BBAC024B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F53-B727-488F-BA8D-7C43B36D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8BB-6282-42D0-917F-B64BDA86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25D-CAF4-4AA7-8993-BD1708A8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748-0B4C-4A4B-A4E4-87244545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94F-9829-4BB9-97F2-6ABAC488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293-813E-4126-88D4-A17BDF7B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D22-FF17-45A3-B3B1-8959DE3A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F00AC-0AAA-4773-A4E8-2581DC85A2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небесных тайн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ключ Твой мне вр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 свободу вышел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О, да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ю мне Твою откр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, пошли Тво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ой глаза м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, чтоб слыш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голы истины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вечной правды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шум земных ре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Явись мне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у вечную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 к Твоим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уст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мог правду возве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чтоб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лась потоко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Прид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ы мне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будь в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5:49Z</dcterms:modified>
  <cp:revision>12</cp:revision>
  <dc:subject>Slavic hymnal Гимны веры христиан, hymn 839</dc:subject>
  <dc:title>Открой глаза мои</dc:title>
</cp:coreProperties>
</file>