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0C4-EA2E-4D35-BA8B-D774AD1F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7714-B293-4D05-B013-D53B87C1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64B-BC50-4F49-ABCA-0AAA3A78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7BE3-6A62-41D5-8246-478B2585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F5B9-4624-426B-912D-DF440570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224-F17C-4EAE-ADD1-57145FF4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770-41D9-4073-BF5C-45375D10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B5B-43A8-4225-AEAB-79980CB7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FCE-8337-4572-A69C-2088851F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C73D-8B2C-43EB-BCF5-212B8146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2F8-8644-41F4-A83E-E57AB6D1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09B-7756-4B50-8FA0-852FC303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3C42D-339E-4597-BF51-CD826389439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і літа молоді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жії сили в ці дні вес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присвятім їх І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ар для Нього дорогий (дороги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може бути ще кращ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ля Ісуса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, у житті цім дочас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 Христу присвя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присвятит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7   Кращі літа молод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чуй, як Христос закли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благодатний для нас наст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е вагатись не мож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нам життя дарував (дарува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стри! Ми прапор підійм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іменем чудни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небесний зогрі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у й любов у серцях (у серця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, во ім’я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, вперед в боротьбі з грі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сячі гинуть в темря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світлом до них ми підем (ми піде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нас зустрінуть гон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ерть за Христа не страш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вірою все перемо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слави Спаса Христа (для Христ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9:01Z</dcterms:modified>
  <cp:revision>12</cp:revision>
  <dc:subject>Slavic hymnal Гимны веры христиан, Ukrainian hymn 87</dc:subject>
  <dc:title>Кращі літа молодії</dc:title>
</cp:coreProperties>
</file>