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81B-7263-4E26-B0D6-A5C76812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753-378D-4EFC-A55E-819CCE4C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AD7-982A-4871-A2F1-72B1E070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218-B51A-4CF0-AB84-7C30D0B9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A18-157F-4BF4-877B-3BA7F92D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443-84C5-44C1-B599-44832095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3D6-0A4F-4E74-8748-70FAF8E5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4BF-1A42-40D2-ABD9-5D3B6868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167-B5F7-46A2-B602-4DED5317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B44-390F-4696-A422-8C1F01AA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6ED-2C3C-4A1B-98E7-3877CC01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122-16DD-479B-82FB-F5538985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193ED-D1FF-44EB-9583-4B4BD7B0D7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оей жизни слав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жизни славьс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ся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жизни сла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so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so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песне славьс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ся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песне сла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Церкви славьс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ся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Церкви сла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2:35:25Z</dcterms:modified>
  <cp:revision>11</cp:revision>
  <dc:subject>The Source, song number 230 in Russian</dc:subject>
  <dc:title>В моей жизни славься, Господь / In My Life, Lord (Lord, Be Glorified)</dc:title>
</cp:coreProperties>
</file>