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FD9-331C-43CF-9A72-0C080877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F7A-AB4F-4DB2-A98C-5BD8482B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3EB-5D84-4053-B0DF-79F19963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ED2-48D2-4370-9497-87AAFD10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6CD-1B70-42AA-9FF4-2C9BFE6D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89B-BAF0-4CE6-B006-D128B931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5A9-E6AE-4777-85DA-A8EA60D6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679-D076-4E38-8CEA-04379A76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0D5-2AC7-4D87-9045-93E97AC0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00A-BD78-4A78-BF32-1FCE6C8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218-D996-4C5C-96D3-5E2A862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0FD-494F-4A79-8036-2BB62721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AE195-1651-4F0E-97AE-0220BED8EA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day that fixed my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, my Saviour and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ay this glowing heart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its raptures all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5   О, див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чудов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аситель в перши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 мною в заповіт вст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оєм серце наді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rest, my long divided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xed on this blissful centre,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ave I found a nobler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eavenly pleasures fill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пізн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ею я люб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ерце Господа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ливий став на вс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bond that seals my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who merits all my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heerful anthems fill His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o that sacred shrine I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ов мене в долині слі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Він Пастир добрий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Його, я вже не св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done, the great transaction’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my Lord’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and I followed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rmed to confess the voic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в люб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уку простягну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ви серця розіг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алу я Господу від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7:20Z</dcterms:modified>
  <cp:revision>14</cp:revision>
  <dc:subject>Slavic hymnal Гимны веры христиан, Ukrainian hymn 15</dc:subject>
  <dc:title>O Happy Day, That Fixed My Choice / О, дивний день, чудовий час</dc:title>
</cp:coreProperties>
</file>