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603-F913-4182-9F6B-FA675B99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511-DDA7-4C54-AAE1-129F198C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2B7-3B99-480D-AD70-5096ED9A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901-F1B1-4F6F-80A4-8FACE625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1DC-0E65-4B4D-B72D-5204FA06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97F-1E36-43FA-B1B9-5E0732B5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9BD-5FBC-4B52-A713-F15087BC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3FC-5D25-45F5-BFCC-EBE7F71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465-1F5F-4F83-832D-D7F8450A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3BF-0D94-4405-BE32-E6504338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B9D-485D-4002-A9D9-F663BE9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73E-5D45-44DA-A56C-A7E037B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60CD7-D80E-4D62-AF58-6A8FE18871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de me now under 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 me within Your might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oceans rise and thund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oar with You above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You are King over the f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e still and know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54   Hide M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 rest, my soul, in Chris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His power in quietness and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oceans rise and thund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oar with You above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You are King over the f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e still and know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00Z</dcterms:modified>
  <cp:revision>12</cp:revision>
  <dc:subject>The Source 3, song number 1254</dc:subject>
  <dc:title>Hide Me Now (Still)</dc:title>
</cp:coreProperties>
</file>