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B165-C6DF-41BF-ACB0-9213C7F5E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F08B-60B6-4FD8-AB36-86BF69CF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EE97-7EAA-4C04-AD4D-58ABCF26B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CCB1-C955-44DC-BC81-08DE58B5A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2F83-ACB9-418C-B721-42BDA9B8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3535-56F2-413E-91FE-09E6A589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E6D9-42B3-4621-8A72-60530398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2767-E997-4540-8F78-BAB05DAB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58AD-EBBD-41BA-98C6-0618928E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CEAA-9F2C-44E3-9C2E-3A6DCDE0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4D15-95B0-4A15-9AE0-8AC2242D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A3D6-C885-4BF2-817E-F0F3748A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015BA-1F49-40FF-801F-91109471709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lover of my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You will never let me g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ve taken me from the miry cl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ve set my feet upon the r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now I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ove You, I need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my world will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ll never let me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aviour, my closest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worship You until the very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0944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90a   Jesus, Lover of My So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6:01:34Z</dcterms:modified>
  <cp:revision>11</cp:revision>
  <dc:subject>The Source, song number 290 (as amended)</dc:subject>
  <dc:title>Jesus, Lover of My Soul (modified)</dc:title>
</cp:coreProperties>
</file>