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52A-57D9-48D0-B493-3EE4B071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3AA-989A-4EA5-BE82-CBB2ECC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CDD-A248-462C-89AE-BA6C840B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4E7-18B7-4C8D-8FF5-BE2A72C1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FB4-D374-4A7B-9A67-091F0CE4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41B-0A86-4FB1-AC89-1B7B785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FE5-EBD5-4B77-83A4-57F86E6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29F-9487-407A-BF84-0C6C9D4D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CA7-9A45-43AA-B9FF-21D0C814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CE9-4E1C-4D79-AC02-2F16EEA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439-6B9A-4AB5-8CAC-0BBD157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5B8-38A8-4E21-90EA-AF2D156C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48683-4127-4E30-BE08-E88F6F553D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23   God Is So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08:15:10Z</dcterms:modified>
  <cp:revision>13</cp:revision>
  <dc:subject>The Source 3, song number 1223</dc:subject>
  <dc:title>God is So Good</dc:title>
</cp:coreProperties>
</file>