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774-3E14-447A-86F7-FF9A2BA4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C87-37CA-4060-B8D1-8C46DAD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30D-4CE8-42D4-93D6-E5AFB6A6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1F6-A736-4BF9-AC61-14773D2D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EFC-B674-4156-95EE-7993D6B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E96-BBEF-47C2-BFD5-5C40328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DA6-160E-482C-AD35-86D0D98D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CED-52A2-4E29-B61D-FF2AF81E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996-4AB9-4532-A921-800F33FE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F31-3943-41C0-BF43-64A9644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70B-444D-473B-83A9-468C91A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343-94CD-4DC4-AEF2-FC71C67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3E4DF-A426-4E38-AC97-352A68398E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п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ысо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ия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 подвиг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г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то бы мне источник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, горя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8Z</dcterms:modified>
  <cp:revision>12</cp:revision>
  <dc:subject>Slavic hymnal Гимны веры христиан, hymn 789</dc:subject>
  <dc:title>Христос, страдающих людей</dc:title>
</cp:coreProperties>
</file>