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AEE-1CE6-4352-A684-C13D97E7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B7D-E02A-46F5-B545-EBA0F3A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5AC-6AD9-4BE8-866D-E7449E8D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B3F-1FD9-4758-8BC4-3F31AFCF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FEC-486A-4877-8146-5055BB66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F95-3DF5-479F-AADE-DF2F6D5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00C-1E51-4208-A5C3-FDD9866A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81F-E291-47A5-90F3-BE7D4FA0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338-EFE4-4742-9651-632CF941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C65-B7F1-46C4-92B0-C9A24E3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D3A-7264-40A0-8EF7-16498F40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7FE-6A9D-4ACE-9D44-44A7736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28B6B-B133-49DE-8388-1B0FDD15B3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   Be Still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09Z</dcterms:modified>
  <cp:revision>10</cp:revision>
  <dc:subject>The Source, song number 48</dc:subject>
  <dc:title>Be Still and Know</dc:title>
</cp:coreProperties>
</file>