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37</a:t>
            </a:r>
            <a:r>
              <a:rPr b="1" lang="ru-RU" sz="3600" spc="-1" strike="noStrike">
                <a:solidFill>
                  <a:srgbClr val="ffffff"/>
                </a:solidFill>
                <a:latin typeface="Verdana"/>
              </a:rPr>
              <a:t>	</a:t>
            </a:r>
            <a:r>
              <a:rPr b="1" lang="ru-RU" sz="3600" spc="-1" strike="noStrike">
                <a:solidFill>
                  <a:srgbClr val="ffffff"/>
                </a:solidFill>
                <a:latin typeface="Verdana"/>
              </a:rPr>
              <a:t>Боже, да будет воля Твоя</a:t>
            </a:r>
            <a:endParaRPr b="0" lang="en-US" sz="3600" spc="-1" strike="noStrike">
              <a:solidFill>
                <a:srgbClr val="000000"/>
              </a:solidFill>
              <a:latin typeface="Verdana"/>
            </a:endParaRPr>
          </a:p>
        </p:txBody>
      </p:sp>
      <p:sp>
        <p:nvSpPr>
          <p:cNvPr id="39" name=""/>
          <p:cNvSpPr/>
          <p:nvPr/>
        </p:nvSpPr>
        <p:spPr>
          <a:xfrm>
            <a:off x="539640" y="828720"/>
            <a:ext cx="8999640" cy="33480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Have Thine own way,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Have Thine own 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art the Potter, I am the cl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uld me and make me after Thy wi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le I am waiting, yielded and still.</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же, да будет воля Тв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им сосудом сделай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перестроил волю 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ед Тобою с верой стою.</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33480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Have Thine own way,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Have Thine own 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arch me and try me, Master, tod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ter than snow, Lord, wash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just 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s in Thy presence humbly I bow.</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оже, да будет воля Тв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верь, исследуй всего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ега белее меня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уй смиренье, пошли пок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Have Thine own way,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Have Thine own 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unded and weary, help me, I pr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ower, all power, surely is Thi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uch me and heal me, Saviour divin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оже, да будет воля Тв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би отвсюду сердце язв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ёрдость и силу Ты мне пош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 помилуй, Царь всей земли.</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Have Thine own way,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Have Thine own 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ld o’er my being absolute s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ill with Thy Spirit, till all shall s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hrist only, always, living in m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оже, да будет воля Тв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знают люди сущность быт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так жаждет Духа вдвой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идел каждый Бога во мне.</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0:09:18Z</dcterms:modified>
  <cp:revision>3</cp:revision>
  <dc:subject>Slavic hymnal Гимны веры христиан, hymn 137</dc:subject>
  <dc:title>Have Thine Own Way, Lord / Боже, да будет воля Твоя</dc:title>
</cp:coreProperties>
</file>