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3</a:t>
            </a:r>
            <a:r>
              <a:rPr b="1" lang="ru-RU" sz="3600" spc="-1" strike="noStrike">
                <a:solidFill>
                  <a:srgbClr val="ffffff"/>
                </a:solidFill>
                <a:latin typeface="Verdana"/>
              </a:rPr>
              <a:t>	</a:t>
            </a:r>
            <a:r>
              <a:rPr b="1" lang="ru-RU" sz="3600" spc="-1" strike="noStrike">
                <a:solidFill>
                  <a:srgbClr val="ffffff"/>
                </a:solidFill>
                <a:latin typeface="Verdana"/>
              </a:rPr>
              <a:t>Отражаяся в лазур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ражаяся в лазу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волнам ладья скольз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ихо всё, не слышно бу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бе туча не гроз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над лодкой дрогнул вете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корей бежит вол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шно стало, тёмен вече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рылась в облаке лун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утники смутились в го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ли духом пред гроз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опасностию в мо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ы нет уж в них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Один, во сне почив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м бодрствует за н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любить их научив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осстанет в страшный миг.</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ы ль, Учитель, нас покину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ибнем мы, Ты видишь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делай чудо, чтобы мину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шный час, грозящий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 участии поспеш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олкнуть буре указ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рузей в безверье греш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жной скорбью упрек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ак в житейской нашей бит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жас душу нам тес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 святой молит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всечасно защит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пусть будет нам отр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а чистая серд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для гибнущих из стада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ый Пастырь и Отец.</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9-08T20:48:00Z</dcterms:modified>
  <cp:revision>3</cp:revision>
  <dc:subject>Slavic hymnal Гимны веры христиан, hymn 253</dc:subject>
  <dc:title>Отражаяся в лазури</dc:title>
</cp:coreProperties>
</file>