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1B3-BE08-423E-A233-C5B04D4C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3E8-60F9-4CEC-BB08-69521E2D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649-6E4A-4EB8-BD06-7CDB58F2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1E1-C67C-4C37-868A-044D6C8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CF2-46AD-4F32-8431-2E44E96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486-3396-4FE8-91D7-1856CF23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99C-AF1D-4323-8CA2-CA61CE45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00A-45F7-4940-BEBA-5225F9F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614-DACF-402E-906D-0902B47E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38E-C661-4883-BE89-F17EB41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7E7-C0AA-4386-BB87-0DA424A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209-4C4E-493B-8CFB-84661B8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03D6F-7FB6-4560-AC95-CB2B07190D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may lead me I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have learned to trust Him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remember ’twa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was slain 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 delight in His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to be led by His dea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ivine will is swee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owed by blood-stained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I go, nor doubt no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with Christ, my Saviour,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some day that I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Friend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4Z</dcterms:modified>
  <cp:revision>14</cp:revision>
  <dc:subject>Slavic hymnal Гимны веры христиан, hymn 513</dc:subject>
  <dc:title>Where He May Lead Me, I Will Go / Куда б меня Он ни повёл</dc:title>
</cp:coreProperties>
</file>