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93E-24F1-42FD-B52F-5BA1192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E1A-F350-42D7-8C1B-D1F3FA2E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FCC-2F15-4D25-8CA2-283F0B5E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22F-27D1-4E1A-87F7-883E00CE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79A-E938-4420-A7F9-0CDA210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DFF-759E-48FA-AAE6-9B7FA96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E85-8099-4795-BE2B-EBDA753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85A-1085-4048-B926-4D0131B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E9E-4927-4F3E-A93B-6F158ED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EF5-0E8D-49BE-8B8B-33DDDB9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18B-9951-4553-96F7-3BE74601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EEF-7B7D-4965-99F1-5C0F830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15428-1CFB-45E7-9033-F3AB794585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7:37Z</dcterms:modified>
  <cp:revision>12</cp:revision>
  <dc:subject>Slavic hymnal Гимны веры христиан, hymn 843</dc:subject>
  <dc:title>Крестный путь пред мной</dc:title>
</cp:coreProperties>
</file>