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D7AE-2E68-45EE-8253-8B651BE0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FC54-76DF-4F1E-AAB4-08A3684B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F78D-131A-4186-B234-6F2760821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44F0-096D-477F-BEB6-81DD019AC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8C70-6C90-4740-BE34-AAE985A9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AECE-C143-4506-9020-1DF3DDE7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925F-D8EF-49B3-9039-9CD3F230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8556-F945-420C-B946-20EBBA09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680B-CF8D-41D7-9B83-B0BD976D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1FEA-4B84-450F-B746-9B6DA536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FF2A-08A9-4C07-A371-9D7F4D86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B4D6-85A4-4237-A1D2-5653BB7E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DCF34-6D44-4B9B-B995-00970A09B22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те, воспойте, лику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ые кровью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овую песню воспо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му, Кто вас спас от гре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спряньте, воспой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им Того, Кто на зем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шёл, чтобы нас оправ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с ценой Своей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частье навеки нам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илу нам даст и побе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итву с грехом укреп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Своею поддер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ом Своим утвер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те со всеми свят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ебную песню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с искупил Своей кров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лава вовеки Ем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8:46Z</dcterms:modified>
  <cp:revision>12</cp:revision>
  <dc:subject>Slavic hymnal Гимны веры христиан, hymn 573</dc:subject>
  <dc:title>Воспряньте, воспойте, ликуйте</dc:title>
</cp:coreProperties>
</file>