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6C5-E77B-4DFD-98BB-D7F34571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F4A-2EC7-4FDF-A4F1-1C517594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9C1-0540-479D-AB9E-5BF97EB5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A68-07EF-48C9-AD78-3CB0944D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2AC-9D2F-475F-BF6C-21F5FCF5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1C8-BB79-4650-B8A7-B377DF79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10E-22BA-4940-8A59-8F23796C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E82-EB02-446C-8690-13C6FE47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694-049F-4331-B16A-FBEF9C20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002-4172-42A8-BE3C-5BAD0C14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E54-3B93-4CF0-812E-8F6B3F4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968-90F7-4773-A770-ABD03405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AF9FE-C9EB-4B87-8624-05F73B80F8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 ye first the kingdom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se things shall b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47   Seek Ye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not live by bread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ev’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roceeds from the mo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k and it shall be given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 and you shall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ck and it shall be opened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on sha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be free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know the truth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th wi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ight so shine before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y may see your good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Father in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 in the Lord with all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hall direct your pat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r ways acknowledg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0:35Z</dcterms:modified>
  <cp:revision>10</cp:revision>
  <dc:subject>The Source, song number 447</dc:subject>
  <dc:title>Seek Ye First</dc:title>
</cp:coreProperties>
</file>