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D7F-0F95-494D-900E-B008A560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A4D-5714-4174-8EB5-F720B94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8CB-A05E-4B2A-83BC-57B57F6D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117-E3B6-4240-9A11-825B0076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CBA-CF86-428F-9E6B-DA39F0DC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3C9-BCB0-4D2C-BFBD-1B748059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20D-23F1-4DE1-9ACB-2FA6601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333-EB67-4326-9A84-DFA6A5B7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26F-8438-4707-9723-9B973905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8CF-B62C-48DB-A4A2-73CF4BD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BDC-0F13-4E6A-9930-6E519A0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920-2D25-46E9-BDB4-F7A5F2F3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C5CE-11B3-45CD-AA1A-EADDA1E70E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57Z</dcterms:modified>
  <cp:revision>14</cp:revision>
  <dc:subject>Slavic hymnal Гимны веры христиан, Ukrainian hymn 22</dc:subject>
  <dc:title>Come, Let’s Ascend Mount Calvary / Зайдім на Голгофу, друзі!</dc:title>
</cp:coreProperties>
</file>