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958-BAD7-496D-9872-8A6582C0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AB2-E947-47FF-8EB2-C0904FC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BC3-FC78-4A28-91B0-584A3852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DDF-0984-4F21-A66F-E1253C49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10E-674E-4239-A94A-AA1F47FD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C25-7A0D-47E8-9D7A-5051168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230-364D-43E1-8D2C-D59C9C81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29C-7A28-442E-9823-8D2E309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11A-9998-4B3B-9528-263031B9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D6B-B74C-4C49-94C3-107777AF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CDC-5A7A-427F-A675-13290BF7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476-62EC-4E1A-A18D-2E422FC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B4F6C-3F33-49E9-9E13-33497C23B7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мне, братья и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ы хотите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овник колючий и остр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мни, и тьма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утники в рай Хана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го счастья расц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сумрак и вихрь ураг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идим спаситель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те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чень хотелось бы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лёкий отправить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страшусь пред скорбя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где сил почерп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ушаем Божье в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осылает С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даёт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чит, и лечит не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Я решился ост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мире и с вами п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Бог может на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го святое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ем сердца р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но нам руки да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месте пойдём в 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славный, обещанны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30Z</dcterms:modified>
  <cp:revision>12</cp:revision>
  <dc:subject>Slavic hymnal Гимны веры христиан, hymn 460</dc:subject>
  <dc:title>Скажите мне, братья и сёстры</dc:title>
</cp:coreProperties>
</file>