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F7D-F651-41B3-B4F7-DCFD6817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D7B-A6D8-4E6A-A879-7620224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25F-FEC6-4253-B9F9-143D8EF7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1B1-6DDD-46EC-9B20-64520320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0C6-44AC-418C-A74A-1BFE0A0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BE1-204C-44FF-9AC8-B1A996E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54F-F443-4519-9B17-7D7388C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A11-7A2B-4A8F-9320-A449784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B98-0451-4D95-941C-80FC398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059-7015-44F5-B554-2E4816A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D5F-7D03-4668-A0A7-0192AFA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797-99D7-4107-BC15-B916122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38E8B-6867-4381-8DEE-CF272DA7D3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дружнее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ту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и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коро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ердцам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Христа не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тот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перёд дружнее, брат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есть наш светильник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перед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наш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кою сред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у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ится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удет с Ним прослав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ещан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наших бра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ся уж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у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ан покой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там же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мире плак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нам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29Z</dcterms:modified>
  <cp:revision>12</cp:revision>
  <dc:subject>Slavic hymnal Гимны веры христиан, hymn 687</dc:subject>
  <dc:title>Вперёд дружнее, братья!</dc:title>
</cp:coreProperties>
</file>