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CB0-FBC9-40BD-BC06-5286267D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EDB-BFE1-4F36-85AB-9FF5B7CF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293-5171-4C80-9C14-4A5F8CFD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A51-EF2E-4150-97FD-CD9AAFBF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312-98E8-4B84-BA88-7EAFF30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FB2-6852-4EC1-8F44-FA992007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5BA-5F01-4A19-BFE6-F0629CD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ED7-D066-4907-8AAE-52CB69F6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304-0870-4CB7-AC73-ECF7DA7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87D-DB41-4497-A22A-B8D1586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EE8-C6B7-47DE-B0B2-CC91F52C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9DD-F5DC-4908-9888-5CFC9E9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D8513-E380-43D4-94F5-A95537B1F4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кров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ст ей здесь ми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и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сулить этот мир у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а, где зло не коснётс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нет, нет — он нам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мире неб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ол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с надеж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га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ил Он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ящий в сияньи для нас, как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ров ли родной и обитель се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а, да, да, то — кров р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о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 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чно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ётся душа пред Тобой предсто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ю любви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и, жди, скоро время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орнее место тебя Он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, душа, близ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на к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дол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ись до конца, будь верна и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трудной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там у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ждёт претерпе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здес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25Z</dcterms:modified>
  <cp:revision>12</cp:revision>
  <dc:subject>Slavic hymnal Гимны веры христиан, hymn 664</dc:subject>
  <dc:title>Где сыщет здесь в мире</dc:title>
</cp:coreProperties>
</file>