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032-0009-4E14-B470-7F12F79F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7E7-A2A1-4EFC-91EE-B23C438E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376-52B7-437E-9DA6-12CE4106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9EA-8C25-48BF-95FB-11774FBA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A66-40EB-4D95-9275-71C530FB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78D-6A05-4CBD-AC8F-55174838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2EE-92D2-451B-8B1A-3C5D4635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DC4-A41C-48E8-A1F8-E2B1F075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5DC-3CBF-41F5-8F62-9AC2422F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C8C-069F-4DAB-8A5A-3871D758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F0F-ED06-4DC1-BEAF-4F1620FF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75C-033A-4D4E-89AD-04D7380D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1AF3D-6B85-4058-9ECD-48F97721DC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dly life’s billows ’round my soul are beat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ierce is the tempest, dangerous is the s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riven by terror, I come to Thee, pl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ther in heaven, O hear Thou my plea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5   Сумно бушу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о бушує життєвеє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вилі мій човен гойдають і б’ю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мертній тривозі, в великому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молюся, ― не дай потону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y great mercy, help me, I implore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ng have I struggled, but to no avai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trength is spent—I cast myself before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lp me, my Father, without Thee I fall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глянься на мене, спаси і помилу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днів моїх ранніх зі злом я бор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е боротись не маю вже си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помилуй! ― благаю, мо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to the calmness of Thy harbour guide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stil a peace and trust within my sou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mid life’s tempest stay Thou o’er beside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 me at last to my heavenly g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иху пристань, де Твої ве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остав спокійно човен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моря бурхливого шляхо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веди швидше, мій Боже свят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6:37Z</dcterms:modified>
  <cp:revision>12</cp:revision>
  <dc:subject>Slavic hymnal Гимны веры христиан, Ukrainian hymn 85</dc:subject>
  <dc:title>Wildly Life’s Billows Are Beating / Сумно бушує життєвеє море</dc:title>
</cp:coreProperties>
</file>