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3EC-3FFC-408A-BB61-125ACE75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CDE-C342-4DB4-8339-F22A484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A9E-024E-4C5D-BFB4-76E4DE78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F15-5019-4415-8EA3-32A1B30A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F65-EDD5-4685-A442-7B9F7A2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C56-BFA4-4E9E-8AE0-1D1514D8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7C7-C5DE-47DC-B86E-31035CD4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FE6-FAFB-4830-86FB-689E7A1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26D-6F95-4E59-9862-C46B033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4A0-3364-4D90-870F-D91B58E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FC8-4C33-4A06-B508-52305381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A70-FAF8-40F2-B9B6-150AE82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E88A9-422E-4E2E-8475-D58D2A7534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Saviour, make no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His Word He has shown us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our midst He’s stand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saying,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uffer the children!” oh,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heart leap forth and 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us freely make Him our ch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lay, but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once again, He’s with u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ed now His blest command, an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now His accents tenderl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My children, co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9Z</dcterms:modified>
  <cp:revision>13</cp:revision>
  <dc:subject>Slavic hymnal Гимны веры христиан, hymn 381</dc:subject>
  <dc:title>Come to the Saviour / Путь ко спасенью</dc:title>
</cp:coreProperties>
</file>