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932-BD82-4431-AC1E-D35DDACB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0E9-2878-4C88-B5DB-B09195BF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E21-6287-42B2-8298-9938A41E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DB4-FA7B-4423-AFF7-0580C0BA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954-5D42-496A-9987-97191C29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76E-F18A-4142-8231-610C7742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6CD-E12D-453D-BEB7-5EABED82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9AF-80F7-4C1D-9CEC-D179338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BE0-EAE8-4EE6-A34B-9F753689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6B1-5DC3-4826-BEE8-2C54A301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B13-6A9D-4C07-8C7E-5BFC942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E82-FF35-485B-9A14-E0AAC5F1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29F31-530B-464F-8FB1-9DFB0BDFED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! Стучит! Отво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ам? Кто там? По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ей стоит прох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ён, и велич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Царь, это Сын Бож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, тихо постуч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учит! Стучит! Отвор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! Стучит!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! Пойди! Всё Он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круг замка об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ющ неправды, словно с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глу сердечном впил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но двери отп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Стучит! Христо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! Скорей! Иль у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онзённою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всё ст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любовь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взор Его сл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06Z</dcterms:modified>
  <cp:revision>12</cp:revision>
  <dc:subject>Slavic hymnal Гимны веры христиан, hymn 388</dc:subject>
  <dc:title>Стучит! Стучит! Отвори!</dc:title>
</cp:coreProperties>
</file>