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448-5FB9-4435-A04C-732EF3FC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FE7-CE5A-4DD8-B3C2-131B78A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F1D-650C-4EFE-8A03-EA5C311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078-1643-47C3-AB27-F4A2E754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146-BC2F-46F4-A949-AFD1870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20C-2DE4-4CFB-BD56-6C00C66E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C8F-9208-4C89-82BC-085F25B9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83D-AF0C-4B9D-8B63-3A06D244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DAB-F9B0-4185-A140-4ACE64A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79B-123A-4B6C-85A1-3872A72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14A-2BBB-4810-A22C-B8B8868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04C-FD78-4698-AD74-3396EB9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49855-4289-4576-9CF2-5677345AC1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заблудшему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щему домой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зовёт, любя вд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, заблудшему в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лас довольно мне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ужит мне советн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он гласит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 святыми может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сть на престоле в выш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я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ься от всех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решное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ю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46Z</dcterms:modified>
  <cp:revision>12</cp:revision>
  <dc:subject>Slavic hymnal Гимны веры христиан, hymn 359</dc:subject>
  <dc:title>К тебе, заблудшему в пути</dc:title>
</cp:coreProperties>
</file>