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63B-B5E2-490E-B99B-F8B38DF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454-76DD-48CF-B9C1-831DA06A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BB9-7118-4DDC-8EAE-65D418AF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564-D907-4404-87B6-35EFD862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BDB-0795-4698-A6C9-AAAE75AB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720-6C60-4BBB-8FB7-28A653E6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AA0-283E-4A20-8157-AB3C3EE0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128-72E1-4DB1-B03E-356AF373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651-8195-4618-AE29-7C1ABA8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018-0274-4585-A463-9F8A971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C1E-61A1-4A67-ABBB-C956DAD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02D-BC42-4A4A-B348-732AF26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924D1-B032-4B83-86D3-08CD16BAC3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04Z</dcterms:modified>
  <cp:revision>12</cp:revision>
  <dc:subject>Slavic hymnal Гимны веры христиан, hymn 693</dc:subject>
  <dc:title>Когда порвётся жизни нить</dc:title>
</cp:coreProperties>
</file>