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56C-492E-41C6-A505-60DEE7EB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D42-6BB3-48CC-8FD7-2D567131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AB8-C44F-4B3E-BC19-6688C6A4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81E-3305-46D1-A217-5D1CCFE9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EC2-EE70-4BCE-9510-A6D9FD0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5AE-D234-4C81-8F12-0998942E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9DD-0487-4119-9FF0-0BFE7BF0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3AD-8721-45ED-8917-55527ED0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113-45E5-47ED-BCD6-F8F144C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D6F-EFB4-428B-B462-9706856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3B3-DB9A-48A7-AFF0-F5BE483F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F15-2BBD-4463-8D60-A716290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B9D3-E2DD-4AB4-87DD-EEC148F380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53Z</dcterms:modified>
  <cp:revision>12</cp:revision>
  <dc:subject>Slavic hymnal Гимны веры христиан, hymn 288</dc:subject>
  <dc:title>Во гробе Он лежал</dc:title>
</cp:coreProperties>
</file>