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2A5-083F-42E7-87ED-AD1350D8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3F3-0E96-4348-B1E4-7C1DFF3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A96-B3B8-402F-B932-B6346D4D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6DB-9517-4B6C-B05A-35282B30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33F-1D99-4A28-A410-9E396AA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0AA-B781-4833-8EE3-45D2478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C82-0E10-4B18-9C49-B17F3940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A9D-D689-403E-A9F1-6C57C0CC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E71-4A5A-48BA-BEF9-428670E1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498-B0C6-4186-8EAA-9B1E92B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F8D-934B-4513-BF5A-8362075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CCD-5BFA-4D4A-A6BA-1A27873F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C120D-CCD6-45D3-AF35-DD6E32705B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 for ever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praise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His truth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14Z</dcterms:modified>
  <cp:revision>11</cp:revision>
  <dc:subject>The Source, song number 156</dc:subject>
  <dc:title>He is Exalted</dc:title>
</cp:coreProperties>
</file>