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66D3-7298-4CDF-85D9-AA613B9E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8BC1-55CB-4AD1-A2EA-658159F0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5F1C-A292-4099-9D20-E60E9B03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F66E-8184-4B76-8644-A12AA094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F4AD-76EA-43CC-8D25-B79EE0B8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58E9-86C3-47B2-B9A1-18122DED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B427-63EF-4CD9-B8CF-5B5ABE61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3A5D-D5A1-4730-A7FB-E52F968C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0F5-764F-41EB-8680-FF7A7847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0F7-3C89-4F23-8B42-535B463B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67C6-355B-4B2F-B485-17A93E2D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53C-6EC9-4D60-9D38-BA98CCBF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D6AFF-17CA-4E47-AB46-0A7CB9C74FB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у лине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оправ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світ полюбив Ві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ина нам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кров’ю Своє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и нам о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сім нам двері жит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к відкр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7   Христу лине сл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Його,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, всі плем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до С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 Йому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 добр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щення дарує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ом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вірить у смерть 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інн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йгірший гріш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ірить Й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митий, спасен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Його,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, всі плем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до С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 Йому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 добр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икуп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м мир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радість по вір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Ісуса нам д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ін візьме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вого Отц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и всі ра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им Хри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Його,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, всі плем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до С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 Йому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 добр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2:41Z</dcterms:modified>
  <cp:revision>12</cp:revision>
  <dc:subject>Slavic hymnal Гимны веры христиан, Ukrainian hymn 67</dc:subject>
  <dc:title>Христу лине слава, Бог нас оправдав</dc:title>
</cp:coreProperties>
</file>