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1658-36F5-41C5-AFE1-9D6065BBD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C8D5-E3AE-4A06-8072-326F70515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D21A-3E12-4168-B2E6-B84957F84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4DAE-7ACF-4D9F-A4DC-5819DB7A8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FA42-9B2E-4CE4-992B-37205EB97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1365-9DEC-4228-8ED2-2FFBA8A69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DA38-A1A4-4C7B-A6F9-CB42A11E6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FAF9-F9F8-40E6-9ED7-6B11BE94E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0109-32D4-48E7-B1C2-1A2954ABB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D3C6-0C81-4104-B5A3-FE14E9C9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65F1-DEAF-471D-8DBB-67997268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04E2-45BF-4854-A388-8CF928D0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DBB768-7A6C-4849-A4AC-625A004A1F5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лько раз, скорбя жесто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о вздохом повторя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Кто бы из тоски глубо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у выход указал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 Иисусу! Зн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о скорбь твою, повер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Он с радостью встреч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 Нему тепер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8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колько раз, скорбя жесток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приди! Душою чёрст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Его не оттолкн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помни вечность, не упорству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чтены ведь наши д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 Иисусу! Зн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о скорбь твою, повер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Он с радостью встреч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 Нему тепер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приди! Благоприят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день: Христос зов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ом Он и безвозвра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ный мир душе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 Иисусу! Зн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о скорбь твою, повер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Он с радостью встреч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 Нему тепер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18:57Z</dcterms:modified>
  <cp:revision>12</cp:revision>
  <dc:subject>Slavic hymnal Гимны веры христиан, hymn 383</dc:subject>
  <dc:title>Сколько раз, скорбя жестоко</dc:title>
</cp:coreProperties>
</file>