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9363-A4CB-4BE1-A274-39762865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A3D9-DA50-44E8-AB68-1B6221E8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6AF3-0DAE-47AC-8076-A263FEBD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21DB-D342-473D-914B-768C0CD3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C8CD-C123-4967-BB7B-1D22484C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B32C-3056-4A27-A40A-626237B7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AE78-CBAB-43EE-922C-8F7D87AD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B3F8-607A-4612-AD79-E1B9792E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D489-E48B-438A-8C59-589BDE8F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D86A-5380-4CDB-AD8D-B188C0F8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9F86-6CBD-4D2B-BA78-651CBFA2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93BC-8C7A-4E38-868F-F6CBAECA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435ED-0E9C-4A98-A02E-EBCA00683A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так печале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ты забы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безнача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твой возлюб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, Он расста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ом для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ебя скита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ахе и пы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ты так печале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пил Он отр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и и грех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ебе дать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ад Своих д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нет влеченья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дар приня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тебе сомн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мешают взя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! не верь, смуща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рачным голо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ни, мужа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лым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чаль расс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любв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бя согр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я тепл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0:11Z</dcterms:modified>
  <cp:revision>12</cp:revision>
  <dc:subject>Slavic hymnal Гимны веры христиан, hymn 806</dc:subject>
  <dc:title>Что ты так печален?</dc:title>
</cp:coreProperties>
</file>