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a:t>
            </a:r>
            <a:r>
              <a:rPr b="1" lang="ru-RU" sz="3600" spc="-1" strike="noStrike">
                <a:solidFill>
                  <a:srgbClr val="ffffff"/>
                </a:solidFill>
                <a:latin typeface="Verdana"/>
              </a:rPr>
              <a:t>	</a:t>
            </a:r>
            <a:r>
              <a:rPr b="1" lang="ru-RU" sz="3600" spc="-1" strike="noStrike">
                <a:solidFill>
                  <a:srgbClr val="ffffff"/>
                </a:solidFill>
                <a:latin typeface="Verdana"/>
              </a:rPr>
              <a:t>Вот настал молитвы час</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is the hallowed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 trustingly br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our doubting and our fea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our Saviour and King;</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рою при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и страх, что муча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жим их пред Цар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we know that He deligh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glad welcome to g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 blessings that we ask fo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shall fully receiv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дано давно поз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ет Он нас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ё благосл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лноте всем нам д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owed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cred season of commu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is sweet to be ther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is the precious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 humbly entrea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ther, breathe the Spirit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we bow at Thy fee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м: «Вечный наш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Ты повей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Твоих все мы ног.</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uch our lips with power of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ll our souls with Thy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estow the benediction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Thy peace from abo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нам в уста вдох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и восплам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укой любви и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сердца осен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owed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cred season of commu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is sweet to be the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is the sacred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alm as heaven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l to soul is breathing he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communion of lov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т, настал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 и скромен наш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ша к душе меж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нёт в общеньи свято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y heart is sweetly fil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a peace most prof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place is like to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such true joys aboun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разлей по все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пошли с неб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перь подобье не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сделай в них Сам!»</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owed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cred season of commu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is sweet to be ther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ый час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священного об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так сладостно быть.</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5:37Z</dcterms:modified>
  <cp:revision>3</cp:revision>
  <dc:subject>Slavic hymnal Гимны веры христиан, hymn 6</dc:subject>
  <dc:title>Hallowed Hour of Prayer / Вот настал молитвы час</dc:title>
</cp:coreProperties>
</file>