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7EE-0559-42D2-89C2-6ED4227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700-7362-4D04-9C09-3316C646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FAA-54BC-4C1F-80E2-2C0BAE3A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AEA-EF1E-44EC-B861-98D73CB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5CB-F38A-442D-A0E0-FE5DFEF5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24D-F2F7-4264-B934-64344F4C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2B8-5AF5-44F8-8703-D0B779E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5A7-3F15-4502-AAB7-CF96808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F2B-4FD8-40AB-81B3-BA7B9DAA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875-BD46-4043-B4A6-A2E99EBF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8A3-C9A6-4159-AF84-BCA02DC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F2A-B341-4972-B6FA-66F8119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467F8-BF23-46DA-9907-BF82D634B1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10Z</dcterms:modified>
  <cp:revision>12</cp:revision>
  <dc:subject>Slavic hymnal Гимны веры христиан, hymn 713 (as amended)</dc:subject>
  <dc:title>Призови Христа, о грешный</dc:title>
</cp:coreProperties>
</file>