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C0F-A4D9-4C01-BA69-06142E14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1A04-0609-4D04-AD10-5844CADB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487-3882-4AF2-BE12-C63DEA09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7108-3101-44F3-B43D-FBFA4354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B11-85BF-4332-80C9-3EE0CCD5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367-A750-4742-9D95-E5A03B98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F7A6-3899-44D0-82AC-EA2626D7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5679-3861-4F9A-91F9-467B72CD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152F-9BA4-4B3C-973A-2EF886BA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0A31-F932-4B6E-91E1-8E2E0060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180-3085-40F2-BACD-13128CE5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61DC-6F8F-432B-A775-1FD73AAA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A164E-98CC-474C-9AB1-145306599C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призыв раздаётся ещ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решник беспечный, что медл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ё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к Иисусу спасенье при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ожидает Его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призыв прозвучал для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 сегодня принять зов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ледний призы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на собранье Дух Божий при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ы для души исцеленье нашё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роповедь, пенье — зовёт 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дёт Он тебя, но ты медлишь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призыв прозвучал для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 сегодня принять зов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е окончено, стало тем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мерли звуки призыва д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сердце Спаситель стучится и жд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же Ему, или скоро у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призыв прозвучал для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 сегодня принять зов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любишь ты жизнь, удаляйся от 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 со Христом заключи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сегодня принять поспе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ыву последнему чутко вн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призыв прозвучал для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 сегодня принять зов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8:24Z</dcterms:modified>
  <cp:revision>12</cp:revision>
  <dc:subject>Slavic hymnal Гимны веры христиан, hymn 373</dc:subject>
  <dc:title>Последний призыв</dc:title>
</cp:coreProperties>
</file>