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40B-E7E5-42A8-B55F-3683DAF1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D7B-3794-4DCC-A812-FE7938E1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9D1-48E4-4ABE-A169-44C6EED3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FB2-02C0-4ADA-891E-2A78630D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626-54AE-4BC2-8852-EEA1806A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9A4-5B2C-4649-9B5B-E555540B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C56-0803-447A-9BDD-1EC0F4E0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4D1-CABD-43E0-B6A0-A5BDDFD9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634-71F3-499D-AEAE-BC52E762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5DA-9BAE-4B37-A856-546E0B6C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C7D-85B1-49AB-8DEA-D44B36E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157-0163-4944-9393-BCB19466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BB217-B2D9-4571-89E1-50FCA7DC78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! слушай ухом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, любящи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емной стучит прохож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зовёт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, Агнец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! слушай ухом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елье сердца со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ц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йдёт Он и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 ней заблес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чь любви Его по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то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стук тот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танет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ный пир веч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тво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слушай голос ди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н главу скло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олкнет звук призы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ь пройдёт; тогда, ры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склон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в дверь стучать ты 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ывать тогда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 ты несч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0:25Z</dcterms:modified>
  <cp:revision>12</cp:revision>
  <dc:subject>Slavic hymnal Гимны веры христиан, hymn 337</dc:subject>
  <dc:title>Грешник! слушай ухом веры</dc:title>
</cp:coreProperties>
</file>