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B70-85B8-45A1-BF22-5A99B140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F38-EF2C-4B34-9E39-164E290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225-7862-4B8F-9430-CB7FAEFE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1FC-3E74-4111-A420-BA42041B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6CD-A635-41EB-A9E3-3FFF2F9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CD4-E257-453F-A7A2-D1D4153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510-3555-41B3-9160-A6C3A22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7DC-3661-437A-A73F-BE976C1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689-85B7-453B-8B63-65F6329F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BFA-445E-4DCD-B849-C542727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076-D50C-4CEF-940C-62D222D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831-A605-4406-B9BF-0C11F6A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5036-BD68-42FB-871C-8083E48937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rve a risen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in the worl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men may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all who seek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lp of all who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is so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od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han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His voice of che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ust the time I ne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lway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the world ar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loving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my heart grows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ver will des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stormy b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His app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O Christ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halleluj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Christ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4Z</dcterms:modified>
  <cp:revision>13</cp:revision>
  <dc:subject>Slavic hymnal Гимны веры христиан, hymn 287</dc:subject>
  <dc:title>He Lives / Воскресшему служу я</dc:title>
</cp:coreProperties>
</file>