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061-FAFE-4F66-84C4-512B8067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E2D-B9CB-4F3A-AF09-3AA80F4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9BF-66EC-4965-8727-24B4B5A5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EBB-3297-4464-9B8A-6F6A5330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EAF-2775-4412-9ECB-5E4F75D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9BA-7494-4FA2-B204-3875EAC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F38-A851-4958-9B44-00ACB16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9ED-D0E0-4D68-BC6E-8602273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73E-78A7-4F54-9E00-7345E78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3D9-D949-4CBA-B209-4B64851B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F7E-AD18-4F69-AA83-CECE0ED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CA5-75CF-4B03-867D-79F83CB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CAD20-B904-4FA9-BE99-53F0DB154A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3Z</dcterms:modified>
  <cp:revision>14</cp:revision>
  <dc:subject>Slavic hymnal Гимны веры христиан, hymn 438</dc:subject>
  <dc:title>Go Bury Thy Sorrows / Сокрой своё горе</dc:title>
</cp:coreProperties>
</file>