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D1E-13E1-4EDD-89D2-052E6049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4D2-09D7-473F-B43E-96053AE5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503-CA4A-4562-8284-A7D90D0B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5BA-B774-43C0-BA55-F7CAFAD5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9D7-FB58-4DD1-ACFC-05FC5E9B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EA6-6FD8-4552-920E-C71DAB3A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6D0-EE0E-4234-A451-2F7DF960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7A4-95F0-498A-A085-8B01D456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285-7A03-4B43-8D78-7F217F57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08E-35DB-4E00-BA79-B91E1F71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AB6-FC13-474B-AF47-F780F095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06E-80C8-44D3-BAAB-04C1F27E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CE8EA-A5E0-467F-9B62-538030A4F4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lonely hearts to ch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weary souls who p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тешайте малодуш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йте малоду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сите в мир послу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a smile we can re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ur journey we purs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дость мы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стлали путь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time for idle sc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your face be like the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а да не плени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ом светят наши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world is full of sig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sad and weeping ey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your fallen brother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слёз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оты пропал и сл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ратский дай со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loving links that bin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by one we leave behin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орви мирские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рабо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seeds of good we s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th in shade and shine will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ll keep our hearts a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сеем каждый 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 время возраст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ильный даст нам пл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9Z</dcterms:modified>
  <cp:revision>13</cp:revision>
  <dc:subject>Slavic hymnal Гимны веры христиан, hymn 480</dc:subject>
  <dc:title>While the Days Are Going By / Утешайте малодушных</dc:title>
</cp:coreProperties>
</file>