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322-465A-41DF-81AF-13F6C6C2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501-B38A-476D-9556-DD1E8A68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0A0-1EC9-46C2-A280-301DB3CE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F96-470C-4E88-9665-665CF069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67D-174C-4072-8D43-47F22B40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16D-F1C8-420D-9DAC-DD04187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085-0670-4D5A-8573-B6E428C6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54F-4948-48A5-8CBB-4F1FDB9A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F87-BE02-4F6D-B4A1-3F6A9885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938-8210-4C9B-B2C9-3304499B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27A-574A-429C-8E4B-2734BE1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215-A629-42C7-9FDA-40F49F7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92235-54C3-4C3E-984E-C9E49D399D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do you wait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do you tarry so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viour is waiting to gi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in His sanctified th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же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Иисусу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и хочет тебя Он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ло Своих верны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do you hope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ain by a further de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ne to save you b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ther way but Hi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ты дума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 людей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нет в жиз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not feel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pirit now striving with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not accept His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w off your burden of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 чувству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х обличает во вс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прими и будь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расстанься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do your wait, dear br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arvest is passing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viour is longing to bles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danger and death in de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нежданн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Господню семью не при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 смерть того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4:46Z</dcterms:modified>
  <cp:revision>13</cp:revision>
  <dc:subject>Slavic hymnal Гимны веры христиан, hymn 399</dc:subject>
  <dc:title>Why Do You Wait? / Что же ты медлишь, мой брат?</dc:title>
</cp:coreProperties>
</file>