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3BA-3F03-4BE2-9ACC-33F5410E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B50-AE96-4F78-B23F-14E246FA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B72-C5AB-439E-9739-58CB9026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9F4-13AE-4544-9B1A-F6A1C997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576-3C97-436A-B2D1-E76DDE68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142-17D5-4E5B-A3F2-242C7A35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3B2-600F-4301-B9FC-62620B22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8B5-696A-4067-8A63-B715D2AF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3D6-8339-41D3-BEBB-06F438A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43D-6A8C-4698-AD75-BBBFEFCD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D23-9778-4D59-A89F-47D9487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515-F137-4213-A70B-032A7DC5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D20E4-F57C-4391-9487-D97E1F0422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22   Вот, я искуп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я искупл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ми был остав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ыновлён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бьёт жизнь клю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Твой обит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5-06-01T11:28:52Z</dcterms:modified>
  <cp:revision>13</cp:revision>
  <dc:subject>The Source 4, song number 1722 in Russian</dc:subject>
  <dc:title>Вот, я искуплен / And I’m Forgiven (You Are My King)</dc:title>
</cp:coreProperties>
</file>