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E215-F1FE-4202-BBE7-0F3B9F89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A924-16AD-4EDA-82B2-9CF2C53E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51BC-2C55-4A10-9251-D5FAE29B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0E31-3C6C-49BC-8374-296D106F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E431-015B-497F-8FEC-A086E34F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068E-8DC8-4EC0-81AA-0C49D254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6559-D8C2-4CFD-8AEE-B6A79B44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DA94-8BBB-4D1B-9F17-8EE0B153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876B-050E-4EDF-AED3-305B394D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ECB9-697C-4CAB-8BE1-A0D253E1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8666-5F8F-4B8A-AF7B-46D2F524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EEC5-0027-46DB-8135-6B9E79FE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C3B53-C4BD-423A-9E70-54582DF4A81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шёл себе спасень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сокрылся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еня наста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покоил Сам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кто теперь не 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души моей смут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раг людей прихо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окроюсь в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нашёл себе спас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я в пути уста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крыло Его при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жизни уто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ове вечном я най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тель мой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с Ним я гово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Его беседы ди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ать я не м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не отверг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 жалобу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ужде моей случай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у мне даёт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несчастье ободр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раняет от гре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ёт меня к спасен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вно прост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ы узнать хо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 рая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оставьте все сомн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кройтесь в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душе решит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Его ид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ас любит бескон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ддержит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1:00Z</dcterms:modified>
  <cp:revision>12</cp:revision>
  <dc:subject>Slavic hymnal Гимны веры христиан, hymn 636</dc:subject>
  <dc:title>Я нашёл себе спасенье</dc:title>
</cp:coreProperties>
</file>