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8D8B-FE3B-4558-AD16-29C0A50BF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9125-8EBC-4BAE-A0CD-2199D27B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0CC9-B525-44CA-97F1-EB6392ED9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73FE-6F63-4252-AF15-7CE8E6DF9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5B4E-F776-42CC-AB54-49D8D60C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DF52-74E4-4F6A-AEFD-E2279324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7B44-188C-46D1-AA1F-E5910E58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3949-1384-4674-9854-FCA62283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A485-916F-49CC-970C-418090F2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9FCB-EE25-4203-AE9E-FDC26485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A2B2-31FC-4760-AF42-99EC02D5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5005-D79E-4B44-B48D-72B6AA38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68F3F-063B-45B0-B208-D30713D07B0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 очи веры,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е утратил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надежды крылья всё 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если б к Тебе меня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 бросил за с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дежду, как меч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любовь была б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с любовью был бы Ты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4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ли б очи веры, Бо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огда б любовь осты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ленился суето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ы бездну устран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жду мною и Тобой?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1:18Z</dcterms:modified>
  <cp:revision>12</cp:revision>
  <dc:subject>Slavic hymnal Гимны веры христиан, hymn 441</dc:subject>
  <dc:title>Если б очи веры, Боже</dc:title>
</cp:coreProperties>
</file>