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3D7F-615D-44FB-928B-E5B13A839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39EF-7967-47B2-A094-3FBD3222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E652-FBAC-4D10-82B1-809A009E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D318-3BE5-4BD3-B686-39CEA5E6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1978-6D11-43B0-9CB5-1E9FF632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EABF-10EF-44B3-AE75-D9AF98DA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5D8-1D5E-4A15-B909-03F4ED06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A8C3-5C6F-42EA-9ABD-F51965D4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77DD-1CCE-4998-884B-7336BD3F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1FAC-E489-4EA8-B191-363514FE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E2F5-77E8-4638-B713-680121AF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DF33-E37D-4099-92B7-416C6112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AE8DC-F355-4265-9A39-8235E09A968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той день вже близь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нь великий, страш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сі нар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раз стануть пе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тя і сестр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тя і сестр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тя і сестр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ки, раз на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2   Так, той день в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той день вже близь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нь великий, страш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сі нар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раз стануть пе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ужі з жонам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ужі з жонам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ужі з жонам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ки, раз на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той день вже близь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нь великий, страш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сі нар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раз стануть пе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іти з батькам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іти з батькам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іти з батькам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ки, раз на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той день вже близь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нь великий, страш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сі нар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раз стануть пе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стирі з стадом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стирі з стадом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стирі з стадом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ки, раз на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той день вже близь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нь великий, страш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сі нар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раз стануть пе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тут посіяв, то там пожн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тут посіяв, то там пожн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тут посіяв, то там пожн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ки, раз на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6:31Z</dcterms:modified>
  <cp:revision>12</cp:revision>
  <dc:subject>Slavic hymnal Гимны веры христиан, Ukrainian hymn 82</dc:subject>
  <dc:title>Так, той день вже близький</dc:title>
</cp:coreProperties>
</file>