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2E0-6FAD-4466-A157-C3CE162D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9B5-1C22-4A38-8A45-832FA11D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CCE-5D8C-4E6F-976A-7E8EA64C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15A-965E-4A0F-8CA8-7F4F6218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964-E4E8-4CF4-9239-898ECFA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31B-57AA-4DB7-8AD9-01B9F8AE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429-1718-425B-92B2-C2EE8C1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530-F87A-4E3D-9E64-361F24EB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AAE-57AD-4301-A3F8-E0258ECE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7A6-4666-4E70-A24B-376C812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A2F-480D-4BC4-BF6F-0182F62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490-F7A0-4185-9F07-4AB2DA3F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27640-A558-4D38-95BC-7049BDDFB2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serve the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 His help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ther lives to b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may be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ay b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King’s own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overth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His standard r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to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truth un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s the triumph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enl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leave the worl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face the f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r Him will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call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weight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crown and pal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er we the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the warrior ps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love that clai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for whom He d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m Jesus na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be on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love constra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hast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with gold or g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ith Thine own life-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diad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blessing f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who come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w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nd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52Z</dcterms:modified>
  <cp:revision>12</cp:revision>
  <dc:subject>Slavic hymnal Гимны веры христиан, hymn 877</dc:subject>
  <dc:title>Who Is On the Lord’s Side? / Кто из вас Господень?</dc:title>
</cp:coreProperties>
</file>