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F0C-0EC3-496D-8A08-6E05F575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95D-7D93-48F0-9D08-0F11F309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7B3-27A4-48A5-820B-C02FE98B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640-E4E0-4BBA-A8B5-B48050A9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EC8-7C56-472F-8947-48A868DA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114-FC07-4041-A514-8C419E1A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7D8-9E49-45F0-A220-2E04744B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684-64AD-4648-A7CE-371C4BFD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A38-A876-42F3-8812-56978B54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B59-DF2A-4872-A427-DC5F467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682-8E87-435A-9634-FA3F5404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113-B3AA-4384-8F97-BC4BA823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875D7-F2C6-4056-84B8-543D98EBD1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ft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Your rightful pla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8   I Will Magnify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my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crown You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deemer of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fe an off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could not hold You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I’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rej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oclaim His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ft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Your rightful pla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2:49Z</dcterms:modified>
  <cp:revision>12</cp:revision>
  <dc:subject>The Source 3, song number 1348</dc:subject>
  <dc:title>I Will Magnify You</dc:title>
</cp:coreProperties>
</file>