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07</a:t>
            </a:r>
            <a:r>
              <a:rPr b="1" lang="ru-RU" sz="3600" spc="-1" strike="noStrike">
                <a:solidFill>
                  <a:srgbClr val="ffffff"/>
                </a:solidFill>
                <a:latin typeface="Verdana"/>
              </a:rPr>
              <a:t>	</a:t>
            </a:r>
            <a:r>
              <a:rPr b="1" lang="ru-RU" sz="3600" spc="-1" strike="noStrike">
                <a:solidFill>
                  <a:srgbClr val="ffffff"/>
                </a:solidFill>
                <a:latin typeface="Verdana"/>
              </a:rPr>
              <a:t>По всей земле царствует</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о всей земле царствует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я, мой Господь и Твор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личье Твоё и держ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ъемлют пределы неб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ради врагов Твоих лют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сделать безмолвными 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троил хвалу из уст ю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ем постыдил Ты всех их.</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огда я смотрю на твор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стов Твоих, Боже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я прихожу в изум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милости дивной Т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чудно устроено неб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звёзды поставлены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что человек, что Ты помн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величье Твоём и о нё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акое имеет знач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вя на земле чел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ы на Своё попеч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нял его душу на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д тварью его Ты возвыс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лавой, и честью венч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лагами жизни Ты щедр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на земле награждал.</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ладыкой его Ты постав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д тварями всеми з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их Ты, как низших творен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ноги ему покор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всей земле царствует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я, мой Господь и Твор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личье Твоё и держ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ъемлют пределы небес.</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0:06:15Z</dcterms:modified>
  <cp:revision>3</cp:revision>
  <dc:subject>Slavic hymnal Гимны веры христиан, hymn 107</dc:subject>
  <dc:title>По всей земле царствует слава</dc:title>
</cp:coreProperties>
</file>