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2E37-926D-4755-8852-59BCC459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7C4A-417A-4EE1-94C9-59C9B8AA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8897-24BA-4AA1-AECA-D52B295B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6952-BF58-4F4E-9417-6A977DBE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0D4D-8CB9-45BA-8D6B-BEBE57C8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4801-ACAC-4C5E-809B-E60A2911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8DC8-87DE-48A9-87F5-341E6D8F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3379-6A9C-4E50-860A-F72DF0A2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F1C5-4707-4390-8611-52B70D5E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089E-90E1-41EC-AF6D-6EA5FF4D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6E9D-BC2E-47BF-B132-24296B6A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3B6F-39EC-4C29-AB66-E4A700C7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95D30-3DE7-436C-B8F0-1F4732AB8FE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ometimes the shadows are d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ough seems the path to the go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orrows, sometimes how the sw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tempests down over the so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вает, сгущается ть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вает: сгущается т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сным становится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корби души и у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камень, ложатся на гр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n to the Rock let me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Rock that is higher than 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n to the Rock let me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Rock that is higher than 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, что пре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ы Творца м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ometimes how long seems the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ometimes how weary my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iling in life’s dust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Rock’s blessed shadow,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вает: так тянется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ло и кости бол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адует душу и взгл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лы благодатная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n to the Rock let me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Rock that is higher than 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n to the Rock let me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Rock that is higher than 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, что пре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ы Творца м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near to the Rock let me k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blessings or sorrows prev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climbing the mountain way st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walking the shadowy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я к небесной Ска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радость и скорби м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хожу ль на высоты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ду ль одиноко во мг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n to the Rock let me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Rock that is higher than 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n to the Rock let me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Rock that is higher than 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, что пре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ы Творца м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3:29Z</dcterms:modified>
  <cp:revision>12</cp:revision>
  <dc:subject>Slavic hymnal Гимны веры христиан, hymn 844</dc:subject>
  <dc:title>The Rock That Is Higher Than I / Бывает, сгущается тьма</dc:title>
</cp:coreProperties>
</file>