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D05-C331-4172-9085-BD2AC5BA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C3EF-DAB8-44FE-BC0F-D76090CB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11B-5FB1-47CA-8454-BFFAB4B1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AD6-35D4-472E-A56E-9BF071F8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AB8-D6F0-4A63-BF7B-E1699352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30A-2C80-4CD8-ACEF-3BD7791E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8D4-1432-4EB3-A8E9-4D1007A3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060-48F4-4910-9625-0BCFFB15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EBB5-090C-4CC7-B465-1999600B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709-AFB5-468D-AD4D-A2F19FA0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6B8-8FA8-416F-B3CE-0145B144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390-E6CF-4735-8F3B-2606E570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87161-769B-4CFF-A4AB-D7D929926B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де же жнецы, чтоб теперь со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ей, злом богатых, — добра сноп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пами любви надо труд свер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тени ночной класть нельзя сер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где же жнец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те колосья среди тра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шеницу средь плевел найдёте 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росьте колосьев, что у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их в житниц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олос созрел и к земле по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атвы великой мир скоро ж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ников мало, а труд вел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лить же нельзя, ведь всё пропа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ите же, люди, свои сер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с обильным зерном сноп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есь до встречи Царя-Г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житницу Божью войдёте 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0:50Z</dcterms:modified>
  <cp:revision>12</cp:revision>
  <dc:subject>Slavic hymnal Гимны веры христиан, hymn 534</dc:subject>
  <dc:title>О, где же жнецы?</dc:title>
</cp:coreProperties>
</file>