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261-2608-4226-AE2D-75B1CF9E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9CC-3331-4A48-AE86-2AF8EA29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7EF-D82B-4A24-8DAC-27DB08EA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89A-EBE1-48DC-8AD5-43BC0CEC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278-F555-4005-AAFD-1BD3D42B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6C0-27EE-428B-B204-C06B75B2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255-D6BA-4CB6-A4FA-528DE3AB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27F-16EE-45D2-8B0C-FBF5C24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EE8-1C10-4619-8C56-28897CAB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8C8-D39B-4140-802E-39C71C68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BD8-B3E5-4A84-B42B-4B39AF96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665-620E-4622-9FA9-B564D4BC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E5D1D-FD8D-4E62-988A-24146A94E9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окончу путь мой 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где блаженства льются пот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этом мире я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тчизне, куда стремл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мо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, не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едугов, нет умир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там всё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 тот дивный, дивны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этом мире тёмно и жут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томился, нет мне при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6:02Z</dcterms:modified>
  <cp:revision>12</cp:revision>
  <dc:subject>Slavic hymnal Гимны веры христиан, hymn 680</dc:subject>
  <dc:title>В этом мире я только странник</dc:title>
</cp:coreProperties>
</file>