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B8FE-8458-4A78-B65B-2102A51E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C36-B03E-4A82-8EAB-D127246A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2ABF-96EF-4E55-BE25-26FF90DD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23D8-2A78-4651-857C-DC8782C0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7F43-3B50-4235-A173-7BF38700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5CA5-EAA8-43B9-842B-F19FF5F5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2FA-EF7F-49F6-904B-841FE674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3C24-C1C8-4892-A737-5133A84A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4EB1-19BA-4330-AC62-20FE3817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6A85-AA89-41C5-B26F-4FA54DB8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2B0B-43E3-4DA4-B6DD-9AA7ADD3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4094-5B28-4898-B381-7549D217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E5218-BE63-4293-BD0F-36A27D8CFE1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рубите вы тру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ре Моей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йте, бейте вы трев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у всей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близок день Госп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рак погибнет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в небе загор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будится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трубите вы труб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 сильный и свобо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рождённый в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имя — Христиан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 знамен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 мудрости при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новите разум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путям правды хо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 с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станет от вост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ж желанный, Сам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а Ним пойдут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, Боже, Тво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0:05Z</dcterms:modified>
  <cp:revision>12</cp:revision>
  <dc:subject>Slavic hymnal Гимны веры христиан, hymn 536</dc:subject>
  <dc:title>О, трубите вы трубою</dc:title>
</cp:coreProperties>
</file>