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089-38A8-4289-A18F-4A8A341C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659-72F6-41CD-BF6F-E01D6EB4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036-9BCE-4DAC-A490-2BEA8F55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CD7-B423-4704-81EB-768ABB89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075-AF9D-4069-B548-0193F72C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0A3-6B09-40BC-859E-3BA6E73D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E98-870F-497B-A437-97C08BBE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12C3-A56D-468C-872A-2488B8E9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6D4-C8A9-412D-8557-B006F1C9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886-2CB5-4890-B3A2-7C876C64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7CA-A4D4-463D-BDC0-46C5AED5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5CCF-CC52-45F0-A2E9-6D8A8FFF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A0A33-9DDA-463E-8482-37AC120C57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всюду страданий и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осветен наш жизнен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ны жизни бушуют, как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грозя захлест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ечалены добрые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нередко туманит сле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арче, усердней 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шла стороною гро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лько всюду страд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свою мы грехом исказ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может теперь оправ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молнии нас не сраз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каяться, плакать, ры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уете постоянной,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легко совратиться с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, наш Небесный Влады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шь нас научить и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хочется всем нам уда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оды собирали мы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мы страждем и плач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 в наши души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7:46Z</dcterms:modified>
  <cp:revision>12</cp:revision>
  <dc:subject>Slavic hymnal Гимны веры христиан, hymn 506</dc:subject>
  <dc:title>Сколько всюду страданий и горя</dc:title>
</cp:coreProperties>
</file>