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B58-2131-4503-A137-9E40E28C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A4B-0546-4853-B5A4-652A3204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898-A9DA-4BB1-AB59-A3E3DA9E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FB0-0025-4A18-95B7-08819272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667-CA6C-446F-A02F-D36FB8A4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129-26DC-4D09-9488-38103E50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D08-7F81-4229-98E0-0B3AFE5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3AA-6BE5-4576-96CA-FE59FC7A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609-2288-489D-A732-4AC1D293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F51-91D0-4827-A505-06C6547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98A-84D7-4191-BE93-67B14CB5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139-202B-4EE6-B1DC-3088A4C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EA73C-1AF6-4019-95A4-22C0267A98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   Прославляй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on and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surrection of our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ёт во веки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празднуй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е воскресени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22Z</dcterms:modified>
  <cp:revision>11</cp:revision>
  <dc:subject>The Source, song number 67 in Russian</dc:subject>
  <dc:title>Прославляй Иисуса / Celebrate Jesus</dc:title>
</cp:coreProperties>
</file>