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7</a:t>
            </a:r>
            <a:r>
              <a:rPr b="1" lang="ru-RU" sz="3600" spc="-1" strike="noStrike">
                <a:solidFill>
                  <a:srgbClr val="ffffff"/>
                </a:solidFill>
                <a:latin typeface="Verdana"/>
              </a:rPr>
              <a:t>	</a:t>
            </a:r>
            <a:r>
              <a:rPr b="1" lang="ru-RU" sz="3600" spc="-1" strike="noStrike">
                <a:solidFill>
                  <a:srgbClr val="ffffff"/>
                </a:solidFill>
                <a:latin typeface="Verdana"/>
              </a:rPr>
              <a:t>Скажи мне весть благу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Спасител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 смерть и жизнь свят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 Тво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вест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просто, как дет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ал я от хожд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суетным путя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постиг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тайну доро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р спасенья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щай мне повесть час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е мне начерт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людям, в тьме несчас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Ты вечный ра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замет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душу мне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никли су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нет мир и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делай весть жи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 Спаситель м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8T07:17:14Z</dcterms:modified>
  <cp:revision>3</cp:revision>
  <dc:subject>Slavic hymnal Гимны веры христиан, hymn 257</dc:subject>
  <dc:title>Скажи мне весть благую</dc:title>
</cp:coreProperties>
</file>