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39F-DE7C-46AC-ABC9-13260960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E3C-9B50-4FFF-A96C-DA85B68A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D54-E97F-4CE3-A4F1-6017DC1D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512-8A9F-4759-8EA9-BA4689AE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A70-69AA-4D89-BA31-2A6AE34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758-0E0D-4167-AF8A-370D164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636-9EB0-4F72-91B6-C2603422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1F8-309C-496E-AC2F-7E25F7D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9D6-D551-4156-B3DA-B12129B8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0A4-3DE1-4B69-87FB-FCB4ABA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7C2-F669-455D-9834-CB83CDEC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F5F-68EA-4877-AAAF-6F4B5B0C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90137-1ABA-44DF-BE97-A712C3E6B5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ye pure in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, and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festal banner wav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of Christ y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двластны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angel choi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saints of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 out the strains of joy and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rapture, noblest m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ввер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на земл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восторженн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ются в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 youth and snow-crowned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men and maidens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high your free, exultant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ndrous praises s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осток и ста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ица и силач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как наш Бог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ает п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on through life’s long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chanting as y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youth to age, by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ladness and in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нья ро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ть и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юности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статке и в ну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on, ye pure in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ious banner wav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of Christ y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етом меж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тремись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3:14Z</dcterms:modified>
  <cp:revision>12</cp:revision>
  <dc:subject>Slavic hymnal Гимны веры христиан, hymn 888</dc:subject>
  <dc:title>Rejoice, Ye Pure in Heart / Ликуй, Христов народ!</dc:title>
</cp:coreProperties>
</file>