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50F-E28E-4005-8FB3-BB57E77E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3D8-9C5E-45DB-8C0D-DA1AE4B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0D7-08B8-4897-86D4-BEF0D373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B11-5EAD-45FE-9983-73FB7053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DDF-06C5-440D-88C4-D32C89E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FD7-B7C6-45F1-A193-6721D7A5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DFB-5196-4951-868D-2CE3C993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A1A-CA5D-4EA4-B133-AF18F0B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A29-CF2D-4F46-B710-5D1C33F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0A2-7A69-4458-836B-743FFB3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3D7-FCAC-496A-AF96-8EF4EE8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333-5681-4189-BB8A-C9224E2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5F8A4-0E98-4AC7-BA5D-41E083059F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Saviour that He di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ondemnation He hath ma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said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iquities on Him were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debtedness by Him was pa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on Him, the Lord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poor and needy, I can trust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ak and sinful I believe 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lad message! Every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unworthy, yet I will not doub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that cometh He will not cas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,” oh, the good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9Z</dcterms:modified>
  <cp:revision>14</cp:revision>
  <dc:subject>Slavic hymnal Гимны веры христиан, hymn 635</dc:subject>
  <dc:title>Verily I Say Unto You (Oh, What a Saviour, That He Died For Me!) / Спаситель за меня в могиле был</dc:title>
</cp:coreProperties>
</file>