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1A7-EDFD-4159-BB08-23419EBA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CDC-49F4-4A12-9DA6-23BB014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1A5-71D2-439C-B3FB-7C4A75DC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B7A-BE79-4C3B-B797-EA60E372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662-EB30-48E5-9C07-47B5F8C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DD0-56CA-491B-B69D-FC11580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E9B-65DA-40AB-839B-BEE43B5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EB8-3F54-4FDC-93D7-29302C12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38D-37CF-4D70-9D98-06902E4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5DD-12EB-4BDA-8322-895A4AA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17D-B2C3-41B5-A59C-9CD59D8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A89-831F-4A5E-95B1-C26C614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D544-C2DE-457D-A31F-75B756DF4D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бый скажет: я си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ы жизни я в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грехи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и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явил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усь я из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и вечно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что в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вой жизни я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09:31:02Z</dcterms:modified>
  <cp:revision>14</cp:revision>
  <dc:subject>The Source 2, song number 862 in Russian</dc:subject>
  <dc:title>Слабый скажет: «я силён» / Let the Weak Say “I Am Strong” (What the Lord Has Done in Me)</dc:title>
</cp:coreProperties>
</file>