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248D-94D6-447C-802A-12C758930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EEC9-74C2-4109-BE89-C8AC8E7D9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793B-5933-42FA-8479-EB9CB4B92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8CC0-194A-4B9F-9524-AF2199D8C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D647-955D-4CEB-8610-5F43BB5B5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36D1-A779-4210-98E8-17AB95A95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68CF-BC77-48AD-9495-2D60AEEAC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533A-E22F-4939-8BAF-C89D0FE0E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B1FF-E95D-40F1-972D-781699155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3693-4638-4DBC-92D3-868B7568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2547-83F4-4510-866D-D4DFE8C7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1676-8BD7-4D9A-BB18-75EC8B8F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1FBA5C-3015-4AFE-BB20-1E04E87160A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ly by grace can we en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ly by grace can we st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 by our human endeav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by the blood of 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to Your presence You call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call us to 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to Your presence You draw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now by Your grace we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by Your grace we 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408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Only By Gr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if You mark our transgress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would st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s to Your grace we are clean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the blood of 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if You mark our transgress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would st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s to Your grace we are clean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the blood of 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ly by grace can we en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ly by grace can we st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 by our human endeav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by the blood of 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to Your presence You call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call us to 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to Your presence You draw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now by Your grace we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by Your grace we 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2:49Z</dcterms:modified>
  <cp:revision>10</cp:revision>
  <dc:subject>The Source, song number 408</dc:subject>
  <dc:title>Only By Grace</dc:title>
</cp:coreProperties>
</file>