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9</a:t>
            </a:r>
            <a:r>
              <a:rPr b="1" lang="ru-RU" sz="3600" spc="-1" strike="noStrike">
                <a:solidFill>
                  <a:srgbClr val="ffffff"/>
                </a:solidFill>
                <a:latin typeface="Verdana"/>
              </a:rPr>
              <a:t>	</a:t>
            </a:r>
            <a:r>
              <a:rPr b="1" lang="ru-RU" sz="3600" spc="-1" strike="noStrike">
                <a:solidFill>
                  <a:srgbClr val="ffffff"/>
                </a:solidFill>
                <a:latin typeface="Verdana"/>
              </a:rPr>
              <a:t>Иисус, души Спасител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исус, души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прильнуть к Твоей гр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волн будь мой Хран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ставь меня в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Тебе лишь доверя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Тебе лишь отда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 зреть Тебя жел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Твоим, мой Иису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храни средь бури жиз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 конца свершая п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я мог достичь отчиз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ей мирно отдох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прибежища и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меня — лишь только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ставь меня боль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ь житейской суеты.</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дать и примир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Тебе,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к Тебе моё стрем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ми меня, Благ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источник вечной жиз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у можешь утол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учьём святой отчиз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оём сердце можешь быт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6:41Z</dcterms:modified>
  <cp:revision>3</cp:revision>
  <dc:subject>Slavic hymnal Гимны веры христиан, hymn 159</dc:subject>
  <dc:title>Иисус, души Спаситель</dc:title>
</cp:coreProperties>
</file>