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6036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People of the Risen K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people of the risen K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delight to bring Him prai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ll, and tune your hearts to 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Morning Star of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ifting shadows of the ea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lift our eyes to Him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steady arms of mercy re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children 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tongue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heart, one voic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Church of Christ,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828720"/>
            <a:ext cx="9360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those whose joy is morning su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weeping through the nigh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those who tell of battles w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struggling in the figh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is perfect love will never chang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mercies never cea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ollow us through all our d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certain hope of pe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tongue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heart, one voic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Church of Christ,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young and old from ev’ry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n and women of the fait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those with full or empty hand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the riches of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world His people sing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re to shore we hear them c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uth that cries through ev’ry ag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ll in all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tongue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heart, one voic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Church of Christ, rejoic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4:12Z</dcterms:modified>
  <cp:revision>5</cp:revision>
  <dc:subject/>
  <dc:title>Come, People of the Risen King</dc:title>
</cp:coreProperties>
</file>