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648-CC99-4619-91E8-C56E9690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6F7-27E8-4386-AE1F-938637C1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339-CD5D-40C4-8366-2B153C1E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501-5BEA-4E5C-927E-3C4E8EC0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149-287E-4838-B9A0-C0E91B25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B38-13D9-430A-8EDA-BBD8859F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EB9-A662-446F-9DE4-9B2216C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84C-CE76-4C77-9226-9067488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31D-FB1F-49A4-B1CE-15BD5D90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7C6-8E13-42FB-BD26-457F245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509-5C39-479B-8323-9E05ADF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25A-4204-455F-A531-0F4B79A1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4F9F5-8AD0-4467-AC17-EDD24A6AF5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7Z</dcterms:modified>
  <cp:revision>13</cp:revision>
  <dc:subject>Slavic hymnal Гимны веры христиан, hymn 784</dc:subject>
  <dc:title>Far and Near the Fields Are Teeming / Здесь и там поля белеют</dc:title>
</cp:coreProperties>
</file>