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E7F-C5D5-4D28-8B57-E80F9C66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9A9-A487-4B89-A30E-DE5A8A7B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EB4-0739-41DE-B7BD-7E14BC49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64C-2AF2-4712-8A3B-88D60C3A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C5F-BB9F-4FCF-8D56-4C2F17C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FFA-6038-475E-AF11-6A3BAFB7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8D3-128A-4F25-8CBB-6338370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2B6-CC92-41A0-BDE7-0635FCA6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205-74D6-44F8-A018-56D96192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1AF-BC27-4C94-9183-4B8D311E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BA1-4C1A-4716-8AB0-D2404997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10F-A6B7-4886-9513-5ED71F0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63BE3-F0B4-4DE1-B132-7719298C4C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feel discoura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the shadows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my heart be lo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ng for heaven an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is my por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nstant friend is 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t not your heart be troubl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ender word I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ing on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se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by the path He le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step I may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I am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clouds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ong gives place to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ope within m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raw the closer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are He sets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8Z</dcterms:modified>
  <cp:revision>13</cp:revision>
  <dc:subject>Slavic hymnal Гимны веры христиан, hymn 701</dc:subject>
  <dc:title>His Eye Is On the Sparrow / Зачем я так бессилен?</dc:title>
</cp:coreProperties>
</file>