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E02-3796-4501-8948-6DCDDDB1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904-BC0E-4B1E-916F-B9213242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90B-2ADD-413A-8EE4-2D4C2023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5DC-ED5F-4F2F-9102-532525A5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121-61EC-4D18-AB32-E59BDDC7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83B-7B03-4A10-9C9C-846CA4AC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A12-B6F4-4DDF-BB01-E5ACA33E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5A9-081E-46F0-9006-CA3F8AEE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8A6-DF8A-40EB-8A01-E9376392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5A3-92D2-4AF9-87C7-F936476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551-17B7-4703-8846-6CBF9B06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3B4-DA60-418D-8EED-F686F77E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D4052-303A-4FD8-87FF-FA70587942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my life, I crown The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shall the glory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thorn crowned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чальник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ьник жизни, Пастыр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во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я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me the tomb where Thou wast l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mourned and wep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in robes of light arr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arded Thee whilst Thou sl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мне новый гроб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ученный,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нгела, что с вы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сторо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, like Mary, through the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a gift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to me now the empty to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, как жёны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ть дары мо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ы луч во мне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be willing, Lord, to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my cross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y cup of grief to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borne all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я подра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у скорби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ш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4:18Z</dcterms:modified>
  <cp:revision>13</cp:revision>
  <dc:subject>Slavic hymnal Гимны веры христиан, hymn 430</dc:subject>
  <dc:title>Lead Me to Calvary / Начальник жизни, Пастырь мой</dc:title>
</cp:coreProperties>
</file>