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B23-5114-4DFE-88F0-DE36BCC9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C447-C609-46F3-9C40-6E592995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354-6D1A-46FB-8AEE-454194F8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021-E50C-41D4-9777-8F970122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56D1-7F23-4156-81ED-87E7B5D2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CE62-8D63-475C-91A6-09C8205B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3A7B-7275-41B0-AD3A-71C05CCE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C98-3C81-4842-9094-F4E8D5C3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B90-9410-40E8-8BEE-7B072CBA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00C-C8B5-424E-AE9E-81AA1919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42FD-03CF-4747-8576-ABED9B8C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BD1E-2E9B-4B02-AB2E-A72B152C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316D4-52C2-46FC-BE69-E577639278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нья Божьи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е и в глубин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ые солнышка л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на светящая в ноч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оренья Божьи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й ветер, дух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ка вблизи, вда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тра, вершины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койный вечер, звёздный хор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руг, кормилица зем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са, луга, сады, пол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ой прекрасные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щедрой осенью плоды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люди с чуткою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я всем, одной семьё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щий, страждущи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 Христу ярмо забо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нья, пред своим Твор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ите ниц и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и Сын и Дух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Бог живо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ославлен! Будь прославле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14:28Z</dcterms:modified>
  <cp:revision>12</cp:revision>
  <dc:subject>Slavic hymnal Гимны веры христиан, hymn 871</dc:subject>
  <dc:title>Творенья Божьи на земле</dc:title>
</cp:coreProperties>
</file>