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C62-919B-4F5B-A85C-06AA0EDC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82E-935E-4524-BA0B-0A3A775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840-887E-4073-8CF4-65D20C1A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AB5-A501-425C-8591-A3EFF6BE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CA7-F1B3-4410-AD4D-15D3549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6E3-49E4-4569-AFBC-89213F1C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0F8-D8F4-4D28-B474-99FA0CA4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B88-DFA7-4C3F-A1EC-4D6F7570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8D5-E64B-4993-9948-A7B3FEE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690-BB98-44D7-A311-5BE00CE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3FD-168A-49A9-B674-42A8BF9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0DE-9BD8-42F8-ACF4-244D350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78CD9-3E18-4FEB-8EDE-22C999EC93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Breath of God, come breath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we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42   There Must Be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like a rushing w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 us in power fro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ve us abandoned to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0Z</dcterms:modified>
  <cp:revision>12</cp:revision>
  <dc:subject>The Source 3, song number 1542</dc:subject>
  <dc:title>There Must Be More (Consuming Fire)</dc:title>
</cp:coreProperties>
</file>