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380-46AE-47D3-B268-19E79BCD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57C-F9A4-4EB4-A5F0-187368EC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608-B92D-49B0-A38D-683194CD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D0C-17AC-4DCA-844F-71083DF9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21E-CBE2-443C-A174-D6A6627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730-7F3C-4FF1-99FC-F7FA53A2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085-0252-4ED5-A5F4-5502736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C42-A667-4548-94EC-DD1BD736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F73-37F6-41A0-A3D6-8A01C18D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855-1FFC-4C49-85D0-193A309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334-1B83-4005-B42D-BF30DED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F52-180F-4DE9-8FAE-FF1836CF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24E4-8C12-4DCC-B474-3F8ECF064C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дежда тех серд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тона жизн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х спас Святой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уз греха и жизни в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Свою за них от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ебесный в сердц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надежда т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кто познал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стремятся, как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безмерно,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хоть в мире много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гонителей, враг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 Иисуса ведь т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хвалит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умом гордит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весь мир перед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глазах хоть он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ем мы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ем мы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здесь силы, чтоб мо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азлучить с Отцом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лубина, ни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широта, ни долг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христиан Христос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о скоро восх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надежда х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нтинентов и все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 тысячи уж лет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й 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башен стро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космос пок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одняться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ланету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Христос восхитит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лькнёт Венера ниже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4:50Z</dcterms:modified>
  <cp:revision>12</cp:revision>
  <dc:subject>Slavic hymnal Гимны веры христиан, hymn 518</dc:subject>
  <dc:title>Христос надежда тех сердец</dc:title>
</cp:coreProperties>
</file>