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AF7E-FFE2-42F9-9C41-0CB38ACC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9B7-DB4F-4C89-A92B-AF58FB60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9D7-C405-47D0-ADED-0BE4ED63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C8C-3965-47F5-B8BD-DED90901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274D-F725-4B1A-92E1-4D2E2D6B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898-A1BB-4C1F-984D-5EA509B6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C2EB-5E8A-47F2-85E1-3F4031EA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C7B6-901C-40A6-BAB7-36AB0AB3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BA6-7884-48BB-A4BF-F18060B0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5C64-AD34-4CDB-AE1E-3A5E9DC6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C0D-35F9-4AE7-82A0-36C78C2F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997-0311-4E82-B0D4-FE8AE7A5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F44C3-E8F8-4ACA-8930-100D8427BD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залишу вас сам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ід вас під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ятого Утішите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бесного 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ам навік зіш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 ти Його? Прийняв ти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я прийняв чи 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докорить світ з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до нас Дух Св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6   Я не залишу вас сам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Церкво Божа, час вста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 повноту прий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грішники по всіх місц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аялись в своїх гріхах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л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 ти Його? Прийняв ти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я прийняв чи 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докорить світ з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до нас Дух Св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и духовні в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Бога є для в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перед! Молімся з вір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наділить си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орні у кож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 ти Його? Прийняв ти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я прийняв чи 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докорить світ з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до нас Дух Св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до П’ятидесятни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іш, скоріш спіші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ятим життям усі живі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ещення Духом ми Свят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Бога всі просі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 ти Його? Прийняв ти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я прийняв чи 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докорить світ з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до нас Дух Св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8:43Z</dcterms:modified>
  <cp:revision>12</cp:revision>
  <dc:subject>Slavic hymnal Гимны веры христиан, Ukrainian hymn 86</dc:subject>
  <dc:title>Я не залишу вас самих</dc:title>
</cp:coreProperties>
</file>