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504-BB80-42AD-A486-C8924A41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47F-88D7-43C5-9800-5675E62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C14-FCA4-426D-8CCA-47497E4A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700-6B5A-4C25-A7EA-23A2F6A0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DD5-8B0A-4DEF-AB46-7A47770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821-4C72-4254-9C81-5FC71DC3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3F0-2A1C-493D-BB31-0710869C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420-28EA-4E69-8BD6-D64932F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1F1-24E7-4DDD-A6E1-D5276D8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FDB-3839-40EE-87AC-6396806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A3B-391E-4CDD-8E67-0D95DB4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CE1-656C-4482-A42F-A3692480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77E0D-239E-4EBD-B6A6-54A4EC5CEC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окое вздых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еры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был, что лишь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 Господо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ол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ь выше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тайн не пойм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не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ренье и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ло и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пишет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ценит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т Бог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ен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15Z</dcterms:modified>
  <cp:revision>12</cp:revision>
  <dc:subject>Slavic hymnal Гимны веры христиан, hymn 497</dc:subject>
  <dc:title>О покое вздыхал</dc:title>
</cp:coreProperties>
</file>