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65D8-3AEC-452D-A829-3E01595E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5EF-B019-4A83-9D7D-F62A525F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A83-54C0-48FD-A6CB-830BB611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8484-C302-40C5-8321-B8B0DAE6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F572-1295-463B-9A6B-42A7978D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234-E17C-4C48-AC14-1370322A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CD8-ABAC-4311-A31F-48CA8307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B09-2234-4697-8B91-B9FD6E94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6AA-2FE1-46E3-858C-FE4D2570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DDB4-C4F7-472F-9DEA-CCDC7FDA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71D-E2AD-4167-B596-E869C89C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852-326D-4189-8F35-4489C9E7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4703F-D4B5-47CF-B584-EA2BCE071B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ыльях могучих, орли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орем житейским нес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ыльях могучих, орли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вечности сердцем стрем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 и н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ыше я к небу ле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ут меня мощные кры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их я спокойно ст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крыльях могуч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мощными крыльями тих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но покоюся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ими приют мой надёж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ими защит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ьются враги над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целятся злобно в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 орлиные кры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ими царит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оюсь ли теми крыл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ли надёжно на 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но мне так и отра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итаниях долгих м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ь мне спокоен и яс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чивый путь через мир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ыльях я чувствую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ыльями царству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6:25Z</dcterms:modified>
  <cp:revision>12</cp:revision>
  <dc:subject>Slavic hymnal Гимны веры христиан, hymn 584</dc:subject>
  <dc:title>На крыльях могучих, орлиных</dc:title>
</cp:coreProperties>
</file>