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901-C291-4A7F-8A0C-86913C96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829-DBD1-414C-9D6F-6206DC9D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565-23DC-4019-8609-307CCD05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E49-C8A8-4761-8C96-AFE31729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E3E-E1A9-40A4-A424-8E6AC463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3AD-29AF-449E-AAA5-1B1DAA5F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623-F749-48D1-9455-2510DBDF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0F6-F952-4B4B-9F2A-92F91F9E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9B6-FDDC-4E62-A7EF-EE829949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6F2-D9DA-409E-BCA6-579E615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AB6-F85C-4302-92ED-9719DEA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9A8-8D93-412F-9E23-D8EC84C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DF806-690A-4144-A61A-A6C703CB5C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, бедный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л слово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 был преступ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лощён весь во гре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тебе ещё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ь благодатны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адывай на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раз ты,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рвать не раз реш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ти в мире сует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жизни обеспе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ь так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рко за тобой сл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ет и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умом твоим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властно у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и умом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боты сам вну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лечёт к делам мирс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друг мой, всё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мыслишь ты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г всё сам устро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ак решать ты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никогда ты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цели не достигн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я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ещё тебе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благодатны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адывай на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48Z</dcterms:modified>
  <cp:revision>12</cp:revision>
  <dc:subject>Slavic hymnal Гимны веры христиан, hymn 384</dc:subject>
  <dc:title>Сколько раз ты, бедный грешник</dc:title>
</cp:coreProperties>
</file>