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DD3-AF48-432B-929E-8AE41D59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390-4303-4156-B1C0-973126C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59B-AB20-4861-BACE-DBDF1D88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F32-13CB-4862-8373-168F409C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B0F-C27E-4524-AA92-C00B384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BAD-93C4-4B65-848C-BEE58702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D66-2229-477A-A64C-D6197F13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BC7-AADC-4D02-9CCD-4E359B1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A4F-843D-4744-AA7D-CD3FA82E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71A-5746-489C-94AB-0B6A116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D28-A1C3-4313-9A3C-35F503D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1F6-B181-4151-B2F2-2D6FAC4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E5775-5705-4B1A-A538-5FBE503134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13Z</dcterms:modified>
  <cp:revision>12</cp:revision>
  <dc:subject>Slavic hymnal Гимны веры христиан, hymn 740</dc:subject>
  <dc:title>Христос! Ты в Кане Галилейской</dc:title>
</cp:coreProperties>
</file>