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880-71B9-457F-8A51-74B099C0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DB8-5575-436A-8471-C55E9FB1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D56-15F5-4D41-A857-3F485DBF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A62-0B01-44B8-8A0B-9D68A4F4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BA7-FAD5-436D-97EC-BE9A7910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30A-C0E5-4BE2-8114-00106C1C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207-1B07-47E1-94C6-AC16279C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2B6-53BA-43CF-99FB-54449D98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EBCA-14CA-4E33-A6F1-B47C5EB2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262-3D0A-4F16-9CD1-EDAC721A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4BC-C443-4657-82DB-5AF79F36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348-300A-4D9C-8394-B516C8E5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07B7E-F958-4B53-A77A-25A5CBA152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ьих слов не пропуск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крывай от света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а не ожесточ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Божьих слов не пропуск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мир нас награ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ет отрад — он полн за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ни ж как христианин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хочет тех изг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Ним вступил в общенье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чет в них Свой труд на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9:46Z</dcterms:modified>
  <cp:revision>13</cp:revision>
  <dc:subject>Slavic hymnal Гимны веры христиан, hymn 367</dc:subject>
  <dc:title>О, Божьих слов не пропускай</dc:title>
</cp:coreProperties>
</file>