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66F-5B24-4850-AB79-BD716E2F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36D-7ADC-45C8-AE46-4B224B2D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B3F-EA6A-4027-954A-F52C98F7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FE7-DFB1-48CA-93A2-9F2A6EFA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E16-7F33-4B23-9798-E27CBB01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0AF-9BC5-40B1-AF5F-45AF645C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C55-247F-4713-B901-C862A8AD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D00-3D02-479D-AB12-41B6519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62C-1194-4844-A495-0AAB4182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527-01C8-4528-B6D8-49121F5C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BB8-9B5F-4C42-A125-1D327D13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DE6-9951-4097-BD65-47D52E75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8CCE5-6CF3-4349-8F4D-02A038208A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о любв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арах людским сы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тчизне светлой,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л место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те о любв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ветров, бурь, дож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ей мир остав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и вздохов, н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и усерд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вёрды, как гран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г один Его я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руды воз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к цели! Прочь заб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ведёт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емчуж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улиц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2:10Z</dcterms:modified>
  <cp:revision>12</cp:revision>
  <dc:subject>Slavic hymnal Гимны веры христиан, hymn 889</dc:subject>
  <dc:title>Пойте о любви Христовой</dc:title>
</cp:coreProperties>
</file>