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C91-9BFA-4B78-9E1C-8181116D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9E9-8D41-4D54-9643-0C4CEA1A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C3D-E4C4-4BD6-9471-DDE2C0AB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83E-9E45-4EDC-979F-9D526EDB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706-7277-49B3-B13C-4E762FF9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CE3-373B-4514-BEE6-65045707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A90-3A2C-467D-BEC9-053156D0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20A-1388-4589-A623-7C4C2435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F8C-6402-4935-8C14-FC9319A6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A91-6F19-46A5-8A27-08533F13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F3C-AA37-40D0-9E06-5FBB368C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C58-8BED-4704-802F-88FB698A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1C332-2090-44E5-A72D-CBEE8D137D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hark, my so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ic songs are swe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arth’s green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cean’s wave-beat sh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нимай, душ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, ду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х хоров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рем и землё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comes at leng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life be long and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must da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rksome night be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жизни крут и мрач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ходит солнц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мней, темн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’s journeys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elcome to th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ven, the hear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home, will come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труд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достная встр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льше не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, s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faithful watches keep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us sweet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song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же верно ст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песни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псалм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orning’s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end the night of wee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’s long sha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k in cloudles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уб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лавным днём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мертвящей ть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blessèd strains are 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new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in shall b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о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 успоко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ды и тьмы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we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till we hear them s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weary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bids you come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я чудным зву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,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the dar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echoes sweetly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usic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ospel leads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шь скорб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мрачит разлука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б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,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bells at evening pea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voice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s o’er land and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из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ий звон 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и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ат в тиши ноч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den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ousands meekly stea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d Shepherd, 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eary steps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брый пасты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 чрез тер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юдям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31:07Z</dcterms:modified>
  <cp:revision>13</cp:revision>
  <dc:subject>Slavic hymnal Гимны веры христиан, hymn 615</dc:subject>
  <dc:title>Hark, Hark, My Soul! / Внимай, душа! небесных хоров пенье</dc:title>
</cp:coreProperties>
</file>