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62</a:t>
            </a:r>
            <a:r>
              <a:rPr b="1" lang="ru-RU" sz="3600" spc="-1" strike="noStrike">
                <a:solidFill>
                  <a:srgbClr val="ffffff"/>
                </a:solidFill>
                <a:latin typeface="Verdana"/>
              </a:rPr>
              <a:t>	</a:t>
            </a:r>
            <a:r>
              <a:rPr b="1" lang="ru-RU" sz="3600" spc="-1" strike="noStrike">
                <a:solidFill>
                  <a:srgbClr val="ffffff"/>
                </a:solidFill>
                <a:latin typeface="Verdana"/>
              </a:rPr>
              <a:t>Решил идти я за Иисусом</a:t>
            </a:r>
            <a:endParaRPr b="0" lang="en-US" sz="3600" spc="-1" strike="noStrike">
              <a:solidFill>
                <a:srgbClr val="000000"/>
              </a:solidFill>
              <a:latin typeface="Verdana"/>
            </a:endParaRPr>
          </a:p>
        </p:txBody>
      </p:sp>
      <p:sp>
        <p:nvSpPr>
          <p:cNvPr id="39" name=""/>
          <p:cNvSpPr/>
          <p:nvPr/>
        </p:nvSpPr>
        <p:spPr>
          <a:xfrm>
            <a:off x="53964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Решил идти я за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ешил идти я за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ешил идти я за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р не вернусь, в мир не верну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есь мир за мною, крест предо 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ь мир за мною, крест предо 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ь мир за мною, крест предо 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не сверну с того пут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Дай мне победу, Христо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мне победу, Христо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мне победу, Христо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не свернуть с того пу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А ты пойдёшь ли за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ты пойдёшь ли за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ты пойдёшь ли за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не свернуть с того пути?</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3:59:29Z</dcterms:modified>
  <cp:revision>4</cp:revision>
  <dc:subject>Slavic hymnal Гимны веры христиан, chorus 62</dc:subject>
  <dc:title>Решил идти я за Иисусом</dc:title>
</cp:coreProperties>
</file>