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FAF-7422-48FD-9D96-1C9F1E63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B02-8CB9-4632-8114-82C71234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820-0569-419F-A49F-41BD3481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5E3-18EF-4DB1-A8C1-56C2E3A1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8721-41F8-4905-9991-34BB13C7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0927-BE3F-45AF-8BFF-7F4434EF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EAD-B323-46BD-9467-CD87B0A3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B57-39FA-47B0-94D7-FBF90668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D47-1532-448D-B532-4D5E5C9B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FA6-7FE3-4462-8220-C04EDEC2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E33-83AC-43CB-867A-6B619874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EAB-9A61-40D6-8D52-EB19C037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E4E8E-1E5C-458B-9006-32CB78B4A0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reated us in your lik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n honour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tand and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and who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compare with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49   Who Is There Like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reated us for Your pl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appointe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Your ver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and who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compare with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46Z</dcterms:modified>
  <cp:revision>12</cp:revision>
  <dc:subject>The Source 4, song number 2149</dc:subject>
  <dc:title>Who Is There Like You?</dc:title>
</cp:coreProperties>
</file>