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0D51-1AAB-4F3C-907A-DB81C505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D4C4-B290-4701-B212-E8F69C95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6BBE-36FD-406E-AE8B-B3BE2525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3011-F7C6-4B94-AA21-A97160CC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16A-1B9B-4732-A86E-0C2C160F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7CCB-07B4-4E66-BDEB-B49CAC2C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D1B6-5145-4B25-BCD2-2898EBEF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BD6-D125-47A6-A665-A466C129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E42-5962-4A28-B48D-C5FAAFDA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AF0-AB26-43C0-ABE4-6615CDC9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FBA6-6DD6-4B00-A560-D4BC4D20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97D9-84ED-4DAE-86B9-C61AB3FA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F774F-4119-4402-BCBE-4AD0EB6D9C3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ём твои очи слезами пол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ём твоё сердце дрожит без в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ний и горя ты много вку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петь и бороться не чувствуешь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ало надежды, так много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ало ты веришь, что милостив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мни: Господь не оставит С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ими во всех испытаньях зем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чём твои о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иреньи пади перед Богом жи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 твои страхи развеет, как д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лечит недуги, прогонит печа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воги умчатся в безвестную да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5:28Z</dcterms:modified>
  <cp:revision>12</cp:revision>
  <dc:subject>Slavic hymnal Гимны веры христиан, hymn 710</dc:subject>
  <dc:title>О чём твои очи слезами полны?</dc:title>
</cp:coreProperties>
</file>