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23A-6AD1-465E-97B2-C598D8D6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F66-D623-4746-865C-5188EE9A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A78-F0E9-4725-BE90-868B5289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429-37E3-4073-A226-A0D61F16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18B-B583-4689-8E0B-44380553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EC0-ECED-4DBF-B85E-38499D9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DCA-ED3E-4128-9129-01DF615D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82A-2059-497B-B637-CCD68736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EF3-FEBF-4F68-8D9A-84CB9399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36F-8059-460D-B0D2-D5B8D2B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CD0-7BE0-47A5-BC73-B3A2EB8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65C-4B4E-4F1D-B4DD-209A83C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7B8A7-E82C-4E78-A314-FB6B834956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яет на мне лицо Тво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на мне лицо Твоё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меня и вверх вознёс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в Тебе найд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ие, надежды луч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47:10Z</dcterms:modified>
  <cp:revision>12</cp:revision>
  <dc:subject>The Source, song number 604 in Russian</dc:subject>
  <dc:title>Сияет на мне лицо Твоё (Это знает душа моя) / You Make Your Face to Shine on Me (And That My Soul Knows Very Well)</dc:title>
</cp:coreProperties>
</file>