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163-8E6E-4561-9E75-00F0FCB5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4C6-65F3-4042-8C6D-46609CF3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1E9-FE1E-49A4-8B3F-18A92DCC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6DC-0A06-4ABE-9352-310C7BDA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DC9-7DA3-4EA6-B736-AB814AE3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B2F-0180-4FB2-82DE-EB9B0F69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6CD-9A90-44A1-9B95-E6782B2C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2D3-B880-4C0C-84F7-4A6B0B78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C6B-91BC-4FAE-AADF-D7E4E2DF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AC9-F24D-4EC4-88FE-F8144763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B75D-3828-486E-9D8D-E3B2F871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E9A-4038-4859-83EA-99E96B6D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3F858-3778-44B1-9FC6-1A6D824C28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the mountains and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river runs with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open up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the Healer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appy to be in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daily lift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will always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love cam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2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ver the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the mountains and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river runs with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open up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the Healer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appy to be in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daily lift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will always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love cam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I feel like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foolishness,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when the world has see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will dance with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we’re dancing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9:07Z</dcterms:modified>
  <cp:revision>9</cp:revision>
  <dc:subject>The Source, song number 421</dc:subject>
  <dc:title>Over the Mountains and the Sea (I Could Sing of Your Love For Ever)</dc:title>
</cp:coreProperties>
</file>