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3242-8C90-43F2-B1B8-5016A54A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AE54-AB55-4F38-96E0-A5118FA5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2EBE-C987-4B9C-A4FA-2D26BA95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A1E1-10AC-4C50-9A15-46ACFCDE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3431-CD6E-4636-8CE0-028A074C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77B-1B1D-4B09-916D-A3223CDC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7DC3-AFB1-434F-8347-606E4B0F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4DCB-7919-49FC-ADE2-CAC37B5D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0727-DFAC-45E0-899C-682E0A26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01D4-7DD6-4E60-B8BB-536DA455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14D0-EA1C-4C90-A670-3FC33C1A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CE5-CBFB-4F0B-B8BF-4501ACAA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C6263-FF0B-433A-AAAB-A296A40DA9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’twill be, what joy ’twill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ouls from sin set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life on earth will all be p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’ll be home at l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1   О, радість, радість бу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радість, радість буде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земний залишим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м в Божий 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realms of everlasting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will be nothing to ann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here we still must burdens b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we’ll have up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те, стомлені, сум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Є вічні радості кра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тяжко, журно в світі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те спасіння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p there, be up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redeem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там, раді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gathered in a coun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 and voice will raise their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m we will the sound pro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will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яйві сонм святих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них хвала Христу зв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співати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клич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ree of life will ever b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of life for us will c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gone our mansions to prepar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lory we will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сте там дерево ж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ам побачим м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оміннях слави не зем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ийме там Свої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p there, be up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redeem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там, раді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gathered in a coun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 and voice will raise their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m we will the sound pro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will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яйві сонм святих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них хвала Христу зв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співати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клич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Word does say there’s just on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leads through heaven’s da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don’t chose the onl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ll face an awful f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Шляхом вузьким нам треба 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в небеса прий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ж по ньому не п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край вічних мук при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hoose Christ, the onl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ears may often mar your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aints in glory you will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o our God and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ж зійдем на шлях ву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живемо час тяж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, в небесах перед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емо в рідний д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p there, be up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redeem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там, раді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gathered in a coun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 and voice will raise their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m we will the sound pro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will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яйві сонм святих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них хвала Христу зв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співати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клич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conquered death and banished f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v’n He’s led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reappearance can be near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a glorious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воскрес і щезнув ж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, ось, в величн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чудових, світлих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иглядає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9:31Z</dcterms:modified>
  <cp:revision>13</cp:revision>
  <dc:subject>Slavic hymnal Гимны веры христиан, Ukrainian hymn 31</dc:subject>
  <dc:title>What Joy ’Twill Be! / О, радість, радість буде там</dc:title>
</cp:coreProperties>
</file>