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896-C520-484B-AF4A-C71326EC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3AC-B19E-49DD-AEE1-89C25B2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A6E-B45D-4E07-9A36-68D35C01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72F-89FC-45B5-B9C0-D3A292F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0F5-9CDF-4749-A8DC-4B5ACB6F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848-C0B1-4AB5-9B8B-BAA0D165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6E4-16FB-4636-A74C-AA3DDC0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AD5-EB29-4CD9-BB33-D88A863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3BB-E164-4533-8C31-4063CC66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825-40CF-4BF5-95AC-9D62729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18A-D74B-4D11-AAEC-43B1AC99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5A0-DA47-4D54-9E23-D24E2C8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F9A1A-C8D7-45C7-85DB-6C0D7ECD57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e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to men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,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8:28Z</dcterms:modified>
  <cp:revision>13</cp:revision>
  <dc:subject>Slavic hymnal Гимны веры христиан, hymn 239</dc:subject>
  <dc:title>O Little Town of Bethlehem / О, малый город Вифлеем</dc:title>
</cp:coreProperties>
</file>