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EEF-2D2D-4821-89C2-6458B03A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213-48B0-44EC-B23A-DF672ED4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37B-18CF-4694-8270-07BB86AE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4A1-8A6F-408B-AA8A-C7A941F9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5E6-48EB-47D2-B930-170E985A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8DC-5955-49CF-BF9C-78852E3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DC9-E79F-4516-A117-7FF3193A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ED1-AEE0-48E3-AF17-976A3099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0C2-9F89-4154-8FB9-7ADB03E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B0A-0357-40D9-8C0F-46BEBDA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B9C-0752-4224-99A9-315FBF7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6B5-82C1-4CAD-B39E-69B0A56A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0B95B-4FD2-4531-9B9B-55DAF9ED5A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people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sons and daugh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s of proph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dreams and vi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 the secret of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our faith is r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heaven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74   Lord, Pour Out Your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nations of the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se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fall in rev’rent a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ighty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ke the heavens and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world i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creatio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24Z</dcterms:modified>
  <cp:revision>12</cp:revision>
  <dc:subject>The Source 4, song number 1974</dc:subject>
  <dc:title>Lord, Pour Out Your Spirit (Great Awakening)</dc:title>
</cp:coreProperties>
</file>