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AB69-AF35-492B-B115-A66126B4D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A439-F857-4E60-A210-01BE56B3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E1FC-86AC-4870-B591-75A23E66F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FD34-039A-49E1-A383-574B9E5D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4FE2-7234-4803-A73C-DE6117CF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99CF-3674-4CA0-AD44-0E65A3B4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D03F-9DE3-45CD-BDF1-B65F23A2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C313-BC74-48EE-B54A-EC7F0650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C323-8946-4B10-A152-2E8958C9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8E83-327D-4D5D-A715-B28885EB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7CB4-0706-45E2-A3D7-A4160649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A2EC-1509-4350-AD23-EA98B658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BF6DE-F66B-4BBE-9F5C-662E74010AA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хая ночь, дивная н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емлет всё, лишь не сп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лагоговеньи, святая Че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м Младенцем полны их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в душе их г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в душе их г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ихая ноч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хая ночь, дивная н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с с небес возвест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Радуйтесь, ныне родился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спасение всем Он принё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ыше вас Свет посе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ыше вас Свет посетил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хая ночь, дивная н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у нас Бог при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 откроются наши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 прославят Его все у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Спасителя д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Спасителя д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20:23Z</dcterms:modified>
  <cp:revision>13</cp:revision>
  <dc:subject>Slavic hymnal Гимны веры христиан, hymn 244</dc:subject>
  <dc:title>Тихая ночь</dc:title>
</cp:coreProperties>
</file>