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F35-F400-433E-B265-E4938C21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641-0B85-4919-B371-F6E5869E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8C2-8FF8-4D73-8DF4-C77A1A61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765-1F7C-49B2-97ED-D4602467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5ED-9A33-46EF-A00F-9312689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74D-2636-4D09-9933-9D1E443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02D-1345-49F6-A79B-381480F6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E6E-CADE-44DF-A7A7-D0C07189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5E7-EB4D-44C7-AD72-633DB0C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F7B-443F-45B1-A77D-A88C11DB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21A-8C7F-4476-8F73-40B3477B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D78-C472-40B6-B9EE-1167042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6BFB-9DA2-42A0-BC1F-B54EAF4C5A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51Z</dcterms:modified>
  <cp:revision>12</cp:revision>
  <dc:subject>Slavic hymnal Гимны веры христиан, hymn 745</dc:subject>
  <dc:title>Бог с тобой, доколе свидимся</dc:title>
</cp:coreProperties>
</file>