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742-C608-455A-9AC2-B111C035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FA0-35DD-4C94-A204-54E7431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AC1-B5CA-444E-92FE-B7B1BDAC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04A-4549-4231-B4C1-C3A8DF4A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82C-382F-4278-8C50-3B21C8EC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4C2-3F04-4B18-A731-666BA79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FCF-14CA-4781-8AFD-CFDE797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2C9-C603-4122-B412-01FD04A5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D79-B074-4E2C-8C57-66AB94C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6B0-E4BF-4EE3-8433-FD73E8E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2C7-BA8B-4831-A9BF-F34F881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9F9-31E8-4B4A-98BA-C983BC1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F1C0D-D22F-49AC-ABBA-2CED44DFEC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7:08Z</dcterms:modified>
  <cp:revision>13</cp:revision>
  <dc:subject>Slavic hymnal Гимны веры христиан, hymn 866</dc:subject>
  <dc:title>Христос — основа Церкви</dc:title>
</cp:coreProperties>
</file>