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F2DB-49E9-40EF-9366-F9E5CBB9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13AC-16D7-452E-B735-9F55FCCE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C6E-D6FF-4FB5-8E6C-30F0D5CB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1BF-46FC-4191-A12D-C4598BB0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E11A-95C8-4C91-AE2C-E3EFFE76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392-902A-4FF2-BE75-E500BF40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223-5868-4DFE-BF9F-72D19F96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37D7-FF37-43AF-A862-9535BA2E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24E-15AD-41E6-8B26-F830DA05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2700-6F5C-47FA-B633-40683D26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776-7FE5-4EBD-8528-37ECD170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DAF-4730-45D9-8240-F62AB5D7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45AC8-BE06-4FF7-A431-EA1C4ACD55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ithful One, so uncha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geless One, You’re my rock of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all, I depend o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ll out to You again and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ll out to You again and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rock in times of trou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me up when I fall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rough the st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is the anch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ope is in You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9   Faithful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4-04-12T09:10:20Z</dcterms:modified>
  <cp:revision>10</cp:revision>
  <dc:subject>The Source, song number 89</dc:subject>
  <dc:title>Faithful One</dc:title>
</cp:coreProperties>
</file>