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CAE-EEB1-4281-A86E-19D26B95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148-0490-47B3-BC13-8B413D7D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304-2954-4305-A9B4-75E66D54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664-C396-4A08-A541-E2640F96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AD6-6574-4BBA-8E82-F4CB88C9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1C8-C997-4031-813A-567B255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77F-2AA6-4FB8-A500-4B875FCA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F44-9584-40DE-871C-BF84372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C15-9658-4C56-A723-C27CC938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840-C7B6-4824-B736-4C83041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94E-7705-4E49-A44D-BBB5B5D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5B7-1F4F-42C5-B400-0C1DC4C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8E095-1A9B-4568-93EF-9EAA61900A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mercy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sinners reconcil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all ye nation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the triumph of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gelic hos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born in Bethleh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by highest heav’n ad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everlasting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te in time behold Hi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spring of a virgin’s w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iled in flesh the Godhea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’ incarnate De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d as man with men to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our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heav’n born Prince of Pe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Sun of Righteous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ife to all H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’n with healing in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ld He lays His glory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at man no more may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raise the son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give them second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23Z</dcterms:modified>
  <cp:revision>18</cp:revision>
  <dc:subject>Slavic hymnal Гимны веры христиан, hymn 227</dc:subject>
  <dc:title>Hark! The Herald Angels Sing / Вести ангельской внемли</dc:title>
</cp:coreProperties>
</file>