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12E-CAE6-48D1-B40B-FA91D8C2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8DF-9781-4FDD-A5DD-1EB22F5D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B1F-F9CA-45C4-BA14-FD16A728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2BF-AF3B-4629-B23E-47FF67D1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B85-578A-4339-8F65-B56A55C8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70E-C906-4777-BAE5-EE8EAF25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721-94DF-44A9-94FB-F0FF074B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715-F7D6-421C-BF47-846C29BB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C2F-C60B-4254-BDFC-5157F9D0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DD8-35B6-4F3A-8878-CBB64F98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795-D191-4715-B677-50904D99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33E-8FE9-4416-AD77-491A15CE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E1552-0311-44D0-976C-85BF28BCC6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’twill be, what joy ’t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ouls from sin set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life on earth will all be 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’ll be home at l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х, радость, радость буд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радость, радость будет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м серд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жизнь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м там в 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realms of everlasting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ill be nothing to ann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here we still must burdens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we’ll have up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верьте, робки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вечной радости кр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ко, грустно в мир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о спасенье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ee of life will ever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of life for us will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gone our mansions to prepar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y we will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дерево с пл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Спасителем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н, избавивший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ит в любви Св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rd does say there’s just 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leads through heaven’s da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don’t chose the onl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ll face an awful f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а узкая 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енью нам д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ею не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мы умр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hoose Christ, the onl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ears may often mar your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aints in glory you will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our God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уть узкий избер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хоть мы слёзы здесь проль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м в блаженстве вос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юбящим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conquered death and banished f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v’n He’s led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reappearance can be near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a glorious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, рассеяв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в вели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чистых, светлы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варяе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5:37Z</dcterms:modified>
  <cp:revision>13</cp:revision>
  <dc:subject>Slavic hymnal Гимны веры христиан, hymn 661</dc:subject>
  <dc:title>What Joy ’Twill Be! / Ах, радость, радость будет там</dc:title>
</cp:coreProperties>
</file>