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C32-7F68-44AA-9653-3BE02B17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6916-8A76-4E50-91E1-1253F2C3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B717-8ECD-4C38-A732-1889C73F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1266-730C-44E3-A71A-77625FB6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F357-8165-4534-B20C-3A60D47E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97E4-9BE1-479F-8D18-217D9CBA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7E3-C538-4C1B-BFDE-25DDE1CA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C5D6-B919-435E-B94C-7875659D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EBCA-3F25-4C9D-9C1B-73B07AF9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B02E-14CE-416A-B76F-1F43EE9C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85CC-A74D-4249-841B-83C7D852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40D8-96B8-44AA-89FB-84FEA32A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D2667-E84C-4AC7-B650-9C6EAC0591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make me lie down in green pastu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make me wanting for noth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fill my hu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oney from Your sweet, sweet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671   Водишь к лугам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ишь к лугам Ты зелё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боюсь зла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, как мё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толил мой голод, дал мн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let me worship bef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I can love and ador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my Shephe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my Jesus, You are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едстою пред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сней любви, с хвал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Ты мой Пасты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Иисус, Ты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7:28:16Z</dcterms:modified>
  <cp:revision>9</cp:revision>
  <dc:subject>The Source 3, song number 1671 in Russian</dc:subject>
  <dc:title>Водишь к лугам Ты зелёным / You Make Me Lie Down in Green Pastures</dc:title>
</cp:coreProperties>
</file>