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09910-8663-4E77-9BE8-C1E5E9C39B7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679CE-D503-4371-B08A-576B6CDDDBA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2417D-0368-484B-AD09-830CE37965B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922A4-9F30-4210-80AC-5C6C6AF0A72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3E3EB-B188-40FA-8548-8EBC191AAA7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D0E32-AF40-4CB6-95B9-3603BD64968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0766B-02F4-4DE8-B1B1-16A7D5ECFEA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85E97-F91F-493B-8EB3-EDCBED02E85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8B602-06AB-4CC6-A269-C6A5E5A6D1C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5B1-6FB2-4E94-BFCD-6BF6C965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080-1632-4645-8897-BCFA78F8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7EA-C252-488C-A3AE-E618C7D3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68A-17EC-4CCF-A306-A1C735F0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0F8-EAF5-468B-94FF-4289F494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ED9-9E70-4507-85F3-768CB6B1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06C-DB77-4542-8A18-74E3332F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3E2-8D08-48EF-B01E-8AA2E788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FF8-D2A5-4287-A9E9-AE3F151B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FDB-FAED-42BB-8471-B35DED1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EC5-30C4-4B3B-AD60-C969FA84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49D-882E-45D5-8BA6-DCCAD68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24748-F974-43DC-B1CC-1A417A5212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, no 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o sin and s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o wear the brow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войд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ж скорей, пора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ся, грех и гор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eary feet awaits a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ondrous pave and gol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arts that ache, the angels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ory, sweet and ol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ет нам отрадн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ина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небес среди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 восторг вл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who sleep, and those who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e portals n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nsions rise beyond the skie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ной борьбе наш щит —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— сила и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Отцом нам веч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дём мы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joyful song! Oh, ransomed th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in no more shall s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King to see, and, oh,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m at hom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чный дом! В тебе 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тревог не зн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тот, кто в дом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там ожид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1-10T19:22:34Z</dcterms:modified>
  <cp:revision>13</cp:revision>
  <dc:subject>Slavic hymnal Гимны веры христиан, hymn 668</dc:subject>
  <dc:title>We’re Going Home Tomorrow / Мы все войдём в Отцовский дом</dc:title>
</cp:coreProperties>
</file>