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4D6-137D-4BC1-9F51-6936F633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ABF-44F0-4DC4-AC63-B0CAEE24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9E1-E1E3-4826-ACDB-556F7F61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D35-1E3A-4FBD-8F9F-E0379C0E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BF9-9A00-4284-93AA-40EF8F8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BC0-278D-4ADE-A20C-B1F95D25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B78-5DA1-40AE-B37C-4FF525A8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346-5D52-4FC3-88BC-AA2A7BE2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3B9-425F-47A3-AFAD-CEE44677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526-8871-43B6-9265-5B84A33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17F-DB43-4A9F-B2B3-7472D1D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092-9002-4411-AEAC-65B0637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A248F-8340-4623-A4C2-7E6114A716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гріхи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, що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0   Він обм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48Z</dcterms:modified>
  <cp:revision>12</cp:revision>
  <dc:subject>Slavic hymnal Гимны веры христиан, Ukrainian hymn 100</dc:subject>
  <dc:title>Він обмив</dc:title>
</cp:coreProperties>
</file>