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484C-BB44-4349-A1D9-220528D3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5AEC-2E5E-4DB6-8F0E-D9E47979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9320-981C-4E03-BADD-B01ED685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8B58-32CE-4A13-BFA2-3CB302C8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52F6-405F-45C1-8050-7906552D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F453-209E-4EE3-B2DE-EBEE44C5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FAC0-9D7E-44D5-AC73-1400A898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2D27-12E4-43BA-926C-134B452C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17D-F949-4301-896E-1173D884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05D7-27EE-420C-BBCF-3471F12B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D474-4D67-4D7C-A26C-44809FF0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A956-2C15-4446-9DB3-BA41DC03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F580B-9F5C-48C5-974E-89015A3225C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ait, we’re not in a hur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we need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ait, all our cares and wor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ay aside for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how we long to see Your f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how we long for Your emb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99   We W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ait, we’re not afraid to tar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yearn fo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ait, for Your mighty 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arry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presence,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we fill this house with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holy fire fill this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ait, we wait, we wait, we wa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3:47Z</dcterms:modified>
  <cp:revision>13</cp:revision>
  <dc:subject>The Source 3, song number 1599</dc:subject>
  <dc:title>We Wait</dc:title>
</cp:coreProperties>
</file>