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BCF-BD35-4A0E-B675-44D46CC0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EE1-A803-4D0B-90B8-1069A75B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956-8DB2-4452-8BD4-8C8B1537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29F-B680-42EF-A62B-2EEA6086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59A-1353-419F-BC01-5CF29082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A41-2386-4055-AF43-CB8DC77E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159-8D33-4F55-8A7B-DEC69C14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DD1-5F83-4CC7-8E8F-31CA7C09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484-2AC7-43E7-9FD6-66A99983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678-ECEB-4FC7-B26A-57C7F675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85C-4051-4480-A976-0BCE913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95F-6A5D-4719-A3B5-041503E5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BE39C-0EC9-48F0-9472-C947E5583C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абуду детск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атер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чинял не мало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ей 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ушла… хотел б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её рук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забуду детски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оевольничал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был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ня всех моих про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спешила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е трудности м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ла попол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удный сын, покину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ёл я в край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ную мать покрыл сты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чем и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ила к Богу день и н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не открылся 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жды весть ко мне приш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ть при смерти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домой, пока ж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 слезу с лан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л ей слово верным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3:45Z</dcterms:modified>
  <cp:revision>12</cp:revision>
  <dc:subject>Slavic hymnal Гимны веры христиан, hymn 803</dc:subject>
  <dc:title>Я не забуду детских лет</dc:title>
</cp:coreProperties>
</file>