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B824-AD31-4CB0-9C57-0E12A5BD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C9C-C3FB-4064-9202-0AA49933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A5D-48AC-49A8-A5B7-2790B7FF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A3D-B1D4-485D-94DE-ED6CEC4B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506-18EF-4C23-95C0-C511736D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1F7-BAF9-40CD-AAC6-ABFA1349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DCB-395B-44AE-923C-B319BCF4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396-4A03-4BC5-94D7-359D9016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BF6-FDCD-4F43-93B0-C99E6AAA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76F8-9AB4-4AB6-9BBB-E8EC44E4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B22-CD67-4E92-9F5E-B79CE8D5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7197-7251-43F9-A5E7-A8D3D1A2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AB342-7CCC-4133-9C13-E75F6493DC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йно шеству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 битву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ярким знаме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ружьем и щи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Аг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я над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ойно шеству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все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рянь, песня, Богу м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буде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многие примк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туда, где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й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пес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ривлек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меряя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им стр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ступить с вра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алым надо в 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льше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 вражьей сторо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все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рянь, песня, Богу м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буде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многие примк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туда, где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й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пес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ривлек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к нам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х руков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ом нас Сво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бещал хра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нас ни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устраш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все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рянь, песня, Богу м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буде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многие примк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туда, где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й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пес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ривлек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лаве мы неб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высокой ч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аны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енец терн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е с Ним не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все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рянь, песня, Богу м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буде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многие примк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туда, где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й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пес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ривлек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5:19Z</dcterms:modified>
  <cp:revision>13</cp:revision>
  <dc:subject>Slavic hymnal Гимны веры христиан, hymn 542</dc:subject>
  <dc:title>Стройно шествуем</dc:title>
</cp:coreProperties>
</file>