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849-7CDC-4410-893C-56827910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F58-4BC0-499F-ACFD-F5006A2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EE6-6D31-4AEC-9305-C0CBE5B6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3A7-79F1-4A9F-8A99-263FE522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131-60AA-4DE4-AE5C-BF737B42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A58-F515-4BE8-A44B-C96CC8A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6E1-9F61-4DA0-B415-03EB1EA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505-DE5A-4365-97DB-7DA8B043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66D-4EDE-42F1-8F36-F74F6A1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534-1667-4BCD-BC3C-9679B2E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A5D-AB89-4040-8999-59F9A79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BF0-B65B-4250-A22A-68F35C2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545C5-D496-4EEB-90CB-2AE4E2955E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ьнут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23Z</dcterms:modified>
  <cp:revision>14</cp:revision>
  <dc:subject>Slavic hymnal Гимны веры христиан, hymn 631</dc:subject>
  <dc:title>Да, везде с Иисусом безопасен я</dc:title>
</cp:coreProperties>
</file>