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3B5-C2C4-455A-A04C-028CA260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18A-40FC-495B-A016-47E3C877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0FE-A60F-4098-812D-7A1FD982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84F-703D-4F6D-94D0-F6687B20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B4F-BD5B-45B7-BFED-C5F6DB30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194-26CC-4904-88BC-761E07AC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599-7201-4E91-9A98-768CF174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ABD-30E3-4362-AFE0-AB0AE993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E7D-10F8-4C4C-8E6D-C770389A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9EC-9CB4-42A9-8532-717FC06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952-D81D-43F9-883E-09E838D8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A45-FD67-42FC-A13A-8B0293EB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7A022-5C66-473C-8055-09444A8C70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мира, счастья,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ир не род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душа чуж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дом мой и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ся дух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к неб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ял свой вз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много близких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 в мире до сих 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ок здесь бой, дни тяж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но мне в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 среди греховной м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льческой суд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ёк, не да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й борьбе кон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песен я по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борц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го глаз смертны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ыслях не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я слухом не слых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13Z</dcterms:modified>
  <cp:revision>12</cp:revision>
  <dc:subject>Slavic hymnal Гимны веры христиан, hymn 688</dc:subject>
  <dc:title>В край родной</dc:title>
</cp:coreProperties>
</file>