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070-82BB-481E-84B1-B71AD1E4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F14-194A-4F63-B4D7-DBF2DE4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672-E371-426F-BA37-B4579E12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E8A-FF67-463E-A0A0-34A564A8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7B3-1D4B-47EE-A7F3-1D35906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889-4123-400F-AB81-10073D10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C68-2966-46A6-97F2-789D046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892-D41F-4A35-A42A-15A7B87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583-BF70-403E-A98D-35BA8AE0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D06-2D16-4274-B60A-BE2E8BA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29F-2789-45B5-AA79-9DA83FD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2CE-35FF-4DD5-87AB-854A0E4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6059-DABE-448C-8E5D-46DD2FF7B4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s we come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o receive the food of Your holy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ake Your truth, plant it deep in u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hape and fashion us in Your like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the light of Christ might be seen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our acts of love and our deeds of fai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fulfil i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ll Your purposes, for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48   Speak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ach us, Lord, full obedie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oly reverence, true hum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st our thoughts and our at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the radiance of Your pu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faith to ri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eyes to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Your majestic love and auth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Words of pow’r that can never fai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Let their truth prevail over unbelie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renew our min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elp us grasp the he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of Your plans for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ruths unchanged from the dawn of tim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will echo down through eter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grace we’ll stand on Your promi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faith we’ll walk as You walk with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till Your Church i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the earth is filled with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04T06:24:27Z</dcterms:modified>
  <cp:revision>13</cp:revision>
  <dc:subject>The Source 4, song number 2048</dc:subject>
  <dc:title>Speak, O Lord</dc:title>
</cp:coreProperties>
</file>