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936000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28</a:t>
            </a:r>
            <a:r>
              <a:rPr b="1" lang="ru-RU" sz="3600" spc="-1" strike="noStrike">
                <a:solidFill>
                  <a:srgbClr val="ffffff"/>
                </a:solidFill>
                <a:latin typeface="Verdana"/>
              </a:rPr>
              <a:t>	</a:t>
            </a:r>
            <a:r>
              <a:rPr b="1" lang="ru-RU" sz="3600" spc="-1" strike="noStrike">
                <a:solidFill>
                  <a:srgbClr val="ffffff"/>
                </a:solidFill>
                <a:latin typeface="Verdana"/>
              </a:rPr>
              <a:t>Я жажду петь во всякий час</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Я жажду петь во всякий ч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ечаль и слёзы, проч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ристос мой Друг, меня Он сп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о мной Он день и ноч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йте, пойте, пойте песнь Ем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йте, пойте, пойте песнь Ему!</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Я плакал в день, как увид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за вину м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ристос в страданьи умир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еперь же я п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йте, пойте, пойте песнь Ем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йте, пойте, пойте песнь Ему!</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Когда тяжёл греха иску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ю я: «Мой Иису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оть слёзы близки иногд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я пою всегд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йте, пойте, пойте песнь Ем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йте, пойте, пойте песнь Ему!</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Я буду всем повествова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Господе моё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ка не станет воспева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сь грешный мир о Нё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йте, пойте, пойте песнь Ем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йте, пойте, пойте песнь Ему!</a:t>
            </a:r>
            <a:endParaRPr b="0" lang="en-US" sz="3200" spc="-1" strike="noStrike">
              <a:solidFill>
                <a:srgbClr val="000000"/>
              </a:solidFill>
              <a:latin typeface="Verdana"/>
            </a:endParaRPr>
          </a:p>
        </p:txBody>
      </p:sp>
      <p:sp>
        <p:nvSpPr>
          <p:cNvPr id="43"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3T08:38:37Z</dcterms:modified>
  <cp:revision>3</cp:revision>
  <dc:subject>Slavic hymnal Гимны веры христиан, hymn 128</dc:subject>
  <dc:title>Я жажду петь во всякий час</dc:title>
</cp:coreProperties>
</file>