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DC5-43D4-48FB-8920-5ED6F8A7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681-3205-4EBE-8D96-25D49F7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1A7-4DF2-45BD-97EA-EA543D3A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8E8-00A5-4838-8C53-9A66133C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C8E-F20E-4088-9A6C-F1C8AF9B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E20-44F0-45FA-B767-A2E7AB9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6D2-68DD-447F-8E5E-732FF26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096-21BA-4CA3-9D94-71BDCB09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CDC-908C-47DB-89B3-9B2E034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CDD-8B24-4C34-BCDC-7B49CD2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E1B-63F0-476A-8F29-38097D9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0AA-1286-4543-81B9-7907BAD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9549-6F93-4B9E-BB6F-7926E9C477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7:03Z</dcterms:modified>
  <cp:revision>13</cp:revision>
  <dc:subject>Slavic hymnal Гимны веры христиан, hymn 640 (as amended)</dc:subject>
  <dc:title>Доверяю слову Вечного Царя</dc:title>
</cp:coreProperties>
</file>