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CF0-7554-48FB-84BE-FB421B4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541-7ACE-4F8E-A1A4-70B8DE4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9AE-5B27-4FF4-9B07-BEA2C3A1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24C-FA43-4A23-8F8C-9C61EE6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88E-FF37-4B7B-A812-68662088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104-EF32-41D8-B099-71A9639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ADF-5FCD-432C-B03D-62E57D7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8E0-B522-4748-976B-E1A3FC6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C73-E79B-4052-A43D-D829110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43D-111E-47F0-BD32-DEC83291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FC4-D4CD-4F78-8FC8-EE18E94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257-67D8-41E1-8CCF-6231ADD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4A0AB-1034-410E-A71B-3FBF551DEC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47Z</dcterms:modified>
  <cp:revision>12</cp:revision>
  <dc:subject>Slavic hymnal Гимны веры христиан, hymn 885</dc:subject>
  <dc:title>В общеньи с Богом жить хочу</dc:title>
</cp:coreProperties>
</file>