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727C-827C-4E31-A5EF-01AE2632B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BB77-ACCB-4876-9D51-51BD1CED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DC8A-3D99-4E9C-860C-71FD15589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F9FB-AEDE-4A67-B81A-ED9CB1173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B76E-9CE0-4201-840A-AC95FA7B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6D2E-C97A-4776-B770-E427545E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521A-F339-4EC3-85E0-97CA7AE6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03BC-9361-4658-804C-89BE2426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60A9-0574-45C8-9B23-E86FF1B4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80A1-033B-4E73-A1B8-B98E3228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D031-2146-4EDA-9DAC-FC468290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75B6-7AD8-484F-9381-4A1ECF3F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DBD5F-8B95-439E-AD7E-CF6F2B9701E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 мне, скажи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умер за нас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быть всегда с Ним в союз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ровью купил нас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 мне, скажи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Он — мой Спаситель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а Его крепко держу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мне дарует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ажи мне, скажи об Иису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 мне, скажи об Ии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Он даст над грех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олько Ему покор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царствует в сердце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 мне, скажи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Он — мой Спаситель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а Его крепко держу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мне дарует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 мне, скажи об Ии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коро вернётся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быть послушным стрем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царстве Его пребы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 мне, скажи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Он — мой Спаситель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а Его крепко держу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мне дарует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9:47Z</dcterms:modified>
  <cp:revision>12</cp:revision>
  <dc:subject>Slavic hymnal Гимны веры христиан, hymn 422</dc:subject>
  <dc:title>Скажи мне, скажи об Иисусе</dc:title>
</cp:coreProperties>
</file>