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42C-BF5F-40EE-98AD-34872AF5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316-5FA8-4B24-86F2-9D033F67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D54-394B-4543-8CCF-6A523DF4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EC2-C078-47B0-9BB1-1120B21E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472-79BF-4D17-B583-7DC5765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36A-D73B-4156-A9B9-E752B2E9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A3F-8476-45DB-B6BF-AB32520F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337-B4B4-4706-91A3-6C07D198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743-C8B3-4624-B0EF-F5B5F572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6EC-C409-482E-9D01-D1732E0B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D02-A303-4FFC-8BFB-E9D6B10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B83-F07A-4619-B6B3-FE34163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68591-F27F-422B-8AFB-7DF0DD4B1F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and 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good, He is above all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ive Thanks to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might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tstretched 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life that’s been rebo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God is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rising to the setting s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grace of God, we will carry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God is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54Z</dcterms:modified>
  <cp:revision>11</cp:revision>
  <dc:subject>The Source 2, song number 688</dc:subject>
  <dc:title>Give Thanks to the Lord (For Ever)</dc:title>
</cp:coreProperties>
</file>