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7B3-7716-43FC-AB5B-D63B0B37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825-75AB-44D1-8E30-6A6D9BC1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CFE8-5458-49BB-9593-372DF39F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5FB-E030-459D-B927-7F97FE56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213-8240-47DC-8670-C757B18F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7AF2-1C6E-44BE-8C55-D08F670A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16D7-6271-4E3C-A3C9-64983D71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EBD4-816A-4074-9C4B-E6991CD6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F9B-8191-4BC9-A7F4-EF0A3CAA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78C-38E9-4211-A51B-7EBC881C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02F-5B07-4F37-815E-AB0E8890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71E-939B-4650-A125-7687F093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7A692-5F39-4DEC-A4BF-4414F496ED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блія много світла нам відкр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научила любит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ілька вже тисяч літ вона прож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нас вона учить про закон св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аруй нам знати Твоє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овістити Божу правду всі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 наступає царство вже Христо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ень заплати буде для усі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   Біблія много світла 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ного пророцтв у Біблії міст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всіх вони вчать про все напер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ільки в ній мудрості для нас відкри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озволь нам розуміти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аруй нам знати Твоє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овістити Божу правду всі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 наступає царство вже Христо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ень заплати буде для усі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блія вірну путь нам відкри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всіх вона вчить, як по ній і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хто її на довгий час лиш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й скоро зблудить з вірної пу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аруй нам знати Твоє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овістити Божу правду всі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 наступає царство вже Христо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ень заплати буде для усі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християни, Біблію чит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 побіждайте, двигайтесь впере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аших близьких із неї навч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м заплату скоро прине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аруй нам знати Твоє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овістити Божу правду всі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 наступає царство вже Христо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ень заплати буде для усі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5:18Z</dcterms:modified>
  <cp:revision>13</cp:revision>
  <dc:subject>Slavic hymnal Гимны веры христиан, Ukrainian hymn 9</dc:subject>
  <dc:title>Біблія много світла нам відкрила</dc:title>
</cp:coreProperties>
</file>