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90A-607B-4C59-83C3-37CF517F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7C1-73DF-4EFF-AACE-D1332BC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EA6-FEBF-4540-993A-8839C8E9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1E0-F584-466A-936C-B27867BF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4A4-6A09-494B-AA56-3DFB62C5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B0C-1FEC-439C-BE49-C6D69516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833-7878-46BD-9B3F-4DEC049B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992-A4C4-4D60-88E7-268091F6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1A1-2EFF-4281-9764-F716231F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D6C-C229-4D0A-8EC5-02ED338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708-6FC9-494A-AD83-626D3DD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D4C-306D-4043-8BE8-914FD10F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E2825-61CE-4DF3-8191-0414EE2169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joy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 soul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wi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ную песнь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озвра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! the Father meets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upon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ing His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nd’ring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х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е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лю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joy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wand’re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reconci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а пропа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a soul is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sinful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s born a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nsomed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 уда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й во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the feast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swell th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umphant st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т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he joyful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 it far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 precious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жжё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емлющих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валой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2Z</dcterms:modified>
  <cp:revision>14</cp:revision>
  <dc:subject>Slavic hymnal Гимны веры христиан, hymn 589</dc:subject>
  <dc:title>Ring the Bells of Heaven / Радостную песнь воспойте</dc:title>
</cp:coreProperties>
</file>