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E54C-E568-4EF9-B52E-0249EB72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6F78-5576-43C9-8AEC-8668B6C9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9A97-013E-4534-BC12-CE16540B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D2E4-AE74-473D-A9A9-D9BF4D6E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623-D63E-4A8F-BAD7-4DF4D7DF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C92-0D30-4DE4-BF03-A70984B8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4BAD-3A68-4627-9DD5-09F45C9D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5FA0-B002-431E-B826-04C1FDA2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BB6-B09A-4CE1-8847-9BF7FABA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FD6B-C6F7-476B-8DA2-E80D0983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9166-F079-4F3B-B1B1-636514A7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FB2D-5959-4521-9168-9018EE15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E0EE7-7AFF-4CB1-BDB4-87F892836DE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Wither, pilgrims, are you 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each with staff in han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going on a journ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at our King’s comm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куда идёшь, скажи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Ты куда идёшь, скажи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, с посохом в ру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й милостью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учшей я иду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hills and plains and valle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going to His pa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going to His pa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to the better land!”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горы и дол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степи и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леса и чрез равн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домой, друзья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ell us, pilgrims, what you hop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at far-off better lan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otless robes and crowns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 Saviour’s loving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Странник, в чём твоя на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тране твоей род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оснежная о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нец весь золо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drink from life’s clear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dwell with God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dwell with God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at bright and better land.”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источники ж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бесные цв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за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жгучие песк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Fear ye not the way so lon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 little, feeble ban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; for friends unseen are near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 angles round us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Страх и ужас не знак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на пути т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Господни леги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хранят меня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, our Leader, walks beside 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uard, and He will guid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uard, and He will guid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 to the better land.”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Христос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т Сам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клонною троп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, прямо в небеса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Pilgrims, may we travel with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at bright and better lan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welcome, come and wel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to our pilgrim 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Так возьми ж меня с с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чудесная стр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ой друг, пойдём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тебе моя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 come, and do not leave 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is waiting to recei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is waiting to receive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at bright and better land.”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алёко уж ро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еланная стр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чистая,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ведёт с тобой туда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38Z</dcterms:modified>
  <cp:revision>13</cp:revision>
  <dc:subject>Slavic hymnal Гимны веры христиан, hymn 613</dc:subject>
  <dc:title>Whither, Pilgrims, Are You Going? / Ты куда идёшь, скажи мне</dc:title>
</cp:coreProperties>
</file>