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D87-5F39-42EA-8697-DC7E9550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469-8A7C-49E6-BB6D-AF87882A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633-5EE2-4D48-BFD4-6A0313CB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C55-9562-4805-9501-1A6F74E2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7ED-8E7F-4290-9BF3-C9A320D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B8C-84BF-4ADE-B760-FE2FEC93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DB2-02B3-4590-9D88-82F2853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7CF-5ED9-4E2A-9F1A-F9B297EE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BFD-A227-44EA-A6E5-CEB0CF6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6D0-EA45-4F93-BD3A-9509D1C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090-F576-4A55-9BF2-0C1AE1D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52C-569D-4FBD-8325-2635554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556A1-D9B8-4D5D-BB7E-F60B775CBD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0Z</dcterms:modified>
  <cp:revision>13</cp:revision>
  <dc:subject>Slavic hymnal Гимны веры христиан, hymn 427</dc:subject>
  <dc:title>I Gave My Life for Thee / Я умер за тебя</dc:title>
</cp:coreProperties>
</file>