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899-3A4E-451D-A777-C59CC27E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0DC-0C8C-4146-AC2A-B50017E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DA4-BB25-47DA-8FE2-28B216F4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163-E9E6-43D1-A062-1C181760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743-C688-4B02-A475-04E8BAD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E2D-9E91-4A7C-9581-6D419D3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58B-D567-49BF-8261-3D07FAC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B64-0BAB-496F-A4A9-3D06C5F8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6B3-EF56-4AA7-91C5-EF4FA28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2D5-5068-4C7B-8EEE-280BAD4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A87-F7E8-4901-B01A-E698940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E8C-6B24-4C69-817B-7D38F37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BA0B6-02B4-4BC4-BD21-4FA552472C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пасител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Он всех в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йся пред Ним, Он сей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43Z</dcterms:modified>
  <cp:revision>12</cp:revision>
  <dc:subject>Slavic hymnal Гимны веры христиан, hymn 333</dc:subject>
  <dc:title>Войдите, друзья, все в отверстую дверь</dc:title>
</cp:coreProperties>
</file>