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A9B6-574F-4B3A-AB1B-191F3224F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A664-D174-44A0-B6DD-AEF9E630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ADAE-650D-451A-9ED5-0EADDDAF4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5FF0-EB02-44E2-BD88-8C3A88048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CD24-7DED-48CB-AB04-68A6E4D1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8B1D-98A0-4D23-9B66-DD292D27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1EC6-38CA-4546-926A-F05D5022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CFAA-27C4-4FAB-8FC1-37319D8B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386E-C560-466E-9843-035B6C65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4616-DA69-45A3-B1F8-5F5C4084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A39F-53DA-4894-B419-F17D6CA4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332C-5C71-4622-9920-D73044E6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15682-0AEC-45E7-8E60-9660649F33B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хотів би я без пл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одну хотів би ду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ніп один хоч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хотів би я без пл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одну хотів би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еві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0   Не хотів би я без пл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 життя дав, добре зн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 смерти не бо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сам себе пита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чим я перед Ним з’явлю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хотів би я без пл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одну хотів би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еві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б хотів, щоб ще верну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і роки, що я прож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сім серцем і душе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еві би служ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хотів би я без пл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одну хотів би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еві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працюйте, діти Бож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дивіться! вже смер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негайно заклик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шні душі до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хотів би я без пл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одну хотів би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еві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0:18Z</dcterms:modified>
  <cp:revision>12</cp:revision>
  <dc:subject>Slavic hymnal Гимны веры христиан, Ukrainian hymn 50</dc:subject>
  <dc:title>Не хотів би я без плоду</dc:title>
</cp:coreProperties>
</file>