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74E-E992-4DB4-BA49-9D5966E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B65-4E08-42A5-9A14-711A8BC7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9C7-2A4E-4CA4-8A79-A34A54B3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65E-26C2-4797-9FCB-D72865CF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A13-B23D-46C5-93EB-1AD31B1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F61-8073-4552-BF56-38DF4263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F59-7D67-49CC-A925-F6E8DB6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229-8CC0-41CB-A97C-5366D235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850-CE88-477F-BCE2-3930B9F9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925-7461-4795-AFF7-F3A3872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D47-F936-406C-B4A4-F9E2666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1D2-07CB-45B4-977C-71C16AE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17F2C-EA98-47F5-A17B-83556A4154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greater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ny love that I have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has captur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1  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will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no saf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close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will never grow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has never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er love than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sacrifice, no greater g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just keep lovi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ho could ask for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seek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s and keep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4:54Z</dcterms:modified>
  <cp:revision>12</cp:revision>
  <dc:subject>The Source 4, song number 2191</dc:subject>
  <dc:title>Your Love</dc:title>
</cp:coreProperties>
</file>