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329-97A7-4F9B-B044-1D670F2F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85E-3F6D-4232-B24E-153F53BA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18F-671E-405E-BFC9-9FA7D7D7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4D0-EBA5-4317-A6C1-8EDC8015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A97-579D-4CD8-A158-0E68659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5D6-3499-461E-B400-CC5E7635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3FC-766F-4287-9A74-C836F18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A14-A548-4ADF-8363-6CD59216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908-7A44-4FA0-B139-B9D6593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9DE-E965-43D1-8226-AA7D33E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557-34D9-42B0-922F-2B2BFB4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1F7-5660-487C-BAE0-9995ED3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1875B-8B97-494F-B89B-9F0C483046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45Z</dcterms:modified>
  <cp:revision>12</cp:revision>
  <dc:subject>Slavic hymnal Гимны веры христиан, hymn 432</dc:subject>
  <dc:title>Вдали от Бога я блуждал</dc:title>
</cp:coreProperties>
</file>