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D97-9740-423F-A297-1EE91C74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079-916E-4016-A598-0CC214E1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B2F-F52F-483F-888B-35FC6778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FF5-A314-40EE-9B9E-71151D7F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9D4-BC62-470A-B558-3334E01C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E2E-7F6B-4F73-A9D3-69FE6126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A6D-FCD1-4FE7-8AF2-93EF178D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B35-9D37-4798-BC72-737A914C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715-6C13-4CF1-AC31-F26C1694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0B5-7CA3-4941-A75F-605894E0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7F4-01E4-40BA-B67C-5BA7B516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BEF-E08E-4369-ABD4-D3F365BE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ECBEB-EA47-483B-81FA-028BA10E34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plendour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othed in majest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ll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earth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073   В сиянии Ца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янии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ск велич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ся земля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raps Himself in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rkness tries to h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embles at His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embles at His 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блачён во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ает тьмы и с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лоса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лоса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with me, 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со мной: «наш Бог так велик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идят все: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ge to age He st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ime is in His han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ginning and the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ginning and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оит в ве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дни в Его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о и 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о и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od-head, Three-in-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ther, Spirit,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on and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on and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аш три-еди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, Отец и Сы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Он и Л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Он и Л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with me, 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со мной: «наш Бог так велик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идят все: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thy of all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will 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е всех им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превозне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with me, 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со мной: «наш Бог так велик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идят все: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36:19Z</dcterms:modified>
  <cp:revision>12</cp:revision>
  <dc:subject>The Source 4, song number 2073 in Russian</dc:subject>
  <dc:title>В сиянии Царя / The Splendour of the King (How Great Is Our God)</dc:title>
</cp:coreProperties>
</file>