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8</a:t>
            </a:r>
            <a:r>
              <a:rPr b="1" lang="ru-RU" sz="3600" spc="-1" strike="noStrike">
                <a:solidFill>
                  <a:srgbClr val="ffffff"/>
                </a:solidFill>
                <a:latin typeface="Verdana"/>
              </a:rPr>
              <a:t>	</a:t>
            </a:r>
            <a:r>
              <a:rPr b="1" lang="ru-RU" sz="3600" spc="-1" strike="noStrike">
                <a:solidFill>
                  <a:srgbClr val="ffffff"/>
                </a:solidFill>
                <a:latin typeface="Verdana"/>
              </a:rPr>
              <a:t>Восхвалю Тебя, Бож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my lips, I will bless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my mouth, I’ll sing Your prais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my eyes, I long to se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 me Your fac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хвалю Тебя,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ю Тебе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м сердцем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ть Теб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my ears, I long to hear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my hands, I long to touch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all my heart I surrend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You.</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слух, чтоб у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жажду достиг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сердцем просла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Chor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all that is within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 Your Holy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all that is within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 Your Holy Na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уша, прославь ты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ань, воспой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уша, прославь ты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ань, воспой Ему.</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7:36Z</dcterms:modified>
  <cp:revision>3</cp:revision>
  <dc:subject>Slavic hymnal Гимны веры христиан, chorus 58</dc:subject>
  <dc:title>With My Lips / Восхвалю Тебя, Боже</dc:title>
</cp:coreProperties>
</file>