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BB9-0453-4A26-814A-6CD637B5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645A-3E40-40A5-9A77-8941C196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EF0-E7D3-4E46-9F06-5440D9BC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49C-5EF0-4354-962F-1A444197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DEB-CEB5-4BB7-8F2C-6E4756B7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1A5-F6AF-49B8-A222-B5C022A2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AD2-8644-4F21-8234-9039FB03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2F8-E898-44EF-B8EF-B6BB8EE3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E27-F047-4C5C-93F9-2F420217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122-7EB2-498C-A0F0-D0E12219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4DC-ACEF-40AC-8ECB-9A6DC323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AEE-26F5-42EA-B6EA-64876BAD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0121B-96A1-41DC-94E6-E72FA6889A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fountain filled with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n from Emmanuel’s ve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nners, plunged beneath that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is poor lis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mmering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nners, plunged beneath that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ying thief rejoiced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ountain in his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 may I, though vile a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ойника в послед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ла Христова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 may I, though vile a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dying Lamb, Thy preciou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never lose its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the ransomed Church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the ransomed Church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r since by faith I saw the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flowing wounds supp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ing love has been my the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, как верой мог узр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святой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ing love has been my the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in a nobler, sweeter song, I’ll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ower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is poor lis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mmering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свой путь закон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ляжет в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36Z</dcterms:modified>
  <cp:revision>14</cp:revision>
  <dc:subject>Slavic hymnal Гимны веры христиан, hymn 429</dc:subject>
  <dc:title>There is a Fountain / Источник жизни Бог открыл</dc:title>
</cp:coreProperties>
</file>