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6699-577C-481E-9D16-94CA69E7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906B-CB1A-404F-B310-FA9348C9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B81F-2AFF-40AD-9330-8F4E75E4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EA36-E5BC-4472-AFEB-B75AE5C4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201F-733C-4D5A-9D9F-E55119CD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F81E-D862-4311-B71E-1D37FB97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887A-7BEB-4E9D-A27A-DFC39E61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2126-478C-4549-BA1C-33FA13F6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A64F-42C2-455D-AEF7-48AEED9E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F266-CCEB-482E-A033-12077B78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FAE7-E72A-4AF3-AEE3-2788AEE4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58A3-4443-4EB6-922F-23A4F34A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518B3-F5CE-45D5-A135-9EDF0BF07E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on of God goes forth to w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kingly crown to 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blood-red banner streams af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follows in His tr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ын Божий вышел на вой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вышел на вой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аведных по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чрез преграды и вра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стремится всле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best can drink his cup of w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iumphant over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patient bears his cross be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follows in His t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чашу горя тихо п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ем невозмут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ерпеливо крест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следует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artyr first, whose eagl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ld pierce beyond the gra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saw his Master in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lled on Him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фан с решимостью в о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ял перед су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увидел в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стил о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him, with pardon on his tong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idst of mortal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ayed for them that did the wro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follows in his tr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я тягостных гр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л врагам свои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осит Бога за вра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следует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glorious band, the chosen f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whom the Spirit c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elve valiant saints, their hope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ocked the cross and fl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надцать избранных дру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огнём любви в серд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в наш мир спасать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ывши всякий стра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climbed the steep ascent of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peril, toil and p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God, to us may grace be 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follow in their t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их славны им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дух непобеди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Боже, мужества и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следовать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52Z</dcterms:modified>
  <cp:revision>13</cp:revision>
  <dc:subject>Slavic hymnal Гимны веры христиан, hymn 499</dc:subject>
  <dc:title>The Son of God Goes Forth To War / Сын Божий вышел на войну</dc:title>
</cp:coreProperties>
</file>