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33-81E0-45C2-B1C1-EE2F759A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825-6C0A-4412-AFCE-17E3F51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262-B873-4B31-AC5D-72465326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969-E070-4E3E-BD97-CCD1B90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C84-1F7D-4D0A-82CA-1F8F8DE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5B0-B070-4928-8F0D-A8CD51A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9DE-0DE0-4DCD-A89F-B1DEBCBE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3B7-4256-4301-B512-1D258516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070-BDBE-4551-B745-2E9BB1D3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E04-59E8-4068-B44F-981C1606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6D8-9118-4D97-A2B7-8401B257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A5E-7AD9-4733-ACA5-25C6088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8B8AD-D74A-4EA4-A7A1-1FCAF90E91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, kindly Light, amid th’ encir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om,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is dark, and I am far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;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ou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o not ask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istant sc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ep enough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not ever thus, nor p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shouldst lead me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o choose and see my p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he garish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spite of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ide ruled my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not past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Thy power hath bles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t still will lead m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or and fen, o’er crag and torr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e night is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the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angel-faces s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 hav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since, and lost awh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04Z</dcterms:modified>
  <cp:revision>12</cp:revision>
  <dc:subject>Slavic hymnal Гимны веры христиан, hymn 824</dc:subject>
  <dc:title>Lead, Kindly Light / Небесный свет, веди чрез мрак густой</dc:title>
</cp:coreProperties>
</file>