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1D9-BD32-42BB-9770-CF73201B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AA14-802D-4E50-88BC-4A2CF224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B8C5-9F88-4065-8F13-FA8B8BC6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D8B-E269-4E11-A115-DC410BE0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4A01-993D-480F-9DBE-61D2A2EC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5051-5DC4-4E2D-8276-35E4395C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B10E-5FAB-46D0-9885-F53503FF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1384-17DA-42E9-B672-15AB2CC5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15D-FF2F-4A2F-B7E2-897778F2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17E-3D2D-471F-9EC7-F917E5E0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A45-BDEE-4837-B3D2-2BB410D2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13E-0C7B-4FCC-B28D-DA1D61E0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A3265-B4F3-48B0-969A-33FAB0DBBC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меня так люб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мне гово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это — прав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ердце то твер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я знаю так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 простых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х и н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их, как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ец меня так люб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тички в день весен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по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, взирая к неб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Господа цвет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а вся в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наш вечно бла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являет прав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сметных чуд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лн восторга слу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ую вест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о начал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лен я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о грешном вспом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силах я по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 каждым днём отра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ести той вним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9:57Z</dcterms:modified>
  <cp:revision>12</cp:revision>
  <dc:subject>Slavic hymnal Гимны веры христиан, hymn 759</dc:subject>
  <dc:title>Отец меня так любит</dc:title>
</cp:coreProperties>
</file>