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3B8-31C7-481D-AE6E-33604820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38A-60BC-4E55-B0D2-C6824641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343-FD7D-4B46-9715-71A4D3BB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F94-6546-4E9C-805C-454129A8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742-C95D-48EC-9292-FBDFC2B8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14C-7F3D-41B6-ADF3-C8C1A670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05D-BF42-47D9-A5C3-1BBC1F07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5EC-1838-4746-8910-616FA196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47B-91D0-4EA6-9DE4-D77FC863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4FA-8C70-44D0-AD6E-1BF959FB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3AB-5586-415C-90F6-EC724DCA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08B-CFDF-4932-B5BD-B07D4B38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EC580-E9EA-4EB5-BC1B-FF0133C7BA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ли ты, грозит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ль воет, ночь круг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иянье л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едно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прямым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й — я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? — сильней мо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? — слышу как бы г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Тому, Кто сп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и в смерт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вечность не у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47Z</dcterms:modified>
  <cp:revision>13</cp:revision>
  <dc:subject>Slavic hymnal Гимны веры христиан, hymn 645</dc:subject>
  <dc:title>Доверяй Христу всегда!</dc:title>
</cp:coreProperties>
</file>