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B0A-BF3B-45E8-A6C5-A2AD2F90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6C1-766B-40EA-B428-72DF934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B49-D178-4C1C-B21D-C564DF57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AB5-85C4-430C-83C7-57B4C803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43F-906C-47B4-8A85-A9DE48D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00F-35B4-4779-B6FC-45C62131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EA9-FF14-4C8F-8587-DD9567E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1C9-80CB-4D96-906E-9B1C8747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E0D-D682-4F83-ADF0-B61FB1BB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A0C-7528-4501-9281-D8E2F874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573-26BD-4826-9C53-928FFBC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AEE-0825-4821-ACC7-7C68522D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503B4-5B81-4CAD-A69D-08F2891436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слав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ердце от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: милость нам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гони неверья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омнений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нас к жизни луч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ай сердцу и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мощь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с ангел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ечно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 и поле, лес и г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 потоки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ье птичек, туч узор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ворце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есню подхва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рассветом нача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— наш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олюбье вяж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жным пеньем выст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и над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радость возвещ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день за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4:21Z</dcterms:modified>
  <cp:revision>12</cp:revision>
  <dc:subject>Slavic hymnal Гимны веры христиан, hymn 610</dc:subject>
  <dc:title>С ликованьем прославляем</dc:title>
</cp:coreProperties>
</file>