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654-9735-4D89-A868-49735740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383-ACAD-4C32-9103-A61230F9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7D4-41DF-493A-A057-F2828534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50F-9E01-441E-A98C-2BB02324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784-BFA7-4944-8222-39D301E3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246-4729-439F-B066-0E299CA3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2B8-AFC2-4B79-AB5B-3D63EE05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5E9-4875-4217-9D81-0431E7B0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AB1-FACE-4B76-9D22-9130859F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413-A240-4206-862D-6C019F39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19A-B09F-4346-A1FE-4C8AD077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917-E7C6-48A3-B04F-A2CBB626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BC660-E3CD-4CE3-AAB2-0F6F942EA6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be h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 me and I will be sa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be h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the one I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I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9   Heal M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32Z</dcterms:modified>
  <cp:revision>12</cp:revision>
  <dc:subject>The Source 3, song number 1239</dc:subject>
  <dc:title>Heal Me, O Lord</dc:title>
</cp:coreProperties>
</file>