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770-DB99-495B-AEC7-C2165B58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90F-E0AD-4F4A-98DA-A28BA71C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C51-FD58-41CF-9F57-E922FAD7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8BD-646E-4BD0-9F89-E3B5E2B8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9A4-B817-4875-B0E0-C0063FD2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4A8-C8FE-4AEE-9F32-0116703E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AC0-8615-4AF6-A846-CC66BFC1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C338-0D6D-4D4B-948E-5F3A9BB3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16D-53D4-4497-9E26-7850FBA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95A-A11F-4F60-9ADF-9F345B0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455-74CC-419B-8040-73159BCE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A19-2783-428C-AFA5-A29F2208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8FF85-0EC6-423C-B1D8-F74532DFEE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My Life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35:03Z</dcterms:modified>
  <cp:revision>11</cp:revision>
  <dc:subject>The Source, song number 230</dc:subject>
  <dc:title>In My Life, Lord (Lord, Be Glorified)</dc:title>
</cp:coreProperties>
</file>