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8EE-03E7-499E-B821-B0942645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DCF-3B1E-4E58-A763-9EF0727C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1C1-A1E5-455A-86D6-F0C0AB98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8DE-E554-4AE8-968C-775B61C3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AC9-A699-4973-B3B4-621BDD7C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AAF-6BA8-4DFF-AB24-FA88ACE1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BFD-746E-4B9E-BB68-CC44CEB8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C06-ED60-47EB-9C1B-A3C490D2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A12-8867-4605-9F6E-F1B38D6D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F56-B5AF-41CF-A16C-3A32E44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A8F-A7D5-40A3-A517-9845002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B07-0320-481B-A35C-ABB7EA1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A16B4-E709-4609-9486-2DF5C0B93F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мой крест бер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хоч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у я вражду людс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злобу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 Ты жизни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бил, чего 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бореньи постоя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небо —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ь, мой крест бер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рагом мне станет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ерным он всегда та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рузья меня пок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сердцу с каждым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ится враг, исчез прия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радостно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ненавист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ят нас к Христа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яжёла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т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души не завою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нами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дух не оч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оге наш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с у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олитва окры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крыл нам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ршится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есто даст ви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ьбы сменятся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2:45Z</dcterms:modified>
  <cp:revision>12</cp:revision>
  <dc:subject>Slavic hymnal Гимны веры христиан, hymn 846</dc:subject>
  <dc:title>О Господь, мой крест беру я</dc:title>
</cp:coreProperties>
</file>