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D3D-2724-41F1-9D72-1A54FF4B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2B5-6035-4DA2-9299-0FE3F75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E8B-4C8A-4A71-AD2F-B04E6921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803-FB95-4D95-9BBE-5404FB2B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C64-3B3B-47B4-A01F-7310D45A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7B2-27B0-43CB-A8A2-417F03E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150-5A85-4553-ADDF-B222AA4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955-3357-43E5-82C4-ACE710F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C57-9DD0-4D24-8ECB-3D03D93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E77-3DF9-46D6-A28E-8C53D81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3DA-CAF6-43DB-A7CE-C8592E5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EAF-E5D2-4CAC-A72F-AA931C9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51CA-72C2-4AF3-98D2-EC51010C92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33Z</dcterms:modified>
  <cp:revision>12</cp:revision>
  <dc:subject>Slavic hymnal Гимны веры христиан, hymn 784</dc:subject>
  <dc:title>Здесь и там поля белеют</dc:title>
</cp:coreProperties>
</file>