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985-9D7B-4170-9BA4-9C491DFC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782-F5A6-4BA6-8152-17269A6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EB9-6B41-4147-AB69-16F9BEFA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383-E51C-4007-B0BF-F0BE7F33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8A8-6F57-4E9C-866F-366698A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ABF-1699-405E-A524-7037BB00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B97-541F-4CE8-8247-A9933934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A37-8857-4AF9-BA3D-52587A8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5A9-2F6B-4AD2-B342-8DE68394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250-75F5-4F4E-9B98-011C260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661-9165-46BA-A678-7CA6EBA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4B4-2A01-4A3A-95AA-A2190933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3A3A9-ABB0-4D18-9B60-A1A09EC6F9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n This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a living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I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ound where we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we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51Z</dcterms:modified>
  <cp:revision>11</cp:revision>
  <dc:subject>The Source 2, song number 726</dc:subject>
  <dc:title>Here in This House (Awesome in This Place)</dc:title>
</cp:coreProperties>
</file>