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FCC-F82D-4D27-9BCE-F02E20BA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533-D571-420A-882B-82021CA3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889-52B7-47A0-AB0C-A5A78032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E5A-449D-4B50-A741-E78ACF30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8A9-87F5-4C34-A0D7-BCEDA6D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63F-643E-4D52-8889-37701C9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F19-D2B4-4727-8460-91507AE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BBD-733F-4F8D-A80A-57263F6C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DDD-1F2A-4902-9072-8CC5792A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F39-10AF-4398-9B33-50E8473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BB3-DD7E-4BAE-B468-1062E9E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C8D-2109-4D22-83C8-E9E0025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92ADA-BF87-4724-B5CF-D3BDDCC861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ород не зд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ёртвой пус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о греховных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язну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рачённых нев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лукавых с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й город не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привет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ем мы блага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уп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к 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тника примет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где през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й свя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енья от ревност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 и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а лицем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явно не скрытой вра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! Ты лишь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город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тель которого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отд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ад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ьной долине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киталец, путь т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в постоян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частлив насл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г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 ты и благо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, обличё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ою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лобно глум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ёт поруг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веры Господн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укреп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веди свои очи к г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мощ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изнурённым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же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тря на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в восторге душо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ишелец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й прольётс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алому ч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на Сио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умяг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леем незр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покроешь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ётся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близок желанный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о гра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51Z</dcterms:modified>
  <cp:revision>13</cp:revision>
  <dc:subject>Slavic hymnal Гимны веры христиан, hymn 393</dc:subject>
  <dc:title>Твой город не здесь</dc:title>
</cp:coreProperties>
</file>