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A570-E3E4-4B58-9959-5EB0B34B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400C-6C00-4966-9559-FD5963D0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8974-29AA-4A4B-BA22-0E39446B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0510-4A8C-4B0F-BFDB-FE7C0EE04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2AA3-9465-41C9-9E53-5936851E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A75F-36AB-47AC-97B6-7CF0F504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7917-F9D2-48E0-9641-0794B45C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107D-A110-4EBB-B26E-F413B924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6336-7D83-41DC-BAD7-F4D99F59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C8BB-1E81-4272-84C6-1AAAA834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6847-C2A0-4837-B525-F8E7A3CD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D5C0-5D80-4806-A6BF-15609DD1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25850-A1C2-4DB1-AFAF-ADD10787EFE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своё сердце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ся с мирской суе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аче вдали одино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ибнешь несчастно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юность ― весна молод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ёшь ты, смеёшься, шут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д Божий идёт за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видит Спаситель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крой своё сердце Иису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сь ты к отчизне небес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примирись со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лость тебе обе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ъятьях Его ты спас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па в белоснежной одеж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ет в хваленьи одн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ы не разделишь ли сч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пребыть со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0:46Z</dcterms:modified>
  <cp:revision>12</cp:revision>
  <dc:subject>Slavic hymnal Гимны веры христиан, hymn 409</dc:subject>
  <dc:title>Открой своё сердце Иисусу</dc:title>
</cp:coreProperties>
</file>