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CF9-624E-4606-949A-EA0BCC5D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61F-626B-42FE-A514-F7D5E6AC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6C-904C-4A29-A439-1CE533DC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FA0-AF48-4FC4-9A22-78FBA593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002-93C0-4562-8FB8-F262405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8A9-46E3-4F5A-A54E-A8E64954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313-566D-492B-AE01-E0C7772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E33-11C9-4C2E-9A8C-7F34D73D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0F9-D7F0-41F2-851E-E15646B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4CA-DC3D-4FDF-9D37-6A1E331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C98-99AC-4D8A-90EB-86E1352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B1A-C1E7-405D-B9BA-670B2DA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6C5E-4425-4A8C-97D2-E8256108C9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04Z</dcterms:modified>
  <cp:revision>13</cp:revision>
  <dc:subject>Slavic hymnal Гимны веры христиан, hymn 521</dc:subject>
  <dc:title>Будем сеять утром</dc:title>
</cp:coreProperties>
</file>