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BF9C-DB5E-470C-8BCE-17B7D573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F770-DACE-4D2E-8663-1E375DFD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8955-2303-445E-A84A-768760FB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90A4-8C7B-4840-A5A6-3667DCE4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1757-BD15-41B9-9E68-3F7E4BBF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BB99-63CC-4A32-B106-5C53D4DF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AB2B-C8DC-4878-B249-B149D410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7C27-65A3-4A21-9323-C81B3FB9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D22A-90F9-46E4-BDEC-10872A26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2415-8A55-40DB-BCAF-66566C78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80E5-C56B-489D-9436-D3A07FAA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C8AD-04E1-46F3-A32C-41A4E435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8F30C-2A53-4E52-932E-FF80AC46F43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рвётся ду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а и об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калу, что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м светом г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окутала мг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емог я в бор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кроюсь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как рвётся душ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кроюсь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изнуряющий з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иночества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ситель пред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вит сети не ра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раз, и не д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ю слабе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кроюсь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кроюсь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часто тес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естоким вра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ишь Богом од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мире 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я жизни про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ярче блести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покой и мой щ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кроюсь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11-28T02:15:38Z</dcterms:modified>
  <cp:revision>13</cp:revision>
  <dc:subject>Slavic hymnal Гимны веры христиан, hymn 626</dc:subject>
  <dc:title>О, как рвётся душа</dc:title>
</cp:coreProperties>
</file>