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0C4-F902-4595-91AF-674A1424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49E-CE30-4798-A62A-B3D2371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614-302F-4C8E-BE96-DC6FDAD4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983-F0A8-4149-88A7-CAF1FD3B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DCB-5723-464B-855B-859D890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025-55E1-4985-8428-2300FFA9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B89-64E0-4FEF-80ED-E68B6F29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78A-9650-4E5E-813F-F352065C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A25-66C3-49FB-A379-2577A3B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171-6ACD-42DB-8F62-A4BAAC0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24C-060C-4242-B33B-1FC2B84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597-5A01-4393-8CC9-01F4D29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758C-641C-484A-81D2-4FAC38325B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reen hill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side a city w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dear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ave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not know, we can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ains He had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e believe it wa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ung and suffer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we might be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o make u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 might go at last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by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as no other g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 price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ly could unlock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en and let u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2Z</dcterms:modified>
  <cp:revision>13</cp:revision>
  <dc:subject>Slavic hymnal Гимны веры христиан, hymn 418</dc:subject>
  <dc:title>There Is a Green Hill Far Away / Есть холм зелёный там вдали</dc:title>
</cp:coreProperties>
</file>