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C51A-3395-4365-93B0-FE8D774A5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FC38-B9C7-4BFD-9152-BA81E6E7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5CBD-D205-4734-9471-4F45A4BFF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CDBD-454D-45A1-B8F9-B33370D37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4305-9E29-4682-B723-8DA5AD71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4A78-1E60-4859-827E-AF4EF752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9278-CD2C-4271-8EF7-AB26B3AC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0819-3807-47A8-AA5E-1C1FB605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87BA-024D-496E-86DE-36DEACAA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075D-15BF-492E-B6A1-5B4BFA7F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7078-8202-4ECA-B86E-34264A60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772A-D95E-4A5A-95D8-AD3D59EB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64F48-741B-4BC9-9DAC-0EA5648AEF1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65040"/>
            <a:ext cx="9144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now is the time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now is the time to give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just as you are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just as you are before your God,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14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ди, время приш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время пришло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время отдать Ему серд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такой, как ты есть,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такой, как ты 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ицом Отца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65040"/>
            <a:ext cx="962028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day ev’ry tongue will conf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day ev’ry knee will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, the greatest treasure remains for th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gladly choose You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нет время, скажут, что Ты есть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ени склонит каждый из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се сокровища небес для т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Твой, Господь, сей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65040"/>
            <a:ext cx="9144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now is the time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now is the time to give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just as you are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just as you are before your God,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время пришло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время отдать Ему серд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такой, как ты есть,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такой, как ты 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ицом Отца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65040"/>
            <a:ext cx="962028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day ev’ry tongue will conf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day ev’ry knee will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, the greatest treasure remains for th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gladly choose You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нет время, скажут, что Ты есть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ени склонит каждый из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се сокровища небес для т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Твой, Господь, сей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365040"/>
            <a:ext cx="962028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ingly we choose to surrender our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ingly our knees will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ll our hearts, soul, mind and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gladly choose You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 2-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хотно отдаём мы Тебе серд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хотно склонит каждый из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жизнь Тебе мы с рад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м, Господь, сей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65040"/>
            <a:ext cx="9144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now is the time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now is the time to give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just as you are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just as you are before your God, Come, come,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время пришло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время отдать Ему серд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такой, как ты есть,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такой, как ты 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ицом Отца, Приди! приди!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0-12-18T07:17:20Z</dcterms:modified>
  <cp:revision>10</cp:revision>
  <dc:subject>The Source 2, song number 662 in Russian</dc:subject>
  <dc:title>Приди, время пришло поклониться / Come, Now Is the Time to Worship</dc:title>
</cp:coreProperties>
</file>