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917A-CCD0-4957-8D3F-4A68151A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CC33-71C7-47D9-8273-B276F3B4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1FB8-09F5-4C30-9A96-124728E7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A18D-7C34-421B-9F3D-EB740ADB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D88B-719F-478F-8C6F-044E42CF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B426-8AC7-4AA5-A3E8-A2D82FE4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8C63-E2D0-496C-B72F-C1A31FB6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5E61-73E5-4393-83E9-B9DAB80B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E105-B7AE-4F8F-BF4A-A5E00307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28DF-963D-4294-943F-12119DB7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56E2-BBE1-45C7-878F-2F433B08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1E0B-EDF5-49C3-AFA4-ED36C045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6FF99-33C1-411A-954A-23E05BB11E4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те, дивную розу нашёл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щё в юности жизни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л, на розу мен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сюду последовать 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й душою и сердцем я слав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найте, дивную розу нашё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и Павел великий гон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асоты этой розы не ч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н после стал розы служ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к многих к Христу прив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й душою и сердцем я слав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роза — Христо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ороже всего для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ставил святую об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грех мой Он отдал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й душою и сердцем я слав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9:04Z</dcterms:modified>
  <cp:revision>12</cp:revision>
  <dc:subject>Slavic hymnal Гимны веры христиан, hymn 782</dc:subject>
  <dc:title>Знайте, дивную розу нашёл я</dc:title>
</cp:coreProperties>
</file>