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67</a:t>
            </a:r>
            <a:r>
              <a:rPr b="1" lang="ru-RU" sz="3600" spc="-1" strike="noStrike">
                <a:solidFill>
                  <a:srgbClr val="ffffff"/>
                </a:solidFill>
                <a:latin typeface="Verdana"/>
              </a:rPr>
              <a:t>	</a:t>
            </a:r>
            <a:r>
              <a:rPr b="1" lang="ru-RU" sz="3600" spc="-1" strike="noStrike">
                <a:solidFill>
                  <a:srgbClr val="ffffff"/>
                </a:solidFill>
                <a:latin typeface="Verdana"/>
              </a:rPr>
              <a:t>Святую ночь в Гефсимани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вятую ночь в Гефсимани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ыть я не мог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в смертной скорби и тоск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ился Он Отц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забуду я! Не забуд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уду ль? ник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аду молившего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ого Агнц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очной порой в саду Оди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лёзы проли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а меня, за грешни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естоко так стра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забуду я! Не забуд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уду ль? ник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аду молившего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ого Агнц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рижмёт ли жизнь меня к сте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омненье ли впа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Иисус, напомн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было там в са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забуду я! Не забуд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уду ль? ник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аду молившего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ого Агнца.</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9:41:31Z</dcterms:modified>
  <cp:revision>3</cp:revision>
  <dc:subject>Slavic hymnal Гимны веры христиан, hymn 267</dc:subject>
  <dc:title>Святую ночь в Гефсимании</dc:title>
</cp:coreProperties>
</file>