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11D-359E-476F-BEEF-2E4E51CA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26D-21DD-4D91-AED4-C3D53AC5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A52-59B2-4B87-9E2B-5A30B388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A73-17E1-4E26-A4A8-0137820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174-BDE7-461F-8836-F8A5B8E9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663-5B4D-4C00-B507-4EF12E7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A0B-9F43-48E5-96B7-747CEAF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E02-128B-4C31-8715-A0E3A0C4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6BD-5D1D-4B1B-8E55-493C085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A78-A03D-4877-9100-645C71B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12C-70F5-4DFD-8B04-2FA90C91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548-83C0-4655-9224-CA79D44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3BC2-EAC1-4DD6-9F04-1DC7ABB6D5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27Z</dcterms:modified>
  <cp:revision>10</cp:revision>
  <dc:subject>The Source 2, song number 611</dc:subject>
  <dc:title>Above All</dc:title>
</cp:coreProperties>
</file>