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441-D590-4D33-93F4-79B466D0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34A-E6F5-4B52-A972-3D27E5E0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6C2-085E-415A-A376-A7D1FC4C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8A8-6DC8-4EE8-B1B2-DF0BE7F9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77D-F6FC-4900-AAE9-10D319D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949-37C5-479B-AC8D-267FE2B1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C02-35BB-4AA9-8780-9C01774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137-D30F-4C07-A47E-4A89A3B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280-69B1-4627-9119-6B14424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3C4-090F-401E-AB3E-61F03F7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657-D052-4EEE-B710-3AFCEDA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68D-FE35-4EAD-9116-1CAE12B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D1431-02AB-444F-B28D-39A7C83339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ngry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know You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empt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does not run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ungry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, I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arms are open 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wear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ouch restores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24Z</dcterms:modified>
  <cp:revision>11</cp:revision>
  <dc:subject>The Source 2, song number 753</dc:subject>
  <dc:title>Hungry, I Come to You (Falling On My Knees)</dc:title>
</cp:coreProperties>
</file>