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6D0-52B4-4BC6-95C5-96CFA99E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EB5-6009-404F-8696-3432D531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F8F-246F-48F4-A6A8-943565F4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4E5-DEBD-480E-9C5C-4C12F200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442-29FE-4BC0-B752-D4F2BF33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94D-82CF-4C63-BF50-657F4F4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735-6E42-45CB-969E-F5D0731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A2D-4D63-476B-8948-B1701A3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AB4-BBB6-4550-8FBB-1F60FA0B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D75-F144-444E-8837-A675E4E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373-D363-4B0E-BA7F-CE02BBB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274-4752-4DB3-8F77-92A7F60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09E44-708F-45A5-B04B-A4F25F7373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O Lord, is like the oce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than endless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is like the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ord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85   Your Lov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38Z</dcterms:modified>
  <cp:revision>12</cp:revision>
  <dc:subject>The Source 3, song number 1685</dc:subject>
  <dc:title>Your Love, O Lord (Highest)</dc:title>
</cp:coreProperties>
</file>