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9D1-918B-4D38-BC14-8F0A9C7D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71B-AFBB-43DA-BA5F-7C8E4955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417-6309-4642-A299-5CFA9DD8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156-E7F3-46AC-A748-E8372434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15E-00E5-496D-B664-B32318C6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27D-AA02-4CD0-B2C9-77F3D3C8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AD7-4939-46CC-9687-9E45A341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4F1-48EC-46AB-AEA8-ACFF8438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3FC-F398-4D7F-82CF-A1D33BFA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7B6-84ED-436E-867E-45205C7D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8B1-F118-4302-A62E-632A2EE0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8B3-E784-4FE0-933C-40E7CD9A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5163F-7191-49E9-8491-D06B739AA4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у Божу м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старенька вже в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і пригадую минулії дав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й моя мати знай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пасіння 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буду я часу щасли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3   Книгу Божу м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, куди прийм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с і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ю: про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читала мати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в, страждав, вмирав Ві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хре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уважно слухав вс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, за тебе ц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―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ворила мати ― ти Його люби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, куди прийм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с і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 давно, давно я чу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слів тих не забу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ені ця Книга ― світло на шлях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лова Христа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вперед за Ним 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до щастя хочу вічного при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, куди прийм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с і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4:11Z</dcterms:modified>
  <cp:revision>12</cp:revision>
  <dc:subject>Slavic hymnal Гимны веры христиан, Ukrainian hymn 73</dc:subject>
  <dc:title>Книгу Божу маю я</dc:title>
</cp:coreProperties>
</file>