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F53-F3B7-49A6-B04E-88DF4B68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7AD-C941-4D75-ADBC-13573001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6D0-F2F7-4F23-B43D-A3C0A204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809-A2A9-4DF5-9EA6-B470C050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0328-6396-437B-B107-75E44949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C2B-10E6-43D3-AC13-7262409F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E09-141E-4197-9F4C-CD55055F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B4E-1A1A-4F25-8345-11115AA7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E9E-5849-4706-A993-82812B69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5EA-0810-485A-A151-FC027EBF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0D8-C28C-43AF-9BC3-E88A9389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2DFF-50CF-4010-9AF6-3D7BB998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02259-F515-46D8-9625-8FD155979D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ко спасенью новый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Христа открыт пре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тебе даруе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ворит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ть ко спасе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удьте, как дети!» — Он го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Христа нам радость да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щий всякий пусть повт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ый тот зов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что тебя зовёт Он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все сомненья, искренно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ди в Его отверстую д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зовёт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9:15Z</dcterms:modified>
  <cp:revision>13</cp:revision>
  <dc:subject>Slavic hymnal Гимны веры христиан, hymn 381</dc:subject>
  <dc:title>Путь ко спасенью</dc:title>
</cp:coreProperties>
</file>