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1DE-4F82-4A31-9C2A-4F6EDA5A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967-0408-4EF9-90B6-CA5022C8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384-FD97-4A60-9C44-200532CA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E97-BD3A-4EB2-9341-3AF289FB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F5D-6DD5-4DAF-AA97-2E47CC01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C84-4470-476A-AC55-1835B611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0FF-BF96-4891-B186-B634FDC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385-6E47-43F3-93A8-1DDC305E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A0C-A98F-4A6C-AE20-EFE37495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2DE-EDA0-4AE5-BEB2-650188F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1E8-457B-47E7-82A9-AD3945F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051-9139-46C5-AB57-A32905D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C8910-A198-4618-BA8D-3CDF0F0C47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s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ecious sil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s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Purify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 me fr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m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 me from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18Z</dcterms:modified>
  <cp:revision>9</cp:revision>
  <dc:subject>The Source, song number 436</dc:subject>
  <dc:title>Purify My Heart (Refiner’s Fire)</dc:title>
</cp:coreProperties>
</file>