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6895-253D-4F4B-831D-448A3585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AA13-44D8-4EA6-976F-44888704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84AB-7C1B-4725-A6A3-4BB52FE4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7DA6-FFD5-40E0-85F7-47E277B1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ABD9-D5CE-44B0-8A90-CDA02E9F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BA64-4CEB-4788-81D3-5566F620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E90A-63B0-427C-B02E-815F1745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A283-93D2-47E0-9949-72B9186B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0A3A-F356-4743-8A0C-F3ED0F99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E31D-89A3-43C0-9279-F21D4C30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B1C2-E54C-4DD7-BD5A-F4089052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806B-0F08-4D36-B8A3-E2FA4A4B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7FE3F-2D13-4152-85E2-491E66590F7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динокий, забытый, чужой человек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 ропщи на суровую долю свою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смотри на бездомных, больных и калек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 великую в мире страдальцев семь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аждый с горем знаком, своё бремя несё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ть проходит вздыхая, иль тайно скорб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, барахтаясь в тине житейских забо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Людям времени нет посмотреть на теб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динокий, забытый, чуж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яжело, тяжело одинокому жи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о ещё тяжелее не верить в люде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амыкаться в себе, втихомолку тужи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пасаться врагов и бояться друз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руг, забытый людьми, не забудь же о То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то тебя призывает в небесный Свой д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бодрись, не ропщи, молчаливо страда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лишь Богу в тиши свою скорбь излива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испытаниях земных доверяйся Ем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скорбями тебя приближает к Себ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згоняет из сердца неверия тьм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о Христом даёт мир и в житейской борьб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3:06Z</dcterms:modified>
  <cp:revision>13</cp:revision>
  <dc:subject>Slavic hymnal Гимны веры христиан, hymn 709</dc:subject>
  <dc:title>Одинокий, забытый, чужой человек</dc:title>
</cp:coreProperties>
</file>