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4B2F-DAEB-4E52-85F0-136D6BD6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211F-30B0-4459-8BF0-2003EE9D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8E88-32BC-4F17-98AA-983F6C88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34F7-3599-4DF8-A8EF-6E52FE9E9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7C8D-C2AC-4D43-826F-4E4BA637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99D6-42EF-4F45-9BA0-9034FD51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0CB3-8255-446F-BC46-BE7C881F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810E-442B-49CB-95B1-1A478BE7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541D-5E60-443E-96C3-6A6182F9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486B-15CB-48C9-B3FF-AB975B4F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B0D8-5A5F-4ABE-A480-A93B8222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8B65-12D8-4A4F-8EE6-D4FF7AB6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242A0-2BE9-4FA0-9C4B-96F4C5BBC74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ы ждём, когда Спаситель наш придё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ы ждём, когда Спаситель наш придё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ы ждём, когда Спасител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Ждём, когда Спасител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Ждём, когда Спаситель наш придё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ы все Его здесь встретим, как придё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ы все Его здесь встретим, как придё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ы все Его здесь встрети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се Его здесь встрети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се Его здесь встретим, как придё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ждём, когда Спас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ы аллилуйя Ему воспоё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ы аллилуйя Ему воспоё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ы аллилуйя Ему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ллилуйя Ему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ллилуйя Ему воспоё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 грешник, устоишь ли на пут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 грешник, устоишь ли на пут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 грешник, устоишь л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Грешник, устоишь л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Грешник, устоишь ли на пут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52:27Z</dcterms:modified>
  <cp:revision>13</cp:revision>
  <dc:subject>Slavic hymnal Гимны веры христиан, hymn 316</dc:subject>
  <dc:title>Мы ждём, когда Спаситель наш придёт</dc:title>
</cp:coreProperties>
</file>