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5E4-54BB-44A1-8651-287AC915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80B-5B22-402D-9443-FCE08FF7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537-500E-4812-8559-D65D18E0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352-571E-4C5F-A4E3-C68A0047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139-D953-4001-A332-E4644E2C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8B3-AED6-4EF8-AA8D-C28FCB66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186-E0C4-4A7D-A64B-E78F7333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B1A-E54C-40E0-A2A1-BD896B71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90F-8C25-4EE0-8D7A-D904673B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EBA-1AA5-4538-AEF1-5C2DC4D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1E0-D1F4-469B-8480-AB214278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8AC-1A63-4A1C-934D-D4B01266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11F6D-829C-4BBE-915D-CC618FD16A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shepherds watched their f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eat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 of the Lord came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lory shone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059   Стерёгших стадо пастух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рёгших стадо пасту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девших в тьме ноч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оза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слав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ear not,” said he, (for mighty d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seized their troubled min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 tidings of great joy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nd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» ангел обод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ожавших перед 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озвещаю радость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т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o you in David’s town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 of David’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aviour, who is Christ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shall be the 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ов город славным ст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ам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в мир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а всех плем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e heav’nly babe you there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uman view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eanly wrapped in swathing b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a manger la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ам знак: найдёте 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царской славы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ит Младенец в пе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слях Он леж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spake the seraph, and forth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ppeared a shining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gels praising God, who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dressed their joyful s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ишине н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пели 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скорбною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l glory be to Go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earth be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will henceforth from heav’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 and never cea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слава в вышних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людям на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оленье Бог я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ящимся во мгл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3T12:06:29Z</dcterms:modified>
  <cp:revision>11</cp:revision>
  <dc:subject>The Source 2, song number 1059 in Russian</dc:subject>
  <dc:title>Стерёгших стадо пастухов / While Shepherds Watched</dc:title>
</cp:coreProperties>
</file>