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79C-2AC7-4018-9682-664AD6F2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D5D-D547-4F94-B59C-FB6F1BD6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C7E-2365-45A7-9E3E-EDF0F968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B26-F6AD-41B9-B4D5-E02C8B95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23A-A417-49E8-BA75-08E2F585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695-1B59-49F7-9B34-654B378A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DC3-8DE3-430F-8371-C0D3FD0E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282-57A1-4B06-87CB-4890ABA3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76B-B674-4AE6-B7BE-4E3A8C79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C05-9998-4DB9-8482-525B899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915-B6A4-47A5-9293-8D331B44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7DF-1EDD-4B12-92D1-D2246B16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5BD94-E8F7-40FE-8BC2-6E554F22E0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eauty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y of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ove which from our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nd around us 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onder of each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ay and of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ll and vale and tree and fl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 and moon and stars of l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joy of huma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, sister, parent,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on earth and friend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gentle thoughts and mi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Church that 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th holy hand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ing up on every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pure sacrifice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self, best gift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race so freely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at great, great love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joy in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9:15Z</dcterms:modified>
  <cp:revision>12</cp:revision>
  <dc:subject>Slavic hymnal Гимны веры христиан, hymn 819</dc:subject>
  <dc:title>For the Beauty of the Earth / За добро земных красот</dc:title>
</cp:coreProperties>
</file>