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F54-799B-490D-8214-A9F95F17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386-6FD4-45F2-9662-FC71F5A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758-FB6A-41D1-A7F5-0C3C8B20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ECB-A552-4C61-B140-837DA776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2BA-9A57-4027-9AD5-D597C5D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52D-08C4-4085-8AB9-4F050FDE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D0D-24DA-4272-8B7B-51B3A1A0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E32-1ACA-44A1-AC8F-63ECE8C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5D4-4A76-4708-87BB-D2DB59A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C86-97BB-4920-A2A4-F82C576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625-F4E1-4FDA-95AD-FC0C9FA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242-26A6-418F-A9E0-CCC30BE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2F0F6-4AF5-4BA7-845A-AD49E0BC65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song of joy no one can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fferent faces, different r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us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Put This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ing one another with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d our tears of sadness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vers of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a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47Z</dcterms:modified>
  <cp:revision>10</cp:revision>
  <dc:subject>The Source, song number 292</dc:subject>
  <dc:title>Jesus Put This Song Into Our Hearts</dc:title>
</cp:coreProperties>
</file>