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7D2-241E-41B0-8F82-4723B6B9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740-A0C4-46F0-B2F2-B648416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B29-785F-4A96-9073-5DAEAF19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ACD-0764-43F2-88DD-D1541F4B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E7C-8743-4D6F-B1D7-AFD3741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3A1-8D57-4DF2-87DD-6BFD6EA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0A1-6B9A-417C-BEBE-A8C00C1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96F-346D-4DF0-9CB6-4F72013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676-A17E-47A1-AE7C-F2BDDAA0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97B-64E8-440B-95D8-387BAF6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8EE-CE84-4BED-8675-1980607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0C3-1FD1-4B28-947B-F80B1341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3205D-3B4E-4F93-85F5-A98C0DDF68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of life are ra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ests wild on sea an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k a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God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emies may strive to inj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all his art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urn what seems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everlast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He may send some affli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make me long fo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n love and not in 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chastenings will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while here the cross I’m b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ting storms and billows w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for my soul is c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can harm His Father’s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0Z</dcterms:modified>
  <cp:revision>13</cp:revision>
  <dc:subject>Slavic hymnal Гимны веры христиан, hymn 619</dc:subject>
  <dc:title>He Will Hide Me / Хоть и буря жизни стонет</dc:title>
</cp:coreProperties>
</file>