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0F8-CC72-47BD-A542-48E5EB0C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CB3-88AB-4061-965F-46ED74EE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39D-89BB-42C6-A4E5-28592978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8EC-A648-45E3-9CB4-45A422F7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7F3-9250-40AD-9362-BF85CCB9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6DF-F4AD-4E2C-BBC0-82CFB9D1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7BF-19C6-408E-A64F-5239B969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276-9754-4CA9-A2A1-6210946B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5A8-BAF6-45B2-A2E4-7DABE17D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D3A-4878-49F1-A244-26A76A58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25B-F3D3-4553-83FC-AAD5F93D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FBB-204A-49C9-AE45-F95FC9F2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CE309-F6DD-41C1-80F2-C5708499D2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Jesus bear the cross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world go 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there’s a cross for every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’s a cross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ли Он был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 Он был должен 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а все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каждому назначен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 крест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happy are the saint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once went sorrowing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they taste unmingled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oy without a t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ы святые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я тернист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жутких зрелищ их о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ом дышет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nsecrated cross I’ll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death shall set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go home my crown to w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a crow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сгибаясь под кре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 чуж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едёт в небес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венец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crystal pavemen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Jesus’ piercèd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 I’ll cast my golden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dear Name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ое имя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при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сложу к Его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клоню гла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ecious cross! O glorious cr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surrection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Chris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’n come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ars my soul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тяжкий крест, а там ―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часто бури 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борьбе придёт 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ойду в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5:31Z</dcterms:modified>
  <cp:revision>12</cp:revision>
  <dc:subject>Slavic hymnal Гимны веры христиан, hymn 811</dc:subject>
  <dc:title>Must Jesus Bear the Cross Alone? / Один ли Он был должен несть?</dc:title>
</cp:coreProperties>
</file>