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7D1A-CFE5-4897-B2F8-6B2DA18EF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03D4-F7A2-4C25-87A8-603FB783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BA78-7F7F-40BD-986C-EA7188B51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D578-4603-4894-A0ED-E73A810D7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227C-4207-4903-8B9D-DE2E5F95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819E-2C0A-4547-9BDA-5EBA9AD9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2676-6624-4B3C-8F01-F56E26CD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1F8F-1F57-4975-88DD-B5B6B7A8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1BDB-14BD-4F1D-BCBA-02B2E33F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0CDB-145C-49A0-93E0-1386C30B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A193-4B19-485C-9677-F53998FA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8828-2B87-4974-B601-88ACB810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48890-CCEB-47F2-88D1-3E65EF5906E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бр Спаситель: с неба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, оставив тр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, как дитя, как мы, был м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ид раба приня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нас Он слёзы проли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Он умир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учший, верный Друг де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никого вер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5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ак добр Спас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ходит к нам Он и теп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к нам ст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громко, то слегка, как в двер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входит, в нас ц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ьбу исполнить Он го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шлёт привет нам Св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небесный клад да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достный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жет видеть глаз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в мире зде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ре лик Его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т в сияньи ве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ветит кротко к нам с вы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царствует Твор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оворит: за гробом ж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сех благой От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лучший, верный Друг дет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йди, дай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е, кто здесь, могли в Т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торжествов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наших уст Ты пригот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у Твоих де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ели мы Твою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помощи Т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9:23Z</dcterms:modified>
  <cp:revision>12</cp:revision>
  <dc:subject>Slavic hymnal Гимны веры христиан, hymn 751</dc:subject>
  <dc:title>Как добр Спаситель</dc:title>
</cp:coreProperties>
</file>