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22F-685A-4D81-9B68-443EEBEB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5B0-934F-4E58-9FF9-3E04AFD5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17D-D5D0-4741-94B5-12B24F34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E6C-6D2C-44FB-B486-1CDB7F0B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E1D-6301-4EDA-BABA-EF398C7D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1AA-CAFB-4946-AFBB-D9F40488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695-420B-4663-85CD-A7E18989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632-9FDE-43C8-8690-6A286D58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311-7BD2-48F2-B16F-5844B21F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A74-5CA8-4E47-9EF1-458E95B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BF4-786F-4CC0-AD85-27BE33C6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0BF-1432-49B3-87FE-F754D0DF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A98C0-01E4-4773-B55E-8E07FAE1EF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heard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the tidings all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ь чудесная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чудесная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Церковь повт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 the news to ev’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mb the steeps and cross the w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! ’tis our Lord’s comm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радостной —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 мир скорбей и слё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весь нар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ft it on the rolling t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o sinners far and w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ускайте по вол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свет земли сы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ye islands of the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 back, ye ocean c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shall keep her jubil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жител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Божий юби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above the battle str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death and endless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 шуме битвы зл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й чистой 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brightly through the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heart for mercy cr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n triumph o’er the tom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если в сердце с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ред лицом угро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еснь в день похор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e winds a mighty v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nations now rej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ите вдаль и вши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икует целый ми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est hills and deepest c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song of vic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 царстве слё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ечный наш пса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7Z</dcterms:modified>
  <cp:revision>13</cp:revision>
  <dc:subject>Slavic hymnal Гимны веры христиан, hymn 572</dc:subject>
  <dc:title>Jesus Saves / Весть чудесная звучит</dc:title>
</cp:coreProperties>
</file>