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42C-EFE7-4BF6-9BDB-633D0E6F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B60-A1FF-4D99-86AD-12EEFECD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21E-9728-48AF-A3F6-364AC28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1CB-6BDA-4D70-9A65-2062CDF6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177-63C3-4041-9EBD-C7703283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56A-F24A-4E9A-81D1-8DF9A0EC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764-5E01-4214-8E93-BD34ACE0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D9A-B9A6-406A-8BF5-901CFD78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15B-AE27-453E-8F57-CFAA7E4F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679-1EC0-4B16-89BF-4024ACB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0D8-9B7B-41C0-A0B7-C7811EA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05D-A6C5-4B2E-882A-5D9AB20C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5526A-3F64-48C2-A30F-1E477FF24B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1:53Z</dcterms:modified>
  <cp:revision>13</cp:revision>
  <dc:subject>Slavic hymnal Гимны веры христиан, Ukrainian hymn 21</dc:subject>
  <dc:title>За Євангельську ми віру</dc:title>
</cp:coreProperties>
</file>