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879-F1C5-4F85-B2AA-CFD1446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125-A5A4-4F29-A8BA-ABF7A4D3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75A-9049-4CFC-93E2-1B852CC0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C74-B355-4321-A975-B135CEB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6D2-0650-41A2-94EB-573D622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51A-84D9-40B8-95FB-0A9269E1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EE7-79B1-4C00-A5BF-CD2B050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9DA-9D94-403F-A924-728C7EC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021-A55F-4A16-AC88-3F0A55C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0C6-157F-45BD-9AB9-C8DEC94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020-3804-4556-BF29-0D89FF7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83D-19D0-4C41-A06F-ED4AEB1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B90F-08E1-4A77-ACC4-731E9DC081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, though it is hidden from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You are there my heart is filled with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y should I fear when You go on befor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th night and day You set my heart at 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! The time of my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planned before I even lived on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eart is filled with wonder and e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have loved and led me all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You know all, the winds that blow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ighte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torms of life Your orders still obe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n though my burdens may not lig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I’m at peace, because You know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2Z</dcterms:modified>
  <cp:revision>14</cp:revision>
  <dc:subject>Slavic hymnal Гимны веры христиан, hymn 617</dc:subject>
  <dc:title>You Know the Way / Ты знаешь путь</dc:title>
</cp:coreProperties>
</file>