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815-26BA-4BAF-BCB9-0FD16A84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025-A6DD-45B0-8B88-EB2854CB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490-188E-4712-BE96-0795733A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DCE-13D1-4BCE-903D-73079ADF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5A6-B4D1-498F-860E-B527452E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81E-D1D6-487F-8D89-E5EFD7BB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D28-EAD6-4F4C-8832-546B3C79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09C-4D6E-4ABD-935C-F6704230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E71-F9AB-48FE-AAF4-5D7579AD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47D-53A5-47B4-99E3-AC0B960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22A-5991-48D1-84C6-48D19C79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800-6E5D-4B5C-910D-A0505A99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03F25-ED53-43F3-BAFB-52AFA0B46B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as! and did my Saviour bl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id my Sovereign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He devote that sacred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inners such as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ше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еленья защи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щь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 slain, sweet Jesus, T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athed in its own bloo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firm mark of wrath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oul in anguish 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ь провозгла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Бог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 меня, дал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ight the sun in darkness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ut his glori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Christ, the mighty Make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an the creature’s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не стыжусь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честье з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 незнающих прос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кресту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ight I hide my blushing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is dear cross app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solve my heart in thankfu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lt my eyes to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ст Он постыдить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ставит на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drops of grief can ne’er re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bt of love I o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, Lord, I give my self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all that I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, что мне Он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ёрже, чем крем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бережёт по сла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Ему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3:46Z</dcterms:modified>
  <cp:revision>13</cp:revision>
  <dc:subject>Slavic hymnal Гимны веры христиан, hymn 628</dc:subject>
  <dc:title>Alas! and Did My Saviour Bleed? (At the Cross) / Я не стыжуся возвещать</dc:title>
</cp:coreProperties>
</file>