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DBFAB-07D0-4FEC-92CA-3A232142D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5F5D7-F737-4135-9116-3D8B796A4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12B27-B9FD-40A8-9315-0E18837E5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552F3-788A-4EF5-9AAC-B34CFEAFA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D31FB-B54D-4F4E-99A0-23C0C37A9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1EED3-6613-4D25-9796-64D8F909C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E1787-E7A3-4C7D-9307-FC0237F4A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348BF-28AD-499F-AAFC-3CD7C03B9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03D7A-7C6C-4741-843F-FE7F18CD4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FBFA8-E2CB-4FE0-A0AB-32FCCFFBC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BF98A-73FE-44CC-B439-2EE7E0419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592EB-0E95-4022-B299-8A82D018E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C88B91-0520-4FEB-9ED2-DACB5BD93FC4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’ve found a Friend, O such a friend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loved me ere I knew Him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drew me with the cords of lo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hus He bound me to Him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97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Я Друга дивного позна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Друга дивного позна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есть ли в мире равный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ил меня, когда не зна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го любви я славно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round my heart still closely tw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ose ties which naught can sev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I am His, and He is mi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ever and fore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еня с Собой соедини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милостью держав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чувство веры мне влож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я Его вове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’ve found a Friend, O such a friend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bled, He died to save m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not alone the gift of lif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ut His own Self He gave 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Друга дивного познал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му, о люди, верьт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и грехи с меня Он сня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пас меня от смер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aught that I have mine own I cal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’ll hold it for the Giv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y heart, my strength, my life, my 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re His, and His fore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ите все к стопам Е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опытом измерь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велика любовь Е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ныне, и вове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’ve found a Friend, O such a friend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pow’r to Him is give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guard me on my onward cours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bring me safe to heav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Друга дивного познал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силой облада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, если б мир мне угрож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помощь обещае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’ eternal glories gleam afa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nerve my faint endeavou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o now to watch, to work, to wa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hen to rest fore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не вера от Него да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дух мой ободря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перь кругом борьба, война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тем покой вове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’ve found a Friend, O such a friend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o kind and true and tend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o wise a Counsellor and Guid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o mighty a Defender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Друга дивного познал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любящ бесконечно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им советником Он ст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ждём к отчизне веч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rom Him who loves me now so 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at power my soul can sev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hall life or death, shall earth or hel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! I am His fore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41148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ая сила разорвё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юз мой с Ним сердечны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ль жизнь, иль смерть, иль чад забот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т, я Его вовек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48:41Z</dcterms:modified>
  <cp:revision>13</cp:revision>
  <dc:subject>Slavic hymnal Гимны веры христиан, hymn 597</dc:subject>
  <dc:title>I’ve Found a Friend / Я Друга дивного познал</dc:title>
</cp:coreProperties>
</file>