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ED6-A23C-432C-BC8B-831E9AD2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379-4800-406D-99E5-4673A07C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D9A-D25E-488E-BFC7-0968DAAF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B3C-54F9-40E1-989D-A9E38FF6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4C7-0B82-4BD7-8CA5-DAFD746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C46-2A4F-40B6-A551-214E9092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30E-15E0-4588-B580-4691113E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A0A-7564-409B-9D96-AE6CF5DD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FE5-9EB5-4360-8D39-E3358C54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18F-27A8-4DFA-A47E-24189B0F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4AF-97BD-4E80-9B65-D40886B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A1B-DFAD-420C-BF97-1A527218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8B76F-608F-4847-81B8-4E97660E85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Друг —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для меня вс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й любв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— знаю, что Он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— за грех мой кровь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пас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 наполнил мне хва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Ему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, Он близок мне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лучимся нико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язи живой, как ветвь с лоз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в Нём, — знаю,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день, в небесны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и буду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кну: «О Господь, Ты — 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37Z</dcterms:modified>
  <cp:revision>12</cp:revision>
  <dc:subject>Slavic hymnal Гимны веры христиан, hymn 586</dc:subject>
  <dc:title>Небесный Друг</dc:title>
</cp:coreProperties>
</file>