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2EF-42C1-4DF3-B85E-FAAE382B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62E-8F7A-49BD-9465-20D38B13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CE4-2F55-4598-95D1-77D3810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B07-2155-4F8B-A495-386FA9B2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F7E-E1B3-49C4-A8D0-D860A5C9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DF3-0BB3-4D80-B1C7-A60E991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A17-B849-4827-8C64-8919E39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3F9-EFE5-40C3-A0D9-B5862332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658-128B-49CB-AE59-34359CBE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6EA-DB76-446F-B376-2950FB9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20C-9678-441A-A38E-F846820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277-6C58-4EF5-80A9-0832694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8C768-CF57-467D-A195-156605469B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2Z</dcterms:modified>
  <cp:revision>13</cp:revision>
  <dc:subject>Slavic hymnal Гимны веры христиан, hymn 713 (as amended)</dc:subject>
  <dc:title>Take the Name of Jesus With You (Precious Name) / Призови Христа, о грешный</dc:title>
</cp:coreProperties>
</file>