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085-D19D-4DA1-B1D8-517A9E0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1FB-E4E9-4406-AD6E-66B58D76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E7F-CBA9-4E68-9078-5A491F39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B06-8814-4F35-B0EC-21F01064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B71-690B-4DFF-A187-A234515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2EA-045C-4488-BF36-3EA1FE9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429-5FBC-4641-B0BA-50147BC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1BE-918D-4879-A149-D6E5915D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DB3-26E9-44B4-9147-500D1D5C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544-906E-4A3C-991B-9ACEE4B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224-4F88-4FD1-B8C5-9018DE17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605-6165-41AD-87C7-8A65CE2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01218-28F0-430D-A597-9001E2B4D2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11Z</dcterms:modified>
  <cp:revision>12</cp:revision>
  <dc:subject>Slavic hymnal Гимны веры христиан, hymn 650</dc:subject>
  <dc:title>Мой Бог — скала</dc:title>
</cp:coreProperties>
</file>