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2604-8BAF-4F13-BE14-A2A92D7B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00E-AE1A-4AE4-8A6B-0673AAF7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EA8-8AA0-4C29-8900-C1846E13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996-95EA-41D4-A472-16FAD1F3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3A9-2F78-4E6D-9D88-64999096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B58-D66A-4FB6-B6D0-C4955100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DB8-F753-449B-B903-335DE408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DF1A-DE06-4E4F-B225-335F5EFE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ADEC-DB5E-4BE2-BDD7-347014C0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3F6-9E38-4A3E-A2C1-FF7EA3CA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5DE4-BDC3-434D-AA49-4BACF44D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C3D7-F29B-42CE-BCD5-75B5FCC9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33A1D-9A83-4926-84F9-1E3A19152DA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the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the Lord of lor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name is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He is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44   He is the King of K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5:19Z</dcterms:modified>
  <cp:revision>11</cp:revision>
  <dc:subject>The Source 3, song number 1244</dc:subject>
  <dc:title>He is the King of Kings</dc:title>
</cp:coreProperties>
</file>