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B5D2-3F22-4610-A670-541B19D2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C027-2756-4F69-8902-4FDE47E8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D2FD-1D3E-474A-9C40-B3478044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BF1D-A530-4497-A98F-95CADDF6F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6EEA-AB5E-46CE-AF18-045FF2E4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473D-6078-44F2-8856-2BDE9768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28A8-9ED7-4719-AD1C-AEEE7187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5314-3227-4AAA-A799-ADB58BCF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2D8B-D906-4A17-AF09-8CDF216E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FF3D-E902-482D-AFFC-5511134D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68EF-7F33-48E3-A043-49968529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D81E-13CC-4112-85A7-7EC0569A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1BF37-66C1-4989-8B38-2BBB466F792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-то в свете без те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десь, а там в краю род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чтём значение скор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кровенное пойм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Богу доверя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ведёт прямым пут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темно, но близок 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, о, там мы всё пойм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-то в свете без тен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ём потерянную н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ончим начатое д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тайны сможем уяс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ё земное там пойм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Богу доверя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ведёт прямым пут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темно, но близок 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, о, там мы всё пойм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темнело всё вок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пеха не было ни в ч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есня обрывалась вдруг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е небесной мы пойм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Богу доверя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ведёт прямым пут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темно, но близок 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, о, там мы всё пойм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знает всё, Он держит клю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ведёт в небесный до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зноя нет, ни грозных ту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вет и мир, там всё пойм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Богу доверя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ведёт прямым пут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темно, но близок 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, о, там мы всё пойм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8:55Z</dcterms:modified>
  <cp:revision>13</cp:revision>
  <dc:subject>Slavic hymnal Гимны веры христиан, hymn 667</dc:subject>
  <dc:title>Когда-то в свете без теней</dc:title>
</cp:coreProperties>
</file>