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87B-CB33-485A-BB27-31787811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E54-A616-482B-85C4-DE9A421B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AE3-7852-4C6E-97D9-F452E5D5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924-F23A-4DA5-9179-D0971CDF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E77-A498-4DCF-BC15-25B9192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22C-7638-47F7-B924-38E362C1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3EF-88F2-4FFF-9996-DA466F76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D12-D28A-4203-9658-4F8F625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ABD-B036-47D1-B22B-0447B544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589-7939-4245-99BB-505AE67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4B0-9612-421F-91E6-E8895DD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E1C-30AC-4901-BF9B-3D5BC4C2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8AED6-DADC-4CF4-AA20-0C4DF209E5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iftly all our days go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anish without t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oon as one day runs its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takes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й черед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день один к концу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стаё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knew and trusted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ing in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promised vict’ry o’er the 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ed pea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л, уповал,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л с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Христос чрез мрак мог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в Свой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nal hour of life wi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enter my eternal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ich I’ve yearned since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обьёт и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час жи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у после обита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о Богом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no doubts, for I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t the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ear nor be dismay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has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верю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Господний 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страшен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век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at awaited moment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, Lord, among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ervant, saved by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станет жданны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не с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между слуг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го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0Z</dcterms:modified>
  <cp:revision>13</cp:revision>
  <dc:subject>Slavic hymnal Гимны веры христиан, hymn 735</dc:subject>
  <dc:title>How Swiftly All Our Days Go By / Как скоро дни летят вперёд</dc:title>
</cp:coreProperties>
</file>