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9AE-486B-4805-8AD5-C7A9C24F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BEC-FFA7-4C83-81A8-0049353F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154-4528-4E84-91F5-D2595615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896-8ED5-458E-A71E-4E249B9C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FBE-7F95-47F8-A040-67FD1E19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994-24F7-4A25-99D8-EB82A9D8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AC6-1F44-40BF-845C-DA8D6ECB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3FD-5A69-42DC-953E-962A60D3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839-9009-4F8B-B924-14E3DBF1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21E-CF00-4DD6-BF36-63F387B8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277-CB73-4FE5-AED6-647B058C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A6A8-1C34-4DFD-824A-5E3D6B5E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97101-4082-49E9-AC55-4A6D7AE304E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Must I go, and empty han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my dear Redeemer m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day of service giv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y no trophy at His f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0   Не хотів би я без пл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ніп один хоч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t death I shrink or fa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saves me 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meet Him empty ha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t of that now clouds my b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життя дав, добре 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смерти не бо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сам себе пит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чим я перед Ним з’явлю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years in sinning was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I but recall them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give them t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s will I’d gladly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 хотів, щоб ще верну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і роки, що я прож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сім серцем і душ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би служ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 saints, arouse, be earn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 and work while yet ’tis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night of death o’ertak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ive for souls while still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рацюйте, діти Бож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дивіться! вже смер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негайно закли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і душі до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5:08Z</dcterms:modified>
  <cp:revision>12</cp:revision>
  <dc:subject>Slavic hymnal Гимны веры христиан, Ukrainian hymn 50</dc:subject>
  <dc:title>Must I Go, and Empty-Handed? / Не хотів би я без плоду</dc:title>
</cp:coreProperties>
</file>