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494-52AE-41D1-AD2D-C7387B45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9FF-84F2-49DC-8584-AFCBF2EF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97B-9F35-467C-955D-AD5177C1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635-F1BB-4F29-AC89-C4CC83B3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EAB-3206-4ECD-8E20-074130F1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E9D-3833-4915-9556-D6085150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F3B-E603-4BF6-AAF5-AD7B53C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E23-59F5-46B7-8643-FD0708EC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F0A-3F42-497E-9731-C24BB29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249-6176-4DA1-B286-83DEF689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282-98DF-4046-871D-E2594BA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E92-EC4A-4A9A-8A96-6C5D0EA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8CB14-6140-404F-B85F-38AEC78C6D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, друг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Христа сто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спечности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мир гляд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без замед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аши благ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без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ы, друг несча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Как солнце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ердц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Счастливый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н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и брось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Христа свят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пусти ты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емленьях суе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мой друг, сего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е оп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й, любовь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з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, быть может,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твой стыд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может с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53Z</dcterms:modified>
  <cp:revision>12</cp:revision>
  <dc:subject>Slavic hymnal Гимны веры христиан, hymn 351</dc:subject>
  <dc:title>Зачем ты, друг несчастный</dc:title>
</cp:coreProperties>
</file>