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BBB-00A1-4E26-ADFD-20033395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897-4416-4527-8D6C-A48649B4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AA2-0F7B-46AF-A22B-1A9A144F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A5F-0179-48EE-BDF6-4350ED3A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A2A-8666-4C5E-B424-2E79EAFD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1AE-2666-4266-A8FB-8118153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778-A0B6-4C42-AA20-293C2BD6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535-E292-4320-9FDA-DFFCF12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775-4BA8-4532-A0C3-6C711A06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631-2EED-4BF6-8BCA-F4C294D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674-C718-4575-AC46-801B2B6F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E55-26CC-4207-9C99-61B36F2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31350-104B-471D-8B90-7EC4C7EF16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O blessed tho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s with heavenly comfort fra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I do, where’er I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God’s han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’mid scenes of deepest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where Eden’s bowers b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s still, o’er troubled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His hand that leade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uld clasp Thy hand in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ever murmur nor rep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whatever lot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’tis my Go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tas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y grace the vict’ry’s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death’s cold wave I will not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through Jordan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50Z</dcterms:modified>
  <cp:revision>13</cp:revision>
  <dc:subject>Slavic hymnal Гимны веры христиан, hymn 644</dc:subject>
  <dc:title>He Leadeth Me / Господь, Ты Сам меня ведёшь</dc:title>
</cp:coreProperties>
</file>