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F48-70D2-4BF4-9E16-C4C93F1C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FD6-60E2-4538-896A-AFE1C346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96D-DBB5-4A14-971A-ACE78C1F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FF0-37AC-453C-B241-55A9510F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058-BAEE-4E6D-93C2-AB1C5D23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B8F-B75D-46B3-B8ED-0D6921AF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1E8-42BD-45EF-A514-BAB12FB7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7B8-EC72-4630-B520-DECA71C6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2F9-70AD-461E-95DC-8A4330F1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B74-A15A-47E4-870D-97FF117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41A-5B8C-400F-B981-4EDEF08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073-87C1-40D6-A778-D1E9195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755C5-EF13-4443-A11A-0527F3C0F0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один в руках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ночь мне не страш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устым пред Ним яв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так страш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мне года бы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было возвра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и радостью, и счаст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б Господ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дитесь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ка не поздно,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ербуйте д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14Z</dcterms:modified>
  <cp:revision>12</cp:revision>
  <dc:subject>Slavic hymnal Гимны веры христиан, hymn 532</dc:subject>
  <dc:title>Не хотел бы я бесплодным</dc:title>
</cp:coreProperties>
</file>