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FC7-4407-4E8F-B6C9-7EF297B6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CD3-2FC9-4B7C-83E8-EA927DC7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4B9-00D8-4C2E-8E23-AC42CE82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37E-2364-46F7-BBA6-7FF54FA2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0FB-FAF5-4BBD-87F2-C51F0C23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67A-0716-45D1-BC06-E0F63BCE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77F-8635-46AF-8A3D-5E87D5D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3BC-D03B-4EAD-BBB5-4ADED28E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EF8-5CEE-4E21-B09F-29E55662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56B-0BD2-4C19-ACB0-276E544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711-18A1-447C-8C38-126DC9B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73E-C83F-403A-A1A6-3128BA6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B8F0-E834-4840-88EF-A2C37E31AC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01Z</dcterms:modified>
  <cp:revision>12</cp:revision>
  <dc:subject>Slavic hymnal Гимны веры христиан, hymn 857</dc:subject>
  <dc:title>Спаситель говорит</dc:title>
</cp:coreProperties>
</file>