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984-23FA-4CF8-BBED-3EA590DD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722-94FE-468A-8E65-1D21D7A7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79A-93EC-4568-BE02-1B9D926A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526-7A15-4288-9733-567FB87A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669-629C-48BD-AE93-45BE1C0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7D6-4265-4834-B048-BFC7C42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21A-1E2A-46ED-98DA-2B1F81B3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A92-8934-4501-BC4A-2334465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5D4-ACA4-4D2A-8FAC-F610647F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589-CADE-42EF-9E3F-F46E082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82D-157F-4A37-A97A-3D3492C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F13-5DD9-46A5-82C6-B5EB68A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C2BE2-B48D-40B5-A862-C36A15271D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вопрос за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да же приду и яв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дом, как покорный слуг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я слезами заль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ьких насмешек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ерна стре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чу в тоске и томл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поминаю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огда с радостным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ю мы шли в Бож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ы над мно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верой доныне вз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ладыке небес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ём явит Господь Свою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очью — хвала зазвуч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Богу правды и 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а что я Тобою забы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й ожидать и терп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га ещё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буду я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48Z</dcterms:modified>
  <cp:revision>12</cp:revision>
  <dc:subject>Slavic hymnal Гимны веры христиан, hymn 448</dc:subject>
  <dc:title>Как серна стремится к потоку</dc:title>
</cp:coreProperties>
</file>