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F50-8D49-4423-B9A3-464C6269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094-35C5-495F-8B60-ECD0062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32F-FC9C-484E-A648-CFB9F282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4A8-341F-40A1-A1A2-474C73DB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2D9-ECE7-477A-AB6B-A3AA8C0F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59B-5D47-4AD4-8F9E-4431CB4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4F2-56FF-47E1-97C4-C9C079F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0A6-3DD2-4993-9838-64C9351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392-7431-4078-9FFD-3C71B95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327-1F09-4F33-BF3F-D7EB66D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07E-7535-44F3-A9CF-E707004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B54-FB97-4BE0-822E-E3476DA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D0F9B-3F01-4CDC-8918-E816E01559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2:52Z</dcterms:modified>
  <cp:revision>12</cp:revision>
  <dc:subject>Slavic hymnal Гимны веры христиан, hymn 598</dc:subject>
  <dc:title>Я подвластен Христу</dc:title>
</cp:coreProperties>
</file>