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A2B4-F64D-4B31-BF30-1E680EBA9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3F4F-2BCB-4227-8734-EE5DC35B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8348-5FA8-466F-81CE-0B39155FD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7FA1-259A-4128-AE3D-E8E441831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2A73-8C1E-4CEF-8F5C-57432616B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7279-EEDF-424F-A7EF-25E620BA2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FF87-7C28-453C-99CC-DAC8ABAF8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4836-528D-4B84-A316-7F016C717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179D-01C5-4F94-960F-647815178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BEDC-53BF-4D3F-938A-4E1F866E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6AB1-1A2D-4E3D-85A1-12747B95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962F-DD9A-4880-830B-1B39B01F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7B4E8D-9FA7-418F-B9B8-6DD51D80702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ust let me 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much I lo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me spe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Your mercy and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ust let me l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shadow of Your beau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me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face to f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850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Just Let Me S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earth will sh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Your word goes fo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heav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n tremble and f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ust let me 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much I lo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my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Lord and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ust let me h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finest whis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You g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ll my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et me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power and Your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me f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Spirit’s fl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me find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des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il this s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holy 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am f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pletely surrend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Lord and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let me 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much I lo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ll my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ong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I am ca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is passion of kn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endless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ve found i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depth of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forgiveness f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e ca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child of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ust makes me 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much I lo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my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Lord and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26:32Z</dcterms:modified>
  <cp:revision>11</cp:revision>
  <dc:subject>The Source 2, song number 850</dc:subject>
  <dc:title>Just Let Me Say</dc:title>
</cp:coreProperties>
</file>