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FE23-33B0-4230-B5BF-7A372773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E9CE-C173-4C89-A0FD-1437D070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1E2-00CB-4726-8646-A0CC0DCC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6B28-DAEB-4F0B-A972-59B1172C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187-D6A6-4CA4-AE1E-585D6BA4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D7B4-A476-42C9-B3D9-C6C69DF7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375-83F7-4CBC-A641-9EB0E5CD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3F2-C12D-42D0-81DE-79FA3D25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E5F-4A0A-4A7C-AD7E-0CC89A13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C2E9-5B5D-43A9-AC59-D1097BDF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80A-8DA2-4B06-8FEC-98E9ECA7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F3C2-F899-4828-B67B-972B0B91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A4530-C893-4883-A9D6-3A24DCBB1AD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s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mercy and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lets me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hadow of You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may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face to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50a   Just Let Me Say (revis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earth should sh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word goes fo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heav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ld tremble and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thes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say: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inest whi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 g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m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me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ower and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’s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have foun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my de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s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holy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broken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let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ll my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found in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am ca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passion of kn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endles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depths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orgivenes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child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makes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6:56Z</dcterms:modified>
  <cp:revision>13</cp:revision>
  <dc:subject>The Source 2, song number 850 (as amended)</dc:subject>
  <dc:title>Just Let Me Say (revised)</dc:title>
</cp:coreProperties>
</file>