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EAF-42EA-46A2-88A2-954FAC78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DB1-FF7C-4D4C-A708-802A454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D2A-9373-4F80-98BA-B181AFD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85-0135-4BB6-9A46-369CB042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707-CAF1-45E6-9C9B-FD7CA2C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FFA-26DA-411D-BE1D-AA75B72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987-E8BA-43A6-84BF-4237D7BE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AE4-545C-4D5C-8CA0-BC9BA6B3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4A1-FBF2-461D-9429-12FD2F82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D30-D367-4C7E-9621-2A6126B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733-FAD9-442B-9771-4D7FA67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480-91D5-4A9C-910F-E5AA710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4482-E07E-4663-9F01-01C42835F4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Господа ни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жизнь, ни смерть, ни день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мн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ю крестной приобр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ерен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Он во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ух Святой здес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оснулся и наста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. О счастье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я с Господом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едёт меня в отчиз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24Z</dcterms:modified>
  <cp:revision>13</cp:revision>
  <dc:subject>Slavic hymnal Гимны веры христиан, hymn 614</dc:subject>
  <dc:title>Уверен я</dc:title>
</cp:coreProperties>
</file>