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8DA1-E021-4E04-B8B6-9933C3A05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713B-A8D3-46AA-907B-19D9367CD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DE5B-C809-4A43-B8B3-60BA8FD41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B2E5-2B42-4745-A172-BAF74737B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1E68-2C79-40D1-9398-274737E91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C04C-EF2F-4653-8C65-1FA79406A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E3D5-4DF5-4380-B1A9-5B5E9F40C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9A63-D8B6-49D4-AE45-B46A77EE9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7722-CC5E-4542-9721-D3D3830B7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AAFC-AA29-412A-B02B-C82B9B1B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814E-9EAD-4858-80AD-9878236F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1078-72CE-4B51-A3D5-DE49FA04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758CF2-E7C0-4007-AFC2-87C0AD42694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ou didst leave Thy thr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Thy kingly cr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Thou camest to earth for 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ut in Bethlehem’s 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as there found no 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Thy holy nativ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4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н оставил престо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оставил престол и на землю сошё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б народу принесть благод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ифлеем тихо спал и совсем не жел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збавителя в дом приня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ome to my heart, Lord Jes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room in my heart for The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ойди же, войди мне в сердц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есть место, Господь, для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aven’s arches rang when the angels sa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Proclaiming Thy royal decre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ut of lowly birth didst Thou come to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in great hum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лебался эфир, ликовал горний мир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озвещая рожденье Цар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о смиренного тут не особенно чту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взошла им любви зар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20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ome to my heart, Lord Jes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room in my heart for The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ойди же, войди мне в сердц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есть место, Господь, для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ou camest, O Lord, with the living 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at should set Thy people fre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ut with mocking scorn and with crown of tho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y bore Thee to Calv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лово жизни принёс, осушил много слёз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збавитель любил и спаса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о народ озверел, перешёл злу преде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 Голгофу Его посл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620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ome to my heart, Lord Jes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room in my heart for The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ойди же, войди мне в сердц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есть место, Господь, для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829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the heavens shall ring and the angels 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t Thy coming to victor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et Thy voice call me ho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aying, “Yet there is room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 is room at My side for the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адрожат небеса, все узрят чуде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падут пред Иисусом в мольб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, скажи мне тогда: «Поднимися сюд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десь есть место, Мой раб, тебе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620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y heart shall rejoice, Lord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ou comest and callest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ойди же, войди мне в сердц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есть место, Господь, для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50:16Z</dcterms:modified>
  <cp:revision>14</cp:revision>
  <dc:subject>Slavic hymnal Гимны веры христиан, hymn 240</dc:subject>
  <dc:title>Thou Didst Leave Thy Throne / Он оставил престол</dc:title>
</cp:coreProperties>
</file>