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2C5-D5E3-4D6F-9509-E8FB4251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D53-F503-46E1-87DF-38E66A7F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959-74CA-4CCB-BC44-DD2443CC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BCB-A026-4B93-8E5B-7D024E45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2E2-0A64-41FF-A445-3452615E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B43-5563-4F5E-AB34-D090359E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005-5360-4D48-8622-4863581A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57F-1F0C-4332-BB0C-0111C891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943-E310-4D62-A14C-0EE9F83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DF7-C0F0-4806-8E5A-E3818D4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102-BC2C-48A8-B60D-BBDD03B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633-6018-4BD2-B679-594DF69E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C71F5-515C-4A98-863F-2580778AA8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hu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heal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comfort like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eel the sweetness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iercing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bright and morn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t ushers in His joyful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re There Once W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hu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heal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comfort like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eel the sweetness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iercing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bright and morn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t ushers in His joyful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anger lasts for a moment in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is favour i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ll be on me for all my life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43Z</dcterms:modified>
  <cp:revision>10</cp:revision>
  <dc:subject>The Source, song number 577</dc:subject>
  <dc:title>Where There Once Was Only Hurt (Mourning Into Dancing)</dc:title>
</cp:coreProperties>
</file>