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E933-5C8D-42D3-9F14-BA68EBC3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A66-5F68-4958-AFFC-7C72EC25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20FB-2EED-4BD7-BCB5-C9267262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E2D-48A9-4A35-80F6-228BA3EB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1A7-86B3-4518-894B-CD810E41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941-EED5-4007-9BC9-85EFDE22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F74-623A-4074-BB4B-0867CEA8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74F-A881-40A4-9205-99E305E5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E63-2ED3-40D1-8F6F-0CC7D3D8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33D-6B4A-4A8C-96B0-145416F6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9DA-EAB6-4B71-9849-F0352964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36EF-2302-4566-B58E-7F07A508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8121D-B2C6-4472-BB95-1440BBA31E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вы налил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ю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шлёт жнецов к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ли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еперь их м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е жатвы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е ли, брат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ивы налил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истое з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жать серп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гибнущих иск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их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ому ты бр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у протя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 к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здному вдох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рабо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вы не уй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шь: «Раб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ь ты войд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истое з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жать серп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гибнущих иск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их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солнце св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сай народ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ы день не до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он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без снопов жи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Христу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тарайся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ольше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истое з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жать серп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гибнущих иск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их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03Z</dcterms:modified>
  <cp:revision>12</cp:revision>
  <dc:subject>Slavic hymnal Гимны веры христиан, hymn 533</dc:subject>
  <dc:title>Нивы налилися, ожидают нас</dc:title>
</cp:coreProperties>
</file>