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78F-4DBF-454F-80EF-9ADACEFB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059-EA46-48ED-AB9B-FE1ED91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2B4-F759-4588-A219-6BEC4B4A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6AD-860D-469B-A58A-1E98009D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427-AE6C-464D-A765-29C6C97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5F5-32C5-42D0-9B62-3FBDF534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F73-C12A-47EF-93DB-AA77C198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EA3-EDC7-4B18-A488-1B4E58D9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EE1-2F69-4DEC-8AB3-A1FDC44E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61A-FE2E-4010-92AA-40C3E289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387-5200-41C2-B4D3-8C9B6FE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0A7-30D0-4F9B-8A09-2422DA59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1C821-B43F-46B6-AE5B-7774B58B1E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24Z</dcterms:modified>
  <cp:revision>12</cp:revision>
  <dc:subject>Slavic hymnal Гимны веры христиан, hymn 729</dc:subject>
  <dc:title>По слову Твоему, Господь</dc:title>
</cp:coreProperties>
</file>