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0DA-40FC-49FD-A13F-55AC6571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A13-2425-45AD-B605-3D523281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F7A-AD66-4542-AC54-A4055D53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B25-E266-4D53-9696-E034B64F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15D-114B-46EE-B41F-07B4B883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426-A4F0-44AC-B898-31F15FDE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CEB-F16F-4EAA-8E00-B6028ACA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13C-3CC7-4D18-B068-3EFC2BAC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671-83F8-433F-9CC1-9962817E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F1D-5867-4ECB-BB62-9A7A6E9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256-CF88-42D3-B024-D88E90F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858-771D-4BD2-874C-C1C2AE8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6A258-ABDC-43C4-8390-41C03CDB4F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4   I Come Before You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25Z</dcterms:modified>
  <cp:revision>12</cp:revision>
  <dc:subject>The Source 4, song number 1884</dc:subject>
  <dc:title>I Come Before You Today (Thank You, Lord)</dc:title>
</cp:coreProperties>
</file>