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C7E-6FDF-4CF6-883B-97493277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F6F-9FD7-4538-A1C7-C100D01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F25-2546-42F5-A855-C4FE1770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D69-D37B-4D54-9F79-55F27569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A7D-9619-40D3-A996-41D6E1F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DA2-11A9-4DB0-85E6-9424A058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136-04E1-4A1F-A8D4-7A4C97C2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738-4453-42C9-9700-B5051DC4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9E4-1A0B-4375-9417-C44403B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D5F-4B50-4A43-B7ED-FEAA743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535-FEA0-4EAB-9383-8A1AC0E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78A-BEC8-49AD-9890-40FAE8F5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3B002-6FFC-40E2-83A4-466A5E81E0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salms to Jesus v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ur joy full s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n sin benigh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rs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s blood u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been made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by Sinai’s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face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he thunder frigh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s to u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grace from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from wrath are w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love 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we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heav’n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uth ’t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rd, that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2:26Z</dcterms:modified>
  <cp:revision>13</cp:revision>
  <dc:subject>Slavic hymnal Гимны веры христиан, Ukrainian hymn 10</dc:subject>
  <dc:title>Let Us With Rejoicing / Браття, всі радійте</dc:title>
</cp:coreProperties>
</file>