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72D-2B1E-4E68-B7DA-A00DF7C2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562-AFD7-4503-9541-25119479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A22-8E7D-4778-BCA6-5C02275D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EB42-3303-42F0-B0EF-85FCC5DD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FD2-E3E0-4BC1-A4D9-2913E65A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37B-B4C2-49DE-8B45-D00ED1FA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7822-A822-4083-9F0A-FF0E7079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90D-B4CA-4733-A465-6D1AEE42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07C4-2F15-428D-A2E3-AF026BB2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4FB-BA85-47D3-844A-12FD28E2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E7D1-04F1-4051-A5A5-4337AF81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97A-B718-4311-97B5-4B19776E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59657-2BFB-47FA-8CCF-EA92BE25F2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salvation b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death on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souls of people 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gladly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1   За Євангельську ми ві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Євангельську ми ві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Христом підемо в слі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єдиною сім’є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за Ним вперед, впере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rcely, on the battle rag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grows dim—the end seems n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attle of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keep Thy banner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ротьба іде кипу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емлі по всіх місц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іли хоч гріха пекучі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 прапор святий в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world of cold in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from Thee turn a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to reveal the differ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for Thee, what e’er be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 байдуже спогляд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розп’ятого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Христос заповід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у присвятить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ortress Faith,” as Zion’s daugh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, Jesus, to protec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give our foes no quar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orldly lures re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у й святість ― скарб від Бог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ронімо ревно вс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ине земна тривог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Христос прийде в кра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in our obl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faithful to the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bound’ries of Thy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pow’r we may ext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вду сіймо, свято жий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світло понес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шу ми любов загрій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аці щирість покажі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9:41Z</dcterms:modified>
  <cp:revision>13</cp:revision>
  <dc:subject>Slavic hymnal Гимны веры христиан, Ukrainian hymn 21</dc:subject>
  <dc:title>Tidings of Salvation Bringing / За Євангельську ми віру</dc:title>
</cp:coreProperties>
</file>