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F2E2-D1CA-4D3E-BB78-EAC17106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9652-682A-459C-BC7D-4C5FAA8C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CC8F-AA29-4FB0-9461-F3AA2798D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7512-860C-4F3F-B588-FBB28407E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1B70-3982-462D-AE7F-665428AF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FA7C-B52D-47A3-A4B8-40C56092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BCF5-765E-49D1-9394-A2F6B7CE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A3F1-8714-47E2-A41C-93E4D104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B13D-C6A1-4EF7-877E-3C239079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D1C1-E057-4CCC-B66D-2F1A0366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45B2-100A-466E-9EBB-AB097E66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3A52-C912-4205-BC58-03E7928F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5508A-68C2-49D6-B098-A596CCCB565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сли, чувства и д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, силы и познань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Его меня спас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Его меня спа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Его меня спа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ё Иисусу, всё Иису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пусть Ему лишь служ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ги пусть за Ним и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и — на Него взир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о Нём уста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о Нём уста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о Нём уста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душой взи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ирское не гля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влёк меня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Ему принадле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Ему принадле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Ему принадле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ликий дар спасе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целый мир соз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л бедное твор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Своим на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Своим на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Своим на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3:59Z</dcterms:modified>
  <cp:revision>12</cp:revision>
  <dc:subject>Slavic hymnal Гимны веры христиан, hymn 548</dc:subject>
  <dc:title>Всё Иисусу, всё Иисусу</dc:title>
</cp:coreProperties>
</file>