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6D7-9528-4975-98DB-06E960A3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B2E-0F74-4E04-80D3-8DD9CF75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658-46AE-42B0-B0A3-A3BDE8BE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E93-2F57-423B-87C5-2BC9A3B1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317-F027-4FDB-8CDF-191B5975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228-7E68-4B10-8675-93DFF61D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28E-820F-4934-9502-E404BE62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EBF-4C5C-4EC8-A407-DB3C98F5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DA6-AEED-432C-9FEF-69C3346E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572-AE94-468F-88D5-157964A0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204-500E-45F0-8058-978B3E11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1A2-DB2E-4659-B946-77D48680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9D487-C16E-4F6C-B126-EC38559F06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ходи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мой Руко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Ты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 лицом Тво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на Теб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жу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Тебя у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знать Тебя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радостно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ам Ты мне откро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шь меня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1:13Z</dcterms:modified>
  <cp:revision>12</cp:revision>
  <dc:subject>Slavic hymnal Гимны веры христиан, hymn 809</dc:subject>
  <dc:title>Пред лицом Твоим, Спаситель</dc:title>
</cp:coreProperties>
</file>