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A04-A236-4203-B76B-E7361487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1E9-F1DF-4436-9F39-D232A361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26E-85EF-4560-9C18-DDEEBBF0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6EF-C9A8-44FD-9CCC-128F71E9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8E4-4826-49C4-A666-E4380459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EB6-D26B-46A1-B611-FC794EEC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F73-CAFD-4337-B383-E5B0C17F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911-3B46-4E91-B745-B97C7D21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7D4-2F48-4314-A056-5737BC52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866-7CEA-43CB-B6BD-B2FF01A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848-AFFE-487B-B6F2-B300262D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F75-343B-44CB-87FD-DE30A5E2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7A26F-8653-4A7F-8CF4-E62B3C09F8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ity angels behe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me from the world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omfort Him in the so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for my soul th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6-11-06T11:18:41Z</dcterms:modified>
  <cp:revision>11</cp:revision>
  <dc:subject>The Source, song number 243 in Russian</dc:subject>
  <dc:title>Всегда удивляться я должен / I Stand Amazed in the Presence (My Saviour’s Love)</dc:title>
</cp:coreProperties>
</file>