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74C-DF0D-423B-B6A9-A94255E7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6F5-8F21-47CF-AA3B-9C13361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FF0-6D1D-4957-BC53-E61B20C4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81C-C3A6-426B-844C-66817338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93E-ACB1-47EF-88A4-C501E01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62C-0DB9-4D40-959A-97E8D8A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7B9-6FDD-42B4-9ADD-A3C59B55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5F2-9F0F-4AE9-B351-74A1307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6E3-A9DB-499B-A705-E2CABE0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811-7265-4AED-AD7D-5D1B1B3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F5B-917F-4D43-8510-3499970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E6C-242F-4F74-B9D8-762D44D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B1E1-459E-4016-9ACF-BC41F9FCB3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just passing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reasures are lai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where beyond th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’s waiting now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’s open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up in Glory-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 on ever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houting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song of sweetest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fts back from Heaven’s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all expec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’s one thing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pardon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onwar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ll tak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weak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lov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ver in Glory-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don’t expect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 shake he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1Z</dcterms:modified>
  <cp:revision>14</cp:revision>
  <dc:subject>Slavic hymnal Гимны веры христиан, hymn 672</dc:subject>
  <dc:title>This World Is Not My Home / Не здесь мой дом родной</dc:title>
</cp:coreProperties>
</file>