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88C-A23D-4059-A91C-33DBF254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2DF-EA93-4883-ADDC-B822BDE2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792-80FA-4780-9EFB-07B37FF0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E28-DAA0-4DEC-B9FB-FB12BF32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780-1B82-4800-A14A-BE2785A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195-FFBF-4EDD-89BD-7E3AA36B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E47-BD16-4679-8944-B447F89B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1D8-E6F8-41AF-ADF3-AB60D587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3F1-2673-43DD-9A88-E47E8A5C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B8A-3F1B-4A8E-9677-DEBB239D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B6D-FD5C-42C9-83E9-1EB319FD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36D-9459-4BE0-A6C8-C45B1071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0A4CE-8C7C-4CE1-8719-11FCDE0105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 it ever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 b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po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c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ld me and make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what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   Change My Heart, O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47Z</dcterms:modified>
  <cp:revision>10</cp:revision>
  <dc:subject>The Source, song number 68</dc:subject>
  <dc:title>Change My Heart, O God</dc:title>
</cp:coreProperties>
</file>