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CDE-872A-4B2E-B8E6-81C23A0D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366-D089-4BC3-B52B-7657B29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296-8FAC-4FF9-8236-5AB037C5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009-ECF7-44A5-B9EA-B591CC84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C3D-356A-43E8-81E8-EBA4CA5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F7B-02A7-4816-ACD0-E441FE98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CF3-3891-4187-AB5D-548F032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A7D-B25B-4069-9C37-FF26F8BD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C1D-5CCD-4C95-8EA8-8F8CDC5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7D2-64F0-44CF-A4E1-6A17959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C7C-B426-44FF-9961-DE33796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44B-C16F-4BC1-8DCA-3064F0C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ADE4E-29C6-4D29-924F-6255F02AEB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heaven was filled with His prai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sin was as black as could 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came forth to be born of a virg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welt among men, my Example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d Him up Calvary’s mount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nailed Him to die 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uffering anguish, despised and rejec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ing our sins, my Redeeme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ft Him alone in the gar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 rested, from suffering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came down o’er His tomb to keep vig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pe of the hopeless, my Saviou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grave could conceal Him no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tone rolled away from the do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 arose, over death He had conquer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is ascended, my Lord ever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trumpet will sound for His co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kies with His glory will s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day, my beloved ones brin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ous Saviour, this Jesus i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24Z</dcterms:modified>
  <cp:revision>13</cp:revision>
  <dc:subject>Slavic hymnal Гимны веры христиан, hymn 836</dc:subject>
  <dc:title>One Day / Некогда с неба</dc:title>
</cp:coreProperties>
</file>