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75F-048A-440D-B4C7-1B7E13B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45A-B1E3-4749-99A3-6F2D2257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F96-D3CD-4D6E-A317-91E55615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21B-E6EB-478B-B420-14EA6905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B8A-3BB8-4E3B-BDC8-EE1BFB6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39B-F7EB-4ABD-A085-E1E1791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0B9-C0FA-46C4-B9AB-67CF97E1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151-4CC9-42BF-B71D-27714C27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4E3-7F26-4DB7-9A76-F2BC43A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9C3-20B4-423A-AE90-81095F1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D2B-6DC4-40C4-9051-CE1E736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311-FFE9-49D6-B10D-6225E47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4DF92-6E58-4B73-9B31-94AD003368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00Z</dcterms:modified>
  <cp:revision>12</cp:revision>
  <dc:subject>Slavic hymnal Гимны веры христиан, Ukrainian hymn 49</dc:subject>
  <dc:title>Не знав я Ісуса, життя я не знав</dc:title>
</cp:coreProperties>
</file>