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400-7579-426E-8E79-6F9BD624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A0F-6A9A-4C15-B9A9-A8988B5D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564-6437-43AB-979B-19FE929D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D86-2E6D-401F-A4ED-12F03C1E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269-B601-4DE0-9A8C-55C22504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463-F072-41C0-AA40-C951F1D9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C70-373C-41D9-ADFF-A616623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BF3-EB86-43FA-9284-5BBF285B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78A-D438-4B98-96E9-106B9FF5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293-14F3-41F3-A87A-37591F0D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896-35F1-4215-B69D-65CA7FF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EE3-52C9-4A6B-823C-7C92B1B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F914-9011-4C9C-946E-438B321E8C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Иисус сто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 оставлен, презрён, изб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вопрос роковой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сделаешь с Иисус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Пилатом Иисус 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удом Он стоит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за Кого ты признал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защищать горя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руки мыть, как Пил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огласишься с Христом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ться нельзя, Бог велит реш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рекись же, как Пётр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пугает тебя вра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согласись жить с Христо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мой Господь, отдаю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ль, в скорби люб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ё счастье и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делаю с Иисус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14Z</dcterms:modified>
  <cp:revision>12</cp:revision>
  <dc:subject>Slavic hymnal Гимны веры христиан, hymn 408</dc:subject>
  <dc:title>Перед Пилатом Иисус стоит</dc:title>
</cp:coreProperties>
</file>