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162-2263-40EC-9FE1-EF35A509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C8C-1A30-4EC8-A590-D08EE8B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875-AC65-4807-8ECD-E5C7AD22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D5C-0148-4757-9238-768BCF5B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35A-EDC3-43D0-9D26-37EE60DE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B70-1F74-40DF-8F18-74DBB619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AA2-64C2-49BE-99E8-5E25432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520-0443-47DA-B4B2-C8B9B37F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6A2-6EB4-4214-BAB9-362485D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31A-5FD6-420E-9C21-41D4980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07D-5068-4E4B-AF94-95D62C5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87A-FFBD-4075-BB7D-8927BE2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41E32-4696-4F8F-AF22-8607B0D484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ong shall ris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aint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ing down their golden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the glass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rubim and serap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wert, and ar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darkness h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eye of sinfu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lory may 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Thou art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bes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in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p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shall praise Th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, and sky,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31Z</dcterms:modified>
  <cp:revision>13</cp:revision>
  <dc:subject>Slavic hymnal Гимны веры христиан, hymn 804</dc:subject>
  <dc:title>Holy, Holy, Holy! Lord God Almighty / Свят, свят, свят Господь Бог</dc:title>
</cp:coreProperties>
</file>