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EC5A-2093-45BE-BC7A-5BEE90E8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BC8-9F3E-4D11-A977-77935428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E15-D135-4C2E-9E87-CA966E0C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671-D837-4A78-BAB3-D1FE4015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D21D-D71C-4FA7-AD0B-092E6776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E316-FCAD-44F6-A9D1-0C9CAEB9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2234-9015-4F1F-8A71-BAFCA150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2C9-32A7-4DCD-B234-E78D2568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4DD0-1772-41F9-BC75-BEA31BFF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2CE5-6DCA-40EB-B615-02E7527E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7C8F-D7BF-4B9E-9EFB-429874E0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7151-704F-4489-A998-9BAEDA6F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C62A0-15DE-495B-B5BF-2C107D2894D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the liv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the liv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e a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e an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6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Spirit of the Living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2:06Z</dcterms:modified>
  <cp:revision>10</cp:revision>
  <dc:subject>The Source, song number 463</dc:subject>
  <dc:title>Spirit of the Living God</dc:title>
</cp:coreProperties>
</file>