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150E-E9AF-4D92-A106-17E2089C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2AB-C752-4F26-BC46-8311B9D3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C9A-6EF6-4E46-995C-7458CA09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666-9201-430F-AC92-32FE9E3D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49B-1D38-42B4-A3AB-D01B8174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3EBB-0D34-43ED-8571-D7B931DE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2BC-ED60-41F5-B5E6-9353A34F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D14D-7DD2-4C91-820E-1BAA4CB5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375-A2F1-4AE3-818E-D2992756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C5A6-1A14-4D66-8D37-8E944961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98E0-E4F0-4987-80E9-9613F139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079C-9211-4253-899A-7431F75F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75688-99A0-40CB-B8AD-7DE8E821DC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те, дети Бож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достной борьб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ажаться всех, кто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зывает звук тру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ами Божье знам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х побед за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я сквозь битвы пл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жайтесь, с вами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ряньте, дети Бож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те, дети Божь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а вражья вла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дышащая лож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шна врага напа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аша сила вы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ятой Христа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под крепкой крыш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ей сокрыты 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те, дети Божь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раг ваш поб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царскому поднож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у свою скло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рцы ж в войне Христ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асятся вен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ой жизни н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женстве пред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4:24Z</dcterms:modified>
  <cp:revision>12</cp:revision>
  <dc:subject>Slavic hymnal Гимны веры христиан, hymn 487</dc:subject>
  <dc:title>Воспряньте, дети Божьи</dc:title>
</cp:coreProperties>
</file>