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5AC-9B6A-4677-9F36-7E882740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940-D0E6-4AC7-BBC9-818A233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5BF-7E19-4C4E-AC73-8DC085D8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603-FCD0-4992-950A-CA58B0FA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65A-288C-4D81-BD53-18D2E211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860-70F6-4275-8D30-490F34C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280-CF63-462E-A72E-80EC20A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A11-591E-4ED9-8D17-35899CC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B42-998E-4A63-8EC4-0DB66A9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154-F3A3-4A21-AD1B-7BC4A60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8AB-A6F5-4BC4-BA93-AA9D82F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665-406C-4460-9C04-176A81B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E698F-62BF-486F-9619-47ECDCCAF6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50Z</dcterms:modified>
  <cp:revision>13</cp:revision>
  <dc:subject>Slavic hymnal Гимны веры христиан, hymn 841</dc:subject>
  <dc:title>Девяносто девять овец пришли</dc:title>
</cp:coreProperties>
</file>