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450-55A1-49D4-812F-08A488AF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A99-ADA6-478C-A519-E08A32E6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099-019A-42E0-B6A1-2E20C978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964-AC3A-4B7B-AED5-62F0187C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A724-CB7C-4994-9B75-30E702A3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456-2E8F-4A4B-9EEB-D8F28B46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CE4-7E6F-421F-A94A-974580E2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BDE-AEC3-4188-B14F-84E50B08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2E9-70DF-42E8-BA62-DD7ECF5A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EE0-4930-412D-A2CE-E5DD21CA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0E8-95EE-4923-85A8-DC2AF48D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F4D-6BF7-4D5B-9A67-B68EFCB0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0428B-7ED7-42C2-BEAB-87C863F860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радость,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м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жизн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там в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дерево с пл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пасителем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, избавивший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ит в любви Св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радость, радость буд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а узкая 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нам д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ею не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мы умр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уть узкий избер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хоть мы слёзы здесь проль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м в блаженстве вос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юбящим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рассеяв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в вели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чистых, светлы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варя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верьте, робки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вечной радости к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, грустно в мир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о спасенье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8:38Z</dcterms:modified>
  <cp:revision>12</cp:revision>
  <dc:subject>Slavic hymnal Гимны веры христиан, hymn 661</dc:subject>
  <dc:title>Ах, радость, радость будет там</dc:title>
</cp:coreProperties>
</file>