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667-4128-409B-81CA-C78AA5ED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C4C-5E12-43C4-8CF2-05A59EE0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5ED-C67C-4A36-83FB-52EFDCB0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79D-8373-4F43-869F-AC9931AD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366-9B47-44EB-89F4-F1A7988E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B42-3899-46AD-B3FD-C295F06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F45-2FA4-4CCD-86FF-91F7BB54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492-1862-46C3-B302-D25B500D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ED2-3FC3-4E38-A1BC-E33B6683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BFC-B18E-4565-8B1F-461223E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407-1C8C-47CE-AB35-6FBF614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9D4-5A62-494B-9CF3-51D6560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363C8-F478-4FEA-83D6-D2C71F0E57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offer up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pirit and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ing out the oil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my worshi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ложу Тебе 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ожу Тебе 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хе и ист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лью ел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лоненье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нет та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огли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любви, что я так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urrender I must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ev’r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receive th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 broken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остатка от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есть внут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ённ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пр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я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другу, как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Цар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прине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рность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Т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нет та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огли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любви, что я так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eserve my ev’ry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’ve paid the great 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ing up Your life to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death on a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здох для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его заслу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отдал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полна запла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all my sham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defeat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up the gates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ve beckoned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смыл мой 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зрушил м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ть про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ыт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я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другу, как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Цар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прине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рность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Т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3:23Z</dcterms:modified>
  <cp:revision>12</cp:revision>
  <dc:subject>The Source, song number 265 in Russian</dc:subject>
  <dc:title>Предложу Тебе я жизнь / I Will Offer Up My Life (This Thankful Heart)</dc:title>
</cp:coreProperties>
</file>