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AEC-6CDE-4B95-99DC-CA043B6C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063-2BE3-4010-A952-680AA0F5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F22-B22D-4F6F-8C00-7A14D670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F70-0944-4AE7-9F86-04F232DF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81D-48E7-4B86-ABB7-66EC2D8A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46C-4B3C-4056-867F-8CA09A5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B6B-2696-4D49-8628-B4281665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D08-CF82-45E6-9A63-3F826B40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4FA-FFE1-459E-87E3-9E99156C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468-4031-45DE-AFF6-FC4680C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950-9B27-4A67-BDB4-08AB0BD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13E-8252-4ED8-8CE8-BEB48D4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12F5C-3523-431E-8691-0C28931602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а та — Христос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бурю, в грозу, сред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мы в ней об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уповаем на ск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 на пе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и все нев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ища, слава и поч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этом их наде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и стройте на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ите все прочь сомн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ущий правды пуст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 найдут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11Z</dcterms:modified>
  <cp:revision>12</cp:revision>
  <dc:subject>Slavic hymnal Гимны веры христиан, hymn 632</dc:subject>
  <dc:title>Мы все уповаем на скалу</dc:title>
</cp:coreProperties>
</file>