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2FD-5C0E-46BF-9BC7-C181179F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D4E8-9B0F-462F-9D30-A14CD1D5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C6C-6DFA-45EF-924E-61B7DC46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C6E5-00CF-48CE-BFE0-131D1A1D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DBB-9FC4-4042-B8A5-32D806F8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8815-F938-44A7-A2CB-C0C68DC2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40FA-820A-411B-9A3F-822D8435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E4E1-E6B1-44DD-A041-A6645618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BD4-FC7F-4978-9566-DF3CCCA4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70F1-FCD1-4667-8967-F1142878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2DE1-BFB3-4620-BC4C-C31C66C9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97C7-9829-4406-9F81-5C8A46D9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FD1FF-4A55-46D4-BBFA-55358CE1972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ь, Спаситель, увижу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е небес, в славе неб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мешь меня Ты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Твой чудес, в мир Твой чуд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искушений на это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аблуждений в губительной мг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жидаю свободы и бл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, на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оро ль, Спасител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, мой Спаситель, угодно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й управляй, мной управ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е иль страшной житейской борь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ь мне дай, помощь мне 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в сомненья свои не вп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надежды своей не тер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 Святого в меня излив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укрепляй! Им укреп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а земле я ещё нахож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й я чужой, ей я чуж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к небесному миру стрем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у покой, жажду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моё да ликует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не смолкает хвала ник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любить я хочу лишь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ды Царя, правды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ь наступит кончи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не прервёт, жизнь мне прерв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лаженства удел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ь придёт, скоро ль при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ж не буду душою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прославлю Христа благо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хвалить я любви полно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Христу! 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9:29Z</dcterms:modified>
  <cp:revision>16</cp:revision>
  <dc:subject>Slavic hymnal Гимны веры христиан, hymn 477</dc:subject>
  <dc:title>Скоро ль, Спаситель, увижу Тебя?</dc:title>
</cp:coreProperties>
</file>