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FC2-96F0-4257-9B8E-E87DCAEF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2F5-961E-424F-A6B1-F20C5579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CA9-193B-4AFB-B715-7D266CB6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DB3-E2D2-42C8-9629-1209F14F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DA4-E318-4A16-A3DF-479BFAA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9A2-62C5-4A86-98ED-12E9E71A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276-8372-4798-A168-839A86D6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563-7C39-4EC5-A66C-411E78ED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4A1-F792-4B5C-B01E-5609B43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6E9-50FA-4D4D-9BBB-3A571FF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19E-934D-42F2-9FA6-2D8327B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8DD-C5CD-440B-986A-8C083998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62A2C-DC71-4BFB-9EA3-B4F601AB4E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Святим Дух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, Ноє, своїм ухо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риста ліктів довж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’ятдесят шир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   Сказав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прийшов, умнож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род, бачивши, зляк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уть люди многі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ка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живущїї крич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 із другом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ас останній розставали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 з сестрою розста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ти й дочка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в ту пору ясно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иття тяжке на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же пташки не щебе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одами всі літ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или їх укорот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оді вони топ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Один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Ноя із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Але ось вже не верш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станув на тверд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орона Ной випус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н води виглядає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Голубиця вилі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сток свіжий відшу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ерхи гір вже відкр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в море вже зл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оді двері відчин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оя радість появ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27Z</dcterms:modified>
  <cp:revision>12</cp:revision>
  <dc:subject>Slavic hymnal Гимны веры христиан, Ukrainian hymn 84</dc:subject>
  <dc:title>Сказав Господь Святим Духом</dc:title>
</cp:coreProperties>
</file>