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61E-7840-46DF-AB31-E3777B88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4D8-349C-45E3-80B3-84B9AF24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59B-F1CB-4799-9474-E88159BE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9B2-0C87-49CC-8EC3-6D01F071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D16-F597-40EC-85C1-1B16C678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E97-F733-4206-87A3-EAF59EDA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D51-7C4E-4C4D-A6E4-1A065E69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77B-97E0-4F92-B8E0-339265DA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FA8-EF29-4353-99E9-25ACC7A7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B16-7FBA-4CC0-B181-7DA774B8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FE5-288B-4115-A656-EA03EBF2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8E9-B902-4074-AF35-BFA9E5EA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8EAB8-0176-48BB-A6F5-A6C259B91A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святих згромади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ірною рікою, як кришт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весільну, там веч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ере Ісус на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6   В день, коли тр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істить всім ангел Б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ема вже більш ча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дем підхоплені у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с всіх Ісус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дягне в славу нас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, що тайне і зак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иявиться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Господь буде судити всі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війдіть” Він скаже прав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Пана свойого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при звуках гуслів стрій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рф небесних, золо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мн побіди в день спасіння виклик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сню Агнця і Мойс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в зборі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9:14Z</dcterms:modified>
  <cp:revision>13</cp:revision>
  <dc:subject>Slavic hymnal Гимны веры христиан, Ukrainian hymn 16</dc:subject>
  <dc:title>В день, коли труба Господня</dc:title>
</cp:coreProperties>
</file>