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a:t>
            </a:r>
            <a:r>
              <a:rPr b="1" lang="ru-RU" sz="3600" spc="-1" strike="noStrike">
                <a:solidFill>
                  <a:srgbClr val="ffffff"/>
                </a:solidFill>
                <a:latin typeface="Verdana"/>
              </a:rPr>
              <a:t>	</a:t>
            </a:r>
            <a:r>
              <a:rPr b="1" lang="ru-RU" sz="3600" spc="-1" strike="noStrike">
                <a:solidFill>
                  <a:srgbClr val="ffffff"/>
                </a:solidFill>
                <a:latin typeface="Verdana"/>
              </a:rPr>
              <a:t>Больше любви к Теб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льше любви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мой Господь, вн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ихой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каждый миг дай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любви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к Теб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Жаждал я благ зем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частья иск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ыне у ног Тво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верой уп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ужно одно лишь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любви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к Теб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е устрашат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би и тру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ьи служите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нам нес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ами поют тепе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любви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к Тебе.</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 в час отшестви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вечный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стать хотел бы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ихой моль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всё, что дал Ты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любви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к Тебе.</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4T11:03:07Z</dcterms:modified>
  <cp:revision>3</cp:revision>
  <dc:subject>Slavic hymnal Гимны веры христиан, hymn 8</dc:subject>
  <dc:title>Больше любви к Тебе</dc:title>
</cp:coreProperties>
</file>