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531-7511-4D58-88D9-D5631AF8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608-BC6C-4EE3-AA7E-1D02C222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144-1F88-4084-A29E-D65C9763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582-B747-4A7A-A4DD-50862F50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CDA-4866-4D0F-8D43-AC9EF06C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8C5-6D9F-46B4-9F26-1300529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7AE-68AD-4EFC-A735-6FF4191F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B63-8B69-4A1F-A1AF-3AED32D2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C31-304F-47AF-A186-FEE4319E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898-BFC1-480A-A154-281FC0C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D02-5736-4A44-99AB-790B24C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2C3-1D01-4D76-B4B7-0F40F3D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3DFB-47D5-4DF4-A99A-26AD7103B0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4:21Z</dcterms:modified>
  <cp:revision>13</cp:revision>
  <dc:subject>Slavic hymnal Гимны веры христиан, hymn 288</dc:subject>
  <dc:title>Christ Arose! / Во гробе Он лежал</dc:title>
</cp:coreProperties>
</file>