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6CD-4AD1-40C8-B609-A0A2E409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C9A-5915-4B68-A9EC-EBAA9A6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AE0-351C-416F-82D4-FC7F7C91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424-01CC-45AD-8019-C7B732FF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A96-2882-41A7-B287-78F6646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BD2-1621-4276-B533-803A2A9B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3DC-8895-4C0A-B42D-4732EBD6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EB3-DB30-4B20-8F8E-BD2A3EA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CF6-2547-4FE5-A529-C6F7A68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DDE-EC8A-496E-A0A8-0267CAE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524-A71B-4F7B-9BE0-FD8FC28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E3D-1AAC-429A-8BB6-7F90CB3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2F4D9-0121-4C20-9CA7-FA69461537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07Z</dcterms:modified>
  <cp:revision>12</cp:revision>
  <dc:subject>Slavic hymnal Гимны веры христиан, Ukrainian hymn 85</dc:subject>
  <dc:title>Сумно бушує життєвеє море</dc:title>
</cp:coreProperties>
</file>