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9D9-3524-4271-B3D0-1B25CF73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4C4-B320-4723-BA3E-94EEE626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020-403A-44F0-97FC-FEC78781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024-76D0-43A4-AA51-4B8BE7E3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832-11F6-4566-B943-9881081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79D-08A2-4595-80B4-27126FE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675-CA53-4578-8A01-22BBF61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C1E-19F8-4CF9-BEE5-F7B64CF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12B-B990-485F-B48F-4FF21CF1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23E-FE24-4B67-9085-D1BBD9E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DE5-6717-430C-B4B5-61F7643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609-7469-42B4-A531-AA5FC508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24909-93DB-431C-868D-0121D46F02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50Z</dcterms:modified>
  <cp:revision>12</cp:revision>
  <dc:subject>Slavic hymnal Гимны веры христиан, hymn 436</dc:subject>
  <dc:title>Венец терновый возложил</dc:title>
</cp:coreProperties>
</file>