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DE37-B19A-4AF3-A8E5-3C476ADC2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8A85-D31A-4B0A-888B-B909466F0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B363-B94C-449F-A572-BB6D9E8F6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B2BA-229E-4741-B467-19CD01AF6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ABFD-1528-4D56-BE4B-3BCD5A320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9A2E-B5F7-4C77-809C-22E7363D3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55E9-17F3-4322-AC8A-59550B2E7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6CAB-66BA-4E07-ACE7-2F840C947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016E-B004-41A8-8B2B-4FFFB3E55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0980-DEDD-48F1-9F68-B465B032C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C5F2-4DBA-4FE1-9CB6-DFCCE45AA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E4B0-43D5-4E83-AED6-4D4845874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7D07A7-9BFF-492B-9929-1AC3D3C9A94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Дорогие минуты нам Бог даровал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Мы увидели братьев, сестёр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А Иисус дорогой с нами быть обещал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Дадим Богу в сердце простор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Как приятно нам встретиться с вам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пред Ни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И волнение мира забыть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Как отрадно, исполнившись Духом Святым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Общение душ разделить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4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Дорогие минуты нам Бо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Мы, Сионские путники, здесь отдохнё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У источников Божьей воды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На Фаворе побудем и снова пойдё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За Господом мимо вражды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Здесь в общении сладком забыли мы стра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И суровые камни пут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Ободренье нашли мы в Господних словах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Чтоб с силою новой идт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Потеснее окружим Иисуса Христ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И, взирая к предвечным горам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Под бронёю Его, под покровом щит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Пойдём по Господним следам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7T00:27:23Z</dcterms:modified>
  <cp:revision>13</cp:revision>
  <dc:subject>Slavic hymnal Гимны веры христиан, hymn 742</dc:subject>
  <dc:title>Дорогие минуты нам Бог даровал</dc:title>
</cp:coreProperties>
</file>