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9EA-B099-4C72-86E6-48C16EBB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FB9-9D6C-43BE-9E91-62032C74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1F0-C1FB-414E-A926-9D2BE59B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04E-F340-4358-BE8D-BB220D68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81F-9CE6-4167-8C93-13932D2C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91B-C009-4AA1-B2AE-8AE4FDF5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19A-C16A-4E21-8E11-0D3FD16B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D07-CA44-4F42-B02A-59914B96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D9E-6482-4A23-92E0-2E008336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25E-14D5-40F7-952B-F4D9AA07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094-400C-47DD-9E6A-58F7AEF3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317-8C0E-46FF-9FD1-37CFAEEB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7075B-C9EB-4CCF-AF6F-42314F79AF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й, страдалец, чашу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й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а Господня в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а Господня в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й, страдалец, чашу г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ь, укрывшись от нар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Христовых н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гонит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я даст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гонит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я даст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ессилен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 хотел у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зор твой Он расши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овняе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зор твой Он расши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овняе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дорогой то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, не спе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крест неси поко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олит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крест неси поко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олит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изб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емных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слышишь прибли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х пес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слышишь прибли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х пес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3:35Z</dcterms:modified>
  <cp:revision>12</cp:revision>
  <dc:subject>Slavic hymnal Гимны веры христиан, hymn 711</dc:subject>
  <dc:title>Пей, страдалец, чашу горя</dc:title>
</cp:coreProperties>
</file>