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C2B-7F08-4EEE-B292-9C71F5DA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878-664F-4311-9942-8983F87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468-E97E-496F-AA48-178F26DF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912-A163-446B-A83D-C0B57E9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4E5-4113-400E-8DEE-940FAC65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F7F-1527-41D8-B523-68B3A04B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D83-F94A-41D0-BF29-D505CA4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AB3-04BC-43F5-96D5-AB0C7EB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20A-D89C-44F7-B928-BCC5CAB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04E-EC0B-401F-AFBD-6977F18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40C-8C1F-4901-8061-634B47D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93F-D239-4763-9831-3D41E6F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86C0-0226-4B9D-820A-AF0120E46F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7:09Z</dcterms:modified>
  <cp:revision>12</cp:revision>
  <dc:subject>Slavic hymnal Гимны веры христиан, hymn 619</dc:subject>
  <dc:title>Хоть и буря жизни стонет</dc:title>
</cp:coreProperties>
</file>