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921-C378-421E-B5B6-C364254E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A31-9AF8-4E5D-8BF4-AD012245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1BF-3C07-485B-B5A4-52515399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F62-E18C-4E51-B796-107F6FA3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1CD-9F42-4CF8-942E-471BA84D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559-6AC8-41B7-9773-14246F1B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40A-CFB9-4BB5-B852-7246EFD8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7C3-269D-4527-A012-5C0F4EC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8F0-6DFA-4F5D-84EC-4DF214DC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7DE-F65B-4CEC-9E2D-1AA24C9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AED-DB79-484F-A0F9-4ABF1C9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1ED-B908-4D2E-8237-0755BBA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73FFE-8FE7-42F5-A1F5-B00487082A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onsuming fire is in Your ga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want You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follow You all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 one else in history is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tory itself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pha and Omega, You have lov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hare eternity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ll about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is i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and Your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 abou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f You should do things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urrender to Your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10Z</dcterms:modified>
  <cp:revision>11</cp:revision>
  <dc:subject>The Source 2, song number 837</dc:subject>
  <dc:title>Jesus, Lover of My Soul (It’s All About You)</dc:title>
</cp:coreProperties>
</file>