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AB8-370A-4A20-B917-3BA05AA4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957-5C25-4F7C-ACCD-2A5EAC1A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B99-A4CC-48FC-BBFD-B80749B3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6F6-4579-48AD-819A-5B78A209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709-AE88-4EC8-8464-7CF6B18B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207-6117-41CC-A755-4332AD3D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9CE-BAF8-436D-97B8-E533975D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E9E-766B-455D-B991-65114D2A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17D-7D1B-4D64-8A73-7FE1180E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317-9457-452B-8634-715CB50B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AF8-E3C7-49F0-88CC-A60054C0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51E-0D34-433C-B94B-CC201B60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1BDDD-5446-44AA-8697-39D4CD7A51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і, ніхто на всьому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 силі вірних подол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волю нашу зруйнув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 в кайдани зак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тяжким Своїм страждан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прозрівшій волю д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 з усім його змаган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’язниці їй не вготув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7  О, ні, ніхто на всьому сві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і, ніхто на всьому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нас не може правду вз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люди, ворогом натхне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орніть нас будуть, знева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іймем в гору прапор прав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’ю темний світ залл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 в хвальбах ще й тимчасов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радість в Господі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і, ніхто на всьому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оже горе нам вчи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гатства серцеві відн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с безсилими зро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олото і що ми ма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усе в нас забер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ління чисте залиш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ним щасливі можем б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0:38Z</dcterms:modified>
  <cp:revision>12</cp:revision>
  <dc:subject>Slavic hymnal Гимны веры христиан, Ukrainian hymn 57</dc:subject>
  <dc:title>О, ні, ніхто на всьому світі</dc:title>
</cp:coreProperties>
</file>