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20A-9B12-4049-B857-DFFFD7E7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6D5-E647-481E-A6EF-4B41BFB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901-A66E-4AF6-A159-80390594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4F9-645E-4AF1-9925-BECC9717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D5A-0A1E-48FB-9352-46781C2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C2B-BED9-42C8-942B-17DC834F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4F7-2D7D-4B6D-8AA4-2208CE1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BB5-9A99-4C7D-A561-61B37F9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085-FDA3-4CA4-876D-C5B3537A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B45-B31A-4701-922A-5459FA5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720-BA86-4F29-A902-015A325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1DD-E1D8-45E0-8C37-1442296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9C18F-9DDC-40D3-8591-6077F8EFDC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enderly calling you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from the sunshine of lov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ther and farther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 the weary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Him your burden and you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not turn you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, O come to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oday, wait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your sins, at His feet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 longer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pleading, O list to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 today, hear Him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believe on His Name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Quickly arise a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0Z</dcterms:modified>
  <cp:revision>13</cp:revision>
  <dc:subject>Slavic hymnal Гимны веры христиан, hymn 401</dc:subject>
  <dc:title>Jesus Is Tenderly Calling You Home / Чудный Спаситель зовёт нас домой</dc:title>
</cp:coreProperties>
</file>