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C01-EA8C-4082-80C0-679F3DF5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746-9F8C-40F9-9F82-EB3FDB4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AA1-A968-481E-A387-C3D13802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D20-DF93-4B65-A26F-72F5E290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B03-4907-44A3-ADDB-190691F4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E80-FB21-4A64-9E36-7AD9176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F30-ED64-43C4-BED4-08B151B2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197-E06F-442F-8572-3BA7F85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548-5795-4272-933C-FE5C24A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449-8AC4-49BA-9953-A1752C2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564-75A4-4216-95AA-51DA6C9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2AB-8B49-47BD-A26B-C49F837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0429B-C03F-4F95-AA7A-D85102C25F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кращий інший-світл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печалі там не з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святий, край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ть там святі пі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и там живуть я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 там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2   Є кращ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китне небо там без х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ий край, світл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е має там при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ості там без кін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ясним лицем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крізь нев’януча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край, дивн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винні всі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віт пройнятий весь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шов терпіт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Він змиє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край блаженства нас в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усі ід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им будемо там віч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гайтесь! Скоро час ід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в вірі вас Господь зна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а нами знов прий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49Z</dcterms:modified>
  <cp:revision>13</cp:revision>
  <dc:subject>Slavic hymnal Гимны веры христиан, Ukrainian hymn 52</dc:subject>
  <dc:title>Є кращий інший-світлий край</dc:title>
</cp:coreProperties>
</file>