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B81C-637E-4733-B61E-037BF1DE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91E6-4C29-488C-A6DD-F9BBCF7D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C2ED-3C72-4ADC-A122-CFCED12F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5D8-62E4-42D5-AA90-3C86A011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4656-5E5F-4C23-94EE-E32B29D0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DA8D-2EA2-420D-9776-3AC9E03B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055-DF30-42DF-A9BF-05468FB2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74C0-E2E5-4932-89C6-06F1E8F3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966-98E8-4402-A3AE-577A3742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538C-8A6D-49E0-9A68-B44F683B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5AFE-1471-44BF-A74E-13DBA9D3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F421-53CE-476D-A7D8-AB919984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F2B88-B580-4005-AFDB-7984BBD2A66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 and honour, glory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unto the Ancient of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every nation, all of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ow before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4   Blessing and Hon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tongue in 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declar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knee shall bow at Your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be exalte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kingdom shall not pas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 and honour, glory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unto the Ancient of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every nation, all of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ow before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tongue in 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declar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knee shall bow at Your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be exalte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kingdom shall not pas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kingdom shall re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 all the ear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unto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none shall c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r matchless wor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unto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tongue in 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declar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knee shall bow at Your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be exalte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kingdom shall not pas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18:23Z</dcterms:modified>
  <cp:revision>12</cp:revision>
  <dc:subject>The Source, song number 54</dc:subject>
  <dc:title>Blessing and Honour (Ancient of Days)</dc:title>
</cp:coreProperties>
</file>