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3BF-DBD5-4F65-AFC4-01A29B86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467-A556-48B9-9BF3-8995D9A6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94C-BDC0-483B-9E65-09601497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40A-1346-4D6C-BEEA-EF40CD91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B75-4086-4D09-BBB6-FB4E408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3AE-5204-4282-AFFA-4283EDD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E21-62FC-44D1-B61C-1094509F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537-B26E-4501-A6E0-50520D0E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FEF-646B-47C1-8649-C42103A9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D06-D447-479F-9875-B23B2EF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7DA-5EDA-41FD-BB47-56519F0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47C-4A4E-4397-8C7A-C63547A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A4D3-CE51-4331-A3F6-B4FFBCD6C1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54   Strength Wi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33Z</dcterms:modified>
  <cp:revision>12</cp:revision>
  <dc:subject>The Source 4, song number 2054</dc:subject>
  <dc:title>Strength Will Rise As We Wait (Everlasting God)</dc:title>
</cp:coreProperties>
</file>