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69B1-F7E0-4F07-863A-D2587B97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EB5-CA95-4EFA-A312-17F5611E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CEAA-E7B7-4D33-BA14-EAF1A6B0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CBD4-D498-4E37-AEC5-91D0025B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209A-78A1-4A1A-ABC6-46150F06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8F34-74BF-423C-AD7F-12C4B1C9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90FA-3F52-4EA7-8E1D-FCA89B39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DD3-2AB8-4875-9810-A46AD00F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BBA5-AA78-43B5-944B-F15C0B9C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376-5BE9-458C-8BCE-73511484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42E-9B36-4718-B907-F7B4761F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B441-F394-41DC-B6FC-10D76C47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63A5F-DF5E-4D4F-BA59-C3847CBEFE3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, from the realms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ng your flight o’er all the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who sang creation’s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proclaim Messiah’s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и ангелы, лет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 ангелы лет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когда-то в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одился нам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е людям 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worship, come and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ship Christ, the newborn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pherds in the fields abi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ing o’er your flocks by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th man is now resi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nder shines the infan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, оставьте стад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тесь тьмы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те: Бог пришёл к нар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блестит небес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worship, come and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ship Christ, the newborn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ges, leave your contempl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er visions beam af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 the great Desire of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have seen His natal s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ецы, довольно зн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ли не без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пришёл давно Жела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видна Его звез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worship, come and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ship Christ, the newborn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, before the altar b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ing long in hope and f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ddenly the Lord, desc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temple sha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е, несли вы б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тарались побор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конец настало врем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пришёл Христос —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worship, come and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ship Christ, the newborn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6:54Z</dcterms:modified>
  <cp:revision>15</cp:revision>
  <dc:subject>Slavic hymnal Гимны веры христиан, hymn 228</dc:subject>
  <dc:title>Angels, from the Realms of Glory / Божьи ангелы, летите</dc:title>
</cp:coreProperties>
</file>