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520-2679-40F7-BF0A-C0A3CCA3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029-A095-4CB9-BB18-002D145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C57-F732-4B6B-97B8-D2F3BBBB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ABD-D2EB-4AA9-9F2C-E6E88410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874-3EF5-4899-BC9B-E18DFD53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B44-6CE9-4799-B9BF-C597B07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63C-3724-42C0-9499-564D96D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0D2-6AAF-47D5-9D82-18EE50B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21A-8BFF-4E32-8015-0911CB0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423-781E-4084-8AA5-977C0DF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79B-7CA2-44DB-BF4D-4D58A32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3B0-2302-44E4-A621-36358BF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3542-D817-47CD-A3D1-89CFB88A2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 had a thousand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a thousand tongues could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in Whom the earth rej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oes all things wisely and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rn amid their choir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hallelujahs to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teful heart would then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what God has don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ll you pow’rs that God impl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nd silence keep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forth the strength that God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noblest work is to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 and body, join to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felt joy our Maker’s pra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orest leaves so green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dance for joy in summer 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eadow grasses bright and sl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low’rs so wond’rous sweet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 to show God’s prais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e now make His glory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that have breath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rong the earth, the sea,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join with me my heart’s dev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raise His praise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utmost pow’rs can ne’er a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 wonders of God’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ather, deign Thou, I beseec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en to my earthly l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nobler strain in Heav’n shall reac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ith angels hymn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25Z</dcterms:modified>
  <cp:revision>13</cp:revision>
  <dc:subject>Slavic hymnal Гимны веры христиан, hymn 820</dc:subject>
  <dc:title>O That I Had a Thousand Voices / О, если б сотни уст имел я</dc:title>
</cp:coreProperties>
</file>