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56F-A633-49F8-A046-B9F251FA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1D8-A287-410C-9153-B061A816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FE4-CA07-4B97-89BB-781DD57F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D20-1CEB-4949-B6DF-33E41698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F0C-33A4-414E-9FFC-0DD02A7E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7C3-A805-4CB1-B688-838E14D2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D54-13BF-4CBB-9E81-CDEEDC58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2D9-2241-413C-AE04-E37B6722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F45-2180-432C-8820-1E3C8497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FF2-B389-466F-B3E0-2ACABDE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866-9511-46D5-B2CA-77AFC4F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FB4-84FE-476D-86E8-28F2B90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D32E6-18D7-4B21-8BE7-1B9B412356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зовёт нас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,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от любви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ьше и дальш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ный Спаситель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даёт на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аёт, ны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воё пред Иисусом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ет Он бремя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к Себе ждё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ждёт, ныне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вой Ему исповедай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отрада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ся чудный Спаситель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тиши, ныне в ти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ёт Он тому, кого сп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к Нему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56Z</dcterms:modified>
  <cp:revision>12</cp:revision>
  <dc:subject>Slavic hymnal Гимны веры христиан, hymn 401</dc:subject>
  <dc:title>Чудный Спаситель зовёт нас домой</dc:title>
</cp:coreProperties>
</file>