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562F-E864-4598-B1FF-B6628B23C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0F3E-281E-4749-B015-686270FA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1787-1C45-449F-A22E-A4D9556B1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0631-F82B-42E6-82F9-2EBF89DAF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1D15-C2AF-413F-AE4A-EC9B2577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A088-6B0F-4433-8C9F-D4FBA7C9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8D3B-C3D0-4683-8E86-8AE6B0B7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8426-2961-4034-902C-9AC6F73A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E133-21C4-462C-B171-F87A82AC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E660-07EA-4D3B-87F7-9E796B90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5C9D-EA55-472A-B29D-01387E82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6F60-A7FE-42F3-89D6-213520CC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6010F-A43C-41AB-807F-B915457C5A6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, здесь мысли о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осят мир сердца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ая ж радость будет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пребыть в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кажет сердце ни у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ничего слав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ого имени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дыки все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ристос, здесь мысли о Теб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а кающихся ду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ада всем прост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каждого к Себе влеч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мирённым близок 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е, кого принял в Свой д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зык не переда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любовью дышат в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ю дал им ча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3:52Z</dcterms:modified>
  <cp:revision>12</cp:revision>
  <dc:subject>Slavic hymnal Гимны веры христиан, hymn 893</dc:subject>
  <dc:title>Христос, здесь мысли о Тебе</dc:title>
</cp:coreProperties>
</file>