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46</a:t>
            </a:r>
            <a:r>
              <a:rPr b="1" lang="ru-RU" sz="3600" spc="-1" strike="noStrike">
                <a:solidFill>
                  <a:srgbClr val="ffffff"/>
                </a:solidFill>
                <a:latin typeface="Verdana"/>
              </a:rPr>
              <a:t>	</a:t>
            </a:r>
            <a:r>
              <a:rPr b="1" lang="ru-RU" sz="3600" spc="-1" strike="noStrike">
                <a:solidFill>
                  <a:srgbClr val="ffffff"/>
                </a:solidFill>
                <a:latin typeface="Verdana"/>
              </a:rPr>
              <a:t>Беззащитны, тьмой объяты</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еззащитны, тьмой объя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едствуют учени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ремлешь ли Ты, наш Уч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моги!» — зовут о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ре грозное, вздымая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скалистый берег бь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тра гул не умолк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ря стонет и ревёт.</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Рассветает, буря стих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ам Господь её смир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зъярённую пучин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ишину Он преврат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споём же, о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мы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ластью Божьей, всемогущ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корил Ты всё Себе.</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О мой друг, куда стремишь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по морю жизни с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ех волнами залив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спастись душе тв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зови скорей Иису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тебя Он кровь прол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спасёт тебя от бур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ласть греха Он победил.</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9-08T20:46:32Z</dcterms:modified>
  <cp:revision>3</cp:revision>
  <dc:subject>Slavic hymnal Гимны веры христиан, hymn 246</dc:subject>
  <dc:title>Беззащитны, тьмой объяты</dc:title>
</cp:coreProperties>
</file>