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9B8-364C-4386-BB75-7FF54179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734-A517-4CF8-81E3-BE62317D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B87-661D-46D2-B5E6-F6862052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DD6-9E69-43B2-90D3-E77385D0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AD6-02AC-445D-BE40-151BC811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E4D-07C7-4400-A441-E825F311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A76-E22F-4DCA-9085-421FA9EE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E3D-5BD0-4A3A-B64E-5C3794E3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6E0-A1AD-4F8A-BD8D-AF724A3A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82D-F9B0-4B4D-977D-9F94991A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ECE-6964-4889-B7D0-44C045BA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845-4978-4B54-9516-252DB075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04708-57DE-4CF8-A93C-D0C74E59AC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who sits on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un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who sits on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unto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blessing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nour and power for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blessing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nour and power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2   To Him Who Sit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20Z</dcterms:modified>
  <cp:revision>11</cp:revision>
  <dc:subject>The Source 2, song number 1022</dc:subject>
  <dc:title>To Him Who Sits On the Throne</dc:title>
</cp:coreProperties>
</file>