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E1C-7CE7-406E-B2DE-CB3CFBDD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88A-D99B-44A6-84F0-81BB7FDF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B7A-6B85-4BA2-A0D0-5D64EFD1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54F-E088-437D-959D-8F0E588C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D99-E9B3-4657-BC56-74C5C61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9BC-FBA1-44D6-B264-0E4CD80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32F-6695-44E4-92E2-245D9EF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AC0-A8B6-48AF-BED7-67670BE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55E-D0EA-4D05-888D-EAEB234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774-7D64-49DC-B417-7DB010C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423-50F4-421F-BFEC-AE5F6E0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7FC-6FB0-4A4E-9C6C-094282E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B09D3-D0FC-4DC2-B0F8-B49673D527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03Z</dcterms:modified>
  <cp:revision>12</cp:revision>
  <dc:subject>Slavic hymnal Гимны веры христиан, hymn 593</dc:subject>
  <dc:title>Твёрдо я верю</dc:title>
</cp:coreProperties>
</file>