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706-5389-40B3-8456-563B1EAB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A97-C9AB-4F4D-B66E-D608CEDF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EFB-1F41-4D62-BD45-AE174A95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C54-B08B-46EE-977A-47848B1A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1E1-2D9E-4996-8E97-D82AB1E5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31B-CC08-47C4-90EA-443EDC11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471-5A9D-4B0E-A2F7-99DFEE67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594-BC13-46BD-BFB5-B43E0B5D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4B8-ED12-42A7-A69C-8229EAA3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0EE-1164-4DA4-930C-05BD02BF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ED1-2A19-4B8A-8E31-83F12379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0F8-7BA2-4504-8164-C2D09B32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7F922-EF59-4DA8-A7A8-B5142919DA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into Your courts I will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r of heaven and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emble in Your holy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 in Your sanctu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lendour and majest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 all life ador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98   Father, Into Your Cou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wi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r love is ev’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will exalt, seas re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trees’ joyful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ing You and so will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song I’ll s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and bless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into Your courts I will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r of heaven and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emble in Your holy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 in Your sanctu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lendour and majest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 all life ador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wi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r love is ev’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will exalt, seas re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trees’ joyful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ing You and so will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song I’ll s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and bless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wi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r love is ev’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will exalt, seas re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trees’ joyful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ing You and so will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song I’ll s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and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and bless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22Z</dcterms:modified>
  <cp:revision>12</cp:revision>
  <dc:subject>The Source 3, song number 1198</dc:subject>
  <dc:title>Father, Into Your Courts I Will Enter (All the Earth)</dc:title>
</cp:coreProperties>
</file>