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2C6E-C211-4F3A-A3A4-9DB7606A6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6008-2044-4958-90B1-301DFD2F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B308-9F0D-49E3-8B17-9487EB051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C9DC-B602-450C-ADBB-229846591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7E0E-BA4C-4F5A-A2A5-652D8E69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9FB5-218E-420D-98FE-DE924C69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A371-1184-4CB1-89F6-A28440F9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1D5C-3470-4E93-830B-0322B40F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46B5-2BFB-4ADC-BBAA-DF2C03EB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28D9-7AA9-4DEB-98FC-5C42095F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DD34-8A41-4311-83D6-BF3BC907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FD49-F7CC-472B-9039-1978E0AA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20E80-2466-4BC3-A8C7-5B65D1E96C9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for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You were forsa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accep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ere condem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alive and 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Spirit is withi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You died and ros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722   And I’m Forgi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azing love, how can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, my King, would die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azing love, I know it’s tr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t’s my joy to honou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ll I do, I honou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You are my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azing love, how can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, my King, would die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azing love, I know it’s tr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t’s my joy to honou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ll I do, I honou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5:11Z</dcterms:modified>
  <cp:revision>12</cp:revision>
  <dc:subject>The Source 4, song number 1722</dc:subject>
  <dc:title>And I’m Forgiven (You Are My King)</dc:title>
</cp:coreProperties>
</file>