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3462-0353-441D-894C-D83F65E4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207C-7C08-4476-9924-F215586B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482C-7514-4773-89BD-E7EC564A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45D9-BFD2-457F-8A8C-457146A0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C811-9CB4-451E-8ED6-456CB957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1976-0203-4319-9B93-8A0B63A9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6E11-D617-48DB-AD6B-AC237FA5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95AC-829F-40FA-9731-A2EC125A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ED7F-751C-41B3-936C-F8F61E70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66B7-B93E-4614-A0AB-7CBF2531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C02E-77F2-4A73-B472-1B6D18B9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EE69-E66B-4A5C-BEEE-626C8258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0D6C1-6CA0-4001-B92B-9F64A92B2F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ll, I hear they’re singing in the str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Jesus is a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creation shouts 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Jesus is al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surely we can all be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s Jesus is al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rybody here can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Jesus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5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Well, I Hear They’re Sin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live for all my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raise a banner of truth and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ing about my Saviour’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best thing that happene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as the day I me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I’ve found) Jesus, I’ve foun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Jesus, I’ve foun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ll, I feel like dancing in the str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s Jesus is a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join with all who celeb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Jesus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joy of God is in this 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s Jesus is al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ybody’s seen the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Jesus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live for all my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raise a banner of truth and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ing about my Saviour’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best thing that happene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as the day I me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I’ve found) Jesus, I’ve foun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Jesus, I’ve foun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ll, You lifted me from where I w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my feet upon a roc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umbled that You even know ’bout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 have chosen to belie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lieving that You’ve chose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lost but now I’ve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Jesus, I’ve foun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Jesus, I’ve foun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0:08Z</dcterms:modified>
  <cp:revision>10</cp:revision>
  <dc:subject>The Source, song number 550</dc:subject>
  <dc:title>Well, I Hear They’re Singing In the Streets (I’ve Found Jesus)</dc:title>
</cp:coreProperties>
</file>