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58C-212D-4AEC-9FCE-11A4AA1E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5C0-71E6-476F-8E92-086770C7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213-BC8A-4BEF-9192-22B1AE21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B4F-55A1-4C28-BFBD-0CD5664A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FCE-7B44-41AA-8FF6-B7C6000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919-1E5B-423F-9F43-38B6E55F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DFD-A8AF-4E4A-92B2-2B889021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F66-34EC-4C3F-8261-0639C74B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21D-07E1-4649-B3F6-953E43AC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329-99B8-4EB8-B209-7F1D938A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1E5-5321-40FF-B12A-8DFF606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8C3-CF86-4B8E-963C-1E27E44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641FE-B732-4E67-B101-6CA4769599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have I, Lord, in heaven but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but Thee! None but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through life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жизни только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rpest pains my frame perv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s of nature f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will I sing through death’s cold sh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не скорби дух стес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ы силы замолч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сквозь смерти 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for me the wine-press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redeemed me “by His bl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onciled my soul to G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в горн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 Богом примири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I envy not the rich their jo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vet not earth’s glittering to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илы мне богатств да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хочу их мишу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can no lasting bliss best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ding” is stamped on all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is a joy no end can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чного нам 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ленья облик в нём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радость не пройд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ith the poor be cast my l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knoweth best,”—I murmur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бедным плотью ст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знает лучше!» — я б сказ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“vine” and “fig-tree” blight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“labour of the olive fail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 o’er flock and herd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винограднике —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маслины без пл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ичует мор ста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am now on hostil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 beset me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среди вражды, ог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ждает грех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arth her fiercest battles w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es against my soul eng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in His strength, I scorn their r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готовит грозный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е враги идут вой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ём силён — порву их стр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my life draws to its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His arms I shall re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расстанусь я с землё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найду пок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6Z</dcterms:modified>
  <cp:revision>13</cp:revision>
  <dc:subject>Slavic hymnal Гимны веры христиан, hymn 578</dc:subject>
  <dc:title>Whom Have I, Lord, in Heaven? / Кто есть на небе у меня?</dc:title>
</cp:coreProperties>
</file>