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D0B-A918-4FCB-809A-C86186AA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925-645D-4E84-9F8B-2180C87F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A85-8DE9-43B1-B5B0-B973F399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964-120F-4902-8040-EEEB6247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9BE-F520-48BE-B1D9-716DBB99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D89-0790-470A-BAE5-8425CA87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CBA-4F29-42BC-A447-4F552576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455-78A4-4ED3-A34A-3FBF14A6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0D6-1F13-4F74-9F92-07C8296C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BBA-DCE1-4053-AC63-0B1E6ED4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C5E-6338-4BBD-A37D-2E5E5731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E4C-C82B-4C50-93BE-A7CE5C04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1C9F2-4FA7-4B54-89CA-4DBAAD31A9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 все, кто пла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 дни живёт в тос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о Мне залог уда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ость лишь в Моей ру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придите все, кто пла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, кто от жа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ывает в лютый 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, кто одна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изранен сата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горя вы терп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ас долго грех терз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к светлой 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ильте пере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ши день вче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те все Моим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со Мной не будет страш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ы Я обмою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обижены, несчаст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терзает сата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крылья безопас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од ними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осли бурьяном 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 людской живёт, гре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на призы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ликнется душ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3:27Z</dcterms:modified>
  <cp:revision>13</cp:revision>
  <dc:subject>Slavic hymnal Гимны веры христиан, hymn 368</dc:subject>
  <dc:title>О, придите все, кто плачет</dc:title>
</cp:coreProperties>
</file>