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B07-5ED8-4B47-9332-2BB06775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9B5-7289-41F4-BB12-5980A6B3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246-14E6-499C-BE26-9D30F038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FB1-44EB-402B-B65B-84B7B42F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8AD-2BB8-4CBA-9FC9-4A7ED6A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00F-754A-4637-A799-BEB2A00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FC9-0CDC-46C0-857F-51508569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337-7BE8-431A-927E-DD764262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B1A-B092-4812-84A2-58384FA6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C6D-1D19-41E5-AAEB-08F0DE0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1A5-D265-4955-840C-C066FFC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546-2431-4014-B8C7-D0449F5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B3612-A04B-4D10-B1CC-6D6B6DFA46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стро наши дни теку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ень они про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с собой туда влек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уда не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скитанья год пр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земной, несчас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нник ближе под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тране родной, прекра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быстро наши дни те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лго ль будем мы блу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эт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лго ль нам ещё зде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Бога книга наш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ил Он ски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наши пишет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испыт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нистый кончим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м в чертог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лит нам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Своей чуд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, Боже,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й в начале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о дни нам исчис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ирск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нам в скорби ун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смир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 молитвой прибе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31Z</dcterms:modified>
  <cp:revision>12</cp:revision>
  <dc:subject>Slavic hymnal Гимны веры христиан, hymn 734</dc:subject>
  <dc:title>Как быстро наши дни текут</dc:title>
</cp:coreProperties>
</file>