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ABA-D9A8-4452-A72D-5A967D3A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F61-9A4A-46A2-87FA-FDDB69BA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008-2F57-463A-A588-15F5F908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F61-56BC-4236-BBB7-D5FFA6B6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249-36AA-43AB-99E9-F5AE3FB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CF6-34C4-4648-830D-02B310A2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F7D-01EC-4D18-9D1A-2D8C04C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027-BEE5-429B-9494-E34671C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9A1-5488-494D-8254-8C3967F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B69-E9BA-4717-B32F-2A16A48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399-BEEB-443A-85A6-3F13E97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260-CFD9-40E1-BD55-D6E80AC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DF6D8-FD50-4DC3-8831-0FC0AAFAB8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авло апостол нам сказ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   З нами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Господь Спаситель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Іван апостол н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Йоїль пророк пророк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40Z</dcterms:modified>
  <cp:revision>14</cp:revision>
  <dc:subject>Slavic hymnal Гимны веры христиан, Ukrainian hymn 8</dc:subject>
  <dc:title>З нами Бог, хто буде проти нас</dc:title>
</cp:coreProperties>
</file>