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132-711F-488B-8F69-4EB57C6E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BC7-15F7-4D2F-BE8D-740A9B1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A4D-6996-43E6-A0A1-BEDE79A4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BBA-4723-42E6-9E56-1777C718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3EE-4630-4129-993E-1045E05D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8BF-037D-4DC9-A597-6B4D61F7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344-7859-4404-B66A-B5A2379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1BE-36EA-4B5E-81A6-684FDD5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3EB-F370-4CC6-A840-3D6B1B2A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71D-8E7A-4452-B2F8-2582D47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97E-072C-4088-AD7F-AF123858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043-F40C-4566-8089-0A46531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4E0AD-0FA2-42A7-AD73-4A953A260D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7   Love Unfa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16Z</dcterms:modified>
  <cp:revision>12</cp:revision>
  <dc:subject>The Source 3, song number 1427</dc:subject>
  <dc:title>Love Unfailing (To the Ends of the Earth)</dc:title>
</cp:coreProperties>
</file>