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2B30-F2D4-4DDE-86C7-7C6C9A56F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DA87-01E4-41AC-8FD7-26D62042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0C01-898A-4498-A386-5E7ED78FB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7187-738D-40B3-8DD9-4707004B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6EF7-C2BD-49BC-8BE3-4DF2EF03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6184-EDD7-414D-A40C-D9569D14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C6F9-026B-45E0-9F79-FFBA0AFC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BAA2-C0BD-4C2D-8A3D-DBB007DC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88F3-0233-435F-BB51-1779F4D5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7B71-FCB3-414D-857F-77B16C0E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0421-9B52-4375-A009-489A546D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C49A-2FC4-42A7-AC63-D2A8654A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F8032-1E4C-433B-BB75-468C76F6F6D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моя терялась в су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 не думал и не 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грешников Он постра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и милость вос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остил блуждавших в темн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Он освободил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изнь моя терялась в суе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 Божье грех открыло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гибал я в страшной пуст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Христа увидел пред с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и милость вос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остил блуждавших в темн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Он освободил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перь Иисусу от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отрадно жить и в нищ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шой восторженной п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мн о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и милость вос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остил блуждавших в темн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Он освободил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любви открыл спасенья пл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явилась в полн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ритель грешным людям 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и милость вос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остил блуждавших в темн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Он освободил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5:16Z</dcterms:modified>
  <cp:revision>12</cp:revision>
  <dc:subject>Slavic hymnal Гимны веры христиан, hymn 419</dc:subject>
  <dc:title>Жизнь моя терялась в суете</dc:title>
</cp:coreProperties>
</file>