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8D48-F355-484D-BE9F-5C7DD67A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26B-326E-46BA-95C1-FE2CCFD5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0BE1-EA24-4C71-B4E1-05EE99EA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722-F3EC-4141-A516-41103339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A2D-5F7D-4A7E-8539-74ACCBBB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225-FB06-44AC-96A4-13550849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22B-5B5E-4212-8664-BECC5C6E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19C-3C8F-448D-A6F7-10787A6C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9CD-A0F0-4BCF-9913-C3E61F3B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DB5-5FCD-4A8D-8758-DF2E7537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537-89B8-4D02-BBE5-A1AE8BF5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E12-24AD-466E-A765-C05EA342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0E6D0-6D88-4A05-B129-AEFB1E5E74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is my del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is eyes are fire, His face is l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First and Last, the Living 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is name is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from His mouth there comes a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at shakes the earth and splits the gr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yet this voice is life to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voice of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8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King of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I will sing my songs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lling out across the ear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troubled minds can know His pe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ptive hearts can be relea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My Lover’s breath is sweetest wi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 am His prize, and He is m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ow can a sinner know such j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Because of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wounds of love are in His han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price is paid for sinful ma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ccepted child, forgiven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Because of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I will sing my songs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lling out across the ear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troubled minds can know His pe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ptive hearts can be relea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my desire is to have You n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Lord, You know that You are welcome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Before such love, before such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 will let the walls come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I will sing my songs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lling out across the ear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troubled minds can know His pe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ptive hearts can be relea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4:40Z</dcterms:modified>
  <cp:revision>11</cp:revision>
  <dc:subject>The Source 2, song number 983</dc:subject>
  <dc:title>The King of Love (The King Has Come)</dc:title>
</cp:coreProperties>
</file>