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08C-392B-4EF5-9519-7CBCD159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70E1-2DB8-48C9-926D-41685DE9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3F65-BA06-4CF5-AA35-9D22074C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4429-26C7-4A0D-B813-05087FD2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9C1E-75C6-42EC-A534-9A01F0CB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154-5D1F-4BB9-BE45-53DA1082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8D90-3C94-4B4D-AF0E-D94303B8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5CDC-4E98-4500-97BB-610EDAB8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34A4-3B25-4601-9B92-FE27EA9D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0961-6BB5-46AF-9C8D-CBF7E3D8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D8E-0031-4668-9CA8-95F3451F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AFC-C9AF-448E-868D-DA74EBB9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AD0EC-AD35-4DCB-B17A-37C289FA569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, полный утомл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весть твоих друз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устроил пир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уши больной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пиршества го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тебя 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го ж не примешь з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анник, полный утомлень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грех твой удруч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и: Бог снимет гн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стить тебя жел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пиршества го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тебя 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го ж не примешь з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ы нечист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елей, чем морем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вымоет свят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пиршества го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тебя 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го ж не примешь з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 на одея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всем гостям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― прощенье, оправд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пиршества го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тебя 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го ж не примешь з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7:41Z</dcterms:modified>
  <cp:revision>12</cp:revision>
  <dc:subject>Slavic hymnal Гимны веры христиан, hymn 390</dc:subject>
  <dc:title>Странник, полный утомленья!</dc:title>
</cp:coreProperties>
</file>