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EA28-F140-42DE-9CF3-9B4452861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F62C-4155-40DD-9D86-A12D6A3E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104D-E8DA-425D-9141-6B6946C9D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4861-2633-4955-8C70-6B7232D53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1E72-61E1-4AE0-A101-F1287845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5049-8269-457C-9D2C-67B00B45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8C1C-00E3-4267-B963-B480E5F2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1525-2FBA-475B-8C64-9D44FD7F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874E-1035-429E-A8D1-0149CE8C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D5C9-E772-4F68-BD24-B26F4C83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E73A-30D6-4D43-BCCF-C2D3ECF2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DD9A-8A9E-4B75-8252-37E50470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B49C2-BB36-47DE-A2E8-28A93D4AB73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 неба звучали напе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олнце взошло в тьме ночн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Сын Божий, родился от Де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л в этом мире Просветител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любил Он, смертью куп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жал во гробе, чтоб нас оправ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Он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жизнь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 неба придёт Он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1448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когда с не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взяли Его на Голгоф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били к древу грешников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яжких мученьях Он умер за мно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меня страдал Спасител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любил Он, смертью куп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жал во гробе, чтоб нас оправ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Он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жизнь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 неба придёт Он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в гробе лежал Он, умерш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дан был Страдальцу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с неба вдруг сошли на зем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 многих — Избавител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любил Он, смертью куп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жал во гробе, чтоб нас оправ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Он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жизнь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 неба придёт Он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тщетно стерегли моги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мень отвален силой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с Распятый, попрал смерти си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Отцу вознёсся Искупител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любил Он, смертью куп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жал во гробе, чтоб нас оправ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Он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жизнь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 неба придёт Он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небо озарится сла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дастся трубный звук над всей земл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ей почивших я увижу снов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 и славен Добрый Пастыр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любил Он, смертью куп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жал во гробе, чтоб нас оправ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Он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жизнь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 неба придёт Он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4:59Z</dcterms:modified>
  <cp:revision>13</cp:revision>
  <dc:subject>Slavic hymnal Гимны веры христиан, hymn 836</dc:subject>
  <dc:title>Некогда с неба</dc:title>
</cp:coreProperties>
</file>