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F95C-081E-4ABA-93D4-E29D0650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E02-79E3-4A35-95B7-E7753971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236-CFCA-48F5-B81E-A1DE072D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B479-AEAF-4F2D-8AFB-1FC1F9AC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439-CA79-4F34-B696-0AB8201A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D81-9B5C-4A10-94D5-0070BC2F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F73-2C3D-476A-B721-77538195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E6C-EB4D-46FB-A988-D673BDEF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97E-5420-4F1F-99E8-F11147EA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3F5-083F-4A3F-9162-B9DD195A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012-3D07-474A-9319-D88A985F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998-AF9C-46F0-9A88-DD6BF4EF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82068-4645-4078-BF98-00FCCF161D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гне й рветься туди все д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енні, в небесних 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ють свойого Тво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6   Насліддя моє в небеса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ене жде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ме у оселю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дих мирний на травних луг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Його світлім, блаженнім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коро у небо пі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кінчу шлях тернистий, зем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сіх вірних слуг Божих зна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усі Божім пречистих, свя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3:29Z</dcterms:modified>
  <cp:revision>13</cp:revision>
  <dc:subject>Slavic hymnal Гимны веры христиан, Ukrainian hymn 26</dc:subject>
  <dc:title>Насліддя моє в небесах!</dc:title>
</cp:coreProperties>
</file>