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C18-48A5-4CAD-8DBF-788A4402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F2F-1E6C-4E45-A9E5-8ACBC19F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C80-D828-4D89-A9C8-F3BFE04E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D6B-E134-4B4E-AE4E-B2671D25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95A-3741-4FE6-81D0-0744ACE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20F-215F-45D7-8C22-CECF4D5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976-95C1-43B9-A5E5-883B3CE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021-A057-4170-B5B9-4F6110A2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4B3-42FD-4AC0-A71D-04DA8FCD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995-4FF6-4E1D-AB19-ED36520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A27-1C2D-4CA5-9241-2E347FB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063-B6B8-41A1-8F12-C3A2869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CD18F-F073-4400-B740-BAFA9C0BC8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t Thy table, Lord,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eed on food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is the bread we 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cious blood the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Who prepares this rich re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self comes down and d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nvites us thus to f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peace and pardon sweetly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hat delightful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eat the bread—and drink the w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k on nobler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was the suff’ring He end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accursed t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—each welcome guest ma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ll endur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there was never love so f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Saviour—so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Thou mayest claim that he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wes so much to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4Z</dcterms:modified>
  <cp:revision>14</cp:revision>
  <dc:subject>Slavic hymnal Гимны веры христиан, hymn 730</dc:subject>
  <dc:title>Here at Thy Table, Lord / У Твоего стола, Господь</dc:title>
</cp:coreProperties>
</file>