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493-7FF8-40FA-8531-A1DB1680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AB5-633E-4592-AB20-A28E68E3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AE5-F750-4D60-A013-F311B94B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F99-5DA6-4F13-A7F9-EDF582D8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94C-1575-4480-97C1-714B53A7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BDB-77C9-4B64-81C3-B821213F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B01-EEEA-4F2A-B8BB-3084F06F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0E6-A3E7-4199-BC2D-3C19BCBA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5D0-4271-40FD-92A8-4A56125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48A-7BEE-468B-BAC5-36936BF4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2F6-D319-482C-B8F0-223FF8B1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451-1AB2-4C4E-9F7C-9F9DF29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7F93D-B8D1-43B5-BDBC-EDD1160960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ди, друг, жизнь бесп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, как пар, она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скорот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мерть к теб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 минуту вдруг исчез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мира,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6а   Не веди,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кажутся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тво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ешь, к цели ло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ь твоя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 будь же, друг, беспе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стигнутым враспло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зовёт тебя, поверь 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в любв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ы открой теперь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лёт тебе от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— счастье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4:51Z</dcterms:modified>
  <cp:revision>13</cp:revision>
  <dc:subject>Slavic hymnal Гимны веры христиан, hymn 366 (as amended)</dc:subject>
  <dc:title>Не веди, друг, жизнь беспечно</dc:title>
</cp:coreProperties>
</file>