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4D2-F9BD-484E-AA55-1E56B1E0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A89-4D91-4C48-8371-85B32E75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E42-A33C-4504-B85A-7D7DAAD1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CC8-E61A-41D6-8930-C0A9A4E0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2C3-F4FA-4021-85DE-CB36BA47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86B-2BFC-473F-95F8-D18C7C8D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BBA-A523-4A38-BF1E-9EED31D5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6C3-8D7A-464A-A7A7-D6CD9093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DB2-2984-4646-BC46-7F6A3E83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E58-2959-4C73-BA53-E54DA840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4A3-E47E-4815-B311-1906B3D7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F77-8AE3-49D1-A6A8-1A3047E5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D3514-4CC7-4950-B274-A71C0A63E2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юч к сердцу больных и мятеж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и любви, ни наде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ет проливает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, где вся жизнь ум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данно является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мир предлаг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ны — целебный бальз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люч к сердцу бо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любовью без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чудо в душе совер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в обновленьи и в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поклониться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е уходит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т желан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 вину, и по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пронзён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54Z</dcterms:modified>
  <cp:revision>12</cp:revision>
  <dc:subject>Slavic hymnal Гимны веры христиан, hymn 646</dc:subject>
  <dc:title>Ключ к сердцу больных</dc:title>
</cp:coreProperties>
</file>