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A67-65F4-418C-B815-9AEEAF3F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A10-D499-4B74-B10C-705B493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BC5-41A1-4D5C-948F-D9F93C7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D8C-D7E3-4804-8ECF-258D1A69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072-A401-4CCF-8346-F047672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836-741C-41CF-9A33-DB638650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130-B65B-4F2C-9036-B3904DDA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14D-2E65-4D35-963B-67547880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DA4-2313-43AF-8C2E-119305A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0EA-B989-422A-BC34-9BD8254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668-013E-46A8-9CE1-6D9AADD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A20-0828-4DFC-A4B9-DFC485E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DE93-54F1-44B8-A52E-4673BE4563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м пламенем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сердцу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одвиг жертвы 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во веки 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ю обитель я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кину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в вечности,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я с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достойной, не в сле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 отрёшь слез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3:02Z</dcterms:modified>
  <cp:revision>13</cp:revision>
  <dc:subject>Slavic hymnal Гимны веры христиан, hymn 810</dc:subject>
  <dc:title>Душа моя во мне горит</dc:title>
</cp:coreProperties>
</file>