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026-9541-46BC-89A7-E54C108E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6EB-CE30-408A-922E-670D0D9C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5A7-83B4-4D63-A10A-350E786F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633-D5A4-4C67-8C4F-01709C39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D02-9893-4050-858A-2E7BC320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F92-8BE3-4E5D-964A-92A986E1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4B7-4325-437A-B2A4-F02008FF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BF9-6E90-448E-9A46-9D6CF9D0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1E0-DFEB-48D9-81DA-4004975F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7BE-3F1F-4AD0-85E4-23E77B60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DA6-16D7-45CD-B9DD-18CB9E26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7CB-7950-45D6-B6B8-05141D6C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1F4DB-1C83-4B98-89F2-7CD53AB150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хоть я его н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это мне даёт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му тревожиться мне и страш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, всегда томясь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Ты также знаешь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н давно уж для меня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лю я, Господь, Тебя серд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илости, заботы и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знаешь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всё: откуда ветры ду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ю жизни укрощ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известно мне, куда 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спокоен, путь мой зн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33Z</dcterms:modified>
  <cp:revision>13</cp:revision>
  <dc:subject>Slavic hymnal Гимны веры христиан, hymn 617</dc:subject>
  <dc:title>Ты знаешь путь</dc:title>
</cp:coreProperties>
</file>