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84</a:t>
            </a:r>
            <a:r>
              <a:rPr b="1" lang="ru-RU" sz="3600" spc="-1" strike="noStrike">
                <a:solidFill>
                  <a:srgbClr val="ffffff"/>
                </a:solidFill>
                <a:latin typeface="Verdana"/>
              </a:rPr>
              <a:t>	</a:t>
            </a:r>
            <a:r>
              <a:rPr b="1" lang="ru-RU" sz="3600" spc="-1" strike="noStrike">
                <a:solidFill>
                  <a:srgbClr val="ffffff"/>
                </a:solidFill>
                <a:latin typeface="Verdana"/>
              </a:rPr>
              <a:t>Пастырь добры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астырь добрый, Сам храни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нуждаемся в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лугах Твоих паси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ди к живой во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упил нас, мы Тв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упил нас, мы Тво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ы Твои, дай за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оды ранние ид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таде всех Твоих овеч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греха Ты соблю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упил нас, мы Тв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упил нас, мы Тво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сех принять Ты обещае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Ты говоришь: «Пр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рехи Ты все прощае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даёшь в Твоей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упил нас, мы Тв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упил нас, мы Твои.</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2:08:32Z</dcterms:modified>
  <cp:revision>3</cp:revision>
  <dc:subject>Slavic hymnal Гимны веры христиан, hymn 184</dc:subject>
  <dc:title>Пастырь добрый, Сам храни нас</dc:title>
</cp:coreProperties>
</file>