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7D6-E370-4237-A49E-F8384BEF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556-81FE-42ED-8B33-9A88506E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9B3-7992-47C5-A76C-9004B249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41C-FA3B-4545-8AC3-976CD6A1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656-F160-436E-985D-4D34B05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0FA-3B38-454E-B725-10C3F8D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916-A0C8-4F06-B17F-6A5AC20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572-F437-4FFF-83ED-29D5B1E4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7BA-E36A-4510-B21E-A3E2302D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766-9D60-4F16-9E70-20FE092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2A3-B3DD-440B-9831-AC4337D8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FA8-E3C1-4B7A-A180-D385856B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612F7-FF5C-4BC3-A593-FBCCE14259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 is rise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s of men and angel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your joys and triumph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heav’ns, and earth,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again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O death, is now thy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ying once He all doth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y victory, O gr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redeeming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ght the fight, the battle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in vain forbids Him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opened parad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ar we now where Christ has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our exalted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like Him, like Him we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s the cross, the grave,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5Z</dcterms:modified>
  <cp:revision>13</cp:revision>
  <dc:subject>Slavic hymnal Гимны веры христиан, hymn 291</dc:subject>
  <dc:title>Christ the Lord is Risen Today / Наш Господь Христос воскрес</dc:title>
</cp:coreProperties>
</file>