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CBF-60A8-4AEB-A840-B2AF87B7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292-38CA-4920-BC03-123DA9FD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D62-C480-46C5-BFC3-E395CA16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7F0-27C7-4266-B6CD-E2EC3D6D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1BE-2CEB-42C6-A62F-68EE699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6AC-B8F7-4C7C-AFCF-2D295E8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EF0-6539-4DA2-8DC8-C9F46BB7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47F-8B98-48C3-ADF0-B532277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518-9F0E-4902-90BE-2B6BA01B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B51-827C-4E01-9E82-6556C93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2C2-7F71-4067-9BEE-09E9335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AAB-304D-4723-9D4D-CF06D8F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F0C4E-A2E8-4F92-8525-30F649BE53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glorious and b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glows in any earthly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is m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music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rol to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listening, can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s I canno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pringtim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en the Lord is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ove of peace sing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’rs of grace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gladness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pe and praise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lessings which He gives m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oys “laid up”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6Z</dcterms:modified>
  <cp:revision>13</cp:revision>
  <dc:subject>Slavic hymnal Гимны веры христиан, hymn 587</dc:subject>
  <dc:title>Sunshine in My Soul / Небесный луч в душе моей</dc:title>
</cp:coreProperties>
</file>