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60C-F03D-489F-90D6-16774566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904-6385-4C96-9549-7BABF4B1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ADE-C221-4B17-8412-12CBC6AD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884-DDF2-4D9D-8A43-4B62799D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A3F-D828-4A3E-A966-FA502879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FB44-328F-4A1B-ACD2-B04983FC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18B-89BF-49D7-9F8D-8C1A1C6E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A24-9C89-4DDC-9077-F9C05645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6C6-1A39-4064-BD34-5CFA0A83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096-B26A-49FB-975C-D1ACDC1A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52F-B237-4035-BCE7-A968AC00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B606-78A7-437D-9FAC-12C1D03E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4FF06-424B-431A-B229-B0CE4C1654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ghtest and best of the sons of the m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wn on our darkness and lend us Thine ai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r of the East, the horizon ad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uide where our infant Redeeme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рче и луч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рче и лучше, чем солнце Восто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ья звезда, нашу тьму разго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х нас к Младенцу веди издалё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етом небес озаряй наши 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ld on His cradle the dewdrops are shin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w lies His head with the beasts of the st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gels adore Him in slumber recli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ker and Monarch and Saviour of a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хо на поле роса трепет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ирно Младенец на сене леж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истое небо в ту ночь ликова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и Создатель Спасителем ст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y, shall we yield Him, in costly devo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dours of Edom and offerings div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ems of the mountain and pearls of the oce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rrh from the forest, or gold from the m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чем нам явиться пред всеми Желан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ерлы морей, ароматы луг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олото гор, драгоценные кам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ирру деревьев, — Он примет ли внов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Vainly we offer each ample obl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Vainly with gifts would His favour secu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cher by far is the heart’s ador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arer to God are the prayers of the p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дны пред Ним богачей приноше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— обладатель сокровищ зем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ит Он видеть сердец сокруш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ит Он слышать молитвы прост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ghtest and best of the sons of the m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wn on our darkness and lend us Thine ai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r of the East, the horizon ad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uide where our infant Redeeme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рче всех звёзд, что горят на Восто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ья звезда, перед нами све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рез долины, холмы и пот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с в Вифлеем к Иисусу ве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0:30Z</dcterms:modified>
  <cp:revision>13</cp:revision>
  <dc:subject>Slavic hymnal Гимны веры христиан, hymn 245</dc:subject>
  <dc:title>Brightest and Best of the Sons of the Morning / Ярче и лучше, чем солнце Востока</dc:title>
</cp:coreProperties>
</file>