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493-B7AB-4728-98C4-74AE812D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D75-B77E-466F-9FFB-73FB02B9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E1A-FB81-4B93-9AD7-415CB8BC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04D-0FC5-49E7-9D23-68B6702C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5EE-690D-4205-9BB5-27C4291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C9E-65C9-4CE2-AE17-6D4A264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8FD-29C2-4F6F-8C44-336C6205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C34-C265-46AB-95D0-98926767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EFA-9C69-4227-8147-B31A3075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4DE-C332-4BF8-A6DC-277EB851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3ED-0A08-4844-81E7-DE4441E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F13-F42C-4AB9-8A61-285B993A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1DEA9-1716-4CC2-B487-966962FF7E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my heart, into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to my heart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 today, come in to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to my heart, Lor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9   В серце ввій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ввійди, в серце вві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 тепер, відкрив я д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25Z</dcterms:modified>
  <cp:revision>12</cp:revision>
  <dc:subject>Slavic hymnal Гимны веры христиан, Ukrainian hymn 109</dc:subject>
  <dc:title>Into My Heart / В серце ввійди</dc:title>
</cp:coreProperties>
</file>