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A5CC-E540-4ACA-8F66-3B406634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86D-8F70-446C-8961-A55F06FA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95F5-F5C4-4801-8672-82EC69C3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A2F-4270-4618-9D06-0465EE8C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7540-00EA-46DB-9B2E-01EB4854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EEC8-CBFB-45B0-B64A-CC9F8137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99D5-5795-4D05-B217-F7CBA361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4B7-571B-43FF-839A-6B22B1AF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716-7A8B-4D73-8312-C67B9B16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CBA-276A-4E7D-B56D-EB22C3AC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FF1D-1A69-4124-ABFC-E9DB02CF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700-39AF-4E07-8E3C-1C4B48FD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75FD2-CDAB-41D7-9A16-5BA3A31198E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words long pre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our walk in thi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resound with God’s own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267   Есть святые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вятые сл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ранит мир в ве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Бога звуч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любви нам гово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s of life, words of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us strength, help us cop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where’er we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cient words will guide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и жизни сл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адежду д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ают на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к Отцу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cient words, ever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nging me, changing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come with open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вучат т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да и 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вая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ры в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words of our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nded down to this 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me to us through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eed the faithful words of Chr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ют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 жертв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мыт от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ерит в Госп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words long pre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our walk in thi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resound with God’s own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 святые сл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ранит мир в ве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Бога звуч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любви нам гово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cient words, ever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nging me, changing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come with open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вучат т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да и 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вая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ры в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4-06-04T09:09:05Z</dcterms:modified>
  <cp:revision>11</cp:revision>
  <dc:subject>The Source 3, song number 1267 in Russian</dc:subject>
  <dc:title>Есть святые слова / Holy Words Long Preserved (Ancient Words)</dc:title>
</cp:coreProperties>
</file>