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AA07-741C-4B5D-8660-8C68F78B2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7C96-6B9E-4526-B7AC-FCBA9446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E206-8558-422A-A2E2-BA4A14A6A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AA4A-2196-42F5-9C24-47B8B7DE2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8E9F-51AA-468F-A607-E1E7DCFD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3182-5BE2-46C3-93D6-327FA47C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134E-43D8-4944-ADCE-4EDFA57A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622F-AB7D-4490-A770-FB08AF82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687A-B008-4E2B-92A6-E16D554B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3AB5-2BA7-440E-A1B1-B9AB862B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C7AA-7312-4B61-82D1-C362EBE1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FE73-5886-4901-9590-A7A0472C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DEB53-B893-434E-A578-3D914DA20B6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ьте бодрі завжди і молі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наш Господь прий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х усіх візьме у край небес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то Його в молитві ж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, молись, надійсь на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, молись! ― Господь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вердить престол Свій в правд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них в Царство Він візьм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2   Будьте бодрі завж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ьте бодрі завжди і молі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мна сила зла не сп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илу Духа правди зодягні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и всі щита візьмі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, молись, надійсь на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, молись! ― Господь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вердить престол Свій в правд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них в Царство Він візьм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ьте бодрі завжди і молі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спасе від всіх гріх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рі і надії підкріпіть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 за грішників терп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, молись, надійсь на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, молись! ― Господь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вердить престол Свій в правд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них в Царство Він візьм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ьте бодрі завжди і молі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благання вчує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иш на Спаса з вірою дивіться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у всім поможе в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, молись, надійсь на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, молись! ― Господь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вердить престол Свій в правд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них в Царство Він візьм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26:28Z</dcterms:modified>
  <cp:revision>13</cp:revision>
  <dc:subject>Slavic hymnal Гимны веры христиан, Ukrainian hymn 12</dc:subject>
  <dc:title>Будьте бодрі завжди і моліться</dc:title>
</cp:coreProperties>
</file>