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AED-3826-4D4D-B58D-10580F05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199-E71E-4BEB-A2F7-C986110D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51B-3F43-4605-836B-7A785C0F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CA6-1FB7-440B-81DA-2CE43D1F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737-AB26-4A37-B531-8B7BAAAD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35D-6060-49CC-BDA9-1BDA597F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BF3-5329-4A48-9AD2-E3553E33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143-D845-42FB-A2C8-7434D0EA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6AF-8E9F-468C-B161-B5E8A473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BF0-B698-41B8-A003-800272F2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137-09ED-4DC8-ACC8-E0BA1686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C1C-26B0-49FA-9D48-71F1C86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875E0-FC0C-402B-A98C-77EE88A57A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called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phets to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the wor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itu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75  We Are Called to be Proph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’ll be th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alt should lose its fl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’ll be th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alt should lose its flav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oose the chains of oppres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et the captive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fill my life with Your compas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throug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oday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ake all my 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all of my gr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ose who are in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out Your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ll just good inten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out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ould find redem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oday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24Z</dcterms:modified>
  <cp:revision>12</cp:revision>
  <dc:subject>The Source 3, song number 1575</dc:subject>
  <dc:title>We Are Called to be Prophets (Miracle In My Heart)</dc:title>
</cp:coreProperties>
</file>