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18A-4C1E-42BF-A610-48ED9BF8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743-23EC-4A1C-80FF-D7528A3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347-C7FA-4F28-9444-6BC8E0FA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A06-9183-444D-BDF7-9A763A62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EBC-14A3-414B-8A23-FC619F7B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BCF-6232-42EC-9EAC-AB43B403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C3A-B76E-4335-8DE5-47699CCC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9E1-3E53-4E20-A199-98C21BC0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20F-CDF4-487B-8CC9-CC32043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0A4-B6C0-41E6-BC5B-2D485EB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276-6A70-4C2C-8844-E30F071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A38-1089-4281-AC37-E79B565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08CD-CC5A-42D9-9434-F7867949AA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06Z</dcterms:modified>
  <cp:revision>12</cp:revision>
  <dc:subject>Slavic hymnal Гимны веры христиан, hymn 480</dc:subject>
  <dc:title>Утешайте малодушных</dc:title>
</cp:coreProperties>
</file>