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F805-3D9B-4FFE-85D9-F0AD6ECC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0ABC-36B0-43F9-A51D-5DE5B66F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D3CD-1371-4E08-A139-280D5D02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9523-46C2-4422-9713-E58D8C016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F98B-7C29-40E7-BEA5-502DDB25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B6B2-25BB-47ED-965E-1A1EBB2F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3BEE-19F2-4550-A327-5F02CDBC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E04D-362F-4D6D-A8EE-740AEA85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3E35-6391-4DA8-9BA5-60C59E2C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9E8-C1B5-4B93-9926-DC90759E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5F0E-96EC-40D1-9A03-DBDB3905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5560-5B1B-4C45-9B75-A049D853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06521-F2DF-4687-A137-30D4648DC99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82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дость, радость непрестан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с Сам ведёт за р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ает нам в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хранит от бед и м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ей внемлет Он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едам пойдём Христо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льнуть к рукам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д бременем сур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опасть нам без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еры, жизнь дающ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, как солнце, в нас гор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грешных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благ Он нам 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0:04Z</dcterms:modified>
  <cp:revision>12</cp:revision>
  <dc:subject>Slavic hymnal Гимны веры христиан, hymn 567</dc:subject>
  <dc:title>Радость, радость непрестанно</dc:title>
</cp:coreProperties>
</file>