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CCE-E5A2-4AA3-8263-B591AA1E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619-13C5-4338-8541-DC930202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BC0-9C80-42ED-84BB-F3657B19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D6D-4754-461A-B076-0BEA5CD1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8EF-F9C0-49C5-8D06-10DC70DD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43F-8D08-43C4-9616-2DE44158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805-BD0A-41A0-AB87-EB20DBCC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DFC-E63A-443A-A1E9-768E21E9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719-7AB0-4A38-9FEE-855EB3C8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203-93F6-48B2-833B-11A4FC6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934-E115-4606-BFE5-89C2F37E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30F-9FF2-48A9-BA69-8F2CBB7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6B98C-A5CA-4C4D-A7DD-174EB42266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 Господь Бог до Н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топлю світ во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лизький час, в близь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лизький час, в близький час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Ти ж збудуй собі ковч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родини і для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тись, щоб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тись, щоб спастись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4а   Сказав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ой повірив, ― не вага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вати ковчег взя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же час, в той же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же час, в той же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Ноя висмів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а правди не прийм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й люд, грішний лю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й люд, грішний лю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оп хлинув, як те мор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бігли всі на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зали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люди вже благ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а себе нарі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му правди не прийня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прийшов, гнів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прийшов, гнів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ташки в небі ще лі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ятунку скрізь шу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йшли, не знай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йшли, не зна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всю покр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безбожних затоп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уд, Божий с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уд, Божий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Лише плавав над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з Ноєм і с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Як ковчег став на верш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оєм вийшла вся родин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аслись, всі спас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аслись, всі спас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Так, як було за днів 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безбожним гірка д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ов прийде, знов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ов прийде, знов прийд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7:48Z</dcterms:modified>
  <cp:revision>12</cp:revision>
  <dc:subject>Slavic hymnal Гимны веры христиан, Ukrainian hymn 84а</dc:subject>
  <dc:title>Сказав Господь Бог до Ноя</dc:title>
</cp:coreProperties>
</file>