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630-8F17-417E-AE64-1778FD4E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DB3-759C-4FEF-BCCB-B9E270C7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90B-21DD-4E55-89A2-5316D7C5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E21-ABC7-4EA2-B1EA-1E48CE48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F68-CC9A-4116-AA17-84EEBF70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C14-DF66-4EBE-AA64-01DE93D3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488-34FD-4D75-8EEE-A8510AF9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363-B954-45E1-9848-2BB99D23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25E-AE46-49BA-80AE-04280A5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336-6425-4560-A63B-92D0702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036-6897-4FF3-884B-57ACAB5C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28E-5B35-41BF-8354-4E2F956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EF587-3C8A-4EBE-A4E6-E088A15201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 that lov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our joys be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a song with sweet accord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surround the thro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ose refuse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never knew our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children of the heav’nly King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peak their joys abroa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ll of Zion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thousand sacred sw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we reach the heav’nly fields, 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 the golden street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et our songs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’ry tear be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hro’ Emmanuel’s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airer worlds on hi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4Z</dcterms:modified>
  <cp:revision>13</cp:revision>
  <dc:subject>Slavic hymnal Гимны веры христиан, hymn 588</dc:subject>
  <dc:title>We’re Marching to Zion / Придите, все сердца</dc:title>
</cp:coreProperties>
</file>