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DEFD-6966-4012-BB34-D9CE5B63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0501-644B-4887-8FEB-C5310E59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D5C7-0E09-4C50-96EB-8F8E8547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198F-CCAA-48D4-83B4-5A6941FE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6CBF-3338-426B-B972-EA6E78A8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8EF-D427-42C5-AD14-B8135F3C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78AD-FC6B-479F-8C00-D2123ED0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A28E-9776-49BC-B46E-3FC0CCBC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B729-FFCD-40AA-B055-ED82BD19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0C9B-8A3A-4936-8A03-1040F984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525F-E77B-4E53-9842-AA7ACD4E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D52A-7E2A-40CA-A30F-984787CA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B636D-CA1E-47D0-ADD9-E6856947E7E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is so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take Him at His 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rest upon His prom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know “Thus saith the Lor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2а   Сладко верить в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 страхи поборо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жизни укрепля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ить: «Так сказал Господ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trust His cleansing b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in simple faith to plung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healing, cleansing fl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ить в мощь Его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ерой прикосну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ю душу обно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’tis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from sin and self to cea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from Jesus simply t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 and rest and joy and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цепи все пор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Него потоком ль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мир 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so glad I learned to trust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Jesus, Saviour fri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that Thou art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t be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, что познал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Бог, моя звез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живу, к Нему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сстанусь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24Z</dcterms:modified>
  <cp:revision>13</cp:revision>
  <dc:subject>Slavic hymnal Гимны веры христиан, hymn 622 (as amended)</dc:subject>
  <dc:title>’Tis So Sweet to Trust in Jesus / Сладко верить в Иисуса</dc:title>
</cp:coreProperties>
</file>