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A1F-AB22-466C-92AD-7BFE5ED6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AD6-2729-4587-A0F4-7057F6ED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6F8-93DE-4752-BE1C-D8F33D51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CD6-EBD8-4C5A-8F69-4DEEDC7B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D1B-2A5B-4ADB-8575-DB682675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400-6ABC-47BA-9A25-BD402A03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3FA-9A2B-4033-A332-99506E8F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48B-6791-499D-B685-434E9DD9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1C2-09A1-4AFC-8383-0D08DA68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B78-8527-4D1C-8BC5-0516CA3E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6E7-394C-450E-9C43-6CB8F7B2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1F1-7258-4E07-9E79-CFD73ABF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68CDE-E10A-4C4A-979D-8121279CC9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speak to me that I may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ving echoes of Thy t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has sought, so let me s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erring children lost and 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б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я речи мог друг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скал, дай мне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по путям зем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ad me, Lord, that I may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ndering and the wavering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eed me, Lord, that I may f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ungering ones with manna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, чтоб я в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вёрдых любящей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ми меня, чтоб я корм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дных манно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rengthen me, that while I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on the rock, and stro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ay stretch out a loving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restlers with the trouble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укрепи меня, чтоб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репко на Скалу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мощь гибнущим да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звал укрыться под Тво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each me, Lord, that I may t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ecious things Thou dost im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ng my words, that they may 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dden depths of many a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, Господь, чтоб мне п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заветов ши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дай крылья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ец замкнутых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ive Thine own sweet res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ay speak with soothing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ord in season, as fr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eary ones in needful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мне чудный Твой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покоить мог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шам, скованным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тником был сл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ill me with Thy fullness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my very heart over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kindling thought and glowing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love to tell, Thy praise to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полни так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в избытке полила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светом для людей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во мне зажг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use me, Lord, use eve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Thou wilt, and when, and w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y blessèd face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rest, Thy joy, Thy glory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треби, Господь,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когда и 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прославил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 служить Тебе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04Z</dcterms:modified>
  <cp:revision>12</cp:revision>
  <dc:subject>Slavic hymnal Гимны веры христиан, hymn 826</dc:subject>
  <dc:title>Lord, Speak to Me / Скажи, Господь, чтоб передать</dc:title>
</cp:coreProperties>
</file>