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8E6-17F8-4AAD-B61E-2DABF742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C78-BDEE-4C0A-9C57-C79B27BD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40A-1051-4A9F-9974-C5CD41AD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8E6-29D6-4D8B-A624-50716CF7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9EE-BA8B-4EAC-8447-BFE679E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5BA-7377-4063-8594-31B26E78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CC7-3EC0-47FF-950A-B009DD13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4A9-F68C-4EC5-8CF9-1B81D186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FD5-2B39-4ECD-ABC5-EB0A8154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150-AC41-4910-B475-724CEED5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AF7-72D9-424B-96E1-2CE87AB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D89-7367-45C4-83A4-96A864F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E1A22-B3E6-4EF4-BF57-BF28B5EFED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единственный был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ый день изо всех в мире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ог умирал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погибавший во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ог умирал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погибавший во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 единственный б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ебом и грешной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, как преступник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томимый смертельной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скорбным взором гля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томимый смертельной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скорбным взором гля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ла вся внутренность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ерпимым, палящим ог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ажду…» вырвался вздох, но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уксус Ему под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ажду…» вырвался вздох, но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уксус Ему под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скликнул Иису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Его возвратился к Отц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открылся… Земля потряс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и ужас напал на тол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открылся… Земля потряс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и ужас напал на тол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помнить, что мы — это п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й жертвы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в Нём всякий грешник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и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в Нём всякий грешник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и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41Z</dcterms:modified>
  <cp:revision>12</cp:revision>
  <dc:subject>Slavic hymnal Гимны веры христиан, hymn 283</dc:subject>
  <dc:title>То единственный был на земле</dc:title>
</cp:coreProperties>
</file>