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8E4-A122-445E-A834-4A4C4793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971-CF99-47DF-9489-7D134C5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1C1-4D02-447C-8333-A91BF99F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E45-8F4A-46F1-96EA-E7EA60EF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798-D02A-4F45-B3DB-DD011E2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914-B451-44B1-8F33-66F9FB8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700-5768-431D-A818-6BA16E9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A7C-1A9A-4C5E-A128-38ED73C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2B8-29C7-4EFB-A920-BAECAF3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DC7-C1D7-470B-BBE6-580C880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B1B-40B8-49F6-A0F6-BBA51FFB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2E7-7A26-4B48-809C-987D320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FFF6B-431E-4CD0-9088-3CB4729FE1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Jesus will rece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this word of grac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heavenly pathway le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linger, all wh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will give you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, for His Word is pl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the sinfu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 condemns me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before the law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cleansed me from all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isfied its last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me with all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ged from every spot and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th Him I enter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6Z</dcterms:modified>
  <cp:revision>13</cp:revision>
  <dc:subject>Slavic hymnal Гимны веры христиан, hymn 339</dc:subject>
  <dc:title>Christ Reciveth Sinful Men / Грешных всех Христос зовёт</dc:title>
</cp:coreProperties>
</file>