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17E-3F22-4E30-B117-1E965B09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546-980C-4E9E-BC29-399355D0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FD4-EF29-4181-A4C6-6EF31F3F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0C9-B583-4BBA-8EF8-D2731F73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39F-CC81-4A2B-BC41-C2D41E69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39D-80E2-4F18-BA38-77213D5A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93E-446F-446B-BB8D-686BCBE9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6BE-AA73-4AF0-BB9C-58BAD3F9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1D5-C7D8-4C04-AFB2-95424B08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027-66F7-4FA0-BC69-0B7AC92B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566-6966-4833-AA8D-7ED2425F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7BE-A62E-4187-A9A0-E477775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56874-B4E2-4C35-A7E6-1019DB043B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hine for Him each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very way try to plea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home, at school, at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еркнущи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ит словом и д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to be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ind to all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ing how pleasant and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ttle one can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ю мне даст с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, как Он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еликих и м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, как Он здесь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sk Jesus to help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my heart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reflecting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ways shine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в эт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лого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благодать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if I but t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rving Him moment by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ive with Hi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м лучом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Ему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—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7:18Z</dcterms:modified>
  <cp:revision>12</cp:revision>
  <dc:subject>Slavic hymnal Гимны веры христиан, hymn 896</dc:subject>
  <dc:title>I’ll Be a Sunbeam (Jesus Wants Me for a Sunbeam) / Господь меня хочет сделать</dc:title>
</cp:coreProperties>
</file>