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55FA-58AE-4BAC-AAAF-77AEC32D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1F4E-0B00-4FDE-81FA-AC75E859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D8E-196D-4A89-BF91-5A624BCF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E92B-C820-4A4E-8180-D9AF2CE8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1627-E961-4E43-90E3-9C345E4C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256D-98D7-4698-B06B-2D457E0B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84B8-647B-43B5-A932-9425A862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B274-59FA-43FF-B7BB-2C9BA632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16BA-7923-417F-B13D-7ECB3EF3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02B2-584E-410C-90AD-20A2E540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78C1-FB71-48B2-ABF7-B3B1C183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D93D-8BBE-4334-80E6-58E196EC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1095E-F326-4E7B-B692-96E7F4F946F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оже, Він 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Він 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Ісус може ізцілять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хворих ізці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ртвім життя д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іпим дає Він зр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ивії ходять в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5   Він може, Він м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оже, Він 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Він 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Ісус може ізці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3:42Z</dcterms:modified>
  <cp:revision>12</cp:revision>
  <dc:subject>Slavic hymnal Гимны веры христиан, Ukrainian hymn 105</dc:subject>
  <dc:title>Він може, Він може</dc:title>
</cp:coreProperties>
</file>