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87F-9841-4FAC-9EFB-6B6B7224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7BB-AD2E-4678-8B0A-70B6B44A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E3F-A446-491B-BAA5-DBA81CB7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0F7-4452-4271-94DD-28A73DCE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11E1-0A9D-47B2-A7C3-3D4449D8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9A4-704C-469A-B29E-4637FE5C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CD8-FC4F-439D-8F51-0DA1C75D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26F-6DAD-4BC0-B390-71256E2D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C36-F4A5-437F-A636-A509F2B1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EED-8079-4B24-B4E0-3084695E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43E-BBE1-4379-BA61-758608E4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6F5-F95C-4363-BAFC-25A2E9C3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050C3-046E-42CB-9B82-E80E13D822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диний лікар є для на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аскавий наш Спас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анами Своїми с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вірних ― наш Збав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4   Єдиний лікар є для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сі гріхи мої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Лікар, мій Збав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ім Отця мені відкрив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наш Примир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агну щиро все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, мій Відкуп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є ім’я люблю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едвічний Цар,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уг невиліковний тв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ізціляє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могутність зрозумі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ірним помага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мо, браття, всі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 Його безмірн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лавить серце 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ню милість див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3:49Z</dcterms:modified>
  <cp:revision>12</cp:revision>
  <dc:subject>Slavic hymnal Гимны веры христиан, Ukrainian hymn 74</dc:subject>
  <dc:title>Єдиний лікар є для нас</dc:title>
</cp:coreProperties>
</file>