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05D-617A-466D-A987-AA81496D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AFB-1512-4663-A4F3-936B2784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9D6-47C5-4CC2-AE85-70760BDB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115-68ED-4D59-A32E-5E73D00A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4B6-A182-4826-80A1-D4AC77E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891-D610-4C75-85AC-73943316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B17-0F5A-472D-A51E-D121C871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D5A-D133-407F-AEC0-6139E0F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A1D-9829-4B53-B4DC-B17D087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4F5-B5E3-4D7D-A707-B0027C4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32A-0BCD-47AB-868D-3C5D469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F3B-221C-4F48-B7C1-4A72867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82839-D168-4963-9C44-30A992DA12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,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flowers are blo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sweet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ing in His footsteps till the crown b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цветы не вянут, где источники 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, куда б Он ни повёл, пойду за Ним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storms are sw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ark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s hand to lead me I will never, never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nger cannot fright me if my Lord is 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or upon the mountain st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ose beside my Saviour would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 k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lead me safely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has tr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to where they gather on the hill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пойду чрез горы и мо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, утешитель в скорби и слез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2:46Z</dcterms:modified>
  <cp:revision>12</cp:revision>
  <dc:subject>Slavic hymnal Гимны веры христиан, hymn 842</dc:subject>
  <dc:title>Follow On / Вслед за Христом хочу идти</dc:title>
</cp:coreProperties>
</file>