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277-4449-4D94-B7B5-29B8507C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185-85A2-467E-8C51-6C40044C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B3F-8224-423B-995D-19A8B95B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567-12EC-45AE-AB61-D4879099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4C5-9CBE-4877-999A-075D8F0A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3D1-ADCB-45E3-99A4-EEE441FD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827-9FEC-421E-95AA-BEC8EBE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266-213C-466A-B32A-40454BF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892-BEC9-4D48-A360-D0CF0BA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C72-BA60-42AF-8AE6-6AB85BC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E72-E812-4027-85A5-2795C6A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C2A-ECD9-410C-8334-F6FE9B2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708C7-1792-4EAC-8936-29ED825F9C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Neath the stars of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ed the Saviou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arden of dew-ladened bree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s wonderful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all my b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light could b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elt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e prayed ’neath the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in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aviour was h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in the garden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s soul-burdened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cup pass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so, not My will, Thine be do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y song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ve proffer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my Lord all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41Z</dcterms:modified>
  <cp:revision>13</cp:revision>
  <dc:subject>Slavic hymnal Гимны веры христиан, hymn 281</dc:subject>
  <dc:title>’Neath the Old Olive Trees / Становилось темней, когда Свет наших дней</dc:title>
</cp:coreProperties>
</file>