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C54-20D1-4EA3-86BC-4A7D0F83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09E-D832-4789-AF1A-4014C456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4CB-98E7-43F3-A133-38942A4E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515-5802-4FEE-A887-061E9716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FAA-CF65-43ED-934A-FEA73EEB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2C7-8B5B-4FED-92EB-1572D5A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DA9-C2AE-4281-892E-E47FA0D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D8B-A646-4715-8C4D-7AB9BB3A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2DF-2A8E-4E69-97F6-54EA73F3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85B-A561-4D91-822B-C94294D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3A9-62CE-4321-9051-AA3FAEB6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530-26E5-465F-8A0E-E9E5D90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97C3-FE5F-4713-93DB-6AAD35EDE3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ife Is In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hop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20Z</dcterms:modified>
  <cp:revision>10</cp:revision>
  <dc:subject>The Source, song number 368</dc:subject>
  <dc:title>My Life Is In You, Lord</dc:title>
</cp:coreProperties>
</file>