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3F14-23D1-478F-B267-E51D19EC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AEFC-9B9F-4176-9DE6-66922A92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FA81-38EC-468A-A6CF-1487DF2D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AA91-E170-41F0-8611-B37130258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8D08-4E97-4569-9351-0E905EC7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7EA4-03DF-4AD6-BE9A-637FAC79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ADB4-B6A8-4AEF-8A0E-0AC3E4EC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9477-B631-4FC8-A587-0EE821E7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2032-CEEF-4111-8141-C6CF3C36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429E-E337-4B8B-BF38-C9ABBA4B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587F-F951-488A-B334-C766BC52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2CC9-E27A-430A-A11D-337BC8BD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5CB82-3CC5-41A8-BE01-FCBD84F8A93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лість Господня велика т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більша, як наші всі гріх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на Голгофі з’явила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Агнець кров Свою пр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м прощає вон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а є, як наші всі грі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1   Милість Господ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х і вагання, як море 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шують, щоби душу згу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 всі гріхи милість більша 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а навчає нас свято 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м прощає вон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а є, як наші всі грі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і провини ― не скриєм ї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ж може змити їх нам з душ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лянь, ось тече струмок на змит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им він зробить тебе, як сні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м прощає вон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а є, як наші всі грі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я милість дивна й безмежна 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криє тих, що вірні Йо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, що готові любить Й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лість в цю хвилю прийміть свя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м прощає вон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а є, як наші всі грі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2:43Z</dcterms:modified>
  <cp:revision>12</cp:revision>
  <dc:subject>Slavic hymnal Гимны веры христиан, Ukrainian hymn 101</dc:subject>
  <dc:title>Милість Господня велика так</dc:title>
</cp:coreProperties>
</file>