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B40-6BC0-4E82-AF82-12DE8751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421-1A03-43E1-95DF-C66A4EF2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8AF-4CFE-461E-ACB9-E8DD4E61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A36-9704-405D-8BA7-890E264D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299-D46A-4C70-A6F3-7C527AE5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F85-6691-4E1D-89A5-1DB81DC2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E66-1507-4C1F-AFD5-3291C0E1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A7D-CE1B-44E3-B30D-C19A526F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5EB-2986-4452-A82B-94A7C69C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120-D0CE-49CF-9CE4-4AC5C30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F93-D477-481B-9B36-86530570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CBB-E3E5-4660-946A-5E718CE3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39E77-CB32-497E-8954-4FB7DF1447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ake up thy cross and follow M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my Master s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 My life to ransom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render your all to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Возьми свой крес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свой крест, иди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за тебя пере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ко кресту приб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closer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ought His will to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at will I now ab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и снял тяжкий гн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послушным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, куда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be through the shadows d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o’er the storm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ake my cross and follow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 иль смерт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ные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крест за Ним я вслед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ни вё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, my life, my all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my Master, Lor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ердце, волю, жизнь мою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Спаситель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 и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8Z</dcterms:modified>
  <cp:revision>13</cp:revision>
  <dc:subject>Slavic hymnal Гимны веры христиан, hymn 433</dc:subject>
  <dc:title>Wherever He Leads, I’ll Go / «Возьми свой крест, иди за Мной»</dc:title>
</cp:coreProperties>
</file>