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AE6-7D51-427E-9D14-E8E814D8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FA9-7CBC-43B2-818A-252B409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A81-DBA0-4A31-ADA1-00318D8B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F72-D15C-4E2D-A5E4-1C638792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4C5-8F03-494C-B286-87308429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2F1-078F-41F9-9A2D-82F99ECD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A6D-98E0-4270-8B71-A9AA440D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645-209E-4013-9185-1B87D80A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9E0-41DB-4390-A4E6-2156F400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C4A-725F-4DAA-BF98-F4FE49F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CB3-6813-4A54-AEEF-37577626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169-9453-4287-B465-86351010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EBF34-576A-44A2-94B6-A869A31D42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ly night, the stars are brightly sh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the night of the dear Saviour’s bir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 lay the world in sin and error pi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He appeared and the soul felt its w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ятая ночь! Сверкают ярко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иши ночной нам родился Христ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сь мир тонул в грехе и беззаконь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Божий Сын нам спасенье принё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thrill of hope, the weary soul rejoic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nder breaks a new and glorious m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ll on your knees, O hear the angel vo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night divine, O night when Christ was bor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night, O holy night, O night div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дежда счастьем сердце наполн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дали горит грядущих дней з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человек, внимай певцам из р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d by the light of faith serenely bea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lowing hearts by His cradle we 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led by light of a star sweetly glea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re came the wise men from Orient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бесный свет рассеял мрак пе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огнём в душе мы у яслей ст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к мудрецы Царя царей иск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ли дары, — и склонились пред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of kings lay thus in lowly ma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all our trials born to be our Fri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knows our need—to our weak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tr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your King; before Him lowly b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your King; before Him lowly b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ь господ лежал в хлеве на сен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чувствовать Он может нам во вс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знает жизнь, Он испытал мучень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ly He taught us to love one anoth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law is love and His Gospel is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ains shall He break for the slav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n His Name all oppression shall c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с учил всё покрывать любов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ви закон и Свой мир Он нам 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долг спасать несчастных и безд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всех людей наш Господь постра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eet hymns of joy in grateful chorus raise w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all within us praise His holy N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is the Lord! O praise His nam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ow’r and glory evermore proclai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ow’r and glory evermore proclai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песни славы льются словно ре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каждый к Богу с радостью спеш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— Господь, хвала Ему во ве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3:38Z</dcterms:modified>
  <cp:revision>13</cp:revision>
  <dc:subject>Slavic hymnal Гимны веры христиан, hymn 802</dc:subject>
  <dc:title>O Holy Night / Святая ночь</dc:title>
</cp:coreProperties>
</file>