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90A-05C9-4596-8B72-921156A6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BB4-1C2A-4515-9E7D-88D3CECC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9B2-38A1-4311-BDA6-AB81CED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988-8253-46E1-8A6B-83F806AE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9AF-1152-46C4-B900-55D3C7F3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739-2112-473B-AF53-653E349C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246-D251-4E44-9449-BBB85E7A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0DD-E537-462E-A9D7-E2410BE9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AEB-2BC1-4CA1-896B-C1D649F3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004-9DDD-4596-830E-695852E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D54-BACA-41B2-9322-1D7ABB6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728-3CE7-46DE-A11E-AF7238A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3B1AD-6277-41F6-A9E3-68EE951E78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не мёр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у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м серд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ивёт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5:17Z</dcterms:modified>
  <cp:revision>12</cp:revision>
  <dc:subject>The Source, song number 133 in Russian</dc:subject>
  <dc:title>Бог не мёртв / God’s Not Dead</dc:title>
</cp:coreProperties>
</file>