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3</a:t>
            </a:r>
            <a:r>
              <a:rPr b="1" lang="ru-RU" sz="3600" spc="-1" strike="noStrike">
                <a:solidFill>
                  <a:srgbClr val="ffffff"/>
                </a:solidFill>
                <a:latin typeface="Verdana"/>
              </a:rPr>
              <a:t>	</a:t>
            </a:r>
            <a:r>
              <a:rPr b="1" lang="ru-RU" sz="3600" spc="-1" strike="noStrike">
                <a:solidFill>
                  <a:srgbClr val="ffffff"/>
                </a:solidFill>
                <a:latin typeface="Verdana"/>
              </a:rPr>
              <a:t>В степи знойн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степи знойной и беспл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ом идёт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чим мукою гол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Христа он хлеба ж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Апостолы Христ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забочены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служению гот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Христу идут с мольб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от, у мальчика две рыб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чменных хлебов 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х с сиянием улыб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пешит Христу от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был мал, но люд голо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Спаситель накорм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удость жертвы благор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обилье преврати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Юные друзья Христ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лько алчущих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ут с мукой хлеб здоров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больной души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у вас даров не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ы приняли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етленный хлеб от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спасенье полнот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айте хлеб толпе гол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ажите всем слеп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у жизни путь свобо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нный Господом Сам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ваш скудный Он умно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од многих уто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на вас венец возло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крат вознаградит.</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0:19Z</dcterms:modified>
  <cp:revision>3</cp:revision>
  <dc:subject>Slavic hymnal Гимны веры христиан, hymn 263</dc:subject>
  <dc:title>В степи знойной и бесплодной</dc:title>
</cp:coreProperties>
</file>