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9EB-D8DC-4849-B3D1-4B636D23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CC3-F40F-43BE-B992-E9B474D3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104-3CF7-44C1-878C-092B453A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CA8-3B35-4EF2-96A3-07D2E565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5E7-939A-4499-8F98-AB59DE52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209-5146-4FFA-BEC6-B69578B4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EB8-6311-4260-8EE7-E856A254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951-5664-4105-84E3-786168A9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293-9D18-430E-996B-F0C0DCB0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44E-7C7B-45F1-9154-351C4CCB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389-1FCC-4A1B-8F77-2819A254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823-DED2-407C-8BD4-C8A2F2FD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80E47-E59B-45D8-85AD-093D9F447A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Thou fount of every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ne my heart to sing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s of mercy, never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for songs of loudest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, Дух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Дух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ди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сюда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дружному наст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some melodious sonn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g by flaming tongue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mount! I’m fixed upon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 of God’s unchang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ас петь ту песн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ют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ы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raise my Ebenez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ther by Thy help I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ope, by Thy good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ly to arrive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ставим Авен-Ез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оселе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будь к нам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 в нас Твой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ought me when a str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nd’ring from the fold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to rescue me from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erposed His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луждали в мире э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паситель нас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ил небесн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е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o grace how great a deb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I’m constrained to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y grace, Lord, like a f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nd my wand’ring heart to Th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, мы всей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ём наш долг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добр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овала н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ne to wander, Lord, I fee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ne to leave the God I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’s my heart, Lord, take and sea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 it for Thy court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к склонны заблужд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ь с Твоих пу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 сердце, наши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бя запечат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7:29Z</dcterms:modified>
  <cp:revision>14</cp:revision>
  <dc:subject>Slavic hymnal Гимны веры христиан, hymn 304</dc:subject>
  <dc:title>Come, Thou Fount of Every Blessing / Дух Святой, Дух благодати</dc:title>
</cp:coreProperties>
</file>