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D86-F205-4444-9E13-96CFBDB2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6FF-8096-4149-B031-2C7E0AD7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7FE-906C-4C8D-A46A-81C71C3A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8D37-1F60-465F-A7F7-D741E35E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A27-294A-46C7-BE9C-D502F118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B577-49C9-4696-A334-61AC5CC9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37C-3AEC-45DA-85F0-5791F260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F5B4-5074-4300-BE4B-3FAD7FE2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50C4-0C06-4A6F-94B9-258389EC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D1BD-6AEE-41C6-B84E-469330CE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6937-9EE2-4619-9974-70FD2D6D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9CA-010A-4C1E-BD0F-3DA2B26B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7AFA7-3E63-441B-8CF9-A564394972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ign in me, Sovereign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ign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ign in me, Sovereign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ign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ptivate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kingdom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stablish there Your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will b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 first part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3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Reign In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2:28Z</dcterms:modified>
  <cp:revision>10</cp:revision>
  <dc:subject>The Source, song number 437</dc:subject>
  <dc:title>Reign In Me</dc:title>
</cp:coreProperties>
</file>