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8C4-3C2E-4F56-B1DC-10818D73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CE8-8401-4690-A35B-329D9E01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4D9-A493-414B-B6D6-9B32857C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6C3-6599-4104-BBAD-AA4BF5BD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8FD-6D69-4B27-B673-63F54DD3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A66-D662-4530-AF64-99089320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30D-A238-4457-AC8A-31590BA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70E-86E8-4873-918B-04559C17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A8E-E88B-4621-A4EF-B2A5DA57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D2F-AA1F-40E5-8728-9BF21C4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046-0043-446C-A86C-B7326E0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ED4-FBB9-4EF2-AD6E-0FBBDACB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CD624-0FE9-4C99-B918-913477CC6A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o not let the Word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ine eyes against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or sinner, harden not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1   О, Божих слів не забу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их слів не забу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несуть тобі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Бога серце відкри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’s sun may never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less thy long-deluded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time, O then be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віт твоєму серцю дав?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гар, журбу душі твої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же щастя 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blessèd Lord refuses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to Him their souls u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on Him, the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няти хоче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спасіння дає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корбних хоче уті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30Z</dcterms:modified>
  <cp:revision>12</cp:revision>
  <dc:subject>Slavic hymnal Гимны веры христиан, Ukrainian hymn 51</dc:subject>
  <dc:title>O Why Not Tonight? (Oh, Do Not Let the Word Depart) / О, Божих слів не забувай</dc:title>
</cp:coreProperties>
</file>