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463-DDCE-4192-956D-DCF86F9D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0F7-9126-43E6-BB8E-7574EC5C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5E0-F07A-4B6E-A895-6913CA02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142-FB11-47FC-99C2-B8297BE1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1A1-D5A9-4834-A16A-8CFF1854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B91-BCC0-424F-8CD9-B234A269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979-4E49-46CA-9359-D5B3A7E2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467-F896-41DF-ACDB-24ACB384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F8C-8CE5-4330-9430-654365F9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F5A-B0C4-49BD-8B59-E3D175A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BAE-A1D3-490C-9004-BC9826D6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C1C-A1B1-4F8D-8B4D-983DECC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D95A4-DA07-412D-B650-31F0B3B462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air I breat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air I breath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presence living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aily b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aily b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very word spoken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, I’m desp’rat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, I’m lost withou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07   This is the Air I Brea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34Z</dcterms:modified>
  <cp:revision>11</cp:revision>
  <dc:subject>The Source 2, song number 1007</dc:subject>
  <dc:title>This is the Air I Breathe (Breathe)</dc:title>
</cp:coreProperties>
</file>