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E26-6D08-4446-8FE2-216564F8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C04-50B2-4EBE-A221-D121893E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E72-A27D-48D0-A7EF-51D668A0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2BD-9C23-4827-B7FB-D09A54DF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02B-6AF0-481D-B770-976DEDE1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17F-06E9-47F1-8185-E195895F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890-54E8-4B08-9D19-B9418F52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CEF-AECB-44AD-87F9-E3284C73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827-8EB4-44C6-9397-A2E3D763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761-FD93-4926-BE1E-D9ABA946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BC7-766D-4D4C-9B5B-F29BBB0F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C5F-4E50-47F2-A454-3DA92FD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B5A6A-BE3C-423C-8FE9-3D093233C8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Дух!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любви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правды утвер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воих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правды утвер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вечный Дух! п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чувствовать, чт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нами вечно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Ты 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ру тесн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Ты 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ру тесн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глубже нам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ость слов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Твой голос разли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ов и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Твой голос разли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ов и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нас от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ы благ зе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 душ учи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лениях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 душ учи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лениях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частье ощу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ьях за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ву, крест Твой прини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ть Тебе, скор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ву, крест Твой прини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ть Тебе, скор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27Z</dcterms:modified>
  <cp:revision>12</cp:revision>
  <dc:subject>Slavic hymnal Гимны веры христиан, hymn 307</dc:subject>
  <dc:title>Предвечный Дух! приди</dc:title>
</cp:coreProperties>
</file>