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F12-A0A1-4461-BC54-987BFC85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2A9-F16A-4426-9F23-412812F1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96B-B6A8-4D2E-A663-FA765706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BED-DE9F-4C1D-9C92-9908E2E2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E7B-FFF6-4C31-A35B-2EC326E5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D1E-047B-47D3-8052-200941D4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B38-658A-4FF8-B88C-2F3B8666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732-DC29-4C79-A328-3A88804E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21A-4D16-4DDE-AC6D-BB040A1C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B72-C82B-4200-A220-CDADA3BC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60F-2A37-436D-97F7-E188A845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732-C1D4-4AED-8477-08B14C3F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AE272-AF9A-4417-8D9F-281B3F175B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God, we sing Your might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which supported still we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opening year Your mercy sh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ercy crowns it ’til it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 хранил от юных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и в наступивши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яких бедствий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day, by night, at home, ab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are we guarded by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incessant bounty f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unerring counsel 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, вблизи, мы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лишь благостью жи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сылаешь снег и 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леб насущный нам да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rateful hearts the past we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uture, all to us un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o Thy guardian care comm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ful leave before Th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рошлое благода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то пред нами — знаешь 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гаем всё к ногам Тво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ы, планы и меч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cenes exalted or depr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our joy, and You our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oodness all our hopes shall 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dored through all our changing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дачах, в счастье иль в б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пок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ешь Ты в сты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, кто льнёт к Тебе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2Z</dcterms:modified>
  <cp:revision>13</cp:revision>
  <dc:subject>Slavic hymnal Гимны веры христиан, hymn 731</dc:subject>
  <dc:title>Great God, We Sing Your Mighty Hand / Великий Бог, рукой Своей</dc:title>
</cp:coreProperties>
</file>