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1CC-8ACC-439C-9084-2D33512D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2AD-E6AE-4C78-B2C7-03302556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F4D-0828-4072-87A6-610CDD39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89D-1959-4485-84FA-9F3A06DA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659-6601-4F3E-BCD1-DFD561E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1FE-D5DC-48A9-B148-83E5F51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C77-F0CC-46C1-853E-2FDFD6F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DB1-6A0C-40DB-B053-9C5C819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D82-C1B2-418D-954B-7ED2CCD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784-E97C-40AF-9286-4DF9152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A96-BE0E-4E1F-BF0A-F62195B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BB7-FCF5-4019-A4CF-849A827D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6BC9F-0B69-46F2-AD66-3068358387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rieved my Lord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corned His love so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I wandered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desert wild, o’er mountai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anderer I chose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retched soul condemn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ed my darkness into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blessèd Christ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praise His Name both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9Z</dcterms:modified>
  <cp:revision>13</cp:revision>
  <dc:subject>Slavic hymnal Гимны веры христиан, hymn 777</dc:subject>
  <dc:title>Mother’s Prayers Have Followed Me / Я попирал любовь Христа</dc:title>
</cp:coreProperties>
</file>