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C361-BC31-4878-A215-E231C568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09EA-08A7-4C16-84A6-F1FFE81F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5423-FDE6-45C9-BBFD-619A57709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5E7B-123A-42FF-A183-67C8ADE9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5792-8CF0-410A-B328-FC549441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138F-492B-46AF-A584-8DB92CB1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000C-8DE6-4C3C-8281-958015B6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B94E-A75C-48A1-86B3-5FA3A778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499B-2662-4DB6-90B6-FA11C124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B65D-D208-4A20-BE20-FACD2F19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09D5-9684-4C42-911A-28D7CDCE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A25A-39C6-48F5-BB23-3D6A5394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B110E-26D5-41B8-AD2A-6760E9674C4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n’t He beauti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, isn’t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ince of Peace, Son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n’t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n’t He wonder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nderful, isn’t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unsellor, Almight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n’t He, isn’t He, isn’t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4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sn’t He Beauti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You are beauti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, yes,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ince of Peace, Son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You are wonder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nderful, yes,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unsellor, Almight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You are, yes,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6-25T08:39:51Z</dcterms:modified>
  <cp:revision>10</cp:revision>
  <dc:subject>The Source, song number 242</dc:subject>
  <dc:title>Isn’t He Beautiful</dc:title>
</cp:coreProperties>
</file>