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B472-7F3F-41EC-979E-59A06B91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16C4-AE56-4690-8E76-E750CF52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79E5-26ED-4050-AD33-99A7E57A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9726-1F10-45F9-8A77-EC1BC695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C801-A861-4E50-B99F-E5D17AA5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BC84-0662-4996-B278-645EE388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EC01-BA4C-4E14-9F49-09F530D4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1D11-84B9-4DC0-8898-DFC7B1F5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4C0B-CE8C-47D6-B18D-0CDE23F2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7D97-9E61-491B-AB1E-8144D1B3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BAFA-814C-4644-A34A-1F230225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F78A-38AD-466E-B9B0-7ACB1076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791A3-5EB9-4289-8739-98D81ABD1D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слышу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ердцем веселю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певаю в просто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паситель мой,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на ров земного з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гибнул, оглян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звучит моя хва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паситель мой,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я слышу о Хри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дость дал душе (в уде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о том молюсь (Тебе молюс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целый мир Тебе воспе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паситель мой,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акой я бездне утоп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мысли я страш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меня и там взы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диноким был, но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упил со мной в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ам ведёшь средь темно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дость дал душе (в уде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о том молюсь (Тебе молюс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целый мир Тебе воспе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паситель мой,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ед Тобою мёртвым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чуду я дивлю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ух мой к жизни воскре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ленник был, Ты не за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средь тяжких у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греха освобо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дость дал душе (в уде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о том молюсь (Тебе молюс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целый мир Тебе воспе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паситель мой,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5:02Z</dcterms:modified>
  <cp:revision>12</cp:revision>
  <dc:subject>Slavic hymnal Гимны веры христиан, hymn 608</dc:subject>
  <dc:title>Когда я слышу о Христе</dc:title>
</cp:coreProperties>
</file>