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C41-73D8-4172-9778-61359E8B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04E-2767-41DD-A0C4-4B83E11C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7E1-B0CD-4421-A9EC-365C994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C28-5205-49AA-9A25-EECF2F74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B13-5DE2-492C-9064-381FC4A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5E3-2125-4FC0-80CE-1BB507E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ED-4EEE-47A3-984D-5E44593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FA7-C358-4F79-8FE7-B1207AA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595-5683-4792-968D-3C398F2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D31-96E3-412F-B260-8612A61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5DD-E2E8-459F-ADA8-CFA7BC4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FFA-81B1-4B07-890B-0760DA0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5BDC-C115-470C-8502-4398371C7E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 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, 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ебро и золо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утри меня зажги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my sin, 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меня с внутри и 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 мои грехи, все г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37Z</dcterms:modified>
  <cp:revision>12</cp:revision>
  <dc:subject>The Source, song number 436 in Russian</dc:subject>
  <dc:title>Сердце очищай / Purify My Heart (Refiner’s Fire)</dc:title>
</cp:coreProperties>
</file>