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EB9-6B6B-494A-A1BE-F4145059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0DC-7849-4D2C-9B71-38CD7B27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580-EBBF-4E9E-A98D-B05D50ED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DD3-C2CD-49A2-B56F-893B26DC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4AA-3820-4746-ACD7-1E870E9D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FD9-3015-4350-8BEF-0483B452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1C2-8BF0-4CAB-8B1F-3E811836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B97-D223-4025-B9A3-964F04D5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C12-9B3E-4DB3-9A55-B550CDF5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FCB-2D87-46FC-814F-F8B4374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371-5E31-4C01-98C4-0B78C2E8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1A8-38B9-48AF-BC72-126C3BD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21880-6871-4988-837F-F3FD272DE5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славить Тебя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Тебе песню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ада и вечных му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ровью спас душ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жизни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ак тяжко и трудно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яжёлой тернистой дор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чное счастье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славить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я пребуду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новой и вечно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у земные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чная буде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 не умолкнет во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громко и стройно зву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ердце не будет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уж не будет ры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ю я там новую пес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кровавую битву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овавой це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ление в веч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ечно Тебя буду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я раны Твои от гвоз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вечно Твоею омы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ённый от веч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55Z</dcterms:modified>
  <cp:revision>12</cp:revision>
  <dc:subject>Slavic hymnal Гимны веры христиан, hymn 781</dc:subject>
  <dc:title>Буду славить Тебя, мой Спаситель</dc:title>
</cp:coreProperties>
</file>