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11</a:t>
            </a:r>
            <a:r>
              <a:rPr b="1" lang="ru-RU" sz="3600" spc="-1" strike="noStrike">
                <a:solidFill>
                  <a:srgbClr val="ffffff"/>
                </a:solidFill>
                <a:latin typeface="Verdana"/>
              </a:rPr>
              <a:t>	</a:t>
            </a:r>
            <a:r>
              <a:rPr b="1" lang="ru-RU" sz="3600" spc="-1" strike="noStrike">
                <a:solidFill>
                  <a:srgbClr val="ffffff"/>
                </a:solidFill>
                <a:latin typeface="Verdana"/>
              </a:rPr>
              <a:t>Буря, Господь, завывает</a:t>
            </a:r>
            <a:endParaRPr b="0" lang="en-US" sz="3600" spc="-1" strike="noStrike">
              <a:solidFill>
                <a:srgbClr val="000000"/>
              </a:solidFill>
              <a:latin typeface="Verdana"/>
            </a:endParaRPr>
          </a:p>
        </p:txBody>
      </p:sp>
      <p:sp>
        <p:nvSpPr>
          <p:cNvPr id="39" name=""/>
          <p:cNvSpPr/>
          <p:nvPr/>
        </p:nvSpPr>
        <p:spPr>
          <a:xfrm>
            <a:off x="179280" y="287280"/>
            <a:ext cx="9720360" cy="673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уря, Господь, завыв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страшен сердитый гу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уча нам свет застил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гибнем, а Ты засну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ли Тебя не тревож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смерть окружае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озный вал наступает и мож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адью поглотить тотчас.</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79280" y="287280"/>
            <a:ext cx="9720360" cy="673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олны, и ветер услышат Мой гл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олкнут тот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рное море смири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всякая тварь подчини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ладыка земли и небес тут С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даст Он, Всесильный, погибнуть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ат волны и ветер Мой гл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олкнут тот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ат волны и ветер Мой гл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олкнут тотчас.»</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287280"/>
            <a:ext cx="9720360" cy="673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оже! в глубокой печа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лоняю главу м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шу мою взволнова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хи; о, спаси, мо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 моё заливаю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токи земных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я гибну, к Тебя я взыв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ой дай душе мое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179280" y="287280"/>
            <a:ext cx="9720360" cy="673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олны, и ветер услышат Мой гл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олкнут тот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рное море смири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всякая тварь подчини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ладыка земли и небес тут С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даст Он, Всесильный, погибнуть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ат волны и ветер Мой гл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олкнут тот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ат волны и ветер Мой гл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олкнут тотчас.»</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287280"/>
            <a:ext cx="9720360" cy="673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уря, Господь, мино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сердце настал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лнце опять засиял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д стихнувшей вдруг вод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же со мною,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мир Ты во мне хра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небесную Божью об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вечный покой прими.</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79280" y="287280"/>
            <a:ext cx="9720360" cy="673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олны, и ветер услышат Мой гл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олкнут тот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рное море смири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всякая тварь подчини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ладыка земли и небес тут С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даст Он, Всесильный, погибнуть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ат волны и ветер Мой гл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олкнут тот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ат волны и ветер Мой гл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олкнут тотчас.»</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8-02T00:46:44Z</dcterms:modified>
  <cp:revision>3</cp:revision>
  <dc:subject>Slavic hymnal Гимны веры христиан, hymn 211</dc:subject>
  <dc:title>Буря, Господь, завывает</dc:title>
</cp:coreProperties>
</file>