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B9D-D20B-4765-A516-11F097A9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729-8CF4-4034-90D7-CB63D50C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DF4-DE9B-4443-B867-EA627000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E09-651E-42D8-8259-BCFEAA6A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D63-9D17-4BEA-B54E-EA733473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A97-4E39-4B23-9019-2B5F97B1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4B1-9EE5-4E98-BCC2-E407EAD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A5E-E22E-4C17-B01D-1268D4C2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E0C-284E-4E0B-A236-44AE0326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D47-9A8A-4E9A-B3BF-242AFC75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F98-C0C2-4789-B9E8-19BAE234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DCD-0969-486A-8486-610FE37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85A76-1A69-4F77-AEBF-1F39A5935B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est Lord Jesus; Ruler of all na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of God and man the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e will I cherish; Thee will I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my soul’s glory, joy,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ый, всё Тебе подвла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 всего Творец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 любовью жить п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 are the meadows; fairer still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odl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bed in the blooming garb of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fairer; Jesus is pu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makes the woeful heart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красивы лес, луга и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 сердцу и гла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и вешней Иисус прекра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и мир да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 is the sunshine; fairer still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o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twinkling starr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ines brighter; Jesus shines p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angels heav’n can b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ияет, месяц ос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блещут с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снее, Иисус свет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airest beauty, heavenly and earth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rously, Jesus, is found in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be nearer, fairer or d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Thou, my Saviour, art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пленяют, люди измен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м юност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увянут, жить пере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е вечный Царь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! Lord of the n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 of God and Son of m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and honour, praise, ado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nd forevermore be T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и и неба красоту и прел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летом и зи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 вселенной всех соверш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,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8:47Z</dcterms:modified>
  <cp:revision>12</cp:revision>
  <dc:subject>Slavic hymnal Гимны веры христиан, hymn 835</dc:subject>
  <dc:title>Fairest Lord Jesus / Иисус прекрасный</dc:title>
</cp:coreProperties>
</file>