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05C-B796-40CB-B034-F0C02A6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D9B-3A8C-4F3E-A920-EC089502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1BD-9720-465F-9613-5D384704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F20-531C-4F88-93B9-B3DA0006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415-DD24-4BFA-9118-BF10A98F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7D1-965F-4732-B402-D6B2D8A1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F44-4224-4311-AFC2-262BBCBE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554-93AB-4AF1-8EA0-1C7164C9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D95-03CD-4F57-88E3-41584860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374-05C6-43A0-A5CF-2E7602D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964-155C-41F4-B12C-7302465E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A89-11F9-4456-BD3C-4505C15F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E3961-E53B-4E10-8765-9C36D49B2D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Иисус зовёт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годня вас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и блаженн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едших по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Иисус зовёт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ердца!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веры чист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юны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я дар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ю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Богу утр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Иисус зовёт оп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зов при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22Z</dcterms:modified>
  <cp:revision>12</cp:revision>
  <dc:subject>Slavic hymnal Гимны веры христиан, hymn 757</dc:subject>
  <dc:title>Вот Иисус зовёт детей</dc:title>
</cp:coreProperties>
</file>