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6BA-7BAA-445F-B3C8-809D7856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B59-39C0-45F4-A929-0964F8C5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3A1-6CC0-4657-A8F2-4CEEE8E8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0AB-0113-4A9D-8F16-3B01A66E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623-2A93-4044-92E3-10EB1C86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06F-F62A-4C89-9482-87DEFD3A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6F7-E418-49AB-9463-22D3676F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608-3469-42E9-B31B-FBE74200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F6D-E0E8-4525-ACF5-2A96D834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6FC-CB97-445E-9479-CA397AB6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BC0-4CA2-46F4-8644-B368EC3B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DD4-8711-40C4-B8A7-D6C6CA24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05C3E-F8A0-4583-99E8-F12F8BBD3B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mountain’s top appe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the sacred herald st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news to Zion b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, long in hostile l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лой мира облеч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мира облеч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ник радостный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й, Сион плен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отрады Он нес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rning capt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mself shall loose thy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rning capt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mself shall loose thy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й плен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ебя от уз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й плен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ебя от уз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 Thy night been long and mourn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thy friends unfaithful pro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thy foes been proud and scorn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sighs and tears unmo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очь вокруг темн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еди друзей у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олпа врагов густ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стёт их лег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ase thy mou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 still is well bel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ase thy mou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 still is well bel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Бог ещё Си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Бог ещё Си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, thy God, will now restore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imself appears thy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foes shall flee before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their boasts and triumphs 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й, Бог тебя восстав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всех твоих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бедою просл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блаженства при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deli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’s King will surely s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deli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’s King will surely s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иона Сам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иона Сам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joy shall now attend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warfare now is p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thy Saviour will defend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ctory is thine at la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вои болезни, 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лечит Сам впол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путь твой долгий, бр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градит тебя вдвой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d in everlasting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d in everlasting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кнут в вечной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кнут в вечной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48Z</dcterms:modified>
  <cp:revision>13</cp:revision>
  <dc:subject>Slavic hymnal Гимны веры христиан, hymn 511</dc:subject>
  <dc:title>On the Mountain’s Top Appearing / Силой мира облечённый</dc:title>
</cp:coreProperties>
</file>