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D01-0B87-476B-BDAC-4D516598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37C-BED6-4DBB-A340-5F3D8C5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CBA-189E-4EE0-9BEE-0CC1012C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C3E-D71E-488B-AD2D-9C435E58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C93-A185-41CF-A6BC-2BB05FE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34F-04F9-4E70-B7CD-DBA7124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F0C-8A9D-48C4-BB3B-4B9C3B6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396-EA4B-4376-A46C-D4A7A5A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144-129C-42E3-99A6-D48EBDD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BAC-12A6-4C6C-B47E-1CACCFB9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39D-A9A6-4620-8923-CA4EA85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5D4-24D1-43E9-8D82-C7884E4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CA504-3337-41CC-BAB8-A5F763EAC1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39Z</dcterms:modified>
  <cp:revision>12</cp:revision>
  <dc:subject>Slavic hymnal Гимны веры христиан, hymn 470</dc:subject>
  <dc:title>Иисус мне больше, чем весь мир</dc:title>
</cp:coreProperties>
</file>