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FBC-CE06-4256-8132-A0F09214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FCB-4535-4CEC-96CC-8895C257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88C-F85A-458A-B9BA-4C299120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F94-11B6-4E12-A747-CDB1B0EF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B9E-465D-46BA-ABEA-1440206C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193-E483-4020-A45E-2FEF665D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8A5-C770-4A85-9F7B-478767D2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3844-152A-4679-8A6E-357409D0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8EC-626F-4724-95BE-F48E456D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4ED-ECF9-4973-BB5A-1BE236E6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E3F-C1F9-4CE8-80E7-9780B452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AEF-395C-44A7-BF76-D2D23178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878FD-868E-4E8B-B079-0AA5C5B8A4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the Sheph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mountains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es to bring His los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 to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ую ов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погиб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ль её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tiently the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s with earnest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ust and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treasure r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ахма дорог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обрет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земли и м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ingly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s the news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ce dead now liv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lost, now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делить весел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тец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ыл мёртв, потеря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 и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6Z</dcterms:modified>
  <cp:revision>13</cp:revision>
  <dc:subject>Slavic hymnal Гимны веры христиан, hymn 372</dc:subject>
  <dc:title>Seeking to Save / Пастырь добрый ищет</dc:title>
</cp:coreProperties>
</file>