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A2E7-64F2-4C90-933D-0A4E774B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8D8C-A554-43EB-9C8E-7D42C45A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5E8B-5A06-496E-B679-69FC32EF0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6B30-9C39-4C4F-B52A-D4624F16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9CE5-78E2-4308-B623-14CAB5A1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DF19-2EE6-40BE-B90D-21F161F8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A369-96BC-408F-BD40-8263F4EF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E884-74B3-4E39-B6E5-545EA8E7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F3E2-865D-409D-893D-28D5905C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B4BA-60AF-481C-A60F-7B12A887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94B8-250C-4B3C-8A2E-60A85060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CA8E-BDB7-4DB9-9FFD-00233DFD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E8C44-3CC3-42CD-B517-8BB910A4326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очу напрасно утро пров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яркий полдень со Христом хочу ид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же в вечер запись да будет чис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отов слугою быть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у я весть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земле, во все м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о мне мой Ангел скажет Госпо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по следам Его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хочу напрас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 душ блуждает во грехах, во тьм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 слёз горячих пролито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олезни мучат страждущих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Господь, хочу я быть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у я весть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земле, во все м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о мне мой Ангел скажет Госпо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по следам Его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 домах печально и тревожно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детей молиться некому уч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де злое пьянство ― темнота ум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вествовать хочу я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у я весть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земле, во все м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о мне мой Ангел скажет Госпо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по следам Его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2:28Z</dcterms:modified>
  <cp:revision>12</cp:revision>
  <dc:subject>Slavic hymnal Гимны веры христиан, hymn 455</dc:subject>
  <dc:title>Не хочу напрасно утро провести</dc:title>
</cp:coreProperties>
</file>