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1B6-F3B0-4721-84D1-19072362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961-5B7D-46C7-BA44-27A923AF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87F-3D51-45BA-90FD-F5DA40BE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319-655A-4174-B900-9E6D5A3A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2FA-92A7-4112-9901-4FCC8069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9D6-EB40-4444-A1DF-F059F22E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026-3ACF-4F2F-A7DD-B701C2B7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553-9D57-4C37-8E2D-AA40D171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A3C-0B33-477E-A913-5A79109B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9DF-D8AA-4D33-B502-F84C517C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294-CFA0-4806-8D67-DAD5BB3A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249-BEDE-48B8-97DD-0E50BBBE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1A490-F3D4-472C-9EE4-AC43AC2C3F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ит безжалостное врем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мчались тысячи г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и нынешнее пл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ед исчезнувших 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и нынешнее пл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ед исчезнувших 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етит безжалостно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в вечность день за днём стрем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я нам сле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 крыльях ветра мчи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и наша че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 крыльях ветра мчи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и наша че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ши громкие дея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ы, заботы, су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знут в пучине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приметная мечт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знут в пучине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приметная мечт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вот, зачем ты в свет ро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олько выдержал скорб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у ль твой жадный ум стре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тать добычею черв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у ль твой жадный ум стре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тать добычею черв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жизни счастья призрак л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кружил тебя во мг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ываешь, прах ничтож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— прохожий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ываешь, прах ничтож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— прохожий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ть за гробом жизнь и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ая, без счёта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м участь ждёт ка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этом думал ты иль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м участь ждёт ка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этом думал ты иль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05Z</dcterms:modified>
  <cp:revision>12</cp:revision>
  <dc:subject>Slavic hymnal Гимны веры христиан, hymn 736</dc:subject>
  <dc:title>Летит безжалостное время</dc:title>
</cp:coreProperties>
</file>