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32C-2518-4019-8010-358EE7BE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985-ED70-4098-8203-87652C5C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D62-4C06-4BC7-96DC-6BAAFC81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D28-138C-44E3-8A31-0940BAD2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093-59C3-476C-9A25-B1B2D19F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E1B-169F-463B-8164-7DBD0F3A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C86-7DC9-4C8C-8743-BC1063B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BBD-872F-4D34-924A-888DA8B5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A1F-469D-4239-8B43-6AEFE9A7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3C2-33BD-492F-89CF-A8FE4332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77C-A1F1-4676-B397-80990985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174-8A4C-47C1-A807-E9771AA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96EC9-6D63-48A2-9105-BCAF6483DF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o not let the Word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ine eyes against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or sinner, harden not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ывай от свет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не ожесто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’s sun may never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less thy long-deluded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time, O then be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мир нас награ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т отрад — он полн за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ни ж как христианин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blessèd Lord refuse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to Him their souls u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on Him, the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хочет тех из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им вступил в общень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в них Свой труд н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2:01Z</dcterms:modified>
  <cp:revision>14</cp:revision>
  <dc:subject>Slavic hymnal Гимны веры христиан, hymn 367</dc:subject>
  <dc:title>O Why Not Tonight? (Oh, Do Not Let the Word Depart) / О, Божьих слов не пропускай</dc:title>
</cp:coreProperties>
</file>