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9   Возлюбим Бога всей душо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злюбим Бога всей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ам нас прежде воз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за любовь Ему вражд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атили — Он нам верен б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против нашего жел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шёл наш дух из муки взя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из любви и со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елеет нас нежней, чем м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кровью дал нам избав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раду, счастье и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 дам Ему за дар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ждёт от нас любви одно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6:59Z</dcterms:modified>
  <cp:revision>4</cp:revision>
  <dc:subject>Slavic hymnal Гимны веры христиан, hymn 89</dc:subject>
  <dc:title>Возлюбим Бога всей душою</dc:title>
</cp:coreProperties>
</file>