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96</a:t>
            </a:r>
            <a:r>
              <a:rPr b="1" lang="ru-RU" sz="3600" spc="-1" strike="noStrike">
                <a:solidFill>
                  <a:srgbClr val="ffffff"/>
                </a:solidFill>
                <a:latin typeface="Verdana"/>
              </a:rPr>
              <a:t>	</a:t>
            </a:r>
            <a:r>
              <a:rPr b="1" lang="ru-RU" sz="3600" spc="-1" strike="noStrike">
                <a:solidFill>
                  <a:srgbClr val="ffffff"/>
                </a:solidFill>
                <a:latin typeface="Verdana"/>
              </a:rPr>
              <a:t>Подними меня, Спасител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одними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иблизь к Твоей гру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огучею десниц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этом мире огра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под бременем стен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немог в земной бор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коленях умоля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ними меня к Себ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ними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горний мир из тьмы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груди Твоей защи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кой душе мое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дними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греховной пуст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страхов не увид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близко буд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скорбям границ и кр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открыл мой грех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ещанье выполня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ними меня к Себе.</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ними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горний мир из тьмы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груди Твоей защи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кой душе мое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дними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ссей душевный мра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кажи Твою мне мил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не тешился мой вра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Тебе успоко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емлешь Ты моей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мой Бог, моё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ними меня к Себе.</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ними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горний мир из тьмы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груди Твоей защи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кой душе моей.</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5:48:56Z</dcterms:modified>
  <cp:revision>3</cp:revision>
  <dc:subject>Slavic hymnal Гимны веры христиан, hymn 196</dc:subject>
  <dc:title>Подними меня, Спаситель</dc:title>
</cp:coreProperties>
</file>