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10AE-101A-497E-B733-833EF97C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3DA-9FE8-4B5C-8A85-AE5C6CDA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8BA-05DA-415A-9F2D-118C7E8F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89A-86E0-4679-910D-3D0E9560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54B2-3238-47FA-B090-CEEC7B86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03F2-32A0-4BB0-9F26-5F70C9BA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04D-B5DD-4A2F-94EC-DFE3821F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DA12-7099-46EF-9853-95567FDA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340-7FC8-4F43-8AC6-F1A5E582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9A2-208A-4D10-BDEE-81B5B02E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F6D-8C5D-425A-9315-D03CB26A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564-C1D1-45A5-9F26-B0A78553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70CA5-8C08-40B6-B4F2-F59C631324B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 up, stand up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soldiers of the cr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high His royal ban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ust not suffer l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мкните к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ины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днимите 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шего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vict’ry unto vict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army shall He l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ev’ry foe is vanqu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hrist is Lord ind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за поб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Бог войс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Христа низло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х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 up, stand up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umpet call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th to the mighty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His gloriou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ас на бой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е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вас обл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that are men, now serve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gainst unnumbered fo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courage rise with d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rength to strength op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 страшит вас би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ружий гул и г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за нас сраз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счисленным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 up, stand up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 in His strength a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rm of flesh will fail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dare not trust you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крепость и за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ерный Вождь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t on the Gospel arm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piece put on with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duty calls, or d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never want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ч Слова обн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обеждайте 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бодрствуя в молит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стойте на ча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 up, stand up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trife will not be 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day, the noise of batt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next, the victor’s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битвы прол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о день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все оз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that overcom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crown of life shall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th the King of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reign eter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енец гото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вере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чет, чтоб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им во славе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58Z</dcterms:modified>
  <cp:revision>13</cp:revision>
  <dc:subject>Slavic hymnal Гимны веры христиан, hymn 498</dc:subject>
  <dc:title>Stand Up, Stand Up for Jesus / Примкните к Иисусу</dc:title>
</cp:coreProperties>
</file>