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3</a:t>
            </a:r>
            <a:r>
              <a:rPr b="1" lang="ru-RU" sz="3600" spc="-1" strike="noStrike">
                <a:solidFill>
                  <a:srgbClr val="ffffff"/>
                </a:solidFill>
                <a:latin typeface="Verdana"/>
              </a:rPr>
              <a:t>	</a:t>
            </a:r>
            <a:r>
              <a:rPr b="1" lang="ru-RU" sz="3600" spc="-1" strike="noStrike">
                <a:solidFill>
                  <a:srgbClr val="ffffff"/>
                </a:solidFill>
                <a:latin typeface="Verdana"/>
              </a:rPr>
              <a:t>О как блажен, как счастлив</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как блажен, как счастлив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о место дл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не небес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 мирским богатством несрав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город зол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вечно буду жить я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жалкий прах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дь мир — не родин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лец я на зем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ебе только дома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лаженной сторо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ет ночи в той стране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еркнет солнца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се сердца звучат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плача больше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братья, сёстры, радость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на и в мире 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видим свет, что светит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мы все при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5:05Z</dcterms:modified>
  <cp:revision>3</cp:revision>
  <dc:subject>Slavic hymnal Гимны веры христиан, hymn 103</dc:subject>
  <dc:title>О как блажен, как счастлив я</dc:title>
</cp:coreProperties>
</file>