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4E4-4BBC-4067-BCE1-49D6A769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0C1-8613-4A3C-BFE7-32F51F5A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D41-812A-4DFD-88A0-7B9D3AA7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665-2754-4BAE-A35D-26F88F11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957-1494-4A6E-9A91-92DF0584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7F6-A785-4343-8C54-FDC1ACE0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DA6-E860-4734-B24A-B25B2CA7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E2E-456E-4CEA-8732-38EBA14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38D-98AF-4FEC-A1D1-CCA981AC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B4E-978D-4076-9DEA-0C653677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C94-FD14-4494-8477-122E861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FD9-8A32-4594-AF99-13A8206B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FDD49-F19D-4B76-A770-FDA54F7AB6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итель стра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но гляд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кровь проли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ль тебе всё рав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шь ты на страдаль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ельной тос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ело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онзённы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ь на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Господь ум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грех на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вольно Он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знал ли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егла на Н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ощеньи м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 у ног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бител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Отца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к время беж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ж скоро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жизнь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жается веч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суда встрет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омытым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станешь пред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тый сты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ответ, не мол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страшно, вед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пасн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 к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цепи п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гласу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15Z</dcterms:modified>
  <cp:revision>12</cp:revision>
  <dc:subject>Slavic hymnal Гимны веры христиан, hymn 354</dc:subject>
  <dc:title>Иль тебе всё равно?</dc:title>
</cp:coreProperties>
</file>