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3C-86CD-4891-9B68-1FC4BDFC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CB8-9ED8-436E-AA45-BE257CD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A1C-1A42-4312-9391-73A4F983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338-660E-419F-881C-88461EEC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1ED-6B18-4B70-97F1-CAC25B3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1A6-8847-46F7-906E-1F65B30A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3A5-6D70-4D44-A6AF-C081B10D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624-A71B-47EB-B7A3-F6391BD4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BBD-AB6E-423A-A464-000418CB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973-046C-44CE-90F5-BAC028E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B4F-C3C0-4C19-A2EA-5B22152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100-66A4-4ABB-829E-FC0135B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7F430-13CA-4DB7-98EA-28B6E77347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7:56Z</dcterms:modified>
  <cp:revision>12</cp:revision>
  <dc:subject>Slavic hymnal Гимны веры христиан, Ukrainian hymn 68</dc:subject>
  <dc:title>Sweet By and By / Там далеко вже видно той край</dc:title>
</cp:coreProperties>
</file>