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714-D451-4A52-960C-3305D0E4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93A-EB62-43CF-8647-2D0E27E9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127-87CF-4928-A8EE-A3F205BD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8B9-7D40-422E-B989-04B8F4AF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4DD-4186-43D4-8165-58FE2220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815-FE2C-4EFA-A416-C3B11936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84C-FC51-4D4D-8087-256C7C9A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471-6704-46D4-B7CE-0B378422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BF9-D4F2-4105-A566-76E0B344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F49-2DCF-4CB4-B972-A1F3AAB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087-0F7C-4EF0-B705-E3242672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E6B-9E3F-41C0-875D-921AEC93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F0FB7-8462-4075-8F9C-FFB40D05AF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Мне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одной покинул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траждет и д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уныло и тем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Мой, сердце Мне от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 ты, тёмен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де сердцу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чи любв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греют горд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, радостно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ст Мне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тяжко од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жизненном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юбил того, кто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тца ты не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рчал Его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не своё от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раздельно, цел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й верой ты призн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Господу от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не ожи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годня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изыв протекших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15Z</dcterms:modified>
  <cp:revision>12</cp:revision>
  <dc:subject>Slavic hymnal Гимны веры христиан, hymn 392</dc:subject>
  <dc:title>Сын Мой, сердце Мне отдай</dc:title>
</cp:coreProperties>
</file>