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DF63-DE7B-4BDF-A0F4-BE94E6746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8801-33C2-4CFF-868B-10BC54DA5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9529-2CD2-424B-91FB-BD4098C48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88FF-C25D-4270-8AB8-36509BB86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7443-1708-4175-B453-94F0ED30B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FBE0-8E0A-4C17-840E-BBFBCA544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A9D6-3702-4EA3-BB8E-483937206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0D7B-E242-4473-B2DE-03FB4A036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B2A7-C52B-406D-93EA-F09FAD732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169D-9E36-47DE-A2C3-7692CC4B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9AF0-03BB-47C2-96C7-5868CC15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C8A6-F103-4E7C-8DEB-B2EE31FB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861EBF-4DB5-4B0E-B242-D238F387145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Божий вышел на вой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праведных побе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чрез преграды и враж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Ним стремится вслед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чашу горя тихо пь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чем невозмут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терпеливо крест нес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следует за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9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ын Божий вышел на войн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ефан с решимостью в оч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ял перед су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а увидел в небес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звестил о 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щенья тягостных грех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ил врагам свои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просит Бога за враг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следует за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надцать избранных друз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огнём любви в сердц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ли в наш мир спасать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ывши всякий страх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 их славны име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дух непобеди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, Боже, мужества и 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следовать за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46:16Z</dcterms:modified>
  <cp:revision>12</cp:revision>
  <dc:subject>Slavic hymnal Гимны веры христиан, hymn 499</dc:subject>
  <dc:title>Сын Божий вышел на войну</dc:title>
</cp:coreProperties>
</file>