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B94-8C51-4544-90AB-14DD5F9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819-784A-4394-BB4C-5F75FEF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3EA-630B-4630-A6CF-7E59E677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CD8-3F43-4EF8-B806-52C3AD18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026-9663-47BB-974C-CE8D5A1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DF2-AC8F-402C-8D2D-8F7B362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FA3-72FF-4903-83EE-9A20B4D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337-6CAE-45AC-8F5A-797C34D0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7A4-ACD8-4BF5-AE1B-B2B27741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40E-C2DF-49F9-B9F8-45ACCAF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8F1-1BAD-44CF-A51A-E67DA25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8D1-3B7F-4F81-A16C-44A81E6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EB904-C8C1-476C-8BA6-A2A3207D3D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dear and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t’s worn and faded 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ch recalls those happy days of long a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stood at mother’s kn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hand up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heard her voice in gentle tones and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read of Jesus’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He blessed the children d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He suffered, bled and died up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His heavy load of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dried my flowing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kisses as she said it was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любив, страждав, вмирав Він на хре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ll, those days are past and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ir memory lingers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ear old Book each day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u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eek to do His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my mother taught me th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r in my heart His Words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15Z</dcterms:modified>
  <cp:revision>12</cp:revision>
  <dc:subject>Slavic hymnal Гимны веры христиан, Ukrainian hymn 73</dc:subject>
  <dc:title>Книгу Божу маю я</dc:title>
</cp:coreProperties>
</file>