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02E0-3168-454C-908B-F9263BF2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A52B-B0E7-4CBC-AD81-6FC9D958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08C5-C6F1-4CF2-8F36-AA46098C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6D70-1A3F-4E2B-8F0E-04C5AEB0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5E2F-FC3B-4F4A-B925-D7169960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F9C9-3381-4909-B6BC-408BA2F2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BFD9-456F-4DBE-B81E-64692D26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6448-A199-4563-B924-B5CDD2E8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1933-69F0-44AD-811F-3FF55090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9D1D-64D8-4CA7-BF42-0F2F8A2A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DBE4-6B77-4000-80CD-4E4CB00B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00CD-90C8-41DE-A6B0-86010F73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1A409-ACE1-4757-95E5-E74FDE2DE16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сланный Богом Мессия расп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святой проповедыва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ных исцелял, а теперь Он казн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траждет и жаром ланиты горя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аждет и уксус Тому под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ьи воды живые для мира тек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944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зойдём на Голгоф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ости им, не знают, что худо творя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т. Взойдём же, дабы и за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а Христова к Отцу вознес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снова Он к небу подъемлет С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ец Мой! Зачем Ты оставил Меня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рат мой! Чтоб принять тебя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ьца Святого слова там звуч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вершилось: Я дух Мой Тебе предаю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Он пожертвовал душу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м, как нашей греховности 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даниях горьких Христа истом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о Он нам спасенье куп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6:04Z</dcterms:modified>
  <cp:revision>13</cp:revision>
  <dc:subject>Slavic hymnal Гимны веры христиан, hymn 724</dc:subject>
  <dc:title>Взойдём на Голгофу, мой брат</dc:title>
</cp:coreProperties>
</file>