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260-E534-4472-BEEA-756D6CA0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B32-13C8-4BED-8330-4F00DF32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A23-F2E0-4322-923E-FBBE5AC0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C6C-944E-43C5-8B8E-B14D48F1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0E5-FFCD-4D1B-980F-64D94F12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7FA-A6C7-4522-94DE-CD962617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2DD-2775-4796-832B-E1FC8C32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E49-F94F-432D-BA1C-84152E1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450-1236-42B8-9C89-9649BA41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5BC-71E5-45BD-AA3E-23FE233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A86-7BE4-493F-9FFC-B5C3A109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688-6709-4C7D-AA1C-3A2A1D8A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59288-7004-46B7-BC65-01D997A407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pe of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comfort for all who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hop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ruth in each circums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light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63   Jesus, Hope of the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pe of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comfort for all who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hop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ruth in each circums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light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2:39Z</dcterms:modified>
  <cp:revision>12</cp:revision>
  <dc:subject>The Source 3, song number 1363</dc:subject>
  <dc:title>Jesus, Hope of the Nations (Hope of the Nations)</dc:title>
</cp:coreProperties>
</file>