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0F0-813C-4F12-9D5F-D77B80C9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A2A-D054-40E3-B84B-8EB8365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0A4-1924-4979-A9E7-29B589D5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8EC-3F8C-42E8-98C2-FDCD47B4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642-4E92-4C13-9A1A-9D14B8BE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7BA-0E62-450A-8988-C20EDD32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A7A-6709-4D9B-AD55-85BCF5C1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581-EE80-4399-8FC1-A808DDA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E01-405C-4CE0-AC32-804C36A0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FE5-7EC9-4271-8555-E2A67E8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816-A2BD-485A-8109-60CF8109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D56-2C2E-4C87-8BA5-631E99AA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E849A-0E83-4BA2-A17F-228E90110F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 at morn, when the day is awa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sunlight through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dow is br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Jesus will come in the fullness of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receive from the world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зарёй, когда утро начн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олнечный луч сквозь туманы пробь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ёт Иисус в полноте Свое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брать от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 at midday, it may be at twi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, percha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the blackness of mid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burst into light in the blaze of His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receives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и в полдень, иль в час полун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запно увидят Его наши о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будет идти к нам с источником с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зять от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ts hosts cry Hosan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heaven desce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lorified saints and the angels atte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race on His brow, like a halo of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Jesus receive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оинства Божии, с неба спуск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уши спасённых, с Грядущим слив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месте Ему воспоют песнь хвал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зял Он с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joy! oh, delight! should we go without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ickness, no sadness, no dread and no cr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ught up through the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our Lord into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receives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радость туда перейти без страд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боли недуга, без мук умира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с Господом в славу Его восхищённ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да Он возьмёт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5Z</dcterms:modified>
  <cp:revision>13</cp:revision>
  <dc:subject>Slavic hymnal Гимны веры христиан, hymn 315</dc:subject>
  <dc:title>Christ Returneth (It May Be At Morn) / Быть может зарёй</dc:title>
</cp:coreProperties>
</file>