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AFE-E706-4DB8-B29C-42DF1682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703-CC8F-4077-99DA-0E374C2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98A-0E56-4503-AF76-33FBA126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F23-FAF7-4C67-9C67-BDA52C3C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4D6-7613-4FA6-960B-1D031AF6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E0D-160C-4CF3-A5D2-F38FAB5F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222-7460-44E4-B0F9-653EA857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34F-CFFF-4744-96F0-648EB677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897-AE42-45C9-BD46-05923701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2D4-EC53-4236-A03F-87B71AB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84C-C81B-4BB8-9C47-8615A4C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C12-EDF1-488B-9409-A956D3D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A04F6-C554-4C96-B9B6-EE8592B835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mes of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mind is renew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jo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4   Times of Refre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31Z</dcterms:modified>
  <cp:revision>12</cp:revision>
  <dc:subject>The Source 3, song number 1564</dc:subject>
  <dc:title>Times of Refreshing</dc:title>
</cp:coreProperties>
</file>