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FC1-2B89-4581-88EA-1D517549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7D6-943F-4EDC-90B6-6A1ED32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6C7-B220-4465-A050-E15FA1D5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C3E-4164-4A4A-B97F-0E8B7F2B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287-66C9-4009-9079-2D5328DD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0D3-C79D-41DD-8A23-B88A22E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1C2-5B49-4052-8FBA-98600A7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FBE-1CA7-447C-85F2-E3216812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748-CF22-4BCA-812B-E3ACD77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96F-A7A9-4D98-BA9A-548D109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D6F-4710-4C09-90EF-5F30692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0BD-44A5-4C40-A7A6-E8982FC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A1FF-C2EA-46D0-AB66-5AFEE315BA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шине под небе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онко льётся п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поют хо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ржествующей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ышине под небес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ердье возвещ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нас возлюб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ов погиб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с Голгофы устрем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там за нас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за нас стра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венце терн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онцом сур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ю грех Он поко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льцам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зрушил узы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крес в день тр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на рас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спойте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рил нам жизн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те дружно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пойте Богу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Господу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09Z</dcterms:modified>
  <cp:revision>12</cp:revision>
  <dc:subject>Slavic hymnal Гимны веры христиан, hymn 571</dc:subject>
  <dc:title>В вышине под небесами</dc:title>
</cp:coreProperties>
</file>