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C241-FBEA-433B-9850-D0362CFF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88D6-7004-430D-875D-D7CAA799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E73B-5E4D-4CE4-9865-7BC269B5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9844-8B43-42F3-8757-C009D9D5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2CF9-1247-4FF7-92BB-E2913182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AB16-59A1-4262-BCB9-BACD21D1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4071-8077-4CDB-8A87-64D67A42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DD79-CEF7-40CB-9AE9-AF218854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9306-1CB4-4F79-9D78-84C12F1B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EF73-E800-4181-9AF7-4D708B41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9D9B-B936-4ABF-9F05-B9103293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63F2-BF42-45D3-8EC3-6B764E22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60E42-60A4-4976-A4A3-3538E81DE3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 худых не дел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 не говор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! мы — Христов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го смот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 Иисус и крот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 и без ви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, как Он,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, мы долж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л худых не дел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недобрый х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нас 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сить нас хо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жаждою вр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 Иисус и крот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 и без ви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, как Он,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, мы долж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 зла не слуш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ки не страши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у сопротивля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добру стрем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 Иисус и крот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 и без ви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, как Он,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, мы долж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9:46Z</dcterms:modified>
  <cp:revision>12</cp:revision>
  <dc:subject>Slavic hymnal Гимны веры христиан, hymn 760</dc:subject>
  <dc:title>Дел худых не делай</dc:title>
</cp:coreProperties>
</file>