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C7AC-F7E9-425B-BA74-4461DA25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C684-80FA-4B3D-899B-7535DE41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E11A-BAB0-4A9A-BAE1-B10E832D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4392-5AAA-4F02-A68C-614D6566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E791-CA7E-43FE-B07E-7DD63191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D4BA-EA05-47CC-AFFC-45F92E00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41A4-1480-47B9-8EC5-98056BD8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D3F0-3E34-4120-ADA5-54ACCFD7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EC7A-1A1C-4249-9C6B-B6227420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2AA5-AE56-4C92-9700-560BDDE8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0209-1A72-4A61-B7D5-679A9F99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C4B0-230F-4FB9-872A-A1A54B0A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985A5-4CA1-4358-924E-C3E65B466AD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еня хочет сдел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меркнущим лу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ветит словом и де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сех людей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 меня хочет сдел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вою мне даст си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, как Он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ей великих и м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ть, как Он здесь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еня в этом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лого со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ёт благодать без 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Свой по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ым лучом для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быть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ить Ему в жизни э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—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4:49Z</dcterms:modified>
  <cp:revision>12</cp:revision>
  <dc:subject>Slavic hymnal Гимны веры христиан, hymn 896</dc:subject>
  <dc:title>Господь меня хочет сделать</dc:title>
</cp:coreProperties>
</file>