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E86-EB7A-48E4-90CE-431F4F5C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FE1-BE39-48F8-85A1-E451D306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616-4BC2-4A09-8E5F-4B4907EA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6B2-C2CA-4E1F-9472-15A5A6B8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C07-45D8-4BF5-A2B7-1C898C4A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46F-9735-49BE-AA52-24F7599F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3D0-D3B8-4CC1-B58C-115AAD90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D7F-CF58-4911-9404-6B0338E9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B66-7EAA-41F7-A171-EE307458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698-D867-46C7-824D-4F30049E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51A-812E-4133-B906-926877C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5B6-5310-4F3C-B391-C93815A9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B0F43-D7EC-4A05-85E4-D46544893C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ба верная, радость пол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чёт рекой, дух ликует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ба в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к жизни путь, счастьем д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Отчий дом вижу с каждым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юсь врага, безопасен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и нахожу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44Z</dcterms:modified>
  <cp:revision>12</cp:revision>
  <dc:subject>Slavic hymnal Гимны веры христиан, hymn 625</dc:subject>
  <dc:title>Дружба верная</dc:title>
</cp:coreProperties>
</file>