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123F-5652-488F-9ADE-C7E932EDF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3C9E-7411-47FE-8B45-204166DE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A905-5835-4BA7-978D-D88574231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BF55-CB19-44F4-AA01-9E7D28985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11B1-83E9-4BA6-B3EB-3443CE25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E051-2F55-4451-BF8E-35CA484E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AAA4-C469-45BC-9A1A-6868F21C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6579-4D61-444D-B761-4DD0C913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BA3A-8DC4-482F-A641-636A84E2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8F4C-BC07-4E87-B5C2-9D2E347D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9FEB-3368-4A7A-AAB3-1ADE980B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6180-1E9C-4C58-AF9D-7C28718B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45193-6B5E-4020-95B4-33A48ED0C4F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твой дух утом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рудной житейской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 мой, начни ты мол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это силу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и кто утомл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пусть тот воззов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у усталому в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 молитва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0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ли твой дух утоми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заботы с нужд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вят усталую гру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 пребудет с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ровняет твой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и кто утомл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пусть тот воззов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у усталому в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 молитва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мечты и жел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не исполнят т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ляй упов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у Христово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и кто утомл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пусть тот воззов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у усталому в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 молитва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олезнь и страд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твою потряс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яжкие дни испыт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ёзы из глаз потеку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и кто утомл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пусть тот воззов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у усталому в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 молитва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 мой, то нужно мол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поверь же, в моль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ю твой дух укреп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анет легче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и кто утомл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пусть тот воззов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у усталому в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 молитва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23:27Z</dcterms:modified>
  <cp:revision>14</cp:revision>
  <dc:subject>Slavic hymnal Гимны веры христиан, hymn 700</dc:subject>
  <dc:title>Если твой дух утомится</dc:title>
</cp:coreProperties>
</file>