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2DC9-CA70-4EED-BAA4-85738695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4A8-6955-4F73-9CEB-0914C572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D942-8843-446B-94AD-0FB0AC78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2929-A086-401E-9C06-AB4D6DE1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C159-D666-4641-B898-B8A29244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A11E-0D5B-4AFD-9537-A4348CFE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DA17-0BD3-4DC6-AA1A-E4C4D17D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8B1C-489A-46DC-949B-3F65CA6E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C7C-459F-4828-B6D7-33F0AEF3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64D-BC75-4CD5-808E-2BF8EAF0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41A-98A1-46DD-9872-30D7268E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5BEE-0527-4692-827B-8E3FFDAD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44395-E5A5-4FB1-AA84-3AA2D19555A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will you spend eter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question comes to you and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, what shall your answer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will you spend eter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будешь веч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вопрос ко мне, к те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ответ найдёшь в с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ity!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will you spend eter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are choosing Christ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rning from all their sins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shall their happy portion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will you spend eter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многие к Христу при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ли греху сл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й небес в удел наш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ity!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will you spend eter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ving the straight and narrow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the downward road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d will their final ending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thro’ a long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в узкий путь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шил ты на другой всту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конец тебя там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ity!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thro’ a long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pent, believe, this very h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in the Saviour’s grace and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will your joyous answer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d thro’ a long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 этот самый час по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йся ты Ему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пеши всем возвест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буду вечность провод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ity!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d thro’ a long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57Z</dcterms:modified>
  <cp:revision>13</cp:revision>
  <dc:subject>Slavic hymnal Гимны веры христиан, hymn 336</dc:subject>
  <dc:title>Where Will You Spend Eternity? / Где будешь вечность проводить?</dc:title>
</cp:coreProperties>
</file>