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1AA-E46C-4F79-96AB-69D42B8B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A00-8AE0-4373-948F-F8BD024A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59E-55DB-4E88-A946-30D14B08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A0D-4A0B-4FD3-B4FD-BC178E9B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D3E-CB7F-4238-B344-80BF6DAA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692-3BFA-495B-869B-8AD47837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A33-AA11-4C39-9DAB-5E37F35E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B55-6ABE-4039-9FB1-D39BA01F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D96-BD52-4F52-8ACC-E1549C7A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DAB-97A8-4982-B00A-FC4D4DA1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621-B461-40E1-966F-189721DD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873-23D8-40D7-899F-DA6CAEDB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2F3BF-4F87-4EA9-8A70-E91DE0B4AA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ou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has made a way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de a wa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ord lives inside of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ruth is life to all who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e to all who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92   Your Love Reaches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for You, live You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ill b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erve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r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salvation flow as Your people pr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ong for more, long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, death is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pow’r can stand against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aith, we will rise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ands and feet to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e to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for You, live You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ill b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erve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r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salvation flow as Your people pr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ong for more, long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for You, live You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ill b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erve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r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salvation flow as Your people pr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ong for more, long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10:20Z</dcterms:modified>
  <cp:revision>12</cp:revision>
  <dc:subject>The Source 4, song number 2192</dc:subject>
  <dc:title>Your Love Reaches Out to Me (Kingdom Come)</dc:title>
</cp:coreProperties>
</file>