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BBC-9727-456F-8002-1EDDA2B1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51D-3A3E-42FC-9FCD-675AF0DB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4B9-7157-445B-A2DE-89E156AA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254-07BD-4CAC-901C-B108864E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EA7-3D4D-4250-B1BB-CC46DDDC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390-DB64-40CE-A53F-0B8067A4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57E-B1C1-47D8-ACAE-982433BC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9CF-289C-4132-BB92-07661BF7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4E2-D577-4DE1-9E73-1337B0AB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1A0-DEE1-470B-B586-3374791E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689-040B-479A-A55D-D8A54EFC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7E2-572D-4A4B-8635-75D0F121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EF574-5F2F-4B86-9494-E8243ADB1A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ck of Ages, cleft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 hide myself in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the water and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Thy wounded side which flow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of sin the double 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 from wrath and make me p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спасение да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греха, порока,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 ней вижу свой опл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скалы Христа струё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ьётся ток воды ж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the labour of my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n fulfil Thy law’s deman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uld my zeal no respite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uld my tears forever f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for sin could not at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must save, and Thou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не мог соблюсть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ыл к смерти осужд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рех преследовал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 жёг сильней ог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я мог найти по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в скале Христа св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hing in my hand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mply to the cross I cl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aked, come to Thee for dr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less, look to Thee for gra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ul, I to the fountain fl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h me, Saviour, or I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ришёл к Тебе, мой Бо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ыл наг и Ты од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ыл беден, Ты в у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л мне дивный Твой черто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омыл меня в кров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окрыт в скале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 draw this fleeting br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my eyes shall close in d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 rise to worlds unknow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hold Thee on Thy thr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ck of Ages, cleft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 hide myself in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ный Божий 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градил меня от бе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реди горя и невз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силу пода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кого я не страшу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век со мной — скала Иису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7Z</dcterms:modified>
  <cp:revision>14</cp:revision>
  <dc:subject>Slavic hymnal Гимны веры христиан, hymn 637</dc:subject>
  <dc:title>Rock of Ages / Благодатная скала</dc:title>
</cp:coreProperties>
</file>