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8E2-6208-440D-ADA8-9EEFE005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581-4445-4715-B3B9-AF5F95F9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F56-4079-4801-9104-A05801FE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CA8-C9AB-46F1-ADF9-EF552F86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4A8-EC76-42B7-B9C2-1837668E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32A-41B7-4798-AC34-90245BE3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F2C-0E7E-456F-9E72-E41FACBB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84E-5092-49BA-80B4-0853B5E8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761-6C55-426D-986B-DA1C4D3E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05A-8756-40C1-B7D5-5218532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972-7171-419A-88E2-5A73429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CA5-3A85-4356-9A4E-95F07020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002AF-6C5A-4024-9B7A-0EBA0B3F50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жизнь Ему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призывая, Он даёт и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страдая, взял твой грех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ерь Его сло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бой за Ним вступ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битва злая, ты ж не ун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уша больная слаба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ерь, победа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Христа взи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не забудь о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сияя, день горит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дь земная исчезает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Нём пребудь, о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труд свершай ты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ой день кончая, в Нём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а святая приготовит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Нём ищи тво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жгучей взор твой у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няют тучи вид Христа крас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е, в царстве рая, горе позаб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будешь ты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12Z</dcterms:modified>
  <cp:revision>12</cp:revision>
  <dc:subject>Slavic hymnal Гимны веры христиан, hymn 363</dc:subject>
  <dc:title>На Христа взирая</dc:title>
</cp:coreProperties>
</file>