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553F-1A5D-462F-9898-6CADA43AA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0A00-FE0A-4997-84EB-0FBC5C79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F390-D4F5-423E-88CA-B175B149B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A388-48DC-4F63-8D44-BF7AA7BD3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1016-D366-4E24-8AF3-949C69FE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774F-3ACE-4EBC-9A17-17F6B3AD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3694-E3AB-4229-ACBE-4274A812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3F5F-782A-4FD0-8847-9310A487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1292-CD1C-4DDE-81E1-CFCC03D4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3D97-F253-4425-B425-3C1D156B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B185-28DD-42AE-B01E-0F092655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79EB-12AD-4BBC-BC8E-5F27D0B5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4E38B-F07C-40AE-8528-A2ADD36417E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ой Он смерть попр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х сил вос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м окруж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нас к вечной жизни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9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злодеев р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рево вознес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страданья, м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м мы нанес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авый пот струи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рьбе с Его че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ршил Он труд, Ему хва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ой Он смерть попр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х сил вос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м окруж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нас к вечной жизни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л Иосиф т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нял Его с кре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грёб без страха, см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аду своём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олнце лишь блесну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рака больше 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сказал: «Да будет све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ой Он смерть попр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х сил вос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м окруж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нас к вечной жизни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рёй на гроб явила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рия, жёны с н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я туда, смутила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зал там ангел 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йдите, всем скажи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Он воскр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ь вечную принёс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ой Он смерть попр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х сил вос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м окруж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нас к вечной жизни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рия тут в волн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ит, скорбя душ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видит в изумлень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стоит пред 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Ему в восторг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Раввуни!» — гово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вещать о Нём спеш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ой Он смерть попр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х сил вос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м окруж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нас к вечной жизни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19:38Z</dcterms:modified>
  <cp:revision>13</cp:revision>
  <dc:subject>Slavic hymnal Гимны веры христиан, hymn 295</dc:subject>
  <dc:title>Он жив! Он жив!</dc:title>
</cp:coreProperties>
</file>