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8E8-D22C-40B3-8771-02ED5C82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473-B3BF-49B2-BA53-31D926A0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752-2D41-47CF-8C13-49AF3F2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050-7B49-49D8-876F-C3601420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BD3-A30F-4387-BFE0-F9B32F7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288-3076-459F-9885-E1276A70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DBA-CC42-4C09-832C-F60C7764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A53-FDFC-441F-A0D7-59F88E0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462-B05D-445A-824E-0E80D903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191-1E46-4DD3-99A9-BEE1C72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E7D-ACB4-4E71-90E0-A7DC073B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BD7-7562-4481-8AEF-20639F4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57FBD-E8BE-4661-98CF-AB2F536F09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23Z</dcterms:modified>
  <cp:revision>12</cp:revision>
  <dc:subject>Slavic hymnal Гимны веры христиан, hymn 877</dc:subject>
  <dc:title>Кто из вас Господень?</dc:title>
</cp:coreProperties>
</file>