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4463-A072-4450-97D7-4B70038AB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737D-2AED-4C58-90AB-E0E8E8569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DAA6-319F-47C6-A3E9-CDEB62EB1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6440-E162-4655-97FE-274BBF45B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C137-2A15-4708-8EC2-702515EC8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70CC-988C-4485-AEAC-C545DDE56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90A8-FCD3-406E-A88C-C4FE425E6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E609-824A-45CE-92F5-6BF0568DD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2482-4CDF-4A9B-93F9-ED1C80AC1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7CE1-40E6-4F27-8A8F-2576A44CB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2B3C-EF76-4F29-807E-2E9DB9B6A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8B80-DDFC-41BC-91DB-CEE48149F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8B6D80-B848-47D0-8820-8151D8299DC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e’ll have strength to c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ith problems on life’s wa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f we trust implicitly in Jesu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with pleasure 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 will of God each da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f we trust implicitly in Jes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0944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5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Мы бодрей на жизненн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бодрей на жизненном пути пойд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будем доверять Иисус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лу Божию в работе мы найд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будем доверять Иисус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righter will our pathway gr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our joys will overfl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 will overcome the fo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f we trust implicitly in Jes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ветлеет путь тог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 будет навсег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мутит враг никог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будем доверять Иисус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God’s great promi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e’ll better understan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f we trust implicitly in Jesu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receive abund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lessings at His han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f we trust implicitly in Jes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ещанья Божьи станут нам ясн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будем доверять Иисус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годать наполнит сердце всё полн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будем доверять Иисус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righter will our pathway gr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our joys will overfl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 will overcome the fo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f we trust implicitly in Jes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ветлеет путь тог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 будет навсег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мутит враг никог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будем доверять Иисус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e will learn God’s wi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or us to know and d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f we trust implicitly in Jesu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expecta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wait His coming, to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f we trust implicitly in Jes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лю Божию научимся твор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будем доверять Иисус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тоянно взоры к небу вознос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будем доверять Иисус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righter will our pathway gr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our joys will overfl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 will overcome the fo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f we trust implicitly in Jes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ветлеет путь тог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 будет навсег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мутит враг никог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будем доверять Иисус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5:06Z</dcterms:modified>
  <cp:revision>14</cp:revision>
  <dc:subject>Slavic hymnal Гимны веры христиан, hymn 453</dc:subject>
  <dc:title>If We Trust Implicitly in Jesus / Мы бодрей на жизненном пути пойдём</dc:title>
</cp:coreProperties>
</file>