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F9C-10F0-45F0-8F11-A3B7F967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FB1-4042-49DD-B9C8-DD943020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EC8-11F7-4C60-93B5-EF35B793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8A3-B433-4733-94E5-A3F4798A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10B-0690-4B47-AFD8-A67C1D05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86B-F90F-4970-A8CA-A3CDB983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F0D-C218-46F0-997A-CBE43DC7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C7C-5E03-4402-A3A9-84E0475A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A11-104F-4368-83C6-76E74CA8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542-A58A-42F3-9A60-39314E34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3FC-059B-4539-837D-0E1FAB4A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48C-EA4E-4DF0-AF29-0D83D260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F4462-4FD2-41E1-A68E-9773D6A355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 I a soldier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ollower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I fear to own His ca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blush to speak Hi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я ли в воинстве Хри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я ли в воинстве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ю жизнь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хочу ль я скорбь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радостно д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be carried to the s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flowery beds of 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thers fought to win the pri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ailed through bloody s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капли крови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оз ли мне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от, хотят чрез ров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ль в страхе отста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there no foes for me to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not stem the f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is vile world a friend to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lp me on t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а ли нет перед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лышу ль зов к борь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мир красивой суе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анит меня к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I must fight, if I would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crease my courage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ar the toil, endure the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pported by Th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кто хочет побе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олжен в бой вст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ой иду! Христос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лабый — с Ним ге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04Z</dcterms:modified>
  <cp:revision>13</cp:revision>
  <dc:subject>Slavic hymnal Гимны веры христиан, hymn 456</dc:subject>
  <dc:title>Am I a Soldier of the Cross? / Не я ли в воинстве Христа?</dc:title>
</cp:coreProperties>
</file>