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C11-193D-403C-890B-51272907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BFE-B12D-4F8B-B631-6B01084B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DBC-2478-4DD3-B9AE-35986212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2A1-D5F7-41A8-806E-73244F40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7C1-BCA0-445F-A888-3EB2588F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C2C-C751-481F-8664-93922945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063-6523-44D5-801A-9D836C6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F11-1E0E-4032-BE43-7560015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267-3A19-4CD0-AD6D-4488A739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0AD-665A-47E9-B5E4-0FBFF182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B0E-FD70-4C74-B0DC-0B721F7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18D-A2E2-4A24-854F-6DF8685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57E96-5AF3-4E06-AB44-C7A8159801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58Z</dcterms:modified>
  <cp:revision>12</cp:revision>
  <dc:subject>Slavic hymnal Гимны веры христиан, hymn 421</dc:subject>
  <dc:title>Не золотом тленным</dc:title>
</cp:coreProperties>
</file>