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   Бог, хранивший в дни труда</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Safely through another week</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d has brought us on our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now a blessing seek,</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th’ approaching Sabbath day;</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г, хранивший в дни тр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теперь привёл сю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ести Ему хва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ступить к Его стол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ay of all the week the b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mblem of eternal r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ay of all the week the b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mblem of eternal res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окоя — знак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нас в небе ждёт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окоя — знак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нас в небе ждёт пок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hile we pray for pardoning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ough the dear Redeemer’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 Thy reconciled f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ine away our sin and sham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же Вечный, чрез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им милости для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открой небес вра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дали наш стыд и грех.</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our worldly cares set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we rest this night with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our worldly cares set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we rest this night with The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забот освобо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близь к Своей гр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забот освобо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близь к Своей груд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Here we come Thy Name to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feel Thy presence n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Thy glory meet our ey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we in Thy house appear:</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ы пришли Тебе прин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рность, славу, ч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чувствовать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близость, Твой пок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re afford us, Lord, a tas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our everlasting fe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re afford us, Lord, a tas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our everlasting feast.</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спошли Ты нам в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радость без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спошли Ты нам в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радость без конца.</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May Thy Gospel’s joyful sou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nquer sinners, comfort saint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the fruits of grace abou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ing relief for all complaints;</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решных Словом обли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ешенье дай свят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всех у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ых сил пошли больны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us may all our Sabbaths pr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we join the church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us may all our Sabbaths pr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we join the church abov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окоя сделай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нём, ведущим к небе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окоя сделай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нём, ведущим к небесам.</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3:03:31Z</dcterms:modified>
  <cp:revision>4</cp:revision>
  <dc:subject>Slavic hymnal Гимны веры христиан, hymn 21</dc:subject>
  <dc:title>Safely Through Another Week / Бог, хранивший в дни труда</dc:title>
</cp:coreProperties>
</file>