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233-3337-40A6-822B-2A7EFF2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246-F8BD-48CC-A643-3B9EE55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4C8-34E9-4BB2-90DE-A13E8A8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BC9-4548-4792-BC1E-01AA1CF9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93A-8B7B-4009-8043-74EFE3FD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7AA-824A-4823-868B-AA78F8F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235-0D8D-4C4C-9810-3DE7A8A3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77C-9699-4BC9-A306-42E67B1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ADE-35A6-4E64-9C67-4FB7736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60D-0AEB-401C-B9DD-A7C3967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1BA-E223-42CC-8D04-5ED5D31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0D0-0F60-4619-BFF5-F1CB4A7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D8D9-1CCD-453B-BCA6-820E85A77A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irsty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Your Glory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’round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 we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upon the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sain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reig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19Z</dcterms:modified>
  <cp:revision>11</cp:revision>
  <dc:subject>The Source 2, song number 863</dc:subject>
  <dc:title>Let Your Glory Fall</dc:title>
</cp:coreProperties>
</file>