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8BB-A9B1-4084-96EB-360AA4D9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C1A-D587-4D50-9A7C-F21B6963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37D-27FD-4ABE-AFA2-47E97C1A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5D6-EF55-47B1-B218-EC5EFB04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3E9-652E-465D-9091-8081CD8F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783-5FF0-4805-9E24-A6D8FD5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3F0-0319-4CFC-95C0-04966DFD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CDA-10FA-4D7D-A40C-4A78DCD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FA2-6DA0-45B4-BA8E-DB2FD9C7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118-F35A-4D3B-BA3A-8C0EF4C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7A5-B1FD-4525-868D-11FD844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C5E-F2F2-47F2-9E7E-3DF3BEE1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4488E-8744-4CCD-904D-6EC8001FD3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heaven, that heard the solemn v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vow renewed shall daily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n life’s latest hour I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 in death a bond so d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6Z</dcterms:modified>
  <cp:revision>13</cp:revision>
  <dc:subject>Slavic hymnal Гимны веры христиан, hymn 721</dc:subject>
  <dc:title>O Happy Day, That Fixed My Choice / О дивный день! о дивный час</dc:title>
</cp:coreProperties>
</file>