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5C1D-A603-493C-9043-476500B4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DF5C-DC28-43C1-ACEC-C284E313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164C-6BA6-45EE-B899-093A3AAA2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5E83-BC7D-457F-9CBE-321BDEF54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BFF1-206C-491A-B4D2-9EB9B653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808D-E59F-4F82-BE42-DC43073D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890C-2123-4900-AB9A-35D71AFB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28BF-8081-4B48-AFAE-F12E6FED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0B54-0A0F-4104-A9D3-1BFEA538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F3D9-A737-44B6-8200-0105FD63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7B20-30F9-4AE8-BF45-1A5C2F33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F86A-923E-472D-AC7C-C7F69152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583B1-834A-4433-BA5C-C79B63E94D7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urn your eyes upo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ok full in His wonderful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things of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grow strangely d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light of His glory and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3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urn Your Eyes Upon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0:28Z</dcterms:modified>
  <cp:revision>10</cp:revision>
  <dc:subject>The Source, song number 533</dc:subject>
  <dc:title>Turn Your Eyes Upon Jesus</dc:title>
</cp:coreProperties>
</file>