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80F-BF15-474B-B45F-589756A4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DDB-9243-477D-B04A-26BA4BE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E40-76AA-4982-AE2B-2679D09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1DB-3537-4AC8-A0EA-F7D1031A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09E-7882-4DA2-98F6-A8733CDA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781-2D49-4366-9811-A4CE01F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A24-BBAD-42FF-A2F0-F8E7196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EE7-477F-4F63-ABD5-9943CD7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4D2-96B8-41BE-AEAD-8FBCD3D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615-7F26-4867-8C19-43C0D3F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29B-4629-4D4B-8E03-B5765789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06F-DD87-4AED-8FEE-80FE473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188BD-80EB-4E0E-86F8-56C409737F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69  Ты сделал первый ш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делал первый ш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кры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делся в хруп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и во Хри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не ждал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дал услышать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чно благодарен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за Твой кр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шёл от уз спасти нас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29T06:21:14Z</dcterms:modified>
  <cp:revision>12</cp:revision>
  <dc:subject>The Source 4, song number 2169 in Russian</dc:subject>
  <dc:title>Ты сделал первый шаг / You Did Not Wait for Me (I’m Forever Grateful)</dc:title>
</cp:coreProperties>
</file>