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FF8-F263-4737-8C20-593FACAE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943-D738-4F62-A0EE-B2366FF4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59F-3E01-4F3A-A543-3BA7453F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C01-BB74-4EF6-BFBD-B976387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1E6-3BD7-46C7-A93E-1FFE3C3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C5B-F5F3-4A43-BAD3-22A5ED0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452-F507-4679-964F-70658D82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8DA-9321-49C0-861B-156C7B5B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165-AAE7-4047-BFA0-8D64064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804-95B7-418D-8817-A53B8FA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A67-76AD-4C42-BE47-5C31707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0E5-EEA3-42D1-A14C-35B0764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6B23-6DD0-4DC5-B912-6E49F79BF6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firm a foundation, ye saints of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laid for your faith in His excellent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more can He say than to you He hath s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you who for refuge to Jesus have f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not; I am with thee. O be not dism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am thy God, I will still give thee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trengthen thee, help thee, and caus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held by My righteous, omnipoten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the deep waters I call thee to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rivers of woe shall not thee over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will be with thee, thy troubles to b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nctify to thee thy deepest di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fiery trials thy pathway shall l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e, all sufficient, shall be thy su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lames shall not hurt thee; I onl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dross to consume and thy gold to re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down to old age all My people shall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, eternal, unchangeable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hen hoary hairs shall their temples ad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lambs they shall still in My bosom be b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ul that on Jesus hath leaned for repo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ot, I will not desert to its fo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oul, though all hell should endeav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ha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never, no never, no never fors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59Z</dcterms:modified>
  <cp:revision>12</cp:revision>
  <dc:subject>Slavic hymnal Гимны веры христиан, hymn 850</dc:subject>
  <dc:title>How Firm a Foundation / Стоит основанье</dc:title>
</cp:coreProperties>
</file>