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452-6AF2-4B55-A5BA-1C1AF721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601-BC1E-4090-AE08-DCC4E614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9C1-9B4F-40FB-B0B2-E157802E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B5E-DE1E-4429-A1B6-10E7D9DE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96D-C625-4BC1-8D7D-A05245CC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536-2573-41CB-8610-B101F913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9E2-D944-47A8-9D55-0F32D0EF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CD7-E422-49DF-84A1-CB4462FC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7C2-EC00-448E-B573-E2E298FD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AEC-F74C-4064-AF71-4210186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978-1E76-418E-A760-0E951B5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86E-2587-422E-A4D0-C8284E8E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84DA3-23F2-489A-9158-BF46FA0807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6   Ісус ― ім’я найв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― ім’я найвищ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Спаситель, Славн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Еммануїл, Бог є із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Відкупитель, Слово жи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9:16Z</dcterms:modified>
  <cp:revision>12</cp:revision>
  <dc:subject>Slavic hymnal Гимны веры христиан, Ukrainian hymn 116</dc:subject>
  <dc:title>Jesus, Name Above All Names / Ісус ― ім’я найвище</dc:title>
</cp:coreProperties>
</file>