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472-537E-43BC-B181-89CCB5D0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2F0-6A58-4BBF-A4B2-16361FF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CBE-DE14-434E-8BE0-F7BB4CBE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4EE-7900-47E1-BCB0-08BD963E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A92-DDD2-405C-BE67-3BFBE1A6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1FE-3843-4CAB-9769-B441C5D2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DF3-23F3-4DB5-A42B-0BF3A4A5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532-B5B5-4816-87B8-BA4969F9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A0A-A748-4292-ABCA-C4DAFEEA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B2B-42E4-48FE-8938-70322C2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F34-E682-4DFF-BAA1-E320894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3D7-BA9F-4FF8-BD87-FF649CA9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2893E-6A92-4308-8955-0774CE2527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двластны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ввер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на земл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восторженн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ются в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осток и ста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ица и силач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как наш Бог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ает п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нья ро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ть и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юности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статке и в ну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етом меж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тремись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48Z</dcterms:modified>
  <cp:revision>12</cp:revision>
  <dc:subject>Slavic hymnal Гимны веры христиан, hymn 888</dc:subject>
  <dc:title>Ликуй, Христов народ!</dc:title>
</cp:coreProperties>
</file>