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B83-6C32-4ACB-94F1-5F17DFFB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986-6B47-4FA2-BDE4-126EA433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825-9A3C-4CB6-B46F-9C6DDFFA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678-E282-4D8D-B486-CEC99B69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66F-174D-49A1-8660-A39E02ED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F7A-3DE5-4AA6-B763-2AAB2FBD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EB7-3B40-4148-BB2D-F8500006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177-D00C-4434-A5D9-BCED50BF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196-81AD-4526-930E-58C1A7C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58F-DC7A-4D06-A7A1-5EBFE2F6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D09-86F8-4854-BE43-929F613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3F6-1CB6-443F-AAF2-315C2AF8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71DD3-732B-4358-8EEA-5E376D684E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have with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I adore i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is My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give You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my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breath that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moment I’m aw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24Z</dcterms:modified>
  <cp:revision>10</cp:revision>
  <dc:subject>The Source, song number 515</dc:subject>
  <dc:title>This is My Desire (I Give You My Heart)</dc:title>
</cp:coreProperties>
</file>