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239A-B61B-40D7-9FA3-14EC2DED8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0B3B-FCBA-48C8-8398-3FA0E4F9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F56B-06DF-46DC-807A-47C7D911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984F-3A8F-4574-A1C8-9406B25ED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28DE-10A6-411B-A3AD-7947C807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715D-41F2-43C6-889D-47260816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AED4-CCAD-4AD4-9389-08748CF2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DE20-0D1C-4C42-9461-DB08E487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194C-21E2-43EF-BDAA-C18486D0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34A0-B136-499A-ABCB-A59C3F44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D3E5-9FBE-40A7-B9DD-8FE540AD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3BF5-5F83-435F-964C-6C1CFCA7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9FC2D-F743-49B8-928B-F26B9221CEE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енном море с волнами боро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я тяжко, смертельно уст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грозный вал мне навстречу нес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на подводный я камень поп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грянет буря… гроза разразит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плет мой чёлн, словно щепку пор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я со штормами должен сразитс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ёлн мой не раз заливает во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жизненном м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устал я, а берег жел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ещё кажется так далек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, чтоб достигнуть при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ожда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переплыть нелегко, нелег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в борьбе со стихиею гроз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 не хватает, немеет рук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леденит под струёю мороз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щи зов не идёт с язы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 мой брат и пловец утомл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аешь духом ты? Верь, ободр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ю силой в пути окрыл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ре житейском ты смело держ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о ты плыл, много с бурями б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лько преград на пути побед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авань близка уж, а ты утом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в тяжёлой борьбе опу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но тебе! О, я верю, что труд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забудь, Отчий глаз над тоб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я денно и нощно, Он чу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рит каждый миг твоей жизни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победителем! Брат, не сдавай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ты сможешь свободно вздохну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ёлн твой у цели… мужайся ж, мужай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вот немного и кончен твой пу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4:39Z</dcterms:modified>
  <cp:revision>15</cp:revision>
  <dc:subject>Slavic hymnal Гимны веры христиан, hymn 705</dc:subject>
  <dc:title>В жизненном море с волнами бороться</dc:title>
</cp:coreProperties>
</file>