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4D4-2D2B-4AB9-879B-2851B012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2E6-2C11-4C1D-9910-36C4E334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00BD-0A8F-4FF9-AFB6-7A5E12E5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538-C6F6-4F68-9652-7134EB25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2F5-1BDB-4A2E-9F51-E51D64D8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A3E-9EE3-4D6E-A73B-C156E63B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221-4A6C-4CD5-A459-5C173A19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FAA-70E6-4F7F-B686-23F0C70A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B65-1213-4489-A938-6DDC825F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D47-D458-43B4-BEE8-A02A057F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298-53F8-4BCA-9B5C-7793001D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502-16F3-43AE-8E47-EE7C3F7D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52123-A4E4-4811-81E7-979F4FEC07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, the voice of Jesu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go and work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lds are ripe and harvests wai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bear the sheaves awa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ите ли Божий голо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е ли Божий г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ающий к дел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озрел на ниве к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пешите все к труд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ng and loud the Master call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 reward He offer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answer, gladly s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am I, send me, send m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, любовью пламен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тот могучий з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cross the oce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istant lands expl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find the lost aroun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help them at your do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несчастные нар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 ведают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 нас, и в наши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огуча темн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give your thous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give the widow’s m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you truly give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precious in His s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неверии косн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множество у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speak like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preach like Pa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tell the love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say He died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голосом пр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Творец не 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 мудрости выс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ложил великих сил;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rouse the wick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judgement’s dread al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lead the litt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Saviour’s wai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ничтожный дар им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сё ж нужны для тр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ne hear you idly s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thing I can d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lost of earth are d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Master calls for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овёт к высокой 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ботать для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йдём, чтоб нам на д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ить Бога Сво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task He gives you glad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His work your pleasure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swer quickly when He call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am I, send me, send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евностно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, иль там, вблизи, вд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сякий вдохнови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готов — меня пошл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58Z</dcterms:modified>
  <cp:revision>13</cp:revision>
  <dc:subject>Slavic hymnal Гимны веры христиан, hymn 541</dc:subject>
  <dc:title>Hark, the Voice of Jesus Calling / Слышите ли Божий голос?</dc:title>
</cp:coreProperties>
</file>