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B9E-3B35-4DF0-A8D8-FD215A78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AED-CA72-49BC-930E-0000B7DE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CB1-6E26-41C2-874D-D8D3DD45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9FC-E223-4F31-AC97-05AE6FF0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8EF-6C3D-49EE-BD57-EE55F5C9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205-EA61-453C-B797-E94D51D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043-DB7D-4E5A-BA2E-728311B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32B-50BD-4BF0-B156-63C02CC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CC3-714C-4645-B167-1F78715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46F-A331-4853-95B3-4D528D5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E52-D6B2-42CA-858B-2014598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BE1-8EE3-4076-9874-50AD52D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E4B5C-20A6-474C-9FC7-CC5022F248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10Z</dcterms:modified>
  <cp:revision>14</cp:revision>
  <dc:subject>Slavic hymnal Гимны веры христиан, hymn 660</dc:subject>
  <dc:title>Я странник на земле</dc:title>
</cp:coreProperties>
</file>