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B848-3C9A-48C3-9B6C-D75C9A039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B635-38B0-4BF2-BD85-D7355809A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94A0-95AE-41B4-9DE5-31E78531B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AAD5-F170-49C3-9CFE-886FBA4B4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3859-B6C5-4A3B-A79F-DFE88B7B8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4AB8-A44F-41B2-9261-F78079748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F58C-C7F3-4C71-AB61-A44BC083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EE2F-6B6E-4C19-BAAA-0F7953120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3A1D-E75C-4B8A-853E-25CA83AAB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C28A-4A76-4FC1-A262-33F2F566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662B-44A4-4A80-85C9-80DFA5F2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515C-9788-40F9-B325-1F997E04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CD3DA3-75FA-4E58-862A-0DA72F7671E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огда я в жизни не забу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лых и прекрасных моих дн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звучали сердца мои стру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ак пел я в юности м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билось чистою любов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ежал на подвиги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наком я был тогда со скорб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ревог не знал я ник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7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икогда я в жизни не забу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цветок, поднявшись над землё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головку к небу подним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дыхал Святой любви приро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Господь нам людям в мир посл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азалось мне, что дни блажен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лой нежной юности м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ойдут они, не затемня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ося свет жизни для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, увы, померкли мои це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лубоких вздохов я у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мои друзья всё также пе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од эти звуки я ры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а струны моего порвал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рфу жизни я совсем разб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утешность, слёзы лишь осталис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хочу вернуть, чем прежде бы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чистым сердцем я взываю к Бог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моги усталому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дали страданье и тревог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Ты мне опять найти покой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9:38Z</dcterms:modified>
  <cp:revision>12</cp:revision>
  <dc:subject>Slavic hymnal Гимны веры христиан, hymn 776</dc:subject>
  <dc:title>Никогда я в жизни не забуду</dc:title>
</cp:coreProperties>
</file>