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9F8-F96A-4407-BC7C-8EFBDD5E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C42-CA32-4943-B4B9-4CE2244D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1DD-4B7F-4801-AF1B-1A251FE1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B8E-0F03-4006-B5B1-4FCF09F5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F35-3A5A-4E3F-8F0F-6BF7ED9F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754-AD61-403F-A4E2-387FE56A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78D-2E26-41B1-AA2F-F4376CB5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645-5864-4BA5-9551-35C2938C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CC6-30CE-4D73-B3DC-800FEDB2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31E-2BA5-4319-9BBA-1D51BF5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E0B-564F-4178-B2A2-D92A7A82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174-45FA-4B11-8C48-3FD780B2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C7BBD-9005-4FE5-BA44-AED78355D4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 ли Божий г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ющий к дел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озрел на ниве к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ешите все к труд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, любовью пламе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от могучий з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ите ли Божий гол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несчастные на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ведают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 нас, и в наши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огуча темн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неверии кос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множество 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олосом пр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Творец не 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 мудрости выс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ложил великих сил;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ичтожный дар им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сё ж нужны для тр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 к высокой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для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йдём, чтоб нам на д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ить Бога Сво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евностно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, иль там, вблизи, в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сякий вдохнов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готов — меня пошл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5:48Z</dcterms:modified>
  <cp:revision>13</cp:revision>
  <dc:subject>Slavic hymnal Гимны веры христиан, hymn 541</dc:subject>
  <dc:title>Слышите ли Божий голос?</dc:title>
</cp:coreProperties>
</file>