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29C-EA95-49AF-8F67-3D5BA7A4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50F-4328-4132-BBCC-2E5AA4A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11D-0FBE-4D95-92BF-8A19ED7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DDF-39B8-44CF-9AFB-878B08BC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1A1-DB36-46D7-BDAB-C83FDB5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B70-7051-4041-8AF0-BB640C4E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A12-7516-4B71-800E-C52EABB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DD6-B036-4FF1-A76D-3660573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23F-E59C-4B7D-B5B9-6821A893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CEB-78E9-43C0-9B92-E2BDD18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5B5-870D-44D6-98FC-A283105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73F-B954-4986-AF92-8FA8FD6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A6267-86F2-4782-A1A6-6F598EF8C8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чудесно вся жизнь изменилась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обрёл дивный свет, что искал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упованьи живом я расту день за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 скорбей и обид светлый путь не затм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а видит всегда вечной славы вр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город чудный войду, отдохну от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ликованьем в душе простираюсь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2Z</dcterms:modified>
  <cp:revision>13</cp:revision>
  <dc:subject>Slavic hymnal Гимны веры христиан, hymn 577</dc:subject>
  <dc:title>Since Jesus Came Into My Heart / Как чудесно вся жизнь изменилась моя</dc:title>
</cp:coreProperties>
</file>