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80CCA-25D5-4AD5-AFDB-446BBD75D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B7200-786F-40F8-BA7F-78A1CCC49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CDB59-DB13-4304-B914-51D8AF6DD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A006C-E4DA-4ED2-8B01-131B452DC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44ADD-1DB1-46EE-A7B0-082F10345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2F967-DCDC-465B-89C6-1197E3A3E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DD835-99D8-485E-90D5-16DE7E97F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E35FD-7318-4B17-86DF-3D0CBBF21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E4A82-20AE-4C66-9892-608DAE055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3DCF6-7C6A-4500-B6FE-EE57B7C8A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42CCF-6663-494E-B984-0285EA9C3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1F470-4DC5-4C71-BE78-AA74FC311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463DFE-8BE5-4477-9164-23DC68A1320D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Господи! видит ме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светлое око Твоё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я уже с этого д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жертвовал сердце моё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знаешь желанье душ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слышал мной данный об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лю, заключить поспеш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 мною Твой новый зав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75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О Господи! видит мен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, сверши надо м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нак смерти для всей сует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нак жизни воскресшей, и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нак данной Тобой чистот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членом был церкви Тво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 самой кончины я дне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с верными свято мог ж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оё Вспоминанье твор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оею могучей рук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и ты меня, о Христо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дай, чтоб я с радостью нё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ой крест по долине земн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делай меня навсег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верным в служеньи раб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я не заснул никог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д данным Тобою труд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37:24Z</dcterms:modified>
  <cp:revision>12</cp:revision>
  <dc:subject>Slavic hymnal Гимны веры христиан, hymn 475</dc:subject>
  <dc:title>О Господи! видит меня</dc:title>
</cp:coreProperties>
</file>