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BFE-8533-4B20-942A-49645891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ECF-8FFC-4619-8ED0-C1E5C93C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3D3-9B62-418C-8A89-585695CF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646-0DF2-450D-8897-1E90D8DE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BB3-3438-42D3-A8B6-793B0348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92D-C876-4FB7-928F-0F6CAEF1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4A1-01E0-433D-8CC7-4CA776D7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E80-B7EB-4B6E-AEF1-22125B33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12D-D8D6-4B37-98B1-27B497DE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B97-C873-4482-91A1-1EEA5051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849-5855-4FCD-9A73-3337FF1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D12-1551-4AD3-BFE0-976FA6F4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899E0-82C9-4DCC-8BBD-E90391DAFB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ейск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вол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02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3а   Житейское море буш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руч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у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сл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втра с ним 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сл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втра с ним ст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ты ве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ю дово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дале хоре пе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 ты бо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дале хоре пе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 ты б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быть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ая моги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я с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 жит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а за вол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ются 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ашей лад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ются 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ашей ладь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2:16Z</dcterms:modified>
  <cp:revision>13</cp:revision>
  <dc:subject>Slavic hymnal Гимны веры христиан, hymn 773 (as amended)</dc:subject>
  <dc:title>Житейское море бушует волнами</dc:title>
</cp:coreProperties>
</file>