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CC7-421F-4504-A4FB-3863C51D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BF4-8222-4737-870B-6BB016DF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B98-CAD7-4776-87E5-32251C5E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1C0-7C02-4C7A-ADF5-BB61AAF3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CB9-C137-49DC-A7D5-1E825B42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DAA-69CC-4409-A680-6C94A30D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927-F5D4-4808-918A-AB656581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77F-9C84-44C6-A8B2-6E598B54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0D3-499C-4ED1-A12B-FDE1824F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2E9-25E2-430C-8519-39DDA1B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330-D87B-48C2-97AD-E241D4C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814-3EE5-45C6-B648-FED68515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EBB29-9F70-445B-8524-122F2656D2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овцями людей, ловцям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и все Моїм слі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, аліл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7   Я зроблю вас ловц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9:10Z</dcterms:modified>
  <cp:revision>12</cp:revision>
  <dc:subject>Slavic hymnal Гимны веры христиан, Ukrainian hymn 47</dc:subject>
  <dc:title>Я зроблю вас ловцями людей</dc:title>
</cp:coreProperties>
</file>