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1B5-32EB-42B9-A007-18EEB199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663-FA93-4CAB-8029-819B7768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196-B8B5-421A-A007-4615B935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E4C-9698-4089-ABFC-5A1814E0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862-5B2F-4C2F-A287-1386F153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E1D-C42E-465C-AC08-94431456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2E0-709C-4CB3-B5F9-BA45F577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6EB-4465-4945-87E7-002FD3EB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801-3522-4C51-9E28-07665A03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81E-0AE5-4CD7-BFEA-AC2B0682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EBA-E73D-4AFE-AED1-0BC97798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E0D-A62A-459E-8677-7A56D624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BF1F0-C0E1-4648-B776-DF75779DF4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грешный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радал Он, И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повествов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еня от мук изъ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любви и состра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хотел Свой выкуп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вечным торже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илён, как побе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д смертью и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слабого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в рай путево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 Ним пре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9:21Z</dcterms:modified>
  <cp:revision>12</cp:revision>
  <dc:subject>Slavic hymnal Гимны веры христиан, hymn 570</dc:subject>
  <dc:title>Буду петь, как Искупитель</dc:title>
</cp:coreProperties>
</file>