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425-6711-49A8-B825-ADD29610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133-7984-4D7F-9812-BFA430A7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C9A-2D49-47C2-87EF-800331CE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A18-FEBE-4535-91F1-F7CCCF8D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826-755A-4B4E-9EF5-185BC77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58B-E013-4F2A-BBAB-27BA049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D62-9DE7-498E-88EC-E19CA2C2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9C5-D322-43B0-BD73-BB982FF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502-B793-43B9-A4BF-11F17B15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E27-6AF0-4C45-8088-56F0F7D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029-DB6B-4D1E-98A8-0C73BA1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B8F-583B-43D3-A261-B456E63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A30AF-EFD7-4120-A6F9-ABFBAC87E0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тая вьюга, как з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-то рыдает, из сил выб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 горемычный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о, в подвале каморка уб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о в ней и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лишь два стула да ко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ёхн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ом окно зам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иумолкнут, то снова в рыд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разом нач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не знают, что мать без с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мочка!» — громк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олодно, мамочка, холодно, мил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очка! кушать хоти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 уж не слышит их песнь уныл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юга доноситс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Боже, о, где ж сострад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людская люб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безнадёжных одно уп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! спаси бедня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47Z</dcterms:modified>
  <cp:revision>12</cp:revision>
  <dc:subject>Slavic hymnal Гимны веры христиан, hymn 779</dc:subject>
  <dc:title>Воет, бушует и не унимается</dc:title>
</cp:coreProperties>
</file>