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3F4-A78F-4901-AF23-A1062F26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7E3-FD61-44F8-87DC-7666A71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58D-FE02-4A2E-823A-8E404DEA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1BF-FA84-4B36-B830-A8402A57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394-9DBC-4EEE-8062-E310EDA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672-75D2-4734-9AC9-F5CA5F3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469-1215-40E7-86D2-6D90D51B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942-9659-431F-B7C6-A938752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478-CC5F-4302-AD67-746DB8B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D7F-8B1E-4960-8AE2-9E2A1C3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DB4-D7CF-40E7-AFE8-3E82FE0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D1E-F40F-4278-9854-DDC0B0D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5A255-220C-469B-9465-C41B7FC47D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at awaited momen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, Lord, among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ervant, saved by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0Z</dcterms:modified>
  <cp:revision>13</cp:revision>
  <dc:subject>Slavic hymnal Гимны веры христиан, hymn 735</dc:subject>
  <dc:title>How Swiftly All Our Days Go By / Как скоро дни летят вперёд</dc:title>
</cp:coreProperties>
</file>