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527-CA47-43B7-8BDB-B1F63F2F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E1C-2DFF-40BD-B03A-018B3443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12F-7015-470D-894E-0A655801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2FB-A814-4680-ACCA-14E5C740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9AD-D033-427E-AA5D-2EBAE328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FF9-C836-4C13-A5AA-44941BD2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EB74-7921-4F18-89F3-92E7DC50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C7E3-5F27-42AE-A291-FDEE25CD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C47-0C17-4F2C-8194-90BABABF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7EB-A6A8-4157-83E7-73932625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7AA-193B-4137-BA62-EFB48FBD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3EF7-56B3-43D2-81AD-42A32476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F31F8-8897-4C82-82BD-750FF7C675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: вблизи пот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розрачных, чист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реди травы выс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шно лилия цвет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илию Бог лю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ится о н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Он тебя погу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 в нужде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мотри вблизи пот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ни крепкие пит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га чистая руч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осою напол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шу ранняя 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илию Бог лю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ится о н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Он тебя погу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 в нужде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лилия прост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т прямо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лекут её уз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ромных пчёлок к лепест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илию Бог лю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ится о н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Он тебя погу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 в нужде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 приятный и паху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ливается из 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огаче и кто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вался из цар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илию Бог лю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ится о н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Он тебя погу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 в нужде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ивёт Творца твор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еске дивной крас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заботы и муч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го ж печален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илию Бог лю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ится о н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Он тебя погу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 в нужде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3:22Z</dcterms:modified>
  <cp:revision>12</cp:revision>
  <dc:subject>Slavic hymnal Гимны веры христиан, hymn 712</dc:subject>
  <dc:title>Посмотри вблизи потока</dc:title>
</cp:coreProperties>
</file>