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A04-C891-4E08-AF8D-811BA547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043-C478-4530-BF54-1865075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9EB-BA84-41E2-B558-E6E04E12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7FB-70EA-450C-B6EF-D25A57F1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D77-B4D1-4063-B571-67467727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BDD-6174-47DB-94FC-32EBC3A1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A51-3BBD-43E7-91E3-50D9FB0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04D-D85F-4404-8AD8-ADFC9055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4C1-099C-47A9-BCD2-A6CCC3B5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A35-780E-4B6C-B945-9D12619B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B68-261B-4B1A-A067-C6C8DAC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EE5-C268-4C50-BADF-4840A8B1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7D945-654E-43E7-A719-6CFE789D3D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жизни только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в горн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 Богом примири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илы мне богатств да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хочу их мишу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чного нам 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ленья облик в нём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радость не пройд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бедным плотью ст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знает лучше!» — я б сказ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винограднике —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маслины без пл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ичует мор ста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среди вражды, ог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ждает грех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готовит грозный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е враги идут вой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ём силён — порву их стр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расстанусь я с землё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найду пок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не скорби дух стес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ы силы замолч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сквозь смерти я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7:35Z</dcterms:modified>
  <cp:revision>12</cp:revision>
  <dc:subject>Slavic hymnal Гимны веры христиан, hymn 578</dc:subject>
  <dc:title>Кто есть на небе у меня?</dc:title>
</cp:coreProperties>
</file>