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58A-2A2B-487F-820E-C7893015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2E2-6AEE-4396-B087-8D4816E3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4A0-4C86-4BFC-B00D-641B8D94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F06-1434-4508-AE53-290BFFA4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87A-90C3-4DF2-B2B7-26B3E5AA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214-1390-42E0-9A7F-3E3A9C9C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C2F-42CD-47F8-BA69-A49832E3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FBC-824E-41CA-AC75-7565B5FA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30C-894E-4D22-9E37-DEEC6B4D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1C6-C4C5-421B-8AFA-DE8DD309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EDD-9559-46CE-A9D5-BDF13404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47D-80D8-4940-98D2-180836F3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F7F91-9903-4B1B-83B8-4326920503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ит малых воробьё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ибели хра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пташек любит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любит Он! Да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маленьки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любит малых воробь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ит лилию в пол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ихого руч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любит Он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любит Он! Да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маленьки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творил цветы и пти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ветом ос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 забудет и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любит Он! Да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маленьки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1:39Z</dcterms:modified>
  <cp:revision>12</cp:revision>
  <dc:subject>Slavic hymnal Гимны веры христиан, hymn 750</dc:subject>
  <dc:title>Бог любит малых воробьёв</dc:title>
</cp:coreProperties>
</file>