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F585-9CB1-484D-9874-7FBE44B2E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87AA-64A3-4BD0-8B3E-DA54642B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F403-B5F9-458A-B7F2-1077A3853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8423-AC09-41AE-B47F-87876AC00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9A05-3FD6-4478-B944-8DCFA4B9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5E5E-7FC6-4296-BBD3-0EBF5EF4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2EE9-4A02-4BB2-9D84-1078C92B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5E59-C1EC-4D7F-B795-C9FF47D3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9131-A199-4B5D-B2A9-42E8A659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1BB8-26DB-4AED-B86F-CEABD1DC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1C9C-EA25-40E8-AC79-E3E80E94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D157-9A5D-4A37-8329-6711D7A6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31780-F418-4790-B59E-7E2EC9D7DC8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же всего есть Христос для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ите, богатства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тство моё есть сокрыто в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вез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вез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вез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нищ и оставлен, — я в силе сказ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м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ороже всего есть Христ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— грешник великий и был осужд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ет не сиял мне в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пришёл, — меня сп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 наследье мне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вез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вез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нищ и оставлен, — я в силе сказ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м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жертва одна была в силе сп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Богом меня примир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был Искупитель, отдавший С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ю Он кровью ом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вез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вез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нищ и оставлен, — я в силе сказ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м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вал и наставил, и путь указ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Свой мне в сердце влож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ься Он учит и в свете ход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вет Его в сердце нос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вез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вез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нищ и оставлен, — я в силе сказ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м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мать и отец мой оставя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ё потеряю я здесь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кнул я к Иисусу,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ём я сокрыт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вез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вез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нищ и оставлен, — я в силе сказ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м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1:18Z</dcterms:modified>
  <cp:revision>12</cp:revision>
  <dc:subject>Slavic hymnal Гимны веры христиан, hymn 417</dc:subject>
  <dc:title>Дороже всего есть Христос для меня</dc:title>
</cp:coreProperties>
</file>