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A09F-FA16-4413-939D-45274005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62DC-81AE-4796-B373-E788B6DF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ED6-CC37-4192-964E-ADE2CC16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3C6-66C9-4CCE-BB5F-8C54A22C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0D08-C2D5-4817-B984-2E7006E6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6F40-787D-4040-9ADD-788FE572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09FA-D3FF-4F3F-BE2E-97A055A3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9255-DDFC-43E2-9F08-ED4A7899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460E-F9C7-4E3A-882B-F1B86C4C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4D03-382D-4EBA-936B-011E7060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82AE-01F6-407F-8FCF-0211FF27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E105-62B1-4FF3-8483-8B7915EC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F40E0-3380-4D15-9C3D-C1ADE3563B7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орит ли свет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душою смерт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вая светочем ночную т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ет она за ним стезёю свет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вершенный Божий д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, горит ли свет тв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рат, горит ли свет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л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ваешь ты власть ть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рака пр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ты грядущий сла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Госп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я весь день и н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орит душа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нём небес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вая грешникам во тьме усн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ешь ли ты 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край чуд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азав им верный п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рат, горит ли свет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л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ваешь ты власть ть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рака пр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ты грядущий сла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Госп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я весь день и н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горит алтарь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аме непрестан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пусть тво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к Богу льн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горит свети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ы постоян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солнце не вз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рат, горит ли свет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л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ваешь ты власть ть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рака пр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ты грядущий сла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Госп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я весь день и н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0:55Z</dcterms:modified>
  <cp:revision>13</cp:revision>
  <dc:subject>Slavic hymnal Гимны веры христиан, hymn 558</dc:subject>
  <dc:title>Брат, горит ли свет твой?</dc:title>
</cp:coreProperties>
</file>