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52E-F55E-4FEF-B308-3DCD8588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9C6-BEDF-41C8-B493-63B0E6DE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77F-2BCB-475B-812F-DB04B829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93E-CB02-4EA7-A4AC-210D34F5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903-A417-4C2E-B8A9-20D2132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9A8-EABF-4E15-A5B4-62D2628E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5AB-51E6-4CCC-AD36-4E831A9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6A3-E731-4A47-99B2-E54E36A6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2BA-3A1D-4CC7-BCFF-E70ADA43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750-3A3B-416F-B2CB-72D5094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9CD-1B5D-47DC-B300-7719DD2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555-CB3C-4B2C-A5C4-D1E6CE1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56A6E-5E4F-40CD-8443-EB77D11C3F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, небо и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орже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юдям, ангелы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весть благ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 и земл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Вифлееме, там в Вифле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рич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ая Дева, чистая Д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дила С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, Вечн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иняло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овной, во тьме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засвет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хвы с востока, волхвы с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и смирну, ладан и смир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ато прин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и Богу, Христу и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оклон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озгласим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21Z</dcterms:modified>
  <cp:revision>13</cp:revision>
  <dc:subject>Slavic hymnal Гимны веры христиан, hymn 238</dc:subject>
  <dc:title>Небо и земля ныне торжествуют</dc:title>
</cp:coreProperties>
</file>