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6</a:t>
            </a:r>
            <a:r>
              <a:rPr b="1" lang="ru-RU" sz="3600" spc="-1" strike="noStrike">
                <a:solidFill>
                  <a:srgbClr val="ffffff"/>
                </a:solidFill>
                <a:latin typeface="Verdana"/>
              </a:rPr>
              <a:t>	</a:t>
            </a:r>
            <a:r>
              <a:rPr b="1" lang="ru-RU" sz="3600" spc="-1" strike="noStrike">
                <a:solidFill>
                  <a:srgbClr val="ffffff"/>
                </a:solidFill>
                <a:latin typeface="Verdana"/>
              </a:rPr>
              <a:t>  Пой аллилуйя Господу</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ой аллилуйя Госпо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 аллилуйя Госпо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 аллилуйя Господу.</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Из мёртвых наш Христос воскр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мёртвых наш Христос воскр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крес Христос наш,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крес Христос наш,</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мёртвых наш Христос воскре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азад придёт, чтоб взят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зад придёт, чтоб взят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зад придё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зад придё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зад придёт, чтоб взять меня.</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3:12Z</dcterms:modified>
  <cp:revision>4</cp:revision>
  <dc:subject>Slavic hymnal Гимны веры христиан, chorus 6</dc:subject>
  <dc:title>Пой аллилуйя Господу</dc:title>
</cp:coreProperties>
</file>