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221-96BE-4794-A2C3-A6F6E41C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8B0-A2BD-4B52-AF9B-4327A78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FA8-A176-4E44-B720-7AE1C974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A84-D11B-400F-B95E-E18BF72C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017-A3FF-432F-B0AB-79F522ED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3C7-C8E1-4ADA-A183-B864EEE7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DED-5858-4E88-8109-3F8E2FC2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A5A-0E19-4731-A77C-DE39D4AF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FB0-4AFA-438C-88FA-3023BC3F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317-CB29-4DD0-A6D4-CD3ECDC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E43-1647-419D-81E5-666A4721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549-EE0A-4C1C-9C83-04D5A0D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630B8-8792-45BF-B177-F07C1D4521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святое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и мне, страннику, в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мне в сердце живо, мило, н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ос пришёл меня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йте мне Библ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когда я б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и то слово утеш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трахом сильно пере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ней найти спас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источник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мог видеть я стезю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 в согласии её со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аконец, обресть жизнь веч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светильник прав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вести мог верно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же Иордан, реку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я в страну Ханаанс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29Z</dcterms:modified>
  <cp:revision>12</cp:revision>
  <dc:subject>Slavic hymnal Гимны веры христиан, hymn 791</dc:subject>
  <dc:title>Дайте мне Библию, святое слово</dc:title>
</cp:coreProperties>
</file>