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6A9-DC30-4030-A8D0-E4063BDB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7A9-5845-48C4-ACE6-222F3463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3F4-67BD-4B27-B073-B46E1BF9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AF6-8178-4793-AF0E-95A52073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4DB-22C8-49BF-A15C-98E13ABD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327-9872-4953-99F2-249AA863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ED86-C767-4401-8E05-1B62BE2D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EE5-69D7-4FC4-95EE-8510F53A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B208-E514-407A-B02F-B46CF124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773-1792-4966-B894-E6DC95F9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BA4-9ABC-4148-B746-518F0F10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E9F-882C-4BA7-AB66-FD88D6A5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F762D-73FA-42BE-8C69-B009ED017B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вы налил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ю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шлёт жнецов к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ли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еперь их м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е жатвы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е ли, брат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ивы налил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истое з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жать серп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гибнущих иск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их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ому ты бр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у протя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 к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здному вдох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рабо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вы не уй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шь: «Раб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ь ты войд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истое з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жать серп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гибнущих иск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их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солнце св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сай народ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ы день не до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он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без снопов жи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Христу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тарайся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ольше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истое з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жать серп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гибнущих иск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их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03Z</dcterms:modified>
  <cp:revision>12</cp:revision>
  <dc:subject>Slavic hymnal Гимны веры христиан, hymn 533</dc:subject>
  <dc:title>Нивы налилися, ожидают нас</dc:title>
</cp:coreProperties>
</file>