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440-5469-472F-BAFC-652499EB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8CC7-18D8-4B31-BEF5-FB4648CE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8F6-74CE-4A1B-B6D3-C958FDFC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CC4A-E045-40B1-8FF6-1F9616B2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2B94-6A57-4217-88D1-4F6BD20E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BDAE-2CF1-4C1E-A8AB-2B2F61EA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F488-76EF-41AA-A033-F9C1C5FC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789F-7620-4B42-9DCA-14349347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972C-5F1D-416A-85E3-D53097A5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D218-593D-4D91-B24F-49E9C707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624E-89FD-458C-BB2A-7EB2178D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3361-0E20-4B24-895F-67B7AF2F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A84B3-8F05-4680-BA36-0862E31A76F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unfa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taking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ake 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nding peac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ear i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27   Love Unfai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ould give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ell Your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I know that You’ve call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that You’ve call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lost myself for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in Your pro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on’t hid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hid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believe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ould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ends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ends of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lone are the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e world wi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unfa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taking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ake 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nding peac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ear i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ould give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ell Your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I know that You’ve call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that You’ve call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lost myself for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in Your pro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on’t hid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hid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believe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ould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ends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ends of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lone are the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e world wi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Go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8:16Z</dcterms:modified>
  <cp:revision>12</cp:revision>
  <dc:subject>The Source 3, song number 1427</dc:subject>
  <dc:title>Love Unfailing (To the Ends of the Earth)</dc:title>
</cp:coreProperties>
</file>