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288-363B-43DE-A4D7-5094919B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9E7-59F8-48BE-AB31-983F83B1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2EA-D13D-4A7C-8144-0F38E99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9A6-2AAA-4E12-993E-BA795A28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8A6-E646-4AB5-BE13-83A0EC5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38B-98D1-4F2A-BADF-F592A53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966-EB64-4AC2-9707-092E3EA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354-EF28-4EBE-A693-699C5942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F8C-D940-42AA-A18E-8DE59F9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4F3-5FB5-421C-86BE-53FF806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879-A8E7-4379-8505-A2B2E12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3BF-08F6-457C-AE62-2B4DB8C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0EDB-1F35-4D05-8D0F-FF6B7CD48C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Христом освоб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близкие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 ты обно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ди к с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грехи твои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шего взыскал 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ны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чужим и воз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о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за них пришё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жизнь дат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 дальним о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овь Христо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елый мир, чтоб всех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п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38Z</dcterms:modified>
  <cp:revision>12</cp:revision>
  <dc:subject>Slavic hymnal Гимны веры христиан, hymn 564</dc:subject>
  <dc:title>Пойди к своим</dc:title>
</cp:coreProperties>
</file>