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5C3-0131-4CE7-9731-C43704C3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DFC-B478-4A15-BC89-321D7509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DB6-0805-4543-B521-60202226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31D-FD90-4647-90BA-42CE0BC4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290-D680-4078-AF81-F20CE719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AFA-9C46-4628-A0E2-E30F9D75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569-EFA3-49E4-A5EE-52EFBEE7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45B-5141-41E9-A786-0A3D038C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6E9-9637-4F9A-AA1D-E0E9F39E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D19-DE4C-41DA-99BC-C061E485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829-3E67-42EF-A630-9B1AE0D3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E5B-BEA4-439B-A3C0-484B33F0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DFF90-4BA9-4629-B01F-5B46D4F371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metimes the shadows are d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ough seems the path to the go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rrows, sometimes how the sw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empests down over the so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вает, сгущается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сгущается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ым становится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корби души и у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амень, ложатся на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metimes how long seems the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metimes how weary my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iling in life’s dust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ock’s blessed shadow,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так тянется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и кости бол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дует душу и взгл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лы благодатная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near to the Rock let me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blessings or sorrows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climbing the mountain way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alking the shadowy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к небесной Ск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адость и скорби м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хожу ль на высоты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ду ль одиноко во мг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3:29Z</dcterms:modified>
  <cp:revision>12</cp:revision>
  <dc:subject>Slavic hymnal Гимны веры христиан, hymn 844</dc:subject>
  <dc:title>The Rock That Is Higher Than I / Бывает, сгущается тьма</dc:title>
</cp:coreProperties>
</file>