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236-BDD4-4ECE-9E6B-564A876B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918-7116-4171-B657-8D95D87A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E57-6B92-4889-9191-8E621240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BC2-25D8-46C6-80F9-D86A5BBE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762-B060-407A-BF47-DB9E9802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3E1-5BEA-48FD-99C4-8A3189C3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304-6EBA-4A56-B54B-26CD3C6B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D5E-99A1-4B31-A9E0-7E4B439E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552-48CA-4FB9-9954-94369E06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AC9-0B80-4694-A7EC-D5116DCC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D3D-B360-4E25-A2D4-ACB8656D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F59-EC6A-4156-AFF6-ED958C4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D2134-CE35-43A8-8DAE-8D34023E5F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 и чудны дела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 Боже Вседерж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едны и истинны пути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вят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убоится, не прослав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покло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, 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 и чудны дела Тв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8:38Z</dcterms:modified>
  <cp:revision>14</cp:revision>
  <dc:subject>Slavic hymnal Гимны веры христиан, hymn 902</dc:subject>
  <dc:title>Велики и чудны дела Твои</dc:title>
</cp:coreProperties>
</file>