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83</a:t>
            </a:r>
            <a:r>
              <a:rPr b="1" lang="ru-RU" sz="3600" spc="-1" strike="noStrike">
                <a:solidFill>
                  <a:srgbClr val="ffffff"/>
                </a:solidFill>
                <a:latin typeface="Verdana"/>
              </a:rPr>
              <a:t>	</a:t>
            </a:r>
            <a:r>
              <a:rPr b="1" lang="ru-RU" sz="3600" spc="-1" strike="noStrike">
                <a:solidFill>
                  <a:srgbClr val="ffffff"/>
                </a:solidFill>
                <a:latin typeface="Verdana"/>
              </a:rPr>
              <a:t>О, я грешник бедны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я грешник бед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авда, я так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ли б Бог бессмерт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был полн дар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был полн люб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е спас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погиб давно б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ире этом 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уду с верой в сердц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к Нему смотре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ли «мир!» не скаж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им не владе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ли ж я услыш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о от Н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у славить сердц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у петь Его.</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 сладком размышл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Ты — Пастыр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чезают сраз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х и страх людс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но жел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 Тебе пребы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Тебя труди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 Тобою жит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Да, мой Бог, Ты див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ь даров свят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о правды веч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уши жен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я буду бед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ом пред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 Тебе нужда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ышать Тобой!</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02:08:15Z</dcterms:modified>
  <cp:revision>3</cp:revision>
  <dc:subject>Slavic hymnal Гимны веры христиан, hymn 183</dc:subject>
  <dc:title>О, я грешник бедный</dc:title>
</cp:coreProperties>
</file>