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37C-B796-442A-9958-1F4F1932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22B-7F13-4F8B-91F2-2266919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B59-0D1A-4DF1-8D20-DD558053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6A2-F4E3-41FA-8498-ABDB34C2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49A-F4D7-4CB6-B8AB-15E88A9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346-38F4-48F5-BBB2-62C47B3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A12-055C-41B5-B87D-91DD2193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E05-F686-44DB-8B28-DE63103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4C8-7C82-450B-8C45-688B872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A26-4445-45F4-8D72-3D7442C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FC1-01C0-4529-B390-A4DA4C4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C2E-BBE4-4A8B-9D6F-5A2B862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0B8EA-5CD5-45B5-917B-1125F35AE0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й нам путь откры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 царствие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с небес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х туда в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Он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Он вос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тости для всех тру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, потом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нам путь откры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ок дней по воскрес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являлся вс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Себя на осмот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Фому уверил 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л им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Дух Святой пош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олгофское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о свой славный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брал потом на г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апостолов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ыл простому вз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в вид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два мужа им пред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азали: «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— вы видал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пять придёт на су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45Z</dcterms:modified>
  <cp:revision>12</cp:revision>
  <dc:subject>Slavic hymnal Гимны веры христиан, hymn 310</dc:subject>
  <dc:title>О, какой нам путь открылся</dc:title>
</cp:coreProperties>
</file>