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420-52E8-4357-A677-07475B63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9D9-4BA3-4190-885A-960AA390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AB7-09F3-4A9E-A20F-21FFE150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7C0-CAF8-427C-B0AC-1B65F695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6CD-EBA9-4ED4-9067-168FD197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752-3C7D-4FEE-B76C-ACC5CFAD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3A1-0CDF-4C8F-8CD6-AED50EB0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B69-046E-405C-ABA4-6B3BD093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3F1-9339-4972-82CD-E7B2CFC1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5CE-B035-432F-96E2-3044F20C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D3E-B5F7-4409-B703-13E0B63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A82-B8B6-4493-9F70-DAA75FF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C877-2D7E-4629-B727-3D2BA490C8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reated us in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n honou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tand and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who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compare with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49   Who Is There Like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reated us for Your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appointe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Your ver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who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compare with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46Z</dcterms:modified>
  <cp:revision>12</cp:revision>
  <dc:subject>The Source 4, song number 2149</dc:subject>
  <dc:title>Who Is There Like You?</dc:title>
</cp:coreProperties>
</file>