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D592-3BEF-4CCA-9C23-192FFB1D6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8883-AFCF-45F0-9495-295A679C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A87C-1855-4A9A-81D5-1531A0DB8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89E2-0295-43F9-963E-B8A1B9009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86E5-25F6-4515-B5ED-464132C7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5306-DC0E-472D-85FA-F61C9E65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83DE-30C7-4205-B15C-B39F1671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B0FA-2398-4F80-BE58-DFDA0D99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5D96-D4C5-4A7D-A80A-A70F34B7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1C9F-AE7C-4F26-BE26-9F91E6E0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4C5C-7A48-456D-B3AC-3BA0526F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D179-8FE0-42BC-909C-6BAE5242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51B52-A855-4C95-941B-40AFDABD671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’Tis the grandest theme through the ages ru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is the grandest theme for a mortal tongu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is the grandest theme that the world e’er su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ur God is able to deliver the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6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Эта весть звуч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а весть звучит длинный ряд ве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а весть стоит выше всяких сл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весть нам петь ангел бы го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велик — и Он спасё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is able to deliver the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is able to deliver th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gh by sin oppressed, go to Him for res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ur God is able to deliver the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елик — и сохран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елик — и укреп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 беда кругом, вспомни лишь о т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велик — и Он спасё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’Tis the grandest theme in the earth or mai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is the grandest theme for a mortal strai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is the grandest theme, tell the world aga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ur God is able to deliver the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а весть важней всех других ве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а весть нужна для живы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весть неси для твоих друз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велик — и Он спасё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is able to deliver the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is able to deliver th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gh by sin oppressed, go to Him for res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ur God is able to deliver the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елик — и сохран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елик — и укреп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 беда кругом, вспомни лишь о т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велик — и Он спасё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’Tis the grandest theme, let the tidings ro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the guilty heart, to the sinful sou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ook to God in faith, He will make thee whol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ur God is able to deliver the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жизни весть передать спе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опавших в грех, для больной душ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дряй сердца, наставляй в тиш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велик — и Он спасё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is able to deliver the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is able to deliver th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gh by sin oppressed, go to Him for res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ur God is able to deliver the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елик — и сохран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елик — и укреп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 беда кругом, вспомни лишь о т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велик — и Он спасё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54Z</dcterms:modified>
  <cp:revision>14</cp:revision>
  <dc:subject>Slavic hymnal Гимны веры христиан, hymn 565</dc:subject>
  <dc:title>He Is Able to Deliver Thee / Эта весть звучит</dc:title>
</cp:coreProperties>
</file>