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960-D318-407C-AEB7-BD5D120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ECC-65B1-491F-B1D0-52A7EC45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47A-B0D1-461B-A514-93255E22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23D-9AE3-4DAA-9E97-E5F9B85C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264-7511-465C-BA88-4BD49D6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3A3-1D38-4BDB-84C7-4E99BE9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159-0FCD-478A-8E9C-976AB18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D74-2575-4B6B-B874-EC1ED810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030-44F8-411A-8C3A-2411B18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855-01F2-4203-BDE5-B778597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182-2499-48AD-92A8-B6A28534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0A7-BD4A-4019-8271-AA54DBC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5123D-8B3F-47C8-AD1F-733166F0EC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05Z</dcterms:modified>
  <cp:revision>12</cp:revision>
  <dc:subject>Slavic hymnal Гимны веры христиан, hymn 431</dc:subject>
  <dc:title>Кровь Свою Сын Божий пролил</dc:title>
</cp:coreProperties>
</file>