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0E0-2C98-4FFB-9499-FCE79AD8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174-073A-4D3B-8C66-360DAB0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F02-5CCF-4FE7-9335-5A4CF3DD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04D-A84A-4A1E-B3C1-BEAFA89E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F10-1D9D-45EA-A9E2-4EE4515C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0C6-6AF8-441C-B71D-5B9766F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DF5-8679-4B7E-A947-89810661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F04-E9B8-40A9-9AAD-9380261C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FE9-4A07-47E1-91CF-788B0F95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B61-7DD6-4368-9B92-FD763320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A28-5097-40BC-8384-F2D580CA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397-3778-485D-91B0-BDBB51DF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4620E-DBC7-4A7B-8542-34F4CAC587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one needs com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that’s never-fai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rcy fall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one needs forgiv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dness of a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85   Everyone Needs Compa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as You f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fears and fail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y lif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believ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35Z</dcterms:modified>
  <cp:revision>12</cp:revision>
  <dc:subject>The Source 4, song number 1785</dc:subject>
  <dc:title>Everyone Needs Compassion (Mighty to Save)</dc:title>
</cp:coreProperties>
</file>