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BD1-DBA6-473D-8988-DE28A7F0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FB6-CDAC-42DE-BC1F-47A5BBA6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0A4-FA91-47D1-8C10-93C1EA2C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EBD-75DA-4BE4-9A8F-EBB62D17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7A7-A672-443E-9A52-1ADEAA1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EA4-A0B9-4C1F-B96C-A66ABB98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161-5EB9-4C1D-B4C1-CCE747A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B75-5BDB-4838-AB04-397B9B34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8C5-EF82-4FF3-80FF-3B1A469F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BF5-486D-45A6-BAEE-713D0BF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BDF-DFDE-4D30-BAE9-28EE1070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FF7-AB75-4DCF-939D-47655EE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070E5-7F39-4090-A305-944545E87E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 O Lord, is like the ocea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er than endless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ithfulness is like the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ord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85   Your Lov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adore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Him foreve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adore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Him foreve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1:38Z</dcterms:modified>
  <cp:revision>12</cp:revision>
  <dc:subject>The Source 3, song number 1685</dc:subject>
  <dc:title>Your Love, O Lord (Highest)</dc:title>
</cp:coreProperties>
</file>