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4</a:t>
            </a:r>
            <a:r>
              <a:rPr b="1" lang="ru-RU" sz="3600" spc="-1" strike="noStrike">
                <a:solidFill>
                  <a:srgbClr val="ffffff"/>
                </a:solidFill>
                <a:latin typeface="Verdana"/>
              </a:rPr>
              <a:t>	</a:t>
            </a:r>
            <a:r>
              <a:rPr b="1" lang="ru-RU" sz="3600" spc="-1" strike="noStrike">
                <a:solidFill>
                  <a:srgbClr val="ffffff"/>
                </a:solidFill>
                <a:latin typeface="Verdana"/>
              </a:rPr>
              <a:t>Ах, куда сокроюсь 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Ах! куда сокроюсь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ом и где искать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найдёт душ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недуга исце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ет мне помощи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конец греху, паден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Тебе, Господь,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бедному творенью.</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грехом обремен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внемли моленья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ль я когда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т ли конец паденья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Предвечный Божий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Тебе в мольбе взы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паситель, Ты Од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Это твёрдо в сердце знаю.</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Беден я, греховен, з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бесчувствен, сердце — кам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осподь, Ты в мир со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озжечь любви в нас плам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Сам смягчи мне волю,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в сердце упов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цели греха нед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очи — слёзы покаянь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Муки, раны, смерть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отраду, избав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даруют: в них и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грехов найду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Кровью Агнца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жет смыть все прегр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число детей при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ть мне в скорби утешенье.</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6:42Z</dcterms:modified>
  <cp:revision>3</cp:revision>
  <dc:subject>Slavic hymnal Гимны веры христиан, hymn 134</dc:subject>
  <dc:title>Ах, куда сокроюсь я</dc:title>
</cp:coreProperties>
</file>