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3C21-256F-460B-8CA4-786C1B5B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4B71-A438-477B-9558-7359992B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0737-D276-4EFA-A39C-AE480123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216B-F123-415F-91A9-B81CB1D9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DFF2-2656-4F85-8249-A819856F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A6A4-E12F-46C3-99BD-B95EE873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EE51-3D43-434B-AEFD-65B97905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120-4D0E-4AB2-9172-5134621B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297E-C5A2-46D6-BD49-68676202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0884-6051-4BA9-AACF-120F7B29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0E16-0C05-4124-BC4A-12D51722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9089-CF49-4683-90FB-83F969A9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39F83-130B-41EB-BE70-9C31693A35F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not dismayed, whate’er bet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neath His wings of love ab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падай духом, не страш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адай духом, не страши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всегда в Его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every day, o’er all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take care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путях, во всех скорб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 (теб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days of toil, when heart doth f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dangers fierce your path ass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трудов, среди з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пасность всюду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every day, o’er all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take care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путях, во всех скорб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 (теб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you may need He will prov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you ask will be den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нужды Он предусмот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учший дал тебе уд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every day, o’er all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take care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путях, во всех скорб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 (теб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matter what may be the t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, weary one, upon His bre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идно ль света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припасть к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every day, o’er all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take care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путях, во всех скорб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 (теб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2:46Z</dcterms:modified>
  <cp:revision>13</cp:revision>
  <dc:subject>Slavic hymnal Гимны веры христиан, hymn 706</dc:subject>
  <dc:title>God Will Take Care of You / Не падай духом, не страшись</dc:title>
</cp:coreProperties>
</file>