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4F0-81B8-4EF8-AA34-87345FD5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523-58C8-4581-9346-353CA17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EDE-D3D3-4953-B3B5-53C34FE2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EAF-458F-4691-A7D0-BC35A056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BEC-7535-4E55-9170-19DDBAD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534-6922-4B0A-815E-74D040A1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F3C-4557-41B9-839B-244FF41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4FB-9CA0-43D4-A988-43E9318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8F2-4F89-4406-B569-0EE68501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73D-A6FD-4760-A69F-075DE05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F57-98D4-4033-950B-92731EE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200-BB08-4B65-AEDA-726849E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06729-2CF5-4489-B81C-CBB23C1D82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уверен ты в про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верь Христа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теб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смертью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59Z</dcterms:modified>
  <cp:revision>12</cp:revision>
  <dc:subject>Slavic hymnal Гимны веры христиан, hymn 366</dc:subject>
  <dc:title>Не веди, друг, жизнь беспечно</dc:title>
</cp:coreProperties>
</file>