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B2E-10BC-4AF2-84BF-4C566397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887-9AE1-433E-AAF1-EA328F8D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3BD-BE04-4C0C-88E4-72E2112E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89C-82D6-40CC-8BD1-FEC31EA0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D09-86D0-404A-BEBB-D4B3A56E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359-42A7-4DEE-8E19-AB959A08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ED8-C6E7-4787-802D-A3E85F77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274-D529-4215-A997-39355EE1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812-1AA0-4796-810A-95AFF19E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02A-FCEA-42A9-ACE9-D72471EB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42E-FF13-4C15-A3EB-71CA054B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82B-ECB1-450B-B2F6-78BCF505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50A2E-CBBE-4432-B709-89054B4A56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am a stranger here, within a foreign l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home is far away, upon a golden st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mbassador to be of realms beyond the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here on business for m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транник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транник на земле, вокруг всё чуждо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я обитель там — в небесной стор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ую весть нести повсюду послан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message that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message angels fain would 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us saith my Lord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 to Go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King’s command: that all m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nt and turn away from sin’s seductive sn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all who will obey, with Him shall reign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y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at’s my business for m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ныне каяться всем людям повел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отвратиться сердцем от греховных 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у внемли и жизнь прими, молю теб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message that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message angels fain would 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us saith my Lord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 to Go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home is brighter far than Sharon’s rosy pl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ternal life and joy throughout its vast dom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overeign bids me tell how mortals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dwe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at’s my business for m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яет чудный свет в моей стране род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радость вечная у верных над гла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молкая, звать туда всех должен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message that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message angels fain would 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us saith my Lord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 to Go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0Z</dcterms:modified>
  <cp:revision>13</cp:revision>
  <dc:subject>Slavic hymnal Гимны веры христиан, hymn 660</dc:subject>
  <dc:title>The King’s Business / Я странник на земле</dc:title>
</cp:coreProperties>
</file>