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0EF5-DEE1-45B5-BF51-8BFB3394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AD92-DF97-4544-B483-EA5BB9C2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74EB-62AE-4856-8E4E-DBBD8823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A531-A60C-4D49-AE49-5A977801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225B-00F0-44A9-A141-0F5ABB8B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6B9-4D0D-4F10-8A43-194A4E2C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230-92B1-4BB2-AA11-F6C54905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D793-0D7B-4E4D-9F8F-773022BD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740C-BF4C-417D-A05A-B75D628D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9CE-8A97-4414-809B-6F4A8F03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F163-2968-4EF8-B4F8-12BF41C5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206-189E-4F6F-A148-A2DFB3F2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E3135-17C1-45AC-966F-1895C4D37D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 and honour, glor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unto the Ancient of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every nation, all of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ow before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4   Blessing and Hon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 and honour, glor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unto the Ancient of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every nation, all of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ow before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kingdom shall 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all the ear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none shall c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r matchless wor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18:23Z</dcterms:modified>
  <cp:revision>12</cp:revision>
  <dc:subject>The Source, song number 54</dc:subject>
  <dc:title>Blessing and Honour (Ancient of Days)</dc:title>
</cp:coreProperties>
</file>