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54</a:t>
            </a:r>
            <a:r>
              <a:rPr b="1" lang="ru-RU" sz="3600" spc="-1" strike="noStrike">
                <a:solidFill>
                  <a:srgbClr val="ffffff"/>
                </a:solidFill>
                <a:latin typeface="Verdana"/>
              </a:rPr>
              <a:t>	</a:t>
            </a:r>
            <a:r>
              <a:rPr b="1" lang="ru-RU" sz="3600" spc="-1" strike="noStrike">
                <a:solidFill>
                  <a:srgbClr val="ffffff"/>
                </a:solidFill>
                <a:latin typeface="Verdana"/>
              </a:rPr>
              <a:t>Мы войдём во дворы</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Мы войдём во двор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благодарностью в сердц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о врата с ликованьем на уст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оспоём: сотворил Господь сей ден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 сердцем будем радостны все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озрадовал меня, возрадовал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Я буду петь: Бог радует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озрадовал меня, возрадовал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Я буду петь: Бог радует меня.</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4:00:53Z</dcterms:modified>
  <cp:revision>3</cp:revision>
  <dc:subject>Slavic hymnal Гимны веры христиан, chorus 54</dc:subject>
  <dc:title>Мы войдём во дворы</dc:title>
</cp:coreProperties>
</file>