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3AB5-25C4-4F19-94CA-8B6007BF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AFC-AA00-41B1-A300-A00DF9B8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3EB-EB3D-43D5-B79E-20C1694E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AE1-67A8-48E8-91BD-AED60CBE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199-DA12-4846-9A50-F6491CDD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69DC-605B-49ED-B71F-CE516C8F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BEF-59D4-4F0B-B64A-08FC2230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38A-3318-4312-B49B-E0F8E399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7EC-F0C6-47EB-B247-9CBF47B6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D34B-389F-4055-B1E8-5007689A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F87B-168C-45DC-9317-F5E7A7FA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ECF-F9E4-4D25-B311-DA88C2CD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729D5-3154-46DC-BCED-F85A29DD7ED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a thousand tongues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eat Redeemer’s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lories of my God and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iumphs of His gr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если б сотни уст им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сотни уст им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престанно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мудрость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acious Master and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sist me to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pread through all the earth abr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nours of Th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и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лишь об од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удрости учить и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мени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The name that charms our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bids our sorrows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usic in the sinner’s 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life, and health,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жизнь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всяки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музыки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reaks the pow’r of cancelled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ts the prisoner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 can make the foulest cle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 avail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усталым тиш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от о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ет всякую в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ятая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Him, ye deaf, His praise, ye du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loosened tongues empl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blind, behold your Saviour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p, ye lame, for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хой, внимай! Немой, хва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тесь все у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пой, прозри и сла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у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3:29Z</dcterms:modified>
  <cp:revision>12</cp:revision>
  <dc:subject>Slavic hymnal Гимны веры христиан, hymn 872</dc:subject>
  <dc:title>O for a Thousand Tongues to Sing / О, если б сотни уст иметь</dc:title>
</cp:coreProperties>
</file>