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575-113F-4827-9438-0B57645B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DF2-DD4B-41D2-87CA-C1C4DFE5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EAF-0A65-4A7B-9E22-5661989E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BA7-E722-4023-B159-3980A6F8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CFF-43A9-4A33-8708-28E615F9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69D-E147-4462-AC3E-C9C1DC53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E44-C106-4896-9DD3-FB2C8E27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13D-265B-4E2B-A8FA-B54F4CDE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804-19F5-4ACD-AC2F-67DF1FE9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EC3-A982-45BE-9B30-50DB15BC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0FC-DE1A-49C4-AB46-D206ED6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509-BE89-4CD0-A992-3EEE2855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F00D2-3440-494E-A2FB-99A6C251CC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hrone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ind rest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ullness of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 and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67   Lord, I Come Befo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heard my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torm You’re the beac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ng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elter of Your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my heart’s re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ll sov’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nting peace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comfort those who s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comfort You have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ell of Your grea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long as I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37Z</dcterms:modified>
  <cp:revision>12</cp:revision>
  <dc:subject>The Source 4, song number 1967</dc:subject>
  <dc:title>Lord, I Come Before Your Throne of Grace (What a Faithful God)</dc:title>
</cp:coreProperties>
</file>