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8EE-EAA7-49D6-B2BC-EA033DFB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629-7330-4E93-8057-D03B87FE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2FC-3F3B-49B6-B874-8F03BF2C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B12-956C-4277-AC86-8596C46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2C8-41C8-44F3-893F-9E06053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C61-DEB1-4424-9182-30C2249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1AA-7EC9-4A2C-AC05-C63C064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22D-980B-4F81-B0EF-134F3C42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847-F34D-4AE3-9EDD-B657E39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CFF-5E7D-4E34-84F0-262AF318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21B-6FE0-486C-8736-1D20CDC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DB1-589B-437F-BDB1-B568553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B23A9-B6CD-43FC-B1BA-5AF4467D98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34Z</dcterms:modified>
  <cp:revision>12</cp:revision>
  <dc:subject>Slavic hymnal Гимны веры христиан, hymn 583</dc:subject>
  <dc:title>Нашёл я Друга одного</dc:title>
</cp:coreProperties>
</file>