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4F9-95CF-4B36-981C-11F28ED9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0E2-63C4-43EC-91E5-5BCC09D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578-629E-4A18-B612-722FA8A6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190-69CF-422E-8882-271961ED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3CF-2262-4A85-9FA2-FC82AAFC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C09-FA4F-45A5-B2E0-532CEAA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DE3-D453-4502-B680-85884EC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A09-B5A7-4003-93AC-2DDBE40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69F-398E-4498-8B84-7186615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9BC-5639-40F5-8668-805729F3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A57-3281-4A65-9577-7B35F44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CF8-BC0A-4BE3-8602-4581514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2725E-56C8-45EB-9E1C-91F2E694DA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5:00:01Z</dcterms:modified>
  <cp:revision>14</cp:revision>
  <dc:subject>Slavic hymnal Гимны веры христиан, hymn 555</dc:subject>
  <dc:title>Let the Lower Lights Be Burning / Ярко свой маяк Отец наш</dc:title>
</cp:coreProperties>
</file>