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781-D81A-4B88-B803-03B1FEE5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17E-3EEC-4BCD-BBF4-DF979CE5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54F-BE0E-4D09-834B-041C776B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E94-0FB2-4A2A-9D29-02AEF384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120-D7C6-47EF-AE9C-62CFABEE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B82-F11E-47E1-8779-29962B6E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B4D-F9FC-400D-A3FD-F8E1CCD2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160-464D-4610-AEC7-4E0D9AF9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1EA-E9C0-4480-9795-C7F253CD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08A-6728-4ADA-BE3B-2615EEA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F7E-7D9E-4DD0-962D-A10C9AB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DEC-A93F-412B-A627-3452E2C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E3421-B39B-4256-A14C-57FE4EBACD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y God’s wond’rou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th made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hy, unworthy, Christ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d me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8   Не знаю, чому Бог м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чому Бог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рив Свою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бо чому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is sav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did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believing in Hi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ought peace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як Бог дав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дар прий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а Його Слова 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є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e Spirit m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vincing men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vealing Jesus through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ng faith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, як Дух Св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ть в вір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криває нам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ественни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en my Lord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night or noonday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if I’ll walk the vale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meet Him in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 часу, ні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прийд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через смерть, чи Сам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ін заб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4:15Z</dcterms:modified>
  <cp:revision>12</cp:revision>
  <dc:subject>Slavic hymnal Гимны веры христиан, Ukrainian hymn 48</dc:subject>
  <dc:title>I Know Whom I Have Believed / Не знаю, чому Бог мені</dc:title>
</cp:coreProperties>
</file>