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489-4F03-4F45-AAA1-15CB6C94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E7F1-D057-49EB-BAC8-48338387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2C1-F2CF-435D-8013-8EA534E2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692-D974-4ED8-AC33-99E994E1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F37-BD09-4F48-B5AB-CCD20DC1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F6A-B5A8-4224-9EFC-968D07E8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9B4-99B9-418F-98F8-FB903A72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C99-EF23-4889-8E1E-6B06EC1A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960-CA58-4D6C-92D2-332C5B67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B3D-0116-4AFC-B48D-CC35F7C4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925-39E1-4547-82A0-7CB3AACA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EBE9-5DD9-483E-885E-8EC5B555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E76FF-90B6-4BAC-A4B2-224FC7BFE7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итель моя у потоков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там не блекнут от зн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ое царство лучей золо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совершенной,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душой в надежде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, где нет зла, ни стр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ы, Господь, идти за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чизну чрез тьму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битель моя у потоков жив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та сердцу дорож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я отдохну от бор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есто мне есть у Царя мо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земных иску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нчится путь, нет бури в ду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ере победу мне дал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женных толпой, как радостн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 вечную славу призвал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ей там увижу, их смерть уне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на земле разлуч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тонов и спали оковы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би там радость смен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вятом пред Господом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мы в песне воспря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гнцу, что смертью смерть побе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славу и честь не преста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8:32Z</dcterms:modified>
  <cp:revision>13</cp:revision>
  <dc:subject>Slavic hymnal Гимны веры христиан, hymn 673</dc:subject>
  <dc:title>Обитель моя у потоков живых</dc:title>
</cp:coreProperties>
</file>