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30A-DA76-4775-97D1-5CBAFCC2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6C5-D0A8-4511-86C6-208771F5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0FC-7634-450A-83B9-B010D051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36F-72C4-4660-BC98-B697ED62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4B3-2DE0-4C3B-B95B-C77B8F69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18A-CF68-4B5C-BA51-0DBF34D3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67C-7D81-48F5-A4A7-F21CA53A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31C-5736-468A-81C6-8C99CDFE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C45-E60A-49A3-AA25-5AC06C33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463-DD5C-4419-ADFC-4902BF0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454-C753-4C64-B655-642E20A5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F39-5F71-4BC4-8C6B-D9CE2E7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0B64C-5414-479A-8BF3-C81D49A93A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церковь ждёт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воего я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идёшь Ты в све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нять её томл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, идя навстречу к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ьёшь поток любви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церковь ж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отя во всяки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пребыв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звучит из уст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Ты утеш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же жаждем мы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еть лик чудесны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именем Твоим к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ышим поно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тех, кто, гордые у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ли дар спас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и пред людьми я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славы и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бодрость нам, чтоб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си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погасли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о тьме не сп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когда раздастся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ених идёт!» — сказать: «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 Тебя уже д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облекшись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ждем, Боже, мы од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ть на брачном пи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й смотрим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нисходит в сердце к 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9:03Z</dcterms:modified>
  <cp:revision>12</cp:revision>
  <dc:subject>Slavic hymnal Гимны веры христиан, hymn 325</dc:subject>
  <dc:title>Спаситель! церковь ждёт Твоя</dc:title>
</cp:coreProperties>
</file>