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A52-2F6C-4C0F-A3C8-A4C9510C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8DD-DF7B-4527-8912-6A863591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F62-704D-4DAE-AAF2-ED2DA997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629-5891-4A33-B871-5D304FCD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D2C-D560-4008-BDD6-C86464B2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799-A9E8-4443-8CF8-CA19769A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195-4320-48D2-B499-92606B5C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238-EB93-4C63-89A3-BC4EAA43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B28-92B6-4DB9-9020-4D99047A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644-0454-4B62-AF12-C6CD57B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820-2F2A-4E91-96FE-2252204C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B67-65C1-4975-8111-484EF042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9D034-F6F8-459D-AFD0-FDD231765A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Когда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 Свою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 любовью, как к друз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хлеб,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ломив, им всем ра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слова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рузья, примите, ешьт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тело есть Мо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когда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с вином Ты чашу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, о ней м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ия есть кровь Моя», — с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е пейте из не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т новый Мой завет в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ам, друзья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е всегда творите 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спомните Мою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же кровь Твою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ую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истерзан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помнить в этот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Господь, всегда во в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мыслить лиш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Ты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ко уми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6:29Z</dcterms:modified>
  <cp:revision>13</cp:revision>
  <dc:subject>Slavic hymnal Гимны веры христиан, hymn 727</dc:subject>
  <dc:title>Господь, когда ученикам</dc:title>
</cp:coreProperties>
</file>