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A3C-DEBF-4FFE-AF81-82E3389C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A0E-C7C3-4C00-AFAE-11657B7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25-749F-499A-AFAC-8AD962B6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F32-4617-497A-9B12-5A92CE3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CE-5F91-41A4-BC0E-B9DCBD4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858-8ABB-44D3-AFC8-642CC982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52-70B2-4A7B-BAE8-3650F26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1F1-6315-47CC-82EE-5031A5DD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3AC-3A42-4847-AA54-CE44B76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DAB-3EFC-45AF-AC2A-6E85926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410-0438-4808-A929-426F54E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FD9-3D02-4983-8949-E128B32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D14EE-0B1B-4498-9CEA-D4399967D7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21Z</dcterms:modified>
  <cp:revision>12</cp:revision>
  <dc:subject>Slavic hymnal Гимны веры христиан, hymn 891</dc:subject>
  <dc:title>Осанна, честь и слава</dc:title>
</cp:coreProperties>
</file>