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941-196C-49BC-86E6-DE4948BC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2D6-96AC-4773-A9C8-C024060B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267-064C-4CF7-A03C-928C6077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BFD-FFA5-431F-982F-BA979DF3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148-8B14-4971-9E32-7D8D4815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BB2-9BC1-44B8-96F7-C82D413B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84C-0218-4E13-850F-28B3A1B0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14F-EB6D-4768-9453-C6AA2A7B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38A-E217-4C53-A4B7-1351C476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B16-5B5B-4612-946D-8C54B32D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B32-0F20-4348-B630-9A7D375A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50A-B5EA-4C1C-AA75-B752BD34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97660-A242-46D2-9BA9-7A8D3C623A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, Спаситель, увижу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е небес, в славе неб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мешь меня Ты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Твой чудес, в мир Твой чуд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искушений на это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блуждений в губительной мг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жидаю свободы и бл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, на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ро ль, Спасите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, мой Спаситель, угодно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й управляй, мной упр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е иль страшной житейской борь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ь мне дай, помощь мне 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в сомненья свои не вп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надежды своей не тер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 Святого в меня излив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укрепляй! Им укреп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а земле я ещё нахож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я чужой, ей я чуж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к небесному миру стрем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у покой, жажду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моё да ликует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смолкает хвала ник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любить я хочу лишь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ы Царя, правды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наступит кончи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не прервёт, жизнь мне прерв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лаженства удел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придёт, скоро ль при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ж не буду душою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прославлю Христа благо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хвалить я любви полно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! 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9:29Z</dcterms:modified>
  <cp:revision>16</cp:revision>
  <dc:subject>Slavic hymnal Гимны веры христиан, hymn 477</dc:subject>
  <dc:title>Скоро ль, Спаситель, увижу Тебя?</dc:title>
</cp:coreProperties>
</file>