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EB8-2FD7-411F-987D-8ECC50C1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6CD-325C-4EAC-8F49-A69CBA98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88D-C6A1-4D67-8B06-3F57BBAD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1AA-CB10-48C8-9175-25A81D4F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DCA-358C-460E-9FA0-EF4757F1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2AE-DE8C-49D3-9E32-157DD213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1B1-6C70-4863-A301-737DFCB8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744-84B7-45B9-9A69-5F4C940C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CD2-2EAB-4E1A-9A67-D8EEA810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936-5CD2-4178-803B-D4215B5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499-2C20-4843-BE21-9D03932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9F9-AAF8-4A44-AC02-B1093FFC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AC7DF-5852-4C44-8DF3-AC781154E8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God, we sing Your might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hich supported still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pening year Your mercy sh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ercy crowns it ’til it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хранил от юных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и в наступивши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их бедствий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day, by night, at home,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are we guarded by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incessant bounty f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unerring counsel 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, вблизи, мы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лишь благостью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сылаешь снег и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леб насущный нам да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rateful hearts the past we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uture, all to us un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o Thy guardian care comm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ful leave before Th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ошлое благода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то пред нами — знаеш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гаем всё к ногам Т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ы, планы и ме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cenes exalted or de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our joy, and You our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oodness all our hopes shall 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ored through all our changing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дачах, в счастье иль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по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ешь Ты в сты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, кто льнёт к Тебе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2Z</dcterms:modified>
  <cp:revision>13</cp:revision>
  <dc:subject>Slavic hymnal Гимны веры христиан, hymn 731</dc:subject>
  <dc:title>Great God, We Sing Your Mighty Hand / Великий Бог, рукой Своей</dc:title>
</cp:coreProperties>
</file>