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958-DAEB-4B17-8600-28D0D698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62C-8B22-4E0B-AC1A-914B0869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D9C-A70B-4FE9-BA7A-7AD15AC2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131-1619-45AB-8ACF-83F4502D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376-AFA7-493F-82E5-E4FA6C86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F2F-D4CE-46A6-A62A-35BD086F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F56-C285-475F-A38A-72FD4FDD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9BF-6601-4A92-BFF0-A26781B2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80C-ABA6-49A0-861E-2A23000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9CE-215A-4D91-BF7E-A100337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E7B-C447-4934-AEC1-E755A7DB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D7B-793C-489C-BF1E-ABAB5AE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86509-EA9A-4710-B867-9FBB0E137E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My sins are all forgi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mine! I’m on my way to hea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ce a guilty sinner lost, un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a child of God, saved thro’ Hi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9766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By grace and grac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what wondrous love to me was sh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stead Christ Jesus bled and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re my sins, for me was cruc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572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O joy beyond comp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my life, and I His constant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all and trusting Him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 now each moment as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6:25Z</dcterms:modified>
  <cp:revision>12</cp:revision>
  <dc:subject>Slavic hymnal Гимны веры христиан, hymn 855</dc:subject>
  <dc:title>Saved! / Я спасён!</dc:title>
</cp:coreProperties>
</file>