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A93C-99EF-47E2-9060-864706E13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4B67-2CA2-4AAA-BF41-3FB01583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CA77-560D-4B7E-B2A1-94B11FBE9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1780-614C-4D77-AD22-49633CE70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20C7-322C-4A83-95D7-661FD411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EC30-9EFB-4B66-AB42-68E39DAC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A736-1529-4322-AD41-FB48A0B0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FE93-B0BB-4A85-ADA5-94B50424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F093-CCF6-4BE1-B06B-60978473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717E-4E05-43A4-8A82-B61F461F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04DF-B563-4FEB-9A12-D1BE6AE8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1AB4-1BF6-4085-9FF6-7915A489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FEEE7-77C5-4419-BFE0-CDA93E078D8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чудесно вся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менилась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брёл дивны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искал много л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чудесно вся жиз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дивная в 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ьёт горячим клю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дивная в 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ьёт горячим клю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блужданьям ко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— мне добры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грехи мне прос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потребных мне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дивная в 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ьёт горячим клю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пованьи жи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асту день за д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яд скорбей и об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ый путь не затм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дивная в 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ьёт горячим клю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аснет мо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грозных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видит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славы вра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дивная в 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ьёт горячим клю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од чудный вой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охну от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ликованьем в ду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ираюсь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7:57Z</dcterms:modified>
  <cp:revision>12</cp:revision>
  <dc:subject>Slavic hymnal Гимны веры христиан, hymn 577</dc:subject>
  <dc:title>Как чудесно вся жизнь изменилась моя</dc:title>
</cp:coreProperties>
</file>