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E7A9-AA9C-481B-AE90-F16B5766B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794C-BDBD-4C99-AB75-25C89BE9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27CC-BD91-4B53-B82E-825600FB1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DDE6-6311-4578-9745-BC833C97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74F9-664A-4C8B-857F-87D5D66F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51DA-1C32-48D6-AFD2-37D4D995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C519-17DC-4E0A-A2BA-74A0EDFC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55ED-E5D3-4049-8D0B-AD6FFDC8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8680-3D11-43F0-BD17-4C0121D0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90AD-6D44-4215-8279-1BDFAB3B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FBCF-A693-4D10-9372-0E329185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7AF4-1EB9-4A39-AA77-D7730F61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12C33-EE11-4849-B4CC-AF6498A649F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ead that once was crow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o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crowned with glory 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royal diadem ado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ighty victor’s b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нец терновый возложи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терновый возлож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а главу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честь и власть Ему вруч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,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ighest place that Heav’n aff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longs to Him by 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King of kings and Lord of l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aven’s eternal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хор Ему по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салмы святых побе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Царь царей, Господь госп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ба вечны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joy of all who dwell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joy of all be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hom He manifests H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rants His Name to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и на зем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счастья —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о приблизил Он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 дал любви зак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m the cross with all its sh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ll its grace, is giv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name an everlasting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joy the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крест нести им сужде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давит скорби гн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имя славное да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радость не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suffer with their Lord bel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reign with Him ab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profit and their joy to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ystery of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страдают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жить на небес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познают они в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ивен Он и бл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ss He bore is life and heal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shame and death to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people’s hope, His people’s weal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everlasting the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терновый, крест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ринял наш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ют надежду для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ли в небо вх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17Z</dcterms:modified>
  <cp:revision>13</cp:revision>
  <dc:subject>Slavic hymnal Гимны веры христиан, hymn 436</dc:subject>
  <dc:title>The Head That Once Was Crowned With Thorns / Венец терновый возложил</dc:title>
</cp:coreProperties>
</file>