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F9DE-49B1-4495-AF2A-033294E4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EC22-E1AB-4FAD-B0B8-F0459845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FAEB-FD16-457B-A9E2-D9E7DB34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18DA-E3D4-4356-A750-0B5E1396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F9E-20D0-4FA4-87B6-0F95912E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A024-410A-45F8-8E77-4B84BA8D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8431-1779-47C6-A69A-DA003784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19F2-A9FB-4808-ACA2-02F9C6DE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8271-4E85-416B-86D8-5CEE125A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B0A7-5507-4D16-A460-D6B15630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8DC2-F561-43E2-97B7-7EC7AC75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A5AF-C552-42D3-8698-0FCEA523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049B0-01D8-4841-9E95-F4083C41DD8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the light of Your love is shi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midst of the darkness, shin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Light of the World, shine upon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us free by the truth You now bring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e on me, shine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9440"/>
            <a:ext cx="9280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любви Тво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юбви Твоей свет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ит огнём среди тьмы и мра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свет мира, сияет над 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ым словом Он освобож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й во мне, сияй в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e, Jesus,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 this land with the Father’s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aze, Spirit, bla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our hearts on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й, Иисус, сия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ою Отца наполни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ылай, Дух, пыл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игай огнём серд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, river,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od the nations with grace and merc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forth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and let there be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уись, река, стру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лей народы благодат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лово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 будет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685800"/>
            <a:ext cx="984888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come to Your awesome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shadows into Your radian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blood I may enter Your bright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arch me, try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sume all my dar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e on me, shine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ё присутствие прихож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еперь светом весь заль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кровь я Твою заси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ытай меня, тьму удаля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й во мне, сияй в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e, Jesus,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 this land with the Father’s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aze, Spirit, bla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our hearts on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й, Иисус, сия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ою Отца наполни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ылай, Дух, пыл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игай огнём серд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, river,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od the nations with grace and merc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forth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and let there be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уись, река, стру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лей народы благодат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лово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 будет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we gaze on Your kingly bright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our faces display Your like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 changing from glory to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rrored here may our lives tell Your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e on me, shine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ём сияньи, Господь, пребыв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цом открытым Тебя отраж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лавы Твоей меняемся в с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Тобою сиять мы жела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й во мне, сияй в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e, Jesus,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 this land with the Father’s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aze, Spirit, bla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our hearts on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й, Иисус, сия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ою Отца наполни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ылай, Дух, пыл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игай огнём серд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, river,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od the nations with grace and merc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forth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and let there be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уись, река, стру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лей народы благодат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лово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 будет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2:24Z</dcterms:modified>
  <cp:revision>13</cp:revision>
  <dc:subject>The Source, song number 335 in Russian</dc:subject>
  <dc:title>Господь, любви Твоей свет сияет / Lord, the Light of Your Love (Shine, Jesus, Shine)</dc:title>
</cp:coreProperties>
</file>