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506-98BB-4259-BE21-FD995963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959-1416-40CA-93A6-1A95A6DA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B0F-401F-4FE4-A448-8FA94253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C74-15E6-459F-B7B9-E4AB5B36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3E6-E08F-4C85-A5CD-C5C657FC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06F-3BF0-4609-9A57-A1F1BA02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FEF-7B70-4343-8132-0A35B2F2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DC2-F6ED-48E7-9EC2-452806CF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DFF-501F-46CA-B309-24CEEFC5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64C-5B00-415E-A8B6-1240F021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6C7-776A-4568-8B80-DD21E7DA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A92-05A4-4833-AB38-532C7416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35D2D-06AD-44C3-8934-6E0647F33D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р ручеёк резвый быстро т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бежит, всё он б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у песенку звонко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бежит, беж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рю течёт,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о Творц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гор ручеёк рез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авку засохшую влагой жи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блестит, всё он блест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тичек, цветочки обильно п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блестит,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рю течёт,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о Творц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е и шире вперёд он 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е вперёд, шире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о пути он отраду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е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рю течёт,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о Творц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ю струйкой дитя может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служить, Богу служ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вать всех, утешать и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служить, служ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рю течёт,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о Творц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1:29Z</dcterms:modified>
  <cp:revision>12</cp:revision>
  <dc:subject>Slavic hymnal Гимны веры христиан, hymn 752</dc:subject>
  <dc:title>С гор ручеёк резвый</dc:title>
</cp:coreProperties>
</file>