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72F-F1E3-4E46-BFDF-45D4A583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26D-A82A-4AD9-A1FD-83C6C899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124-ACA8-41BB-BC56-33C3FB4E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90A-39BA-48E4-842D-1BFB6FEC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FCB-C783-4545-A546-D9CE77A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8B2-D0B3-42D7-B3D9-C3A337DD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367-D9B6-42A2-809D-37A743E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63-0964-416D-8531-797280F2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3E7-4665-46E1-9E59-82580EEF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5D2-7A35-4E9C-875C-CEB1571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200-5714-4B3D-BDAF-C906471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3B9-E0E3-4FBC-9A80-A5FF7E4E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2A6D-A97B-42BC-BC4A-FED322DF35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Saviour, make no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His Word He has shown us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our midst He’s stand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saying,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uffer the children!” oh,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heart leap forth and 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us freely make Him our ch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lay, but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once again, He’s with u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ed now His blest command, an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now His accents tenderl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My children, co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9Z</dcterms:modified>
  <cp:revision>13</cp:revision>
  <dc:subject>Slavic hymnal Гимны веры христиан, hymn 381</dc:subject>
  <dc:title>Come to the Saviour / Путь ко спасенью</dc:title>
</cp:coreProperties>
</file>