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462-BED9-490A-86A3-EFE52DD5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F00-C430-4008-8F17-8A11E495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ED2-72BA-42B6-8EA7-1F0F15A5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6FF-42E0-48B3-9BB5-21FA69BA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F5D-2DF6-4BB4-B9C6-94AC2BE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DC1-726E-40BF-8D84-3464456A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396-B07A-4B26-866E-7DC6CD14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995-E187-4D6A-8CC1-518CF336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F09-FF60-4CD7-85B4-563E9B69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25C-E992-482F-93B6-9364DEF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139-E97C-4F8A-8DB6-C699571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C39-D1CF-4133-A550-A04C443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7CDB-EFDC-4D3E-B335-3C9ED7C782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34Z</dcterms:modified>
  <cp:revision>12</cp:revision>
  <dc:subject>Slavic hymnal Гимны веры христиан, hymn 574</dc:subject>
  <dc:title>В сердце песня новая звучит</dc:title>
</cp:coreProperties>
</file>