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508A-54F1-4F3E-9319-74679BDC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3FCC-0C1A-4395-9DBF-0A996447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D22-5478-4DBA-8602-DCFE4E38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9A15-9078-42C5-AE35-243B1452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AEF-51F6-4F17-9B8A-DF344942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B01B-F2EA-463E-A6F5-5CBF5E2B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A76-CF1C-4EB3-ACA1-C68AC66B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3DAD-0F03-4CEE-82F4-55484646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6639-C6E6-4715-80CE-DDAB73A2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097-16B9-465E-A162-EBC0A8F6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157-8204-46BF-8842-F6962DC4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BA3A-B9FA-4AED-9E67-D96B1CD9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752B6-4CBC-4209-96CF-E9E616A1A1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an awesom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eigns from heaven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wisdom, pow’r and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1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ur God is an Awesome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19:00Z</dcterms:modified>
  <cp:revision>11</cp:revision>
  <dc:subject>The Source, song number 418</dc:subject>
  <dc:title>Our God is an Awesome God (Awesome God)</dc:title>
</cp:coreProperties>
</file>