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564-FBA2-4331-A359-A0DE5F39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FE3-1555-4FDF-A28D-9768E56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068-51B4-45AF-9FBA-50E55D58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420-F3D6-452D-BC76-E8FB2186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184-D098-4F24-AC24-F7582C26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A3D-208B-4B28-8E87-BC06327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668-4795-40A5-9D49-83715078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BF8-CA27-481A-99D8-D0A3451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938-4B5A-400A-9294-A0A9F6F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A4F-B16D-4CF1-BF73-B6F4AF5E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FC8-FC11-45E0-9004-5EB05AF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810-CC67-4EF2-AD9A-44EF4DDC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A920E-EE43-4383-ABF6-2AA3D2C06A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rom sin are longing to b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 redeem you died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tempts and doub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His strength shall over all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weary? Does the way s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ove will cheer and fill y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 when shadows on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hwa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sorrow Christ is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7Z</dcterms:modified>
  <cp:revision>14</cp:revision>
  <dc:subject>Slavic hymnal Гимны веры христиан, hymn 715</dc:subject>
  <dc:title>Look to the Lamb of God / Жаждешь ли жизни чистой?</dc:title>
</cp:coreProperties>
</file>