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7E0-924D-4012-B6F5-6E10F2AD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27B-9A6B-4692-AD41-14D042B2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DB6-B975-43B8-9B77-71B533BC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460-5F5D-4B3D-8FE6-55243E6D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3AE-C8F2-49CA-891B-BED350C4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0BF-117F-4C28-8C8C-D79908A9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7BF-8FF5-4480-9B53-E2DA4C19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EE8-9D39-490B-B025-A9AF0452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B6B-0124-4A83-AC6A-618CA297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7C2-C1D0-4052-ADA8-AB51550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120-4F28-46BE-B1CC-C2F9C48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00C-03E7-493C-8042-00A3F57E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0EA34-A310-4174-90A6-34ECC28EF5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sent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called Him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me to love, heal and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миру Сына дал,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иру Сына дал,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целял, прощал,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as death gives way to vict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ee the light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ll know He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сто смерть отдаст по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я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арствуе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d and died to buy my pard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empty grave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ove 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ёс Он крест, чтоб дать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щает гроб Его пус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o hold a newborn ba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l the pride and joy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— держать млад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жность и мечты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greater still the calm assu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child can face uncertain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льше счастья в упов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преодол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паситель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one day I’ll cross the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ight life’s final war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йду за реку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ей битве с ней сра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5-06-01T12:34:46Z</dcterms:modified>
  <cp:revision>11</cp:revision>
  <dc:subject>The Source 2, song number 701 in Russian</dc:subject>
  <dc:title>Бог миру Сына дал, Иисуса / God Sent His Son (Because He Lives)</dc:title>
</cp:coreProperties>
</file>