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1547-EEC9-400D-AB4D-0637910F7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4592-1DCF-4218-A2E3-427F2A41A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1272-1E7E-4033-B18B-F01654BA0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5673-27F3-45A1-B077-3D2688FD7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1F43-2680-4458-A77A-A68317C69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815B-EF3C-44AE-B921-03B8DFB7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4553-F1A4-47AD-B62E-10AE4D91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A331-DA34-4DC8-9F82-44893D96E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C629-2C04-409F-9BAB-12CA86945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2469-3249-482D-ACDF-91A3C8E0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31E0-CE0F-46E5-B9B1-5BF46761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7074-B388-469A-B666-B96D34EF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113111-10B1-4097-8AF4-1204F8E7AFA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still and know that I am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still and know that I am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still and know that I am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am the Lord that healeth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am the Lord that healeth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am the Lord that healeth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48   Be Still and K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e, O Lord, do I put my tru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e, O Lord, do I put my tru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e, O Lord, do I put my tru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6:09Z</dcterms:modified>
  <cp:revision>10</cp:revision>
  <dc:subject>The Source, song number 48</dc:subject>
  <dc:title>Be Still and Know</dc:title>
</cp:coreProperties>
</file>