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8AC-32D3-41A1-9659-29BE71DE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F3D-4649-422F-8334-F5F91F7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143-626B-4081-BC42-01ECD6FB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CB3-8748-42FB-A8B0-320F5517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8FA-5F03-4A9F-9FA8-8762BAE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16F-D032-4CA1-8AEF-7955A36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E39-879B-4BA8-97B5-06703ABC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758-E734-4B7C-A222-46F3B24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ED8-EA91-45A7-B656-33AC601D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9E9-1D34-4E8C-AE16-4995D50F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C79-1C9C-4055-A58A-9BE186A3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2E0-BA1F-4248-A925-751CBCF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08277-D66C-4A30-8BC2-422D3B1174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брат мой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 ты ни был не пада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правда и з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властно ца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омытой слезам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брат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азбит и пору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Иде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уится невинная кров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настанет п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ет Ва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ётся на земл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гнётом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рестом на согбённых плеч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идёт Он и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Светочем счастья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будет на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ёз, ни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скрестных могил, ни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ужды беспросве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ей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ча, ни позорных стол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не меч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светлый при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стая надежда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янись! Зло во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чур уж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черезчур уж тем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станет от м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лебнётся в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мится безумн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ет к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ззавет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полные скорбной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04Z</dcterms:modified>
  <cp:revision>12</cp:revision>
  <dc:subject>Slavic hymnal Гимны веры христиан, hymn 698</dc:subject>
  <dc:title>Друг мой, брат мой</dc:title>
</cp:coreProperties>
</file>