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261-B34B-4FEA-96CC-36F7561C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076-448E-40F4-A22C-6AF080B5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F67-F3DD-4761-A416-1325DBF3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3D4-A935-42B2-AF36-07BAA048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6FE-6898-4CD8-9FDB-A002AAEE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E8D-6E53-4B10-A5BE-F3AB881E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602D-9597-452A-BA92-9B3FAC38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CF9-2825-4344-8F66-90D92B00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7A1-C772-46CB-91D4-D8D578B4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86C-C685-4595-AB6F-27EF5DC0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FB7-C87A-43F0-979E-9CDEC7A4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F57-B7F0-409E-B364-8226C9CA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60AC4-825E-4123-8D99-E5878BBF6C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раздаётся ещ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решник беспечный, что медл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ё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к Иисусу спасенье при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ожидает Его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прозвучал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 сегодня принять з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ледний призы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на собранье Дух Божий при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для души исцеленье нашё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роповедь, пенье — зовёт 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дёт Он тебя, но ты медлишь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прозвучал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 сегодня принять з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окончено, стало тем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мерли звуки призыва д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сердце Спаситель стучится и жд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же Ему, или скоро у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прозвучал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 сегодня принять з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любишь ты жизнь, удаляйся от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со Христом заключи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сегодня принять поспе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у последнему чутко вн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прозвучал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 сегодня принять з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24Z</dcterms:modified>
  <cp:revision>12</cp:revision>
  <dc:subject>Slavic hymnal Гимны веры христиан, hymn 373</dc:subject>
  <dc:title>Последний призыв</dc:title>
</cp:coreProperties>
</file>