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C4FA-FCE0-44C0-9F4D-B1FEFCF8A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3A78-76F6-445E-B661-D34BF3B1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97A9-739C-49EE-A8D2-2F242CB7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FDCB-35D3-4F5B-961F-53FAE8D4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1D40-DB45-4A81-83AE-7C2CCE8C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7C12-7083-40EE-AAA3-689F1946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2D94-9FDD-4C4F-AAA5-44B61A08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898C-C99D-4347-BD3D-36E73A6A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E85E-F820-46B0-93B3-29AEC737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2594-33A9-4359-A625-374CC031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4A06-CDD7-42E5-A7D9-E9FC4A1C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27AD-7891-424B-A1AF-F5913282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98F90-3538-495B-BE7C-725A4114CF3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мне, скажи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умер за нас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быть всегда с Ним в союз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ровью купил нас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мне, скажи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Он — мой Спаситель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а Его крепко держу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мне дарует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ажи мне, скажи об Иису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мне, скажи об Ии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Он даст над грех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олько Ему покор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царствует в сердце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мне, скажи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Он — мой Спаситель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а Его крепко держу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мне дарует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мне, скажи об Ии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коро вернётся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быть послушным стрем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царстве Его пребы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мне, скажи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Он — мой Спаситель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а Его крепко держу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мне дарует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9:47Z</dcterms:modified>
  <cp:revision>12</cp:revision>
  <dc:subject>Slavic hymnal Гимны веры христиан, hymn 422</dc:subject>
  <dc:title>Скажи мне, скажи об Иисусе</dc:title>
</cp:coreProperties>
</file>