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7B5-D110-41FF-97CE-7F2E16D8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FC6-DCD7-4F92-AF8F-31366D3C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BA3-D091-478E-B83B-5A9DD2A8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7D9-2920-4EC2-9CC2-FD3AAF72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FAA-A238-4592-BCB7-624EA0C2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4C9-0E27-436B-B3CF-67E88DDB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E6B-4E03-438F-81DD-9EF2132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CEB-8467-4F93-955D-91289E31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85A-0BD1-4C36-9570-9B778EC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05F-AC3D-46A4-9090-0DC6569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33A-D42E-47BA-ADF9-3BE74A2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771-7E27-46E1-A290-311DB42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C54EA-4992-49B3-BAEE-E8FDDFE7F6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27Z</dcterms:modified>
  <cp:revision>10</cp:revision>
  <dc:subject>The Source, song number 307</dc:subject>
  <dc:title>King of Kings</dc:title>
</cp:coreProperties>
</file>