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4613-4DA9-4814-AB2E-E9B0778CD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F0AD-7C18-4564-BB7A-DC77B46D4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6B08-A2D9-4A44-810D-1D987B423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0431-0D3A-4A5E-91FB-50ABA7595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5267-CE49-4D91-BF4E-9A39AA339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84FA-C6EB-416D-A8C7-B36C9013F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5597-43A2-450B-8DD5-2E2E0A3D2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5388-6A80-43AE-BE6E-D0AEC7DFE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ABBE-21E2-476E-A4CD-4EB076F6C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F787-A137-4EC3-8DD1-1950A96F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0777-0DA2-4E48-A6FD-14DD36AB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787B-CBB3-47D4-884B-0A48E05D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A40D12-85D6-40CB-9666-F25170AB193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life is in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trength is in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hope is in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, it’s i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368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y Life Is In You,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praise You with all of my l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praise You with all of my streng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ll of my l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ll of my streng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of my hope is i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life is in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trength is in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hope is in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, it’s i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24:20Z</dcterms:modified>
  <cp:revision>10</cp:revision>
  <dc:subject>The Source, song number 368</dc:subject>
  <dc:title>My Life Is In You, Lord</dc:title>
</cp:coreProperties>
</file>