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EA80-5BFD-4629-AC63-E0F899D1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0B2F-F998-4B3F-87D3-BAD9A3CC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DD1C-EA9F-4E6E-B82C-7B40397E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0C65-441B-4C72-93A9-B9F15418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97CD-D052-4A6A-95D8-1EB04B7C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75DF-8837-420B-8D4B-D7796F94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96D4-BB23-4371-823F-3B43602B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75A1-76BE-48B8-9452-6A471D06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D1EA-DFAB-4517-882F-2F67EAB4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80A3-1DAA-4ED2-B99F-36649DBE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7F61-EAA2-4E00-A966-14D95D5F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A0B2-B6D7-4DBE-A088-81DA2499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35171-DBB1-456A-9A79-7AAEB292413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agnify the Lord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us exalt His nam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agnify the Lord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us exalt His nam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lled to the Lord and He answe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ed me from all of my trou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delivered me from all my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ll rejoice, I’ll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007   O Magnify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agnify the Lord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us exalt His nam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agnify the Lord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us exalt His nam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boast about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ell of the things He has d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whole world hear about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y’ll rejoice, they’ll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agnify the Lord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us exalt His nam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agnify the Lord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us exalt His nam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magnify Jesus togeth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magnify You, O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magnify Jesus togeth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magnify You, O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agnify the Lord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us exalt His nam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agnify the Lord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us exalt His nam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6:38Z</dcterms:modified>
  <cp:revision>12</cp:revision>
  <dc:subject>The Source 4, song number 2007</dc:subject>
  <dc:title>O Magnify the Lord (Psalm 34)</dc:title>
</cp:coreProperties>
</file>