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F34C-8977-4D74-A65E-41931CE1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8269-E5E0-4556-BFF3-461BD75C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9F24-67ED-4D2A-9ECA-B585E981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1015-5469-4781-AAC3-D33F622B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2309-1922-4BEC-A3FE-F41866EF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A48C-27C0-4A57-BAA0-875D9EB7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A709-0BF8-4F34-BD12-9BC7DDFC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A55C-E77E-4A6E-BA00-F94459EF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641E-F48B-419E-BD32-EEB6CA3C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FDA0-7FF0-4288-8171-92798772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207E-44BC-4CE6-95FA-E047A75B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65ED-0371-4A68-82B9-DC30C173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94676-FFC9-415C-99F4-26F92779638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уждаюсь в Тебе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елаю всегда быть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Господь мой, любимый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нье моё и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ду Тебя, люблю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трудно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Пастыря, Хран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могу д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уждаюсь в Т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щенья душа моя жажд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ть желает противного 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борьба и борьба, о, когда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остигну небесных двер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ду Тебя, люблю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трудно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Пастыря, Хран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могу д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гда в этой жизни уны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рьбы утомится душ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ойди ко мне ближе, мой Пасты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с Тобою так жить хорош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ду Тебя, люблю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трудно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Пастыря, Хран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могу д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елись Ты во мне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руй чувствованья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ерным я был Твой служ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же ко мне и жи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ду Тебя, люблю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трудно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Пастыря, Хран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могу д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1:56Z</dcterms:modified>
  <cp:revision>13</cp:revision>
  <dc:subject>Slavic hymnal Гимны веры христиан, hymn 797</dc:subject>
  <dc:title>Я нуждаюсь в Тебе, мой Спаситель</dc:title>
</cp:coreProperties>
</file>