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32F-6238-45E4-AA56-B76833B4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129-7DB4-4466-9EEC-C5D1A5BA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D70-7A04-432E-A7B6-787D42DE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B17-39E6-46E7-A6F0-C2E4757D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84C-AD35-4D89-A117-1A855D6D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D51-D7D3-40E2-8AD3-C77E493C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6A8-BC0B-4324-9C86-977BC19F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7F9-D73B-43D5-80AB-F14237B0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221-D92A-4715-8583-020870AD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10A-2424-4FE7-9683-31AC9638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8B2-C0EC-4770-A924-94DD6B02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4CC-8453-4F46-B0AF-4EC0FEDC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08359-C51D-4B18-A2B5-4BA28F08D7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offer up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spirit and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ing out the oil of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my worship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surrender I must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ev’ry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receive the sacri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broken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6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Offer Up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can I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o faithful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o loving a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what can be 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be 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 praise of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s You hav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words could 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even in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debt of love that i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thank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eserve my ev’ry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’ve paid the great c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up Your life to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death on a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all my sham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defeated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ed up the gates 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beckoned 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can I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o faithful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o loving a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what can be 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be 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 praise of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s You hav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words could 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even in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debt of love that i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thank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3:38Z</dcterms:modified>
  <cp:revision>9</cp:revision>
  <dc:subject>The Source, song number 265</dc:subject>
  <dc:title>I Will Offer Up My Life (This Thankful Heart)</dc:title>
</cp:coreProperties>
</file>