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F01-C6A5-451C-907A-A0CE0BCB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A2D-B72E-4AEC-822C-3289E945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049-C8DD-44DB-8EEC-32E3720D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145-DDF8-499D-A840-E9E2C4EE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400-F474-4380-B4C7-493A9E0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F79-A010-4EEB-B673-B118F96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EEE-131C-4517-8D6B-5C177854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07A-4069-425C-A544-2732B491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ED1-64AC-4CA7-86C7-A5B3938A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3C1-D42E-43A3-B88C-C2AAEE7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DD6-5343-4E52-99C9-E6061E2E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EC9-B4F8-4756-BDFA-385F5F9A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AB180-F81E-4A23-A1C1-8954DDEEE5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orship You, Almight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3T10:08:38Z</dcterms:modified>
  <cp:revision>11</cp:revision>
  <dc:subject>The Source, song number 271</dc:subject>
  <dc:title>I Worship You, Almighty God</dc:title>
</cp:coreProperties>
</file>