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B90-21CD-4FA8-87B1-6DB505DE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564-7D5A-4E1B-87F4-5A53999B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B24-500D-443B-B187-6CB759C2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994B-47F3-4F12-9D9D-D07E2DBC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A87F-648F-4EB7-A7C6-256C3DB0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B14-398D-4FF5-874E-5738602A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A3E-6257-4DF0-8B6D-E430623B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743-423B-460D-9892-E376B107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795-0B33-4F03-A490-86B57E50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EDE-A49B-49C0-9C28-96511BD3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DA5-0ECD-4266-94A2-AEB5FB89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FAC-9309-49C8-8780-0EC3A53F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D0667-2636-4C2E-A0B1-EF3B7FF0BFE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ly friends may prove un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ubts and fears ass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still loves and cares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ья могут измен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могут изме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ёрный день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дин завет хран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and earth may pas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e sky be dark and dr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rce and strong the ga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remember He is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will not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сё покрыто ть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сбивает с н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верой успок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and earth may pas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ife’s dark and bitter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will still prevai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His everlasting pow’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not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ёмный, горький жизни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х дней з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твёрдая, что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and earth may pas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6:49Z</dcterms:modified>
  <cp:revision>12</cp:revision>
  <dc:subject>Slavic hymnal Гимны веры христиан, hymn 898</dc:subject>
  <dc:title>Jesus Never Fails / Братья могут изменить</dc:title>
</cp:coreProperties>
</file>