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D75-9065-4BBE-A158-1FBEFF9B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397-DFF5-4E77-A09C-0FC673E5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6CB-A32D-4666-B680-ABBB7F42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C76-AC13-4C1B-8F63-529C2DF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0B9-DC8A-4E12-A27D-62AB01F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FD5-4414-4EF6-A430-000CBD0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944-CB5C-4742-AFEF-0083A67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C12-02A9-4E32-A6AA-D9A8D8D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47F-B214-43E5-97A1-6AC2440C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8BB-7A8B-4FA5-AD0E-856E472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69C-A778-41EF-B82F-886CB474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07A-ABE7-496A-A0B1-2091576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1E8D-7E27-4CAE-AB97-BD9B59FACB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4   I Come Before You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25Z</dcterms:modified>
  <cp:revision>12</cp:revision>
  <dc:subject>The Source 4, song number 1884</dc:subject>
  <dc:title>I Come Before You Today (Thank You, Lord)</dc:title>
</cp:coreProperties>
</file>