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32B-4376-4B60-84BE-09F130A4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E56-BF05-4516-A9A0-36C7F7D7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A47-A842-426D-80A0-F50FD15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A43-BC64-4B13-A893-965715A2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119-4CA7-4EB6-A700-68CB3F7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118-103B-45D9-A9BD-1E6A6F0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7E5-4BAC-4B96-875F-CB2B9E05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546-77AD-4756-B533-C452660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FAF-4576-4800-8D54-8CF4E6AB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08D-63A7-4B6F-8708-E217EC7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B7D-5D92-4BB1-959E-260B3E5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3A7-9ABC-4120-A2B0-1AD3EC3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5E1BF-FF37-4B35-AF59-80D2A0D28C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hom angels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stoop to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y as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ould seek the wand’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 of new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as born of M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Bethl’em’s 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His o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H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Nazareth and lab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ith Hi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raced this place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how 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e cross wa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wn of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ree and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eals the broken-hear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s our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our lurk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ts the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y 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e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win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earthly herit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atisfy th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pi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east an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sinner and of 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lesh shall see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ll r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He has s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me gla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un shall shine in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ll the lands shall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,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orm is st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o can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jub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ev’r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erfect love is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kies will thrill with rap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riad, myri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an voice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rth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v’n to earth will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las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28Z</dcterms:modified>
  <cp:revision>9</cp:revision>
  <dc:subject>The Source, song number 199</dc:subject>
  <dc:title>I Cannot Tell</dc:title>
</cp:coreProperties>
</file>