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FBE-43EA-4B41-BF9D-52A65085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A13-3450-4376-87B5-156DCBDD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B21-A6CB-4B93-A028-C664AB2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3B7-3C7B-4931-B41A-6642A38C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96F-C6FD-456E-B2BD-0B6B5FA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E37-F3A5-4690-803E-828B144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8BB-3753-4F60-9EF2-090CA487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9E7-5366-472F-9A2E-FB7F819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135-24EB-4B55-96EB-F73ED019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0F5-E02B-4B33-94B5-9E1A4F0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A26-5BD0-4418-B6AD-32AC70C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DD8-7E98-402A-8C54-B282BA1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B6CF2-BE55-40D7-ADAF-76FADE856F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heaven, that heard the solemn v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vow renewed shall daily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n life’s latest hour I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 in death a bond so d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6Z</dcterms:modified>
  <cp:revision>13</cp:revision>
  <dc:subject>Slavic hymnal Гимны веры христиан, hymn 721</dc:subject>
  <dc:title>O Happy Day, That Fixed My Choice / О дивный день! о дивный час</dc:title>
</cp:coreProperties>
</file>