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1D3-874E-400A-AE83-25599274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DD9-F424-4746-89A3-44782FB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68E-EDA1-4C12-9B53-83127D5E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A40-A705-4879-AC2F-B93504EC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BD7-E198-47BE-949A-025CE50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635-938D-4D26-BD0B-A5B99B6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77E-418C-4C7C-8F34-CA47DFCC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E04-817D-46E1-BB37-8CF11B61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14C-0D21-4E8C-B1E3-ECEFA5A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49E-28C8-4AAF-9C6F-6FF4CFD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894-36F5-4BFA-BBB7-C643A52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A2E-F366-4D27-A759-9924DEA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F3025-4439-4D1F-8207-1BDFF555ED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12Z</dcterms:modified>
  <cp:revision>12</cp:revision>
  <dc:subject>Slavic hymnal Гимны веры христиан, hymn 585</dc:subject>
  <dc:title>Не знаю, почему открыт</dc:title>
</cp:coreProperties>
</file>