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A0E-A13D-4E30-98A6-95B7F683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E43-BD99-4420-AEE0-8D6D1D26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4ED-10AF-489E-9289-F51E49E5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96E-7F64-4E57-B27D-15B60746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1C4-268E-4F78-8DE9-32B09D2A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003-26FD-46CD-BCB2-2A9A9838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6E5-2587-42E0-9CA4-2A4AF10F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7BF-0EA2-4880-AB5E-B3644CBF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6A2-DEF2-490A-BF1D-FE7440BB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935-1A27-4EB7-95C0-3C33A0DE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EBC-0E60-48BD-8AFA-904C8AFB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4C0-6C9F-4847-85E8-C8FCB85F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BB57B-EB60-4EF3-AF1F-42DCC27A2E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standing in Pilate’s h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less, forsaken, betrayed by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ken! what meaneth the sudden c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Пилатом Иисус сто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Иисус сто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 оставлен, презрён, изб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вопрос роковой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сделаешь с Иисусо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standing on trial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be false to Him if you w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be faithful through good or 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удом Он стоит ещё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за Кого ты признал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защищать горя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evade him as Pilate tr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ill you choose Him, whate’er bet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you struggle from Him to h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руки мыть, как Пил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огласишься с Христом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ться нельзя, Бог велит реш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, like Peter, your Lord de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ill you scorn from His foes to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ing for Jesus to live or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рекись же, как Пётр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пугает тебя вра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согласись жить с Христо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Jesus, I give Thee my heart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I’ll follow Thee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obeying Thee!” will you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 will do with Jesu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мой Господь, отдаю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ль, в скорби люб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ё счастье и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делаю с Иисусо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38Z</dcterms:modified>
  <cp:revision>14</cp:revision>
  <dc:subject>Slavic hymnal Гимны веры христиан, hymn 408</dc:subject>
  <dc:title>What Will You Do With Jesus? / Перед Пилатом Иисус стоит</dc:title>
</cp:coreProperties>
</file>