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61D-B397-408E-904A-A317E242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6C5-4F5F-4966-9AB2-8BE10737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888-9A0C-4DCA-9C02-3BAE97F7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58B-2E0B-4B42-BDEE-70AC4DE7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D9F-0978-4626-8BD1-61E9AA57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B7F-7823-4809-B40C-25982EC1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CE5-6469-4D2F-AF4A-FDDDB9FF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9CA-26C3-4409-8DB5-FB1D88D1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388-1960-477B-AFF0-06C9EFAB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58E-CB2E-4CEE-9E19-8FE1D17B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03F-CD17-4D5C-AF33-FDB5F6B7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E5B-9AEA-487C-9412-C0F5C343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D8A3E-FD00-4F0E-A88B-415858AEB3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beauty of holiness we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e bring all that we po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ay at Your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lace where Your glory shi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all mank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drawn us with love di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u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17   In the Beauty of Hol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ause at Your gates once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my heart and my spirit s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sh I could love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and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re tribute that I could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there ever a song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ould ever express,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 that You’ve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I ever conceive of t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depths and the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rea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riches I now po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ause at Your gates once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my heart and my spirit s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sh I could love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and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37Z</dcterms:modified>
  <cp:revision>12</cp:revision>
  <dc:subject>The Source 3, song number 1317</dc:subject>
  <dc:title>In the Beauty of Holiness</dc:title>
</cp:coreProperties>
</file>