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3DFA-AD06-40EB-9AFC-46B47E4A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A6C-7444-47D9-90AD-26782A3C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1F4-E98D-4E77-914A-23B2B6FA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F42-4E60-44DB-A980-6113009A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27F-AE79-489C-AAFA-4EC7CC3E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76D-8759-4230-9107-6E547AA8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9F5-0215-4981-94D7-899101F6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D70-A8E1-4D8C-A37B-083B3A60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F9F-3E0C-4987-AC64-4E36C6A4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BAE-B249-4A22-8CFE-43F5DFD1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76A-C39B-4D2D-8E30-86D5FA42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DE7-B4CD-401D-B6FC-D2BCC01D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E6152-0365-4B9A-897B-466EE0ED8C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my heart is p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o deeply for mirth and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burdens press and the c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r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way grows weary and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 мной ли 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в сердце ст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корби сжимают гру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яд забот с каждым днём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тёмен жизненны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my way is 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nameless dread and f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daylight fades into deep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He care enough to be n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омра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тучей скорбей и б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сный день скрыла ночи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Он мне помощь и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I’ve tried and f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sist some temptation str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or my deep grief I find no rel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my tears flow all the night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я сраж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не спешит пом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жат к стене, нет защиты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ыдаю горько всю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I’ve said goodb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dearest on earth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ad heart aches till it n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it aught to Him? Does He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путь прой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«прощайте» скажу друзья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кончит труд, в вечность отзо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ли Он со мной 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0:53Z</dcterms:modified>
  <cp:revision>12</cp:revision>
  <dc:subject>Slavic hymnal Гимны веры христиан, hymn 862</dc:subject>
  <dc:title>Does Jesus Care? / Со мной ли Он?</dc:title>
</cp:coreProperties>
</file>