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7B59B-670D-4E5D-9D2F-6F2D9B924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34DC0-CAF6-486A-9A72-FDCAC5A00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45943-8741-4E1F-91A0-699BC60D8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19BA9-5CA4-4867-8E77-6D6B41913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B2DF8-8F44-4D48-8880-4F6B851A2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58D2D-F0CF-4F4F-972C-1E0F103EF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C8288-87FD-4876-BE50-51C79E1EE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6E21E-1727-4BFF-8609-AC82ADAE4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DC09C-63F4-418D-B0F6-CC077852E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BEFC5-B737-409C-BD40-FD1C10A67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545DF-4D7B-4986-B3DB-16BFE6C30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C03B0-5A44-458E-89D0-67601C9CE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A6E87C-8B36-4CDD-8DF9-5CB89E591429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ть холм зелёный там вда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городской стен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распят был за грех зем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т, Кем мы спасен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ос нас много возлюб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злюбим же Его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мыты кровию свят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ть будем для Не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18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Есть холм зелёный та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ие муки перенё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можем мы сказ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верим, что страдал за на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жизнь нам даров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ос нас много возлюб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злюбим же Его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мыты кровию свят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ть будем для Не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ь умер на крес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дать прощенье н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мы, предав себя Ем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Шли по Его след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ос нас много возлюб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злюбим же Его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мыты кровию свят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ть будем для Не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диный Он достоин бы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с грешных искупи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рата небесные лишь О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г людям отвор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ос нас много возлюб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злюбим же Его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мыты кровию свят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ть будем для Не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0:20:46Z</dcterms:modified>
  <cp:revision>12</cp:revision>
  <dc:subject>Slavic hymnal Гимны веры христиан, hymn 418</dc:subject>
  <dc:title>Есть холм зелёный там вдали</dc:title>
</cp:coreProperties>
</file>