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595-4863-4915-907C-8F3E5EFA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626-C593-47F2-903D-94DFDD6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BAE-F969-4D52-B51A-92BAF803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DCE-26DD-43BB-9295-8D89CDFF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867-2C9B-45F3-8B13-E57FC61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756-9B13-4F0D-B530-9424B4F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CE8-19A8-4FCA-8A7C-888A6B0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1A2-0006-4551-AAC4-B1EE9A9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B21-5FAC-4258-8049-C6AECDA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98A-4119-41CD-8A0A-489A685C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6C8-E1D4-4AB1-B169-E8B504E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88B-E7DF-43D1-AF22-24EC7B23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6D5E5-BBCF-48E0-B316-30DD67C4A8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56Z</dcterms:modified>
  <cp:revision>12</cp:revision>
  <dc:subject>Slavic hymnal Гимны веры христиан, hymn 868</dc:subject>
  <dc:title>Когда я поднимаю взор</dc:title>
</cp:coreProperties>
</file>