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99F-9E37-4D2E-9947-80FD58F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914-1D7C-4BCA-94DE-763FD7D1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73F-94AA-40FA-ADA4-EDE0F707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EBF-C0DD-427F-879B-EBC9E59C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B8B-4E3B-4F87-AEDA-A85838FF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C8D-BCD8-4D80-9751-AF3136B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C1F-10AB-4AEF-9191-011458F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9F7-ACAC-4ACE-A405-97F9F29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4B7-F9B3-47B6-A7C2-BEE2702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05A-C387-47F4-B65D-FEF1292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7E2-BBDB-43C9-B742-780EB66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CD4-B8FC-454A-94EC-B4C4F6B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18B3A-B768-4536-AD14-0F7DD18211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rs I spent in vanity and p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ing not my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ot it was for me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God’s Word at last my sin I lear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trembled at the law I’d spu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guilty soul imploring 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ve giv’n to Jesus ev’ry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gladly own Him as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raptured soul can only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love that drew salvation’s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grace that brought it down to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mighty gulf that God did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0Z</dcterms:modified>
  <cp:revision>14</cp:revision>
  <dc:subject>Slavic hymnal Гимны веры христиан, hymn 419</dc:subject>
  <dc:title>At Calvary / Жизнь моя терялась в суете</dc:title>
</cp:coreProperties>
</file>