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54B-E3C3-4795-9B2C-8DB88531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71C-519F-4DC4-9CAF-45387DBB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F19-6BBA-4441-BAE2-F076DCB3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33A-FCA5-42DC-9234-CAC471A2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E7D-3A30-41FF-907F-64D5706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A7C-C141-4000-B5B1-5330FA6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8A6-9FEE-44AF-B4FF-8470361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BBD-C006-4087-A3BD-784C519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507-4869-4958-9321-5BF47BC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CD1-FFB7-47D8-B768-7F539F5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25C-311E-448A-99EF-E403CE5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C6F-12B2-424B-BE0A-4EBFE36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E8F3B-3365-4DE4-9946-C643CBF033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а та — Христос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бурю, в грозу, сред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мы в ней об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уповаем на ск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 на пе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и все нев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ища, слава и поч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этом их наде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и стройте на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ите все прочь сомн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ущий правды пуст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 найдут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11Z</dcterms:modified>
  <cp:revision>12</cp:revision>
  <dc:subject>Slavic hymnal Гимны веры христиан, hymn 632</dc:subject>
  <dc:title>Мы все уповаем на скалу</dc:title>
</cp:coreProperties>
</file>