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2ED-B912-4BEC-BF08-E027C04B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DFD-EFFE-4D07-87ED-F0D963A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80D-248A-478F-AD73-FC0E009D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63A-03DC-4E23-B589-A53422D3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355-F635-4D55-B265-194B2933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2D5-43C1-4744-AA70-CDB7FA2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3E6-5002-4552-9F62-2384FE0B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B57-3F38-4A58-B94F-222F7E5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DAA-A4D6-46AC-97B0-27C8B97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183-D91F-4A4A-A6DF-C11B9D03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CC6-A2A9-4420-B64B-45C83A7E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951-0FD7-4221-96FA-23298AF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50959-9C64-48EB-AFF5-E0D3B4166B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45Z</dcterms:modified>
  <cp:revision>12</cp:revision>
  <dc:subject>Slavic hymnal Гимны веры христиан, hymn 803</dc:subject>
  <dc:title>Я не забуду детских лет</dc:title>
</cp:coreProperties>
</file>