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564-B180-4F51-8DBB-8A383002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469-6C5E-4450-B3B3-F4CEB564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464-A99D-4BE0-8C01-CA4A1858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097-3E4C-4F75-A3D9-C03C9AD7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FDE-ED60-4897-B028-FC302460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F7C-750D-495F-92C7-FCED225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B4F-D925-448A-842F-D0407407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C8E-208F-46D2-BA5F-E54E029E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188-095F-4082-A15B-731BD3E4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526-CF6D-4C70-8A31-81461C2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7E3-945E-4C5C-8BEA-36A6AC9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55C-3435-45E3-A97E-B10F50C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7AD74-44B3-42B3-B14C-35CBDD6369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I Look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y will becomes enthrall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58Z</dcterms:modified>
  <cp:revision>9</cp:revision>
  <dc:subject>The Source, song number 571</dc:subject>
  <dc:title>When I Look Into Your Holiness</dc:title>
</cp:coreProperties>
</file>