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D7E-07D2-4E3B-AD65-5DF6A16B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180-139D-4B9B-A398-6DDB00F1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BC2-8F87-414A-9C5B-D2C531E6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E16-9034-4E0A-9E77-8DF059AA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200-6898-43DB-8F1F-910B7821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798-E78E-4FD0-977A-D6E98B9E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8F1-AF23-4354-8E7C-A03BA009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1EB-216A-44EE-9355-B0EEE8D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B8B-9AFA-4BA3-891B-3F4816D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AD8-6042-4EFC-AD7D-6D5DF61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FCC-6E44-4E35-B792-368B255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2E0-A54D-49A1-B23C-118E0DB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CBDF-2FA3-420E-934E-E0D47C56C0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 with ev’ry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rfect life, the perfect de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rown of thorns You wor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owned us with eternal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You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overwhelmed wit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bedient to death You over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9   You Chose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oosed the cords of sin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oke the chains of my disg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again so glori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rrow that surround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, but Yours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20Z</dcterms:modified>
  <cp:revision>12</cp:revision>
  <dc:subject>The Source 3, song number 1659</dc:subject>
  <dc:title>You Chose the Cross (Lost in Wonder)</dc:title>
</cp:coreProperties>
</file>