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8C35-C435-489D-8644-F0F39FFB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1C5-8C99-4522-B697-711C71D3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4929-88DC-4BB7-A14A-C224D517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635-A12B-4C2F-9CCB-35B805EF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70C-9DCD-4016-A202-76616DCA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9F2C-449C-4B5B-AA95-3EB994E5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E98-4E71-404A-9BAA-0227EBAD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2E0-4FF6-4C69-9268-5E52C9B4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5E60-F6F6-4B3D-8D01-72C61CC1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F69C-96FB-424E-A7D8-0E8513B6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8311-4166-4072-BBE1-EB772FEF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DFF-1CFE-4D91-A6DF-4A9CF2EF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8C383-D7A9-4E57-BE44-F234FEFB95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о славе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, средь земного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она полна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она полна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ойте о славе неб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ись в Христовой кр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ждём только зова т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частливы в Божье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частливы в Божье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изваны к Агнцу на бр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в восторге т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м же нас холод и мр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м же нас холод и мр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ественном слове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льётся живая в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люч средь пустыни сух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люч средь пустыни сух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нас Бог окру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хочет от нас Он пл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ере полученных си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ере полученных си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но от мысли 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скоре минует ну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ый увидим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ый увидим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7:40Z</dcterms:modified>
  <cp:revision>12</cp:revision>
  <dc:subject>Slavic hymnal Гимны веры христиан, hymn 663</dc:subject>
  <dc:title>Воспойте о славе небес</dc:title>
</cp:coreProperties>
</file>