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801-F08C-44C0-8AFE-11129E85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773-9241-4255-9E22-031D3618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4A2-8A1E-403B-BBB2-C35688CF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883-5E08-458F-AF33-A4C28139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73B-2C05-4D51-8253-3E24EA6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8F5-D14F-4DF7-AC3E-222667D6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C2D-FE3A-4D49-A640-0C6B6C8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2E9-DDD2-43F1-8043-1BEE059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109-80ED-454C-AB52-FF0047B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E83-9C7B-483E-863D-9156187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C3A-5777-4F86-A402-FA4D2A4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51B-7759-485C-89D9-07ED21A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37DA-E64B-4A35-9F38-DABAF190A2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come into Your presen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acrifice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I will exalt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You all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livered me from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reated in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Come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exalt His hol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alt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37Z</dcterms:modified>
  <cp:revision>11</cp:revision>
  <dc:subject>The Source 2, song number 815</dc:subject>
  <dc:title>I Will Come Into Your Presence (Lift Him Up)</dc:title>
</cp:coreProperties>
</file>