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DD0-5191-4403-A91C-08A7BD9E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5D6-5165-4534-B8CD-E71CA69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3E0-1D2D-4709-9602-0C846F8C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4D7-E732-464B-89BD-CE36FB3B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35F-9017-4D9C-A958-D657EB3E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5C3-908D-4EED-9E3A-F7E9003B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105-A8BD-4A72-8C62-837D513F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0D3-52E3-4F0C-8B84-B973FA7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94A-DEAB-4AFF-B44B-2F1FE0F9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55B-ACCE-4082-BAD8-E4277E4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B4A-3D4C-4DB8-AB73-164EF12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7E2-1F89-414B-B859-2BD9FBB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4E5F3-B02F-41E2-BF83-2BEF4B1BFD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ось чудо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ц пали стражи, видя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ала в те мгнов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Христа во гробе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Он людям двери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и власть побе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неслася весть благ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Нам жизнь да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шилось чу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сегодня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ветлым куполом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Воскресни,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души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ут все сердц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заве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ристос Воскрес», как эхо г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пустыне и в го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с дивных мест С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зывается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 для всюду сущ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тюрем, рудни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, Его к себе зовущ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пасенье от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Божественно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Он наши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прощающе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Царство вечное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этот день, друзья и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достный призыв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м с радостью объят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истину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07Z</dcterms:modified>
  <cp:revision>14</cp:revision>
  <dc:subject>Slavic hymnal Гимны веры христиан, hymn 286</dc:subject>
  <dc:title>Свершилось чудо воскресенья</dc:title>
</cp:coreProperties>
</file>