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7C1-02BE-4759-AF7C-01E98EA4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9A5-233F-4664-A675-0986DB2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A49-D3A6-4BFD-A23E-6588EEAC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FEE-3335-43F5-AEA8-06FFEA2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74E-1158-4B9A-B4DF-9259D0D8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72D-FBF9-4367-B721-5DA9890D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C94-D253-45B8-AE67-2928CA9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4B5-9371-4745-81E9-76188693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A6-FD09-4CA9-ABF0-A505F71F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B21-EF83-42D8-8EED-FC99882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1A7-65B7-4C29-A06B-2A25B10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AAD-D5F9-43D0-A78E-DEE9B40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189BB-1D68-4A93-A0A6-5ECB187CB1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onsuming fire is in Your ga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ant You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follow You all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 one else in history is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tory itself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pha and Omega, You have lov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hare eternity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about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is i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and Your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 abou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f You should do things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urrender to Your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10Z</dcterms:modified>
  <cp:revision>11</cp:revision>
  <dc:subject>The Source 2, song number 837</dc:subject>
  <dc:title>Jesus, Lover of My Soul (It’s All About You)</dc:title>
</cp:coreProperties>
</file>