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4BC-454D-409C-A56B-D5366906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DCE-22F9-4782-A77F-AAC476C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C71-EEC6-4CC6-BB7C-85A5326A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FE1-6866-41AA-9078-B8377F13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6B3-517B-452D-96A4-7C98E08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E17-D366-4CB6-822F-95DCEADC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4F3-F4C0-40CE-A7BB-3883AD4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C9A-2B2E-41C7-BD13-92B16ED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9CA-1382-4B87-8DAA-53A6F9D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F97-6F7F-4673-BC38-79DEBD9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61-332B-4F64-9FCA-E44CDDE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45D-8ACA-44A1-A627-41CDAF5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583D9-7129-46E7-8564-88E1976682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1:33Z</dcterms:modified>
  <cp:revision>13</cp:revision>
  <dc:subject>Slavic hymnal Гимны веры христиан, hymn 592</dc:subject>
  <dc:title>Страны богатства я достиг</dc:title>
</cp:coreProperties>
</file>