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86A-3993-400E-A4C4-42D353FE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DC2-04DD-4F54-8E14-71539F5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11C-665C-434F-BC9F-B254137E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A24-0FEE-4EFD-B5BB-33B6423D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200-DCB3-4260-B7D3-4ADB48FC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DF5-39A5-46B2-BEB0-A529D75A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4FA-2891-4F4C-8435-CDC3CB2E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3E8-B710-4065-B19E-124CF908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7BF-3A63-434B-B132-895C71FB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200-8C5C-42FB-8A6A-A1E0968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363-9027-4F65-9194-9F5C0BE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743-F3EB-41F2-94A0-1396FED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1759D-427D-4778-A899-7DFBC52F04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10Z</dcterms:modified>
  <cp:revision>12</cp:revision>
  <dc:subject>Slavic hymnal Гимны веры христиан, hymn 889</dc:subject>
  <dc:title>Пойте о любви Христовой</dc:title>
</cp:coreProperties>
</file>