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CC3-880F-489E-A3F5-CADA3BDF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F59-D579-4288-A800-2908698E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46B-4AD7-4189-B3DD-D2A44F29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AC9-7A66-408E-AD53-DE8721AA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233-00DA-4D7B-B7A8-70B71FF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D80-4447-4876-92F5-AAC2001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DA1-2DB5-4E52-A742-B657444D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952-0EE1-42F3-8AB1-46B8DEE2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819-16F3-4686-9A53-80D1BF5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3CB-40F3-46C4-AAE6-67A9E1D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877-1268-4122-BC52-C2FAFE2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987-FC42-4C20-A982-00A1F21E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D55F4-AD5C-4D5E-AC29-931CD78F09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71   Come, Let Us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come before Him with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xtol Him with music and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Lord, our Lord, is the gre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King above all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bow before Him in our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kneel before God, our great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our God and we are Hi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y we shout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32Z</dcterms:modified>
  <cp:revision>12</cp:revision>
  <dc:subject>The Source 3, song number 1171</dc:subject>
  <dc:title>Come, Let Us Sing</dc:title>
</cp:coreProperties>
</file>