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76F-8A4B-4294-8B62-1D09E53F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E3A-1BBB-41E1-B045-0BCAF1A2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762-1918-4B0F-BB8B-EAB83B1A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8B8-031A-4E03-8E1B-BD750E9C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66F-47C4-435E-B372-25952A55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798-2D0E-43C3-A03D-42BE162F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9F3-F554-449D-B7A4-F4EB8D0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EE4-40AF-41A2-BD31-0A6A4364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B80-403B-42BD-8F1B-0551E641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A37-8563-4F40-A011-5180046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31D-B10E-455E-A536-925508CB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2FE-BB85-4248-B3F1-E23D477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8BB43-7F08-4C7E-B974-43E7692C81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yes that I may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impses of truth Thou has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ace in my hands the wonderful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unclasp 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глаза м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небесных тайн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ключ Твой мне вр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свободу выше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yes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О,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ю мне Твою отк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, пошли Тво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ars that I may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ices of truth Thou sendest cl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the wave-notes fall o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false will dis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, чтоб слыш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голы истины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вечной правды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шум земны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ars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Явись мне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вечную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 к Тв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mouth and let me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the warm truth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heart and let me pre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with Thy children thus to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уст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мог правду возве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чтоб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лась потоко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heart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Прид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ы мне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будь в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0:51Z</dcterms:modified>
  <cp:revision>12</cp:revision>
  <dc:subject>Slavic hymnal Гимны веры христиан, hymn 839</dc:subject>
  <dc:title>Open My Eyes That I May See / Открой глаза мои</dc:title>
</cp:coreProperties>
</file>