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49A-36E4-4457-AA0D-64298C58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209-6559-4B1D-8B54-9F805470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F0C-9D85-4F3C-99F9-4D1A883A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057-595A-43B3-A050-09FE4D30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368-D556-4B18-98A2-F8843B15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669-41FC-4760-83C2-70025680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2F4-BAE4-4CC9-9447-598F83CD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C7C-8BE9-48AB-ADC6-C977BECB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D2C-0A2B-411D-9CD3-0FE04880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AC9-F92C-4EE7-BB47-60724670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84D-F5BD-498A-8AFB-A45A3FA1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CC2-D975-4221-A21A-77F6AAD1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DEE99-56F9-41E2-99AC-4C7E9859C3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й, страдалец, чашу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й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а Господня в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а Господня в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й, страдалец, чашу г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ь, укрывшись от нар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Христовых н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гонит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я даст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гонит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я даст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ессилен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 хотел у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зор твой Он расши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овняе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зор твой Он расши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овняе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дорогой то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, не спе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крест неси поко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олит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крест неси поко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олит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изб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емных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слышишь прибли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х пес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слышишь прибли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х пес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3:35Z</dcterms:modified>
  <cp:revision>12</cp:revision>
  <dc:subject>Slavic hymnal Гимны веры христиан, hymn 711</dc:subject>
  <dc:title>Пей, страдалец, чашу горя</dc:title>
</cp:coreProperties>
</file>