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4</a:t>
            </a:r>
            <a:r>
              <a:rPr b="1" lang="ru-RU" sz="3600" spc="-1" strike="noStrike">
                <a:solidFill>
                  <a:srgbClr val="ffffff"/>
                </a:solidFill>
                <a:latin typeface="Verdana"/>
              </a:rPr>
              <a:t>	</a:t>
            </a:r>
            <a:r>
              <a:rPr b="1" lang="ru-RU" sz="3600" spc="-1" strike="noStrike">
                <a:solidFill>
                  <a:srgbClr val="ffffff"/>
                </a:solidFill>
                <a:latin typeface="Verdana"/>
              </a:rPr>
              <a:t>Верность Твоя велика</a:t>
            </a:r>
            <a:endParaRPr b="0" lang="en-US" sz="3600" spc="-1" strike="noStrike">
              <a:solidFill>
                <a:srgbClr val="000000"/>
              </a:solidFill>
              <a:latin typeface="Verdana"/>
            </a:endParaRPr>
          </a:p>
        </p:txBody>
      </p:sp>
      <p:sp>
        <p:nvSpPr>
          <p:cNvPr id="39" name=""/>
          <p:cNvSpPr/>
          <p:nvPr/>
        </p:nvSpPr>
        <p:spPr>
          <a:xfrm>
            <a:off x="179280" y="287280"/>
            <a:ext cx="9899640" cy="403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Great is Thy faithfulness, O God my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is no shadow of turning with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changest no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y compassions, they fail no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ou hast been Thou forever wilt b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рность Твоя велика, о,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милость Ты дивно я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еизменен, от века Ты — тот 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состраданья и отчей любв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ning by morning new mercies I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I have needed Thy hand hath provid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 Lord, unto me.</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287280"/>
            <a:ext cx="9720360" cy="403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Summer and win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nd springtime and harv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n, moon and sta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n their course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oin with all nature in manifold wit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great faithfulness, mercy and love.</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Лето и зиму, посевы и жат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нце и звёзды, погоду и дожд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чредил, нам слова их понят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управляешь Ты, всё нам даёш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ning by morning new mercies I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I have needed Thy hand hath provid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 Lord, unto me.</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287280"/>
            <a:ext cx="9720360" cy="403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Pardon for sin and a peace that endure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ne own dear presen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cheer and to gu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rength for today and bright hop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for tom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ings all mine, with ten thous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beside!</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ир постоянный, грехов отпу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ую помощь в различных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йкость в борьбе и надежду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дарует нам верность Твоя.</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ning by morning new mercies I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I have needed Thy hand hath provid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eat is Thy faithfulness, Lord, unto me.</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3:05Z</dcterms:modified>
  <cp:revision>3</cp:revision>
  <dc:subject>Slavic hymnal Гимны веры христиан, hymn 34</dc:subject>
  <dc:title>Great Is Thy Faithfulness / Верность Твоя велика, о, мой Боже</dc:title>
</cp:coreProperties>
</file>