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9F1-6708-4962-BAD1-F5386EB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E1B-3226-418C-9C6C-C4462406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139-6EF3-450D-9EB3-ED323A4F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584-877D-4E8A-8929-1D7264C1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045-DB3B-4728-8F97-DD237E93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A47-E1CC-46F0-8D60-6ED299CF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A1D-8CA4-430B-9639-15FF5E1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C80-6690-408B-A515-83409E4D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C6E-75D3-4C29-8998-9DC0BE46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B91-612C-4142-B673-F1F2E51B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2AB-B65B-4C86-93C1-6B7798C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AA5-2EC6-4899-B936-D09C46B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448AB-43BD-4498-ACE1-FEADA23E99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, ye saints! The sight is gl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an of Sorrows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fight returned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to Him shall b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, angels, crow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the trophies Jesus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at of power enthron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vault of heaven r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in derision scorn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cking thus the Saviour’s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and angels crowd aroun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bursts of accla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loud triumphant ch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takes the highest s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joy the sight aff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1Z</dcterms:modified>
  <cp:revision>13</cp:revision>
  <dc:subject>Slavic hymnal Гимны веры христиан, hymn 297</dc:subject>
  <dc:title>Look, Ye Saints, the Sight Is Glorious / Посмотрите с ликованьем</dc:title>
</cp:coreProperties>
</file>