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45B-7B68-4024-A445-8C437B07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808-2CB7-4A4D-A717-3A69AC55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222-B5EB-46BC-9C33-9D2BE43A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3D2-AAC4-4D8A-A9AB-943A061B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DB3-A487-40D2-9454-2D28034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42D-2A71-49A1-A96C-793C6BA7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0F2-F208-4767-9D28-C8F7CA42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D73-7B94-4CE0-8D92-94254AEA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B55-4F1E-4099-8182-FD6028E2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B44-E226-4194-9BAA-25BF6CD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7E6-4591-4772-BD82-772714F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05D-D950-460E-92C4-E6C2931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8C6A-DBBC-4E12-A54B-2656F5A645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Thou fount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ne my heart to sing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mercy, never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for songs of loudest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some melodious sonn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g by flaming tongue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mount! I’m fixed upon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 of God’s unchang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raise my Ebenez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ther by Thy help I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ope, by Thy goo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to arriv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ught me when a str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from the fold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o rescue me from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erposed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grace how great a deb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I’m constrained 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grace, Lord, like a f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nd my wand’ring heart to Th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wander, Lord, I fee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leave the God I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’s my heart, Lord, take and sea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 it for Thy court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7:29Z</dcterms:modified>
  <cp:revision>14</cp:revision>
  <dc:subject>Slavic hymnal Гимны веры христиан, hymn 304</dc:subject>
  <dc:title>Come, Thou Fount of Every Blessing / Дух Святой, Дух благодати</dc:title>
</cp:coreProperties>
</file>