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A9B-4404-413E-B466-2538D0BB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4D7-B322-42EE-949A-4069D4E0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4C5-A818-4E49-8D5F-743FB6BC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E33-29DC-4ED7-9FDA-CC7CB8B5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09A-0A59-4E48-AFE6-34C09E04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697-A32B-4B94-AC9D-39D3389F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444-EF50-4F3B-ABC3-DF2A78C4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7F5-F1D1-4D49-BBAD-286206F6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619-5531-4EBE-8C43-E3FE7E88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4BE-AE97-4851-916D-26ADAC15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3BC-F203-4456-801F-79C4C41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460-E4F8-4F42-BCB1-6E7A877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A094F-24C7-4490-86E0-9AFE369172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1   Worthy, You Are Wo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You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You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45Z</dcterms:modified>
  <cp:revision>11</cp:revision>
  <dc:subject>The Source 2, song number 1071</dc:subject>
  <dc:title>Worthy, You Are Worthy</dc:title>
</cp:coreProperties>
</file>