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7461-6DB8-43EB-BB74-F0888D0DB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D6D7-F629-4CB1-8C32-0A848A676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CCCD-CA9D-4856-B451-EB7C7924E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DAAA-4759-4272-B3CA-2AC81CBDC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44FC-A92B-49AF-8CEA-214633F62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2D6B-4713-4E54-89DB-EA54777A9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80AF-22D8-425F-BD2D-6F0DA3ACF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B138-DD6D-4E21-B42D-B981A009D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A49A-44D3-4BB9-AB09-08CE04D4E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6FC7-80EE-4AAB-AB71-69CD97175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8AAD-B5B4-482A-955B-30745C90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A3E8-C5A6-475F-AAE5-19CEBB04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BBFC56-FBE0-4C75-98DF-4E54153DB64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bove all powe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bove all k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bove all n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ll created thing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1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евыше си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выше сил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выше царст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выше сла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х земных богатст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bove all wis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ll the ways of ma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were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fore the world beg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выше мудр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х путей людск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ий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ладыка всей зем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bove all kingdom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bove all thron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bove all won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orld has ever know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выше солн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х пла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выше всех чуд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ие видел с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bove all w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reasures of the ear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’s no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measure what You’re wo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вознесё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небом и землё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т пу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краснее, чем Тв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rucif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aid behind the ston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lived to di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ected and alo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а гре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ознёс на крес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 распят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ретий день воскре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ke a ro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ampled on the gr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took the f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ought of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bove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цвет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топтанный в пы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ржен бы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сё прост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ыше все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1T14:51:02Z</dcterms:modified>
  <cp:revision>11</cp:revision>
  <dc:subject>The Source 2, song number 611 in Russian</dc:subject>
  <dc:title>Превыше силы, превыше царств / Above All</dc:title>
</cp:coreProperties>
</file>