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04</a:t>
            </a:r>
            <a:r>
              <a:rPr b="1" lang="ru-RU" sz="3600" spc="-1" strike="noStrike">
                <a:solidFill>
                  <a:srgbClr val="ffffff"/>
                </a:solidFill>
                <a:latin typeface="Verdana"/>
              </a:rPr>
              <a:t>	</a:t>
            </a:r>
            <a:r>
              <a:rPr b="1" lang="ru-RU" sz="3600" spc="-1" strike="noStrike">
                <a:solidFill>
                  <a:srgbClr val="ffffff"/>
                </a:solidFill>
                <a:latin typeface="Verdana"/>
              </a:rPr>
              <a:t>Страх ли душу угнетает</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When I fear my faith will fai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hrist will hold me f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n the tempter would prevai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can hold me fast.</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трах ли душу угнет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ль сомненья глас смущ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меня держи!</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old me f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old me f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my Saviour loves me so,</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old me fast.</a:t>
            </a:r>
            <a:endParaRPr b="0" lang="en-US" sz="3200" spc="-1" strike="noStrike">
              <a:solidFill>
                <a:srgbClr val="000000"/>
              </a:solidFill>
              <a:latin typeface="Verdana"/>
            </a:endParaRPr>
          </a:p>
        </p:txBody>
      </p:sp>
      <p:sp>
        <p:nvSpPr>
          <p:cNvPr id="57"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руку держи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руку держи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всемогущ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всегда держи.</a:t>
            </a:r>
            <a:endParaRPr b="0" lang="en-US" sz="3200" spc="-1" strike="noStrike">
              <a:solidFill>
                <a:srgbClr val="000000"/>
              </a:solidFill>
              <a:latin typeface="Verdana"/>
            </a:endParaRPr>
          </a:p>
        </p:txBody>
      </p:sp>
      <p:sp>
        <p:nvSpPr>
          <p:cNvPr id="58"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old me f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old me f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my Saviour loves me so,</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old me fast.</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руку держи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руку держи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всемогущ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всегда держ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I could never keep my hol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old me f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my love is often col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must hold me fast.</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Если близко искуш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мне верить в избав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меня держи!</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old me f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old me f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my Saviour loves me so,</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old me fast.</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руку держи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руку держи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всемогущ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всегда держи.</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I am precious in His sigh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old me f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se He saves are His deligh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old me fast.</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 светлый час иль час ненаст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и скорби или счаст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меня держи!</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old me f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old me f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my Saviour loves me so,</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old me fast.</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руку держи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руку держи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всемогущ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всегда держи.</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He’ll not let my soul be lo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hrist will hold me f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ought by Him at such a co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old me fast.</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Мрак ли путь мой затемня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ет Твой тьму пусть озаря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меня держи!</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old me f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old me f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my Saviour loves me so,</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old me fast.</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руку держи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руку держи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всемогущ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всегда держи.</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О, веди рукой пронзё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небу Ты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душою обновлё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хвалю Тебя.</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20:55:56Z</dcterms:modified>
  <cp:revision>3</cp:revision>
  <dc:subject>Slavic hymnal Гимны веры христиан, hymn 204</dc:subject>
  <dc:title>He Will Hold Me Fast / Страх ли душу угнетает</dc:title>
</cp:coreProperties>
</file>