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3D7-9E3D-4917-87ED-FB0BEEF6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D5B-511B-4E67-9FC4-FD74CFCF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DCA-F6B4-4EC3-B326-49F3A723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8C8-3BCE-4D05-9B4E-2CE73DE4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CFF-47CA-4A6D-B8BC-106B95E9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8E0-660D-45AF-8E2E-4095185D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F46-DDF4-460C-BA2E-FF2B8F45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0A6-65F1-4F9E-B544-EAFD8368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C2A-2225-4A16-B101-A7C51C2D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6B7-C919-4A82-88DF-E683B12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4E8-8864-4D9E-B968-1FA0EA3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9AB-E64B-410F-A029-7602EAB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D554D-A878-4F38-A996-3E78A3D9F9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Know He Rescued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y bu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with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dancing on this mountain-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13Z</dcterms:modified>
  <cp:revision>11</cp:revision>
  <dc:subject>The Source 2, song number 768</dc:subject>
  <dc:title>I Know He Rescued My Soul (My Redeemer Lives)</dc:title>
</cp:coreProperties>
</file>