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CF19-3A17-450E-85B4-A7B39A488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A063-8345-432E-AE30-D3100149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FF85-A17E-403A-91EE-24D1457C3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6BCA-4298-46AD-A877-564BD1E4D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E736-0F51-4AFA-93BE-3F4AB290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382A-D706-429C-8851-0EFB8F80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56B6-DD46-4A2C-A880-39F62DE6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FA00-DD0B-4E43-A57E-BC274A3C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35D0-0889-438D-A825-80DC3321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011B-A7C4-405A-94A7-9D180D02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8619-1FC6-4FDA-9A50-90234A80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0541-5ABE-4351-B0B4-C20A80B4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A41CE-1A43-439E-80D4-9D6CDC038EC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молитвы, в час про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твоей нужды боль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приятный, в час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ли, брат, дом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час молит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еко ты заблуд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Христа в путях зем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ебя Он примир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, мой друг, вн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найдёшь ты утеш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решном мире сём, брат м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Иисусе в день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обретёшь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прийти к Нему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зыщи прощ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с небес об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твой искуп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11-28T02:16:35Z</dcterms:modified>
  <cp:revision>14</cp:revision>
  <dc:subject>Slavic hymnal Гимны веры христиан, hymn 335</dc:subject>
  <dc:title>В час молитвы, в час прощенья</dc:title>
</cp:coreProperties>
</file>