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93B-8BF2-4E4D-B2F7-D729AB85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7A3-0797-43EB-B9AE-7CDD6542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23B-88C4-4F2D-9C26-7CF926E1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B3C-FF88-4B7E-B14D-4F5151D3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52D-9B43-4913-B243-451FFBA6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843-C89F-49A3-9D06-E3D0339E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FB3-0517-477E-B410-9F2C79AA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D3F-2CD6-43CA-A6BB-1CDCB17F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DEC-281B-4A9F-9B7D-A4C3D18F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780-C867-48B8-8D92-76F88A3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35D-AFC0-4821-B776-0DD568F0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03D-A5F4-443E-8A11-B9A66FE4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550A3-C22C-40FA-98D2-3A4ACE160E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орогие минуты нам Бог даров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увидели братьев, сестёр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Иисус дорогой с нами быть обещ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дим Богу в сердце простор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 приятно нам встретиться с в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ед Н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олнение мира забы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 отрадно, исполнившись Духом Святы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бщение душ раздел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ие минуты нам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, Сионские путники, здесь отдохнё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 источников Божьей вод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 Фаворе побудем и снова пойдё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 Господом мимо враж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десь в общении сладком забыли мы стр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уровые камни пу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бодренье нашли мы в Господних слова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тоб с силою новой ид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теснее окружим Иисуса Хри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, взирая к предвечным гор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д бронёю Его, под покровом щ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йдём по Господним след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7:23Z</dcterms:modified>
  <cp:revision>13</cp:revision>
  <dc:subject>Slavic hymnal Гимны веры христиан, hymn 742</dc:subject>
  <dc:title>Дорогие минуты нам Бог даровал</dc:title>
</cp:coreProperties>
</file>