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EE3-1AE1-4BAF-A07D-21245909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416-358E-44EE-89FF-BB606075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016-26AA-4623-A3EC-FD5C08D6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8FC-2C71-467C-B623-04F853AA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EDF-F18B-46FB-9487-557EE286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AB5-ADA3-4D56-83A0-85C0FEA4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108-D3DA-4818-93E4-CF230D93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FFA-89E2-4CCE-863F-0938F18F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DCE-3AF5-4193-BBFD-1B94B97A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BFC-E73A-441F-B887-78259C2E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A7F-8BCA-476C-86D4-B884FC30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82C-040C-4CC5-8FAC-539BB273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9F42C-F226-4B10-9E84-5D797372E2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love (more lov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ower (more power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of You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love (more lov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ower (more power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of You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5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ore Love, More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love (more lov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ower (more power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of You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love (more lov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ower (more power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of You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ek Your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ek Your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ek Your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0:55Z</dcterms:modified>
  <cp:revision>11</cp:revision>
  <dc:subject>The Source, song number 359</dc:subject>
  <dc:title>More Love, More Power</dc:title>
</cp:coreProperties>
</file>