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679-BE30-499A-9C93-C8541390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C57-1529-4236-ABC3-BF82BAA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235-F35F-4596-9EAF-B76AD9F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8B6-3578-40C6-AED6-CEB982DE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F13-E3C5-4CB9-871F-CB6D824A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19D-3E5A-4038-98CF-AAF37AB3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8B3-3DA3-45AD-8E45-C0B3CD69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290-2620-477A-A266-435790E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3F1-1F48-4517-BBD5-E036A4B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6A8-5FCA-4F2A-B82B-5842BDA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7C6-FC48-4EED-AB45-745A8A5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F9A-6077-4191-906C-E1BE3B8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B3D5-31E0-4CAF-A40A-5F34386928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 в яслях… чтоб 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шли со все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ыну Божью. Кто сей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нам ро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огом был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образ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збавить род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Он в ясля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е и пой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 землю к нам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 небе всех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меет Свой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падём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ольёмся в дружном п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Боже, из нас кт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ценит и пойм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ешился и я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вес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Твоя сверш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грешникам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Бог нам стал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0:39Z</dcterms:modified>
  <cp:revision>15</cp:revision>
  <dc:subject>Slavic hymnal Гимны веры христиан, hymn 230</dc:subject>
  <dc:title>Вот, Он в яслях…</dc:title>
</cp:coreProperties>
</file>