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B5C-D757-42D1-8328-CAC0C7C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761-8714-46DE-AD89-66591B8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22C-FCCB-45D5-BD1E-D8284404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D5E-AD9B-471F-9552-F694A87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2CD-9997-4467-AC1F-89C3408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518-E931-4D8D-86BA-E41B4F9C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B80-F3E0-4BFE-B0B3-1D128F0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4F9-F7AE-401A-9BE3-77E01121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473-082F-41B3-96A0-E8216B2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687-7072-4359-900D-962716D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C72-7049-45A2-AC3B-85BBAB1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40F-9EE8-41B1-8081-3CE051A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7874C-B0E1-4949-A692-D475BE9977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00Z</dcterms:modified>
  <cp:revision>12</cp:revision>
  <dc:subject>Slavic hymnal Гимны веры христиан, Ukrainian hymn 49</dc:subject>
  <dc:title>Не знав я Ісуса, життя я не знав</dc:title>
</cp:coreProperties>
</file>