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A4E9-5586-4398-A12D-AA36EE1B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DE49-E446-4784-A5D0-B6E263CE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9552-55CA-4C01-8C21-700327EE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06AE-3274-4766-993D-FE454298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E0F4-FFD0-4C02-96D7-1058F7D6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90E0-30E5-48B4-B7F7-05F93C02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EB40-727D-4D4C-8E9D-ADC14368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CBD9-FF49-4902-834E-21BC9794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49A6-1A72-480B-9135-15579E01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7D16-B724-447F-A379-C9FE7679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EAF0-5A2F-4A62-A3B6-74CBEE87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E5B-2695-4BC7-8318-7AB6FEFF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EC223-1F77-4760-8738-816E4C08C92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love, this hop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peace of God, this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faith, this j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life, complete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healed and w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risen in His righteous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in Him, He lives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illed with this hope in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flecting His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2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is Love, This H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s the time to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s the time to offe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my thoughts, my d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pla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it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s the time to live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s the time I’m found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s the time Your kingdom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0:52Z</dcterms:modified>
  <cp:revision>10</cp:revision>
  <dc:subject>The Source, song number 521</dc:subject>
  <dc:title>This Love, This Hope (Now Is the Time)</dc:title>
</cp:coreProperties>
</file>