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76A-D9C5-4E96-934A-1C604C30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2C0-44D2-4B6E-9AE3-B75556AB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B26-7EED-4B03-BA58-F99E7F3C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5C9-8C55-402F-924A-142A0AE4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578-7669-40ED-BB44-388A4E67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52C-76C7-4E27-B274-7F740255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AB2-70DB-48DD-B9AE-42CF7AF6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B05-635B-4A92-857D-078FCE03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8E6-87CA-4FE1-AA4E-D9AB509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416-2DD6-42CF-98DA-9347668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81C-DDE4-40BF-B845-382FD91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0EB-AA78-431F-B7D3-E1CEBB05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E375-5FD0-474A-AF6E-0D0490F34C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іті я без Бога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ти, як мене пр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ебе, як Творц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46Z</dcterms:modified>
  <cp:revision>12</cp:revision>
  <dc:subject>Slavic hymnal Гимны веры христиан, Ukrainian hymn 71</dc:subject>
  <dc:title>Коли я чую про Христа</dc:title>
</cp:coreProperties>
</file>