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EE2-7BB0-4678-B33A-050E01D3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2E2-3266-4E9A-A826-B2D698C0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863-75F5-4AAA-9FFC-BAD5192C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6D9-3E61-4623-82F3-2E2FDB63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DBD-4390-4CA5-85D7-4D1A04C8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C0C-69B5-4D8C-87D5-F4A47C04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E63-E71C-4C74-92E8-F3D5B873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4D3-1218-455D-A202-3A144856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46A-7C62-4F0D-BBF3-12034342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1BF-641A-460A-853D-4351F626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FA7-FABA-4502-9330-349D2C7C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EEC-D7A3-4E9F-9F88-41E713C5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B7F91-8232-4C0A-A7A3-CE7A43DC17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ники к родине славной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ненастья, н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ажити мира любовью цве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ит, как солнце,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путники к ро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страданий, ни б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мерти дыханья, ни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насилья, ни злобны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, там радость,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лышится клич, что стр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им поют из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 льётся, как Божья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пришельцам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я искупленных кров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ьют из источника бл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, любовью ч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их светлых о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исла пришельцев и их 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ишутся в книг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Бог принимает, а Божья 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улит навек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51Z</dcterms:modified>
  <cp:revision>12</cp:revision>
  <dc:subject>Slavic hymnal Гимны веры христиан, hymn 686</dc:subject>
  <dc:title>Вот путники к родине славной идут</dc:title>
</cp:coreProperties>
</file>