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19565-5056-407B-898B-C9DD32E99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58B49-3AC1-4E10-9903-90C51466C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38C08-17BF-45FD-A93D-D5A0A519D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66CC3-FF66-4DCB-802C-29ED528A3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AF857-6DF4-44C3-A29D-6D34B1280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6C368-9075-4E33-91D7-66647E5B6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7E05A-1C10-4F21-AB57-AC5141C5D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44BCB-0DA6-4DA2-95E7-1C63C5754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44EAA-122D-46ED-9E4F-526BD607D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AB877-2E16-4A95-A219-310127B56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1FF2D-A323-4B9C-9B6B-196A56B6A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619F8-A7EB-4285-AEB4-79629EAF3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94A6CE-0586-400F-9D92-0F11B894687E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tanding on the promises of Christ my King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ro’ eternal ages let His praises ring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Glory in the highest I will shout and sing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tanding on the promises of G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40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Верю в обещания Хрис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ерю в обещания Христа Цар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Песнь хвалы пою, к Нему душой смотр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«Слава в вышних Богу!» уж взошла зар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ерой в обещания сто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28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tanding, standing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tanding on the promises of God my Saviou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tanding, standing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’m standing on the promises of G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ерой, верой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ерой в обещания стою, стою 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ерой, верой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Я верой в обещания сто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tanding on the promises that cannot fail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hen the howling storms of doubt 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fear assail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By the living Word of God I shall prevail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tanding on the promises of G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ерю в обещания, Ему хвал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Не страшусь я грозных бурь греха и зл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Лишь бы милость Божия со мной был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ерой в обещания сто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28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tanding, standing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tanding on the promises of God my Saviou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tanding, standing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’m standing on the promises of G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ерой, верой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ерой в обещания стою, стою 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ерой, верой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Я верой в обещания сто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tanding on the promises of Christ the Lord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Bound to Him eternally by love’s strong cord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Overcoming daily with the Spirit’s Sword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tanding on the promises of G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ерю в обещания Христа ко мн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Отдаюсь Ему я всей душой вполн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И хочу с Ним быть на правой сторон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ерой в обещания сто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28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tanding, standing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tanding on the promises of God my Saviou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tanding, standing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’m standing on the promises of G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ерой, верой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ерой в обещания стою, стою 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ерой, верой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Я верой в обещания сто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tanding on the promises I cannot fall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List’ning every moment to the Spirit’s call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Resting in my Saviour, as my all in all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tanding on the promises of G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ерю в обещания, я в них креплюсь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Благодатью Божьей в сердце веселюсь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Радостно воскликну, как пред Ним явлюсь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ерой в обещания сто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28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tanding, standing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tanding on the promises of God my Saviou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tanding, standing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’m standing on the promises of G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ерой, верой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ерой в обещания стою, стою 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ерой, верой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Я верой в обещания сто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50:22Z</dcterms:modified>
  <cp:revision>13</cp:revision>
  <dc:subject>Slavic hymnal Гимны веры христиан, hymn 640</dc:subject>
  <dc:title>Standing on the Promises / Верю в обещания Христа Царя</dc:title>
</cp:coreProperties>
</file>