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8F2-3C90-48E0-9C30-170A7B26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01B-C69A-4464-82AE-DB2D7ED5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DCD-492C-407F-BCCB-7CFDA629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F9A-492C-41F5-BEDE-1175F680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72D-5F0C-433B-991C-69E87FA0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CD4-8C88-4413-A701-824D1CA5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416-306E-4245-82DF-FE6DFED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D08-2FC3-4191-A0B2-A246434A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772-BC4E-4467-A0F2-F8485155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CAE-E0BA-4906-8B9A-4F7F1512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66F-0CDD-4330-8BFD-F9A1A39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757-D23C-4EDB-90A8-82C7E98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B43E7-A0B8-493F-80F9-2A616D7CC3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0   Ісус прий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55Z</dcterms:modified>
  <cp:revision>14</cp:revision>
  <dc:subject>Slavic hymnal Гимны веры христиан, Ukrainian hymn 110</dc:subject>
  <dc:title>Ісус прийде, Він знов прийде</dc:title>
</cp:coreProperties>
</file>