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012-A0FE-43F7-B427-88ADE1EA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B1A-68CF-4BD9-B270-16D2553D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043-B582-4860-9615-61B48DF0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EEA-AECD-4E93-B4AC-9CFAF4D4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B06-2564-43E5-8D2E-F2494F42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59F-0D66-4811-9114-A9E0A188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4CA-49EB-4921-8463-49B4E112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65C-1BF6-4AFF-BCFC-17EEEA85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57C-509E-4C8D-B2D8-33B503CC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711-2BE9-4716-ACDD-1C01A506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F42-BD17-4758-A5DA-2A0CF0E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F78-6BAE-4BCB-8AC7-9CE0233D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2B281-C89F-4DB6-B8F5-BE68105918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л уже разлуки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ноет сердц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нает только Бог да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олько Бог да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бил уже разлуки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е есть, чтоб вместе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м слёзы и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жду нами Друг сто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Утешитель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ь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скитанье жизни с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оставим м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зьмёт нас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 на брачны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 н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с вами Бог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кже с нами зд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м нам ближе под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рекрасной родине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к родине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38Z</dcterms:modified>
  <cp:revision>12</cp:revision>
  <dc:subject>Slavic hymnal Гимны веры христиан, hymn 746</dc:subject>
  <dc:title>Пробил уже разлуки час</dc:title>
</cp:coreProperties>
</file>