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E80-B1CA-481F-9E19-DE52F6D6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577-EF6F-4DF5-AC99-E7BE3762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31A-F808-4944-AD8A-9C98BC63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A04-1E9F-4073-A3C7-3494AFFB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F7E-CF80-4034-8407-61F8FA2F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985-9F37-4475-ACF4-31123FA9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EB6-C134-4866-9178-24271FF4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DBB-4103-426E-9FD2-F014887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88D-BBE3-4DA0-BD3A-98121AD4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957-8141-4A5F-A9A1-ED9E3CA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C77-3117-4AF1-9232-794D562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9C9-92B8-4BE1-A619-4706697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817FF-A850-4D35-B770-BE3435C06F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to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higher than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in its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 would f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inful, so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, Thine, would I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lm of the noon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orrow’s lone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imes when tem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s o’er me its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empest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its wide, heav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 in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ressed by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fled to my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eathed out my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en, when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ea billows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I hidden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Rock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22Z</dcterms:modified>
  <cp:revision>13</cp:revision>
  <dc:subject>Slavic hymnal Гимны веры христиан, hymn 626</dc:subject>
  <dc:title>Hiding In Thee / О, как рвётся душа</dc:title>
</cp:coreProperties>
</file>