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876-8EBC-4686-9C7C-56833DE1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E0C-ACAD-46AC-A123-3C8247A7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2FB-20FA-4D50-9A2F-719AFA2D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BB6-2363-4AB4-B341-22DE2EEF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339-13A5-412C-B181-C34CD07E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924-BE2F-4DEA-BC39-CDDA91A5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EB0-AEE9-4D4D-A71A-D1933D80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04D-3A43-42D3-BEDF-3D8206E2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F4E-5B98-458F-AA96-18AF516C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97E-A3E4-4F13-B473-686EF799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60B-AFC9-4A73-B74B-CC140463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CE2-7074-493B-B71C-417F6988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95138-320E-45FE-9CE8-0D4048C224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верь для нас од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возь неё си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пасите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й всех пригла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верста дверь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проходят дверью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рай войти жел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ый, знатный и пр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чрез эту дверь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Спаситель прим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мир душе своей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Отец обни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рат святых отчизны 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емной он сл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небесный зо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сподь во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51Z</dcterms:modified>
  <cp:revision>12</cp:revision>
  <dc:subject>Slavic hymnal Гимны веры христиан, hymn 371</dc:subject>
  <dc:title>Отверста дверь для нас одна</dc:title>
</cp:coreProperties>
</file>