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523-2098-484A-B202-C03ECB4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366-A4D0-47DF-9443-ED075D0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051-CFCD-48DB-8760-F52752BA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81A-29FB-4220-9E02-099AB274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276-A002-494B-968D-4747E97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312-05DB-44CA-8C05-E3135958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246-4234-43BE-9101-F30904D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450-D75F-4F65-8FD5-EB49DFE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EF4-1C01-4CEC-BCAB-4B35E230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CFE-C2A8-4B34-8FD1-0CE1E8D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F0B-BC79-46A3-87FA-E415198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68F-4984-42C2-AD8C-9AD475E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6964E-40C7-473D-970F-58D7B71FD5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8:39Z</dcterms:modified>
  <cp:revision>13</cp:revision>
  <dc:subject>Slavic hymnal Гимны веры христиан, hymn 302</dc:subject>
  <dc:title>Вождь наш верный, Дух Святой</dc:title>
</cp:coreProperties>
</file>