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518-BA8F-4F60-9A2C-A926DA01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2F8-7B9A-4043-8B8E-31674FAC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5A0-0A0B-4ADA-A135-F6610055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166-9AFE-4CF5-B19A-BB824F8D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8B0-0F94-4275-8F7B-3DDDDE69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632-F476-4D6B-8924-76FB45B8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B72-C417-4C5D-915F-65242108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6EB-E33B-498D-AA32-2DC13412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1EC-5E49-4738-90E4-B2BDF2F2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D23-F03B-403F-B9C1-93238F8D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B3B-3549-48C5-A435-5383D17F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FD1-E730-43DB-879A-7BF44201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E49DB-E2F6-4B50-9B43-4CE6B271B7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, брат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ь уныние и стр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нас Христос в объя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анит в Своих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! радуйтесь о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Его святых дел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восторгом без трев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те вы в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ем радоваться,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жде гибель нам всеч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грозила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ристос рукою влас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извал за Ним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и в рубищах мы бед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мы богаты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 сокровищ заповед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ст в раю С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епые, в тьме грехов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луждали без пу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есный, свет духо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нам зренье для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скорби, иску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пустил на на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сильна вс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чаль в нас побор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средь бед и испыт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йных помыслах серд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будет упов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благой От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наша соверше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риста, не о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ладеть не может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9:49Z</dcterms:modified>
  <cp:revision>12</cp:revision>
  <dc:subject>Slavic hymnal Гимны веры христиан, hymn 568</dc:subject>
  <dc:title>Будем радоваться, братья</dc:title>
</cp:coreProperties>
</file>