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riend of G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am I that You are mindful of 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hear me when I cal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it true that You are thinking of 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You love me, it’s amaz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a friend of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a friend of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a friend of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me frien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am I that You are mindful of 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hear me when I cal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it true that You are thinking of 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You love me, it’s amaz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a friend of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a friend of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a friend of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frien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Almighty, Lord of Glor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called me frien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a friend of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a friend of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a friend of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frien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frie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4:32Z</dcterms:modified>
  <cp:revision>3</cp:revision>
  <dc:subject/>
  <dc:title>Who Am I? (Friend of God)</dc:title>
</cp:coreProperties>
</file>