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7B3-A4A1-4F60-89C1-A4CCBE1C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B13C-E07F-4EA0-B5AC-FA6A1F0B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16EA-EFC0-4EC5-9FDC-D1ACB813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E094-0D07-4B90-82F7-3811E26A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88D-15C3-4B7A-9F2B-F2DDE709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B66-004A-4212-A9FF-1764D2F3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C6A3-DC3F-425A-AA92-B391BCE2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493D-2AA6-4D1B-A012-30D99102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529B-6364-4AAE-8710-47997ABC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278-3FEA-400D-9AA0-1264C3DC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A5AA-8984-4D58-8392-55AEBABF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DD9-45DF-4BF6-AB81-8B69FE05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02E58-0EE7-4BD4-B9EF-74F4971EFE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 of God goes forth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kingly crown to 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ood-red banner streams af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follows in His tr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ын Божий вышел на вой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ышел на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аведных по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чрез преграды и вра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стремится всле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best can drink his cup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iumphant over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patient bears his cross be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follows in His 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чашу горя тихо п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м невозму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ерпеливо крест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следует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rtyr first, whose eagl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pierce beyond the gra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saw his Master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lled on Him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фан с решимостью в о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ял перед су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увидел в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стил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him, with pardon on his tong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idst of mortal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ayed for them that did the wro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follows in his tr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я тягостных гр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л врагам свои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осит Бога за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следует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glorious band, the chosen f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whom the Spirit c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elve valiant saints, their hope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ocked the cross and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надцать избранных др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гнём любви в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в наш мир спасать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вши всякий стра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climbed the steep ascent of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peril, toil and p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od, to us may grace be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follow in their 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их славны им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дух непобеди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Боже, мужества и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ледовать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52Z</dcterms:modified>
  <cp:revision>13</cp:revision>
  <dc:subject>Slavic hymnal Гимны веры христиан, hymn 499</dc:subject>
  <dc:title>The Son of God Goes Forth To War / Сын Божий вышел на войну</dc:title>
</cp:coreProperties>
</file>