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52E-F9E6-4250-8825-95DF2B14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DE3-A7B3-4383-8CF7-5672D8C0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311-DAAF-4B07-8AEF-7659B4F2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721-9D9A-444E-9EF7-53B57F7E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67E-7505-4355-B43E-1C65BA27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929-D766-46F0-8218-A86E327E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BA4-6814-486D-8520-F9C6CBE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46F-76BC-49E5-AAD0-97BB02E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D1E-3CAD-4F08-9A75-8110C8B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3F3-C0A3-44C6-B377-541469B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591-ED41-45F8-AC0D-F54BEDF4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36F-69E2-409E-A8C6-73D6E2FF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F5707-B584-4533-A077-1B8C642389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my heart, into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 today, come in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25Z</dcterms:modified>
  <cp:revision>12</cp:revision>
  <dc:subject>Slavic hymnal Гимны веры христиан, Ukrainian hymn 109</dc:subject>
  <dc:title>Into My Heart / В серце ввійди</dc:title>
</cp:coreProperties>
</file>