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B78-1956-4256-BA54-922BC830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C3E-33BC-4601-91C0-798E0F0F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E8FB-4318-4C39-9564-8BB28004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B34-0B41-4FCD-96D1-700C6B50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0F7-9D28-43F6-B13F-DF253F8F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BFE-1D29-4151-80FA-98C5C41A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045-ED0C-4BD6-8B07-1DAC04FD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444-E906-4641-B2FF-A84C2C3D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A5F-7A74-47CB-B25E-AA2689F5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A57-02BD-427E-9C0B-8623E7CF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AD4-81A6-4585-853A-4BEB130D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F5C-02BB-4DB8-8B84-9BCAFA7E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6E347-40C2-4410-BBDD-82F4501539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y God’s wond’rou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hath made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why, unworthy, Christ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ed me for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наю, почему откр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почему откр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лагодати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почему спасенья щ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 от вечных к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how this saving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did im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how believing in Hi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ought peace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как мой Бог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ры слух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та вера мир не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щему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how the Spirit mo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vincing men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vealing Jesus through the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ing faith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, как Дух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 мне путь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даёт Христос бл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всех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at of good or 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be reserv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weary ways or golden d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His face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, что в жизни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о н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меня к род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хочет до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en my Lord may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night or noonday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if I’ll walk the vale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meet Him in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времени, ни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как: чрез смерть, иль Сам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день Он по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8Z</dcterms:modified>
  <cp:revision>13</cp:revision>
  <dc:subject>Slavic hymnal Гимны веры христиан, hymn 585</dc:subject>
  <dc:title>I Know Whom I Have Believed / Не знаю, почему открыт</dc:title>
</cp:coreProperties>
</file>