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7</a:t>
            </a:r>
            <a:r>
              <a:rPr b="1" lang="ru-RU" sz="3600" spc="-1" strike="noStrike">
                <a:solidFill>
                  <a:srgbClr val="ffffff"/>
                </a:solidFill>
                <a:latin typeface="Verdana"/>
              </a:rPr>
              <a:t>	</a:t>
            </a:r>
            <a:r>
              <a:rPr b="1" lang="ru-RU" sz="3600" spc="-1" strike="noStrike">
                <a:solidFill>
                  <a:srgbClr val="ffffff"/>
                </a:solidFill>
                <a:latin typeface="Verdana"/>
              </a:rPr>
              <a:t>Блаженны все нищие духо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женны все нищие ду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зревшие гибель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рой растворенным слу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вшие благость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дам им богатство свят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чное царство покоя.</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0.</a:t>
            </a:r>
            <a:r>
              <a:rPr b="0" lang="ru-RU" sz="3200" spc="-1" strike="noStrike">
                <a:solidFill>
                  <a:srgbClr val="ffffff"/>
                </a:solidFill>
                <a:latin typeface="Verdana"/>
              </a:rPr>
              <a:t>	</a:t>
            </a:r>
            <a:r>
              <a:rPr b="0" lang="ru-RU" sz="3200" spc="-1" strike="noStrike">
                <a:solidFill>
                  <a:srgbClr val="ffffff"/>
                </a:solidFill>
                <a:latin typeface="Verdana"/>
              </a:rPr>
              <a:t>Отбросьте вы страха страдань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ны будьте в скорбях:</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ое вам воздаянье</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о в святых небесах;</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нет ни скорбей, ни тревог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ечное счастие в Боге.</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женны и те из живущ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лачут и стонут в слез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чувствах, их сердце гнетущ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ми свершённых грех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ечном своём сокру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и обретут утешень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женны все люди с смир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откой, покорно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дастся в удел драгоц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ледство страны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кротких людей ублаж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гордых во прах сокрушае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женны и те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мире с его суе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лчут, и жаждут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ственной правды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их насыщу, согре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ою правдой Моею.</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лаженны и те, что в стропт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менной среде гордец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ают душой милост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ды и злобу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им прощу согреш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илую их во спасень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Блаженны простые, как де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истые сердцем с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дящие в праведном св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димые Духом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и узрят в славе чуд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здателя силы небесно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Блаженны и те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ир между ближних твор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частье приносят с с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где ненависть, разл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и нарекутся друзья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ми и Бога сынам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Блаженны и те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учатся в узах цеп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згнаны злобой людск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исповедь правды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 и отраден их жреб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бещанном Царстве на небе.</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9.</a:t>
            </a:r>
            <a:r>
              <a:rPr b="0" lang="ru-RU" sz="3200" spc="-1" strike="noStrike">
                <a:solidFill>
                  <a:srgbClr val="ffffff"/>
                </a:solidFill>
                <a:latin typeface="Verdana"/>
              </a:rPr>
              <a:t>	</a:t>
            </a:r>
            <a:r>
              <a:rPr b="0" lang="ru-RU" sz="3200" spc="-1" strike="noStrike">
                <a:solidFill>
                  <a:srgbClr val="ffffff"/>
                </a:solidFill>
                <a:latin typeface="Verdana"/>
              </a:rPr>
              <a:t>Блаженны вы, люди и бра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из-за истин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ёте гоненья, прокля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лобу от ближних с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 знаете: так же жесто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словили, гнали пророков.</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7:01Z</dcterms:modified>
  <cp:revision>4</cp:revision>
  <dc:subject>Slavic hymnal Гимны веры христиан, hymn 247</dc:subject>
  <dc:title>Блаженны все нищие духом</dc:title>
</cp:coreProperties>
</file>