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BB4-E68D-47E1-8440-0FB29D5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3EE-CB6E-4B25-8F71-222410FA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014-7B81-4BC3-BCF3-48CC68B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F22-3019-4F37-B00C-9FC74AFF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770-B994-4857-9DDF-1714B79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E33-8F86-4D93-9C1D-319C999D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25A-8FA9-4C1C-99AE-D89B2A1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C91-FF85-4CD5-B547-789FCAD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9A2-33BC-48BF-AC5B-E033897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EF8-F3C3-4ECB-9592-2F11EB6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C81-344B-4D9F-997C-FE16614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518-6560-4A90-8045-FEA9359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E2E93-14E0-4DAA-90E1-353731AB4F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lovely is Your dwell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longs and even faint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re my heart is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beneath the sha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Lovely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ask and I would see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beau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nd You in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d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flesh cr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the liv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water for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tasted and I’ve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ce again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11Z</dcterms:modified>
  <cp:revision>10</cp:revision>
  <dc:subject>The Source, song number 188</dc:subject>
  <dc:title>How Lovely Is Your Dwelling Place (Better Is One Day)</dc:title>
</cp:coreProperties>
</file>