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389F-CC9C-445D-A9E0-CEA74330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B8EB-EC45-44E7-9F36-6A65F765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1005-834C-44C6-936C-0BADCB49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2EBB-EBEF-47FE-844C-723048D3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E377-31F7-42A4-87B7-9A249A76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CF42-04BD-49D0-9E6F-4E8BE4DE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DA77-08B6-4946-86D8-9DAC0249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C827-EDCC-4E02-8170-8BB01E61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1B09-F0C8-4EF6-AE75-9A763D9D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9F3E-F5E3-4113-84C2-B75B5403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F2A6-3108-47F0-BB3B-26456C60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8C04-8092-405C-BA6C-C6F056B8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CA924-F750-4688-A234-FFD7A546618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 дети днём и ноч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крылом Его беспеч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ёзды в небе, птицы в п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имеют лучшей до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род Свой охран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вляет и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решает все вопрос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руках с любовью нос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жьи дети днём и ноч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ль смерть нас не отл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любви Христа могуч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 нас терпел стра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ддержит в испытань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до малое, не бо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щитом Его укрой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 всём тебе помож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ротивников низлож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ёт иль отнимает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любовь Свою явля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Ему всёц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сердце всюду п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46:52Z</dcterms:modified>
  <cp:revision>12</cp:revision>
  <dc:subject>Slavic hymnal Гимны веры христиан, hymn 876</dc:subject>
  <dc:title>Божьи дети днём и ночью</dc:title>
</cp:coreProperties>
</file>