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2A9-1FB2-4D79-A8CF-3E7A8AB9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FCD-2DF7-40A6-BB6A-43CB236A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4E5-FBE5-4509-B89C-671B11B2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FBB-9E56-4603-8D6B-26645657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3E2-9D7F-4A33-A909-FCA4989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DC5-24DF-46E1-9C17-BD43919B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FC4-35B1-4DBB-B548-92F9E2A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656-235F-4CFF-8F33-E5479E7F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11D-3351-45FF-85C9-C00C3C42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24A-8BD0-46F2-826B-8FF15F1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6C0-99A2-4C04-8754-9A2F12D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275-EF2F-4929-923B-A1EED64B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772C9-FC7A-4D83-AE35-9167D03790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serve the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 His help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ther lives to b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may be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ay b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King’s own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overth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His standard r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to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truth un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s the triumph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enl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leave the worl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face the f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r Him will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call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weight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crown and pal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er we the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the warrior ps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love that clai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for whom He d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m Jesus na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be on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love constra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hast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with gold or g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ith Thine own life-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diad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blessing f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who come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w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nd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52Z</dcterms:modified>
  <cp:revision>12</cp:revision>
  <dc:subject>Slavic hymnal Гимны веры христиан, hymn 877</dc:subject>
  <dc:title>Who Is On the Lord’s Side? / Кто из вас Господень?</dc:title>
</cp:coreProperties>
</file>