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7</a:t>
            </a:r>
            <a:r>
              <a:rPr b="1" lang="ru-RU" sz="3600" spc="-1" strike="noStrike">
                <a:solidFill>
                  <a:srgbClr val="ffffff"/>
                </a:solidFill>
                <a:latin typeface="Verdana"/>
              </a:rPr>
              <a:t>	</a:t>
            </a:r>
            <a:r>
              <a:rPr b="1" lang="ru-RU" sz="3600" spc="-1" strike="noStrike">
                <a:solidFill>
                  <a:srgbClr val="ffffff"/>
                </a:solidFill>
                <a:latin typeface="Verdana"/>
              </a:rPr>
              <a:t>Я буду пе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ой стране где горя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олнце вечно не з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веты где чудные цве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ранники домой и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приду домой т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буду славить я Хрис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частье в Нём теперь обр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Иисусу сердц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илы, бодрость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ого Духа свыш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або песнь моя звуч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где Бог цар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счастлив навеки с Ним.</a:t>
            </a: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 быть с Христом од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емощи мои не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удный мир душе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за грех мой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Ним навеки счастлив ст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песни той преграды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лишь 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вшем тяжко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частье дать моей ду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еть, я буду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ён, счастлив здесь в мире 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ебе родина мо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8:22Z</dcterms:modified>
  <cp:revision>3</cp:revision>
  <dc:subject>Slavic hymnal Гимны веры христиан, hymn 127</dc:subject>
  <dc:title>Я буду петь</dc:title>
</cp:coreProperties>
</file>