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851B-51DC-428C-AAAC-FADAE0CE2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061D-53E7-456F-8D99-17D9E85C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9048-5981-4867-81FC-0F8D50F1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1CA5-EF62-4F7D-899D-BD8524C17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A846-19A4-44CA-88C9-A13DB2E1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160E-E9CB-4D19-AFC0-42CA0E1D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A71A-9190-4090-8084-F5835019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9500-178B-4EC2-933F-3348BE35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6271-881E-4E4C-8D54-19A9EBA0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3F23-EEFC-40AF-9616-945860EA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4606-D79C-4AB8-8014-BCB1D66C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91DC-CDAE-4622-AF1E-0D55B9AB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2D5CAD-39E0-4962-926A-346E30D21C8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ye sinners, poor and need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ak and wounded, sick and s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ready stands to sa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ull of pity, love and pow’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8а  Грешники, к Христу прид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и, к Христу прид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спасенья возвещ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спасти нас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 любви и силы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 бедный, грешник 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ль ещё не убеждё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 бедный, грешник 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ль ещё не убеждё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! th’ incarnate God ascen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leads the merit of His blo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nture on Him, venture whol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no other trust intru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площённый Бог вознёс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крови — жизнь вс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го душой наде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веряйся ник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, нет друг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 мог спасти наш ду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, нет друг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 мог спасти наш ду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святые в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хвалу по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х песням громко вт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а Иисуса чту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ля нас та песнь зву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ля нас та песнь зву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может, и Он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Он хочет: страхи проч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может, и Он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Он хочет: страхи проч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ye thirsty, come and wel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free bounty glorif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e belief and true repenta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grace that brings you n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ы в нужде, прид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жью щедро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, святость и прощ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нас влечёт к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упайте, покуп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без денег у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упайте, покуп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без денег у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not conscience make you ling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of fitness fondly drea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fitness He requir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to feel your need of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ими своим стара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этом нам не бы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т Он, чтоб вы нужда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шли к Нему прос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вам, и Он даст в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, чтобы вас во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вам, и Он даст в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, чтобы вас во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ye weary, heavyla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t and ruined by the F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tarry ’til you’re bet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will never come a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гнетённые, приди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медлит кто и ж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им быть, то никогда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жизни не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грешных, ведь Он греш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е праведных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грешных, ведь Он греш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е праведных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iew Him prostrate in the gard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ground your Maker 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bloody tree behold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ner, will this not suff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те: в Гефсим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простёрся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древе умир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т люди Божий ст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50Z</dcterms:modified>
  <cp:revision>16</cp:revision>
  <dc:subject>Slavic hymnal Гимны веры христиан, hymn 338 (as amended)</dc:subject>
  <dc:title>I Will Arise and Go to Jesus (Come, Ye Sinners, Poor and Needy) / Грешники, к Христу придите</dc:title>
</cp:coreProperties>
</file>