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1A8-27F7-465B-B592-88873F20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7D3-564C-4224-8D0A-FF4CD4F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DC8-DF3C-43A3-BF2A-0A608497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6A4-5438-454B-9B92-F06BB3E4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DDC-F934-4983-B7CA-5D65D05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999-8176-4B95-BD49-0B06F75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008-E7F2-4054-BD69-83BB50B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746-19EB-4C23-9999-12115BEC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823-E6FC-48DD-B741-509DA5B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4B1-132D-4886-8B1A-31B1A2D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F8D-A4A5-41AA-A2A4-BF141E1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A8D-C56A-4815-8593-F472095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5ACAA-E098-4778-A3D9-1D6FD12D68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udless skies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s and queens will sh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dead men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lind se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fir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uth in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broke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59Z</dcterms:modified>
  <cp:revision>10</cp:revision>
  <dc:subject>The Source, song number 241</dc:subject>
  <dc:title>Is It True Today (History Maker)</dc:title>
</cp:coreProperties>
</file>