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77F-EB52-4C2B-A112-3F5ED3E9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0D1-AB35-4ECA-A510-16560EA0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B42-A29E-4FC9-9A9D-F2D4E3D2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6C2-AA5A-4F07-BFD1-FFE62888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71F-C8B7-48FF-9AED-049710B3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7D2-3278-428C-9389-B58E2AB7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EC6-7E8F-4D4F-9679-11B189F0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042-4F38-4691-8BA3-6C3835FA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5D0-45D7-4E5B-AE3D-A232714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717-1061-42AE-BD17-A5F1E468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744-7C07-4B7C-B15B-868B8663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13A-04D9-45B7-B88D-C2C0B842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80712-FBAB-4830-9568-66EBB21401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с нами Бог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с нами Бог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Апостол Павел нам сказ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ами Бог, кто будет про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аждый д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аждый д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осподь Спаситель наш 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сякий гре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сякий гре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Апостол Иоанн 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бещ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бещ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оиль пророк так пред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4:48Z</dcterms:modified>
  <cp:revision>12</cp:revision>
  <dc:subject>Slavic hymnal Гимны веры христиан, hymn 590</dc:subject>
  <dc:title>С нами Бог, кто будет против нас</dc:title>
</cp:coreProperties>
</file>