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203-7CB4-4090-B949-BF455B6F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269-6CEA-41C6-B2C3-1A633BB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2DC-4D1C-4DD8-A8C6-7DCF57C0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AEF-A26F-4E52-A903-24AD7F25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9FD-5A77-4229-AA8F-0FB54BF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A11-9C43-4946-8EF0-B8677E6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EBC-B139-4BE8-A857-441D896F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7DA-1BA7-4DB5-94CF-E8F3102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35C-8141-4568-86B4-B43A3172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BF0-887D-4314-9C41-E514C7B7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537-366B-4A6E-9260-AB2D255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189-68C7-467D-A8C4-3D7CFA0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DAA70-2B00-4FB4-9EA6-3635006FB6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15Z</dcterms:modified>
  <cp:revision>12</cp:revision>
  <dc:subject>Slavic hymnal Гимны веры христиан, Ukrainian hymn 25</dc:subject>
  <dc:title>Я не хочу багатства</dc:title>
</cp:coreProperties>
</file>