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19A-1027-4810-B5E8-41261A29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2A9-9A2B-4D59-AEF6-1D905D5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9C6-55EF-473A-82B5-948879C5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B8E-847A-47DA-B200-0376F1E8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A6E-4A01-44AF-9B8A-0755A6A7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EB2-6D64-4BFA-AE15-C66ADEB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0B2-0350-4B42-884F-A78780B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5AD-E639-43BC-A18A-98F2311E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409-A195-49AC-B029-A6271F0E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1EF-9721-4AC4-A589-53C9299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CEE-2117-4183-80D3-85B3026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522-877F-40D0-95E1-5B16B40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84355-FFEE-48C7-9FCC-66364843E0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и в родим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как кружатся тол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цы-пчёлы в са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еял ты, друг 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лаков ли хлебных з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ев волной зол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о всё поле твоё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ядом, — о, страшное по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раг ли посеял там з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ючей, опасной тра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усто оно заро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 на поле жизн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ли злую враж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т твой посев и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ности примешь ты мз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ем Учителя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е слов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жертве Его всем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литой Агнц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день, увидим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х, счастливых люд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жатву спас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ей, безустанно, друг, с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45Z</dcterms:modified>
  <cp:revision>12</cp:revision>
  <dc:subject>Slavic hymnal Гимны веры христиан, hymn 545</dc:subject>
  <dc:title>Что сеял ты, друг мой, весною?</dc:title>
</cp:coreProperties>
</file>