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479-0D6D-40E4-9631-30BA183B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61C-A7CA-4E7B-B99C-25232CE5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B01-343E-4251-B588-35B5DF0D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6B47-9FCC-4F99-B28F-BC0188A2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52A1-E4B3-4C07-A60B-C58F6408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344-76D4-4DF8-8371-2C4CBB5D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866-263F-4C57-AC3E-AF856DDB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C667-7DA5-4C30-A3CB-92D93C1B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671-825C-4E33-96D0-60C24DE3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490-3B8F-4D8D-9038-D1C5DD28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EF6-407E-4895-AC6A-DAB020B5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55B-1CAA-41B1-8BD7-E20BFCF5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0DD11-1152-4019-82A4-D3820D85082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 подвлас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, всего Творец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с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пред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наша радость и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пре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ой крас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с, луга и 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ы сердцу и гла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и веш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прекрас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и мир да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яц осв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блещут с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с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вет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х ангелов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плен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и измен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ом юност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увя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переста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же вечный Царь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и и не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соту и прел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летом и зи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совершен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,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4:30Z</dcterms:modified>
  <cp:revision>12</cp:revision>
  <dc:subject>Slavic hymnal Гимны веры христиан, hymn 835</dc:subject>
  <dc:title>Иисус прекрасный</dc:title>
</cp:coreProperties>
</file>