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FC9-2E8A-4D4B-8641-15C663AD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DA5-5726-4711-8220-6BDCF9D9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1DD-3FD9-41D5-BA54-A6F1E7E0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F7A-1E33-4737-B71A-6FB7DB47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F26-6C8F-4260-B47D-CBE0D4C9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3AD-A02C-4206-B6EE-43882717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D48-FC7F-4E28-BDD1-B3A7E954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6A4-3BBC-4C8D-96C0-52D799B1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F6F-F456-45E5-9CC3-C8E44947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F57-63D2-4875-BA9A-63D67234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EA5-D629-48C9-8694-1315293D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E89-53B9-4B03-8DEE-3E5E090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EFE1E-0BC7-4F7E-A4CE-C3EC3968E7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дёшь к святой отчиз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дети твои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алчут хлеба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ечтаешь о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ные, ваших д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вам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идёшь к святой отчиз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отец, сидишь в соб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ясь, что ты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где сын? Зачем в незн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Бога гибнет 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ители, хра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свои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ее при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му из все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ь, где дочь твоя?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здесь о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она до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ой увлеч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ители, мол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тей своих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их призвал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ященного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4:36Z</dcterms:modified>
  <cp:revision>12</cp:revision>
  <dc:subject>Slavic hymnal Гимны веры христиан, hymn 772</dc:subject>
  <dc:title>Ты идёшь к святой отчизне</dc:title>
</cp:coreProperties>
</file>