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B760-BA92-427F-AE29-124CE21D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7411-A8E4-4617-A1E6-484923BF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8D6-AC2C-46F3-9EC7-E3FCD0EF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6017-F114-4EE9-AF0F-7F276E8E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7C52-F4C6-4422-9DA8-648EED0F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0456-81EB-4C57-A03E-C7EE514C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AA37-8C02-4696-842F-C78A8A8A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2245-2579-4F19-B925-35494525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9D8C-6E84-4F87-8B41-B9C0866E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3393-9B9F-4D08-8924-69E47461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D54-66DD-4332-945A-9985704D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0095-60B7-4E3B-AE59-7F5AEF94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C8121-7D3D-41CD-A05D-D1E772FE9D0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for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You were fors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accep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ere condem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alive and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 is with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You died and ros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22   And I’m Forgi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love, how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, my King, would di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love, I know it’s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t’s my joy to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ll I do, I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 are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love, how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, my King, would di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love, I know it’s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t’s my joy to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ll I do, I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5:11Z</dcterms:modified>
  <cp:revision>12</cp:revision>
  <dc:subject>The Source 4, song number 1722</dc:subject>
  <dc:title>And I’m Forgiven (You Are My King)</dc:title>
</cp:coreProperties>
</file>