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BF8-AB9E-4883-A7A0-FB0C6DE4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829-8014-4368-A47B-703A113A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288-6CF1-4BE6-8801-8E3D5BE6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C2C-B40C-48E2-BD42-35C0510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F73-CE7C-44BB-B429-AF0CA92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D43-EC28-4505-8C0F-D83874A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2B5-A969-42BC-BF27-A3F8DFBF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FF5-2D75-40D1-A981-E517EE7C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E2D-ABEA-4200-A192-76E5CABB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2E1-93A5-4840-96CD-73C6893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C41-3C4B-4812-A52C-0F8ECE91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E3D-E125-4E90-9D79-5037B60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2757F-15AD-4A6D-9F27-0473AE935C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бедился я в Божьих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прийт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 неотвязно мне в сердце 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мою бедную душу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годня не время, ведь ты 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равься, очистись, себя приготов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бед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я верить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отдат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Его приглашает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, о грешник, приму Я теб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ыне открыта спасени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заблудший, иди ж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, но поздно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закрыта мне райска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приговор уж готов рок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открылася бездна пре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друг бедный, иди же сей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лизок конец и последний т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11Z</dcterms:modified>
  <cp:revision>12</cp:revision>
  <dc:subject>Slavic hymnal Гимны веры христиан, hymn 374</dc:subject>
  <dc:title>Почти убедился</dc:title>
</cp:coreProperties>
</file>