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936-630A-43E1-B01D-01F88924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491-648C-4433-A17C-9F746D12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EDD-A9EB-48FD-AF50-7A2D4D8C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B3C-FCE1-42B8-A123-3DB4C84E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538-E4B6-4E0A-9C84-F345D8B9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E1F-E600-487D-BE87-DEC294AB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ECA-39BE-4EA7-A11D-A69E14FC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E34-5545-4CBF-A3E1-F1FDE519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457-243E-4CD0-BA0C-2ABC4FF7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31A-6E73-4BA1-A915-C9D42681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3AF-C367-4AAB-9B26-D9324EEF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918-EC26-44D7-BA8B-BCE01CE1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37450-B1FA-477A-9F55-51CA630D7B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ждём, когда Спаситель наш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ждём, когда Спаситель наш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ждём, когда Спасител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Ждём, когда Спасител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Ждём, когда Спаситель наш при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все Его здесь встретим, как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все Его здесь встретим, как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все Его здесь встрети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е Его здесь встрети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е Его здесь встретим, как при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ждём, когда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аллилуйя Ему воспоё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аллилуйя Ему воспоё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аллилуйя Е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 Е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 Ему воспоё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грешник, устоишь ли на пу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грешник, устоишь ли на пу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грешник, устоишь 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решник, устоишь 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решник, устоишь ли на пу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2:27Z</dcterms:modified>
  <cp:revision>13</cp:revision>
  <dc:subject>Slavic hymnal Гимны веры христиан, hymn 316</dc:subject>
  <dc:title>Мы ждём, когда Спаситель наш придёт</dc:title>
</cp:coreProperties>
</file>