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3ED-AB9F-4E2C-A0E0-263094DF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181-67D5-4AF8-BC0A-BC586C9C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EC1-3267-423C-9F12-376C515E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17C9-220D-46F0-890B-C82A97B3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0EB9-4A03-4393-BB60-A30643E3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17AD-26B8-4BAE-9D52-19C8455E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7BC8-7E57-4279-9DC1-B4335F3E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612C-1998-45BA-8197-496C6EA1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6A7A-2839-4A19-A68E-A5B1BCED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C77-EA58-4FC4-8023-E1709D9C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339E-7EAB-4409-BBEC-8466391F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13C2-A8FB-4BD2-9981-7DC09590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8C5F5-0A55-4F41-90AC-0D4EC6BB36A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е, знову нагад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вят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їм серці буде х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свята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 любови ллє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до неба рве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Христа! Слав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любов Христа!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   Брате, знову нагад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ям в світ Христос прині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небес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ішає в хвилю слі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любов навчає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х Бог прощ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Христа! Слав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любов Христа!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е, знову нагад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вят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икне з серця сум, відч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радість з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че спів люб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життя об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Христа! Слав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любов Христа!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6:57Z</dcterms:modified>
  <cp:revision>17</cp:revision>
  <dc:subject>Slavic hymnal Гимны веры христиан, Ukrainian hymn 5</dc:subject>
  <dc:title>Брате, знову нагадай</dc:title>
</cp:coreProperties>
</file>