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6237-D457-4E3F-A6A3-CBC4773DA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08A0-FF00-47F4-9968-04567F9A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234A-77D7-494E-8F7C-59737C505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7AEF-7919-43EE-9CA5-DD6651BA6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E00A-3EDC-4B7C-8120-664749B8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4A86-9829-430C-99C5-19BE00A5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8379-8FBE-466F-8EAC-A784D838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2A4F-E9C3-4E28-915A-BA7D31E0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0A73-83A3-4B7B-B395-32C91EF3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2768-4300-4550-A275-3B41D841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4DBE-1DEB-46EA-8E3C-C21C329E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7A3F-0760-40A6-871F-0B2027AC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DFE712-3E41-4C6E-854B-6545C47DE6F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меня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у без страха и сты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чтоб меня спа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Голгофе по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нём, и ночью за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у везде Его пут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любовь Его по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Голгофе по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1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уда б меня Он ни повё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внимать Его сло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, чтоб Он меня держ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ас приблизить к небе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Голгофе по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нём, и ночью за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у везде Его пут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любовь Его по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Голгофе по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е страшусь я нич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испытаний, ни тр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бы во славе зреть 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а Голгофе по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нём, и ночью за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у везде Его пут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любовь Его по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Голгофе по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5:45Z</dcterms:modified>
  <cp:revision>13</cp:revision>
  <dc:subject>Slavic hymnal Гимны веры христиан, hymn 513</dc:subject>
  <dc:title>Куда б меня Он ни повёл</dc:title>
</cp:coreProperties>
</file>