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E6D-7405-4047-94BA-294FF4A0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D78-4C1F-4C63-9B29-8F324A44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2F3-E7C2-4AAE-8E2C-FF97A1EB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FE1-8716-40FB-830B-76B0890D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E85-19F1-47E7-BA22-6486EF5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991-AD46-4E9E-B8AE-A6AB31D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8F1-7212-4DA9-84B0-14EA8692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72A-0BAC-450F-82A4-B98E4B74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429-F29F-4AB8-B8D8-61DC7460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A36-9341-49A4-BAFC-9606A3D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D8C-B9DF-4BD2-9CBC-01CF6C8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180-7585-459C-BBB5-3D2D599E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2933B-5E1F-4A39-B0D8-1DF217D8D6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05Z</dcterms:modified>
  <cp:revision>12</cp:revision>
  <dc:subject>Slavic hymnal Гимны веры христиан, hymn 886</dc:subject>
  <dc:title>Душа, ты в борьбе и томленьи</dc:title>
</cp:coreProperties>
</file>