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CC81-75A2-4A0C-8056-76C1C6B3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D972-A19C-4A7F-A5DC-84FFA426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8801-8D21-4562-A411-B6D919AE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A287-EE30-4A15-B2C3-EF76D31C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8C7A-B220-4D40-8709-1736BD2B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A83D-C441-4C79-A2BA-60197FDD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A4A1-7844-4EEB-93D8-B8352AA0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1A94-4BD1-4AAB-A39E-53043F57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855-C8C5-493B-B515-F32FEC94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091D-AA35-4CFB-85DC-2107DA7C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1E2-231E-4E37-A395-B75E405F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DDE-EB1D-470B-A57E-68FC20AE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83B31-B1C4-4A3D-9C10-F4240D8A12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’s our Rock, in Him we h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cure whatever ill bet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Бог — ск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Бог — скала, сокрыт в Нём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кой Свой ввёл Господь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 is a Rock in a wear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weary land, a wea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 is a Rock in a wea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 сухой,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raging storms may round us b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never leave our safe ret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враг меня стра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Спаситель защи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ют ли горы пред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!» — слышу: «Я —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 is a Rock in a wear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weary land, a wea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 is a Rock in a wea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 сухой,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Rock divine, O Refuge d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Thou our helper ever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Бог — Отец, покров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ажду жить Одним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 is a Rock in a wear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weary land, a wea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 is a Rock in a wea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 сухой,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42Z</dcterms:modified>
  <cp:revision>13</cp:revision>
  <dc:subject>Slavic hymnal Гимны веры христиан, hymn 650</dc:subject>
  <dc:title>A Shelter in the Time of Storm / Мой Бог — скала</dc:title>
</cp:coreProperties>
</file>