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F6A-D6CB-4576-AACF-F917D73B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05B-FFE1-40CD-A687-8BCD976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B77-0A40-447D-A0E1-81507D7C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02E-12E6-48DA-9D02-71B961EF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0CD-166B-4667-8813-45A2EDA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756-841D-4401-9CF7-A9C7CCB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E36-7C9B-4794-9628-28AAF626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6F9-C71E-4652-90AB-F54776C9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56C-6E36-47E0-BE6B-8160E80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B03-A189-4EB4-9FA7-0F25B59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781-B441-484A-AA52-CD3DD2F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72A-968E-4600-B4D3-3F048D4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F6DA-F08B-4F43-8040-1E2B4D9690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 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, 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ебро и золо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утри меня зажги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my sin, 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меня с внутри и 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 мои грехи, все г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37Z</dcterms:modified>
  <cp:revision>12</cp:revision>
  <dc:subject>The Source, song number 436 in Russian</dc:subject>
  <dc:title>Сердце очищай / Purify My Heart (Refiner’s Fire)</dc:title>
</cp:coreProperties>
</file>