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3EC1-FE8E-4DE7-9965-6AC53529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BEAE-B511-49E0-B354-6A5314D2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8120-B36C-48E1-A1F1-1972A92E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8983-8C2D-495D-BB14-0CACD2896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0E6F-5AE8-4AA6-BFD5-026637EB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1EFA-3332-4B26-AF18-16FBD589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6A71-7621-454B-B6B7-86F85620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698F-32CA-4E70-B0BD-FD591317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5F8B-6F94-4701-9EE4-9937F4DA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61EB-21E6-4779-8C5B-6CC10E55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2E4D-D593-4AE5-9126-9E144020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3443-9EDF-4919-A173-0A89BC79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83AB6-D078-404F-9F7C-C2FE46C504B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the very thought of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sweetness fills my bre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sweeter far Thy face to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n Thy presence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, мысли о Те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мысли о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ют сердцам по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 — лик Твой созерц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ыть всегда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voice can sing, no heart can fr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can the mem’ry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weeter sound than Thy blest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aviour of man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ё святое Имя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ятней и слав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звуки музыки, чем хр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слава все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pe of every contrite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oy of all the mee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ose who fall, how kind Thou 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good to those who s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кающихся душ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для тех, кто на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ьным самый лучши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 ищущим так бла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what to those who find? Ah,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tongue nor pen can sh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ve of Jesus, what it 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but His loved ones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ти Христа — важней все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словом, ни пе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писать любви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благ, сокрытых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light of all be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fount of living f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passing all the joys we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we can des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вет живущим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вечных с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айны, скрытые во мг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м рабам я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our only joy be Th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ou our prize wilt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be Thou our glory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rough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радость наша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и люб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нашей славою теп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о конца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5:27Z</dcterms:modified>
  <cp:revision>12</cp:revision>
  <dc:subject>Slavic hymnal Гимны веры христиан, hymn 847</dc:subject>
  <dc:title>Jesus, the Very Thought of Thee / Спаситель, мысли о Тебе</dc:title>
</cp:coreProperties>
</file>