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3F3-1443-43E2-89B2-A539F2D0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496-872E-4F69-9768-C6F39629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D7F-463A-4685-A0FA-CB33CE81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AA7-7E31-4415-A742-B6B23E4B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3A2-7EF7-4765-BDEC-A470C967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1BE-19C7-439B-8044-EE735C65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9E7-FDE0-4893-8B3B-8DDB8BB3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F99-EC70-4B1C-854C-2791029F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823-0014-461F-BAA1-143CC2E2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5A3-2EB9-4193-8E22-4DD9FD47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51D-117F-480E-B203-C024AF9D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B9A-6A5F-4F22-A461-FEB381F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1EB4A-B6D7-4B10-A046-7A64908103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2   Чрез Христа мы побе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Христа мы победи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, который поразил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, воскликни с торжеств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наш Царь!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Бог — наш Царь! 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обеду о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ловом победил вра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ся земля воспой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вторить с нача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our God we shall do vali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He who will tread down ou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Hi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King! </a:t>
            </a:r>
            <a:r>
              <a:rPr b="0" i="1" lang="en-AU" sz="3200" spc="-1" strike="noStrike">
                <a:solidFill>
                  <a:srgbClr val="ffff00"/>
                </a:solidFill>
                <a:latin typeface="Verdana"/>
              </a:rPr>
              <a:t>(Christ is King! Christ is King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od has won the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et His peopl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has slain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stand and se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repeat from st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3:37Z</dcterms:modified>
  <cp:revision>12</cp:revision>
  <dc:subject>The Source 3, song number 1562 in Russian</dc:subject>
  <dc:title>Чрез Христа мы победители / Through Our God (Victory Song)</dc:title>
</cp:coreProperties>
</file>