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6E0-0F1E-4838-B2B1-B7926092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0A6-0463-4274-8B08-6213C209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1FE-4EAE-43BE-8537-B17EDDEF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25F-7078-4AF7-B164-63186C0E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566-05F0-413F-A9C1-C5DAF0E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579-31A8-4E41-9DBC-68F4C0A0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88C-9A5B-45A4-B661-A521F8E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A3A-58CC-44E1-9753-336CF9BA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5CA-096C-4248-B948-D00FD90B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CD7-39FA-4EE2-BE75-D120A76F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EB3-72F0-42A4-BE77-D201670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858-90DD-4C93-9E4C-D2F1AF7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69992-E84B-4D48-971C-1EDEAD9A5A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залишу вас сам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д вас під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Уті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 навік зі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6   Я не залишу вас сам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Церкво Божа, час вст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овноту прий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шники по всіх місц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ялись в своїх гріхах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л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духовні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є для в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перед! Молімся з ві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ділить си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рні у кож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до П’ятидесят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іш, скоріш спіші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життям усі живі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щення Духом ми Свя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всі прос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43Z</dcterms:modified>
  <cp:revision>12</cp:revision>
  <dc:subject>Slavic hymnal Гимны веры христиан, Ukrainian hymn 86</dc:subject>
  <dc:title>Я не залишу вас самих</dc:title>
</cp:coreProperties>
</file>