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6BA-92C5-423A-A11B-8A296FD9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8AB-BDA9-4510-8B27-CEBD1145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F4B-59DC-49E9-AAE3-252734A0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4DF-8ACE-4187-84CF-6E889B4A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7F2-E3F2-496B-983F-36CBBDF3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0B5-A778-4346-A96D-73F7FFE4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7E1-4360-472E-A8C4-7A237C23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6EB-52CB-49FF-A2E3-3EF00142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C24-A6B8-4F72-BF41-C24782F7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993-D27B-4CCA-B4E0-6A17366E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4F6-F271-4548-B34A-221A6821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4F8-0CD7-494C-952D-9E449998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07B22-856A-45BC-802B-3ACA9B7919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ора, нині і на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е той сам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5   Вчора, нині і на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58Z</dcterms:modified>
  <cp:revision>13</cp:revision>
  <dc:subject>Slavic hymnal Гимны веры христиан, Ukrainian hymn 115</dc:subject>
  <dc:title>Вчора, нині і навіки</dc:title>
</cp:coreProperties>
</file>