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83F-064A-436A-B547-078460B5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BC3-75BB-43E4-81FE-7BE70CF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BA6-22F7-446F-BFFB-D303D678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7D4-947B-4CA3-B84B-11E8DD03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59A-A78B-44ED-8504-4D16C4E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351-EF7F-426E-8795-F63C7902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84B-7FCF-47DE-A890-DEBCF83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2FB-9C20-48BB-9D02-60E0BAB2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1BC-7587-484C-9C70-C36BBFA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6DD-FA09-4612-90D4-AB611F2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B31-4385-487E-8452-5E2E2A8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296-0001-4B04-B179-30EDF4D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FA5F-1E19-44AF-B8C4-85ED56354A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 сияет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облаков прекр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ь несётся на ве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Господь число их 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й не потер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быст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бок плещется в вол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мотыльков пуш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ет на пол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звал их име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ли вместе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живёт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решников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в праздности с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взор на всех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грешник погиб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18Z</dcterms:modified>
  <cp:revision>13</cp:revision>
  <dc:subject>Slavic hymnal Гимны веры христиан, hymn 753</dc:subject>
  <dc:title>Знаешь ли ты, сколько ясных?</dc:title>
</cp:coreProperties>
</file>