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CBA-35EC-4061-BF5F-2D06FE64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DB5-D90F-4B29-BF65-5D29753A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32B-5FFD-4880-9263-12CCBF31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62D-524D-4329-B51D-83A895B0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BD0-45DF-452C-9A42-C91E473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BC2-21FC-43AA-B3D2-B605518E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464-2EA8-41EA-941B-1C41633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5ED-7084-4F15-AC4B-758F6518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D81-EC7D-4E22-9BA9-EEAF9AB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E25-C333-4EC7-86C9-300ACD0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67D-DC14-4A6E-ADFE-B00D6AD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B4A-3A20-4CCE-9145-5D2372D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2EAF5-94E4-43B6-AB52-6612C81535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the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cre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is thy health and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His templ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me in glad ado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o’er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ondrously reign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s thee under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so gently sustaine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not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all thy longing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 in what He ordaine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! O le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in me ador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at hath life and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w with praises bef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from His people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 aye we ad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d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sper thy work and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oodness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daily att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nder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Almighty can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ith His love He befri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4:30Z</dcterms:modified>
  <cp:revision>13</cp:revision>
  <dc:subject>Slavic hymnal Гимны веры христиан, hymn 807</dc:subject>
  <dc:title>Praise Ye the Lord, the Almighty / Господа славь ты, мой дух</dc:title>
</cp:coreProperties>
</file>