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3AF-E19A-4413-92D2-00DA3F76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F71-14E0-4897-A76E-46682142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91F-509D-4A03-B1A7-71EC171F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F7B-B4AB-4AE4-94DB-9256D1C7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BF0-F4DE-4019-B29F-99CDCD94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5FB-029D-4F43-8520-1963FFB8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E24-8139-47BE-AFDC-068E25A8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915-F15F-419C-BA9C-FA2AE4F3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723-CBA5-4013-B330-5E0E9F0A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36B-0B4F-49C0-9ABD-A4DA613D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5C5-39E9-4775-BB90-C801D126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2CB-BDEB-44C1-A3F1-51D6C76E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01337-43CB-4254-B307-A3061B2271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aster, let me walk with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owly paths of servic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y secret; help me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train of toil, the fret of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дай сил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й сил идти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ём смиренья и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учи сносит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ты дня, и труд и 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the slow of heart to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some clear, winning word of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 the wayward feet to st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them in the homeward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медлительных заж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я любви ог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к истине привл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ить всех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 Thy patience still with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loser, dearer compa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k that keeps faith sweet and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rust that triumphs over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ладостном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илы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уженьи верность со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ло любовью побе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ope that sends a shining 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down the future’s broad’ning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eace that only Thou canst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e, O Master, let me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ам души моей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ерных ждёт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мир пошли, и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й сил мне жи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5:57Z</dcterms:modified>
  <cp:revision>12</cp:revision>
  <dc:subject>Slavic hymnal Гимны веры христиан, hymn 830</dc:subject>
  <dc:title>O Master, Let Me Walk With Thee / Господь, дай сил идти с Тобою</dc:title>
</cp:coreProperties>
</file>