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а</a:t>
            </a:r>
            <a:r>
              <a:rPr b="1" lang="ru-RU" sz="3600" spc="-1" strike="noStrike">
                <a:solidFill>
                  <a:srgbClr val="ffffff"/>
                </a:solidFill>
                <a:latin typeface="Verdana"/>
              </a:rPr>
              <a:t>	</a:t>
            </a:r>
            <a:r>
              <a:rPr b="1" lang="ru-RU" sz="3600" spc="-1" strike="noStrike">
                <a:solidFill>
                  <a:srgbClr val="ffffff"/>
                </a:solidFill>
                <a:latin typeface="Verdana"/>
              </a:rPr>
              <a:t>Благословений поток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обещал ниспосл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ним, чужим и далёк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небесную 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освежат, ожив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вы, холмы и доро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ю опять закип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свыше пош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ом Твой веди одинок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м больных исц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наполняют весь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вствуем наши пор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ем ниц пред Хрис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в Своё время пошл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во свете мы ход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Он с нами жи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1:55Z</dcterms:modified>
  <cp:revision>3</cp:revision>
  <dc:subject>Slavic hymnal Гимны веры христиан, hymn 11 (as amended)</dc:subject>
  <dc:title>Благословений потоки</dc:title>
</cp:coreProperties>
</file>