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AC1-117D-4535-B900-1025F151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274-32EB-4EFD-BC7F-F4B183E4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17E-2D51-485D-A7BE-B81EE423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049-4A41-4D43-8E67-E6D732A8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AE5-1A03-4CF5-A7AE-2B223A78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E00-2EE4-4E7C-BFC4-DC5DED84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C0B-E625-4012-AF09-CD95105B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3B8-2A6C-4E02-99AE-E7F71B92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E83-0710-47D5-84C9-978BC724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067-3B8C-4A82-81E3-1BF0161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FAA-5CA4-4C4D-8929-38CC32F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A22-EAF7-4670-BDB0-60734DA6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966CD-1D22-49A0-8231-26EAAE72AD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хранил от юных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и в наступивши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их бедствий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, вблизи, мы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лишь благостью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сылаешь снег и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леб насущный нам да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ошлое благода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то пред нами — знаеш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гаем всё к ногам Т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ы, планы и меч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дачах, в счастье иль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по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ешь Ты в сты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, кто льнёт к Тебе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12Z</dcterms:modified>
  <cp:revision>12</cp:revision>
  <dc:subject>Slavic hymnal Гимны веры христиан, hymn 731</dc:subject>
  <dc:title>Великий Бог, рукой Своей</dc:title>
</cp:coreProperties>
</file>