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8F0-E06E-471A-860A-61D0B6D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A04-EE04-4BCB-9863-FCD0241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471-7CD5-4A85-B953-F9F63A6A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34F-42A9-4648-A613-9CB23EB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0B6-E13D-4750-8D0D-2836EEA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D9C-81A0-4FF6-AF43-B79433A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B5-290A-4A76-B38D-4B264BA3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D17-7AFD-4B2A-900C-F443BF78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549-FF59-4978-AF33-F608F9E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06D-64C1-494F-A0F1-8FAE3D2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7F1-6BEB-41F6-908F-DAE82EF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760-A544-4506-8457-FA4BC8D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35B40-60CF-40DB-AB82-706B4DFBD9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ide in me I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long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to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know Jesus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 Am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ive in me all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eathe in me and I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eagles’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35Z</dcterms:modified>
  <cp:revision>11</cp:revision>
  <dc:subject>The Source 2, song number 724</dc:subject>
  <dc:title>Here I Am Waiting (Eagles’ Wings)</dc:title>
</cp:coreProperties>
</file>