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4EC-654F-470F-B9D5-483AE90C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E01-F9F5-4F21-8944-70EEE6C9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FB3-348B-4587-B1A0-1C06FB15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C8A-73F8-443E-B0A4-9AFA8714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04B-27D7-49A5-AB82-444F7E11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36E-FD4B-425A-86F6-8628D198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0DD-40DB-4AB2-BEAB-31F65780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0F9-1651-4634-B19D-5A33EC92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42F-C30E-4D87-BF99-CD31A1DD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A70-FFCA-4A71-BD8A-D0EB4D0B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E76-D457-4B04-B569-B29B1312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195-DD26-41B7-9C9D-0677AA9D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FB254-1A86-495B-93D0-9C236F77E3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мой крест бер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хочу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чу я вражду людск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злобу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ил Ты жизни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бил, чего хот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бореньи постоян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 небо —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осподь, мой крест бер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рагом мне станет н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ерным он всегда та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рузья меня поки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к сердцу с каждым д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ится враг, исчез прия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радостно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ненависть люд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ят нас к Христа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яжёлая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ет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души не завою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нами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дух не очар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оге наш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с укреп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видит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молитва окры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ткрыл нам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атся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ршится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место даст вид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ьбы сменятся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2:45Z</dcterms:modified>
  <cp:revision>12</cp:revision>
  <dc:subject>Slavic hymnal Гимны веры христиан, hymn 846</dc:subject>
  <dc:title>О Господь, мой крест беру я</dc:title>
</cp:coreProperties>
</file>