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FC4-AB74-4F86-83B1-9FFD2794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417-A2D9-40A7-A50E-BC4016AF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7F9-2BC3-492C-A0FA-DA655474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7DD-6ABA-4E9E-8174-355297CA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07B-E35A-4CE9-9900-D00E115C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1BF-8A0F-4585-8358-5B2DBB2C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765-5217-44ED-A5F4-386CCF76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4A6-110F-45F0-851A-039810F3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895-7EF7-4440-A493-CE6162DA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3AC-FA30-4B60-9B95-A9043B37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2AD-9ADF-4FB6-BFFA-0E1D9BE7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047-CB89-4522-B767-7C03EFE1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FAF2B-40DB-4E52-B445-ABFC7A180D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горченье ты встретишь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дях утешенья тебе не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езах умиленья и в тайне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окрушенье излей ты в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ий знает о гор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жидает на лоне С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ешь, как властно спасень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ём ежечасно петь будут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гор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ев так много под гнё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ехой от Бога спеши к ним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им с любовью о дивном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ем их кровью на скорб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41Z</dcterms:modified>
  <cp:revision>12</cp:revision>
  <dc:subject>Slavic hymnal Гимны веры христиан, hymn 450</dc:subject>
  <dc:title>Когда огорченье ты встретишь в пути</dc:title>
</cp:coreProperties>
</file>