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2FD-5647-423C-9C7A-2117D37B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07B-9D33-4937-9AAC-78A0C123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939-1C29-4AFA-93FE-707D67CC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ACC-CFC3-4FC5-8339-E06397D5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DA2-046A-4CC1-802F-C3669C2C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ECD-790B-4231-9A45-B465F2F0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53F-2DFA-487A-8312-F7CCA5D7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37D-5D5E-451F-8F12-017D85EE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3B6-CE14-47D3-A00B-BEC14830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7A7A-E93D-4564-8F14-B0AF946E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B44-329A-4DE1-817C-E4AD0FCD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F2B-AB5F-4526-A82F-ECAEAED4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684BF-0977-4A53-8ACD-75CF868EA7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over of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will never let m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taken me from the miry c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set my feet upon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I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, I nee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my world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ll never let me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, my clos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worship You until the very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90a   Jesus, Love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34Z</dcterms:modified>
  <cp:revision>11</cp:revision>
  <dc:subject>The Source, song number 290 (as amended)</dc:subject>
  <dc:title>Jesus, Lover of My Soul (modified)</dc:title>
</cp:coreProperties>
</file>