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F9BB-7EDC-42B7-8185-9FC3EA57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ADD-40A9-4C8D-8DFB-D9C190C2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955-67C3-4EB9-986C-9BF33144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EC8-3ABD-44E2-AF5F-1FA5FC9F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601-A11A-4498-B3F0-D149259E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40F-4D74-409B-9CBB-FA61FA8C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8B88-8E18-45E0-9ABD-6CCD69FF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5B68-DD86-43D0-BF49-01F6C5CF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248E-454E-471C-99C6-462BFEF8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D29-7B01-4C2F-8975-A15D9592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37B1-2E84-4EB9-A277-288AD954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24B8-692D-43F8-AE4B-000FC4DB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112CF-B890-4523-9655-2E221E1094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ко люблю я, Иисус,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ороже Ты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припал я к груди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ир нашёл я, там мо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люблю я крепко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ороже Ты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епко люблю я, Иис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ко люблю я, Иисус,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че же дружбы нет, как Тв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состраданья, миром све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Отец, Твоё я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люблю я крепко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ороже Ты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едь простишь мне, если споткну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тешенье; гимн мой —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 — Друг незем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к Тебе Сам сделай дух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люблю я крепко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ороже Ты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люблю я сердцем, ум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смирился: будь мне Цар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люблю я, вечно Ты —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иль смерти духом я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люблю я крепко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ороже Ты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7:48Z</dcterms:modified>
  <cp:revision>12</cp:revision>
  <dc:subject>Slavic hymnal Гимны веры христиан, hymn 785</dc:subject>
  <dc:title>Крепко люблю я, Иисус, Тебя</dc:title>
</cp:coreProperties>
</file>