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467-8B4A-4953-979B-1EFACB48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B13-B3C7-4569-AB6C-4F8D174C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445-F88E-42A5-B13A-B9761041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069-B988-4B26-BAA5-21DC5F6E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801-9549-4A8B-A9AA-881D7A1E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746-C63F-49D7-B1A8-27BD20F3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728-0B4D-4A52-8672-D4938E7D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236-763E-4558-B5D9-D9C12F22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66A-82E9-42BC-B04D-3C0DDEA3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4A4-51DE-4D0C-BF1C-6160B1E5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79E-F4A8-493B-AC01-0BDD6534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9F1-BFDA-4691-9631-2161D94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C7341-ACB4-4383-B696-8EF4ECC64A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aid aside Your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ve up everything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ffered at the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ose You had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all my guilt and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died and rose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oday You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eav’n and earth exa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Laid Aside Your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eally want to worship You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won my heart and I am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ov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ly one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ve Your life to set m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lift my voice to You in ad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24Z</dcterms:modified>
  <cp:revision>10</cp:revision>
  <dc:subject>The Source, song number 601</dc:subject>
  <dc:title>You Laid Aside Your Majesty (I Really Want to Worship You, My Lord)</dc:title>
</cp:coreProperties>
</file>