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D482-C660-41D7-924A-2D65A96D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0B02-7630-41C3-A4EA-C9E3850D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18F6-C40F-465C-B0A5-8A19E71A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6A6D-1715-4B6A-BF79-82EF96A8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6975-B3EF-4D53-8F79-599F961E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47F7-2358-49C1-9AF1-49EBBFBA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68FD-0C89-4645-BA0E-86DB584A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EA1F-7ACD-497F-8AAA-8883A3D1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6690-2D54-4860-BAED-17AD024A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D076-D081-411B-9CD2-4A81CAC6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F6AD-77C3-4C32-8FC1-9E927971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EFE1-B35D-4C59-944F-A6680DA1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0055D-3D8D-4621-8F90-AA32BC0DEBA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, for the night is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 through the morning hou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 while the dew is spark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 ’mid springing flow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зья, взошло свети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, взошло свет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авды, и доб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сердце озар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 у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 when the day grows brigh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 in the glowing su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, for the night is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an’s work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, да воспря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ш дух в борьбе свят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очь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 труд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, for the night is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 through the sunny no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 brightest hours with lab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comes sure and s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! уж полдень зной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 все к тру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деждою спокой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оможет 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every flying minu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thing to keep in st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, for the night is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an works no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ваш не уста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скорби трудов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очь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 труд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, for the night is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der the sunset sk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ir bright tints are glow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, for daylight f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пожелтела ни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а жатва в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ышен звук призы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тесь дружн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 till the last beam fade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deth to shine no m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, while the night is darke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an’s work is o’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колос не увя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Господа жив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очь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 труд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единитесь, бра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лавного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юзом благо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и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слабый не отста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смущённою душ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очь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 труд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14Z</dcterms:modified>
  <cp:revision>13</cp:revision>
  <dc:subject>Slavic hymnal Гимны веры христиан, hymn 529</dc:subject>
  <dc:title>Work, For the Night Is Coming / Друзья, взошло светило</dc:title>
</cp:coreProperties>
</file>