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987-8E73-4A1A-804E-3BC71513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F8C-E774-4C22-A161-E874456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0E7-93DA-4056-9DD3-EAA74D6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591-3558-4A86-8377-C20FBA01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BE9-2B3D-411B-B7AC-42A1C6E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2C9-DC91-444C-A175-0C7E3D2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2FB-7498-4324-8547-BB0CBFC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F81-11D3-4A97-9FB4-C6EAA56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7FC-21D1-48D4-B122-77726484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2CC-2A3A-456D-8512-E93C48F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5F2-6878-406F-B0FC-8A86D88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ABE-F7B1-4756-8384-999F41A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B0CC4-460B-49AA-90E6-1DD938EBE9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heaven was filled with His prai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sin was as black as could 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came forth to be born of a virg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welt among men, my Example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d Him up Calvary’s mount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nailed Him to die 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uffering anguish, despised and rejec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ing our sins, my Redeeme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ft Him alone in the gar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 rested, from suffering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came down o’er His tomb to keep vig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pe of the hopeless, my Saviou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grave could conceal Him no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tone rolled away from the do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 arose, over death He had conquer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is ascended, my Lord ever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trumpet will sound for His co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kies with His glory will s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day, my beloved ones brin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ous Saviour, this Jesus i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24Z</dcterms:modified>
  <cp:revision>13</cp:revision>
  <dc:subject>Slavic hymnal Гимны веры христиан, hymn 836</dc:subject>
  <dc:title>One Day / Некогда с неба</dc:title>
</cp:coreProperties>
</file>