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176-23B7-4C0A-9976-CD5EF49F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E61-DE85-4B23-ADE0-6B37595D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160-BC18-4E37-8F3F-0EFE5BE8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E70-8F28-4403-B1FE-A458AFF6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497-4575-4C22-A138-7E9D3D45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B22-FF88-40C4-AAF6-6CA87B5C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376-DAF2-4AF8-9BB6-E1ECA771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2B8-529F-4AF0-9093-F3FA6AB0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2E9-9263-41FD-BECB-93AC6A2A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58A-7315-4312-A94C-EEF8D40F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B20-9C29-41A8-8A83-E7816919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C82-C909-4CBA-84CD-E6F59F84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D2A03-1A36-4961-BD69-9A8A37A6A5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 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is called Emmanue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th us, revealed in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is called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мману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мануил, Емману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зван был Емману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 нами Бог» открылся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зван был Емману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14:04Z</dcterms:modified>
  <cp:revision>11</cp:revision>
  <dc:subject>The Source, song number 675 in Russian</dc:subject>
  <dc:title>Еммануил / Emmanuel</dc:title>
</cp:coreProperties>
</file>