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F61-198A-492D-8AB8-C1C31D9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C41-371F-46A5-A4B9-C33461D4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99B-DBEE-4C97-AE70-D226D906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C1C-88D4-443C-9111-A6FC8614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8BE-F201-4177-A00C-240250C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A24-0E2A-4351-B2AD-4649434D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761-7A0D-4660-8A7B-C9218FF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37B-EF06-47B2-82CD-DF9B3C3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EA5-027F-400F-8D82-A5DCACD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13D-2DCC-4923-AAB2-FD92958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87F-F5B1-4D36-9D4B-9F92753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A24-948E-40EA-92E6-D8B0D1E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CC199-0DC2-4B8D-A1F3-8FF98E598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е Антио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асит о том расс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ианами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лися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оде Антиох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ратстве общности им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ервых христи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для покол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ной жизни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и, верой озар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гня тяжёлых 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видел изум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зематах и пеще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такомбах разн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явлена в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 дни, дни иску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путь Тобой нам 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илу вдохнов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ердце, одну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имеет Божий ст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асим моря и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нас откро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у первых христиа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любви неизреч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ликий оке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41Z</dcterms:modified>
  <cp:revision>13</cp:revision>
  <dc:subject>Slavic hymnal Гимны веры христиан, hymn 769</dc:subject>
  <dc:title>В городе Антиохии</dc:title>
</cp:coreProperties>
</file>