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155-1981-49BF-9942-4CABE6D8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097-D76E-4488-B86D-7EC4582E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6CD-EE8D-4070-8F27-83B88226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BA56-E4FB-499C-A696-1036ABAB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0BA-C9CF-4A4A-8BF8-471F5B31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849-FA31-4C4A-9DFD-BC34FEA5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E2C-4814-4694-8AE0-72F03F46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C1C-422C-4270-9406-16E93EA8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504-5E3B-4C39-9AC2-5B1F27FB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7F0-776E-4EBA-BC52-B0B117C4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748-E200-427B-B34A-0F2FD876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8AB-4C58-4159-97F6-4ED51915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C2E52-D3BE-480E-B678-AD1D775B24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! ободрись, дни протека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! ободрись, пусть все вним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чался после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г зовёт к труду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! ободр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, брат, Христа за радость наш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, брат, Христа за скорби чаш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Царь небесный к нам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блаженство Он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ободрись! Лета проходя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! молись, враги подход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ин, стой ты на ча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ечом Божественным в рук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брат, смотри! Уж день све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о, хвали! Господь с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детей на вечный п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т слава, радость,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5:12Z</dcterms:modified>
  <cp:revision>12</cp:revision>
  <dc:subject>Slavic hymnal Гимны веры христиан, hymn 707</dc:subject>
  <dc:title>Брат! ободрись, дни протекают</dc:title>
</cp:coreProperties>
</file>