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A0C-0DD5-41DD-9D33-92A4AD49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39F-65DC-445E-AC74-ABAD36EA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25A-0A2A-47EA-9E4C-3BC0D2BC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AB5-ED56-499C-BE45-EB5050E9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ADE-FCDE-41DA-822C-31779112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A32-74F5-4EB3-816E-663B7FF0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87C-BE54-4857-B909-6DB34024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42B-64DD-48A9-A97F-461606B9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D16-1967-4600-AA88-79022EF4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987-D14A-4F38-805B-750E527F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983-3665-478C-8B07-79A005C0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2E2-EF6C-4A42-B248-7974079B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D9039-7436-44A2-892F-3171E2A184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п один в руках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ночь мне не страш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устым пред Ним яв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так страш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мне года бы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о было возвра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и радостью, и счаст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 б Господ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рудитесь, дети Бож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ходит, ночь близ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ка не поздно, д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ербуйте д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14Z</dcterms:modified>
  <cp:revision>12</cp:revision>
  <dc:subject>Slavic hymnal Гимны веры христиан, hymn 532</dc:subject>
  <dc:title>Не хотел бы я бесплодным</dc:title>
</cp:coreProperties>
</file>