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C96-B555-46B3-8A04-8331E6F1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0D9-6801-4F89-8DE0-736801BC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C26-007C-447A-AF3F-991EB462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821-E5ED-4E78-99D5-252E6AD7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323-9A6C-45BD-B46D-154EDFA3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57A-CD9C-4147-91A0-7DE816EB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FFF-8F6C-4D02-B1FE-254277C2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528-03D4-4EFB-B369-9F34B7AB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11A-7012-44B9-B7F8-709B9DF9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D03-7471-41E3-85A7-5B5A80E6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220-D63B-4C92-B6E1-A35FF66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5EE-E4A2-4FEA-8CD3-0DE7FE1D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0A684-3025-4381-8904-C026EF77B8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ntain mak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cean ta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impses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rn in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ship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s up the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89   Mountain 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r crea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nd bre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rokes of Your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ushed through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from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uching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magination runs w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eathes the breath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fiel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m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08Z</dcterms:modified>
  <cp:revision>12</cp:revision>
  <dc:subject>The Source 4, song number 1989</dc:subject>
  <dc:title>Mountain Maker, Ocean Tamer (You Do All Things Well)</dc:title>
</cp:coreProperties>
</file>