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397-A721-46F7-B7EB-7D45001C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523-D8D3-4016-978C-4DD2E1AC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AD5-CA00-4C41-B4AF-5087A26F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271-8D43-4328-8B68-EA9FCEAA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C1A-4437-41DF-A35F-8475D219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784-E1E7-45FC-A3F4-6B29047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3BF-775E-49A8-8EEA-496DD94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D25-0339-48DA-9E58-9F583BD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68F-5052-4406-8A43-4FA00A1E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8F4-71E1-48CF-8836-5F647E8D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7DB-31A3-4137-A284-D5B6863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D54-FDCE-4B44-AF9A-DB336AC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39F3E-CD58-4DF3-8F28-178D21C8E0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iche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have saved my poor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aketh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uilt on my 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heavy had g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only a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ade m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oveth my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in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not thus be bou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hath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6Z</dcterms:modified>
  <cp:revision>13</cp:revision>
  <dc:subject>Slavic hymnal Гимны веры христиан, hymn 421</dc:subject>
  <dc:title>Nor Silver Nor Gold / Не золотом тленным</dc:title>
</cp:coreProperties>
</file>