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13E2-22FC-4C58-BDCA-8692A939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7686-A135-4CD9-A8B1-7D2AE9DA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A770-569E-4965-88CE-3360E675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517-E18C-4B21-B1EA-33FD097C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F11E-F185-4B50-81B0-F629BBE2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1CDB-9484-4C45-981C-D6ADF4A4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0046-E7A4-4D41-B2D5-771C6BED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DD96-B0EF-437E-B8F6-3D68AC3D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A6FF-97A2-4A2C-961C-A974E7E2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18F3-28C9-473D-83BC-169BFBA7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423B-FD02-4C8A-BAF3-3F63D45A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A622-F508-4712-8487-2E9EA4B3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092FD-7E63-4075-8752-945908FCC57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Євангельську ми ві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Христом підемо в слі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єдиною сім’є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за Ним вперед, впере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1   За Євангельську ми ві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ротьба іде кипу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землі по всіх місц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іли хоч гріха пекучі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 прапор святий в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 байдуже спогляда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розп’ятого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Христос заповіда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у присвятить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у й святість ― скарб від Бога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ронімо ревно вс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ине земна тривога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Христос прийде в крас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авду сіймо, свято жий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ям світло понес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шу ми любов загрій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праці щирість покажі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31:53Z</dcterms:modified>
  <cp:revision>13</cp:revision>
  <dc:subject>Slavic hymnal Гимны веры христиан, Ukrainian hymn 21</dc:subject>
  <dc:title>За Євангельську ми віру</dc:title>
</cp:coreProperties>
</file>