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F8F-F059-4856-BDE6-EBC5FDA5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EBB-12F4-4E6E-A51C-7245B96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EA1-BEE3-4857-8406-14994EDE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7F4-F5E1-46C0-B9EC-CBA2D0A0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F03-99DD-4551-BFB3-091096D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4AC-ADE6-4E3E-BB67-295A711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D06-9229-4CA9-85F9-49CF524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4F7-689C-482B-A5AA-93A23A7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8FB-E42E-49A8-9816-7DF4CE20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5F8-5DCC-402E-A852-4B7D6F9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905-AB25-4ADB-BFEE-5D7AA54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06F-890B-4C38-8A9A-B7E8FFA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8F63E-88E3-40FB-998A-F0FD56DE7B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the land with hearts on f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 step will be a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s rising, new day daw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of singing fills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o thousand years, and still the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urning bright across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ts are waiting, longing, a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wakening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’ll Walk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for truth, speak out for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Jesus’ name we shall be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the fallen, to save the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ll the nation with Your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53Z</dcterms:modified>
  <cp:revision>10</cp:revision>
  <dc:subject>The Source, song number 551</dc:subject>
  <dc:title>We’ll Walk the Land (Let the Flame Burn Brighter)</dc:title>
</cp:coreProperties>
</file>