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3D5-918E-43F2-A0EC-62770283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0E6-9BFE-4331-A971-1D236660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CBC-096A-404A-B40F-4708E602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D13-C3AF-496C-9A57-DEEE8278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687B-E774-49AA-8027-8D5AABC3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38B-D3F6-4A66-9AC9-6AD08732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57F-2246-4D95-949D-D6F29890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B46-37DD-46ED-9AD6-C4B672D9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B12-D3CC-4971-90A5-75517387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0A47-35DC-41A7-BF06-9250967A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5FA-6F9D-42E6-9FFD-03383701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06D-2D47-4214-885F-8715D802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9559E-42A5-4CCB-9C8C-9B30FA38E3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окончу путь мой 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, где блаженства льются пот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этом мире я т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отчизне, куда стремл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, мой Спасител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печали, нет воздых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едугов, нет умир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там всё лик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в тот дивный, дивны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этом мире тёмно и жут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томился, нет мне прию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6:02Z</dcterms:modified>
  <cp:revision>12</cp:revision>
  <dc:subject>Slavic hymnal Гимны веры христиан, hymn 680</dc:subject>
  <dc:title>В этом мире я только странник</dc:title>
</cp:coreProperties>
</file>