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073-BCE7-40C0-B08B-0846C30E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860-C9FA-4B62-913E-432F8C8D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4AD-CAA9-4FBD-89B2-2790814E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73A-074E-45EA-80B8-283CA52E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07F-A086-4B03-8BE9-A07C58B2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0BE-6DE8-4AF4-8F8B-04DB88C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AB9-D048-4950-B5EF-F6D8A89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DD1-20AC-4E1A-A39A-8F99AB9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F9F-B4CF-4920-8DAC-342AFDBE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5E1-B86D-4466-82AB-B90A9A3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C0E-6CDA-41A5-B45B-633D823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5B7-8B9D-4FC4-A552-E0442F96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61AF6-BB05-4E4F-AD71-074C2956BC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в, страждав, вмирав Ві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11Z</dcterms:modified>
  <cp:revision>12</cp:revision>
  <dc:subject>Slavic hymnal Гимны веры христиан, Ukrainian hymn 73</dc:subject>
  <dc:title>Книгу Божу маю я</dc:title>
</cp:coreProperties>
</file>