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9E6-09B6-4EE5-B753-31681378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875-85B4-4A1A-835D-0C9C6A46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FB4-DCE9-40D1-9E05-1085D4AF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829-1B33-4458-9AD7-4E8E1F80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345-E292-4015-870B-4CEA41FE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590-6A9A-4605-ADA6-D950437A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72D-00E2-4ADF-8D2A-7C674AA0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B43-8C65-4A1D-BEAA-CA70E2B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854-E46E-4C29-87C5-13D00F37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8AC-3852-40D6-B7E9-DEE5BEA0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BCD-D2E4-4592-92E9-E4033AAA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EF5-ED40-4D53-9CAD-76257D2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B67DE-805A-458C-ABB5-8E73DCF642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 ныне в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и не выразит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согрешень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лёк моё сердц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частлив я н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ринош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лался другом м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ньше блуждал в беззако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ыне Им в правде во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, Иисус —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из Его я 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Святой Дух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Бог — мой Небес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брат мой грешный, несча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мли Его гласу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и тебе Он дать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с верой взор обр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09Z</dcterms:modified>
  <cp:revision>12</cp:revision>
  <dc:subject>Slavic hymnal Гимны веры христиан, hymn 576</dc:subject>
  <dc:title>Как счастлив я ныне в Иисусе</dc:title>
</cp:coreProperties>
</file>