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BF1-22E9-4759-97D6-49776BE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524-CE5C-4662-B284-66C0A001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287-5D1C-4535-9D00-8C88E785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D52-0EF8-4254-92E7-59AA7B70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C0F-3FA9-450D-A70A-CEEBBF38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6D-B464-4AE7-8F73-F656A53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0F6-E869-4395-8D80-8ABCFEC0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954-6C7A-4193-BA18-1A6A68B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D80-97B1-493D-8A93-0BF05B4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7CE-BE07-43E6-9C3A-AC38BDA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D70-35C6-4F2F-8738-4D090A3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AFA-35BD-4278-AF87-7F4C7E9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0F904-DFD9-4FBB-8ABC-5F75A3766D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rve a risen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in the worl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men may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all who seek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lp of all who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is so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od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han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His voice of che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ust the time I ne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lway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the world ar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loving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my heart grows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ver will des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stormy b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His app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O Christ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halleluj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Christ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4Z</dcterms:modified>
  <cp:revision>13</cp:revision>
  <dc:subject>Slavic hymnal Гимны веры христиан, hymn 287</dc:subject>
  <dc:title>He Lives / Воскресшему служу я</dc:title>
</cp:coreProperties>
</file>