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250-462C-46CC-8B9A-A71FE222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316-49E5-4426-AEA3-6886FE4B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EF7-6BF6-475C-9734-38353A86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D77-635F-4DBC-A3EA-5457C5CF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F51-DB32-488B-9BA6-A32E0731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46C-ACB6-49B7-8411-94495725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934-5A78-49D5-AA2B-A8E8DE0C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88E-4EBE-4CC4-92BD-777A5A11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A051-6F36-4801-88EE-72D452A3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424-0EB1-4F29-A766-B3E2613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56F-DDB9-4E1F-91C3-0D597FC8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101-A713-4114-8C71-4770F734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63AC1-7F7C-41AA-AD7C-69B40A1F76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Божьем С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юбви и добр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итался Он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 о Божьем С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с радостью и ве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другим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открыл нам дв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ый рай,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лился Он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бедой на Голго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аняет Он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хвал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Его д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с Ним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Его мне жизнь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25Z</dcterms:modified>
  <cp:revision>12</cp:revision>
  <dc:subject>Slavic hymnal Гимны веры христиан, hymn 639</dc:subject>
  <dc:title>Буду петь о Божьем Сыне</dc:title>
</cp:coreProperties>
</file>