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BAEC-70A8-4BD8-A32A-BD55F5343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FEAF-9B91-436A-8066-B9EAAFF4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39B6-37C3-4986-AEB6-452166B54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0F20-C116-4E59-A12D-9F1908DAA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782D-F420-4EFB-B078-28AC79D7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630A-CFF9-49DE-96B4-2E0BEF93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C322-55E3-4EB6-83D4-2A8F5BAD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0B51-8272-4EA4-BB34-D85A54C9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9FAF-C57F-4D15-990A-9E30301E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854B-F12A-4BC9-B55E-FE8903F2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980D-84D0-4094-A08C-A7769253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4CA1-FE32-46EC-8D1E-E4641767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C62E3-50DB-4F43-9010-949B1F39252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в этой бурной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ердцу даст по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жаждущих напо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ительной вод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лишь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лишь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лишь Один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ит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Ах, в этой бурной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корбью удруч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всех сторон враг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защитит, утеш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жизненном пу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лишь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лишь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лишь Один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ит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грех меня терз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шусь я пред враг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 — избав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ти мне где и в 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лишь Од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лишь Од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лишь Одном,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ты найд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2:26Z</dcterms:modified>
  <cp:revision>13</cp:revision>
  <dc:subject>Slavic hymnal Гимны веры христиан, hymn 330</dc:subject>
  <dc:title>Ах, в этой бурной жизни</dc:title>
</cp:coreProperties>
</file>