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30F-30BA-4B17-99F7-3037626B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706-6E09-4514-8EEE-1BD434CA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8D8-0D40-4967-8DEE-4C61591E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7A3-5625-4A17-91C4-501BE1B5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FD7-0C22-4619-A34C-A18342B6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570-A099-4FFE-8AA4-1EDDE6EC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35B-4262-499D-8152-9A057CA5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A95-C179-4401-917F-DEA22ED3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6D7-7370-4B79-A19A-2968968C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F75C-95CC-4F6B-82B7-2A6383AA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AC2-7808-4052-8BCA-8E74BF4B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27C-AD7A-4BF1-ADE9-F4DBFE51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4DE44-9789-4072-96FA-8F8C542D13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м мы 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ово правды о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чь могло широких м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приходит правд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ступает новый д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ьмы греха, сомнений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ое «я» уходит в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крывается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безмерной и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, врачует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 бо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ым — силу для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м — покой сред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 Богом жить всег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Библия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51Z</dcterms:modified>
  <cp:revision>12</cp:revision>
  <dc:subject>Slavic hymnal Гимны веры христиан, hymn 563</dc:subject>
  <dc:title>Открытой Библией везде</dc:title>
</cp:coreProperties>
</file>