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54B-7FFF-4501-A709-D32824C2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F66-D024-429E-B41E-E2F02D4B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57B-7B22-4269-B3C0-D3CB5419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F54-30FD-4C31-A29D-4E94B317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384-0EA3-49C5-9878-BE68DEF2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90C-E84F-43A2-AC33-0E5F75E7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9B4-88CC-4507-B0AD-02169AF4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20D-F49F-4414-98A8-D0446C54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706-A7E6-4509-BA0C-718CE0A3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97A-F6D5-4A15-8B55-18F67AAF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7C7-DBB5-4BA1-890C-C9CA765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C27-A5A2-4431-A574-CBD09C89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FBA00-0EA1-4474-AACB-A1286C1158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ttle town of Bethle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till we see thee 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is born of 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ortals sleep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atch of wonde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morning star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holy bi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s sing to God the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to men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rous gift is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ings of His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ear may hear H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is world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eek souls will receive Him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out our sin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ear the Christmas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glad tidings t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rd,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8:28Z</dcterms:modified>
  <cp:revision>13</cp:revision>
  <dc:subject>Slavic hymnal Гимны веры христиан, hymn 239</dc:subject>
  <dc:title>O Little Town of Bethlehem / О, малый город Вифлеем</dc:title>
</cp:coreProperties>
</file>