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80</a:t>
            </a:r>
            <a:r>
              <a:rPr b="1" lang="ru-RU" sz="3600" spc="-1" strike="noStrike">
                <a:solidFill>
                  <a:srgbClr val="ffffff"/>
                </a:solidFill>
                <a:latin typeface="Verdana"/>
              </a:rPr>
              <a:t>	</a:t>
            </a:r>
            <a:r>
              <a:rPr b="1" lang="ru-RU" sz="3600" spc="-1" strike="noStrike">
                <a:solidFill>
                  <a:srgbClr val="ffffff"/>
                </a:solidFill>
                <a:latin typeface="Verdana"/>
              </a:rPr>
              <a:t>Блажен, кто мудрости</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лажен, кто мудрости выс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слушен сердцем и ум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то и в ночной тиши глуб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ри сиянии дневн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Читает книгу ту свят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силен Господа зак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не пойдёт в беседу зл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путь греха не ступит он.</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Ему не нужен праздник шум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уда не входит стыд и че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где царит разгул безум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ула, злоречие и ме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Ему не нужен путь развра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лишний гость на том пир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брат обманывает бра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стра клевещет на сестру.</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И вот, как древо у поток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итается от светлых во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разростается широк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к он в спасенье возраст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6.</a:t>
            </a:r>
            <a:r>
              <a:rPr b="0" lang="ru-RU" sz="3200" spc="-1" strike="noStrike">
                <a:solidFill>
                  <a:srgbClr val="ffffff"/>
                </a:solidFill>
                <a:latin typeface="Verdana"/>
              </a:rPr>
              <a:t>	</a:t>
            </a:r>
            <a:r>
              <a:rPr b="0" lang="ru-RU" sz="3200" spc="-1" strike="noStrike">
                <a:solidFill>
                  <a:srgbClr val="ffffff"/>
                </a:solidFill>
                <a:latin typeface="Verdana"/>
              </a:rPr>
              <a:t>Как древо в листьях зелене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Цветёт, красуется плодом,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к он для Бога сердцем зре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лод святой растёт на нём.</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0T10:24:36Z</dcterms:modified>
  <cp:revision>3</cp:revision>
  <dc:subject>Slavic hymnal Гимны веры христиан, hymn 80</dc:subject>
  <dc:title>Блажен, кто мудрости высокой</dc:title>
</cp:coreProperties>
</file>