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AFD-36EC-4E57-8E47-69728F03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83D-D703-4594-B71C-7BDCAFE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F57-D18B-450F-9AE2-9A655864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E6E-ED65-4B7E-A856-59E4A167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B1C-C0C3-4340-AB98-F211173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B1D-355C-4365-80D4-BFE025D2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E03-18E0-4E3F-8757-A12D40D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38F-33B1-44B1-9FCD-B086C163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E40-F19F-463A-9575-09F07CE9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402-E339-4DEC-AC7A-F93730B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C7F-760F-4F52-AB3F-45FA5B5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3E9-36BF-4256-AD6C-3E85C75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7BC02-78D1-496D-B7B0-33CD5E1829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4:25Z</dcterms:modified>
  <cp:revision>12</cp:revision>
  <dc:subject>Slavic hymnal Гимны веры христиан, hymn 849</dc:subject>
  <dc:title>Твердыня наша — вечный Бог</dc:title>
</cp:coreProperties>
</file>