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B40-BD21-474D-BDDD-353C9665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6FE-5E7D-4A4D-B1F7-32FF3E2D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797-EECD-4BE2-B0CD-59BAA269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138-B0EB-415A-8FB6-005B66CB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D19-27FF-48B6-B137-BA1A10D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C2B-977D-4F30-A5A6-32CC9A04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549-62CB-481E-A6A9-3F5934FA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8CD-1A25-411D-A3EC-606BA863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5AF-F873-4E94-B448-86913A8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B07-C40E-432D-A505-ADC09C99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FC7-DDA1-4C5E-9519-C669EAB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803-E1D9-423D-ABA6-8D9AA100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A73B-431B-4435-896D-B2D4246815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5Z</dcterms:modified>
  <cp:revision>13</cp:revision>
  <dc:subject>Slavic hymnal Гимны веры христиан, hymn 793</dc:subject>
  <dc:title>Am I a Soldier of the Cross? / Не за Христом ли я иду?</dc:title>
</cp:coreProperties>
</file>