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422-4CE5-4E41-8FB1-76A77DFC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FBD2-AF73-4AAB-B165-51DF8C6E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0DBE-1869-4F51-9002-DCD60F26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2232-AB66-43B4-A73D-4974DDD1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330A-7A38-4FCF-9730-54114112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A73-637D-49F1-81BD-9F8F7263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7E66-25AC-4945-979C-25B6B95A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3F51-EDA2-4AFF-969B-6F6320CC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5BD7-B173-4CAE-A2EF-BC70F801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1B0-6605-4BE2-B189-972B2AAC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E0B3-3AEA-4C8C-96B5-1861B711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8933-9D97-4D23-A61F-6A6FD7A8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BB4E1-0F7A-4535-B8A7-7F51EF8878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йно шеству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 битву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ярким знаме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ружьем и щи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Аг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уя над вра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ойно шеству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м все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рянь, песня, Богу мо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будем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многие примк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туда, где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ей 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песни мн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ривлек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меряя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отовим стр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ступить с вра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алым надо в 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больше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 вражьей сторо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м все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рянь, песня, Богу мо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будем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многие примк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туда, где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ей 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песни мн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ривлек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к нам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х руков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ом нас Сво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бещал хра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нас ни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т устраш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м все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рянь, песня, Богу мо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будем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многие примк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туда, где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ей 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песни мн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ривлек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лаве мы неб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вать и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высокой ч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аны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енец терн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е с Ним не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м все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рянь, песня, Богу мо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будем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многие примк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туда, где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ей 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песни мн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ривлек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5:19Z</dcterms:modified>
  <cp:revision>13</cp:revision>
  <dc:subject>Slavic hymnal Гимны веры христиан, hymn 542</dc:subject>
  <dc:title>Стройно шествуем</dc:title>
</cp:coreProperties>
</file>