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CB0-173C-4B9C-9218-3309F267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5E6-0BB1-46E3-B9D3-438FF05C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50F-BF9F-4026-A2FD-CDD95055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0A3-96B1-43A8-9ED0-C55CF51A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B9F-C812-4471-AD5C-859178F3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BE1-5FF7-44B5-9A06-D78E7E6E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943-1002-457E-A921-784B2FF4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8CA-51FA-4E98-9858-943925E8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09E-28BD-4EAE-9989-A4D154EB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728-15F1-44D5-BC5A-218BBE00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054-2288-4E5C-B669-403026E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0ED-E8A7-40FB-95C4-2F59869E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D504E-5779-409D-87FA-209338AAC0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omes to my heart one 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lad and a joyous ref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it again an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сердце лишь песня 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лишь песня о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дости льётся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, как живая во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Christ on the cros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bt by His death was all p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dation is l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л мир страданье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лг мой Себя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миру лекарство от слё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as Lord I had crow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th this peace did 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the rich blessing I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Иисуса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р в изобильи мне д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ре любви ощу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esus for peace I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keep close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thing but peace doth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пребыва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рибегает ду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ир я вкуша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2Z</dcterms:modified>
  <cp:revision>14</cp:revision>
  <dc:subject>Slavic hymnal Гимны веры христиан, hymn 582</dc:subject>
  <dc:title>Sweet Peace, the Gift of God’s Love / На сердце лишь песня одна</dc:title>
</cp:coreProperties>
</file>