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CFA-7066-4778-9F00-3D749B9C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21D-F05B-49EF-AD53-C4FB5A36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391-2171-46F9-AC22-F3472F26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150-7126-47BC-8B2D-FA44B58F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806-8F41-4C7A-A2D7-2E9DC8E1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E3F-3E5E-4F48-89A5-2671ABE4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599-6F1D-48E2-8119-8166F544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644-A200-44E9-9075-55C7D3AD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E89-9321-4464-A688-8119A3FA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1D3-4694-4264-ACF2-15899C6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733-0180-42BB-A338-7FA52E42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F6B-827F-4329-A2E5-DDEF666B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4BEAE-E8D1-41B6-B754-4FD880D684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y blood and righteou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eauty are, my glorious dr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dst flaming worlds, in these ar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oy shall I lift up my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ва праве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праведность и кровь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лучшая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осмелимся пред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й суд в конц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shall I stand in Thy great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o aught to my charge shall 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y absolved through these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in and fear, from guilt and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ий, страшный,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анет обвинять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, помилован, прощ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веч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believe Thy preciou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, at the mercy sea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doth for sinners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, e’en for my soul, was 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я верю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чистилище ви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силой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грешник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believe were sinner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sands upon the ocean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for all a ransom p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a full atonement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только грешных, как пе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ах земн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традал за всех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крови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1:00Z</dcterms:modified>
  <cp:revision>12</cp:revision>
  <dc:subject>Slavic hymnal Гимны веры христиан, hymn 884</dc:subject>
  <dc:title>Jesus, Thy Blood and Righteousness / Христова праведность и кровь</dc:title>
</cp:coreProperties>
</file>