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C36-8088-40D7-B191-5A04494A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8E0-1F00-4A8B-8DC5-626CF666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DF0-019C-400E-9C30-195B0E6B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CB0-2D92-44D1-BEE9-3AA39854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D1D-FEF7-4C3E-A4C9-A7F3FE5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034-83C4-4B1F-B263-3721FA02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7D1-4D3F-4FDB-B083-6B9EC7C9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79C-B2BE-439A-A0E9-2B276983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F2A-B2CC-44E0-9B10-EE3E339F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757-1744-4BEF-A374-93AE0C4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AFE-91DE-4B41-946E-C7DDEF9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A84-1C3A-4A37-813E-2377B1A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B72C-B4F9-4517-B000-2475A76DFC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all ye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and triumph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ye, O come ye to Bethle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e King of ang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choir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exul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, all ye bright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, All glory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Lord, we gree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is happ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o Thee be all glory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 of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flesh app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34Z</dcterms:modified>
  <cp:revision>14</cp:revision>
  <dc:subject>Slavic hymnal Гимны веры христиан, hymn 242</dc:subject>
  <dc:title>O Come, All Ye Faithful (Adeste Fidelis) / Придите к Младенцу, верные с весельем</dc:title>
</cp:coreProperties>
</file>