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0F59-926F-4FE6-8F84-0DCD92A3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D49-2D30-449D-A430-DB1C9780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490-61C5-48D7-B3BA-B8C02523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4D9-53A1-4AA9-A95A-FF1DC56D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7C49-3E87-4BE2-8718-21C53646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A69-2464-4471-B0A9-54B14E7A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B60E-0934-4259-B52E-66DC6E52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D76C-ACF4-476A-ADE8-9E51DA2D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16C-B9CC-4480-ADC9-D11D44CF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F4F-85FC-4B09-A7A8-F1588F1C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B6FA-99E2-4AF2-A967-03E551EB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3C5A-6A1F-4BC1-8DB6-C46E48B6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0FF0E-F3B8-4C77-A6D0-818F93D2C8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let me d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is lif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hatever worldly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 wilt have me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from sorrow, pain or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eedom dare I cla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alone shall be my pray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Th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99   Father, Let Me Dedic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a child presume to cho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or how to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a Father’s love re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best to g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glad heart, while it 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e in all pro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whate’er the future br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Th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5:36Z</dcterms:modified>
  <cp:revision>12</cp:revision>
  <dc:subject>The Source 3, song number 1199</dc:subject>
  <dc:title>Father, Let Me Dedicate (Be Glorified)</dc:title>
</cp:coreProperties>
</file>