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21C-893B-48C9-AC3E-02333D97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E09-BFAF-48D1-9873-FBC859FF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6E5-07AD-4FAF-B29C-1C68527B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41B-26CD-4B5B-B0B4-22093515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162-93AD-4234-AE54-9E88857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DCE-1AD4-45A4-A5F2-DA7C642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350-D001-4CE4-BCC7-9FFD84F2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538-5BA9-47FD-9BFC-22D437EE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92D-071F-4A0B-8C56-B90178BA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AF8-72CE-48CD-85A1-062B1AFE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74E-890B-42AF-B331-B8FD03AA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E0B-9D13-4EFD-B2CD-AEAA3ADF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DC5FA-7822-4E27-8EF2-193AFCB705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lvation belongs to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its on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alvation Belongs to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, the redeemed, shall b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urpose and u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alo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16Z</dcterms:modified>
  <cp:revision>11</cp:revision>
  <dc:subject>The Source, song number 443</dc:subject>
  <dc:title>Salvation Belongs to Our God</dc:title>
</cp:coreProperties>
</file>