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258E-55B7-49BD-99A8-AA34C143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351-85AC-4905-9398-4C89BCF5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B993-4846-48DB-9944-70562434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81AB-F167-4721-A5CB-38BE0E82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B04-69B0-4994-9C9C-F4DEAA53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BC2-7A77-4907-A6CE-D0CFA57C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22C-32B6-48F9-B7CA-F00FAA24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79F3-3F43-4FEC-AF72-D0C98178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1947-C6FE-4241-8D71-F6CDA7DA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53F-D6DC-49AC-BD1C-BC755BD6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1355-FA6D-4683-8E4F-9DC32297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298E-DFF7-4DA6-AE75-01D5A812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620DC-94EE-4047-B37A-626CA30C47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учно на сердце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е вижу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а пустеет пред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ркнет, и меркнет, и мерк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ркнет её крас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ясно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ле всё мёртво кру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ем пустыня гля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, когда я, когда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в союзе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кучно на сердце по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исусе — сокровище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ть с Ним — дороже вс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ы со мною О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ыло б, мне было б, мне было 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ыло б на сердце лег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л бы Он близок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 с Ним ничего не жел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ый любовью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ё бы, я всё бы, я всё 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ё бы за сор почи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3:06Z</dcterms:modified>
  <cp:revision>13</cp:revision>
  <dc:subject>Slavic hymnal Гимны веры христиан, hymn 504</dc:subject>
  <dc:title>Как скучно на сердце порой</dc:title>
</cp:coreProperties>
</file>