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82</a:t>
            </a:r>
            <a:r>
              <a:rPr b="1" lang="ru-RU" sz="3600" spc="-1" strike="noStrike">
                <a:solidFill>
                  <a:srgbClr val="ffffff"/>
                </a:solidFill>
                <a:latin typeface="Verdana"/>
              </a:rPr>
              <a:t>	</a:t>
            </a:r>
            <a:r>
              <a:rPr b="1" lang="ru-RU" sz="3600" spc="-1" strike="noStrike">
                <a:solidFill>
                  <a:srgbClr val="ffffff"/>
                </a:solidFill>
                <a:latin typeface="Verdana"/>
              </a:rPr>
              <a:t>Отче наш, Сущий на небесах</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тче наш, Сущий на небес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а святится имя Тво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а приидет Царствие Тво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а будет воля Тв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 на земле, как на н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Хлеб наш насущный дай нам на сей де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 прости нам долги на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ак и мы прощаем должникам наш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 не введи нас в искушени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Но избавь нас от лукавого.</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2:07:55Z</dcterms:modified>
  <cp:revision>3</cp:revision>
  <dc:subject>Slavic hymnal Гимны веры христиан, hymn 182</dc:subject>
  <dc:title>Отче наш, Сущий на небесах</dc:title>
</cp:coreProperties>
</file>