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2F3-AE72-42A1-BA62-77C20381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26E-9A3B-48E0-A5FE-96CDBE98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06D-08F6-464C-9D62-E507378C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718-83AF-48A2-9FD9-ECC0F411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B3F-DB4C-4B9E-A27E-6CC4429B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93B-5FBE-4AE8-9137-9421573D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3A3-248F-4F08-96BC-E4FDC53F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F9C-3D50-48D9-AD09-8ABC4741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72F-ED08-4B03-9C41-FD699A01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6A3-E6FC-499D-BC1C-5F1C4DBE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EAD-9EAE-460C-9261-AD153504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384-ED91-4F93-9AEF-15BE8E8C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A17E2-4D6A-436E-BEAF-EAE6A8024F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знал ли благодати пол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ешься ли ты во всём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познал ли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ли идёшь Его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ываешь ли в общеньи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янья светлые хранишь л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ённые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лен ли ты жить среди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ложи всё, что запятнано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ым будь кр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источник для живущих в мире 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7:24Z</dcterms:modified>
  <cp:revision>13</cp:revision>
  <dc:subject>Slavic hymnal Гимны веры христиан, hymn 428</dc:subject>
  <dc:title>Ты познал ли благодати полноту</dc:title>
</cp:coreProperties>
</file>