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7</a:t>
            </a:r>
            <a:r>
              <a:rPr b="1" lang="ru-RU" sz="3600" spc="-1" strike="noStrike">
                <a:solidFill>
                  <a:srgbClr val="ffffff"/>
                </a:solidFill>
                <a:latin typeface="Verdana"/>
              </a:rPr>
              <a:t>	</a:t>
            </a:r>
            <a:r>
              <a:rPr b="1" lang="ru-RU" sz="3600" spc="-1" strike="noStrike">
                <a:solidFill>
                  <a:srgbClr val="ffffff"/>
                </a:solidFill>
                <a:latin typeface="Verdana"/>
              </a:rPr>
              <a:t>Я согрешил, Господь</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согрешил, Господь, пере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идишь зло в моих дел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идишь грех души, объятой ть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видь же скорбь в моих оч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ой вопль, мой стон пе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е скры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илен слёз моих пот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коль я буду мучиться разби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коле будешь Ты далёк?</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 по грехам Ты поступи с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оздай мне по в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ищу я скорбною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 же лик Твой ясный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сполни дух мой благодати ра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Отец и Властел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радости спасительной, жела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ё Ты можешь дать Оди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дай, чтоб вновь нашла Твою дор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нетвёрдая н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воему потом служил я Б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ын, как ревностный слу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Услышь мольбы мучительные зву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не на помощь Сам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ьми, как сына блудного, за рук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о спасению вед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3:26Z</dcterms:modified>
  <cp:revision>3</cp:revision>
  <dc:subject>Slavic hymnal Гимны веры христиан, hymn 207</dc:subject>
  <dc:title>Я согрешил, Господь, перед Тобою</dc:title>
</cp:coreProperties>
</file>