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75D6-5849-4B5A-8E91-7CD309450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A4FA-85C3-4F44-A725-FBB6D421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AED3-62D1-4059-969D-219B09BF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2C50-690A-4618-A533-3466CD0F9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552A-55EB-4A60-BEA2-C388CC2E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B3BC-0E36-4C4E-88D3-CA89933B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9FF2-251B-4F06-9C46-38BC2F2B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388E-DB8E-476B-A24C-328E9418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BB8C-C881-4A30-BB90-ADAD2027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328F-F7B5-4988-AB5B-0E9FE297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2647-A21A-4F29-B82A-60618F91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DAB6-B20B-481F-AFE3-975483B0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BC891-81C8-4B2D-A08A-4C07E8C5D8C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Jesus, I surrend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Him I freely gi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ever love and trust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presence daily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ё Иисусу отдаю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 отда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Ему принадлеж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пованьи и смир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Его хо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Thee, my blessè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Thee, my blessè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Jesus I surrend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umbly at His feet I b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ldly pleasures all forsak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me, Jesus, take me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 отда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кладу к Его но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ету отверг земн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юсь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Thee, my blessè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Jesus, I surrend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e me, Saviour, wholly Th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e feel the Holy Spir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ly know that Thou art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 отда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хочу Христовым бы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Предвечный да на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ть Христа, Христа лю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Thee, my blessè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Jesus, I surrend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give myself to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 me with Thy love and pow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y blessing fall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 отдаю 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храм во мне соз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ю и люб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 и сердце наполня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Thee, my blessè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Jesus I surrend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 feel the sacred fl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 joy of full salv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,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 отдаю 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 Он во мне сверш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дал святую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 Богу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6:52Z</dcterms:modified>
  <cp:revision>12</cp:revision>
  <dc:subject>Slavic hymnal Гимны веры христиан, hymn 547</dc:subject>
  <dc:title>All to Jesus I Surrender / Всё Иисусу отдаю я</dc:title>
</cp:coreProperties>
</file>