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ABC-6E58-4953-ACF2-4FBAFED6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F6D-A0A3-48C5-862A-98ABC0F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345-9577-4C6C-9399-1DBE309E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048-32E7-4B9C-9DD2-B208360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6AC-CA1D-478F-BA6C-10D8F8D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D11-8112-4431-9B71-CCD9EFB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829-9ECB-4B13-A1CE-0E682317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B36-1165-4D43-B66A-14C69B0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C73-7B67-4231-8F6E-C414A17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B2C-36C4-4483-9D86-55791AB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371-20CB-4A93-B3ED-D693EF6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404-7831-4CFF-B08B-CE0FE6C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89DE-FD5F-4282-82E9-583C489299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59Z</dcterms:modified>
  <cp:revision>12</cp:revision>
  <dc:subject>Slavic hymnal Гимны веры христиан, hymn 548</dc:subject>
  <dc:title>Всё Иисусу, всё Иисусу</dc:title>
</cp:coreProperties>
</file>