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63D-328D-4AEA-B0CC-1E3C1E8F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9D3-9E55-44F1-929A-CDBB43A1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968-69F5-4F45-A2E3-8ACB836A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B52-9E21-4BCC-9BDE-7BEFD2C5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9C5-A717-4BF9-B4E5-C32680D2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3D4-DDC5-482E-821E-B79ED20A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664C-0BE1-4E7F-B588-CFB5646D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A1B-72D9-4603-8BE4-BFB37B15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EEC-0603-4416-9754-5B664F08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02C-5753-4478-A850-B1539E47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5ED-C39C-48A2-A6F6-9AED0DDF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131-E7AE-42A4-8BAC-B96C5491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1709A-2BB3-4419-968F-E2CFFB28AA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name I love to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sing its wo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sounds like music in my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weetest Nam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слушать об О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слушать об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петь о 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песен по ве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то имя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first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tells me of a Saviour’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ied to set m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tells me of His preciou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inner’s perfect pl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, что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 чудный т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ил на землю уме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мог жизнь им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first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tells me what my Father h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tore for ev’ry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’ I tread a darksome p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ields sunshine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, что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в любви сберё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ли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не проп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first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tells of One whose loving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feel my deepest wo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n each sorrow bears a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none can bear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ит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яжкий крест со мной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first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50Z</dcterms:modified>
  <cp:revision>13</cp:revision>
  <dc:subject>Slavic hymnal Гимны веры христиан, hymn 605</dc:subject>
  <dc:title>O How I Love Jesus / Люблю я слушать об Одном</dc:title>
</cp:coreProperties>
</file>