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363-F25F-4B54-892E-2A141C7A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8F6-E0DA-4C8E-B523-579E2B13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352-43BF-4E81-927B-BD318602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517-1B86-47F1-922B-CFEC2303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E29-4431-407F-9D14-42DCDAF1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37C-D3C3-4D93-8C57-5B76D073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E12-F044-4B00-8740-011A14E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C42-C6E3-4C14-9D63-629A5F37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F0E-B05C-4D19-96A8-168DAEA4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188-5844-4120-92FB-B8AC1DC8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DA2-EBC2-4D72-A30F-A74A337A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A04-893B-4CE4-B268-11B18A23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CFE77-C2B1-4EDF-8E47-420875ECB7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4   Любо вірити в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 вірити в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вяті Його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ушею під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о в самі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сь н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Його святу лю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ому служу й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риємно знат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обувати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тись Його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одити завжди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ходжу соб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олгофському хре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я можу виправ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ершитись у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8:25Z</dcterms:modified>
  <cp:revision>13</cp:revision>
  <dc:subject>Slavic hymnal Гимны веры христиан, Ukrainian hymn 24</dc:subject>
  <dc:title>’Tis So Sweet to Trust in Jesus / Любо вірити в Ісуса</dc:title>
</cp:coreProperties>
</file>