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1A01-A47F-40C3-A92A-60F0BEAE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477D-061E-4148-9D0D-CB485655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96EC-67DD-4B3E-B1C2-6EAB8AFA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E2EF-FB09-4371-BAA3-0B5CD153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099F-0954-46D5-86F1-E64D9F87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0E3B-B2A9-4332-ADC6-77B02E71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1F3D-7BA2-48CE-831D-94D6B376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52D3-AE4F-4A7B-8DDC-FEB8F4A8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2492-9ABE-48BD-94BF-4BF12633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633A-6468-4D9A-A8EA-598390F6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6E62-C659-4A2D-A7D8-7A323DF0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6879-B611-4586-AE62-D0FDBDC1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34F2C-C600-4A68-91E9-6DE23AD347C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me a captiv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 I shall be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ce me to render up my s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conqueror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ени, Господь, мен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боду я вой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авь меня отдать мой меч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озмогу враж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лени, Господь,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k in life’s al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by myself I st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mprison me within Thine ar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trong shall be my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енье мне гроз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сам ст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и объятья заклю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илу дай Т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is weak and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its Master f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has no spring of action s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varies with the w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зяин нужен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ердцем упр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мужества ни сил в нём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 веры соверш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cannot freely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Thou hast wrought its ch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slave it with Thy matchles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eathless it shall re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 делу поспе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него во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оковы налож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владеет др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power is faint and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I have learned to ser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ants the needed fire to g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ants the breeze to ner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могу беж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не в службе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ь Твой нужен, чтоб пыл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ря мне нуж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cannot drive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itself be dr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flag can only be unfur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ou shalt breathe from heav’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могу в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не вод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мною знамя распу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ществом Т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will is not my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Thou hast made it Th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it would reach a monarch’s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must its crown resig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ля не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делавшись Т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а царский трон взо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ечься нужно 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only stands unb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id the clashing str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on Thy bosom it has le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ound in Thee its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 ей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тоит в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ильнёт к Т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найдёт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8:16Z</dcterms:modified>
  <cp:revision>12</cp:revision>
  <dc:subject>Slavic hymnal Гимны веры христиан, hymn 899</dc:subject>
  <dc:title>Make Me a Captive, Lord / Плени, Господь, меня</dc:title>
</cp:coreProperties>
</file>