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BF7-0675-46D2-8296-F6CACD1B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0DE-E888-4FCB-B0F4-A60AC9E0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11A-317C-4835-856A-82578835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653-D632-4169-9CAF-B5AF9171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3C3-8E21-4071-ABCB-4FA8E6F6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A08-87AC-48CE-90EC-09C9855B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598-31F5-49F3-ABE2-0BF050BA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D3E-C944-45C6-9DCE-2CFAA53A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EE6-5D9D-4B50-A089-0F0E0929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858-F5BD-44A5-BF69-9640D2B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765-AEFC-4ECC-874A-535370FE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B39-3DE1-4697-9948-E1E9C9C7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C3BF7-0CCD-461E-983C-E651586C5B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небі мій Отцівськ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 сліз, ні горя в домі т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ніхто не підк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чно в ньому буду 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чно в ньому буду 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4  На небі мій Отцівськи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люди тут шукають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ть про щастя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 землі загин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є ж насліддя в небі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є ж насліддя в небі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хочу я ввесь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навіки Сам Він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ай, земле, йду в дім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щастя, радість і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щастя, радість і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ду вже до І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25Z</dcterms:modified>
  <cp:revision>14</cp:revision>
  <dc:subject>Slavic hymnal Гимны веры христиан, Ukrainian hymn 34</dc:subject>
  <dc:title>На небі мій Отцівський дім</dc:title>
</cp:coreProperties>
</file>