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B03-65F2-48C5-9990-B6CF4BDA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199-FCAD-4601-92AC-C621F3D4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700-3083-4945-AFC0-29E467DD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8C5-8E09-4B68-9D8A-C9CA87B5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61D-22F3-41C8-8CCE-EBF9DEB4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CCC-CC1B-4BFB-8F33-DBBE0CEE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61A-C5A1-4F92-AC04-8E3EE269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5B3-0FA9-49B4-A858-032C4417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44F-B53B-4EF0-BC69-36390C05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702-B169-4863-8AF1-A0A339F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087-344A-4564-9418-B691A5A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536-20AF-46D9-B8A7-F55772BE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5023B-A67B-43B9-910C-5BC1F0CA1B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, когда настанет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ть нам всем пред Богом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ие великое увид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ойдёт, но кто будет вне в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, когда настанет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х увидим тех, с кем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мерть внезапно, быстро разлуч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ойдёт, другой будет вне в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думай, друг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! Тогда настанет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плач обмануто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ишь, что напрасно провёл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напрасно, нет возврата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ведь разлуки вечной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а с отцом, брат с брато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лоне дня стучать будут в дверь 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знаю вас», — услышат глас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ведь тогда настанет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разумным в брачный пир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во время запаслись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пришёл, они вошли в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жить, любить здесь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дать в полночь, когда жених пр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бодрствовать с надежд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рядёт Он взять детей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18Z</dcterms:modified>
  <cp:revision>12</cp:revision>
  <dc:subject>Slavic hymnal Гимны веры христиан, hymn 321</dc:subject>
  <dc:title>Подумай, друг, когда настанет время</dc:title>
</cp:coreProperties>
</file>