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BF16-85F5-49B0-842F-FB20BC3E0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76A7-BBE5-4E58-8560-96080864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4A6D-D248-4596-A018-A16D1DBEA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800A-90ED-4C66-9E9E-78D9A8DCA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2716-811E-49F4-B839-3AA752A8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0C88-474F-4210-966C-8BE0523D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24BB-E973-4526-817D-045A0514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ED11-215A-4466-9A40-3AB1B4E4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7054-7EF1-49CE-9E0A-5D54F97E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0882-36C2-47C2-9140-E5525EDE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B9DA-D6B2-4455-AEE2-5C18F340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83FA-46BD-44D5-9AE1-54FB556D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143A9-8851-43F5-8BC4-08BCFC64FA4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ildren of the heavenly F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ly in His bosom gath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stling bird nor star in he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ch a refuge e’er was gi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жьи дети днём и ноч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 дети днём и ноч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крылом Его беспеч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ёзды в небе, птицы в п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имеют лучшей до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His own doth tend and nouris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holy courts they flouris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all evil things He spares th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mighty arms He bears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род Свой охран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вляет и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решает все вопрос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руках с любовью нос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ither life nor death shall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Lord His children se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them His grace He showe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ir sorrows all He knowe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ль смерть нас не отл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любви Христа могуч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 нас терпел стра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ддержит в испытань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he Lord in joyful numb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Protector never slumb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will of your Def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’ry foeman must surre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до малое, не бо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щитом Его укрой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 всём тебе помож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ротивников низлож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He giveth or He take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His children ne’er forsake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the loving purpose sol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preserve them pure and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ёт иль отнимает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любовь Свою явля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Ему всёц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сердце всюду п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15:03Z</dcterms:modified>
  <cp:revision>12</cp:revision>
  <dc:subject>Slavic hymnal Гимны веры христиан, hymn 876</dc:subject>
  <dc:title>Children of the Heavenly Father / Божьи дети днём и ночью</dc:title>
</cp:coreProperties>
</file>