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EA44-B74C-41CA-8A5D-F3B4E3852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089E-B3DD-4ACA-B0D7-B787D1CA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BF2A-2157-4A42-AD5C-0D1176E45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49FD-8C38-4512-9665-C0E590D8A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193F-727A-4B3D-AE59-057385F0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60EE-4793-4A69-A243-10AB79D4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B338-4DA0-4EBB-B296-611B1C3F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AD3A-0459-44DA-883D-46FC4A81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8B2A-8ABC-4C7F-BD80-4891E9B3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5FC7-8CDC-4FC8-85E2-18686CFD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3C5C-0456-46A1-9572-5DC0AC9F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BCA3-D51E-4370-B3E9-44D7E9AD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12E1D-0F5A-4D2E-A1A4-DEC9165386F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uld you be free from your burden of s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pow’r in the blood, pow’r in the bloo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uld you o’er evil a victory w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wonderful pow’r in the bl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рех побед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победить, о желаешь ли 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крови, сила в кр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в свободу Христову во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Его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is pow’r, pow’r, wonder-working pow’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blood of the Lamb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is pow’r, pow’r, wonder-working pow’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precious blood of the Lam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агоценной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uld you be free from your passion and pri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pow’r in the blood, pow’r in the bloo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me for a cleansing to Calvary’s tid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wonderful pow’r in the bl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ешь ли гордость и стр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тв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крови, в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т Христос весь твой грех удал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Его кр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is pow’r, pow’r, wonder-working pow’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blood of the Lamb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is pow’r, pow’r, wonder-working pow’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precious blood of the Lam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агоценной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uld you be whiter, much whiter than s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pow’r in the blood, pow’r in the bloo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 stains are lost in its lifegiving flow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wonderful pow’r in the bl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шь ли снега белее ты бы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крови, в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Иисуса всё может омы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Его кр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is pow’r, pow’r, wonder-working pow’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blood of the Lamb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is pow’r, pow’r, wonder-working pow’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precious blood of the Lam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агоценной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uld you do service for Jesus your K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pow’r in the blood, pow’r in the bloo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uld you live daily, His praises to 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wonderful pow’r in the bl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хочешь ли верно служ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крови, сила в кр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ю, устами Иисуса хвал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Его кр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is pow’r, pow’r, wonder-working pow’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blood of the Lamb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is pow’r, pow’r, wonder-working pow’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precious blood of the Lam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агоценной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54Z</dcterms:modified>
  <cp:revision>14</cp:revision>
  <dc:subject>Slavic hymnal Гимны веры христиан, hymn 416</dc:subject>
  <dc:title>There is Power in the Blood / Грех победить, о, желаешь ли ты?</dc:title>
</cp:coreProperties>
</file>