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024-F95B-4758-B24B-A9118D18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871-B8F1-44C4-98F6-AA1B7369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5B18-1B8F-4F4D-9494-0F17605D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BC1-A223-4B38-8984-9342AA6E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C26-B710-4306-8B00-748D3481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125-2220-4516-8743-8E2E842E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590-5098-488C-8705-8B2ABDD7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768-B3B2-4043-A921-43E90006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D9A-93E3-419E-8718-7C6E0EEF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102-CF2A-4DC3-9114-D64A4143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6B4-DDD9-4356-941D-05FFC9CE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8F1-9CA2-4EA3-B5D1-F63279F7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364A8-A6A4-48AE-ADB5-5616B84C85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ло сердце, ноют н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мучились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ы не знаете дор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ам надобно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те на дорогу в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злым не ходите на со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е всех людей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раем станет этот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стало сердце, ноют но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вам кривит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ься: «Господи, прост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ердцем, дышащим вражд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й Каина ид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тайте с верой книгу Бож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сил в ней почерп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покажет в бездор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енью узкий,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8:57:00Z</dcterms:modified>
  <cp:revision>12</cp:revision>
  <dc:subject>Slavic hymnal Гимны веры христиан, hymn 395</dc:subject>
  <dc:title>Устало сердце, ноют ноги</dc:title>
</cp:coreProperties>
</file>