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B909-8739-486E-A8DD-7852C3AF7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0FA3-CA89-48CC-8190-F27B5F6A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621D-B559-4D11-B4CB-0DAF2DF74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73B2-A36D-4A00-AF88-D02BC6305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0F17-F29D-46CD-9EBE-157E1B96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CD36-696E-40B3-A43A-C5A77F5D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61BD-0E4F-477C-A865-B3DECB2D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F869-B763-494B-8620-C31FCDB2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F01F-2259-4F42-B616-CC02870A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FB41-9023-4810-9208-BC5D7D31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BA2A-B586-49D9-B354-D15D992E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1386-C35E-4F7D-81BC-7038D018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422D44-5D60-4DE7-8915-A1CB39165E1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роил на крови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надежду я сво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их имён не призн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ерю имен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я на скале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угих основах лишь пе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угих основах лишь пе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3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строил на крови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цо ль Его сокроет мг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лагодатию креплю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волнений, бурь и з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якоре Его держу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я на скале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угих основах лишь пе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угих основах лишь пе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святой крови за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т меня в потоках бе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сё рушится круг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хожу опору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я на скале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угих основах лишь пе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угих основах лишь пе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с славой Он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ерным Он меня на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етым в праведность, свят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без пятна предстать пред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я на скале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угих основах лишь пе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угих основах лишь пе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4-12T07:22:58Z</dcterms:modified>
  <cp:revision>13</cp:revision>
  <dc:subject>Slavic hymnal Гимны веры христиан, hymn 634</dc:subject>
  <dc:title>Построил на крови Христа</dc:title>
</cp:coreProperties>
</file>