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2DA-777E-4AB5-8B63-75813115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D40-B864-4831-B80E-D754E29E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D73-E1A9-4F83-9915-D446F713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0F4-3E17-436C-BC49-99429F94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90B-3926-4D96-9280-5258F6A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523-24E9-4A3A-96E0-AB57034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345-3DEC-45E8-AFBF-BE58B40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943-1EA6-44B3-8905-1E630B3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EF7-EF34-4544-AD19-7E0C4DE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5AF-02F3-4953-8C05-A47A665A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5EA-A712-4464-BD3F-698F8905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237-C727-4540-9DD0-6A68FC9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ABB4A-0FF9-428A-8145-C8D363DE76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march has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nceforth in fields of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nts shall be ou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ace has made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our battle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sin’s fierce war sha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iness shall whi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 Amen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 with swords loud c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oll of stirring dr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eeds of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v’nly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follow not with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ladness breaks lik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Thy face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ross is lifted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journey in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n awaits the con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God of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52Z</dcterms:modified>
  <cp:revision>12</cp:revision>
  <dc:subject>Slavic hymnal Гимны веры христиан, hymn 828</dc:subject>
  <dc:title>Lead On, O King Eternal / Веди нас, Царь Небесный</dc:title>
</cp:coreProperties>
</file>