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A165-3B72-4F71-ACC1-B639B34C4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D6D6-BCB0-4638-A01A-01620DCA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443D-AE04-412F-82F4-E674FF602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3F9D-5D5F-4FBF-9DA1-B15135DF3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6975-8E83-4071-93BE-D1088194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D9F3-E86E-42E1-8B85-BFF6E784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DC3D-993F-4A11-BA5A-AC4C1C8C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42B5-143A-45AB-9390-CBE5468B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13EB-AC87-4DB5-96AB-11F0D4C4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DCFC-A68B-4CBB-B113-812F5F8E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896C-E2AA-4BB3-B206-FCBC0B20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2B1D-EFDF-44F3-B4F7-BFA2B967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D16400-61D1-42AA-BF2F-13D66F88D74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ng the bells of heav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joy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a soul ret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wil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Радостную песнь воспой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ую пес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те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удный сы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возвращ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! the Father meets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t upon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ing His w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nd’ring ch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огом примир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ных слез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чные объят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люч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ow the angels s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ow the loud harps r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the ransomed army, like a mighty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ling forth the anthem of th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Пойте, небе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торьте, все земные голо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молкнут хоры пленников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ённых крови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ng the bells of heav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joy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wand’rer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reconcil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ую пес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те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ена пропавш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в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a soul is resc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is sinful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s born a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ransomed ch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нник удал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ёртвый во грех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 теп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ители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ow the angels s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ow the loud harps r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the ransomed army, like a mighty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ling forth the anthem of th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Пойте, небе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торьте, все земные голо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молкнут хоры пленников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ённых крови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ng the bells of heav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read the feast to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swell the g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iumphant str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ую пес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те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йте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the joyful ti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r it far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a precious so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born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зажжётся пл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емлющих серд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валой напол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у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ow the angels s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ow the loud harps r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the ransomed army, like a mighty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ling forth the anthem of th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Пойте, небе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торьте, все земные голо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молкнут хоры пленников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ённых крови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52Z</dcterms:modified>
  <cp:revision>14</cp:revision>
  <dc:subject>Slavic hymnal Гимны веры христиан, hymn 589</dc:subject>
  <dc:title>Ring the Bells of Heaven / Радостную песнь воспойте</dc:title>
</cp:coreProperties>
</file>