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356-9255-4033-B2C8-E8EF5C1C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B9D-3C62-4B43-B1BE-79D83AF9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89D-19E6-4532-9540-64969C54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39A-3E53-47FD-9124-A7D604DD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F72-B156-478E-BD93-00C3D4F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661-E645-4157-9818-C9E2BA6F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A16-2028-43DC-ABCC-BD781223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DAD-FEF2-4FF6-9666-62E8E4F9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534-41A5-4E9C-B87D-D4D150C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5DF-8FF6-4946-A7C9-56667488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A63-6113-423E-8F73-F711551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4D4-6E85-494C-8DA3-690DB2E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828A5-9DBD-46EE-9657-3548B4F560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67   Holy Words Long Preser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08Z</dcterms:modified>
  <cp:revision>11</cp:revision>
  <dc:subject>The Source 3, song number 1267</dc:subject>
  <dc:title>Holy Words Long Preserved (Ancient Words)</dc:title>
</cp:coreProperties>
</file>