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894-DEC2-4ECC-96CF-E8130109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7C1-9A3A-4B9D-9EA5-1CC34158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CAB-0EEC-47EE-9954-A10FFC3C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B4E-72F1-418D-8E67-40D37AC8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B4E-9803-4096-B5C9-CB119728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5A9-5635-4D49-9C79-2761A3DE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3D8-2B3D-4BB7-84FE-BA5C8614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1EE-7304-487F-9C6D-A25C95C8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7F9-5304-4695-B856-674226F8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ED8F-36CC-4DAC-81F5-038D9545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DB3-CAD0-4AC9-BA39-980F4C5F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7B8-AB35-41BB-9E7B-DA4B4910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8F375-42AE-421A-B0DA-34B5AE348A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days I want to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nders of Your mighty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comfort, my she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wer of refuge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ev’ry breath, all th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ver cease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y Jesus, My Savi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Lord, all the earth, let us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majesty, praise to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untains bow down and the seas will r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sound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ing for joy at the work of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I’ll love You, for ever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comp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omise I hav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6:01Z</dcterms:modified>
  <cp:revision>9</cp:revision>
  <dc:subject>The Source, song number 367</dc:subject>
  <dc:title>My Jesus, My Saviour (Shout to the Lord)</dc:title>
</cp:coreProperties>
</file>