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8C4-C216-4E68-88E0-F534DED2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09B-2652-48D8-BCFC-618C5076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9F0-FDF9-4507-90CA-3567AA4A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4B5-D074-454E-9EFE-DD55DC1E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A32-DDA3-4A2B-BEC4-A539F24B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40D-CD9D-40B5-9FFC-AB043802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F0E-20CD-40FF-9160-BE2D2929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269-4B5F-4341-8051-2778E858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9B3-BE04-4E1E-BE3A-11B1914D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975-1B3A-452B-AE3A-CF35A381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5B9-3F88-4FF7-8E76-9580D39A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F7F-8FD7-461F-A1A6-A4698125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2D821-6DD9-4C04-AB76-BED740738F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Иисус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ы достоин ли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мои дни буду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чудеса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мой, прию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пасенья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ой вздох будет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осит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воскликну я Богу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величье и слава Ца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склоняться, моря восшум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Бога возно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песню хвалы я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т пусть все, как Тебя я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, что могло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внить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1:37Z</dcterms:modified>
  <cp:revision>14</cp:revision>
  <dc:subject>The Source, song number 367а in Russian</dc:subject>
  <dc:title>Иисус, мой Спаситель / My Jesus, My Saviour (Shout to the Lord)</dc:title>
</cp:coreProperties>
</file>