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74F-3B1F-4772-B6E2-609BA04B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63A-BBC2-4B31-8D39-1C1F0301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00F-8F85-4C79-A581-D4FEC6D9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72A-6468-40CF-AE46-79AEF5FF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387-FB57-471A-A183-6ADAFC31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BCA-51F8-47EE-B31B-DF44030D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376-53DA-4977-815A-8A6BB5EB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8A8-BC14-4B19-81A8-6BB202C4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7AF-0CB6-4C7B-82A2-63D71E11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C7D-A553-47D6-A16A-5D161F5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A5C-52BF-4B4C-B4BB-1F6129B5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21C-3D42-48C7-AC8C-46B1542D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4471A-159C-434C-BAA8-A7663F17FF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Holy Spirit, heavenly D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y quick’ning p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le a flame of sacred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se cold hearts of 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 Святой, спуст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го затр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холодных дивно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святой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we tune our formal 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we strive to r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s languish on our tongu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devotion 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песни мы 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лодно мы вста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ас нет радости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нья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Lord! and shall we ever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is poor dying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ve so faint, so cold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ne to us so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м прозяб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с неба вете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ой любви в нас не ви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ж — так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Holy Spirit, heavenly D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y quick’ning p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shed abroad the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shall kindle 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излей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шу —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1Z</dcterms:modified>
  <cp:revision>13</cp:revision>
  <dc:subject>Slavic hymnal Гимны веры христиан, hymn 311</dc:subject>
  <dc:title>Come, Holy Spirit, Heavenly Dove / О Дух Святой, спустися к нам</dc:title>
</cp:coreProperties>
</file>