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7E3-59B0-4B70-A15C-29058AE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E0A-23C4-4A86-B7FC-7076B0C0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5A8-4F02-47F8-BDA7-BF9E869A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8DE-C568-4DED-8357-2FE8B03F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825-264D-4AFA-90F1-3CD4E89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8E5-EEF2-467A-A54D-6F851DC0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954-E228-484C-A4F6-2A9DAFC5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D19-08EA-4D9E-A3CE-72828D5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7FF-638D-432D-BE91-94A73F5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832-0747-4659-92CC-233A7D9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CFC-16E2-4813-8051-3630EE3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8BA-B389-4029-93DE-EDC7B72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2886-0257-482B-A406-8FA5033A9D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59Z</dcterms:modified>
  <cp:revision>9</cp:revision>
  <dc:subject>The Source, song number 118</dc:subject>
  <dc:title>Give Thanks With a Grateful Heart</dc:title>
</cp:coreProperties>
</file>