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DFE-A35E-4FE2-8214-A6045E27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394-078B-496D-8CE4-5BF7EDA6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23A-EA09-4EBC-A0CE-5C18D67A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084-5799-4C17-AC29-6F00507A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526-7002-4A7A-956C-25039BD6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20B-C7AA-4E7D-86AA-2C4C319C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A91-C6FE-4DF1-8874-2B4AB98A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E90-0C36-4BAC-9E8E-08C426C0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937-E71A-4D6F-919A-3A5B7355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579-ACBD-48A3-B95A-703B0B87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8F8-C8B0-4A3A-A382-350F8070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07E-CEB4-410D-842E-7CFA1F67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522B8-5007-4FDE-A55D-B1D09BDC8C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Спаситель на землю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и силе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Он с любовью к Себе при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в чертог Свой чуде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них твой грядёт, о невеста, не с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 приготовься, светильник заж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йди поспешно навстре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ж скоро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ы и минуты мелькают, как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ёмная ночь уж проход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ёй вдалеке разгорается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чный, день судный подх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них твой грядёт, о невеста, не с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 приготовься, светильник заж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йди поспешно навстре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корее на землю гр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ленье, и смерть разруш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ое царство везде утвер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нам обители 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них твой грядёт, о невеста, не с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 приготовься, светильник заж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йди поспешно навстре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7:48Z</dcterms:modified>
  <cp:revision>12</cp:revision>
  <dc:subject>Slavic hymnal Гимны веры христиан, hymn 327</dc:subject>
  <dc:title>Уж скоро Спаситель на землю придёт</dc:title>
</cp:coreProperties>
</file>