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6FB-99F1-48F1-A099-B80BCAED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31E-DC0D-4EBA-96B0-F69E40D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C06-D858-4691-9F7F-4A68787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C44-D0BF-4868-8F9D-FDB7FEC8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86F-FB0C-4113-9740-AE83DBBA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933-BDAD-4D75-B515-E0B589FB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496-F1CA-4994-8027-CA42CF5D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805-35E9-4141-852C-0036085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3A6-DB5C-4C46-A140-ACD568D9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E94-FB9F-46A1-B61D-0E8DF99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7B8-0989-40C8-A30B-0AE5064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3DB-9809-4C6A-B717-5A01AE9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CA4B4-8322-418C-9B6B-7EEBF15602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16Z</dcterms:modified>
  <cp:revision>12</cp:revision>
  <dc:subject>Slavic hymnal Гимны веры христиан, hymn 851</dc:subject>
  <dc:title>О вера, стойкая в борьбе</dc:title>
</cp:coreProperties>
</file>