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31B-EA3D-4362-90E5-5C0D6203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72E-17D4-4391-B5EA-6B2B70A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68B-B5AB-4A89-AF8D-9502F92C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E99-CA2B-4409-A450-642DC1D4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B47-233C-4787-9B4A-5623CAA6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D69-564C-4705-9BDD-1DC1FB0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420-F1FB-4C72-B834-E81567A7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C61-C76C-4DA9-9E29-0DBF74CF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86E-2B04-4868-8D9C-29E4FCF2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F8F-436E-4436-B035-0CF784A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3E5-FD44-4BA0-9271-EEAF745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D17-9511-4525-8400-163D97A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2DB2-2349-468A-94E8-E99C698E23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n This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a living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I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ound where we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we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51Z</dcterms:modified>
  <cp:revision>11</cp:revision>
  <dc:subject>The Source 2, song number 726</dc:subject>
  <dc:title>Here in This House (Awesome in This Place)</dc:title>
</cp:coreProperties>
</file>