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602-86BA-4503-A636-1930B2C0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E17-ECAE-4219-9216-7B20330C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FE7-0411-4FB4-BA4A-0DC8F0E2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0BE-274E-460C-A983-EEA2C925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670-28F0-4AFA-A5E0-E8D124CC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876-65B5-4FB0-9813-7067082F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2DE-CD0B-486A-8574-A6D11783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F87-86E7-4FDC-92D6-5027EBB7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3A0-7C68-4264-9BEB-226E1CEA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2EC-D255-4697-B76F-F2267B95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31C-9067-497B-A043-0DE58A59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CC3-EF5D-4F19-8EF8-3F007606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D2CA3-8F9D-45BF-BAF2-5AA608BB0D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seen the lightning fl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heard the thunder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elt sin’s breakers d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almost conquered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кали молний стре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кали молний стр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 землю потря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лся тьмой мир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ужасе дрож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all around me 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joys all fl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whispers His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адостей не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утешенье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on Calvary’s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they piercèd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He opened that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imson, cleansing 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на Голго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Его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источник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для всех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He waiteth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ted upon Hi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нам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мне сладк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heard the voice of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ding me still to figh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тихий голос 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над с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сил мяте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’s fierce winds are b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ation sharp and k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peace in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stands between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гне ли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учами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tands to shield me from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friends are all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 расста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зьями иль семь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л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affliction’s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ead the road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helps me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so heavy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ли скорбь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ткнусь л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я о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1Z</dcterms:modified>
  <cp:revision>14</cp:revision>
  <dc:subject>Slavic hymnal Гимны веры христиан, hymn 633</dc:subject>
  <dc:title>Never Alone / Сверкали молний стрелы</dc:title>
</cp:coreProperties>
</file>