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FDA-8889-45D7-AA15-350CD599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678-7F8C-4533-9775-60E9E363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F54-9C1E-4ADA-AC55-0279B6B6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AC7-180F-4E49-82FE-A3978B79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46C-97A2-4C1A-AE83-232B43B3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2EA-262B-42D7-ADC7-AB999CE4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58B-54D8-448D-B48C-565B7C2C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2AF-AD0D-4994-99E9-E864D155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076-7AEF-4663-8989-F40DBA8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618-2296-40C8-AEAE-FBE1A87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993-FD80-47E4-A4F5-B72EC40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DDC-7068-4A03-8AF2-8F13BCE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ACADC-9FCB-45D0-AAEB-43B91F90A7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7   You Know That I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21:46Z</dcterms:modified>
  <cp:revision>13</cp:revision>
  <dc:subject>The Source 3, song number 1667</dc:subject>
  <dc:title>You Know That I Love You (King of Majesty)</dc:title>
</cp:coreProperties>
</file>