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E50-ECE9-4937-A4FC-825505E6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D2A-7217-4B51-86CC-FF3F1560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BB4-D07A-484D-A5A4-7CF75EF0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E4B-71A6-4335-BA87-68CCD9FC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36A-8EE9-4C6E-BFE5-41243E13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7A3-914E-4D30-8709-1033F7D1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6D6-2BC7-431B-BA58-652BEEA6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96A-F934-4706-9261-05B07773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6FC-E141-47A0-AE63-CF9C2F4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111-C27A-40C6-82BC-2F8ED7B8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076-0371-45EC-AD74-1424F1E0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CFC-7541-4D7D-8547-AFFF668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B6349-E7F9-4F3E-ABB4-FCD0D319A8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ve search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when I f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ea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6   O Lord, You’ve Search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o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eld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 uphol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earth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s from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stand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52Z</dcterms:modified>
  <cp:revision>12</cp:revision>
  <dc:subject>The Source 4, song number 2006</dc:subject>
  <dc:title>O Lord, You’ve Searched Me (At the Cross)</dc:title>
</cp:coreProperties>
</file>