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101-E5F8-45E0-86C5-C27FFB58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7FC-BDF8-472B-975F-F55627F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C50-0588-46AC-A308-D159AECD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C67-5793-4C87-A4DA-D5CAED0A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C2B-B713-4E08-A9A3-898F505D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B8F-5990-4485-B499-B2D64B0D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D38-8022-4DE2-A7C4-62C4C831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2DB-8D8A-435F-BE41-51170DD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32B-9D9C-4501-9DF9-C91015F9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479-855F-43AA-9B51-4F00A2F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2C3-2B35-4A5B-BD73-E597650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EB7-9BE7-496B-8431-77F24AA0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6B0E8-69DA-4898-8632-4C65F8BFDF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медлишь на греш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Иисуса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ты не хочешь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есценный, Его благо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Агнца святого взгля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традал без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скорби до дна Он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от суда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Ему жизн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мерно счастлив буде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ая омоет весь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лее ты станешь, чем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05Z</dcterms:modified>
  <cp:revision>12</cp:revision>
  <dc:subject>Slavic hymnal Гимны веры христиан, hymn 400</dc:subject>
  <dc:title>Что ты медлишь на грешном пути?</dc:title>
</cp:coreProperties>
</file>