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D18-5E6B-40BF-8119-FE405F56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D06-EAB2-4412-927A-6A226985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441-26AC-4D1D-8CA4-90045551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3A5-A09C-4131-BD1D-86145FA6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FBA-0ECC-4170-AAF1-CC8B82D1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543-C151-46DD-84FD-B9D1EF03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186-289D-4719-8045-05297AEE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9EC-50DF-4766-91A3-D57F94B2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022-EA80-49F4-88D3-30470150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FCAE-2FB9-48DB-B63D-0F8ADE6E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2F6-E9FD-4BBA-B95B-D4F2E7F8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B5E-F059-4E32-B472-542146BA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7C91E-805E-455D-8A0E-7C6C440C7C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ь, радость непрест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leading, let us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cling to Him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tects from tribul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lead us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ам ведёт за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нам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хранит от бед и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й внемлет Он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пойдё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льнуть к рукам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 бременем сур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пасть нам без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footsteps we are wal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in His mighty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otect from dangers stal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liver us from h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the joy that faith can bring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our cups are overr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keep our joy in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ing in us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ры, жизнь даю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, как солнце, в нас гор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грешных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благ Он н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2Z</dcterms:modified>
  <cp:revision>15</cp:revision>
  <dc:subject>Slavic hymnal Гимны веры христиан, hymn 567</dc:subject>
  <dc:title>Joyous, Joyous, Without Ceasing / Радость, радость непрестанно</dc:title>
</cp:coreProperties>
</file>