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BDA7-1FA5-4360-9A64-A1B1CA4E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2CA-350E-41C5-A399-217305A8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9DD-7D42-43F1-AE0D-D5395552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ACB-FD75-4B59-BA49-ECF38C8B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6EC0-72C1-4AE7-BAB2-41370005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805-0421-4C83-B94E-4E5A8A91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05B-6D2E-422F-9D1D-F493CD45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36F8-1840-4B30-8E2E-9AF804AE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386-C358-4EF0-9361-6E62A1EF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D5E-CA49-485C-A7EB-49841A66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84A-86D8-4865-BE95-E1720531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01F7-C400-4C8D-8B0A-58D32F49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E4F26-BD01-40C6-9C46-1927B1EF8DD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and marvellous are Your wor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God Al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nd true are all Your w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the saint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лики и чудны дела Тво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 и чудны дела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 Боже Вседерж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едны и истинны пути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вят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shall not fea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lorify Your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alone ar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nations shall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alone ar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убоится, не прослав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роды поклон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Тобой, ибо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for You alone ar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for You alone ar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1:52Z</dcterms:modified>
  <cp:revision>13</cp:revision>
  <dc:subject>Slavic hymnal Гимны веры христиан, hymn 902</dc:subject>
  <dc:title>Great and Marvellous Are Your Works / Велики и чудны дела Твои</dc:title>
</cp:coreProperties>
</file>