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581-418A-457D-84A3-DDA56B30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7A9-13D8-43B7-B86B-7DC7247C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E2F-1813-4FD2-9767-15034785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797-AF20-4CE1-B862-63B000E8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975-9254-4AAE-9366-A0F15EE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AA3-5BF0-485C-B02C-190424D8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C50-13A4-4270-B2D0-EC3C752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424-D6E4-4C48-8791-E509A74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107-4999-4A8B-BFCE-67182ED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55D-47C6-48A5-A7BC-482F72F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8C3-0CC5-467B-9185-441E14E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AC8-49B5-4707-9778-B539306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AEB2A-933D-485A-AF3E-D7167B37AD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4   О Иисус, как жертва ве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как жер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а Тв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ложил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вновь взираю н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Тебя вновь и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ы 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й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нас зов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ка я преклоня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воей вновь и вн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12:33:40Z</dcterms:modified>
  <cp:revision>11</cp:revision>
  <dc:subject>The Source, song number 274 in Russian</dc:subject>
  <dc:title>О Иисус, как жертва велика Твоя / Jesus Christ, I Think Upon (Once Again)</dc:title>
</cp:coreProperties>
</file>