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72DC-182E-46DA-A4BD-3C8F2EE6F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4C36-81D0-4128-8C8E-12D93B9C1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CE66-0C9C-45EB-A77A-E5303C5A1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3305-EA7C-4CC0-A07F-334D0C939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62F1-A6A7-47E7-A152-F6A456D62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BB21-7139-4277-A2E7-D70FBDBE9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CEBC-6BFA-442B-83AF-E9E23ADCE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0E2E-CCAF-4937-8DA3-3FC979708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4FAB-2AD3-4CD0-9120-F09A8CF95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095D-CF37-472D-8832-0A3C1356A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E734-8829-475F-8C94-C6B06B5AE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90A7-CC56-4A57-822C-FEFB7DB17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4E419D-F01C-4402-8DE8-2F0A4ABDFC3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Christ alone my hope is fou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is my light, my strength, my song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s cornerstone, this solid grou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irm through the fiercest drought and sto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1311   В Христе одн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Христе одном надежда ес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я моя жизнь и сила в Н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— Камень мой, скала и пес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ёжный спутник в страшный штор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heights of love, what depths of pe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fears are stilled, when strivings cea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comforter, my all in 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re in the love of Christ I st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высока любовь Ег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мир глубок, как с Ним легк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Утешитель — Всё во вс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я опора только в Н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Christ alone!—who took on fles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ullness of God in helpless bab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s gift of love and righteous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corned by the ones He came to sav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Христе одном, принявшем пло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крылся всемогущий Б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дар любви, что дал Госпо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верг народ, избрав пор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ll on the cross as Jesus di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wrath of God was satisfi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ev’ry sin on Him was lai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re in the death of Christ I l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 кресте Себя отд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миреньи гнев Отца приня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грех на плечи возлож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ы Его я смертью ж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in the ground His body l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ight of the world by darkness sla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n bursting forth in glorious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Up from the grave He rose agai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земле, как все, Он мёртвым бы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ъят был тьмою свет небе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 третий день Он побед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гроба мрачного воскре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as He stands in vic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n’s curse has lost its grip on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I am His and He is mine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ought with the precious blood of Chri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— Бог и победитель все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же не правит больше гре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веки Он хозяин 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куплен кровию свят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 guilt in life, no fear in dea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s is the pow’r of Christ in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om life’s first cry to final brea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commands my destin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 страха смерти, нет ви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только силою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первых дней, до седи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 смерти, в Нём моя судьб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 pow’r of hell, no scheme of ma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an ever pluck me from His ha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ll He returns or calls me h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re in the pow’r of Christ I’ll st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 никого и ниче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вырвет из руки 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риведёт меня в Свой до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я опора только в Н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1-02-03T09:31:35Z</dcterms:modified>
  <cp:revision>12</cp:revision>
  <dc:subject>The Source 3, song number 1311 in Russian</dc:subject>
  <dc:title>В Христе одном надежда есть / In Christ Alone</dc:title>
</cp:coreProperties>
</file>