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B1D-05DD-455A-8DDC-D6915895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C69-32BE-40B2-BAA1-B42E9E87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542-5C30-4618-9673-1C75C55B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48C-13FE-410D-9FED-25D125D1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3AC-31DA-4FB8-A3E4-E274432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523-E017-4FBD-8715-4FEF53C1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037-AE39-476D-983B-B0E215EC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73E-EB64-4AF8-AA40-0DA0685D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CB2-15D1-49C3-B92E-5FC42D44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6E3-A4AA-4A96-9C5E-85C65D8F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DBC-F951-45F9-99C4-CE1F17C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F28-F2C6-4837-BB3C-B2C712D0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679B3-924C-4990-9865-3CB84E3162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01Z</dcterms:modified>
  <cp:revision>12</cp:revision>
  <dc:subject>Slavic hymnal Гимны веры христиан, hymn 857</dc:subject>
  <dc:title>Спаситель говорит</dc:title>
</cp:coreProperties>
</file>