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3396-D399-43E2-AA2E-8A8B5FC5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D1FC-5484-4089-ABAD-DD9F40D4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8A62-6A24-44BE-8A36-FE7D0FB5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D301-4AC7-46CD-BA2A-439DFB84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8381-80F1-4972-B03C-14B90A8C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13CF-3CF7-40D1-B1E3-1F2827F4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FF83-7C37-480B-AA7E-84357B5A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7CF2-C823-4356-84C2-0E3FFF42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F4E4-E844-4102-9A75-391A7A63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FFA7-FA22-4F93-9647-A7F76659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0DCC-85AB-4FFA-A154-2227A493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48B0-18BF-4063-8FC0-5337901B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58956-7D58-40F8-A7D2-C31D32A5152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й день з І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лодший, як день перед т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й день з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авжди разом з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є мі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тепер хвалюся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й день з І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лодший, як день перед 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4   Кожний день з Ісус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5:50Z</dcterms:modified>
  <cp:revision>12</cp:revision>
  <dc:subject>Slavic hymnal Гимны веры христиан, Ukrainian hymn 114</dc:subject>
  <dc:title>Кожний день з Ісусом</dc:title>
</cp:coreProperties>
</file>