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A9E-1DAC-4F37-8136-3CEB4C24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866-B9A0-428D-8F02-2E88D61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046-6BFB-4E3F-A8A6-F2563D1D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A69-AFB6-4BD4-87BE-DB4CB6AB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E21-4CC1-4E86-B379-B44F8341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D00-BC1D-49D9-B856-5E9E3365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C87-D8A2-4E70-B066-4C286A17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BB4-DA2E-475E-8511-83D4CC4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C42-54AD-4EEF-8291-F3F7DAE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509-0283-48B9-B5F1-E94DBFF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832-73ED-451E-B5CC-6483609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D40-1CEE-48D4-ACA9-F1CC6BDA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66F94-823D-44ED-870F-A8B78C2B82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ask be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I doubt His tende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ro’ life has been my gu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ly peace, divinest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by faith in Him to d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know, whate’er befall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oeth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s each winding path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s me grace for ev’ry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eds me with the living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my weary steps may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ul athirst may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shing from the Rock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a spring of joy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fullness of Hi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rest to me i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Father’s hous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spirit, clothed immort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s its flight to realms of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y song thro’ endless 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ed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2:35Z</dcterms:modified>
  <cp:revision>13</cp:revision>
  <dc:subject>Slavic hymnal Гимны веры христиан, hymn 865</dc:subject>
  <dc:title>All the Way My Saviour Leads Me / Мой Господь всегда со мною</dc:title>
</cp:coreProperties>
</file>