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14F1-0572-4A87-A574-49A3E68C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D667-91C0-42C6-8618-9FE48769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8FDD-37B8-4357-A7CF-2096A972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06C-E769-488D-8B38-158F32B4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4429-2C03-4C65-AB1F-26ECED19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53DF-5823-445C-8687-0F5B1495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5DDA-01AB-43B4-9E98-5E8E049C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98A0-3ED7-4210-A19D-597804B5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65B7-D36F-4BF6-A4F9-D3BA491A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70FB-12B5-4C07-98EE-011C5DB3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D05D-76E1-47E2-B864-FD4D5880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BFC-AC93-4573-BB06-69370DCE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88936-7073-40B7-AED8-4B33EA9A911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те, воспойте, лику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е кровью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овую песню воспо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вас спас от гре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пряньте, воспой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им Того, Кто на зем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шёл, чтобы нас оправ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с ценой Своей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ье навеки н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илу нам даст и побе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итву с грехом укреп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Своею поддер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ом Своим утвер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со всеми свят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ебную песню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с искупил Своей кров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лава вовеки Е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8:46Z</dcterms:modified>
  <cp:revision>12</cp:revision>
  <dc:subject>Slavic hymnal Гимны веры христиан, hymn 573</dc:subject>
  <dc:title>Воспряньте, воспойте, ликуйте</dc:title>
</cp:coreProperties>
</file>