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D0B-15A0-4F9D-A37C-958D1057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C2D-2310-4BCC-977A-93ADA726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72D-6E7B-4027-B72D-8FA8A1D1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206-F22E-4827-8649-CD86F595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0BA-9489-4D58-ADFD-2599FC0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21A-5A1F-4A75-978B-27E8AA52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CA6-0143-45AB-8D8D-AB913219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FD3-16AF-4087-91C9-0DE7EEE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6EE-298D-433E-A412-B50952D0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1BD-648A-4C4A-9418-BC78B5A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C75-234B-4519-8282-9BADC85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8A5-B35C-49C6-834A-BB97446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652A5-8E35-42FC-A94F-B6EEE82D7B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про Бога зав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 мій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м, словом і ді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 світі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обі все так говори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одий, то весе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коли вже постарі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кайся і мол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3  Пам’ятай про Бога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щасний, ти не зн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у пору ти помр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вже не вста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 більше не бу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побуду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б сосновий вж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емля навік покри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тіло в глиб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уша? Душа заг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агине назавж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о каятися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й друже, вже тод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сі гріхи лиши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у, це пам’ят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и Христа прийн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життя Йому від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о тім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лодих твоїх лі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й Христ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меш з Ни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45Z</dcterms:modified>
  <cp:revision>12</cp:revision>
  <dc:subject>Slavic hymnal Гимны веры христиан, Ukrainian hymn 63</dc:subject>
  <dc:title>Пам’ятай про Бога завжди</dc:title>
</cp:coreProperties>
</file>