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F17-23E4-4F71-B193-CA4E9EAA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9DF-D979-4948-91AB-A2EE7D58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E78-C4B4-4744-A998-B5CCD6D4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39C-D59E-4E3C-BA4B-FA59F1B8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5BB-589C-450F-971F-EA585535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FAA-FDA3-4592-8C59-790AECC3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BDD-A3AB-4AB0-82AF-D3A27202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9B1-6E38-4F9D-B5CE-D397F642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89A-F052-42D2-B7B1-C23A3EE1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3F7-1A6C-4C77-88C1-6A5C0B30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7C6-D163-41C4-89C5-6AFEC164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0A1-B9CC-4080-8CF9-3FDAD0E0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774CF-5E27-4384-8DD0-E870EC3D6E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ope is built on nothing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Jesus’ blood and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are not trust the sweetest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olly lean on Jesus’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надежду я св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имён не при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ю имен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rkness seems to hide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on His unchang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very high and stormy g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anchor holds within the ve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ль Его сокроет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тию креп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олнений, бурь и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якоре Его дер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oath, His covenant,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 me in the whelming f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around my soul gives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en is all my Hope and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 крови за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в потоках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ё рушится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хожу опору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shall come with trumpet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y I then in Him be fou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essed in His righteousness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ultless to stand before the thr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 славой 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рным Он меня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м в праведность,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пятна предстат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4-12T07:24:32Z</dcterms:modified>
  <cp:revision>13</cp:revision>
  <dc:subject>Slavic hymnal Гимны веры христиан, hymn 634</dc:subject>
  <dc:title>The Solid Rock / Построил на крови Христа</dc:title>
</cp:coreProperties>
</file>