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AC9-03F2-4905-8D41-198CF1EF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36E-F883-4932-BD21-7C3703D0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75D-E2C4-47B1-B12A-16020222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842-C34E-44A8-A71E-48989DFA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613-C3C9-442A-93D9-10EA1415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297-6C35-4F4C-87B2-A23D82C1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FEC-4171-4680-875B-28173B80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97B-B243-4D70-A23E-44A95C8E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BE3-5F37-4143-9DEE-4FE41933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583-91C8-4C6F-B5DE-722FDE43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F87-00A3-4B9E-AFF3-BBAA7CF1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218-DE95-4FBF-806B-8D6C437C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71F1B-A92C-42B0-8EF3-B6E8084EBC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нежданно судный де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траху люди побледнею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унынья ляжет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умолкнут, занеме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ет землю тьма гус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нет солнце, месяц, звёз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оры встанут в море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раке буря зарыд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ёт нежд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стся с неба голос трубны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час откроются мог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ящих в прахе непроб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удит слово вечной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нежданно суд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т горько плакать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ут песни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ло, страшно, жутко бу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01Z</dcterms:modified>
  <cp:revision>12</cp:revision>
  <dc:subject>Slavic hymnal Гимны веры христиан, hymn 322</dc:subject>
  <dc:title>Придёт нежданно судный день</dc:title>
</cp:coreProperties>
</file>