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9515-FC32-4094-9C50-57D1FC44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85B9-54FC-47EF-AA3D-799D00E7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9CAC-F185-4D2D-8F42-BAC891ED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E22C-13E7-4419-B9FA-99851834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98A5-ADC9-4371-A9DE-AB3EBCF1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EE1F-625D-43FD-A669-2D436F16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9A60-E57F-4D3A-9FC7-88EBAFF6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C8F8-E22C-4B05-BA97-918942E4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E008-F8D4-46FA-B52A-3B28FB93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35BF-73B8-45AF-9A76-72BB08C4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FE1C-6156-4C70-9652-64E500A0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671A-C615-4EA8-B38D-AC4426CC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C55D5-979C-41E6-8563-306BA8FBC0D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в словах щоденних моли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лаженство для душі знайш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найкраще, що є тут в житті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е джерело моє в Хри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в спокої щастя я за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кутка я тихого баж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олоду маю в бороть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е джерело моє в Тоб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5   Не в слов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чиш Ти, як завжди, в кожну м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Тебе любов в мені брин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шукав нічого я собі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е джерело моє в Тоб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дкрив мені любов Св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 я з Тобою у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ів тремтить душа в мен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е джерело моє в Тоб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для мене захист, Ти ― мій щ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ез Христа ― порожній цілий сві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ез Тебе вмер би у журб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е джерело моє в Тоб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вколо хижий ворог м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чить проти мене лютий б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могу Ти даєш мен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е джерело моє в Тоб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сля довгих, нещасливих дн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землі одне я зрозумі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астя вічне лиш в Твоїй крас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Бозі є джерела мої вс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4:45Z</dcterms:modified>
  <cp:revision>13</cp:revision>
  <dc:subject>Slavic hymnal Гимны веры христиан, Ukrainian hymn 35</dc:subject>
  <dc:title>Не в словах щоденних молитов</dc:title>
</cp:coreProperties>
</file>