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8C6E-9D98-436F-9715-AEB043CE8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773E-F028-4DE7-9ABA-07EC5D60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4BDC-F015-49BF-93B3-FD5CB0BFA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BFB3-C085-40B1-B65F-4383FFD89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3832-381F-4169-81B7-3A9100A7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0946-266F-44C2-B1A3-A06204DF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1578-6459-46F6-92B3-A0082A2D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9857-DEF7-4979-832F-16DE0066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C573-AA23-4F63-9683-3C6B13FF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CF6E-16C8-4A9C-A856-3C6F8BF4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8CC3-CEEF-4BF9-BE72-1E231B9D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CE51-61BD-48B4-B25D-1258D2E6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FF88E-868E-4470-8964-FE200EAA168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розсівати Слово Боже ра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заході сонця, і вдень, і вноч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о чекати урожаю з ла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1   Будем розсів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то в пору добру, чи в час непог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віть у час бурі, спеки чи дощ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не занедбаєм славної наг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розсівати правду Божу всю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і перешкоди різні навкруг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час настане, жниво все достиг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6:58Z</dcterms:modified>
  <cp:revision>12</cp:revision>
  <dc:subject>Slavic hymnal Гимны веры христиан, Ukrainian hymn 41</dc:subject>
  <dc:title>Будем розсівати</dc:title>
</cp:coreProperties>
</file>