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885-1510-4783-8EAC-8D61276F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E4A-6D6C-4F63-8B5B-36DB2A06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AA4-44B4-4E5D-8656-114481CC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93D-E366-4B77-991B-4130FFCD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FB3-D868-4BF9-9253-8C769B3C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6A3-6052-43EA-BD84-7648A34B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0F8-B94C-4082-B275-45705B8D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61D-61B1-4DDF-B54C-3523FDC9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E5B-B384-4CFA-8E0A-3F2B3500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B15-13E5-4429-BFEB-9A042F07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F3F-F35C-4440-921D-69076ED6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0E1-0B61-4F2D-9DA3-66DEBF44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02B49-9A2C-415C-BFB1-9020301BBE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we walk with the 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light of His 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a glory He sheds on our w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we do His good w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abides with us st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all who will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мы со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мы со Христом в свете Слова ид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за славу Он даст нам най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инуясь во всём, все пребудем мы в Н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послушно с Ним хочет ид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shadow can ri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cloud in the sk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His smile quickly drives it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doubt nor a f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sigh nor a t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an abide while we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тень ниспадёт или туча взо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с улыбкой заставит прой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пребудет ни страх, ни слеза на оч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ужно лишь в послушаньи ид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burden we b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sorrow we sh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our toil He doth richly rep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grief or a l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frown or a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is blessed if we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бремя несём иль страдаем в борьб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даянье не медлит прийти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ь утраты нам жаль, встретим гор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ч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мы в них можем на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we never can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delights of His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ntil all on the altar we l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 favour H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joy He best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for them who will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сю радость познать, нужно вс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м от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ебя на алтарь прине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блаженство дарит только т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спе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ным быть и послушно ид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in fellowship sw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will sit at His fe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r we’ll walk by His side in the 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He says we will 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He sends we will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ver fear, only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общеньи с Христом к Нему в ноги пад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ль в союзе с Ним будем ид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уда скажет — пойдём, что прикажет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есё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ись, но послушно и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8Z</dcterms:modified>
  <cp:revision>13</cp:revision>
  <dc:subject>Slavic hymnal Гимны веры христиан, hymn 647</dc:subject>
  <dc:title>Trust and Obey / Когда мы со Христом</dc:title>
</cp:coreProperties>
</file>