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A12-7B03-4B77-B169-32CEABAA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515-E72C-446D-B3EC-A9A256B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AC6-D4D8-47A1-B98D-B6ED7C6E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994-3BA8-4A21-86DD-9775D827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1D3-0E3D-44E6-AEB7-DBFF1EFB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B23-7C47-406E-8239-4A18B31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16D-E0BC-4DF0-8305-68C97C9E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FFA-43C6-4DC6-B0D3-8E19C5D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187-B19D-4D2C-87C2-0A86788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56A-F286-4122-AA2C-DC12793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2C8-DBD8-48A4-AB8E-EAA180E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B36-A142-40B5-A739-F12708F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1C80A-A886-49C7-8D20-5F89536BA4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E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03Z</dcterms:modified>
  <cp:revision>11</cp:revision>
  <dc:subject>The Source 2, song number 675</dc:subject>
  <dc:title>Emmanuel</dc:title>
</cp:coreProperties>
</file>