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1F4-347C-4EFD-916E-7E1D20E7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37B-6219-4D15-ADDE-DBF3240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37A-0965-4823-9950-9C623CA4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F05-74C7-454E-A1EE-888DC01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61C-AC32-43CB-B9E0-096D1762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5E9-9831-4E9F-A37C-A01D782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345-4AD5-495A-B498-9BE58B13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01E-189B-401D-A7A9-E5BBFA5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BC7-51C2-47B6-8657-9480340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237-ABB0-40A9-B5D1-CBB77B3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436-6886-47C4-933C-AED78B7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CB1-ED0D-4335-9EE4-4A16825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4536-6E3F-455A-9947-C50E6B8DA6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нам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ели братьев, сестё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бронёю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покровом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по Господним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дор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ыть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дим Богу в сердце прост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нам встре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 пред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ение мира 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радно, исполнивш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ие душ разд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ионские путн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ов Божьей в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Фаворе по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ова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осподом мимо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fellowship bl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have been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manna from heaven been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общении слад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ли мы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уровые кам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nderful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bread we ha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w strength for the pathway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енье нашли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сподних сл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силою новой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снее окру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зирая к предвечным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5Z</dcterms:modified>
  <cp:revision>13</cp:revision>
  <dc:subject>Slavic hymnal Гимны веры христиан, hymn 742</dc:subject>
  <dc:title>Precious Moments We Share / Дорогие минуты нам Бог даровал</dc:title>
</cp:coreProperties>
</file>