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7048-8C15-4CDA-9495-362E3A57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1A83-5ACC-447A-B52A-4EFEE9EB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09F5-70F5-4C52-B1BE-94E0AF385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B3B7-17D0-4A51-ADA7-EAF55E2F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CF21-1860-4A44-AD1B-8543936A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5C6B-6D76-43F3-A3BC-BE307E7C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3403-6050-4024-A74B-1C1C9FA9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3A93-ACEA-41DE-AF47-C5F7DF1F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C950-D465-4078-924D-3F34E31B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D4D5-39ED-4167-B40A-5C15D6CB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93BD-3AB3-4A70-9CD5-F3358751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0AE5-13CE-475D-A37F-BCFA0683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6E629-A8ED-412C-8284-45ACCB6B4AE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чудесная звуч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ся Церковь повтор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стью радостной —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ёмный мир скорбей и слёз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познает весь нар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сть чудесная звуч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пускайте по волн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свет земли сын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жители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итесь бурь и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Божий юбил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в шуме битвы зл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ртвой чистой 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если в сердце ст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пред лицом угро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песнь в день похоро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несите вдаль и вшир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ликует целый ми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еньи дар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е в царстве слёз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вечный наш псал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8:57Z</dcterms:modified>
  <cp:revision>12</cp:revision>
  <dc:subject>Slavic hymnal Гимны веры христиан, hymn 572</dc:subject>
  <dc:title>Весть чудесная звучит</dc:title>
</cp:coreProperties>
</file>