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D56-4DC8-4921-8DE1-68CB19C6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A1D-6475-4C66-BB9D-433D20EE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EA4-EAC8-4B28-8DC1-4788C55E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27C-B0A8-4EBF-BF65-59C325DD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8C9-91E9-4BC4-B929-F4A2234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73E-DF68-4070-B2E6-40BF502F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B8C-FE83-4EB8-B4DD-F4A1DBC3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8CC-E73B-4DCA-9F7B-5A32248F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9AA-1DBC-40FB-AD04-3D794460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F8C-980F-4191-AE98-BB97A8B8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F82-BF11-4152-AE0F-A327BF0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25B-B6A9-4454-B7BE-27D5ECB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00D15-9A9D-439F-B336-A2A29AB7C4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9   Ми по водах оке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11Z</dcterms:modified>
  <cp:revision>13</cp:revision>
  <dc:subject>Slavic hymnal Гимны веры христиан, Ukrainian hymn 19</dc:subject>
  <dc:title>Ми по водах океану</dc:title>
</cp:coreProperties>
</file>