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1CE-BBBE-4BDB-9823-B795BBBA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28E-E46B-474F-A5F1-E0801D45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9DA-43E8-42A7-A3A2-858B1B5D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42A-64CA-4564-80F5-E46BB00F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B29-6101-4CB4-ABF3-66E47E5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A16-E1D6-4B94-8E49-77003BC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BD3-790D-44A7-BDCA-95C51A7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2BC-ED78-41F8-9286-DFE2F8A6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C3C-FC97-4B70-A4E2-757B71C6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739-986F-46F1-9D98-F9816F0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D14-3679-449E-9388-6786EC9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A63-ED34-412E-B967-1D804AA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99A1F-751F-4665-B86B-6772B2BE56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rst Noël, the angel did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o certain poor shep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as they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where they lay keeping their sh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cold winter’s night that was so d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lookèd up and saw 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ing in the east, beyond them 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it gave great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 it continued both day and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the light of that same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e Wise Men came from country 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for a King was their in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follow the star, wherever it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id they know assur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at house the King did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entered it them for to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the Babe in pov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entered in those Wise Men th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reverently upon the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ffered there, in His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gold and myrrh and frankin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39Z</dcterms:modified>
  <cp:revision>12</cp:revision>
  <dc:subject>Slavic hymnal Гимны веры христиан, hymn 814</dc:subject>
  <dc:title>The First Noël / О Рождестве благую весть</dc:title>
</cp:coreProperties>
</file>