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E71-79B8-460C-A231-9532C165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D0A-3891-4224-995B-57E8F120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57F-CB16-4C2A-AEEC-1FA0DF76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530-2AF9-4BE9-8517-79C69096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A88-29CE-462F-B0F3-12B99841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558-3A2F-4BDC-9CC1-27FAABCF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305-EFBB-4F4C-8CCA-604AB3EE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030-3411-463A-BE54-B2CC942D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6E8-BBD9-4E56-8FBC-E468366B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7BF-80A9-4676-A867-85DE95E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281-AB07-4FE9-AD81-C03B926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627-986C-4F52-84BB-5CA98BE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87C05-8704-4AC3-BB60-E436FB2113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heart be changed, renew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ing from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I’ve com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eaknesses I se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stripp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I Com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unveil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ee You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nowledge of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renew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ill unfolds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living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2:57Z</dcterms:modified>
  <cp:revision>9</cp:revision>
  <dc:subject>The Source, song number 329</dc:subject>
  <dc:title>Lord, I Come To You (Power of Your Love)</dc:title>
</cp:coreProperties>
</file>