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257-8B2A-453B-95E0-2C88A3FF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480-21A4-4E79-892B-858A6AA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A4F-8CFD-4141-B0B4-D657F75F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D39-0367-4FA1-A003-89CB72F7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294-402F-4212-927D-1B337FA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264-7353-456B-A417-B6897A42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698-77E6-4173-8068-25092C6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B4-D278-4C82-B1A3-AEE5281B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18B-5305-4603-86DF-47D6A76B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E92-7B0E-4EA8-AC84-41957F0A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A7A-6D91-448E-977E-88A92006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2FB-1819-4627-83EB-7579679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252A8-9AB4-41D6-B00F-B2E8E9EC2A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39Z</dcterms:modified>
  <cp:revision>12</cp:revision>
  <dc:subject>Slavic hymnal Гимны веры христиан, hymn 470</dc:subject>
  <dc:title>Иисус мне больше, чем весь мир</dc:title>
</cp:coreProperties>
</file>