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19C6-D295-4DC0-9AFA-42099180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2A6-2486-4696-8785-6D4176D1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227-C803-4DDB-A1D3-4BBE7519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49C-4C79-4A41-8B81-D6CC3382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3BD-68C5-4524-A207-D472851D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9AD6-268B-459F-95D7-0AA1F94E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EF59-562C-4284-B8D5-3DB01FC3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F60E-C7CC-46C1-9F80-ED584DFF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1D78-0930-46F0-B184-50F8BC87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3A4-1E99-4F50-B1FF-5783B41C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EB4B-10DD-40B6-9A6E-4C178029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3F4A-6462-4957-A397-89DCC0DA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68A0F-6C00-4496-81D0-934F703F84B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air I breat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air I breath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oly presence living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aily b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aily brea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very word spoken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, I’m desp’rate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, I’m lost withou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07   This is the Air I Brea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8:34Z</dcterms:modified>
  <cp:revision>11</cp:revision>
  <dc:subject>The Source 2, song number 1007</dc:subject>
  <dc:title>This is the Air I Breathe (Breathe)</dc:title>
</cp:coreProperties>
</file>