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DBE-CA59-43D4-9CBF-791E4828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336-10AB-435C-95C9-AC6A7618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ECA-8949-45D9-869B-28CCB5A8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BE8-ECDC-487C-8205-6C731B70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38A-2EA2-4C6C-ABF9-7CEAECD8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1F0-FD11-45C3-A3A7-41150197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3B9-4AF5-45EE-AEE5-4BB1EAE6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741-7A76-4B93-9921-D19569FB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DAB-C065-465A-A033-41DBCA16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411-35DA-416C-8533-CFC03125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F3A-DAEA-4CBB-ADFC-B919E98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366-7D22-475F-ABB8-59633723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C83A7-58F2-4BF0-ABA9-E968C188E4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7   You Ar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ing Your prais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er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m close to Your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where I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13Z</dcterms:modified>
  <cp:revision>11</cp:revision>
  <dc:subject>The Source 2, song number 1077</dc:subject>
  <dc:title>You Are Holy</dc:title>
</cp:coreProperties>
</file>