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0095-511C-4489-8590-45584B54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1BC9-2C43-4792-9DA4-1298018F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DB45-C7E6-4860-AC10-352C46D3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F296-A7DF-40E2-9632-5BE3DE7C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7375-0004-49C4-85A5-065B2852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5985-51BD-449A-992A-0391C1A3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90DB-4FF5-4B57-9E42-A8C6CAFD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368A-718E-4B29-978A-DE369A80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F822-06A2-4401-879D-CBB0ACE0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BC41-00BA-40A1-8E74-866B50B5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A898-F568-4753-8BCC-D6BB77C3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FDFA-1DDC-4019-9895-416C85AD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BB8CC-8FDF-4C93-B0CF-E8CBFDF23AF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з вас Господ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готов слу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руки, ноги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освят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й мир ост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ждать вра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дти го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из вас Господен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Господню зо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ля внешней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льмы и ве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ваем фор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его бой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любви к Тому, К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л жизнь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ем охо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евой прик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ижимы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кругов блуж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, к чист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ы страд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на крес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остью выс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и ум пле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ярма по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росивши ок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ли битва зл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адёт ли вр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ш охран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х каждый ш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Христовым зна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беда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и во мра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ем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вши тварью н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7:23Z</dcterms:modified>
  <cp:revision>12</cp:revision>
  <dc:subject>Slavic hymnal Гимны веры христиан, hymn 877</dc:subject>
  <dc:title>Кто из вас Господень?</dc:title>
</cp:coreProperties>
</file>