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9</a:t>
            </a:r>
            <a:r>
              <a:rPr b="1" lang="ru-RU" sz="3600" spc="-1" strike="noStrike">
                <a:solidFill>
                  <a:srgbClr val="ffffff"/>
                </a:solidFill>
                <a:latin typeface="Verdana"/>
              </a:rPr>
              <a:t>	</a:t>
            </a:r>
            <a:r>
              <a:rPr b="1" lang="ru-RU" sz="3600" spc="-1" strike="noStrike">
                <a:solidFill>
                  <a:srgbClr val="ffffff"/>
                </a:solidFill>
                <a:latin typeface="Verdana"/>
              </a:rPr>
              <a:t>Прими хвалу, благодарень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рими хвалу, благода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ын Божий, за Твою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грех наш Ты понёс муч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ас пролил святую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нёс удары, поно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дать нам жизнь, взял на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наше зло и прегр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умер в муках, нас люб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 слезами радости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рук Твоих приемл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рю: с Богом прими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ует жертва мне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мытый от грехов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смертью невред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нас всех! Мы всей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Господь, принадлежи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Но дар щедроты бесконеч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может быть вознагражд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лагодарностию веч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будет в сердце впечатл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Да свято все Твои зав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полню в жизни я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авдою Твоей оде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у к Тебе с кончиной дне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6:50Z</dcterms:modified>
  <cp:revision>3</cp:revision>
  <dc:subject>Slavic hymnal Гимны веры христиан, hymn 109</dc:subject>
  <dc:title>Прими хвалу, благодаренье</dc:title>
</cp:coreProperties>
</file>