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F464-13C9-4DEE-A81B-D9E1B9CA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31DB-72F1-43E5-A969-3CCC9C6F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2E50-B14B-458D-BC3D-CEC06192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97C9-65D9-4969-9707-5C0B903C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276F-35EE-46D0-8C86-F223F320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CB59-4782-4DB2-8665-3EE19183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BF7D-BCA5-4113-B5F7-14A564E9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4249-C15E-422B-8D2C-BA88077E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8970-B44E-4299-BBC4-23BB53E0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DAE6-39DD-47C6-BA40-7D04DF48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29CD-9C99-42AD-977F-ABBD40AC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94FE-5965-487C-9792-ED35B492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56C77-7D6C-49A5-8A4A-72C55A9DBF2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победить, о желаешь ли 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крови, сила в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 свободу Христову во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Его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агоценной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х побед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шь ли гор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сть умерт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крови, 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Христос весь твой грех уда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Его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агоценной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шь ли снега белее ты бы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крови, 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Иисуса всё может ом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Его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агоценной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хочешь ли верно слу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крови, сила в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ю, устами Иисуса хвал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Его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агоценной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1:40Z</dcterms:modified>
  <cp:revision>12</cp:revision>
  <dc:subject>Slavic hymnal Гимны веры христиан, hymn 416</dc:subject>
  <dc:title>Грех победить, о, желаешь ли ты?</dc:title>
</cp:coreProperties>
</file>