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E4E-047C-40AE-8493-BB6134B0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A47-1317-4497-A444-3C1EFE66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697-9C41-4600-846E-C1DB8B4F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29C-797E-46AA-BC09-C675A634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277-D42E-483B-A1D7-47837F5A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CED-4213-420C-95A5-1AAB4D27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A3A-FBB5-42BA-8D55-A14451BB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552-638D-4A73-A667-09FB31BA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ACD-C815-4CC3-B371-EED20F37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017-57ED-481C-8EF7-CCEEB08D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B02-A152-4880-AE40-75998CC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CC7-C831-4222-AB04-57A492F4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4D5C0-61F8-4134-BEE6-9B7B837E51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лилия степ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цветая, оживи, душ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рёл стремись выс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ёко к небу, в Божи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ремись к стране жел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! Там тебя давно уж ж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 Божьего прест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весёлый хоры ангелов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овно лилия степ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олн не бойся;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ело в челноке Христа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 пристани при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будешь испытания св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бя не привле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еняет мир блестяще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к для мира драгоценны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рак тленный, поглощён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ть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и Врач земли несчаст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жечасно дух несётся мой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вергни же стрем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енье, а прими меня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Своё созда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траданья от меня не от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 в часы пад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омненья мощной верой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яди, как Царь по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аш бедный и меня воз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конце борьбы оп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прекрасный двери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принял нака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янья и за грех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Тобою побеждё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ажёна: воцарись, мой Бог,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30Z</dcterms:modified>
  <cp:revision>12</cp:revision>
  <dc:subject>Slavic hymnal Гимны веры христиан, hymn 510</dc:subject>
  <dc:title>Словно лилия степная</dc:title>
</cp:coreProperties>
</file>