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4CB-1EB2-465C-AD98-76952073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8A6-0E81-4464-BB8A-54CF979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DEF-8026-467D-864E-F7EA3123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11A-E3DC-4930-8C13-5CDBB9F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CD4-D385-4B09-8850-A8E83BD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450-92FB-4FB8-8CA7-3ACC94CD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45F-C8D6-4AAD-904B-7735B18C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29E-B84E-4940-9514-F75D7780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1F7-24F3-426D-BB5A-942E0B3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416-7F70-4F12-9DA2-E5C66E0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4BC-46F6-433B-92B9-3B8FEE4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0B9-CD14-496B-9366-72FF6C5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49E05-4451-40A4-BAB9-F43E5861BB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esire bes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they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lways will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9   Whom Have I In Hea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portio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56Z</dcterms:modified>
  <cp:revision>12</cp:revision>
  <dc:subject>The Source 3, song number 1629</dc:subject>
  <dc:title>Whom Have I In Heaven But You? (God Is the Strength of My Heart)</dc:title>
</cp:coreProperties>
</file>