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FEC-725A-4364-91F6-B3D0EC49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B9CF-FA66-4874-A2D3-1CC466DA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6D05-246F-4E80-83DE-6D889E3B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782F-B99D-4B59-863E-F9A60956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FE98-905D-42EC-9E6A-D5379112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7B86-3C87-47B1-8415-BA2DE7E7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A5E-8850-4C44-BAB1-0A45576F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B1AE-4E0A-4D99-BD06-1E6FBBC1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2D23-BBF5-4DD3-94E6-9528352F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03AD-2503-48BF-AAFA-DE24AD5A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628-EC43-4F58-A244-9DEE1C97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BCAC-658C-46F8-AA99-7FAA380F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BDDA4-4F36-42E4-ACAB-09CBBD31DD8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e enthron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proclaim You our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anding here in the midst of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raise You up with 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worship, build a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worship, build a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worship, build a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ord Jesus, and take Your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0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We Enthron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5:37Z</dcterms:modified>
  <cp:revision>10</cp:revision>
  <dc:subject>The Source, song number 300</dc:subject>
  <dc:title>Jesus, We Enthrone You</dc:title>
</cp:coreProperties>
</file>