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A9C-7BBB-46F5-81A7-0B10D0E2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6FB-A8FA-4AEC-AC75-F2A3864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0DA-FBDC-4477-9422-627D7D15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387-D5A9-419C-A021-E0C28B7B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F33-9E0C-46D9-9516-E4B8E2AB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F7E-27C3-4BE3-A5CE-605651D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876-917C-4DCE-9FE0-5B6D3C0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175-2FEC-4BB7-A804-93200C2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444-88D8-4E87-BCA6-679B8E6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4E2-A012-4778-85D8-BC04F74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569-44D6-43C7-BB97-9F8A8ED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BD7-A50D-4536-9F66-17F5085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D8460-A432-496F-BCB9-698F38F63C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in the whol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ose your so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swe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remain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9   What Good Is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ad I’m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leads no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ife I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ind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17Z</dcterms:modified>
  <cp:revision>12</cp:revision>
  <dc:subject>The Source 4, song number 2129</dc:subject>
  <dc:title>What Good Is It (Living For Your Glory)</dc:title>
</cp:coreProperties>
</file>