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0F70-E5DE-4BE6-969A-FE267AE2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D12-507D-4F18-963A-48C9AD82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EA5-3BA9-4463-9DA5-CFC37B8E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DBF7-7221-4AB8-B501-846BC5CF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91E-B5AE-47FF-810E-5B883E49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C8F-474B-41AC-93BD-8BD67DC3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7F9B-3856-440B-A374-B4246EB5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FF3-BE7E-47B9-8627-74709DDE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598B-C71E-43B1-9C87-3FA7069F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E94-B079-4983-8542-2727592F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E6A-64EF-4FFD-B501-89512CF6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14A0-C6E9-49EE-9E37-D2E420E3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57EC9-7D14-4718-B409-CF40773E40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ворота пред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ними дв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робкою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ери, каким ид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тесные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на узкая стез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дали леса, бол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н и бури жду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, ворота пред то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широкие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пространный види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нём толпу без счё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р и праздник су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ропой борьбы, тревоги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а луч и рай цве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конце другой дороги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гнетущая и 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ворота пред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ними дв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робкою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ери, каким ид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1:56Z</dcterms:modified>
  <cp:revision>12</cp:revision>
  <dc:subject>Slavic hymnal Гимны веры христиан, hymn 332</dc:subject>
  <dc:title>Вот, ворота пред тобою</dc:title>
</cp:coreProperties>
</file>