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F914-FBBD-4CA2-8B2C-723135D9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0421-5D75-48FD-A21F-D4DF1701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3BBD-6BF3-439E-AF8D-E00C1C00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977C-3F7C-47B6-9C08-F9E9F081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E0EE-7B82-48E3-A345-94363D4D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D2B9-4F68-442D-8AD3-FA152C54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A61E-DB41-4E6D-A261-A501F921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AB36-60FD-4AD3-9619-C4BFE16D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BD08-73F0-408B-95BD-D21894BF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0472-AA09-47EA-8B19-396792C3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B2EB-5C0E-412C-9D70-B916F5F2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63A0-5B46-4717-9A7D-36CD0A05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DBA25-F08B-4A7D-B1B3-DC2367E9038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 beli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t thy joy and glory ever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m, the great Deliver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gave Himself a sacrifice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куй, ликуй, спасё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будет славой, радость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вознес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се твои грехи на крест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beli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and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m who lives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great High Priest and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 (и пой)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ебывает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in th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a place that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rem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bids thee dwell in safe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st beneath the shadow of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езопасен под крылом 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хрь бури разъяр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нять не может мира т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beli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and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m who lives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great High Priest and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 (и пой)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ебывает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 beli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ome on high is waiting now fo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re, in all His beau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 of saints with wo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shalt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на высоте дом вечный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в славе вознес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твой тебя туда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beli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and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m who lives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great High Priest and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 (и пой)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ебывает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 beli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ss on to join the happy, happy thr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soon Thy Lord shall call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ealms of joy and everlasting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войти в собрание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ердцем восхищ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 всерадостный спасенья с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beli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and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m who lives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great High Priest and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 (и пой)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ебывает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03Z</dcterms:modified>
  <cp:revision>13</cp:revision>
  <dc:subject>Slavic hymnal Гимны веры христиан, hymn 580</dc:subject>
  <dc:title>Rejoice, Rejoice, Believer / Ликуй, ликуй, спасённый</dc:title>
</cp:coreProperties>
</file>