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4A99-A029-445C-B41B-819BFB18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BC3C-A483-463C-9AB9-D60F94A8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3DDF-029A-46A4-9433-E164C667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844E-C721-46BB-8CAA-175ADC3B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6479-71B2-4004-B91B-02350256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A4AC-D620-4220-B221-967E2A4B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A11D-FB89-4061-898D-CF599513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4C49-526A-4F5C-B602-0C629C97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5C49-BB73-4DB9-82AA-5053C860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FDB6-C2F6-4852-9C6B-76A0430D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A9D3-5079-4363-8571-241B6D16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E5D7-2164-4187-B64E-A9B3E5D6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73A79-501F-4927-8B8C-CA086FE7438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о верить 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 страхи поборо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жизни укрепля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ить: «Так сказал Господь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вил мне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в пут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дай мн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2а   Сладко верить в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о верить 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ить в мощь Его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ерой прикосну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ю душу обно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вил мне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в пут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дай мн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о верить 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цепи все пор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Него потоком ль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мир 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вил мне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в пут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дай мн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, что познал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Бог, моя звез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живу, к Нему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сстанусь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вил мне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в пут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дай мн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4:28Z</dcterms:modified>
  <cp:revision>12</cp:revision>
  <dc:subject>Slavic hymnal Гимны веры христиан, hymn 622 (as amended)</dc:subject>
  <dc:title>Сладко верить в Иисуса</dc:title>
</cp:coreProperties>
</file>