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3C9-8975-4075-AD5B-61624BEF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28F-A174-4903-BA4D-9CF97DBF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334-BFDC-46B6-A734-3F976F3D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C63-EE8F-4641-A7DD-76902D41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204-1E79-48A4-B9E0-AB88BFF3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27E-C588-491B-ADD9-9A207B01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9AC-665E-46BD-A918-AEC40763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9F1-9D7D-46AC-9AFC-5A959077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D07-D9EB-489B-BB72-F20F66F6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A8C-A361-4DCC-92AC-B120E5C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E43-4885-4BDE-839C-0FE4EE54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3A2-0359-42BB-BD2A-FBDE1BF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36CFF-63F3-44F6-8ADC-0720141129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робиться на сер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глянеш ти навкр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их людей, що спокус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увши про Бож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не підеш ― всюди бач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н на батька повс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мати гірко, гірко плач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робиш ти, дитя мо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0   Як тяжко роб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іж братами нема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діти батьк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любові ― скрізь розд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правди ні в 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все тому, що залиш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ивий запові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все тому, що призаб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илась кров Його св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ди, люди, схамені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йтесь, до Христа прийді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Нього сили набер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віт гріховний пр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58Z</dcterms:modified>
  <cp:revision>12</cp:revision>
  <dc:subject>Slavic hymnal Гимны веры христиан, Ukrainian hymn 60</dc:subject>
  <dc:title>Як тяжко робиться на серці</dc:title>
</cp:coreProperties>
</file>