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A9F-1E07-48A3-82EE-BC0F2696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82D-6233-48BF-8728-CF4916CD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C85-AB6F-49EB-90E0-28797004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3B6-CF56-42B6-A5C0-D7A191C3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07B-D51C-4C24-B6FE-8880678C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210-CFD3-45F3-94A3-3A37371F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E50-EE3A-4820-9BE7-BCE15FD8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B18-3886-46F1-AB65-DC973908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978-3446-4CD8-A43B-B5CEFC4D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C77-94A3-4919-A9C9-8E4B6A5B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B9A-E9FC-43D4-8E05-A83EF616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543-F87F-433F-996D-6106C71B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26CA9-FF76-4ADB-9823-7E1B9AC2E9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3   Thy Word is a L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feel afr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I’ve lost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You’re there right bes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hing will I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long as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lease be near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ot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for me, and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for ever is wand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be my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ld me to Y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love You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3:31Z</dcterms:modified>
  <cp:revision>11</cp:revision>
  <dc:subject>The Source 3, song number 1563</dc:subject>
  <dc:title>Thy Word is a Lamp Unto My Feet</dc:title>
</cp:coreProperties>
</file>