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93C-EE45-4039-914A-75D1B367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0B4-1763-4264-8832-90383DCC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294-C357-4122-9319-F44440DF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B16-E0B5-485B-828B-48EC5841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798-3D01-4177-9154-48C43C3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BBB-7846-4F9F-8854-9D1ADC6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FBB-425A-4C9D-80BF-12FDA772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F06-F288-42CF-81AF-710CE351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C51-4C70-4F13-A10E-C9682FC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FDD-19A5-420B-84B5-5A6BAA2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EF6-DD0E-4DDE-8BDA-23F2A09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BE6-6F9E-4D97-81EA-CD98C33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5E35D-0AD6-4B2C-AEF1-84777A3CAB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more worthy than I’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im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how glorious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a love You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7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I giv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One who sav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ound me and You fre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me that was 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erciful You’ve b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45Z</dcterms:modified>
  <cp:revision>12</cp:revision>
  <dc:subject>The Source 3, song number 1637</dc:subject>
  <dc:title>Worthy, You Are Worthy</dc:title>
</cp:coreProperties>
</file>