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757-583D-4BFB-A60B-656E98E9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42E-B988-4937-A36F-AF5FAFE5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896-588A-4C4D-91C8-37213193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98B-5C39-43FF-B246-02A79743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0AE-8025-4419-A3A9-7862E804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87C-4F06-4CFF-B3AE-5372897B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2BF-1498-431D-BC9C-15AE8F75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667-BB30-44C7-9A65-7E75377C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1C3-BEE4-4B7E-BD47-3D2BEFD4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327-708D-419C-910E-9D511F6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FF6-809B-4AA9-8785-44723BE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768-1249-4594-9FC6-66CA51FF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587C5-422C-47A1-BB9C-9ED0DD8A32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возьми, пусть кажд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Ты хваленья гл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волю, должно 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ей только быть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направь, чтоб Тво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ах был исполнить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сердце, Сам уст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стол Ты царски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6:18Z</dcterms:modified>
  <cp:revision>12</cp:revision>
  <dc:subject>Slavic hymnal Гимны веры христиан, hymn 437</dc:subject>
  <dc:title>Боже, жизнь возьми</dc:title>
</cp:coreProperties>
</file>