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680-22F4-4792-A3E5-206E230F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F22-945B-426D-9BC4-9774426D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0FB-7D20-4BEC-9D99-B09D1D5B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038-C52D-4718-8D8C-AA2162F8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2BE-F090-4281-A0D9-90FF331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28A-AB26-4D95-94F8-8B069D20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139-7A26-45DE-BE7D-349AB62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709-7CDC-4289-AB20-B0ECDB1E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239-6553-4536-B1A8-B25B1945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3F4-6A80-4121-9B77-8CB9575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D38-5E0D-400D-884D-3AF83A15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B46-1867-45AB-9F34-C1728B3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24FBD-58D4-4340-BFC3-418D91432F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6   Father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37Z</dcterms:modified>
  <cp:revision>11</cp:revision>
  <dc:subject>The Source, song number 96</dc:subject>
  <dc:title>Father in Heaven, How We Love You (Blessed Be the Lord God Almighty)</dc:title>
</cp:coreProperties>
</file>