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42D9-6998-4216-B226-5BC054CD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C51E-3EEE-4E3F-AA49-038EB3F1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531F-A3ED-4CC8-90CA-83FA068E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8488-6326-471E-A2C1-1490898D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4A7F-3514-43F3-A281-AFA34ED4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7382-B3FB-44B6-A334-DDA7EFC6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9275-9E3D-4E9A-9E9A-59FA9E0E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DD71-C579-4898-B357-226E8177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8223-5DE3-4E1C-ABA5-3FAFB03C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B4A6-9E92-40B4-A033-541F91F7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F1EA-AE07-4EAF-BD75-20AA4DA5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8484-456A-4376-AF7B-1B426A3F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015D9-BF60-4786-BD40-A7A248EB792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roubled heart, there is a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reach of toil and c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ome where changes never c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ould not fain be resting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чудный кр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где горя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насилий и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царствует там жизнь и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ю чудесном и свя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meekly wait, and murmur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meekly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O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ропота кротко ж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when bowed down beneath the 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eav’n allowed, thine earthly lo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up! thou’lt reach that blest abo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, meekly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ю родном нет мук, нет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страданий жизне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могил и нет у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для истинных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meekly wait, and murmur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meekly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O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ропота кротко ж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 on, nor deem, tho’ sore it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sigh unheard, one prayer forgo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 of rest will dawn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, meekly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г, трудись, в надежде ж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ведёт нас в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погибшим весть н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 Иисусе есть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meekly wait, and murmur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meekly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O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ропота кротко ж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29Z</dcterms:modified>
  <cp:revision>13</cp:revision>
  <dc:subject>Slavic hymnal Гимны веры христиан, hymn 674</dc:subject>
  <dc:title>Wait and Murmur Not / О, чудный край, где горя нет</dc:title>
</cp:coreProperties>
</file>