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D596-3289-4F0D-A75F-DA832A125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809F-98B3-49BC-9547-ECB715FD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121D-944E-4A51-AA54-13A2A269D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C9FF-5FC8-4530-BDA1-1252BFFAE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5715-801B-46B6-84B1-2E3D5A89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34E5-3A18-4FD4-BDF3-3F3732A0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8A1B-0788-43F2-B458-7D71F74D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F3A8-8ACD-4FD9-AF46-287D78EC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96E6-C82F-4450-B4FC-FF6DB688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C99C-B887-45DB-A4F4-FF9354AD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5436-F60E-43A5-84C4-F37C6D01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D215-211C-4808-B701-1C6FDB58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2736EF-873D-42E3-9813-93AEC33C124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make Your face to shine o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lift me up, I’m cleansed and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mountains fall I’ll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power of Your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Your heart of hearts I’ll d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0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You Make Your Fac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oy and strength each day I f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eness, hope, I know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mountains fall I’ll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power of Your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Your heart of hearts I’ll d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9:13Z</dcterms:modified>
  <cp:revision>10</cp:revision>
  <dc:subject>The Source, song number 604</dc:subject>
  <dc:title>You Make Your Face to Shine on Me (And That My Soul Knows Very Well)</dc:title>
</cp:coreProperties>
</file>