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0F92-51FD-4595-9482-B13F1FEA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2286-0A21-4A82-9F91-EFB9D109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ECE5-A9DF-46B8-A64F-BF6F3020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0ECF-2C9C-4B2F-A8D1-59F47DBE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E676-6FF0-45E7-9487-D0678ECF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B5CE-B234-48A4-A4CD-E30054EC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A3F3-C078-43D5-BE7D-ADAA83AB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F3A3-575F-45A4-B06E-B19F5658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8100-BC9D-4224-AFBB-B9E531FA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5AF6-EE3F-4F7F-90B3-B35845CB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F954-A096-46AD-8B7C-B6FFBF1E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3978-B8EC-4A4C-AE94-F35FC581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56384-D9B6-458E-80B6-70916AA4D49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, полный мир! — И там, где сует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мир даёт и там нам кровь Хрис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, полный мир! — Среди земных забот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дежда на Христа нам мир даё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, полный мир! Хоть зло вокруг кипит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о на груди Христовой мир цари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мир цари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ир, полный м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, полный мир! — Вдали от дорогих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Господь их сохранит в путях земн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, полный мир! — Хоть будущ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емн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ристос царит, и сила нам да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, полный мир! Хоть зло вокруг кипит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о на груди Христовой мир цари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мир цари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, полный мир! — Хоть смерть вид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руго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а побеждена давно Христ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огда ж придёт конец земной борьб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ристос нас в край небес возьмёт к Себ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, полный мир! Хоть зло вокруг кипит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о на груди Христовой мир цари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мир цари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6:30Z</dcterms:modified>
  <cp:revision>13</cp:revision>
  <dc:subject>Slavic hymnal Гимны веры христиан, hymn 581</dc:subject>
  <dc:title>Мир, полный мир</dc:title>
</cp:coreProperties>
</file>