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101-C898-47ED-9674-5F3BB86B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946-6D56-4799-89E0-6D6F8865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FAA-D103-445C-8D43-4EB5A697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1C3-CCEE-491B-8B41-FC1E6D8D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572-5BA8-4480-BE1F-76233532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AB9-97F0-431E-815F-C8873477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7B6-3FF6-49A0-9E62-A4CC60E5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F2F-BF6B-480E-A487-9096C7C2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761-F8DB-474F-B40A-5FA95144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236-FA5D-449B-9807-F8A4BCD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412-5056-49AB-B4EF-0D0C9696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351-FF0C-4497-9F05-DAFAD3E1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C7E33-7669-46A9-9850-CBE36FA667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с моря люди громко вопи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жите к берегу надёж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ю с моря люди гром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теперь доходит Македонски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роявить Хрис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ю молитвой о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х Божий погибающих дост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совершайте труд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Богом делайте дела с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26Z</dcterms:modified>
  <cp:revision>12</cp:revision>
  <dc:subject>Slavic hymnal Гимны веры христиан, hymn 887</dc:subject>
  <dc:title>Ночью с моря люди громко</dc:title>
</cp:coreProperties>
</file>