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80F-44C7-4EAA-BE87-649E6764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F59-0941-42AC-93D5-7E4C3A7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0AD-4D5E-4938-A246-8C49729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BD0-92F9-441A-89E2-AD5CB355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9B5-8A66-4CBA-B9BD-60AE6FD8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8EB-F0F2-4930-B24F-4165CAC7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C9A-A86C-4EE5-BE41-8CB33A0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DE0-A597-4A43-8F8B-07D30A00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C9E-29C3-4889-B93E-57F9A644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8DF-AFB5-4802-A500-6E694F7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5BA-30E9-42B0-9AB3-2CD2E77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052-020C-413C-AB3C-0BCE41E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24E5-70EC-43D1-BF26-F70A31D0D4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веты не 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и в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, 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за Ним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пойду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, утеш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и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30Z</dcterms:modified>
  <cp:revision>13</cp:revision>
  <dc:subject>Slavic hymnal Гимны веры христиан, hymn 842</dc:subject>
  <dc:title>Вслед за Христом хочу идти</dc:title>
</cp:coreProperties>
</file>