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BD8-1D8D-418B-8BB8-4AF836AD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0EF-934E-4D38-95F4-E2B62C34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86A-5B2F-45C1-8BCF-79E37F28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702-1EF5-4D3E-B856-9DC04AFA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B46-59C3-47CF-A3DF-282D1F0F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8A6-3B3A-4753-BF77-883588D9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F07-1744-4F89-9CE8-51832DDC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CAE-03F8-4F85-94E2-21303ADD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42F-E9F4-4B36-A7BF-A8F3628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1D9-ED56-4AAD-89BC-FBADE1C2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48B-D103-45D1-B6A8-87E90C92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102-57A5-4FE3-BA3E-2A0EA3B9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A7B47-5A64-4A10-9CED-1636E43BB2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могучих, орли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 житейским нес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могучих, орли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вечности сердцем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 и н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ыше я к небу ле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т меня мощные кры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их я спокойно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крыльях могуч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мощными крыльями тих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о покоюся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приют мой надё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защит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ьются враги над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целятся злобно в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 орлиные кры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царит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оюсь ли теми крыл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ли надёжно на 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но мне так и отра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ниях долгих м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ь мне спокоен и яс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чивый путь через мир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я чувству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ьями царств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25Z</dcterms:modified>
  <cp:revision>12</cp:revision>
  <dc:subject>Slavic hymnal Гимны веры христиан, hymn 584</dc:subject>
  <dc:title>На крыльях могучих, орлиных</dc:title>
</cp:coreProperties>
</file>