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A819-874E-4417-AFF0-EA587079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0D0-B099-4E05-8DAA-8B67508B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7B0-CE91-4B59-836D-0C1B6F4D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5919-A68A-4CF4-BF8C-C8B3266D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B0B-9E98-4E79-A2E9-B7D54E17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102-3A0E-4BFE-872E-958D3D0B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5A6-1EE9-42E3-B83D-80BE5A32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EBF-EE8A-445C-B64E-704E3E69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E51-F01E-406D-AA07-015FA210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94BA-166D-474A-BF3A-5AF01899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44A-2571-4571-8A66-2B016C79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227-FBA5-4D09-871D-E43DA211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6F00A-9808-4056-95BC-C161C7675BC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своё сердце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ся с мирской суе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аче вдали один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нешь несчастно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юность ― весна молод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шь ты, смеёшься, шут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д Божий идёт за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идит Спасител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крой своё сердце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ты к отчизне небес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примирись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 тебе об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ъятьях Его ты спас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а в белоснежной оде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ет в хваленьи одн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не разделишь ли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пребыть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0:46Z</dcterms:modified>
  <cp:revision>12</cp:revision>
  <dc:subject>Slavic hymnal Гимны веры христиан, hymn 409</dc:subject>
  <dc:title>Открой своё сердце Иисусу</dc:title>
</cp:coreProperties>
</file>