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A77-139A-4621-A824-897B3455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A42-4CAF-4EC8-908B-ACD4CA4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F05-47E9-4009-8B30-D9C3A7E0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1B0-5362-4346-9337-1B5E7A16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7F8-5236-4A31-944B-B634373B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DA-A617-4045-B151-AF56A6B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AAB-7B82-4574-AAFF-1E166CAC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F23-1CB3-4BCF-9E2E-A856829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40B-674E-4C73-A28D-A28A457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349-0C4F-4113-B2F0-3455F04D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AEB-5F1C-4CA5-A3E3-1F17FBB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C7D-8526-4AF4-947A-B8AD81D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BAD4-6D43-4285-AE2E-4B33BED7F2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idst accept their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praise we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all good deligh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good and grac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the King of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avid’s royal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the Lord’s name com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and Ble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pany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raising The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rtal men and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d make r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eople of the Heb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lms before Thee w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praise and prayer and anth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e w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before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ang their hymns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now high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melody w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15Z</dcterms:modified>
  <cp:revision>12</cp:revision>
  <dc:subject>Slavic hymnal Гимны веры христиан, hymn 891</dc:subject>
  <dc:title>All Glory, Laud, and Honour / Осанна, честь и слава</dc:title>
</cp:coreProperties>
</file>