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2D84-EE09-4CF0-88D8-6590B559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E1AB-3647-45D9-BF49-BE158678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EF81-3187-4D82-ABA4-0957EDAC1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274D-53F9-4B25-867B-D0E1BC65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6860-DD63-4412-B049-C179B7DC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7B37-1EF0-4975-A3E1-77FF347B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7D4B-84C1-4B04-AD1D-7D632732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AD42-A3AB-4F1D-8B21-0E09A542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9DD1-88AB-4703-B292-2D851418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2CC0-E5DF-4B6E-A342-EFF6D2BF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5CBB-BF79-41D1-976C-8178A23B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9DCA-643D-4E25-B3FE-F015EF86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E71C0-1867-49C1-A207-740C3733F42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 зовёт Спаситель С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у двери и сту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ём Я сердце жить хоч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огу ль войти к тебе в твой хра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огу ль войти к тебе в твой хра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 прощенье Он грех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очет мир в тебя из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сит дверь лишь отвор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огу ль войти к тебе в твой хра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огу ль войти к тебе в твой хра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 тебе зовёт Спаситель с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ечно будет умол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к себе Его пр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имай же, друг, Его слов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огу ль войти к тебе в твой хра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огу ль войти к тебе в твой хра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, кто всей душой го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ь Спасителя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то внимателен к слов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огу ль войти к тебе в твой хра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огу ль войти к тебе в твой хра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удет чувствовать в с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ждя в земной своей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молять он будет с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оставляй мой тесный храм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оставляй мой тесный храм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2:40Z</dcterms:modified>
  <cp:revision>13</cp:revision>
  <dc:subject>Slavic hymnal Гимны веры христиан, hymn 361</dc:subject>
  <dc:title>К тебе зовёт Спаситель сам</dc:title>
</cp:coreProperties>
</file>