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1D7-BA3B-4EA0-932F-DB43592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AB7-5400-455F-9BB7-B24F3BE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D72-D674-48A3-B6B1-4D61C292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2DE-D46F-475C-88B8-DC64C11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83B-8EF2-4ED7-BC58-37B7485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C01-D89D-444D-98F4-69E7F66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8F5-4FC8-4A5C-845D-16AB266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B31-0D59-47B4-9399-F08A1F1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A24-50F3-4ECE-864F-C5495FD4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5BE-5891-4C7F-8481-931BA326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A03-48F4-482F-998E-B2BF771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CD4-75F8-46D1-AA58-E8FB527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FE25-EF33-461D-BB5B-B870ADDA96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44Z</dcterms:modified>
  <cp:revision>12</cp:revision>
  <dc:subject>Slavic hymnal Гимны веры христиан, hymn 601</dc:subject>
  <dc:title>В Слове Своём Христос учит меня</dc:title>
</cp:coreProperties>
</file>