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D077-CFC4-4C84-A54D-13C29772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1167-BE30-4151-B694-5F165BFD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7E56-761B-40DD-8589-C9979563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11F3-5752-4FC9-8B1C-C5E97D14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344-E1A4-4636-B9A3-B1671126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FCD8-D638-4C93-921B-3ACC0A6A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C2F2-8E75-4C3C-AE2C-6BB8E434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0BC2-0907-47AD-BFE4-0802FBA1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E108-12C1-40E9-92B7-003544B5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048B-4CFD-4076-91D7-297826F0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853E-E581-40DD-9AB3-DE21A29D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3678-D826-4F3D-B2FF-3D613A09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132CC-F673-4318-9D14-0C20E2E8B0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лість Господня велика т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більша, як наші всі гріх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на Голгофі з’явила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Агнець кров Свою пр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м прощає вон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а є, як наші всі грі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1   Милість Госпо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 і вагання, як море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шують, щоби душу згу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 всі гріхи милість більша 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а навчає нас свято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м прощає вон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а є, як наші всі грі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провини ― не скриєм ї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ж може змити їх нам з душ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лянь, ось тече струмок на змит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им він зробить тебе, як сні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м прощає вон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а є, як наші всі грі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я милість дивна й безмежна 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криє тих, що вірні Йо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, що готові любить Й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лість в цю хвилю прийміть свя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м прощає вон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а є, як наші всі грі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2:43Z</dcterms:modified>
  <cp:revision>12</cp:revision>
  <dc:subject>Slavic hymnal Гимны веры христиан, Ukrainian hymn 101</dc:subject>
  <dc:title>Милість Господня велика так</dc:title>
</cp:coreProperties>
</file>