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BAC-DA0A-48AD-B1BB-8CAC81DC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5C1-5C68-4B06-87C0-8C7550B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63D-7B89-4D6E-B861-6A223C1E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AC2-7F09-49F2-923E-44DBB021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452-A8FA-48F2-A8A2-0F657C0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AB6-A8DD-4F48-AAE4-D82E697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489-7998-4C3A-962F-6D59FF3F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E4B-2D8D-44F2-9A70-20B8BF0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CB9-D757-461C-99A5-C771ABD3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C9C-897C-4979-992B-B8CDA5CC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4E3-90E8-468F-8A21-8E742B47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3D4-A0DE-4DAA-92F7-C126B16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29F13-E722-4DCE-8530-8340111925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Potter, we are Your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ld us and use us for Your great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 shine through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gracious and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, Your children, from day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dwell among us in might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 us, be near us, humbly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 upon us in all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us Your peace in this world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unite us in love and friend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s is the praise for ever. 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7:57Z</dcterms:modified>
  <cp:revision>15</cp:revision>
  <dc:subject>Slavic hymnal Гимны веры христиан, Ukrainian hymn 32</dc:subject>
  <dc:title>Heavenly Father, Lord God Almighty / Отче небесний, Боже могутній</dc:title>
</cp:coreProperties>
</file>