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351-130D-43D2-A2DD-0304B138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AA4-0964-4415-AF4B-42356693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0F2-8DC9-43D4-A31A-BA0ACBB2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A31-B162-4FE7-93D0-595945BC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6DC-D44A-4169-96B6-CEB238B4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4F1-01EB-4663-90FF-DDD3978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F82-0044-4463-8D78-49904A9E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68D-6645-4D34-B967-252BF75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8EF-7AD2-436F-8DDA-4CD86D1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E8D-6523-44D9-8CA1-1F1B127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047-5A75-4C0A-AA42-D3F0C2B3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FD5-8DFF-40BA-8FCC-01C3C7E6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83CB0-F3E7-4937-8B94-0B9FB1316E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ся мне пятна кровавые тё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тся мне: крест на Голгофе сто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ся мне очи, как небо лазур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тся Христос ― на кресте Он ви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подвиг велики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жертву от ран всю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я призыв и нежный, и вл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ердце своё целиком подар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тся мне пят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, как волны всю жизнь залив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, как море в ненастье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людей, за Христа что стр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 дела, что лукавый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о подумать ― насилье и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, куда я не кину свой в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Христа пригвождённые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в очах Его горький ук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как больно страдать Ему 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ие раны опять на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поспела, давно уж гот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Он ― Хозяин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Он, уж близится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яжело отчего так и 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ведь не дремлет, и сеется с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о времени жатву с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придёшь Ты, Христос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царство наступит Тво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ы миром от всюду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дь не знает, что в нём всё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44Z</dcterms:modified>
  <cp:revision>12</cp:revision>
  <dc:subject>Slavic hymnal Гимны веры христиан, hymn 423</dc:subject>
  <dc:title>Снятся мне пятна</dc:title>
</cp:coreProperties>
</file>