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E85-AAF9-4C03-9954-F089EF1A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468-247B-4D68-B7D2-2E2D802E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A20-4292-4AE4-9178-AFD6D73A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777-FDC3-46B6-AB03-5CD8A848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986-9B63-4603-91A5-45B41095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B9B-0DAB-441F-9ACF-369BA34D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354-E5AE-4733-A88E-42B86836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688-225F-4B7A-B271-D193B414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E93-13A5-41BB-A964-20BEFBD1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3C3-BFA3-4831-B055-4806D231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0A6-D2DD-41C7-AF59-30D1F44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557-55BE-4484-8BFB-E5F479B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6CAD2-990C-42F3-824C-52D25485AB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ording to Thy graciou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eek humil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ill I do, my dying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membe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слову Твоему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ову Твоем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ной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лись у Тво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, broken for my s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read from Heaven sha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stamental cup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remembe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истерзанная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а чашу я б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thsemane can I for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there Thy conflic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agony, and bloody sw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remember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имаю взор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умер Ты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оминаю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o the cross I turn mine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my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remembe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страданья, Твой за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ч в ночной борьб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етят мне, как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мнил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these failing lips grow d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ind and memory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shalt in Thy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rememb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омчится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ну в земной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шь на обла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об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8Z</dcterms:modified>
  <cp:revision>13</cp:revision>
  <dc:subject>Slavic hymnal Гимны веры христиан, hymn 729</dc:subject>
  <dc:title>According to Thy Gracious Word / По слову Твоему, Господь</dc:title>
</cp:coreProperties>
</file>