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311-AA36-4850-8F72-C5BE1853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758-9E31-477A-993A-0B57334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FE9-51B3-40E2-B511-E53DBB9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F80-0D55-4237-A5C3-D7DD6A6D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F8A-1609-4C8A-BB47-8A711DF0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B70-3FC6-4C87-AA4C-A212ACC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5E5-DFD9-47A6-A93A-B6AD5AC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5E1-7EC5-441D-B03D-CD5A4219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998-F4E4-4627-9781-698C2A95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E2B-3622-498C-A297-BB86267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8E0-97ED-4329-95AA-C30F9C9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EE8-1D92-483D-AD81-352D7BC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323A-0445-4CCA-9022-CCCC0D316F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жити раді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но, раді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веде в небесн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світли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3   З Ісусом жити раді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д смерти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в,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ловом правди відр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відрод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Духа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ослав,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ом Він мене хре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ожи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Бог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,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адість ту вели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лість ві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сім серцем я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,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своє я від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я від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9-22T21:54:31Z</dcterms:modified>
  <cp:revision>13</cp:revision>
  <dc:subject>Slavic hymnal Гимны веры христиан, Ukrainian hymn 23</dc:subject>
  <dc:title>З Ісусом жити радісно!</dc:title>
</cp:coreProperties>
</file>