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9B5-448C-4A83-9D42-7C8ECD75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5AA-EA0C-482F-A9E3-C098C40B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DC1-7F1C-4C6F-ADAA-D9E1BAD6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6C0-80A1-4D0B-A592-1B1CBB40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36F-FAB2-470B-A5EA-F111EACD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0F5-0332-48D1-930A-A08701A2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779-AE57-434F-9131-BFD6B79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4D1-2F6B-4DD6-820C-FDD6ACD8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499-2E92-467D-B032-E063082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2B1-7DAA-4942-80E6-2303A38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C88-B6A6-4980-A235-12DA07C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F5E-038E-4E6D-BFC9-F834331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B9117-2BBB-4B75-A699-7985B14C66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song of joy no one can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fferent faces, different r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us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Put This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ing one another with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d our tears of sadness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vers of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a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47Z</dcterms:modified>
  <cp:revision>10</cp:revision>
  <dc:subject>The Source, song number 292</dc:subject>
  <dc:title>Jesus Put This Song Into Our Hearts</dc:title>
</cp:coreProperties>
</file>