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494-D2B5-47A4-8FEC-D51FBC89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5CD-2B77-43F6-A4AC-9B5F5C2A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D22-C2FC-4363-9C3A-82EF05C3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237-DB29-44DD-8618-7BFD4D19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61E-F75A-4CA6-BBE9-6A401196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C70-1382-40ED-816B-5C45FF1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AA0-922A-41EB-A166-3427D12C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C4F-64A7-4B02-A7BF-1037935C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92F-C7D9-434C-AF22-E2BC299E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397-F670-4415-A42F-A3C75E3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A19-4F16-4744-B416-A172879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4B8-B8F4-4285-9780-0A6395E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AE021-E611-437D-9CA8-916FFEE666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ой беспредельный великий востор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греховные узы расто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Голгофскою смертью разрушивши 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Своих избранных ч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бес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вершенье Своих величайших тру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стал из могильных 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ликуют все люди и своды неб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из гроба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воскресеньи Его — оправдание вс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м Его попран гр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 Его — расторжение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воспрянут Ему честь, хва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 и со славою торжеств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ожественным светом сия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и в славе Он той же любовью дыш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её верной пастве я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три дня в глубине был зе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 ней вынес дар дорог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ияет светлей драгоценных кам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 — Творца примиренье с земл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живёт воскресенье Христово в серд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гонит сомненье и стр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, и мрак ночи навеки исче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истину в славе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13Z</dcterms:modified>
  <cp:revision>12</cp:revision>
  <dc:subject>Slavic hymnal Гимны веры христиан, hymn 294</dc:subject>
  <dc:title>О, какой беспредельный великий восторг!</dc:title>
</cp:coreProperties>
</file>