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600-58C9-411B-9FE9-8A9D0915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89A-8DC4-44E1-84A8-0E5B5D53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06F-E260-4B48-9607-3D842D77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9AA-FEE7-41BD-B149-3EB57E74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1FF-FDEA-488A-B5F1-7C99247B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EA9-6F78-4F36-B30E-8A331DA6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427-B800-4BA7-B3B3-9956B56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70D-6460-4E12-B31D-9D87F5FA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C39-18A1-47C7-987B-329A3B6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F37-254D-4BA1-89F1-7FFCEF4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6DA-8D57-49D1-99A3-C0CE8AF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DAB-A53A-44B4-818F-3760C30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BD21E-83D3-4EE4-A62C-2C05761B8E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thered as Your fam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You and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ithfulness and mer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1   We’re Here to B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to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elebrate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You for Your bles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reason why we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o glorify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worthy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we offer up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living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accept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38Z</dcterms:modified>
  <cp:revision>12</cp:revision>
  <dc:subject>The Source 3, song number 1591</dc:subject>
  <dc:title>We’re Here to Bless Your Name (We Give You Glory)</dc:title>
</cp:coreProperties>
</file>