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1B3-FCB5-48D1-AF42-D3386C33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9C1-B3C6-47E7-8B2A-EE5AA6A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F00-E13F-474F-9DEA-AF46242B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58E-217C-4485-BA01-AB88C68F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113-3B01-4C0C-8377-F18D1CBD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D61-CEFE-48C3-8D82-813330E4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F69-EAFB-43D8-AE73-82E5E40D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370-825D-4785-BA9B-5AF60ABB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73A-502B-4280-B854-F63BC3B3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87F-1DED-4A06-A69F-7AA3613F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7BC-7D61-4094-9E28-93B4833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9EE-A2A5-46CE-B0B2-8F136D8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4BEF4-038F-4F87-87D0-C42CFFE282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48Z</dcterms:modified>
  <cp:revision>12</cp:revision>
  <dc:subject>Slavic hymnal Гимны веры христиан, Ukrainian hymn 100</dc:subject>
  <dc:title>Він обмив</dc:title>
</cp:coreProperties>
</file>