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2E9-BE1B-4630-93E3-28E33664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639-67A7-4E8D-807A-72CED1F2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1D6-1FC9-4B16-83F9-798580D7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612-9C15-4132-A2EE-87BD87C3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16A-CB8B-43D6-B34E-EEE1A06C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C6D-E131-43EA-90CB-FE33E5B4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12D-2D8B-4A17-845F-78CF5377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65A-F5D8-4CE4-A66B-24333B61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2250-91C2-4BC8-B08B-0E3753A2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52B-1DCF-4990-B2EA-B51432B9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27A-9341-4022-BFBB-662F12BD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3DC-C23F-4698-AA62-59D4FFEE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3396E-F6F4-40F1-A520-68CBF4A35A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is my de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is eyes are fire, His face is 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First and Last, the Living 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is name is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from His mouth there comes a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at shakes the earth and splits the gr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yet this voice is life to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voice of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8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King of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I will sing my songs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lling out across the ear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roubled minds can know His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ptive hearts can be relea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My Lover’s breath is sweetest w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 am His prize, and He is m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ow can a sinner know such j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Because of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wounds of love are in His han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price is paid for sinful ma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ccepted child, forgiven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Because of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I will sing my songs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lling out across the ear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roubled minds can know His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ptive hearts can be relea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my desire is to have You n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Lord, You know that You are welcome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Before such love, before such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 will let the walls come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I will sing my songs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lling out across the ear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roubled minds can know His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ptive hearts can be relea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4:40Z</dcterms:modified>
  <cp:revision>11</cp:revision>
  <dc:subject>The Source 2, song number 983</dc:subject>
  <dc:title>The King of Love (The King Has Come)</dc:title>
</cp:coreProperties>
</file>