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E93-2C52-4009-B271-5D449A8C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951-9574-4087-92D4-113A1A2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AF1-2C8A-4B70-AC61-7EEE1928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B94-8586-4574-BF5B-006A4755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F74-EE3D-4B04-9E6D-084B1017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E15-621A-4072-A3C6-2E719CD9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6BB-5182-41B0-9E84-B8D2718B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191-3CCF-49E5-AA91-46CEEB46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D29-A40F-45D5-A516-71013986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503-DF10-4EA4-8FAF-9AFBFBBF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72D-51ED-43EE-A047-7FD9463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6D0-DB4F-4972-9BE1-E091413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B1705-EB5E-416E-85AC-304C56D5EA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terday, today,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03Z</dcterms:modified>
  <cp:revision>11</cp:revision>
  <dc:subject>Slavic hymnal Гимны веры христиан, Ukrainian hymn 115</dc:subject>
  <dc:title>Yesterday, Today, Forever / Вчора, нині і навіки</dc:title>
</cp:coreProperties>
</file>