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185-926D-4BFB-8A70-CB18E9C1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34F-5388-490B-9439-921619C4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0C9-C50B-47AF-BB78-7DBD123F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AEC-9D74-454F-9C2F-3D25AA7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8A5-5B13-42E7-A9D6-B10245E2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478-FF6B-420D-9AC1-F289F0F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75C-BB31-487F-9BAB-720687BC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86B-81D8-4806-B34B-CFA2094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8F1-F475-4580-A275-759663B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71B-6F28-48C9-ACC0-1504EBA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4A9-99AC-4458-9811-CE08BA3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C85-8BB9-4311-A382-A789BF1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B51F0-135C-4BBA-AAB0-58B38D3347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15Z</dcterms:modified>
  <cp:revision>13</cp:revision>
  <dc:subject>Slavic hymnal Гимны веры христиан, hymn 827</dc:subject>
  <dc:title>Сердце моё, о Боже, испытай</dc:title>
</cp:coreProperties>
</file>