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7</a:t>
            </a:r>
            <a:r>
              <a:rPr b="1" lang="ru-RU" sz="3600" spc="-1" strike="noStrike">
                <a:solidFill>
                  <a:srgbClr val="ffffff"/>
                </a:solidFill>
                <a:latin typeface="Verdana"/>
              </a:rPr>
              <a:t>	</a:t>
            </a:r>
            <a:r>
              <a:rPr b="1" lang="ru-RU" sz="3600" spc="-1" strike="noStrike">
                <a:solidFill>
                  <a:srgbClr val="ffffff"/>
                </a:solidFill>
                <a:latin typeface="Verdana"/>
              </a:rPr>
              <a:t>Милосердный Отец</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илосердный От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б и немоще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есчастный слеп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хожу без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мне ум просве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радость в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пустыне земн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й, чтоб весь цели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воим был раб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меня не ув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Этой жизни пот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Чтоб хранил я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ь Божественных сл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а призыв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сегда был готов.</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7:04Z</dcterms:modified>
  <cp:revision>3</cp:revision>
  <dc:subject>Slavic hymnal Гимны веры христиан, hymn 167</dc:subject>
  <dc:title>Милосердный Отец</dc:title>
</cp:coreProperties>
</file>