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2AD-24AF-4302-8E9F-E133051A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E7C-024C-4076-8CF1-6C7710A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694-37EF-4C87-BDD8-A3BBD11A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7DF-BBCD-4A9A-9521-8592770A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1EE-3036-4758-9731-E1D0B848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E7B-A91B-4340-9AC7-C18C0CE2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A47-366F-4BAD-9F56-4FC3C5A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A14-4A90-4CA5-877C-2521859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ECE-4A4C-4FA5-904F-2557FF74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E84-D6E9-4C4A-9B18-E230125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6A1-1B64-4DDA-890F-108EE1D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29C-F9D8-4BE9-B078-044B608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50E5C-A46D-4BBD-A3EE-430A3843F6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59Z</dcterms:modified>
  <cp:revision>12</cp:revision>
  <dc:subject>Slavic hymnal Гимны веры христиан, hymn 853</dc:subject>
  <dc:title>Стремлюсь вперёд</dc:title>
</cp:coreProperties>
</file>