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F03A-D482-4E4D-8658-CD73F5AD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ECB3-F724-4D55-9B8D-886071A7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A84-1002-4A8E-950A-EEA55119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B713-95FE-4F53-9997-F3FBC35D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D621-789A-41AC-9C33-2E8E347D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91DF-8773-4596-8C1C-4D7216A6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59D5-C173-433D-848A-281EF1BC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E11A-1085-4D16-B554-DF6A2BA2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3B61-7792-42EF-A8B3-722E7D40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3FDE-CAAC-4369-9373-E3E4FE22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80FD-80F6-4849-910D-C7F5412F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B365-6E78-4CDB-AB63-EDAC6D44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573E6-4551-45F2-94BE-9E7DE437322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and anointed One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isen and exalted One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name is like honey on my lip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pirit like water to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Word is a lamp unto my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love You, I lov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 first part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8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6:01Z</dcterms:modified>
  <cp:revision>10</cp:revision>
  <dc:subject>The Source, song number 286</dc:subject>
  <dc:title>Jesus, Jesus, Holy and Annointed One (Holy and Annointed One)</dc:title>
</cp:coreProperties>
</file>