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575-1189-4D74-BC7A-DB4D09D3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10C-AC9F-4BE2-842F-DC7E1AED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595-94A3-4908-B1AD-7244E648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DAC-3414-4CC7-9BEF-41256311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B31-D0A0-4862-B677-32858ADD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A2C-F7B2-46D7-A357-2A479C86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E7F-2CC9-4123-BBB9-92C05F1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DCF-BAFF-44C2-A1B5-11BE503B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18A-FBB0-4F7A-B01F-EEA5A0DE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526-2CF4-45CD-8745-5131EFE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100-69AD-4083-8B18-FD72DAA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99E-E127-4E94-82B9-75AD5C06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B6647-C697-44A1-9903-60D82A0B38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fountain filled with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n from Emmanuel’s ve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ners, plunged beneath that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poor lis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mmering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ners, plunged beneath that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ying thief rejoiced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ountain in h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may I, though vile a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ойника в послед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ла Христов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may I, though vile a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dying Lamb, Thy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never lose its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the ransomed Church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the ransomed Church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r since by faith I saw the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lowing wounds sup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ing love has been my the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ерой мог узр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свят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ing love has been my the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n a nobler, sweeter song, I’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ower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poor lis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mmering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свой путь закон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ляжет в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36Z</dcterms:modified>
  <cp:revision>14</cp:revision>
  <dc:subject>Slavic hymnal Гимны веры христиан, hymn 429</dc:subject>
  <dc:title>There is a Fountain / Источник жизни Бог открыл</dc:title>
</cp:coreProperties>
</file>