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602-7764-418C-ACEC-383A18FD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9CF-2F42-4A9D-AE52-9EF0B61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FAC-8189-4552-9687-2F610059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A48-578A-4A3D-A647-93611A30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88B-20AC-470D-9826-01DEFA80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89B-026D-4131-92C1-5DA8C9A8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ED2-A661-4240-9966-5E1FA9D1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73E-303E-4E84-84B6-31839109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B60-9DD4-47F9-A550-55A15A9C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707-18C0-4C1A-A59C-5C1E99A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1DC-F68B-4873-AE18-81223751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EAB-077D-4F0D-B42C-A7F0865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F2EF7-95B9-44D1-BCC6-88327E8AC0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6   Your Blood S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testifies in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s of the Father’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ay for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oldly we approa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earthly conf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nly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05Z</dcterms:modified>
  <cp:revision>12</cp:revision>
  <dc:subject>The Source 4, song number 2186</dc:subject>
  <dc:title>Your Blood Speaks a Better Word (Nothing But the Blood)</dc:title>
</cp:coreProperties>
</file>