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51A-9B70-4593-8201-4488C4B2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255-F892-4C0F-8704-1D7F2399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CB4-8DF9-48D6-9619-44483BD4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4BC-E30B-4373-8B9C-FE49F327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B20-9461-4C22-9D0B-D9FB9E25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ABB-F012-4004-8CEC-5E87CD8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417-45B8-4662-BB89-A0CE01DE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282-F7F4-40D6-82D4-08A50B11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DC9-D95C-4CF5-805F-55AFC4A2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4CD-D8B0-4F21-A091-B1EEF8E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D33-D892-4AFA-8C29-CAE87E5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4ED-470B-4104-9DF8-F3EB8AE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B02C0-F71A-4AA5-B862-9678452B32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re going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ll that has carried me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ting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just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tefully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25Z</dcterms:modified>
  <cp:revision>10</cp:revision>
  <dc:subject>The Source, song number 108</dc:subject>
  <dc:title>For All That You’ve Done (Thank You, Lord)</dc:title>
</cp:coreProperties>
</file>