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2985-A0E2-48B3-9116-6C1A07E5A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23C2-F798-4852-9071-FF0C2164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3C1A-EA27-4914-A2C4-66E38D2F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66D1-3E91-4868-B8D9-90E727AF3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B6A9-4F6B-4DAF-8D3F-7D76A713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EC2B-CA21-44E7-BFAE-5A120BDB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427F-B56C-4470-8071-69D89D8E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7ABE-CC84-4E99-99E9-038F9C7B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C9B8-AFC3-42EC-B00F-707595DF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B868-327D-4CC1-AFA3-B84DFA04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560E-1C79-4525-8B5B-297B5244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C18C-8538-43EF-B7BC-14DDEE9B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0BB43-1699-43BE-A2C0-FD35268BD7B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мыслить о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ангелы жив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яркой снежной белиз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лю я мыслить о стр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мыслить о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ог любви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краше лилий по вес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 радости г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мыслить о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утники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ливши кровь в святой вой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побед на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мыслить о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осле битвы з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ют вход свободный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найду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3:28Z</dcterms:modified>
  <cp:revision>12</cp:revision>
  <dc:subject>Slavic hymnal Гимны веры христиан, hymn 816</dc:subject>
  <dc:title>Люблю я мыслить о стране</dc:title>
</cp:coreProperties>
</file>