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70E-A7C1-4B93-B391-F9F88A81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CCA-A1E1-411D-AAEF-F6D8F74F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DE0-1309-4B42-A2EC-686FC1BF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551-1CD6-4097-A7AC-D7D17E44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02B-64D8-4525-B604-A2CA547C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70E-BC36-4B42-8799-02E8B6FF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38D-8C56-4E1E-A53E-225639C0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9B7-7CE1-4323-BE42-E157898C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CC3-373D-416E-8979-4C84C8C8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00B-39C8-4016-ACBA-79F07CE5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E41-53A1-49BF-B95C-2E8D300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7DE-13B6-4853-B35C-04930313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2DD2C-DF78-48CA-8F5E-48107E1467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mply trusting eve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through a stor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when my faith is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ли ты, грозит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ль воет, ночь круг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doth His Spirit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is poor heart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e leads I cannot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иянье л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едно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прямым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if my way is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ing if the path be dr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n danger, for Him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й — я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? — сильней мо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? — слышу как бы г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ile life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till earth be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hear His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Тому, Кто с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и в смерт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вечность не у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9Z</dcterms:modified>
  <cp:revision>13</cp:revision>
  <dc:subject>Slavic hymnal Гимны веры христиан, hymn 645</dc:subject>
  <dc:title>Trusting Jesus (Simply Trusting Every Day) / Доверяй Христу всегда!</dc:title>
</cp:coreProperties>
</file>