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7812-E737-4B5D-B97B-CD30EAE8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84CF-6F24-4CD4-9562-4F091CDA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4B25-5770-4911-B998-32CF46A4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F5D8-5CB9-4066-A6DA-FA494FF5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FE9E-C614-4481-BE59-560B5A58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A3C9-69E5-42D3-A761-4056AF33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AC7F-CC48-4933-A0EF-4D24190E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9FD-3882-4B16-AF36-1A733125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7C20-EAB4-4511-A927-49474476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DDB7-7081-463B-AC27-BDAF08A7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2984-6A74-4531-88CA-D0098623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677A-603E-4B46-9296-7D4D07B5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DBA06-03B0-4227-8EC1-EED4875CD10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ес Своих лазур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пящих нас, а бод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н н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ильники горя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их ру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и ожид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их серд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небес Своих лазур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радости да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ебо «Аллилуйя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вся обно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крас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ой озар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удем дни нен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мир и счаст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чезнут все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ёзы, и том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радости да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ебо «Аллилуйя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вся обно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крас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ой озар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нает как у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редко отдых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крест нес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нимет наше б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о блаженства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радости да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ебо «Аллилуйя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вся обно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крас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ой озар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7:23Z</dcterms:modified>
  <cp:revision>13</cp:revision>
  <dc:subject>Slavic hymnal Гимны веры христиан, hymn 324</dc:subject>
  <dc:title>С небес Своих лазурных</dc:title>
</cp:coreProperties>
</file>