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315-D428-4638-A7CF-DBAEA9F9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1AF-9072-4230-8C76-AF8BE92E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278-4711-4A49-A710-6C005917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354-1875-4771-8E18-984C0EB0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281-D87F-4A4E-8437-0E742156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7DA-68EA-4619-931C-4AFE939C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ABB-F5FF-4963-BEB5-24F57BDF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F20-427C-4C37-B191-B4FAA250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D98-1099-4AA8-AEC6-B8022B84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CA0-3B4A-4B54-AF8C-2FB8334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851-1EEE-45A9-B260-E9CC5E81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6B2-9CC2-4E4C-A0D1-CA3FDF92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63910-6BF1-47EC-B336-2B9A7D6DEC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a wonderfu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y life has been wr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light in my sou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which long I have s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чудесно вс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чудесно вся жизнь изменилась мо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обрёл дивный свет, что искал много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ceased from my wand’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oing astr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sins, which were ma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all washed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м блужданьям кон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— мне добрый От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грехи мне прост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л потребных мне 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possessed of a h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is steadfast and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 dark clouds of dou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my pathway obsc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упованьи живом я расту день за дн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яд скорбей и обид светлый путь не затм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light in the va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death now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gates of the City beyond I can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погаснет мой 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 лицом грозных бе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а видит всегда вечной славы вра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go there to dwell in that City, I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’m happy, so happy, as onward I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город чудный войду, отдохну от невз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ликованьем в душе простираюсь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2Z</dcterms:modified>
  <cp:revision>13</cp:revision>
  <dc:subject>Slavic hymnal Гимны веры христиан, hymn 577</dc:subject>
  <dc:title>Since Jesus Came Into My Heart / Как чудесно вся жизнь изменилась моя</dc:title>
</cp:coreProperties>
</file>