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AFF-9EE0-4FAE-A9AC-5E6314CB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43C-64B1-4D30-92DB-CFCCFBBB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8AA-BD8B-440E-9246-8CDB94D4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273F-2335-4084-85F8-63B07F05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A0D2-E58F-4163-AB39-46D48774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FD89-3E42-45ED-B26A-ACC941D4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F9A7-CCAB-40BB-87BC-FB5E819B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170-B7A2-4980-91A9-B12564BC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8BE-0414-41F9-AF08-5E105F9E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82A-4F2C-4DFD-AB5A-50C73C4F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B11C-C7E6-487E-BADC-426D5D62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F3D-8248-4683-8515-002222E7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80E6D-23FE-492A-8775-CE9508DF85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ессмертьи иду, наступая на з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корбей и страданий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у меня и тепло и свет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я верую в 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 я, что мне можно и что мне нельз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что хорошо и что плох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что на земле существую не з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я верую в 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в бессмертьи и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ив истины войско ведёт сат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и зла ополчились жесто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меня впереди неземная стр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я верую в 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же если встречаю следы катастроф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ает из сердца трев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думаю я, что есть любящи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я счастлив, что верую в 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от радости слов — побеждаю я з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ю найдена в небо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у меня и тепло и свет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я верую в 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4:48Z</dcterms:modified>
  <cp:revision>13</cp:revision>
  <dc:subject>Slavic hymnal Гимны веры христиан, hymn 798</dc:subject>
  <dc:title>Я в бессмертьи иду</dc:title>
</cp:coreProperties>
</file>