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F16-347D-4EE3-994A-9DB0110C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EC8-02C7-46A7-93C7-354B4067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638-7EB1-4AD3-8544-D335E863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54A-7FE8-445D-8F96-CCFBDF33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1C5-2BA0-4108-89CA-918B406D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B97-3C7E-4C57-A1C1-F32D9FA7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B75-F816-4974-B60E-4D56EA9F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121-4B0D-414B-A6B3-C6879EA0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076C-41BB-476A-AE28-AE902948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5C88-D377-4AEA-A5C7-478286EC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464-E8BE-4363-A2AD-5225B030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524-2DD9-466C-9BF0-898C2E7C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A5D5C-09E3-483B-909D-A58BBEE32E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the strength of your y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w your soul’s fresh, glowing ard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the battle fo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посвяти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ости сил не ща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живою согре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s set the exam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untless was He, young and b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your loyal devo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the best that you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стал нам приме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 тобой вперед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надежду и вер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the strength of your y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ad in salvation’s full arm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the battle fo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first place in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first place in your serv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ecrate every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войдёт в твою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т всезрящего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скрывать что-ни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, and to you will be gi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s beloved Son 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tefully seeking to serv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the best that you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уй собою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на тернисто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святое слу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the strength of your y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ad in salvation’s full arm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the battle fo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else is worthy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gave Himself for your rans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ve up His glory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ердце радость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несчастных сходи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чных, небесных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id down His life without murm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from sin’s ruin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your heart’s ador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the best that you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Свою полож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бречённых спас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ум, желанья и силы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the strength of your y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ad in salvation’s full arm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the battle fo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48Z</dcterms:modified>
  <cp:revision>13</cp:revision>
  <dc:subject>Slavic hymnal Гимны веры христиан, hymn 549</dc:subject>
  <dc:title>Give of Your Best to the Master / Всё посвяти Иисусу</dc:title>
</cp:coreProperties>
</file>