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442-E232-455E-A16F-553A7D33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127-887C-405C-B6E7-88A554E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9B8-934C-4425-A628-3CB052C3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E2A-987D-4467-B70F-EB6FD85A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EEC-5CB9-4E9C-B5C1-CB0F7BA0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230-AFF0-4432-AFB9-C6B492C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EB9-ADC4-4C07-957F-FC4C3A76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ABC-D680-4673-B23F-D7D42D1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0DC-1231-49EF-A925-B59DC8F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599-E0BB-40F4-83D2-F283AC8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A8A-775C-44B8-9102-7E7F644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854-5BE8-4DFA-9337-4CFFBF2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8E82-57E5-4321-AA65-AF20F667DD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0:26Z</dcterms:modified>
  <cp:revision>12</cp:revision>
  <dc:subject>Slavic hymnal Гимны веры христиан, hymn 904</dc:subject>
  <dc:title>Всегда удивляться я должен</dc:title>
</cp:coreProperties>
</file>