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C6A-33DF-4D60-9DF5-9837F320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047-494A-453E-BC82-B20F897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2D7-CD60-4053-A223-A7188318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4D1-788B-432F-9FEC-03B161AC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9C4-EE17-4AAC-8A0B-7678F19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7D0-579E-468B-A3FC-3AEF268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045-0590-4F5D-9E8A-785B7354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F1E-379A-4843-B8A0-5426925A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9E7-F475-4D1E-986E-4DA0EC2C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88E-673B-433A-A466-D412254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730-7179-4F8E-B912-83149B0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62F-37C8-4FA0-B1F5-79735737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5B5FD-EDB4-44EE-888D-A7F6BFD555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6:46Z</dcterms:modified>
  <cp:revision>14</cp:revision>
  <dc:subject>Slavic hymnal Гимны веры христиан, hymn 282</dc:subject>
  <dc:title>Умер Спаситель, умер за всех</dc:title>
</cp:coreProperties>
</file>