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09</a:t>
            </a:r>
            <a:r>
              <a:rPr b="1" lang="ru-RU" sz="3600" spc="-1" strike="noStrike">
                <a:solidFill>
                  <a:srgbClr val="ffffff"/>
                </a:solidFill>
                <a:latin typeface="Verdana"/>
              </a:rPr>
              <a:t>	</a:t>
            </a:r>
            <a:r>
              <a:rPr b="1" lang="ru-RU" sz="3600" spc="-1" strike="noStrike">
                <a:solidFill>
                  <a:srgbClr val="ffffff"/>
                </a:solidFill>
                <a:latin typeface="Verdana"/>
              </a:rPr>
              <a:t>Я усталый, изнурённый</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Я усталый, изнурё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ь, к Тебе и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грехом обременё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к ногам Твоим па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ь! к Тебе ид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 мой слабый ожи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вой мир святой дару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крепи в Твоей любв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Я несчастный мира ж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покой душе най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пришёл к Тебе,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Тебя я не уй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ь! к Тебе ид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 мой слабый ожи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вой мир святой дару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крепи в Твоей любв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О, утешь мой дух печаль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теперь мне отдохну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моги свершить мне дальн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ернистый в мире пу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ь! к Тебе ид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 мой слабый ожи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вой мир святой дару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крепи в Твоей любви.</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И когда средь болей жгуч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устану на пу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руках Твоих могуч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ю, будешь Ты не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ь! к Тебе ид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 мой слабый ожи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вой мир святой дару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крепи в Твоей любви.</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20:53:56Z</dcterms:modified>
  <cp:revision>3</cp:revision>
  <dc:subject>Slavic hymnal Гимны веры христиан, hymn 209</dc:subject>
  <dc:title>Я усталый, изнурённый</dc:title>
</cp:coreProperties>
</file>