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98D-9A22-4E44-941C-338F525B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E35-AFB9-4E9D-8D67-54338951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437-752A-4C70-AF09-ADD20E31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BA1-CDA2-48A2-B144-87DF4A19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587-0EE1-4394-AE63-E8BF1F12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C47-B48C-4E73-A820-F50F899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6E3-E5C9-4F84-A8DF-16FA023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B1B-8924-4B78-B379-8D26314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4C9-F61E-4C72-A303-E9330AF4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D9E-74C5-4E55-BFA9-BC84E78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F93-4AC6-4794-851A-662E3F4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12B-4CCD-4120-8430-EE7CC5E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5E10-5692-4EC7-95D6-842E55F694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oor of salvation now stands open w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beckons; oh, what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hesitation, proceed right ins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lay could be fatal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Jesus to earth very soon may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usher in eter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m will all reign who His call did not sp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Jesus, where will you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Спаситель наш скоро пр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ённых Он всех в Своё царство возьм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now before Him: He will pardon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guilt will be all washed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body and soul by His grace He’ll ren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s calling—receive Him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кайся пред Ним, Он сейчас всё про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29Z</dcterms:modified>
  <cp:revision>14</cp:revision>
  <dc:subject>Slavic hymnal Гимны веры христиан, hymn 333</dc:subject>
  <dc:title>The Door of Salvation Now Stands Open Wide / Войдите, друзья, все в отверстую дверь</dc:title>
</cp:coreProperties>
</file>