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a:t>
            </a:r>
            <a:r>
              <a:rPr b="1" lang="ru-RU" sz="3600" spc="-1" strike="noStrike">
                <a:solidFill>
                  <a:srgbClr val="ffffff"/>
                </a:solidFill>
                <a:latin typeface="Verdana"/>
              </a:rPr>
              <a:t>	</a:t>
            </a:r>
            <a:r>
              <a:rPr b="1" lang="ru-RU" sz="3600" spc="-1" strike="noStrike">
                <a:solidFill>
                  <a:srgbClr val="ffffff"/>
                </a:solidFill>
                <a:latin typeface="Verdana"/>
              </a:rPr>
              <a:t>Бесподобная, живая</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Love divine, all loves exce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oy of heav’n, to earth come dow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x in us Thy humble dwe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Thy faithful mercies crown.</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есподобная, жив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ья вечная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изойди и пребывай в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главнейший из даров.</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Thou art all compass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ure, unbounded love Thou 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Visit us with Thy salva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nter ev’ry trembling heart.</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ристос, любви источн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нови нас, утвер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мир и непорочн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рдце каждое войд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Breathe, O breathe, Thy loving Spiri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to ev’ry troubled bre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us all in Thee inheri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us find Thy promised rest.</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ух любви излей обиль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ши робкие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олняй Твоею си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ывай любовь Отц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ake away our bent to sinn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pha and Omega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nd of faith, as its Beginn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t our hearts at liberty.</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нам Альфой и Омег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який грех искоре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делай нас белее сн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вёрдой вере сохрани.</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Come, Almighty to deli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us all Thy life recei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uddenly return, and n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vermore Thy temples leave.</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 приди, наш Избав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вечной жизни полно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твори Свою об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и в любви свято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e we would be always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rve Thee as Thy hosts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ay and praise Thee without cea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in Thy perfect lov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аждем всюду быть с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и там вовек ве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ть, молиться, славослов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вещать Твою любовь.</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Finish, then, Thy new crea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ure and spotless let us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us see Thy great salva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erfectly restored in The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Заверши Своё творень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порочность, чисто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спошли нам в знак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веди на высоту.</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hanged from glory into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il in heav’n we take our pl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ill we cast our crowns before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st in wonder, love and prais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равляй от славы к сла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веди в небесный 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любовь Твою прослав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дкозвучнейшим псалмом.</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6T03:11:23Z</dcterms:modified>
  <cp:revision>3</cp:revision>
  <dc:subject>Slavic hymnal Гимны веры христиан, hymn 25</dc:subject>
  <dc:title>Love Divine, All Loves Excelling / Бесподобная, живая</dc:title>
</cp:coreProperties>
</file>