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A3D-EB6C-450B-895E-C772921E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E6B-C709-4183-A21A-E67F83D7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7A8-4834-442A-AD78-866CEC24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CAA-203E-41B0-8765-5F8B328E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AFA-64DC-4945-BA48-C11869FE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4B1-9548-4833-82FA-85B4352A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EAD-4ACB-46C5-A1C0-C5150C01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B7B-E13B-4DE3-BAE1-6EEA018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220-2537-4396-B06D-031772CD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F54-181E-449B-9964-8BDD152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FED-D38C-44BD-8886-FE90B222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B2C-4D6F-41F2-A3A8-00C9BE11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55B46-701D-4138-9FB1-5CA5E01BBA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с неправдо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юй, пока ночной по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оет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 врага, займи хол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ей греха ку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— вера, знае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под знаменем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лово Божье —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подвижник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м сердца привл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ера, словно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ла по всей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олизей не запуг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в их чи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идут вр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ят гроз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уют не бере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ько в правде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нёю правды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шлем 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от битвы задр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елик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бедит, тог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м об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ангелами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т в род и 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вперёд путём пря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 цель и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 разбегутся силы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59Z</dcterms:modified>
  <cp:revision>12</cp:revision>
  <dc:subject>Slavic hymnal Гимны веры христиан, hymn 552</dc:subject>
  <dc:title>Во свете жизни будь готов</dc:title>
</cp:coreProperties>
</file>