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F6BB-58D4-4FD6-A2FC-E1D270858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966A-F4B7-426C-A5B9-F1FF52A4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84BB-75E3-4692-998D-EF40543AD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B9CE-B948-47BB-B378-332E00D97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D615-8C83-43F6-9E9D-B7783504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7AAB-3268-4F58-A662-A5E39938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EE14-EF46-4B44-8992-B23A94EC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BDEC-99DA-4E49-AA39-57485898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60A7-96AF-4A7F-B480-8C76CDB1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68C5-B46B-4CB5-8387-D15089D5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CF6A-6B1C-4A17-B62F-23BA21B6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02D4-C4C8-41DD-90DD-F487244F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49CBF-B267-4312-80F5-35E4C0FAEC0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 мій, тримай 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спас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пречиста кров те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мого сціл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при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йшов спас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маю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вічне вдовол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   Спасе мій, тримай ме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душа м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мир діста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, ясна рання зо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осія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при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йшов спас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маю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вічне вдовол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о, Боже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кажи увічч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міч дай, щоб я служ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бі днем і нічч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при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йшов спас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маю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вічне вдовол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стою і ж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діюсь і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Господь візьме 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ну ос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при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йшов спас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маю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вічне вдовол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18:12Z</dcterms:modified>
  <cp:revision>13</cp:revision>
  <dc:subject>Slavic hymnal Гимны веры христиан, Ukrainian hymn 3</dc:subject>
  <dc:title>Спасе мій, тримай мене</dc:title>
</cp:coreProperties>
</file>