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D685-39B6-472E-B4B9-C8D96FD6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FF9-F359-4CF4-B7A5-7157ABA5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EC1-EDB1-44CD-8EF8-EE7929DA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15AF-4D0D-46EC-B133-7E1DD3AE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2859-F582-406C-AB44-D9AFFFB2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E6D-96BE-4115-AB74-DDDE8338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614-91DB-48D4-8F1B-799D8E0B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AC4F-E4D9-43FF-9BF5-79E6681E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D1F-262B-4704-9B51-A55BDA65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EFE4-EDE6-491E-96BA-9D2B2168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FA5-04B3-47EC-A03A-13A58BC9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08B-D916-4CF6-9DA3-74CA8BB1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0A12D-478D-4ACB-AE8E-22ED5E2466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к Господу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ю жи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Его свято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йдёшь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рославят все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грешников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вечность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г мой, к Господу пр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оставил Свой пре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ных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землю к нам с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рассеять мр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рославят все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грешников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вечность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! спасение т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обрёл Христ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Он произнё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вершилось всё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рославят все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грешников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вечность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ь греховный г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крыл спасенья д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еб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рославят все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грешников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вечность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2:40Z</dcterms:modified>
  <cp:revision>12</cp:revision>
  <dc:subject>Slavic hymnal Гимны веры христиан, hymn 347</dc:subject>
  <dc:title>Друг мой, к Господу приди</dc:title>
</cp:coreProperties>
</file>