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B7024-07AD-49B2-96D8-31BED9C34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5FFF1-27F2-4945-8A96-9DBD61182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0C6C7-B90F-486A-AE7D-49CA15C8B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ED6E3-ED15-442A-8ECB-B5898FE7D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BDF5F-E6E3-4109-A8D5-B57EEBA8C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6A530-83BB-4C85-ACC8-A79CAD3DF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BF2F9-3E16-4B8B-BD89-7B98029E5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7B6C6-2542-44BF-A67D-84B7EDB18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8E02E-66EE-494A-BC68-46C1DA1BB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63C10-8453-4E25-B806-91981BDD8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F8F68-65A3-4827-B759-1766B8602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A8CA6-8FA0-436B-9264-7D857DB47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649C21-2668-4CDF-B384-AA9A0AB6C416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ыть лицом к лицу с Иисусом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идеть свет Его оче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т к чему душой стремлю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дороже жизни с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лицом к лицу увиж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ебе Господа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хочу к Нему быть ближ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славлять Его всег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601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61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Быть лицом к лицу с Иисусо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ой видим мы Иису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сквозь тусклое стекл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в великий день грядущ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Он есть узрим Е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лицом к лицу увиж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ебе Господа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хочу к Нему быть ближ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славлять Его всег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всё тайное откро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все беды устран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исправит всё криво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всех верных наград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лицом к лицу увиж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ебе Господа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хочу к Нему быть ближ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славлять Его всег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ыть лицом к лицу — блаженство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теперь так чудно зн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ведёт нас к совершенств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т, Кто дал нам благодат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лицом к лицу увиж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ебе Господа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хочу к Нему быть ближ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славлять Его всег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6T03:49:48Z</dcterms:modified>
  <cp:revision>12</cp:revision>
  <dc:subject>Slavic hymnal Гимны веры христиан, hymn 861</dc:subject>
  <dc:title>Быть лицом к лицу с Иисусом</dc:title>
</cp:coreProperties>
</file>