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854-DC53-4E91-BA81-AD6A78C4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586-8A03-4102-8C66-7E30D03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1C1-EB58-4B11-A720-754F24E1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6EA-B54A-4EE8-9596-EFB81360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3CC-0CC2-4410-9701-F61DB081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1F2-6785-468A-B448-6ED3D771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EDC-9A03-4D42-A505-1A939CC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E8D-0F94-4246-978D-6F184DD6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EE5-11CF-449F-880A-BF0451C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788-E36F-4AFC-9DC3-A115B1D7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824-7BA4-4EE3-9C05-B5CC631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462-7563-43F5-9C51-EEFF230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153C-5C54-4C7D-872E-BB20E4DD43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амий,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щає, Він спас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ить Духом, іс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5   Христос є Той Сам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29Z</dcterms:modified>
  <cp:revision>12</cp:revision>
  <dc:subject>Slavic hymnal Гимны веры христиан, Ukrainian hymn 65</dc:subject>
  <dc:title>Христос є Той Самий</dc:title>
</cp:coreProperties>
</file>