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A14-76C4-4D2A-AF29-A6219F6F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FD2-91B2-49F3-AF91-E7EA5AF7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4B2-9751-45F5-B55E-9F84057E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7EA-7FCE-45F1-9998-2F08FBCD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534-C26B-44DB-B426-DBF9B427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A26-86A0-45F2-B10A-AE6E23DC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D72-5F67-444F-A728-DCDFDCAE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AE8-CFC5-438E-B0E1-42A09D8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A5E-4D29-40CC-A917-E58CE575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EEB-B67D-4111-9D4B-38694C8F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14A-8DE5-4C75-BA08-EAF3CB4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4F7-4999-465A-A87A-717ECE18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6ABDF-3231-4364-910D-1659167794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сі раді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ний день на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,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радість д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ли чуж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епер друз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’єди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ят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   Браття, всі раді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кон Синайськ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та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прийняв Ізраї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ятій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лова ми чує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спасла від гні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ь свята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живем в на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і і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усі обм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я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Господній 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ить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мо, браття-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до кін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5:41Z</dcterms:modified>
  <cp:revision>13</cp:revision>
  <dc:subject>Slavic hymnal Гимны веры христиан, Ukrainian hymn 10</dc:subject>
  <dc:title>Браття, всі радійте</dc:title>
</cp:coreProperties>
</file>