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762-5E66-4353-BC1E-286B8F4A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256-4CCD-4696-AE61-2FD143A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5E7-03A8-4999-8064-A05856FD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3FB-10DE-44B6-8C45-0016C72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CE2-A27A-4B46-81DB-14757DC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3E-878F-4645-8AAD-A02A115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276-8E21-4FC6-901C-B8D1BD2B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0AE-971D-4E15-93B6-563708A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B61-6346-4FFA-BAB7-0C0C1F03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943-7AA1-4D3A-8BA5-42AA639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6ED-5BD3-4263-A671-3468A0E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269-D0E5-42FD-9DAD-1ACC30D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47C94-CAE5-40BD-B8DB-D37DC7DB17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10Z</dcterms:modified>
  <cp:revision>13</cp:revision>
  <dc:subject>Slavic hymnal Гимны веры христиан, hymn 430</dc:subject>
  <dc:title>Начальник жизни, Пастырь мой</dc:title>
</cp:coreProperties>
</file>