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7CA-7CF6-48B5-8591-68C59F91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074-1B88-4259-BBA4-8203529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AFE-44F6-4ECB-98B5-816A6D7C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912-0989-4778-98DE-27F49D51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A5B-C824-4476-B073-4766D99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D62-E95F-42B0-A7E6-E61D683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C9B-CFED-4FB0-B88B-B511E4AE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FA6-B2B7-4D1E-AC09-64A00EC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B94-8730-45CC-B450-E3B73AF0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2B8-A426-475C-89D1-19B91C6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FDA-24E1-46FC-9F3B-C586D64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63D-820E-4574-A230-B10A164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65A34-6ADC-4923-AAEE-DB6F639EA5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Скажіть мені, браття і 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ви зібрались і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ня лежать на дороз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рен колючий рост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емо ми в царство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ого щастя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ізь темряву чорної но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ачим світ Божого дн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4   Скажіть мені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Як дуже бажав би я з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леку дорогу пі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умка одна лиш триво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де сили знайт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слухаєм Боже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уха Святого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ші серця підкріпля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 в боротьбі подає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, браття, тепер я ли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е, що у світі я м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і в всім допо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сюди і вам помагав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раді твойого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но нам руку по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зом підемо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Божественний рай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09Z</dcterms:modified>
  <cp:revision>12</cp:revision>
  <dc:subject>Slavic hymnal Гимны веры христиан, Ukrainian hymn 44</dc:subject>
  <dc:title>Скажіть мені, браття і сестри</dc:title>
</cp:coreProperties>
</file>