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0</a:t>
            </a:r>
            <a:r>
              <a:rPr b="1" lang="ru-RU" sz="3600" spc="-1" strike="noStrike">
                <a:solidFill>
                  <a:srgbClr val="ffffff"/>
                </a:solidFill>
                <a:latin typeface="Verdana"/>
              </a:rPr>
              <a:t>	</a:t>
            </a:r>
            <a:r>
              <a:rPr b="1" lang="ru-RU" sz="3600" spc="-1" strike="noStrike">
                <a:solidFill>
                  <a:srgbClr val="ffffff"/>
                </a:solidFill>
                <a:latin typeface="Verdana"/>
              </a:rPr>
              <a:t>Всевышнему слав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o God b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things He has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 loved He the world tha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gave us His So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севышнему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с оправ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мир возлюбил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ына нам дал,</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purer, and hig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reater wi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wonder, our transpo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Jesus we see.</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под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ным крыл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ём мы от бу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ения щит.</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the Lord,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earth hear His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the Lord,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people rejoice!</a:t>
            </a:r>
            <a:endParaRPr b="0" lang="en-US" sz="3200" spc="-1" strike="noStrike">
              <a:solidFill>
                <a:srgbClr val="000000"/>
              </a:solidFill>
              <a:latin typeface="Verdana"/>
            </a:endParaRPr>
          </a:p>
        </p:txBody>
      </p:sp>
      <p:sp>
        <p:nvSpPr>
          <p:cNvPr id="6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ржеством славь,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 племена!</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ome to the F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rough Jesus the S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 Him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great things He has done.</a:t>
            </a:r>
            <a:endParaRPr b="0" lang="en-US" sz="3200" spc="-1" strike="noStrike">
              <a:solidFill>
                <a:srgbClr val="000000"/>
              </a:solidFill>
              <a:latin typeface="Verdana"/>
            </a:endParaRPr>
          </a:p>
        </p:txBody>
      </p:sp>
      <p:sp>
        <p:nvSpPr>
          <p:cNvPr id="6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о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престолу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те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ертву креста.</a:t>
            </a:r>
            <a:endParaRPr b="0" lang="en-US" sz="3200" spc="-1" strike="noStrike">
              <a:solidFill>
                <a:srgbClr val="000000"/>
              </a:solidFill>
              <a:latin typeface="Verdana"/>
            </a:endParaRPr>
          </a:p>
        </p:txBody>
      </p:sp>
      <p:sp>
        <p:nvSpPr>
          <p:cNvPr id="6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yielded His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 atonement for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opened the life ga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all may go in.</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нас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ю ом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оступ к небесн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ью откры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the Lord,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earth hear His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the Lord,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people rejoic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ржеством славь,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 племен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ome to the F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rough Jesus the S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 Him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great things He has don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о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престолу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те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ертву крест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 perfect redemp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purchase of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every beli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promise of Go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щенье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дарует т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в полном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ёт пред Христо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vilest offend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truly belie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moment from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pardon receives.</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лейший преступ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едший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ён в согреш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ом своё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the Lord,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earth hear His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the Lord,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people rejoic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ржеством славь,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 племена!</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ome to the F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rough Jesus the S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 Him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great things He has don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о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престолу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те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ертву креста.</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Great things He has taught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things He has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reat our rejoic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Jesus the Son;</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 настав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ённым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а Христ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ла оградит.</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2:21Z</dcterms:modified>
  <cp:revision>3</cp:revision>
  <dc:subject>Slavic hymnal Гимны веры христиан, hymn 90</dc:subject>
  <dc:title>To God Be the Glory / Всевышнему слава! Он нас оправдал</dc:title>
</cp:coreProperties>
</file>