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29A-6602-42FA-84E2-A22F483D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338-8B1A-4457-A05E-0796AF2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250-342A-44F2-9903-85728C18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2E3-6102-4784-A223-E165D661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E7F-5F1D-4DEC-BD21-E8688AD2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9E0-999D-47E1-8A03-87E6C96D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26D-7021-4E2B-82BB-5643560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464-BFF1-417F-9661-714451AA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3DC-6D0A-4983-837B-21D1D44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E6F-E8E1-40CD-A2A0-B38F36F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E47-9C13-44BB-B7C5-69EBA8E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1C7-C9AE-4393-A91D-8C1E843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F021C-55E6-4F82-91BD-70B0B7B3A8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rejoice and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the glory un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2   Hallelujah, For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49Z</dcterms:modified>
  <cp:revision>12</cp:revision>
  <dc:subject>The Source 3, song number 1232</dc:subject>
  <dc:title>Hallelujah, For the Lord Our God (Hallelujah, Our God Reigns)</dc:title>
</cp:coreProperties>
</file>