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4F1-7C8D-471D-AB1B-AA311EE6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2CB-AA9C-4CA6-A15C-8797F995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316-DE7C-4C88-BC15-8E535819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648-E36E-420C-814B-3E79EBB3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388-4A5E-4A99-B9E6-486A5F68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316-C896-44A5-9115-55231431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023-87F0-45D9-93C1-71632278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855-BAC3-486A-8642-80D67F83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C59-8D9C-4304-A14F-A9285784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395-538F-4B3B-8132-EC6627B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7BD-B4DE-4012-A0DE-A4A636AF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432-165B-4D15-83FF-0E8C0359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3F9C8-9061-4AF8-B502-48D70531CD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Спаситель для моей ду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исус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Иисус, Иисус, Иисус,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Jesus, my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is Jesus, Jesus, 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7:27:00Z</dcterms:modified>
  <cp:revision>9</cp:revision>
  <dc:subject>The Source 2, song number 732 in Russian</dc:subject>
  <dc:title>Он Спаситель для моей души / He’s the Saviour of My Soul</dc:title>
</cp:coreProperties>
</file>