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4A8-E080-4FA4-933B-8A1F9ACB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257-55D0-4B24-B681-394B1C05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9EA-EC2C-473B-BE94-EBF3340F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FDB-97C4-420F-830E-E9E62410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B92-C1DC-4046-A8EE-55F011C3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69E-ADDE-44D0-B3B8-A1EF5B6E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BCE-1215-4332-B9BF-AA6D9635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821-59F5-4E81-8DA9-3FFA7B0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7B1-A642-4E36-80B1-C7062F29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FC7-7900-4F05-9948-1A3B3D83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3C0-DEF4-4360-80E1-1EF61C0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C75-CC7D-4E34-B711-465BED2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446E-F4EE-4D91-A272-F9A9193BD7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rac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lory, earth-bound heaven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plan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this light that breaks m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falls like a dove 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Grace Is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ov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undeserved, this gloriou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Son, this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this death, this victory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 has flowed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race that is mine finds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, the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perfect and so pure, this Go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lorious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arth to heaven, death to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future assured and se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love 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, the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02Z</dcterms:modified>
  <cp:revision>10</cp:revision>
  <dc:subject>The Source, song number 512</dc:subject>
  <dc:title>This Grace Is Mine (The Power and the Glory)</dc:title>
</cp:coreProperties>
</file>