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ED1-74EC-41B3-BF3C-90DDCBFE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EB9-B213-432E-A8DB-88F62BE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9F8-96C0-4642-8015-8817DC9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E64-4F46-4A93-8427-58461FCF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479-7750-4923-8E23-907B0C8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E1D-E3A3-4F80-805B-B65A6E38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1E7-8A21-4C37-8D28-FE79504E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04F-D5C7-4FCB-9161-94BF58B5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38D-561E-4862-AC58-408B8E87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538-1F80-45B1-AFDE-C214B03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E4F-786E-4397-8E15-D207F7F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861-EA90-49A4-BAD8-A16CCD6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9D0B7-ECBF-4154-9A23-04BF855351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</a:t>
            </a:r>
            <a:r>
              <a:rPr b="0" lang="en-A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исус,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т подобных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жизнь, я вос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чьи Твоей дивн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риют, мой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и сил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, всё, что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удет слав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и, земля, Господу тв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о, сила и слава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растают, моря зашум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иц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о делах Твои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люблю, буду в вере сто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Твоя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0:41Z</dcterms:modified>
  <cp:revision>17</cp:revision>
  <dc:subject>The Source, song number 367б in Russian</dc:subject>
  <dc:title>Мой Иисус, Спаситель / My Jesus, My Saviour (Shout to the Lord)</dc:title>
</cp:coreProperties>
</file>