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CDD-66AE-46E1-9528-A2C04B25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6CC-31DB-49B5-8656-034CFE7F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526-9001-4A74-96A3-99FD0428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DBA-C640-417D-912F-E663717C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7E2-E389-4605-B590-2A61E046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FB8-F505-4F26-9CCD-F2F6A46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F0D-2190-46D6-B1AE-C46DAD8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971-5A6A-4087-94F6-03F89457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4B6-05D7-4D7C-A3BD-7C931A95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BBC-79BE-4DA5-9E68-158DCDA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295-7AB2-410C-BE9F-B78C369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84F-801A-4B5D-A1E0-92BDF43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1BAC9-5F46-409A-AEC8-5E8BFA383C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Христос і спит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,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скажеш Йому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 якого тобі 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, мій брате, твій тал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талант який Господь тобі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8   Коли прийд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28Z</dcterms:modified>
  <cp:revision>13</cp:revision>
  <dc:subject>Slavic hymnal Гимны веры христиан, Ukrainian hymn 98</dc:subject>
  <dc:title>Коли прийде Христос і спитає</dc:title>
</cp:coreProperties>
</file>