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F2A-5494-4289-B28F-2DE78B3B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AF0-DF8F-4F97-9A74-053AED60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B81-1E65-495D-9930-D051BAAC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2CD-E42D-4672-998E-0214407B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4C0-60CA-47D5-98AE-BE3A86D5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B93-B3E5-43E1-BF61-B0C891B0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5E4-AACD-41BD-84F7-587FF678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7B50-82B1-4975-A1DD-D78771E7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E50-FAE6-49AF-BB07-5FF3E210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F6F-249D-4C7D-B72C-CB808D1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A1A-A13A-4197-A774-6E8C4043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B75-2E5C-454E-8ECF-2CDAAB3C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AA3F1-AEB6-4896-87B8-F6742C3AB8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ilent midnight watc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ing at your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s the Saviour, pleading, knoc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as oft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! слушай ухом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! слушай ухом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звучит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, любящий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ould enter with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 oppressed by s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now the door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m enter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емной стучит прохож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зовёт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, Агнец Бож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will come some day, relent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every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heedlessly ign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his entry b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елье сердца сокр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греха ц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йдёт Он и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в ней заблест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its in mercy plea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door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, not death, the cruel reap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turn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чь любви Его по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ток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стук тот разда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 hear the Saviour knoc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at your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ceive Him, let Him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soul rest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и же сердца д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танет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ный пир веч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 твор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when breaks the golden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, eternal,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open Heaven’s por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ceive you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слушай голос ди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н главу скло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олкнет звук призыв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ть пройдёт; тогда, ры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 склон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в дверь стучать ты 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ывать тогда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шь ты несчаст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ойди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54Z</dcterms:modified>
  <cp:revision>13</cp:revision>
  <dc:subject>Slavic hymnal Гимны веры христиан, hymn 337</dc:subject>
  <dc:title>In the Silent Midnight Watches / Грешник! слушай ухом веры</dc:title>
</cp:coreProperties>
</file>