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6B8-658D-48C9-B4AE-DBFB71EB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C44-3A78-4C14-A62A-6EAA8B35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19B-E7EB-416A-A361-8E6574AD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8C1-D361-46F7-A1A2-0AC147CF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BD0-049A-4EF4-94FB-381A796A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1C2-F90D-456F-8203-64ED79F5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ECC-583A-4996-B01E-A5197EE0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B35-7298-458E-9CB2-D161C3C6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552-14D3-4955-90D1-1F8BA32A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3AB2-8DDD-480C-A686-5EAD1B8F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843-BA1C-46AE-B912-F70DE7EE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FBD-D04D-4A4B-8C22-816D318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86B59-BBD1-4666-A938-303F88FE84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me with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may love what Thou dos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o what Thou wouldst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источни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являл Т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моих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my heart is p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with Thee I will one w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o and to end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так очи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касалася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зем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nd all my soul with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this earthly part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s with Thy fir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этом мире з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всегда везде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Твоим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hall I never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live with Thee the perfec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ine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и я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и там во век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просла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9Z</dcterms:modified>
  <cp:revision>13</cp:revision>
  <dc:subject>Slavic hymnal Гимны веры христиан, hymn 312</dc:subject>
  <dc:title>Breathe On Me, Breath of God / Повей, Дух Божий, вновь</dc:title>
</cp:coreProperties>
</file>