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0A6-4410-49BB-9FC8-6D957A6F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EA0-D160-4448-8C5D-D6E4CA3A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EA6-3F12-4065-BE88-20E2B447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923-E1AD-450D-975B-2C97B1ED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7F7-8B07-47CF-8DF4-96BC35D2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913-2E87-4F37-9FC3-C58E90CE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746-3B10-4DB4-9D32-C2695397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36D-7C31-4665-9315-3B3F2E88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887-18CF-4A7A-9C36-8405619F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63A-55A2-41AE-B50B-5675C15E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033-E18E-48B9-BFCF-27E39670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48D-4D3F-499E-AD70-AFECD90E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78B44-2FC9-4A90-B9AB-1105970951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ys to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pure, clear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little c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rning in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реть, как све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let us s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your small cor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i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тёмн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добра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ys to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st of all for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He sees and knows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our light grows d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х Он не с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менных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oks down from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 us s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your small cor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i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видит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ys to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for all ar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kinds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orld are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лядит н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ви и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имер пода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and want and s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e must s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your small cor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i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, нужду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й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ти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будем вер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7:48Z</dcterms:modified>
  <cp:revision>12</cp:revision>
  <dc:subject>Slavic hymnal Гимны веры христиан, hymn 897</dc:subject>
  <dc:title>Jesus Says to Shine / Мы должны светить</dc:title>
</cp:coreProperties>
</file>