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52A8-DB9F-4A68-930B-F782A35F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C204-E421-4AE7-8075-5CA093B3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5E55-A3F0-42DB-B4B6-751C5BAA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ADB4-CA86-4C8B-8A16-07FB83B3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27DA-5B80-4B57-AD14-0EBDA6A5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FFD2-BDCA-4403-89A3-B1B40853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F81A-6984-4663-BFBB-FCC946F0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F411-F184-442E-8FDA-65B9422C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0A74-D053-4A65-B7B3-70AF5298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2066-AC75-40D6-8FBE-41695499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EB63-4868-428F-B67B-FF66BE3B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7D3C-F6AB-4533-ADDF-CD5BBBA4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04B2F-312A-4DA6-973A-13E399E8FE8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would I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You had not been by my 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could I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eet the morning of the 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tende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ways calling from beh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imes I could not se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though You were close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21   Where Would I B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ord, You are good, You are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mercy forever end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You are good, You are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mercy forever end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would I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You had not been by my 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could I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eet the morning of the 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tende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ways calling from beh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imes I could not se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though You were close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ord, You are good, You are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mercy forever end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You are good, You are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mercy forever end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to see Your loving kind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to see You as You 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to see Your loving kind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to see You as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 really, really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would I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You had not been by my 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could I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eet the morning of the 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tende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ways calling from beh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imes I could not se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though You were close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ord, You are good, You are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mercy forever end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You are good, You are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mercy forever end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3:28Z</dcterms:modified>
  <cp:revision>12</cp:revision>
  <dc:subject>The Source 3, song number 1621</dc:subject>
  <dc:title>Where Would I Be? (Lord, You Are Good)</dc:title>
</cp:coreProperties>
</file>