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A50-5786-4D08-AFA2-9D8A71A8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448-7404-46F5-87D8-0DF48ECA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03A-3037-425B-AD9B-E59F1ECC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F9A-21C3-4DE8-9A77-AC6C9C0E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1B9-6906-4123-A36A-7DE34275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A22-EF61-431E-805E-5976FFD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E9F-88ED-46CC-B515-6C5A10A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9E0-6AC0-4F8F-A062-1C1056D3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A0B-73EC-4EDB-9AA5-8450D7FA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324-AF9F-4DD9-8272-FF76794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501-47A7-4FB6-8B22-EA3BF2AA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E28-680C-4749-88BD-815F4B5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6476A-EEBD-40FE-A93C-63F6C683A4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Eli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the Word of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se are th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servant, Mo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ghteousness being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0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se Are the Days of Elij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these ar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great tr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famine and darkness and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we are th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esert cr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ye the way of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, He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ding on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like the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trump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he year of jub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t of Zion’s hill salvation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Ezeki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ry bones becoming as fles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se are th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servant, Dav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building a temple of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the har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are as white in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are the labo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viney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the Word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, He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ding on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like the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trump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he year of jub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t of Zion’s hill salvation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7:31Z</dcterms:modified>
  <cp:revision>10</cp:revision>
  <dc:subject>The Source, song number 503</dc:subject>
  <dc:title>These Are the Days (Days of Elijah)</dc:title>
</cp:coreProperties>
</file>