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70</a:t>
            </a:r>
            <a:r>
              <a:rPr b="1" lang="ru-RU" sz="3600" spc="-1" strike="noStrike">
                <a:solidFill>
                  <a:srgbClr val="ffffff"/>
                </a:solidFill>
                <a:latin typeface="Verdana"/>
              </a:rPr>
              <a:t>	</a:t>
            </a:r>
            <a:r>
              <a:rPr b="1" lang="ru-RU" sz="3600" spc="-1" strike="noStrike">
                <a:solidFill>
                  <a:srgbClr val="ffffff"/>
                </a:solidFill>
                <a:latin typeface="Verdana"/>
              </a:rPr>
              <a:t>Не в словах молитвенных</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Не в словах молитвенных реч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 в песнях жизнь души м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я она сокрыта в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мои источники в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е в желаньях я ищу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 в счастье, данном мне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одна всегда звучит во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мои источники в Теб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идишь Ты забот моих вол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аёшь мне в сердце тиши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желанья приношу Тебе,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мои источники в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Ты явил Себя, любовь С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ет ли отраднее в р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ю трепещет всё во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мои источники в Теб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Разве мне от зноя Ты не с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рячусь я в Тебе в палящий д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пою ж в пустыне я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мои источники в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Сила вражья мне кругом гроз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душе Господне имя — щ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ную победу дал Он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мои источники в Тебе!</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Ты — моя опора и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епость и покров,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е блаженство дал Ты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мои источники в Тебе!</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7T21:32:13Z</dcterms:modified>
  <cp:revision>3</cp:revision>
  <dc:subject>Slavic hymnal Гимны веры христиан, hymn 170</dc:subject>
  <dc:title>Не в словах молитвенных речей</dc:title>
</cp:coreProperties>
</file>