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3E5-67D3-4E09-B28A-BE45C0AD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BBC-6818-40B6-8D4C-D97512D1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E89-1B77-4582-9D6D-CD7B067E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DFC-24E7-4EEE-A142-E909BC55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218-7466-4B67-927B-2E158D7B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5FF-3C07-4C49-A6CD-D8988327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0A0-59B0-4FDE-B9BB-A2EB41EC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818-82E2-4058-B965-D961AC1C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F11-597E-459F-AF92-1D01D5A8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509-9421-4AE3-BDDF-2889D20C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5FB-A0F5-436E-B07D-CA841C1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16A-9696-4B24-8CE8-C3DD0152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E9BA0-2594-484F-A8FE-BF968F1F37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riches of thi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sound of my friends’ 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biggest dreams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just the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getting what I say I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living the life that I want 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love anyone could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0   Better Than the Rich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old me now in Your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, O Lord, make the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moonlight in the night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me breath and all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heart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can’t stop 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never stop falling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33Z</dcterms:modified>
  <cp:revision>12</cp:revision>
  <dc:subject>The Source 3, song number 1150</dc:subject>
  <dc:title>Better Than the Riches of This World (Better Than Life)</dc:title>
</cp:coreProperties>
</file>