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044A-3972-430D-9AF0-798DDEF3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5403-1B4D-474F-8365-C18E9E4E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3ACD-602B-46AE-A385-6A9F723A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D1FF-2A55-4A73-84ED-20F366E8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0163-9663-44C0-ACD8-A64EDFAB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9B99-220E-4CAA-B455-25DD8967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3175-D6F5-4940-B60E-07BCDD5A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9A64-478D-4675-A7CD-3A8BB8C4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1031-8FDC-4CF4-8F28-EA6CBAE3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B6E2-D311-4678-9282-DE9EC321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F29A-DEE0-45B9-9141-8A78F150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9867-4F60-4D1F-AA87-AC71652F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D95A7-4146-4A16-B836-FC374679C9E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шует житейское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ною страстью кип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круг — слёзы, вопли и г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изнывает, бол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оремся, силы теря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им: поможет нам Б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ихую пристань узн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пристань — небесный черт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ушует житейско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шует житейское мор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но, непроглядно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со скорбью во вз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: кто враг мой, кто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оремся, силы теря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им: поможет нам Б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ихую пристань узн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пристань — небесный черт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шует житейское мор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як… а на нём огон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адья наша с бурею сп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ь маяка нас прив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оремся, силы теря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им: поможет нам Б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ихую пристань узн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пристань — небесный черт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шует житейское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ирепо и грозно шум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раком не видно просто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асностью море гроз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оремся, силы теря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им: поможет нам Б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ихую пристань узн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пристань — небесный черт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5:58Z</dcterms:modified>
  <cp:revision>12</cp:revision>
  <dc:subject>Slavic hymnal Гимны веры христиан, hymn 512</dc:subject>
  <dc:title>Бушует житейское море</dc:title>
</cp:coreProperties>
</file>