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4AD-D8B4-4AB7-9C2B-56F11843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7CA-1AA0-4964-AFCC-04DD2E0B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753-DD8D-4F36-845D-1EAC8B6B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7D1-4C1D-461B-91E8-7555B088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8DF-AE11-4462-BE78-4AA9719A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36C-0865-4C81-9904-184BB3B6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E6B-C2A7-4BFB-88FD-6F8F35B0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F66-C7A7-4E0B-AC3A-CF3FD823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29C-2B63-491B-846B-6EDBB0E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8A3-A8A5-4177-B06D-C2EFC11D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5E6-62BD-471A-9224-B11FD0F2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B50-4AE9-4407-A348-8D8A147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B718-D70A-4738-A924-0821AFCDF1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ly One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ow before Hi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reverence and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m no si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tand on holy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ly One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7   Be Still, For the Presenc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glory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shining all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urns with holy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plendour He is c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awesome is the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radiant King of 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glory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shining all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ower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oving in this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omes to cleanse and he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inister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work too hard fo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aith receive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ower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oving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58Z</dcterms:modified>
  <cp:revision>10</cp:revision>
  <dc:subject>The Source, song number 47</dc:subject>
  <dc:title>Be Still, For the Presence of the Lord</dc:title>
</cp:coreProperties>
</file>