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D0E-B6B5-4C6F-84AB-5004ECA0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B39-C73B-4749-AEF1-F5CAE48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B59-5DDC-49ED-9F6A-38D49E11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EDB-D731-46D0-88E7-4420B38B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067-6174-4AE5-A378-CAC2A7F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377-510C-49F9-9BE1-57C2C483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664-1636-40E1-97FB-BF3F6E39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9D7-8EF2-4EA6-A377-706069F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547-D80A-476E-99D0-FAF667B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726-8007-4773-B675-C919655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7F8-5425-4441-8216-F717E2B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9E4-72F1-49FA-8591-B5A1F7E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BF190-EE8C-4097-BDD7-254C2AD540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Breath of God, come breath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we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42   There Must Be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like a rushing w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 us in power fro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ve us abandoned to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0Z</dcterms:modified>
  <cp:revision>12</cp:revision>
  <dc:subject>The Source 3, song number 1542</dc:subject>
  <dc:title>There Must Be More (Consuming Fire)</dc:title>
</cp:coreProperties>
</file>