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4B64-2AEE-4407-858D-8BEF03142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D462-136E-4864-96A0-B599EDDB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D6FE-A75F-49D1-92D1-1BD889A56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F03C-0627-4D6A-912C-A97B0C1B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ACAA-EF83-42E9-99F6-167AC975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A1EC-662A-4412-B527-A2D6DAFB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8B37-EDEC-431B-8950-E9AACB25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61A7-BF24-42F0-85F7-193F061E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33E1-BE0C-4B4F-B37D-69583A48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7602-72ED-4C34-A639-BF1497A5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B0AF-1930-4B97-83B4-105F7F88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EAAD-BBAC-43F6-B2D4-AC97E0FD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C8065-F9C7-44D8-9EAE-0F8454743FC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я пришёл утром в с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шина. День будет погож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ачалом дня свет проник в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лся мне Сын Бож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еперь со мной, говорит с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ывает меня Сво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сторгов тех, что даёт Он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гу передать друг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дин я пришёл утром в са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ворит Он с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олкают песни зем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удесный гимн о Его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мне и в пусты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еперь со мной, говорит с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ывает меня Сво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сторгов тех, что даёт Он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гу передать друг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ел бы остаться в с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царит покой безмятеж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 труду зовёт и чрез шум невз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лышен голос неж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еперь со мной, говорит с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ывает меня Сво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сторгов тех, что даёт Он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гу передать друг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43:21Z</dcterms:modified>
  <cp:revision>12</cp:revision>
  <dc:subject>Slavic hymnal Гимны веры христиан, hymn 848</dc:subject>
  <dc:title>Один я пришёл утром в сад</dc:title>
</cp:coreProperties>
</file>