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073-6E42-40D4-97E0-44DC8AE5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B35-B6B5-4163-82AA-636C7647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F97-3715-4A28-86BF-9E53C78F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FC7-9739-4359-AC15-49224FAC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0DF-5246-45D6-985C-ECB3412D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411-F19F-44C9-B453-FA633AFD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8BF-C1E1-4510-91DC-55C452AF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754-6CCE-424C-AD35-8FA467E2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351-6D83-4BFF-BF71-A9D917BC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F72-6DA8-47EF-BB4E-02218533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0E1-EBE8-4E77-AFA2-878A927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6E5-0290-45A1-9A79-1D2A598C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1CB7A-E7AD-477B-9854-1BDE4615D8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58Z</dcterms:modified>
  <cp:revision>14</cp:revision>
  <dc:subject>Slavic hymnal Гимны веры христиан, hymn 620</dc:subject>
  <dc:title>Я хочу не богатства</dc:title>
</cp:coreProperties>
</file>