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A6E-984E-47C4-AC8D-F8EA7C1C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517-2D4F-419D-B147-26B37AC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90A-4B77-4DB7-BE07-CF34E68D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AF5-9D49-4EDF-B249-C819549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094-0243-4C95-BE7E-1860731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25B-331B-4B79-9719-5F19D95B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892-B098-4295-8CB5-27EEECE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A6D-8CFD-4AC3-A805-06EE51C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2F0-891C-4C77-A8D7-203D8E7E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DA7-489F-4DAF-882C-F461A54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D78-2236-4374-8771-B0FB06E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FBA-215D-458B-98CC-3E70E7A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C7E33-9EEE-4239-8B71-13FECC6C17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, дивную розу нашё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в юности жизн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л, на розу мен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юду последовать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йте, дивную розу на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 Павел великий го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ы этой розы не ч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после стал розы служ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многих к Христу прив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роза — 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роже всего для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грех мой Он отдал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04Z</dcterms:modified>
  <cp:revision>12</cp:revision>
  <dc:subject>Slavic hymnal Гимны веры христиан, hymn 782</dc:subject>
  <dc:title>Знайте, дивную розу нашёл я</dc:title>
</cp:coreProperties>
</file>