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8A8-9EF1-4A61-99CE-35F0C097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F35-F613-4F15-ADEA-75C97BD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736-5386-4960-9D26-4157851C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562-8EC5-4EF3-BF0E-DFE4708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F91-4BA6-4ABF-976F-C4555E6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72-3D49-40B8-AB49-484D43BE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BAF-B00C-46A4-A589-F94B9026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800-75DA-4006-A807-0FC64D3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E70-6891-4B6D-969F-6BD8A8D4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B9A-21B0-4C2D-9726-FC80B64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48F-F0E1-4D84-AA63-699CADF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C49-CD57-47E1-891F-772CF288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EC46-8DBB-4165-81FB-31278A8621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4Z</dcterms:modified>
  <cp:revision>13</cp:revision>
  <dc:subject>Slavic hymnal Гимны веры христиан, hymn 708</dc:subject>
  <dc:title>Never Will I Forget / Не оставлю Я вас</dc:title>
</cp:coreProperties>
</file>