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AC6D-8156-4BE2-ACD1-B17C254CD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4CFD-00B6-404A-8B8C-20007C6B0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956E-BDDA-4031-8780-9111492AA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F6C5-0868-446E-BF1B-4C346F390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EEDD-59BC-4425-B05C-58545467C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6CC6-69A8-454C-8541-353C17BC6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65BC-019C-4CCE-85DA-8350A5900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D322-72A5-4C83-AA46-B9A4DFC46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0493-3F38-476C-A5C6-7C52C1DBE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4F8B-9EC6-482A-B53A-252B7A75A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2E59-3F1F-4DCA-B395-D02296C6A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849E-6085-4094-B365-E4AF09CBF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E5D4CA-A449-465E-8483-5DB0058E3EB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y our homes be filled with danc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y our streets be filled with jo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y injustice bow to Je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the people turn to pr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the mountain to the valle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ar our praises ris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the heavens to the n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ar our singing fill the a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886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May Our Homes Be Fill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y a light shine in the dark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we walk before the cros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y Your glory fill the whole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the water o’er the s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the mountain to the valle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ar our praises ris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the heavens to the n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ar our singing fill the air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!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!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!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!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the mountain to the valle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ar our praises ris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the heavens to the n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ar our singing fill the a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9T08:26:01Z</dcterms:modified>
  <cp:revision>11</cp:revision>
  <dc:subject>The Source 2, song number 886</dc:subject>
  <dc:title>May Our Homes Be Filled (Hear Our Praises)</dc:title>
</cp:coreProperties>
</file>