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4CE4-C203-4CB3-AB39-C52328199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394A-1F65-4A3E-A21D-AE77FDF70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CBCB-3E5B-4DC6-AC86-E16DC1368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A6CE-9478-4A49-B7F9-AA092AED1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AD59-EFE0-4B85-874B-66B9AA76A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CA70-719E-4314-A656-B453B10AA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D2AF-F7BD-44E2-8442-4294F5ECD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C764-E552-415A-A9BD-E291AE455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AC54-4E4F-4291-A197-06DD3CF1A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78C8-74EE-482F-B2A6-B243CB5B5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0E82-EA33-4F7F-98D4-84A8C433E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EBCE-FD5B-4C57-B478-66B22E89C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F491A5-F9B0-4D9C-A674-37C794937F6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етки, идите, идите скор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ещеру и к яслям спешите жив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акую святую и дивную ноч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одился Сын Божий, чтоб люд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ч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отрите, как в яслях Спаситель леж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отрите, как свет Его чудный го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сный Младенец прекрасен и м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лей и приятнее ангельских с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848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5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 детки, идите, идите скор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ежит Он, ах, детки, в соломе для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рия, Иосиф с любовью гляд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ли пастухи поклониться Христ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р ангелов славу воспели Е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24:31Z</dcterms:modified>
  <cp:revision>14</cp:revision>
  <dc:subject>Slavic hymnal Гимны веры христиан, hymn 754</dc:subject>
  <dc:title>О детки, идите, идите скорей</dc:title>
</cp:coreProperties>
</file>