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3C0A-EC36-450B-AE61-045C98544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D137-29E5-4263-818B-19C2221F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D01D-8F57-4C4C-93F1-22E1FBF77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5520-E42D-427C-9D20-87CFB1D0B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5545-DEEB-4E1D-959F-B4A8A889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4E75-F17F-4AEB-9598-ADCE7379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7BD6-5C0D-417B-B691-F02DB0C7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1F74-DCF0-46D0-B2F4-0CEF30EF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D319-77F8-4CBE-AD02-C1A37FF2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64B4-1C52-490E-9047-9D01306F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2DB8-7E6C-47CB-B328-0467C199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3E23-6CAC-473D-91A6-30B19810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E1CEE-04EA-46D6-B4A3-C8982F4229E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ve a story to tell to the n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shall turn their hearts to the r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tory of truth and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tory of peace and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tory of peace and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у нас Божье сло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у нас Божье слово к народ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расплавить может серд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авде и благо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вете Его ли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вете Его л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darkness shall turn to daw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dawning to noonday br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hrist’s great kingdom shall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kingdom of love and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менится ночь рас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рассвет станет ясным дн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неба царство любв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придёт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ve a song to be sung to the n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shall lift their hearts to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ong that shall conquer ev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hatter the spear and s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hatter the spear and s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у нас песня веры к народ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их может к Богу привлеч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у им дать над зл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мать и копьё, и ме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мать и копьё, и ме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darkness shall turn to daw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dawning to noonday br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hrist’s great kingdom shall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kingdom of love and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менится ночь рас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рассвет станет ясным дн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неба царство любв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придёт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ve a message to give to the n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e Lord who reigns up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 sent us His Son to save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how us that God 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how us that God 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у нас весть живая к народ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оздатель дивных ми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прислал Иисуса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ить нам Отца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ить нам Отца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darkness shall turn to daw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dawning to noonday br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hrist’s great kingdom shall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kingdom of love and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менится ночь рас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рассвет станет ясным дн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неба царство любв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придёт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ve a Saviour to show to the n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the path of sorrow has tr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all of the world’s great peo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ght come to the truth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ght come to the truth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известен Спаситель народов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шёл страданья троп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дать спасенье мног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лудших вернуть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лудших вернуть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darkness shall turn to daw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dawning to noonday br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hrist’s great kingdom shall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kingdom of love and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менится ночь рас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рассвет станет ясным дн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неба царство любв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придёт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11Z</dcterms:modified>
  <cp:revision>14</cp:revision>
  <dc:subject>Slavic hymnal Гимны веры христиан, hymn 530</dc:subject>
  <dc:title>We’ve a Story to Tell / Есть у нас Божье слово</dc:title>
</cp:coreProperties>
</file>