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416-E142-442D-9539-23B88A03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20D-6D32-471A-B331-74E10E0C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1BA-D642-4F46-99DA-F3853D19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025-CA79-4219-96A4-C3C97F59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2F8-0D07-4EB5-A664-E207D8B5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185-CC3D-4291-A193-0537C16C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E44-7A3C-4FFD-81BB-B660FB25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C9A-1E36-421B-AB60-FA2E2D39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785-A9A5-4215-9EF1-6A7B9632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2E7-D056-4EAA-A511-CB3186C5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A40-CDA1-4955-A50A-6E4FE132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025-6638-4F80-87A5-4CF3A1D9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14542-AA45-4EF1-A5D2-F6C9FBC972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have with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You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I adore i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1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is is My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give You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You my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for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breath that I t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moment I’m aw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24Z</dcterms:modified>
  <cp:revision>10</cp:revision>
  <dc:subject>The Source, song number 515</dc:subject>
  <dc:title>This is My Desire (I Give You My Heart)</dc:title>
</cp:coreProperties>
</file>