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7</a:t>
            </a:r>
            <a:r>
              <a:rPr b="1" lang="ru-RU" sz="3600" spc="-1" strike="noStrike">
                <a:solidFill>
                  <a:srgbClr val="ffffff"/>
                </a:solidFill>
                <a:latin typeface="Verdana"/>
              </a:rPr>
              <a:t>	</a:t>
            </a:r>
            <a:r>
              <a:rPr b="1" lang="ru-RU" sz="3600" spc="-1" strike="noStrike">
                <a:solidFill>
                  <a:srgbClr val="ffffff"/>
                </a:solidFill>
                <a:latin typeface="Verdana"/>
              </a:rPr>
              <a:t>Дай, Боже, сердцу</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Give me the wings of faith to r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in the veil to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aints above, how great their joy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bright their glories be.</a:t>
            </a:r>
            <a:endParaRPr b="0" lang="en-US" sz="32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й, Боже, сердцу веры крыл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ознестись т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нет неправды, нет насил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мир царит всегд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Many are the friends who are waiting tod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Happy on the golden stran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Many are the voices calling us aw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o join their glorious band.</a:t>
            </a:r>
            <a:endParaRPr b="0" lang="en-US" sz="30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ого святых ожидает нас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блаженства, чуд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стремится в торжественный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го Бога небе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nce they were mourners here bel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poured out cries and tea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y wrestled hard, as we do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sins and doubts and fears.</a:t>
            </a:r>
            <a:endParaRPr b="0" lang="en-US" sz="32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Здесь на земле они страд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ыне терпим 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 пути ослабев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житейской тьмы.</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Many are the friends who are waiting tod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Happy on the golden stran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Many are the voices calling us aw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o join their glorious band.</a:t>
            </a:r>
            <a:endParaRPr b="0" lang="en-US" sz="30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ого святых ожидает нас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блаженства, чуд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стремится в торжественный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го Бога небес.</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I asked them whence their vict’ry c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y, with united brea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cribe their conquest to the La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ir triumph to His death.</a:t>
            </a:r>
            <a:endParaRPr b="0" lang="en-US" sz="32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о чем они, какою си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звергли цепи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а Христа их дух креп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победе их вела.</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Many are the friends who are waiting tod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Happy on the golden stran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Many are the voices calling us aw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o join their glorious band.</a:t>
            </a:r>
            <a:endParaRPr b="0" lang="en-US" sz="30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ого святых ожидает нас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блаженства, чуд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стремится в торжественный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го Бога небес.</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8:14Z</dcterms:modified>
  <cp:revision>4</cp:revision>
  <dc:subject>Slavic hymnal Гимны веры христиан, hymn 157</dc:subject>
  <dc:title>Give Me Wings of Faith / Дай, Боже, сердцу веры крылья</dc:title>
</cp:coreProperties>
</file>