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F34-99F6-46FA-BD0B-990E0980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264-814E-4DF4-B58E-869C9ED9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AFD-5249-4DCF-BB67-7B421376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74E-5D2A-40BE-A261-553D382F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58C-768B-4383-947D-0484A843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112-2D7E-4D6B-A472-ADC02740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D1C-D10A-44B2-8FE8-001005A0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251-D36A-4081-B353-0D389A05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705-9ED1-4522-A701-35D5B673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74C-BFF4-4F8C-BAE8-18C506E7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23F-B1C5-4847-9C42-7BD08366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05B-0BDE-4CD3-A291-F8074D88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9368E-F68B-4341-A315-4433081363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тон бесшовный Господь но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ы аро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ой одежды меня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идти я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итон бесшов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ведал страдан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ак алой гор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за Сво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учший дать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дежд запах к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ходится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болезней и слаб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льзам целебны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ежде славной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м лишь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н Своих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с Ни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5:18Z</dcterms:modified>
  <cp:revision>12</cp:revision>
  <dc:subject>Slavic hymnal Гимны веры христиан, hymn 837</dc:subject>
  <dc:title>Хитон бесшовный</dc:title>
</cp:coreProperties>
</file>