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A20-0CAF-45A4-A6A4-AED0CE73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185-844C-4F11-98A8-0B119FC3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66F-D195-4DCD-ADE8-C8C84067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422-5538-4F64-A2DC-FD4AAB01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8BD-415E-4C9A-81FF-6B6E6E8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9F0-8E34-4262-A0AD-5073CE63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1E7-6309-493C-A92E-ECAD7608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450-1181-425C-A127-79515EAC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3F3-9585-4CE9-8510-2B8E2451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958-E1FC-408C-AC0A-542D17A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173-36A5-4214-A21F-572A63C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ED7-F38E-4318-9965-7E069EF8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D589E-08FC-4444-8545-6668BA9EE2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 от власти тёмны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оле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рпит, молится и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Господь, как на Си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величье по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 волю откр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и мыслях нап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Жезл Иессея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 греха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оря зла спас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Дух истины из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Звезда, обрадуй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, близок слав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ь от всяких бурь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и, пошли Тво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авида Клю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вери в Царствие отк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г нам смертью не гроз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4:07Z</dcterms:modified>
  <cp:revision>12</cp:revision>
  <dc:subject>Slavic hymnal Гимны веры христиан, hymn 880</dc:subject>
  <dc:title>Приди, приди, Еммануил!</dc:title>
</cp:coreProperties>
</file>