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9979-87D3-4E8C-AEB9-D2E72C496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E753-7FA0-4C2C-84A7-52E0FBC1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E99E-44FE-4EC5-9A1F-0807544FF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43B7-A252-4290-951F-EBD2626B6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9261-5688-4DAC-866A-14C2C714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9225-6FF3-4B6B-805D-369B3DC3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1E3F-8230-4DA0-93C0-03CDBA47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5DAA-3845-4499-8193-E302B146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27DF-02B8-4FFD-A348-2A36B9DB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CE27-A796-4CDD-AB7A-6E062659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C96E-A943-4478-A7AD-C65523D3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50DE-EC35-45E5-A789-8A8BE4F0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373B0-D678-4C90-ABAD-0591C688B3D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жизнь возьми: 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Тебе посвящ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руки, их к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ираю я в мол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ираю я в мол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ноги, должно 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тезям ходить Т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голос, чтоб он м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Тебе, мой Царь, мо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Тебе, мой Царь, мо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7а   Боже, жизнь возь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устам достойным бы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ебе благовес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 и сереб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озьми моё доб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озьми моё доб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возьми любовь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й у ног Твоих ст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зьми всего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, навек Твой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, навек Твой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1:02Z</dcterms:modified>
  <cp:revision>14</cp:revision>
  <dc:subject>Slavic hymnal Гимны веры христиан, hymn 437 (as amended)</dc:subject>
  <dc:title>Боже, жизнь возьми</dc:title>
</cp:coreProperties>
</file>