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00</a:t>
            </a:r>
            <a:r>
              <a:rPr b="1" lang="ru-RU" sz="3600" spc="-1" strike="noStrike">
                <a:solidFill>
                  <a:srgbClr val="ffffff"/>
                </a:solidFill>
                <a:latin typeface="Verdana"/>
              </a:rPr>
              <a:t>	</a:t>
            </a:r>
            <a:r>
              <a:rPr b="1" lang="ru-RU" sz="3600" spc="-1" strike="noStrike">
                <a:solidFill>
                  <a:srgbClr val="ffffff"/>
                </a:solidFill>
                <a:latin typeface="Verdana"/>
              </a:rPr>
              <a:t>О Господь, я торжествую</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Господь, я торжеств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услышал голос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то вечно буду слав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Голгофский подвиг Т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Великий Избав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грехи мои прост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страданья и муч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меня освободил.</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уть мой был тяжёл и тём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бно было мне ид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 Тебе я обратил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ердный, на пу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Великий Избав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грехи мои прост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страданья и муч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меня освободил.</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Жизнь мою Ты спас от смер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глаза мои от слё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л мне видеть путь спас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купитель мой, Христо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Великий Избав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грехи мои прост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страданья и муч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меня освободил.</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Лишь Тебя я буду слав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Спаси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частлив я теперь вове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рез Голгофский подвиг Т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Великий Избав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грехи мои прост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страданья и муч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меня освободил.</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2T22:50:38Z</dcterms:modified>
  <cp:revision>3</cp:revision>
  <dc:subject>Slavic hymnal Гимны веры христиан, hymn 100</dc:subject>
  <dc:title>О Господь, я торжествую</dc:title>
</cp:coreProperties>
</file>