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841-2530-49A7-8653-1EB9077D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3BB-ACE4-4F80-8F63-1115A3A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861-EEEA-4261-BD16-F99AB3C1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391-16B6-4FF6-AE9D-1E8A9FBA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75F-F96B-4A26-A57D-8E21428A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18E-F345-44C4-9A82-468E582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DCF-763B-473C-9AA8-1A48382F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2EA-BA8B-43F9-BDE8-3FD22287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848-07DC-4779-9387-77262FE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A13-BAAF-44F5-9CB4-B248550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FEA-89A4-4307-90F1-BA3650F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54E-CDA9-4532-9E12-BB7B8FF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7A806-E31A-474A-BBA1-7A768B341E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22Z</dcterms:modified>
  <cp:revision>15</cp:revision>
  <dc:subject>Slavic hymnal Гимны веры христиан, hymn 227</dc:subject>
  <dc:title>Вести ангельской внемли</dc:title>
</cp:coreProperties>
</file>