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415-22F8-4C62-90D4-AF0A5CF1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40F-5250-42E1-B8FF-6B765110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120-4C3E-4F4C-81F4-0A91DD5C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906-0BA5-4917-B8D6-810BBD70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911-BD9F-4EA3-B616-6CE96A5D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CBF-8947-4E1F-BF44-78D44E9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FA4-F49F-4AF3-8E83-BD0F4B7C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E0D-90FF-4E1E-AFAB-588844FD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10A-0F46-492E-AB68-4F22733A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D60-AEA9-41E1-8202-A773BBF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E06-DA5A-4332-BD3B-E8F136E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BB7-EAA3-44EE-B5E7-115447A0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71D8E-5847-4AD2-B7F2-3ED2AE1506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0Z</dcterms:modified>
  <cp:revision>13</cp:revision>
  <dc:subject>Slavic hymnal Гимны веры христиан, hymn 591</dc:subject>
  <dc:title>O for a Thousand Tongues to Sing / Спаситель! жаждет петь мой дух</dc:title>
</cp:coreProperties>
</file>