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5E2-84B0-4CD6-AD79-5075DE7B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19F-0677-439E-B526-A043FB2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6FA-747D-4D1A-915E-AB9FB6A2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FFC-3FCB-42A9-9497-17B66A03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917-EE3A-49C7-9EC5-46A6D292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662-02D7-4DD0-B015-60DFA286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BD9-8324-4B99-8E29-8D6EEC7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CA2-DB7A-45C7-907A-91A364A0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789-5E22-4DDF-B2B7-8A79D5E4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89F-D973-4691-B6D0-A2CE6F7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C24-AB47-4A97-8679-0FC4D18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BDD-42D8-489A-B500-34D27FC7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D5147-8678-49AE-A020-EB44906A63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, sweet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we forth with willing hand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soe’er to us He has appoi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ly our mission to pur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, sweetly, we will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love to mortal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rightness of the Father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here His blessing will best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kly, meek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faithfully the path H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ing wand’rers to the dear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ing sinners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12Z</dcterms:modified>
  <cp:revision>13</cp:revision>
  <dc:subject>Slavic hymnal Гимны веры христиан, hymn 553</dc:subject>
  <dc:title>Gladly Toiling for the Master / Дружно, дружно будем мы трудиться</dc:title>
</cp:coreProperties>
</file>