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F624-BE09-480D-85AD-84882E2D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7DBF-07F9-4071-A941-FC7EF022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D5C6-DE76-4A29-905C-635E70DFC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C042-4895-404B-B7C9-E7EF26AF9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F9E6-4E06-4EB4-BC36-8726F82D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584E-9DD2-43EF-831C-CFA9A598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7ACA-DFD9-4C17-8ABB-F2A4AFAB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9DB7-9C7C-47A8-BA3D-ED20FEFC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61FE-FB1B-4BC0-8086-1990FB47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CA56-41AD-400E-B8BE-AA1D4592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9886-46B0-41FA-A3E1-7F17D651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DEA5-F765-4655-9D17-A64087E3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F585E-19F3-4584-91F7-52613F005A6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what a beautiful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 of God, Son of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amb that was s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oy and peace, strength and hop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ace that blows all fear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what a beautiful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0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, What a Beautiful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what a beautiful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uth revealed, my future sea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led my 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and freedom, life and warm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ace that blows all fear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what a beautiful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what a beautiful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scued my soul, my strongh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s me from sh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eness, security, power and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ace that blows all fear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what a beautiful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1T14:49:28Z</dcterms:modified>
  <cp:revision>11</cp:revision>
  <dc:subject>The Source, song number 301</dc:subject>
  <dc:title>Jesus, What a Beautiful Name</dc:title>
</cp:coreProperties>
</file>