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F8C-8F06-44E5-87FB-815B6C26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F0D-0908-4A55-A6EB-73961C0B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7C7-D469-42C8-87A9-6986C9F2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56C-3DAC-4F62-9FB8-BF6572CC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203-2D06-4D41-A397-870C02A5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4B0-5BB0-47A5-991B-ECD8A46A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8087-D154-434E-9C39-37989EAA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14E-F580-484F-B9C8-4D1E56B8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B8A-8A21-4747-BFF8-BC76709E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F5BB-6909-4FEF-B5F6-F3460768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F122-BD9B-4303-A272-4BA30DDF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663-11F6-4437-B213-72C839E1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41EBB-37D4-40BA-9611-76295B4B1A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fear my faith will f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tempter would pre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n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3   Коли страх мене обгор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трах мене обгор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коли ослабне ві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never keep my h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love is often c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must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можу сам трим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на Тебе поклад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precious in His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He saves are His de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ясний час, чи в час нещас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ні недолі, чи у ща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not let my soul be l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ught by Him at such a c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ережи Сам мою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купив мене ці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0:31Z</dcterms:modified>
  <cp:revision>13</cp:revision>
  <dc:subject>Slavic hymnal Гимны веры христиан, Ukrainian hymn 33</dc:subject>
  <dc:title>He Will Hold Me Fast / Коли страх мене обгорне</dc:title>
</cp:coreProperties>
</file>