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533-A38B-4096-AC05-D46A60D2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2F4-C1D6-4639-BA4A-209C1D7E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254-DFA8-411F-BF32-EC3792EE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1BC-6217-4142-B578-B4DC5FA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164-263B-4253-886E-6BD0376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C95-F856-48F2-9322-9449E4A3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35A-87B5-4BD4-9A12-D517AFF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D12-9D62-4D6E-B4CF-34E96B02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ECD-5B71-4C53-B794-42152E8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FB6-AE77-4453-A63C-2EC4FB5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1B9-104D-473E-8F19-B064C60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D54-E288-4BA8-A8E4-E0846D8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D40E6-5189-42BC-BAEB-D466C2234F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те вы, все свят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рвутся силы з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ветильники поправ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я встреч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дрствуйте вы, все свя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ие Христ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яется всем сн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ссон белый, венец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Своим сей Царь держ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а мира у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се силы про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землю пос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прийти к нам обе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! Христос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датай защи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зайтесь, коль воз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то всем будет поз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14Z</dcterms:modified>
  <cp:revision>13</cp:revision>
  <dc:subject>Slavic hymnal Гимны веры христиан, hymn 319</dc:subject>
  <dc:title>Бодрствуйте вы, все святые</dc:title>
</cp:coreProperties>
</file>