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ED7-14A9-4AE5-9D10-34AC03A3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774-0F4F-415A-BE43-A8E5ECC3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5FB-229E-4463-B182-C1E3CBB9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481-15BD-4504-BECF-486A40F4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E48-5A5F-4085-9983-14701A60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373-DE88-43EC-80CF-E06D3E09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B36-6D10-4CDC-B77F-CBA8A06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C18-8317-42F9-A9D8-3EFB8E91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464-1D81-4EC5-818C-82E0B1D3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4E7-A2EA-4916-B410-C36DBCEF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A59-F4E6-4439-83AF-0E4FC848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21B-518A-43A0-A68D-FCD98C1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0E935-2067-4BA1-B537-49F27209BA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апостола так учит 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ствий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аркой битве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 имя — нам победы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крепляйся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я битвы не пытайся у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всюду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жет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егда мы будем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крепче вечных 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оды ли по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ламя попа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тит Он, чтоб верный у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02Z</dcterms:modified>
  <cp:revision>12</cp:revision>
  <dc:subject>Slavic hymnal Гимны веры христиан, hymn 501</dc:subject>
  <dc:title>Укрепляйся Христом</dc:title>
</cp:coreProperties>
</file>