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FA4-69F5-4E83-BCE7-40EAA155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D7E-A491-4854-9BA7-820C3382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0E4-CAD9-492F-A8AD-F032968D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311-A646-4BD9-AA6E-F35DA72A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48B-4DC5-4617-8115-CA086863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3A2-D818-4C0F-9D9E-46551B18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25F-4E70-43BA-AF92-EE23DAFD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BBC-784F-440B-B9BE-57DF80BF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D6D-6A5D-4E00-8DA1-D5649588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970-DF0C-49C9-98E7-1A87F630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E0E-D6BE-4A87-929D-0A89233E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8C2-B7C8-4630-92A7-95AECE3F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1CB43-0902-417D-ABEE-6B904C68F3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n of faith, rise up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great and gloriou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trong when you feel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brokennes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5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en of Fa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e up, women of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 and sing to broken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know the healing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awesome King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been through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been through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been r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’r of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fallen deeper in love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burned the truth on our l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e up, church with broken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place with songs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God who reigns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His grace again we’ll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4:32Z</dcterms:modified>
  <cp:revision>10</cp:revision>
  <dc:subject>The Source, song number 354</dc:subject>
  <dc:title>Men of Faith (Shout to the North)</dc:title>
</cp:coreProperties>
</file>