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793-2727-424C-93D7-2D051033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73E-A28D-4AAC-9C97-F84C724F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972-A55B-4769-BD4F-FA08A138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52B-9610-44CE-8B60-A5A01C4D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3A4-9AA5-4F8A-BDFE-64CBBE44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E61-9E92-40E6-8D0D-A328456F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8E6-87D9-4FE9-B4F4-79A36320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FF9-5C3E-4742-8E5D-F046642B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E3F-F6B7-43B7-994A-65464A5E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829-57AF-44A2-91EB-DA149D65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AED-AFFD-4F3C-ADBB-41402D90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766-F321-46D4-97D1-E817C79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6F794-85FB-4644-B2E1-FFE3141E58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!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!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 ца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ей и Господь госп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аллилуйя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князь Ты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аллилуйя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7:15Z</dcterms:modified>
  <cp:revision>11</cp:revision>
  <dc:subject>The Source, song number 307 in Russian</dc:subject>
  <dc:title>Царь царей / King of Kings</dc:title>
</cp:coreProperties>
</file>