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E14-44C1-46AC-9850-8E47E3F8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15B-AAAA-4A0F-B0F1-02C3B8E9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A0D-F014-46BE-A678-55019214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EFF-DF33-42F0-9E0A-2C4C8F24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D1A-B817-4036-89F7-AFA38EC1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BB0-0F22-4690-902E-82629C32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600-EEA7-4BE6-8A38-EE79612A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769-4B72-4EA6-826E-D9AEE587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7A6-3B95-4D78-8894-9684F979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249-5E0E-4956-99E8-DB499AC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CAC-5B02-417A-BD7F-C2D5EBD3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09E-2CD8-40DA-A94C-A7344BC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4CEE7-3E3B-41BE-81B9-213621110E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21Z</dcterms:modified>
  <cp:revision>12</cp:revision>
  <dc:subject>Slavic hymnal Гимны веры христиан, hymn 610</dc:subject>
  <dc:title>С ликованьем прославляем</dc:title>
</cp:coreProperties>
</file>