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F72-84BF-4CE2-8012-AF484583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88D-BE50-4214-B17B-B667FC8D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424-4314-4B9D-B433-C9B5B63D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37A-9BE0-4B99-9E7E-BC210D5F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DDB-A8A9-4280-9692-4D81862A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DFB-6941-4422-B51D-38EE2965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D2D-5A6F-4E8B-A766-87842A8F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6E7-C1B9-4248-B41C-FDBB66D2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47E-D77D-4C5B-AD96-57A124CE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B5D-64A3-4D37-BEA5-BEEF96C1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258-5670-4617-8348-C32E751D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AD1-6678-492B-A858-52F8235A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27F2F-85E6-41D9-8678-F6D034BFDD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ём сердце покой не от мира 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 сей не может от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а за бедой здесь лишают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ий мир мне да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оём сердце п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есню везде об Иисусе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моём сердц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ушла со сты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сменилася д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! как отрадно с То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аню этот клад в слабом сердце м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ждая по стезям зем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дёт Он о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меня в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света, в отчизну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1:17Z</dcterms:modified>
  <cp:revision>13</cp:revision>
  <dc:subject>Slavic hymnal Гимны веры христиан, hymn 642</dc:subject>
  <dc:title>В моём сердце покой</dc:title>
</cp:coreProperties>
</file>