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E4C-5E9C-4128-9A7A-971B4774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924-C713-4C44-89E7-D62D57D2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4FF-E741-49FF-A729-DE42F156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807-CA1A-45E5-B393-3359D012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9D7-1747-4371-B30B-EDF5B20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981-B1E8-4505-9AB0-7777C59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C18-E844-445B-96BE-86873F1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F06-5288-41F3-A212-5A9974E7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67E-888E-474C-9C50-7A050F0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096-51FA-4C90-99F9-CD7147A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472-902D-461D-9A6F-481B96F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4FC-DC3A-4862-8D38-2E24454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AF16F-7A29-415D-ADF6-3DA27D3075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9   You Did Not Wait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19Z</dcterms:modified>
  <cp:revision>12</cp:revision>
  <dc:subject>The Source 4, song number 2169</dc:subject>
  <dc:title>You Did Not Wait For Me (I’m Forever Grateful)</dc:title>
</cp:coreProperties>
</file>