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A3F-66C3-4462-82A3-D9DBF2CC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5A63-369A-426B-8D88-81DC8628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3DC8-609C-4B88-B766-79EB706E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99B5-4E5E-43CD-89A3-DB18D599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51E-C8AF-4E1E-B173-BE4B6D96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2FA-5567-4BD1-B973-4B3D7CA2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1485-638F-44CC-A613-54AADDDD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7FE2-8600-48A1-8EFC-DE345E1F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A50-A215-42E3-8B4D-94CAA05D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B24-2D30-4403-8AB6-854FC93D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A6B-9080-4F04-A240-09F70C14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1D86-3B9C-4875-B8C1-3809C292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3C441-6212-473C-945B-47316901804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it at Your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r love surround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kes me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his is my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his is my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2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o Be In Your Pres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rest 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rushing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herish each mo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would I st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his is my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his is my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0:37Z</dcterms:modified>
  <cp:revision>10</cp:revision>
  <dc:subject>The Source, song number 524</dc:subject>
  <dc:title>To Be In Your Presence (My Desire)</dc:title>
</cp:coreProperties>
</file>