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A59E-E102-4601-9E91-FA9682A0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458-41EA-4290-B626-7DF7F2DA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719-5B53-404A-A418-2FF2E7B7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0A4E-E514-4E3D-B4AA-F631D65E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0257-6F73-4364-8F42-488B3800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57E8-1D17-477E-96D8-E3CBE581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516F-36D7-4048-A661-09BE5638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0F77-E0D6-4057-8F62-93904093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6D7-B173-4A3F-9398-E2CE48F3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688-0CC4-49DA-AECF-6E6E00F4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DD6D-8605-4A3B-B6D8-CC86E4DB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5E0-E778-4780-82BC-48F4CF76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31AA8-7D15-49CA-A0A0-D912578ABC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mmortal, invisi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only w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light inaccessi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 from our ey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ессмертный, Незри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мертный, Незри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знающи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и д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нас неда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st blessed, most glor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cient of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ighty, victor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reat name we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енный, С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и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лавим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resting, unh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ilent as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wanting, nor was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rulest in m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м постоя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ихий, как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авит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ходит в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justice, like mount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gh soaring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clouds, which are f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goodness and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праведл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еки ве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дивная ми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all, life Thou giv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oth great and sm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ll life Thou liv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rue life of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м и ма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лага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ённых и ве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лаженству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blossom and flour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leaves on the t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ither and per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aught changeth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цвет, наша сл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пепел и тле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янем и сох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без перем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Father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e Father of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angels ad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veiling their s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вечной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ный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ьский сл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raise we would ren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elp us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only the splend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light hideth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ь нас, Предв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 нам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м свете ходить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рывае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6:27Z</dcterms:modified>
  <cp:revision>12</cp:revision>
  <dc:subject>Slavic hymnal Гимны веры христиан, hymn 878</dc:subject>
  <dc:title>Immortal, Invisible, God Only Wise / Бессмертный, Незримый</dc:title>
</cp:coreProperties>
</file>