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F85-F21B-4EE9-A43C-41DBB041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67F-B2EC-41B6-ABC7-3765BBC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938-E78F-4ADF-9E68-27B21E88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A27-22FE-492E-B469-9F108514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116-F5F6-4CC1-9DFA-C41EDCE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E26-C41E-47CE-8999-E233F007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4E9-913E-4836-9FD3-85396A35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62C-B94D-4F97-8423-D23FEEB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36-53BD-4870-AC0F-C68E21E7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F68-BFD3-4D4A-94BB-241A648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C8E-9214-47A0-801A-4A13778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9C9-1058-4ABB-BD81-4581F2E7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681FC-1A0C-42DD-86CD-AF9C731FFE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сь дружными ря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ните ряд зна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данны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в Божий лег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тесь дружными ря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я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том, как Он,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пасает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брань и крик вражд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граду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ю радостной, хвале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злобу заг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мо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раждебную тол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а могла сми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ть на Божию тро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очувственных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собранье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вангельем, моль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привлеч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усер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рошюры раз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бовью милосер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к жизни проб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17Z</dcterms:modified>
  <cp:revision>12</cp:revision>
  <dc:subject>Slavic hymnal Гимны веры христиан, hymn 543</dc:subject>
  <dc:title>Стройтесь дружными рядами</dc:title>
</cp:coreProperties>
</file>