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4490-C88D-4E82-9EE8-D5D204A7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C184-1B16-4192-9993-2D23B140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958C-61C9-42EA-A930-10686FEAC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4489-7D33-407B-8B94-14CAC5003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8CFA-C001-4D0C-973B-5C3D855F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8B2E-D0C8-447B-AA91-9FAE8F5D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8ED9-3826-4E09-908E-81813200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B904-723E-474C-A9A8-234C9C75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EC78-FA44-4E5C-A034-93C51218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3971-B996-43F4-8902-126FB9F0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05CA-F7FA-40A7-95AC-8E29BBE4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73AE-79A2-42D2-876C-1246FB57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B0192-F9B5-4CCE-A868-EB554A27259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Рождестве благую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ал Бог ангела прин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гачам, не мудрец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бедным в поле пастух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Христос, пришёл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род от бед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Рождестве благую ве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свет их оси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ень ангел им сказ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бойтесь! вам рождён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людям радость Он принё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Христос, пришёл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род от бед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е небес т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глась чудесная звез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вестила мудрец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Царь сошёл к Своим раб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Христос, пришёл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род от бед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луч звезды для уха 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ёл он мудрых в Вифл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ет, что ярче всех све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огий домик озар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Христос, пришёл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род от бед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шли смиренно в мал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али ниц перед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ладенцу поднесли да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шли с хвалой в свои дв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Христос, пришёл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род от бед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2:50Z</dcterms:modified>
  <cp:revision>12</cp:revision>
  <dc:subject>Slavic hymnal Гимны веры христиан, hymn 814</dc:subject>
  <dc:title>О Рождестве благую весть</dc:title>
</cp:coreProperties>
</file>