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762-C7C0-4362-A12B-AF84F243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2B1-6597-4A3F-BD8C-0FE3424D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B38-4E39-4E9F-A653-8994D380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BFE-6132-4929-A593-AD50D070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9CA-56A3-4D30-8C67-59A11366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EFC-7A9E-4637-8062-2FE249DE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F4A-68FC-4116-ADA1-EB144A08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7C5-F641-4E1E-A1D0-92617F96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FFC-20F5-4CB5-ACC5-050812DE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7CB-596F-4454-BB57-A6BC8F92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B9F-9FB7-4998-B1D8-F42BD6BB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375-00A5-4075-9E31-1BA583AF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4800A-7B3A-45F4-B55C-0BFC38C179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—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Господь, Он —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 из мёртвы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ним склон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свой возвы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Lord, He is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risen from the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Jesus Christ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2:22:11Z</dcterms:modified>
  <cp:revision>14</cp:revision>
  <dc:subject>The Source, song number 158 in Russian</dc:subject>
  <dc:title>Он — Господь / He is Lord</dc:title>
</cp:coreProperties>
</file>