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F54-ED32-49AD-9077-592A80CB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3C-9AF4-4F8D-A39B-C272D32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96C-DB7A-4E38-8855-291EF429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862-F904-4852-96D6-AF8F6EA9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7E4-F356-4986-9044-B755060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C7B-2B36-47AB-B932-68850608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1DE-CF6C-4682-AEF8-5A3EC546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22E-90E5-4FAA-84AD-29C4158C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6B9-3336-4445-A969-9817F1CF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2FD-8791-449C-8C06-0130F0F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C74-3992-44BD-8DFD-323E5647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A82-662C-408B-84FB-16C0D57D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647C2-FD3E-4AAF-8041-AB0BA12A16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ий Завіт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вірним обіця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2   Дорогий Завіт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орог тебе зв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шляху, що ти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що Він го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ерце перес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повати на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чуй з вірою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ні життя кін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остання хвиля 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й тоді звучать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7:18Z</dcterms:modified>
  <cp:revision>12</cp:revision>
  <dc:subject>Slavic hymnal Гимны веры христиан, Ukrainian hymn 42</dc:subject>
  <dc:title>Дорогий Завіт Ісуса</dc:title>
</cp:coreProperties>
</file>