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9AF-48D6-498C-8F1A-083ABD9A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5D6-A822-4B1B-B6F3-BE64C51C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FE8-99AF-4476-92C3-584D78F9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060-147D-4EF6-ACF6-4A360CC1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9A7-451E-45F3-8128-04DFFAF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405-3A06-484F-A0FD-149C1A6F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F80-6C13-4E25-9DAB-DC9692B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C56-5D38-409D-9628-AA266644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1FB-FF6D-4827-A87C-0DA3BF3F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A7A-80C5-4797-BE15-D4AD091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25F-ADD6-4A66-ACA1-E3CDB24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8D3-21F8-4171-9A5F-C12EDAF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9BFC-DD81-4972-BC40-BA1ADE3416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4:21Z</dcterms:modified>
  <cp:revision>13</cp:revision>
  <dc:subject>Slavic hymnal Гимны веры христиан, hymn 288</dc:subject>
  <dc:title>Christ Arose! / Во гробе Он лежал</dc:title>
</cp:coreProperties>
</file>