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354-F9EE-4FBA-A0AB-2FF504B7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430-4978-4039-8530-1C1EEA8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532-36F2-4790-AAC7-D897B993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AE2-39B0-4B40-A7B3-14184326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397-AB58-4E79-B56E-6F97EC0F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4B9-2558-4951-8596-E3B2C26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872-6635-4A55-96E6-0BE8715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FB8-A5F7-4097-B811-2855FAF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542-687E-451D-9E2A-B6B6519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E33-C066-465E-A8DD-1CCD567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E85-C4CA-4269-8CE9-579B4B1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5FD-8B87-48CA-A34B-5B4655F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3AFB-1412-4509-9D84-34D18AE0C7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enderly calling you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from the sunshine of lov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ther and farther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 the weary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Him your burden and you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not turn you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, O come to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oday, wait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your sins, at His feet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 longer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pleading, O list to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 today, hear Him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believe on His Name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Quickly arise a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0Z</dcterms:modified>
  <cp:revision>13</cp:revision>
  <dc:subject>Slavic hymnal Гимны веры христиан, hymn 401</dc:subject>
  <dc:title>Jesus Is Tenderly Calling You Home / Чудный Спаситель зовёт нас домой</dc:title>
</cp:coreProperties>
</file>