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C19-3722-42E9-90A6-20A45E80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B28-5FD2-4E18-ABC0-BBE6AADC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94A-481E-48F0-BDEC-7F903317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04B-8BBE-465B-9CDC-9B0A5C95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E8F-E1A1-4244-8B4B-63B14B7D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F52-D5D2-4549-9FD9-AB6FA42E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EBF-A6A2-4D28-94B8-751C33E0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B51-6882-4B59-AF90-3DF644CF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E95-1384-404B-9AB2-A017762D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556-BA5D-45A8-A004-C9490F89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687-A6C3-45A4-865A-579257A5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786-46D1-4991-9791-98F19FF3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A6892-A5E9-420B-833D-30B3832036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My Life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35:03Z</dcterms:modified>
  <cp:revision>11</cp:revision>
  <dc:subject>The Source, song number 230</dc:subject>
  <dc:title>In My Life, Lord (Lord, Be Glorified)</dc:title>
</cp:coreProperties>
</file>