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is the promise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shall be seasons refres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t from the Saviour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ть обещал нам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в те дни изоль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а на всякую пло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reviving ag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ver the hills and the valle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nd of abundance of rain.</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живляют вок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место бесплодной пусты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явятся рощи и луг.</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d them upon us,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to us now a refres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and now honour Thy Wor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шли также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кругом засых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га нужна всем сердца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that today they might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to God we’re conf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on Jesus we call!</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дай нам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когда мы взыва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на нас Ты пове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5:43Z</dcterms:modified>
  <cp:revision>3</cp:revision>
  <dc:subject>Slavic hymnal Гимны веры христиан, hymn 11</dc:subject>
  <dc:title>There Shall Be Showers of Blessing / Благословений потоки</dc:title>
</cp:coreProperties>
</file>