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394-BBC1-4FEF-8441-5566A759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262-523B-4B87-85E2-A6F61FBC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70A-375A-430E-A4AA-0FEAB143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4BD-7FE5-4845-A08B-6FDCCB6F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069-D970-4987-B44A-AA0D9D89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20D-4F72-43F1-A0F5-E7C5FAC7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8D0-5F72-431A-ACE9-46F0C383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2D8-7360-4D4E-A165-06D40174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7E8-B61D-419D-AD0B-D96C0E7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24F-D13F-4D0D-A18C-B06B6EB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9D0-4D08-42B5-9232-E985A673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713-E285-4386-8925-210B6A5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04452-7F79-4FC1-AC11-D8B5F99CB4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 с ликова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непоб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клоняется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те с ликовань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венец нес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в спасень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тол вступил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хвал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ли люди з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ем Христа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вс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честь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гимны ликова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хор небесны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Царь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му всё пок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6:14Z</dcterms:modified>
  <cp:revision>12</cp:revision>
  <dc:subject>Slavic hymnal Гимны веры христиан, hymn 297</dc:subject>
  <dc:title>Посмотрите с ликованьем</dc:title>
</cp:coreProperties>
</file>