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88F-3C95-4C13-9237-6BCAAF7A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E9C-A684-450E-9BD6-4AC08900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F1A-7225-4222-A347-82261783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47C-751B-48FE-85FB-F6D74EC0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591-FE43-4341-BB43-CB0448F7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316-36B7-40DF-8C9B-6D6E56C8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122-78AD-45C6-A026-AA783511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902-A68B-4F5B-A74A-5C35E88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067-763B-46CA-B7EC-C2D589C4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2AD-9BA0-4975-A60E-0436EA3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EEF-87D0-4C92-AB8D-FE51EAA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142-964A-4DF2-AAFB-5C79686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A7F68-BC9C-4A25-A836-2CAA7DD5F2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6   Бог добрий є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09Z</dcterms:modified>
  <cp:revision>12</cp:revision>
  <dc:subject>Slavic hymnal Гимны веры христиан, Ukrainian hymn 106</dc:subject>
  <dc:title>Бог добрий є!</dc:title>
</cp:coreProperties>
</file>