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B959-07C9-4AC0-ABEE-2F8C4D55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4F9D-A632-40FD-8A4B-19A58A53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3EF0-A210-4D68-8DCB-DB338E1B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3D8F-536D-4DE5-AD83-9335CACD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15BF-846D-4493-BA2F-E55D426F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67B8-41E1-4312-BD1A-338CAD9F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3473-FF91-4610-AC0B-7F83D9DC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A9E5-49A4-4411-98EA-1AFCE07F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A5B0-69D2-4E27-A594-0ACD45D5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1F5D-4CD9-4A90-9AD1-BF9AB4DA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D93E-FEB9-44E0-83E3-4545B714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D365-8180-4D9B-A8A9-3414FA1F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6B4DD-ECE1-4F42-A43D-EABCB7E8C14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know the way, though it is hidden from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You are there my heart is filled with pe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y should I fear when You go on before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oth night and day You set my heart at 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ы знаешь пу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наешь путь, хоть я его не зн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нанье это мне даёт по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чему тревожиться мне и страш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ень, и ночь, всегда томясь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know the way! The time of my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s planned before I even lived one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heart is filled with wonder and el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You have loved and led me all the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наешь путь, Ты также знаешь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план давно уж для меня го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лю я, Господь, Тебя серд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илости, заботы и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rd, You know all, the winds that blow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ighten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torms of life Your orders still obe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even though my burdens may not light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ill, I’m at peace, because You know the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наешь всё: откуда ветры ду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рю жизни укрощаешь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еизвестно мне, куда и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спокоен, путь мой знаешь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32Z</dcterms:modified>
  <cp:revision>14</cp:revision>
  <dc:subject>Slavic hymnal Гимны веры христиан, hymn 617</dc:subject>
  <dc:title>You Know the Way / Ты знаешь путь</dc:title>
</cp:coreProperties>
</file>