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414-AB7B-409B-9B2D-AD867B48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9EB-37A7-436F-B1BE-ED4035F6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67B-CAA8-44F9-B652-DDB30C91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07F-180A-4F38-9001-72524764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4F3-C4D5-4A7D-B9BA-8BE6919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3C9-BF59-4F64-987B-B296DE6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DBF-E39C-4170-9FDD-17F66B41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5E0-202C-4CCD-A7CD-ECCBAC9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1CB-024A-438E-9F3C-20051E5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461-9DCA-4FAF-911F-D8FE053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E0D-4954-4DE2-AEFA-D97DCC6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D25-532F-4543-9711-1F57C67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12DCD-93FD-4AC3-904F-9B9960D8AD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 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 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 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 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 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 найден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35Z</dcterms:modified>
  <cp:revision>12</cp:revision>
  <dc:subject>Slavic hymnal Гимны веры христиан, hymn 372</dc:subject>
  <dc:title>Пастырь Добрый ищет бедную овцу</dc:title>
</cp:coreProperties>
</file>