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C0A3-FD84-4C49-850D-CFCBB7AA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3D15-423F-41D7-B022-837B93F5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92C1-11FD-4F1D-B055-875AE234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0E7D-CFDB-405D-9DA1-ED003F16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4AD4-4DF0-415F-B568-13D5F80E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3605-4A77-48DF-BA9F-798AFF3A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03BA-F822-4BC9-BFAD-6E5EB202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89B8-1D4C-491B-BBF4-78CF117B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8E0C-4050-429E-9A3A-367C0C3A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95E8-7B06-4721-98AE-3E0D6F72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7D79-DA44-425F-B0E4-8AC9645D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5D8C-E0D8-4374-AB48-AE8B1AAE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13D9D-D25E-4549-96A7-0DE0FBE1618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угроз, не мучит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звёзд на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анный дом и мир кра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ю родном спасённых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дом, где радость и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день, где вечера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зовёт, и мы и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ведёт нас в вечны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де нет угроз, не мучит стр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земной ликует х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река живой в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чистотой сияет вз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града ждёт за все тру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дом, где радость и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день, где вечера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зовёт, и мы и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ведёт нас в вечны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асший день взойдёт свет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лнит Бог хвалой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родных, своих дру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ам найдём у ног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дом, где радость и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день, где вечера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зовёт, и мы и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ведёт нас в вечны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2:08Z</dcterms:modified>
  <cp:revision>12</cp:revision>
  <dc:subject>Slavic hymnal Гимны веры христиан, hymn 812</dc:subject>
  <dc:title>Где нет угроз, не мучит страх</dc:title>
</cp:coreProperties>
</file>