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8B8-4EE2-4C43-A125-8B1E2573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FCF-6584-4EC8-9003-4815AF3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894-9BB1-4769-B804-61FBC3F4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3FF-7C04-4338-9188-FE020EE9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20A-5A3B-45EF-8381-B0CBBBF8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B16-036C-4C76-AB65-2D83518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993-8394-404E-804C-A367DE58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826-910F-4461-8E77-C979E9A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7B5-A38D-4094-83CC-556C035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BA0-CCA7-4E80-8B9B-6888344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221-CE21-45D6-9704-E96336E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31E-6B52-4DC2-A8C6-38F89BD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FBC44-D3B7-44BE-8B8D-EDF8E39D7B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and keep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’s the one I’m wait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50Z</dcterms:modified>
  <cp:revision>12</cp:revision>
  <dc:subject>Slavic hymnal Гимны веры христиан, Ukrainian hymn 114</dc:subject>
  <dc:title>Every Day With Jesus / Кожний день з Ісусом</dc:title>
</cp:coreProperties>
</file>