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450-209D-4F45-A122-9D63E902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1D2-CD78-463E-A9D4-EBA8F4DD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B04-4192-4991-8186-F28688AC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90C-D3C8-44F6-A771-9D29C478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55E-F67A-479C-9733-9D160259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D57-2A7D-4BB0-81BE-0AD85CF2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B62-5DC4-4EEA-94BF-99A866CF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239-4712-44EE-AE61-825FCB81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4C3-14F4-483E-AE3B-4DF193F4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977-4AF5-42B5-9369-38CAD27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EBE-A505-4860-9A95-C57C8DC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1C2-1C5A-45BF-916F-C0196FEE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20FA5-E240-48F5-94D9-8162026094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меня так люб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мне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это — прав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то 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я знаю так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просты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х и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их, как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меня так лю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тички в день вес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, взирая к не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цве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вся 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наш вечно бла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являет прав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сметных чуд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лн восторга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ую вес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 начал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лен я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о грешном вспом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силах я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каждым днём отра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сти той вни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57Z</dcterms:modified>
  <cp:revision>12</cp:revision>
  <dc:subject>Slavic hymnal Гимны веры христиан, hymn 759</dc:subject>
  <dc:title>Отец меня так любит</dc:title>
</cp:coreProperties>
</file>