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0C32-FD32-416D-8DA1-293333F75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7AF4-E144-4958-B322-04059FB9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198B-0AEF-4D25-A5F2-09234B36D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9B76-69E9-412E-AD0C-8B3FE0DF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82DD-B774-4FA2-8E70-101D0455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DC38-1104-47C8-8BBC-FBA3E18C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6FE8-6466-47A4-925E-55E52669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9DD8-732A-4808-85D7-E4470AC3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6257-AFED-48FB-8E54-2A959A20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A2DE-47A6-4B57-A256-674291FF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69E3-D62B-451E-B6EA-F9A2BC89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D8EC-9EC7-478E-B632-0CB6DC80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CDF773-D8B1-4447-AE43-7C1EB517845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терновый возлож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а главу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честь и власть Ему вруч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,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хор Ему по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салмы святых побе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Царь царей, Господь госп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ба вечны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нец терновый возложи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и на зем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счастья —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о приблизил Он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 дал любви зак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крест нести им сужде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давит скорби гн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имя славное да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радость не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 страдают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жить на небес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познают они в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ивен Он и бл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терновый, крест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ринял наш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ют надежду для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ли в небо вх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6:50Z</dcterms:modified>
  <cp:revision>12</cp:revision>
  <dc:subject>Slavic hymnal Гимны веры христиан, hymn 436</dc:subject>
  <dc:title>Венец терновый возложил</dc:title>
</cp:coreProperties>
</file>