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EBEA-342F-4D26-9296-EADC6F7F5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71CA-B020-43C1-8DD2-A9FB8AE7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8D83-F05A-494E-8E38-C8F7CEF97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FA01-B501-4E24-9CC1-D08C60D7B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3889-58C7-4593-B805-1A95036A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74C4-F688-42BB-8FA3-A3BCDD7F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D0F9-C69E-4C8E-8F60-17E332F3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C284-4465-47D7-A325-D752213F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05D6-C76E-4C9E-9D00-D7353E19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F788-9979-47B8-85C4-0CF53090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8ABD-0797-4D0A-B44A-E1A67F2B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F6A4-6391-46CD-9C35-0F62D505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91D93-3CFA-4094-A5C2-FD96BF0DE49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Christ alone my hope is f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my light, my strength, my so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cornerstone, this solid g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rm through the fiercest drought and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heights of love, what depths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fears are stilled, when strivings cea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comforter, my all in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n the love of Christ I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311   In Christ Al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Christ alone!—who took on fles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ullness of God in helpless bab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gift of love and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corned by the ones He came to sa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ill on the cross as Jesus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rath of God was satis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’ry sin on Him was la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n the death of Christ I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n the ground His body l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ght of the world by darkness sl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n bursting forth in glorious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p from the grave He rose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s He stands in vi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’s curse has lost its grip o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I am His and He is min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ought with the precious blood of Chr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guilt in life, no fear in de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the pow’r of Christ in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life’s first cry to final bre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commands my desti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pow’r of hell, no scheme of m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 ever pluck me from His h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ill He returns or calls me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n the pow’r of Christ I’ll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0-12-18T08:44:39Z</dcterms:modified>
  <cp:revision>12</cp:revision>
  <dc:subject>The Source 3, song number 1311</dc:subject>
  <dc:title>In Christ Alone</dc:title>
</cp:coreProperties>
</file>