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F184-DA13-4B95-A7E1-2BB82D0E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5802-2BB4-492F-B68A-B831812F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0995-50E2-4B7A-A732-3E840477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7840-9A6A-4D12-9BF7-6EA099E36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0797-08CE-44A7-BD42-8ED1DA3B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6FD7-1FC4-451F-8295-CED881F0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4D41-52B9-47C5-BAC8-979A36B9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CAA2-4E0C-41AB-8F92-520FD55C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8EAE-95D3-438D-9458-0BC7E547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F94A-DE06-4F06-B4D2-289FB9DF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599A-6661-45EE-9A46-420864F4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0C6B-203A-484B-B768-A7ADD944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77214-6889-48E7-9332-3DCE040598E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, Боже, им счаст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ногие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бурь и ненаст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в мире хра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жизнь их прия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но теч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ет благода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ом да проль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ай, Боже, им счаст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удрость им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 жизни 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тств всех доро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нить Твой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освящ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аимной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небу стрем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ах обн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дежде свящ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их утвер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веры бесц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них соблю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видеть им я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 ними Твой Д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хочешь Ты вла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ить их, как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9:28Z</dcterms:modified>
  <cp:revision>12</cp:revision>
  <dc:subject>Slavic hymnal Гимны веры христиан, hymn 739</dc:subject>
  <dc:title>Дай, Боже, им счастье</dc:title>
</cp:coreProperties>
</file>