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E84-60DC-4A40-B297-4B8F498F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36C-8741-4F83-B2EE-F2D3CE7B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766-A755-4D76-840B-7C64393C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641-29C2-4FF2-82F4-EE385963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B13-54E1-4D3B-A2FB-515D2222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0EE-BDEA-4402-BD80-49F6F776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60D-0C25-4C3C-9636-B49C8AD0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3AB-1F04-4D58-A415-4A21D167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F5D-CC2E-4C49-9924-7E9406BA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451-F766-4589-A6C3-4840711A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6C9-0F86-4873-BA34-CF062CC5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062-CD94-46AA-85CF-44BC567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0A6EE-E861-4AB1-A7FA-A03FC5CA1D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within my heart a mel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hispers sweet and 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I am with thee; peace, be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of life’s ebb an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ердце песня н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песня новая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 тобою всюду, Я — тво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йся тьмы зе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life was wrecked by sin and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cord filled my life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wept across the broken st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rred the slumb’ring chord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ю терзал грех и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разбитый я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сподь меня к Себе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нов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sting on the riches of Hi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’neath His shelt’ring 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 looking on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why I shout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итаюсь от 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ю я под Его кр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Его не закрывает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пою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sometimes He leads thr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ers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als fall across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sometimes the path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gh and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His footprints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рой чрез воды Он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ат меня тру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тречаю длинный ряд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зде — Его сл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He’s coming back to welcom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wing my flight to worlds un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ign with Hi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идёт опять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ойду я в светлый мир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4Z</dcterms:modified>
  <cp:revision>13</cp:revision>
  <dc:subject>Slavic hymnal Гимны веры христиан, hymn 574</dc:subject>
  <dc:title>He Keeps Me Singing / В сердце песня новая звучит</dc:title>
</cp:coreProperties>
</file>