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1BC5-3560-4442-97A1-C27B825A3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23AB-B8B0-4AFA-85C7-38A7EE52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A548-50F2-4629-A203-9AB5A31DB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215B-AF41-4531-B037-D1817124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AB5C-B447-46CC-B399-F95861EA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E4E6-83AE-4C37-8FAA-E5E41672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EABF-EBA1-4D40-AD95-871F4763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D769-C7BB-4500-91F9-7A3B800A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A56C-73F6-461E-8A00-59E574CB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73F1-FC1F-43D5-93C8-4E3ECC50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07BC-01CD-474D-8BA9-CE82F314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0A86-1425-4849-8AF5-ED5D245C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1E832-B072-4D54-869D-13C6B65DCB2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Jesus, my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name is Jesus, Jesus, Jesus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3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e’s the Saviour of My So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0-12-18T08:25:23Z</dcterms:modified>
  <cp:revision>10</cp:revision>
  <dc:subject>The Source 2, song number 732</dc:subject>
  <dc:title>He’s the Saviour of My Soul</dc:title>
</cp:coreProperties>
</file>