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403-515F-4313-BE7B-E22D7697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728-AF1C-4CAD-A4C0-13C80097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876-2054-49FA-880A-F8B04702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540-A581-4EF0-BB23-741702FF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7A7-B258-4241-A4EE-152CBD88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49A-2959-4137-A18C-F31D7E3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F68-536B-4B76-9BC6-DA4873DE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3A0-4BA8-4BDE-8466-B6240934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709-42EA-4D9D-BF16-7A32EE89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226-EBC2-400A-8BB7-9264DC4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029-F6B3-404F-B34F-173E5EEA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972-DD76-420E-894C-AED5FF1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7346B-2401-496F-959E-DFA8307B03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Иисус воскр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явший торжест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ь людей к Отцу возн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лавленный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ее Ма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припасть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обзать перст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той радостной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осподь Иисус воскрес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 и цепи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вечною раз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ной землетря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звал мёртвых из мог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 и к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скре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благ го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моей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щё лежат пе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ём рабе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кани мёртв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аю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явися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ими следы мог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связи, дух гнету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Твоей свобод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всё светлей си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я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ой дух приготовл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стрече Вышнего Ц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ссмертьем в смертном т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е подобен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и святые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осущест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20:06Z</dcterms:modified>
  <cp:revision>13</cp:revision>
  <dc:subject>Slavic hymnal Гимны веры христиан, hymn 293</dc:subject>
  <dc:title>О, Господь Иисус воскресший</dc:title>
</cp:coreProperties>
</file>