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8</a:t>
            </a:r>
            <a:r>
              <a:rPr b="1" lang="ru-RU" sz="3600" spc="-1" strike="noStrike">
                <a:solidFill>
                  <a:srgbClr val="ffffff"/>
                </a:solidFill>
                <a:latin typeface="Verdana"/>
              </a:rPr>
              <a:t>	</a:t>
            </a:r>
            <a:r>
              <a:rPr b="1" lang="ru-RU" sz="3600" spc="-1" strike="noStrike">
                <a:solidFill>
                  <a:srgbClr val="ffffff"/>
                </a:solidFill>
                <a:latin typeface="Verdana"/>
              </a:rPr>
              <a:t>Придите, дружно воспоё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идите, дружно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открыл небесны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нитесь, грешники, по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ите вечного доб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ходит ночь, взошла зар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дружно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кажите близким и чуж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ходил с небес и с нами 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ядите! Снова к нам гря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казнь принял за Свой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енье, славу Он не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дружно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Ликуйте, верные,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жизнь и мир, хлеб и в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наше солнце и наш щ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любви и правде утвер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 и тело сохр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дружно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любит нас!</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7:55Z</dcterms:modified>
  <cp:revision>3</cp:revision>
  <dc:subject>Slavic hymnal Гимны веры христиан, hymn 28</dc:subject>
  <dc:title>Придите, дружно воспоём</dc:title>
</cp:coreProperties>
</file>