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C3A-170E-426D-9754-F0915529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64F-D3CD-4395-8FF5-C29E847E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333-9911-491B-BF1F-3582A28C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39C-B190-4290-9EC2-E9990ABC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682-0C9B-4195-956F-719B7D90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51E-4DFA-461F-B87C-EB32C99C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307-40C2-42E5-A77C-76B9AF75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511-5418-41BD-9D8A-FDBBAA8A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109-AA48-4494-B1D0-B3C78B64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253-E6CC-4EEB-B9FE-A7889CCB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513-AD7F-40B6-816A-3B33CF10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5E0-D6E3-48AD-9B46-40F52197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0DC54-B878-4912-8F98-0F3B901371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green hill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side a city w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dear Lord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to save u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холм зелёный т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холм зелёный там в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родской ст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распят был за гре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ем мы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ay not know, we can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pains He had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e believe it wa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ung and suffered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муки пере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м мы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, что страда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нам да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hat we might be for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o make us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e might go at last to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by His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прощень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, предав себ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по Его сле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as no other good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ay the price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only could unlock the 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eaven and let u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й Он достоин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грешных искуп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та небесные лишь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людям о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2Z</dcterms:modified>
  <cp:revision>13</cp:revision>
  <dc:subject>Slavic hymnal Гимны веры христиан, hymn 418</dc:subject>
  <dc:title>There Is a Green Hill Far Away / Есть холм зелёный там вдали</dc:title>
</cp:coreProperties>
</file>