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591-7D16-4971-9FDC-89FA3B49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AC2-855D-4EBF-8E6D-88015DB7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8BB-26CC-478A-94D2-AF2FBBBA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2F8-AB83-424F-91BC-C3FA842E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751-726A-41C9-8C89-03C8EC48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0E7-11D9-4B66-A949-5FA97DF2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834-91F8-47CA-881A-821D3B5B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56E-46EB-4425-9319-C4009E4F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435-9877-4F2A-B95B-511EB887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EE5-9F52-42B4-900E-01535BE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B41-3D29-43C7-8E4C-AD838335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AC3-5F29-4A58-B928-3322DCED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2E611-4457-4E27-939F-2ADC01FD7B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с вы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у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лость мне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Агнец Божий,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лноты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сердце силу в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у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мер Ты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й нам, обрат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пути зе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и скорб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ца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 утро обр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данья прек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озволь с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ути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мерти л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уёт и при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 Тво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т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22Z</dcterms:modified>
  <cp:revision>12</cp:revision>
  <dc:subject>Slavic hymnal Гимны веры христиан, hymn 829</dc:subject>
  <dc:title>О Агнец Божий, Ты</dc:title>
</cp:coreProperties>
</file>