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49A-3D36-4907-B035-219647C2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626-8886-4B37-8391-050BD65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A23-9316-4966-85FF-0F3A70F9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155-7FB5-44A4-8154-67BE2728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909-4667-4EE1-B454-D16A7F3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42C-2709-4573-9B3D-338105D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19D-E447-4F5E-AF82-45AF3D3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5CF-BF55-4F42-B5FC-9BF8D03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099-F5E7-4519-BAF2-48C818A8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DA7-60D4-4A57-B001-CBAA049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706-C30E-4329-B3A2-D178168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997-2367-4EE6-8348-F8CAAD0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F395-B883-4E1D-872F-49AF06051F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се лику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се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ден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ёстры, торжеств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чуж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ми м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приступ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 Синаю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уж не пуг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ы, мол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со кре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аслись от г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и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и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ить во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0Z</dcterms:modified>
  <cp:revision>13</cp:revision>
  <dc:subject>Slavic hymnal Гимны веры христиан, hymn 569</dc:subject>
  <dc:title>Let Us With Rejoicing / Братья, все ликуйте</dc:title>
</cp:coreProperties>
</file>