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EC2-8A73-45E5-84A4-1430D26F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6E2-9A72-4CBD-B5BC-66DB2AF7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C13-E263-46C7-BF6B-3820856A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408-B0D7-4203-86A9-DD52E07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F97-EF11-4C5F-8EC4-1C5CFB0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DFB-4014-497B-B5A3-9A7E1D25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22B-D879-4A2B-8AE7-F26E2F90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441-98E7-4473-99F4-F6A8A88B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8E1-3C62-485D-AE11-FAE9811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0AC-E28B-4CFA-B77D-43F04B8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4AD-EAF0-4E29-8AD3-3118B75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377-6BCC-4A7E-BE10-A02C029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3F4A-264B-47CE-825B-F4560D192E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8Z</dcterms:modified>
  <cp:revision>13</cp:revision>
  <dc:subject>Slavic hymnal Гимны веры христиан, hymn 620</dc:subject>
  <dc:title>Is My Name Written There? / Я хочу не богатства</dc:title>
</cp:coreProperties>
</file>