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1A45-18D3-45A5-8EC4-96AF8CFC4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41D0-E314-468E-96F6-AD8538743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03FD-C886-4D8C-A2A0-E66872C0C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D0A2-1928-4CB3-90BD-20C82625F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1314-F537-4707-A978-1606F2CF9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5FBA-13B3-4111-BB9B-4277E8FB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4BC3-DE49-4A77-A25F-060C9382F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8407-367E-4B94-9867-5C1950352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C3AD-8BEC-46B7-8EFA-77D71B32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2BBE-8DA2-44F9-8539-15E19B53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F226-279A-48BD-BF50-B944EC32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1614-E152-48B2-AAC6-AE10E352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19BFBA-230E-4E33-BEE6-1D3487CA2AF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мотрите, лю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большим удивлень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удто мы сделали с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едный страдал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омой от рожд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оровым стоит перед в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семогущей десницей С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рит чудеса и спасает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7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Что смотрите, лю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мотрите? раз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бе не та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мало различных болезн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с верой в молитв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исусу прид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т вас для жизни полез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семогущей десницей С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рит чудеса и спасает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мотрите, лю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ас, как на ди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мело идём на мучень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Христом мы спокой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бодны, счастли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жизнь, благодать и спасен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семогущей десницей С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рит чудеса и спасает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ень славный Христ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вленья на земл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нимите ль гордые вз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вдруг завоп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испуге смертельн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кройте нас, камни и горы!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семогущей десницей С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рит чудеса и спасает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, гляд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на Иису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мольбой, с покаяньем сердечны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аст вам спас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жет в служе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будете в радости веч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семогущей десницей С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рит чудеса и спасает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25:14Z</dcterms:modified>
  <cp:revision>13</cp:revision>
  <dc:subject>Slavic hymnal Гимны веры христиан, hymn 770</dc:subject>
  <dc:title>Что смотрите, люди</dc:title>
</cp:coreProperties>
</file>