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DFE8-7B38-4F61-947F-A7A89DA94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486D-AEFE-4EC0-867F-69EB99DC6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0F7F-3686-4543-AFF9-2C4D20F29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CDF3-822F-4C9F-8B83-79788F6B7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3116-CB20-4AFD-A529-775820625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A459-11CD-43FF-ABD2-5266D6966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8846-8B0D-45CB-AADC-945B9F3DA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8D39-72A6-4A89-AC13-B148BC90D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B60E-786C-40B2-8AB5-8856FBFF9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175F-13CE-4DC5-B913-DF02B37B7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BFFB-3909-49D6-9FB9-7B0A8CC5E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7C76-7BEA-4B4D-AB75-B1ABE4439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38D8E7-FF30-457A-AE15-1CCF967045F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glad in the Lord, and rej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ye that are upright in he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ye that have made Him your ch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id sadness and sorrow dep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7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спряньте, воспой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ряньте, воспойте, ликуй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тые кровью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 новую песню воспой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му, Кто вас спас от грех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, rej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glad in the Lord and rej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, rej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glad in the Lord and rejoi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те! Ликуй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езвитесь и славьте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те! Ликуй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езвитесь и славьте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joyful, for He is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earth and in Heaven supre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fashions and rules by His word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“Mighty” and “Strong” to rede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им Того, Кто на земл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шёл, чтобы нас оправ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ти нас ценой Своей кро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частье навеки нам 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, rej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glad in the Lord and rej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, rej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glad in the Lord and rejoi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те! Ликуй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езвитесь и славьте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те! Ликуй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езвитесь и славьте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though in the conflict for 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r enemies almost prevai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’s armies, just hid from your s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more than the foes which assa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илу нам даст и побе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битву с грехом укреп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ю Своею поддерж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ухом Своим утверд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, rej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glad in the Lord and rej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, rej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glad in the Lord and rejoi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те! Ликуй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езвитесь и славьте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те! Ликуй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езвитесь и славьте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glad in the Lord, and rej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praises proclaiming in so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harp and with organ and 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oud hallelujahs prolo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йте со всеми святы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ебную песню То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нас искупил Своей кровь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слава вовеки Ем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, rej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glad in the Lord and rej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, rej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glad in the Lord and rejoi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те! Ликуй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езвитесь и славьте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те! Ликуй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езвитесь и славьте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7:45Z</dcterms:modified>
  <cp:revision>13</cp:revision>
  <dc:subject>Slavic hymnal Гимны веры христиан, hymn 573</dc:subject>
  <dc:title>Be Glad in the Lord / Воспряньте, воспойте, ликуйте</dc:title>
</cp:coreProperties>
</file>