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28CB-2B03-41A3-959B-53C26C124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C1AE-C3E6-469C-B29C-BF82EC39F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F29B-9599-46F4-9215-91B3EEBCD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544D-2C5B-433E-A04C-B55C82C62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B478-7E0D-4659-BA6B-530A564A6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5ADC-1E25-48F0-B9AA-042290805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8221-9056-413A-A5F5-A25279633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49E3-55D9-4DCD-B495-A01EF9D4C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E80D-5966-421D-971A-016994C38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601F-07F8-4D9B-9791-AEF62DFD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8439-09AA-44DA-9ADD-ED76F707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0097-D077-4567-BBC6-EB9865D9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3FCB19-4C9D-454C-81AB-A91B2AA4434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m I a soldier of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follower of the Lamb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hall I fear to own His cau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r blush to speak His na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5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я ли в воинстве Христ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я ли в воинстве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всю жизнь служ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хочу ль я скорбь кр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радостно дел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be carried to the sk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flowery beds of ea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others fought to win the priz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ailed through bloody se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капли крови на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роз ли мне жел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вот, хотят чрез ров ид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ль в страхе отстав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there no foes for me to f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not stem the flo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this vile world a friend to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elp me on to G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да ли нет передо м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лышу ль зов к борьб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мир красивой суе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анит меня к себ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ure I must fight, if I would reig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crease my courage, L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ar the toil, endure the p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upported by Thy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нет, кто хочет побед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должен в бой вступ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бой иду! Христос со м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— слабый — с Ним гер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5:04Z</dcterms:modified>
  <cp:revision>13</cp:revision>
  <dc:subject>Slavic hymnal Гимны веры христиан, hymn 456</dc:subject>
  <dc:title>Am I a Soldier of the Cross? / Не я ли в воинстве Христа?</dc:title>
</cp:coreProperties>
</file>