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ECE-1FC4-49FF-900A-1A3374A2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2EF-347E-4111-826E-45470647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666-B134-475A-9924-063E25E1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600-90C2-4509-9B4F-4F7BEC45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56C-303A-43B7-82E4-E63E04D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17C-F00A-42F2-9825-96144C5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7C0-4019-49AA-BF63-C9F62C98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498-8E74-439A-95CE-BEE49B0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0B8-78F4-44D1-A25F-669859C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FE4-F783-4D49-8EB0-C4D30D9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A78-6248-4905-B85F-AF4203A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9EC-3C0A-4DC7-A980-AF2AABB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B5279-39AC-4C81-8330-38AE072867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a roadway in the wild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vers in the desert wi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 will f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Word will still rem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do something new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29Z</dcterms:modified>
  <cp:revision>10</cp:revision>
  <dc:subject>The Source, song number 134</dc:subject>
  <dc:title>God Will Make a Way</dc:title>
</cp:coreProperties>
</file>