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B6B-0404-493C-A54E-08F3AD8B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315-34AA-47E4-BC5E-E22BF16E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E59-8685-4C0E-8D2F-EE707EA4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6A3-B663-4D9D-B989-12BB8836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B2F-864E-4A68-BDBE-31F9C7F0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009-0562-4AF9-856D-686547D0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386-E20C-4889-AE2F-767C2A17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44C-BDB6-47C0-8506-B2B9A10E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8F3-7E68-4DF8-B4CE-EFA3877C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61E-B92D-436D-BF95-24393F1E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EF1-2D68-40DD-89DF-FA58914C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BA7-E4DE-4B19-A9E8-75CBDE49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B89F5-CEDE-4EC5-B30B-DCE5A9ABC0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alling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fallen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8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riend of Si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giving my lif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given my lif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36Z</dcterms:modified>
  <cp:revision>10</cp:revision>
  <dc:subject>The Source 2, song number 687</dc:subject>
  <dc:title>Friend of Sinners</dc:title>
</cp:coreProperties>
</file>