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956-79CC-4BD0-9203-E22C7F84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058-61D5-4E49-BE24-D26E1B5F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062-179A-4AAD-A51F-D7725DB1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C01-C8AE-4FBC-ABB6-D86B20EF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F22-58CE-4FAC-A220-6E848DA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4B2-8BDE-471A-AF0B-95CC565C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D72-65B2-4608-B990-58AFBC8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437-2D72-4F1F-8766-025145C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D5B-FE8F-4741-B043-04A2E60A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3CE-4440-4D4B-8215-EA6D646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DB6-76BD-41C6-85AF-D73CD6DE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DC7-02EA-4280-B3F0-6443DE1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064B-A7AF-47E5-B930-E07BE46215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ношу Тебя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ебя в п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я, что Ты —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, Отец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на землю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путь продолжил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з заб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креста в царство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туда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, чтоб нам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59Z</dcterms:modified>
  <cp:revision>11</cp:revision>
  <dc:subject>The Source, song number 330 in Russian</dc:subject>
  <dc:title>Возношу Тебя, Господь / Lord, I Lift Your Name on High (You Came from Heaven to Earth)</dc:title>
</cp:coreProperties>
</file>