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C180-78E7-4549-931F-920833E0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2578-D407-4ADB-90E3-7A5CB037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C9CF-501B-4872-9BF5-00B8A6EB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6E6A-9BBD-43B7-BAB2-18DA7F09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3269-85AD-400D-8726-6E0AB3EC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C8F-4EA9-4DA7-82A9-58F3DD15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3083-1DDB-46E2-89B6-76409297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BAF9-DC1D-46F4-B331-EA1D1325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1B75-4510-4858-9841-7343B0D7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0A16-2F78-4CCA-A2F2-AC92AEF2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1A2B-F4DC-4D7C-8E73-14D51609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89BD-DAC0-41C8-BEAB-7BAAD009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8AE23-0218-4D4A-AD87-98E1A727DC0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a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God’s own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cious Lamb of God, Messi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O our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iving us Your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aving Your Spirit 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k on earth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9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re is a Redee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ame above all na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cious Lamb of God, Messi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for sinners s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O our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iving us Your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aving Your Spirit 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k on earth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stand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ee His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I’ll serve my King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at Holy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O our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iving us Your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aving Your Spirit 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k on earth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5:59:47Z</dcterms:modified>
  <cp:revision>10</cp:revision>
  <dc:subject>The Source, song number 492</dc:subject>
  <dc:title>There is a Redeemer</dc:title>
</cp:coreProperties>
</file>