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DB7-1A52-42B3-B82D-B9BD2A5F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958-B443-4905-ACB9-4922C3DD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D0D-A2F0-4AB1-B812-2130656F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110-6488-4F14-9CF3-8A00AFAF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7D8-040E-49EB-BD67-1C13597A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115-0414-4CEB-87B5-CD451F5B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9EF-8F4A-40D4-BE0C-B7179B5C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FDB-6148-427D-8D5B-42B0EAB2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626-324E-439F-80CF-FEA7E9E6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AB9-76E0-4FD1-A3B3-9253E59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5DC-47CD-4D1F-8055-A436E0C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1ED-7865-4202-ACD7-2245626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9774-9240-4B7F-AFAC-5D85016866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ttle town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till we see thee 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morning stars,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holy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s sing to God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up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is born of M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ortals sleep,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atch of wond’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rous gift is giv’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ings of His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ear may hear His com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is world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eek souls will receive Him,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out our sin,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ear the Christmas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glad tidings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r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8:21Z</dcterms:modified>
  <cp:revision>11</cp:revision>
  <dc:subject>The Source, song number 393 in Russian</dc:subject>
  <dc:title>О, малый город Вифлеем / O Little Town of Bethlehem</dc:title>
</cp:coreProperties>
</file>