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69B-C0D9-4AAB-ADE2-10BBA338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4FA-2771-4E07-80BB-0C82D192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25D-0A3D-4DE4-A68D-B6C4FD87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265F-BB98-4EFA-9AC5-5473070A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666-CCF6-4C9F-BF62-060E7271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27E-9477-411E-8785-0789889E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402-85F6-40B7-AE10-B84C209D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96C-A1BF-45C8-BF8F-764A019A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8F7-E847-4B0C-829A-49B924A9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FC4-56D9-4945-9AFA-6D89B2A2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D57-F8C4-4482-AE48-97090640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885-DC34-49FB-982B-57D53D01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D27E3-6C7A-47DC-B96B-BD1AF8FF95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был на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 и 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преданный грех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 тебя, откликнись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 и муки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, чтоб ты не 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р с небес несу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, радость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что ты впустить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6:40Z</dcterms:modified>
  <cp:revision>12</cp:revision>
  <dc:subject>Slavic hymnal Гимны веры христиан, hymn 394</dc:subject>
  <dc:title>У двери Я твоей стою</dc:title>
</cp:coreProperties>
</file>