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47D2-D4F4-4441-AD3A-A5DD27C2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FD4-70C1-4F74-B8B5-1E12D4F1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4D55-C04C-4D8C-AC8B-15BFC9D4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F3D-FBB5-4B29-B054-D5ACF5C1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55EA-8728-4C62-BE54-B2A8F832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C21-67DF-43F7-8574-D6FE93AB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76E7-F055-44DC-8CCC-C35B64B4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987-A2A4-4601-9E0E-E9CD1235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7A66-1210-4744-9BC8-C73A15F1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3D72-1DAC-476D-87D9-2CFE088E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8BE-4FA5-4CF4-BF4C-C3D921B3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4BF-8091-4DB4-A6CE-BADFE8B8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97D1B-9210-42B0-B564-81DD5ABE8A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y of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-consuming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glory, rose of Shar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are and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now my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forter and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nderful, so beauti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83   Joy of My Des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 in spirit and in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 in spirit and in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will never be a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dear to me a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7:46Z</dcterms:modified>
  <cp:revision>12</cp:revision>
  <dc:subject>The Source 3, song number 1383</dc:subject>
  <dc:title>Joy of My Desire</dc:title>
</cp:coreProperties>
</file>