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FBE-C883-48A9-B187-332AB03B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8C6-7B43-4139-9CBA-BC8B168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7A9-85CE-4A91-9F52-0540047C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FDF-EDF8-4907-BAD3-01E8E771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E7A-9A3D-4F86-81EF-243271C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47A-B2B2-4E81-90A9-0DE4A2D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869-14E6-4833-BAC2-7E85A5A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255-398C-497B-AE59-0B1EE5B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D2C-1C0B-4D4E-9808-0C02342D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CD2-7615-4E51-B008-A9AA42F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C77-A001-4184-87DC-683FAE2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28C-9F4E-4865-94B6-F5E6C84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05D4-9936-4FA9-B750-63755ECAD2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on of Jud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that was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scended 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more will re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end of th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earth You re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gather the nations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’re the Lion of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ye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ixed on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 wisdom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ustice He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shield in 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sword at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fire in 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annot be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Father has told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se You hav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that gather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ed to hear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descended to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was raised up to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33Z</dcterms:modified>
  <cp:revision>12</cp:revision>
  <dc:subject>The Source, song number 606</dc:subject>
  <dc:title>You’re the Lion of Judah (Lion of Judah)</dc:title>
</cp:coreProperties>
</file>