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16B-5DBF-4D4D-9892-3528AE8B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918-8590-461D-9063-9D7D10B5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53C-5953-4BD3-AD28-1994F7F5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64B-EF54-4FF2-B686-20A892BD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4A9-89CD-4FAC-9090-D74B28F6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FF4-F2F0-4B54-8061-CDE1A97C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336-8AD3-4E49-986D-12BE6C80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BA8-9B79-4DC7-98CA-6BC1933D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979-AFAD-4E2D-80FE-6AC17C9A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B6D-4590-4FA1-AC0F-753B397C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5C8-3C70-47F8-9EC5-DC7DD260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68C-BDF2-48CD-9346-A4D9E00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14A7E-F5C9-404A-8E86-3E9150389D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ги Господа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пойдём, чт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ам пр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овета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нас напр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илы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обно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 к тру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чущий хлеб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жаждет, к источ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мы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слугой сво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мрака и лж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ь должно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славить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ржеством воспе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небесн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рует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обитель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одвор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и песнь вос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42Z</dcterms:modified>
  <cp:revision>12</cp:revision>
  <dc:subject>Slavic hymnal Гимны веры христиан, hymn 525</dc:subject>
  <dc:title>Все к труду!</dc:title>
</cp:coreProperties>
</file>