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D68-BC7C-4929-AC9C-68CE6381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36A-A946-449E-B5DA-1144574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24F-C5EF-489A-9350-B0F690FA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E57-0D36-4AA1-B137-90C331CC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730-17E0-47C9-830B-5625DBB7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B0F-ABA6-4106-A063-D1ACD753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276-0924-4701-85F0-A7AA823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BA1-E4B1-4FBA-9A27-00647CE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9BC-BD5E-4AC3-8ED5-E0EA7CCF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9DA-D7C9-4F14-B3D3-CB2DE7A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E76-101A-4BE4-B3A9-5B1856B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8FD-35CF-4823-829A-DFF55FBD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012D2-A29D-4A50-9949-4E1C0F4095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s we come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o receive the food of Your holy 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ake Your truth, plant it deep in u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hape and fashion us in Your likene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the light of Christ might be seen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our acts of love and our deeds of fai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fulfil in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ll Your purposes, for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48   Speak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ach us, Lord, full obedie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oly reverence, true hum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st our thoughts and our at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the radiance of Your pu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faith to ri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eyes to s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Your majestic love and autho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Words of pow’r that can never fai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Let their truth prevail over unbelie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renew our min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elp us grasp the he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of Your plans for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ruths unchanged from the dawn of tim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will echo down through eter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grace we’ll stand on Your promis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faith we’ll walk as You walk with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till Your Church is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the earth is filled with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04T06:24:27Z</dcterms:modified>
  <cp:revision>13</cp:revision>
  <dc:subject>The Source 4, song number 2048</dc:subject>
  <dc:title>Speak, O Lord</dc:title>
</cp:coreProperties>
</file>