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883-CA12-477E-81F0-F6588BA5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C59-69A6-475C-8D35-87FA1CBF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1D2-0BE7-49A3-BC79-76FFAF53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2C5-22E0-4E29-A76D-B5E5B0E3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9AD-BC95-49CE-8FBA-CA799C71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461-17CA-463E-A898-03E7125F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B3F-719A-4205-9A33-E408DA29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93B-A036-4CC1-B528-44721204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2DC-64EF-470B-B45E-6D05C650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EFB-DEBA-40B0-9D5A-42A45E98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586-A283-4A55-8151-7C6093BB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104-BE3F-4B89-B882-EF2E116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32F37-9B5A-4A30-9CA7-DCB741E910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King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on the clouds with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His love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ing over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8   I See the King of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gene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ing up to take thei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near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rring as we pray an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y heart and make it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my eyes to the things un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me how to lov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my heart for what break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am, for Your Kingdo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alk from earth into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00Z</dcterms:modified>
  <cp:revision>12</cp:revision>
  <dc:subject>The Source 4, song number 1898</dc:subject>
  <dc:title>I See the King of Glory (Hosanna)</dc:title>
</cp:coreProperties>
</file>