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E99-B13C-47D2-997E-313F6648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3D8-A437-46A8-B05A-DA60B6EC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CA1-E815-4EB3-8898-BA45506D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4A4-7568-42AB-8DC1-C68B18FD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84A-976F-4B31-A5B8-2943532D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C99-0C6D-448D-8E3E-77DA46CD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675-AE87-4F6E-A192-1B210B3A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15B-30A7-49BB-9225-D6803AA9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047-7FB2-40D6-A236-A3B4240A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C29-78B2-43A6-9CD9-2D8F5A28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21B-E9DC-444D-934D-30CBEEE2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EAA-45AF-44F7-8368-6C1D3308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37312-BF20-4938-973F-F6D21903C3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бый скажет: я сил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 скажет: «я силё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ажет: «я бога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т: «вижу!» кто был сле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это сделал Бог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 скажет: «я силё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ажет: «я бога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т: «вижу!» кто был сле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это сделал Бог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Иисус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Ты распят, но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e river I will w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sins are wash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heavens mercy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Saviour’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ды жизни я вх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мыл грехи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и С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явил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from waters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e saving arm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salvation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 has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усь я из глу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и вечно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что во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овой жизни я воск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Иисус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Ты распят, но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3T09:31:02Z</dcterms:modified>
  <cp:revision>14</cp:revision>
  <dc:subject>The Source 2, song number 862 in Russian</dc:subject>
  <dc:title>Слабый скажет: «я силён» / Let the Weak Say “I Am Strong” (What the Lord Has Done in Me)</dc:title>
</cp:coreProperties>
</file>