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6</a:t>
            </a:r>
            <a:r>
              <a:rPr b="1" lang="ru-RU" sz="3600" spc="-1" strike="noStrike">
                <a:solidFill>
                  <a:srgbClr val="ffffff"/>
                </a:solidFill>
                <a:latin typeface="Verdana"/>
              </a:rPr>
              <a:t>	</a:t>
            </a:r>
            <a:r>
              <a:rPr b="1" lang="ru-RU" sz="3600" spc="-1" strike="noStrike">
                <a:solidFill>
                  <a:srgbClr val="ffffff"/>
                </a:solidFill>
                <a:latin typeface="Verdana"/>
              </a:rPr>
              <a:t>Господи, к Тебе я поднима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и, к Тебе я поднимаю в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ищу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а томится с давних п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где обр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ёзы туманят оч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 счастью нет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Господь, я ж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 же я п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где обрет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осподи, к Тебе хочу при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хочу на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частье и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меня, я —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ы мне можешь счастье 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можешь мир посл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нять с души тоск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ечную тоск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етом осия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осподи, услышь мольб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це радость мне по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енье и любовь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еки обр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ю, со мною — дивны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торый в жизни с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еной Своей кро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енье мне куп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счастье в полноте.</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28:10Z</dcterms:modified>
  <cp:revision>3</cp:revision>
  <dc:subject>Slavic hymnal Гимны веры христиан, hymn 216</dc:subject>
  <dc:title>Господи, к Тебе я поднимаю взор</dc:title>
</cp:coreProperties>
</file>