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EE58-7F49-45C6-B48C-98911871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C540-87D0-4EA0-A23F-A23D84C1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2A91-0011-43E7-A620-043740D2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794B-FFE3-4C5B-92D4-69AA27DF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FB11-B864-42E9-94B7-5816D2BA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3544-A117-44AC-B996-A1CBD545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1C1D-574F-469D-AAA0-6474964F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A3E7-3988-4B77-860E-3E5E88D1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18FB-5F1D-4D5B-A79B-196A59D7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A51-BE4A-48AF-A4E8-6D3FF5F4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5B5C-2A0B-4A7D-BC82-8870FC32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B758-1E08-4A4A-A0AD-3C13996F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7492A-2BFB-4C24-B217-FB97705BCA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’ve forgo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ds that You have spok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omises that burned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have now grown d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doubting heart I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aths of earthly wisdo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 me for my unbelie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new the fir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32   Jesus, I’ve Forgot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have mercy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have mercy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built an al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I worship things of m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taken journ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ave drawn me far from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now I am ret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r mercies ever flow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ardon my transgress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love You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have mercy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have mercy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longed to know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Your tender merc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a river of forg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 flowing without 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bow my heart befor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goodness of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forever sh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a beacon in the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have mercy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have mercy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8:01Z</dcterms:modified>
  <cp:revision>12</cp:revision>
  <dc:subject>The Source 4, song number 1932</dc:subject>
  <dc:title>Jesus, I’ve Forgotten (Lord, Have Mercy)</dc:title>
</cp:coreProperties>
</file>