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F919-F05A-4AE1-B48E-F890F20D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148E-F660-4E3F-B2A5-35BF3B73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1732-FA3A-47BE-916D-B93A85EC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583C-EFB1-4A49-9B8E-EA66F911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F125-D3A0-40A7-8C7A-15659977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68C9-EE8D-41D2-BF0A-D7FBD664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0EFC-46E0-44F7-9CD0-2730E1C0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BED1-3939-4A7A-97C7-24799811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021D-C725-4F4A-B235-3BDEE747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35F5-55F6-4B59-8FB6-DFC2263C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2D07-291D-4A85-8460-5D218A54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FF2F-8BE3-436F-8671-7B399321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C8F2D-B2FC-4C95-91D9-384ED2AFB9A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saving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s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everyt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ing Y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ed Your blood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s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ok my sin and sh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sinner called b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7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ank You for Saving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e know Your truth has set u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ve set Your hope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rcy and grace are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’n is my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my only hop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aviour of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,” we c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, let Your kingdom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Word has let me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sav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e know Your truth has set u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ve set Your hope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saving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s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1:58Z</dcterms:modified>
  <cp:revision>10</cp:revision>
  <dc:subject>The Source, song number 472</dc:subject>
  <dc:title>Thank You for Saving Me</dc:title>
</cp:coreProperties>
</file>