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D699-B883-47B9-8618-A8666092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4212-BE6A-42F5-9A9A-7F08534A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2954-136F-4FBF-B60D-C2C4EB6E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D845-2F0B-4EA7-A2D6-4B6ED941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9C0-1C26-41E5-A17B-18CDDB3C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C6D6-A1E9-4D8A-9A39-C6BD2361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C9ED-6EA0-4A9F-8E77-28E3421C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A960-2D9A-46A0-9C08-07F8F773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5BD8-95D2-4500-BF42-F8A0D7F9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3CA1-871E-447E-97D2-E69F3F86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178-DA5E-4E80-A7CD-E9C0FB0A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BE5A-BEAC-4944-99DC-60792657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33834-DBAD-4E4A-A243-DBA0BEBCF0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three kings of Orient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ring gifts we traverse af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ld and fountain, moor and m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ing yonder s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, волхвы с востока ид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волхвы с востока 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 дары, не глядя на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устыню к Божью Сы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ий кончают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tar of wonder, star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r with royal beaut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stward leading, still procee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 to thy perfec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tar of wonder, star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r with royal beaut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stward leading, still procee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 to thy perfec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a King on Bethlehem’s pl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ld I bring to crown Him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forever, ceasing n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us all to re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флееме Царь нам рожд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м почту Его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ковечно, бескон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вать будет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tar of wonder, star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r with royal beaut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stward leading, still procee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 to thy perfec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ankincense to offer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cense owns a Deity nig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yer and praising, all men rai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ship Him, God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дан в дар несу я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ебес пришёл в нищ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опенья и мо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идут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tar of wonder, star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r with royal beaut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stward leading, still procee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 to thy perfec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rrh is mine, its bitter perfu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s a life of gathering glo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rrowing, sighing, bleeding, d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aled in the stone-cold to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ны горькой запах бла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хранит в юдоли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иновных Умерщвл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ерт был в гроб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tar of wonder, star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r with royal beaut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stward leading, still procee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 to thy perfec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ous now behold Him a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and God and Sacrif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,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to heav’n re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ен Он, Воскресши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и Бог страдал за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7:30Z</dcterms:modified>
  <cp:revision>13</cp:revision>
  <dc:subject>Slavic hymnal Гимны веры христиан, hymn 231</dc:subject>
  <dc:title>We Three Kings of Orient Are / Вот, волхвы с востока идут</dc:title>
</cp:coreProperties>
</file>