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089-E50F-4691-873D-2C6760F2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740-392C-4C7B-A8E5-9DAC465B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A37-E196-4E0A-B00D-935671F7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62B-6A9E-41AF-BF4D-B3C2D2F0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D3C-7754-4CE3-9BB4-95FD4FD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363-97B0-44B5-B8DA-9A6C675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5B6-9A40-45E6-880E-8EDA3699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B68-6900-4108-A94A-3994B4D2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8D1-FFD8-4865-BDAE-C94E63D4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076-A3B9-4297-819F-A68E9CD5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57A-4A1E-4A88-A28F-E155301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4C0-34A5-4860-BFFA-BEFAA3E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A17E3-0DFB-4431-AD9F-106A3A55ED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11Z</dcterms:modified>
  <cp:revision>13</cp:revision>
  <dc:subject>Slavic hymnal Гимны веры христиан, hymn 622</dc:subject>
  <dc:title>Сладко верить в Иисуса</dc:title>
</cp:coreProperties>
</file>