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6BB-CF87-47E6-AE89-D130B305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796-A016-4EBA-8AB3-0631A49C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CA7-170B-4488-B75F-266B5A62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77C-5E7E-4E28-8CFF-905D7037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DB8-4FC5-4C33-A654-DF58033F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3BD-95BC-4ACD-8541-B7AD71CE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CBC-E8F4-4BE4-B6E3-84EAE7B9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71F-7130-4B0A-84B1-F46D1F50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6CA-B87E-4649-AAA6-3389D6BF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065-61F0-4383-95FD-BE1EED1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8B9-B31F-4970-A038-D7C798DB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D28-3D3F-4679-BF7D-0FED709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F5A37-F269-4BB4-84AB-8E711CBE94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Him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a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’s Not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38Z</dcterms:modified>
  <cp:revision>10</cp:revision>
  <dc:subject>The Source, song number 133</dc:subject>
  <dc:title>God’s Not Dead</dc:title>
</cp:coreProperties>
</file>