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47C0-94DF-4FF9-B1F8-64854BF22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2116-CA89-4DD0-8D36-419071F8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9F58-AB61-427C-A147-A0A7362D3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7504-4303-45AC-B5F8-569327F53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AA1D-DCD1-48C1-95DB-94808F83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801B-FDCB-483E-8562-7E0F90E2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438B-D1F3-411C-A173-15ADA4FB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AC86-DAD0-4046-B0A4-EA2EA182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A96A-2D2F-4938-B4A1-4C9EACC3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0845-35B8-46E1-A774-767EAB02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9AC9-CBBA-4D28-9897-0A5198B3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5819-DB1F-457D-B7DB-DDAF29F2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5B64A-50BB-43A9-9A03-B5877B5053D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crowned with many crow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rule all things in righte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crowned with many crow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pholding all things by Your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rule in power and reign in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Lord of heaven and ear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Lord of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Lord of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9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You Are Crow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9:35Z</dcterms:modified>
  <cp:revision>10</cp:revision>
  <dc:subject>The Source, song number 590</dc:subject>
  <dc:title>You Are Crowned With Many Crowns</dc:title>
</cp:coreProperties>
</file>