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BDA0-4401-43EF-9C27-64ED29A7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4E52-FB47-46D5-AD1B-19C82A83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E86E-B61B-4640-A901-F3D76114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C4A4-5AAD-4B39-A4B2-180B3A3A9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1A82-64AC-4E0C-B8D2-8B27BEDC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2041-5C7E-4D23-A1AB-AE744627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C318-80EC-4AEC-BAA5-604BB7AF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BED8-FA1C-43F4-B353-8A6C8A33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44E1-3B77-494A-8050-5A26AA2B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48E7-71E8-4105-B846-ADF5A39F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5BD0-15F1-4BBD-8165-69A28ABC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D1B7-2868-4916-897B-B9384447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7DD7C-AF9B-44E6-A57B-2BC36335612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за меня в могиле бы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 суда меня освобод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я вам говор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радостная в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 за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Себя грех мира возло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олг души греховной заплат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я вам говор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радостная в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ищ, но полагаюсь на Н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аб, но верю слову я 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дети Божии имею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я вам говор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радостная в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достоин, но сомненья н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приходящих ждёт Его при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я вам говор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радостная в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1:15Z</dcterms:modified>
  <cp:revision>12</cp:revision>
  <dc:subject>Slavic hymnal Гимны веры христиан, hymn 635</dc:subject>
  <dc:title>Спаситель за меня в могиле был</dc:title>
</cp:coreProperties>
</file>