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0B1-B2AA-49AF-8F49-4F3C9B15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047-4CCB-4EC5-BA09-2F9EB2DA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76C-B087-4E43-B773-35E1A967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BA3-A10D-4B36-AC07-5B9A0BA5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CBE-5F74-4019-8881-4937355B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D84-DC87-4D68-A9E5-023BA6B1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81C-9433-4931-A53B-292F9C03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D73-7C29-4BB2-A7DB-D45D3848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BF1-505A-46BB-92A2-E250FC00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0ED-CBF8-40DE-A8AB-2F920A71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FA0-4FFA-43C3-BF00-CD499CCC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0AB-E4B5-442E-9259-2B8B2233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34E14-5D25-48E8-A629-1E99D0D311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царство, где Иисус цар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Божиих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туда их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 царство, где Иисус ца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еловеческих сы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гнут тех в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е, кого от все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увижу в том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ех, кто средь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озлюбили больше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ечный Бога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47Z</dcterms:modified>
  <cp:revision>12</cp:revision>
  <dc:subject>Slavic hymnal Гимны веры христиан, hymn 755</dc:subject>
  <dc:title>То царство, где Иисус царит</dc:title>
</cp:coreProperties>
</file>