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0FE-9238-4672-B768-B04372E7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249-F625-4751-970B-642B1994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124-723D-4142-B543-38AD5F82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7BDC-57A6-4C99-A1FA-67FD0BB5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94E-DE31-473B-B7C6-50D100E7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C5E-840F-48BE-AE89-3AE3C22F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8D0-8321-48FC-91BE-4BFF8EEE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435-0B89-41C0-A5E1-8D5DF596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E02-C4EC-4DF3-AD5A-F5309357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803-EA3D-48A2-BA7D-E9907857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30F-E8F7-4961-90F4-35449D2B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D47-F66F-4706-ADBD-CECA9768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7A3FD-7855-42F1-BB61-2AB2888A48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я ли в воинстве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ю жизнь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хочу ль я скорбь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радостно де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капли крови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оз ли мне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от, хотят чрез ров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ль в страхе отста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я ли в воинстве Хрис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а ли нет перед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лышу ль зов к борь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мир красивой суе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анит меня к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кто хочет побе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олжен в бой вст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ой иду! Христос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лабый — с Ним ге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49Z</dcterms:modified>
  <cp:revision>12</cp:revision>
  <dc:subject>Slavic hymnal Гимны веры христиан, hymn 456</dc:subject>
  <dc:title>Не я ли в воинстве Христа?</dc:title>
</cp:coreProperties>
</file>