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F0D08-403C-49BA-AC50-EBC302593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2EB6E-079A-4AEC-AFA4-C289C3E19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19C6F-5005-477B-9DA5-CCFC3BD2E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AB667-79C4-46EA-A8A6-23C505736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168AC-BE54-418E-8390-CD36BFB3B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3BFAA-2FEB-459E-9DEE-001209204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1CE03-256D-4A09-B919-75473EB6B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23C47-0DDF-4EF2-94BE-9C002C316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7B6C1-3E5D-4F3A-99C3-759D1C47E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08C2A-EAFA-44D4-B9E3-00ED6BB0A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59B54-C4A8-4C96-81BB-A8C0516D4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DA686-DED4-4441-8FFC-571ED30BE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FC233F-1160-4FB8-99FA-C608650C9F23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8298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 чудесно змінилося моє житт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дколи я Христа пізна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я маю спокій, за котрим я шука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дколи я Христа пізна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дколи я Христа пізна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дколи я Христа пізна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труми радості в душу мою все пливу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дколи я Христа пізна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45720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37   Як чудесно змінилос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28600" y="914400"/>
            <a:ext cx="98298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лишив мандрівни і блукання мої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дколи я Христа пізна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гріхи всі мої, змиті з моєї душі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дколи я Христа пізна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дколи я Христа пізна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дколи я Христа пізна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труми радості в душу мою все пливу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дколи я Христа пізна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914400"/>
            <a:ext cx="98298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надію одержав тверду і певн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дколи я Христа пізна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я більше не маю вагань, ні страх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дколи я Христа пізна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дколи я Христа пізна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дколи я Христа пізна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труми радості в душу мою все пливу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дколи я Христа пізна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" y="914400"/>
            <a:ext cx="98298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в долині смерті, є світло для мен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дколи я Христа пізна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є певний, що Він є зі мною ус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дколи я Христа пізна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дколи я Христа пізна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дколи я Христа пізна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труми радості в душу мою все пливу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дколи я Христа пізна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914400"/>
            <a:ext cx="98298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в небесний дім йду, де Господ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жде мен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дколи я Христа пізна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е я вбачу Ісуса лицем у лиц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дколи я Христа пізна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дколи я Христа пізна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дколи я Христа пізна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труми радості в душу мою все пливу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дколи я Христа пізна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9T02:35:22Z</dcterms:modified>
  <cp:revision>13</cp:revision>
  <dc:subject>Slavic hymnal Гимны веры христиан, Ukrainian hymn 37</dc:subject>
  <dc:title>Як чудесно змінилося моє життя</dc:title>
</cp:coreProperties>
</file>