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999-77AA-4F6F-9A63-074E7352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65D-97F0-4587-87DD-008566D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6D3-F886-4582-B0D9-2B36956C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DE2-CE8F-40B3-B25B-0418BEE7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1C4-6784-431C-B936-1FF002C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EA2-C61A-4E35-A87E-D1F84DA3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C39-D095-45BD-8B75-E11EE0DF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9C0-DEB5-45F8-9388-FB01F920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11A-81D7-4CC4-96E5-8369CCA7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7B0-8A70-44CC-8D63-A77BE6A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168-B12E-4396-9992-409648E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860-D38E-4879-AF5F-6B45E1A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E4F5B-2DC8-4D3F-802B-A76326429E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27Z</dcterms:modified>
  <cp:revision>13</cp:revision>
  <dc:subject>Slavic hymnal Гимны веры христиан, hymn 813</dc:subject>
  <dc:title>Мой в небе край родной</dc:title>
</cp:coreProperties>
</file>