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881-CC2A-4CA3-B6BC-6EC9C20D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26D-5113-4A3B-8981-2836E670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484-7523-41A1-9DA4-D0F02C61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DA1-669B-4FE0-8136-876610E4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B7E-4D60-471B-9C3D-3E1741FA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D48-6490-4BF4-97C3-1B9F9176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755-A199-47B3-BC74-CECA6DBA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75E-75B7-4E9C-B979-828DD98B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3EC-1EE7-4D0E-95EB-E0551E87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C2D-57C0-406F-B4A8-25D03CB7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1CE-193C-4E89-9D79-16640D0E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A4C-5C56-4B52-A845-31F4BDEF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069D9-3DA0-459A-BD80-9B6AD44E96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оен колодец в пустын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ен он светлой кристальной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ди идут по неровным пу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заветным воротам, к далёким кра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огие с жаждой в устало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дят, не видя колодца т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учшего ищут они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ибнут в пути, не найд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строен колодец в пусты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ые приходят к колодцу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ей вопрошают: когда, поч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ем он был вырыт? и спорят о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поре проходят их лучши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ые приходят к источнику 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но пьют из живой глуб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овою силой стремятся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заветным воротам небесной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идишь ли, друг, ты колодец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нися, не спорь о начале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аждешь, ― и пей из колодц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век на земле не возжаждут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6:18Z</dcterms:modified>
  <cp:revision>12</cp:revision>
  <dc:subject>Slavic hymnal Гимны веры христиан, hymn 396</dc:subject>
  <dc:title>Устроен колодец в пустыне сухой</dc:title>
</cp:coreProperties>
</file>