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914-813D-4411-9079-4B45A799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AA4-313E-4493-9794-116217B7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C64-7BA9-493E-9E72-2BD502D1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70D-31B8-4E7C-8B05-6F79634B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DD8-2E8E-4693-89D1-D665830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0E1-746B-467A-B8BE-8670768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810-A174-49BA-A61A-F0429FF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352-B163-4D3D-B0A3-25DA3F1E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A05-26BC-400C-B1A8-47E26698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BAA-DA32-4ABB-B1C3-DF61F46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2F6-F4E8-4053-BEC5-57D98D5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979-47EF-420E-9F0E-1B589A6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CFA67-93BD-442A-9E34-AB0A774288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04Z</dcterms:modified>
  <cp:revision>12</cp:revision>
  <dc:subject>Slavic hymnal Гимны веры христиан, hymn 693</dc:subject>
  <dc:title>Когда порвётся жизни нить</dc:title>
</cp:coreProperties>
</file>