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9</a:t>
            </a:r>
            <a:r>
              <a:rPr b="1" lang="ru-RU" sz="3600" spc="-1" strike="noStrike">
                <a:solidFill>
                  <a:srgbClr val="ffffff"/>
                </a:solidFill>
                <a:latin typeface="Verdana"/>
              </a:rPr>
              <a:t>	</a:t>
            </a:r>
            <a:r>
              <a:rPr b="1" lang="ru-RU" sz="3600" spc="-1" strike="noStrike">
                <a:solidFill>
                  <a:srgbClr val="ffffff"/>
                </a:solidFill>
                <a:latin typeface="Verdana"/>
              </a:rPr>
              <a:t>Воспрянь от сна, мой дух</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оспрянь от сна, мой ду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вергни страх с с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ь в жертву за т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лил Христос, твой Дру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датаем твоим Он ст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книге жизни запис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книге жизни записал.</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н у Отца восс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вечной славе т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посылает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щенье грешных д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рабства всех Он искуп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блудших с Богом примир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блудших с Богом примирил.</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На крест Христос был взя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укою палач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ывши там распя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зывал в мольбе С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ец, Ты им их грех про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искупил их, поща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искупил их, пощади!»</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Отец молитве вня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Сына Сво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жертвою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еня Он оправ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еня спасла Иисуса кр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ней я ожил духом вн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ней я ожил духом вновь.</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Я с Богом примир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внял Его слов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мёртвый по дел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к жизни пробужд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рука со мной все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реди печали и тру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реди печали и труда.</a:t>
            </a:r>
            <a:endParaRPr b="0" lang="en-US" sz="3200" spc="-1" strike="noStrike">
              <a:solidFill>
                <a:srgbClr val="000000"/>
              </a:solidFill>
              <a:latin typeface="Verdana"/>
            </a:endParaRPr>
          </a:p>
        </p:txBody>
      </p:sp>
      <p:sp>
        <p:nvSpPr>
          <p:cNvPr id="44"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4T11:03:26Z</dcterms:modified>
  <cp:revision>3</cp:revision>
  <dc:subject>Slavic hymnal Гимны веры христиан, hymn 9</dc:subject>
  <dc:title>Воспрянь от сна, мой дух</dc:title>
</cp:coreProperties>
</file>