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D78-4E45-4ADE-9652-19F63514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7F8-CD8D-4DD3-AB60-EDA6B59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89B-D48B-499B-BB04-78C7C517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65C-458C-4657-945E-D2EFC8F8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B7E-A1E3-4D79-850E-F15DB9D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E6D-4F4F-4917-AAE0-028D726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98C-B64A-4FBA-B03C-6515EA9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9AA-735B-4B6B-BA03-79084D7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4DF-4BBD-4139-AE7F-4BE1863D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5DD-E2B6-46C8-AB0C-09FA693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931-4633-4998-816C-6EDCA8E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81B-56D4-4956-906F-B021E14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DDA66-CA3A-416A-8206-BEB5695B21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олюбив Бог сві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дав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ер Він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ріхів щоб нас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буд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’явиться Він з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24Z</dcterms:modified>
  <cp:revision>12</cp:revision>
  <dc:subject>Slavic hymnal Гимны веры христиан, Ukrainian hymn 72</dc:subject>
  <dc:title>Так полюбив Бог світ</dc:title>
</cp:coreProperties>
</file>