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14A-AE53-409F-B77C-9F92B4FD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05A-E45B-4012-93EC-6BD6E6B1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340-97D5-4AEC-8821-7BF4B48D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AE0-2F1C-4BD3-8492-5395B1C5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472-3EEA-4FDA-BB96-98242C2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220-1E2F-46CD-8323-ED57862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4BD-2E4C-4A90-A39C-CF434761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D74-DCE8-42C8-A3B9-EF12114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FA0-DB61-4048-AD16-A70B7FC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DC6-E733-4917-913D-7114F75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FBD-65BF-4579-B128-44A8E9A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28D-7374-4F98-BCFD-FB79B6B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BAF7D-2B89-4A95-A183-9BE3949FBA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the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mountains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bring His lo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iently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s with earnest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us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treasure 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ingly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s the news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ce dead now liv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lost, now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 и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6Z</dcterms:modified>
  <cp:revision>13</cp:revision>
  <dc:subject>Slavic hymnal Гимны веры христиан, hymn 372</dc:subject>
  <dc:title>Seeking to Save / Пастырь добрый ищет</dc:title>
</cp:coreProperties>
</file>