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F74E-1DF8-4653-97E1-2B2A4F6C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772-692F-4848-B852-D21CBDD9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B3D6-35E5-4B53-B5FF-922C7486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8C5-7C4E-4654-B028-1B180710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4305-2ECC-48B6-84F4-4013BA8A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F73B-096C-4F09-A539-F5833421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D102-EE5A-4120-90AB-D889E6B3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8635-7779-4BF5-B918-1F3B5A7E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34D-AA40-4E15-B850-CB96D744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FD46-83D3-49BC-9148-20F0C7DB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017-1AA1-4CF8-905A-BA9BF0EB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2FD-8C1E-411A-8B66-83714887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5D13F-1E5D-4670-89AA-E8B1A10BE6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torms of life are ra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mpests wild on sea and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eek a place of refu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hadow of God’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оть и буря жизни сто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и буря жизни сто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еняют мн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даже всё пото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щитит рука Тв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He will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harm can e’er betid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safely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hadow of Hi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emies may strive to inj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tan all his arts empl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turn what seems to harm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everlasting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раг меня пу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гибелью гроз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меня спас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зла меня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He will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harm can e’er betid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safely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hadow of Hi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He may send some afflic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ut make me long for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n love and not in a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His chastenings will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ли мне Он испыт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 благо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меня страд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He will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harm can e’er betid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safely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hadow of Hi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, while here the cross I’m bea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eting storms and billows wi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for my soul is ca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ught can harm His Father’s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грозят мне горе, б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моя ск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ржу я с Ним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полками тьмы 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He will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harm can e’er betid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safely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hadow of Hi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30Z</dcterms:modified>
  <cp:revision>13</cp:revision>
  <dc:subject>Slavic hymnal Гимны веры христиан, hymn 619</dc:subject>
  <dc:title>He Will Hide Me / Хоть и буря жизни стонет</dc:title>
</cp:coreProperties>
</file>