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CFCA-0EFC-4B92-BDC1-0EF75833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24B4-DD35-47A2-B940-F58EABC1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C94E-FA61-469D-AE15-509DF06A0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5D16-FA7D-4CF3-9CEA-9C9169BBA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14A5-D71B-4001-A340-CDB46BD1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2778-1BBA-4B19-A815-AD216D77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024E-0550-41F3-998C-CDA6E198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E82A-846F-49F5-9CEB-937C77C1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C212-F66E-4125-A422-0AAC181F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CE77-8AF0-4B4F-9B2B-B7443174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0FE0-329D-48E0-91B1-A0D76112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EAA9-22F4-419C-80A8-A65CA471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5E49B-E17A-4D8A-86E4-00685D2C38E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, к нам весть до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вучала над землё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чь Христова Рожде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олняя мир хва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Ангелы, к нам весть дош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ухи, что тешит в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олняет торжеств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торите нам расск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ладенце незем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в Вифле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лониться Богу си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ителе Хри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небесный возвес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дных яслях Он ле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ладыка всей зем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людям руки простир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все к Нему при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48:12Z</dcterms:modified>
  <cp:revision>13</cp:revision>
  <dc:subject>Slavic hymnal Гимны веры христиан, hymn 879</dc:subject>
  <dc:title>Ангелы, к нам весть дошла</dc:title>
</cp:coreProperties>
</file>