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7C42-0887-47C8-B633-8E098F59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B570-B8F3-4C94-870E-4B61A126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DEFB-A9B6-4FF9-AE76-9619CF27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0EA-2B94-45EF-9EC6-FD422667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9FF-CA88-41CD-AD93-C6CB7EF9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E38B-C161-4CF3-A9DE-B3F245BF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09E2-9494-4F17-B03E-46F18B6A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C872-7201-4923-ABDD-6FD35F5F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CBCD-7A1D-4EC7-9A7D-6D5DF111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D79-78D4-460A-A5E9-A4C24EE0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9E3B-BB51-4365-8327-81864251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284-4851-4618-A0E7-1795C7E2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672BF-2ED0-4D4C-82DC-72FCBD7875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гріха я спас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ожий світ посе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в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спокій дав ме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ягар зняв з душ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7   Від гріха я спас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е відкуп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ою я прийн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незмінній люб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хранитель душ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за радість теп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зі мною є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в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у славити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, що спас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8:48Z</dcterms:modified>
  <cp:revision>13</cp:revision>
  <dc:subject>Slavic hymnal Гимны веры христиан, Ukrainian hymn 17</dc:subject>
  <dc:title>Від гріха я спасен</dc:title>
</cp:coreProperties>
</file>