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AF73-2C6F-4698-8CE8-23F97962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981C-0320-493A-A08B-9BDCC127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0629-E51E-43A0-A58D-E111C213E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00CF-8D88-4D90-91AC-ACE8DE9D6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B98F-1079-442E-A19C-76D71161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614D-8491-48C3-A079-E5811587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CB0C-15ED-488E-B036-A99AF019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DEBC-B89C-462A-8CC7-BE274F77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45C9-B27F-4679-BC6D-D81DB7F4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9594-7725-4D30-A72F-768B4E08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96AE-BE91-4F92-AF53-43003D5B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9FF2-C13C-46F6-9825-42D65A40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E74CF-8E28-4935-B5F3-54225DFC1C1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yond the sunset, O blissful mor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ith our Saviour, heav’n is beg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’s toiling ended, O glorious daw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yond the sunset, when day i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сле зак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— славное ут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паситель примет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ец заботам, светает чу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земного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yond the sunset, no clouds will g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storms will threaten, no fears ann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ay of gladness, O day unen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yond the sunset, eternal j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нет места туч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ям житейским, страхам земн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наступает радостный, лучш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— отдых свят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yond the sunset, a hand will gu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God the Father, whom I ad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glorious presence, His word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be my portion on that fair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Того уви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 за мой грех был изъязвл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ишь слышать, к Нему быть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чего жаждет сердце м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914400"/>
            <a:ext cx="984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yond the sunset, O glad reun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our dear loved ones who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ne bef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at fair homeland, we’ll know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yond the sunset for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— соедин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ми, кто раньше в вечность уш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разлуки, там душ общ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ухода с этой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09Z</dcterms:modified>
  <cp:revision>14</cp:revision>
  <dc:subject>Slavic hymnal Гимны веры христиан, hymn 683</dc:subject>
  <dc:title>Beyond the Sunset / После заката</dc:title>
</cp:coreProperties>
</file>