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7C4-A8F7-4045-B772-156F2B33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77B-5766-439B-806F-645D8635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71E-41A3-43E8-9405-F28CB6EF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34F-70B9-4C5C-B59D-4ABB5D49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B49-AF3C-4FD1-9C08-C02FB436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58B-FD3E-4DE7-BBEA-5353B772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973-066C-4E8E-BBB5-FC813E83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93D-D29F-4439-96D4-AB52FC53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899-F97C-476E-A711-1C207B2E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C77-386F-4131-B0ED-DC507203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102-F268-4E55-8CB4-51FB080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9FD-66D9-4B29-A71A-646D665B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D596F-D44E-4323-AD1D-3924FE4AFA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один раз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ертву приніс на вівтар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ий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   Там, де один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я дивно спасен від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носив я за гріх ко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кров Ісуса мене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джерело живої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всі мої т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ною насаджені 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ідними бу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йте усі з джерел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о ходите шляхом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заспівайте хвалу Й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6:07Z</dcterms:modified>
  <cp:revision>13</cp:revision>
  <dc:subject>Slavic hymnal Гимны веры христиан, Ukrainian hymn 11</dc:subject>
  <dc:title>Там, де один раз Спаситель мій</dc:title>
</cp:coreProperties>
</file>