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A8A-9407-4300-B0C1-0BA2249F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52A-7C11-4D2A-A56E-7D6B5EE1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E23-E4DA-4FFC-9448-E4818CE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DB1-4526-42E0-A553-1878B3A3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702-0ABC-4A29-A75F-4615C5E9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21D-4CFB-49F4-847B-64C5F7D3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3FE-72C7-42CA-8B84-95FC443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428-C8D0-41B7-82A1-7A987E75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97D-1CE7-4301-9103-00037D23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460-0F0A-4A6C-9B97-71FA4C3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2C2-0DE6-4088-8DED-8B00242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92B-022E-4184-881D-428F75A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97FF4-23FB-4D04-88EC-BED339D3C3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dai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Just Want to Be Whe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sting at Your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lways want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nter bold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God, You are m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, You’re alway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24Z</dcterms:modified>
  <cp:revision>10</cp:revision>
  <dc:subject>The Source, song number 207</dc:subject>
  <dc:title>I Just Want to Be Where You Are</dc:title>
</cp:coreProperties>
</file>