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FAD-1B71-4F92-9B74-3337DABA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594-1903-4E20-B33B-C86331FD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6AB-91EF-439B-A986-FFA2AC56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2EC-9290-428C-B765-3FF9F026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849-82C8-4D6B-ABA7-32B99B1A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E43-8143-4500-9B4B-B4D597FB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086-8464-4311-A713-E9A5F09F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E34-2F5A-40EB-9FBB-2FC1A0A3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6D6-F9B6-4E02-B78F-473F6338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130-248D-4067-A59A-DB1F9BF7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CA2-9238-4F54-926A-FDC4ECC8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EB3-F9B1-407C-BAB6-5F3D96E6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EBED2-52C4-49C0-9A66-D90A8889F0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рав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меня, когда н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ви я слав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 Собой соеди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держа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вство веры мне в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Его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о люди, вер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грехи с меня Он с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см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стоп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ытом измер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, и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ой обл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б мир мне угро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щь обе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а от Него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бодр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ругом борьба, войн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покой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 бесконе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м советником Он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ём к отчизне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ор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мой с Ним сердеч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жизнь, иль смерть, иль чад заб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Его во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03Z</dcterms:modified>
  <cp:revision>12</cp:revision>
  <dc:subject>Slavic hymnal Гимны веры христиан, hymn 597</dc:subject>
  <dc:title>Я Друга дивного познал</dc:title>
</cp:coreProperties>
</file>