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56A-F484-4ED6-A413-14815D2C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C6A-8087-4A88-A5CB-E9C8B6DE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2BC-C844-4BDB-9B40-A8E6E469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92E-E865-400D-84D1-7E1FA954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FB0-1216-4944-A031-D8BDC3B4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C19-8B9D-44BD-A4C3-D2AB026F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B67-AC9A-4331-A452-A2E0C1FE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ACC-12E0-4A65-B501-6C88BF59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290-EDCD-48C4-8770-4D2EA6E7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B42-CFC3-449F-BB99-0037259D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47B-7980-4C4F-8874-5039D8CC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24B-389F-4C65-9927-A5763DA0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DA44A-33A1-43E8-A0E7-A7CD59E0C9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things of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grow 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3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urn Your Eyes Upon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28Z</dcterms:modified>
  <cp:revision>10</cp:revision>
  <dc:subject>The Source, song number 533</dc:subject>
  <dc:title>Turn Your Eyes Upon Jesus</dc:title>
</cp:coreProperties>
</file>