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EDD0-8938-4CA4-B14A-D5204F4CE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7B28-303F-4508-A890-EF130C687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B911-EE5A-447F-BFE1-74FBD9264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A6E4-2C18-4B64-A6B5-8BA5D194F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823D-B8FB-49CC-95F0-B5983A8FE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95A4-A214-4656-9413-E5EDEBFC9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1D6C-739B-432C-8A72-C24206A75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5ADE-FAE5-4068-B9E9-0D9521B0D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E01A-F124-4281-9EEA-9795C1B6B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4D42-A103-47E1-AAE0-896056632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7CF6-D917-4CF9-8C85-A7710EAA5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546B-A9D8-46E2-BCC8-8843BAC61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BCB225-6088-4341-8FC4-57D9AEBD42C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ионской горнице убра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трапезу разделя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еред тем, как был преда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мерть Свою им возвещ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естил Он Свои стра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в сию ночь предсто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ак возьмут Его во вл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судят, чтоб расп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2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Сионской горниц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оследний раз, друзья, Я с в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сху эту соверш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ами, верными сын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вет Свой новый заключ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завете новом завеща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ь друг друга, как себ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бо всем Я вам прощ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ощайте также в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аю Я Своё те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есь мир иду страд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то воспримет Моё де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ому не мино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 вкушайте Моё те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ы пейте Мою кр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мите Моё де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поведуйте люб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 предание вы ставь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вершать только обря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ы каждого наставь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был в вере каждый бра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8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указал вам путь спас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акже ноги вам омы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ворец Своё твор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конца вас возлюб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9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ы делай своё дело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Иуде Он сказал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чем родилось твоё тел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чше б света не ви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0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х, зачем ты поднял рук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ты был всегда со 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ы знал Мою науку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давал тебе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аньте, братья, и пойдём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то место, где нас жду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те бодры, в вере стой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Меня от вас возьм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должно пить сию чаш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тцом Мне сужден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равдать всю жизнь ваш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, что в мире рождено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26:50Z</dcterms:modified>
  <cp:revision>13</cp:revision>
  <dc:subject>Slavic hymnal Гимны веры христиан, hymn 726</dc:subject>
  <dc:title>В Сионской горнице убранной</dc:title>
</cp:coreProperties>
</file>