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3B0D-3A36-4E20-B9C5-874EBD434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8154-D38B-48BF-A162-85116FED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FF04-0844-452F-B4D9-382812CE9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FF12-9AEF-413E-BE67-B40FCA968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0FBB-9937-4F89-80B0-81149E51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3A3A-AC1D-479A-915B-7AED4B1E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A5D5-6ADE-4958-98E2-9A953A4F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9A5C-6E0F-42CD-A3D4-3A7E0BC6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4574-6307-4A09-8945-1F58F78B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2305-F0D4-4FA8-8CB1-673A7597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8978-4ECA-4269-A927-0CF48920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516E-FE21-4E7D-AC70-0589C48B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49CF1D-95F7-4E0C-B744-80CD6C324EF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лово дорого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жизни полн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ыто в нём свят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тство благ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ю иль страд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омненья ли впа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зов: «Прийди!» услы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у я ко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7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слово дорого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, утружд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ю отда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ердце, на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миг не удаля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Бога нико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ы! Я одино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илен устоя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ухожу далё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льну к Нему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, утружд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еки к Себе Ты мощ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изко дай прильну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ай и в час полно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ю мне усну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дай чрез все невзго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стречу я в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 земные г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радостно ид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, утружд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57:16Z</dcterms:modified>
  <cp:revision>13</cp:revision>
  <dc:subject>Slavic hymnal Гимны веры христиан, hymn 370</dc:subject>
  <dc:title>О слово дорогое!</dc:title>
</cp:coreProperties>
</file>