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2</a:t>
            </a:r>
            <a:r>
              <a:rPr b="1" lang="ru-RU" sz="3600" spc="-1" strike="noStrike">
                <a:solidFill>
                  <a:srgbClr val="ffffff"/>
                </a:solidFill>
                <a:latin typeface="Verdana"/>
              </a:rPr>
              <a:t>	</a:t>
            </a:r>
            <a:r>
              <a:rPr b="1" lang="ru-RU" sz="3600" spc="-1" strike="noStrike">
                <a:solidFill>
                  <a:srgbClr val="ffffff"/>
                </a:solidFill>
                <a:latin typeface="Verdana"/>
              </a:rPr>
              <a:t>С земли унылой</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 земли унылой, из слёз доли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сутся в небо стоны и кр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сильный, Господь еди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ам, недостойным, склони Свой 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не отвергни нашей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милосердьи взываем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вечный Боже, склонись к ничтож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моленья, Твой мир пошл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 Тебе с надеждой возводим о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слёзы горя на них блест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е оставишь во мраке но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х, кто в смиреньи к Тебе спеш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ы просим: мольбе вн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помилуй, Царь всей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вечный Боже, склонись к ничтож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моленья, Твой мир пошл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оть милосердья мы недостой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м и делом творили гр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пред Тобою во всём винов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Ты — единый Спаситель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ас Ты пролил святую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нас грешных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вечный Боже, склонись к ничтож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моленья, Твой мир пошл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Лучи надежды в наш мир приход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дивный, лишь от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ёшь Ты вечно в Своём наро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еплавляешь его в скорб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ьми из бездны, спаси из ть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слабы, бедны и грешны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вечный Боже, склонись к ничтож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моленья, Твой мир пошл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27:16Z</dcterms:modified>
  <cp:revision>3</cp:revision>
  <dc:subject>Slavic hymnal Гимны веры христиан, hymn 212</dc:subject>
  <dc:title>С земли унылой</dc:title>
</cp:coreProperties>
</file>