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10F-09CA-4ABC-9EC5-C8B23133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C6C-C7C7-4BE9-9C65-5CE29D30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E897-B5E0-40E3-9514-E796D7BD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9D3-4BFF-4687-8A92-046B94C8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46F2-46E2-4A7D-B917-DABC3A50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EC9A-4031-40A5-8111-D1D865A7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E310-256A-4864-8F48-56CFF708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A8FD-3DDC-4471-B5D4-3D46BFC1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0F1-2286-4612-BA42-DEFC8BA9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E46F-1475-4B22-8438-3B32795B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C15B-BAA4-4B91-B326-F80EC513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3A7-76E1-4EC6-9E9E-429ED441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C6736-893D-4923-A1D2-9A2697F9921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Be ye strong i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power of His might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ing for th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s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крепляйся Хри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апостола так учит веч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thy right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battling for the r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thou sh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evermore prev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воды ли пой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в пламя попа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пустит Он, чтоб верный уп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 for the r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o vict’ry at the King’s comm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honour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riumph of Hi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rength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hall lead you safely 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hickest of the f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hall conquer in th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бедствий со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аркой битве укре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 имя — нам победы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 for the r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o vict’ry at the King’s comm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honour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riumph of Hi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rength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Be ye strong i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power of His might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urning from the f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fo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оля битвы не пытайся убеж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surely by you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you battle for the rig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power of His m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 g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всюду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может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сегда мы будем торжеств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 for the r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o vict’ry at the King’s comm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honour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riumph of Hi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rength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Be ye strong i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power of His might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promises shall nev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fai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я Божьи крепче вечных ск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56Z</dcterms:modified>
  <cp:revision>13</cp:revision>
  <dc:subject>Slavic hymnal Гимны веры христиан, hymn 501</dc:subject>
  <dc:title>Be Ye Strong in the Lord / Укрепляйся Христом</dc:title>
</cp:coreProperties>
</file>