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C5F-A353-49B0-8887-B91BE09B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067-6502-4056-9CC6-3F02E86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298-D69C-474E-A844-21CCE2D6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92D-D02B-4C43-8A36-27EB3E9A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903-0509-4881-A5F8-9B8BDFD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7DE-1415-42C9-9887-DE0126AE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32C-145C-4DF6-A9BC-9F48E472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EF4-89D5-4426-84D3-CFE30B67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C71-CB86-4292-825F-8C321B15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3B9-87CE-4239-9875-B11B364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F50-E166-4A7F-B120-3D00BA6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6E2-E1B1-488A-9DB5-561DC78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845A0-E7DF-4FA2-BA64-29BF30084A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те, люди, на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ныне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едь скоро закрыться мо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об этом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ирайте, люди, на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Амоса звучат так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написал на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горько стон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ой томим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Господню иск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ущий ище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акроет от них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гут найти уж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ить все будут от моря к м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Господне на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ны будут мученье,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сь уж не смогут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30Z</dcterms:modified>
  <cp:revision>13</cp:revision>
  <dc:subject>Slavic hymnal Гимны веры христиан, hymn 412</dc:subject>
  <dc:title>Взирайте, люди, на Слово Божье</dc:title>
</cp:coreProperties>
</file>