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A4D-7E93-4B0B-8388-CA2BA063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874-C397-46A5-8C7E-A4A88CFC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090-F55F-4FB6-9A0E-5D85BDCE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D08-831A-45A4-90BF-1782EFDF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50D-A919-4C0C-B72B-320E1E88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C96-2684-44AE-A981-8EFBEAF9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21C-E110-4ABC-BA7F-0260773F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BA8-B78F-440E-919E-A27D9387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6BF-7ABC-496E-937C-38FFFA5C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270-B907-44E3-A76E-73951F50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3F6-506C-45CF-A643-266A3F38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904-0209-43C1-8DC5-DA506DC8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9510E-11B4-4BA7-ADF9-C97F83990C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 дрогнет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если даже и будет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страшись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 по тропинке с тобою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сь мир побе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тебе ведь Он даро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ты так слаб и без с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на пороге неведо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пает силу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, что даром дарит нам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то течёт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деждой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Бог любовь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38Z</dcterms:modified>
  <cp:revision>12</cp:revision>
  <dc:subject>Slavic hymnal Гимны веры христиан, hymn 719</dc:subject>
  <dc:title>Пусть на пороге неведомых дней</dc:title>
</cp:coreProperties>
</file>