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2</a:t>
            </a:r>
            <a:r>
              <a:rPr b="1" lang="ru-RU" sz="3600" spc="-1" strike="noStrike">
                <a:solidFill>
                  <a:srgbClr val="ffffff"/>
                </a:solidFill>
                <a:latin typeface="Verdana"/>
              </a:rPr>
              <a:t>	</a:t>
            </a:r>
            <a:r>
              <a:rPr b="1" lang="ru-RU" sz="3600" spc="-1" strike="noStrike">
                <a:solidFill>
                  <a:srgbClr val="ffffff"/>
                </a:solidFill>
                <a:latin typeface="Verdana"/>
              </a:rPr>
              <a:t>Решил идти я за Иисусом</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have decided to follow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have decided to follow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have decided to follow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turning back, no turning back.</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Решил идти я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ешил идти я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ешил идти я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 не вернусь, в мир не вернус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 world behind me, the cross befor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world behind me, the cross befor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world behind me, the cross befor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turning back, no turning back.</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сь мир за мною, крест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за мною, крест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за мною, крест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сверну с того пут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ough none go with me, still I will foll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gh none go with me, still I will foll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gh none go with me, still I will foll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turning back, no turning back.</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й мне победу,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победу,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победу,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 свернуть с того пут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Will you decide now to follow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ll you decide now to follow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ll you decide now to follow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turning back, no turning back?</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А ты пойдёшь ли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ты пойдёшь ли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ты пойдёшь ли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 свернуть с того пути?</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6:32Z</dcterms:modified>
  <cp:revision>3</cp:revision>
  <dc:subject>Slavic hymnal Гимны веры христиан, chorus 62</dc:subject>
  <dc:title>I Have Decided to Follow Jesus / Решил идти я за Иисусом</dc:title>
</cp:coreProperties>
</file>