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654-4F7C-4FB5-BA5B-88164FFB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969-F357-44D0-9E5E-F4AB8A2B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784-3A9A-4078-A23E-1BD7B941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0B8-1AD3-4E51-9FCC-7CF26752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787-778E-4706-8928-B825FA9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67E-4621-4060-A4E1-9140BA90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8B5-326C-4439-B092-B67E3E45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FAD-7513-49D7-8EDC-1604CD7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A90-EC51-4630-805B-959060F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FB5-8A23-4C69-AD0C-D67DFFB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E75-D922-456B-90DE-ECF59FD9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D98-5DAA-4E54-ADA6-3E43EB0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F51F2-0487-40AD-8F59-B3A7D1884A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46Z</dcterms:modified>
  <cp:revision>12</cp:revision>
  <dc:subject>Slavic hymnal Гимны веры христиан, hymn 594</dc:subject>
  <dc:title>Что за Друга мы имеем</dc:title>
</cp:coreProperties>
</file>