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4DD-C7D5-453B-B68A-6A0F7998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30A-87C9-43CD-9949-6E83B59C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222-6E83-4775-9034-DF524F0A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31A-59AC-4EC8-88E3-6042AF71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DBC-198D-4A7D-B322-9F1886BF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2E0-4523-4337-8B7F-AC4D90F8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506-4FB9-4B10-A921-E5561BA7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8A4-1852-4DA7-97FF-1227306C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C66-4B24-497A-8BF3-C7AE07CB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70D-55FA-4BB6-971C-D96763C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B65-9F19-4762-8537-3E7FFA1F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113-5E9C-43DE-A59F-07809B4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4A52F-EE61-49AC-9025-36B72A76B9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is exalte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 for ever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praise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 is Exal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His truth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is exalted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0:14Z</dcterms:modified>
  <cp:revision>11</cp:revision>
  <dc:subject>The Source, song number 156</dc:subject>
  <dc:title>He is Exalted</dc:title>
</cp:coreProperties>
</file>