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239-2BC4-4E4C-AD0F-07730EA7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B3D-B7DB-4F2F-BC53-B43FD064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C63-4587-4250-BA54-1627F55E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02F-8C0F-4D5F-B140-A6C1E9A4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219-7892-4ED2-AE58-900531C2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AAD-70F9-4E29-903A-3643ED8C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A47-7CB8-48CF-9068-441DA3EA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9800-E557-493F-95AF-63AC8FA6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33E-D803-462A-8A15-BE983FCA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BC7-C7A5-4B36-AE95-D05D0714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959-0F61-4A7C-B955-590DACD3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D6D-63FE-42CD-AE25-2764A602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77980-6C07-46D2-AA6C-E2DC2FC8C3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decided to follow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6a   Решил идти я за Ии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ил идти я за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ил идти я за Иисус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ил идти я за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не вернусь, в мир не верн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behind me, the cross befor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мир за мною, крест пред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мир за мною, крест пред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мир за мною, крест пред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верну с того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none go with me, still I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none go with me, still I will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none go with me, still I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победу, Христо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победу, Христос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победу, Христо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свернуть с того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decide now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decide now to follow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decide now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turning back, no turning b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пойдёшь ли за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пойдёшь ли за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пойдёшь ли за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свернуть с того пу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5-06-01T02:25:33Z</dcterms:modified>
  <cp:revision>14</cp:revision>
  <dc:subject>The Source 2, song number 766a in Russian</dc:subject>
  <dc:title>Решил идти я за Иисусом / I Have Decided to Follow Jesus</dc:title>
</cp:coreProperties>
</file>