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63A-4E10-4CF2-9B8F-E8E89FBB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268-FAB9-4303-A5A6-9D56E181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190-CC8B-4D7C-B704-BB667309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09D-E0E1-471A-B654-14E257EF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CAF-F42D-4BC7-A8E3-31B34E52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A3C-E634-4596-BBA2-BABF759C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C83-78D6-4940-898F-9C1A13A6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725-E15E-4DF1-BD8C-EBC7CE70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9B9-AD62-4EAC-88D5-E359BB11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7F0-9631-4A70-B1E5-7DE58D9D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924-87FE-4E0E-A763-83375B9A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7B0-A0BB-4774-9B8F-72D02AA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237FB-E166-4410-AF12-46BBA40067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просьбы, слыша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я нужду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под Отцовский 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ся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а  Слыша просьбы, слыша 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душ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ань во тьме блу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щетно ты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шному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, Он д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у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ткрой 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я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и будь с Его детьм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Он тво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14Z</dcterms:modified>
  <cp:revision>12</cp:revision>
  <dc:subject>Slavic hymnal Гимны веры христиан, hymn 335 (as amended)</dc:subject>
  <dc:title>Слыша просьбы, слыша зов</dc:title>
</cp:coreProperties>
</file>