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004-CE1A-408A-B372-88FE4DD1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747-BF77-4726-BD31-235D2608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DAC-2F2C-4ED3-80D9-3BEBBB76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F5E-946D-4AB5-8C89-AF0F12FB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182-47F9-45DD-87F7-7C429A2D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18D-7022-49F6-9827-068AC275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39B-9A38-48BA-A968-7872BFC0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AD0-A55C-4AA6-937D-A2ADB971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B19-6775-445A-AA03-25A6E75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C07-EF1F-4776-BBEA-6B9353E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585-B269-432A-A1F6-2557224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4A6-D511-4C55-A23A-5F6F6950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73CB2-7906-4586-98C5-6898448B14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47Z</dcterms:modified>
  <cp:revision>13</cp:revision>
  <dc:subject>Slavic hymnal Гимны веры христиан, hymn 640</dc:subject>
  <dc:title>Верю в обещания Христа Царя</dc:title>
</cp:coreProperties>
</file>