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BBA-4037-49DC-B403-2F7BB264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1B1-F7FC-4204-8EB2-2470B36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81C-2F23-4DC8-9593-F9791661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3A5-7DAD-44C6-9D6F-A9257647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9F9-1BE0-43DA-8BAA-33B45B95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27D-6848-4A8E-A7DB-B1E4306C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F40-4A75-4C86-8C89-DA9FCDF1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A39-19C9-464A-BD01-46FC2244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DC3-7E82-498C-8FE1-DDD10626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A02-29EB-4F5B-B868-E88B435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9A6-390D-4F43-903A-0A4536C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520-D9B9-467E-9615-A205BBC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0DFCD-19DA-4450-B6B3-10565AC294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, exal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ain of His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the temple with gl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 of l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51Z</dcterms:modified>
  <cp:revision>10</cp:revision>
  <dc:subject>The Source, song number 238</dc:subject>
  <dc:title>I See the Lord</dc:title>
</cp:coreProperties>
</file>