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842A-282A-4E4A-838A-983F2810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B3F2-92B1-465A-A5DE-73169B93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D057-0540-43A6-8298-C6489C2E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81FA-BCBC-44B7-B613-A6D80D81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2FE3-6720-4DB3-863F-F31638DC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90A2-81ED-4C61-BDD3-EEC244A6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402C-964A-4A9F-BA42-6AE55B70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98D-DAD6-44B2-8200-41844F83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E0D-1AEE-480E-9091-DE37B7B7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D1F9-2F00-4339-B496-1F3C42B0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DBD1-85FB-4E1B-8DD2-7B201D34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7674-2970-4BB1-B700-5E044D72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5C77A-5434-4B31-B5D2-D1327573D8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 скиталец, вдали на чужб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ько тебе, ты один, как в пусты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одины голос Иисуса зовёт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едный скитал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твой усталый, как отдыха жаж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стомился, и стонет, и стражд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шь ли голос с небес: «У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больное утешить Он мож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ы твои исцелить все Он хоч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е противься, Он громче зовёт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 и горе земное мину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Он в жизни и смерти дару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вечный манит тебя, о, спе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4:27Z</dcterms:modified>
  <cp:revision>12</cp:revision>
  <dc:subject>Slavic hymnal Гимны веры христиан, hymn 403</dc:subject>
  <dc:title>Бедный скиталец</dc:title>
</cp:coreProperties>
</file>