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865-8DCB-48C9-ADDA-CFBC166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19C-E904-4BD9-B763-C493B2C7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A73-16D4-419A-B682-0CD9D6A9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F4C-90FF-4727-B926-9492441E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42B-5D3C-4BB1-8FBD-D5CC305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97D-D367-477D-B069-72ED62C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FB9-2451-4AC6-8859-05722E96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723-82CD-4FF2-892F-1D6FC86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B2A-829F-483B-B4FB-F8EE8C8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E41-8A49-4201-97C2-0F21C1C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DF7-4E03-44F8-99C0-E6AE66E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7CA-5EBF-420F-BDAA-3B1FB1FA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7955F-1F98-4BC5-A937-AB6D45DDF6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ты голос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для тебя зву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стоит прох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что Он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шь ли ты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любви Его ты сл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 тебя, мо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ты д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, что ты спотк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иди к Нему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и пошат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Он тебя под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друг мой, 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тавал и шёл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ой упря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веришь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59Z</dcterms:modified>
  <cp:revision>12</cp:revision>
  <dc:subject>Slavic hymnal Гимны веры христиан, hymn 405</dc:subject>
  <dc:title>Слышишь ли ты голос Божий?</dc:title>
</cp:coreProperties>
</file>