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5</a:t>
            </a:r>
            <a:r>
              <a:rPr b="1" lang="ru-RU" sz="3600" spc="-1" strike="noStrike">
                <a:solidFill>
                  <a:srgbClr val="ffffff"/>
                </a:solidFill>
                <a:latin typeface="Verdana"/>
              </a:rPr>
              <a:t>	</a:t>
            </a:r>
            <a:r>
              <a:rPr b="1" lang="ru-RU" sz="3600" spc="-1" strike="noStrike">
                <a:solidFill>
                  <a:srgbClr val="ffffff"/>
                </a:solidFill>
                <a:latin typeface="Verdana"/>
              </a:rPr>
              <a:t>Со креста стекают алые струи</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Со креста стекают алые стру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прости мне, Боже, все грехи мо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рёл я по пустыне ужаса и зл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Юность золотая быстро отцвел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Спотыкался, падал в беспросветной тьм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ах и пепел ныне в сердце и ум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Если не откроешь двери в Свой двор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Ждёт меня печальный, гибельный конец.</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Ты спасал несчастных, водворяя в све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ез Тебя, Спаситель, счастья в мире не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е хочу скитаться от Тебя вдал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оплям покаянья в этот час внемл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Как бальзам целебный все Твои слов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тяни мне руку, извлеки из рв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ы не дашь мне, Боже, ныне умере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Твоё спасенье буду гимны петь.</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Кроткий и Смиренный, все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несчастных Друг,</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ыне мой душевный исцели недуг.</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ыл Тебе я чуждым, а теперь родно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какое счастье знать, что Ты со мной.</a:t>
            </a:r>
            <a:endParaRPr b="0" lang="en-US" sz="30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8:48Z</dcterms:modified>
  <cp:revision>3</cp:revision>
  <dc:subject>Slavic hymnal Гимны веры христиан, hymn 185</dc:subject>
  <dc:title>Со креста стекают алые струи</dc:title>
</cp:coreProperties>
</file>