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5C9-72C7-4F9D-AD96-900C96E0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F59-EBCE-491E-909E-EED1825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214-3F08-49D0-83B2-4D4B8B19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FF8-B64B-49B6-AD8D-A7CB0289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84B-E9D7-4D8B-8583-EF9863DD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55F-1219-4B18-A8C4-564A2DD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BC3-6323-44C7-8DEA-3D465C7E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E82-4473-4FBF-90F9-38556BE2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EB9-C25D-42A2-BBD6-95F2ADE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FAA-DD23-47A8-AD8C-4102730E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A8A-B081-4476-A9CF-07C04038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575-183D-4471-A46F-07BA2D7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7F355-D66D-4C15-98C6-48F5A0B604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soldiers of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His royal ba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not suffer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vict’ry unto vict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rmy shall He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ev’ry foe is vanqu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 is Lord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mpet call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th to the migh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His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that are men, now serv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unnumbered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ourage rise with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 to strength op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in His strength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rm of flesh will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are not trust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on the Gospe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piece put on with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uty calls, or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ever wan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if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day, the noise of batt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ext, the victo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rown of life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th the King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reign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8Z</dcterms:modified>
  <cp:revision>13</cp:revision>
  <dc:subject>Slavic hymnal Гимны веры христиан, hymn 498</dc:subject>
  <dc:title>Stand Up, Stand Up for Jesus / Примкните к Иисусу</dc:title>
</cp:coreProperties>
</file>