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9918-68CE-444D-9402-FCADA6A19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875A-9BB9-443D-8E37-03A52F35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12CF-6BFB-431A-A76D-A1B5849B6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8F8C-1EA4-46BD-AC48-A9702492E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2115-C1DD-472B-A0F0-CC178BF7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11EE-FE64-40A8-93D6-F561E70B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A369-902C-4003-8A1B-6BB5FB8F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D13C-807D-4394-944C-54442652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CC08-ED35-4703-9358-66621902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ACF6-7E9A-470F-A4EE-5E00B520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0F23-1BAD-402D-9D5B-C8A16DD7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FF87-37CB-48CE-BD7A-E2677B84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78A61-EBFA-4DF4-87E8-D1333C84F9B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ay my life down at Your f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only one I n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turn to You, and You are always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roubled times it’s You I see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put You first, that’s all I n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umble all I am, all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95   I Lay My Life Dow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Here we go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way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only one that I could live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way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only one that I could live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always, always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how and ev’ryw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race abounds so dee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ill never ever chang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terday, today the s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, till for ever meets no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Here we go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way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only one that I could live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way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only one that I could live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truth and the lif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live by fa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not by sight fo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living all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Here we go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way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only one that I could live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way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only one that I could live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4T06:14:18Z</dcterms:modified>
  <cp:revision>12</cp:revision>
  <dc:subject>The Source 3, song number 1295</dc:subject>
  <dc:title>I Lay My Life Down At Your Feet (One Way)</dc:title>
</cp:coreProperties>
</file>