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8F4-5E65-4C46-81B6-B910DBA6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3E1-C8D6-4564-A4E4-7639CF22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C9B-3B44-44AF-A858-8B381FF1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577-BB79-4DE2-A9A5-21C6CC86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FC2-6B1B-497F-BFA1-FDF72C1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A73-EFEA-47D8-8390-783CAA8A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82D-E020-4930-ADFC-3A64303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594-1F97-4A04-B2BC-59B3B06A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C47-0DAC-483F-B772-0E876D00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23C-FEBE-4466-9FB1-6809256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40E-0DD1-41DE-BC9E-5423D19B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D83-C06A-4BCF-A470-34615B1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513A4-A292-4B78-818C-C0116799A9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50Z</dcterms:modified>
  <cp:revision>13</cp:revision>
  <dc:subject>Slavic hymnal Гимны веры христиан, hymn 841</dc:subject>
  <dc:title>Девяносто девять овец пришли</dc:title>
</cp:coreProperties>
</file>