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D6A-646B-4B87-98E4-73A43CF8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135-D1E5-42A8-AE86-8E53776E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C05-EDD1-4B16-BB4F-D26880C2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1DB-3F88-44F6-9CD0-6DF56324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A09-BEC4-474D-93B8-C5A7313E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B66-B5D6-4620-844E-0DEA8892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E37-37F4-444A-9235-3ECD7DF0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70D-4F06-4BBB-BFED-74E2477C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834-C5AC-4FF5-9F35-58C036ED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402-F161-4260-9DB9-8BE14DB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C69-9911-449B-9CE0-253FC14C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634-C38E-4793-B937-46A44E91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2CB4E-7374-4D8A-B88F-A48DF0484A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 возрадуйтесь, друзья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исус Своими нас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и смертные о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смертью ваши Он пор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честь и царственное з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о Христе на небе сужде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кровь Его, за смерть и за стра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оно Христом обрет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том возрадуйт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нам о чём в виду врагов хвали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Христом — ничем, ничем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 Нём здесь на земле продл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урь, средь волн, чтоб в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те, все земные наслажд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е вы тщеславье лишь с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познала уто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Христа; вам части нет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быть с той радостью сравн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с вручил Спасителю От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Его могучих мы хран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астырь знает нас — Своих о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воли Бога не падёт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й волос с нашей голо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Отца небесного при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 дары Его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Бог за нас, кто проти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, стадо малое,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тец дать царство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 Христом врагов ты поб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облака свидетелей пред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жидают встретить со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украсит славными венц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Иисус, — во след за Ним п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6:33Z</dcterms:modified>
  <cp:revision>12</cp:revision>
  <dc:subject>Slavic hymnal Гимны веры христиан, hymn 296</dc:subject>
  <dc:title>О том возрадуйтесь, друзья Христовы</dc:title>
</cp:coreProperties>
</file>