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B03-7473-4F5D-A6D5-B84D84DB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9ED-F3DB-4224-B34C-B913756C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716-F7CA-4315-AF2E-A0ACEB47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4FC-A87E-48B1-9D74-9C7FE9BB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6E6-1B0B-47F4-8509-E3AA0077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CDB-6D7C-4549-8686-E124721B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971-6E75-432A-94D3-0B8314EA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DC0-F6DD-4F76-A417-5AFC3F13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242-4A07-443E-B97F-9AC9EB08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907-2A4F-4595-B685-0705577F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F2E-6314-479E-83F0-0C4338FA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2DF-62A3-4E32-B232-326186D4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FDE2C-3007-43BC-989F-A1B3AC198E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тільки є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є щ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, хто спа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ю новину не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3   О, скрізь розголосі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темна вже м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ння Зоря зій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ьму розганяє вж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ічний наст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ство гріхи лиш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ходить до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Цар ца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е з небес дол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и забрати нас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тих, котрих Він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труба зв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олос чути скріз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а це люб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нас Спас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нас спасти з грі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ти н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лава Бог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спас і ме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0:59Z</dcterms:modified>
  <cp:revision>12</cp:revision>
  <dc:subject>Slavic hymnal Гимны веры христиан, Ukrainian hymn 93</dc:subject>
  <dc:title>О, скрізь розголосіть</dc:title>
</cp:coreProperties>
</file>