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F5C-44B5-4634-BECA-EDE66B33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A87-7D3F-4FC6-AEF3-BD0A2E03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5DA-87E2-4E94-8DBB-E591030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505-C967-4D67-A084-18A78E8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1D3-6F58-4152-9357-CCB1CA6F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4DB-B078-4506-91EE-F56A280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3F6-F4DF-429A-8765-632701E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326-7D17-405D-9346-BF9B4FDB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7AC-1095-4FED-9B6A-590FDEC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C73-20D0-4D31-A7A0-8040FD2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9BF-3351-4691-87E6-7840BA7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EC2-49BD-4150-B715-EA519C2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3158F-9CF3-41EE-9C4E-8D97E24B00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00Z</dcterms:modified>
  <cp:revision>15</cp:revision>
  <dc:subject>Slavic hymnal Гимны веры христиан, Ukrainian hymn 38</dc:subject>
  <dc:title>Standing on the Promises / Вірю я в обітниці Христа Царя</dc:title>
</cp:coreProperties>
</file>