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6D3-01A6-41FF-8FF2-08E3F63E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8F0-32D7-4E9E-8B6D-FA0F1A95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E6F-AFE7-45A1-903D-B262EC9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F95-9834-4F13-9AE9-CA770A82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B00-06F5-4546-A868-BC0A3FE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535-BBAC-426A-89F9-AD30E1E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292-B058-421C-AA45-25F0F7D8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5FA-B9DE-41A1-A20E-6EAAD8E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7D2-0251-49DA-BFED-C4A9863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085-ACD2-4C76-A910-9A7F645C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398-1068-4A91-ABEF-AE298D2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F5A-00EE-4C9C-B1FC-54877E0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5188A-206A-4FA7-B02F-11A9A66321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music f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stripp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imply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ing just to b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thing that’s of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ill bless Your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смолкнет вс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молкнет вс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утонет зву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к Тебе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ести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ердца мо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жную хв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endless wo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could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much You de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’m weak and p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 have is 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 single br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агоценный Ц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ыразить 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го достоин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ен я и сла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сё, что есть — Тво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просто взд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6T20:47:59Z</dcterms:modified>
  <cp:revision>12</cp:revision>
  <dc:subject>The Source, song number 576 in Russian</dc:subject>
  <dc:title>Когда смолкнет всё / When the Music Fades (The Heart of Worship)</dc:title>
</cp:coreProperties>
</file>