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912-A7C6-4730-A567-588171ED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4A7-ED9D-4D09-A419-CE0CEBF2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8F6-CEDD-4DA8-94CC-CA38880B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905-55F3-4F4D-B716-150AA826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A8F-DE71-4ACB-BDFD-28252B4E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DCA-9A20-4CEE-94E1-8B2D126F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539-E8F5-444F-A772-8C078CBC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419-79A8-469F-BACC-3ECD4525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900-A212-4334-8918-2FFA91E3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BA5-5243-483C-8670-21642F2E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F3F-A608-4A11-A1C7-A64C3666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9E6-0584-45E5-8DA7-11C0A22F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6ABCD-3103-42EE-8F73-AF61CF1BC0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ебудь со мной! уж свет сменился мг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устеет тьма, Господь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лишусь опоры я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плот бессильных, Ты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к жизни день короткий утеч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еркнет всё земное и прой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песни счастья только звук пуст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неизменный, о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будь со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 царским обликом ко мне при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с состраданьем нежным и в любв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ы исцеление неси с Соб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 солнца луч, таким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Тебе нуждаюсь каждый час, мой Б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тоб искусителя Ты превозм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 светлый час и облачной по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уководя, храня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трашен враг, коль Ты, Господь, вблиз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орбь не теснит, не знаю я тос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смерти жало? Ад, где ужас тв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ессильно всё, — лишь Ты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предсмертный час на Крест Свой укаж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вездою утренней средь тьмы гор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етлеет небо новою зарё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жизни и смерти Сам пребудь со м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5:45Z</dcterms:modified>
  <cp:revision>13</cp:revision>
  <dc:subject>Slavic hymnal Гимны веры христиан, hymn 823</dc:subject>
  <dc:title>Пребудь со мной</dc:title>
</cp:coreProperties>
</file>