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32B-B0CD-41B3-B8B5-4226BF46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37A-80F0-4870-8FCB-D21E7DBF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352-E1B8-418C-8192-1A8CF88F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ED2-D728-40FA-A5E2-C7C736EC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594-41F2-49B7-BB6E-C0D6D115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1A3-7C37-4C6B-83F9-64A93B7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FEE-D8AB-4579-8C7D-0E3F70B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522-F731-4359-8786-E9D2C9AE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A53-2B42-42ED-90CC-C9B4482C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F8C-F783-41A7-AA1D-3550D80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B4B-F185-4D0E-A23F-7902B498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953-2ACA-47A2-A16C-CA5B168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CF3CA-AF8D-42E6-B87B-CF4BD1A5AF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oly Spirit lives i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ppiness desc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ites the people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enemies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reigns abund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peace, no strife 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protects them faithfu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nee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dwells in peopl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ation is at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is ruling in thei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happi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40Z</dcterms:modified>
  <cp:revision>13</cp:revision>
  <dc:subject>Slavic hymnal Гимны веры христиан, hymn 741</dc:subject>
  <dc:title>Where Holy Spirit Lives / Где Божий Дух в сердцах живёт</dc:title>
</cp:coreProperties>
</file>