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09C-761B-4D64-9C82-87816842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8E9-3421-40DA-BC9A-40D7D32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B78-E4A8-40B0-BEA3-31587F11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32E-1C01-45CC-B7DA-C5F337C6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C2D-2556-431C-8388-25363F67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818-4F4D-4801-9ACE-A8E73A3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189-FB92-40A3-825C-2399220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922-8441-40D4-9E61-32EB0D0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E1D-F814-4781-A44A-3E61445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B8A-7B1C-489B-80DE-04AF290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583-A16D-4741-AC07-65D38D8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941-BB57-40D3-BDB2-0D6F03E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C1253-3DD2-46E1-9D96-631AD1748A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3   The Splendour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39Z</dcterms:modified>
  <cp:revision>15</cp:revision>
  <dc:subject>The Source 4, song number 2073</dc:subject>
  <dc:title>The Splendour of the King (How Great Is Our God)</dc:title>
</cp:coreProperties>
</file>