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78CC-AA05-42F2-B8A2-84BADB604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1739-AD39-4497-9900-BFA817B5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6743-22D5-410A-AA39-57FC64F0F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0980-9B0A-4F42-A585-2A07AE756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E60D-26D1-4D00-B68F-BC223C98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37EC-21A8-416B-99BC-FC944F50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60F5-C313-4DBB-8BCF-BCFA45BB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B216-F578-4C9B-BAE4-E045850E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C926-3E11-4F14-BDAD-82059AC9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B13C-25BB-4EE8-BF01-4E0CA8DF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7194-AFD2-4EC1-A0E3-F64CB126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2AD4-9D0C-49D4-8DFA-26C47001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0CAF7-D188-4EE0-835F-BC43A3E0BEA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хочу напрасно утро пров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яркий полдень со Христом хочу ид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же в вечер запись да будет чис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отов слугою быть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у я весть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земле, во все ме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о мне мой Ангел скажет Госпо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по следам Его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хочу напрас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 душ блуждает во грехах, во тьм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 слёз горячих пролито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олезни мучат страждущих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Господь, хочу я быть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у я весть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земле, во все ме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о мне мой Ангел скажет Госпо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по следам Его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 домах печально и тревожно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детей молиться некому уч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де злое пьянство ― темнота ум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вествовать хочу я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у я весть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земле, во все ме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о мне мой Ангел скажет Госпо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по следам Его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2:28Z</dcterms:modified>
  <cp:revision>12</cp:revision>
  <dc:subject>Slavic hymnal Гимны веры христиан, hymn 455</dc:subject>
  <dc:title>Не хочу напрасно утро провести</dc:title>
</cp:coreProperties>
</file>