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7D1-7AFB-496A-974F-B764BCD4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3B8-6B35-48CD-A594-1E67E8E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FDD-2F26-4B2E-9FD7-4FA8EB7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7F2-8C1B-46EB-88CE-95C9F42E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123-B563-4173-8BF4-077366BC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DBF-10E5-45FA-B86D-E55092E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61A-4E83-48BA-8530-8AF0777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412-715A-4900-A9AF-C13171FD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785-C0F7-489E-A049-648DB99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E4B-E7BC-41E7-B361-93EB7A9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980-A931-439B-B6D5-9B4F087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951-2CEA-4588-A13A-91593DC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66E1B-42D6-4D1E-A6EF-5CDA758A4E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Духа Святого зв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, всі до Ісуса прийдіть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Він кличе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8   Голос Духа Свя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кіш світу тебе обма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паситель все кличе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ж до Ісуса не йде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за тебе Син Божий в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тобі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и ж дар Ісуса теп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14Z</dcterms:modified>
  <cp:revision>12</cp:revision>
  <dc:subject>Slavic hymnal Гимны веры христиан, Ukrainian hymn 88</dc:subject>
  <dc:title>Голос Духа Святого звучить</dc:title>
</cp:coreProperties>
</file>