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1FE-15A0-40E3-AAD5-070AF8EE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447-759F-482F-8A19-053C41E3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2338-3943-46B1-9FF1-0825AE5E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F9F-282D-42A1-8066-2A503CBD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D02-DEEA-4E99-A272-CC90781A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14AD-4F93-470B-AF55-60AA61B3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334-4DAC-44EF-B06A-E125CA95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3DC-6B29-4D05-A23D-2B16EB19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87F3-D257-4238-80CF-99DB5D5D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4F8-49EA-4199-B120-B03A28D2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954-2337-47BD-8C9C-F5C895AD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3FAB-F3C5-4139-A407-400BBAC4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9393B-B7F9-4A43-A7EB-DCB3996AD10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Иисус зовёт де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егодня вас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пути блаженн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едших по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зовёт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овёт, Он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те, Он зов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ди ко Мн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Иисус зовёт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ердца!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веры чист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юны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я дар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зовёт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овёт, Он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те, Он зов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ди ко Мн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юные!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Богу утро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Иисус зовёт опя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зов при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зовёт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овёт, Он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те, Он зов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ди ко Мн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0:22Z</dcterms:modified>
  <cp:revision>12</cp:revision>
  <dc:subject>Slavic hymnal Гимны веры христиан, hymn 757</dc:subject>
  <dc:title>Вот Иисус зовёт детей</dc:title>
</cp:coreProperties>
</file>