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D2E-9BC1-44EC-88B8-A4BF80BA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BCCD-3112-4890-BF8E-4FC6D467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D71-4B4E-40CC-99A9-DB08C459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A81-7DDD-422D-B7C0-63523942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2BE9-256D-439E-A03D-6DA22965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73C0-F22F-4784-A1C6-4D68AD44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8BF-AB2E-4211-BAD3-584EBFA8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03A-E3ED-40CD-AE52-9EE3F57A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0AC-74A1-44A3-837C-C0F3967A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5A4D-614D-4DC1-B250-D4561732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4A5-2EED-40A2-807E-95B2F89F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1F86-AB9A-43A7-851E-E730B608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E5BD3-BFB3-41F7-9ADD-ADE0694BC2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успею ещё покор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же правдой успею пож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я молод, хочу весел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не о чём больше т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спею принять покая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ю жизнь впереди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том получу оправ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веки расстанусь с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успею ещё покори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у в мире теперь наслажд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у прихоти, прелестей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ть я успею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енье за сделанный грех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юноша бедный, несча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шибся он в мыслях сво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месяц и случай оп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ментально беднягу пост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лел, смерть у ног уж стоя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лел, а твердил всё боль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успею во что бы ни ст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уляю, пока молод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еряет больной свои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ться Творцу уж не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обрушился край у мог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л: «Поздно…» — и жить пере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1:48Z</dcterms:modified>
  <cp:revision>12</cp:revision>
  <dc:subject>Slavic hymnal Гимны веры христиан, hymn 774</dc:subject>
  <dc:title>Я успею ещё покориться</dc:title>
</cp:coreProperties>
</file>