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24B-FE09-4E78-9961-212AFA41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FD4-CBB2-4479-ADB4-143AEC31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593-4159-44A9-AA07-6484E0E5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DDC-2397-4550-8680-B01563E6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028-7E7F-4CA7-AC09-DEE2C9E3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450-7AF7-4B47-8D1D-582ABB84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3F8-8C90-4B99-9553-A45761D8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F86-0870-439C-B58B-AB8DB079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1E0-D720-409C-88A3-43F21341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207-E05E-4A79-A261-A14D409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AA7-D93D-44F2-BAB0-7C991DAB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7A1-C09B-4DC8-A509-07F4FB74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AAEA7-67A1-4B44-9431-C1A8EDE26B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God,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ever prais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God,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ever prais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k You in the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earn to walk in Your w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ep by step You lea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ollow You all of my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God, You Are M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cp:lastPrinted>2011-02-09T04:18:08Z</cp:lastPrinted>
  <dcterms:modified xsi:type="dcterms:W3CDTF">2011-02-09T08:25:35Z</dcterms:modified>
  <cp:revision>11</cp:revision>
  <dc:subject>The Source 2, song number 906</dc:subject>
  <dc:title>O God, You Are My God (Step By Step)</dc:title>
</cp:coreProperties>
</file>