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968-0001-4631-AF26-7E8EE41E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9CE-954C-45F8-A2E6-1BAD99A6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16D-41B5-4896-A35D-0E08AD8B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932-3716-45D1-B4D3-932AB67F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F8A-873D-4317-8F61-A13E68A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ABD-29B7-426C-AA1D-92F1ABE5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EA2-9E01-461A-85CF-721C5A6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BE2-AA20-4314-993B-D50BB080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657-66D6-4B2B-9738-46CE3FAB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B1C-E043-45D5-B5A3-91C8BAD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408-FD1E-4694-9B97-D6A5F05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806-693A-44CE-96D0-FA1D6E0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8682-5581-4891-83F8-B4D9DE77B3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25Z</dcterms:modified>
  <cp:revision>12</cp:revision>
  <dc:subject>Slavic hymnal Гимны веры христиан, hymn 777</dc:subject>
  <dc:title>Я попирал любовь Христа</dc:title>
</cp:coreProperties>
</file>