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855-A01B-4C25-8BB9-1D6ACB64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D7D-6918-419C-9CEA-982ECE5D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857-5B8D-4E5A-B85B-C85DCD07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F24-B68A-43F3-9AB7-43C17371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7C5-132D-4F67-A2B0-C27F3F10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C6E-DF4C-4626-A8ED-5E31083A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A11-AC5C-49A4-9126-14152056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685-769A-4171-801B-50779256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F66-052B-4657-A634-FCCD5248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3BA-F66A-49C0-A595-BCC28938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3AD-DB62-4AF5-ABC5-FEEA583A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934-4E3B-4078-AFDB-901EB3D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6891B-3D68-49FF-BA62-F0D35A42AB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так печал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ты заб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безнача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возлюб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, Он расст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ом для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 скит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ахе и пы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ты так печал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ил Он отр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и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бе дать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д Свои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ет влеченья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дар прин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ешают вз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! не верь, смущ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чным голо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, муж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лым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чаль расс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я согр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тепл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0:11Z</dcterms:modified>
  <cp:revision>12</cp:revision>
  <dc:subject>Slavic hymnal Гимны веры христиан, hymn 806</dc:subject>
  <dc:title>Что ты так печален?</dc:title>
</cp:coreProperties>
</file>