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9729-0E41-4812-AE44-C3CF6967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62EA-90B9-4378-88E8-40C663A0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C98-2B59-41F1-9A72-CDF5FA8DE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88D1-446F-4C31-ACD8-BDECE584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C8D3-1053-413D-8043-458469BC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9E21-D684-4F93-83E0-029E85AF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814D-9002-4C6E-AB54-DD6A39F8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DDD6-CDE5-437F-9204-D6A3B34A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BA7A-B80A-4B89-A79F-66FB619D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27E1-CBB9-4F92-823C-83CA19D4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3D9C-A9DB-43DE-B2D9-A401835B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6F77-69DF-468F-AEFC-4209E2CC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D2544-D740-47FE-9480-A8073C0570B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, from the realms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ng your flight o’er all the ea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who sang creation’s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proclaim Messiah’s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и ангелы, лет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 ангелы лет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когда-то в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родился нам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е людям в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nd worship, come and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ship Christ, the newborn K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Царю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pherds in the fields abi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ching o’er your flocks by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th man is now resi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nder shines the infant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, оставьте стад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тесь тьмы и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те: Бог пришёл к нар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м блестит небес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nd worship, come and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ship Christ, the newborn K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Царю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ges, leave your contempl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er visions beam af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 the great Desire of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have seen His natal s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ецы, довольно зн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ли не без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пришёл давно Жела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м видна Его звез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nd worship, come and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ship Christ, the newborn K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Царю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, before the altar b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ching long in hope and f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ddenly the Lord, desc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temple sha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е, несли вы б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тарались побор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конец настало врем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пришёл Христос —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nd worship, come and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ship Christ, the newborn K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Царю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6:54Z</dcterms:modified>
  <cp:revision>15</cp:revision>
  <dc:subject>Slavic hymnal Гимны веры христиан, hymn 228</dc:subject>
  <dc:title>Angels, from the Realms of Glory / Божьи ангелы, летите</dc:title>
</cp:coreProperties>
</file>