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557C-2A42-4983-A42D-5AA9BEAE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EDFD-3582-4370-A400-A8325CB4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E5E2-A6C0-480B-BEDD-BB41FA82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2C6A-7139-458D-8400-C233309E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2CFE-D348-4B89-B71A-CADF54A1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8137-11A1-46B4-AE5A-AFB9E744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AF6A-5356-4E7E-97BC-DD8BC1E6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7A0-CE67-461A-8D94-1B9AD7D9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0923-4B62-4F64-896E-75947B50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49E7-AFE9-4B28-BCEB-172F4F07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0877-3B18-43BD-9F60-8BCCB48B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1928-6D44-4482-BD30-60240CE0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9C99C-F9D8-44A5-A635-B23B166247F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we pray and while we pl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you see your soul’s deep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ur Father calls you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you not, my brother, 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час молит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молитвы, в час про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твоей нужды боль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приятный, в час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ли, брат, дом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have wandered far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risk another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turn from God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day accept His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еко ты заблуд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Христа в путях зем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Он примир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, мой друг, вн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world you’ve failed to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ught of peace for troubled m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Christ, on Him belie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and joy you shall rece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йдёшь ты утеш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решном мире сём, брат 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Иисусе в день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обретёшь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Christ, confession ma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Christ, and pardon ta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in Him 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keep you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прийти к Нему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зыщи прощ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с небес об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твой искуп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8T02:21:04Z</dcterms:modified>
  <cp:revision>13</cp:revision>
  <dc:subject>Slavic hymnal Гимны веры христиан, hymn 335</dc:subject>
  <dc:title>Why Not Now? / В час молитвы, в час прощенья</dc:title>
</cp:coreProperties>
</file>