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91</a:t>
            </a:r>
            <a:r>
              <a:rPr b="1" lang="ru-RU" sz="3600" spc="-1" strike="noStrike">
                <a:solidFill>
                  <a:srgbClr val="ffffff"/>
                </a:solidFill>
                <a:latin typeface="Verdana"/>
              </a:rPr>
              <a:t>	</a:t>
            </a:r>
            <a:r>
              <a:rPr b="1" lang="ru-RU" sz="3600" spc="-1" strike="noStrike">
                <a:solidFill>
                  <a:srgbClr val="ffffff"/>
                </a:solidFill>
                <a:latin typeface="Verdana"/>
              </a:rPr>
              <a:t>Ты мне будь, Господ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Ты мне будь, Господь, отра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пути земных скорб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Спаситель мой от а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скушений и страст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скушений и страсте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Здесь скитаюсь в мрачной ноч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ет сокрыт от глаз мо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Твои над мною оч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путях хранят земн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путях хранят земных.</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Грешник в мире я несчаст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рожу давно во тьм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пошли мне свет Твой яс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вети меня в ум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вети меня в уме.</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Боже, верю всей душ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сем сердцем убежд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от гибели Тоб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у в мире я спа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у в мире я спасён.</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05:47:21Z</dcterms:modified>
  <cp:revision>3</cp:revision>
  <dc:subject>Slavic hymnal Гимны веры христиан, hymn 191</dc:subject>
  <dc:title>Ты мне будь, Господь, отрада</dc:title>
</cp:coreProperties>
</file>