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2</a:t>
            </a:r>
            <a:r>
              <a:rPr b="1" lang="ru-RU" sz="3600" spc="-1" strike="noStrike">
                <a:solidFill>
                  <a:srgbClr val="ffffff"/>
                </a:solidFill>
                <a:latin typeface="Verdana"/>
              </a:rPr>
              <a:t>	</a:t>
            </a:r>
            <a:r>
              <a:rPr b="1" lang="ru-RU" sz="3600" spc="-1" strike="noStrike">
                <a:solidFill>
                  <a:srgbClr val="ffffff"/>
                </a:solidFill>
                <a:latin typeface="Verdana"/>
              </a:rPr>
              <a:t>Будем молиться мы, брать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удем молиться мы, бра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нам к Богу взы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примет в объя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приблизит к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атья, нам нужно мол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нам к Богу взы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к Нему обращатьс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пошлёт благода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 Господом всё нам возмо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без Него — нич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 Он нас непрело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м возлюбим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атья, нам нужно мол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нам к Богу взы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к Нему обращатьс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пошлёт благода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ше тяжёлое врем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бушует разд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ды, как тяжкое брем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рудно нести без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атья, нам нужно мол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нам к Богу взы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к Нему обращатьс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пошлёт благода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ердце сжимает так боль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ре так давит нам гр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тятся слёзы неволь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с нами пре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атья, нам нужно мол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нам к Богу взы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к Нему обращатьс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пошлёт благодать.</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4:00Z</dcterms:modified>
  <cp:revision>3</cp:revision>
  <dc:subject>Slavic hymnal Гимны веры христиан, hymn 142</dc:subject>
  <dc:title>Будем молиться мы, братья</dc:title>
</cp:coreProperties>
</file>