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257-FF9B-479B-973C-08BE8F87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282-0F5C-4EAC-84F8-6BAB41C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6B9-53B5-4177-B4CF-A34E67E4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E97-6207-4AF0-AB43-6139D7ED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1FF-8300-436D-B000-51C788E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53C-CEEA-4467-B71F-5D8AA20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C4C-0727-42DE-B384-6B208B8F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52C-79D1-4C8F-A4A7-B6864B3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6F4-73BA-4BCD-BFA2-00290A7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C83-3270-4FC5-8902-19B31C2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E7B-002D-4D12-9F4F-BE15ADB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416-9F4E-4C25-A099-247903E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EB0AF-D40C-4849-9A70-4AFB77017D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ед Ним нас собе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ь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истальных вод (чистых вод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брачную вече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численны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 Господний Анг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ремени уж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хищен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лаках (в облак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нас Творец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ёт Свой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счастлив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тайно и сокры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явно и от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ом (пред суд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 праведным: «Вой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Бога сво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е мы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 звуках гуслей строй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 небесных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победы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м (вознесё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Агнца, Мои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нмом праведны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, неведомую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18Z</dcterms:modified>
  <cp:revision>12</cp:revision>
  <dc:subject>Slavic hymnal Гимны веры христиан, hymn 679</dc:subject>
  <dc:title>В день, когда труба Господня</dc:title>
</cp:coreProperties>
</file>