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B3E-0EFF-40D8-AD81-53AD5280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3CB-0469-4A66-8E16-0FAE69FC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1F4-D5E5-433D-A554-E78AF5FD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FF4-31AB-43BD-9580-61285AC8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A31-95B0-4C74-AE58-06C9C66E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F67-9BD2-4EE4-B0DD-ABB5B98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BEA-C6B0-444E-A973-7A761280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2C0-5848-411E-8470-94AC89E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287-E237-4433-B9CC-2E6CB1B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17D-414A-44C2-90EE-0F7233D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6D2-25A4-41A4-840B-8FD07AF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861-153B-4B6A-A2C8-534AFCA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DBF16-4123-4330-90AB-2CA0788DEE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rried on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y soul long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s to worship You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ower and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hands, lift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voice towards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sun and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9:01Z</dcterms:modified>
  <cp:revision>11</cp:revision>
  <dc:subject>The Source 2, song number 715</dc:subject>
  <dc:title>Hear These Praises From a Grateful Heart (Love You So Much)</dc:title>
</cp:coreProperties>
</file>