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200-174B-4468-AB41-B4490CE8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E97-1CD4-454E-9274-71707D42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6C9-3719-40EC-B7DD-05708748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413-DDFA-4387-AC4C-7CB60EE5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A02-E06A-4BA5-946B-A9620EE1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F7B-57CF-4B49-AC6F-BF6613F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837-5073-4108-A724-D15DCD3B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3AB-2631-458D-B197-5E84ADC3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F39-A290-4A24-B3CC-98BB2F73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C61-FE33-437E-AC3B-402578F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787-2688-4334-80E1-D623DD60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333-9A6C-40E7-9FCD-A7E92611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87F82-0FC6-41FB-8C76-22D2C9D93D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трах мене обго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оли ослабне ві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3   Коли страх мене обгор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можу сам трим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 Тебе покла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сний час, чи в час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ні недолі, чи у ща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и Сам мою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купив мене ці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10Z</dcterms:modified>
  <cp:revision>13</cp:revision>
  <dc:subject>Slavic hymnal Гимны веры христиан, Ukrainian hymn 33</dc:subject>
  <dc:title>Коли страх мене обгорне</dc:title>
</cp:coreProperties>
</file>