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AEED-8BB1-46C9-9C8E-B4E1B1F5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55D-AB38-4154-A690-074602C4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9B4A-D294-4E40-857F-8DD5663E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4924-39F5-4568-8059-83BE1A83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4449-19AF-4E36-B4C1-2A3E85C3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835-0F1E-4CF6-8068-626A363B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586A-3CAD-4F04-9895-F76B6741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49B6-1405-4D6E-BB9A-2FD53DD8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0C5-9EB3-4316-A6DA-31C25341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AE2-D8B3-4CE7-BED4-426E54E7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F9F-AF51-433C-A92B-FC0C88E5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A48C-796B-4908-8DDD-A885C420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FFAE9-B111-4A57-BC67-6D32587AD2D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r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o else would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ir lif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suffering in my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o could repay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creation looks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provid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You hav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26   Who Is There Like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m lifting up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up my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up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Your grace I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love has come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trusting in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ing in Your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ing in Your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Your faith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pow’r at work 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chang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r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o else would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ir lif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suffering in my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o could repay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creation looks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provid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You hav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m lifting up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up my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up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Your grace I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love has come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trusting in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ing in Your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ing in Your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Your faith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pow’r at work 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chang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m lifting up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up my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up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Your grace I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love has come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trusting in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ing in Your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ing in Your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Your faith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pow’r at work 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chang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3-13T19:34:25Z</dcterms:modified>
  <cp:revision>12</cp:revision>
  <dc:subject>The Source 3, song number 1626</dc:subject>
  <dc:title>Who Is There Like You?</dc:title>
</cp:coreProperties>
</file>