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24C-077F-43EF-9692-24ABB2DA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475-3932-4AC1-B63B-1B7A499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CAD-A030-43C1-93CC-779CE6B0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A88-C962-42BD-8F95-3A91879F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CB5-1739-4F32-8769-9FCFB680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867-82F0-4E0E-B663-E79F5E3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115-87F8-418D-B541-2AB9FE7A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ED9-F4C8-4A49-969F-82D3C321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BC1-5565-4B48-BC20-286D3857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5ED-0D7B-45FB-BC3A-AEC91184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22F-DED8-45BD-A0FD-B5DB32B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22A-617E-4355-A5C4-E8A039E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D38B3-3151-4399-BE8D-B2DE498BAF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44Z</dcterms:modified>
  <cp:revision>12</cp:revision>
  <dc:subject>Slavic hymnal Гимны веры христиан, hymn 625</dc:subject>
  <dc:title>Дружба верная</dc:title>
</cp:coreProperties>
</file>