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978B-0833-469D-8315-4FC1C0973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EDED-BCC2-4D5F-84F4-BF86081A6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ED90-09CA-4A53-AF91-BA8815ED1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ABB7-C3DF-46E0-9E39-0C655165D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901B-7AB3-4DB0-B67B-5E462BCE4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ABF8-DEA1-40D0-8C97-4B99FD568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FD35-7A0E-4F18-8722-763F04A4E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0409-9599-41E8-BB02-E391BD353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4130-0968-488C-9AFE-379AA8A35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2265-2A46-4104-8888-F8830616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2826-5B9E-42D6-9056-0D06895A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E75F-5EB9-4FAA-B6E8-BCA26D03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162A55-4822-445B-B96F-ADB7EB2AD5E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зья, взошло свети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авды, и доб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сердце озари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нье ут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те, да воспря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аш дух в борьбе свят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е ночь наста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нит труд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2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рузья, взошло свети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зья! уж полдень зной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те все к труд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адеждою спокойн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поможет в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х ваш не уста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ь скорби трудов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е ночь наста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нит труд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пожелтела ни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това жатва в 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ышен звук призы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дитесь дружн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колос не увя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Господа жив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е ночь наста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нит труд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единитесь, брат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славного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юзом благод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и на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слабый не отста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смущённою душ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е ночь наста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нит труд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01:51Z</dcterms:modified>
  <cp:revision>12</cp:revision>
  <dc:subject>Slavic hymnal Гимны веры христиан, hymn 529</dc:subject>
  <dc:title>Друзья, взошло светило</dc:title>
</cp:coreProperties>
</file>