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98C-37D1-4FB4-AD06-B248674D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BFF-0550-462D-9AB2-A9A7378C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C98-060F-4B8C-933D-22E4C039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BD8-FD0E-472D-8773-C35A5276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0A2-C8CE-4D28-9837-58648D5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628-7FBD-4604-972E-F9935E07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4AE-0E6C-4940-9358-58E866F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682-4437-4304-892C-D186DB98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555-02C0-4720-B305-174FBE08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9BA-48F5-4F50-814F-DB30CF0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F9D-076B-4D10-9D7C-82418EE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193-E14C-48BA-AFE1-09C0517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DD2BA-854C-4BC2-A8EE-286F3335EA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38Z</dcterms:modified>
  <cp:revision>13</cp:revision>
  <dc:subject>Slavic hymnal Гимны веры христиан, hymn 892</dc:subject>
  <dc:title>Почти уверен</dc:title>
</cp:coreProperties>
</file>