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0F7-2146-4E6B-9878-EC022139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00B-08F7-48B1-86D2-1500B7EC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05C-43FB-4847-829F-F22AFA3B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A4A-D8C9-4B1B-A373-E15C62F4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F58-1F3F-4F5B-9F10-45BDF57F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447-CC16-412E-B12E-63770913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A02-CCC8-4ED0-9CF8-959AA7E8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F76-F6A6-4144-80EB-54EDF690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6D2-C6AF-433C-B5A2-9E25B8B3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18A-437D-40DD-BAD2-1C60C711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4EB-EF59-40D0-8BBB-DCDFE768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624-3E3A-428B-8191-32217662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D1F98-847F-4FDE-B893-AAA0767CB7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ет, бушует и не уним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тая вьюга, как з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-то рыдает, из сил выб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 горемычный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о, в подвале каморка уб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лодно в ней и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лишь два стула да ко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ёхн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ом окно зам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ет, бушует и не уним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иумолкнут, то снова в рыда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ни разом нач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не знают, что мать без с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мочка!» — громко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Холодно, мамочка, холодно, мил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очка! кушать хоти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ь уж не слышит их песнь уныл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ьюга доносится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Боже, о, где ж сострад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людская люб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безнадёжных одно уп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! спаси бедня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47Z</dcterms:modified>
  <cp:revision>12</cp:revision>
  <dc:subject>Slavic hymnal Гимны веры христиан, hymn 779</dc:subject>
  <dc:title>Воет, бушует и не унимается</dc:title>
</cp:coreProperties>
</file>