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25C1-BFA7-447C-A34A-C268C71D8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7D3A-1A76-4D12-8F1B-B20BEE81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C962-D8F8-46C1-A749-789019FBB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7CB0-C9D0-4550-A496-C39465C06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F713-F1FF-4102-BDE8-99B9D405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7637-3151-4670-9265-81FA5149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7729-1F29-42FA-9955-4EBBED42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551A-E736-40A5-8112-3EC3310C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A3EE-5686-4D8F-83E4-286E8519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21BA-0016-438E-9D5A-B55712F2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5878-531B-4598-AC92-C99B6755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75C7-4E54-42E4-B7C4-4946C5ED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C7838-E552-4EBE-8CCD-0C6CDEB313C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Your blood that cleans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Your blood that gives me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Your blood that took my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redeeming sacrif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ashes me whiter than the s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e s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Jesus, God’s precious sacrif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50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t’s Your Bl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1:30Z</dcterms:modified>
  <cp:revision>10</cp:revision>
  <dc:subject>The Source, song number 250</dc:subject>
  <dc:title>It’s Your Blood</dc:title>
</cp:coreProperties>
</file>