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2EF-357C-4F87-A226-6F326533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B92-2D67-4C57-88F6-3200C7D3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12A-3182-4709-A598-30C94317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06F-DA63-4490-9172-809739EC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39A-E396-4172-807D-D4359226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A0E-E32E-4B06-82E8-D7C9ADBB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C3F-F7E9-48C8-B0DC-72933FDC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1E9-2423-4416-89A8-B863E4D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321-C862-451A-8BA7-7D374631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FAE-7F0E-4C97-A6B6-355F6AE0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9E6-0299-4E7B-A16A-7192A261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887-C9DA-4C0F-AF6D-BB7359A0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A5542-FFDB-4BD6-8693-B036E67508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side of the rive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aints, all immortal and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robed in their garment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чизна моя в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й стремится и рвёт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ятые в бессмер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труится живая ре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kindred and friends are a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way from my sorrow and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ly to the land of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ждёт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товит обител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мирный на злачных лу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ветлом, блажен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end of my journey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dear to my heart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atching and wait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мне быть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мой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е встретятся в райских вр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, что верою жил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2Z</dcterms:modified>
  <cp:revision>13</cp:revision>
  <dc:subject>Slavic hymnal Гимны веры христиан, hymn 692</dc:subject>
  <dc:title>The Home Over There / Отчизна моя в небесах</dc:title>
</cp:coreProperties>
</file>