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59A-1F2B-4102-A890-973BC189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491-5FBE-48C1-9865-97475A6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CB9-9E61-45AD-A6E6-AA8ABF39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920-8B18-43F6-80D9-468C9786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AA8-9360-45B3-BDFB-E777056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233-0001-46E0-9580-91FB4AAE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1EE-E81C-4CA1-94F4-9D3D66E2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C4E-7ACC-41F2-9381-A1BFCEE5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9EF-8515-4D92-8054-BD4870E8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614-4B6F-4962-9CD5-DCA74BD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942-2309-4D54-A0AB-2BD0BD31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B07-4643-4483-87B4-774A557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F2BA7-AA71-4BE5-AE30-114B8D2E4F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35Z</dcterms:modified>
  <cp:revision>12</cp:revision>
  <dc:subject>Slavic hymnal Гимны веры христиан, Ukrainian hymn 108</dc:subject>
  <dc:title>Коли дух Господній наповняє мене</dc:title>
</cp:coreProperties>
</file>