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7128-5B2B-4194-8631-EBF0F4740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89C4-FFD3-4262-BC03-730F72130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5D7C-00F8-4365-896B-A92912BCF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57F3-D373-485E-9F95-BA2A61BE1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C847-79FA-4064-BAD3-E966344AE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4DD2-2C2E-4927-A59C-3EE7E9081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5411-F3A6-4EB3-9D1E-DE2B3BEF6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2263-CE11-4F8A-A40D-D69289DFE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3173-F336-487B-BF2A-0709B4308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22D7-0AEA-416D-B230-FFE2A696E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4D11-C086-4C94-A298-D816EFC45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44D8-86DE-4893-AC99-D7E84619D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BFFA5E-7C9C-406B-9A1A-03C0AC00E99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love You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 lift my 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worship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 my soul, rej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ake joy, my K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what You h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ay it be a swee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weet sound in Your 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214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I Love You, Lo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3T11:35:33Z</dcterms:modified>
  <cp:revision>10</cp:revision>
  <dc:subject>The Source, song number 214</dc:subject>
  <dc:title>I Love You, Lord, and I Lift My Voice</dc:title>
</cp:coreProperties>
</file>