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3CB-032D-4231-BD9F-74EF7417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1AFD-4F16-4795-8847-C26D8E7E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96E6-D246-49CA-A1E3-3289C3CA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FFC-ECD5-4C5D-9C81-8428FFE6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42B5-0F08-420D-859E-6AF089A8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3CD-F500-4A7A-B27E-96799EEA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9935-197D-48E4-9A60-C4964515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12C-BA6A-49EB-8953-435EF6FB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E75B-7EE9-4468-835B-B4B4042C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8EFE-B1C8-4CCE-B4B8-80B37728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4FA7-70E2-4C52-BBDD-F362E2DA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6DF-C1C6-479D-B3AE-D7899B84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D2AAB-1182-4402-BBAB-748CD5E0C5D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aid “Ask and you will rece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ever you ne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aid “Pray, and I’ll hear from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heal your lan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aid Your glory will fill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water the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aid “Lift up your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arvest is here, the kingdom is her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99   You 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aid, “Ask and I’ll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tions to you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hat’s the cry of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stant shores and the islands wi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ight as it rises on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I ask for the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I ask for the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6-25T08:40:27Z</dcterms:modified>
  <cp:revision>11</cp:revision>
  <dc:subject>The Source 2, song number 1099</dc:subject>
  <dc:title>You Said</dc:title>
</cp:coreProperties>
</file>