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E22-BAFA-4EB5-A194-BFDD372B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948-C398-4996-8488-E56DEF5E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FFD-CDC5-4465-BA5D-CB2BE5A5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517-882F-4A64-9AA2-E757231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09A-0AA4-4D9F-B084-F4648B1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8B7-858B-4AB2-A2A1-D745B80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F55-3E90-49A0-8F84-5048D7B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81F-3F7E-4C2D-8E27-127D041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71B-7836-475B-9CAB-B8974F27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EA8-B84F-4B60-8E0A-8C2F660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2FE-B271-46DA-84D8-F0A8554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652-FD29-43D2-A1BC-D2B2A45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BD3BF-69FA-44A4-AB33-375FBE30D8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open Bible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s our glorious mot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’ry breeze its flag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catter blessings rich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it goes its golden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ing as from an unveiled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issipate the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o the work that sin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hows to men the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radiant with forgiv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lost of Adam’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s sweet mercy from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ffers rest to weary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omforts those who sit in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aint, it strength imp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lds with hope th’ eternal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6Z</dcterms:modified>
  <cp:revision>13</cp:revision>
  <dc:subject>Slavic hymnal Гимны веры христиан, hymn 563</dc:subject>
  <dc:title>An Open Bible for the World / Открытой Библией везде</dc:title>
</cp:coreProperties>
</file>