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ABE9-33E8-44C9-AC62-7FC0B73CC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190E-FE1A-4013-9FFE-E56B3BDC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C6E8-E95F-42E5-B60B-627870052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23AB-C654-4587-A83E-A8A857502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56DB-81C8-4747-8FA8-7E97E2DF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C13D-9944-42D7-A01D-BAB124E2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EC74-3F76-4E3E-A6FF-AFB21A1D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9495-FAEE-4A07-BD1E-FDB272EF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3EBE-8564-49DB-AB2A-6A0BF2BE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A9B8-CB72-4BB2-B13E-46614E59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70B8-6CCF-441B-A59B-DF8761A7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A9D1-9D96-45C4-9C95-BE868D6B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EFDB1-5F93-43FC-9C87-893A0A3F904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a water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o one drop of r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a mountain tow’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ove a single grain of s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the blazing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o a candle fl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a thousand years to on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God and we are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960   Like a Waterf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yond sight, beyond m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yond sense, space and ti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st beautiful mystery of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God ab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gels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st beautiful myste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ee times holy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, whose name 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st beautiful mys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tride among the st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all them each by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 the galax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e only dust upon the sc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fore the world was form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even day or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the angels s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pure de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ere there and we were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yond sight, beyond m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yond sense, space and ti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st beautiful mystery of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God ab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gels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st beautiful myste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ee times holy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, whose name 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st beautiful mys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God, my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ost beautiful mys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God ab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gels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st beautiful myste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ee times holy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, whose name 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st beautiful mys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7:47Z</dcterms:modified>
  <cp:revision>12</cp:revision>
  <dc:subject>The Source 4, song number 1960</dc:subject>
  <dc:title>Like a Waterfall (Beautiful Mystery)</dc:title>
</cp:coreProperties>
</file>