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37B8-90F1-4995-9FBD-9A65E8E29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647D-D9FA-4BCA-A219-C40461DB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D681-2007-423E-9DFD-4DB448600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58AF-9BB0-463E-AEB8-DA05E2727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E203-1B03-4B4A-BE8D-425B3A61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20E5-F1D4-48B0-91DA-2735DB8D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A552-3214-484F-BB00-E9AC7B57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959A-D0F6-490D-9C79-E8DB2BB8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D8CF-7E04-4105-A299-F4AA5DC4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D68F-1DB1-4F80-A7B5-473A2DDA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737D-FF46-4C08-A037-6188966B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7CCE-2EF4-4E8A-B91C-7A2DF9E9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95CC75-F5DF-43C8-9416-B5740262F48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plendour of the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othed in majest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ll the earth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earth rej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073   В сиянии Цар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янии Ца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еск велич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ся земля по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и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raps Himself in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darkness tries to h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rembles at His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rembles at His 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блачён во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тает тьмы и сл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олоса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олоса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great is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with me, how great is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will see how gr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great is our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так вел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 со мной: «наш Бог так велик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идят все: наш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так вел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ge to age He st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ime is in His hand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ginning and the 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ginning and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тоит в век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дни в Его рук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чало и Ко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чало и Ко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God-head, Three-in-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ther, Spirit,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on and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on and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аш три-еди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, Отец и Сы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Он и Ле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Он и Л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great is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with me, how great is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will see how gr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great is our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так вел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 со мной: «наш Бог так велик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идят все: наш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так вел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me above all nam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thy of all pra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 will s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great is our God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М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ше всех им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превознес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по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так велик!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great is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with me, how great is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will see how gr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great is our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так вел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 со мной: «наш Бог так велик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идят все: наш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так вел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3T09:36:19Z</dcterms:modified>
  <cp:revision>12</cp:revision>
  <dc:subject>The Source 4, song number 2073 in Russian</dc:subject>
  <dc:title>В сиянии Царя / The Splendour of the King (How Great Is Our God)</dc:title>
</cp:coreProperties>
</file>