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ED9E-F263-4CA8-8792-5B2440B31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7EDE-DDCA-4DC7-851A-5D575FE5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8B96-B55C-4221-A3BB-05C92ECD1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88F7-02A5-4878-ACB7-B882FFDD8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8B26-0FF1-4F16-891B-D365F7CF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44D9-EF5E-4AD8-A6C5-B2FC605F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09E1-A94F-4E10-A8FA-42C42E99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0E4E-9454-4EE7-86C4-D2F64395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D437-232F-4C07-8873-661A9269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F729-3EFE-47BC-B885-DC6C3391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4298-4235-4DFC-BC9F-8E86159F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64AB-6019-40E4-9F2B-A115D27B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714C2-14B2-4ECF-9C51-6ADFB6E51C0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ord of words the sweet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 words, in which there 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promise, all fulfil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nd of myste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слово дорого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ово дорого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жизни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ыто в нём свят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тство благ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menting or rejoi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doubt or terror n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ear the “Come!”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o His cross I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ю иль стра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омненья ли вп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зов: «Прийди!» услы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у я ко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oh com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oh com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ary, heavy-la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oh come to M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, утружд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oul! why shouldst thou wa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such a loving Frie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ing closer, closer to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y with Him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ю отд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на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иг не удаля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Бога нико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as! I am so help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very full of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am ever wand’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oming back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ы! Я одино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ен усто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ухожу далё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льну к Нему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oh com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oh com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ary, heavy-la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oh come to M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, утружд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each time draw me near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soon the “Come” may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ught but a gentle whisp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one close, close to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еки к Себе Ты мощ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изко дай прильну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й и в час полно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ю мне усну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, over sea and m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from or near my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take Thy hand and fol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at sweet whisper “C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ай чрез все невзг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стречу я в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 земные г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радостно ид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oh com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oh com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ary, heavy-la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oh come to M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, утружд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51:56Z</dcterms:modified>
  <cp:revision>13</cp:revision>
  <dc:subject>Slavic hymnal Гимны веры христиан, hymn 370</dc:subject>
  <dc:title>O Word of Words the Sweetest / О слово дорогое!</dc:title>
</cp:coreProperties>
</file>