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A7E-A7CE-4B89-9C42-45280663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044-6015-4A19-A536-DA84BCF4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4AE-340D-416D-81C5-1267327F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ADC-B695-46EB-A092-34807EA5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635-6494-4B87-BE89-0D7661FD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75D-237C-4352-91D9-E5CEC42A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F54-2398-406F-B39A-5342E301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35F-B706-47DB-88D3-66B12D0B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BE8-FC88-4731-A13B-26545134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F92-9EF4-485E-B09F-7694991E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E72-FD37-4D35-93EE-EA091040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C0F-E1B0-41FE-A59E-0534192E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64832-BAD8-4BB9-9934-D7BB87F347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где горя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асилий и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царствует там жизнь и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чудесном 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чудны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нет мук, нет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страданий жизне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огил и нет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для истинных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трудись, в надежде 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ведёт нас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погибшим весть н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Иисусе ест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10Z</dcterms:modified>
  <cp:revision>12</cp:revision>
  <dc:subject>Slavic hymnal Гимны веры христиан, hymn 674</dc:subject>
  <dc:title>О, чудный край, где горя нет</dc:title>
</cp:coreProperties>
</file>