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8492-3F47-4343-B01F-120215B5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75ED-B121-4E83-9160-77BBF419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EEF0-9F76-4E3E-AD80-C68C71C98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B04B-673D-41EB-8084-E1FBEE9F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0089-8CA5-42D6-AB61-D0F1B3DF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8374-21FA-4585-A001-4C7E0589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171C-A6B8-47E1-ACD7-0DFAC0FB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735C-8231-4D68-874E-15C9450C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315A-E3F5-4A08-917A-9D364D58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63FA-72B6-4449-BC67-00378B58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10C9-2497-45CD-A376-88F7F778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A8A0-BCD7-4407-A9DC-AB8804E4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F66C6-72E3-4239-8A1E-009632BB1F9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487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enter the Holy of hol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enter through the blood of the Lam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enter to worship You on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enter to honour “I Am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282   Вхожу во Святое Свят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хожу во Святое Свят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хожу крови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хожу, чтоб Ему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хожу, чтобы видеть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487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worship You, I worship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worship You, I worship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r name is holy, holy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r name is holy, holy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лоняюсь Тебе, поклоняюсь Т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лоняюсь Тебе, поклоняюсь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Твоё свято, свято,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Твоё свято, свято,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7:29:40Z</dcterms:modified>
  <cp:revision>11</cp:revision>
  <dc:subject>The Source 3, song number 1282 in Russian</dc:subject>
  <dc:title>Вхожу во Святое Святых / I Enter the Holy of Holies (For Your Name is Holy)</dc:title>
</cp:coreProperties>
</file>