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7E7-C8CE-428E-90B6-1C25CD9C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99C-BB09-4C95-B0D0-D7B05218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946-E40D-46F4-8929-BD154F6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B00-1429-45FB-B13F-6BA4588D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807-7093-4D67-B1CF-19FA71A7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FBE-EE58-469A-A035-A6A3B1C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943-D0DE-4B8B-95E3-67FD40E8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DC6-0377-4596-9095-E4A0953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ED8-26CF-4507-9266-E500C62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417-92C1-4A90-993C-2484427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99D-BFEC-4B4E-99BE-3BB0FC8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3CC-BE23-4947-B3A1-10FEDADF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EFE61-EE5A-4495-A6BA-EA0DE52045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6:33Z</dcterms:modified>
  <cp:revision>12</cp:revision>
  <dc:subject>Slavic hymnal Гимны веры христиан, hymn 840</dc:subject>
  <dc:title>Грешник бедный, изнурённый</dc:title>
</cp:coreProperties>
</file>