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ED7-1599-4A0B-8105-9A1E81EE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B12-3465-47BD-9E6B-E69DF3DA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665-0F68-4B14-85F5-815F5805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5E0-C83D-4C38-B7FB-6F4E08CE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0D0-FBAC-4779-83BB-546FD142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7B2-0D23-4A04-BAD2-BE1D5256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B4A-EC85-4E35-82FD-5AD37E69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7E4-229D-4598-9301-E7D82138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6AB-DB0C-4CA7-BFA6-37C63AE8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1C4-42C5-45EA-89C1-07DF7513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855-1153-431F-8698-248E22B6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1EF-1268-4206-9F6F-BFB5AE82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5C9FC-7079-4612-8887-15121061ED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sent His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called Him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me to love, heal and for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d and died to buy my pard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 empty grave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ove my Savi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Sent His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 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weet to hold a newborn ba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eel the pride and joy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greater still the calm assu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child can face uncertain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 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n one day I’ll cross the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fight life’s final war with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n, as death gives way to vict’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see the lights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know He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 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2-09-22T21:51:19Z</dcterms:modified>
  <cp:revision>11</cp:revision>
  <dc:subject>The Source 2, song number 701</dc:subject>
  <dc:title>God Sent His Son (Because He Lives)</dc:title>
</cp:coreProperties>
</file>