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889-C0D4-4A4B-803E-C54272E1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2F8-807E-46CB-A3E1-93D3BEAA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DCB-8CBD-4E11-BC9D-18323BF6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DE7-6CCF-4972-9540-82E30662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B42-A3F3-4905-B1D5-312D1812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CB7-D591-4939-A440-32EE0E92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32B-0168-4D40-835D-E9B5B4FD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FF9-BDED-44DB-AF6A-0AFE4879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7BA-25E0-4587-B49B-5A28C8CC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715-8DA4-435F-9C54-9D027E61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BC5-7E38-4C05-888D-56D05456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112-0C44-403D-8935-AE2099FC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7DEED-9B43-4A8F-B94D-82EA21BD4A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тебе уж проб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едная душ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жна ты снова возврат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приходит бы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, глас внутренний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щадит тебя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ё Собою напол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а грешных пере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ра тебе уж пробуд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душа, а т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и тихо слёзы ль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греховной тьмой од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мерть тебя, как жертву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придёт, как гость неж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весь ужас за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час неведомый, нежда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ись, о бедная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, опомнись, хоть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оже мрачное взгля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увствуй стыд и ун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н греховный отг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вно к тебе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ты светом озар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 — Он длани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едная душа, просн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а враг твой бдит всечас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а бездна по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жий гнев, как гром уж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мит над грешно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оро, скоро разраз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сякнет благости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верь спасенья затв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ись, о бедная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49Z</dcterms:modified>
  <cp:revision>12</cp:revision>
  <dc:subject>Slavic hymnal Гимны веры христиан, hymn 376</dc:subject>
  <dc:title>Пора тебе уж пробудиться</dc:title>
</cp:coreProperties>
</file>