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A00A-4AC9-486C-9277-FE80D8D3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48DA-BD3A-4D75-86E7-2218DAEA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FAC1-B330-4622-957E-BFF21ADB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B65-0D5A-479B-BA0B-B1E477B5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C11-AFBC-4508-842F-482A2F1E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8456-D1F6-4CA3-A426-775EA575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DC94-AACD-4467-8573-9F439F52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748-42C3-40BB-B46B-F3B65935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6DF-E68B-43C7-82B0-E57A8853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CE75-635C-49B5-9E6B-EC1E9EC4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7ADC-C8AE-42CB-A729-B0461642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983C-AC34-496B-BDF0-8A54823C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4207C-10BF-44C0-86FF-D286461FA23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recious blood I 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 might’st ransome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quickened from the de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умер за т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мер за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ь Свою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Я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астырь и покров,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твой давший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астырь и покров,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твой давший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, 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giv’n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, 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giv’n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жизнь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жизнь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ather’s house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lory-circled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for earthl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and’rings sad and 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ного лет пров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чалях и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чность ты обр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частья в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I left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 thou left aught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I left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 thou left aught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ость дал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ость дал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ffered much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than thy tongue can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bitt’rest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scue thee from h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род золо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радужный пре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, за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Я с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borne, I’ve borne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orn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borne, I’ve borne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orn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всё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всё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have brought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from My hom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full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ardon and My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дсмертных муках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ерзаем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мерти и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свобод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, I bring rich gift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rought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, I bring rich gift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rought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,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ты Мне возд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,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ты Мне возд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 же жизнь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годы посв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Ему служ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40Z</dcterms:modified>
  <cp:revision>13</cp:revision>
  <dc:subject>Slavic hymnal Гимны веры христиан, hymn 427</dc:subject>
  <dc:title>I Gave My Life for Thee / Я умер за тебя</dc:title>
</cp:coreProperties>
</file>