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171-ECC5-44F1-9E51-442A9284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1FD-8E01-4646-9539-2B5E7BD0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53F-87E5-4D17-8CC6-20DBEFE9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EE0-E796-4A97-8B08-2DDB3A09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041-FAB0-4A63-8F72-C3341010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E21-404B-4A2C-A40A-1B681937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853-258C-4427-B267-9CA5CF4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951-88EF-45AC-86DB-10D9ABBA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533-893D-4D31-BAA8-E71BC7F0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1C9-5609-48E8-ADD3-644DAF9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EBC-6E21-46CC-8F36-09C0736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59B-6531-4966-8E6F-DF35779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445F0-FEEF-44A0-81A2-68672EAE92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о велике щас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любить Він і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; ми Його не зн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Він нам світло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8   Бог є лю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. Ми гріху служи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― нам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паситель вмирав за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Відкупитель спасіння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буду величати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славить Твою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03Z</dcterms:modified>
  <cp:revision>12</cp:revision>
  <dc:subject>Slavic hymnal Гимны веры христиан, Ukrainian hymn 78</dc:subject>
  <dc:title>Бог є любов, о велике щастя!</dc:title>
</cp:coreProperties>
</file>