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51CA-FB87-4F5E-926E-AC3E791B4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7F0C-A238-487E-9B26-7BF60EE8D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25C6-F327-4E10-8123-00078A9EC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BFB1-1B7A-48D4-AC7F-5EBD12D4E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3E7A-A0B6-4F0D-AB15-95604D9F9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D620-D671-407D-8A97-DE81A8360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968C-A84B-4167-B667-9CFEE428B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28A9-EAA4-4C9E-9D71-4D6444405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9D8F-8F4C-4AC5-B16E-F963BC399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3185-7955-4B01-B75B-0DAFFC5E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A209-F48D-4968-9229-3CAACCC1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76EF-3860-43A6-84B9-D8CC3E4C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D9B6B8-2F27-4F64-B373-5CB6863F53D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удешь вечность провод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учит вопрос ко мне, к теб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ой ответ найдёшь в себ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удешь вечность провод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ости! Жизнь вечно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удешь вечность провод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3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де будешь веч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многие к Христу приш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тавили греху слу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й небес в удел наш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удешь вечность провод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ости! Жизнь вечно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удешь вечность провод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тавив узкий путь невзг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ешил ты на другой вступ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ой конец тебя там ждё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удешь вечность провод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ости! Жизнь вечно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удешь вечность провод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 этот самый час пове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дайся ты Ему теп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спеши всем возвести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буду вечность проводи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ости! Жизнь вечно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удешь вечность провод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0:13Z</dcterms:modified>
  <cp:revision>13</cp:revision>
  <dc:subject>Slavic hymnal Гимны веры христиан, hymn 336</dc:subject>
  <dc:title>Где будешь вечность проводить?</dc:title>
</cp:coreProperties>
</file>