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1D6-5217-4DC0-A74B-A407CA16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58D-C304-4534-8F81-2585AB63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4C7-0974-408B-9DF7-150955CB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9E2-5221-4268-A166-4A6447CD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2F3-471C-4C4B-A770-5D9ED717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A0E-46BC-4FDA-A2E7-0A240EA7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0F7-8F0E-4D0D-81DC-F37BEDA5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5F5-25A8-42D3-9ED4-E4D91D09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BF7-E333-47D9-858E-D93976FD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8C9-6F03-449F-A83E-B25A0F3E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879-96F3-4022-9C58-2BAA5F38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41F-77E7-4781-9E58-15CDFE9C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2D4E9-BC7B-4081-9B23-6104D4BB6C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Богом! — Двери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отверз, как брату бр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безмерно я бог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прощеньем облад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в мире с Бо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вит сердце мне тос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ю я, что дл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там в чертогах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блаженной за ре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Богом! Он со м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на всех путях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евогах, горестях зем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с неправдой и нужд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счастье, так и в тяжкой д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твердят мои у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усть воля Господа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ю вечно будет воле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3:18Z</dcterms:modified>
  <cp:revision>12</cp:revision>
  <dc:subject>Slavic hymnal Гимны веры христиан, hymn 596</dc:subject>
  <dc:title>Я в мире с Богом</dc:title>
</cp:coreProperties>
</file>