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CD3-45D9-4C06-8FE6-48BA8EAA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B72-6DC7-4A3C-8F44-FFA26FBA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A58-73BA-457B-B36F-C4DF821D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DB5-F4A0-49C6-94B4-655D211B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B3A-04FC-434F-AEDE-C92B5F73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FB4-A57C-401D-AD01-DFA16F03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CF1-F649-4CDE-B3B6-55B0B330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120-9327-40F1-B45E-E938F03E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1FE-EDA3-4198-BBD5-13DD5864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605-CAC0-4A50-BD72-8E2E5514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AAA-ABAB-4485-99F6-27995209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123-FE75-4277-BDCE-30D945C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00C71-EE24-4416-95B7-7F99CDC190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, mar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, oh, we are m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ight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 Are Mar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, li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, oh, we ar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ove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,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, oh, we are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18Z</dcterms:modified>
  <cp:revision>10</cp:revision>
  <dc:subject>The Source, song number 539</dc:subject>
  <dc:title>We Are Marching</dc:title>
</cp:coreProperties>
</file>