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8CF-614D-429C-80CD-4C65F30D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B6D-D214-493B-B35A-A66C091A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BB0-CB8D-443B-9B24-65E0FFC1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8A9-B344-4609-83DE-CED8D57F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AED-4AD1-4B56-9455-5E0DB075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465-547F-4F81-AF68-95E44F6A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518-29B1-4A12-86AA-819FD7F3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303-B6F4-4240-8115-9A8E708F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058-CF7E-444F-9542-D05B0344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35F-AE31-4C85-91A7-FEB20E1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7ED-FC44-43CF-B942-A9AFDF2F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BD0-1F26-44B9-96FD-C34F4B6F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37552-2AA6-471A-B33D-B4DA4A9A27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ure as Jesus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is strength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fear, anxiety wi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th faith o’er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дал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ужасы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я и тос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Shepher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heep He leadeth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leasant pastures gui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aters fresh and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близ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готов 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от муки и ог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п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the sunlight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rkness me o’ersh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Jesus through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guard me with His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умрак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толпой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ь невидимых сет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Он мой по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f my faith should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nemy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o the Saviour’s heart I’ll f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ind a reme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пути с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поскольз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руди Христа тотчас склон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люся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unto Him I loo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urden to Him t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Jesus loves me tender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ill my comfor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мне скорб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в к стопа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тов всегда я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9Z</dcterms:modified>
  <cp:revision>13</cp:revision>
  <dc:subject>Slavic hymnal Гимны веры христиан, hymn 461</dc:subject>
  <dc:title>As Sure As Jesus Lives / Спаситель мой живёт!</dc:title>
</cp:coreProperties>
</file>