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F2C-E212-4423-8E69-43D303C9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19E-95D8-4391-BD59-C708E3FE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70B-A7C7-427E-91EB-23E5B66E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A5D-6562-4F50-AEF5-2B9F9A4E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423-1917-4ECF-A089-C88D1E94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3FF-4736-4615-8BE9-4DCE9DBC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E37-689F-406A-B931-D4587A29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0A4-A7DC-4A19-BF97-1CF6BDE6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771-BFAE-4C7A-A72B-5CA5A52D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9EA-75A4-4FED-92B4-F6B8B0A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6AA-0BE3-45F1-99A0-4B391D0E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0E9-DA0F-4185-BE91-114585D0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36BF2-C489-4FE5-ADD8-37B5AB9E54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detain me, for I am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ere the fountains are ever f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этом мире я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окончу путь мой 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где блаженства льются пот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the city to which I journ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Redeemer, my Redeemer is it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sorrow nor any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any tears there, nor any d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тчизне, куда стремл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мо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, не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едугов, нет умир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glory is ever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my longing heart, my long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is country so dark and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ng have wandered forlorn and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там всё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 тот дивный, дивны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этом мире тёмно и жут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томился, нет мне при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10Z</dcterms:modified>
  <cp:revision>14</cp:revision>
  <dc:subject>Slavic hymnal Гимны веры христиан, hymn 680</dc:subject>
  <dc:title>I’m a Pilgrim and I’m a Stranger / В этом мире я только странник</dc:title>
</cp:coreProperties>
</file>