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8CC3-CEA8-4674-92A8-9D08070A3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693F-59F6-4AD2-ABCA-8A59558A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8771-2106-48F7-906B-1DCB67FBA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4CD8-544F-45CB-9232-DF9752EA8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3171-9D90-44B3-A34D-C99C7598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5FAD-B8AD-461D-AD4E-6A3D41F6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83F5-0DCF-41B7-A190-EFB29639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B011-F73E-4850-BD30-4BC0EB21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3FFE-3B2F-4111-954B-68861406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EF16-F13B-4B63-A992-26FE62E1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EC14-7BC2-4076-A5EE-4E46757C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5FB0-F032-4B0F-BDA9-15AD60F1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250BE-436B-430C-BCD1-6BA57571B24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Дух Святой влечёт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греховного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ать им радость без ко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правде соблю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Дух Святой вселяет в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мерную любов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огонь во всяк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ел во тьме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ишь Дух Святой влеч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Дух Святой несёт да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аждем мы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новую везде тв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сердцам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Дух Святой помог позн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ю благода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 Святой, мы ждём, при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вь и освя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19:43Z</dcterms:modified>
  <cp:revision>12</cp:revision>
  <dc:subject>Slavic hymnal Гимны веры христиан, hymn 313</dc:subject>
  <dc:title>Лишь Дух Святой влечёт сердца</dc:title>
</cp:coreProperties>
</file>