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B61-5C2C-42E7-8323-6E4468E5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47D-A028-47C6-AE1E-46C32FC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8C7-6BD3-40A2-851A-BD3D593D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463-D2F5-487C-AF52-1B22FDC9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73C-1E60-43A0-AE85-ACCA82E5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100-136E-40C6-A4B4-88FF542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DED-8B05-4028-B071-F43CC4E8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911-7DBB-4217-BC88-5ABAED2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2A1-1492-44F1-A475-1CE7EDCD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613-E288-49AF-BC08-16FFD579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7BE-11C0-44CA-A4A3-D1C65B3B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BCE-9475-4339-AAE7-CE087E2B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BFF30-7D01-4C98-B4B9-CCF6394B9A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the wondrous lov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mercy and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ansions bright and blessè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prepare for us a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те о любв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о любв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арах людским сы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тчизне светлой,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л место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walk the pilgrim path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uds will overspread the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en travelling days are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hadow, not a s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ветров, бурь, дож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ей мир остав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и вздохов, н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then be true and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, serving eve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one glimpse of Him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e toils of life rep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и усер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вёрды, как гран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г один Его я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руды воз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to the prize before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His beauty we’ll beh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pearly gates will 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tread the streets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к цели! Прочь заб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ведёт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емчуж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улиц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3:38Z</dcterms:modified>
  <cp:revision>12</cp:revision>
  <dc:subject>Slavic hymnal Гимны веры христиан, hymn 889</dc:subject>
  <dc:title>When We All Get to Heaven / Пойте о любви Христовой</dc:title>
</cp:coreProperties>
</file>