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BF9-8597-4619-94E6-0F04E046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F83-B0B1-4524-88BB-37050B2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B94-7C98-4F14-AE1E-3BD3289A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1FF-0A37-4C29-9DD2-A095EB38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12B-AC8A-4D72-8ACC-EEFC8F84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376-8B6F-4CC8-928C-2D76844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343-930A-4AD5-9984-4E68218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4EC-770C-4A1D-B9F9-F3CF33BB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93F-AC28-44E1-B407-2652160C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561-C2CD-4118-871B-E4C81A4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EE1-DF93-4521-B885-AB3F601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25C-85BD-4F75-920F-60E05FE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9B9D8-4100-4966-9F58-BF9F6AA39F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хе и ист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ю ел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лонень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остатка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есть внут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пр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здох для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засл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полна запла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смыл мой 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рушил м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ть про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т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23Z</dcterms:modified>
  <cp:revision>12</cp:revision>
  <dc:subject>The Source, song number 265 in Russian</dc:subject>
  <dc:title>Предложу Тебе я жизнь / I Will Offer Up My Life (This Thankful Heart)</dc:title>
</cp:coreProperties>
</file>