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096-1AA2-4AED-BC4D-C2B52CE3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E63-2B96-4DF2-A116-A0C27D0D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0FE-7496-49D7-8F6F-B66E782E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1817-CA94-4F79-B6DD-5AF43C0F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47E-A6D3-4908-BA46-DD81CD56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A93-C40A-4D3F-939A-B0480AA3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1CF6-8AC1-4BC4-ADE0-4077731C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641C-0832-43BF-9300-6988C8D6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DB1-D610-4808-982A-842DC085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178-2664-4BEF-9E74-A79375C6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541A-EA07-49C9-9EB5-AE59868B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3EEA-EBF4-4B7D-9818-61F0F967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7BE26-9D75-4147-B1A0-70F8159821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огу теперь 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 небо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упила в душе тиш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 сомнений у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ётся хв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могу теперь п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 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со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рюся с гре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лютой битвы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зло побежд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 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хлеб Он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ути береж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ет, Собой ос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ч недугов м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ад сокровищ живы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 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стречу гроз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Иисуса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дежда и крепост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живёт в темн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ыт во Хрис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 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0:17Z</dcterms:modified>
  <cp:revision>12</cp:revision>
  <dc:subject>Slavic hymnal Гимны веры христиан, hymn 420</dc:subject>
  <dc:title>Я могу теперь петь</dc:title>
</cp:coreProperties>
</file>