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2C8D-804A-4B64-BC30-1CECC271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FF92-656F-4714-890D-A0651C34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735-1692-4651-8224-6B58A9C9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E5F2-ABC3-4EF7-A267-30F304BC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AF30-8243-4D3E-8B4B-EBEAFC9E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3FC1-34C0-44CB-85D1-60D7BAD7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A36-E890-47FA-9F7E-1014B50F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12AA-1702-4260-B5B6-FF333B46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4492-40BD-44E7-B115-B6BAC3A2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344-C1DB-4FFA-AF2E-DC61B6D9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B68B-D689-42E9-A959-8F64A21A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3919-99C2-4852-ACEE-EBD0B460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86E78-0023-4A45-A0FD-73B528DAED2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обитель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а, любви торже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приглашён был давн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нял призыва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упи же на путь в ту об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грешника с радостью ж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римет тебя тво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ст благодатный при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знаю обитель поко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обитель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мире подобной ей н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нет ни палящего зн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бури, ни скорби, ни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обитель пок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льоны спасённых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нками и ветвями ст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там в согласьи свя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обитель пок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азарь, страдалец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раненный в жизненном б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ринят, как гость доро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обитель пок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но мыслить о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й, средь житейского стр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радости, Боже,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6:29Z</dcterms:modified>
  <cp:revision>12</cp:revision>
  <dc:subject>Slavic hymnal Гимны веры христиан, hymn 658</dc:subject>
  <dc:title>Я знаю обитель покоя</dc:title>
</cp:coreProperties>
</file>