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588-45F4-42F4-9742-98B37F78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D5B-AD85-4750-92D7-15E09709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4B4-ABED-48F0-B23E-703DD167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F4B-28AF-4AF6-A38E-5F334DD1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25B-18DA-40D1-8BD3-668B387C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59F-4B1E-402B-8CB6-799D1B62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1CF-B477-442B-A3D3-758F53B0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F19-6117-4702-90D3-0F4035A6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B2B-422A-4584-9E1B-C7F686C4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D37-A53A-4ECD-AA94-3C89CDE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EB4-E700-447C-AFF1-DE9F910A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3CC-9511-456B-8BE3-CC819B50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46BFA-0557-4033-8937-149D727EB8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st me no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y presenc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not Thy Holy Spirit from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ore unto me the joy of Thy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6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reate In Me a Clean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47Z</dcterms:modified>
  <cp:revision>11</cp:revision>
  <dc:subject>The Source 2, song number 669</dc:subject>
  <dc:title>Create In Me a Clean Heart</dc:title>
</cp:coreProperties>
</file>