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3CF-01B2-40B0-AA8C-CB4599C1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971-FA8F-441D-B0E3-52331660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9F3-932B-4D76-A05E-001F28B9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12E-0D39-471E-8734-AB41594C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A5A-71DA-46D8-9069-C4B0E4E5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7B6D-831D-4747-9E89-AAB9F6C2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099-392A-46C3-A16C-DC05C2F7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2CC-F781-4E65-85EB-F99FC86E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A1F-2E12-4CA8-A8D4-4CB66506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116-4BDD-4491-B755-7A2F8E21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3C33-C943-47C7-8A9F-F103F181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7BA-B656-4E9B-965A-17DFA8B2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1D6AD-B2C5-466C-956B-74E685DC42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шь ли жизни чистой, без грех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умер за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аждешь ли жизни чист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ли смущает страхом и сты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евозможешь в этом мире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 ли в бессильи, мрачен ли тво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м весельем Бог наполнит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вскоре ты придёшь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, в горе Он всегда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2:35Z</dcterms:modified>
  <cp:revision>13</cp:revision>
  <dc:subject>Slavic hymnal Гимны веры христиан, hymn 715</dc:subject>
  <dc:title>Жаждешь ли жизни чистой?</dc:title>
</cp:coreProperties>
</file>