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D5B-C3B2-484B-AF93-999196FD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2BC-0262-43C4-9C58-B86A14DB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AFA-F368-49B7-BCB2-C45CBA8C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27F-4397-45F4-B4F9-2B57E5BA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3FA-7539-4842-93CE-A4D241E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72F-C7BF-41DE-A0C7-E2E43A72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70B-42E8-4B0D-A9FA-B900831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8A3-E178-41E4-BE14-9F6450F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E67-6B37-41B5-B143-ACE57BAD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AF6-9B90-4A1D-9B5E-B5E8E7D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387-D965-4E76-9A5A-45BD4D3B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EA9-5444-43EB-8E8F-D2127F3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EC0DB-F51E-49E5-8FE9-7F7D6060CB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33Z</dcterms:modified>
  <cp:revision>12</cp:revision>
  <dc:subject>Slavic hymnal Гимны веры христиан, hymn 784</dc:subject>
  <dc:title>Здесь и там поля белеют</dc:title>
</cp:coreProperties>
</file>