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F0A-4EED-4518-8FB7-470E2A6A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912-9E17-4791-B771-2CD4133A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EB6-9774-4C2A-9667-4D1D2996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822-2E52-4A06-9DFE-E222C488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78B-2ECF-454F-8F0D-1EA8FE7A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805-4D3A-49D5-8D96-49949C32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2A8-4EAB-4AB4-9D4B-943BDBDA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DC6-597A-4C5B-A2B4-FEAED27B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117-3FBA-4DCC-A369-180B24F2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4C9-B456-46F6-889B-B5DD6E76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B5D-48E9-4739-8840-1E6A964A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1439-BC35-454A-B583-7DD7CEDA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FEED9-64C9-4C2E-9160-18BE4A4267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our Father in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s of His love in the book He has gi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things in the Bible I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dearest: that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лове Своём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ове Своём Христос уч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я знал, как Он любит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святой много вижу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х отраднее эта мне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assurance I find sweetest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in Jesus, I know I am bles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an, dismayed, from my soul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th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just tell him that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ий покой в упованьи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к Господу с верой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в сердце его станет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 любовь Иисуса твер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I forget Him and wande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He doth love me wherever I st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ck to His dear loving arms would I f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remember that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свела Его с чистых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несла Его за нас на крес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, что любит Спаситель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также люблю Его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if there’s only one song I can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n His beauty I see the grea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shall my song in eternity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a wonder that Jesus loves 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биваюсь я с Его пу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мой ищет овечк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огам Его я вернуться спе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любовь за любовь прино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and I know I love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brought Him down my poor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de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t was love made Him die on the t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I am certain that Jesus loves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Его стану я преб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Его сатану отго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 грех убежит о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спомню я: Христос люб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one should ask of me, how can I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Jesus, I know very w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Holy Spirit with mine doth ag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stantly witnessing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еснь прекрасная в сердце м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спою я на небе свя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во слав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вторю: как Он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52Z</dcterms:modified>
  <cp:revision>14</cp:revision>
  <dc:subject>Slavic hymnal Гимны веры христиан, hymn 601</dc:subject>
  <dc:title>Jesus Loves Even Me / В Слове Своём Христос учит меня</dc:title>
</cp:coreProperties>
</file>