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D5A-FC41-455D-B0B7-C0C38C9F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896-C6C1-4081-B1D4-120870A0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9AC-1B90-4894-BC9F-1B26CAAF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C97-1B2C-4514-914F-35473589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46F-A0A8-4AD6-9A8A-9766A1B7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057-5846-40B1-B257-3D2E49B2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52D-419E-4ED9-8E71-CFF38868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03B-5F5E-4B07-9BD4-0DFC0411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D08-FACB-4478-AE27-84B883ED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659-4A49-43A3-AF73-E54DBFD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EC4-2C65-4D53-B3AA-34D0931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C44-787D-4C93-AD77-2C8E986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693B4-18D9-4364-B4D0-3C63EB9266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3   Слово, Слово Бож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испуг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бился я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ежде Ты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х уходит пр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рядом Ты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за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вят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воем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4:06Z</dcterms:modified>
  <cp:revision>11</cp:revision>
  <dc:subject>The Source 3, song number 1563 in Russian</dc:subject>
  <dc:title>Слово, Слово Божие / Thy Word is a Lamp Unto My Feet</dc:title>
</cp:coreProperties>
</file>