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13D-F2B5-44BD-B94B-59326A04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108C-30EE-4DD6-95F1-E66F81E1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AED8-B3A3-4059-A864-6C5EA6C3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D8E-B871-471A-AE97-53720E7B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13BC-EE3C-45FF-9054-F9ED0215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B9B7-C08A-4FA8-9E30-38597B7F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4A46-486D-40F0-90A8-36B32237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EEF3-E08D-4F6B-8A8A-E0B0BAD7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F3B1-5230-42FE-8C73-5D087AE4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1EDC-B9B7-4CE3-A93C-6AD33356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9D46-57AF-4D65-9350-3A2A635F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FF1A-53A3-4FF6-B83B-E07BDCD5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01AC6-947A-42D3-A760-4BADE809FB9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we that lov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t our joys be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in a song with sweet accord,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us surround the thron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те, все серд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любит труд От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, окруживши т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ми, кто спасён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, beautiful Z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upward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 city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ose refuse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never knew our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children of the heav’nly King,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speak their joys abroad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те лишь не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Господа не чт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ети Божьи пусть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ыв печаль и труд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, beautiful Z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upward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 city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ill of Zion 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thousand sacred sw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we reach the heav’nly fields, 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walk the golden streets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ыне нам С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ёт радостей милл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ещё мы не при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лям святой земл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, beautiful Z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upward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 city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let our songs a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v’ry tear be d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thro’ Emmanuel’s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fairer worlds on high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где нет оби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ечно песнь зв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Эммануилом мы и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лучший, в вечный дом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, beautiful Z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upward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 city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54Z</dcterms:modified>
  <cp:revision>13</cp:revision>
  <dc:subject>Slavic hymnal Гимны веры христиан, hymn 588</dc:subject>
  <dc:title>We’re Marching to Zion / Придите, все сердца</dc:title>
</cp:coreProperties>
</file>