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89E-9BFA-4281-B5C5-5220852F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D5E-06D4-4F33-910C-40781624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D366-B619-4BC5-BB96-74839B97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D07-10AE-4E22-ACA5-5988C4BA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757-7FC4-488F-B5BA-6D98F105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9C2-83B6-4558-B906-C7EA03D8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9CD-F530-4F8C-A6D9-46C15D56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917-DA13-46AD-A708-AD03FC4D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5F3-9DF5-451B-AF80-6FD158E7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41E-5073-49DE-9108-D302FEC0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4B2-2599-4368-9DB5-E3855B14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F80-CC6D-47A6-A1B8-B2FCF783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9E709-5053-422B-A346-2E9AF0C382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страдалец,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пасает мир с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о вознес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а Меня взглянь!» — молви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глянь, страдал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Господь твой 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! Всё ж близок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, не уми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ы нищ, грехом покры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отбросив страх и сты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, кто был врагом плен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а Меня взглянь, будь спасён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Господь твой 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! Всё ж близок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, не уми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луждал ты долго,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ртви свой слабый дух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тец домой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ни был, пуст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Господь твой 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! Всё ж близок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, не уми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1:46Z</dcterms:modified>
  <cp:revision>13</cp:revision>
  <dc:subject>Slavic hymnal Гимны веры христиан, hymn 334</dc:subject>
  <dc:title>Взглянь, страдалец, на Христа</dc:title>
</cp:coreProperties>
</file>