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E08B-B30A-4404-8DAC-849AE992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16F4-9251-4BCF-8B47-9A270070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0DE5-22DF-4638-8B8B-48128C2D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D9C7-60F0-439C-9080-2440D04D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98A2-D761-47C1-BBBD-91921894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D497-3D00-4455-9E90-2F302285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0EB2-07CC-4BEB-8774-0699D932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7E37-0485-4F2E-AA45-D6DB7ED4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F0DB-97FA-4596-BAD2-454F8B01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D1B7-56D2-4261-9AB7-AEC1E7BF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86B9-3733-4B21-9B0D-4B5D6C77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712D-C25B-4483-ACF4-C72902A7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694E1-5769-40B6-B52A-A65CA4323E1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we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bright angel feet have tr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crystal tide for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ing by the throne of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третимся ли мы с тоб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имся ли мы с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вятые все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покойною ре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ы чистые тек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margin of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ing up its silver s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walk and worship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happy golden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прозрачною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й, светлой, как кристал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оскликнем мы с Тоб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день теперь наст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we reach the shining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y we every burden d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our spirits will del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ovide a robe and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жду нами и ре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непроходимый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коль тяжкою це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м его откр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smiling of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rror of the Saviour’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, whom death will never s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their songs of saving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жаясь над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 Христа мы будем 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 землю за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сходил, чтоб умер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we’ll reach the shining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our pilgrimage will c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our happy hearts will qu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melody of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будем над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путь придёт к кон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встретимся с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ося хвалу Отц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01Z</dcterms:modified>
  <cp:revision>13</cp:revision>
  <dc:subject>Slavic hymnal Гимны веры христиан, hymn 689</dc:subject>
  <dc:title>Shall We Gather at the River? / Встретимся ли мы с тобою</dc:title>
</cp:coreProperties>
</file>