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564-AF1D-414B-AA5D-0B0040B2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0D8-08FC-4851-8AD2-BBD5F095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751-CDAA-4CF5-8A9C-32325300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D00-0432-42AB-A24E-6227949D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C59-A333-489D-9C9D-25DCFDC3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CD9-C5E3-4D1F-B645-961B7255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D68-9121-4F5C-A62B-5D904691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233B-2ADF-4C7F-A12E-295ED2FB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595-FB05-4943-B062-AC7E64C6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9AC-FF94-4B86-ABAD-97625A97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01B-3394-4C17-9A4A-C44A2DB2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604-DA4E-497A-9743-1651678A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0F26C-82C8-45D2-A2FC-8CAAEDA5CD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God Al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ly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ong shall rise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, свят, свят Господь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о утром пе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поём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iful and 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n three Pers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Tri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ый, силь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saints ad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ing down their golden cr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ound the glassy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и покло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ют Ему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ных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erubim and serap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down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wert, and ar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ют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щий от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darkness h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eye of sinful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lory may no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ой облеч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ным нельзя 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й славы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Thou art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ne bes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in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pu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Он над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и креп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God Al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works shall praise Th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arth, and sky, and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Божье имя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ре и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iful and 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n three Pers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Tri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ят наши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31Z</dcterms:modified>
  <cp:revision>13</cp:revision>
  <dc:subject>Slavic hymnal Гимны веры христиан, hymn 804</dc:subject>
  <dc:title>Holy, Holy, Holy! Lord God Almighty / Свят, свят, свят Господь Бог</dc:title>
</cp:coreProperties>
</file>