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FA6-EA09-4F6E-9F66-0E163B1D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0669-7F3C-4C69-9673-D236CE83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4C7-3BF3-4FF1-AE50-735BEC36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040-385C-4D7F-8A21-55F247D7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FE0-7B73-4B1F-BE30-E646946B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A93-1AB0-4ACB-A5E1-50AD443F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C9F-995D-478C-9B29-D09FA2F7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42E-548D-4522-AE2A-94C47D13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D4A9-C306-4C30-9E22-8621FD2B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E96-7C38-4CFA-92A3-D6346693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C9FE-905D-47C8-92FB-465AE9B0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93F-80EA-4740-A0FA-47E14A62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A5896-A453-4077-B2F5-02F998D763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мира, счастья, ти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ир не роди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душа чуж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дом мой и друз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ся дух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край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, к небе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нял свой вз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много близких т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 в мире до сих п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сток здесь бой, дни тяж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но мне в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о среди греховной мг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итальческой суд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ёк, не дал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й борьбе коне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у песен я пот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к борцам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го глаз смертный не ви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ыслях не им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ём я слухом не слых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мо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4:13Z</dcterms:modified>
  <cp:revision>12</cp:revision>
  <dc:subject>Slavic hymnal Гимны веры христиан, hymn 688</dc:subject>
  <dc:title>В край родной</dc:title>
</cp:coreProperties>
</file>