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09B-DF71-48BA-9649-56C32E63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3A7-8222-4EC6-9301-D6CEC311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BF4-184E-4FFB-8F6F-38979E19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638-1B05-41B4-896C-C846EECD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9A4-70EF-46B5-8102-708C4F74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38B-1F3E-469D-93A6-838860A8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AD0-172D-4006-9DD3-3FE4B07E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A37-AE99-48A1-AC0F-E167E535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93B-B189-465A-BEA3-28CF9CFA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F29-357C-425D-AB8A-EF4F3407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A58-CC73-4794-9267-36B2926E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1F8-9C15-4CA9-8477-7D22BB70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449E9-29C5-4B45-B442-E7986F10C5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but a stranger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is a desert dr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в небе край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в небе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ой Отец бла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nger and sorrow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me on ever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father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анник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уть лежит во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би лишь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ough the tempest r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rt is my pilgrim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лог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ек жизни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me’s cold and wild wintry b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shall be over p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reach home at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пройдёт, как с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путь сверш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 От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t my Saviour’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be glor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Христа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туда в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e the good and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I loved most and b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, too, I soon shall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у лик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вос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Его ли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fore I murmur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’er my earthly l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ль я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 не могу ро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urely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t my Lord’s righ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father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Сам Христос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асить Он вен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6:04Z</dcterms:modified>
  <cp:revision>12</cp:revision>
  <dc:subject>Slavic hymnal Гимны веры христиан, hymn 813</dc:subject>
  <dc:title>I’m But a Stranger Here (Heaven Is My Home) / Мой в небе край родной</dc:title>
</cp:coreProperties>
</file>