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C47-C4EB-4193-9C3E-240765F9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236-D89D-4737-ADB9-CFDCC1CF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0C6-D478-4999-A14B-14A62936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788-5B11-4931-841E-6198F497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157-E073-4F65-8A00-EA7D54E4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3D5-F7AD-42AD-ACAA-3B039C24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F68-0692-46A0-92AF-082E3CF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5D3-22F6-45B2-AFB7-14ECB494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8C7-90DC-44FB-8A2C-74EAF654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BA8-0262-4321-BF98-55EA567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682-77A0-4E56-ACF0-E033BD6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996-6A00-44D0-A86D-04D18632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A6E74-6DE6-483C-8EA4-ABA529AD79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   Прославляй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ёт во веки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празднуй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е воскресени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22Z</dcterms:modified>
  <cp:revision>11</cp:revision>
  <dc:subject>The Source, song number 67 in Russian</dc:subject>
  <dc:title>Прославляй Иисуса / Celebrate Jesus</dc:title>
</cp:coreProperties>
</file>