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13A-F8BC-41B5-B98D-7744BB17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0CC-23C8-462A-A5EF-45FF76F2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82D-4133-43AE-9DFA-395806B5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E0F5-119A-4CE2-B7BE-154EF72D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18C-5BB6-4912-9BCE-D96D123A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F32-A61B-4B3B-B9CD-A22DAF54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18A-2E2F-4634-87C6-027F251D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4FE-8578-4E1D-8E02-6F1E75CF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CC4-1B5E-4045-BDCD-61D80695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125-DD3C-40B2-B28D-A7977CA5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39B-E1EC-4F65-BD50-919ABECE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AEE-D877-411B-BD31-3BB2600C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D6ED4-E684-4515-B4D1-92A621F831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iding-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ways fill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ongs of delive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ever I am afr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rust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rust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eak say I am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trength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rust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80   You Are My Hiding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55Z</dcterms:modified>
  <cp:revision>11</cp:revision>
  <dc:subject>The Source 2, song number 1080</dc:subject>
  <dc:title>You Are My Hiding Place</dc:title>
</cp:coreProperties>
</file>