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F13-3DF7-45D6-96C8-76BB9933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CE4-C112-4897-912F-94D03B6E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ACE-B5A2-4E56-94A8-6546864B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FAE-7FEF-42CB-9877-189DD144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1F3-D1EE-45EE-A648-8D5E5C53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652-180F-4EB4-A392-FCA7047F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85E-619E-4026-8B77-40988BC3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9E0-C344-4A22-A328-8F0372E6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669-4EFD-43FE-A72A-26CA86A3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C84-64B4-4007-95A4-11C37816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B0C-9D00-442F-B7F7-FEC3BD6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4AB-B49C-4EED-B9DC-11166290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F93DD-12A7-49A2-A63A-016BADE0F9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cred Head, now wou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rief and shame weighed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scornfully surr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, Thine only c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древо возне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Твой 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 кресте по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lips have often f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words of truth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Spirit oft hath l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enly joy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е б мо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Врача болез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pale Thou art with angu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ore abuse and sco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oes that visage langu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once was bright as mo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 в венце тернов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расот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 и жарк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, my Lord, hast suff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all for sinners’ 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, mine was the transgre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ne the deadly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чьим в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шный потря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дручён поз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уган, истом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here I fall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I deserve Th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on me with Thy f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uchsafe to me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на истя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ю посяг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й Твоих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мрачить дерз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urden in Thy 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ou hast born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t was my trans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brought this woe o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яд мучений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ытки страшный гн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роступков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ороков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st me down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ath were my rightful 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mercy, I impl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r, spurn me n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ю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пред Т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казни заслуж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лжен на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language shall I b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ank Thee, dear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is Thy dying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ity without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и страда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жертва з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мер за соз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зван к жизни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ke me Thine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uld I fain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et me never,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live my love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то осу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лажена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м иск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hepherd, now recei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uardian, own m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blessings Thou didst gi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rce of gifts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ушой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Твой 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целяю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3:41Z</dcterms:modified>
  <cp:revision>12</cp:revision>
  <dc:subject>Slavic hymnal Гимны веры христиан, hymn 867</dc:subject>
  <dc:title>O Sacred Head, Now Wounded / На древо вознесённый</dc:title>
</cp:coreProperties>
</file>