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8CCF-B77B-441C-9BB0-68EBDFC1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3DD-FFE7-4552-9F36-93311D0C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DD9-D356-446A-9BA5-C51C7D28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3AF7-ABC2-4859-89B9-BED22509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338-333D-4B00-9FE4-21D83C00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9EA-AF94-47AE-9CB1-915F0E4A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F4D2-7E2B-4B65-A59C-8C9E44FD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E96-C394-46AD-B84A-942ACDF3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FA7-AD21-4413-B8CD-6997D94F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920-7233-4418-8C19-A0015C0E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676-20E8-403A-AD5A-3D946F20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A36D-E062-4691-B926-60E6643A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9C578-F85E-4695-8DDD-DE549CEA34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here are the reapers that garn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heaves of the good from the fields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sickles of truth must the work be d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 one may rest till the “harvest ho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где же жнец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где же жнецы, чтоб теперь собр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полей, злом богатых, — добра сноп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пами любви надо труд сверш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 тени ночной класть нельзя сер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are the reapers? O who will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hare in the glory of the “harvest ho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ho will help us to garn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heaves of good from the fields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out in the byways and search them 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wheat may be there but the weeds are t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search in the highway, and pass none b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gather them all for the home on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щите колосья среди трав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шеницу средь плевел найдёте в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бросьте колосьев, что у пу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ешите их в житницу прин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are the reapers? O who will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hare in the glory of the “harvest ho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ho will help us to garn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heaves of good from the fields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fields are all ripening, and far and 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world now is waiting the harvest t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reapers are few, and the work is grea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uch will be lost should the harvest wa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т колос созрел и к земле по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жатвы великой мир скоро ждё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ботников мало, а труд вел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длить же нельзя, ведь всё пропа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are the reapers? O who will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hare in the glory of the “harvest ho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ho will help us to garn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heaves of good from the fields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come with your sickles, ye sons of m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gather together the golden gr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il on till the Lord of the harvest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share ye His joy in the “harvest ho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рите же, люди, свои серп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сите с обильным зерном сноп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тесь до встречи Царя-Гл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житницу Божью войдёте 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are the reapers? O who will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hare in the glory of the “harvest ho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ho will help us to garn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heaves of good from the fields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05Z</dcterms:modified>
  <cp:revision>14</cp:revision>
  <dc:subject>Slavic hymnal Гимны веры христиан, hymn 534</dc:subject>
  <dc:title>O Where Are the Reapers? / О, где же жнецы?</dc:title>
</cp:coreProperties>
</file>