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6139-FB5B-4411-BCC0-B9214BC4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ECCD-86B3-4ED4-B70F-BA6537EF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25E-1225-4707-8F42-4910EF64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C8E0-903C-499F-9D4F-9282B962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F1D9-0758-4834-B7F7-65034C71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12F5-C6CB-4134-B161-03AFBDAA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091D-0FE5-4749-9BC2-185A3B75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B95-3336-47DC-9412-235D23A2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12A-FFE0-4AB5-A44D-D55F0380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94A-5D1E-4B42-9448-3E7B04A8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3B1-7B12-419E-AE87-886737E7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D8DD-7827-4AEE-91CD-17B03F62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9F22E-2497-4C37-9A53-179FB1C7DB6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! слушай ухом в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звучит в ти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, любящий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тв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земной стучит прохож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зовёт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паситель, Агнец Бож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! слушай ухом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елье сердца сокро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 греха ца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йдёт Он и мг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в ней заблест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чь любви Его по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ток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стук тот разда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ори же сердца дв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танет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женный пир веч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ебя твор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ослушай голос див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н главу скло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олкнет звук призыв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ть пройдёт; тогда, рыд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а склоне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в дверь стучать ты р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ывать тогда нап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ты 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ышишь ты несчаст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ойди во тьм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0:25Z</dcterms:modified>
  <cp:revision>12</cp:revision>
  <dc:subject>Slavic hymnal Гимны веры христиан, hymn 337</dc:subject>
  <dc:title>Грешник! слушай ухом веры</dc:title>
</cp:coreProperties>
</file>