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79280" y="395280"/>
            <a:ext cx="972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45</a:t>
            </a:r>
            <a:r>
              <a:rPr b="1" lang="ru-RU" sz="3600" spc="-1" strike="noStrike">
                <a:solidFill>
                  <a:srgbClr val="ffffff"/>
                </a:solidFill>
                <a:latin typeface="Verdana"/>
              </a:rPr>
              <a:t>	</a:t>
            </a:r>
            <a:r>
              <a:rPr b="1" lang="ru-RU" sz="3600" spc="-1" strike="noStrike">
                <a:solidFill>
                  <a:srgbClr val="ffffff"/>
                </a:solidFill>
                <a:latin typeface="Verdana"/>
              </a:rPr>
              <a:t>Благость Господняя</a:t>
            </a:r>
            <a:endParaRPr b="0" lang="en-US" sz="3600" spc="-1" strike="noStrike">
              <a:solidFill>
                <a:srgbClr val="000000"/>
              </a:solidFill>
              <a:latin typeface="Verdana"/>
            </a:endParaRPr>
          </a:p>
        </p:txBody>
      </p:sp>
      <p:sp>
        <p:nvSpPr>
          <p:cNvPr id="39"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лагость Господняя, вечная си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решник усталый иду я к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ово спасенья мой дух пробудил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пробуждённый, склоняюсь в моль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Счастье искал я в делах бесполезн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а хотел я найти в суе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пред собою увидел я бездн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устрашился в ночной темноте…</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Но, Милосердный! в Своём сострадань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уть ко спасенью Ты мне указ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л мне святое к молитве жела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ред Тобою я с нею предст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Падаю в горьком души сокрушень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изнь прегрешений забвенью преда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вши прощенье, как дар искупл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вере, Спаситель, мой дух утверждай.</a:t>
            </a:r>
            <a:endParaRPr b="0" lang="en-US" sz="3200" spc="-1" strike="noStrike">
              <a:solidFill>
                <a:srgbClr val="000000"/>
              </a:solidFill>
              <a:latin typeface="Verdana"/>
            </a:endParaRPr>
          </a:p>
        </p:txBody>
      </p:sp>
      <p:sp>
        <p:nvSpPr>
          <p:cNvPr id="4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11:04:45Z</dcterms:modified>
  <cp:revision>3</cp:revision>
  <dc:subject>Slavic hymnal Гимны веры христиан, hymn 145</dc:subject>
  <dc:title>Благость Господняя, вечная сила!</dc:title>
</cp:coreProperties>
</file>