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DC4-F514-4CCA-A008-483B3F7C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FF2-A223-4476-BB52-15AC701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033-7365-4486-B559-842A1F03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EE6-B4DF-4103-9AC0-97E2E36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DAF-51A7-4DA0-BDF4-F43E539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2CB-A012-43D5-8E9B-5BE5AEA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5BD-B0F9-4921-A970-0D592009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8B0-7A38-4CDC-A9EF-2A31348F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D8D-130B-4ACA-B323-CF69D8F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F3F-E289-4965-8F25-6D295B3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D2C-CD84-4691-969A-A42C9DD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9C7-2F94-4F5B-94E6-E00284E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B1DD-6806-4D37-BA2C-F006014169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44Z</dcterms:modified>
  <cp:revision>12</cp:revision>
  <dc:subject>Slavic hymnal Гимны веры христиан, hymn 339</dc:subject>
  <dc:title>Грешных всех Христос зовёт</dc:title>
</cp:coreProperties>
</file>