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BEF-1ECC-4B53-9B44-A4EC1C5D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5CE-1CFD-4D72-98F7-B0AAD186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E37-E68F-46E9-9600-417B72FA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AD8-C3DD-41E5-858E-799FD731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DA8-69A5-4F52-B5BD-BF8125F7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1B2-B59B-4199-BC86-59F39934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B28-4884-47B4-97DC-DCB7449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1EC-9C1F-4329-977F-F62675B4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6D9-B458-4B59-93D7-B0C23E4A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E20-E8E2-4296-883D-35AFEEF2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25E-2859-4EF9-8842-6D4D19B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102-55CA-4136-83C2-F8FAF36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A86FD-38B5-4B0B-9FA1-9FCE82CABF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59Z</dcterms:modified>
  <cp:revision>12</cp:revision>
  <dc:subject>Slavic hymnal Гимны веры христиан, Ukrainian hymn 108</dc:subject>
  <dc:title>When the Spirit of the Lord / Коли дух Господній наповняє мене</dc:title>
</cp:coreProperties>
</file>