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209-1EF1-418B-9905-60CA47D6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C23-2B92-46E2-8F12-B5B788CB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8A6-48E4-4060-AAA3-C3085E4D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47C-9182-448B-9386-2537A5CA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A6C-F44E-490A-9DA4-9AEBCF3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8E5-87AE-4C4A-9084-B2BC9AD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98C-8C82-40EC-A454-CE5E984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E5D-E936-44C7-A00D-43D91E46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2BD-F96C-47F5-8225-DD061D2F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1D3-EA11-4787-B10F-7E6220C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18D-E18F-4B33-942B-5EE6FBE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37E-1FD1-4EA1-86A9-2C82D7C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2E4A5-9B27-4609-943A-A17DEB03AF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21Z</dcterms:modified>
  <cp:revision>12</cp:revision>
  <dc:subject>Slavic hymnal Гимны веры христиан, hymn 845</dc:subject>
  <dc:title>Живя для Иисуса</dc:title>
</cp:coreProperties>
</file>