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A58-8109-4508-A97A-E75CA237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251-F027-414A-BF05-4BDAD359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2AB-E05C-4AB1-A58E-C08DB20E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935-6439-462E-B004-3FC73DAC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404-B285-45FD-8F8F-42F38046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252-3031-4693-A22A-E2B06C22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8B0-32D3-4823-BA6B-AC445009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1F3-0B96-4908-9F14-1986832D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148-AAE1-4F36-AA7D-EB2D9C41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7EE-C710-453E-AF2E-9F42087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445-7831-4113-8EA9-BE2B110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D53-C40C-4501-AFBB-723A0AD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E62D2-5162-46CF-968A-22A58A9533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price You p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ring all my sin and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love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ave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is lov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nail-pierced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hed me in Your cleansing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all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orgiveness and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23   Thank You For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on the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You now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ign victor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arling of heaven,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49Z</dcterms:modified>
  <cp:revision>12</cp:revision>
  <dc:subject>The Source 3, song number 1523</dc:subject>
  <dc:title>Thank You For the Cross (Worthy is the Lamb)</dc:title>
</cp:coreProperties>
</file>