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0CA-F937-4102-A317-A8E60ACD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3C3-9BE8-442A-9AB5-FC1A482F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1E4-1297-4F71-BC3F-24E2FD04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5A4-0D46-4587-BF35-E53D5A64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544-DE75-4314-8D3D-D0F9163A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97F-BEB0-44B2-B7A6-61347348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A4A-ABD4-453B-A4E2-465CB7C2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BF5-F6FB-49AA-9C5F-D0AD5A47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E8B-686C-46E2-9803-CEDAB73C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B4D-DEE5-48BA-956D-A6B20649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258-4549-4F02-BF90-A8F0D0C3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0DF-D52F-409C-B6D7-1B29052F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819F3-2DF2-4330-A9A9-D270FB16E1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― Избавитель 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― Твой удел и достоян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обрёл меня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ю кровью и страдань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! Ты — Избав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мой Учитель Все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― ученик Твой маловер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тавляешь разум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Твоей святой, безмер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Пастырь верный, сильн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― овца Господня ста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я тернистою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зрушаешь все прег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милосердный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― дитя Твоё наве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мне жизнь, как Твой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явил Ты в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всё во всём, вс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― ничто, я ― прах моги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ам Ты жертвою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виг меня и дал мне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свет, а я ― светильник Т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озарит Твоё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ьму Египта, мрак зем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имет мир Твои дая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9:44Z</dcterms:modified>
  <cp:revision>12</cp:revision>
  <dc:subject>Slavic hymnal Гимны веры христиан, hymn 467</dc:subject>
  <dc:title>Господь! Ты — Избавитель мой</dc:title>
</cp:coreProperties>
</file>