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F52-35ED-4FD0-ACEA-53277E06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C96-0C22-425D-89F5-AFB876F1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2F7-AE65-4DA0-B270-A475571F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14C-4E1B-42DA-A33E-97FE370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245-3FE6-4603-9A0A-F75ED80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721-6221-417C-BE76-1BCC56C5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A3C-0BDB-4D68-B473-86D5C28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2E2-EE57-4DE8-BF91-0857FF69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E07-5AD5-4766-B1C6-43B1B4D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F25-5865-4DBF-A5B9-0F2BF72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4E7-AF0D-47E2-BB26-8AD1430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77A-8543-4B8B-81F8-E0CD9EF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B67C1-3C7D-49D1-A4AB-26F214C61D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37Z</dcterms:modified>
  <cp:revision>12</cp:revision>
  <dc:subject>Slavic hymnal Гимны веры христиан, hymn 830</dc:subject>
  <dc:title>Господь, дай сил идти с Тобою</dc:title>
</cp:coreProperties>
</file>