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528-466D-42E2-97B6-B1DB5174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3FF-8A4F-4240-9BDD-2E5C765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97C-1C63-48DE-9B43-F285C3E1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111-83E4-464B-AB79-DB7AF671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C6C-9D89-4E98-9DB8-53A315D0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22F-8225-47F8-820B-768038F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0D7-0A8D-4C6F-9C94-874804E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E0E-2D96-4754-B85D-BAB27786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0EE-F3E3-4C44-9729-AF1FE07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B4B-0E42-43F2-B812-AAF029D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DB5-E8BB-4676-9D67-5354930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E65-29F3-4C56-9F0D-43F34B2C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47286-A4EA-43B4-97DA-DD41878901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night, the stars are brightly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the night of the dear Saviour’s bi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lay the world in sin and error p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He appeared and the soul felt it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thrill of hope, the weary soul rejoi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nder breaks a new and glorious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ll on your knees, O hear the angel vo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 divine, O night when Christ was bor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, O holy night, O night div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d by the light of faith serenely b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wing hearts by His cradle we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ed by light of a star sweetly gl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re came the wise men from Orient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of kings lay thus in lowly ma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ll our trials born to be our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knows our need—to our weak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tr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ly He taught us to love one anot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law is love and His Gospel is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ains shall He break for the slav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His Name all oppression shall c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долг спасать несчастных и безд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hymns of joy in grateful chorus raise w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all within us praise His holy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the Lord! O praise His nam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38Z</dcterms:modified>
  <cp:revision>13</cp:revision>
  <dc:subject>Slavic hymnal Гимны веры христиан, hymn 802</dc:subject>
  <dc:title>O Holy Night / Святая ночь</dc:title>
</cp:coreProperties>
</file>