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5280-CC70-407E-9534-6268AF86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D8D8-E849-485C-B00D-9A32F24C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7F14-BDF7-485E-8D03-74AAE7B2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ACA4-07B3-4DEB-BFA5-1A22DDFFE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C55B-DD13-4896-85FA-C323EFB8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AE98-0014-424C-B7EF-6B776776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6084-25CB-43F1-85E5-F5EF0181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346D-92AD-41C1-95C7-D339A5EF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8FC3-901D-4981-8BCE-0E5289FB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F04F-7AC5-4303-A010-F86AEC6C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F907-5D0C-4C74-921E-6E0EB0DB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BF17-6930-4778-8D39-4CF0C174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3FA5B-D896-49C3-927B-625A7222678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Є кращий інший-світлий к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 ясний, світ ясн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хто печалі там не з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й святий, край свят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ть там святі піс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ухи там живуть яс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хто не знає там грі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 ясний, світ ясн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2   Є кращий кр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китне небо там без хм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лий край, світлий кр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тя не має там прим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ий рай, Божий р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ості там без кінц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ясним лицем Твор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скрізь нев’януча кра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край, дивний кр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винні всі перед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нас спас, Він нас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світ пройнятий весь грі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нас спас, Він нас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прийшов терпіть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хи Він змиє в кож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край блаженства нас вве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нас спас, Він нас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Господом усі ід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лід за Ним, вслі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Ним будемо там вічно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лід за Ним, вслі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гайтесь! Скоро час іде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в вірі вас Господь знай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за нами знов прий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лід за Ним, вслі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0:49Z</dcterms:modified>
  <cp:revision>13</cp:revision>
  <dc:subject>Slavic hymnal Гимны веры христиан, Ukrainian hymn 52</dc:subject>
  <dc:title>Є кращий інший-світлий край</dc:title>
</cp:coreProperties>
</file>