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D1D-61DF-4702-B254-994991D9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08D-898D-470F-A5D3-8348DEB8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260-70A9-4A6C-A2FD-2725E9E3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1A4-436B-46E0-99A4-4257402D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3C9-3766-4C5A-92BF-12D45553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1D9-872B-4FE2-9C96-0770EECB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86A-2767-40DF-98EF-FF9B8B0D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E41-C894-402C-AF69-379DBBCD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936-9166-40E8-9C65-BBCD38A8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C3B-EC7D-4919-9D73-8C13131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544-B433-41EF-A009-164AA5A5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1D7-D79C-44AD-A390-D7ED1723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3DA8D-9E26-479A-80BC-1573F97DF3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will never let You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taken me from the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my feet upon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I ne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my world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never let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my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orship You until the very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20Z</dcterms:modified>
  <cp:revision>10</cp:revision>
  <dc:subject>The Source, song number 290</dc:subject>
  <dc:title>Jesus, Lover of My Soul</dc:title>
</cp:coreProperties>
</file>