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E55-78E9-4467-AFE5-421C8A60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113-440D-4F8B-91F1-9DCF0CAF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DB4-04F4-41E6-908B-AABF230B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F29-C165-4A75-84CC-302DA8C4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1A4-35B8-4C5E-ACC8-6455BE13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03B-6F14-4AB9-8812-5D5B9ADD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4B2-1D27-4C62-8D1A-1AFEDC09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2AA2-4A29-4D9A-AE96-FE387AB3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399-6BC8-4CDB-8D7C-E66FA269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BFE-7777-4F33-8C12-04541B8A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260-20F9-4DAE-B422-251D377A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F42-E726-4DDC-AC02-647D4B87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277FD-9AF4-4187-8111-E8A984731F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heav’n You came, helpless ba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ntered our world, Your glory vei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to be served but to ser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ive Your life that we migh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God, the Servan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lls us now to foll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our lives as a daily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worship to the Servant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rom Heaven You C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n the garden of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vy load He chose to b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heart with sorrow was t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not My will but Yours,” He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God, the Servan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lls us now to foll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our lives as a daily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worship to the Servant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see His hands and 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cars that speak of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nds that flung stars into sp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uel nails surren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God, the Servan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lls us now to foll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our lives as a daily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worship to the Servant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let us learn how to ser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our lives enthrone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ch other’s needs to pref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t is Christ we’re ser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God, the Servan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lls us now to foll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our lives as a daily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worship to the Servant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12Z</dcterms:modified>
  <cp:revision>10</cp:revision>
  <dc:subject>The Source, song number 114</dc:subject>
  <dc:title>From Heaven You Came (The Servant King)</dc:title>
</cp:coreProperties>
</file>