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A3A-E91A-44D0-8F7B-DC80CD7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CBC-258A-4536-972F-D8379E18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0FE-CC70-4CA1-8573-8E18DE9E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4CB-4E15-4BB2-A000-789DB14F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466-67D5-4352-AC9F-9BA1D4D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7F2-119C-4C5B-9BF7-A40A0AA1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116-F4B7-4565-9896-1F23A4A8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10B-CCD0-451E-96D6-EBFC391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754-EFA4-4523-9C1B-3EFA6B38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45D-A1D3-4165-A0A8-667FCA73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622-5D79-4B23-B104-99923BB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54D-04CA-41F5-BE74-087AF9A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B8EBC-323B-411E-ABAA-F3D6E268A3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God so loved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ave His only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die on Calvary’s t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sin to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 day He’s coming b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lory that will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His love to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полюбив Бог світ, що Сина дав С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ер Він на хресті, з гріхів щоб нас с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радість буде нам, як з’явиться Він з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28Z</dcterms:modified>
  <cp:revision>12</cp:revision>
  <dc:subject>Slavic hymnal Гимны веры христиан, Ukrainian hymn 72</dc:subject>
  <dc:title>For God So Loved the World / Так полюбив Бог світ</dc:title>
</cp:coreProperties>
</file>