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417-D03E-4988-8B60-C0B80794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920-88D4-4639-8ABA-4AC11CF1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EC4-31D5-4B2B-87DB-CAEB59DC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CDE-DCB7-466F-8D1B-952B2133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8C1-0B6F-46EB-92CA-36BD578B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CBC-39C2-48EA-9048-780AC16E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DF8-5659-4214-9106-8B012B82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301-FCB2-4914-BB52-271DFABA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B0C-88EF-4C9B-8272-2C568777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A13-C126-4C8A-8FC5-79977FF8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00E-40E9-4010-B988-2885FD5E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D87-0D76-4DE0-BBFA-4AAEE4A2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5580B-8C1D-4A97-B8A8-2C5E662E84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roubles assail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ngers aff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friends should all fail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es all un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ужда ли боль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а ли боль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рудностей ря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ль измен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и ли грозя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one thing secure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ver be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omise assure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will prov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 жизни сур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ое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rds, without g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storehouse, are f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m let us learn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God for our b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тиц нет амба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есни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алый и ста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с них бер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saints what is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ne’er be den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long as ’tis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will prov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т Всевыш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ую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у и пищ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мотрит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atan assails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top up our p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ourage all fail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riumph by fa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ску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путь омра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ужас охв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ера тверд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nnot take from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oft he has t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heart-cheering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will prov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су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х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им ясне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trength of 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 goodness we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, since we hav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Saviour’s great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ами ничто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в нас до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лости Бож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ла нам з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our strong t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afety we h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is our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will prov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ях и сомн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бед 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утеше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4:00Z</dcterms:modified>
  <cp:revision>13</cp:revision>
  <dc:subject>Slavic hymnal Гимны веры христиан, hymn 873</dc:subject>
  <dc:title>Though Troubles Assail Us / Нужда ли большая</dc:title>
</cp:coreProperties>
</file>