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924-801C-4BAF-8B90-9AE536C8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27C-6E50-41DE-AAC8-BDAE0DD2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3BC-5EB8-4DA1-8372-F5FE7126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B8B-DBAF-4F8E-8BD6-E56AAB3E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038-FB44-48C1-89DA-E71B982F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629-E643-47AD-86ED-13A4CA6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2CF-5812-4A43-9D0D-A6D9620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17E-61CB-419D-9F38-9FD4073D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08C-1012-4FF2-BF58-D19FFF7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78A-034F-48B8-9430-22A7F60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D19-0025-459E-9612-4E9A6FA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C46-D3A2-4E27-8050-4F73EAF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2CE88-C471-42EE-BFF7-30A76477D2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мой п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Спаситель, нам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колу пос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чащим свыш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мы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пят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слушать наст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б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24Z</dcterms:modified>
  <cp:revision>12</cp:revision>
  <dc:subject>Slavic hymnal Гимны веры христиан, hymn 765</dc:subject>
  <dc:title>Мы окончили ученье</dc:title>
</cp:coreProperties>
</file>