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3A7-8D4D-4A1A-90CE-06B89649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E97-FA7D-4AF5-87FF-961B580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33-5251-4EE6-8A77-8E4A296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D8E-F70C-4D14-BF4E-D91950C3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C50-F842-48C8-92C1-68FC28A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C7E-94EB-4A94-9933-721E6D2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5DA-A2E9-45C8-AACE-F8E0447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9AE-5DD3-462E-9DD4-5574339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074-23EC-4707-9AB5-7B71160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42C-84B4-41DD-B177-6571B778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6E5-7E52-48A6-96F1-04994E2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C36-123F-4934-95A8-EBB1891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8E552-D271-46FB-8D4C-24AE88A1D4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un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   A New Comma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27Z</dcterms:modified>
  <cp:revision>10</cp:revision>
  <dc:subject>The Source, song number 23</dc:subject>
  <dc:title>A New Commandment</dc:title>
</cp:coreProperties>
</file>