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112-DB78-494E-989A-1345A718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300-9ED8-4981-881D-3AF80AE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10F-DEDE-410C-806F-195BBA0A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C1C-FE73-4132-9114-55DA00DF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021-B479-4DB9-B55F-63CF8D51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1F2-21DC-4CA4-80A0-CCF260C2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220-B39B-4AFB-B789-7DB39073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69C-D5E8-40E8-A3ED-0000AC8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6C3-018B-4DD1-9664-8D13144D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2F8-B192-4427-BC8F-19D855F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24B-95E8-4247-850A-E4E7CA68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2E1-258C-41D7-9C65-0557299C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FCDF0-D167-43D9-B549-A86B540E93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свод уже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абвенья наст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еперь Созд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 вечность от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равду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Евангельи чи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лакать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иста ты не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свод уже темне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! уж будет поз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льзя уж возвра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в жизни раз отвергну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льзя о том пр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иги жизни там откр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кличка там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той книге не запис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ожь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сомненья пол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иняв призы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ись к Отцу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1:47Z</dcterms:modified>
  <cp:revision>12</cp:revision>
  <dc:subject>Slavic hymnal Гимны веры христиан, hymn 365</dc:subject>
  <dc:title>Небосвод уже темнеет</dc:title>
</cp:coreProperties>
</file>