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980-7047-4E0F-B904-F6E68176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DD8-D531-4786-AA4C-6C00D764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84B-E5B5-4649-93ED-68FE1C07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F112-D58C-4B82-8A8E-E16F22ED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6FD-580F-4AD3-BA26-4449673A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3FD7-62CA-44C2-AF7E-08650F1F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FB70-489E-44BC-BF37-72C5E5D3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60E-3798-4BD8-AEAE-976BE28A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6CD2-065C-4101-B71B-54FF5413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802-A986-4F64-81FF-F99A31B7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EC0-8450-4BC3-80F3-0726724B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B72-DF20-4EE2-8AF3-8044380D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6C3E0-3422-49D4-8598-D73F0B6515A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You have save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You have free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we can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the holy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love You forga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pow’r You have raise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, precious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58   By Your 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 God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cious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umbly bow befor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ry holy,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heaven’s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ng of the redee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glory to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You have save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You have free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we can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the holy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love You forga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pow’r You have raise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, precious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9:06Z</dcterms:modified>
  <cp:revision>13</cp:revision>
  <dc:subject>The Source 3, song number 1158</dc:subject>
  <dc:title>By Your Blood (Come to the Table)</dc:title>
</cp:coreProperties>
</file>