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262-13D1-4239-A143-A4140033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99B-F1E3-49A3-B304-E27D4B94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B3C-80A6-4039-BBE5-4E9E250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81E-B29C-4442-A532-B572C634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430-E2D4-4516-BDB4-65EF844C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73C-698E-4DD4-89C8-C2C8AAF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1F6-A2D0-455A-873C-A32AA75B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481-B820-4A4C-93DC-129B509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220-9ADD-4CB3-A86B-469E0E3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FB9-9BA2-4301-A47B-90F95211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95C-183C-45A7-9DE3-4E0D2C7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3B9-0D26-49C9-AE3B-A493996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6C767-A392-4FAE-BD29-658038692B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29Z</dcterms:modified>
  <cp:revision>12</cp:revision>
  <dc:subject>Slavic hymnal Гимны веры христиан, hymn 833</dc:subject>
  <dc:title>Куда доходит солнца луч</dc:title>
</cp:coreProperties>
</file>