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7E9-80DE-4AEE-8901-8D667DBF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936-AA13-451C-BFAF-29EE5873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9D8-67BC-4E57-88C5-847D2DF8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19F-9AF8-4F40-B2D2-3166616C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E9F-F397-4CAF-B3D2-33CF2983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924-42AC-43B1-B9DB-6A3F1AA0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8C6-3DF2-4364-9EB4-6AFB8AC8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22F-FA28-4CCC-BB49-8EC656FF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BD8-62C6-4273-B82B-71DF035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03C-B50C-4D2F-BE31-3D7D1E9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821-C3C3-48F4-B18A-C54E7B17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930-3986-4DA0-A527-AD0E2E74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3C7E8-5192-463B-961E-0929C2ADF0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 в отчиз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ьно,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ит источник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зрачный, как стек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небесах, в отчиз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ажити чуд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лавный пир там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хор неб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дивный, чу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жизни тру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ится дух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01Z</dcterms:modified>
  <cp:revision>12</cp:revision>
  <dc:subject>Slavic hymnal Гимны веры христиан, hymn 670</dc:subject>
  <dc:title>На небесах, в отчизне</dc:title>
</cp:coreProperties>
</file>