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22B-3A96-4F40-9ADC-24561BEC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881-E6CA-4FA2-9B53-CF2438CA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29F-D199-4EC6-8745-671836CC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1B6-B32C-4F87-B851-604CBB99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12F-BAD6-417B-85AF-CF3B5FF2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492-20BD-4725-B0F8-8570B01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B85-C48D-4B95-A381-BCA6C337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30E-ECE4-444C-B568-B70D4FE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19B-A00B-4C31-840B-C64115D6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5B1-02E9-4D32-BFE1-11F2E73F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ABC-1C99-4012-81CD-2F957DE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415-E507-4532-B95E-0722496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EAF6-B3F8-4B37-832D-108ABBED4C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 дорогие, взгля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данье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ертву крови оцен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в сердце Ему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гордитесь, друзья, но смир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ь поверьте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 Господних принять не стыд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оверьтесь Ему, как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рузья дорогие, взгля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ьте, друзья, равнодуш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этой жертве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к нам придёт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не будет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е для нас невоз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елами, ни жертвой,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е для нас — только в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ь и тело Иисус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только тех, кто послу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 верен Ему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те!» — Он скажет всем греш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верил учен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, дорогие, 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силы бороться с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царствие Божье ищ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ьное приложится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41Z</dcterms:modified>
  <cp:revision>12</cp:revision>
  <dc:subject>Slavic hymnal Гимны веры христиан, hymn 406</dc:subject>
  <dc:title>О друзья дорогие, взгляните</dc:title>
</cp:coreProperties>
</file>