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D0A-AFAF-4467-9994-D93C82EA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112-9A39-46D4-B9BE-4F3CDB8D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429-69C6-4EA7-9AFA-7B0A62FF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6BC-238A-437B-ADE3-7D8C93A0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21B-7503-4AF7-ADC9-1A02795B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E89-EE87-442B-91F1-97B29073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7B0-B68A-4600-A265-519D8B62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D32-825C-4866-B14B-F81608D3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BB1C-878C-47BE-B3AD-25380EDE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222-436D-4E7B-AB0C-6081BA24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C575-812C-493D-BE57-3244062F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1D9-91A4-499B-90F7-15D7F3FE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04D10-233C-4488-8C33-9D12083D187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лежит мой долиной смертной т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, моим Спасителем хра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казал: не бросит Он меня од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жезлом поддержит Он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ть лежит мой доли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ежою долины смертной т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невзгод и немощей навек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Пастыря мне щит от зла да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буду горечь смертных см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ду я долиной смертной т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 увижу славу утренних луч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енью Иорданских я примкну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любим я в немощи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пойду я долиной смертной т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 за Ним, пусть Он идёт вперё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мглу долин меня Он прове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ду я в край, где нет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8:47Z</dcterms:modified>
  <cp:revision>12</cp:revision>
  <dc:subject>Slavic hymnal Гимны веры христиан, hymn 503</dc:subject>
  <dc:title>Путь лежит мой долиной смертной тени</dc:title>
</cp:coreProperties>
</file>