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B27E-2120-4936-8331-5B173FAD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8B43-8844-4527-AE4B-AEC1B225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AA1-4D43-4010-BAF6-9B1C026F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3C2D-1B0D-4F25-81C6-F0DA76AA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314-ABB3-4826-8288-F9052264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2556-F893-4816-8FA8-A09C7271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403A-7048-41B3-B862-BC6F26D8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1103-031C-4C21-8642-89D22059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BB41-B744-4AFA-940B-58AB0AF4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FA0-DD24-4F2C-BD31-B2789492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AD6-51D0-45BA-8DCE-234ACC6B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BC2-F835-470C-9ACD-C5AB1719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ACAB2-A3A9-4110-8E91-19E78A033D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гда я в жизни не за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ых и прекрасных моих д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вучали сердца мои стру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пел я в юност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билось чистою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ежал на подвиг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ком я был тогда со скорб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ревог не знал я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икогда я в жизни не забу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цветок, поднявшись над земл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ловку к небу подним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дыхал Святой любви прир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осподь нам людям в мир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залось мне, что дни блаже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й нежной юности м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ойдут они, не затемня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ося свет жизни для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увы, померкли мои ц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лубоких вздохов я у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ои друзья всё также п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д эти звуки я ры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струны моего порв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рфу жизни я совсем раз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утешность, слёзы лишь остали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хочу вернуть, чем прежде б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истым сердцем я взываю к Бог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моги усталому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ли страданье и трево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Ты мне опять найти поко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9:38Z</dcterms:modified>
  <cp:revision>12</cp:revision>
  <dc:subject>Slavic hymnal Гимны веры христиан, hymn 776</dc:subject>
  <dc:title>Никогда я в жизни не забуду</dc:title>
</cp:coreProperties>
</file>