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62FD-8A98-4BEF-85C7-E8F906CA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8FE6-3F85-4C22-8806-190527EC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7E87-62EC-46CE-80DD-89C46A9D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B7DD-95CE-4B4F-AAA5-0406DE77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142D-15F0-4435-8FC9-C3BCC8C0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1361-8052-475A-9686-A01E2CC0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AEE7-9BBE-4577-ABFC-9AFC8CA9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3BBE-6470-430D-B7B5-30ADF0A2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FA20-74F2-4A9D-8127-944BDEF5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60C5-1189-49D2-A015-0C234F8E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60A1-CDB9-4704-80C4-AB10CFAC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D85D-2424-47E1-ACDB-6DFEDA16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0E80C-BF8E-4A38-8536-E9CC3D958A9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thanks with a grateful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thanks to the Holy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thanks because He’s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hrist, His Son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вала Тебе, наш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ебе, наш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ебе, Бог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за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а Твоего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let the weak say, “I am strong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poor say, “I am rich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of what the Lord has done for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than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слабый скажет: «я силён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 скажет: «я богат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я тому, что Бог нам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3:58Z</dcterms:modified>
  <cp:revision>11</cp:revision>
  <dc:subject>The Source, song number 118 in Russian</dc:subject>
  <dc:title>Хвала Тебе, наш Господь / Give Thanks With a Grateful Heart</dc:title>
</cp:coreProperties>
</file>