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F786-54DD-4E9A-B63D-E4C782C5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6A4F-6C0E-4CD8-80D6-C0ECE67C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E8F1-BE07-41BD-B24B-E6D18FF27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9484-9F03-48A0-8586-9FDE07E8B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D6D8-43DB-4B66-979A-830ED814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F0A2-8C38-4021-BEC0-789B3512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2FA2-749E-4630-8CEA-27582D28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FD50-2710-414F-ABEE-D9374F4F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66BA-038C-45C1-A1AF-FCF7D116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FB7E-7A64-436F-878B-0CBBAF79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FB95-9A4E-4346-91FA-DFD80B0C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F6ED-3C5A-4285-98D5-5F64F02D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3F796-A348-4C93-8408-E70829E9AB1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ield not to tempt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ielding is s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ch vict’ry will help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other to w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вёрд будь в искушень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 будь в искуш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страшней, чем н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ишь, суме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жнему пом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ght manfully onwa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rk passions subd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ever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carry you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бости не слуш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и зло ру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ирай на Иисуса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k the Saviour to hel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fort, strengthen and keep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willing to aid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carry you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щи жди от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й у Его пор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их даров так 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un evil compan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ad language disd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name hold in rev’r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take it in v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ружися с лож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смей ропт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йся имя Бож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не призы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thoughtful and earn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d-hearted and tr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ever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carry you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ен будь призван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частьи и скорб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ирай на Иисуса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k the Saviour to hel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fort, strengthen and keep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willing to aid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carry you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щи жди от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й у Его пор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их даров так 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im to o’ercom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giveth a cr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’ faith we shall conqu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often cast d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х наградит Б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и вен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победим 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мы жив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ho is ou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strength will rene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ever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carry you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, расторгший уз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йствует, лю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ирай на Иисуса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k the Saviour to hel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fort, strengthen and keep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willing to aid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carry you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щи жди от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й у Его пор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их даров так 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09:00Z</dcterms:modified>
  <cp:revision>12</cp:revision>
  <dc:subject>Slavic hymnal Гимны веры христиан, hymn 859</dc:subject>
  <dc:title>Yield Not to Temptation / Твёрд будь в искушеньи</dc:title>
</cp:coreProperties>
</file>