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102-347C-4647-A3C2-819E7E11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3408-A503-460C-A7A5-BAE0CEF6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D19F-3E29-4FE2-8106-70655869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6AB-2EDE-47E1-958C-928F5CE5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5E7-AA2D-4702-A09D-C8B82E71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887-4FA6-4B3F-AC62-A17D8022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9FD-BE17-410B-8406-E1B133CA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2A1E-10CB-4ABF-8596-DF9648D6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442-B8AD-479B-A623-7D7E5B8B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00CF-A1A0-4337-A0BA-026D7B3A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4A8-5F1D-4137-B38E-99DAD2F9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500A-ACCE-4CE0-9778-78F1F453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38D81-9242-4432-A1C4-A36DF4570F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у я шум, как бы множество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он ожидания ми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ься, Невеста! Жених твой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зок час брачного пи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мой Спаситель, отрада о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войти я в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а в пречистой крови я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Царь, мой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ж слышу я ш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ь всё, чем мир твоё сердце мут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, печаль, ожи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помни, как Бог Твой тебя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понёс Он страд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мой Спаситель, отрада о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войти я в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а в пречистой крови я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Царь, мой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, как один Он любить тебя 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й, на Иисус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й, как Спаситель твой д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л, за тебя уми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мой Спаситель, отрада о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войти я в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а в пречистой крови я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Царь, мой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как поверил любви Он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что Он любит наве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, выше и глубже всех гор и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Его вечна, безме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мой Спаситель, отрада о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войти я в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а в пречистой крови я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Царь, мой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7:36Z</dcterms:modified>
  <cp:revision>12</cp:revision>
  <dc:subject>Slavic hymnal Гимны веры христиан, hymn 326</dc:subject>
  <dc:title>Уж слышу я шум, как бы множества вод</dc:title>
</cp:coreProperties>
</file>