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A3C-5818-4401-A07C-DBA2D5D5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964-36EB-4030-B1A0-13F49F1F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5A2-EF23-40BB-9BFB-936997ED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6401-309D-42F3-8439-F5F77B93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9D7-8763-4010-902F-632964C0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29E-CD4E-4564-A104-70CE604A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0DC-B05C-4D43-A8DB-896B2E6B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C2B-B451-4364-9732-BC63AC09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B984-82AA-43C2-AF4B-163F8109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E94-D6F4-42A2-B43D-79281449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15B-F750-4D6C-B64F-8443A04B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C0F-0A6E-4E0B-A701-4A278BF3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868E9-2DF9-46BD-8760-D85F8B257C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для плачущих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мой страждущий, зай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всё Христу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гони прочь страх люд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тебе Спаситель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для плачущих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паздывай в пу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ых у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на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корбь в твоей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 Спасителю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кой душе най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заботные!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те у кр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ам дал в любви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згляните, как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 там поток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чистой 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с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любовь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од сень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каждого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ршились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ылись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молкнула г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у кр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3:06Z</dcterms:modified>
  <cp:revision>12</cp:revision>
  <dc:subject>Slavic hymnal Гимны веры христиан, hymn 345</dc:subject>
  <dc:title>Есть для плачущих земли</dc:title>
</cp:coreProperties>
</file>