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B5D-218E-4DA7-8EBE-9F0AF85D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3BB-DEC8-4C15-BD28-4AC3ED2D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B5A-372A-4DF3-B1C4-4A6E1449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BD9-3A3D-438A-9D02-42E83013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086-CEF4-4EA8-8A42-F94A9714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659-0D04-4D4C-AAF0-12B7669A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0FF-B6F9-434A-9641-048192B3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F23-E99D-4F6D-AEB2-9A45BF1E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C86-1360-4025-B4C6-212F5536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CC7-C0BC-4E34-A5FF-EC345B30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853-19DF-437C-BC3D-F83EE63F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813-A485-4C14-A44A-A08D9862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2ED1D-112A-4965-BD2A-BBE08A4F13B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ing now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blood-ransomed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soul there is peace,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l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могу теперь п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гу теперь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 небо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ила в душе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ickness there’s heal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poverty, weal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ч недугов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д сокровищ живы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, I’m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me and keeps me jus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with the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the throne in th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orm and the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midst of th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uts in my hand vict’ry’s pal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тречу гро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Иисуса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дежда и крепост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coming all fo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ord I rep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живёт в темн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о Хрис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, I’m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me and keeps me jus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with the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the throne in th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free from all doub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in the sh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сомнений у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ётс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, I’m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me and keeps me jus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with the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the throne in th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I know I’m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ord, and I st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blood with the sin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uld dam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рюся с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лютой битвы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I walk in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trength for the f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зло побежд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, I’m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me and keeps me jus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with the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the throne in th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grace for the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help by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healing and comforting bal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хлеб Он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ути береж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ет, Собой ос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8Z</dcterms:modified>
  <cp:revision>13</cp:revision>
  <dc:subject>Slavic hymnal Гимны веры христиан, hymn 420</dc:subject>
  <dc:title>I’m Redeemed / Я могу теперь петь</dc:title>
</cp:coreProperties>
</file>