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5D1-3548-4F8F-A6B0-CFA6BEB6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61F-38AB-40FA-8AF7-E6F2D04B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E5D-4F21-4126-B8A0-7EE335EC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80A-E65B-45E3-8AB2-CD39670C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51F-928B-41AA-868E-1D9F96B9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F57-9557-4AB8-8F9D-F668A19D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EB2-95DB-4CFF-ACAB-0BA9C4C0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62B-F238-49A8-8CAC-2408AFDE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F20-F96C-46F9-8B0B-78E9A164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689-E7D8-4B2A-8871-9079C60E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245-9720-4434-B6DD-C1E11D0B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B07-C727-4ACE-BCD1-A3A70ACA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DA8F-EA88-44C0-A1C7-58429EFE5C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ород не зде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мёртвой пусты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ство греховных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рязну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рачённых невер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ъятьях лукавых с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й город не зд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мы приветств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ем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ем мы блага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уп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оро к 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утника примет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где през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й святы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енья от ревности з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 и до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а лицемер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явно не скрытой вра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! Ты лишь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город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тель которого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отдых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рад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ьной долине трев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руден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киталец, путь т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в постоян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частлив насл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го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 ты и благо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ьма, обличё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ою жизн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лобно глум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ёт поруг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веры Господн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укреп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ы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веди свои очи к г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мощь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нуту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изнурённым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же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тря на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в восторге душо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ишелец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ный прольётся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н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сталому ч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на Сионе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умяг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леем незр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покроешь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ётся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близок желанный кон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о граду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вой небес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6:51Z</dcterms:modified>
  <cp:revision>13</cp:revision>
  <dc:subject>Slavic hymnal Гимны веры христиан, hymn 393</dc:subject>
  <dc:title>Твой город не здесь</dc:title>
</cp:coreProperties>
</file>