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20A-5008-448C-8F5A-440B2CF0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657-AA19-4487-ABA9-5B674E6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544-1563-4480-82B5-AE594E20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E73-1DFD-42C8-8A4A-69586919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0B5-0EC8-4361-B14E-CAA8F8F8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22F-DAA4-4684-97E2-B3EFB24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015-4AEE-4CCC-A761-5D25F153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CDD-B913-4879-8405-3133B640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DF2-3381-4801-B9CA-AF1B343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79A-6FA8-41E3-9D11-59E4637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035-9E1B-40EB-B1BE-577B3E9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29D-5440-45C5-8A9B-13ABDD47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1E71-7470-4BA6-8DC1-40E8470040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ptivat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re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will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ign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28Z</dcterms:modified>
  <cp:revision>10</cp:revision>
  <dc:subject>The Source, song number 437</dc:subject>
  <dc:title>Reign In Me</dc:title>
</cp:coreProperties>
</file>