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5</a:t>
            </a:r>
            <a:r>
              <a:rPr b="1" lang="ru-RU" sz="3600" spc="-1" strike="noStrike">
                <a:solidFill>
                  <a:srgbClr val="ffffff"/>
                </a:solidFill>
                <a:latin typeface="Verdana"/>
              </a:rPr>
              <a:t>	</a:t>
            </a:r>
            <a:r>
              <a:rPr b="1" lang="ru-RU" sz="3600" spc="-1" strike="noStrike">
                <a:solidFill>
                  <a:srgbClr val="ffffff"/>
                </a:solidFill>
                <a:latin typeface="Verdana"/>
              </a:rPr>
              <a:t>О, образ совершенный</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 Image of perfec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love and puri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bject of my affec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ant to be like The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образ соверш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и чи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Царь смир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ер мой вечный — Ты.</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day without tom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ll terminate earth’s n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put an end to s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comes “dawn’s early light!”</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светит «неземн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аружи и внут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гаснет «я» плотск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лучах Твоей зари.</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holding what did ’wait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ounds, Thy thorn-crowned b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ant to emulate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ginning here and now.</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лик в венце терно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душой взир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делами, сло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лишь подража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Help me in daily liv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make Thy Word my gu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be to foes forgiv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blessing them, besides!</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Хочу Твои слова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жизни повтор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благословля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агам моим проща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prayer for them, O fill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rue sinceri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servant, Lord, I wi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 think and act through m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за них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молил о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как Ты, смир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сынов земных.</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My everything, O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dedicat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greater is, far great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life Thou gave to m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о всём хочу Т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подраж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мне всего миле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лишь пребыват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garments of salv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rd, let me walk with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saved from condemn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st souls redeemed might b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в Тебе оде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дить в Теб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иден был везде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Ты сиял кругом.</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Lord, daily I aspi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live my life for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my supreme desi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s that Thou live in m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 Тебе пребыть жел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хочу приль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лучше, умоля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ам во мне пребудь.</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my entire be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pletely changed wi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glorious image see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ill become like The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моё созн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ит образ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Твоё соз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век сольюсь с Тобой.</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And then without cess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all eterni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heavenly loc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ll fellowship with Thee.</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огда уж не поры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каждый миг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общении счастли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жить с Тобой;</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8:12Z</dcterms:modified>
  <cp:revision>3</cp:revision>
  <dc:subject>Slavic hymnal Гимны веры христиан, hymn 105</dc:subject>
  <dc:title>O Image of Perfection / О, образ совершенный</dc:title>
</cp:coreProperties>
</file>