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57A-7531-4984-B439-5A8728CC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227-55C2-4EB7-B8ED-263C453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CD7-90F0-4626-BBF7-B0D8123A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47E-425F-4BB8-AA57-461D24FB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FA6-5872-4706-9C6A-CFC8449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A1F-45E7-4F33-A096-2860A62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AE8-B17D-43D7-904A-FB726EFE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141-E4E0-4526-9ABD-22B43A88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2C8-ADF4-46D6-8B62-F4F3B763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EEF-4B68-46C1-A080-6128D42F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463-148F-4339-B87F-ECC98E6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BDE-BC5A-456A-A9F7-E810EDF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53CA9-EE58-47A0-9912-CFE47E83EA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озунг, данный молодё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 борьбы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лозунг силы, лозунг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зирая на Иисуса, в 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ами веет Божь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зунг юности на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, как радостное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ённое Сами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озунг, д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тав героями, как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ло в бой с врагом вступ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жасе бежит др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мир неся закон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любовью покор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дножию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Его и на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свой скорбный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радостью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идя как ужасен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овой жаждою пыл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убелить себя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чуждаемся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зы тюрем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радостных псал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ах мести не та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а правды умо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ть грехи врагам лю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совершен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аз неба отраж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хождени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м неведомы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и сердцем усво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добие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 волнам огня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мы за Ним шаг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пожар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укрепляясь верой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ри мира укрощ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й вселенной мир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0Z</dcterms:modified>
  <cp:revision>12</cp:revision>
  <dc:subject>Slavic hymnal Гимны веры христиан, hymn 442</dc:subject>
  <dc:title>Есть лозунг, данный молодёжи</dc:title>
</cp:coreProperties>
</file>