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76A8-8FD4-4DC1-B210-F127313BE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B7A9-55E6-4477-8FDE-E4A177E8E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4FE9-F9CC-4547-A442-6770DEA51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1F33-633A-474E-88B0-3C86F7537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1D56-462C-47E8-A91E-DD77E1AD1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EC89-C59D-432B-A5B2-DEFE6CF78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857D-DC2E-43A0-8DB5-0497B96BB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C5D8-0143-4A4F-8C99-FBBA426AA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D641-EC00-4E4E-A7B4-FC331A9A1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1D29-3321-4F1A-AA4E-29385762A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84FB-5208-4E5A-AEA5-B53C46F5D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CD5F-4E22-4E22-9EA3-73AA4963B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FC0CEC-1E1B-4B09-AFD8-9D9A383D9C1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magnify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glorify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lift my h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orship my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take Your rightful place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You’re my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magnify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glorify Your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348   I Will Magnify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You are my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crown You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Redeemer of 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life an offe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eath could not hold You dow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Your blood I’m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creation rej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proclaim His vic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magnify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glorify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lift my h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orship my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take Your rightful place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You’re my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magnify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glorify Your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09T11:32:49Z</dcterms:modified>
  <cp:revision>12</cp:revision>
  <dc:subject>The Source 3, song number 1348</dc:subject>
  <dc:title>I Will Magnify You</dc:title>
</cp:coreProperties>
</file>