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84A-64E9-4DF9-8FD7-61E9F314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BB4-C401-4F86-8422-B77593CB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8FC-E6C8-4703-8904-F3099F7E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021-5A3E-4867-AF12-00AC3D23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A0A-930A-4A93-A52F-A279E307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418-A001-4C9D-86FA-EDE64DB8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85D-B93E-4E70-901E-D78EA55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D2B-8C6A-4CB0-86EC-6E21191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99D-3199-4265-A255-FDD4B088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5C3-3F37-490C-A3BF-9D02F12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080-B9F6-4604-B577-442F7BC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290-029A-4698-805B-D1E84D4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7C185-729E-4433-BB11-772F2B2F61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marvellous for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wonderful for comprehen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nothing ever seen or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grasp Your infinite wisd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fathom the depth of Your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enthroned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to whom all praise is d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3:09Z</dcterms:modified>
  <cp:revision>10</cp:revision>
  <dc:subject>The Source, song number 589</dc:subject>
  <dc:title>You Are Beautiful (I Stand in Awe)</dc:title>
</cp:coreProperties>
</file>