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D20-12B2-433B-8E2B-70CDCBC7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C76-886C-428A-96DF-65CD9A1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317-60D1-4110-A33F-0548AD54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EBF-3252-4715-93C1-1B1A4556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F86-A09B-4B3D-83E1-1E87589C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B8A-8CDF-4838-BB99-CB0A01F7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6CB-77A8-4B87-9364-0F54DC5C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F0A-BF94-4559-BC91-C6126D70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CD0-9E0D-4B6C-9FAF-F119DBF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6FC-B4F3-4F98-9D8D-0A36233E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564-8ED0-42CD-BFB0-DE82B910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332-8245-409D-8710-6180B127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07EA8-1220-4A9F-8050-C786AB9CF1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зачем ушёл вд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Господ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ы не слыши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Спасител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мой, зачем ушёл вда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, заблудший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ющий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ты на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любовь 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о,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Господь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дёт ― тебя всё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Его зв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зов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18Z</dcterms:modified>
  <cp:revision>13</cp:revision>
  <dc:subject>Slavic hymnal Гимны веры христиан, hymn 413</dc:subject>
  <dc:title>Сын мой, зачем ушёл вдаль?</dc:title>
</cp:coreProperties>
</file>