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44D-38EB-4C9D-8F02-B74D5561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0B2-ED7C-456B-B2C1-6899CC2D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F74-4062-41AB-96B6-92B3CABD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974-5848-4C9F-AA12-36DA3FF3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AD0-34E8-40AD-ADF0-91CF724E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55A-D4B5-4864-AE4E-4B5077D0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0BB-2734-4D7E-9836-89FB977D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D26-EC94-4D18-A281-52ADAA3F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FC0-B85E-4CEC-B29E-5A4A18E9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E40-4F37-4E61-94DF-49D62FE6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D2A-5DE5-4EE1-AF98-A4DD7F7D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DB2-4580-42C4-B535-DCDF3ED0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08A82-4327-4880-9A6C-5D9BEA9A1E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гибающим правду с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пробудите уснувших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дям блуждаю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искупления всем поне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оляйте к Иисусу при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спасения славьте, хвал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несчастный мог счастье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страдающем, в скор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ик Дух Божий лишь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сияющим слуга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о том на земле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уждение тяжкого д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ть к бесконечному счастью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слаждение в жизни недол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тешенье без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28Z</dcterms:modified>
  <cp:revision>12</cp:revision>
  <dc:subject>Slavic hymnal Гимны веры христиан, hymn 531</dc:subject>
  <dc:title>Людям блуждающим</dc:title>
</cp:coreProperties>
</file>