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A06-DD60-40A2-A757-6672E9A3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529-43CA-4695-9FE7-A04A0F1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72B-57E9-4AC6-9FD7-262A6F17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912-73AB-4B6F-9936-7DAF37F7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379-7279-4780-B24D-ED8E59D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A20-7C4E-4A6B-AEB8-1202FACE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6E6-E153-41E5-8AD7-21852EC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136-78D9-4F4C-9BEC-D08747C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D8B-709E-431A-819E-0F3C04A8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146-018A-423B-AB0A-4C7ED6B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533-746F-4CAB-874B-33A9330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C52-6EA7-4BD6-8A8C-242F892D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8E2B5-767F-4EC0-B6FC-644F8839D0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шение Пет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ный грех Он не вме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енье у кос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прельщённы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Господа греш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к Нему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янья смолкнул ст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милован, про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мой палач —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царит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грозного меч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призрака с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ия св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ена И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т запада 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души Он уда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кров небес об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29Z</dcterms:modified>
  <cp:revision>12</cp:revision>
  <dc:subject>Slavic hymnal Гимны веры христиан, hymn 606</dc:subject>
  <dc:title>Он простил! Да, Он простил</dc:title>
</cp:coreProperties>
</file>