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2AB-3CE3-42A8-A0F0-24678DAD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C9A-A4AC-4D82-886D-E6D4374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B48-C38C-4688-9E84-9049FE6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494-D2AB-45BA-B51C-3225E9FA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1A7-5DA2-4A92-9C19-E8676C47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E18-9CC2-4A70-90C8-FB0EA9B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62A-7412-4022-A3BB-DB6B1826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B1F-5100-43F1-956D-0212B017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35E-5DAA-4070-828D-CDDBC8D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0F6-873F-47E6-BD71-9789ACA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4D0-0B17-4827-8FBA-F413E98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B1F-E4F0-469B-88B3-001AD2E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27A3-0DCC-42C9-9AAB-FBB2E03FCF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9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h love as I had nev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the grace that f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 in my un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y my heart and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35Z</dcterms:modified>
  <cp:revision>11</cp:revision>
  <dc:subject>The Source 2, song number 996</dc:subject>
  <dc:title>There Is No Other Name</dc:title>
</cp:coreProperties>
</file>