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887-77AF-483C-937A-3101A911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D9C-E103-4741-A6AE-73744B3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CB4-3E21-47DB-A154-E7E2C56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B26-D2A9-4ADA-9574-313C9EEE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B6B-D772-4DFE-856E-7D8EF36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68D-04FE-44BA-A2B1-C8EDE7B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6C8-5717-44C0-AABA-7B0C1EA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4DE-C118-4EF0-9EB3-847BA6C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AAE-5C76-41BD-A457-B07CDCA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2F-4199-4D55-AE27-898BFC8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E07-99C2-4715-A66E-134B9C5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B6A-0ED2-46EF-9A11-2B3463E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B0E81-33B1-4A9D-A3A3-4C946E62E2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57Z</dcterms:modified>
  <cp:revision>12</cp:revision>
  <dc:subject>Slavic hymnal Гимны веры христиан, hymn 600</dc:subject>
  <dc:title>Славною рекою</dc:title>
</cp:coreProperties>
</file>