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0A24-5057-4CBB-B81A-CB1ABE333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15CD-E1CA-4F53-BEAF-441E9FC1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51D9-69EA-4C65-A231-A8663B4A6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9848-6209-43C4-97E0-7D1C3782C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E9B2-F29F-4881-A6CA-EBF02F58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2B35-B634-417D-93DE-C5F497A6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FD42-9A4B-4EFA-927B-61413752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9C52-E4E3-408F-ADC6-32753B13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8E75-468C-4A4F-AD18-C09F2B19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2CB5-655A-4E4F-A5D0-F4A847AF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CC13-12E4-457A-8EEF-77649EAD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F66F-E389-4DC3-80D8-5E795DB9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C8C7C-C52D-4ED1-8511-68482768778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у Святий, нам серця пробу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чни від мене, на мене дих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имо Слову: поміч Ти да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миренно, Боже, ждем, благосл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6   Духу Святий, нам серц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5:00Z</dcterms:modified>
  <cp:revision>12</cp:revision>
  <dc:subject>Slavic hymnal Гимны веры христиан, Ukrainian hymn 36</dc:subject>
  <dc:title>Духу Святий, нам серця пробуди!</dc:title>
</cp:coreProperties>
</file>