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B6F-36E2-4A54-97C5-ADE18EF3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282-1644-4103-87AF-0B1B93F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E26-253A-4239-A076-F3D6D39D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E1F-1FE2-4B35-9A5F-0CB23FDE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D53-5D02-4C3D-91ED-12307E6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3E4-385D-48CB-9994-7ADD05B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CCB-E219-473D-9D91-147BF4C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925-491C-4659-864A-AE03363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E9E-966B-46F6-8521-E83B75DB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D21-E69F-4DE9-99E7-6646993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61C-9CF0-4302-9251-6235790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A45-834B-4563-BDAF-42D0D24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CAC94-D1E1-4830-AB57-D018BA105C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04Z</dcterms:modified>
  <cp:revision>13</cp:revision>
  <dc:subject>Slavic hymnal Гимны веры христиан, hymn 521</dc:subject>
  <dc:title>Будем сеять утром</dc:title>
</cp:coreProperties>
</file>