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04-21C7-4AF1-AD18-638C6737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1FE-BAFA-4588-9B93-D7A85863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979-F402-4B99-9764-1212ED50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C16-5B6E-4FEA-BBE7-1A8EE6C4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1D1-2DA8-4C94-B448-1BB0E36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B0C-8E79-4B68-A459-633A59B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F01-15AC-41AE-9174-6AC3C158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1D4-BF3F-427C-8A08-EE8B4F1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450-D2CC-4ED0-9421-E4CE7D1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0CC-7706-483B-8628-7A232D1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960-86D9-4B3D-96A6-2A9E1F2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3D3-C8A2-4CDC-BFB7-5178091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3F30B-5EB0-43F5-A3B2-64B1BEA13C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Lord is on thy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patiently the cross of grief or p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ave to thy God to order and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ev’ry change He faithful will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best, thy heavenl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thorny ways leads to a joyful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God doth under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uide the future as He has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hope, thy confidence let nothing shak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now mysterious shall be brigh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waves and winds sti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voice Who ruled them while He dwelt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 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! The hour is hast’n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shall be forever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disappointment, grief and fear are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rrow forgot, love’s purest joys re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when change and tears are pa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safe and blessed we shall mee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37Z</dcterms:modified>
  <cp:revision>12</cp:revision>
  <dc:subject>Slavic hymnal Гимны веры христиан, hymn 860</dc:subject>
  <dc:title>Be Still, My Soul / Не унывай! Господь всегда с тобой</dc:title>
</cp:coreProperties>
</file>