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840-EA41-4379-A892-F5D9DE69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D41-F5C2-4378-812E-99852FED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397-D825-4CA4-A342-426650EA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225-1E06-426E-AB75-E1452C92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C26-87A3-481E-BC44-60ACFB01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15D-8C7A-47BD-BDF3-8312B3FB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BFA-028C-47A4-A797-56615FF3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190-F48C-4B20-B7E2-C1F6C78D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AA6-CE62-431B-BFF8-0ACB35D1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8E6-EEA7-47BC-B8C8-3CE6915A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860-5F22-4939-AF8B-23E97217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7CD-3FED-4B8F-BB12-23EAB05E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981A1-25A8-4EC5-929A-A75B2D902C7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ы куда идёшь, скажи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с посохом в ру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милостью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учшей я иду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горы и дол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степи и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леса и чрез равн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домой, друзь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куда идёшь, скажи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нник, в чём твоя на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тране твоей род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оснежная 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нец весь зол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очники ж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е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за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жгучие песк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х и ужас не знак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а пути т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Господни лег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т меня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т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клонною тро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в небес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ак возьми ж меня с с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чудесная ст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ой друг, пойдём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тебе моя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алёко уж р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еланная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чистая,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ведёт с тобой туд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3:44Z</dcterms:modified>
  <cp:revision>12</cp:revision>
  <dc:subject>Slavic hymnal Гимны веры христиан, hymn 613</dc:subject>
  <dc:title>Ты куда идёшь, скажи мне</dc:title>
</cp:coreProperties>
</file>