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49F-683E-4C72-8607-E8C5C738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1CA-197F-41FD-B9B9-44D9D3B4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415-5B16-433F-A75F-44395526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252-9FA6-44DA-A19C-7AD8BCAF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16F-C568-478F-A598-6B46AF3D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BD2-6D3A-4DAC-8600-1142CA2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2AC-072D-4DB3-981F-3CE4884C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00E-34EA-4E62-97CE-CF07098E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A5A-0CB2-443E-BECE-757086CA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CB3-237B-4E21-9242-F871C55A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CAA-F0B9-4E78-8B10-39F5D8F8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722-8D03-4151-91EA-7D02AD5E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0261A-83E9-4652-B1BB-446FF7EE4E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 is risen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s of men and angels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Господ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пришла с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your joys and triumph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ye heav’ns, and earth,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Всевышнего хва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небо и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s again our glorious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, O death, is now thy 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наш славный Царь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скажи, где твоё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ying once He all doth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y victory, O gr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Он, чтоб жизнь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страшен нам ни м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redeeming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ught the fight, the battle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подвиг совер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рагов унизи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in vain forbids Him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opened parad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Владыке не ме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всем людя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ar we now where Christ has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our exalted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 крыльях мы ле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свыше, вслед за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like Him, like Him we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s the cross, the grave,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еть с Ним, с Ним 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терпеть, с Ним веч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5Z</dcterms:modified>
  <cp:revision>13</cp:revision>
  <dc:subject>Slavic hymnal Гимны веры христиан, hymn 291</dc:subject>
  <dc:title>Christ the Lord is Risen Today / Наш Господь Христос воскрес</dc:title>
</cp:coreProperties>
</file>