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9F89-E564-4238-B4C7-3EE9E457C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5770-2F85-446D-97EC-78FB186F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8221-7A38-4034-9F1B-1D22AEE32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DEEA-D2D1-4891-AA85-F8EDA8EB3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053D-944B-4FD6-B12D-769F1D3A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4B59-5E43-482F-97BC-30F67F5B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4927-3705-48F2-833A-CAB07E02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297D-83FC-4D23-B282-2321A55F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F31D-5093-4B3A-8D19-D30C6048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84DA-6B2F-45CF-AF82-36655394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663E-9173-4F6D-B569-D0725B77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654A-D299-4F19-BE4A-C995B05E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94C1A-D097-4B2A-AF83-2456D20CEEA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иши ночной среди по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ночи мрак исче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тели ангелы с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ть песню для люд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ир на земле! Господь посл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лог любви свят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в безмолвии вним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й песне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9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тиши ноч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тают ангелы с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лночной тиши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ир несут благую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радостной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, где горе, плач и ст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ат они с хвал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глушит наш Вавил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песни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ы, под бременем заб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гбённые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рудом идущие вперё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е к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ите, новый день спеш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чудесной быстро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имайте с радостью в ду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й песне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наступают дни, к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ждётся челове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ут и войны и враж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нет славный в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воцарится на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олкнет бури 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ьются все сердца в хва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й песне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28:24Z</dcterms:modified>
  <cp:revision>13</cp:revision>
  <dc:subject>Slavic hymnal Гимны веры христиан, hymn 795</dc:subject>
  <dc:title>В тиши ночной</dc:title>
</cp:coreProperties>
</file>