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56A-7797-493C-9942-66B3E086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063-6F6E-46AA-91B4-DDDAF1D7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3AA-7627-4705-BE58-F54792D5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CCE-CB9A-4A6D-AAD3-3AEC593B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3A4-5272-4209-9F0D-EC8D102D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CBE-3BFF-4325-B403-9AED64B9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769-7B69-4796-9615-7C72D87D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E37-67E8-4D9E-BD7A-CE315CFA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583-DA7A-4D5E-8E1A-748F4CF7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D3B-7C1B-4FC1-BB05-7D28217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C5F-2B79-4F11-9577-C339A188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164-D82D-41CB-83A5-2E188792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22D9A-8BCA-4381-8A41-5A5F57B201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а   Призови Христа, о греш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, о гре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счаст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к тебе поспе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мир пошлёт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отца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свят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t thrills our souls with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loving arms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songs our tongues empl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им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сердцу м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зла лишь им креп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земную т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ри имени Христ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желанный мы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бе славном, н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сим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2Z</dcterms:modified>
  <cp:revision>13</cp:revision>
  <dc:subject>Slavic hymnal Гимны веры христиан, hymn 713 (as amended)</dc:subject>
  <dc:title>Take the Name of Jesus With You (Precious Name) / Призови Христа, о грешный</dc:title>
</cp:coreProperties>
</file>