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D57-D85A-46A9-AEDF-77FCB4B2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D0C-7E6F-4E33-AB85-0BBDBA8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F81-D2A2-4F7C-80AE-EF6A6A90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667-C2D3-49C8-825E-2D2DA664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3F8-A793-44AC-AFE2-1F470163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444-1A50-4D03-B6CB-EBCDE309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9E8-5CBC-453B-AFDC-ACC37B78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13E-2AE4-4183-A8EE-56385351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1B8-D4AF-4357-80BA-7D139BD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CFC-DA14-494E-87C2-92FAAFB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CC1-C1F7-4528-824F-BCC19A4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373-F382-478A-B730-D17AAFB8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8C19-71C7-47E1-8AA8-40BA1660BF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лышу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м весел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ваю в прост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 ров земного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ибнул, огля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звучит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слышу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я бездне утоп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мысли я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еня и там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диноким был, н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со мной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средь тем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 Тобою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уду я див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ух мой к жизни воскре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енник был, Ты не за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редь тяжких у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греха освоб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02Z</dcterms:modified>
  <cp:revision>12</cp:revision>
  <dc:subject>Slavic hymnal Гимны веры христиан, hymn 608</dc:subject>
  <dc:title>Когда я слышу о Христе</dc:title>
</cp:coreProperties>
</file>