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7628-B11D-4587-AEF7-A73043E77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E96C-1BD3-48FA-92B1-301A1136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41D3-AA00-41E5-9E29-E7B876840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DE66-20AD-477D-9EE0-3D01D6568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C3E6-79D7-4B3E-86C8-482DB7B2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62F0-42DF-4199-B72A-174995D8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954C-D522-4533-8E5C-F0AF6936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CA40-BB28-418E-A875-DD6A4990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DE5C-CC9B-4D98-9F31-8B2CAA52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232A-60C3-454A-89B8-62D774D9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78C9-15E8-4BA8-A8A6-9866D8C2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4A26-520B-4267-B562-1DA543E0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3479EA-E04D-4FA4-8C86-DCC11D034ED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— мой Пастырь, я ни в ч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уду знать нуж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лачных пажитях пас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близи живой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дкрепляет жизнь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на путь доб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ляет мне любовь С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утра и до у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 — мой Пасты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иной смерти ли пой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боюся з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ю Ты; рука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аз меня спа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риготовил пищу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ду моих враг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ил на голову е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клад Своих да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любовь и доб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т за мною в с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доме Божьем на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йду в небесный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3:46Z</dcterms:modified>
  <cp:revision>12</cp:revision>
  <dc:subject>Slavic hymnal Гимны веры христиан, hymn 834</dc:subject>
  <dc:title>Господь — мой Пастырь</dc:title>
</cp:coreProperties>
</file>