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A5B-7967-451E-B73B-98191867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A96-4E34-4140-9228-CBA7F79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EEB-179A-4857-B8A3-4C7BBA0D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E10-60A5-4398-A405-0136DAB3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95A-55D1-4F69-9E18-72AB69AC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2DC-B8D4-4BE7-B898-C64AD22B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952-8CB9-46E2-B777-6117848C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CBB-7B92-4E00-850B-723565EF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A6B-2C00-452D-913D-6A78A21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17D-ED20-48F9-AA2B-49A78909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69E-00DC-4C2B-B161-F214210C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395-98B7-4CEA-9388-356B04A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B1145-8B83-4ABA-B207-181990955B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Бог до Н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топлю світ во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и ж збудуй собі ковч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родини і для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а   Сказав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й повірив, ― не ваг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вати ковчег взя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Ноя висмів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а правди не прийм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хлинув, як те мор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біг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люди вже благ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а себе нарі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правди не прийня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ташки в небі ще лі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ятунку скрізь шу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всю покр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безбожних затоп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Лише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з Ноєм і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Як ковчег став на верш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оєм вийшла вся родин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ак, як було за днів 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безбожним гірка д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48Z</dcterms:modified>
  <cp:revision>12</cp:revision>
  <dc:subject>Slavic hymnal Гимны веры христиан, Ukrainian hymn 84а</dc:subject>
  <dc:title>Сказав Господь Бог до Ноя</dc:title>
</cp:coreProperties>
</file>