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C4A-E2CF-45D1-8819-6841AEFA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C61-9364-4DEA-BE44-78E09CDF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422-4CD2-465D-8F17-B3A14B4E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0D9-B131-42A6-AD04-6C22A996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6F3-22BA-4177-8D8D-4E01F0C2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94D-FF9D-45E6-ACFB-0CAAF504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FE61-D3EB-46D8-8B54-67C68F85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F423-8BB6-4560-B27E-47A4ADA6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232D-316E-4AF6-957A-36ABF868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76D7-C922-46CE-AC50-12FE2FB2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1B0-6E50-4C68-8E33-35CCBBC3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D31-798C-4CEF-A9DB-BDBB710A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9FDE9-A3B6-4A76-B638-4244EA242F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, друг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чен долг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можно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отдох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твой Спас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Он Хран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ро, друг уста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во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т, видит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ерпи не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исце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твой Спас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Он Хран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ую мину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ерял ли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в силу Бож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ко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твой Спас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Он Хран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веч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змен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твоя защ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емных трев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твой Спас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Он Хран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2:52Z</dcterms:modified>
  <cp:revision>13</cp:revision>
  <dc:subject>Slavic hymnal Гимны веры христиан, hymn 714</dc:subject>
  <dc:title>Скоро, друг усталый</dc:title>
</cp:coreProperties>
</file>