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F405-1AFD-444E-A1B8-B39C6636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93F1-CC4D-4AF8-9732-BE4AA0BC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AFF-C2AE-4457-BB3A-1F586B0D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81A5-3CD4-4378-9AE3-1CC027C1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1DA-A511-4FB8-B324-C9FCA803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6219-14E9-4E92-8FA6-BD05AB2C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294F-3FE1-4CAA-A192-521F1E92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CDB5-1513-4856-BBEF-BE0C2D58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F850-BFC5-46EC-97AE-34C71614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47A4-82AE-42E8-BEBA-3755AD6A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C92-4B8F-40BC-8A47-7B5BF738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0F7E-3224-407E-81E7-6BA7FFA0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26460-EFAB-4304-934F-68A15ADFE53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ittle town of Bethle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still we see thee l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thy deep and dreamless sl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ilent stars go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in thy dark streets shin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verlasting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pes and fears of all the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e met in thee to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9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 Little Town of Bethle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morning stars,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oclaim the holy bi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raises sing to God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eace upon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Christ is born of Ma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, gathered all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ile mortals sleep, the angels k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ir watch of wond’ring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silently, how sile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ndrous gift is giv’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God imparts to human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lessings of His hea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ear may hear His com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n this world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meek souls will receive Him, s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dear Christ enters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oly Child of Bethle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scend to us, we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st out our sin, and enter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born in u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ear the Christmas an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reat glad tidings te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come to us, abide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Lord Emmanu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1:11Z</dcterms:modified>
  <cp:revision>10</cp:revision>
  <dc:subject>The Source, song number 393</dc:subject>
  <dc:title>O Little Town of Bethlehem</dc:title>
</cp:coreProperties>
</file>