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627-96CA-4446-A41C-4B25D861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6F5-E6BA-40B5-A411-B017377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40C-F2F4-4B57-838D-D27E776E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D3A-DCFC-46C8-950B-51F563AC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7CE-CC5E-4F95-9A48-EA8956C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E13-D637-42BD-B48F-ABAECB0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76D-98B8-465D-85E9-BF997236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163-B9C5-4D8D-9E7F-0C8E93B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9B7-6FC4-44DE-990B-B6D7FEE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75-B5D4-4C3F-B88B-12EE6A2A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FFD-5ED4-480C-9642-D6E9741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5DC-B828-4CF5-BB8B-3A4F108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F33B9-B022-4811-AFE3-38038DF10F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авло апостол нам сказ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   З нами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Господь Спаситель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Іван апостол н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Йоїль пророк пророк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40Z</dcterms:modified>
  <cp:revision>14</cp:revision>
  <dc:subject>Slavic hymnal Гимны веры христиан, Ukrainian hymn 8</dc:subject>
  <dc:title>З нами Бог, хто буде проти нас</dc:title>
</cp:coreProperties>
</file>