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96A-0121-4E17-8228-FE02B7D7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FDB-0697-424C-A4C2-681E660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AFD-C8E7-468F-8677-9D8866A9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269-05DF-4A97-9157-BE7709B8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BFB-4896-421B-A942-CEF1C0E8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7DA-9EA0-4F18-A73A-7F9B206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937-7DE1-4302-8DF7-D636ED6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29E-229E-4221-A463-A4B1FC54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38A-0530-4FF3-A8F0-916291D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59B-EA51-4793-A47F-B652988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380-42BF-4514-9FF2-8CED761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3B3-12FC-404D-83DB-B8F8A66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1C9C3-C544-4CC4-BFF3-41CAC9C6D1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now, but in the com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in the bette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read the meaning of ou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catch the broken threa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inish what we her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will the mysteries ex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h then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know why clouds instead of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over many a cherished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ong has ceased when scarce beg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knows the way, He holds the k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uides us with unerring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 with tearless eyes we’ll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here, up ther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37Z</dcterms:modified>
  <cp:revision>13</cp:revision>
  <dc:subject>Slavic hymnal Гимны веры христиан, hymn 667</dc:subject>
  <dc:title>Some Time We’ll Understand / Когда-то в свете без теней</dc:title>
</cp:coreProperties>
</file>