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3539-0512-43DC-845F-FCBFAF099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111D-D075-4E4A-837E-6684E259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99E7-C6CB-4369-84BD-838B1AB56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2FFF-2FEF-46A2-B271-09358449F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8F38-C6B8-42EE-9AA8-754F8BE0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13CF-6252-473F-AD3E-F6B8170B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DE82-EAAB-4152-9594-751C7126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2815-E0B0-4108-84B3-9A9C17BB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C709-65F1-43FB-9F22-57A94441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89FF-15CC-4690-953D-E4598241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D1FC-01C6-49A4-8654-54B65F6B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016B-3C11-4B4C-8000-9FDA187B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4ED74-4772-4ACB-B8BD-670266078DC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tand amazed in the pre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Jesus the Nazare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onder how He could lo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sinner, condemned, uncl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4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Stand Amaz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me it was in the ga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prayed: “Not My will, but Thin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had no tears for His own grief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sweat drops of blood for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pity angels beheld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ame from the world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comfort Him in the sor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bore for my soul that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took my sins and my sorr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made them His very 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bore the burden to Calv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uffered, and died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with the ransomed in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face I at last shall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will be my joy through the 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ing of His love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5-06-01T02:22:52Z</dcterms:modified>
  <cp:revision>11</cp:revision>
  <dc:subject>The Source, song number 243</dc:subject>
  <dc:title>I Stand Amazed in the Presence (My Saviour’s Love)</dc:title>
</cp:coreProperties>
</file>