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C9E5-84EF-4635-BE92-5AF480E10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E1FE-31FD-415F-A5DA-7744A2087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14E4-9839-4A0D-9217-ECAF8B521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A08F-0E49-4CEC-856E-849A0806F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D062-75DE-4FF0-8FE2-C0BBB5468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1043-045A-4A51-81FF-B6D3F7667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E7F5-DAB1-40C6-9E0B-238F1AEF0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82FF-2646-4EE9-83CD-1CA7476B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DCF0-56FB-458B-88DB-6AF137D66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C519-294F-49AF-9F66-3E4137EA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53C1-98DA-4EB0-AD6F-8D3A4FE3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2D93-4D2D-4AC2-8A85-D4A5222D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38C396-ECAC-411F-9575-A7E93D5AC1D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343080"/>
            <a:ext cx="984888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йдём на Голгофу, мой бра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посланный Богом Мессия расп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правде святой проповедыва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ных исцелял, а теперь Он казн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дём перед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йдём на Голгофу, мой бра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траждет и жаром ланиты горя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аждет и уксус Тому пода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ьи воды живые для мира тек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дём перед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0944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2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зойдём на Голгоф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343080"/>
            <a:ext cx="984888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йдём на Голгофу, мой бра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рости им, не знают, что худо творят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олит. Взойдём же, дабы и за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тва Христова к Отцу вознесла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дём перед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йдём на Голгофу, мой бра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снова Он к небу подъемлет С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тец Мой! Зачем Ты оставил Меня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рат мой! Чтоб принять тебя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дём перед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43080"/>
            <a:ext cx="984888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йдём на Голгофу, мой бра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дальца Святого слова там звуча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вершилось: Я дух Мой Тебе предаю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ас Он пожертвовал душу Св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дём перед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йдём на Голгофу, мой бра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мотрим, как нашей греховности я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траданиях горьких Христа истом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орого Он нам спасенье куп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дём перед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16:04Z</dcterms:modified>
  <cp:revision>13</cp:revision>
  <dc:subject>Slavic hymnal Гимны веры христиан, hymn 724</dc:subject>
  <dc:title>Взойдём на Голгофу, мой брат</dc:title>
</cp:coreProperties>
</file>