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E03-7580-4607-9905-9150CA0B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436-8BC3-4FB2-AE44-3D79E3ED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A7A4-0B03-4C85-BD23-41FFB4D2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D972-3818-4736-B6E0-29D11737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7270-2BD0-44BF-86E9-8528E481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06D-A3FB-4577-B96D-E5617C57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323-46A6-4201-95F8-91FF100B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63C-02B6-47CA-AACD-E9B1077B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B971-1A9B-470E-87C1-654A3FB8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927-8874-4C5A-9099-483DE79B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6760-4093-4641-BB4B-407CDE95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890-7BA9-4394-8A4E-1A861508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631F2-EFE0-454F-9E45-B5AE9A0CB9C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without one pl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at Thy blood was sh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Thou bidst me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9а   Таков, как есм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без дел, без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вши с радостью Твой з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верою в свят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and waiting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id my soul of one dark blo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 whose blood can clea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sp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не смея ж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то меня мог оправ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познавши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though tossed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many a conflict, many a doub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ghtings and fears within, withou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для всех чуж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мненьях, страхе и боль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итый бурею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poor, wretched, bl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ght, riches, healing of the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a, all I need, in Thee to f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увидел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любовь Тв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й Отец, моя сем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Thou wilt rece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t welcome, pardon, cleanse, r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Thy promise I belie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путём жи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й проложенным, прям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бы навеки быть Т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4:27Z</dcterms:modified>
  <cp:revision>13</cp:revision>
  <dc:subject>Slavic hymnal Гимны веры христиан, hymn 479 (as amended)</dc:subject>
  <dc:title>Just As I Am / Таков, как есмь</dc:title>
</cp:coreProperties>
</file>