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F42-11CA-4446-AB2F-F6988151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F29-AB8C-4DC7-9D1A-94FC1E72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82C-05BC-46E9-9084-2E53B848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95F-2900-4E09-8912-08EBF901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E75-35D2-4E59-9BF2-35625DC3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2F4-A729-435A-B2CD-2265D33A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8C3-A02F-4B36-BF11-0CE5E448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141-A7BF-4EE4-AF5A-B33A668A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CC7-4C0B-4CCB-97CC-19E8A752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A47-31CA-4D88-A131-8AC15DB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965-271E-4B78-9C07-6EFDDD9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407-32D4-4B08-9EC4-9E3FDC7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6CA9C-56A4-456D-99DA-D9823CDBC3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хом то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Христос родил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ющим всем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лный благ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небес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чуд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всем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дан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, настал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08Z</dcterms:modified>
  <cp:revision>13</cp:revision>
  <dc:subject>Slavic hymnal Гимны веры христиан, hymn 241</dc:subject>
  <dc:title>Полный благости, полный радости</dc:title>
</cp:coreProperties>
</file>