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BC9-8E59-479C-B69D-41A2C48C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6F5-083F-4787-88D4-6FFFD05A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282-D1E9-458F-BE0C-9425DE2A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7F0-1E6B-4D29-8BE9-C899C5B4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84B-487D-4503-9C68-4AF34799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180-DC90-4880-A027-716F0469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4C7-8F25-4A6C-9FA2-48333B24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B35-149E-40BC-8477-552C5CAD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E74-35EF-442B-AF17-C2FCDA2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1A2-C7B0-4994-8944-47E3734F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EC2-FAC6-426E-A2F8-08EC793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EEA-A488-4C55-918D-81F19B79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63699-FD93-422E-8912-7A2C825E76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lt me, moul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, us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pirit of the Living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16Z</dcterms:modified>
  <cp:revision>10</cp:revision>
  <dc:subject>The Source, song number 462</dc:subject>
  <dc:title>Spirit of the Living God</dc:title>
</cp:coreProperties>
</file>