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0</a:t>
            </a:r>
            <a:r>
              <a:rPr b="1" lang="ru-RU" sz="3600" spc="-1" strike="noStrike">
                <a:solidFill>
                  <a:srgbClr val="ffffff"/>
                </a:solidFill>
                <a:latin typeface="Verdana"/>
              </a:rPr>
              <a:t>	</a:t>
            </a:r>
            <a:r>
              <a:rPr b="1" lang="ru-RU" sz="3600" spc="-1" strike="noStrike">
                <a:solidFill>
                  <a:srgbClr val="ffffff"/>
                </a:solidFill>
                <a:latin typeface="Verdana"/>
              </a:rPr>
              <a:t>Чудная весть о Христ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Wonderful story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me ag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story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ke the immortal strai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и жизнь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ло другим скаж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gels with rapture announce 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epherds with wonder receive 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ner, O won’t you believe 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story of lov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нгелы радостно п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дных направили к ц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ик, отвергнешь уж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весть о Христ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nderf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nderful story of lov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чудная весть о Христ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onderful story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gh you are far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story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ill He doth call toda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звучит о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умолкает зва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alling from Calvary’s mount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own from the crystal-bright fount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en from the dawn of cre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story of lov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до начала тво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уготовал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ой примите в смир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весть о Христе.</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nderf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nderful story of lov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чудная весть о Христе.</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Wonderful story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provides a r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story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all the pure and blest,</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несёт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нас зовёт домо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st in those mansions above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ose who’ve gone on before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the rapturous chor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story of lov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где Христос со святы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третимся мы с дороги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петь будем с ни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весть о Христе.</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nderf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nderful story of love.</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чудная весть о Христе.</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8:54:36Z</dcterms:modified>
  <cp:revision>3</cp:revision>
  <dc:subject>Slavic hymnal Гимны веры христиан, hymn 260</dc:subject>
  <dc:title>Wonderful Story of Love / Чудная весть о Христе</dc:title>
</cp:coreProperties>
</file>