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E00-3661-4EFD-9C06-F9920E4E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B88-D15D-4BDA-ACA1-703A7C0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FEC-836E-40BE-90B7-E95E6459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F29-9B00-4174-8351-FBADC8ED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FD7-19B9-4409-82AB-9DAFF77D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4F2-B43B-4F77-8CBE-543BDB0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464-6D11-4D94-A7DD-572BA49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89A-708E-4A00-B13B-7722E917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FDE-2B87-4A62-97D2-BA857490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003-8538-4530-9CB1-05379D5E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788-B1D8-48BE-80BD-2E25C85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503-6ED5-4396-A89C-8FE8FF1C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AE704-0216-4227-9733-BADD1F3E29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rolls up His sle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n’t just putting on the ritz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thunder in His foot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ghtning in His fis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a  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wasn’t j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kicked ’em out of E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n’t for no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ed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return is very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you better be beli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sky was star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void of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poke into the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eated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gement and wr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oured out on So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us at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ope that we hav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quickly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27Z</dcterms:modified>
  <cp:revision>13</cp:revision>
  <dc:subject>The Source, song number 418 (as modified)</dc:subject>
  <dc:title>When He Rolls Up His Sleeves / Our God is an Awesome God (Awesome God)</dc:title>
</cp:coreProperties>
</file>