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48D-4BB7-446F-9F02-91A687D0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BD9-C989-4E6B-8376-3FCF547C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ADA-1D9F-4578-9A9A-93918C25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FD4-05F0-4DB1-A524-D88796B2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5E8-1797-4496-A108-370C4AC4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DF3-AAF4-4FCD-932D-E62DA123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92B-1380-4DF5-842C-F52F8C32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486-69B1-4D65-A6E0-0321659D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1D3-0FD4-43A7-86A9-15933A54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35C-9382-439E-BB14-BBCD9CF3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4FB-A8F5-4217-9131-BD660F9D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21F-445E-4C0A-A13D-155E540B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94CB2-AD7A-4FAC-AAC8-1925BFBE40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urvey the wondrous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which the Prince of glory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richest gain I count but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our contempt on all my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, где Божий Сын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знаю греха по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того, что поч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bid it, Lord, that I should bo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 in the death of Christ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vain things that charm me m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acrifice them to Hi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храни меня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славы не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виг Твой, чтоб смерт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 венцом моих пох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, from His head, His hands,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 and love flow mingled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 e’er such love and sorrow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thorns compose so rich a c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 любовью, Ты,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страдал и пролил кр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ражды, среди уг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the whole realm of nature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ere a present far too sm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so amazing, so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mands my soul, my life,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я целый мир от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ар мой был бы слишком м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 за любовь Твою я д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! Я Твой всёцело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4:07Z</dcterms:modified>
  <cp:revision>12</cp:revision>
  <dc:subject>Slavic hymnal Гимны веры христиан, hymn 868</dc:subject>
  <dc:title>When I Survey the Wondrous Cross / Когда я поднимаю взор</dc:title>
</cp:coreProperties>
</file>