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6E1-C218-48CD-AC0E-60A3C44A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D32-710D-4C00-8D86-1604D922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099-2DCF-489F-816B-B243B09F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461-DDC1-4613-B343-30B1254A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AA3-F38D-44F0-8026-FA0E707C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539-047E-4668-9AF6-2214F49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447-713A-41AF-9E71-7196168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265-DD38-4F5D-A6DE-C597A3F7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0EC-C65A-4A66-801F-DB59729E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78B-7A93-4A98-BD94-1E2EA0D5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54B-F95A-48A6-A3B6-2784CD3C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052-A0E4-42F5-B28B-FED253F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BF066-FC97-4BA4-84AB-73C2A253D6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ть чертог наслажденья для малых дете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ам Спаситель туда их приня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небесною радостью их осия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леко от греха и скорб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чертог наслажд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ети ангелам вторят спасённой душ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авя жертвенный подвиг Хрис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гнец Божий, избавивший их от грех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л им видеть Свой образ жи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их в доме Отца Своего водвори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лебом жизни питает их С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т уж голода их искуплённым сердц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навеки его утол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поит их спасительной, чистой вод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их водит по дивным луг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кружает дарами, любовью свя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нимает их детским уст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9:31Z</dcterms:modified>
  <cp:revision>13</cp:revision>
  <dc:subject>Slavic hymnal Гимны веры христиан, hymn 767</dc:subject>
  <dc:title>Есть чертог наслажденья</dc:title>
</cp:coreProperties>
</file>