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0397-2E91-43F0-BD27-5ABF5D38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850-7D79-453A-A5E1-9ED423A9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07F-2E38-43F9-AC44-1701439D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A34-230F-4AC4-9BD7-3211C23A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F0A8-F050-4E1C-A04E-4A8DFC90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156-1125-48D1-946D-FAA09796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B06-B88E-42B7-8E52-59BA7745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BFE-8822-4F66-B89D-01D2CF1E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AE0-C7EB-47CC-9B22-4BBB32F5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5CE-D4D1-473A-89F8-44A96EB6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F29-4BD1-4EFC-B33F-E1E65D45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000-9F4A-44D4-9C13-C7A0A6F5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70FCA-2410-45FD-AD60-E65FE57E9F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, кто хочет без сереб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жий дар спасенья, вечного добр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лушайте, идите и спешите взя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о, что Бог всем хочет д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ь берёт, кто хо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ходи, бери, бедный друг, скор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ыне день спасенья для души тво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втра будет поздно, уж не будет зв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льше Божья благод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, кто хочет! Путь Божий пря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стинно, правдиво слово Бога к на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ё, что обещает, Он в любви да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ищий духом да прид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6:13Z</dcterms:modified>
  <cp:revision>14</cp:revision>
  <dc:subject>Slavic hymnal Гимны веры христиан, hymn 382</dc:subject>
  <dc:title>Пусть берёт, кто хочет</dc:title>
</cp:coreProperties>
</file>