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C56-47B2-4D66-85BF-D44BA330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902-A3D3-4BB5-8709-B4C3CFF2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A3B-AA18-4D9D-B416-8D601A8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266-C9C6-4459-92CD-7C5A75B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EFE-2443-4FE9-A5E9-A40E42C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119-C58B-4D58-8908-FD2F4689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2B2-5E77-4C99-987D-84BE36C7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1D4-56B6-4188-AE54-004939AC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934-E614-4D03-A01E-885E15B3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117-2B19-4274-A64E-84E3BB5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E61-9BBC-4EDF-866D-4209389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9FA-CE75-4841-9574-DE57CA9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A5A8-7027-4A75-80D7-80494833D6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ndered far away fro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s of sin too long I’ve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sted many precious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repent with bitte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ired of sin and stray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rust Thy love, believe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29Z</dcterms:modified>
  <cp:revision>13</cp:revision>
  <dc:subject>Slavic hymnal Гимны веры христиан, hymn 432</dc:subject>
  <dc:title>Lord, I’m Coming Home / Вдали от Бога я блуждал</dc:title>
</cp:coreProperties>
</file>