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175-2D12-419B-85B9-4D9B7A25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3A0-C456-4CD8-83AD-18C2E00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200-A958-4F9F-A19E-C8BEAB65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C03-09D4-4B9F-A8FA-923909AA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4FF-0245-4533-977F-22B99461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C39-3911-4AD2-A39F-3A129689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539-48F9-4A24-A1FD-2322E615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106-FB1A-4628-B76B-6F8FB6B7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C9A-16BF-4EA7-AB08-1C5D8AE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A20-6A2C-4102-B071-127FD0A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155-3FC0-4E49-AF74-E22977E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6AA-CD06-44DC-BFB5-7200DA6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0E938-42E9-4EDC-BAD9-3DCD6D592B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oming to earth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in power and love to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ns of His coming multi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ning light breaks in eastern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, for the time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to claim His chosen b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redeemed and pu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is whole earth scattered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’s dominion will then b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sighing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shall the dead in Christ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ght up to meet Him in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these glories meet our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 and true would He find u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in gladness and not in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3Z</dcterms:modified>
  <cp:revision>13</cp:revision>
  <dc:subject>Slavic hymnal Гимны веры христиан, hymn 323</dc:subject>
  <dc:title>What If It Were Today? / С неба Спаситель придёт опять</dc:title>
</cp:coreProperties>
</file>