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5493-7D07-4FD3-9DA2-DB2CADBE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E31A-5CCC-4CF4-952D-8F47E526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A9E-6903-4CF6-B2AA-284AD322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1287-D888-4915-A395-C74C4748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21AA-5370-428D-A1EE-1668A230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55AD-939F-4DB7-B15E-41EC73E1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CC9B-7DD7-4901-8A34-E47E2485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4EA1-D9F1-4AA5-B94A-4F8FCB92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F72D-58E8-46C2-A0F1-EC840391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5D81-F85D-47AD-873A-2F59423C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A570-0AFA-48F9-9B2A-AA1C1F8B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FE47-4C33-4613-95A0-0D90D84F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CB02E-872F-46E1-81C8-44966EA654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57200"/>
            <a:ext cx="9372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dear and precious Boo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it’s worn and faded n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ch recalls those happy days of long a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I stood at mother’s kn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her hand upon my br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 heard her voice in gentle tones and 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3   Книгу Божу маю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Книгу Божу маю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Хоч старенька вже во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Дні пригадую минулії давн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ній моя мати знайш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Дар спасіння у Хрис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е забуду я часу щаслив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4572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essèd Book, precious Boo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 thy dear old tear stained leaves I love to loo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 art sweeter day by d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I walk the narrow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leads at last to that bright hom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, свята і ж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Книга Божа! я люблю, люблю теб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и звернути не даєш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царство Боже нас ведеш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край, куди прийме Господь вас і м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457200"/>
            <a:ext cx="9372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she read of Jesus’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He blessed the children de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He suffered, bled and died upon the tr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 His heavy load of c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she dried my flowing t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her kisses as she said it was for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ам’ятаю: про Хри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се читала мати т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к любив, страждав, вмирав Він на хрес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 уважно слухав вс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ам’ятай, за тебе ц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―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Говорила мати ― ти Його люби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4572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essèd Book, precious Boo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 thy dear old tear stained leaves I love to loo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 art sweeter day by d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I walk the narrow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leads at last to that bright hom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, свята і ж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Книга Божа! я люблю, люблю теб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и звернути не даєш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царство Боже нас ведеш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край, куди прийме Господь вас і м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457200"/>
            <a:ext cx="9372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ll, those days are past and g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their memory lingers st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e dear old Book each day has 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gui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 seek to do His wi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my mother taught me th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ever in my heart His Words ab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е давно, давно я чу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ле слів тих не забу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мені ця Книга ― світло на шлях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 слова Христа любл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се вперед за Ним ід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о до щастя хочу вічного прий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572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essèd Book, precious Boo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 thy dear old tear stained leaves I love to loo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 art sweeter day by d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I walk the narrow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leads at last to that bright hom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, свята і ж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Книга Божа! я люблю, люблю теб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и звернути не даєш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царство Боже нас ведеш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край, куди прийме Господь вас і м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1:15Z</dcterms:modified>
  <cp:revision>12</cp:revision>
  <dc:subject>Slavic hymnal Гимны веры христиан, Ukrainian hymn 73</dc:subject>
  <dc:title>Книгу Божу маю я</dc:title>
</cp:coreProperties>
</file>