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4A0-141E-4A58-8870-B52717AA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DE1-C32C-4190-B3B0-FE36A2B5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D16-2576-4071-AC02-582598D3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D5C-FE12-4B63-93D5-7BBACDCC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6F1-FAE0-470F-8A01-83D52E41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C92-9B4C-4208-AC52-58F88D8B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E7EA-2A24-4E31-BAA6-F8A17F8D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2261-6B13-47EE-B109-D3E53B13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A658-42A0-4B11-98D3-E7BDF7B5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9364-8CC7-4CFA-996E-26406412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2AB-A253-4F9C-BF9A-CB49CAAD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78A3-42B1-4821-8CBC-0A3FA135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4CF54-A464-4A1F-8C76-F8CF80399D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the mercy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lory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chose to redeem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orgive and rest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call us Your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osen i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holy and blam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glory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1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h, the Mercy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iou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y and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be all glory, honour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and ever and ever, 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the richness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depths of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m is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orgiveness of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ed us as righte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destined i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praise of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cluded in Chr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iou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y and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be all glory, honour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and ever and ever, 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the glory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xpressed in His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image and lik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vealed to us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lan of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leted in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e be 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erfected i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iou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y and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be all glory, honour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and ever and ever, 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5:13Z</dcterms:modified>
  <cp:revision>11</cp:revision>
  <dc:subject>The Source 2, song number 914</dc:subject>
  <dc:title>Oh, the Mercy of God</dc:title>
</cp:coreProperties>
</file>