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CF1-289A-4F81-B1FF-004CE236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6FA-F5AB-4AF0-83BF-5C0C3282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A3E-5B44-4A3E-B05A-7AD125B7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F6F-902B-455B-9960-0DBCD11E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D60-C6C8-4AE2-B363-36E32608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AB1-116A-43FF-97C4-E57E7ECA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D68-36F0-471F-8BC7-07E0AD27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BAE-41C9-40F3-8374-2FD6348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3A1-B02B-4AB0-AA9F-F66D8173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A73-C3CE-4BBA-AD1F-DB74D94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ECC-297A-49FE-AD47-5ED118C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ABA-EDAC-4366-BFFE-2029E2D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E77B6-020B-49F6-85D9-53CE24269C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 Господь в чертог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Он Сам теб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зовут, ты зов не откл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ждут, туда, туда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ен пир в чертоге золо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Господь зовёт быть гостем в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и дверь не запе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открыл Спаситель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огих грешников принял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ещё есть место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мыты кров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овёт — омоет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, входи! пир этот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а там веселием пол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частье там, вся радость, о,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ты голосу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у дня не долго уж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ная тьма готова всё объ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ночь, закроются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ый вопль услышишь ты т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места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ворены вра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19Z</dcterms:modified>
  <cp:revision>12</cp:revision>
  <dc:subject>Slavic hymnal Гимны веры христиан, hymn 344</dc:subject>
  <dc:title>Есть место, есть!</dc:title>
</cp:coreProperties>
</file>