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202-DF58-4356-956B-5285D00B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B56-F03B-4121-A592-88F1AA2D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2BC-9200-42FC-9423-50A2F623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8CC-AD22-40A4-B006-244D9DF8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B5B-DCF1-4378-9924-F5A8D774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1AC-0289-4E6D-8EB9-8A9E60B9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732-0912-476E-9B16-750AF407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6C2-B5DE-4E8C-903B-995D2E58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507-4D36-4E36-B265-BF9E89B2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7AA-9576-4DF0-972E-EB9F3E73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E54-A339-4CFB-8A61-3035C9DD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92C-2A06-4E03-9FD7-7D356F74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4BB9B-091B-479B-B2C9-4F236E07A0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l by woe oppres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as for thee He suff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Him and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Христа взи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Ему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призы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и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amid the g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rystal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е, в царстве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 позаб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griefs He car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sins He b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Him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стра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л твой грех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 Его сло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ldier in the f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battle thick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 thine armour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й за Ним вступ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битва з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 не уны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y foes be m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y strength be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hall conqu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уша б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а пред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победа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kies are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m seas have their dang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iner, bew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 о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си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рит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joys are flee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as they c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дь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вд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пребудь, о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d the toil and h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ill come the 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Master’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свершай ты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ой день конч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ёшь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uests are bid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feast is spr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footsteps t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ука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ит п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щи тво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, amid the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endless f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will sing His prai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shall not be l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и жг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твой у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няют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 Христа крас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14Z</dcterms:modified>
  <cp:revision>13</cp:revision>
  <dc:subject>Slavic hymnal Гимны веры христиан, hymn 363</dc:subject>
  <dc:title>Look Away to Jesus / На Христа взирая</dc:title>
</cp:coreProperties>
</file>