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3EB0-FA1C-41BF-98DC-4614852C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DE5E-48AA-4405-AE05-B8BB7F7B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3825-22AB-410C-AE48-0F9BC9035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42D8-411B-4522-A766-DDB5541F6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83B0-C48C-40D9-9AA2-CDE8991A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6659-D93A-4BBB-B967-C75CAF7C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47D9-502C-4AF4-A32F-58BC2AF1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E4B7-A58A-4C68-856C-CEB11DD0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0513-C1AB-4BBF-89E4-747E94D6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9EAA-BD6D-4EA0-9FB4-E4D3E39E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5510-4AB1-4E9B-97F6-124F9B1D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74D2-7C03-4FC0-9B63-7CB3770A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4D1E3-59C8-450F-9405-8C962096CD5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ock of Ages, cleft for 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me hide myself in Th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the water and the bloo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rom Thy wounded side which flow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e of sin the double cu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ave from wrath and make me p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лагодатная ск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лагодатная ск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не спасение даё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т греха, порока, з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в ней вижу свой опло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з скалы Христа струё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ьётся ток воды жи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t the labour of my h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an fulfil Thy law’s demand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uld my zeal no respite kn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uld my tears forever fl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ll for sin could not ato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 must save, and Thou al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не мог соблюсть за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был к смерти осуждё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рех преследовал мен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ердце жёг сильней огн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я мог найти по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ишь в скале Христа свя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thing in my hand I br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mply to the cross I cl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aked, come to Thee for dres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lpless, look to Thee for grac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ul, I to the fountain fl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ash me, Saviour, or I d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пришёл к Тебе, мой Бог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был наг и Ты оде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был беден, Ты в уд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л мне дивный Твой чертог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ы омыл меня в кров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сокрыт в скале люб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ile I draw this fleeting breat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my eyes shall close in deat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ile I rise to worlds unknow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behold Thee on Thy thro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ock of Ages, cleft for 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me hide myself in Th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лагодатный Божий с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градил меня от бе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реди горя и невз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мне силу пода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икого я не страшус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век со мной — скала Иисус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0:27Z</dcterms:modified>
  <cp:revision>14</cp:revision>
  <dc:subject>Slavic hymnal Гимны веры христиан, hymn 637</dc:subject>
  <dc:title>Rock of Ages / Благодатная скала</dc:title>
</cp:coreProperties>
</file>