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22C-96B3-45D7-9218-919501D8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E4F-37C7-42D7-83F1-9F4FD041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DF4-060E-4D37-A172-7B6B3EFF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398-F0AF-4971-BC7A-702B80BB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7D5-6AD4-4E81-BB87-10561C2C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EDD-7402-4462-AE10-943794D8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D49-7504-4ED9-BF64-1148B2E8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C61-B070-4AAE-BDF2-77F70CBB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C27-7A7C-4EF7-8558-4BB85BD7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7B6-7090-4294-B69A-B36B025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256-6328-4F15-89A8-EEA625C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F38-2B89-41E3-BB8B-5B9B9EF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EC853-9588-471C-9B53-A4F7691EF9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1   To God Be th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9Z</dcterms:modified>
  <cp:revision>11</cp:revision>
  <dc:subject>The Source 2, song number 1021</dc:subject>
  <dc:title>To God Be the Glory (My Tribute)</dc:title>
</cp:coreProperties>
</file>