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FE52-888C-4271-9F28-5204FD19D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D8A9-CA7B-413B-A612-96DF51A3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FAF1-8109-4E0A-A296-1C79D247C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0133-5ED7-4D43-9E1B-E53F46FAD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8B84-534E-465B-9D6E-522C8483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D730-59E6-40AA-8D22-F0392529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B28C-9132-4691-BC0B-3F337DD1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5B24-F47D-41F8-824E-FFD0B32C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CF6F-E0E6-4EF3-8584-2FB11020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2D6D-5319-42DF-964F-0A84D2AF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2B10-4717-4822-B97F-E4F11624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EA19-8C38-4CD5-B7F9-E151309B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5BCC4-8D84-4936-A3EF-95FA74AC408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hy kingdom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use of Thine abo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hurch our blest Redeemer sa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is own precious b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блю, Господь, Твой д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, Господь, Твой д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тог любви Тво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церковь из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ных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hy Church, O G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 walls before Thee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r as the apple of Thine ey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raven on Thy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, предвечны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церковь — Твой алма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как зрачок лучистых гла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шь её пор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er my tears shall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er my prayers asc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r my cares and toils be gi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toils and cares shall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церкви доро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раньи душ жив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ываю сердцем и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в мольбах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yond my highest 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prize her heavenly way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 sweet communion, solemn v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 hymns of love and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рад иметь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щенье духа с 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ти все тяжести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рест её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Thou Friend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Saviour and our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hand from every snare and f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great deliverance b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и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Церковь Сам в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илы всё здесь поборо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Твой покой во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e as Thy truth shall l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Zion shall b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rightest glories earth can yie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righter bliss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, разде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й славу я Тв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й буду петь перед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ою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11-26T21:33:50Z</dcterms:modified>
  <cp:revision>14</cp:revision>
  <dc:subject>Slavic hymnal Гимны веры христиан, hymn 561</dc:subject>
  <dc:title>I Love Thy Kingdom, Lord / Люблю, Господь, Твой дом</dc:title>
</cp:coreProperties>
</file>