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F0D8-8FA5-444D-953F-8B9905D26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2E63-9CAE-4812-9200-FB033146F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EBE3-1A52-4C09-90B7-4474648E6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57AF-892E-4A99-B1BC-B54D912A5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606F-22B6-4915-A0E6-AD4A8B134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5DA5-705D-4299-A090-C5029DD74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2AC9-A468-4355-B9B1-0B43262D7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0CFF-2DFB-4D6C-9C8E-129CAF391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F870-E150-4812-8DBE-3BA438B5F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3BC2-B23E-4519-8567-10E75B45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5F9D-26CB-4D99-B58E-28FA5EAA4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3B66-B2B3-463B-9F35-97EBB8DC3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2FBE85-256F-4E1C-93B8-DF840CE97D2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other year is daw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ear Father, let it 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working or in wait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other year with Th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9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од новый наступа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д новый наступае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Боже, удос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руде иль ожидань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жить сей год с Т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other year of progr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other year of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other year of pro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presence all the d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д новый — год созна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мы здесь не одн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обре иль в испыта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 нами во все д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other year of serv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witness for Thy lo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other year of tra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holier work ab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д новый — год служ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любви и просто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год приготовл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ь с Ним на высо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other year is daw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ear Father, let it 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earth or else in hea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other year for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д новый… Новый жреб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нам дай, лю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сей земле иль в не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ь только для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1:26:15Z</dcterms:modified>
  <cp:revision>12</cp:revision>
  <dc:subject>Slavic hymnal Гимны веры христиан, hymn 894</dc:subject>
  <dc:title>Another Year Is Dawning / Год новый наступает</dc:title>
</cp:coreProperties>
</file>