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47E-204C-441E-9E27-EB49DADA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916-7210-4630-8373-8BCCEF6B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E48-C756-46A7-BFE8-24E7D1CA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D75-0BBA-4E21-9EF5-A5E13DD1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89F-F7C5-4EC0-A629-159B981C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150-5DF9-4B0D-B568-1D36AD7A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57A-CA81-4243-BC28-2D6A6838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2C7-3879-45AE-B6D8-8E3C421A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291-1E7C-4B00-9E38-3719DB5A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294-976A-48F3-BFDA-94DA9360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405-3AE7-4BC1-ADA3-4EACF285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429-DEEC-495E-96BA-0BC2D1DE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6D001-9679-4CD6-9F2B-2486FF1727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’twill be, what joy ’t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uls from sin set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 on earth will all be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’ll be home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радость, радость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радость,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жизн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там в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ealms of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ill be nothing to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re we still must burdens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we’ll have up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ерьте, робки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чной радости к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, грустно в мир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спасенье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ee of life will ever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of life for us will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gone our mansions to prepar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we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дерево с пл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пасителем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избавивший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ит в любви С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does say there’s just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through heaven’s d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don’t chose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ll face an awful f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а узкая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нам д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ею не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мы умр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hoose Christ,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ears may often mar your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aints in glory you wi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our God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уть узкий избер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ть мы слёзы здесь проль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в блаженстве вос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onquered death and banishe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’n He’s led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appearance can be near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a glorious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рассеяв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 вели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чистых, светл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варя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5:37Z</dcterms:modified>
  <cp:revision>13</cp:revision>
  <dc:subject>Slavic hymnal Гимны веры христиан, hymn 661</dc:subject>
  <dc:title>What Joy ’Twill Be! / Ах, радость, радость будет там</dc:title>
</cp:coreProperties>
</file>