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AF8-3B2D-4F09-BFC5-5FEBC60B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A8A-A32D-49E7-B6EF-3884285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38D-3055-40F2-A4C2-1B18BC0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7E9-5A12-428A-8950-5D099325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AEB-9B5C-4677-B110-783EE7D3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E00-982B-44DE-8891-3180279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5E1-C292-43A0-8428-E459E7B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68D-0BC7-4948-9DCA-7B8177FE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0AD-3072-4935-BF89-54ED6D80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999-8602-4619-93A8-59141D7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D63-C234-4809-8FC8-092F89B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58D-D61E-4FAD-B8BA-F7B8FB6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1BE9D-F87C-4AA7-9623-0F9A6A77D3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49Z</dcterms:modified>
  <cp:revision>12</cp:revision>
  <dc:subject>Slavic hymnal Гимны веры христиан, hymn 896</dc:subject>
  <dc:title>Господь меня хочет сделать</dc:title>
</cp:coreProperties>
</file>