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78F-31C4-4217-9947-169F0DC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9C1-7188-4890-9B99-25AF9AA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87D-3FFE-4BFF-8158-8270C93F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B41-750C-4405-9D00-BBD07736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AF8-932E-41FC-AFF8-4A2DE13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582-E909-42E2-A4D2-AC217126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6A4-2868-4876-9627-1D9BF578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184-D50C-4DED-9FDE-DAE2C6E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A34-35CE-470A-B20C-1A468E0C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00-AABD-43D9-8CE4-268A31D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203-0CD0-45AE-BE4E-9CA6761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CFF-72F3-4787-B388-7BBD9E7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EC50F-7939-40B6-8803-341A33B9E6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84   К Тебе, Господь, прихож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при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рность свою при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то Ты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ем Ты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ьму из жизни за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ом правды Своей вос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олезни мои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5:20Z</dcterms:modified>
  <cp:revision>11</cp:revision>
  <dc:subject>The Source 4, song number 1884 in Russian</dc:subject>
  <dc:title>К Тебе, Господь, прихожу (Я благодарю Тебя) / I Come Before You Today (Thank You, Lord)</dc:title>
</cp:coreProperties>
</file>