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09DB-0B2A-4A27-87D1-0F1030541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CB23-C777-4C5A-8D08-EDC7ABED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60E2-5C39-4EA4-80ED-8789F086F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30BA-798C-4E5B-A886-E9CE0E465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0F2E-0DDB-45FE-A0B8-E93ADF7B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EB17-56F7-4EF8-BE31-C323041F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C1F8-5AB5-4233-9636-72884025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9DD9-FF98-4260-8748-003FE724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10A7-06EE-4C56-BC65-F07084E2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297E-0D54-486E-B7B5-FE5EE68C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140B-D39D-4EC3-8F90-2B2BB2F2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ACFC-8BE8-4A3C-85E2-7B66EB60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348722-30F2-4F47-B6CE-22C2F7B4D34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может зар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утро начн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лнечный лу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возь туманы пробь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Иис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лноте Своей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рать от земли С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1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ыть может зарё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околе Господ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оспоём мы тот гим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н грядёт к нам, Аллилуй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может и в пол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в час полуно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езапно увид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наши оч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удет ид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с источником св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зять от земли С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околе Господ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оспоём мы тот гим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н грядёт к нам, Аллилуй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инства Божи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а спуская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ши спасён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Грядущим сливая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вместе 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ют песнь хва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зял Он с земли С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околе Господ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оспоём мы тот гим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н грядёт к нам, Аллилуй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радость т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йти без страда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боли неду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мук умир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с Господом в сла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восхищён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Он возьмёт С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околе Господ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оспоём мы тот гим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н грядёт к нам, Аллилуй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52:55Z</dcterms:modified>
  <cp:revision>13</cp:revision>
  <dc:subject>Slavic hymnal Гимны веры христиан, hymn 315</dc:subject>
  <dc:title>Быть может зарёй</dc:title>
</cp:coreProperties>
</file>