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576-9461-4A1A-9CD6-26D5EE27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27B-9B5D-486D-939B-EA79EC17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A11-411D-4B88-A2CD-B42B0AF3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E46-5355-4C89-8182-88E9670E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063-9FCD-48A4-9B35-3D7BD4F0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90E-6C03-4672-9504-072F0071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926-43A9-40D2-9EED-509ED608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890-8050-47EB-A30A-0F5485EC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475-B55A-40EA-9850-AB2E6448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1F5-87A0-458B-AB4E-9FA7ACF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203-6894-4D49-AB68-311E0C4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5C0-23E0-4CE5-AAFC-46422CC2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11B07-1EBC-44BB-938B-0A19556906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, wayward sin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Him, He call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the source of every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will grant an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9  О, приди заблудший греш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заблудший греш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исус тебя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всяких благ спосп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у Он прол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ho long for inner clean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pray and His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r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 and re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our sins and all your bur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foot of the cross now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hrist Who died on Cal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forgiveness now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ть, грех, сложи всё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одножия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дёт благ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, друг, от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ho long for inner clean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pray and His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r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 and re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the light has shone for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ir sins to the cross have b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rich and for the ne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salvation Christ has w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сияет уж для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кто грех слож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богатых и уб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пасенье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ho long for inner clean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pray and His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r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 and re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05Z</dcterms:modified>
  <cp:revision>16</cp:revision>
  <dc:subject>Slavic hymnal Гимны веры христиан, hymn 369</dc:subject>
  <dc:title>Come to Jesus, Wayward Sinner / О, приди заблудший грешник</dc:title>
</cp:coreProperties>
</file>