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98A-6DD8-4D4D-9612-155C655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B11-F35F-4192-BF2C-C4DBAA1F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982-A7F1-45CE-AC5D-7B6A239D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38D-4F48-4A0B-8173-77DA88B5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0F5-8053-467E-A250-B4F9A1C1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611-B568-49FF-8835-FCBFBA9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978-2F47-45F3-9FAD-3AD41081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D2C-3CBA-4245-A5F6-5C1B3BFE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C2E-CBF5-47FE-8820-6AE4DF3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078-275A-48DD-8A33-CD522D1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AC7-9570-49BB-B891-9638B18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D3C-D171-4DA8-A188-8E010D31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5CF2-F2E1-4843-918F-B0D7BF773F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sins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burden of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y them deep in its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ou wilt find a r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thou art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y sins are like crim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as the snow they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are the words of th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repent and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are willing to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t His hand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 healed at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st to the peace-speaking v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 sinner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let the angels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5Z</dcterms:modified>
  <cp:revision>13</cp:revision>
  <dc:subject>Slavic hymnal Гимны веры христиан, hymn 356</dc:subject>
  <dc:title>Come to the Fountain / К водам живым поспешите</dc:title>
</cp:coreProperties>
</file>