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99</a:t>
            </a:r>
            <a:r>
              <a:rPr b="1" lang="ru-RU" sz="3600" spc="-1" strike="noStrike">
                <a:solidFill>
                  <a:srgbClr val="ffffff"/>
                </a:solidFill>
                <a:latin typeface="Verdana"/>
              </a:rPr>
              <a:t>	</a:t>
            </a:r>
            <a:r>
              <a:rPr b="1" lang="ru-RU" sz="3600" spc="-1" strike="noStrike">
                <a:solidFill>
                  <a:srgbClr val="ffffff"/>
                </a:solidFill>
                <a:latin typeface="Verdana"/>
              </a:rPr>
              <a:t>Наш Всемогущий Бог</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Наш Всемогущи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арит на небес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 вечный Бог, и Он жив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людских сердц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 Сущий, и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емля и небе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д Ним сливаются в хвал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голос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Наш Всемогущи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любовью повел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 праха встать, Его иск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йти в уд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менчиво нам всё:</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атство, слава, вла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в Нём одном душа наш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ую част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оклялся Он С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мненью места н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их возьмёт Он в мир и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ебесный св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кажет нам Свой л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лавим мощь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всём Он дивен и вел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всего.</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Поёт хор незе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наш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ец и Сын, и Дух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 рода в р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 Всемогущи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спешим возн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ренье и мольб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у и честь.</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0T10:29:28Z</dcterms:modified>
  <cp:revision>3</cp:revision>
  <dc:subject>Slavic hymnal Гимны веры христиан, hymn 99</dc:subject>
  <dc:title>Наш Всемогущий Бог</dc:title>
</cp:coreProperties>
</file>