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740-D83A-4D69-8431-E2254397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5ADA-81E3-4E45-81FE-821344EA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584-E6E9-46D7-A56F-1CCC8110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D12-0ECF-46C2-9E5D-9AC352BB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E08C-DF12-4F77-B0CF-80982F21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9E52-E869-40E5-957D-CDC67DC5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6A1-2918-4F31-8271-5A872A79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18F7-CADC-4032-A785-7B489590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B2D9-EF99-429C-A141-B8027642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EF4D-DA36-46FB-9CF4-A1A1DA0A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FD96-7801-4122-9402-7FB7EC5F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49C2-665C-4B8E-97DC-73C690C8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66279-F98E-476A-8226-BE8222E7472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al Father, stro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se arm hath bound the restless w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bid’st the mighty ocean d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own appointed limits kee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ец Небесный, только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Небесный, только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ержись промыслом свят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крощаешь ураг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послушен океан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ear us when we cry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se in peril on the s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деснице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ывущих по морю люд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hrist! Whose voice the waters h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ushed their raging at Thy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alkedst on the foaming d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lm amidst its rage didst slee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Ты ― Бог долин и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которые бег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и наши с давних п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егчают всякий труд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ear us when we cry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se in peril on the s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деснице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щих, едущи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st Holy Spirit! Who didst br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e chaos dark and ru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id its angry tumult c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ve, for wild confusion, pe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Ты над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голубь, крылья простир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свет не гаснет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удрость избранным давал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ear us when we cry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se in peril on the s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деснице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тящих в воздухе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rinity of love and pow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fam’ly shield in danger’s h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rock and tempest, fire and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tect us wheresoev’r we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 жизнь и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людей от всяких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им разума и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радостно спеш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evermore shall rise to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 hymns of praise from land and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валенье воз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оре, в воздухе, в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4:30Z</dcterms:modified>
  <cp:revision>12</cp:revision>
  <dc:subject>Slavic hymnal Гимны веры христиан, hymn 875</dc:subject>
  <dc:title>Eternal Father, Strong to Save / Отец Небесный, только Ты</dc:title>
</cp:coreProperties>
</file>