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62D-EB3B-469F-B104-5B1A6C4F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CAE-040D-4F8D-876E-D7BDA83A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04A-F694-45F4-AFD3-B91620F9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D97-54A1-4C1A-B599-D9D9169B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87A-EED8-426D-80B5-C6278FFE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2C2-E667-4E91-B68E-11F6482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3DA-DA38-4030-97CA-F32A3777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6A0-DBDD-4480-BE66-3407E288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2D0-BC74-4EDC-99E6-D8AFFA39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CAC-FB0F-44D3-A217-F0F2BF46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788-A33B-4C36-B45C-F22D08CA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EA4-571E-4BA4-B0E3-1E74E68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38CC6-0A27-4EF7-9C03-07FD0E63B5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ужог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уждал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зов, вста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 чуж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ны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ди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свобод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путь грешной во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бит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сил от б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запр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ежь дверь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Мой полн прив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и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ю грязь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гр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пе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, обилье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ви в надеж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как и преж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32Z</dcterms:modified>
  <cp:revision>12</cp:revision>
  <dc:subject>Slavic hymnal Гимны веры христиан, hymn 353</dc:subject>
  <dc:title>Из чужого края</dc:title>
</cp:coreProperties>
</file>