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6AC7-E01A-4A53-B077-EF608100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237-F181-4452-AEC9-E7A9AF61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E25C-81E1-4AA5-8C66-78927ACE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1CA-5045-423C-89FF-B5E9D609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2C2-2F3F-4DB9-917C-305AEBDA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E7A-F4FE-4077-8A37-585BD4AC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8F4-9D0E-41E8-A1FC-8C6013FD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65C-1608-4B9D-BFFD-DECA1D3C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F58F-CA2D-46DA-BB0F-072383D3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341-863E-42EC-9EBF-38722E26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4E8-5C1F-49DA-B60F-815D07E0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4D1-9189-4DCE-9AD7-E7D7776D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D4493-973E-4B2D-8D11-D83A03F299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к тебе Странник и в дверь стуч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е твоей Гость святой тверд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чах Его свет, речь дарит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привет Он душе боль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ёт к тебе Стра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Он войдёт, где приют най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ый мир и любовь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Гость дорогой Сам Спаситель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вью смыл тяжкий грех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хочешь идти по Его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ртог святой за Христом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ь — значит милость Его при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один может всех спас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0:53Z</dcterms:modified>
  <cp:revision>12</cp:revision>
  <dc:subject>Slavic hymnal Гимны веры христиан, hymn 355</dc:subject>
  <dc:title>Идёт к тебе Странник</dc:title>
</cp:coreProperties>
</file>