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C3D-B762-4E33-A2EB-6244FFBA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D46-F96D-4832-A5D7-5D4CD1AF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393-856D-4226-BF8B-81E581B9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48A-EF8B-4425-A5E0-5C7712E6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C7C-9C53-4397-B788-090CDB6C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4E9-2AF2-4EFB-92EF-21FC798F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405-9C4C-4BB4-AFE2-B251F80E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D5C-7279-4098-9B42-7626B3FD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3DE-7CF4-44C4-A54F-714632A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F9F-F648-42E0-94F7-635C005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AC5-6589-45BD-90FC-08C7297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F21-B11C-43E8-A6A7-3A436EBA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F5EA2-B5BB-406F-9264-852CBDDEE7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сгущаетс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ым становит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корби души и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амень, ложатся на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вает, сгущается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так тян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и кости бол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ует душу и взгл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ы благодатна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к небесной С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адость и скорби м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хожу ль на высоты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ду ль одиноко во мг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9:49Z</dcterms:modified>
  <cp:revision>13</cp:revision>
  <dc:subject>Slavic hymnal Гимны веры христиан, hymn 844</dc:subject>
  <dc:title>Бывает, сгущается тьма</dc:title>
</cp:coreProperties>
</file>