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B5F-F517-40FA-8319-D945080A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8D5-C252-4917-9C29-6B622D23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5BD-5D4B-458E-B6BD-F35F6EA0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BF0-4A4D-4545-8A81-64E38658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897-0514-499E-9AE5-F332D350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6F4-D7E0-4EEA-A56D-8801664D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EB2-B903-4E62-B039-0BB6A95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ADB-ED3C-4ABC-B1BD-87CE0A4F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E17-746B-422B-8ACB-FAC1D4A0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6F5-E2C8-4DFC-B865-366147EB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FD9-01EA-4133-AF60-7C66D90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C5F-65CE-4FC2-916B-46E72956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A5211-4E2B-4D80-8F71-4DC2C0AD89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8   О, який я є р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01Z</dcterms:modified>
  <cp:revision>12</cp:revision>
  <dc:subject>Slavic hymnal Гимны веры христиан, Ukrainian hymn 58</dc:subject>
  <dc:title>О, який я є рад</dc:title>
</cp:coreProperties>
</file>