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04E-D797-4958-936D-397D8948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E6E-1FCC-4619-9ABA-46A2D614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407-21FB-4883-960C-3AF09120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6D2-DE3C-4EF6-9595-85C3BC95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E91-5D02-4088-A393-C23E9D74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AC5-6B48-413F-BB96-94C371A2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149-E503-4FEC-AF43-18C1AB31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AF1-727B-4A26-9665-2293073D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1F7-C388-41D2-BCFC-4A7414DD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D9C-F67B-49FF-A60D-CF431044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7A2-F2B1-4A51-8E9A-CACD3B4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1E5-03D0-412E-9FFD-049E144F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A08A2-5DF9-4BF7-B1D2-97329F5A5F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ve that wilt not let me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my weary soul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Thee back the life I o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n Thine ocean depths its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richer, fulle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я вечная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я веч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влечёшь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юсь тебе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безмерной глуб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се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ght that follow’st all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yield my flick’ring torch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restores its borrowed 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n Thy sunshine’s blaze it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righter, faire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вет, что следуешь за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оптящий факел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яркий вер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из страны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ветел и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that seekest me through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close my heart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ace the rainbow through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l the promise is not v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rn shall tearless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, что в душе м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ла ужас бурь и гро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день и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там, где Царь 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тьмы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ross that liftest up my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are not ask to fly from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in dust, life’s glory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rom the ground there blossoms 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that shall endless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рест, хотя внушаешь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ез тебя мне нет ве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всё кладу во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я к славе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6:26Z</dcterms:modified>
  <cp:revision>13</cp:revision>
  <dc:subject>Slavic hymnal Гимны веры христиан, hymn 831</dc:subject>
  <dc:title>O Love That Wilt Not Let Me Go / О, Божья вечная любовь</dc:title>
</cp:coreProperties>
</file>