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35B9A-7057-4C63-968C-2BDBF3334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7EE90-2719-4704-A3D8-78D484F8C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F1EB0-4166-4134-AB7F-C8BD00244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06D12-2D6A-4B42-B879-823AA97E8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84015-9DC1-4147-B7C7-62156BAAF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6D1C0-FBC8-42A7-8074-9A4BECA61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F24A9-82F0-42A0-94F7-53D7031D6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04CBA-F25A-4CB4-89D6-9D1D2DEB3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CAB78-2E39-406E-ACC2-AB7C70A46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8E382-0719-45B9-B9B9-7E02836B7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B4897-540F-4430-B94C-D64FE7FF1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0B30A-D094-4E72-AB85-E95863297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AED9C8-8BAD-4CC5-A294-F005173BAA48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аго есть славить Господ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еть имени Твоему, Всевышн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звещать утром милость Тв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стину Твою в ноч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796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Благо есть славить Господ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возвеселил душу м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, Господь, Тебе хвалу по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ела Твои велики, мой Отец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мой Господь, Ты мой Творец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возвеселил душу м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, Господь, Тебе хвалу по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ела Твои велики, мой Отец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мой Творец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и, Ты защита мо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— мой Бог, Ты — твердыня жизн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д землёй небеса, высо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а Твоя вовек век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возвеселил душу м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, Господь, Тебе хвалу по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ела Твои велики, мой Отец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мой Господь, Ты мой Творец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возвеселил душу м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, Господь, Тебе хвалу по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ела Твои велики, мой Отец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мой Творец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звожу мои очи к гор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зношу мои руки к неб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познал, что Господь мой велик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милость Его над всей землё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возвеселил душу м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, Господь, Тебе хвалу по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ела Твои велики, мой Отец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мой Господь, Ты мой Творец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возвеселил душу м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, Господь, Тебе хвалу по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ела Твои велики, мой Отец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мой Творец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2:35:23Z</dcterms:modified>
  <cp:revision>12</cp:revision>
  <dc:subject>Slavic hymnal Гимны веры христиан, hymn 796</dc:subject>
  <dc:title>Благо есть славить Господа</dc:title>
</cp:coreProperties>
</file>