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287-F16B-4641-AB72-4FCC3FA7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7F6-8472-47C0-A11D-0D5387A9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7AA5-128A-43D8-B237-BFB13846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6F2-3E04-4397-B5B3-4B94639C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ED3-8DDB-4A9F-B3D4-DB52CB69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6C4-B22B-448C-9CE6-E32C04A7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2A6-F3C9-47F2-B7E1-E924BC17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15C8-B5FA-4124-B8A0-C703E0B6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5E48-321D-49F3-8BA9-198081EE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1B6-9294-4231-BDA8-C2A37DC2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725A-9CB0-4F5C-9BF9-4EF8273E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1E2-1A76-47F3-8D87-19EBA14B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ED8E5-C6F8-49E6-B765-DCA383BE5F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друг,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есть, во всех грех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врачует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, сбрось свой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ободрись сло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: «не изгон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пред Ним все 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боль греха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друг, к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предайся во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ишь слушай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излечит вск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й нечист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Его проли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ешь исцел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в ней омы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ешь ввек спас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свой крест и следу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узкий за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я за Ним, не сету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ачь ты под кре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путь к вечно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ти ты до кон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найдёшь в отчиз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7:20Z</dcterms:modified>
  <cp:revision>12</cp:revision>
  <dc:subject>Slavic hymnal Гимны веры христиан, hymn 378</dc:subject>
  <dc:title>Приди, друг, к Иисусу</dc:title>
</cp:coreProperties>
</file>