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0</a:t>
            </a:r>
            <a:r>
              <a:rPr b="1" lang="ru-RU" sz="3600" spc="-1" strike="noStrike">
                <a:solidFill>
                  <a:srgbClr val="ffffff"/>
                </a:solidFill>
                <a:latin typeface="Verdana"/>
              </a:rPr>
              <a:t>	</a:t>
            </a:r>
            <a:r>
              <a:rPr b="1" lang="ru-RU" sz="3600" spc="-1" strike="noStrike">
                <a:solidFill>
                  <a:srgbClr val="ffffff"/>
                </a:solidFill>
                <a:latin typeface="Verdana"/>
              </a:rPr>
              <a:t>Любовь Господню описат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Любовь Господню опис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могут всей земли сы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а превыше дальних звёз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лубже адской глуби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нас опять к Себе при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лал Бог Сына в ми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рукой снять грех люд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готовить пир.</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Господня вели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а, чиста, силь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чезнет мир, пройдут ве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не прейдёт он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сему придёт последний д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емные царства упад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равнодушные тепе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иться в ужасе начн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нет конца любви Твор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змерной и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имает грех, спасает всех,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ней всечасно п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Господня вели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а, чиста, силь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чезнет мир, пройдут ве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не прейдёт она.</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огда б в чернила океа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пергамент небо преврат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в перья — все былинки тра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м живущим поруч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Господню описать,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тало бы черн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свиток, равный небе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го бы не вместил.</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Господня вели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а, чиста, силь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чезнет мир, пройдут ве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не прейдёт она.</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7:45:27Z</dcterms:modified>
  <cp:revision>3</cp:revision>
  <dc:subject>Slavic hymnal Гимны веры христиан, hymn 50</dc:subject>
  <dc:title>Любовь Господню описать</dc:title>
</cp:coreProperties>
</file>