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9F8-7DA8-477C-B17F-AEE1F223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77E-7CF4-416B-BD12-E717A1B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027-E1B0-49A7-B15F-2DE40BB7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C73-9573-42E9-ABB3-0AFAFFC3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5B7-78AB-45C8-97CA-C111568A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56C-1C56-4073-8B87-3D5CA4B1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DDC-A304-45E6-8BE4-B7361C3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180-08B7-497A-82A9-8E3062A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E88-DDB6-422C-9F86-C89A424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91D-FB58-4F1A-B1C3-7D52BE8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826-02FC-4B0E-829A-0B5F5AC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8AC-4E92-49C4-8CDD-67EFBAB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C140-2977-4A8E-85F7-77D071E4B1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к земле нам обетованной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ёт нам Своё насле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о славе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к победе при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 уз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ожий за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ся через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ся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лах, а не в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 свер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ерой невозм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вучит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с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 мы, но по благодати мы 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ценный Дух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ша плоть сл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й сла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ляет силу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да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30:10Z</dcterms:modified>
  <cp:revision>11</cp:revision>
  <dc:subject>The Source, song number 438 in Russian</dc:subject>
  <dc:title>Ликуй, ликуй! / Rejoice!</dc:title>
</cp:coreProperties>
</file>