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127-2591-4439-8F30-87634AF2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818-A143-4391-B5E3-358C8D27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C70-582B-4169-AFE4-1F8D9417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D64-ED31-4198-9DC1-F7E33B28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2A0-A645-4AF5-B211-E2851A55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5E1-AA1B-435A-AE4C-B6AE8166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41C-46C4-49D0-86B5-475E5D3A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29D-622E-4AB1-B992-2F7549A7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2C1-EDD3-4252-B8E1-DFB9215B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370-C222-4C69-ABA3-09A8B887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9BE-06E7-4234-BD9D-D185C4BF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EBA-62AB-4AE9-B5ED-DC6FB8AC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4F333-D17D-4237-A146-24E47187FE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паситель стра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душно гляд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кровь проли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ль тебе всё рав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шь ты на страдаль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ертельной тос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чело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рновом вен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онзённые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ь на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Господь уми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грех на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овольно Он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знал ли в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егла на Н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ощеньи м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 у ног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обитель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Отца С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к время беж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ж скоро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жизнь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жается веч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суда встрет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омытым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станешь пред Б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тый сты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ответ, не мол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страшно, вед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пасн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еши к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цепи пор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гласу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 Он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ию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15Z</dcterms:modified>
  <cp:revision>12</cp:revision>
  <dc:subject>Slavic hymnal Гимны веры христиан, hymn 354</dc:subject>
  <dc:title>Иль тебе всё равно?</dc:title>
</cp:coreProperties>
</file>