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F387-6B69-45B2-ACE2-914DEDBC1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83D2-32D5-4C34-BC3C-318521D8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A35A-D0D6-494A-8CE6-F191E9C2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EE39-004A-4448-B0AB-3CF4288B8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6811-538D-4F16-9C67-09D5985E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68D8-AB5A-46C2-B933-1C7B260F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8E08-70BC-4F4D-9C02-8040258C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7806-A0FB-47BA-8390-528BD592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02D6-84BF-4295-AA02-0744659B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0664-C42C-44A3-9018-41A1BCF6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D45E-2C9B-4986-BD43-55F3A63A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675F-C1A2-4504-9F84-565E6AFB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D094D-BD4F-4706-8D1F-DD3E820F677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pour out Your Spi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 all the peoples of the ear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sons and daugh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eak Your words of prophe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nd us dreams and vis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veal the secret of Your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our faith is ri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all heaven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oming of Your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974   Lord, Pour Out Your Spir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gonna be a great awake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gonna be a great rev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our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gonna be a great awake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’ryone who calls o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y will be sa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pour out Your Spi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 all the nations of the wor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m see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m fall in rev’rent aw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w Your mighty p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ake the heavens and the ear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the world is wai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creation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oming of Your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gonna be a great awake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gonna be a great rev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our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gonna be a great awake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’ryone who calls o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y will be sa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7:24Z</dcterms:modified>
  <cp:revision>12</cp:revision>
  <dc:subject>The Source 4, song number 1974</dc:subject>
  <dc:title>Lord, Pour Out Your Spirit (Great Awakening)</dc:title>
</cp:coreProperties>
</file>