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7BD-305A-4348-A738-A29A94B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8B3-34FF-41E6-A359-BB38E18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C21-83FC-44BC-AFA8-C41FB48A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22D-D062-4057-94C3-EDD21CEF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C99-5AE4-422C-AFDF-352E5BAD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EA5-DC83-49FB-99F6-5DA1400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2AF-41C8-415F-A5B0-3C240BFD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B32-D6C3-49E3-A5FF-DA4A979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5B4-5D89-47DC-B520-22FD6D6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CB9-BE98-454F-80B1-7123723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23A-41A7-4A6E-B601-909A717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06D-2190-49F1-8F1D-642C552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BD265-E8FD-4271-95BD-C233C52280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15Z</dcterms:modified>
  <cp:revision>12</cp:revision>
  <dc:subject>Slavic hymnal Гимны веры христиан, Ukrainian hymn 68</dc:subject>
  <dc:title>Там далеко вже видно той край</dc:title>
</cp:coreProperties>
</file>