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73BE-BD22-4EE0-A186-8FF27F98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0705-F2D4-4212-9F52-E99F10E6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A0D-2A08-43B2-9073-C9538CCF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57A8-9221-4193-AFB4-64C52598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1432-A008-4887-9525-B7CC46C9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823E-1546-4923-B696-586E95C2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00E-50C3-4261-8D35-120B26D4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FFF1-B44F-48BE-9003-CADF9104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64C0-B3E4-42EB-A843-12430243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8253-B2FF-4FE0-839D-826FEEE8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D87-908B-48BC-94A7-04B50FAE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CD87-1664-4782-92D8-39EF0147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38019-6EB7-46CD-AF4F-D31281F483A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not skilled to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od has wil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od has plann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only know at His right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ands One who is my S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80   I Am Not Skill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ake Him at His word and d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died to save me, this I 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my heart I find a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Him to be my S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would leave His place on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ome for sinful man to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ount it strange, so once did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I knew my S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 loves, my Saviou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’s always ther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He was, my God He 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He’s always gonna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living, dying, let me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trength, my so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is sp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who lives to be my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died to be my S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would leave His place on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ome for sinful man to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ount it strange, so once did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I knew my S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 loves, my Saviou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’s always ther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He was, my God He 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He’s always gonna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 lives, my Saviour lo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 lives, my Saviour lo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4:24Z</dcterms:modified>
  <cp:revision>12</cp:revision>
  <dc:subject>The Source 4, song number 1880</dc:subject>
  <dc:title>I Am Not Skilled To Understand (My Saviour, My God)</dc:title>
</cp:coreProperties>
</file>