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A410-DC3A-481A-9AFC-4E49EF4A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17F5-017C-420D-81F0-0743BDAF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F6D6-2547-4915-969A-10927E63D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3332-BF85-4279-B3A8-764ED0EE2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D12E-7D5F-47F7-9258-4C3A93C2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DEE7-CA56-40C3-AEBF-160634D1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4DA4-8A54-4817-9D51-00486C5B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A073-91B0-4214-A4BF-F8E38455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E444-E5A1-4E3D-916B-D497F68E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4FA9-0278-4EA1-AB2A-575DCC9E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A013-C056-4270-873B-DB286365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A8F3-1433-45C2-9E0A-22ED1E5C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07EFE-24B7-4CD0-97C2-DDBAF8BBFF0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долеют тебя испыт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непосильной устанешь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плю за каплей из чаши страд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ить будешь, упрёки бросая судьб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адай душою, судьбу не злослов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вера, надежда,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одолеют т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твоё сердце заноет тос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упят страданий тяжёлые д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ова душа не услышит к по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ей не скажет: «Иди, отдохн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спомни, что греет и душу и кров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вера, надежда,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игнет ли в жизни утрата как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лачь безутешно о ней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й, участь начертана свыше так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шенье сбылось неземного с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 утешенья ищи и даров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ера, надежда,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рпенья не станет, ослабнут ли си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умане сомнений потонет душ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евизом иди ты до самой моги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жизнь и в страданьи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ош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й большего счастья не мо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ы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яться, верить, лю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5:25Z</dcterms:modified>
  <cp:revision>12</cp:revision>
  <dc:subject>Slavic hymnal Гимны веры христиан, hymn 702</dc:subject>
  <dc:title>Когда одолеют тебя испытанья</dc:title>
</cp:coreProperties>
</file>