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70E-DF67-4F5A-9BCE-C0736DD7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907-B617-4458-971D-058B3738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966-6E0E-4348-B276-BD433A48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5B7-E9D5-4575-9B1D-0E0D0D23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05E-1B3A-4601-A1E8-FCBD2D34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B14-A8D6-448B-8E9C-44AC94E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FFE-2B5E-4252-B8BF-E35F6B8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662-0FE8-4BF1-9BDE-6F013BC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116-A0FE-453B-8FBC-A332BDF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D69-E2F3-48C5-8129-D115B7D7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601-20A3-4AF6-866A-AAD1D40E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00C-1B56-40DA-8099-8741024D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F05A1-DAA5-4932-8AAF-2505AE3639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iftly all our days go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anish without t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oon as one day runs its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takes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9   Як скоро дні біж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коро дні біжать впер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тихо по черз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наш Господь прий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рати нас дом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knew and trusted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ing in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promised vict’ry o’er the 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ed pea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в, і надія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бував в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го візьме Він в віч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будуть всі свя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nal hour of life wi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enter my eternal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ich I’ve yearned since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й для мене 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лідний час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ий дім От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no doubts, for I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t the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ear nor be dismay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has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серця вірю, що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візьме в то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ой славний день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вічно з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0:04Z</dcterms:modified>
  <cp:revision>12</cp:revision>
  <dc:subject>Slavic hymnal Гимны веры христиан, Ukrainian hymn 69</dc:subject>
  <dc:title>How Swiftly All Our Days Go By / Як скоро дні біжать вперед</dc:title>
</cp:coreProperties>
</file>