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FD4F-99C9-4228-BB38-736FF6C7D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BFBA-B945-4B5D-85A2-379BC832E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56ED-6C1D-4A11-84F3-CA342954A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FFE1-08D9-4924-A299-98F476D18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77DB-F59D-4636-B3CF-013730522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2E9B-E471-4198-8F9F-734302FDB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101B-D050-4E63-AD39-87BE78170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4032-4008-4C08-967B-F98B7F98B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FA27-2DF3-4A33-A3D5-CEC7FCE37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137D-BB3C-42C5-A6AC-EDEC0399D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1EE9-69C3-40A9-9817-93E15B3B6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F336-C1D5-4F69-8906-FC04681FC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0B9987-A34C-4650-9C65-379A4C5ADF9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Одинокий, забытый, чужой человек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Не ропщи на суровую долю свою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осмотри на бездомных, больных и калек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На великую в мире страдальцев семью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Каждый с горем знаком, своё бремя несёт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уть проходит вздыхая, иль тайно скорбя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И, барахтаясь в тине житейских забот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Людям времени нет посмотреть на теб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0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динокий, забытый, чуж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Тяжело, тяжело одинокому жить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Но ещё тяжелее не верить в людей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Замыкаться в себе, втихомолку тужить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Опасаться врагов и бояться друзе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руг, забытый людьми, не забудь же о Том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Кто тебя призывает в небесный Свой до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Ободрись, не ропщи, молчаливо страда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И лишь Богу в тиши свою скорбь излива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 испытаниях земных доверяйся Ему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Он скорбями тебя приближает к Себе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Изгоняет из сердца неверия тьму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Со Христом даёт мир и в житейской борьб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23:06Z</dcterms:modified>
  <cp:revision>13</cp:revision>
  <dc:subject>Slavic hymnal Гимны веры христиан, hymn 709</dc:subject>
  <dc:title>Одинокий, забытый, чужой человек</dc:title>
</cp:coreProperties>
</file>