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E42D-04EC-4049-B64C-B1AC92847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C4FF-050D-4431-B90B-FB7DC9A8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50F3-1EBF-44DB-BA62-0AE8528F5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F5AD-E1DE-4734-973F-B9595C3A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CFC2-6065-4329-8D94-739175DE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1F84-9329-4781-A7DE-79087BB6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136E-78A4-4D9A-BFC9-E8361030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FB44-8C8D-47B1-9ACB-11545E1F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941C-65DB-44C7-A1C1-52A49665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A8D1-5980-426E-9606-6E70064E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AD52-40DF-4194-97D2-E6C69E27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3107-5744-46BE-A399-8C5C5C6A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3D6AA-7F85-478D-886F-13403C80351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the seed by the daylight fa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the seed by the noonday gl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the seed by the fading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the seed in the solemn nigh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hat shall the harvest be?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еется семя на ранней за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на ранней за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в полдневной жа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, как ляжет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, уж кончен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удем пожинать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430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n in the darkness or sown in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n in our weakness or sown in 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ed in time or etern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, ah, sure will the harvest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ветлый иль сумрач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иле иль слабости в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рана здесь или там в небес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ая жатва ждёт впер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343080"/>
            <a:ext cx="100584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the seed by the wayside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the seed on the rocks to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the seed where the thorns will spo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the seed in the fertile soi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hat shall the harvest be?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на торной троп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на голой ска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в колючих куст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паханных борозд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удем пожинать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3430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n in the darkness or sown in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n in our weakness or sown in 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ed in time or etern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, ah, sure will the harvest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ветлый иль сумрач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иле иль слабости в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рана здесь или там в небес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ая жатва ждёт впер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страданий и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мучительных гр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позора,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обид и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удем пожинать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3430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n in the darkness or sown in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n in our weakness or sown in 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ed in time or etern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, ah, sure will the harvest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ветлый иль сумрач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иле иль слабости в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рана здесь или там в небес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ая жатва ждёт впер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3430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the seed with an aching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the seed while the tear-drops st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in hope till the reapers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adly to gather the harves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hat shall the harvest be?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, хоть сердце бол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, хоть слёзы блес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вере до славной по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обирать уж начнут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удем пожинать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3430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n in the darkness or sown in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n in our weakness or sown in 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ed in time or etern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, ah, sure will the harvest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ветлый иль сумрач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иле иль слабости в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рана здесь или там в небес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ая жатва ждёт впер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03Z</dcterms:modified>
  <cp:revision>13</cp:revision>
  <dc:subject>Slavic hymnal Гимны веры христиан, hymn 539</dc:subject>
  <dc:title>What Shall the Harvest Be? / Сеется семя на ранней заре</dc:title>
</cp:coreProperties>
</file>