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0</a:t>
            </a:r>
            <a:r>
              <a:rPr b="1" lang="ru-RU" sz="3600" spc="-1" strike="noStrike">
                <a:solidFill>
                  <a:srgbClr val="ffffff"/>
                </a:solidFill>
                <a:latin typeface="Verdana"/>
              </a:rPr>
              <a:t>	</a:t>
            </a:r>
            <a:r>
              <a:rPr b="1" lang="ru-RU" sz="3600" spc="-1" strike="noStrike">
                <a:solidFill>
                  <a:srgbClr val="ffffff"/>
                </a:solidFill>
                <a:latin typeface="Verdana"/>
              </a:rPr>
              <a:t>Господь нам щит</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O God, our Help in ages p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r Hope for years to c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r Shelter from the stormy bl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our eternal Hom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осподь нам щит из рода в р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только Им жив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через бури нас ве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ыл нам вечный до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Under the shadow of Thy thr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till may we dwell secu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ufficient is Thine arm al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our defence is sure.</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д сенью крыл Его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верчивым серд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ей могучею ру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правит миром Са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Before the hills in order st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r earth received her fr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om everlasting Thou art G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endless years the sam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еличьем небеса облё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место массам в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века Он всесильны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от же в род и род.</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A thousand ages in Thy sigh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re like an evening g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rt as the watch that ends the nigh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fore the rising sun.</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Десятки тысяч лет пред 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мимолётный д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Им стоит, а мы лет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ходим, словно тен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Time like an ever rolling strea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ars all its sons a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y fly, forgotten, as a drea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ies at the opening day.</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Могучий времени пото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ешит с собой ун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их сынов, своих рабов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х жизнь, дела и честь.</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6.</a:t>
            </a:r>
            <a:r>
              <a:rPr b="0" lang="en-AU" sz="3200" spc="-1" strike="noStrike">
                <a:solidFill>
                  <a:srgbClr val="ffff00"/>
                </a:solidFill>
                <a:latin typeface="Verdana"/>
              </a:rPr>
              <a:t>	</a:t>
            </a:r>
            <a:r>
              <a:rPr b="0" lang="en-AU" sz="3200" spc="-1" strike="noStrike">
                <a:solidFill>
                  <a:srgbClr val="ffff00"/>
                </a:solidFill>
                <a:latin typeface="Verdana"/>
              </a:rPr>
              <a:t>O God, our Help in ages p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r Hope for years to c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 Thou my Guide while life shall l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our eternal Hom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Хранитель наш от юных л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гда будь нам вожд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укой Своей чрез тьму и с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и в небесный дом.</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8:44:10Z</dcterms:modified>
  <cp:revision>3</cp:revision>
  <dc:subject>Slavic hymnal Гимны веры христиан, hymn 40</dc:subject>
  <dc:title>O God, Our Help in Ages Past / Господь нам щит из рода в род</dc:title>
</cp:coreProperties>
</file>