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ED04-46A1-469C-884F-2EC74A11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C8FD-7F54-498D-8B80-FC95C61A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2695-25F9-4F1B-B8CD-C214C713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091F-3DCB-4B8B-BAD1-B4F8B089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7941-BC44-49CF-9640-715ACA3C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5D8C-2167-4990-AD42-0ECC9770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CFFF-0249-4FC2-86DA-48F427D9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2739-E75E-4E3E-AEC5-A6FD361D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ADB6-692A-4AA4-955A-CAE65695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2548-9616-4648-8E73-FDBD12EC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FC79-4D79-46A6-B662-A235CFCC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8CF6-C5FC-46B6-9194-44F92E6C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70101-5130-437A-8F24-57800250D04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пробуждения, нет покая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е души блуждают в потьм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есто рассвета везде увяд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есто спокойствия — ужас и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огрешили, о Господи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ю Твою заменивши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ленные ценности стали дор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х сокровищ и славы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т пробу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к нам придёт, если мы нерадив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с полюбит, коль души тем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засорили нечестием нив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удные дочери, дети, сы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, Всевышний, на нас Ты в оби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заслужили возмездий Твои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лишь чистые сердцем увид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мудрыми девами будет же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наша с каждым мгнов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оч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жидает нас всех вперед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исцели наши уши и 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покаянья в сердцах проб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каявшись, мы покая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и другие сумеем заже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жалься над нашим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стоя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страни Твой карающий ме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7:59Z</dcterms:modified>
  <cp:revision>12</cp:revision>
  <dc:subject>Slavic hymnal Гимны веры христиан, hymn 780</dc:subject>
  <dc:title>Нет пробуждения, нет покаянья</dc:title>
</cp:coreProperties>
</file>