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C17-017B-4011-A0E2-CDB7CB3A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379-84B6-44D4-B63E-393B6938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ED6-97D8-4A97-B20A-FF72D4C8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223-7DC4-484E-A56A-1FA104DD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C2C-74E6-43A7-8F7E-78326E86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AE6-E372-4DDC-AB4A-AF133358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42B-2F9A-47AF-8827-F09A8948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D87-A292-4419-80BE-E3B9AA33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33C-4210-4F42-A4EC-DF26264C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B3B-52FB-490D-B051-872E496C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193-7A3B-4267-9489-1E8DA12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4CF-FD88-4031-B08C-BCE8C7B7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CEE20-B8DE-4D06-9765-B907998FB1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радость,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жизн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там в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дерево с пл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пасителем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избавивший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ит в любви С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радость, радость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а узкая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нам д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ею не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мы умр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уть узкий избер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ть мы слёзы здесь прол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в блаженстве вос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рассеяв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 вели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чистых, светл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варя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ерьте, робк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чной радости к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, грустно в мир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спасенье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38Z</dcterms:modified>
  <cp:revision>12</cp:revision>
  <dc:subject>Slavic hymnal Гимны веры христиан, hymn 661</dc:subject>
  <dc:title>Ах, радость, радость будет там</dc:title>
</cp:coreProperties>
</file>