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DA91-DE19-43B7-9AB5-6A4B22B5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A3CF-9C78-4221-8557-3DE25AC8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3035-5D34-4279-9D10-3F7B2E675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EE03-0295-4732-857B-C072077C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21A6-9408-4F7C-8A1E-9C718B68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EBDF-6A47-465A-A5D1-6E7A0507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20DC-E857-49BD-BA24-080EC227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5782-8161-4E76-8E9B-43BDCA8D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F26A-57C0-453B-BEFF-259AC07E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257A-0D5B-4D20-8CAE-217FEB04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B8C9-5D7B-4AF5-969C-3CEDD830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EEFF-8CD7-4BF2-9DA1-AC174497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47F95-E246-4B96-9917-D7BFF1A38D4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 бурях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твой удруч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чами уны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твой омрач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сколько мил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иться буд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ли в бурях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Господни вспомин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их, до единой, повтор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как Он щедро надел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иться будешь, что Он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емя ли, з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уше ле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яжкое ли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тяготи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как вспомн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есёшь г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росишь все сомн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ёшь хвал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Господни вспомин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их, до единой, повтор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как Он щедро надел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иться будешь, что Он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ишь ли бога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ами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есть сокровищ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ую нужду воспол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а доро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, что Бог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Господни вспомин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их, до единой, повтор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как Он щедро надел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иться будешь, что Он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ись же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ю Его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и побежд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амяти все мил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хра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йдёшь отр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ном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Господни вспомин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их, до единой, повтор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как Он щедро надел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иться будешь, что Он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1:41Z</dcterms:modified>
  <cp:revision>13</cp:revision>
  <dc:subject>Slavic hymnal Гимны веры христиан, hymn 718</dc:subject>
  <dc:title>Если в бурях жизни</dc:title>
</cp:coreProperties>
</file>