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962F-51B2-4685-95F6-AC709EA2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A1F7-C8B1-4708-8BEC-DA60D652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2C32-A2E5-4D2C-8D24-B652D9026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7172-A047-477D-870C-0629C8224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0F91-A860-4A2D-907D-BAFC2B18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FAB3-B3BF-423A-B27A-E30651D5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D68F-FC9A-4A12-878A-9B55500A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E730-0975-4B9F-9FB4-858D9946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05D7-D454-4020-89C5-51A7D914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6671-BA21-4040-BDD6-A1A846E0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1EA1-BF4A-4758-9B22-B6DAFCAA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FAFF-622E-4A52-A097-BCB0DB16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D3659-A527-4D01-BCEC-EFF8C4A3312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волхвы с востока и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яв дары, не глядя на тру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пустыню к Божью Сы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ий кончают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ая волхвов звез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ветила им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щая, ободря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еди к нога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т, волхвы с востока иду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флееме Царь нам рожд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ом почту Его т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ковечно, бесконе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вать будет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ая волхвов звез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ветила им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щая, ободря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еди к нога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адан в дар несу я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небес пришёл в нищ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опенья и мо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идут к Н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ая волхвов звез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ветила им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щая, ободря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еди к нога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ирны горькой запах благ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хранит в юдоли 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иновных Умерщвл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перт был в гроб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ая волхвов звез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ветила им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щая, ободря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еди к нога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ен Он, Воскресши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и Бог страдал за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Ему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ая волхвов звез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ветила им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щая, ободря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еди к нога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19:00Z</dcterms:modified>
  <cp:revision>13</cp:revision>
  <dc:subject>Slavic hymnal Гимны веры христиан, hymn 231</dc:subject>
  <dc:title>Вот, волхвы с востока идут</dc:title>
</cp:coreProperties>
</file>