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8DF-CB0B-489A-9221-106DAB99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D0C-E456-4D26-9FFB-FD848C1F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076-55D6-4115-8DE9-5C87B4B4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1B6B-FBA4-4966-A417-65AC6920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C39-D2BB-441B-8105-5EFFCC8E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A481-A37B-4E10-8605-FF65DB85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9E7-D6BB-4FB6-A7BD-73365995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017-A97B-410D-B9D0-E1D4AFBA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FA0-980E-4594-ADDB-22C3406A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CE4-DA7B-4D38-9352-EE5D8D64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B11-9642-49C7-B5DA-47BFDC2C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465-A66E-4C65-85A1-D0414AE1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BE8DC-E263-4056-8757-784156E91D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Евангельскую в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мы пост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я Его прим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, вперёд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Евангельскую ве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рок бой и страшно пл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леблются м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ымите выш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зни равнодуш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пренебреж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им единоду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Его святой зак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ость веры, дщерь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ружно защищ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ружьем Геде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жью силу отра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г правды, труд сур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мело совер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шатры любви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 мире расшир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3:53Z</dcterms:modified>
  <cp:revision>12</cp:revision>
  <dc:subject>Slavic hymnal Гимны веры христиан, hymn 490</dc:subject>
  <dc:title>За Евангельскую веру</dc:title>
</cp:coreProperties>
</file>