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51E-BC8D-4101-9237-D2D32B62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A87-13C2-40D8-8D1B-DC544FA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F98-50E1-4571-8A8B-79624A38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886-B26A-4C38-AF22-867D34DB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585-67C4-49FF-99B3-A1207D8E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80F-0182-4CF9-9ECD-9A95FF8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7EA-1D1F-4C92-9522-30D31F0B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143-A689-4613-9034-92C0B17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13B-B1EA-4F1C-BA58-1C481A6E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C0F-E58C-4506-B493-8F484C86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0EB-3112-4D36-8752-86586E2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951-46C4-48A4-A4E1-BC3FEBEE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AA0C3-4BC4-4558-A908-5C440F25FC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ышине под небе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онко льётся п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поют хо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ржествующей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вышине под небес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ердье возвещ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нас возлюб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ов погиб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с Голгофы устрем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там за нас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за нас стра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венце терн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концом сур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ю грех Он покор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льцам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разрушил узы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крес в день тр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на рас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спойте песнь хва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рил нам жизн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09Z</dcterms:modified>
  <cp:revision>12</cp:revision>
  <dc:subject>Slavic hymnal Гимны веры христиан, hymn 571</dc:subject>
  <dc:title>В вышине под небесами</dc:title>
</cp:coreProperties>
</file>