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309-2317-4367-B7D6-606331BD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C0B-6AC5-4A82-B6FB-AC8C03E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B87-041F-4CF7-8FF5-01B5DD13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0E4-F4E2-44CB-B3A4-43C81680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F79-C238-4B2A-8CC5-25AE3610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1C9-A163-4C1B-A135-E32F04CB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719-696A-4A5D-BD6B-907D42A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DFA-4A00-41D4-8B42-F8D6710A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87B-7870-4DA7-B282-927CD20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1C2-E6CC-4DE7-BFC1-EF033FB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139-6378-4ADA-B328-C405E14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67D-CE96-458C-A6E6-ABFD4DA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3FB51-577C-4A89-9720-FC1CF68BF6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 из тканей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лосердный во мне сотво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ие мехи желаний плот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й десницею Он устран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вое сердце из тка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мысли — Христовы ц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чувства Его полн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радость и новый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жизнь с милосердным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172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умных домах иль безмолвных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раке полночном иль в звёзд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ь дворцы я, вхожу ль в шалаш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всё ново для новой д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е тело осталось о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ж недолго: сотлеет о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тело, бессмерт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навеки Спаситель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весть услаждает мой сл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землю с сияньем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небо без туч гроз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готовил для вер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24Z</dcterms:modified>
  <cp:revision>12</cp:revision>
  <dc:subject>Slavic hymnal Гимны веры христиан, hymn 602</dc:subject>
  <dc:title>Новое сердце из тканей живых</dc:title>
</cp:coreProperties>
</file>