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2</a:t>
            </a:r>
            <a:r>
              <a:rPr b="1" lang="ru-RU" sz="3600" spc="-1" strike="noStrike">
                <a:solidFill>
                  <a:srgbClr val="ffffff"/>
                </a:solidFill>
                <a:latin typeface="Verdana"/>
              </a:rPr>
              <a:t>	</a:t>
            </a:r>
            <a:r>
              <a:rPr b="1" lang="ru-RU" sz="3600" spc="-1" strike="noStrike">
                <a:solidFill>
                  <a:srgbClr val="ffffff"/>
                </a:solidFill>
                <a:latin typeface="Verdana"/>
              </a:rPr>
              <a:t>Видел небо в ден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идел небо в день воскр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оан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лся глас к нему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рг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о был в царском одея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томился в Гефсим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й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прекрасное свети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к си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оанн пред вышней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ахе п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не бойся!» — так, жале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звуч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ос тот, что в Галиле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лых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был мёртв, но труд побе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верш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и первый, и послед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Я —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люч от ада и гробниц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мь звёзд в Моей десни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Да, Он в царственной оде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рас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 смертных, как и пре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ищ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ыл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 виссоне ярч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царей.</a:t>
            </a:r>
            <a:endParaRPr b="0" lang="en-US" sz="3200" spc="-1" strike="noStrike">
              <a:solidFill>
                <a:srgbClr val="000000"/>
              </a:solidFill>
              <a:latin typeface="Verdana"/>
            </a:endParaRPr>
          </a:p>
        </p:txBody>
      </p:sp>
      <p:sp>
        <p:nvSpPr>
          <p:cNvPr id="46"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19:52Z</dcterms:modified>
  <cp:revision>3</cp:revision>
  <dc:subject>Slavic hymnal Гимны веры христиан, hymn 32</dc:subject>
  <dc:title>Видел небо в день воскресный</dc:title>
</cp:coreProperties>
</file>