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853-C345-4072-8450-22DDDB30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3E3-B487-40CF-B54E-2CE99C60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B7B-44DC-47DB-900A-CF01AAFF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1B0-7ECC-4533-A6F8-807176BB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9ED-4F1A-40C0-8326-E03DDDC4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FAC-A9AE-4414-AF90-BB330A3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4CF-A285-4DEC-AE6A-B57AAC3D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E90-CEA0-4525-9080-8BB4578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DD9-A9EF-40D9-92C1-CBEFF2B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02C-A993-4014-8A3F-11395A5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340-7A3C-4137-A01D-955E6E8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624-CE35-47E8-8AA3-E5BA6A9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D59C-8817-439A-833D-8CB02D6E60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7:26Z</dcterms:modified>
  <cp:revision>13</cp:revision>
  <dc:subject>Slavic hymnal Гимны веры христиан, Ukrainian hymn 1</dc:subject>
  <dc:title>Люблю розповідати</dc:title>
</cp:coreProperties>
</file>