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A56-A668-47D9-AD29-0D584CB1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DE2-BBBB-4E3F-A129-4F5FAF0F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D41-E4AC-4B20-8CC7-B9025480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139-4D9E-47EE-88E3-7ADD77C0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EA0-CE43-4992-AD04-EB1FA91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EA5-1B7C-4166-A482-C61D434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EEB-140B-43AE-B213-0BA9BCA5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E9-5074-4564-BE05-710B5583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A1F-B531-4AAE-B1C2-9B78FF5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4BC-DE0F-44EB-AE14-9CF54CC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2DE-D957-4504-8505-7888B907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446-AD50-47E2-AE3F-E3FE143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FD06-7EA2-4DFC-86F5-856780CACA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23Z</dcterms:modified>
  <cp:revision>12</cp:revision>
  <dc:subject>Slavic hymnal Гимны веры христиан, hymn 898</dc:subject>
  <dc:title>Братья могут изменить</dc:title>
</cp:coreProperties>
</file>