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030-7060-427C-9B84-D823076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175-5AD7-48B9-995B-D37445A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156-B899-4124-A22F-3128CD67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15C-458F-4EEF-877E-9D6A5663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CA7-8755-44F3-9D7D-260F6294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330-AF08-4EBC-82CF-47CB60E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8D2-06B9-4B39-B9EE-8F0795B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876-CDAB-4896-B335-741271BD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6AB-15F6-4182-AB32-EFDCF9B7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E4-68B4-4DA3-A9FF-C9DB8DA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B42-B57E-443F-818B-EF042D7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C00-AA8A-4714-9CE9-752BFCE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4805-FB6B-4AE0-BD32-CA95483B60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55Z</dcterms:modified>
  <cp:revision>12</cp:revision>
  <dc:subject>Slavic hymnal Гимны веры христиан, hymn 706</dc:subject>
  <dc:title>Не падай духом, не страшись</dc:title>
</cp:coreProperties>
</file>