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1D4-4704-4640-BD8E-3B6FFEA9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BBE-8AE0-4072-8A69-0BFE6101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EAD-5C86-415D-AB9E-EC14056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520-C398-4D0C-B618-08E761B7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29B-A018-48C6-973F-65861597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69D-6633-4BD7-AA27-68F2C1C1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0DE-FCBD-4518-A1D0-5C43AE04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932-FC0B-41EB-8EA1-CA9251C7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2FA-1347-4894-B40B-67E1C012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6BB-62B5-4C8F-914B-3CA29B7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D1C-CC08-4C6A-815D-782A6D0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482-CB14-47B5-AF0C-398BC3D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9144E-07B5-40CE-9A85-AD2CB67052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47Z</dcterms:modified>
  <cp:revision>12</cp:revision>
  <dc:subject>Slavic hymnal Гимны веры христиан, hymn 885</dc:subject>
  <dc:title>В общеньи с Богом жить хочу</dc:title>
</cp:coreProperties>
</file>