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3A16-929B-4E45-895B-532C5364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DF39-FD96-4631-8F94-4DC5BF94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C58B-2521-41FD-BADF-45D4534B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8FE7-6ABE-4315-96F5-2381884A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DB71-ABD7-42B6-ADDE-A82A29D4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1382-B74C-49A1-8CC3-EC832156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2031-E4E1-4DEC-8923-198276D2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292-1AB7-4264-8903-923F817F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0741-92B6-45B3-BE52-2DDED347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8128-4EA3-4DFC-BE88-B44CDCD1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0C4A-0D78-48C9-9A1F-ABF40ADC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1533-E11E-4261-A0AB-576C59E6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2F709-9BEB-4DA0-9217-918D830A8F8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O Lord, my God, when I in awesome wonder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Consider all the worlds Thy hands have mad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I see the stars, I hear the rolling thunder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y pow’r throughout the universe display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3   Великий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ликий Бог! Коли на світ погля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ачу все, що Ти створив в кра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кожний цвіт склада Тобі поша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к обняв любов’ю Ти усі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when I think that God, His Son n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sparing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Sent Him to die, I scarce can take it i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at on the cross my burden gladly bearing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bled and died to take away my s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зрю Христа смиренного між лю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маю я про Його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ін прийняв за нас усіх нару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а хресті пролив невинну к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покуси серце огортаю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х мій тужить у важкій жур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н пречисті руки простяг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кріплюсь в Його любві свят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8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Christ shall come with shout of accla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ake me home, what joy shall fill my he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I shall bow in humble ador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ere proclaim, “My G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great Thou ar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сподь мене Сам закли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вітить промінь сяєва Його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в смиренні замов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знавши велич Господа с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10058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en through the wo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forest glades I wander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ar the birds sing sweetly in the tre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en I look down from lofty mount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grande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ar the brook and feel the gentle breez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ивлюсь на мерехтючі зорі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, де горять світи незнані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онце й місяць в вічному простор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ливуть в тиші, подібно корабл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весні природа розцвіт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чую я в діброві солов’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апах піль квітуючих вдих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в’ю сповнена душа м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із хмар навислих грім лун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пітьмі ночі блискавка миг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 дощем природа ожив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селка в небі барвно заяс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беру я Книгу Заповіт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Твої читаю я ді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олюбив Ти нас, людей на сві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ля спасіння Сина нам посл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6:17Z</dcterms:modified>
  <cp:revision>12</cp:revision>
  <dc:subject>Slavic hymnal Гимны веры христиан, Ukrainian hymn 83</dc:subject>
  <dc:title>How Great Thou Art / Великий Бог</dc:title>
</cp:coreProperties>
</file>