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F16-ED02-45DD-A8EB-8312E40D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977-C5A2-427C-9E78-DA1688C9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564-77AE-4E2C-854B-AE1EF3CE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A12-D992-4EF9-B788-724F7258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188-D0CE-4F36-B678-AA8D00BD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2AD-5771-487B-8B70-98AE57C2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105-042D-4D65-8150-5C018BAC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16AC-246B-49E2-954D-4D922248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84B-D2F9-4038-BF05-01A2E9B0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585-2F75-44D7-8317-E2AE46A8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678-8D74-4140-BA62-D4E26E43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FE2-AFB5-4072-81BC-6EACB5A8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5D073-1A0F-4990-BD1F-00F07F6EC6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 upon His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how the heavenly anthem dr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usic but its ow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славьте, все,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те, все,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Он на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ликуют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чудесный х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ke, my soul,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died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ail Him as thy matchles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all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душа, и п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спас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Искупитель дивный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Царь твой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the Lord of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His hands and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wounds, yet visibl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beauty glorif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ы глубоких 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на небе сохра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ля жизни 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angel in the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fully bear that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downward bends his wondering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mysteries so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еет сераф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еть на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т голову пред Т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ами в тел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the Lord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riumphed o’er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rose victorious to the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He came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ве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мерть побеж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людей от всех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рука си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ies now w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and ros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eternal life to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s that death may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хвала и ч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― и жив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, чтоб нам жизнь прин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, чтоб смерть поп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the Lord of hea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with the Father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with the Spirit through Him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yonder glorious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го с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Он Духа, чтоб при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hail, Redeemer, ha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 hast di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raise and glory shall not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out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чну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щедротам нет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5:03Z</dcterms:modified>
  <cp:revision>12</cp:revision>
  <dc:subject>Slavic hymnal Гимны веры христиан, hymn 808</dc:subject>
  <dc:title>Crown Him With Many Crowns / Прославьте, все, Христа</dc:title>
</cp:coreProperties>
</file>