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5C2-76D8-4BA9-91FA-FBA7A618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AE1-EAB5-4049-92EE-09D3CD9D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23D-5B35-4205-B513-056E378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D48-1D91-4081-97B2-B018230D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21F-8830-4F9A-AB9D-1372B2DD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064-D429-4FE9-AE7F-E14F8378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CF2-3A40-4CCB-B8FD-C7134E8D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C77-E01E-4A6E-85CB-61F8592B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3A3-9AB8-474F-BC45-C4A48797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010-8579-4E47-A069-A4F4ED6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5D0-73F2-41E6-9F1A-55120D0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6BB-BAD5-42DD-9385-6732934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79BD1-96F1-421E-912C-3BBFE9537A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for the feast is spread, hark to the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living Bread, offered to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His house of wine, low on His br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cl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at He has is thin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дите все на пир! Зовёт Сам Б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вы найдёте мир, там нет трев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покой, и блещет там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ток воды живо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where the fountain flows, river of lif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ing for all thy woes, doubting,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llions have been supplied; no one was e’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ni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crimson tid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 к Христу, к Его стоп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всю полноту Он даст серд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Себе Он примет всех, с души омоет г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убелит, как снег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throne of grace, boldly draw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 would win the race must tarry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’er thy want may be, here is the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thine only plea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ы скорей к Нему теп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н рукой Своей откроет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бретёте в ней, как сладостный 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бвение скорбе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, друзья, в Отцовский д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ют ярче дня святые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нец их там блестит, и песня там звуч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славе Бог царит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9Z</dcterms:modified>
  <cp:revision>14</cp:revision>
  <dc:subject>Slavic hymnal Гимны веры христиан, hymn 352</dc:subject>
  <dc:title>Come, For the Feast Is Spread / Идите все на пир</dc:title>
</cp:coreProperties>
</file>