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C05D-284D-41EF-8B12-F6D263EA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2B77-5853-4209-AB34-576DF94E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A3B0-4905-4E1B-B7AD-BDDDE49F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8501-BC29-4657-ABCE-D66AF09D9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CB5E-AE53-47E0-A2D2-3DE47129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CC99-EA8A-4FF6-A611-6D0CC8E9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20EB-DE5A-4D0C-BA3B-FDF4B701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5833-7676-413A-8544-E76C7DAC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4D76-EA34-4762-92D4-026AD8C3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0B08-9152-4EDF-AD6C-45028724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3655-BD77-499B-B9F0-09B37EFD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CB15-AED1-4587-91FB-C1C50263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74095-6ED8-4CBE-9DE5-572AE1998A9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w in the grave He l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iting the coming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L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1   У гробі Він лежа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гробі Він леж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,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ня слави дожи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,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Up from the grave He aros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ith a mighty triumph o’er His fo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 a victor from the dark domai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And He lives forever with His saints to reig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 гробу Він уст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орожі сили розіг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, нам всім спасіння дар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воє царство вічне вірних всіх зібр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! He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allelujah! Christ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ілуя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ainly they watched His b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ainly they seal the d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L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емно стерег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а в гроб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емно став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амінь й печ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Up from the grave He aros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ith a mighty triumph o’er His fo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 a victor from the dark domai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And He lives forever with His saints to reig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 гробу Він уст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орожі сили розіг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, нам всім спасіння дар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воє царство вічне вірних всіх зібр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! He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allelujah! Christ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ілуя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th cannot keep his pr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ore the bars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L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с смерть подол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скрес у слав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тя нам дар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,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Up from the grave He aros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ith a mighty triumph o’er His fo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 a victor from the dark domai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And He lives forever with His saints to reig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 гробу Він уст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орожі сили розіг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, нам всім спасіння дар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воє царство вічне вірних всіх зібр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! He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allelujah! Christ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ілуя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5:26Z</dcterms:modified>
  <cp:revision>12</cp:revision>
  <dc:subject>Slavic hymnal Гимны веры христиан, Ukrainian hymn 81</dc:subject>
  <dc:title>Christ Arose! / У гробі Він лежав</dc:title>
</cp:coreProperties>
</file>