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6065-BE15-45B2-9B41-0915DF22B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6408-6CD7-40FB-A210-DDDC378F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1F0C-199F-4A7D-A4D9-E4782F34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7F2E-4D96-4717-AD23-FA7D5829A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05A3-2D1D-4D86-8C80-B8E66205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67FA-8333-4F49-AC5E-AA005D31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5A95-CC2B-4A7A-96CE-B4251D08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78FC-B469-4A16-9237-5660F096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0416-5B53-43D4-B272-9FD68A29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855F-7D09-418D-921B-ED6B5EE7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3CA8-3449-4568-BB18-F8BA94A0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3B8D-8D74-483F-A954-8ADE0445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C8181-01EA-4BA4-B2BD-79F92D9AE24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нее небо меня так ма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что там мой Спаситель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 этом мире бесследно к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не будет скорби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это небо, как ты прек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отраженье Божьей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ы взять крылья, чтобы подня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ебывать у Христовой гру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инее небо меня так ман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дано небо Божьей рук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яц и звёзды, и наша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ражаюсь всей красот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лестью неба, прелестью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это небо, как ты прек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отраженье Божьей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ы взять крылья, чтобы подня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ебывать у Христовой гру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влекаюсь неба творе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бываю здесь скорбные д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как бы манишь, друг, не печал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ты Богом дальше хра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это небо, как ты прек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отраженье Божьей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ы взять крылья, чтобы подня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ебывать у Христовой гру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2:51Z</dcterms:modified>
  <cp:revision>12</cp:revision>
  <dc:subject>Slavic hymnal Гимны веры христиан, hymn 694</dc:subject>
  <dc:title>Синее небо меня так манит</dc:title>
</cp:coreProperties>
</file>