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737E-4C3A-4F1B-8BD3-17422EED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31B-2D69-4661-9517-1E080CD4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AD8-1F84-41E8-B932-D44B3620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77F-F10A-4770-BFCD-0F3C4BD8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72D-7EAA-4F11-BDBD-EBD7F566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781-BD64-4561-98A8-491B4032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2A2-B8B9-4075-82A0-78BE5046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220-E4BB-41DE-BAE1-BB9D9184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92C6-79CD-4CE5-8B11-69DA6AC9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F6A3-8593-48ED-8717-A55B83D6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9E8-6CD1-4BF4-A5AC-5872992B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E7F1-070A-42C7-A5FC-3992C7C3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85C8C-B73A-4E62-9D97-2D4C145ACB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жизни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ло светлых надеж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шло много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тобою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Иисусе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ье на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 Нему обраща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в жизни т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тебе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даст мир,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ерь, что Он дас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в сво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грустные мы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ную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ой дух возмущ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людс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частья ты прос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стя и скор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в молитве най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тебе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даст мир,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ерь, что Он дас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в сво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тяжком тру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мученный п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ваясь и по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ью,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 и вспомн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а нас Он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слушен От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тебе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даст мир,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ерь, что Он дас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в сво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15Z</dcterms:modified>
  <cp:revision>12</cp:revision>
  <dc:subject>Slavic hymnal Гимны веры христиан, hymn 516</dc:subject>
  <dc:title>Если в жизни твоей</dc:title>
</cp:coreProperties>
</file>