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A25-3697-4FBE-B862-C54CB617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5D9-C815-40E0-A813-8DBAC2C0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326-F705-4DA7-9ECA-E4A3FB62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5C6-1782-41F5-9709-BF8C9A29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EED-2F92-4C17-A35F-316E7964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820-68FF-4A7B-B3E8-BCC034E1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8F3-5275-4B58-80AB-FB041FE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4B0-8DD5-4011-BA29-C826B18B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909-D0A4-46E6-B3A4-0080038C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1BA-4B75-435D-88E7-F9E7C5C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DD0-744C-4D86-BD45-4614599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7D3-B919-4987-83EE-DF99AAB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EA868-005F-4662-8152-C5E9F87100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род убежища, там за ст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ает беглец молод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он усталый по степи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т он клики врагов за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род убежи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а земле нет, беглец,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ста покоя, ни крова жил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ч, отточенный враждеб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сюду висит над твое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род убежища, тихи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кони мир и соглась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здан для счастья, свободы,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ститель и враг не проникн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54Z</dcterms:modified>
  <cp:revision>13</cp:revision>
  <dc:subject>Slavic hymnal Гимны веры христиан, hymn 331</dc:subject>
  <dc:title>Вот город убежища</dc:title>
</cp:coreProperties>
</file>