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C68-EF5C-463F-8DA6-47DA2935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9D4-34EF-4B07-8E0C-E25CA160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C8D-2898-4C01-9010-EBF57949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CF6-7938-4197-A1A6-B6DAD36E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5D0-1195-4E6C-986D-424A4988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E56-21A1-44F5-BBBF-FF250395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B8B-381A-4BFD-A6C5-4F4EADE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096-51E3-408F-8401-DE8B999A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FDA-8727-4E5D-955F-FD5113F8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29A-CA6C-4018-86FC-C5EADF67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809-BB33-42A5-96F0-5F71063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428-4A72-4944-A0FD-24C6423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C98FC-B532-45C9-928A-55A0502A91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33Z</dcterms:modified>
  <cp:revision>12</cp:revision>
  <dc:subject>Slavic hymnal Гимны веры христиан, hymn 629</dc:subject>
  <dc:title>Я знаю, жив Христос Спаситель</dc:title>
</cp:coreProperties>
</file>