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26A-2D04-4FB1-A23D-C7C04E1C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845-B8D4-4EBE-8A4D-DDFAE989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2DF-F480-4968-9D19-2AB387A1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F91-80BB-4E40-AD0A-0DAC4989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893-AD2E-49D4-A4A3-BC35D951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9E4-AA7D-44CE-AE7B-2D57297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361-80BF-4AF1-B9E2-EB1178BA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82D-E171-4CA7-BACB-A41CAB66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603-3254-406E-8DA4-D93EEFCA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343-9392-4292-BBFE-639CA25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C9F-FEDF-47F4-9F1A-2F56F17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190-EF91-426A-9C4E-BCC46596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12ACC-0AC5-477E-AFE9-789F9C674A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 me not, O gentle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, мій Спа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 мій голос т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війди в моє Ти се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   Не минай мене, мій Сп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at Thy throne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 a sweet rel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eeling there in deep contr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y unbel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престолу милосер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мені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колінах, в скрусі сер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від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only in Thy me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I seek Thy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 my wounded, broken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 me by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Тебе покла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лишай мене нік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моїм житт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, the Spring of all my comf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life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have I on earth beside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in heaven but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є джерелом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сякого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веди мене ру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ямо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5:03Z</dcterms:modified>
  <cp:revision>14</cp:revision>
  <dc:subject>Slavic hymnal Гимны веры христиан, Ukrainian hymn 7</dc:subject>
  <dc:title>Pass Me Not, O Gentle Saviour / Не минай мене, мій Спасе</dc:title>
</cp:coreProperties>
</file>