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214-4E2F-4C63-A61A-9CFFFB3D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72B-0472-4767-A753-C25EDBA0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792-DEFA-43A4-A276-4FB86627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73A-AFB7-4F59-B0C4-5849C1AF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268-5470-444C-AB1E-73554B05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969-C923-4E79-9C48-E31875C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A0A-702F-453B-B889-2537CF79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9A7-B49D-4338-83CA-4DDC5688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846-2B79-479B-BB72-E550C33F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EDA-C5A8-4E4D-A42B-B1B70DA8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872-742A-44F3-B629-6E97A700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ECF-E609-415E-B5E2-FCF9D76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D9336-2B47-40E8-803A-078FBA7C2B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pe of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comfort for all who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hop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ruth in each circums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light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63   Jesus, Hope of the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pe of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comfort for all who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hop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ruth in each circums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light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2:39Z</dcterms:modified>
  <cp:revision>12</cp:revision>
  <dc:subject>The Source 3, song number 1363</dc:subject>
  <dc:title>Jesus, Hope of the Nations (Hope of the Nations)</dc:title>
</cp:coreProperties>
</file>