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2AF5-2B22-469C-BA6A-2314A255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D19D-1FFB-4E01-9EE3-B352AD4B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8290-6058-448B-AB8F-F6C48D27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7BA0-9A53-442F-BCDC-643EA427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644-1693-491D-93C7-7BECAF18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EC17-003B-47E7-A533-9F8A2E86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280D-631D-4C21-AAB4-86892710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E56C-BF24-4A74-A7E5-CE4A7FF8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CC3C-5FDB-4224-8D46-28190425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BC4-A404-4DC5-AD67-1F146487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2345-1F5C-4AE6-B13F-0F8BEDCB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11A9-1A07-4009-96B8-3F1E3C93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76E48-A1E2-4A57-B204-051099C252F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ите к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ины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днимите зн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шего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за побе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ет Бог войс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ов Христа низло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х к Его но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мкните к Иис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ите к Иису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ас на бой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оружье в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вас обл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е страшит вас би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ружий гул и г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за нас сраз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счисленным вра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ите к Иису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 всл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крепость и защи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ерный Вождь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ч Слова обн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побеждайте ст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бодрствуя в молит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стойте на ча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ите к Иису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битвы проле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о день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все оз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енец гото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верен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очет, чтоб на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Ним во славе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1:55Z</dcterms:modified>
  <cp:revision>12</cp:revision>
  <dc:subject>Slavic hymnal Гимны веры христиан, hymn 498</dc:subject>
  <dc:title>Примкните к Иисусу</dc:title>
</cp:coreProperties>
</file>