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976C-01AF-4EBA-A4DB-FBFD09438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8DAE-054C-461A-A406-C56653A9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CE60-3937-4AB4-964E-2315823FB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9033-8B9E-490E-A03D-409DCD8DE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E803-7BD1-4600-AEF7-EA482599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2189-C117-4418-9574-B1CED923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0A05-11E8-4904-84B5-B872EBF4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240F-484D-40B8-B187-C4945B3E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6F08-0830-4EAB-9D0C-2A28E3B0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8952-7EB9-4020-8A5A-A2FE7140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2749-CDD8-4409-956A-3228D2FF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6FEB-C624-4C3E-8ECA-B69E1455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C7D79E-8715-460E-B96B-6962EF9B607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came upon the midnight cl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glorious song of o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angels bending near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ouch their harps of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9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тиши ноч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иши ночной среди по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ночи мрак исче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тели ангелы с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ть песню для люд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 on the earth, good will to m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eaven’s all-gracious King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rld in solemn stillness 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ar the angels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ир на земле! Господь посл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лог любви свят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в безмолвии вним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й песне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thro’ the cloven skies they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peaceful wings unfurl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till their heavenly music floa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all the weary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тают ангелы с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лночной тиши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р несут благую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радостной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its sad and lowly plai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bend on hovering w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ver o’er its Babel s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lessed angels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, где горе, плач и ст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ат они с хвал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глушит наш Вавил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песни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e, beneath life’s crushing lo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se forms are bending 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toil along the climbing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painful steps and s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ы, под бременем заб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гбённые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рудом идущие вперё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е к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now! for glad and golden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swiftly on the w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rest beside the weary ro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ar the angels s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ите, новый день спеш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чудесной быстро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имайте с радостью в ду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й песне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lo, the days are hastening 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prophet bards foreto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ith the ever-circling y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s round the age of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наступают дни, к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ждётся челове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ут и войны и враж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нет славный в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peace shall over all the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s ancient splendours fl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whole world give back the s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 now the angels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воцарится на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олкнет бури 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ьются все сердца в хва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й песне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42:47Z</dcterms:modified>
  <cp:revision>13</cp:revision>
  <dc:subject>Slavic hymnal Гимны веры христиан, hymn 795</dc:subject>
  <dc:title>It Came Upon the Midnight Clear / В тиши ночной</dc:title>
</cp:coreProperties>
</file>