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56A-D8AC-40A9-B499-B29FF6D4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C04-C8DA-4F76-B901-3D24485A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157-C748-4596-9B50-686A4D6D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C51-6511-4CB7-926D-DA128478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0C0-5B3D-4E51-8BEA-50D713CF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D97-57E7-4785-8239-A8860521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8B2-9C01-4171-B530-8A8D09EA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383-7444-45A8-A04A-5C0D9F01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BA9-A4F1-4CFA-81FA-25F99BA5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ADE-EDF1-426B-BCB7-54ADB628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6AD-FCD8-4E13-95E5-114CCA96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D2C-4C11-4A98-895A-91EF1764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7E7F5-24B5-4C66-AE8C-D6252646B9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priv’lege and an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at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esence as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78   You Are H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orthy, O Lord, so worth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orthy, O Lord, so wort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priv’lege and an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at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esence as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faithful, O Lord, so faithf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faithful, O Lord, so faith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priv’lege and an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at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esence as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35Z</dcterms:modified>
  <cp:revision>12</cp:revision>
  <dc:subject>The Source 2, song number 1078</dc:subject>
  <dc:title>You Are Holy, O Lord, So Holy</dc:title>
</cp:coreProperties>
</file>