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D2D-796C-4427-8DF4-50A90A56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CA7-5BAB-4916-A579-42D925E2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58B-235C-40F3-A282-7F4EBCF0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17B-774F-40A3-9E1F-C43BB704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1C0-B898-4467-B7AB-BC04DF0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44C-3AF5-4372-A8DD-C2F1988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D20-F6E7-4536-919E-2F8F2FDA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7E7-21F7-4440-A4C0-4CF1C63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E5E-B496-4CF0-9B6B-42FFFBEC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A94-637F-4058-A5F0-A6B1E67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1DC-3346-4462-8CC4-43FF042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03D-973F-4524-8064-94C4278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2674E-CDFD-4024-A956-219410F3C9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Wither, pilgrims, are you 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each with staff in h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on a journ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t our King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hills and plains and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o the better land!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ell us, pilgrims, what you hop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r-off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robes and crown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Saviour’s lov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rink from life’s clear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ye not the way so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 little, feeble b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; for friends unseen are nea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angles round us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our Leader, walks besid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e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Pilgrims, may we travel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t bright and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elcome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to our pilgri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 come, and do not leav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8Z</dcterms:modified>
  <cp:revision>13</cp:revision>
  <dc:subject>Slavic hymnal Гимны веры христиан, hymn 613</dc:subject>
  <dc:title>Whither, Pilgrims, Are You Going? / Ты куда идёшь, скажи мне</dc:title>
</cp:coreProperties>
</file>