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5419-EE19-4161-8576-3AFC2818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1E58-16F1-4EEE-A9D2-CA0D4FB1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934-8107-4F1D-A944-03629151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9A56-6B5F-4733-9EE7-9B9F9630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5A9C-D2C1-42A7-869B-E3B464B1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155-CA79-4698-AF4A-969A28F1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07B5-1863-4405-A708-244BCA79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F4E9-7D85-49DB-AEAE-4BA07F70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B513-4F3E-4592-8599-D9090415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5547-5886-49AA-85A9-19D75B66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6EEF-8E3C-41B5-820F-777331A3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355-3FFB-4227-9580-DAD43BF2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EE21A-6A46-49FD-9EF2-0C6CDAE35E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― ім’я найвищ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Спаситель, Славни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Еммануїл, Бог є із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 Відкупитель, Слово жи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6   Ісус ― ім’я найвищ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6:20Z</dcterms:modified>
  <cp:revision>12</cp:revision>
  <dc:subject>Slavic hymnal Гимны веры христиан, Ukrainian hymn 116</dc:subject>
  <dc:title>Ісус ― ім’я найвище</dc:title>
</cp:coreProperties>
</file>