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7F5-AD86-4160-B567-1F3F5BC3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4E6-7553-4F11-8464-3F70CA24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AA7-F648-4AFB-B56A-11E6D241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F5E-60B5-46E5-B196-2E6CCC33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14E-4EE5-4BAD-952F-11272DF4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5C2-88D1-4A93-BEDA-B185A9B6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AF1-9E24-4779-BDC7-64BF9B3D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6AE-0BDD-4F24-9F8C-4C56D985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408-860B-47F9-B03C-F6D39287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14C-31B4-4591-B8B9-7006016D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796-606E-45D8-BE46-CC6A93F2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674-D1AF-40F9-B936-9AACFA41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F3DF8-07B9-4226-945F-FC609EFBC5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ght of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tepped down into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ed my eyes, 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y that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heart adore Yo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pe of a life spent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06   Light of th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all d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so highly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ous in heave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mbly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arth You crea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or love’s sake became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never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t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my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on that cross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4:10Z</dcterms:modified>
  <cp:revision>14</cp:revision>
  <dc:subject>The Source 3, song number 1406</dc:subject>
  <dc:title>Light of the World (Here I Am to Worship)</dc:title>
</cp:coreProperties>
</file>