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023A-1FBA-4500-81B7-EABD129BC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C362-BC1C-411C-B4D0-5C17AF53A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3A49-41B6-4674-A5D9-2C81DE869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C285-FE23-44B8-AA67-0F3CBAF24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8DE9-C3B2-4A38-A8E8-E130C5448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C2E2-73AB-4826-8863-4756AFE53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1472-7C1A-4F2A-AF94-0B1848CE0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EC7E-9E8B-4FF0-9194-CFE181A58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E90D-6793-40BA-8E3B-F49BAF99A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A773-55BC-47A6-805A-1A2A059EE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2B6B-6973-425A-A7E8-F70FD2476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499A-D01F-4B1E-A3D9-C9D322968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DC428D-D8AF-467A-9D14-22B46CD51EA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наем, ко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Господь возврати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знаки тверд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к концу мир стреми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скоре придё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вый день загори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не знаем к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2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 знаем, ког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и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ждать и молить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и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идёт в облак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 славе небес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не знаем к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людям дал с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познали спасень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л в сердце судь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л Свои откров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т мир от бе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Иисуса явл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не знаем к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и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ждать и молить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и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идёт в облак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 славе небес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не знаем к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ись и труд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блюдай Божье слов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ильник заж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гда будь готов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уба зазвуч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дрожат все осно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не знаем к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и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ждать и молить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и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идёт в облак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 славе небес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не знаем к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58:30Z</dcterms:modified>
  <cp:revision>12</cp:revision>
  <dc:subject>Slavic hymnal Гимны веры христиан, hymn 320</dc:subject>
  <dc:title>Не знаем, когда</dc:title>
</cp:coreProperties>
</file>