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9</a:t>
            </a:r>
            <a:r>
              <a:rPr b="1" lang="ru-RU" sz="3600" spc="-1" strike="noStrike">
                <a:solidFill>
                  <a:srgbClr val="ffffff"/>
                </a:solidFill>
                <a:latin typeface="Verdana"/>
              </a:rPr>
              <a:t>	</a:t>
            </a:r>
            <a:r>
              <a:rPr b="1" lang="ru-RU" sz="3600" spc="-1" strike="noStrike">
                <a:solidFill>
                  <a:srgbClr val="ffffff"/>
                </a:solidFill>
                <a:latin typeface="Verdana"/>
              </a:rPr>
              <a:t>Глубже всех морей</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Deeper than the deepest of the ocean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erlasting, deep beyond compa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gher than the highest lights of hea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s the love that Christ with us does share.</a:t>
            </a:r>
            <a:endParaRPr b="0" lang="en-US" sz="32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лубже всех морей и океан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объятна, вечна, вели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ше всех златых светил небесных,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спредельная любовь Христ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has cleansed me from sin’s bl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iven me robes of pure whit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His Holy Spirit gave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now am in His family.</a:t>
            </a:r>
            <a:endParaRPr b="0" lang="en-US" sz="32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омыл грехи м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ризы снежной белиз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 Святого Духа даро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адом Божиим назва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Dark and fearful, striking me with terro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re the years that I had spent in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was lost, unfortunate and hopel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found me, and He took me in.</a:t>
            </a:r>
            <a:endParaRPr b="0" lang="en-US" sz="32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рачны, беспросветны и ужас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ли годы в страшной тьме грех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ибнул я израненный, несчаст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Иисус нашёл и спас мен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has cleansed me from sin’s bl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iven me robes of pure whit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His Holy Spirit gave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now am in His family.</a:t>
            </a:r>
            <a:endParaRPr b="0" lang="en-US" sz="32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омыл грехи м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ризы снежной белиз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 Святого Духа даро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адом Божиим назва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Praise the Lord! For by the grace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saved! From sin and death set fr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ver me sin has no more domin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Christ, my Saviour, dwells in me.</a:t>
            </a:r>
            <a:endParaRPr b="0" lang="en-US" sz="32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частлив я! Христовой благодат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пасён от смерти и су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м грех теперь не овладе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 обитель Господа Христа.</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has cleansed me from sin’s bl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iven me robes of pure whit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His Holy Spirit gave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now am in His family.</a:t>
            </a:r>
            <a:endParaRPr b="0" lang="en-US" sz="32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омыл грехи м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ризы снежной белиз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 Святого Духа даро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адом Божиим назвал.</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24:50Z</dcterms:modified>
  <cp:revision>3</cp:revision>
  <dc:subject>Slavic hymnal Гимны веры христиан, hymn 39</dc:subject>
  <dc:title>Deeper Than the Deepest of the Oceans / Глубже всех морей и океанов</dc:title>
</cp:coreProperties>
</file>