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8BE4-5B74-437B-A543-A874DDB7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D4C6-76DB-4FF2-BE8A-1FE0CBC7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0A5A-6C1F-4137-AFA4-F745949A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4E69-3CF8-413D-9C62-6946EA4A2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7631-6091-4A89-9E56-E9419FC7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E2C7-2B45-424B-B79F-3103D7EC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41F6-1BE8-4F42-AE7F-E7230A34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2C50-82F8-4116-82F6-789EA3E0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9C66-4DCF-4B9B-B6AF-1871B187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DAAF-254C-489E-B927-4C922EDB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656D-111B-4073-B510-CC80D835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6789-71CC-4E35-92DC-A64DC1AE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7F168-F6F1-4804-9B79-1D99FB17541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deep the Father’s love for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vast beyond all meas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He should give His only 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ake a wretch His trea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the pain of searing l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ather turns His face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ounds which mar the Chosen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ing many sons to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ow Deep the Father’s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hold the Man upon a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in upon His shoulde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hamed, I hear my mocking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ll out among the scoff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was my sin that held Him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il it was accomplish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dying breath has brought me lif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that it is finis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not boast in anyt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gifts, no pow’r, no wisdo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I will boast in Jesus Chri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death and resur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y should I gain from His rewa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not give an ans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this I know with all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wounds have paid my rans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4:42Z</dcterms:modified>
  <cp:revision>10</cp:revision>
  <dc:subject>The Source, song number 185</dc:subject>
  <dc:title>How Deep the Father’s Love for Us</dc:title>
</cp:coreProperties>
</file>