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552-2100-434C-9F04-73DFDCA3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A35-A52F-45B1-8E60-45671815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3B0-1D2A-4CD9-9639-398C19B4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865-2E60-498A-8D26-AA718227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20E-D33C-4879-89B4-E40C894D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A23-99A3-4F3C-BC42-7D86AA32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6CE-4655-4CF6-9ED9-00D36B82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C7B-26C0-44D2-8D5A-6BEACE75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DF3-07B6-49C0-98DB-4DB967F6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A12-B368-4C12-9C19-B5A2753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D8E-7444-4E7D-AC36-47136BB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086-2D69-4384-B972-CE04C59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34F26-2DDA-477E-AE01-530F2B20C9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рещают люди ст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нам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ум толпы, кругом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товят звон цеп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прещают люди стр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собранья, у п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стражу сторож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: «Речь ваша у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олчите поскор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ходит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евангельских ве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1:34Z</dcterms:modified>
  <cp:revision>12</cp:revision>
  <dc:subject>Slavic hymnal Гимны веры христиан, hymn 560</dc:subject>
  <dc:title>Запрещают люди строго</dc:title>
</cp:coreProperties>
</file>