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96D4-6733-4B17-ACAB-933400A87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8142-2BA7-40AF-B0E0-8520C23F6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A88E-5BD8-4CA9-8DE0-31B0B9B85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8CAC-98C6-4238-B414-74903B4B6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2CDF-BC51-4F7E-BB85-BF07DACE1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5FC1-0530-461C-9786-E3A17AC21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98B2-0796-4C97-AD20-D46E54465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C5E7-63F1-4BBA-BEBB-1EB3B393B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B3E3-0B3D-4141-A1F9-D91FD9596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988C-014B-4823-A271-251234942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22DF-1761-4C70-8E44-9F20BD4E4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7E5E-E137-4AFC-800B-C9DBD5000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23F777-8CC8-45D3-82E6-709FB4658D0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йся, пока есть созна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овности жизни тво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йся, пока есть жела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женных и радостных д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йся, пока не увя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оровая ясность ум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йся, пока не наст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ртвящая душу зи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7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окайся, пока есть сознань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йся, пока не явила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асная гостья с кос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йся, пока не закрыла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няя дверь пред т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йся, иначе придё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расно в ворота стуч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расно твой стук пронесё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будет никто отвеч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йся, пока призыв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пасенью Господня труб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наче тебе угрож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бов непрощённых судьб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йся, ведь время наста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молкнет небесная ве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от приглашать переста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хочет нас к небу возне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йся, пока ещё жи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уше приглашенья люб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еть же на Божьи призы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йся и вечно жи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08:01Z</dcterms:modified>
  <cp:revision>12</cp:revision>
  <dc:subject>Slavic hymnal Гимны веры христиан, hymn 375</dc:subject>
  <dc:title>Покайся, пока есть сознанье</dc:title>
</cp:coreProperties>
</file>