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D86-BC69-41D0-8351-35A1AE1E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C52-10BC-46B3-9F99-DE7ED57F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407-C0D4-426F-8999-A6CC63C6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648-A224-469E-A8C0-DA5FB5A3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9F9-1FAD-4030-B2DD-F107131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2C0-1852-41F7-82AC-D1B18367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3C4-EC6A-4BCA-9715-99D53F62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9C6-4E52-4D32-B062-6E7C7538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6AE-76FF-4AFB-B5B9-E62EEA38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E36-3149-44D2-93C5-5C9F2C5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2D8-07E3-4F8D-AFDB-FC3FF59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B26-C1C9-449E-960F-68B35FA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EB2BB-0CDC-4541-969D-607E620270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36Z</dcterms:modified>
  <cp:revision>12</cp:revision>
  <dc:subject>Slavic hymnal Гимны веры христиан, hymn 539</dc:subject>
  <dc:title>Сеется семя на ранней заре</dc:title>
</cp:coreProperties>
</file>