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BA7-C33F-486B-8811-F2C8A0F9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F4D-5749-4FFD-85E6-8791D172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636-11B2-4A41-8D13-A2D877FA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4F1-C842-4513-ACA9-3787C8D2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E8C-D831-4464-B2F0-03DF3F83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CA9-504A-4A5A-B731-B52C443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8D8-4075-4A5B-A91F-2D7D195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895-03CA-43DE-921F-53EB9E8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3B9-993A-4526-9101-8F07390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150-430A-4661-9B46-C2DB0E4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C0A-BAC1-4FB7-8B81-B705137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AF2-4C10-4CD3-95EB-9A579A2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DABE-DC3B-4143-A3C4-FB39003458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47Z</dcterms:modified>
  <cp:revision>12</cp:revision>
  <dc:subject>Slavic hymnal Гимны веры христиан, Ukrainian hymn 79</dc:subject>
  <dc:title>Коли Господь ученикам</dc:title>
</cp:coreProperties>
</file>