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5D2C-F64F-4E62-A5A5-891C3FCF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8374-73B8-4D31-B131-BE8B8469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AFAA-82F5-4610-A234-84152713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C60-3864-4625-B540-D519D230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9D3E-55AF-420C-A3CA-D9C908C1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3DD5-A652-4CC2-A55F-7A5E524C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3BD-4217-4AEA-9FFC-9BA916AF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6AF-3C2B-45B8-A293-B3C8282B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DF2-C646-4CED-B9ED-05657813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EA2-8184-480D-B9BE-E02AE133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4EE4-4C7F-448A-8D22-73D8B2C3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F9D-919A-4A84-AB25-472C6EC4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43302-EE1F-4E56-8593-396541D1A16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нас, о Боже, к забы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сь исстрадался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к одиноким, забы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ольше не верит в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нас, о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выше Свою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 всем страдаль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могли возв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шли нас, о, Б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тихой, смиренной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душам усталым пой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искупил Ты их к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ную весть прине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нас, о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выше Свою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 всем страдаль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могли возв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кажем, что жизнь нам зе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только, как школа д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-то… страна уж и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ельем навеки п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нас, о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выше Свою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 всем страдаль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могли возв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радостной, светлой улыб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люди свободно вздох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жизнь по поверхности зыб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страха уже поплыв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нас, о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выше Свою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 всем страдаль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могли возв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9:54Z</dcterms:modified>
  <cp:revision>12</cp:revision>
  <dc:subject>Slavic hymnal Гимны веры христиан, hymn 537</dc:subject>
  <dc:title>Пошли нас, о, Боже, к забытым</dc:title>
</cp:coreProperties>
</file>