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DD0D-E6E7-4961-9CFE-F1265F3BD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8B39-3C0F-4382-8A93-902F18A9D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3AE2-52DB-473E-B70E-2F6028F61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84B9-A5E7-4BED-8BE4-8BB8A105F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ED9E-770F-4DF0-A6FE-35C0E4050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A573-9247-4A12-BD38-97EF28FCA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1791-2CCB-441D-991D-574CEDC3F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1B76-3381-4DC7-802A-0912C78EB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1E80-56E9-4D96-A948-CA862B2D6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4632-E552-417F-B5B5-26C454BB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85E4-E38B-44D2-96B0-19BEAC2E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B12D-ED0A-46D7-BD18-F1339F52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357F4C-DDF4-42D3-AE93-8F167B565E2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Name of Jesus is so sw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its music to repea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makes my joys full and complet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precious Name of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0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исуса имя сладко м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а имя сладко мне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ой и радость в Нём душ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твердить Его вез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имя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” O how sweet the Na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” every day the s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” let all saints procla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s worthy praise forev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Тебе хв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изменный, навсег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, славьте, все у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имя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he Name of Him Whose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nows all my griefs and bears a p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bids all anxious fears dep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he Name of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дальцам сладко имя т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раду, мир даёт о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ю Божией пол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имя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” O how sweet the Na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” every day the s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” let all saints procla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s worthy praise forev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Тебе хв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изменный, навсег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, славьте, все у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имя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word of man can ever t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sweet the Name I love so we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et its praises ever swe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praise the Name of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слов, чтоб выразить впол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орого то имя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лю в пламенной хва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имя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” O how sweet the Na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” every day the s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” let all saints procla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s worthy praise forev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Тебе хв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изменный, навсег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, славьте, все у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имя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9:47Z</dcterms:modified>
  <cp:revision>13</cp:revision>
  <dc:subject>Slavic hymnal Гимны веры христиан, hymn 607</dc:subject>
  <dc:title>The Name of Jesus / Иисуса имя сладко мне</dc:title>
</cp:coreProperties>
</file>