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66D-7E36-46A1-89C8-C23C9776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0DB-5E2C-4099-B008-013CD18C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CB1-5197-4DE8-A348-D97DDC01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C7F-1FF6-4E26-B600-BB89493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315-351D-44D0-B526-DD8DC02D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BF2-89CC-4995-A032-7BE1C6EE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61A-D01E-4289-8324-16F7B22E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E98-2DB7-404A-A27A-EB7E7FB7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B3C-3546-4A66-9199-38B414A0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B5A-89E8-46E2-8DF6-438F6F4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6B2-443D-4EB4-B1FA-5389416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CD6-D630-40ED-9E93-82973B49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301C5-B2DC-4AA9-98FB-49C00C7419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не мёр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Him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у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сем серд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ивёт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8:55:17Z</dcterms:modified>
  <cp:revision>12</cp:revision>
  <dc:subject>The Source, song number 133 in Russian</dc:subject>
  <dc:title>Бог не мёртв / God’s Not Dead</dc:title>
</cp:coreProperties>
</file>