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728C-634D-45C9-8418-B0E894B23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2E9C-A621-4603-AE27-48C592B4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FA46-FDBD-4813-AC84-DAF506718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159F-39C8-4E3C-AF5D-8459D3C0E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5375-C66D-4572-A003-71B59746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8D40-2AE3-42FC-8CCB-41207303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00ED-0862-4329-80FF-9C25FA32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B197-E0D5-483C-85E8-A5B2FFBA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8901-E76A-4197-9019-224762F4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3985-5C17-42A5-B919-81DC97F0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2195-E3AF-40AF-97C5-1F7A3741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E086-E55A-403C-82FF-A6A2AE45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34E0A-BAB7-45B3-8E89-DEF78715D70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pray’r, we are Your childr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’ve gathered here to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gathered here to pr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cry, we need Your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need Your grace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us as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1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ear Our Pr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Father, who art in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owed be Thy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Father, hear us from heav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e our sins,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song as it rises to heav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Your glory fill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waters cover the se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 our hearts and remove any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s standing in th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coming to You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Father, who art in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owed be Thy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Father, hear us from heav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e our sins,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we are f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surrounded by 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have crossed that river bef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is is the s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be singing for e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is the Lord, holy is the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is the Lord, holy is the Lord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pray’r, we are Your childr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’ve gathered here to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gathered here to pr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cry, we need Your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need Your grace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us as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Father, who art in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owed be Thy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Father, hear us from heav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e our sins,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0:15Z</dcterms:modified>
  <cp:revision>11</cp:revision>
  <dc:subject>The Source 2, song number 714</dc:subject>
  <dc:title>Hear Our Prayer (Our Father)</dc:title>
</cp:coreProperties>
</file>