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48E4-EF80-432D-988F-A37D3EA8F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87D0-1E15-4B05-A78A-6378CC0E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CBE0-AB5B-46B3-B4F1-C6ED5DBEE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6963-236B-4DAA-BA6A-DE271790F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CDDD-626A-4CEC-8B66-31836A54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3FEB-6A8A-46A7-8EB2-6BBE80A5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4807-8C60-464D-AF5A-4C862F70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E395-89D1-4160-B880-DD91CEAC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3ECA-D9BD-4C80-9666-05EF354E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79C4-4160-4E8F-8BF2-A2D9AAFD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EA11-F836-409A-98EE-8A2742B7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31D4-DE4E-4988-8CB5-4B8A9318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51D5C-386F-4A31-AD71-DEE524BC6D0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может, не на вершину г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 дальний путь через м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 бой опасный, лицом к враг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ёшь Ты, Господь,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если Ты тихо призов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чуждую мне троп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чу, Господь, руку взяв Т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шлёшь, я пой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ыть мож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шл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йду!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горы, долины, мор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кажешь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я скажу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хочешь Ты, тем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может хочет слова люб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чрез меня ска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ную душу с пути гре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годня к Себе приз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веди лишь Ты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скорбь, тесноту и ть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сть я ту чудную повторю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кажешь мне, то я ска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шл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йду!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горы, долины, мор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кажешь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я скажу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хочешь Ты, тем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дётся где-нибудь на зем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иренное мест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есть работа мне для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пятого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оте Твоей предав с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Ты любишь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сердцем служить буду я Т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хочешь Ты, тем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шл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йду!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горы, долины, мор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кажешь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я скажу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хочешь Ты, тем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1:21Z</dcterms:modified>
  <cp:revision>13</cp:revision>
  <dc:subject>Slavic hymnal Гимны веры христиан, hymn 556</dc:subject>
  <dc:title>Быть может, не на вершину гор</dc:title>
</cp:coreProperties>
</file>