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C94-7B2F-42D7-B1C8-476C4D85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71A-3C1C-4291-9CC9-29D9EB73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F4F-A4B0-4750-A559-8390D5AA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B0F-D854-4B79-98D9-DE49CA2B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1F7-87CB-4168-A1C5-1D367169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77A-B295-4973-A841-166E7E8F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B7C-7183-4AEE-A14C-F895517A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8D0-3881-4CAA-BD6A-3B0F5C25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ECE-9D79-413A-AC8D-CFB119D5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C32-1019-498B-A10B-7E7EA1DF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C3C-6A8F-4825-BEF6-1CF69AB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5E2-E2DB-49F4-868A-45DE8A3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02A62-18D8-4C4D-AE0C-C2CBE896DD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just one thing that matt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I do my best to live for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I live my life fo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 treasures will mean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what I’ve done for love’s re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tand the tes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13   When It’s All Been Sai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mercy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ok beyond our wea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purest gold in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ing sinners into sa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sing Y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on earth and ever af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ve shown me heaven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tru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life when life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28Z</dcterms:modified>
  <cp:revision>12</cp:revision>
  <dc:subject>The Source 3, song number 1613</dc:subject>
  <dc:title>When It’s All Been Said and Done</dc:title>
</cp:coreProperties>
</file>