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C81-82DB-4D8E-9B86-144EC517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AD5-B87A-4585-9A41-E16DDE3D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DC8-FA18-46E8-9AD4-59DBD746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22F-3F6F-48D4-9150-77EC7C18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C4F-64A9-4BC4-BD7B-AC52C575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8F8-6634-4FC4-94DD-4C821936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BF6-7177-4F17-9BE6-4D015C85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5D0-E667-4D9E-998D-B6B5DBCE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82E-0EB0-4A5F-ABC4-50880CD4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098-B2FA-4B7B-8CB7-DD9ED64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CDC-C3D3-4BA3-8237-236363E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89A-2F49-45C6-864D-041F683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37075-36AB-427B-A5AA-F8C8750CD6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our human ende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call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u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draw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by Your grace we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y Your grace we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nly By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f You mark our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ould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s to Your grace we are clean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f You mark our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ould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s to Your grace we are clean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our human ende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call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u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draw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by Your grace we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y Your grace we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49Z</dcterms:modified>
  <cp:revision>10</cp:revision>
  <dc:subject>The Source, song number 408</dc:subject>
  <dc:title>Only By Grace</dc:title>
</cp:coreProperties>
</file>