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141-61FF-4CF8-AA80-3C9DCD47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0BA-25E1-42AA-B677-A863D16F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B7C-FBB6-4F74-B720-AEC70801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ABB-C113-4075-84BB-3B56E216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E05-3328-4725-BB99-B4343AE6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650-E5A3-4235-A727-24CAA157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2C9-CB7C-495A-8743-14D46C1C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FDF-2CED-409B-B172-5D992739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5EF-3589-438C-A0FA-850E6C04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04E-7830-43B4-B34C-9B6ABE72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BF6-E438-4E5C-A97A-E56278E6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0E1-9EBA-46ED-8F2C-DC2AEC7D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C2300-990D-4726-B44E-6DA0FDB2EE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 fields are tee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waves of ripened gr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ir gold is gl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the sunny slope and 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а   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видит им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колосья золо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 усердного жне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forth with morn’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in the noontide’s gl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un’s last rays are gl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them gather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с раннею зар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ойный полдень вышли 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к вечеру на н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ать жнец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, whom thy Lord is s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now the sheaves of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ward then at evening w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halt come with joy unt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труженик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ни ячмень, пшеницу, рож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кончится, на от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вечную во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29Z</dcterms:modified>
  <cp:revision>13</cp:revision>
  <dc:subject>Slavic hymnal Гимны веры христиан, hymn 784 (as amended)</dc:subject>
  <dc:title>Far and Near the Fields Are Teeming / Здесь и там поля белеют</dc:title>
</cp:coreProperties>
</file>