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EF7-BC1E-4A1F-BD99-3DAC5B38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E40-DD2F-4577-8431-87FD34F2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70A-0540-4F60-B8A5-738A394D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879-4D1A-4408-9171-96E292B5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94F-091C-4763-AEB0-1D07C571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BFF-36B5-47C4-B306-106AAEFE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5B3-003C-4BD8-8AAD-83D267B5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D81-52F2-4D47-A61F-9B554CE0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3AF-FE94-4DCB-82E1-CDA50DFB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BEC-35D2-44CB-9809-14E975C2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63D-F0E1-4FB1-9C2B-682EDF8A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86F-2850-4DBA-8CB3-5EC3CB1F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12F97-31D0-43C9-8767-5781C79334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ith rejo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gregate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salms to Jesus v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ur joy full s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   Браття, всі раді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, всі раді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ний день на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стри, весе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м радість д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n sin benigh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rs, you an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His blood un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been made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ули чуж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епер друз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з’єди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вят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by Sinai’s light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e faced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the thunder frigh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s to us dism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кон Синайськ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т стар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прийняв Ізраї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вятій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 of grace from Cal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you and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from wrath are w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слова ми чує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спасла від гні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ь свята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love dir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we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our heav’nl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живем в над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і і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усі обм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вятій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truth ’ti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Word, that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blood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e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Господній ті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ить се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мо, браття-сес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до кін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2:26Z</dcterms:modified>
  <cp:revision>13</cp:revision>
  <dc:subject>Slavic hymnal Гимны веры христиан, Ukrainian hymn 10</dc:subject>
  <dc:title>Let Us With Rejoicing / Браття, всі радійте</dc:title>
</cp:coreProperties>
</file>