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D622-304B-4A9C-9A45-7CFBD9448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5EAF-6855-4539-8D74-E3AE272C6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2332-7786-415D-8783-10AFFD50F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9B61-2D35-4810-9692-891FF53C7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5795-EF9D-4FF6-9369-652207DB4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30CD-C885-4C55-A86F-BF264138F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5F6B-E17E-4C7E-87BA-FD4229C2C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65C8-0463-4F52-8B5A-20ED2E6C3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72E0-6081-449C-A595-4A4F1F58D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ECEC-1816-44EF-9A98-240E9482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2D2E-1F19-4A32-916B-648FCA6D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FFD2-4DEA-42D7-9A4E-A2F2ADF2B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4CC8B1-AC56-45A7-A620-2EC04FF8D56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горнем ущельи укрой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, изнурённый труд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 Христовой омой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, истомлённый грех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у теснит иску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в твой услышит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всемогущий Хран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ы, истомлённый грех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ы, истомлённый грех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4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горнем ущельи укрой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жной и щедрой рук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предлагает нам дар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твой польётся рек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хи исчезнут, как па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! Господь призыв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янь! уже ночь наступ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же тебя не пуска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сем предлагает Свой да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сем предлагает Свой да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ой защитой Он 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емя твоё понес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икогда не за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ёзы с очей Сам отр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дит твои Он скита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удалит воздыха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ач прекратит и страда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слёзы с очей Сам отр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слёзы с очей Сам отр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рой приди к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изнывай под грех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был до смерти послуш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нь Его верным раб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т твоё Он мол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ст тебе мир и прощ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вую жизнь и спас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ы, истомлённый грех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ы, истомлённый грех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02:28Z</dcterms:modified>
  <cp:revision>12</cp:revision>
  <dc:subject>Slavic hymnal Гимны веры христиан, hymn 348</dc:subject>
  <dc:title>В горнем ущельи укройся</dc:title>
</cp:coreProperties>
</file>