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7</a:t>
            </a:r>
            <a:r>
              <a:rPr b="1" lang="ru-RU" sz="3600" spc="-1" strike="noStrike">
                <a:solidFill>
                  <a:srgbClr val="ffffff"/>
                </a:solidFill>
                <a:latin typeface="Verdana"/>
              </a:rPr>
              <a:t>	</a:t>
            </a:r>
            <a:r>
              <a:rPr b="1" lang="ru-RU" sz="3600" spc="-1" strike="noStrike">
                <a:solidFill>
                  <a:srgbClr val="ffffff"/>
                </a:solidFill>
                <a:latin typeface="Verdana"/>
              </a:rPr>
              <a:t>О, Господь м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ь мой! с жаждой жгуч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щу Твой ли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ыв радостный, могуч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даётся над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ыв радостный, могуч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даётся надо мн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приди! Тебя прим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друг Я буду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цвете лет твоих зов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и будь ты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ыв радостный, могуч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даётся надо мн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приди! к тебе вз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ебя Я кровь про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перь Я ожид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Мне лишь ты слу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ыв радостный, могуч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даётся надо мн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рихожу к Тебе я 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в на призыв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нятый в Божьем С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отныне уж не с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О,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ыв радостный, могуч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даётся надо мн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7:14Z</dcterms:modified>
  <cp:revision>3</cp:revision>
  <dc:subject>Slavic hymnal Гимны веры христиан, hymn 57</dc:subject>
  <dc:title>О, Господь мой! с жаждой жгучей</dc:title>
</cp:coreProperties>
</file>