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9681-37E3-4BEC-8311-BBEF8409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E18B-6801-4E95-8473-3FC87785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86D-58B1-4C15-AB07-0C6AB261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9B97-19A6-4BBB-91B2-0CEBE623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F4B7-B60E-44E0-A79B-52959D2B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6585-60AE-4488-B8FA-FF1DAF8D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EAC2-4A2F-4C7B-8F64-67328A9B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DB7-A3E6-4281-8C0E-30DA3B81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349-3E37-4E2A-AD19-FA6425C2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0B9F-3AEA-47B9-91DE-03D402B1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16BC-5B1F-49C4-B2F9-0851E7DF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648-D9BC-4A49-9967-EB4C70E5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4E572-EB17-432B-8E22-9C185BA0C6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славить Тебя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Тебе песню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т ада и вечных муч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кровью спас душу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атся жизни трев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ак тяжко и трудно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тяжёлой тернистой дор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ечное счастье 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у славить Т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гда я пребуду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а новой и вечно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у земные трев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ечная будет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 не умолкнет вове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громко и стройно звуч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сердце не будет трев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кто уж не будет ры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ю я там новую пес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кровавую битву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ье кровавой це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еление в вечном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вечно Тебя буду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я раны Твои от гвоз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вечно Твоею омы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ённый от вечных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8:55Z</dcterms:modified>
  <cp:revision>12</cp:revision>
  <dc:subject>Slavic hymnal Гимны веры христиан, hymn 781</dc:subject>
  <dc:title>Буду славить Тебя, мой Спаситель</dc:title>
</cp:coreProperties>
</file>