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AAC-79C5-4C00-BF12-34FD779A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3D9-62BE-47C5-B451-9BB252D9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EFA-0359-447F-AFB8-7AD99423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304-A99F-4BEC-A6A4-26943CD6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CCA-AED4-412F-B9E7-BB6B3EED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7B9-591B-4CAE-9768-350E72CE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E44-6C9E-4E86-9AA9-6988156A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DC4-CDED-493C-BFE9-C391252B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CD9-8FC8-4129-A6CA-DC115A52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B7D-F411-4035-89C4-06B886D5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793-F00E-4E2E-A2EF-4100C0FC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A6D-51EC-413A-A831-DACE26F0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ABC5F-B6FE-4D3D-9E91-8156E09CB2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поб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про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те в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слава,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адлежат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обедивши смер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, Владыкой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и ад поп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ё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жди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ранных 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32Z</dcterms:modified>
  <cp:revision>12</cp:revision>
  <dc:subject>Slavic hymnal Гимны веры христиан, hymn 882</dc:subject>
  <dc:title>Ликуйте во Христе</dc:title>
</cp:coreProperties>
</file>