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C177-75AD-490D-ACC8-FE7524CE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C80-AE01-430B-9D99-8A691D45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DFD-1D62-4865-9991-4AAD2438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DD0-EC46-400E-9878-8C1D0D40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FCD-E811-4FCA-85DC-95F46679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44F-CEA7-4AC8-9926-127E1517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095-AFFE-4616-9E59-D0D4C3DF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F27-7E45-49C9-9781-9F18336B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519-C193-4668-AC2C-84C85792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EDF-60B4-4327-9272-61641FE3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4C9-4D84-414A-A141-079C846C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F69-AC5A-4CCD-BF59-85083E5C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1357A-A7E8-42E8-A242-6F0EAB9F74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наш Господь прий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х усіх візьме у край небес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Його в молитві 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2   Будьте бодрі завж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мна сила зла не с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лу Духа правди зодягн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и всі щита візьмі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спасе від всіх гріх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рі і надії підкріпі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за грішників тер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благання вчує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на Спаса з вірою дивітьс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у всім поможе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6:28Z</dcterms:modified>
  <cp:revision>13</cp:revision>
  <dc:subject>Slavic hymnal Гимны веры христиан, Ukrainian hymn 12</dc:subject>
  <dc:title>Будьте бодрі завжди і моліться</dc:title>
</cp:coreProperties>
</file>