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21D-5538-44AA-BCD9-0FA95901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2C8-95AF-491A-B2C8-55640D0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056-C950-4AF4-ABB4-172321C6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B5E-EE3C-490B-AD04-92BD9DB6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FE1-61C1-478E-ADA3-2A3BB58F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A28-4066-4AAF-B7C5-1D7097E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74D-BA6F-42C6-AA0B-6F601DDE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70A-62AF-47D7-8CCB-ACE38157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65A-91D9-4C24-B7E4-62D58AEB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348-6960-40D0-A6C9-318B7FAC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E89-20FE-42DD-A44C-BEEB3C51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900-52C1-4CBB-BFAB-C1EE1EAC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C5C82-1EB5-437F-8454-A7F65BDD11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а моя була би про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а моя була би про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7   Як щоб не було б 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16Z</dcterms:modified>
  <cp:revision>13</cp:revision>
  <dc:subject>Slavic hymnal Гимны веры христиан, Ukrainian hymn 97</dc:subject>
  <dc:title>Як щоб не було б то</dc:title>
</cp:coreProperties>
</file>