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5B8B-EEEE-4B0C-8EFF-41AC1477E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D4EA-1809-4C0F-927F-E6328AAE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E195-3E0B-44DC-935A-E47565EB5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C30B-4255-4724-B2C6-9E370E1BD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5FB1-CAF2-4970-B737-7C4B6F4E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279B-92BE-43F2-AC9A-6461768B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D3F1-6802-42BC-9231-5C1C3C59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B620-FD5B-456E-A308-C210A005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8926-0568-4DCB-86C5-22A73B07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F970-74B2-48E6-B6B7-69FA5A48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A03C-F704-4DAE-834D-2503C2B7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3DC8-ACC4-47E1-AC0A-926D70A7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43B32-B344-4CE1-A259-93B09C77059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let’s ascend Moun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Son, man’s Messi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hangs on the t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зойдём на Голгоф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ём на Голгофу, мой б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осланный Богом Мессия расп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finished! My Spi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mit I to Thee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died that from 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might ever be fr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before Him b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вершилось: Я дух Мой Тебе предаю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Он пожертвовал душу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ём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let’s ascend Moun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hold Jesus Chr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bears sin’s penal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ём на Голгофу, мой б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м, как нашей греховности я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died for mank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mankind not be lo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lvation He buys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what infinite co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before Him b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даниях горьких Христа истом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рого Он нам спасенье куп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ём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Word He proclaim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led the sick and the l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ead raised to lif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imself now is sl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before Him b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авде святой проповедыва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ных исцелял, а теперь Он казн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ём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let’s ascend Moun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hold, how He s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cruel agon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ём на Голгофу, мой б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траждет и жаром ланиты горя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ater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soul that belie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 cries out, “I thirst!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inegar He rece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before Him b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аждет и уксус Тому под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ьи воды живые для мира тек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ём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let’s ascend Moun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give them! They know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they do to 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ём на Голгофу, мой б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рости им, не знают, что худо творя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’s haste, you and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our names may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ose be inclu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 raised up His pray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before Him b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лит. Взойдём же, дабы и за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а Христова к Отцу вознесла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ём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let’s ascend Moun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voice onc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p to heav’n raises H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ём на Голгофу, мой б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снова Он к небу подъемлет С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Father, why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forsaken by The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brother, that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ght receive you and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before Him b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ец Мой! Зачем Ты оставил Меня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рат мой! Чтоб принять тебя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ём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let’s ascend Moun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se words of our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be heard by you and 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ём на Голгофу, мой б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льца Святого слова там звуч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14:58Z</dcterms:modified>
  <cp:revision>15</cp:revision>
  <dc:subject>Slavic hymnal Гимны веры христиан, hymn 724</dc:subject>
  <dc:title>Come, Let’s Ascend Mount Calvary / Взойдём на Голгофу, мой брат</dc:title>
</cp:coreProperties>
</file>