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9</a:t>
            </a:r>
            <a:r>
              <a:rPr b="1" lang="ru-RU" sz="3600" spc="-1" strike="noStrike">
                <a:solidFill>
                  <a:srgbClr val="ffffff"/>
                </a:solidFill>
                <a:latin typeface="Verdana"/>
              </a:rPr>
              <a:t>	</a:t>
            </a:r>
            <a:r>
              <a:rPr b="1" lang="ru-RU" sz="3600" spc="-1" strike="noStrike">
                <a:solidFill>
                  <a:srgbClr val="ffffff"/>
                </a:solidFill>
                <a:latin typeface="Verdana"/>
              </a:rPr>
              <a:t>Возьми меня отнын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зьми меня от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пер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жизненной дол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 бы я тро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если Ты с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вёрд в пу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руй Ты сердцу р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х скорб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чувствовать мне сл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их слов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ую веры твёр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еня вдох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а злую гор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изго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же в смертном те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жды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вь меня Ты к ц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тьму и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ьми меня от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пер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жизненной дол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ед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6:07Z</dcterms:modified>
  <cp:revision>3</cp:revision>
  <dc:subject>Slavic hymnal Гимны веры христиан, hymn 149</dc:subject>
  <dc:title>Возьми меня отныне</dc:title>
</cp:coreProperties>
</file>