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21C-E5F0-46E6-9B61-83101657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3F7-C855-4D03-AE34-480D8EC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8CC-575B-4937-8EC1-49BF8580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6E7-FF0E-49E4-87BE-3CCB7F5E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CAA-F742-44E0-B3F9-656D55D0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2F1-68FC-473F-9FA3-F3331AD4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A1E-5A43-4742-9F0A-01353B6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A4B-9301-4343-A7C5-029DEC4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EDC-0E0E-4B3C-919C-749D4FE7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9ED-CD8C-4CFB-97C0-7318B57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73D-50CA-4E58-B53B-C96DBF7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570-5F60-43DE-85C5-5661BCC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A5945-2850-4090-9E71-308C3EBBBE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не га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Христос її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она з Ним розмовл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ти Він прох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ін їй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она колись 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серце те вр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сказать піш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4   Самарянка не гад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аїні, де схил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льми й мирт вночі дрім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е йшли і диву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Спаситель 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розпов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Чоловік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прийшов то не Ме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Божий св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лється для у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таланним Бог втир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і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грішників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дкрив всім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Він тебе шу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іння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25Z</dcterms:modified>
  <cp:revision>12</cp:revision>
  <dc:subject>Slavic hymnal Гимны веры христиан, Ukrainian hymn 94</dc:subject>
  <dc:title>Самарянка не гадала</dc:title>
</cp:coreProperties>
</file>