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7AD-7DD5-4F1F-AE6E-A719067C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AF6-9918-4A2D-9977-7EA38D3A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941-0EB8-4674-8BB1-AC53BF06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911-AE20-45E1-B392-E8583242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7C7-47DF-47D3-AA6A-E2DD1D8C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807-9E16-427A-B782-38C96A25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1D3-927E-4E7B-BCDE-29091A80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7B6-4DD6-4DD9-AE7F-8BCFFB30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D67-12CF-431E-BBDB-9C679ED0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19F-84E4-48E3-B85A-3F086ECE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701-29A2-49F8-9194-54DB277D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499-831B-4A3A-AAB9-6E478763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0AB95-2177-4483-844C-BA6E38BBD2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past the oute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hol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st the brazen al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ant to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ss me by the crowds of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priests who sing thei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unger and thirst for Your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t’s only found on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7  Take Me Past the Outer Cou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in to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in by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in to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the coal, cleanse my l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01Z</dcterms:modified>
  <cp:revision>9</cp:revision>
  <dc:subject>The Source, song number 467</dc:subject>
  <dc:title>Take Me Past the Outer Courts (Take Me In)</dc:title>
</cp:coreProperties>
</file>