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755-EF77-4CAD-B72A-E660917E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871-0BFE-49A6-B257-ED1604F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10A-58DC-4C05-9B4C-43AEA182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EFD-990B-4940-A37F-5A3909C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3CD-D086-4E8D-9447-D3DCECF9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D9B-9A99-4093-9D50-38D71A2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5C3-079B-4FAA-9AFB-D80349E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12A-40D9-43DB-ADBB-8FDF9DFE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05C-854E-4D7E-B537-14A3F777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4EE-71B6-4CAB-AE7A-212FD29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196-F8EB-49E2-BFE4-4075EB1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48E-EFD7-4D0D-B360-6E65B6DA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5D999-5DCC-432C-B2B0-963C481964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1:38Z</dcterms:modified>
  <cp:revision>12</cp:revision>
  <dc:subject>Slavic hymnal Гимны веры христиан, hymn 840</dc:subject>
  <dc:title>I Will Arise and Go to Jesus (Come, Ye Sinners) / Грешник бедный, изнурённый</dc:title>
</cp:coreProperties>
</file>