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30C-DECA-4546-845A-BAD9D5A9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1A3-68F0-46B1-A2FC-EA809853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8698-BAAA-4D9D-8FF0-7319796E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40E9-9508-417E-A524-86904FAA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A37-2321-421E-8F08-320AF7EC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1C2-BF6B-47AA-9159-329FCD81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26FB-6D6D-4422-81F2-408610DC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F51-F4A7-42AB-85EA-DD86BB3D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D7FC-FD2F-4CE1-8A00-66C0E27A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D485-C9E4-48EF-BDA5-DECAB99B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8AC-F86E-49E5-9F46-1C00A90F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7C1-7010-41DD-B4A3-0ADB21C3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F75F5-7507-4F7E-B2EF-F64BC1711D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олнце угас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еревней, за холм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дух мой пр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олитву пред Твор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солнцем управ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по милости С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дитяти устро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й жизни средь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солнце угас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ь планет, небес Владык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малое ди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, в прелести вели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Тобой бежит, све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мне Отцом открыл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Твой вечный стал мне бр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землю к нам явилс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ыл в Едемский с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 Твоего дых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чувствую 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шь Ты моё стен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всё влечёшь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т день, при всём стар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сполнил я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читал в Твоём Пис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Слова Т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 на раская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сти, Творец,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и моё жел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был сильнее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одить Тебе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в жизни испы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е так я поступ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ы я того же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дух мой равнодуш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и любовь — сло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сердцем малодуш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лодна моя моль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статки замеч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желанье всё силь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, как ангел, я желаю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м от земных стр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ьми меня за р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я впадаю в с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ех, кто в тайной му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гает твой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верит, кто горд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сомненьи, как в ог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ты их мо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им счастье, как и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9:53Z</dcterms:modified>
  <cp:revision>13</cp:revision>
  <dc:subject>Slavic hymnal Гимны веры христиан, hymn 766</dc:subject>
  <dc:title>Если солнце угасает</dc:title>
</cp:coreProperties>
</file>