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A332-3454-4D89-800E-DEE621367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646F-92F8-4B8B-AE34-CF342C742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7EFC-94AB-425D-9AFD-5444705D1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394B-BF29-4512-A5DD-CBED78CEF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0173-006D-4D3C-84C8-8EBF6B098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878C-EA7A-4E8D-BD53-1D0AC1944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3FAF-25BB-4DCF-A219-EEA82831A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77CE-79A3-4EF5-8553-C48B0184E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C633-E014-47B1-825F-43C32B7BE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777D-910B-4AC8-84F4-D6423E2B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DA72-E78F-4600-BD17-E3476CB9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3DE0-3B8D-43DA-9438-D90AB1D7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2E5D0E-F540-4BF1-A43F-B91E067117A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ye pure in he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give thanks, and s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festal banner wave on hi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ross of Christ your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8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Ликуй, Христов народ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, Христов нар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и пой псал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во знамя подни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у подвластны 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 (rejoice), rejoice (rejoice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give thanks and 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(ликуй), ликуй (ликуй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и пой псал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 (rejoice), rejoice (rejoice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give thanks and 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(ликуй), ликуй (ликуй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и пой псал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all the angel choi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all the saints of ea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our out the strains of joy and bli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e rapture, noblest mi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р ангельский вверх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ые на земле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ют восторженно Хрис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иваются в хва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 (rejoice), rejoice (rejoice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give thanks and 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(ликуй), ликуй (ликуй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и пой псал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ight youth and snow-crowned ag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rong men and maidens mee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aise high your free, exultant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’s wondrous praises sp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росток и стар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вица и силач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йте как наш Бог вел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утешает пла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 (rejoice), rejoice (rejoice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give thanks and 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(ликуй), ликуй (ликуй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и пой псал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on through life’s long pa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ill chanting as ye g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youth to age, by night and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gladness and in wo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енья рожде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петь и везд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юности до седи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остатке и в нуж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 (rejoice), rejoice (rejoice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give thanks and 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(ликуй), ликуй (ликуй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и пой псал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on, ye pure in hear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give thanks and s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glorious banner wave on hi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ross of Christ your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, Христов нар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светом меж людьм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во знамя подни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стремись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1:23:14Z</dcterms:modified>
  <cp:revision>12</cp:revision>
  <dc:subject>Slavic hymnal Гимны веры христиан, hymn 888</dc:subject>
  <dc:title>Rejoice, Ye Pure in Heart / Ликуй, Христов народ!</dc:title>
</cp:coreProperties>
</file>