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6A3-2565-4A08-A526-96A29A25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887-6287-4F1F-B438-231B0EB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01-618C-47ED-A555-F3530B36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14C-7886-49C4-A251-AFA80BF2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BDD-7145-4DAB-8F1A-CF3D200E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C5C-E473-4C55-988C-AE21557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94C-5A64-4236-8982-8F7304E1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E4D-B885-40B6-8574-24789923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0FC-0394-4725-9374-E37D523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8AE-CA80-4B0F-8597-DAE6E51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33B-A9B7-41AF-9468-BBB1D60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CF8-7784-4EBF-9262-57AD2ED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8E41C-61FA-4273-B445-F631D378DD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Господом идт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не страшусь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 цель Он ясно откр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ля, луга, леса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в небесны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не был мне Господь о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с Господом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почи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ясь, беседую я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путь Он Сам мне изб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желаю быть в об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ой свет, и пища, и питьё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Он мне дал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мой день придёт к зак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ёт Господь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меня в Свои пал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02Z</dcterms:modified>
  <cp:revision>13</cp:revision>
  <dc:subject>Slavic hymnal Гимны веры христиан, hymn 462</dc:subject>
  <dc:title>Только с Господом идти желаю</dc:title>
</cp:coreProperties>
</file>