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C20-4AB2-40DD-B7EB-45013DA6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213-F7B5-4391-AAE7-C8DCAF2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6A3-F518-4538-BAA7-4395DC4E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4A5-7FB1-4AF6-85F5-9D640844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C13-EC66-47E4-BA99-C63B427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26B-5025-4081-9E9A-F868850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061-6614-456E-BFC9-5C95C847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A40-4AA0-478C-B1C0-78C4C8F3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925-9E86-4EAB-B75D-DA93D14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FB4-67E7-45F8-A12F-0BFA173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A80-832B-4C9A-84C2-A95286E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823-131A-42E5-BFE5-41DB3C9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43685-E4CF-4AC4-AF55-4FC9B93F5A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жьих детей уж здесь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веры, какое Бог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большее нас счасть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Божьих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ажда томит в полдневны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руден тернистый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ветливо манит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устально-прозрачной глади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им венец Христа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дубим труды и тьму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03Z</dcterms:modified>
  <cp:revision>14</cp:revision>
  <dc:subject>Slavic hymnal Гимны веры христиан, hymn 655</dc:subject>
  <dc:title>Сердце Божьих детей</dc:title>
</cp:coreProperties>
</file>