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D07-E70E-4C38-A3C0-29FDD62B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7CE-219D-4AF9-899B-E00BA623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426-DE5C-4DDB-81F0-2882E067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9AC-48C7-4324-BBD4-9E38B485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13C-2100-43D5-9792-30939F2F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C66-5E5A-45A5-8A32-423D3F56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4EA-A76D-4D0A-BBFF-488C384F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A67-3189-4E60-A02D-01B267E3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9A0-FC78-4880-978D-56B323D2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04E7-CECB-4C53-8BA4-7D7B2223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B0B-B801-4B6E-8D5D-F8C26B24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A74-C77F-451C-9A3F-2A190B35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95B09-00F7-4673-8766-CDD8C2AE07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eak say “I am stro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oor say “I am rich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blind say “I ca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what the Lord has done in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6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et the Weak 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eak say “I am stro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oor say “I am rich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blind say “I ca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what the Lord has done in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Lamb that wa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died and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river I will w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my sins are wash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ens mercy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aviour’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rise from waters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saving arms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 salvation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 has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Lamb that wa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died and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5:10Z</dcterms:modified>
  <cp:revision>10</cp:revision>
  <dc:subject>The Source 2, song number 862</dc:subject>
  <dc:title>Let the Weak Say “I Am Strong” (What the Lord Has Done in Me)</dc:title>
</cp:coreProperties>
</file>