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2</a:t>
            </a:r>
            <a:r>
              <a:rPr b="1" lang="ru-RU" sz="3600" spc="-1" strike="noStrike">
                <a:solidFill>
                  <a:srgbClr val="ffffff"/>
                </a:solidFill>
                <a:latin typeface="Verdana"/>
              </a:rPr>
              <a:t>	</a:t>
            </a:r>
            <a:r>
              <a:rPr b="1" lang="ru-RU" sz="3600" spc="-1" strike="noStrike">
                <a:solidFill>
                  <a:srgbClr val="ffffff"/>
                </a:solidFill>
                <a:latin typeface="Verdana"/>
              </a:rPr>
              <a:t>Славь, душа, Творца и Бог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лавь, душа, Творца и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с любит без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открыл Свои черто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послал Свой мир в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премудрого Творц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лавь за все благодея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в нужде являл от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бавлял их от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давал не по дел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ен Бог теперь и к на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ак отец детей жале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имать всегда гот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дит милостью Свое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храняет от враг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Творца вовек веков.</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2:00Z</dcterms:modified>
  <cp:revision>3</cp:revision>
  <dc:subject>Slavic hymnal Гимны веры христиан, hymn 112</dc:subject>
  <dc:title>Славь, душа, Творца и Бога</dc:title>
</cp:coreProperties>
</file>