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251-30F5-4BB6-B4B1-D581B894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C5D-6FF7-47C1-A2A7-1028D283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897-0C5E-4722-AA1C-419DC902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105-253D-4D14-832C-66884610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2EB-DF0E-45F0-AF69-4A145654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28E-505E-4904-99D3-3E7C7E2C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78A-F2A9-4407-A488-82428CD5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787-1C17-48A2-ADEB-22C73DA6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92C-0EFC-4600-B08F-7DEDADBA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074-7162-4289-833B-101995A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560-9434-45F2-872E-2CD753EC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3AF-F957-4346-838D-CF2AC756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3D922-96E4-49A1-8C7D-E50D3DABDF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camped along the hil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Christian soldiers,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ess the battle ere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veil the glowing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с неправдо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юй, пока ночной по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оет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hat overcomes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 raiment shall b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 angels he sh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confessed in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бедит, тог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м об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ангелами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т в род и 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onward from the hill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arts with love afl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vanquish all the host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esus’ conqu’ring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вперёд путём пря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 цель и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 разбегутся силы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gainst the foe in vale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our strength be h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, we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 врага, займи хол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ей греха ку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— вера, знае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anner over us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word the Word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ead the road the saint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houts of triumph t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под знаменем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лово Божье —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подвижник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м сердца привл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they like a whirlwind’s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pt on o’er ev’ry fie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ith by which they conquer’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till our shining sh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ера, словно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ла по всей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олизей не запуг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в их чис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very hand the foe we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n up in dread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ents of ease be left beh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ward to the f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идут вр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ят гроз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уют не бере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ько в правде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’s helmet on each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ruth all girt ab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tremble ’neath our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cho with our s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нёю правды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шлем 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от битвы задр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елики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9Z</dcterms:modified>
  <cp:revision>13</cp:revision>
  <dc:subject>Slavic hymnal Гимны веры христиан, hymn 552</dc:subject>
  <dc:title>Faith Is the Victory / Во свете жизни будь готов</dc:title>
</cp:coreProperties>
</file>