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C19-24EA-43F0-B24B-1A934EB4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A47-ACF6-4221-AA28-AB244D6D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F9C-8936-4A91-864A-F94F4661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826-F7B8-4A9A-ACFA-60E8E188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EDC-E4BC-4119-A913-5AB1A858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59F-18FA-40A3-BC13-A9EFD60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540-3102-4C82-B739-D7BFCA4C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76D-9A89-46DC-B4E0-FA00AEAC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DA8-F490-4CC2-87F8-D4EE8DB8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592-6AA7-4F14-8FC8-7AA60B71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5B6-E92C-4EEF-BC04-25A82B9F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342-B1F8-4189-B48E-33496240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EC6B2-5963-4E21-8D7B-0700D77ED2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слушать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петь о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песен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слушать об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чудный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а землю ум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мог жизнь им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 любви сбер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е проп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яжкий крест со мно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40Z</dcterms:modified>
  <cp:revision>12</cp:revision>
  <dc:subject>Slavic hymnal Гимны веры христиан, hymn 605</dc:subject>
  <dc:title>Люблю я слушать об Одном</dc:title>
</cp:coreProperties>
</file>