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573-861B-41B4-BA15-9C16947B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616-E5A5-4F58-85D8-24BF1413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553-9DE3-4916-83DF-97BA163D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CD9-99A6-4865-8461-B777640F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4E4-ABC4-4221-8786-07FB45AB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83C-242C-48A6-AC95-6C6E340F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C4E-B6A5-4899-96BF-84737724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794-173B-4B14-9A83-9FB7D526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30B-FFE8-4B6C-9F90-155F20E5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88A-6305-4059-BBD1-7D4310B2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841-7FFD-40B0-B41D-E8D694D3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9FF-1A09-49C2-BDBC-5BFA8F69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FB7F9-6BF0-42A1-B84E-A0CB96BFB4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 Твой 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 кресте по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 в венце тернов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расота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ьбой и жарк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зыв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древо возне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чьим вз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шный потря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дручён поз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уган, истом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 на истяз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ю посяг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й Твоих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мрачить дерз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яд мучений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ытки страшный гн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роступков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ороков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ю сокруш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пред Т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казни заслуж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лжен на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руд Твой и страдань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жертва з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умер за соз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зван к жизни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то осуж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лажена в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м иск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ушой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Твой я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целяюс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п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е б мо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ть Врача болез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2:41Z</dcterms:modified>
  <cp:revision>12</cp:revision>
  <dc:subject>Slavic hymnal Гимны веры христиан, hymn 867</dc:subject>
  <dc:title>На древо вознесённый</dc:title>
</cp:coreProperties>
</file>