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642-0A1F-4A88-A8BF-626948DA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474-5245-4775-ABC8-B3ACA243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E78-8E54-405F-B270-9531CF48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C6E-FCB4-4006-B0AD-D796EDDF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8B6-1E89-4FFE-A2DC-3034BEDA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490-9B2D-447A-97E7-6F5F0E38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214C-A12D-46A5-952F-6C641425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30A-9B0C-4EAC-A03A-CFA73BF9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1FE-9893-4C93-B88C-804B70C0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9C8A-3211-4E39-A0F4-0260EB6F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1E9-161F-4390-8847-FF183D46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3ED-A3EA-49A3-89EB-D68A4FD6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0A11D-CB6C-49C9-9A47-B6F4E65EDD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рогії хвилини Господь нам пос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обачили сестер, брат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Ісус з нами буде, як в слові сказ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лине з сердець Йому сп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приємно зустріти й побачити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траждання й земну сує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абути в єднанні святому на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відчути св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5   Дорогії хви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починемо тут, на Сіон ми 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зьмем сили нові в От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почивши за Господом далі пі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в світі лиш гріх без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сно, дружно єднаймось дов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чі в небо ясне підійм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перед, все вперед під захистом 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Господом сміло пійд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5:19Z</dcterms:modified>
  <cp:revision>13</cp:revision>
  <dc:subject>Slavic hymnal Гимны веры христиан, Ukrainian hymn 75</dc:subject>
  <dc:title>Дорогії хвилини Господь нам послав</dc:title>
</cp:coreProperties>
</file>