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E2F-B849-45B9-B4B8-142BE4BA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37E-0382-4E08-A87F-1CCF299B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094-34C6-4932-A7E9-9A2F5616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4C0-A28B-43AA-B752-A1402F67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622-2C56-4CA2-83D5-809AD4B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06B-9B2C-478A-A326-0DE5E4D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8CA-58CC-4BA7-A5EB-39E0DB5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98E-B91F-4B89-B3EE-84450C78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106-9DC9-464B-8255-166DB328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396-3535-43E6-AE32-94A7847C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7FB-1E77-4D34-B427-91A565A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3E6-EF80-4533-B488-F78F731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43617-7775-42B9-8C53-1AC9B9D54E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02Z</dcterms:modified>
  <cp:revision>12</cp:revision>
  <dc:subject>Slavic hymnal Гимны веры христиан, hymn 850</dc:subject>
  <dc:title>Стоит основанье</dc:title>
</cp:coreProperties>
</file>