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9A4-17DC-40AA-AD0E-6DA73C3E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4CE-9120-4E66-AA8B-75A932E9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9BC-EE53-4F5E-88E3-AA1465B8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0CF-32BD-4C9B-B69C-1242EA0F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C40-E4CE-49D5-A76E-02A6CE0B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439-80DB-40D9-95E8-22485509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4B4-BEBF-4D70-ACDD-A862AEC3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69A-2AC8-49A2-93CB-445B6EEA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E91-621D-4529-B2DA-D6983C43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101-8304-46A2-9EFB-46E64B0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552-D072-4C9F-BF6D-14D7CC9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991-B8B0-493A-9698-0F2C717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25B35-0FB8-442E-87AB-68B9FAB5FA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б вид Его му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врезался мо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б цель всех помыш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: любить и жить лишь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м Тебе, Господь, обяз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навек я исцел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олен был и адом связ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ю рушил ада п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если б вид Его му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мерть Спасителя взгляд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сердце радост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счастие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я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икнет в душу, примиря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живительный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кровь Христ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я грех великий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мой Он принял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отдал Он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корбях — моё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Его я радость п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ветлый и своб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 меня, Господь, из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ёртвый духом и хол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новой жизнью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неизре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мерть Спасителя вз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Нему в любви сми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звы рук и ног лобз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 рук, где я чертой кров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ан к вечной жизни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мой дух за Ним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ёт обновленным,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7:09Z</dcterms:modified>
  <cp:revision>13</cp:revision>
  <dc:subject>Slavic hymnal Гимны веры христиан, hymn 725</dc:subject>
  <dc:title>Ах, если б вид Его мучений</dc:title>
</cp:coreProperties>
</file>