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CE4-54DB-4643-83A1-94183602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6B3-7496-4A1B-83B9-CA5F92D4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3DD-3428-476D-8D5D-0D98F8D6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BBA-5100-427D-A980-79924F1B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594-36B6-4C4E-97C9-F9FE5461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187-780A-43D3-8DB6-39595562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109-C0F4-4102-9719-451C8BE7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1F1-CA9E-4927-A387-6651D37A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C85-ACD1-44CE-A03A-CF1F79CE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982-768D-46BB-8653-84C1667C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97D-E5CF-4BF4-9202-EC566A00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DB4-1742-44DB-BB01-9C1EEBF5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2330F-F2EC-4427-A6E3-3EECA422E6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God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наш Избав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аш И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Он — Месс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о Отец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ына Т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уха Свя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послал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sinner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е всех им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Он — М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дей каз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о Отец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ына Т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уха Свя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послал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tand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ee His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 I’ll serve my King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уду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зр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сем сердцем я прослав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о Отец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ына Т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уха Свя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послал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5-06-01T02:24:57Z</dcterms:modified>
  <cp:revision>12</cp:revision>
  <dc:subject>The Source, song number 492 in Russian</dc:subject>
  <dc:title>Вот наш Избавитель / There is a Redeemer</dc:title>
</cp:coreProperties>
</file>