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5</a:t>
            </a:r>
            <a:r>
              <a:rPr b="1" lang="ru-RU" sz="3600" spc="-1" strike="noStrike">
                <a:solidFill>
                  <a:srgbClr val="ffffff"/>
                </a:solidFill>
                <a:latin typeface="Verdana"/>
              </a:rPr>
              <a:t>	</a:t>
            </a:r>
            <a:r>
              <a:rPr b="1" lang="ru-RU" sz="3600" spc="-1" strike="noStrike">
                <a:solidFill>
                  <a:srgbClr val="ffffff"/>
                </a:solidFill>
                <a:latin typeface="Verdana"/>
              </a:rPr>
              <a:t>Дай святость мне, Бож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ore holiness giv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strivings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patience in suffer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sorrow for si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й святость мн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кротость, Твой ст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твёрдость в страда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плач о греха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faith in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sense of His c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joy in His serv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purpose in prayer.</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ножь в Христа вер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увство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радость в моли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лужбе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More gratitude giv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trust in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zeal for His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hope in His Word.</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й мне благодарн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дежде вс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веровать в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лово Его!</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tears for His sorrow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pain at His grief.</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meekness in tria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praise for relief.</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им в горе, страда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лёзы, чтоб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ирясь в испыта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ил Теб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More purity giv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strength to o’er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freedom from earth-stain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ngings for hom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чистое серд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 правый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бросив земн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емиться к Теб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fit for the kingd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useful I’d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blessed and ho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Saviour, like Th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к царству готов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святость стяж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жизнью, дел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подражать.</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7:46Z</dcterms:modified>
  <cp:revision>3</cp:revision>
  <dc:subject>Slavic hymnal Гимны веры христиан, hymn 155</dc:subject>
  <dc:title>More Holiness Give Me / Дай святость мне, Боже</dc:title>
</cp:coreProperties>
</file>