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7EB-F66F-4C37-ACC6-339C0387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477-B7B7-47AE-8669-470C8BD4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1BF-27FC-4063-9A27-3C051050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0C1-6126-4508-9B3F-D9107E36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A6C-6AB4-4177-BA30-1AA835C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DFE-6FD8-4427-8376-CE113D7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AC6-8F8F-4DF7-8573-4377E926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9AE-5F34-4944-AF06-354A6E25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956-C0FE-42D2-B523-5C2A1938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721-A805-4AC7-8F1A-5190BAA4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F05-C8A7-4C98-97C9-4356A47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EF5-1908-4E1C-9BC3-21FF6C2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34E34-133A-4BD7-AD34-EC9FE9E4FD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and did my Saviour bl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id my Sovereign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He devote that sacred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inners such as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slain, sweet Jesus, T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athed in its own bloo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firm mark of wrath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oul in anguish 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ight the sun in darkness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ut his glori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, the mighty Make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an the creature’s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ight I hide my blushing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is dear cross app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solve my heart in thank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my eyes to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rops of grief can ne’er re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bt of love I 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, Lord, I give my self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all that I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3:46Z</dcterms:modified>
  <cp:revision>13</cp:revision>
  <dc:subject>Slavic hymnal Гимны веры христиан, hymn 628</dc:subject>
  <dc:title>Alas! and Did My Saviour Bleed? (At the Cross) / Я не стыжуся возвещать</dc:title>
</cp:coreProperties>
</file>