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39D4-A9CF-45EC-951E-C930E42E3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618A-301E-44A9-97DB-65E1965A9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5B16-747C-4C34-8402-D70E1D9A0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3104-3F5C-46C0-8DAD-D26CE1A80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E34C-7A50-410F-B4BA-E01F135BB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9A54-1312-4042-853E-472359880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26FE-A193-4080-B2DC-486069854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415C-8799-448B-81CF-E68E611B6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22BB-73BE-42E8-8499-DE9A18C4B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C347-EFF3-4CBD-9509-D17FDD0D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6185-B146-4355-A392-23831141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528D-49E3-4B77-960F-89AF075A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B23843-E51F-4474-95A6-B02A457BE8D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витый чистой плащаниц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Божий, снятый со кре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 погребён в чужой гробниц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к ней приложена пли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не утихли гнев и зло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врагов: Он может вст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страха их, у двери гро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а положена печ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9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бвитый чистой плащаниц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нула ночь, поутру ра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могиле женщины спеша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ам в одежде легко-тка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а светлых ангела сид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чать отпала от гробниц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рглась на землю пли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гробу лишь только плащани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в нём лежащего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и глядят в недоумен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Учитель их исчез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ышат слово утешень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Кого вы ищите — воскрес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жёны, радостью объя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жат к апостолам 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вестить, что Бог распят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стал из гроба Сво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07:48Z</dcterms:modified>
  <cp:revision>12</cp:revision>
  <dc:subject>Slavic hymnal Гимны веры христиан, hymn 292</dc:subject>
  <dc:title>Обвитый чистой плащаницей</dc:title>
</cp:coreProperties>
</file>