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ABF-1507-432C-8966-D8FD1C3A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45C-9E24-484C-B85B-3821B386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A3F-16A4-4BEE-987C-EB32C4A7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0E2-4C7A-4CDE-995B-34555D5E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0D2-35E1-4F0D-85ED-10F9F14F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7814-F27C-41AD-9104-FB499DF5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D49-CBFB-4D17-95C4-4B8588C2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FD0-1B05-40AF-ACE4-1EEF0C4B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B0C-6379-4BFC-B77D-650DB7CE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7AD-EB56-4EDF-8149-F89F2A9F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121-1B08-442C-87A8-2D5F54B5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B52-A934-4D0A-9E53-C9ED6D77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90793-F604-4D74-9E0D-EC15B00A36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на п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С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ы найдёт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ь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ещет там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воды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те все на п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Его стоп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всю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Он примет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и омоет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белит, как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ы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руко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ет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ретёте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остный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вение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цовски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ют ярч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их там блес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я там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лаве Бог ц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43Z</dcterms:modified>
  <cp:revision>12</cp:revision>
  <dc:subject>Slavic hymnal Гимны веры христиан, hymn 352</dc:subject>
  <dc:title>Идите все на пир</dc:title>
</cp:coreProperties>
</file>