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CBA-12C2-4775-BB0E-C14C1F26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816-E85E-4E79-8697-D3F7895E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E62-D5A6-46AF-881B-D02E7758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6DC-7BD3-4635-9D86-E770A900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C9F-6512-429A-A6DF-CF106684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4CD-FD5D-4788-9CD4-57C1BAF6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309-A314-4AB3-8D59-E0274EB9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2C8-7850-4240-8CBC-743DB83A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A50-7DAC-45BA-A7C3-14FDA9C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395-2EDC-4127-AC46-BC51DBE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92E-8BD4-43FA-B4C1-610113F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DBC-9C0B-47E7-BC29-040EDD81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F5EBB-C750-43BC-8C3A-5FC74DEF41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кто сии и кем облеч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лые ризы снежной бели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уста хвалой п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, кто 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это те, кого Христос при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за кого Он умер и стра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х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все за Агнцем вслед они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через скорбь великую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Нём мир душе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х земной тернистой шёл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с любовию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их сильною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тем, кто верой в Господа посм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вступить средь раскал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м славу дал в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ьем чертоге вечен их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х забыта, слёз они не л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новую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гнец нас кровью омы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56Z</dcterms:modified>
  <cp:revision>12</cp:revision>
  <dc:subject>Slavic hymnal Гимны веры христиан, hymn 788</dc:subject>
  <dc:title>Кто, кто сии?</dc:title>
</cp:coreProperties>
</file>