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E50-28B5-4030-9EE7-C3D5239B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A2F-7E3A-41B6-A05B-1D8CBB7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77C-9C5F-4C2F-9B41-56C870F4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521-4A08-4C3C-8875-BCAB7749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476-8ED7-48E1-B66D-89B7487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EAB-CE95-45CA-B1B5-FE870A1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AB8-5FFB-456D-A38C-FDD599E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258-9BC7-48DE-8621-4EEEC20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666-3D12-41B1-84AF-8D7511B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6D7-86ED-4705-BD04-50580DF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A71-8E7A-41C1-B228-56F1776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A7D-F68C-4542-A8C6-92D8B4C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CD86E-82D1-42CA-B9EB-89B74BE0C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9   While Shepherds Wa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42Z</dcterms:modified>
  <cp:revision>10</cp:revision>
  <dc:subject>The Source 2, song number 1059</dc:subject>
  <dc:title>While Shepherds Watched</dc:title>
</cp:coreProperties>
</file>