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3D3-8867-46E2-BFDB-2072C077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50D-02A1-40A1-BED0-9DFD8BD3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ADC-77F0-48C7-9B31-BB9B4E0E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71E-3C47-4839-81F2-3A2DCF3F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AC9-4EA6-41AA-8F97-41ABD06C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9CD-4863-4607-A2CF-97C45623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641-625F-4A87-9539-E4D92335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305-8458-498D-B4D3-6A7549A9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077-DFB2-4E1A-8900-4833223B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93E-00EE-437D-A599-50FA3FA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DA3-B0B4-4079-9988-69181FBF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4EB-E3F6-4437-B129-76FBAB9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BBDDA-46E8-49AA-A0F0-41B8BE3B5A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ет славой, радость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 твои грехи на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, спа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зопасен под крылом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хрь бури разъя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ять не может мир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высоте дом вечный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славе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вой тебя туд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ойти в собрание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рдцем восхищ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 всерадостный спасенья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7:12Z</dcterms:modified>
  <cp:revision>12</cp:revision>
  <dc:subject>Slavic hymnal Гимны веры христиан, hymn 580</dc:subject>
  <dc:title>Ликуй, ликуй, спасённый</dc:title>
</cp:coreProperties>
</file>