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D86-DEEC-4F63-B743-C259A36B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27C-4FEE-4556-964E-7A00102E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732-E387-4F2A-9FCE-D628C695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F48-326F-4613-82CF-A3C9573C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067-CAAF-48BE-9D94-19BFFA1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A6C-53ED-40BB-9971-ECA22927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08B-7DFE-42F8-9BCE-24AC9E6D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290-7B23-4601-80CD-C45C370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4FC-FAF8-4988-A7E3-069B6DE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846-30A9-41FC-9E95-4A82B1C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30B-1F2C-461C-8159-AB3155E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CAB-F96A-45B5-9758-4B8A903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8DD55-2249-478F-83A8-1CEE8373FF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56Z</dcterms:modified>
  <cp:revision>12</cp:revision>
  <dc:subject>Slavic hymnal Гимны веры христиан, hymn 675</dc:subject>
  <dc:title>Пустыней греховной, земной</dc:title>
</cp:coreProperties>
</file>