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222-E693-4908-90AC-BDA4FA3B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56C-EC23-4A51-8CEF-4291A171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F84-0178-4ACA-B204-22B7212E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D37-F498-4E69-830E-88580B98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13F-D168-4E75-BB6F-5327FD67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317-A88E-4FD4-A7D7-E8FD8177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597-1134-474F-9130-91B203D5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34B-5B79-44D0-A001-BEE7FD08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888-F96F-49C7-A9A6-8C885ACB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8AE-30B6-4ADC-9B0A-9C27EF76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2EE-D87F-4D23-AC7B-7599E101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FDC-D483-45AB-B677-9C01D00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0DA37-73D7-4A9D-B6E0-0F8A2D29F8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boundless salvation, deep ocean of lo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fullness of mercy, Christ brought fr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hole world redeeming, so rich and so f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flowing for all me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6   О, світу сп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іту спасіння, любове св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наші провини лилась кров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есь світ відкупив Він, і дав спокій Св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любові святі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s they are many, their stains are so d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itter the tears of remorse that I wee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useless is weeping; thou great crimson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waters can cleanse me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агато провин в мене й темний мій ду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 Божого слова торкнувся мій слу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ерце скорилось, і сльози я лл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ас душу м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tempers are fitful, my passions are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bind my poor soul and they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to wro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neath thy blest billows deliverance I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come, mighty ocea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хочу молитесь і вірить Й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міць перемоги в Христі од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світлом небесним весь світ освіт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анна, осанна, осанна, осан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анна Спасителю Господу си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ide is now flowing, I’m touching the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ear the loud call of the Mighty, to sa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faith’s growing bolder, delivered I’ll 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plunge ’neath the waters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roll ove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ин Божий розп’ятий вмирав на хрест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озп’ятий для світу і я у Хри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віт вже для мене розп’ятий є з Н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 Ісусом мої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, Hallelujah, the rest of my d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gladly be spent in promoting His prai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opened His bosom to pour out this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boundless salvatio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u and fo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меркнучу славу, безсмертя віне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ені дасть у небі Всесильний Творец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іллються там хори землі та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Христі я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30Z</dcterms:modified>
  <cp:revision>12</cp:revision>
  <dc:subject>Slavic hymnal Гимны веры христиан, Ukrainian hymn 76</dc:subject>
  <dc:title>O Boundless Salvation / О, світу спасіння, любове свята!</dc:title>
</cp:coreProperties>
</file>