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9EC-10FA-4B6D-B0B9-E7416D4C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A64-36CC-42E9-8FF5-CDD8E307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92E-ED07-48CE-A003-31BF3EA6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077-249A-47FA-ABBE-A855910E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FCE-799F-40BA-A2D2-52D818D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E57-0FED-4960-8DE0-9037A9BA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1E7-92AE-46CA-96FE-1F414B13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19A-CE9E-486E-9CE0-B16A656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8FA-9330-4789-9F49-0E5DBF1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6E1-D02F-4E74-91C0-DD7C098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68C-B708-49FA-90AE-E9FC74D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BBF-ACBD-4DC9-A2C3-191BF72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5BCD3-52DE-446C-A234-E0D4C85ECF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вечног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 Спаситель давн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Он на пришельцев взи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встретит у в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вечных обите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любимых мы встретим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ньше нас ушли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 Божию там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они поют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ретенью Бога готовься,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остаться вне две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ославить душой восхи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38Z</dcterms:modified>
  <cp:revision>12</cp:revision>
  <dc:subject>Slavic hymnal Гимны веры христиан, hymn 657</dc:subject>
  <dc:title>В вечных обителях вечного рая</dc:title>
</cp:coreProperties>
</file>