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188-A5A9-4709-B199-514D1E35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7E8-9211-4647-BE4F-4C02FBC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7C8-671E-4E25-BA19-BC56FCFF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FCF-0C80-4F8E-BC49-EA945B1C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C0C-1C26-42D8-A92F-F072CE78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20D-D401-4678-92FC-F827BF1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8AE-D821-4C44-BD26-48DCDAF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611-DCF0-4374-BCDF-117779E8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500-727B-4EC8-B863-65A2F84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C5C-03E4-4926-B558-7588C78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2C4-ED54-430A-B242-42F4EE7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91B-D105-464E-B77E-708CBC3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FFF8-4270-4BA1-AFB6-807A40FBA5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25Z</dcterms:modified>
  <cp:revision>13</cp:revision>
  <dc:subject>Slavic hymnal Гимны веры христиан, hymn 644</dc:subject>
  <dc:title>Господь, Ты Сам меня ведёшь</dc:title>
</cp:coreProperties>
</file>