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65B3-7916-4451-A84A-0790CE55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3B8C-8E4D-4C43-8C2B-11C94659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0177-7BFC-4FD1-91EA-01AA0BA5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730-EED6-4E4C-B54D-254DF015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7C1-C426-4785-9883-64183C2F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B9A-4575-4B3C-90EA-F6306680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E9B-2671-4B3B-9DB1-5EEFD67B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EC3-9B36-4C98-AF56-CEA22124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500-8782-498B-AE48-5283BAC1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975-B0B2-4DD0-8089-1285A711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301-634B-44C0-917E-F13002D2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FC1F-C205-4177-85FD-72EDA411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8D3E1-D775-406F-98F1-B4B5326AC3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a life that is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iving to please Him in all that I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ielding allegiance, glad-hearted and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pathway of blessing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вя дл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 я жизнь поз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я молюся, Он всё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отдаюсь Царю цар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уть, путь добра для душ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through earth’s l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dearest treasure, the light of His sm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he lost ones He died to rede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ing the weary to find rest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 в наш краткий 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елать хочу, что любил Он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одиноких, больных, кал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изнурённых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ord an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self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, in Thy aton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st give Thyself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wn no other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shall be Thy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 I give, henceforth to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ord an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self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, in Thy aton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st give Thyself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wn no other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shall be Thy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 I give, henceforth to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Who died in my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ing on Calv’ry my sin and dis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ch love constrains me, to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His leading and give Him my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, Кто вместо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рестом на плечах на Голгофу шё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познаю, и молюсь не р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сердце моём был Ему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ord an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self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, in Thy aton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st give Thyself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wn no other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shall be Thy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 I give, henceforth to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wherever I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ing each duty in His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ing to suffer affliction or l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eming each trial a part of my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, среди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быть смирённым Его слу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нести крест тяжёл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ть под гнётом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ord an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self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, in Thy aton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st give Thyself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wn no other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shall be Thy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 I give, henceforth to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4:30Z</dcterms:modified>
  <cp:revision>12</cp:revision>
  <dc:subject>Slavic hymnal Гимны веры христиан, hymn 845</dc:subject>
  <dc:title>Living for Jesus / Живя для Иисуса</dc:title>
</cp:coreProperties>
</file>