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6B43-C8CF-472B-919F-13ECCDC8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05FF-5E6F-45A1-9BD0-D2993BC0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B9C3-01BC-4439-91FD-4C5FE815D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64AE-4C6D-42DF-9930-7EFDEDA9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7B76-01C8-4A78-BED7-E500BFC4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C55A-1C16-4BE3-86E9-11DCA352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D657-81B4-4B69-8090-E5C02267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03F1-5B80-47A6-A9A0-D4A1952E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4C38-7D79-4879-982D-5F9BB6B2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9B8A-C729-4A94-8560-BA2E71CE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C0A2-C28D-43F5-B773-769A81F2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279F-83C2-45B1-9B9C-01F17FB7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E6D7E-1A86-4C96-9D66-328D3A1534A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a land that is fairer than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y faith we can see it af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Father waits over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prepare us a dwelling plac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8   Там далеко вже вид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далеко вже видно той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ього вірні лиш люди ввійд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Спаситель веде у Свій 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й відкуплений і вірний лю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sing on that beautiful sh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elodious songs of the bl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pirits shall sorrow no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a sigh for the blessing of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у славі, в небесній крас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чудова країна свя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лавляють Творця там ус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відкуплені кров’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our bountiful Father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offer our tribute of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glorious gift of Hi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blessings that hallow our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є зібрання спасенних всі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сі Духом обняті во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 любові співають піс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Троном Його пресвя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7:56Z</dcterms:modified>
  <cp:revision>12</cp:revision>
  <dc:subject>Slavic hymnal Гимны веры христиан, Ukrainian hymn 68</dc:subject>
  <dc:title>Sweet By and By / Там далеко вже видно той край</dc:title>
</cp:coreProperties>
</file>