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97E-F7EE-4297-A768-458E3221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C19-7D12-4D62-8FF8-258C0A41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179-5C3B-46A7-BD23-90F4C688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F33-252E-4912-8A84-3E1338D5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C27-D611-417E-954B-0DF12AE9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226-8B52-4EAD-B51F-2B05BB7E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508-63F0-41EF-8667-BC0FB946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1A7-0BF1-4B2A-A05D-3FF5EAFF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DD5-45F2-4EEB-A119-63CEB5B4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B10-C438-48DB-802F-A8B356A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BC5-B12A-4FDD-BA24-A3126672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049-EA30-4286-A3F7-1D063722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00819-279A-4C61-93CD-E1E78D62B9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уж скорбей!» так назван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заоблач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л спасти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боль извед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руган,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древу смерти пригво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уж скорб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реха и зла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згла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смерть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с радостью вст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ть искуплен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ерный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34Z</dcterms:modified>
  <cp:revision>12</cp:revision>
  <dc:subject>Slavic hymnal Гимны веры христиан, hymn 838</dc:subject>
  <dc:title>«Муж скорбей!» так назван Тот</dc:title>
</cp:coreProperties>
</file>