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1F73-75FA-492A-BBB2-BCA19657E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B4C7-8B81-464B-985D-253461402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F566-8E18-4F99-92E4-224748EFB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D4D0-9067-4EFF-A9B0-E92DC50CC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1B9F-E9DD-4A8A-8CB4-98076032F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B3D6-906A-414A-8D8E-164DBA329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7EDD-96CD-4AB0-89B3-688194F58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C68E-8CEF-457B-B150-5940D869E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66E2-9AC3-4C27-818F-310C80664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463E-6CA4-4A6F-806A-DF4F2B64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97AC-1D6C-4E3C-839C-DC8CA0E8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160A-6D3F-4B19-BDB4-CA3867B7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53D9F9-B1CA-48F7-97E5-74A23230BF7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іблія много світла нам відкри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 научила любити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ілька вже тисяч літ вона прожи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нас вона учить про закон свят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е, даруй нам знати Твоє Сло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сповістити Божу правду всі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сь наступає царство вже Христов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день заплати буде для усі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9   Біблія много світла н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ного пророцтв у Біблії міст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 всіх вони вчать про все напере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ільки в ній мудрості для нас відкрит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е, дозволь нам розуміти в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е, даруй нам знати Твоє Сло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сповістити Божу правду всі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сь наступає царство вже Христов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день заплати буде для усі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іблія вірну путь нам відкрив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 всіх вона вчить, як по ній і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хто її на довгий час лиш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й скоро зблудить з вірної пут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е, даруй нам знати Твоє Сло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сповістити Божу правду всі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сь наступає царство вже Христов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день заплати буде для усі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християни, Біблію читай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ріх побіждайте, двигайтесь впере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аших близьких із неї навчай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нам заплату скоро прине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е, даруй нам знати Твоє Сло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сповістити Божу правду всі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сь наступає царство вже Христов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день заплати буде для усі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25:18Z</dcterms:modified>
  <cp:revision>13</cp:revision>
  <dc:subject>Slavic hymnal Гимны веры христиан, Ukrainian hymn 9</dc:subject>
  <dc:title>Біблія много світла нам відкрила</dc:title>
</cp:coreProperties>
</file>