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9FE-9453-40CE-9036-D7C0094D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6A59-EBB2-44E3-B473-4CC791D4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006-ED85-4620-982A-A9A8C43C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56E-D32D-4A7B-A4D8-4AA18FC8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5EC-9231-477D-8078-1443BD50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72B-A01D-4150-AC82-5AC872F1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920-EF00-4149-AE85-268E84A6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40D-1529-410C-922A-68CCF295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61C-5A3D-4A64-9028-A2F8416E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D52-6893-478D-9AC8-272CC5A5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120-6413-43CA-89C8-3EDB6430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635-157C-4D8D-81D8-73223FCA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2D7B3-8A8A-4C4A-8F81-2ADB095A9B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essing on the upward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w heights I’m gaining every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praying as I’m on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емлюсь впер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перёд прямым пут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подвигаясь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Тому, Кто жизнь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 силы мне достичь высо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ift me up and let m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on heaven’s table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igher plain than I have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has no desire to 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doubts arise and fears dism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some may dwell where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rayer, my aim is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есен мой земной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учит страх, сомненья жг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корбь близка, а грех гне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тремлюсь достичь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ift me up and let m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on heaven’s table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igher plain than I have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live above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Satan’s darts at me are hur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faith has caught the joyful s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g of saints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ться к небу я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цепь тяжёлую в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ой слышу песни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м поют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ift me up and let m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on heaven’s table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igher plain than I have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cale the utmost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tch a gleam of glor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till I’ll pray ’til heaven I’ve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ead me on to higher groun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ам души моей отк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ья славы не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вперёд, молюсь Хрис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осподь, веди на высот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ift me up and let m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on heaven’s table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igher plain than I have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8:19Z</dcterms:modified>
  <cp:revision>12</cp:revision>
  <dc:subject>Slavic hymnal Гимны веры христиан, hymn 853</dc:subject>
  <dc:title>Higher Ground (I’m Pressing On the Upward Way) / Стремлюсь вперёд</dc:title>
</cp:coreProperties>
</file>