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7A2-C14A-478D-8D7C-22923919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48E-6229-4020-8F2B-76DADE57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43A-A0F1-4E1A-81CD-0ED0E102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CEF-3C53-4B3D-99ED-1EFEEA62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C60-F0DF-4934-B081-8D9ECD19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9CA-69A9-44EF-866F-14C3A98A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C63-ABAA-42F0-AE27-B3594EE9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FBE-75E6-4AC9-9A2D-47307E7B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BB2-BA61-4813-8E9C-36E60F4E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7CB-F7AC-44D5-84D9-3277017C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589-A90D-4466-A5A0-6A065275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9C1-8C84-4C3B-8C41-04D665B1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14C67-CC1D-4458-90A9-76620E905E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ul, are you weary and troub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light in the darkness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light for a look at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 more abundant and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ша, ты в борь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ты в борьбе и томл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смиренно склон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исусе найдёшь подкреп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радость и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hings of earth will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death into life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assed, and we follow Him t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us sin no more hath dom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re than conqu’rors we 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мерть Он вошёл в Свою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нам идти сужд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Он в борьбе не ост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а победил Он да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hings of earth will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rd shall not fail you He promi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lieve Him, and all will be w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go to a world that is d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erfect salvation to t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держит Своё обещ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Ему довер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щим в нужде и стра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мир возвещ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hings of earth will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2:06Z</dcterms:modified>
  <cp:revision>12</cp:revision>
  <dc:subject>Slavic hymnal Гимны веры христиан, hymn 886</dc:subject>
  <dc:title>Turn Your Eyes Upon Jesus / Душа, ты в борьбе и томленьи</dc:title>
</cp:coreProperties>
</file>