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CB3-2A90-45B4-8A93-2785B789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956-8BB0-4C8A-A903-596F1F65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26E-F57C-4DFA-BF71-AB642B77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1B7-1E77-4FC5-965A-01C4F2EF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AFA-2407-44A1-9684-5548B343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FCA-2C11-47E5-A3A7-200124F0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530-7BED-4CD2-8798-6E5C85D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E65-6101-4316-B618-DA5505B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71F-AB33-4B6F-93D9-3278D546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888-372C-4F66-A6DF-8E46BBE5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05C-C4EF-4456-83AA-7AFFC47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6CF-33C7-4B3D-B814-0B9CD016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5CDFA-AD0B-4F4E-810E-1CA5848373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4:25Z</dcterms:modified>
  <cp:revision>12</cp:revision>
  <dc:subject>Slavic hymnal Гимны веры христиан, hymn 854</dc:subject>
  <dc:title>Есть место сладкой тишины</dc:title>
</cp:coreProperties>
</file>