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5B7-2A8A-458E-A0BE-B63BA459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24F-9932-4487-95D9-7F20F807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804-0F52-482F-847C-D6815A1F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C83-B22F-4C6F-9BCC-5CE5B9DC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361-AE2C-419E-A036-1C397CFB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760-06C2-4B36-8223-841B818E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F5A-7B72-44CE-AF93-80DBAE28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389-CFC5-4BAA-A6F8-7FFAE0FF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EB8-E987-433D-9768-2FAB810B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2BA-A538-4BA1-BF83-14B24096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065-E48F-44D0-9336-3650937B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FBB-ACE5-4E79-9529-7F61AEDB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E179C-C074-42F1-B8CA-4A8D98896A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ухайте вістку святу в просто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и ще маєте ча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м дарує Спас вічне житт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Бог нас навіки простив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3   Слухайте вістку свя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аль стане загублених дн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робиться сумно підча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що за грішних Ісус кров проли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Бог нас навіки простив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 душі від життєвих спо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яжко буває нер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що безмірно нас любить Ісу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Бог нас навіки простив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7:46Z</dcterms:modified>
  <cp:revision>12</cp:revision>
  <dc:subject>Slavic hymnal Гимны веры христиан, Ukrainian hymn 43</dc:subject>
  <dc:title>Слухайте вістку святу</dc:title>
</cp:coreProperties>
</file>