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AFA-A16F-4EE6-BA0E-2B903182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F41-0656-4DFC-8AD3-9ACD2779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DAB-092C-45A6-90AC-E0E4E92C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8D9-18A8-4750-98C0-B4364350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A13-BCB9-4D93-B158-2C742924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A5E-E43E-4915-8999-E4580664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111-3685-4D3C-9C1B-037FDFFC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9E6-1CE4-4089-95FD-7A2D7BCA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AD8-A8CD-45B0-8526-04BC0C7C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E85-DD8A-4BB7-B8A0-ABECFC4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DA1-A542-42A2-891F-4859C7F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2EE-EC7A-4418-BD3F-5B30D3ED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FDC9C-4733-409D-BDF3-8F6D850DB8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грехи мне прощ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я к небесам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бом греха и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я стал своим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асё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любовью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Свою явил Он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плакал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был жертво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Покой в Нём на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сокрыта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 Он меня всегда,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5:40Z</dcterms:modified>
  <cp:revision>12</cp:revision>
  <dc:subject>Slavic hymnal Гимны веры христиан, hymn 855</dc:subject>
  <dc:title>Я спасён!</dc:title>
</cp:coreProperties>
</file>