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AD8B-4405-43B1-B01A-6B9BD010A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F034-56E9-43C7-A241-B5A06DB1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F4D1-09B9-4082-ADE5-F6D35ACF7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71B1-7786-432D-B1B3-57CFBDF9D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6CEB-AABC-4DBA-AB7A-FB6B386A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91C1-D4E8-4E3D-9148-34291212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F35A-455E-4BB9-8C50-D1917665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71E1-852A-48BA-996D-82B129EA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6C1E-1CB8-4530-8360-36F9F036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7EDB-6200-4F7F-87EA-8B99171F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61DE-CCE3-468B-B104-58B567AC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52D8-D1C3-4724-865E-5FFBE9D3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296E5-02DD-45F9-B8D7-F37B532CADE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зьми свой крест, иди за Мн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мне говор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за тебя перед толп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ко кресту прибит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лед за Ним пойду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«Возьми свой крес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приблизил Он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уши снял тяжкий гнё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послушным быть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ти, куда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лед за Ним пойду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ряд скорбей иль смерти ть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бурные м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в крест за Ним я вслед пой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ни вёл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лед за Ним пойду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сердце, волю, жизнь мою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я отда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Спаситель, мо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дух и пло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лед за Ним пойду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7:28Z</dcterms:modified>
  <cp:revision>12</cp:revision>
  <dc:subject>Slavic hymnal Гимны веры христиан, hymn 433</dc:subject>
  <dc:title>«Возьми свой крест, иди за Мной»</dc:title>
</cp:coreProperties>
</file>