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D50-AF49-4FFD-BB8E-F653BB6D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969-35F0-4A10-9488-85D57C26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7CA-9CF3-4C14-BDA8-C94AA0F6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3EB-DB0F-4438-A1D7-9B3CC366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982-95B6-4213-BE27-F13A375C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193-D39C-4459-8D68-CA19E8BD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9B2-13B0-435A-9EB4-F475F56A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441-169C-4045-A4AD-973D473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C15-F88C-4878-A674-E6BFF5E9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157-C62F-4810-972E-0DD5EAC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EEB-ED83-415D-8DBD-D966553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AFA-13F4-499D-A6C7-79E05EE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66C31-FE63-403F-AFE1-0E96A8CF7B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кой обретёт в полн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doubt not thy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has decl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remaineth no more to be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й беззако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есть яр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ит тебя жизнь, как тюр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nce in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world He appea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mpleted the work He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грех Он в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ободы твоей Он в цеп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ake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Jesus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fe everlasting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зачем же 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енных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ье бывает иль с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now with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never canst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Jesus, thy righteousness,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 н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 надеждо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ты дар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ook, sinner,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nd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Who was nailed to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посмо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весь мир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л на кресте за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was H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Bearer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n Jesus thy guilt was not l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ил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озы и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тебя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from His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ed the sin-cleans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is dying thy debt has no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мерти!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ло твоё для бы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ный ад! Где победа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not thy 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epentance or pray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blood, that atones for the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на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вое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ния жажды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Him, then, who shed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mayest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eight of iniquitie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ами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в Нём правды со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0Z</dcterms:modified>
  <cp:revision>13</cp:revision>
  <dc:subject>Slavic hymnal Гимны веры христиан, hymn 360</dc:subject>
  <dc:title>There Is Life for a Look / Кто поднимет свой взор на Христа</dc:title>
</cp:coreProperties>
</file>