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0CC-56C7-48FD-999C-4C2BDE1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464-D063-4E1E-A2CF-3F8ADA7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9FC-305A-4655-AC3B-BDE00980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2DD-2D18-43A5-B4D9-B64CA86B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273-296A-4918-9080-7626E470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C8A-3D30-4F04-B184-D868FED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634-1633-4C39-B9FD-BFF1ACB9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6B6-56ED-4FA2-AF9A-4973C44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EDC-5E82-4FC4-8E10-EB2A0662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A18-3DE7-4DE0-A054-54201AE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54F-D8BB-40FC-B03D-FD71F69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976-E42D-45B2-9EDB-8CC877B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C3801-5525-45A7-A294-C5966631B0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ol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ilk and honey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y contemp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k heart and voice op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is all thy splend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ucified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aud and ben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ansomed peopl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, O I know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s await u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adianc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liss beyond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tand, those halls of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ubilant wit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 with many an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martyr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is ever in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light is se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stures of the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decked in glorious sh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life is here our por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sorrow, short live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that knows no 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arless life, i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retrib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toil, eternal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tals and for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ansion with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lo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of the el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 and futu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eager hearts exp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now by faith I se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here thy walls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my thoughts are 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ive, and pant, and y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one, O only man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aradise of 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ears are ever ba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miles have no al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7Z</dcterms:modified>
  <cp:revision>13</cp:revision>
  <dc:subject>Slavic hymnal Гимны веры христиан, hymn 666</dc:subject>
  <dc:title>Jerusalem the Golden / Иерусалим прекрасный</dc:title>
</cp:coreProperties>
</file>