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D55-A042-45BD-ADA8-F3B32EFA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226-519B-4706-B7CB-6E692CA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18A-AA86-4BD7-B1CF-DCC0948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286-776D-401E-AE61-0AF15674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D73-D2DF-4CA4-BD88-E379AA26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294-6FC2-43D3-9BA0-E73F2FA5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F76-E738-4D12-8920-38D951D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5B2-EA6F-4A3F-A807-98AFDAE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6A1-2AE0-4AC0-BBFF-FA933A34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2FC-BB4F-46F7-8494-FFC4AB2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9E2-7EAD-4C44-A408-28E6F65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5C7-9988-4892-9C1F-D1D73B56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B3CF-14A1-4421-AF12-6AA56698E3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uiding lap of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hand on my rudder’s he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love behind the bill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ind within my s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08   Glory to Thee, O Go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prayer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ncti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lov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deed 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tis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wish o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holy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26Z</dcterms:modified>
  <cp:revision>13</cp:revision>
  <dc:subject>The Source 4, song number 1808</dc:subject>
  <dc:title>Glory to Thee, O God of Life</dc:title>
</cp:coreProperties>
</file>