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3C4F-CAF8-482D-8657-2E0A3068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3B4-3C01-4E5D-95FD-3F1441B4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EE87-B060-4983-B3F8-AA62A9F1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AD24-AA3A-4CDF-992F-1B95D51B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202E-A024-4C9B-970A-0D4DBCD4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F5CB-1F38-4A78-8343-1C34F064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3C0C-E78A-48EA-9BD1-FF6C558B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C386-E345-41E7-88A5-0238C800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2866-B627-4D87-A582-DAEE0172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1E02-5607-4456-84BD-57975379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E5A7-87E9-4104-A2C2-B8C6A6E5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07E8-E3C0-493E-8DE7-F676EB9F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C5583-F4B6-42DA-B45F-76424B82C8B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десь лишь странник, странству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одину я свою спе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расстанусь я с этим ми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край небесный к Отцу вой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лых одеждах ангелы встр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месте с ними пребудем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кшись силой Его свят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славить и петь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здесь лишь стран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пройду я всю тень развра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которой тяжко бороться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веду я к блаженству бра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торый гибнет ещё во ть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лых одеждах ангелы встр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месте с ними пребудем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кшись силой Его свят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славить и петь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етер веет, несутся ту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грожают мне здесь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 то лишь, что Бог могуч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пребудет, как вер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лых одеждах ангелы встр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месте с ними пребудем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кшись силой Его свят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славить и петь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т я слышу вокруг стен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оды стонут во дни трев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м я больше ищу позн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оро я отдохнуть см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лых одеждах ангелы встр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месте с ними пребудем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кшись силой Его свят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славить и петь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ёт и горе, минуют бе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новый Иерусал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пою я в нём песнь побе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о буду с Христом м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лых одеждах ангелы встр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месте с ними пребудем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кшись силой Его свят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славить и петь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1:42Z</dcterms:modified>
  <cp:revision>14</cp:revision>
  <dc:subject>Slavic hymnal Гимны веры христиан, hymn 659</dc:subject>
  <dc:title>Я здесь лишь странник</dc:title>
</cp:coreProperties>
</file>