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BF31-90FD-40A3-8863-CCF593DD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C8D2-C739-42D2-8E90-08879395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E364-0526-4E19-BEBB-603EE170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4684-4D8B-42DF-9572-4660D940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2314-D693-4D0D-BE09-3ED3ECE7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E08C-9715-4963-A0C4-111F7804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B313-7FA1-4306-A276-BE20A13D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81B-B583-4C2E-8268-5FD482EC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ACD4-1E08-41E9-9F0E-10BED3E2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D763-9167-4AB1-98B4-0500DBA9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B21F-8459-48A5-BB8D-8B56E85F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73F0-BCD9-401B-9111-F2553E10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6957F-E020-434E-9E87-7A98320132A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о время: я, лик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ёл на Божие д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ворил я: «Всё мог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о мной падёт скал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рудился, рвенья пол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оил дом, пахал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ой дом размыли вол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ла плодов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ло время: я, лику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гда душой смущ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юдей на помощь з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работе обновл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совет не помог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утешный и уны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пал на берег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Беден я, во мне нет с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его я не мо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еня достигло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к тебе так близок 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силой, к помощи гот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 Мне ты позабы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нь, возьми Меня за ру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, много силы в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ой труд, рассеяв му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вершу рукой Своей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нял я зов и см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лся за руку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пошёл на то же д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есплодные м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о, чудо! Зреет кол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рос дом на берег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пел мой громкий гол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сё я с Господом мо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7:17Z</dcterms:modified>
  <cp:revision>12</cp:revision>
  <dc:subject>Slavic hymnal Гимны веры христиан, hymn 434</dc:subject>
  <dc:title>Было время: я, ликуя</dc:title>
</cp:coreProperties>
</file>