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5526-C3C3-4496-80B7-5DBBE930E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F6D2-184D-4DD9-90A8-EB38A1A5D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523F-52B7-4DF9-BC93-CB28CDBFA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421D-333B-42B3-9C07-B237D37DB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D1B4-5056-4F17-B6A0-08F5FF588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FF37-F648-4171-ACCA-BB81BBA39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0174-3DE1-46D4-8BC2-90689BA19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0DA4-C204-429D-B205-0EF58BD2D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66F9-3B7C-487B-B8EA-6CC42CFAD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C23C-D69E-4D5B-A933-1924D660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A65A-DD41-462B-B226-DBAB8828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CD92-32CD-4742-A4AB-45E3ECF9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A62F16-4603-40CC-870C-57E4C117317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учася, у двери твоей Я ст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пусти Меня в келью сво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мощен, наг, утомлён и у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руден Мой путь и далё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итаюсь Я по миру беден и нищ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учуся у многих жилищ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9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тучася, у двери твоей 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глас Мой услыш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дверь отопр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ебе кто Меня призовёт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ому Я войду и того возлюбл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черю с ним разде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лаб, изнемог ты в труде и борьб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илы прибавлю теб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плачешь, последние слёзы с о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тру Я рукою М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 в печали тебя утеш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яду с тобой вечер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учася, у двери твоей Я стою;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пусти Меня в келью сво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пусти Меня в келью сво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17:30Z</dcterms:modified>
  <cp:revision>13</cp:revision>
  <dc:subject>Slavic hymnal Гимны веры христиан, hymn 391</dc:subject>
  <dc:title>Стучася, у двери твоей Я стою</dc:title>
</cp:coreProperties>
</file>