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A1E-03E5-4D3F-ACE4-DEFF9E3E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6A8-D397-475A-9858-0E29DD7A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57C-985F-4D1B-AAD3-2CD2A5EF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213-348C-442E-8540-BDA8C4DD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3B8-8313-4A44-ABAD-36C1C48F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E92-550B-4D04-973E-A6418E8C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AF3-D0E9-4C16-B412-2B815DE5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010-F5EE-4B0A-A71B-3D4CEEC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BE8-DAD1-432A-8962-17DF310F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D1A-F2ED-43F9-9B8B-70190EA1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824-F3C9-4C3F-A99D-FFCB582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968-FB71-4101-9EA7-B604E7BE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30AFA-AC65-44ED-9758-A1E51F6225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себе спасе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сокрылся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еня наста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окоил Сам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теперь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уши моей смут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людей прих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оюсь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ашёл себе спа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я в пути уст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 Его пр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жизни уто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вечном я на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с Ним я гово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го беседы ди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ть я не 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не отверг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жалоб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ужде моей случа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мне даёт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несчастье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аняет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к спас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вно прост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узнать хо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ра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оставьте вс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йтесь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душе реш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любит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держит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00Z</dcterms:modified>
  <cp:revision>12</cp:revision>
  <dc:subject>Slavic hymnal Гимны веры христиан, hymn 636</dc:subject>
  <dc:title>Я нашёл себе спасенье</dc:title>
</cp:coreProperties>
</file>