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EB7-06D5-48A7-A5E1-D656E039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16E-BBD9-4873-A2D5-8E9A0A01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780-17CD-4E82-B6A1-07CA88B5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89D-76F5-4737-96C7-D0E67E3A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A17-42AC-4CFA-97A4-40D7829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7A6-877F-4871-89FE-7270319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F1C-4A5E-4D95-A842-5B76E2B7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0FF-AF86-4AA6-9D34-1B9CBA0B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EC0-DDD2-49B6-892C-C3930F98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F13-BC03-45AA-B726-B676F97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711-91AE-4730-935E-EA54D3B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975-36A4-4B8B-B0DD-5086233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1E08-CC58-427C-A404-725AA2C75F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ith looks up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Lamb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hear me while I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all my guil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let me from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wholly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y rich grace im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to my faint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zeal ins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t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may my lov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warm and changeles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v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life’s dark maze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iefs around m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darkness turn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sorrow’s tear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et me ever 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e a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ends life’s transient d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eath’s cold sulle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Saviour, then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and distrust re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bear me saf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22Z</dcterms:modified>
  <cp:revision>12</cp:revision>
  <dc:subject>Slavic hymnal Гимны веры христиан, hymn 829</dc:subject>
  <dc:title>My Faith Looks Up to Thee / О Агнец Божий, Ты</dc:title>
</cp:coreProperties>
</file>