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306-CE6B-44E9-9AAD-D61E6EFC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8778-D9B5-4008-9179-10E12B80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C759-6C37-4C59-82A5-51575C08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5D05-EA3A-4141-89A6-F906AF4F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7C77-B40C-4970-A136-6C8B7CB7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55AE-E86D-4409-9EB3-7985829B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E177-C1BF-43E1-91FA-D55627CB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97B-7919-4716-B2D3-64C0D37B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1BE-F347-47EF-98FB-1334D6C6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D46B-95A7-4CA3-9FE4-E48D6760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F928-3091-4A95-9A38-C1EB1378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B513-1C2A-4C0E-A80F-DB672A75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BB857-3180-43B8-BC26-B5C0F7BFD7A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am saved from s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ave peace with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walk with Jesus day by d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His hand so str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lds me all day 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ith Him I will not go ast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д гріха я спас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Божий світ посел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ерцем вірую я в Іс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спокій дав мен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тягар зняв з душ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7   Від гріха я спас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emptation He will help me st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will hold me with His might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ny passed me b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eding not my c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the Saviour heard and rescu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as lost and bli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 was so ki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, He touched my eyes and now I 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мене відкупи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рою я прийня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в незмінній любв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хранитель душ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emptation He will help me st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will hold me with His might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promise 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t shall end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, I will be with thee all the way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ough foes ass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still prev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I know He helps me watch and p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Що за радість тепе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зі мною є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ерцем вірую я в Іс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Хочу славити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а те, що спас ме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emptation He will help me st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will hold me with His might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49:01Z</dcterms:modified>
  <cp:revision>13</cp:revision>
  <dc:subject>Slavic hymnal Гимны веры христиан, Ukrainian hymn 17</dc:subject>
  <dc:title>His Mighty Hand (I Am Saved From My Sin) / Від гріха я спасен</dc:title>
</cp:coreProperties>
</file>