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D4B-64F5-4A65-A3AC-21981F14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9B8-395F-4769-8873-8C58871F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856-4F23-4BCC-9D98-E20F7F38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41D-C0A7-405D-B39F-BE22C6B4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86E-1187-4C6D-9F3F-A0FA51C2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D3F-9BF1-417F-A89C-CDEE158A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5DE-EA14-40D6-AB95-DE307A23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7C6-559B-4F99-BD64-2536E104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5D9-2AA7-4F11-8984-A7F6F6C1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BC1-046C-4563-9929-50AF74AF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D17-A4A9-4D08-9755-6ADEABAB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7AA-B974-4E18-9AFF-C7ABE31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5815A-4B8C-4104-8F64-38A870AA15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Боже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Утішитель, Дух правди 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присутній і Всевидюч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 тут між нами, нас просві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скарбе ласк многих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, Своїх діток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, вселися в серцях уб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нас, щастя нам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2   Отче небес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збав нас від скве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истотою душу вкра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Твоя ласка радість нам ве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із неволі, Боже, спа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8-08-02T00:58:04Z</dcterms:modified>
  <cp:revision>14</cp:revision>
  <dc:subject>Slavic hymnal Гимны веры христиан, Ukrainian hymn 32</dc:subject>
  <dc:title>Отче небесний, Боже могутній</dc:title>
</cp:coreProperties>
</file>