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2D8-CEED-45C5-B9FC-23F09BC0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54A-80CA-494E-B9CF-FE0A3B0E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8F5-D86A-4E7C-B5CD-E817A4F5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A7B-C3A8-4C48-9932-832BB7F5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0B2-F309-498E-85DF-A713A9C1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FA2-114E-41F5-97B8-EF630490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9D0-0B91-4299-9CBE-4BC6B543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544-D922-4A52-AAEA-870DCAB6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CEE-7077-42CD-8A0A-3C1DD908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4A5-A546-444C-92B7-A9A1123E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358-E238-45A4-939E-AD9D6923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AEF-FBDB-4EA2-A589-38989A9F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975C6-20FD-45E2-A1C4-49B41639F2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us a Child of hope is bo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us a Son is 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 shall the tribes of earth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, all the hosts of Heav’n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ладенца дал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а дал нам вечный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ын дан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свято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менах Его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shall be the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more ador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ful, the Counsell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and mighty Lor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ог крепкий и Творец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елый на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тник, вечности От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ный в род и ро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ow’r, increasing, still shall sp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eign no end shall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ice shall guard His thron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 abound below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Он укреп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ела мира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Он правдой утвер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тол Свой и завет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0:37Z</dcterms:modified>
  <cp:revision>14</cp:revision>
  <dc:subject>Slavic hymnal Гимны веры христиан, hymn 235</dc:subject>
  <dc:title>To Us a Child of Hope is Born / Младенца дал нам вечный Бог</dc:title>
</cp:coreProperties>
</file>