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6EF-CD98-4DD9-A30C-A31DBF6C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7D2-F4B1-4736-801B-C95DFE32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650-F2A7-421A-B88B-E233A48B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213-134C-446B-8E45-FB9F7F0D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8E9-E734-4884-A317-FA67CF91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1DB-F17F-41FA-9B93-CDC010C2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C36-02F6-4671-95C0-AA767984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EBA-18F4-4BC0-8FA1-C14A774B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CE4-AA72-4D88-BD7F-35D90560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150-F5C8-4F54-9D33-F6972B56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33B-7CE8-4F19-964F-B0A0FA44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571-5A9C-4034-8BCC-2C06DA44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FE4BC-4D52-49AE-8E8B-CECA760E84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виноградник, работа в нём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их в нём мало, 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до копать и полоть, расчи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ой поливать и плоды соб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рные травы совсем из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каждый по силам труд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надобно лозы от хищных стер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олода, ветра и бурь убе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 в виноград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иди в виногра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в нём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в нём мало рабоч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виноградник! Ценой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ой Моей крови ты куплен, 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ремя, и мысли, и силы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ум твой, все чувства отныне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царство Своё променял на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херувимов на муки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чашу позора и скорби ис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знью Своей твою жизнь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иди в виногра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в нём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в нём мало рабоч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виноградник, пока ещё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поработать, уж близится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умраком вечера ночь на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ремя работы навеки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й с зари до зари, и Я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ожу в тебя силы и средства все 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блажен, кто себя посвя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ло Моё в этой жизни 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иди в виногра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в нём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в нём мало рабоч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2:34Z</dcterms:modified>
  <cp:revision>15</cp:revision>
  <dc:subject>Slavic hymnal Гимны веры христиан, hymn 520</dc:subject>
  <dc:title>Иди в виноградник</dc:title>
</cp:coreProperties>
</file>