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D188-9515-4242-BA97-B17A8EB34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A3D2-F781-4FBA-9FF3-8816F7CF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2D7E-9BAC-4445-AEF7-CCE091F83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D3EF-063B-4D5B-AFD7-01491E907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BC6E-BD34-4541-ACF5-D8F12716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985B-B08F-4993-88C3-D34324A4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EBC6-0AD8-4E1F-B643-6A8DE7EB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404F-8B99-4D9D-BFF8-E639AF4C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8805-ACC5-4CF5-B9FA-97D23DFC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E5FB-711E-4F7D-AF78-A09DC497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CCFC-FD9B-4694-B1F2-39B1734F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9EAB-7FDF-488F-9276-7ED5BAF5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D79DD-3115-4C28-83FF-6612B6AB3CA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all for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I am and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er hope to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of my ambitions, hopes and pla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urrender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You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82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Jesus, All For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it’s only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will that I am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it’s only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will that I am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all for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I am and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er hope to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7:26Z</dcterms:modified>
  <cp:revision>11</cp:revision>
  <dc:subject>The Source 2, song number 825</dc:subject>
  <dc:title>Jesus, All For Jesus</dc:title>
</cp:coreProperties>
</file>