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B7E-11D0-44CB-AEBB-06B8276B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CE5-4CB3-4D89-8626-3BDA8C0F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D10-7348-4594-865A-A5EACF53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3A9-3A6B-4843-8B15-A359F315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711-74A7-4CA9-8A77-8A9ECA69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FE0-2402-4D0B-9746-298F6398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B73-FDB9-41BF-9B89-9DA75B52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ABA-52FC-4452-AD8D-1BCC1535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1E5-1E38-4A35-B68A-339527F7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F8A-2C81-4789-AA40-F50968F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183-6704-42DF-8DBA-01C7979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B82-560C-47EB-98A6-6399F67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5F084-D39D-47F2-8BAB-6454F8CE8F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течёт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я руки протя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шире распа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в истине 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день Теб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злил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течёт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я руки протя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шире распа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в истине 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день Теб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злил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I feel like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foolishness,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en the world has see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ill dance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we’re danc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это глуп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хочется пля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же, как и мы,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увидев свет, будет танце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9:09Z</dcterms:modified>
  <cp:revision>11</cp:revision>
  <dc:subject>The Source, song number 421 in Russian</dc:subject>
  <dc:title>Через вершины и моря / Over the Mountains and the Sea (I Could Sing of Your Love For Ever)</dc:title>
</cp:coreProperties>
</file>