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10D0-DA0D-4543-9FBE-30841E21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8C72-3857-40D9-986B-28BFAD7D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ABCC-3EDF-49D1-8FF9-8964B46E9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2394-72CF-4FFA-B4D7-CA215B63D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EF06-0B66-4038-B4F9-3116ED32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98A8-DDC6-46D7-BA5A-AE7DFF78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993C-DDF3-4682-A965-6862ED24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C396-22A8-402C-903D-C48ABFA3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238A-3C78-48D7-8D1D-2235CF67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F107-6500-4DB6-864B-AE08EDD5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12EC-F1B8-4EA1-A802-27793B72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72A5-A46E-431A-9CCD-DD170247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0AFD9-976E-4E47-8B23-023CF2B8ACE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world is not my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just passing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treasures are lai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where beyond the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здесь мой дом род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десь мой дом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лец я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ют душе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аоблачной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’s waiting now fo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eaven’s open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can’t feel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world any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родные ж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любовью неземн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you know I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friend lik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Heaven’s not my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, Lord, what will I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лишь Ты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ни свет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ло б всё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angels becko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eaven’s open 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can’t feel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world any mo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ангелы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меня дом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up in Glory-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live etern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aints on every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shouting vic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аоблачной стр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вечно бу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хваленьями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ьётся песн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song of sweetest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rifts back from Heaven’s sh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can’t feel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world any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ный гимн зв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ржественной хвал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you know I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friend lik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Heaven’s not my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, Lord, what will I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лишь Ты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ни свет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ло б всё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angels becko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eaven’s open 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can’t feel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world any mo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ангелы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меня дом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angels becko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eaven’s open 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can’t feel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world any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ангелы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меня дом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you know I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friend lik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Heaven’s not my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, Lord, what will I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лишь Ты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ни свет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ло б всё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angels becko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eaven’s open 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can’t feel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world any mo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ангелы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меня дом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’re all expecting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’s one thing I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aviour pardoned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 I onward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ушли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вёрдо верю 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меня прос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мне нужны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He’ll take me throu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I am weak and p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can’t feel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world any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в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робок я душ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you know I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friend lik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Heaven’s not my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, Lord, what will I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лишь Ты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ни свет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ло б всё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angels becko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eaven’s open 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can’t feel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world any mo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ангелы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меня дом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a loving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over in Glory-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don’t expect to 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il I shake her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любящая м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всех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томилась ж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ебе своих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1:31Z</dcterms:modified>
  <cp:revision>14</cp:revision>
  <dc:subject>Slavic hymnal Гимны веры христиан, hymn 672</dc:subject>
  <dc:title>This World Is Not My Home / Не здесь мой дом родной</dc:title>
</cp:coreProperties>
</file>