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4EE-66AA-40EE-9E64-5B40D028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12A-B5C3-499D-8A16-0FA4A655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058-7B90-4A1F-A0FE-8E2E5569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FB7-121E-4F02-BB50-9F8ABE77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AD8-3FB0-4DF2-98AB-CD0D6CBE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BC9-F0B5-4B34-8356-6C0C45FF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486-1076-4584-AB1F-27CD193C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15B-CA59-4D0A-90A2-6DABFC51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4D5-A21F-4E44-984D-2063CE30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06F-B29B-4C68-86CF-A164B58F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426-6DB5-498C-963B-A59738FB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977-07AF-4583-B072-8546DFE1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0D7F2-C2C6-4C4F-B224-5C55E2982E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hole world wa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darkness of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sunshine at no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y sho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тьме и грех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и грехе погибает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озаряет, как солнце с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Light, ’tis shining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the Light has dawned upo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 was blind, but now I can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darkness have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n Jesus ab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alk in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follow our Gu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лазна нет в том, кто идёт за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дивный свет избавляет от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Light, ’tis shining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the Light has dawned upo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 was blind, but now I can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dwellers in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in-blinded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, wash at His bid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ght will a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ь ослеплён и во тьме не ж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!» Он зовёт, слушай голос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Light, ’tis shining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the Light has dawned upo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 was blind, but now I can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eed of the 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eaven, we’re t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 is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ity of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в солнце нужды в див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аде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вете Его будет вечно свет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Light, ’tis shining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the Light has dawned upo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 was blind, but now I can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01Z</dcterms:modified>
  <cp:revision>14</cp:revision>
  <dc:subject>Slavic hymnal Гимны веры христиан, hymn 386</dc:subject>
  <dc:title>The Light of the World Is Jesus / Во тьме и грехе погибает народ</dc:title>
</cp:coreProperties>
</file>