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98A59B-F850-4884-ADEC-899EC7A2BCBF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6F3BFD-C59C-43BB-B4B2-A78D29349235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2040" cy="400824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B0F8AB-57A6-4D31-944E-06AD038C04E4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2040" cy="400824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11B29B-4D9E-4764-9373-AF7AC822D405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2040" cy="400824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386FE1-FBDA-410C-BBCE-3E0EF28E5A9D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2040" cy="400824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C41E-47D0-45E6-A28F-4A3674FF9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4E85-F92A-48F0-B3F1-68CF03CFF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B70C-D583-46D5-9706-497F83DB5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6DA6-77BE-47FD-8F7C-0D461B9D6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05FA-BEE6-4E4F-919B-72E9929B9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30B2-FE06-4DFF-BF16-8101FFF6E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A153-B059-4590-BAAD-457A0097E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75B3-560A-4292-BCC0-0EAF3CBA1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AE8D-176B-4C1E-B518-719F8A3EC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6C8F-2F93-460A-9B71-669803EE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E9DB-6BCB-421F-BA21-401418A5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D490-D04F-4E18-B115-65A254DA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728921-B5CA-4638-B7A2-4EBD7FBFDE1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се войдём в Отцовский 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может быть, уж вск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йди ж скорей, пора скорб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ейся, грех и гор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се войдём (в Отцовский до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может быть, уж вск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се войдём (в Отцовский до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может быть, уж вск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6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ы все войдё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удет нам отрадно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истина си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песнь небес среди чуд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а восторг влив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се войдём (в Отцовский до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может быть, уж вск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се войдём (в Отцовский до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может быть, уж вск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земной борьбе наш щит — в мол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й — сила и оп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ыт Отцом нам вечный 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да войдём мы скор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се войдём (в Отцовский до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может быть, уж вск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се войдём (в Отцовский до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может быть, уж вск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ечный дом! В тебе од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а тревог не знаю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тот, кто в дом во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о там ожидаю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се войдём (в Отцовский до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может быть, уж вск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се войдём (в Отцовский до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может быть, уж вск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6-01-10T19:21:14Z</dcterms:modified>
  <cp:revision>13</cp:revision>
  <dc:subject>Slavic hymnal Гимны веры христиан, hymn 668</dc:subject>
  <dc:title>Мы все войдём в Отцовский дом</dc:title>
</cp:coreProperties>
</file>