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6</a:t>
            </a:r>
            <a:r>
              <a:rPr b="1" lang="ru-RU" sz="3600" spc="-1" strike="noStrike">
                <a:solidFill>
                  <a:srgbClr val="ffffff"/>
                </a:solidFill>
                <a:latin typeface="Verdana"/>
              </a:rPr>
              <a:t>	</a:t>
            </a:r>
            <a:r>
              <a:rPr b="1" lang="ru-RU" sz="3600" spc="-1" strike="noStrike">
                <a:solidFill>
                  <a:srgbClr val="ffffff"/>
                </a:solidFill>
                <a:latin typeface="Verdana"/>
              </a:rPr>
              <a:t>Все грехи мои покрыт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се грехи мои покры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ободен,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моя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был распя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жизнь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за меня Христо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причислен к Божьим слуг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чу добро т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дал Святого Ду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ает в правде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жизнь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за меня Христо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нял с меня греха ок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авек свободен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огуществе Христ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хочу друг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жизнь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за меня Христос.</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1:02Z</dcterms:modified>
  <cp:revision>3</cp:revision>
  <dc:subject>Slavic hymnal Гимны веры христиан, hymn 36</dc:subject>
  <dc:title>Все грехи мои покрыты</dc:title>
</cp:coreProperties>
</file>