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D7B7-FD3E-46CA-9DF1-959E8349E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97C7-92AE-4550-B178-FB2724763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78B6-5DEE-405F-8AEE-5B7E71FEC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FE1B-873D-4A12-9AD8-0B6C32EAD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3234-6278-44F9-AF2B-A2EC35B71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C12B-542E-45B9-9ED0-BF46953EB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3CC1-766A-4C10-AA4D-68D92A01A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AA54-4463-4DD1-A370-A7FE139CD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3DAE-B021-428D-9A25-A8DA82D68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965F-4F36-4425-8086-E174E0D44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9036-7BD4-46E7-B017-16114F10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7B53-6519-40D2-AACC-9A0F1BDDA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21D7D7-DFFF-4F0E-8E71-3F1DB36EE86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hy kingdom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ouse of Thine abo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hurch our blest Redeemer sa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His own precious bl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4   Люблю Господній ді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лю Господній д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 там Христа люб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лю я церков із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икуплених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hy Church, O Go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 walls before Thee 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ear as the apple of Thine ey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graven on Thy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люблю, Боже м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у церкву ― храм жив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Її боронить Дух Свят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 горя ― бурев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her my tears shall f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her my prayers asc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er my cares and toils be giv’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toils and cares shall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церкву я мол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всіх її діт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лю я церков із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люблену Тв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yond my highest j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prize her heavenly way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 sweet communion, solemn vow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 hymns of love and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ажаю, брате м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віку бути в н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помогти в порі сумн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реста нести її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ure as Thy truth shall la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Zion shall be 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rightest glories earth can yie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brighter bliss of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наю, що раз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Господа ми йде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ірю, вірю, що буд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івати перед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48:00Z</dcterms:modified>
  <cp:revision>13</cp:revision>
  <dc:subject>Slavic hymnal Гимны веры христиан, Ukrainian hymn 14</dc:subject>
  <dc:title>I Love Thy Kingdom, Lord / Люблю Господній дім</dc:title>
</cp:coreProperties>
</file>