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E751-AA37-4513-B5E4-30284FB0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3466-EAED-4E99-8CCF-92E884BF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DED-C59B-42C5-B3E3-CFB4A1B2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24F-A8F6-4C30-BE2A-15A41B29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30E-98E7-4316-82B9-AF415978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25A-7861-4266-995B-03A8F0FB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6FC-C3CC-4068-AA08-F34DEA14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1DFA-F67F-40E3-B51D-C5A872B9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0EC-87ED-40B1-8408-74F65A39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C476-6110-4E71-ABE4-9524CA68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0ADA-25DF-42ED-AF72-16FFA7EA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1EC-1991-45A1-90E2-FED28976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8952A-CA97-4A7D-B6CE-258146A262E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make Your face to shine 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lift me up, I’m cleansed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яет на мне лицо Тво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на мне лицо Твоё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 меня и вверх вознёс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ountains fall I’ll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power of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Your heart of hearts I’ll d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адёт гор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твёрдо я сто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держишь Ты рукой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and strength each day I f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giveness, hope, I know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мир в Тебе найду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ие, надежды луч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ountains fall I’ll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power of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Your heart of hearts I’ll d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адёт гор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твёрдо я сто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держишь Ты рукой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6-25T12:47:10Z</dcterms:modified>
  <cp:revision>12</cp:revision>
  <dc:subject>The Source, song number 604 in Russian</dc:subject>
  <dc:title>Сияет на мне лицо Твоё (Это знает душа моя) / You Make Your Face to Shine on Me (And That My Soul Knows Very Well)</dc:title>
</cp:coreProperties>
</file>