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B74-6C91-4FA3-8233-358BDC44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099-557E-4C38-B155-503B040E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475-D728-467A-9546-72A5F7F3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C83-0A67-4BF1-A9C6-350DC853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66D-9141-4588-BAF1-7D4F8935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D81-C509-4F93-9DA4-EA32DAF1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384-E3C1-4D10-9FD1-D5D1596E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A4C-DB63-40CC-9FC4-0CA3C26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7F0-968D-411E-81A3-6F79B961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A1E-2171-452E-B234-DA4555D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881-C818-4B27-BBDA-208D73C0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4D3-E577-47F9-90A5-8F77263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F45DE-175A-4FE8-A1FD-53BCF30339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бро земных кра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ары Твоих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, что с перв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ет жизнь дет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добро земных кра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учи светил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веты Твоих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каждый данный м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дня, во тьме ноч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родителей,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иль чужи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ремления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у юную пор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всякий вышни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шь Ты нам,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зов, молитвы ж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бещанный венец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Церковь, что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родов всех и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 уст несёт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дар, что свыше д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4:12Z</dcterms:modified>
  <cp:revision>12</cp:revision>
  <dc:subject>Slavic hymnal Гимны веры христиан, hymn 819</dc:subject>
  <dc:title>За добро земных красот</dc:title>
</cp:coreProperties>
</file>