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E20-8636-46A8-BE97-70837494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D8B-4B8A-4DB9-9130-4607D521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5DA-EB56-44D3-B22B-AA26A515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2A7-F524-49FB-AB0D-A9A5DF1C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7DE-9A1C-4E03-992A-E670336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7CE-5EE8-4DD8-94E7-8FD0DDE8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4E7-1D2E-4AD0-9BE1-9E4A6D2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536-22A5-4CFC-9624-B0005B7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779-BFBA-4028-8F06-3AD53BE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DFE-5DDA-4FAD-BCDE-203A9BE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61F-7FF4-44F5-B867-F9E6295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3FC-1879-4C4D-AD2D-E8F78AB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1222-D0B3-4412-974B-9B11B6510A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tedious and tasteless th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no longer I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prospects, sweet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, have all lost, have all l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 their sweetness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mid-summer sun shines so d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strive in vain to look br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hen I am happy with Hi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, December, Dece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 is as pleasant as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name yields the richest perf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er than music His vo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resence disperses my g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, and makes all, and makes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 within me rej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ould, were He always thus n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nothing to wish or to f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tal so happy as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, my summer, my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 would last all th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0Z</dcterms:modified>
  <cp:revision>13</cp:revision>
  <dc:subject>Slavic hymnal Гимны веры христиан, hymn 504</dc:subject>
  <dc:title>How Tedious and Tasteless the Hours / Как скучно на сердце порой</dc:title>
</cp:coreProperties>
</file>