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F9D-B5CB-425E-AE77-EA914054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B86-7D3B-4F2F-886E-CD73CA0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263-BF55-4109-9C94-89A28650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318-6D3E-4029-9356-6F3DFE77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67A-D083-40E5-ABA5-81C45DA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442-A6F8-4FFD-91DE-71D10AA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208-2AF7-415E-8D33-2F1141B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788-8F87-4818-9B0C-08BD4A7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B6E-DE41-4F18-8CAE-40586130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985-D123-4385-A627-4147B44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BA5-4BC0-4042-B9E0-2D17ADAE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72A-A6DE-46B0-A46F-E3D7201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17A94-76B4-47BF-BE5D-89A405293A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24Z</dcterms:modified>
  <cp:revision>12</cp:revision>
  <dc:subject>Slavic hymnal Гимны веры христиан, hymn 729</dc:subject>
  <dc:title>По слову Твоему, Господь</dc:title>
</cp:coreProperties>
</file>