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184F-A28D-4A63-8F72-9BA93B32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E74-6476-4F98-AC94-FE4FA7CF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806B-75F7-47AD-A70F-9CF21603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E38D-0901-4399-BBE4-27BE9197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8E5-22D6-47C6-A6CD-8DF2B564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9336-105A-4E80-A42F-40DE1DFC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1D51-88F0-4D0B-9C09-1A399033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2B4F-FBAD-4048-8796-6D1910BD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E94E-39E1-4633-885B-695E852D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7AE2-7A99-4C26-A313-2AE081A1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2E67-B68C-4C31-965A-4F8E6FB8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EB7-09D5-4BE1-810D-D13CB66F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AE94D-28ED-4985-BC18-725E984ECFE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тся труд мой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мне Спаситель на небе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всегда буду с Ним преб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славу Его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на лик Его дивный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Он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окончится труд 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даровано в доме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беспредельной любовь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Его уви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славу Его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на лик Его дивный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Он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ногих встречу любимых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о свиданье вдали от скорб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ть Христа будем все воспе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славу Его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на лик Его дивный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Он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3:38Z</dcterms:modified>
  <cp:revision>12</cp:revision>
  <dc:subject>Slavic hymnal Гимны веры христиан, hymn 870</dc:subject>
  <dc:title>Когда окончится труд мой земной</dc:title>
</cp:coreProperties>
</file>