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A43-D558-4CE3-A0CF-2A7C6336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E5E-0F03-488C-9153-0C7C400C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488-2CF6-4563-9959-25255F53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1A3-0802-4F64-AF9E-971CDBB4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913-96E4-4A22-BF2C-645772A0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C80-2305-4B20-A4BC-4942965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1CD-0510-489A-B06E-6FF1875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026-4AA8-495A-8F30-753F32CF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8A4-5BA3-47F8-AD3B-BA8C9133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11D-A196-469B-9188-E7E85FB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8DC-F422-40BB-BFF8-8B34B8C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DD7-9211-44B5-A627-73A2871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4EAC4-F026-4CD8-8C87-5060ED5526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57Z</dcterms:modified>
  <cp:revision>12</cp:revision>
  <dc:subject>Slavic hymnal Гимны веры христиан, Ukrainian hymn 80</dc:subject>
  <dc:title>На Голгофській горі</dc:title>
</cp:coreProperties>
</file>