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739-6CEC-4B0D-872F-CB1C0DE0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597-F45C-4526-A5F6-7D36350A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14F-8218-4E82-97E5-CEDE7062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FDF-426A-492A-AA24-9F7F344A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2A4-0F83-44B6-9D8F-DAD6BE9F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20F-A257-457C-916E-7E93CFA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06B-BACB-4CF5-9E23-0650C22E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A20-3BFD-4C31-9194-47BB3BAE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91A-FFE8-46F7-A53B-4AD1EFC4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446-F62B-4692-8A80-C73F3E1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3C4-A238-4548-8B09-7B37F5C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D10-4F40-47CF-AB72-B7E823E6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C5399-42FF-4A49-9FAC-C7E5A9B0CF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e, like sheep, have gone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f us turning our own sep’rat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all si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allen short of Your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r glory is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desir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presence is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14   All We, Like 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ing our sickness, taking ou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sacrifice Lamb, has been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desp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by men, He took our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us near to You,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Jesus,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46Z</dcterms:modified>
  <cp:revision>12</cp:revision>
  <dc:subject>The Source 3, song number 1114</dc:subject>
  <dc:title>All We, Like Sheep</dc:title>
</cp:coreProperties>
</file>