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BC3-804E-4F5A-9F6A-270037DF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C04-3646-43C0-B900-F9F3E974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BC9-E6C5-4CD4-B2CF-8E9C58C6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C7B-58AA-4CDF-B5B7-3A900CF1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D0B-EE9C-4E94-8880-59A59899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A55-239F-4F74-84D8-8402CE41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B55-5421-4C54-AE29-FF4B870B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49C-85E2-4C7C-9306-F134327A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617-98B3-4744-9DB9-7340480B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055-BB26-41FB-B761-2B2590F2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1B6-ECB9-4FA0-839D-4534FB07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502-6CEA-46B8-9DE5-53F5A974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59EB1-2D68-46CB-86E8-E790E61F49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ся ли мы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ятые вс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покойною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чистые тек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третимся ли мы с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розрачною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й, светлой, как кристал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скликнем мы с Тоб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ень теперь на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ами и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непроходимый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оль тяжкою це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м его откр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жаясь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Христа мы будем 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землю за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сходил, чтоб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будем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уть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встретимся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ся хвалу Отц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03Z</dcterms:modified>
  <cp:revision>12</cp:revision>
  <dc:subject>Slavic hymnal Гимны веры христиан, hymn 689</dc:subject>
  <dc:title>Встретимся ли мы с тобою</dc:title>
</cp:coreProperties>
</file>