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07A-7786-4E2D-96BB-12C0062F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A50-4D62-4593-8505-DC165A76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A2B-5AD2-42E1-ACE1-FD444274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65C-7A5E-47A5-8452-2D53C67D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2B5-7E5D-41BF-AAC9-CB418750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188-9F0D-4B77-9276-7F445148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CB3-B6D3-469A-A6DA-71D2DFF1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7DE-C1CE-453F-AC9A-A4E13F4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6E0-0CD2-4579-BB78-632810A1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1A1-6A5E-4C2A-BC79-B65ABF8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0BE-D0B3-437C-BC2D-C306EDE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E8F-DEA7-47C2-B9D4-209D7906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FD0BE-82EC-4827-9E57-1C4A684B2C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п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ысо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ия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 подвиг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г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то бы мне источник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, горя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8Z</dcterms:modified>
  <cp:revision>12</cp:revision>
  <dc:subject>Slavic hymnal Гимны веры христиан, hymn 789</dc:subject>
  <dc:title>Христос, страдающих людей</dc:title>
</cp:coreProperties>
</file>