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6A1F-ADBC-47A7-85F2-3DD8C69F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3FF-F1E9-4EB5-BDC4-45ABCCEC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952-9872-4D9E-8849-588F27D6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A4A-925B-4575-A163-C7C6AFC3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E59-E25D-4AAF-A0FD-3237AE54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A2C-1C9B-4730-A17E-C7600467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3A6-D8FD-4EBF-A6E7-BB54B498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336-4135-4647-B0A3-0185DA91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376-3FD8-499F-976C-F257EB47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DBC-7E18-4C55-8512-9AB074F1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ECB-6552-4734-890E-33ADBE89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773-5AF9-434E-BA02-1889C7A6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8D9DA-DA3E-4260-8C2F-5A2E3D1DAA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fore the redee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ord shall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ome with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lasting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be upon their h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36   Therefore the Redee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shall ob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adness and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rrow and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flee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fore the redee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ord shall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ome with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lasting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be upon their h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54Z</dcterms:modified>
  <cp:revision>12</cp:revision>
  <dc:subject>The Source 3, song number 1536</dc:subject>
  <dc:title>Therefore the Redeemed</dc:title>
</cp:coreProperties>
</file>