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349-2DB0-4527-A0C0-D25DDE7C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A1E-6CE0-46B6-92A2-6F2B682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1DA-1B61-4E94-A9B8-214BC3F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52D-289D-4DC0-994C-16161460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04F-35C0-42CA-91CE-E9EA6591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403-E3A6-4AB9-A0DB-A520AB71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DFB-5900-4E38-93B6-20FAD333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D04-4421-44BF-9E73-EB92EA06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BB7-7C4D-4F30-929F-4B1A4EE2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9FF-4BD7-46C4-9D24-F7783A6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E1-2B56-43BE-84F9-AE77C1A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021-1839-45FA-9EAB-5A54126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6864-E15E-4616-B8C5-7518DC1749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— путь, Я — воскре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жизнь», — Христос ска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рзай, о чадо, в слав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ка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ной во сл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Я — путь, Я — воскрес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 Вифлееме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сниз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тернистым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крестной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да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пить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Собой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поношенья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Он здесь прин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чи злословим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благословл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десь избра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ам нам царство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ежде здесь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устыни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Христову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людям про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ых здесь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ечь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йдём,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4:35Z</dcterms:modified>
  <cp:revision>12</cp:revision>
  <dc:subject>Slavic hymnal Гимны веры христиан, hymn 328</dc:subject>
  <dc:title>«Я — путь, Я — воскресение, Я — жизнь»</dc:title>
</cp:coreProperties>
</file>