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53A-0CD1-453F-A2BB-372A7CEA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170-FF10-430B-B72E-33817D5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4B0-D775-48BD-9762-9AA57A9F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845-66B0-44A0-AFB5-86DB80AF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09C-91F8-4C77-AC10-D834481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B7D-A02A-4C3E-825E-A93A00F6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EC0-E9FE-4D71-87B5-B38AF79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A4D-3DB5-43FC-998C-7CC784E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63E-5165-4A87-8C5A-4680C98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E00-F098-4EBE-A032-575D7A30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F40-CF14-4D8D-8E29-A2DA32E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F79-F83D-4145-9279-DCBCB51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F41FA-E264-4755-9F2A-0CD6303E09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7:22Z</dcterms:modified>
  <cp:revision>13</cp:revision>
  <dc:subject>Slavic hymnal Гимны веры христиан, hymn 683</dc:subject>
  <dc:title>После заката</dc:title>
</cp:coreProperties>
</file>