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29A5-58ED-4589-A0E6-9AC4CD29A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76EB-A6FA-41D6-A782-094DE1F6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B404-A01D-43CD-9CA6-593CDB86F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B3E7-E361-42A7-8F7E-27DAE9671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482F-C0B1-4970-A1A0-B38ADAEC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7B94-20C6-45A5-B647-46CC4BA3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AF7C-5C0E-4A84-81FB-CB0371A1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09A5-5E8D-4601-A2C1-3F9BE9FE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DCB5-8801-45C2-A24E-9A527A76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257E-AAFC-4664-A9DB-7AB6B171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5EB1-45CB-43A5-9B07-C5C272E9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1E7F-3E47-4D2C-810B-CC82A15C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F6A74-873B-4BE1-8C18-31586A7390F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і літа молодії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жії сили в ці дні вес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присвятім їх Ісу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ар для Нього дорогий (дороги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може бути ще кращ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ля Ісуса слу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, у житті цім дочасн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 Христу присвя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(присвятит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7   Кращі літа молоді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чуй, як Христос заклик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ас благодатний для нас наст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ьше вагатись не мож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 нам життя дарував (дарува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стри! Ми прапор підійм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іменем чудни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мінь небесний зогрі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у й любов у серцях (у серцях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іло, во ім’я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раття, вперед в боротьбі з гріх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сячі гинуть в темряв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світлом до них ми підем (ми піде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нас зустрінуть гон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ерть за Христа не страш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вірою все перемож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слави Спаса Христа (для Христ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6:59:01Z</dcterms:modified>
  <cp:revision>12</cp:revision>
  <dc:subject>Slavic hymnal Гимны веры христиан, Ukrainian hymn 87</dc:subject>
  <dc:title>Кращі літа молодії</dc:title>
</cp:coreProperties>
</file>