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FBE-968B-4CD3-ADE4-8420A7FE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1C3-4151-4A9D-9BA6-C6F4EB12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F43-C8C5-48A6-A325-731281DC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EBD-AB56-4232-BB11-7B1B8E82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29E-0A73-47D8-8248-A90B8A9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15C-665A-4010-B890-F5F1FE0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CBB-6E72-477B-8813-A65E33F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FB1-6D43-44AF-95F1-1F3F559D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95D-15DA-4EF8-886C-4E60965C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556-A437-40A7-B0A1-5962E29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B16-21BE-44DB-B643-2ABC2AB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0C-E2F3-4505-BD17-C83A528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164ED-CC12-4149-A613-0B220E94C1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, друг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Христа сто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спечности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мир гляд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без замед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аши благ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без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ы, друг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Как солнце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ердц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Счастливый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н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и брось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Христа свят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пусти ты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емленьях суе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мой друг, сего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е оп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й, любовь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з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, быть может,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твой стыд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может с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53Z</dcterms:modified>
  <cp:revision>12</cp:revision>
  <dc:subject>Slavic hymnal Гимны веры христиан, hymn 351</dc:subject>
  <dc:title>Зачем ты, друг несчастный</dc:title>
</cp:coreProperties>
</file>