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FC3-6756-40AB-9D14-E9153C1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FFA-1963-4ABD-963B-B272611B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58A-EBDB-40EB-A3DD-FB979E37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5FA-8588-4B94-AFD2-5CEA331A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D2C-8D84-44A9-9964-668B961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32F-7444-4D88-855A-DC590B0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8E3-3FDD-49E0-82CD-67D0551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E1F-4AF8-4ED9-B2BB-C0C9D08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90F-7157-4DBF-9937-FBE8570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E96-810D-4F18-BEC1-6582141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E37-A459-4518-9053-7B99982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BCF-DA27-483A-812A-0511B2F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FFA09-E34F-48A9-8943-6C2B0BEE70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hear they’re sing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ion shout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urely we can all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body here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ll, I Hear They’r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feel like danc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join with all who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God is in this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ybody’s seen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You lifted me from where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a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ed that You even know ’bou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have chosen to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lieving that You’ve chose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lost but now I’v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08Z</dcterms:modified>
  <cp:revision>10</cp:revision>
  <dc:subject>The Source, song number 550</dc:subject>
  <dc:title>Well, I Hear They’re Singing In the Streets (I’ve Found Jesus)</dc:title>
</cp:coreProperties>
</file>