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64CD-24C0-46B1-8375-FC35A0F6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B28-019C-412E-A054-76ACF07D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3D9-BCD1-4F9C-9FF3-3976EA43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E7C-B704-483D-A081-1EAC12A2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F36B-50B9-48C6-B9B9-C76363CD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B20-8EED-4EF9-8034-C440A65A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7C1-2276-4BA4-8A54-58869D4C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2C6C-07C0-4F6B-BF26-A2A68BEA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ACF-C9C2-45BF-9344-F50124B2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8B78-4ECF-41A5-B458-AD886163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AAEE-BDBE-4FE4-A649-DCEBF89C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B34-C4BB-49B1-8C3A-13D5E623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9EB0F-8B5E-4DF5-AA2D-B0FE2C1FA4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of heaven living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entle Saviour, closest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rong deliverer, beginning and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within me falls at Your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0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King of Kings, Majes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Majesty, I can but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my all befor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royal robes I don’t de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to serve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rth and heav’n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eternal, faithful and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bought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ansomed sou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ought this si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ear to Your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within me cries out in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Majesty, I can but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my all befor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royal robes I don’t de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to serve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to serve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3:13Z</dcterms:modified>
  <cp:revision>9</cp:revision>
  <dc:subject>The Source, song number 309</dc:subject>
  <dc:title>King of Kings, Majesty</dc:title>
</cp:coreProperties>
</file>