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9FFD-D0FF-4B53-B61B-0E703A58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F587-1D58-4A02-9015-FA59F573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F2C0-98CE-4DEB-9D58-17E95F14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2E8-30BA-476D-87E3-6BA59C32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4A87-DBE5-4549-AFAD-6C84D8CB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6E0A-4899-443A-ABD6-3A30D752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7B65-BFE0-4C50-9AE0-866F4BCF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8A31-48B3-4814-8628-2625864B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34B-E253-449C-9F57-B08CD28F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FBE-6E31-4FF9-8406-CDA61D52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1443-FD5C-4D05-8FEC-C12DA91B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27E6-F39E-4715-A6C5-9A78511F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7BD6B-A3A4-4E5E-BD5A-A4EDE79C5B4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сёстры, время приближ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наш Спаситель в мир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мрак ночи пред зарёй сгущ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, неверие вокруг раст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, наш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охнови сердца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Один наш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борьбы земной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ья, сёстры, 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 нужны бури и ненаст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вы зла и мира су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ладеем дивной тайной счаст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о Боге богатеть дол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, наш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охнови сердца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Один наш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борьбы земной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че пойте песни предрассвет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традальцы обрел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итесь, души беззавет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Христа найдёте вы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, наш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охнови сердца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Один наш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борьбы земной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3:25Z</dcterms:modified>
  <cp:revision>13</cp:revision>
  <dc:subject>Slavic hymnal Гимны веры христиан, hymn 329</dc:subject>
  <dc:title>Братья, сёстры, время приближается</dc:title>
</cp:coreProperties>
</file>