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F96-BC5A-405E-8DF3-9069F9CC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7F08-AD2B-494E-B8D1-F86F3B5C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3DE9-95C1-42C3-BC14-E43E10BC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565-0FAD-451D-BC4D-D6B86243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89A-42FB-4DB3-8D25-6271E3FD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68D1-EDE2-4389-82EA-705B69E8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F92-3837-4AC6-911A-F72C122F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D60-2680-436B-AF4E-731C9173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A2F-5916-45DD-BE2F-B876D165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47E-29D7-46B3-93ED-1D190EC2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78C-1253-4998-B796-17BE7DCA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EA4-0D5E-4F03-9269-1FD7FBFE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40A2A-0514-42AB-81BD-B465075F80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speak to me that I may s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iving echoes of Thy t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ou has sought, so let me s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erring children lost and 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и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б пер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 я речи мог друг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искал, дай мне ис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по путям зем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ead me, Lord, that I may 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ndering and the wavering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eed me, Lord, that I may f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ungering ones with manna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, чтоб я в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вёрдых любящей ру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ми меня, чтоб я корм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дных манною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rengthen me, that while I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 on the rock, and stro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ay stretch out a loving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restlers with the troubled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укрепи меня, чтоб 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репко на Скалу ве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мощь гибнущим да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звал укрыться под Тво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each me, Lord, that I may t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ecious things Thou dost im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ing my words, that they may r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idden depths of many a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, Господь, чтоб мне п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х заветов шир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 дай крылья, чтоб д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ец замкнутых глуб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ive Thine own sweet rest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may speak with soothing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ord in season, as from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eary ones in needful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 мне чудный Твой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покоить мог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ушам, скованным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стником был слов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ill me with Thy fullness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my very heart over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kindling thought and glowing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love to tell, Thy praise to s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аполни так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знь в избытке полила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светом для людей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Твоя во мне зажг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7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use me, Lord, use eve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Thou wilt, and when, and w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Thy blessèd face I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rest, Thy joy, Thy glory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треби, Господь,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чешь Ты, когда и г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 прославил 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 служить Тебе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4:04Z</dcterms:modified>
  <cp:revision>12</cp:revision>
  <dc:subject>Slavic hymnal Гимны веры христиан, hymn 826</dc:subject>
  <dc:title>Lord, Speak to Me / Скажи, Господь, чтоб передать</dc:title>
</cp:coreProperties>
</file>