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6D6-18BA-4DD1-9A2E-DA74A4BB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306-4A12-4203-90D5-228DF0F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168-BDEE-4255-99E0-EA7E63E9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62F-A422-4039-9E9E-036D9A4C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1DC-CA4F-472C-9850-E72F9B8A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66E-7E69-4BAE-98E0-4C84AB3B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234-9F5B-4998-B16B-F1E9C6E8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76D-7B54-42E9-815B-F866B19D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7FB-2A96-4016-9A49-F2502924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3D8-F868-4AA8-A48B-13F18EC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950-2800-47F6-91A2-959B762C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046-74A2-428E-8394-22DFEFBF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2926B-C148-4CBB-B12D-EE0DA174E7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’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58Z</dcterms:modified>
  <cp:revision>12</cp:revision>
  <dc:subject>Slavic hymnal Гимны веры христиан, hymn 893</dc:subject>
  <dc:title>Jesus, the Very Thought of Thee / Христос, здесь мысли о Тебе</dc:title>
</cp:coreProperties>
</file>