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D8B-330C-4E10-8F23-43E250C2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B86-CF5E-464C-A7B3-134EC775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37D-1988-4B0A-B816-0CD876A1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891-DD76-4CAC-A289-6FFCE4D9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A96-4608-470B-985B-DDEE59B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EA5-BD29-4497-9600-2B4C627B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6B9-92A0-4D25-80E0-CBC9958D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A36-523B-43BD-8109-5889D382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597-19A3-42B5-B9A6-87422303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711-08A9-463D-A00E-834ABBE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978-09F9-4412-9E37-42878659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E6A-A124-4C13-B10C-CE0967EC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9902A-8863-4C6B-89AD-92ED1C92C1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9:40Z</dcterms:modified>
  <cp:revision>12</cp:revision>
  <dc:subject>Slavic hymnal Гимны веры христиан, hymn 338</dc:subject>
  <dc:title>Грешники, к Христу придите</dc:title>
</cp:coreProperties>
</file>