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DB7F-33E5-4CB1-BC8A-76296830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79E0-553E-4D20-9B51-FC2CD7A7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3556-632D-4FCB-BDAF-10729E36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FFB3-90E0-4B54-882C-E6027AA4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6543-6B67-4935-9ED8-2AE86B9A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D65D-0857-4762-8CD3-481D44D5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3683-E30A-4F05-9196-24A14091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DC00-E2B9-4F7D-9555-DCD768D5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A29F-7D9A-4C70-8C8B-2BE35DD4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B692-3152-440A-9B94-686D5834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A4FF-4CC8-4977-AE8D-D78F14A4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8694-5C23-4823-A3C4-B8874266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9EE7A-6E79-4EFB-BA03-1BBB11595E1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я очами в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щается Господ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пчет Он точило гне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полнил грешный р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рый меч Его сверк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жает ложь и з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истина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ижу я очами в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сеси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агерях Его я 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ымящихся кост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тари Ему воздвиг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лугах, в глуши ле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истины чит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огнях и фонар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ень ден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сеси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бный звук всех при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огда не отступ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судилищем Христ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язаны предст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, душа, всегда го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торжество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сеси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флееме Иудей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Господь Христос рожд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й силой воскре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реображает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умер, чтоб спасти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и мы должны спас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сеси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2:55Z</dcterms:modified>
  <cp:revision>12</cp:revision>
  <dc:subject>Slavic hymnal Гимны веры христиан, hymn 890</dc:subject>
  <dc:title>Вижу я очами веры</dc:title>
</cp:coreProperties>
</file>