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613-9290-4999-B7CC-06E3F23E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6E8-7AF4-4502-9741-F148812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A6D-7B84-44AC-B098-D9A469C1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271-F50A-4822-B17C-F508F6D5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AF0-7373-4F06-AB73-D688E4F0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577-79F9-4DA0-BCB7-9B7EFB14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642-C800-48E2-869D-FD013677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751-C5FC-4E7B-A58D-AE985989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431-441E-43E7-9363-A1BEE878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1E4-76CD-43E9-92C2-9C45002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8CF-DB22-4DA7-B447-ECEA0846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7F5-DA1A-49ED-9493-8BD26A78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BFB5C-6B26-45D2-8874-EB7EC3FE89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6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Have Decided to Follow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I have decided to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, no tu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8:04Z</dcterms:modified>
  <cp:revision>11</cp:revision>
  <dc:subject>The Source 2, song number 766</dc:subject>
  <dc:title>I Have Decided to Follow Jesus</dc:title>
</cp:coreProperties>
</file>