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310-CF01-427E-A458-A3D32A6A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509-EE8C-4A59-BA02-32E49120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967-3FFD-4099-8555-D1DB5987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7E0-1293-48FF-A941-A2D374BF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43A-FDB4-4A63-BCDE-ACDD2487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C64-4129-409B-B22E-57153E94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3E5-DDCB-434D-BA6F-2BEE6E6C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AA0-B90E-4842-9221-4E52F4F8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3D4-A2B9-4560-B722-0EA84E92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189-79CF-49C5-B322-8164888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1B7-A945-42EB-9256-008D97C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DC9-BF0E-41B2-8FB5-5A21AF11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81566-E4C0-4749-B432-97B9BA1901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транник, к небу т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й любви будет Он в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транник, к небу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близится грех к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вперёд по свят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ишь света ли пред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сказал: «Буду Я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когда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 радость вечную ты в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03Z</dcterms:modified>
  <cp:revision>12</cp:revision>
  <dc:subject>Slavic hymnal Гимны веры христиан, hymn 457</dc:subject>
  <dc:title>О странник, к небу ты на пути</dc:title>
</cp:coreProperties>
</file>