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264-FB3B-4B0C-A9F9-52529D7A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379-0B4E-4623-A2B3-92AF240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0D9-D11E-4E9A-B170-753A5E37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865-4C93-46AD-8F3B-7F98FE81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4D0-C93B-46F6-9480-5B82B12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313-854B-4396-AFF5-70DECFE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DDC-AF28-4865-91DE-F0FC8B9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8CA-80F5-488F-9EAF-FF4A353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2DA-6383-452D-B284-61B457D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9E3-CFAE-44ED-8BC3-2094BC5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2CD-8FED-42E3-8B91-F1F5321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E6F-0048-4C58-8D9F-0A72A54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F6031-99FF-46CA-8584-B2B1A330B4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а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одиноким в світі 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не знав, томив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и мене Сам від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радість дав душі мої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 Тобі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01Z</dcterms:modified>
  <cp:revision>12</cp:revision>
  <dc:subject>Slavic hymnal Гимны веры христиан, Ukrainian hymn 71а</dc:subject>
  <dc:title>Коли я чую про Христа</dc:title>
</cp:coreProperties>
</file>