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1</a:t>
            </a:r>
            <a:r>
              <a:rPr b="1" lang="ru-RU" sz="3600" spc="-1" strike="noStrike">
                <a:solidFill>
                  <a:srgbClr val="ffffff"/>
                </a:solidFill>
                <a:latin typeface="Verdana"/>
              </a:rPr>
              <a:t>	</a:t>
            </a:r>
            <a:r>
              <a:rPr b="1" lang="ru-RU" sz="3600" spc="-1" strike="noStrike">
                <a:solidFill>
                  <a:srgbClr val="ffffff"/>
                </a:solidFill>
                <a:latin typeface="Verdana"/>
              </a:rPr>
              <a:t>Отец Небесный и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Небесный и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нам все грех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зло могли мы побор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несли достойный пл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нам помог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дай нам с детской прост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имать словам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ить мир с его тще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чистой, радостно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за Ним всегд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сподь, небесною рос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ягчи упорство в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бури сердца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у нам являть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во всякий ча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Желаний пламя ост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хладой не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оть усмири, дух возб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пламя, бурю и дож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лышать голос Тв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7:44Z</dcterms:modified>
  <cp:revision>3</cp:revision>
  <dc:subject>Slavic hymnal Гимны веры христиан, hymn 181</dc:subject>
  <dc:title>Отец Небесный и Господь</dc:title>
</cp:coreProperties>
</file>