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6F44-3571-4BA1-B6AF-6EFD151E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4F0-8981-4587-8E01-CE7B1FFD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285-F61A-4225-B66D-AFE7ADA8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A0C-8393-4798-B1A7-183AB437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AE28-4388-4C6D-872D-7353EF5F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F857-9E2E-4E0D-9F8F-17C1636D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A841-7649-4262-B38B-881FBB0D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ED0-636F-4E56-91F0-ECACBCC6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3F9A-BEE5-4853-9BBD-08A5C4CB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8C0C-3A92-46DB-80A6-3C02932A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B0E0-F32D-4C3A-8A15-7E81369A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A40C-AF2B-4089-BE97-A1D57AF7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FAC3D-4699-4EAE-82D2-3A67A0B5EF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вечное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к нам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разил греха нап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л с Собой нам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енье вечное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ас грешных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бя не пощад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кресте в предсмерт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а молил о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знь нам, мёртвым, пода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ял мрак и ть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ово нам Своё вруч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звать других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е Слово — меч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 воды жи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порок и грех каз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у мир 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8:17Z</dcterms:modified>
  <cp:revision>12</cp:revision>
  <dc:subject>Slavic hymnal Гимны веры христиан, hymn 387</dc:subject>
  <dc:title>Спасенье вечное Христос</dc:title>
</cp:coreProperties>
</file>