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8A0-67B6-4B2F-B854-C8B572F9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5C5-7B4C-4770-A45C-854655BD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D5A-E155-415E-B010-5650A7DD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F42-14AA-454D-8E22-3C579A8F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C5B-A29E-4029-9558-152B5A18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F83-E2B4-4412-9F0D-FA679205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E79-77BE-4A09-9385-60E748E8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062-FB06-4A2B-B1C0-BB4FD5D7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F64-08A2-4D1F-BD7A-BEDDFA6A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3E3-11FE-453F-82CD-518ED8B3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E3A-4C14-41F1-BD0E-FC105EC8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A17-DF16-4D01-8C35-D3FECA7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17DE3-F41A-482A-9F52-9B7A8DCE5B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яслям бедным прибежали пасту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Младенцем ликовали, как мог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яслям бедным прибеж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 светлый их на поле посе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ённом в Вифлееме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лись Жизнедавцу вс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чистым Богу славу воз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открылся в Том Младенце Ц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родился, чтоб избавить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7:53Z</dcterms:modified>
  <cp:revision>13</cp:revision>
  <dc:subject>Slavic hymnal Гимны веры христиан, hymn 234</dc:subject>
  <dc:title>К яслям бедным прибежали пастухи</dc:title>
</cp:coreProperties>
</file>