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E99-F8B2-47CA-B4A7-5C16A456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EFA-128A-4084-9101-4B6CED7D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610-DA52-4A6D-8909-A44AD149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0AB-E1B0-4E73-A2E8-613CBB8F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68DB-CCD3-4149-9EE7-7896BCF3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558-9E95-4E02-803A-6DC65D65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DEA-C0A9-4B19-B7EA-1AD3239C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9EA-BB84-49CB-B41A-C58F4699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CD6-5AC0-4C6D-944A-4F4292D2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6D8-2057-4F3F-B2CE-2942D227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ACE-319B-42ED-9196-4D19E599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176-8E53-434F-A6D5-AFDB3AE0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0A122-6D15-426F-9F83-4F64037644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keep me nea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 precious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to all, a healing str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s from Calvary’s moun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   Спасе мій, тримай м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 мій, тримай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пречиста кров т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ого сці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, a trembling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nd mercy foun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he bright and Morning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d its beams aroun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душа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мир діст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ясна рання з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осія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! O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its scenes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walk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shadows o’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о, Бож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ажи увічч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міч дай, щоб я служ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бі днем і нічч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 I’ll watch and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ing, trusting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I reach the golde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стою і 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іюсь і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Господь візьме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ну ос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8:17Z</dcterms:modified>
  <cp:revision>13</cp:revision>
  <dc:subject>Slavic hymnal Гимны веры христиан, Ukrainian hymn 3</dc:subject>
  <dc:title>Near the Cross / Спасе мій, тримай мене</dc:title>
</cp:coreProperties>
</file>