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94A-5894-45D3-9045-5D7CC190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96E-E94D-46BC-9F9B-9D05ADE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E23-DE85-483D-92B3-88BF299C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961-6D7A-4A96-81CB-C35FE1EC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19E-648E-4534-A906-30E660E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91D-2B7F-4E6A-945B-C70F5E5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D65-5123-4335-B48E-6271519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E5A-FBC7-47DF-921C-E15E2C40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551-C162-4130-B143-614F402A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29B-5F8D-48EE-A8DA-EB64B09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180-5737-4FCD-B458-70F82F5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F00-2CC4-4B53-99A0-D47C5F1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A6C6A-3D31-4CCB-9949-7916D034A0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04Z</dcterms:modified>
  <cp:revision>12</cp:revision>
  <dc:subject>Slavic hymnal Гимны веры христиан, hymn 350</dc:subject>
  <dc:title>Есть ли место Иисусу?</dc:title>
</cp:coreProperties>
</file>