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0   Господь, пребудь Ты с нами</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Господь! пребудь Ты с н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с веди 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мудрыми путя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источнику добр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Яви Ты миру чуд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динство Ты созд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воих детях повсю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мир Твой вечный да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Дай в мыслях един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ердцах возгрей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 кротости, смир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ас оживи Ты вн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Излей на всех Ты сно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ильно благо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тавь нас жизнью, слов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я лишь прославлять!</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2T22:50:53Z</dcterms:modified>
  <cp:revision>4</cp:revision>
  <dc:subject>Slavic hymnal Гимны веры христиан, hymn 10</dc:subject>
  <dc:title>Господь, пребудь Ты с нами</dc:title>
</cp:coreProperties>
</file>