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7E58-FA2D-4A42-AA0A-8CDF47A3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FF74-582A-462D-8234-43577819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0E85-02A4-4E33-8548-56E3DD40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4E39-2D7E-4ED8-8BCC-05755BDB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D7D1-1205-4741-ABA6-F4CA4C17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5D6-6A57-45BD-B3BF-2A3BABF2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8566-49F4-44AA-AB3F-F302674B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C37C-EE17-43E5-9F68-DC08308E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F126-D3C2-4B08-A17B-E6D1D9F7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1C55-367F-4E93-86C3-AEFB5065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BE18-B3C3-403A-B60B-CA1A9AB0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FE8C-7369-42D1-A0E7-8A4415C3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814B3-4DDE-4491-BAAD-73900F2C2F7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ou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ajestic is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ou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ajestic is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we praise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we magnify Your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ince of Peace, Might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 God Almigh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1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 Lord, Our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4:52Z</dcterms:modified>
  <cp:revision>11</cp:revision>
  <dc:subject>The Source 2, song number 916</dc:subject>
  <dc:title>O Lord, Our Lord (How Majestic Is Your Name)</dc:title>
</cp:coreProperties>
</file>