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A480-CBFB-4EA4-85A9-A2E5A46FF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CB29-64A9-4DAC-B841-E994F72B2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2260-0A96-47BF-AC8D-EDC4C9A61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1297-0E92-4B74-991A-D2EF6B939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6955-E3DA-41BD-B125-970776BC4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3D34-2DB4-4E17-A25B-4E52367AE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69DB-8544-4433-BBC7-0A3724DF7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C155-BF50-46D7-A2D6-2940CFD14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FDBD-34C4-4920-9223-239BE52BD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4D8D-DCD4-4533-BD2F-4D7B8F05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1557-3555-4EB9-B5AF-2432AAAE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C503-0E2B-4CB2-924D-C027771F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FB4140-889F-4D27-8C26-ABE2E6D10EA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the day is o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ight is drawing ni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dows of the ev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eal across the sk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2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ень прошё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прошёл. Конча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свои де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покрыв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ёмной ночи мг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give the we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m and sweet repo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y tenderest bl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mine eyelids clo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и, устал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ный сон пош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рикам и мал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ы обн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nt to little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isions bright of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uard the sailors to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deep, blue s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ждущим муч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легчи ско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тям дай вид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х райских д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ugh the long night wa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Thine angels sp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ir white wings abov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tching round my b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асы ноч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ам да не прид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свят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да стерег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morning wake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may I a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ure, and fresh, and sin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y holy e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когда с зарё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позволишь вст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пред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нам пребы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53:34Z</dcterms:modified>
  <cp:revision>12</cp:revision>
  <dc:subject>Slavic hymnal Гимны веры христиан, hymn 825</dc:subject>
  <dc:title>Now the Day is Over / День прошёл</dc:title>
</cp:coreProperties>
</file>