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5B2-69B2-403A-A21A-90BEF64D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A72-7338-49D1-8978-A0BB1E9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86D-AA29-4D03-81D2-105F7191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093-A89B-43EB-950B-728B43DB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517-1DD0-4288-9438-0EA9830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1EC-0DC1-4123-93FC-C35F983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914-0A56-43F0-A454-6FF883A7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E79-6360-4999-9434-E20CCA8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66E-A596-4AE6-A294-6AE7583E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EFC-8216-420F-911B-BD029D3C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8E9-C500-4ECA-B59A-B7FD2D8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6EF-5826-4FB7-87AD-450F618B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9EBFE-DE21-4EA2-893E-D9897F4A6F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, достойний 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 від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серця повн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піваю вс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сюди славит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9   О, Ісус, достойний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правди осі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 небесний у серця посл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ою за нас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Ти нам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 д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хорониш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ш Духом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авди утішаєш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53Z</dcterms:modified>
  <cp:revision>13</cp:revision>
  <dc:subject>Slavic hymnal Гимны веры христиан, Ukrainian hymn 29</dc:subject>
  <dc:title>О, Ісус, достойний Ти</dc:title>
</cp:coreProperties>
</file>