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112-0679-4929-8F82-C07E7A10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9D9-1493-458B-AC8E-96B4BECC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9A7-AF5D-4F94-A817-09B8EE03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0C9-FE70-47A1-967F-4BE0A42B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5E1-326D-47AD-BAAD-5053E98D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360-1FDC-4B1C-AD82-93E9063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5ED-DDF3-473D-A9AA-5FA58259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F09-0D01-4395-A7B9-DFEA7EF0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35F-E4A0-4C28-BD66-60F4774C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DDD-CE09-4AFF-8C46-6937628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A36-D50D-4FBD-91AC-EC72371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7C5-91EC-42E9-9DBD-27D57F0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E2AB8-8000-434D-B442-14787FA45E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мне, братья и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ы хотите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овник колючий и остр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мни, и тьма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утники в рай Хана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го счастья расц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сумрак и вихрь ураг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идим спаситель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те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чень хотелось бы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лёкий отправить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страшусь пред скорбя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где сил почерп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ушаем Божье в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осылает С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даёт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чит, и лечит не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Я решился ост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мире и с вами п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Бог может на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го святое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ем сердца р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но нам руки да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месте пойдём в 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славный, обещанны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30Z</dcterms:modified>
  <cp:revision>12</cp:revision>
  <dc:subject>Slavic hymnal Гимны веры христиан, hymn 460</dc:subject>
  <dc:title>Скажите мне, братья и сёстры</dc:title>
</cp:coreProperties>
</file>