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8F7-FCE2-418D-A687-56CAA252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D4-E551-4D11-993A-39B5BD9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5C4-8C9F-4031-912D-72E22C41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8E5-E8C5-4F45-B821-BE90DF5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FC1-CE27-45DA-847F-89E1A68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9D3-A2BA-42D2-96C9-DADD313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177-7C10-49A6-A850-AE43D028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B23-1512-4852-A13B-3E1F5FCA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679-D644-4977-B22E-D6CB2BC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2CD-1796-4E83-B6E0-3E69065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A01-1247-48DD-8EEE-6D056ED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A0-0DB1-4D03-897A-7AB25C4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1DD5-A4E6-4343-B79A-B1FAE62BE8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faithful and l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our lives, by Thy grace we wi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der the standard exalted and r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ong in Thy strength we will battle for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! Fullest alleg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henceforth to our glorious 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liant endeavour and loving obe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and joyously now would we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-glori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Thy great power and reign there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our wills and affections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surrendered and wholly Thine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3:43Z</dcterms:modified>
  <cp:revision>12</cp:revision>
  <dc:subject>Slavic hymnal Гимны веры христиан, hymn 874</dc:subject>
  <dc:title>True-hearted, Whole-hearted / Верными сердцем, покорными слову</dc:title>
</cp:coreProperties>
</file>