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6FD-A601-4B57-8FCD-1E560997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AB0-4210-4F8E-A091-8548B2F1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28E-7A92-4B4D-9960-89089808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4C1-19E9-41FB-B035-C1495AF3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667-E30E-46A5-BF7B-EFBFA8CC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5B3-90A2-4482-9119-BE3977AB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0B0-DFB5-4A7C-B179-222879CD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CE5-08B4-462B-89D0-E116E7F6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E32-38BB-4007-8912-5AFC37F7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E03-857C-454F-977F-7FEF1D2B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9AC5-71EC-4C08-BAD1-94E80E9C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BAA-2CBD-41B5-BCA7-A76C714F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0787E-06AE-4CC7-8515-F8EE68B9BF4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hristians, awake! Salute the happy mor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hereon the Saviour of the world was bo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Rise to adore the mystery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hich hosts of angels chanted from abo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ith them the joyful tidings first beg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f God incarnate and the Virgin’s 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5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Christians, Awak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n to the watchful shepherds it was to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ho heard th’ angelic herald’s voice, “Beho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 bring good tidings of a Saviour’s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o you and all the nations on the ear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is day hath God fulfilled His promised 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is day is born a Saviour, Christ the Lor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e spake; and straightway the celestial ch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n hymns of joy, unknown before, conspi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praises of redeeming love they sa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heav’n’s whole orb with alleluias ra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God’s highest glory was their anthem st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Peace on the earth, in ev’ry heart good w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o Bethl’em straight th’ enlight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hepherds r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o see, unfolding, God’s eternal pl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found, with Joseph and the blessèd mai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er Son, the Saviour, in a manger la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n to their flocks, still praising God, retur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their glad hearts with holy rapture b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 may we keep and ponder in our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God’s wondrous love in saving lost manki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ace we the Babe, who hath retrieved our l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From His poor manger to His bitter cros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ead in His steps, assisted by His gr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ill our first heav’nly state again take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n may we hope, th’ angelic hosts am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o sing, redeemed, a glad triumphal so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e that was born upon this joyful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round us all His glory shall displ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aved by His love, incessant we shall 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Eternal praise to heav’n’s almighty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37:11Z</dcterms:modified>
  <cp:revision>11</cp:revision>
  <dc:subject>The Source 2, song number 653</dc:subject>
  <dc:title>Christians, Awake!</dc:title>
</cp:coreProperties>
</file>