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F52-6165-4FF3-8BC2-5D523A4E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23C-BAE0-4C0E-8D36-565C00B7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AE3-B6DF-41E4-AA7D-D1F8D924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9EE-51E5-489F-BDF7-EABD0B6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439-B951-48EF-882F-ECA1FF74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306-7124-4300-8FD6-3D79BEE9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AA9-D2F5-42D4-BA3D-3AF9DB08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B97-7479-4BAC-92BB-419F4B45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960-BF78-4A75-BA7D-89734445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28E-580A-4E81-9328-5388FDF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4EA-1163-45B8-902C-23F5CBE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363-0E4F-46AD-95B9-3545F4F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9C864-29BE-4874-A5F2-E47F5D6D64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святих згромади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ірною рікою, як кришт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весільну, там веч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ере Ісус на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6   В день, коли тр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істить всім ангел Б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ема вже більш ча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дем підхоплені у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с всіх Ісус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дягне в славу нас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, що тайне і зак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иявиться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Господь буде судити всі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війдіть” Він скаже прав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Пана свойого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при звуках гуслів стрій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рф небесних, золо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мн побіди в день спасіння виклик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сню Агнця і Мойс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в зборі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9:14Z</dcterms:modified>
  <cp:revision>13</cp:revision>
  <dc:subject>Slavic hymnal Гимны веры христиан, Ukrainian hymn 16</dc:subject>
  <dc:title>В день, коли труба Господня</dc:title>
</cp:coreProperties>
</file>