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7E7-AEE5-4484-91AE-BD427FB9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3B2-A25B-4619-8380-6A968FC6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BC9-2D38-486E-9A95-5F93D095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53E-F70E-4254-B6D4-F3BAB518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96A-C86F-4BA0-B3A1-EB778277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784-7600-4907-A2CB-4F19FD8D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E3C-93E9-483F-A179-108D76D2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ECA-D401-4383-909F-2136B40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940-CF7A-4CCE-A2C1-8905D70D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178-78B3-48DA-9344-ADD0608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0CF-106F-47EC-B49C-BAC2317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16C-61AF-4A18-9414-5DB3439E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814E-F932-4BC0-B1AA-9DABD8EDB2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моє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у чуеш Ти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єш серця мого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гіркі сльози л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що я б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слави, скарбів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щирим серцем Тебе кох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їх весняних юних д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4   Ти знаєш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ує серце моє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стах моїх немає слі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, самотній, скорблю душе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овкає мій весняний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, усім байд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душею лину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то спитає, і хто по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умна душа м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чужий вже мені зробив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, зі мною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слабнуть сили і я втом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е далека моя пу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я й далі йду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ітер стогне, буре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сердито шумить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боюсь, бо Ти Бог м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30Z</dcterms:modified>
  <cp:revision>12</cp:revision>
  <dc:subject>Slavic hymnal Гимны веры христиан, Ukrainian hymn 54</dc:subject>
  <dc:title>Ти знаєш, Боже, моє бажання</dc:title>
</cp:coreProperties>
</file>