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49E-AE3C-43C8-9E98-E0DC53CF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675-32C7-4417-94DF-F75D740C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1E0-1766-4BD9-9CAF-06A6AF18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817-7297-4260-BF7C-6A694362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941-0979-4DBF-81E8-7E262BC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13F-9B6F-4C94-8D33-F7BE6EA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599-3983-46CA-A3F1-69B96D0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A48-D55A-41ED-8BC3-3AB7BDC8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C99-2E27-44F3-94F3-6FF6269F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3D6-0751-4ADC-8AA2-AF3EE309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476-6F50-44CD-9EF2-9BAC9DF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6BF-DA3A-4DD7-9E7B-6501930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7CD5B-3ACC-4A9E-AA0D-AF8FD5735C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hild is this, who laid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Mary’s lap is sl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angels greet with anthems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 are k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, this is Christ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shepherds guard and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haste to bring Him la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lies He in such mean est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x and ass are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Christian, fear; for sinner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Word is p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ils, spear, shall pierce Him thro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be borne, for me,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, hail the Word made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bring Him incense, gold and myrr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peasant, king, to ow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, salvation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ing hearts enthron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, raise the song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irgin sings her lull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, joy for Christ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13Z</dcterms:modified>
  <cp:revision>16</cp:revision>
  <dc:subject>Slavic hymnal Гимны веры христиан, hymn 800</dc:subject>
  <dc:title>What Child Is This? / Что за Дитя в хлеву чужом?</dc:title>
</cp:coreProperties>
</file>