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AC8-626E-4B4C-8120-4275E46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679-F0DB-46C6-9A40-DFFB678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218-0E46-4370-B370-07ADE63D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A8C-DD73-4109-8778-F449FB42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666-EF19-40DD-BEA8-C7001340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916-D585-487A-881D-52C6959C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2B8-AC6D-4608-8185-94A5AB94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953-C446-4092-8EFB-8E581AEE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2AA-3252-4C45-B755-CCB400E3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A99-013F-4C59-956C-B0755091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571-2295-4B25-B5A3-4E62509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62C-E30E-489A-A4C1-75D7613B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0D7A4-7A16-432D-B98B-C171A2B0DE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 дні останнього ча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 нам тоді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ми побачим ная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ам на землю Цар царі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0   В ті дні останнього ча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небі вже ознаки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землі довкол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Боже Слово свідчить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итель Ісус прийде п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померлі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азвучить труба з небе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воскреснуть перш ус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у славі Господь по нас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і — всі переміним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о підхоплені 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Господом зустрінем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к ми завжди з Господом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43Z</dcterms:modified>
  <cp:revision>14</cp:revision>
  <dc:subject>Slavic hymnal Гимны веры христиан, Ukrainian hymn 40</dc:subject>
  <dc:title>В ті дні останнього часу</dc:title>
</cp:coreProperties>
</file>