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C3C-FE01-4ED4-8B15-4FFE859B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EAA-0EB7-465A-B877-3F5FC572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F0E-11BB-48C4-BFE9-E041B7FE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307-A127-454D-BB47-23B78312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5C1-2ACF-4D96-A07A-1CC81752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1DD-F072-4AEC-BBBF-6CECEAF0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B1A-90A5-428B-8749-8ABD1B96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835-8286-406B-A94A-A2F53CEE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E9A-B55A-40B7-A89C-C253797D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FC1-6701-4BC5-B2E5-7A54C80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1CA-74DE-453A-B8D9-6FEB84C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454-95C7-424C-8D40-98791C1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EC976-ED3F-4469-863E-652ACFF457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! о ди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в первы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й моей в завет в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сердца под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ивный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шёл в долин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пр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Он руку, я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увидел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любовь Его вос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жизни радостной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счастье,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 душу мн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ил я в люб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омыт крови стру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кавшей некогда с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4:16Z</dcterms:modified>
  <cp:revision>13</cp:revision>
  <dc:subject>Slavic hymnal Гимны веры христиан, hymn 721</dc:subject>
  <dc:title>О дивный день! о дивный час</dc:title>
</cp:coreProperties>
</file>