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C9D-F830-467E-9F54-959ACB0C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8D1-B1BA-4BA4-AA72-7D13489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6DB-AD52-41E2-942B-3FB9F937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C6C-0534-492D-97D5-E7148465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D8C-2E1A-43FD-9577-6B27A21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776-40BB-4A93-AEF1-B247A138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157-5884-401A-84A3-89F0BAF6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4C7-E9CF-4D35-89CB-E833C2A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7C0-2798-4E20-81FE-9376F9DA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56F-A155-4C31-8FEB-B9A0478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2E8-0DC1-4C70-9BB6-977F419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479-4F9B-480B-B2EF-7659C202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4C34F-EDFF-4C09-80D0-311125EBF0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ze upon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m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r of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 how to liv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18   One Thing I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ay of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46Z</dcterms:modified>
  <cp:revision>12</cp:revision>
  <dc:subject>The Source 4, song number 2018</dc:subject>
  <dc:title>One Thing I Desire</dc:title>
</cp:coreProperties>
</file>