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E51-BC5E-4823-86A1-2A09853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8BA-ECEE-48F4-A7D6-70A4AAF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C2-C659-4237-9C7A-3FB5F81B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346-89CF-4A6D-A83A-2E5FA5EB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79B-87F5-457B-ABB4-18CB0A0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62C-8DC3-458D-B2BE-1884087D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424-80DC-4DDD-88FA-EA5DE8A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46F-12E7-418D-9960-D8EBC14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939-0334-4E26-9B5E-27DCFBA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A10-3B5E-4820-B093-CCFC2B8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D0C-092E-478F-83F7-7FCDFD1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0A5-EE3E-4A95-BB0C-6472CE3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6577-E5EA-47D6-934B-1B1765A586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08Z</dcterms:modified>
  <cp:revision>12</cp:revision>
  <dc:subject>Slavic hymnal Гимны веры христиан, hymn 832</dc:subject>
  <dc:title>Господня вся земля</dc:title>
</cp:coreProperties>
</file>