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8CE-676D-470C-B201-9C031982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387-2529-4170-80A3-F5AA6D8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E14-86E5-4F54-A40A-C80F9458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E67-138C-4075-AE2C-9DFB7AE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29A-2955-411F-B11E-15A3AB7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3D0-3A2F-4D26-B812-1565956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11E-76BA-4D24-8DD3-E973B7A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258-D0BE-4482-ACE8-81A41582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61E-D9FC-42B0-A9C9-83FA2A16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7A7-EFBF-43F9-81F9-0B50F95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E6A-2BCA-433A-9582-A8E90E1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051-EA20-4EDB-A9B8-8E40DBA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8F35E-8E46-43EA-856D-0A6C5C2CFF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49Z</dcterms:modified>
  <cp:revision>12</cp:revision>
  <dc:subject>Slavic hymnal Гимны веры христиан, hymn 839</dc:subject>
  <dc:title>Открой глаза мои</dc:title>
</cp:coreProperties>
</file>