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77D-37A1-4F0D-B237-C8574969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34B-441C-463C-B42B-7DAC1538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B73-1E95-4ABC-884D-1F4384C3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BFC-BC4A-4E1A-B90F-57E41A4F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587-F89D-4F03-8511-7704F8F4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92E-8235-4E56-BCC0-D11C000C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046-00DB-49EA-B7E6-D39B420C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671-1445-4597-ADF8-9CF45A4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AB8-B9D0-4EB5-A791-F8169B54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931-3A76-4D80-BBB9-C4740D5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598-8EF0-466E-9AD9-6260B0A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42C-684D-4C96-8AFC-50472525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4CB25-3484-4A08-A85C-665F38D4CB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creatures of our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 and with u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ренья Божьи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 Божь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и в глубин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, praise the Father, praise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 the Spirit, Three in 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Бог живо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ославлен! Будь прославл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urning sun with golden 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ilver moon with softer gle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е солнышка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на светящая в ноч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ushing wind that art so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clouds that sail in Heaven a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ветер, дух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а вблизи, вд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ising moon, in praise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lights of evening, find a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тра, вершины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койный вечер, звёздный хор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mother earth, who day b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foldest blessings on 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уг, кормилица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а, луга, сады, пол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lowers and fruits that in thee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m His glory also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прекра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щедрой осенью плоды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ye men of tende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ing others, take your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ing ye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 чутко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я всем, одной семьё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long pain and sorrow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God and on Him cast your c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ий,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Христу ярмо забо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ings their Creator b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ship Him in humbl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, пред своим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те ниц и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3:02Z</dcterms:modified>
  <cp:revision>12</cp:revision>
  <dc:subject>Slavic hymnal Гимны веры христиан, hymn 871</dc:subject>
  <dc:title>All Creatures of Our God and King / Творенья Божьи на земле</dc:title>
</cp:coreProperties>
</file>