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535-7482-4E52-98A3-0B2B814D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0DA-E5F3-4A8D-9396-8DB1230D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718-EB55-4D90-9D31-6FBB2D0D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01F-0684-4599-9999-415197D7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118-DD3E-41A8-AC98-148A0CC0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5B6-9CB1-496E-8DB3-D0FD73F0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836-38FE-4F8F-BA1C-05CEC8EC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EB5-7857-4D79-B3D2-F1FEB015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12F-DFDF-4C5B-BA16-5AABAE97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810-DAA0-4422-8A88-2BB00400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979-A4FB-4912-AAD6-DD26C2B8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6FE-2196-41F7-9F6C-AF91C3AF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14FAC-0977-4B79-99D4-6B4254829C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rest Lord Jesus; Ruler of all na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of God and man the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e will I cherish; Thee will I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my soul’s glory, joy, and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пре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прекрасный, всё Тебе подвлас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, всего Творец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с любовью жить пред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наша радость и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r are the meadows; fairer still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odl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bed in the blooming garb of 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fairer; Jesus is pu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makes the woeful heart to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ой красивы лес, луга и 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ы сердцу и гла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и вешней Иисус прекрас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и мир да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r is the sunshine; fairer still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o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twinkling starry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ines brighter; Jesus shines p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all the angels heav’n can bo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сияет, месяц осв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блещут с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снее, Иисус свет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х ангелов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airest beauty, heavenly and earth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rously, Jesus, is found in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can be nearer, fairer or dea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Thou, my Saviour, art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пленяют, люди измен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ом юност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увянут, жить переста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же вечный Царь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Saviour! Lord of the n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 of God and Son of m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and honour, praise, ador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and forevermore be T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и и неба красоту и прел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летом и зи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 вселенной всех совершен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,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8:47Z</dcterms:modified>
  <cp:revision>12</cp:revision>
  <dc:subject>Slavic hymnal Гимны веры христиан, hymn 835</dc:subject>
  <dc:title>Fairest Lord Jesus / Иисус прекрасный</dc:title>
</cp:coreProperties>
</file>