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FEF-505F-495D-BD41-57F0A878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9B5-0105-4E3B-9930-7D8A9BA0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9BF-E0C9-44B1-9510-06CFA6A9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139-CF8A-4B4C-ABC8-082E65DF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484-C6DC-42E3-83EC-BFACB89F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DE1-4F1E-4D0B-8832-471EF750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457-8C73-4BE2-9012-89C6735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CB8-1A8B-4464-B255-973A2BA0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7E1-59D9-4C6B-871F-941EEC5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BD1-7DA3-42AA-BE22-CE59F3B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048-66A1-4050-8877-69C5B5F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FFB-688D-4D98-B509-8E23E14A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6C7F9-B333-4C06-920C-58F516D449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дал нам вечный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ын дан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свято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менах 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ог крепкий и Твор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елый на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ник, вечности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ый в род и ро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ладенца дал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Он укре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а мира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Он правдой у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Свой и заве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09:26Z</dcterms:modified>
  <cp:revision>14</cp:revision>
  <dc:subject>Slavic hymnal Гимны веры христиан, hymn 235</dc:subject>
  <dc:title>Младенца дал нам вечный Бог</dc:title>
</cp:coreProperties>
</file>