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6E1-F815-4E19-B1E1-EAF02F54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8AE-4CE9-4D14-AB6E-775D96C8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6AA-7E53-41E7-B970-2E686C07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65F-A889-4A58-8A96-6D4D8A73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C31-115B-4C78-95F4-795F1726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A62-3AD0-4A71-A51D-4C22B8D4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A24-EB9B-4FA5-9DF6-13E997CF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371-F26C-4500-BBD9-DF6FF280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554-EE13-4632-8D14-0CC491CF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CFA-276A-4F35-A35D-4A013C8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43B-886D-4C8A-AC8D-791C071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800-C615-49D6-A124-72C79D3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2BF95-1286-4753-AD96-E74B78D683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ood a lowly cattl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a mother laid her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manger for His b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ry was that mother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er littl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down to earth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God and Lord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shelter was a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cradle was a st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oor and meek and low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d on earth our Saviour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all His wondrous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y by day like us He gr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little, weak and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rs and smiles like us He k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feeleth for ou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reth in our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among the poor and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n Christ is brought to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romis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n Him our life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ope of heav’n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eyes at last shall se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His own redeem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hild so dear and gen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our Lord in heav’n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eads His childre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lace where H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in that poor lowly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oxen standing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see Him, bu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t God’s right hand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like stars His children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n white shall wait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34Z</dcterms:modified>
  <cp:revision>9</cp:revision>
  <dc:subject>The Source, song number 404</dc:subject>
  <dc:title>Once in Royal David’s City</dc:title>
</cp:coreProperties>
</file>