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22</a:t>
            </a:r>
            <a:r>
              <a:rPr b="1" lang="ru-RU" sz="3600" spc="-1" strike="noStrike">
                <a:solidFill>
                  <a:srgbClr val="ffffff"/>
                </a:solidFill>
                <a:latin typeface="Verdana"/>
              </a:rPr>
              <a:t>	</a:t>
            </a:r>
            <a:r>
              <a:rPr b="1" lang="ru-RU" sz="3600" spc="-1" strike="noStrike">
                <a:solidFill>
                  <a:srgbClr val="ffffff"/>
                </a:solidFill>
                <a:latin typeface="Verdana"/>
              </a:rPr>
              <a:t>В вечерний час</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At even, ere the sun was se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sick, O Lord, around Thee l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with how many pains they me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with what joy they went away!</a:t>
            </a:r>
            <a:endParaRPr b="0" lang="en-US" sz="32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 вечерний час к ногам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сли больных, вели слеп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исцелил недуги 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олнил радостью сердц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Once more ’tis eventide, and w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ppressed with various ills, draw n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at if Thyself we cannot s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know that Thou art ever near.</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осподь, и мы в вечерн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шли к Твоим ногам свят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сокрыт от наших гл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твёрдо верим: с нами Ты.</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O Saviour Christ, our woes dispe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some are sick, and some are s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ome have never loved Thee we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ome have lost the love they had.</a:t>
            </a:r>
            <a:endParaRPr b="0" lang="en-US" sz="32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паситель, милость нам я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ны мы телом и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дним погас огонь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ругим Твой свет совсем чуж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53928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O Saviour Christ, Thou too art ma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has been troubled, tempted, tri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kind but searching glance can sca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very wounds that shame would hide.</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осподь, Ты в теле смертном ж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знал нужду и гнёт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наши раны обна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й бальзам на них проле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Thy touch has still its ancient pow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word from Thee can fruitless f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r, in this solemn evening h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n Thy mercy heal us all.</a:t>
            </a:r>
            <a:endParaRPr b="0" lang="en-US" sz="3200" spc="-1" strike="noStrike">
              <a:solidFill>
                <a:srgbClr val="000000"/>
              </a:solidFill>
              <a:latin typeface="Verdana"/>
            </a:endParaRPr>
          </a:p>
        </p:txBody>
      </p:sp>
      <p:sp>
        <p:nvSpPr>
          <p:cNvPr id="4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Твоя рука всегда силь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упованье всей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близься к нам в вечерн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 недуги исцели.</a:t>
            </a:r>
            <a:endParaRPr b="0" lang="en-US" sz="3200" spc="-1" strike="noStrike">
              <a:solidFill>
                <a:srgbClr val="000000"/>
              </a:solidFill>
              <a:latin typeface="Verdana"/>
            </a:endParaRPr>
          </a:p>
        </p:txBody>
      </p:sp>
      <p:sp>
        <p:nvSpPr>
          <p:cNvPr id="4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53:58Z</dcterms:modified>
  <cp:revision>3</cp:revision>
  <dc:subject>Slavic hymnal Гимны веры христиан, hymn 222</dc:subject>
  <dc:title>At Even Ere the Sun Was Set / В вечерний час</dc:title>
</cp:coreProperties>
</file>