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57CB-B1A2-484C-8748-8AA0B155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87F-42D9-4233-8A4E-02C30135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648-C11C-418E-A019-25466CD3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DFE-5D40-40F6-A1E9-0FC89474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3484-8EC7-4AC5-8E2E-9F41FD7E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A88-B455-4C6F-8301-26CFBDA7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FEA-CDC7-496A-87B8-77A347D8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089-13A8-480B-9F1E-C2BC6599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BB33-0ACE-4527-A44E-401EC018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FF9C-295F-4EB9-BC8C-FF1CE281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F21-268A-46AE-84E6-817DCB18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D9D-7BB8-4FAA-A69A-FD0D409A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DD9BC-C9B0-431A-BBF9-4C012C49C6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и там поля бел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видит им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ут колосья золо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 усердного жне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4а   Здесь и там поля беле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с раннею зар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ойный полдень вышли 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к вечеру на н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ать жнецов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труженик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ни ячмень, пшеницу, рож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а кончится, на от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ь вечную вой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8:10Z</dcterms:modified>
  <cp:revision>12</cp:revision>
  <dc:subject>Slavic hymnal Гимны веры христиан, hymn 784 (as amended)</dc:subject>
  <dc:title>Здесь и там поля белеют</dc:title>
</cp:coreProperties>
</file>