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3043-395B-4589-A2D3-E5BC4B47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1107-446C-4B43-9B0F-1633AA4D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FA92-8C49-4AA2-8F3F-1F6BA3DE8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4B8E-C7E7-4769-9248-721FE217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B7D1-B143-474D-ADF6-97742F5E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B66E-7E62-4704-88E0-59EB7304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D0EC-47C4-4DE0-B98F-73CA8954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B8AA-880B-47FB-A903-94DDF5CD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A20C-2204-4811-8603-94E65AF1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E046-7194-4BBE-BC86-223621A8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49C5-3EB4-421C-9FE4-E4DF2E7C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97D7-6945-44CA-97F7-169EE4BE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8F94D-9F3C-442D-A1B5-8F89A1AA938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Must I go, and empty handed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us my dear Redeemer me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day of service giv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y no trophy at His fe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0   Не хотів би я без пл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ніп один хоч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go, and empty hand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meet my Saviour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soul with which to gree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empty handed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t death I shrink or fal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Saviour saves me 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meet Him empty han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t of that now clouds my b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життя дав, добре зн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смерти не бо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сам себе пит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чим я перед Ним з’явлю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go, and empty hand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meet my Saviour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soul with which to gree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empty handed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years in sinning was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ld I but recall them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give them to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s will I’d gladly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 хотів, щоб ще верну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і роки, що я прож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сім серцем і душе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би служ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go, and empty hand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meet my Saviour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soul with which to gree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empty handed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ye saints, arouse, be earn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 and work while yet ’tis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night of death o’ertak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ive for souls while still you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працюйте, діти Бож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дивіться! вже смер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негайно закли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і душі до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go, and empty hand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meet my Saviour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soul with which to gree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empty handed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5:08Z</dcterms:modified>
  <cp:revision>12</cp:revision>
  <dc:subject>Slavic hymnal Гимны веры христиан, Ukrainian hymn 50</dc:subject>
  <dc:title>Must I Go, and Empty-Handed? / Не хотів би я без плоду</dc:title>
</cp:coreProperties>
</file>