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8D7-F9AA-418E-8631-945FD725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F21-B711-448F-8D32-7B51AE57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D10-1C08-49D0-AA0A-2475BB5C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E6F-2998-4F40-8382-FB4E4086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000-90C4-4017-8B27-9108249B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C78-C89E-44E8-9502-E39D09A2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344-0435-4E42-BCE6-F878F2D1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9A5-D3C9-46BE-9482-D4E30A63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551-62CC-49E5-8EA8-DAE769FE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FB1-B99A-4571-87BB-822A17A4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059-3D1E-4B4D-B235-6B625FBB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524-515D-41B3-BEE4-E91E286E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6DE1D-2613-4DDD-940D-BB6FCBF772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оины рат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ы за веру 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на подвиг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ликий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али меча не им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м мы горяч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ерой в Вождя пламен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ем в сердцах лишь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оины рати Хри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бьют, всенародно руг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т на суды и к власт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 цирках со смехом брос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ищу голодным звер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нями нас мир поб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нусным позором клей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мир на крестах распи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юрьмах холодных гн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зло мы добром отве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м Творца за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миром вражду побежд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ен путь нам Хр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воины дружной семьё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за великим Вож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жаемся с ложью и ть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у Христову 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42Z</dcterms:modified>
  <cp:revision>12</cp:revision>
  <dc:subject>Slavic hymnal Гимны веры христиан, hymn 473</dc:subject>
  <dc:title>Мы воины рати Христовой</dc:title>
</cp:coreProperties>
</file>