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78E-7A51-4B21-9479-5060520C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D32-32AB-49BF-83C1-E5E4C575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356-DC63-417A-BE4E-78DB4103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7F9-DC82-41CF-9AD8-860DF1DC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BB5-9AE4-478B-AD61-8323223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61C-BE11-4BFF-B8CC-F36DBCB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36B-0257-46CF-9D5C-92E6B6AB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977-B62C-4DD9-928C-FD004D00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DF2-9502-40B3-B4A3-1DCBACD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153-B098-4953-A1AE-F9DDEBC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B37-05CE-45C5-A49D-9290B00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145-9597-457D-A070-A95FD77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AA699-7B43-4B58-BC1D-7E31531E57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remember, your God loves you sti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waits you a brighter tomo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od promises, He will fulf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ace your trust in the Lord; doubts will v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mmune with Him often in pray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your heart every fear He will b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your soul He will lift from des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in mind, Jesus Christ died to save yo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cross for your sins He did 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lasting salvation He gave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said, “I am with you alway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despair when your burdens appa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complain at the load you must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t times when hard trials befal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 assured: you are under His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life’s winds and waves He’s the ma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rotect us, He ever is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ave from the brink of dis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craft into port He will st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rd trials are still undergo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soon life’s final battle will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finish our course, fully k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’re off to our heavenl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we’ll have peace and quiet—for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disturbance or storm will be t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, our Saviour, will reign there fore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glory and splendour we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9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ansition for us may be ni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e know not—today or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may be in our “homeland”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5Z</dcterms:modified>
  <cp:revision>14</cp:revision>
  <dc:subject>Slavic hymnal Гимны веры христиан, hymn 717</dc:subject>
  <dc:title>Precious Soul, Cease From Sadness and Sorrow / Не тоскуй ты, душа дорогая</dc:title>
</cp:coreProperties>
</file>