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3CD-F1B7-402C-83DF-B5654AE3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683-78AB-4F22-A5DE-8842736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3A2-A3D0-4082-B9A0-2A8D99E4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4D4-DC5A-40E8-8BEF-3C26A645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539-0A21-493A-96A5-2FEE226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EAA-ED1C-4431-81DD-999DD42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077-D038-40DD-8258-6DD3C604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B81-A229-43ED-A002-4C0E37A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EA1-2996-4DBE-8CA8-1CE96E9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93B-9982-4AD4-B0A1-F0588D8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467-62B8-494E-A28D-F81ABF9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784-1CE2-41F4-9E66-3BB3E4C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DF122-D41A-4DFD-B6F8-B07043DE4B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ighty fortress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bulwark never 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lper He amid the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mortal ills prev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our ancient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seek to work us wo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raft and power are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armed with cruel h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s not His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we in our own strength conf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iving would be lo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not the right man on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 of God’s own choo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st ask who that ma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, it is H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Sabaoth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ge to ag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must win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this world with devil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threaten to undo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not fear, for God hath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to triumph throug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of darkness gr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mble not for him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age we can end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his doom is 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ittle word shall fell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rd above all earthly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hanks to them, abid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 and the gifts are 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m who with us sid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goods and kindre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ortal life also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ody they may k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truth abideth st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26Z</dcterms:modified>
  <cp:revision>12</cp:revision>
  <dc:subject>Slavic hymnal Гимны веры христиан, hymn 849</dc:subject>
  <dc:title>A Mighty Fortress is Our God / Твердыня наша — вечный Бог</dc:title>
</cp:coreProperties>
</file>