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300-D6FB-46D9-A395-95DFC43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EF9-32BE-4301-8ED0-8AB3C58B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1EC-2DE5-48DB-98B5-1086437F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7E2-2ECA-471B-9AA8-2F37AFEA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87D-3389-4197-92B8-6118ACE6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CC7-BA2D-4EDD-BB54-02EB504C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24C-E853-4E8E-8F26-9001505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C3C-2A70-4911-9FE9-5FA9E6AF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AB7-AD50-4704-8A9F-6E85522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077-B791-400B-B5F9-A760D20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EAA-506A-470F-B85A-66A3884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C74-C16A-402A-89DC-B7623A5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3C272-C698-4AB0-AA6B-86BBBFE3BD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01Z</dcterms:modified>
  <cp:revision>12</cp:revision>
  <dc:subject>Slavic hymnal Гимны веры христиан, Ukrainian hymn 69</dc:subject>
  <dc:title>Як скоро дні біжать вперед</dc:title>
</cp:coreProperties>
</file>