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40E-73BB-44B1-823D-68FC50F5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7D1-EEB7-4356-88C2-7E5C5E1B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B9D-B129-4384-B346-D583861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391-02E9-473C-8A4A-1C6FB436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1C0-3E86-4858-ABCA-E408AFC7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4D0-4E1D-4D37-AC5F-FF4717F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1BA-ED5F-44BF-AA77-3D87D6D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A55-662F-4C60-BCAB-4D014DC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2C2-9B02-4D41-8D40-AD67BAC5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2B4-35DA-40A6-98CA-5E8CBE2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C20-69A8-4496-857E-469CB23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C09-C2E3-4D2C-BFD3-D5EEB5A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D6F45-F248-4DEF-AD04-7D61D2EE40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builders rej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rock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pride i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ur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and is sin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e are buil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4   You Are the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rom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depths de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st of hell consp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You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ev’ry chain of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eath You’ve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triumphed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mighty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ace You’ve set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uff’ring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ize for which You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heights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 are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Your Father’s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p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ouls You’ve capt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06Z</dcterms:modified>
  <cp:revision>12</cp:revision>
  <dc:subject>The Source 3, song number 1654</dc:subject>
  <dc:title>You Are the Stone (No One Like You, Lord)</dc:title>
</cp:coreProperties>
</file>