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C86-DC00-4EDB-8F9E-789EDFA0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0FB-9E47-4F3E-8D6C-6A5CAD2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614-7F23-455A-92C7-44F43787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66F-EDC9-429A-8657-4D628235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DE0-9B59-4188-B8B7-2A61DB30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831-213A-4EED-B9E1-1A88E93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E5B-E1DB-4EF1-8FAA-8ED2E056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5F1-CB4F-4AB9-B48C-5DEA6D84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5BE-F184-472E-A603-D60CC3D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FE8-1A4F-4E65-9A32-47ECCCCE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EDB-D454-47B5-941E-264584D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441-E89F-4CD0-9B12-1549C0C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EBC84-3177-4F1B-AFC3-966D0C71A6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20Z</dcterms:modified>
  <cp:revision>13</cp:revision>
  <dc:subject>Slavic hymnal Гимны веры христиан, hymn 304</dc:subject>
  <dc:title>Дух Святой, Дух благодати</dc:title>
</cp:coreProperties>
</file>