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B87-F121-4A57-8B84-5B8D5522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74F-1A79-4BD3-965E-1BB02207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210-C68A-47FA-8AEA-429BE66C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0E6-D34E-4559-9F91-6A639B2A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5D5-CD19-4D0A-AC62-6192B609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F36-240D-4A5A-84B7-C87962E2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37C-5621-4CC6-9504-56DFA256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E33-72E8-4439-BFA1-56CC937A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047-8D7F-4AF1-A3C3-2A1C104F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BE3-AE6B-49F4-919E-37C4A0D1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DA2-7B26-4151-8F38-5CEC30AC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0CD-7C6F-4EF1-A165-42015575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9B2A7-0995-4833-864E-EB79C9B7CD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ftly and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, on the portals He’s wa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at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тко и не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 и нежно Иисус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зывает, 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у порога, стучит, ожи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меня и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we tarry when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plea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ing for you and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we linger and hee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merc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ies for you and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и медлить, когда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, о каждом скор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благодати принять не хотите 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для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me is now fleeting, th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pa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ssing from you and from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ows are gathering, death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и сгущаются, смерть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еспощадно гу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приходит, в обитель и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ичу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the wonderful love H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mised for you and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e have sinned, H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and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 нам Господь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у отдал Он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грешили, но Он нам про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3Z</dcterms:modified>
  <cp:revision>13</cp:revision>
  <dc:subject>Slavic hymnal Гимны веры христиан, hymn 357</dc:subject>
  <dc:title>Softly and Tenderly / Кротко и нежно Иисус призывает</dc:title>
</cp:coreProperties>
</file>