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84D-0953-4752-B368-B7688B89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60A-D873-4AB7-8375-EACEA2D3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E13-C940-417A-B249-577754ED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ECC-74AB-4A2A-B1C6-1AF7A3E7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1A2-2B44-4B9D-A1BB-58DD3D64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AD2-3370-4DFB-A3B7-CB06E538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232-3F57-4767-8C28-359215E2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30D-006D-4DBC-915A-AF6D9AB3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CAA-3D9F-423A-BA79-D81CE325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D2D-8DB2-40A8-948E-08509003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957-2C80-4A6A-96F8-59F252A3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18B-5C8D-4107-89EE-96DC8505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C3524-277D-4FA4-80AB-E367C8D7D3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er than the brightest s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r than the purest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ing us with courage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llow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98   You 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fear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made the heave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be afr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put the stars in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los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know how great You 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giv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plans are full of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world we will have trou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have overcome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er than the brightest s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r than the purest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ing us with courage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llow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58Z</dcterms:modified>
  <cp:revision>12</cp:revision>
  <dc:subject>The Source 3, song number 1698</dc:subject>
  <dc:title>You Shine (Why Should I Fear Man?)</dc:title>
</cp:coreProperties>
</file>