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410-585B-4F8C-9E4D-9A7CF110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3CC-16A1-497C-AC1E-A3425A88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C5C-3788-4A8E-899E-A9E7993D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4B4-8326-4A05-A80A-17597611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368-B92F-45E1-A5BD-0A811599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2C1-C8FE-40AB-867F-942B0BEE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649-489A-4E2D-9260-9E843EEA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210-A77A-47E5-A4C1-91A411F3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491-5738-444B-90F3-BF5D8A1F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636-1CB1-4844-8F4A-600B67EF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EF8-2C79-454F-A20A-C9E7B3E5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9A9-8BC4-4BE7-874D-A95B460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5646D-142A-44C3-A133-69BC959E8A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 мне недостойном печ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кровью Своей Он ом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Его мне прощенье да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Он вашим Спасителем б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Отец мой, благой Промысл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ст бесконечную радость вкус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м меня ждёт в золотую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я с вами туда мог вступ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ая есть у меня там о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не видал человеческий гл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й я предстану, моя в том наде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в неё облекли также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мир Свой Спаситель мне в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людским непонятен ум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тот сердца во Христе со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тот мир был дарован и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инял Христос вас, дру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теперь вашим Спасителем ст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сь за других, вы к Нему прибег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ашей мольбе, как моей,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05Z</dcterms:modified>
  <cp:revision>12</cp:revision>
  <dc:subject>Slavic hymnal Гимны веры христиан, hymn 624</dc:subject>
  <dc:title>Спаситель о мне недостойном печётся</dc:title>
</cp:coreProperties>
</file>