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528-DAFD-4152-82E9-348607E0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D1F-1576-486D-8003-0221FEED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94E-CD49-4ECE-BDA8-7BF0FF3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352-C743-4C19-AE2B-2E018DEC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BCC-7C70-4543-811A-074DEB95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B89-DF3D-4CFB-B7C6-85626678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656-B79F-4EAF-97EA-011F2B2A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E7D-CAD8-4710-8028-323FDE9E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07E-E00E-4151-A160-DC26112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BC2-397A-4BB2-93A0-2586714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88D-5EAA-47ED-BD74-6716073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78A-8949-4E82-9265-57418B70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57F8A-1739-46D9-8177-AABC48B23A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 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 жало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 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46Z</dcterms:modified>
  <cp:revision>12</cp:revision>
  <dc:subject>Slavic hymnal Гимны веры христиан, hymn 360</dc:subject>
  <dc:title>Кто поднимет свой взор на Христа</dc:title>
</cp:coreProperties>
</file>