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A7B-C36C-49B0-8AD6-BF66ED72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FF6-C211-4E1A-9747-9EE67063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897-C805-4464-9743-60AB679B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D0E-B4C3-46E7-A887-FD02BF61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1EF-EB51-4BE5-8373-2845B24B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FDA-4E35-433C-BFAC-5C9AECC0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2B0-BD3D-4B31-98D2-C1AACBC5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A74-43C9-45A3-8BA3-EBED029C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333-3BBA-4B4F-B2ED-CCF1B00E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8D2-86DC-4045-8489-EAFE6FE4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427-7F88-4BAD-BDF2-ABCBDE9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092-4710-42D1-B55E-283B60EE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9CD5C-45FD-4325-98A5-4E503E13CE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ене повій, на мене по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Дух Святий, молю по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ене повій, на мене по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Дух Святий, молю по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4   На мене пов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0:23Z</dcterms:modified>
  <cp:revision>12</cp:revision>
  <dc:subject>Slavic hymnal Гимны веры христиан, Ukrainian hymn 64</dc:subject>
  <dc:title>На мене повій</dc:title>
</cp:coreProperties>
</file>