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86C-BC0D-4499-91CC-072A78F9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5EC-6B30-42FA-863A-A2F4607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08-4B82-4E85-81AE-973C6F7F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591-385D-4EE4-8AD5-1EC0602F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353-E1FD-4D35-A17E-A8DC616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997-DE0D-4A3F-8FC9-AE62208C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5EB-CA7B-4E56-B0D8-1131FE7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08C-72B8-4E17-8AC6-76E727E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4A7-C450-418B-9702-BD6879E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2B3-4DF1-4AB9-B63C-0E1FE13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B94-2A41-43ED-9387-B57B35C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A91-8358-47FF-9F3C-D85D616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8F725-EFFC-445F-ABBD-CDAB53C9F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ушай, о грешник, последнее в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ёт Иисуса последний призы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ёт Он сложить твоё грешн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подножью Голгофы, и будешь ты жи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ушай, о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стало несёшь ты нелёгк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рочных привычек, греховных страст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вдаль убегает всё лучшее врем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ая надежды и радости вс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ты томишься в страданьи напр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чину нося постоянно в с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воё состоянье оп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ы гибель готовишь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51Z</dcterms:modified>
  <cp:revision>13</cp:revision>
  <dc:subject>Slavic hymnal Гимны веры христиан, hymn 410</dc:subject>
  <dc:title>Послушай, о грешник</dc:title>
</cp:coreProperties>
</file>