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3A3-0835-4A66-8C82-200DA226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63E-46B7-4E11-9B95-70082992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616-E82A-45CE-AB05-C4024BA4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7D5-11E5-4FD1-B5DE-56A5574F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74A-69AB-42A6-8319-DEEB5824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25F-1BDD-4740-8DBF-9033AA5E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C45-7809-4866-835A-BFD79FC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B2A-F8A6-46C3-BB45-FE181B4E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BF6-1C06-48D9-A031-5F7A9565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866-D1DC-4416-A9EB-68ACA020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C01-9D23-45D5-AA09-B3D82F0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484-C577-4D7C-92CF-C4C052E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14EA0-9297-4A3A-8CBB-BF4125C6F3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my list’ning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nature sings, and round me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 the sph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e in the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ocks and trees, of skies and se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and the wonder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 their carols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light, the lily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ir Maker’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ines in all that’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rustling grass I hear Him pa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o me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me ne’er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gh th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of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the Ruler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ttle is not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o died, shall be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and heav’n b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57Z</dcterms:modified>
  <cp:revision>12</cp:revision>
  <dc:subject>Slavic hymnal Гимны веры христиан, hymn 832</dc:subject>
  <dc:title>This is My Father's World / Господня вся земля</dc:title>
</cp:coreProperties>
</file>