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F4A-346C-4572-88A0-9F269020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1AE-0B03-43D8-892E-C0095A0C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10A-2D15-4E71-AECF-D8C4727A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650-4D00-4E91-B017-D275DD2C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388-A751-4608-816F-B7752105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A0E-0B2D-4F92-8ED7-AAE288FF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9DF-95A8-4057-B1A2-69029E36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CF8-0D19-4F07-9C92-B8CC0960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4E6-54E8-44C7-A75C-B55B5C7D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B9A-EE1D-4289-A9DA-F2CBECC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2CA-EA02-4274-AE8F-EBB55BD7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4F2-58E1-4BD1-B96B-48CA665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1A39E-0B72-4D8E-AF4F-0BDD48F712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крывай от света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не ожесто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мир нас награ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т отрад — он полн за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ни ж как христианин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хочет тех из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им вступил в общень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в них Свой труд на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46Z</dcterms:modified>
  <cp:revision>13</cp:revision>
  <dc:subject>Slavic hymnal Гимны веры христиан, hymn 367</dc:subject>
  <dc:title>О, Божьих слов не пропускай</dc:title>
</cp:coreProperties>
</file>