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0BE-3141-4760-8D7B-683675F1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3D8-2995-40BF-8E48-8A90894D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4C4-7D19-4D55-93BE-A04B03F5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008-A950-4C27-8513-4215C877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794-9A6A-4699-A172-8AD55378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8C1-E4C6-4F6B-85F3-0CBD5F18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2FC-86CF-489C-80EA-FA02F221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405-3EA5-44F5-904E-9F41E0D8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EAB-0DF2-4225-80A8-FE545E55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029-7C5F-4775-BB3F-E888C87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85A-5777-40A9-BE61-1F7FAE7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66F-B1A3-4AB9-8706-D25A468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D50AF-ED99-41AA-A5B4-47C89685D8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   Благословенье, сла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, Ты прав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равн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9:35:09Z</dcterms:modified>
  <cp:revision>13</cp:revision>
  <dc:subject>The Source, song number 54 in Russian</dc:subject>
  <dc:title>Благословенье, славу и почесть / Blessing and Honour (Ancient of Days)</dc:title>
</cp:coreProperties>
</file>