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76ED-CB94-4647-BA66-82319799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C64-BEF0-4D68-A49A-DC391DD5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4B5-3E4F-42DC-B60C-4E85D535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F4B-EE13-4A16-8CF1-6116E88F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F55-4CDF-4268-B25F-628BDA5A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BF1-CE58-4EC7-AAC7-73304C7E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7EB-A607-4C81-B998-05754D2B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197-3295-4938-B9AE-B26578B4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886-9F26-4AD5-9145-7C432C69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572-A4CE-45A8-8D43-901D3F6B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EEF-6CD9-4645-A7F7-6B95B06C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F89-131A-4775-99C1-B78778F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04D29-4BDD-4952-842E-49325FF264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Lord, He is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 from 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Christ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 is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9:59Z</dcterms:modified>
  <cp:revision>10</cp:revision>
  <dc:subject>The Source, song number 158</dc:subject>
  <dc:title>He is Lord</dc:title>
</cp:coreProperties>
</file>