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148-CC66-472C-8328-D1542B1C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522-D62E-4522-8F2E-E6DF9530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98B-AEB4-49FC-99DA-540064F4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F41-82B6-4081-95CD-7961A97A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01C-6219-4E9A-A291-76D84B40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FF8-4285-42C5-A9B9-2BA26721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B7E-485E-4F3C-8F4F-A6EC3642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87B-C38D-44B6-A5D6-5B31EB52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CF9-5133-49B2-8221-FBE406D3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20F-7FF7-427B-B9A1-407518F5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DFF-5D4E-4877-8625-D456565B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88D-FC7F-4C8A-992C-E4BF4D5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D75AA-FB12-4231-BB36-DD5F1EC2C7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ovelier spot in the d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lace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вестна мне це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вестна мне церковь ж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ердцу отрадно так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у любовь воспе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жажду Его я хва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lose by the side of that lov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trees where the wild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farewell hymn will be ch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st by her side in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вестна ль вам церковь ж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которой так сердц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к небу молитв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чим потоком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on a clear Sabbath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’n to the clear ringing b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tones so sweetly ar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транник! ты знаешь, что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церкви той веет 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там не чувствует сир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тым себя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y fades away into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fain from this spot of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h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my way to the mansion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церковь есть неба предвер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милости Божьей прест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сцелён от нев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церковь Христову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0Z</dcterms:modified>
  <cp:revision>14</cp:revision>
  <dc:subject>Slavic hymnal Гимны веры христиан, hymn 519</dc:subject>
  <dc:title>Little Brown Church in the Vale / Известна мне церковь живая</dc:title>
</cp:coreProperties>
</file>