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E3D-4B22-4CCF-9AFF-9680D2DC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4BA8-893E-4F64-AF21-03EA0AA6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600-C7DD-47B8-AEA2-CB811984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0FF0-841B-419E-AFA9-A5081552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07F-403D-410A-B54D-0C60231E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B75-0F15-4D69-BE1D-B1E5ED95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596-879C-4136-A27E-0CEA9482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737-CC3B-4E4B-A7AE-C1E50820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DD4-3426-46C1-9C4E-76BEF82F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63D-BBD6-47B7-ADE6-B2BA7347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694-2E01-4B81-AFAE-1C816C67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C35-C1A7-4DA0-A1BD-78E45622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0BB57-CABF-4EE7-BB44-8D885DC008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at the cross where my Saviour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where for cleansing from sin I c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o my heart was the blood appl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   Там, де один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де один раз Спаситель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ертву приніс на вівтар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кий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o my heart was the blood appl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wondrously saved from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o sweetly abides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t the cross where He took m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 я дивно спасен від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риносив я за гріх ко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кров Ісуса мене спа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р при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t the cross where He took m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, джерело живої в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и всі мої тру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мною насаджені с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ідними бу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precious fountain that saves from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I have entered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Jesus saves me and keeps me cle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Jesus saves me and keeps me cle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is fountain so rich and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thy poor soul at the Saviour’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unge in today, and be made comple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ийте усі з джерел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о ходите шляхом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заспівайте хвалу Й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любові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unge in today, and be made comple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7:04Z</dcterms:modified>
  <cp:revision>13</cp:revision>
  <dc:subject>Slavic hymnal Гимны веры христиан, Ukrainian hymn 11</dc:subject>
  <dc:title>Glory to His Name (Down at the Cross Where My Saviour Died) / Там, де один раз Спаситель мій</dc:title>
</cp:coreProperties>
</file>