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970B-2054-4EA8-8631-84B8C85C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6A44-7F42-4F1D-9232-638B4B36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6FE9-B45A-4137-BE1F-D52B83D2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07CC-FD38-4438-A30D-C6801B08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DFEF-7645-4E48-AF5A-D82B257F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A1FC-3447-4FF2-A4F5-63851AA4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0E75-4908-4012-AC85-1E7AD978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3323-814A-424A-9B9D-47298D05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DBCD-7D6D-4BC9-B442-C477CAD3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B275-BA09-4A32-88AB-3FB74E15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8041-CB5E-4CD2-BE2F-F3330DCD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3534-112D-47C5-959D-0A08E06D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B6DDE-3D86-4F17-8D8B-293EAAC33FF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all my labours and trials are o’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am safe on that beautiful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be near the dear Lord I ad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through the ages be glory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окончится труд 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тся труд мой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мне Спаситель на небе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всегда буду с Ним пребы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о славу Его созерц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at will be glory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for me, glory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by His grace I shall look on Hi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ill be glory, be glory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на лик Его дивный гля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Он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by the gift of His infinite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accorded in heaven a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be there and to look on His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through the ages be glory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даровано в доме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беспредельной любовь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Его уви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о славу Его созерц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at will be glory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for me, glory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by His grace I shall look on Hi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ill be glory, be glory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на лик Его дивный гля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Он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iends will be there I have loved long a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 like a river around me will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, just a smile from my Saviour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through the ages be glory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ногих встречу любимых друз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о свиданье вдали от скорб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ть Христа будем все воспе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о славу Его созерц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at will be glory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for me, glory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by His grace I shall look on Hi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ill be glory, be glory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на лик Его дивный гля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Он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5:03Z</dcterms:modified>
  <cp:revision>12</cp:revision>
  <dc:subject>Slavic hymnal Гимны веры христиан, hymn 870</dc:subject>
  <dc:title>O That Will Be Glory / Когда окончится труд мой земной</dc:title>
</cp:coreProperties>
</file>