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D4B-BDAB-488E-B2EF-2AF17F2C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C1D-DD36-4B57-B31F-7D8A9630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EEA-06BB-42C0-BE5A-20BC7D14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D14-D6F7-4965-8B98-8277942C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A81-A005-4710-94E4-994E8D91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CF2-4F63-4725-A63F-443974C2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BD9-A9B0-44C5-8B60-DE4D00C8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B09-64D5-4644-A75A-600BDE93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941-1524-437F-948D-8298871F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9DE-224A-4DD5-8200-1B95E069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D7D-478A-48D7-9242-B772B703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434-4C34-4C61-ACB5-2D0875C2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EC4C7-C32C-4669-B004-D8D49C20CF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сладко мн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и радость в Нём ду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Его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имя сладк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м сладко имя 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, мир даёт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Божией пол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лов, чтоб выразить впол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ю в пламенной хв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12Z</dcterms:modified>
  <cp:revision>12</cp:revision>
  <dc:subject>Slavic hymnal Гимны веры христиан, hymn 607</dc:subject>
  <dc:title>Иисуса имя сладко мне</dc:title>
</cp:coreProperties>
</file>