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0DB-2D72-44E1-8B32-8E22EE42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746-3D2E-490C-9A14-71E3C99C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0E7-0ADB-4619-A26D-5685C9C5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35E-DAEE-4139-85A3-00EC21B4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0A6-C0A8-4682-80B9-3422BD3A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3B3-EA0D-450F-B136-8D221ABD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842-8A29-4AE9-B33B-54372962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BDC-2A79-4630-A1F8-1434B869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9A5-7558-425D-BB3E-A5639B7F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D18-8E9A-4CF3-B9A5-836357C1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752-2933-4749-85E8-668F66E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B89-9B04-4D53-8DEA-E1A525D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F68B7-42F8-4747-8258-DFA2D87678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чь Самарии не зн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, как бедн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ань Христа её и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ивесть к Твор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Тот, Кто полн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ь с неё греховный гн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збавить от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чь Самарии не з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пальмы наклон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сказал Спаситель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её лета промч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она спешит в с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роду весть нес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Мессия ль то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перь вода ж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ец людских теч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в ней разл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мир: с щедр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юч свой Бог на нас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юбим мы Того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4:08Z</dcterms:modified>
  <cp:revision>12</cp:revision>
  <dc:subject>Slavic hymnal Гимны веры христиан, hymn 341</dc:subject>
  <dc:title>Дочь Самарии не знала</dc:title>
</cp:coreProperties>
</file>