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373-10DC-4B72-A94C-0175FB28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FB4-35D0-4946-8E8B-8C660141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98A-6859-42F4-B3E3-27D9C951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1C7-FB5A-42DC-A354-8240D966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964-327B-4C26-B449-EA527868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EED-BEDD-48F0-8C1F-4C91DD71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0D1-00A2-4D0B-907B-6951869C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D5E-0DEB-40AB-B83F-FF855675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B23-6998-43F0-B3B3-18F51C48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A6C-6EEF-495E-8F2E-1A530398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FFE-29D1-454F-AD33-395424D0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D0E-D1AC-41C9-BB1B-F775DB51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236B0-3714-4FBA-89EA-F34DB8F663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чому Бог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рив Свою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бо чому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8   Не знаю, чому Бог м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як Бог дав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дар прий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а Його Слова 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є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, як Дух Св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ть в вір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криває нам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ественних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 часу, ні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прийд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через смерть, чи Сам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ін заб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9:43Z</dcterms:modified>
  <cp:revision>12</cp:revision>
  <dc:subject>Slavic hymnal Гимны веры христиан, Ukrainian hymn 48</dc:subject>
  <dc:title>Не знаю, чому Бог мені</dc:title>
</cp:coreProperties>
</file>