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46F-BCD2-4F28-9FDD-76C94078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771-A652-467F-9C0D-8DEDB2E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841-7BB9-4BD3-A3FA-C43D9473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8A6-02DC-4A2E-9F7B-73D6734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D27-C118-4C76-9F1B-A590AA72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73F-9919-468E-879C-6C085D8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45F-68DB-4A7E-839A-5E78BA5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4F3-0D47-4062-9A7E-A03472B5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D41-1A95-4F21-B566-814A25B8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757-1B07-457B-9A99-F0B9123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64B-7B19-4295-A4D3-D93BB85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5D6-ABBB-4A9A-9957-DF4B54C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5A4A-3287-40A2-99A2-F58CD8340C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день тот уж бли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13Z</dcterms:modified>
  <cp:revision>12</cp:revision>
  <dc:subject>Slavic hymnal Гимны веры христиан, hymn 317</dc:subject>
  <dc:title>Да, день тот уж близок</dc:title>
</cp:coreProperties>
</file>