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810-2AEE-4D59-97BB-3491C2E8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3F7-63C9-4095-807F-AEC703DB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E01-7506-4B81-8352-CC752276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660-9FC5-4718-94E4-5ECD7863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666-5866-431B-B0DD-CD57070B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9AD-4000-43D9-A551-11FE6A6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628-5A5E-4DCA-8319-468FE91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585-68A7-40BE-B8F3-2A298500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77E-5C5D-4DAD-A784-9EAF073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CA6-62D1-44EA-99FC-8D32C5F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784-E877-4C0A-AB9E-7009AF42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E3D-1793-4BD2-80A2-7DBF246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5FDC1-0A8C-4B9E-A39D-444DEF109C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autiful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, mould me, 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56Z</dcterms:modified>
  <cp:revision>11</cp:revision>
  <dc:subject>The Source 2, song number 640</dc:subject>
  <dc:title>Beautiful Lord, Wonderful Saviour (The Potter’s Hand)</dc:title>
</cp:coreProperties>
</file>