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1075-82AA-4277-9773-B386DAB0C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99AA-F86F-4FF6-BDB1-B5D3257E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5AAE-F802-4D57-9207-AFC80AE9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57F4-1798-452C-B47B-149B16AC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ADE8-4AF8-4B2E-B3CF-0048D9E7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7CBF-6D5E-4034-A68B-0C80C233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644E-F7F2-48F7-B2FE-99FA1536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C626-5483-4614-A744-D0021C92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3503-ED55-4016-A175-C1C71B4D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EAED-BAC3-4CA7-AA1E-FD8D1405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B026-16E8-4F98-8AB6-74E1528D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EC6E-5C0F-497B-B759-C40965F7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C2DD8-ED20-48E7-AD40-CF3E2527E99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к Спасителю в юные д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йте в Нём верного дру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суетою вас мир не пле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сердце Господь не поруг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зовёт вас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хочет вам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поспешите, Ему покло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ас зовёт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те к Спасител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ите на крест, на мученья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много за вас претерпе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 поспешите отдать Ему всё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ваш, и душу, и т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зовёт вас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хочет вам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поспешите, Ему покло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ас зовёт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х и малых не мало уш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этого мира нежда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знает, когда попадём в их чис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ьтесь к тому постоя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зовёт вас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хочет вам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поспешите, Ему покло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ас зовёт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 к Иисусу, пока ещё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йте в Нём верного д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не покрыла вас смертная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ойтесь в Христовых заслуг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зовёт вас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хочет вам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поспешите, Ему покло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ас зовёт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3:58Z</dcterms:modified>
  <cp:revision>12</cp:revision>
  <dc:subject>Slavic hymnal Гимны веры христиан, hymn 379</dc:subject>
  <dc:title>Придите к Спасителю в юные дни</dc:title>
</cp:coreProperties>
</file>