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190B-3DDD-47E3-AC49-1DFD59A67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7B59-21C9-4F7E-A765-0B66AEDC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2167-72B0-4ADC-8E64-13EA8AD20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2F05-A354-408F-B9BC-5DC6CE7CB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A5A1-0224-4AE3-A48D-E14D1D5E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A565-4CBB-47E6-B08F-6195B8BF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568E-74CB-4B84-AB5F-BEDDEE5B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A525-8387-456C-9135-3A072516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8FB6-AC90-42F4-8380-F80AB510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6045-7030-4B17-A117-FEC65F7B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BD37-2A02-4A73-87E8-A2DE65BF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4E46-ECFF-40F7-9AA4-0F3E6848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B7A75-3AD7-470D-9A85-204FB886D04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Up Calvary’s mountain, one dreadful mor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alked Christ my Saviour, weary and wor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acing for sinners death on the cro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He might save them from endless lo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й Искупитель, избит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скупитель, избитый в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ёл на Голгофу, нёс тяжкий кр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ть мученье и гнёт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ать спасенье для все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lessèd Redeemer! Precious Redeem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ems now I see Him on Calvary’s tr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unded and bleeding, for sinners plea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lind and unheeding—dying for 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скупитель, мой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реве смерти пострадал за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итый кровью за нас винов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л с любовью в последн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Father forgive them!” thus did He pr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’en while His lifeblood flowed fast aw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Praying for sinners while in such w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 one but Jesus ever loved 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рости им, Отче!» — неслась моль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ровь ручьями из ран тек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ел от гнева всех защит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Сын Божий мог так лю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lessèd Redeemer! Precious Redeem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ems now I see Him on Calvary’s tr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unded and bleeding, for sinners plea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lind and unheeding—dying for 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скупитель, мой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реве смерти пострадал за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итый кровью за нас винов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л с любовью в последн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how I love Him, Saviour and Frie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w can my praises ever find e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rough years unnumbered on Heaven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ho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tongue shall praise Him foreverm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я должен любит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виновных Он жертвой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десь, и в небе Его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славить во век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lessèd Redeemer! Precious Redeem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ems now I see Him on Calvary’s tr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unded and bleeding, for sinners plea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lind and unheeding—dying for 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скупитель, мой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реве смерти пострадал за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итый кровью за нас винов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л с любовью в последн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09Z</dcterms:modified>
  <cp:revision>14</cp:revision>
  <dc:subject>Slavic hymnal Гимны веры христиан, hymn 414</dc:subject>
  <dc:title>Blessed Redeemer / Мой Искупитель, избитый весь</dc:title>
</cp:coreProperties>
</file>