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A58-1E92-415D-A199-F343192C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4EB-809D-4530-8D7F-27B0B615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0EB-9C7B-4F36-A5C0-F9583C69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B39-9B3C-46B8-85C5-4DDEFA1C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9ED-4BE5-4277-96C9-4FEF4321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C80-3803-431A-B2B4-362C6F7F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08A-D71F-4328-ADA5-0224F4D1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131-46B8-49E0-9B7C-85BB8978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58B-0CDA-4C6A-8F3B-F2D05455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784-33A8-4F92-B74F-AD51812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F00-5957-4C58-AACF-D951657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6D0-B71E-462D-8EC9-EC9C135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D4593-D45E-4EE7-B1BD-21AC8860BF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our God we shall do vali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He who will tread down ou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ing and shout Hi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is King! 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Christ is King! Christ is King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has won the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His peopl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d has slain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arth shall stand and se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repeat from st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2   Through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7:13Z</dcterms:modified>
  <cp:revision>12</cp:revision>
  <dc:subject>The Source 3, song number 1562</dc:subject>
  <dc:title>Through Our God (Victory Song)</dc:title>
</cp:coreProperties>
</file>