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4CD-95AF-4DA9-AA38-29659A1D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981-BE4D-4660-9B88-450FB128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727-4C93-485D-A071-1D3D82E9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E8B-3011-4FD7-9868-AC5220DE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A4E-3E7F-4B77-8648-CE65AFD1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D82-DFD4-4E43-91F4-67B5E1B6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79B-9B0E-4094-877F-2549B837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C6D-7A64-432F-A8C7-269292AE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0D5-8218-4CD0-8B12-002F2413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E1D-C0FA-4ED1-B8B2-E64CAB9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FE6-B19F-450C-9D77-A953194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FAA-45C3-46DA-BA63-560B37C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600A8-379E-41B5-8071-2A7B97DE9B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несущий крест тяжё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блегчу твой тесный, уз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озвращу потерян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целю надорванную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печаль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скать отраду у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любовью, лаской и при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ю и утешу 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 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израненный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ученный, истерзанный грех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ом драгоценным уврач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ую скорбь больной души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без страха, без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— Я дам теб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— Я дам тебе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дам душе твоей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26Z</dcterms:modified>
  <cp:revision>12</cp:revision>
  <dc:subject>Slavic hymnal Гимны веры христиан, hymn 792</dc:subject>
  <dc:title>Приди ко Мне</dc:title>
</cp:coreProperties>
</file>