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0E0-00DD-4B90-BDB6-A4150776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A5B-18BE-4C60-BA50-1A33A65C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5E0-F35E-4AB8-99AC-B266477A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BDDF-83E0-4D85-ACB1-A3B3CBC7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A31-5ECD-4EE1-B941-83DDBD5D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A18-B44D-4BF1-89D3-41FBF63F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2C9-6D93-4DBC-9C48-95914164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358-C92E-442F-AC30-DE9045BC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E89-7A36-411F-8210-52361CBF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736-7EF9-421F-90BF-10ED5CA3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74D-B931-4ED6-8C11-880DFA89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206-DFBA-4623-9BFD-475C09F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55A33-124A-4E0B-AF02-B1499B57BA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! I am resting, 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joy of what Thou 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inding out th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y loving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bid me gaze upo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beauty fills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, by Thy transforming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64   Jesus! I Am 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great Thy loving-kin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aster, broader tha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marvellous Thy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vished all on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rest in Thee, Be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what wealth of grace is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Thy certainty of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made it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mply trusting The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hold Thee as Thou 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love so pure, so chang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its deepest long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ets, supplies its every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sseth me round with bless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e is love inde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lift Thy face up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work and wait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ing ’neath Thy smil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th’s dark shadows fl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ness of my Father’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nshine of my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eep me ever trusting, res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with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57Z</dcterms:modified>
  <cp:revision>13</cp:revision>
  <dc:subject>The Source 3, song number 1364</dc:subject>
  <dc:title>Jesus! I Am Resting, Resting</dc:title>
</cp:coreProperties>
</file>