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3D4-424C-4635-9AF0-B4AB1AD6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019-491F-41AF-915D-A630EF4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54A-1EBF-47F3-90DA-F3BA3198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B46-4193-4E33-8721-21B59B33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70E-BF63-4E14-AADB-65B229D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C36-0DAE-4FF3-95E3-AEC98FC7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D48-FF78-40E2-8CCC-EB88BBD7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94B-F3B3-4DFD-8814-727D97A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427-CF07-4971-8334-42216F2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ED3-3BA8-4BBE-B33C-8FB3497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94B-4D8F-4245-B4AF-DA230DF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DCB-2CF5-4473-9097-6F7090F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9BA94-E7C5-4CFB-B76C-AA3AA33D8A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 it ever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b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po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c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ld me and make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at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   Change My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47Z</dcterms:modified>
  <cp:revision>10</cp:revision>
  <dc:subject>The Source, song number 68</dc:subject>
  <dc:title>Change My Heart, O God</dc:title>
</cp:coreProperties>
</file>