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792-5506-4EC0-9718-0B800059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C7C-D505-4B70-B22E-38F76520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BBE-365C-4AAC-95E0-FC275B9F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5A6-E34B-419F-897D-0240F3C6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22C-6FE4-4671-B024-91C32737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C81-84BE-4BFC-8854-7FCD6B88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B55-85A7-473A-944F-A9C1DCA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C04-FC22-4752-B2DB-AF3F32F8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458-119D-4D7F-BD3A-7993E23C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A57-AC5B-4B67-90CF-6758E1A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87C-A573-441C-9B64-4783942C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BCD-DAC3-4832-969E-594DB2A6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0CF95-18F4-4900-BA9A-A311DB42B7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повисла над городом юж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пыхнет восток голу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на земле мне не ну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олько Спаситель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шёл меня в мире су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души моей тягостный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всемогущим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ё сердце от счастья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 повисла над гор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ничего не мог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не прожить не гр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пою 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Нём отдыхае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ывают минуты лих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как море, запенится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не боюсь я стих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ядом Спасител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йный ветер над городом 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ажая деревья в с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уда от Христа не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уда, ни за что не п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40:37Z</dcterms:modified>
  <cp:revision>12</cp:revision>
  <dc:subject>Slavic hymnal Гимны веры христиан, hymn 790</dc:subject>
  <dc:title>Ночь повисла над городом южным</dc:title>
</cp:coreProperties>
</file>