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529-D23A-4A9A-BC37-6F918CDE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047-2FE1-4DD3-9693-3181AE5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A15-A933-4947-9A9E-D40CFE1D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ECE-47AB-416B-97C2-6BE9DC60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C5A-CDAE-457F-8A99-00D40D5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B86-60AB-4CF7-BE93-11D2B9E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ADA-65E4-476E-870D-8225D48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DE3-D194-4922-99F0-21B70C24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A8C-36ED-45B5-8C5F-AB157CF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053-F4B7-4415-834A-DD693D00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CC6-FA11-4580-A22D-61896C0C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325-C245-43DF-80D0-9DC5D0E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061CD-6413-4EFD-A4E3-A68853D6CE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07Z</dcterms:modified>
  <cp:revision>10</cp:revision>
  <dc:subject>The Source, song number 233</dc:subject>
  <dc:title>In the Secret</dc:title>
</cp:coreProperties>
</file>