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3723-7694-4B93-BC52-B379E4BC5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ABD5-FB88-4072-B5EF-E6B394E39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EBAB-6AFC-4248-849B-5A853D77C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305F-C30E-476B-8222-25A1A902A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4589-943E-4ED4-92D8-32FC18199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119E-A455-4EA1-B4E8-B9013E611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C16E-0DC8-4530-BDDE-D6D20C245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DB8F-38F2-4D42-BACD-8538F2555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EA26-9EE0-4C6A-BB82-9F3582AE7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DC4A-0B08-43E4-8280-C7645E91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0ADB-38BE-4789-8481-C6742B6B6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DE2C-2110-4328-9294-55941DE76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3EAB42-6DEE-449B-BEAE-CE80146B520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много звёзд на небес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рит в бесчисленных луча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лучше звёзд всех крас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ественной любви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ественной любви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а светлее всех свет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7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ак много звёзд на небес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ердце, торжествуй 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Вифлеемская звезд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Христа в пути тво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ёт тебя в Отцовский 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ёт тебя в Отцовский 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а светлее всех свет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ёл Христос, с тех пор 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всех очей теперь видн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мире лишь она од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ьму сердца просветить силь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ьму сердца просветить силь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а светлее всех свет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морем, сушью ночью, дн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гда горит она огн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льёт с небес свой кроткий с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утешенье в мире бе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утешенье в мире б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а светлее всех свет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а ведёт меня к Хрис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возь жизни мрак и темнот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а неё хочу взир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ей лишь в жизни довер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ей лишь в жизни довер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а светлее всех свет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38:16Z</dcterms:modified>
  <cp:revision>13</cp:revision>
  <dc:subject>Slavic hymnal Гимны веры христиан, hymn 471</dc:subject>
  <dc:title>Как много звёзд на небесах</dc:title>
</cp:coreProperties>
</file>