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65D-1236-4A92-B954-5031BD14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A47-D1E4-4E05-BEC8-DE059D40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981-C781-428D-90A2-AAF06BF5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209-BF15-41BE-AE2B-3042BDFA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7F4-EC9C-4B1C-B625-4D5E08E6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6F0-6C46-46E2-B2BF-E8EC4D52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1E5-51D4-42C9-A013-1E89F9BB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AB0-8632-4C14-8473-10C1F034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CAA-C0D4-4E42-9F01-0F1971EE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35F-D257-4800-8097-EFF1D4A7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C28-BBE8-48E1-8830-385F36B9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EEC-9D2A-4292-9C8B-E09FFF5E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E3419-49F0-4CB5-89C4-99CC99666EA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d the voice of Jesus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unto Me and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down, thou weary one, lay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ead upon My breas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а глас я услых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вал: «Ко Мне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и, усталый, Мне на гр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и отдохн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me to Jesus as I w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 and worn and s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ound in Him a rest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усталый я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чалью и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отраду я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,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d the voice of Jesus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, I freely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ving water; thirst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oop down, and drink, and liv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 жаждущий, смот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ю воду Я 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куси, жив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me to Jesus, and I d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life-giving str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thirst was quenched, my soul revi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live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к Нему я и приль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ивительной стру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жду больше, в Нём жи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лив я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d the voice of Jesus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this dark world’s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unto Me, thy morn shall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y day be brigh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 тёмном мире —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воззри, взойдёт з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больше н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ed to Jesus, and I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m my Star, my S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that light of life I’ll wal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ravelling days ar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взглянул я и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олнце и звез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ветом жизни озар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уть земной про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54Z</dcterms:modified>
  <cp:revision>13</cp:revision>
  <dc:subject>Slavic hymnal Гимны веры христиан, hymn 469</dc:subject>
  <dc:title>I Heard the Voice of Jesus Say / Иисуса глас я услыхал</dc:title>
</cp:coreProperties>
</file>