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D83-AAE5-4CC5-9747-0DD01964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B19-7311-45DF-A7AE-BEB00CBE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33C3-320F-4E56-9FC7-D10063C9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784-308B-4D66-9CA7-D35C2A45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E72-A061-409D-8E2B-183614E3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CA2-FC66-49A1-9B20-4D019398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503-6E78-4F3C-BF21-F1BEB1D9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B7C-F8F0-4141-85F5-7ED83B96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672-E31F-4E76-9455-7DC13024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358-DA1D-4C77-898A-06E278AC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B38-DAAF-45C9-9479-AC0550D3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1BB-9899-4F58-B1BA-84F28F35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AF6E3-07AE-4C1F-A179-66CF8ACE3B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лагай Христа, мі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м часом доро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е будь байдуж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асителя спі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3   О, благай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Христа прийди покі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итя Його про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е Він тебе безмі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загибелі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серце утіш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юблю ім’я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е лиш підкріп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ереже від зл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будуть зустріч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ого Царя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а будуть прославл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ворця святих чуд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8:47Z</dcterms:modified>
  <cp:revision>14</cp:revision>
  <dc:subject>Slavic hymnal Гимны веры христиан, Ukrainian hymn 13</dc:subject>
  <dc:title>О, благай Христа, мій друже</dc:title>
</cp:coreProperties>
</file>