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237-92D8-4C73-A87A-155DD5B7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064-7AB1-458B-9AF5-6024E2BC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C0F-368F-45E7-8413-2A89C647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9AC-7240-4D76-83CF-20EBC93E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D5E-3266-4C0A-9BF6-5FCFE66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D48-4755-441B-A3BE-8F2E45D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A4A-FBC8-424C-9BE1-9023B7B2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9D8-610C-4B84-B413-E554662C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703-E752-4C93-ACEF-0D847BD7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EEA-6041-417D-BCA3-2313994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BBC-5E69-4FC9-9ECE-A9B8D9F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2D9-3EA1-48B2-BCA7-0AA8112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8091E-A3C8-43B2-BDC4-C0255EEBB6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the conflict 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dark without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er still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your faith grow fa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use you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r prayers un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your God ab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you go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aught of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ing in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5Z</dcterms:modified>
  <cp:revision>13</cp:revision>
  <dc:subject>Slavic hymnal Гимны веры христиан, hymn 397</dc:subject>
  <dc:title>Let the Sunshine In / Хочет всех людей Господь благословить</dc:title>
</cp:coreProperties>
</file>