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52E7-7EBE-4C92-AA12-E4FEEE851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B4F9-0237-464E-8F37-59DDAD81E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E41C-C704-4E42-93E5-85D27B4F6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FEE9-9129-4A45-9C1B-8637B03E6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D678-E109-45E4-893A-17EDC6D7A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4003-5DC9-490C-9514-8AB250073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1229-0A56-4368-9584-E55F5675F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47DB-C254-4B94-B8F9-D662D4BBE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AB7B-1018-43D0-A262-60CDFBB75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FDF7-981B-4618-82FF-6B76BDD67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513D-E2DB-4D08-8445-CE51C9FE4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4576-B407-4056-8C6E-74E3A10E6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FC7697-184E-4145-A03A-E13872B9F1C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is high and exal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worthy of pra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our he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will love and ador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is high and exal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worthy of pra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ly is the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ly, holy, holy is the Lor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ly, holy, holy is the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242   He Is High and Exalt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1-02-09T11:35:21Z</dcterms:modified>
  <cp:revision>12</cp:revision>
  <dc:subject>The Source 3, song number 1242</dc:subject>
  <dc:title>He Is High and Exalted (High and Exalted)</dc:title>
</cp:coreProperties>
</file>