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77DB-E1EE-42A0-B14A-A2C595A94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1647-7ABE-4ACB-8A76-70879F7D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D113-FB84-40E1-B074-BDE46DA28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4FCE-56BF-4775-9AE6-A9DBF6A9D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2310-B766-4412-8061-29DA0747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14A7-FC7E-4AFC-B68E-28B93BA9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DD32-4154-4516-83E0-5FB02E4A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F180-030F-45D8-B4DF-A1990170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7536-6EFD-4ACC-8A90-1A062F48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7B6B-E04C-42FE-A285-9C8C5432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E6DD-43EF-432E-88F3-F0799972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16AD-3401-40B5-A5FB-37FE26BF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D1B875-5B77-411D-8602-79B0F455A1A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наповнить твоє серце до розли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ільки до Нього прий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оє серце відчи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наповнить твоє серце до розли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ятим Духом і вогн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13   Він наповнить тво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5:40Z</dcterms:modified>
  <cp:revision>13</cp:revision>
  <dc:subject>Slavic hymnal Гимны веры христиан, Ukrainian hymn 113</dc:subject>
  <dc:title>Він наповнить твоє серце до розливу</dc:title>
</cp:coreProperties>
</file>