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C83-8187-42E0-AFB1-1097B406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C0D-7D55-4236-A5FF-3099638F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19D-C880-4D1C-A965-2B0914CE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A6A-30E2-4561-9FF2-5A10C149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A9B-C540-4E49-8DB6-24969863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962-0916-4A51-8498-28697116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FE8-47FC-42A5-B468-0979E6F0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E3F-C1B7-4CD2-B459-E031BF3B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A6B-8A87-4609-939B-E9778C7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69D-4087-4EF9-BE90-032DAC7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99F-8CD9-4168-93CA-0F58330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F9A-F7EA-4389-8588-FB6295D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F7947-77A0-4FE7-8CF4-17925CD296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 Господь Святим Дух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хай, Ноє, своїм ухом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й ковчег, стрій ковч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й ковчег, стрій ковчег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Триста ліктів довжи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п’ятдесят шири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дцять вверх, тридцять ввер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дцять вверх, тридцять вверх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4   Сказав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оп прийшов, умножа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род, бачивши, злякав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іде, гнів і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іде, гнів і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уть люди многі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кали всі на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зали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живущїї крич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 із другом обійм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ас останній розставали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ий час, гір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ий час, гір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 з сестрою розста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ти й дочка обійм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з отцем, син з отц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з отцем, син з от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в ту пору ясно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иття тяжке на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ибель всім, гибель в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ибель всім, гибель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же пташки не щебе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одами всі літа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дчай ― крик, одчай ― к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дчай ― крик, одчай ― к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или їх укорот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оді вони топ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воді, в тій во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воді, в тій в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Один плавав над 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Ноя із с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Але ось вже не верш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станув на тверд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горі, на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горі, на гор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Ворона Ной випус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н води виглядає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землі, нем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землі, нем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Голубиця виліт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сток свіжий відшу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ливний, ол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ливний, олив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Верхи гір вже відкри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в море вже зли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ша є, су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ша є, суша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Тоді двері відчин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оя радість появ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йшов Ной, вийшов 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йшов Ной, вийшов 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7:27Z</dcterms:modified>
  <cp:revision>12</cp:revision>
  <dc:subject>Slavic hymnal Гимны веры христиан, Ukrainian hymn 84</dc:subject>
  <dc:title>Сказав Господь Святим Духом</dc:title>
</cp:coreProperties>
</file>