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2</a:t>
            </a:r>
            <a:r>
              <a:rPr b="1" lang="ru-RU" sz="3600" spc="-1" strike="noStrike">
                <a:solidFill>
                  <a:srgbClr val="ffffff"/>
                </a:solidFill>
                <a:latin typeface="Verdana"/>
              </a:rPr>
              <a:t>	</a:t>
            </a:r>
            <a:r>
              <a:rPr b="1" lang="ru-RU" sz="3600" spc="-1" strike="noStrike">
                <a:solidFill>
                  <a:srgbClr val="ffffff"/>
                </a:solidFill>
                <a:latin typeface="Verdana"/>
              </a:rPr>
              <a:t>Господи, Боже, склони</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и, Боже, склони Свои взор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ам, утомлённым суровой борь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м Твоим поднимаются гор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мни, как тающий воск п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ьму отделил Ты от яркого све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здал Ты небо и небо неб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емлю, что трепетом жизни оде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преисполненный скрытых чуде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оздал Ты рай и изгнал нас из р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опять нас к Себе возвра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утомились, во мраке блужд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согрешили, прости нам, пр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е искушай нас бесцельным страда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утомляй непосильной борь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возвратиться к Тебе с упова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о Господи, слиться с Тоб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Имя Твоё непонятно и чуд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же Отец Ты наш, полный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нам горько, и страшно, и труд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жалься, о, сжалься, мы дети Твои!</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5:10Z</dcterms:modified>
  <cp:revision>3</cp:revision>
  <dc:subject>Slavic hymnal Гимны веры христиан, hymn 152</dc:subject>
  <dc:title>Господи, Боже, склони Свои взоры</dc:title>
</cp:coreProperties>
</file>