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9CA-5C41-4C1A-889A-1769FE51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556-F094-44C9-8C80-FB3E58B3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EDC-D7DE-4F08-8FF2-B3F15C45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56F-750C-413F-9F30-5448D047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986-0379-4E5F-AE6B-2A505E5C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EA8-60B5-492A-BBE9-573E2C10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874-FCAD-4049-96E4-3A54088F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19D-A60E-4D58-922C-FACDBF0C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D7D-C77B-4BCB-A3F3-8F9B15B5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7FC-1FA7-4EB9-95A6-045ABE19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92F-87CA-4492-97E4-4D8C164C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FE1-3B85-490F-B67B-25346597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B2FB0-FDBE-4A5E-9DDD-4871AF709F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 of Christ I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w’ring o’er the wrecks of ti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light of sacre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s round its head subl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хвалюсь кре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валюсь крестом Хрис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ходит, он 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учах Господн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золота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woes of life o’ertak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s deceive and fears ann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shall the cross forsak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it glows with peace and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житейская ли м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ль тяжёлый гнё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Христов терпенью 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мн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un of bliss is b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and love upon m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ross the radiance str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dds more lustre to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ль вешнее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цветёт кругом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креста любовь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яет радость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ne and blessing, pain and pl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cross are sanctif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is there that knows no m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s that thro’ all time ab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печаль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свяще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ердечный, веры сл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навек д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1:45Z</dcterms:modified>
  <cp:revision>12</cp:revision>
  <dc:subject>Slavic hymnal Гимны веры христиан, hymn 864</dc:subject>
  <dc:title>In the Cross of Christ I Glory / Я хвалюсь крестом Христовым</dc:title>
</cp:coreProperties>
</file>