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21C-D8BC-4B6C-B7CB-A91BD66F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6D6-91F5-46ED-B91B-740B22FB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764-2312-4784-B99B-33DEB875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23C-7041-4BFB-BD00-F8BB4B73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582-F9F7-44B9-B5F3-F46E6B64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0D1-F17A-421C-AE29-76359942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7E5-127F-44F8-8230-F3BD589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436-71AC-4CDE-BFA4-334832F5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946-000A-41F8-AAA9-846EDFF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A0C-EF02-45FF-A906-E0EA15F9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DB3-196C-4B22-868C-966D636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AB7-110A-4F95-B216-102214FF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4A1D6-3892-49DA-88CC-626A0002C9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56Z</dcterms:modified>
  <cp:revision>12</cp:revision>
  <dc:subject>Slavic hymnal Гимны веры христиан, hymn 401</dc:subject>
  <dc:title>Чудный Спаситель зовёт нас домой</dc:title>
</cp:coreProperties>
</file>