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C77-8D10-4133-A3A3-DC9214CA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F64-7AB2-42C9-82FE-BEA6DF40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5DE-628F-4338-BFF7-53F68C0C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932-3970-4CC8-831E-C123A8B5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739-DCFA-4695-A355-40FBB326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170-0154-4729-A14D-C88F6F20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0E7-4661-448E-900E-A29713F3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B72-0D0C-4A76-A692-34D1BAF1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46F-0EA7-4611-AE73-53B4D7B7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FCD-0F33-4677-B89E-35BDFF1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8BC-AF53-48A2-AB5E-F6DC9C8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8E2-508E-4059-9194-B457BE6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DCE95-A865-4C2C-8627-6DEFAA7F66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01Z</dcterms:modified>
  <cp:revision>13</cp:revision>
  <dc:subject>Slavic hymnal Гимны веры христиан, hymn 821</dc:subject>
  <dc:title>С Тобой, Господь</dc:title>
</cp:coreProperties>
</file>