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3652-D26B-42C8-838D-8A8DD9E2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107-84D3-41A2-A4A0-08C0D496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C5EB-BADF-407E-B06B-443A9F32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3B9-C853-4B73-B227-D95A4343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1F7-8B7C-4822-9BEE-5B64251E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FF0-7A02-43C5-87F5-EA0060E1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41C-3822-4EA7-85FE-8D2BF3D7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15C-D364-443E-8AE0-A3B096F3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9D0-1B07-464E-84E0-2612DD6C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B21-3D02-4406-B613-9A9E24EC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33A-0E4B-413C-BEC5-653522D2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1CB-47C6-45FD-AEBB-94CAABD0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7DA71-0441-4771-B2BB-850F5F00C3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де же жнецы, чтоб теперь со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ей, злом богатых, — добра сноп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пами любви надо труд свер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тени ночной класть нельзя сер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где же жнец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те колосья среди тра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шеницу средь плевел найдёте 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росьте колосьев, что у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их в житниц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олос созрел и к земле по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атвы великой мир скоро ж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ников мало, а труд вел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длить же нельзя, ведь всё пропа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ите же, люди, свои сер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с обильным зерном сноп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есь до встречи Царя-Г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житницу Божью войдёте 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0:50Z</dcterms:modified>
  <cp:revision>12</cp:revision>
  <dc:subject>Slavic hymnal Гимны веры христиан, hymn 534</dc:subject>
  <dc:title>О, где же жнецы?</dc:title>
</cp:coreProperties>
</file>