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AD6-BB58-4C15-809E-2BDAF1BA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8E5-2578-47B0-A174-A12D561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9B3-25AA-4FDF-89EF-69C1ECE9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927-569A-44BE-B65D-D80CF198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399-2C0A-4245-AD98-D45AB886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C63-54ED-4177-950A-A30ED54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D1B-5623-4998-8A22-78AD8218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CE5-8F5E-4D8C-A21E-D7469266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C0D-A993-4C0E-96DE-2D5F7CB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4BB-9B14-447E-BC1D-5FAA74C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206-025B-4C84-8EAA-ACD2012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46A-6E90-4C16-B185-8D3CF02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07CEC-54C7-4290-976B-0EBB61B89C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2:40Z</dcterms:modified>
  <cp:revision>12</cp:revision>
  <dc:subject>Slavic hymnal Гимны веры христиан, hymn 824</dc:subject>
  <dc:title>Небесный свет, веди чрез мрак густой</dc:title>
</cp:coreProperties>
</file>