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5200-F2B0-4DE9-A678-CEFEDF125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00B4-CA9D-4BAA-8D7D-0EEE8709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AA70-F072-4D90-85BC-023997AB7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6D2A-E8B8-4A82-B068-79C45463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BD92-4659-44BB-90E7-CE23A076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120F-6A89-4ECB-959D-9992D1F1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25B7-5627-4AFC-AB15-6366902A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276A-E873-4794-8832-63F70218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F28B-9CB2-4CE2-9B29-990E1564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25BF-F955-40B9-B2F0-3BFB9B19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868C-EA4E-4CFC-BB6F-337DD54F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37FF-3FC6-4BA3-BD36-F41A4DAE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30FAA-EDF6-4453-8E81-63DD7E5FD30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aviour,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ed me from the miry c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mighty,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never be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use You came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everl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world we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ather’s only 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441   My Saviour, Redee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lived, and You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rose again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opened th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world to liv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for all You’ve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aviour,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ed me from the miry c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mighty,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never be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use You came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everl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world we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ather’s only 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lived, and You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rose again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opened th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world to liv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for all You’ve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for all You’ve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for all You’ve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49:42Z</dcterms:modified>
  <cp:revision>12</cp:revision>
  <dc:subject>The Source 3, song number 1441</dc:subject>
  <dc:title>My Saviour, Redeemer (For All You’ve Done)</dc:title>
</cp:coreProperties>
</file>