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396-1621-49A6-BACC-2983FE10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0D6-635E-4F08-A723-604AB59E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C41-54D1-4D81-BEDC-C1B12736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BE4-4FC2-4BD0-A848-69D66B87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C87-5F9F-458B-ACAA-B7FB009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096-FD14-4DE2-8A32-D28F087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511-BAFA-4CA1-A81D-1F7B91E6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E38-4C0F-47D8-ADD1-1560CB1A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7E2-5D5F-48A9-B662-A1D95E3F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E6C-5A2C-4299-A043-4E041F1E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C60-6091-4E94-A16A-746708D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52E-E348-41ED-B016-7F816E0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892A3-9892-4DD6-990F-32E4F1589E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ясный лучший мир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 ника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песни там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ухи светлы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ам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ясный лучши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уч на небе голу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тонет под тр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там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ком Господа От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м ликуют в мире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ы виновны п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весь мир объят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пришёл за нас тер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ожет все вины ст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у блаженства вновь в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время нас не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спешит оно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час наш под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32Z</dcterms:modified>
  <cp:revision>12</cp:revision>
  <dc:subject>Slavic hymnal Гимны веры христиан, hymn 665</dc:subject>
  <dc:title>Есть ясный лучший мир иной</dc:title>
</cp:coreProperties>
</file>