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8C4-FC2A-479F-BC12-220ECC06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32D-1673-49C8-BBFD-3B7C704B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95C-0851-4F89-914D-34B5C531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3F1-9332-4258-A3EE-632D8683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90F-84BE-493A-A7F7-D8F436E8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17F-541D-4E49-A823-1FFB245E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EBB-2364-494D-A137-CCD579BE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81A-4BDB-4BD6-9786-52BC1F34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2BA-D3B8-4171-AE9D-0DFB88EE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53E-6639-446E-8FA1-7D26977F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049-62AC-46CE-8D5C-52F992BB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601-038C-45C5-96CD-F78B1DD7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9C7C8-D8FB-41A1-B912-00B443A374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еко, далеко, далеко,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гранью небес голуб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так нежно,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так мило, лег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лаждаться в общеньи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леко, дале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боко, глубоко, глубоко, глуб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ечтаю о родине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слёз, ни трев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покойно, лег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традный мой дом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, я хочу, я хочу, я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быть в том блаженном к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час придёт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полу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место в блаженном кра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29Z</dcterms:modified>
  <cp:revision>13</cp:revision>
  <dc:subject>Slavic hymnal Гимны веры христиан, hymn 696</dc:subject>
  <dc:title>Далеко, далеко</dc:title>
</cp:coreProperties>
</file>