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960-6811-4852-8A3B-EC9ED839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CB4-CBDA-477C-A612-A9D88DF3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3C6-5128-41F6-A9D1-F86ADB1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A5B-3A20-46C8-975F-28D6E5F9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DB5-F3FD-4F07-8A6D-441A3E3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343-F005-42B6-9C01-DFE78B8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958-E2E4-41BE-AC01-0CD1509E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18A-1314-4B3B-8CD0-D88420D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BE6-27F4-4DBE-AC1C-9D446A77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9D-B55D-4330-8058-169515B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617-C22E-4B89-B66A-70A8B34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4D1-B53D-4BD0-928B-5881FCB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85D81-AFDE-4A13-91AF-0BF30F8A5F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ело нам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плетаются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зком,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вят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и яд разоль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тяжёл и так д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ется — вот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шь, ах, где же т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обедой зажг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на ноги п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я дальше пой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чутясь на коле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затворив за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е эти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взлетишь т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забьётся так гул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ручьём по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т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полнят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поднимут на крыл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облегчая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и мелодии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земной уве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рогие мг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дающи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любви, дерз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надежду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! в эти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28Z</dcterms:modified>
  <cp:revision>12</cp:revision>
  <dc:subject>Slavic hymnal Гимны веры христиан, hymn 786</dc:subject>
  <dc:title>Часто на этой дороге</dc:title>
</cp:coreProperties>
</file>