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C93-031B-421A-B149-3F9DC567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D01-C6BF-4232-8B04-78D4AB1D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E6A5-38D5-44D1-8E01-F0F7449A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E03-7B7F-4CB1-856D-E8C52FD5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ABD-A46C-4C49-8EE0-0A5D8DAB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4D9-D744-4F6E-992F-E7FC7920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BC2-E890-4CD4-8C26-F5D7EF3B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8F6-0C68-4FB5-B699-93D3BA3A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1EA-1F9E-4C9F-829C-ADE56DCF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14E-04F3-47CD-B11A-8B57CF4F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B598-465B-49A1-8E11-7C6FD9FC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4B3C-2129-4DA8-AB38-365F1579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850A2-7CE3-4F76-B5D0-4BD040424F4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stand in the mi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mul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ose from e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ibe and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Your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deemed by Your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chased from death by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16   Lord, I Stand In the Mid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are n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od enough to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are n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express my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will lift up my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ing from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 to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Christ we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, ev’ry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people, ev’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glory, giving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praise un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stand by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eansed by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Your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ed b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mbly we bow and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lease You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k in us and throug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we ar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more lik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all the nations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reve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 to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Christ we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, ev’ry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people, ev’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glory, giving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praise un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knee shall b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Lord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 to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Christ we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, ev’ry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people, ev’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glory, giving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praise un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8:03Z</dcterms:modified>
  <cp:revision>12</cp:revision>
  <dc:subject>The Source 3, song number 1416</dc:subject>
  <dc:title>Lord, I Stand In the Midst of the Multitude (Hallelujah to the Lamb)</dc:title>
</cp:coreProperties>
</file>