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20AE-39D8-46B2-AA30-FF78D7E5B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2A60-4699-4658-9BA6-F86C93D6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1CA3-354A-4D61-81F7-B80D63275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48EF-AE71-4094-840C-8D5E6B50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E7D3-EEBF-4187-8C4B-4AE10DF4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8AFB-0F01-42D2-A571-B08F0FB3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2BE2-527C-44EC-B507-D72CB623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DC13-218A-46A3-B280-5F625E33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0804-44D6-4370-BD7B-1ABE9AF1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F87B-6ED9-4F1B-BF31-52EAE098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E539-BC75-4A99-819F-C26B9B5A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B494-A41D-47D3-ADCB-0EE554AE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06383-A32A-4F83-A74A-F0872D9815B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тко и нежно Иисус приз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призывает, лю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 у порога, стучит, ожид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Он меня и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), приди (при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, кто жаждет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Иисус при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не медли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ротко и неж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и медлить, когда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т, о каждом скорб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благодати принять не хотите 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для тебя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), приди (при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, кто жаждет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Иисус при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не медли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ни сгущаются, смерть торжеств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беспощадно гу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приходит, в обитель и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ичут меня 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), приди (при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, кто жаждет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Иисус при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не медли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любовь нам Господь обе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ертву отдал Он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огрешили, но Он нам про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меня 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), приди (при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, кто жаждет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Иисус при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не медли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0:31Z</dcterms:modified>
  <cp:revision>12</cp:revision>
  <dc:subject>Slavic hymnal Гимны веры христиан, hymn 357</dc:subject>
  <dc:title>Кротко и нежно Иисус призывает</dc:title>
</cp:coreProperties>
</file>