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F8C-863D-490A-BE3A-6AB3C510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152-7885-4015-94B8-03066314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731-AA74-4E93-808D-7BEC3C3C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A6A-44AE-4EE9-8DE0-7D4766E9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019-5607-4D09-A566-2CA46B94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BB8-D4FD-4B41-BB8A-A245C1D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5B0-7F29-4FF7-A5B6-BFC17A34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11D-760E-41FD-AB2E-F15C1759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239-A5AB-48DF-8865-94108B56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B11-4407-4818-B8B6-D1853C6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59F-E9F7-4A09-861E-5E3F8824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675-D1CA-4065-94B8-BFA921B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15564-5641-412F-9CD5-E4A73CF30F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благодать избер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слова вознес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Спасителя примешь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ую тьму изберёшь ил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ывает: о, дай же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а благодать изберё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ечный суд угрож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ок путь жизни и тесны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и ты в царствие внидешь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н обрёл тебе кровью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оспода крест понес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ечная жизнь: ожив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скитаний твоих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увещанья Сво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ери Иисус к нам не вечно ст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ую цепь ты порв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точнику жизни прид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ешь ли в двери отверстые н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твоём Ему будет ли хр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за тобою спешит по след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5:47Z</dcterms:modified>
  <cp:revision>12</cp:revision>
  <dc:subject>Slavic hymnal Гимны веры христиан, hymn 398</dc:subject>
  <dc:title>Христа благодать изберёшь ли?</dc:title>
</cp:coreProperties>
</file>