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665-519E-4866-9D0F-B01A33AF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5CB-8FDE-4F08-8E89-75E7DACF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41B-D228-4D9A-8480-7E670525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A9B-4AB3-433C-B81A-971DE055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034-E9C5-4BCD-8AFB-BFDBC33D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01C-54A2-45D2-8504-361CE2D1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CA7-55F0-4383-B60C-3F302D00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C9A-DBBE-4A6D-A99B-D0583D4D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DB3-7930-4E75-8FCD-588C6950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7A7-F2E4-479D-8340-785064A4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042-541C-49A2-8927-7CF1EB94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A4F-90C5-46A8-AA33-69A815E9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830D9-0EA4-4F67-B0B9-C5CFE491BC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енном море с волнами боро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я тяжко, смертельно у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розный вал мне навстречу нес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 подводный я камень по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рянет буря… гроза разрази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плет мой чёлн, словно щепку по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о штормами должен срази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ёлн мой не раз заливает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жизненном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устал я, а берег жел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ещё кажется так далек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, чтоб достигнуть при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жд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переплыть нелегко, не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в борьбе со стихиею гро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 не хватает, немеет рук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еденит под струёю моро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зов не идёт с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мой брат и пловец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ешь духом ты? Верь, ободр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ю силой в пути окры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ре житейском ты смело держ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 ты плыл, много с бурями б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лько преград на пути побед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вань близка уж, а ты уто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в тяжёлой борьбе опу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но тебе! О, я верю, что труд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абудь, Отчий глаз над то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денно и нощно, Он ч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рит каждый миг твоей жизни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обедителем! Брат, не сдавай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ты сможешь свободно вздох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ёлн твой у цели… мужайся ж, мужай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т немного и кончен твой п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39Z</dcterms:modified>
  <cp:revision>15</cp:revision>
  <dc:subject>Slavic hymnal Гимны веры христиан, hymn 705</dc:subject>
  <dc:title>В жизненном море с волнами бороться</dc:title>
</cp:coreProperties>
</file>