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DC6-7832-4DA1-BF9F-CF6832CA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167-046D-475B-9A3B-CE3D13D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8B8-A0FD-4CCF-BA26-57A58708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743-2A53-4FB7-AADF-E29D0FAA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7B9-8B3B-454C-A8DB-996AA2A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E82-DC48-41A6-B317-69DC22C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DC1-BD95-4930-BDB4-AE32665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B2F-7963-4412-93EE-78E65BB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AEF-6701-4BC6-8077-753AD7C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E5D-8FC5-40BB-AA99-93DE917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C9E-CD3B-4B52-9B5E-A6F66D0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5C0-4B76-4845-A72E-3251A39B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BECD-5541-4D6F-901F-71FC755630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04Z</dcterms:modified>
  <cp:revision>15</cp:revision>
  <dc:subject>Slavic hymnal Гимны веры христиан, hymn 338 (as amended)</dc:subject>
  <dc:title>Грешники, к Христу придите</dc:title>
</cp:coreProperties>
</file>