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577-E7F0-4BB7-8C20-CCC60150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CD7-3587-4528-BB81-05474521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925-2335-41D0-8E0E-C89DDFEC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860-33DA-4806-8CB8-B1CDB973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295-6F15-4650-A39B-47D43649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4FA-BA6F-410A-BE67-047AD3A6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4B4-9B92-4903-A65A-6C63682B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547-8105-4860-A9F8-7107F691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0B3-8230-4623-9AF3-541FB98E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640-7900-4D3C-B3B0-223BB72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3FF-17E9-41E5-B5CA-24BCEBEB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C64-2529-4DD8-BA08-B2CB9356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3278C-23B0-4DD3-98CE-623F747BB1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0   Він обм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sins He forg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гріхи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, що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8:37Z</dcterms:modified>
  <cp:revision>12</cp:revision>
  <dc:subject>Slavic hymnal Гимны веры христиан, Ukrainian hymn 100</dc:subject>
  <dc:title>Rolled Away / Він обмив</dc:title>
</cp:coreProperties>
</file>