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79F-5D20-4EFD-829C-C856A89E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DE4-8C30-4946-80D9-63A96CF5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A5B-B9B0-49EF-ABB2-D95C0491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C1F-CF33-4F2C-A622-AD20222E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E43-F831-4735-B17B-E4AF62B4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F72-46F4-4DC5-8653-B7CBAA0E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11C-1D59-4B4B-9EF2-A543E97F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02F-AF27-48CB-8833-1F1F56CD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277-E56C-4259-B8C5-C58BBB8D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A37-8581-41FC-B77E-A6121FF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0CC-2F07-44E2-80B5-FB6166A6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B52-00DD-44A1-9FD3-3F327B1D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D1CB8-1EB5-460D-A838-646774C8B0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pray and while we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you see your soul’s deep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ur Father calls you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not, my brother,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а  Слыша просьбы, слыша 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просьбы, слыша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я нужду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под Отцовский 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ся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have wandered far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risk another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turn from Go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day accept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душ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ань во тьме блу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you’ve faile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ught of peace for troubled m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on Him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you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щетно ты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шному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, Он д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у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confession m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and pardon 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Him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you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ткрой 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я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и будь с Его детьм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Он тво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7Z</dcterms:modified>
  <cp:revision>14</cp:revision>
  <dc:subject>Slavic hymnal Гимны веры христиан, hymn 335 (as amended)</dc:subject>
  <dc:title>Why Not Now? / Слыша просьбы, слыша зов</dc:title>
</cp:coreProperties>
</file>