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C7D-019F-4F15-9CDD-96053C5B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274-A126-4D25-8D75-FE50960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1DC-3CB7-402D-9684-C92BBF53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4E0-A559-4C11-8053-CFC387A0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A22-0023-4D4E-A2C5-72AE9277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1BA-52A4-4E3C-B20D-6D1535C9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85F-27A5-4F7A-97E9-13CF50B0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488-41B4-466E-98FB-F9833A01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D00-F99B-4AA7-AAB3-DF026ABF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16C-C836-4B80-904E-27FB3C02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31A-6520-46F7-9026-10E1E84F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A8F-7EAC-4DAB-8035-206CCFE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F4E75-C0C0-4FDE-85E4-6FA0E03D06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 вірити в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вятим Його слов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ушею під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о в самі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4   Любо вірити в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сь н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Його святу лю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ому служу й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риємно знат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обувати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тись Його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одити завжди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ходжу соб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олгофському хре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я можу виправ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ершитись у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0:17Z</dcterms:modified>
  <cp:revision>13</cp:revision>
  <dc:subject>Slavic hymnal Гимны веры христиан, Ukrainian hymn 24</dc:subject>
  <dc:title>Любо вірити в Ісуса</dc:title>
</cp:coreProperties>
</file>