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A2A-E23A-4F78-9231-8162308F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86-72B3-4AA3-93BC-EC124ECD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429-340A-4007-8D36-4EAA5FE2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621-682B-4B72-B083-79488E4C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021-B784-463A-949E-61A58795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4A3-E5C8-47BF-82F6-0115D40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7F2-A2B8-4A8C-8F4B-002DDBB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4D1-275E-4B8A-9CF0-AB59450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2DF-B949-4727-B034-A8AF4C9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CFE-B088-464A-B034-02B7CA7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F86-E10E-4DDF-98ED-D126273B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414-CC75-4819-8490-730776C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693D-1F96-4F10-B260-E477CA7778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всегда за приз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ужень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38Z</dcterms:modified>
  <cp:revision>12</cp:revision>
  <dc:subject>Slavic hymnal Гимны веры христиан, hymn 852</dc:subject>
  <dc:title>Сион, спеши…</dc:title>
</cp:coreProperties>
</file>