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41</a:t>
            </a:r>
            <a:r>
              <a:rPr b="1" lang="ru-RU" sz="3600" spc="-1" strike="noStrike">
                <a:solidFill>
                  <a:srgbClr val="ffffff"/>
                </a:solidFill>
                <a:latin typeface="Verdana"/>
              </a:rPr>
              <a:t>	</a:t>
            </a:r>
            <a:r>
              <a:rPr b="1" lang="ru-RU" sz="3600" spc="-1" strike="noStrike">
                <a:solidFill>
                  <a:srgbClr val="ffffff"/>
                </a:solidFill>
                <a:latin typeface="Verdana"/>
              </a:rPr>
              <a:t>Проснись, о Церков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роснись, о Церковь, стряхни око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стина освободит!  Скоро с Сио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ридёт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 Свой юбилейный г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 аллилуйя, о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Аллилуйя, сла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 аллилуйя, о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Аллилуйя, славь Христа!</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4:49Z</dcterms:modified>
  <cp:revision>3</cp:revision>
  <dc:subject>Slavic hymnal Гимны веры христиан, chorus 41</dc:subject>
  <dc:title>Проснись, о Церковь!</dc:title>
</cp:coreProperties>
</file>