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92D-43D8-40A3-BA29-65AD0CC6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94B-C2FC-4AAA-9533-B355768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83C-9529-43C5-8DCD-1571FC8B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1B1-AB3C-4E7C-B41B-8E5FAD06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D7C-38E1-4C16-93E1-41D71EB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D49-91C3-4128-8D82-CA1D8F1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2A0-08F7-4B8A-8249-407B013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5BB-98C1-4506-AC8B-9543B8F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7FE-493F-4B40-A7DF-5ECAB19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3EA-D2B3-4AF4-8B3E-B605803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A59-E947-44DB-BA78-265A3DC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65A-70E5-4C07-995C-8D4B6D9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7F4B-C7E6-4E6D-9E2F-E2C94DAB04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9:17Z</dcterms:modified>
  <cp:revision>12</cp:revision>
  <dc:subject>Slavic hymnal Гимны веры христиан, hymn 287</dc:subject>
  <dc:title>Воскресшему служу я</dc:title>
</cp:coreProperties>
</file>