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BFA-0380-4D6A-BA4C-48680ECC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23B-1FAD-4083-9D76-F3BDFB35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E6E-02D9-4445-B4DD-0333C5E9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CB8-D759-4BE2-BD0E-74F4FF9F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0AE-5963-4160-8407-5100202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6A3-ECA3-4829-A93D-60FDBB1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991-C7D0-43E5-AA79-6BFE37C5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846-B733-4BBE-936C-73DE957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89E-9CE5-4897-BE13-E521F6E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D76-E658-4DF7-B78B-9B87826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A6C-6BAF-4469-A5DB-65D719C8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28C-FECC-443C-AC2C-3A9E2D1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9BE0E-ACDA-4762-97CD-E32402AE3A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02Z</dcterms:modified>
  <cp:revision>12</cp:revision>
  <dc:subject>Slavic hymnal Гимны веры христиан, hymn 847</dc:subject>
  <dc:title>Спаситель, мысли о Тебе</dc:title>
</cp:coreProperties>
</file>