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062-7C71-4E37-96DC-CE828A4C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446-F140-4F0B-9EB2-DED287BE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CB1-7F88-4571-9D96-25983251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53B-0353-45B4-AC26-118F0B3B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F82-3498-4E73-AF5A-EE9A18C3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090-EFD7-425F-B8E6-4C437D15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715-388C-4268-A0F9-0668381D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3F7-37D9-477D-919B-0B44B734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C8D-30AE-4938-B8DD-9468994D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0E6-BAD2-41F6-9998-9296957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B83-D082-4B1F-BC5C-FA8C206A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DF1-362D-43B4-A18C-42335DE3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29471-E7DA-44FA-BE1B-BD1A19BBB8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ворих ізці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ртвім життя д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іпим дає Він зр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ивії ходять в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5   Він може, Він м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42Z</dcterms:modified>
  <cp:revision>12</cp:revision>
  <dc:subject>Slavic hymnal Гимны веры христиан, Ukrainian hymn 105</dc:subject>
  <dc:title>Він може, Він може</dc:title>
</cp:coreProperties>
</file>