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2B8-BD8F-4891-8314-5A7FA8B0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CD0-7F7F-481F-9B08-094A7B1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857-480F-4ABC-83E0-2D03628F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3C8-B2A9-4BE0-ADC5-3F78CB86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759-74E8-48A1-9F47-4A384820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4DE-4125-41FC-A488-08B6A49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AB4-40F2-4F55-AF68-6DD2F901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6D0-03BC-4C4C-826A-1E2CAB16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363-43D6-44B2-A7B1-A2B28F6B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322-7A23-4262-B9CD-BE3F0ED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31D-9E85-40EA-B487-290EC91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C9A-6DB6-417F-A279-EF45724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E80A9-E4BD-4A28-963A-149C974B82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Богом мне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ой жизни среди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ла ты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ью я не с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ях я сто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ю с Богом 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ч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я выбился и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ол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частья не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пусть будет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ругих я жи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го прошу лиш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чувствовал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я любима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их плечах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реди житейских би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репляла ласкою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во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частье,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бурю падал я бе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где слышал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слась среди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олитве радость пол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54Z</dcterms:modified>
  <cp:revision>13</cp:revision>
  <dc:subject>Slavic hymnal Гимны веры христиан, hymn 895</dc:subject>
  <dc:title>О, молитва</dc:title>
</cp:coreProperties>
</file>