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C94-0311-4E91-B543-8E6F0B79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9D0-3DD0-4D54-802B-1FF1DD69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914-3DD7-4663-8335-58DD9720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C9B-0952-4475-8AC0-768AB096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7C9-7402-4A67-8321-8921F341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EDA-1B52-414D-B33F-0420771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3B4-FCF9-4AA8-94BD-C6A2476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2B3-A60A-4D0E-BBB7-B1881DBF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83A-496B-4BB0-AF54-BD2C1FBA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049-978F-4B77-A713-4067456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CF5-92D8-4A91-8CE8-52F06C5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7D7-F163-4593-807F-8B15506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C873-628D-4E80-9C4C-765723EDAA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8:31Z</dcterms:modified>
  <cp:revision>12</cp:revision>
  <dc:subject>Slavic hymnal Гимны веры христиан, hymn 873</dc:subject>
  <dc:title>Нужда ли большая</dc:title>
</cp:coreProperties>
</file>