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19B-CE4E-429C-89C6-E5E2333C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6EE-1A22-4916-910B-815BE3DA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F8B-EBDD-4F4E-B5E1-4DBCB75C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620-DAD1-45CD-AFD4-E5173B5D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028-4467-4060-A5DC-5019E404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AA6-5506-48F4-A806-B2DC3C24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087-8638-4497-A736-73DE69EB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6C1-24CB-425F-9775-5985491C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CAF-C17A-4D34-9013-9032FF27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970-528F-4959-8B66-35D6846C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5AD-1C32-45EE-AA9F-8651DA2D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3FC-0587-4133-A6D0-8CAF38F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599A0-75C2-4D8D-8A72-B4F9405D8D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ore of Jordan’s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xpectation we a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faith we see the sh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our new and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берега зе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берега зе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бурною р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ерег жизни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un in radiant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the new Jerusal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s of praises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precious, priceless 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солнца виден пы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ятой Иерусал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радости там слы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язык неизъяс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saints their race have fi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ssed the Jordan with a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, too, shall cross that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y soon we’ll a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многи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шли к тем бере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ядут часы бла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ы все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 of death engul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eyond its deathly th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the kingdom of the bl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end of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смерти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 далью непо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а свет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7Z</dcterms:modified>
  <cp:revision>14</cp:revision>
  <dc:subject>Slavic hymnal Гимны веры христиан, hymn 685</dc:subject>
  <dc:title>On the Shores of Jordan’s River / Мы у берега земного</dc:title>
</cp:coreProperties>
</file>