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486-406F-4705-B424-09ECE16A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9E8-526F-46CB-8710-68B20FC6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837-61FD-4625-8EA3-3FA0FC6F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61F-4B05-490A-90F9-164EFF36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624-058C-4554-8C8F-4FA64D5F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6BF-30CA-431B-B303-2DEE5AB8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674-B5F2-42F2-8B28-BA15BF54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808-588C-4AFA-B4FA-7E235FD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D25-8A5E-4F11-A147-C01269D5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D32-A2B3-4980-BD50-2E52E03F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C24-60D2-4B61-A2A5-54435E2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5A7-BBF5-4BA3-BD4F-DF624C2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A1A5D-98DC-4908-A246-CC530EE1D5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trong and so 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thing that He cannot do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ivers are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ountains are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ars are His handiwork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trong and so 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thing that He canno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ur God Is So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38Z</dcterms:modified>
  <cp:revision>10</cp:revision>
  <dc:subject>The Source, song number 420</dc:subject>
  <dc:title>Our God Is So Great</dc:title>
</cp:coreProperties>
</file>