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C05A-B991-4411-8C5C-BDC192F8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5BB8-9C70-4ADF-8036-E8C630F0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DCC5-8756-46E5-8ADE-0E5F0D49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2A7C-2158-4676-AEB8-E0D7822B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2A3E-D0AC-4D79-8760-ABFDDA03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7C9D-FCC7-4FF7-8F64-F476201D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6FFA-0F34-410B-8D3A-90651B93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2255-FB94-439A-B391-1C153F2F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E674-B60E-475B-B97E-2715057F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8DE2-422B-4975-988E-E5F4B7EC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ADD5-4E21-439A-A095-96BEBE2D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4897-421B-4153-8297-F8F59514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18580-F73F-4597-BDCA-0F20FA3E600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ставил престол и на землю со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роду принесть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флеем тихо спал и совсем не жел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ителя в дом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йди же, войди мне в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есть место, Господь,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н оставил прест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ебался эфир, ликовал горний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я рожденье Ц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миренного тут не особенно чт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зошла им любви з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йди же, войди мне в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есть место, Господь,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жизни принёс, осушил много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итель любил и спас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род озверел, перешёл злу пред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лгофу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йди же, войди мне в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есть место, Господь,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дрожат небеса, все узрят чуд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адут пред Иисусом в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 мне тогда: «Поднимися сю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есть место, Мой раб, тебе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йди же, войди мне в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есть место, Господь,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16:29Z</dcterms:modified>
  <cp:revision>15</cp:revision>
  <dc:subject>Slavic hymnal Гимны веры христиан, hymn 240</dc:subject>
  <dc:title>Он оставил престол</dc:title>
</cp:coreProperties>
</file>