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D57D-9BF7-4495-9CE6-9E102B1F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BEEE-8412-43BA-8702-3F895FBA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9F63-7501-4CBF-9DCD-50F46427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2130-40F2-475F-9B35-47A342F5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12D8-0FF5-4576-9060-B7C2E1FF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BA2F-2C2A-42B5-8694-BDD6D496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412C-AFF1-4CF5-9415-323A6DCD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9FA1-E104-425C-AC88-B7F24F90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D3A6-C921-4B17-A381-A89DF09E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02C6-8AC1-454A-AC7E-925E3675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479A-36E5-4A74-8886-EE202839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3B7B-F907-472D-8333-579F6B96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EBCB2-F9C9-47CD-BEE8-B26B4D38035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creation is a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iting to be s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nature like a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iting for a ton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who will give it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ake its anthem 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rise to lead a cho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ll created th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ear Your people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03   All Creation Is a S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ing, honour, glory,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reation’s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gs of earth and songs of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oin as one to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ing, honour, glory,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reation’s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nations are a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iting to be s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instrument and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eated for the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Maker of all th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majesty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bought us back from d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such a costly l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praise could be enoug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ing, honour, glory,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reation’s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gs of earth and songs of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oin as one to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ing, honour, glory,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reation’s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9:42Z</dcterms:modified>
  <cp:revision>12</cp:revision>
  <dc:subject>The Source 4, song number 1703</dc:subject>
  <dc:title>All Creation Is a Song (Creation’s King)</dc:title>
</cp:coreProperties>
</file>