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82</a:t>
            </a:r>
            <a:r>
              <a:rPr b="1" lang="ru-RU" sz="3600" spc="-1" strike="noStrike">
                <a:solidFill>
                  <a:srgbClr val="ffffff"/>
                </a:solidFill>
                <a:latin typeface="Verdana"/>
              </a:rPr>
              <a:t>	</a:t>
            </a:r>
            <a:r>
              <a:rPr b="1" lang="ru-RU" sz="3600" spc="-1" strike="noStrike">
                <a:solidFill>
                  <a:srgbClr val="ffffff"/>
                </a:solidFill>
                <a:latin typeface="Verdana"/>
              </a:rPr>
              <a:t>Благодарные сердца</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лагодарные серд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пешите в дом От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рожай cвезли с по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 прихода зимних д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 начало всех начал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м всё нужное посл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пешите в Божий д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нести хвалы псало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Мир весь — поле, что дав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у плод принесть долж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левел и пшеница т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ядом издавна раст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ерва зелень, позже — пл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идёт из рода в р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молим об од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делай добрым нас зерно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аш Господь опять пр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атву с поля собер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соблазны удал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й желанный возврат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ст Он ангелам прика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жечь все плевелы ог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пшеницу в тот же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нести в небесный дом.</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Ей, гряди, Господь, гря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ерковь молит, церковь ж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й народ освобо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греха и от забо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новлённые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о будем жить с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Боже, поспеш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ире жатву соверши!</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25:12Z</dcterms:modified>
  <cp:revision>3</cp:revision>
  <dc:subject>Slavic hymnal Гимны веры христиан, hymn 82</dc:subject>
  <dc:title>Благодарные сердца</dc:title>
</cp:coreProperties>
</file>