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CB3D-2D25-450B-8088-97FDDFCB6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1D7C-5347-474B-A52C-AA1221D3A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6734-9DC3-402B-8019-25049A84D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E9EB-B4C9-4393-80AD-5A5C4E6C8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FEFC-E06D-4DC2-A12C-264AF0C70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3DF6-1B3B-483C-89F4-672775D78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EFC5-8BA5-4CF1-82EC-9DCBB1B4D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7A31-2EE3-4111-B163-F32D2D7A0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23F7-DF33-4C21-B65F-FF2AD8498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4BA9-AC66-4F69-BFB6-4BC13DCA7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7D7F-7337-4C1B-8917-41215AEA5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A52C-708E-4332-91AB-AD47CBC7A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885041-B4A0-4263-B3D9-6B26D00A6BA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брат! пора уж пробуди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сна греха и пустоты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давно к тебе стучи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ротко ждёт твоей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оттолк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кротко ждёт твоей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спеш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ей, скорей к Нему при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6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Мой брат! пора у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озлюбил любовью веч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 крестной смерти возлюб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я, тебя, мой брат беспеч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вечной смерти искуп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оттолк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кротко ждёт твоей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спеш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ей, скорей к Нему при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ран и сердца кровь струила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как горел любовью взор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брат! Он пострадал невин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заслужили тот позо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оттолк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кротко ждёт твоей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спеш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ей, скорей к Нему при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ятая кровь всё очищ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нимает с сердца страшный гн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а всю душу обновля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 тихой пристани ве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оттолк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кротко ждёт твоей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спеш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ей, скорей к Нему при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12:25Z</dcterms:modified>
  <cp:revision>12</cp:revision>
  <dc:subject>Slavic hymnal Гимны веры христиан, hymn 362</dc:subject>
  <dc:title>Мой брат! пора уж пробудиться</dc:title>
</cp:coreProperties>
</file>