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130-A7A0-45ED-9519-33C139FB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42A-5276-4647-8557-F7C4AF1E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053-34E8-4FD4-BFB0-99F0957B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484-1153-4356-B891-EF81DB3C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461-FB5C-4730-96D6-E7151F25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783-C905-4E0C-9D7D-609CD524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358-1CDE-4F47-9586-A12FFE01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FFE-4822-4554-A077-0796724E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FC0-B951-497E-94B3-8185AF10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C4C-1F1B-4FF4-AAC9-5F6BE987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7E3-315E-490F-904B-34954416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98A-2B55-4518-957F-448B3730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26130-1675-4A83-BCB8-B89AAC92B2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lets me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hadow of You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may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ace to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50a   Just Let Me Say (revis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earth should sh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word goes fo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ld tremble and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thes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say: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inest whi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g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ower and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’s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have fou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holy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broken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ll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found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am ca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passion of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endles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depths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orgivenes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ild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makes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56Z</dcterms:modified>
  <cp:revision>13</cp:revision>
  <dc:subject>The Source 2, song number 850 (as amended)</dc:subject>
  <dc:title>Just Let Me Say (revised)</dc:title>
</cp:coreProperties>
</file>