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1AA-5BC4-4651-9E19-56620C03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ACE-F6AB-48E8-813E-9467AB8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44B-5945-447D-A275-028B6E11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628-B5A3-40A6-813B-F316B6B4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5DD-A24B-4B85-BB70-2238956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31A-6F70-49F5-9351-1600882F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EB3-55D3-46B9-97AA-F000DBD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341-2BB3-452D-BAA2-CFCD97A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02F-3EEF-45FD-940F-45E9056F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392-69B9-41A5-88A2-730FA49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4C0-58CB-4CF2-957A-FD95BC78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642-6452-4FEF-AED1-8638F02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C961-0C7A-4780-A5F6-692FA2D723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seem so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llion miles or more it feel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haven’t lost my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confess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t’s hard for m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6   Lord, You Seem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t’s hard for m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houghts and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put my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that You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42Z</dcterms:modified>
  <cp:revision>12</cp:revision>
  <dc:subject>The Source 3, song number 1426</dc:subject>
  <dc:title>Lord, You Seem So Far (I Will Sing)</dc:title>
</cp:coreProperties>
</file>