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CAD-2B8C-4C5F-9763-7CD46DA0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B3B-DE27-4F5F-A008-7E10285C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19F-8F5A-4F9E-80E9-F8B252EF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2F0-3ED4-4B5A-97FF-25143EF7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A2C-5FD6-400E-BA4B-69D38564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2C1-1A37-49A3-8234-FFCF37D7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E8C-09B6-4116-8972-42813C6D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2A3-6202-4AED-B9DE-C5AEC221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8A8-3F08-4616-B105-88344FB2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7EEB-5CA1-43DA-B215-C150AAD2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EB3-3712-4292-9EB0-6F38E5AB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859-B110-43AF-A738-0457F77F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23D7F-F0A5-4C99-91A9-58ACA667CC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ыщет здесь в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кров род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аст ей здесь ми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 и по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сулить этот мир у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а, где зло не коснётс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нет, нет — он нам чуж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мире неб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ол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сыщет здесь в ми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щим с надеж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ога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оил Он 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ящий в сияньи для нас, как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ров ли родной и обитель серд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а, да, да, то — кров р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со свят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ж и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,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ечно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рвётся душа пред Тобой предсто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ю любви 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и, жди, скоро время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горнее место тебя Он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йся, душа, близ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на к н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, не дол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шь ты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ись до конца, будь верна и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мешь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трудной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там у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ждёт претерпев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здесь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7:25Z</dcterms:modified>
  <cp:revision>12</cp:revision>
  <dc:subject>Slavic hymnal Гимны веры христиан, hymn 664</dc:subject>
  <dc:title>Где сыщет здесь в мире</dc:title>
</cp:coreProperties>
</file>