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30C-DF56-4DC7-BFBE-389AF97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97E-F950-43DE-B45B-C889490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C63-3224-42EB-81D2-9809E509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C16-1037-4CAF-A7CD-140BB065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D6D-E9C1-4CC9-AD54-3518B49C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627-FBE3-4182-ABAD-E82AC59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E82-BF1D-44C5-9CA3-0720F0E9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6CE-2952-4D8C-B8EE-0D91E72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0FE-1426-4155-B564-6C9B3FCF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39E-5F0D-42E3-A3A9-B88B357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DC8-11EA-46B2-A302-B9FD7E5C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107-2324-4827-8968-FF8EA13A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D88D9-5873-42C1-9144-3876E9ABA9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, любви и силы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огонь Твой нис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познал весь мир грехо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ападе и на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видим здесь и 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х, жалких и далё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шь к Спасителя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, любви и силы пол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, зажги свят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им грех и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Христа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жизнь и радость прин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христиански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едини, исправь,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унылый да у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рабах и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счерпаемый 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святых д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огня, поток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сердца Твоих ра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суетные стре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живой из нас соз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амя веры 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ло наш остывши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Твой свет, огонь,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ерным новых сил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и людей к позна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х Спаситель,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59Z</dcterms:modified>
  <cp:revision>12</cp:revision>
  <dc:subject>Slavic hymnal Гимны веры христиан, hymn 314</dc:subject>
  <dc:title>О Дух, любви и силы полный</dc:title>
</cp:coreProperties>
</file>