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5B726-26F3-4A96-AB5B-8F36803AD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2917D-5094-4CED-BEC6-A628AEEE6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DE67A-1CD9-4F42-BD7B-1DDF128FC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9BC87-C30E-4D76-9F38-1FFCF4B58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19F8F-59F0-4608-B99C-6E35F9977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46B99-BE63-40D3-8FC4-346A99192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CDCBB-7A0B-4A98-A5A1-599ED7C86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49B54-6A7A-4E2C-9737-44CB7D8F2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F6803-E617-4EC5-AC95-1598220F0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93A9A-19F5-47CB-A2B5-939CB3254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E6058-7D7E-4F78-8D70-3DC5C0978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50243-E8BC-4B83-BB32-78DD56297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323CB4-E98C-4008-B9FA-85872916BCDE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Lord reign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Lord reign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Lord reign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et the earth rejoi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et the earth rejoi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et the earth rejoi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et the people be gl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t our God reig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485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The Lord Reig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 fire goes before Hi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burns up all His enemie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hills melt like wa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t the presence of the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t the presence of the L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Lord reign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Lord reign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Lord reign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et the earth rejoi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et the earth rejoi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et the earth rejoi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et the people be gl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t our God reig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heav’ns declare His righteousne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peoples see His glor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You, O Lord, are exal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ver all the eart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ver all the ear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Lord reign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Lord reign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Lord reign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et the earth rejoi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et the earth rejoi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et the earth rejoi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et the people be gl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t our God reig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ur God reigns, our God reign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1-02-07T06:21:48Z</dcterms:modified>
  <cp:revision>10</cp:revision>
  <dc:subject>The Source, song number 485</dc:subject>
  <dc:title>The Lord Reigns</dc:title>
</cp:coreProperties>
</file>