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3A0D-1FE1-4EDF-BDA6-E308F98B9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30B8-0CB6-463A-B8B0-DBDE71DA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176B-97B5-407F-A384-49E9266F1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8CF0-D75E-4AB3-92FE-FE8A50CDD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A0E4-EE0F-44C9-9FE6-6E3654DE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58B7-1EE2-4879-8EC6-E55CFF20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B3D2-0B02-43C7-9FDB-B0BB7080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8CFD-CB2C-4244-921A-78C7E7E2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D357-75B1-4A4D-9911-0BED8194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AD90-F776-4D81-B778-53F5A78C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6065-4FCD-48D4-BA5A-CC02AD12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1615-2D66-4E7F-94A6-557E00FD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C91EAF-6A12-4DA5-9FBC-2344EEFABBA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cross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riump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blood You bought our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re once was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epar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healing river fl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20   Through the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it flow, let it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healing river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acious God, we cry to Y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healing river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ind up wounds within our ho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concile husbands and w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urn the fathers’ hearts to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ir childr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let the river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it flow, let it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healing river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acious God, we cry to Y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healing river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eak down walls of isol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scue those who live in f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the lonely find love in Your fam’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let the river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it flow, let it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healing river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acious God, we cry to Y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healing river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Your church rise up as one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oin the streams in one acc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ng and old will stand and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one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praise our risen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it flow, let it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healing river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acious God, we cry to Y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healing river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0-12-18T08:24:57Z</dcterms:modified>
  <cp:revision>11</cp:revision>
  <dc:subject>The Source 2, song number 1020</dc:subject>
  <dc:title>Through the Cross (Healing River)</dc:title>
</cp:coreProperties>
</file>