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D10-5C26-4531-9909-F93AA2B7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0E5-0BCD-4BFF-8EFF-EAA690FA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5A3-5CC0-4B3A-8EF9-79FD3E1A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6BB-A466-4BCC-9031-F4CA1BD0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CCD-D1ED-46DB-87F8-3BFF98FC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F5C-773A-4338-819F-2CD52C47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EFE-8174-4733-93A6-DB9A69A1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E0F-879B-44AD-B5C5-8C3DC8C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570-00A2-4E3F-A6B9-DBD1999B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6A8-22AA-41B1-A555-8E7395D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471-3F2A-4AF7-8C1C-9E04B4A3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DE9-87E5-4793-B5D1-AE3F4C5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B1E4B-9A18-4B8A-8ECB-6E5E22933D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йте, браття, і в піснях духов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у і честь віддавайте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знайшов всіх в неволі гріхов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м любові явив повн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безмірно нас любить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хороняє в житті нас земн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готовив нам святі ос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городить вінцем золо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6   Радійте, бра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істю, браття, за Слово Господн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 і зневагу покірно зне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підкріпить на вузенькій дороз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у введе нас у Царстві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2:06Z</dcterms:modified>
  <cp:revision>12</cp:revision>
  <dc:subject>Slavic hymnal Гимны веры христиан, Ukrainian hymn 56</dc:subject>
  <dc:title>Радійте, браття, і в піснях духовних</dc:title>
</cp:coreProperties>
</file>