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6DF-F28A-40CE-8578-35506723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8FF-C61E-43DD-89DE-F830752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924-1BA4-4DE7-BAB8-F6BC8A8C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2B0-309C-454F-994E-9BDD714D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920-9E5B-49B1-B1EC-2C3BD59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AE2-F5A4-4314-BD8B-76048FF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E8C-9D9D-4C62-BE9C-C94E0B5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68F-FE6F-458D-9CA7-7B7D307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24F-E501-49B2-9C64-9303D16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E7A-EF14-4103-9C1E-A85666B2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B95-BE55-4D74-8EB7-AEBEAE8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4E5-F0B9-4309-BAD4-BE95575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E26C-0686-495E-900C-35C855767E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   Ныне есть тот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, будем радос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ы в нём,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что Господь 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8:12Z</dcterms:modified>
  <cp:revision>10</cp:revision>
  <dc:subject>The Source, song number 517 in Russian</dc:subject>
  <dc:title>This is the Day / Ныне есть тот день</dc:title>
</cp:coreProperties>
</file>