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AC9D3-7380-492F-9F3A-47D802966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D0338-B0DD-4BE1-BC64-43B8D2347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3111C-3297-4A9E-9B8A-656129DA6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7F5D2-F0A3-4DE4-9DAA-D44FBB050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87353-F697-41AA-91B2-F12DDE904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70210-3E13-46FD-9D66-D3261FC50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EDAA0-74C2-4F6D-87F0-2F7B065DF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45746-DB71-4992-87E6-0A48B1A84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1E1BC-1F54-4E45-94CB-62B55DB35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965E8-8266-4433-9409-92C89339D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960ED-F9BB-438E-B21E-8AEA8DC5F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50F8A-FA60-4C5F-8FC3-50054AD9B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8140BD-F84C-4F97-A4D4-B5375E2651B8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сскажу я всем живущи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Христос мой пострад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под бременем гнетущи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кресте Он умир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сскажу я всем живущи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Христос мой пострад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Он всем, к Нему идущи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р и радость обещ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14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Расскажу я всем живущи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асто я не слышу з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блуждаю, как овц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меня находит сн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с любовию Отц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в борьбе с грехом был ране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устал и изнемог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зор был скорбью затуманен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же мне во всём помо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мо смерти прохожу 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ного зол в пути моё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пред ними не паду 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х сражу святым меч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6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берёт меня за ру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опять вперёд ведё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не знаю с Ним разлук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не знаю с Ним забо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0:55:36Z</dcterms:modified>
  <cp:revision>12</cp:revision>
  <dc:subject>Slavic hymnal Гимны веры христиан, hymn 514</dc:subject>
  <dc:title>Расскажу я всем живущим</dc:title>
</cp:coreProperties>
</file>