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3FB-D243-4E6D-B059-F0F89AC9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8B4-E8C3-4AAE-9AEA-80EEA9A4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817-A845-4B98-A7B8-82517919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244-7764-4A5B-A850-AC68B4C7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2BA-B33B-4463-A600-4EC8B4E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1B0-2512-49E4-BBD1-F35557A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0EE-E956-4D5F-9B68-3ED1CC8E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C64-824E-4E32-BC38-BF5BF88F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8AF-3D81-4D83-9929-27C43F5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EA8-D81C-4E13-AE20-8807BFE0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862-6929-479E-9273-9ABBF24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458-2F77-4D71-B7F4-CBFAEDF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4677F-3BD5-4B49-BC8A-AD76946DB0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,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ифлеема д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скорбе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 мир, объятый тьмой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Отца Ты 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на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ели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л бы мне источник в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, томясь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ерии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бессильного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и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00Z</dcterms:modified>
  <cp:revision>12</cp:revision>
  <dc:subject>Slavic hymnal Гимны веры христиан, hymn 528</dc:subject>
  <dc:title>Господь, страдающих людей</dc:title>
</cp:coreProperties>
</file>