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A2A-7CC5-42D8-A731-E2123C2D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DFD-9328-48EF-A5F9-FE8A1E40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7A9-60EC-4E2F-A065-BCC9DB25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817-A419-4B86-9AE0-7D61A2C8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DA0-DCA0-4C54-8300-8B5AE1AC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8BA-1864-4AD1-A476-C3648EF1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C21-F62E-4A45-96EC-099FA27D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AA4-72E1-49FC-AB22-2903A802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FDA-BD52-45B4-8836-D114D6BA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195-B327-4E6E-8957-AF526701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7B5-FC44-49C4-9A99-D6B0184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1FA-A374-4ED1-8FE4-61381DB6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B185A-FFB5-4D2A-8ED3-4DDA5EB544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heard so many 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stened to a thousand tongu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ere i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sounds above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, the Father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ung it ove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ter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ritten 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0   I Have Heard So Many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’s perfect mel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eator’s symph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inging ove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’s perfect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of Love has sent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You’re singing ove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46Z</dcterms:modified>
  <cp:revision>12</cp:revision>
  <dc:subject>The Source 3, song number 1290</dc:subject>
  <dc:title>I Have Heard So Many Songs (The Father’s Song)</dc:title>
</cp:coreProperties>
</file>