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E569-BF82-4773-BE81-AA885962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3D28-5210-44CE-A104-2BB54D69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1811-537C-4497-A29A-762B164E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CCFE-27C6-4F56-BC3A-4913A1C5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B6E8-EE2B-4696-BF56-E8EDD886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7374-A8EE-49FA-B94C-CBB6C851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BAFD-0305-44D1-920D-07904114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9630-080D-4957-8D2F-F2BD7A6B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7872-7A00-4D17-BA22-DEBDD654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64B9-7261-41E2-B7B1-63110F72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6419-C374-4990-9A0F-22FBB5B2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4A3B-02C8-419D-871A-FEF25004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C71C4-BD8C-4425-A1E0-D425FDE494D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ой Иисус меня!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етей к Себе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руки их бе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ит мой Иисус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любви и добр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радал Он на крес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еня Он кровь про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ю Он меня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ень любит Он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 жаждою вр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ят сердце ин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йду отраду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! Он вечно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го навек душ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никто не повре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ех зол Он со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53:20Z</dcterms:modified>
  <cp:revision>12</cp:revision>
  <dc:subject>Slavic hymnal Гимны веры христиан, hymn 869</dc:subject>
  <dc:title>Любит мой Иисус меня</dc:title>
</cp:coreProperties>
</file>