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D56-CB2E-4A4B-932A-8A310898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16A-12C2-4BFE-8BA7-A6D061A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414-B9D7-42B3-ADA5-1A2B8033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351-9D94-4460-B368-39CD15E8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6FC-B2D9-4D0D-92A7-5D1FE68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757-F28A-4DD9-8137-322F3CC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1E0-B050-4444-AD52-2653C181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AAC-1527-44DB-A412-D85DC28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C7B-ADD8-466B-A3AC-4FC672F9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25D-C609-415F-BDB3-D301242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FC4-FDE3-4F43-8536-2E9083D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5D3-A33F-48BF-BEFD-99C5DD7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0D006-8E60-4AA0-8BE0-A9F83C66BC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а   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4:51Z</dcterms:modified>
  <cp:revision>13</cp:revision>
  <dc:subject>Slavic hymnal Гимны веры христиан, hymn 366 (as amended)</dc:subject>
  <dc:title>Не веди, друг, жизнь беспечно</dc:title>
</cp:coreProperties>
</file>