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A1E-CBF6-4FD6-BAE3-D4B13D1A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902-A512-4FB3-9868-51C9BD55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BBB-6EF5-48F1-8AFB-483D0EA2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451-F555-4A70-B569-183B72CF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EC3-0948-471A-8148-AE6F3DF0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5FC-563C-49F7-B6DA-AE472349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97F-7A9E-41D1-B34B-1FCA8FD9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F633-ED31-4F18-B548-B46603DD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CF1-DA83-4D47-8C58-9D400D00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71A-79CE-4082-AF51-B3A67452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E5C-7402-481A-9A9E-EDEF0C50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760-F9D8-4339-AC88-F7FF7A12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67B1D-BF4C-447B-B0DB-CA535C47AB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год пришёл к конч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ш Господь жи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радует нас н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Свой мир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а земле мину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, слава, кра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чность нам да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любов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год пришёл к конч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, Господь, всёц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сех и навсе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наш дух и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якого в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, чтоб год гря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был Твоим, наш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як, в Тебе жив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прославить 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в жизни быстрот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е нашей пл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ь ко славе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жизни нашей х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вечный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 во всех сердц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познает сл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 в Твоих путя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53Z</dcterms:modified>
  <cp:revision>12</cp:revision>
  <dc:subject>Slavic hymnal Гимны веры христиан, hymn 732</dc:subject>
  <dc:title>Вот год пришёл к кончине</dc:title>
</cp:coreProperties>
</file>