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B440-3DE7-4A1E-8C16-06DC9B5A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00CA-F34C-4F9C-8BB0-CB53FBCC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FF85-9271-44AE-BEE3-A2C2E214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9DFC-484A-48B1-BF21-3D1F15F1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C3D9-9A0C-460B-8FC6-B028554B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2FB9-742C-4DC6-904D-6FCA0905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1896-CF2A-4DE6-BB1B-D1286436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5723-8BC4-44C1-8B56-9ABD7058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06EE-ED2B-4A6E-96DA-D63833EA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038B-5B3B-4703-8D3C-2508F6EC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0ECB-D203-40DE-BB35-01D8D0B9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3D58-6D2D-470C-8FDF-6C27AA43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EC64C-4252-4174-BD3B-776BB9FC233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ови Христа на помощ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, грешный челове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тебе Он мир и рад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ибнешь ты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зови Христа на помощ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призови Христ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итя зовёт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искушений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проси сил у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то имя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епляет нам серд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радости и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даёт Его р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2:57Z</dcterms:modified>
  <cp:revision>12</cp:revision>
  <dc:subject>Slavic hymnal Гимны веры христиан, hymn 713</dc:subject>
  <dc:title>Призови Христа на помощь</dc:title>
</cp:coreProperties>
</file>