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0A4-2C46-4D6B-A03A-FFA48294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086-432A-42E2-9C2E-52D4D86F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65E-36F1-4023-8D49-0362B497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46E-0C07-46A4-95FD-92024E52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D84-C8F7-4DBA-89BD-2BB0DF34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85E-226D-45AD-A470-E4CDE15E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8C6-04EE-4956-A8FB-10E5DD3A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613-E3A5-43ED-AD34-DBE27E96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2FE-CA19-4BA0-9F04-D139B196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3C7-9EBD-461A-87BC-10C99242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A8E-E44B-4245-8E81-FE0DDAFF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A5E-6E4C-42BC-8EC4-D1F9D08D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37D65-479C-48CE-BA4E-A620738058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овилось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ет наши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хий сад на молитву сп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сех подни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уп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ся под тенью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ановилось те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мира всего там легло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на коленях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чаша сия да минует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смиреньи и страхе вз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моя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ходившем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меня воз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сил Он з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принял мо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дин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1:11Z</dcterms:modified>
  <cp:revision>12</cp:revision>
  <dc:subject>Slavic hymnal Гимны веры христиан, hymn 281</dc:subject>
  <dc:title>Становилось темней, когда Свет наших дней</dc:title>
</cp:coreProperties>
</file>