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6A36-48FB-4EC9-AB43-205220489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1F7F-13A6-423A-8448-9CFD1D50B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1DA5-32A4-4B5C-B0FD-D9B112209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C94E-087D-4786-977C-D340C23DA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4E37-2C68-4758-B47E-09357B603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F04C-173C-4B08-9514-F04BB2ABD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A25C-924D-4BE7-9871-98A534D8B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93BC-E2CF-4D5C-8298-98A75E177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E9DE-EFBA-49DD-BD59-15CCE604B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B844-CEAF-4A34-831F-299E83DE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730D-F529-49BA-8DEA-C2F6F77F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94FB-6FEC-479E-8821-5BC78C1F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EB19AF-85D8-4054-AA82-57C6988B724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греховном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правда, гонени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е, неволя и стр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смирен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терп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одворят в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7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мире греховн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злослов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жда, разде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воеволье в дел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смирен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терп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одворят в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место любви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этой жизни сражени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место успешности — кр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смирен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терп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одворят в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устно, коль в наш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ах затемнен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е, коль ближний нам — вра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смирен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терп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одворят в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претерпевшим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Бога спасен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лая радость в сердц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смирен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терп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одворят в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9:54Z</dcterms:modified>
  <cp:revision>12</cp:revision>
  <dc:subject>Slavic hymnal Гимны веры христиан, hymn 775</dc:subject>
  <dc:title>В мире греховном</dc:title>
</cp:coreProperties>
</file>