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228-09D5-456A-942D-840DDEFA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7D5-F50A-4DFC-80DE-916CAF99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1B2-ECF0-4889-940D-CB48E015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525-66F6-4E41-A675-82593F32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1D6-493D-4995-B608-6DE83197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488-35EC-4343-A7C3-715D9DBD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DB3-C5BF-4851-89E5-326C653E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22A-B11E-4A9D-985F-F2609623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229-62AF-43C1-ACBD-09377B88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E88-1830-49F4-927D-BD20A35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F80-4C2F-4D8D-8457-A4283E93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16BC-6A30-4E52-A783-3DA3ED01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3C19E-AC85-4AAD-B16B-5AE3287608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eav’nly armour we’ll enter the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weapon that’s fashi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gainst us will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2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n Heavenly Arm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power of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s like a f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ll raise up a stand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Hi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enemy p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ard, do not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courage, my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redemption is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2:04Z</dcterms:modified>
  <cp:revision>10</cp:revision>
  <dc:subject>The Source, song number 228</dc:subject>
  <dc:title>In Heavenly Armour (The Battle Belongs to the Lord)</dc:title>
</cp:coreProperties>
</file>