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E90-CD4B-4F57-92F9-63651542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071-19E3-4922-B440-8F72F7C7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882-EE5D-48DC-9DDD-9A969A5A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0E1-ABC6-47DA-A183-E4446DC2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D81-1771-4656-A3BA-519155CB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A72-D340-4C55-B46C-40FD7D5F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BDA-5EC3-40EF-A127-206DA8E9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9E6-6876-4498-8421-4A772A13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CB7-8823-471D-9520-BD487935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B4A-2576-4797-9FAC-75206632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4A9-51E9-45FF-A618-7B3DBC25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7F0-0069-4DEB-AE31-39D336BB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7BD3F-10F5-4454-87DE-C31DCD1144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іту спасіння, любове св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ші провини лилась кр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ь світ відкупив Він, і дав спокій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любові свят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6   О, світу сп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гато провин в мене й темний мі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Божого слова торкнувся мій слу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ерце скорилось, і сльози я л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душ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молитесь і вірить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міць перемоги в Христі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вітлом небесним весь світ осві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, осан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, осан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 Спасителю Господ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Божий розп’ятий вмирав на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’ятий для світу і я у Хри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 вже для мене розп’ятий є з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сусом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еркнучу славу, безсмертя вінец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і дасть у небі Всесильний Творец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ллються там хори землі та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і я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38Z</dcterms:modified>
  <cp:revision>12</cp:revision>
  <dc:subject>Slavic hymnal Гимны веры христиан, Ukrainian hymn 76</dc:subject>
  <dc:title>О, світу спасіння, любове свята!</dc:title>
</cp:coreProperties>
</file>