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9F4-8ABF-4278-8BC5-F729CD73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8EB-340A-407A-AEE3-542BD46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BFF-34DA-477E-B41C-7C5D2851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291-C7DA-466C-A267-46B4E93B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FC5-6AC2-47B3-92CE-A58EE1F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E06-ED66-4758-914A-5C23572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B79-459B-4F42-AD03-271CAD3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738-7514-41EA-8F6E-237CF53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0C4-7E79-4548-A014-9EEE2D4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870-212D-4410-84EE-F5A0D1F0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08E-828C-4005-ACE8-97B0646D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192-C238-4846-B3B1-C5BD100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11F59-A107-4252-B3A0-7BD315CA4A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для Господа сердце откроеш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с молитвой падёшь перед Ни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ставишь неверье, наклонности зл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мир этот грешный не будешь люб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ты для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жизнь без Христа есть не жизн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страдань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орьбе непосильной ты весь изне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горе и слёзы и все испытанья 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 видит и знает Один только Б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бавишься вскоре от всех испыт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 угнетающей душу борьбы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примиришься ты с Господом Бо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ердце омоешь в Христовой кро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07Z</dcterms:modified>
  <cp:revision>13</cp:revision>
  <dc:subject>Slavic hymnal Гимны веры христиан, hymn 411</dc:subject>
  <dc:title>Когда ты для Господа сердце откроешь?</dc:title>
</cp:coreProperties>
</file>