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868-D485-481B-9962-771D5F49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D73-5B69-4B16-A099-3B9332A9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D7B-3C55-4730-A522-2CC3D314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F8D-4B01-4D33-8D01-7F3F81F6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1AE-8DD9-4113-8FD0-4AFE3904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ABA-7E27-4186-8B4E-18E3C26C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671-06EA-4F34-8F2F-BCD5FCDF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C74-183C-446C-B3A9-A98E49B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4F6-F88C-42E0-A511-2E2BE695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595-36A8-4276-9A17-442DF8F7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318-5513-4F89-84AA-555CC7B5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E29-1EFA-4951-8777-3BA65BA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F1E5A-70F7-43EF-9E47-80DD4D9FDD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Иисус приз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ов Его идти решился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ернистому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риходи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надо побеждат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емной позором здесь клейм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он ненавидит з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риста любовь силь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забывае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Спаситель Иисус призв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Иисус приз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к Нему идти решился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 острые, ш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мученик Стефан, удары кам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на земле здесь прох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Он окружающих 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аситель, 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, чтоб я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бить, прощать, страдая з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земной тернистый 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дашь от бури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будет скорбных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рёшь слезу с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любящей пронзённою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52Z</dcterms:modified>
  <cp:revision>13</cp:revision>
  <dc:subject>Slavic hymnal Гимны веры христиан, hymn 472</dc:subject>
  <dc:title>Мой Спаситель Иисус призвал меня</dc:title>
</cp:coreProperties>
</file>