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234-0AFF-4C19-B697-15426AE6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A46-E68C-4B68-B759-6A4CAB7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384-1081-4EE6-8906-E31A9BB1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4E8-1B9B-47DA-83C5-BB992A30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3A7-A92E-41A6-AF0E-F7DDA6E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34B-1383-42BD-BF1F-0F7BB34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090-068A-4729-82EE-AFC95F2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F4C-6383-4E62-9612-AF4DBDB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E71-5050-485F-815F-FCE05B94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20D-9457-42FC-A440-AD05EBD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3A3-A5DB-4EA1-9138-22DE0B8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BAD-8A40-43CA-88B3-69D3283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F9499-EC9D-483C-8233-4323623A70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Spirit, faithful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e Christian’s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y lead us by the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grims in a deser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souls fore’er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y hear that sweetest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present, tru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ine aid to l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e us not to doub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oping on in darkness dr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are raging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grow faint and hopes give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days of toi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still for sweet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left but heaven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ing if our names are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ding deep the dismal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naught but Jesus’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49:30Z</dcterms:modified>
  <cp:revision>13</cp:revision>
  <dc:subject>Slavic hymnal Гимны веры христиан, hymn 302</dc:subject>
  <dc:title>Holy Spirit, Faithful Guide / Вождь наш верный, Дух Святой</dc:title>
</cp:coreProperties>
</file>