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CDC-AB7A-483F-9E00-B5F10842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3D0-3B34-4839-A8A3-CA78A09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467-7867-48F3-BC95-918A2EA6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768-C6F8-4CA4-9DD9-43CB7D91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743-615A-4C1C-95C9-E08732F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C64-C76B-4777-86C0-A8F9FC8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ACB-95C4-4FB8-854D-963A432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6C1-CCCD-4754-876B-35485B0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A6B-1584-43D3-AF77-40A3D93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92F-2B9B-4A14-BA08-3718AC6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9A0-DFC9-4125-9613-25E2F98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27E-D80B-45E3-97B1-9E7A0A9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2765-0919-4928-8267-60B42A1D1B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eauty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y of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ove which from ou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nd around us 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onder of each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ay and of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ll and vale and tree and fl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 and moon and stars of l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joy of huma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, sister, parent,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on earth and friend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gentle thoughts and mi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Church that 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th holy hand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ing up on every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pure sacrifice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self, best gift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race so freely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at great, great love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joy in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9:15Z</dcterms:modified>
  <cp:revision>12</cp:revision>
  <dc:subject>Slavic hymnal Гимны веры христиан, hymn 819</dc:subject>
  <dc:title>For the Beauty of the Earth / За добро земных красот</dc:title>
</cp:coreProperties>
</file>