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62CF-85B9-4D3A-811F-C4172A580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CC07-ED89-45B6-8D6A-BCA6885F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AC6E-2335-4364-8F12-5A5ED5209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9D12-F428-42D7-8B9B-FDCB6B888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E162-5DFB-4E10-BFF8-D9DF9FDF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F01B-8A6A-4155-A10A-4BCBC172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DED1-635E-4525-8248-38463A84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B867-E374-4032-AC3A-9B8874B9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77F8-2FA7-4623-A36E-0AC5F8AC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BC60-97A3-4F51-B54C-F3374DE7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55C1-D93C-4D4F-A82E-2B947991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DF03-AE2C-45C8-AD6F-871629F3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38D8C-6671-4422-B043-71F049032D9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рче и лучше, чем солнце Восто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я звезда, нашу тьму разго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нас к Младенцу веди издалё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ом небес озаряй наши д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хо на поле роса трепет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но Младенец на сене ле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ое небо в ту ночь ликовал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и Создатель Спасителем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4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рче и луч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чем нам явиться пред все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лан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лы морей, ароматы луг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о гор, драгоценные кам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ру деревьев, — Он примет 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 пред Ним богачей принош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— обладатель сокровищ земны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видеть сердец сокруш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слышать молитвы прос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рче всех звёзд, что горят на Восто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я звезда, перед нами све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долины, холмы и пото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 Вифлеем к Иисусу ве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22:26Z</dcterms:modified>
  <cp:revision>13</cp:revision>
  <dc:subject>Slavic hymnal Гимны веры христиан, hymn 245</dc:subject>
  <dc:title>Ярче и лучше, чем солнце Востока</dc:title>
</cp:coreProperties>
</file>