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43F-8674-4121-8FD7-F349ECFB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A52-0652-4A96-B8E6-536BE6C7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954-EB7E-4372-8C5A-F5D1D78A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C9F-B927-4117-9A0F-50B5ED00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E23-5E90-491A-8668-085CD7FB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86E-B240-46E4-9053-CE6E74AB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5CE-8E84-49C5-BC76-69FA7E00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036-A11F-4B4D-B74D-AAEF7433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7E3-7E20-4ADE-B688-C0D9437D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044-05FF-4DC0-B7C2-FA53FF45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74A-D21C-41D1-8A2B-679D835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4DF-25F0-495F-95E1-F49FA32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430ED-8F50-497E-8598-84115D940D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y cross and follow, follow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у призы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ты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,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траданья, скорби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Иисусом всюду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стигну вскоре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o with me, with m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престолом Бога в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уж вскоре взя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9:53Z</dcterms:modified>
  <cp:revision>13</cp:revision>
  <dc:subject>Slavic hymnal Гимны веры христиан, hymn 459</dc:subject>
  <dc:title>I Can Hear My Saviour Calling / Слышу призыв Иисуса</dc:title>
</cp:coreProperties>
</file>