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C00-7CF6-4727-8AC1-859E9B59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6BF-260C-4F44-A630-201C3CEC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749-7B61-4924-8D27-53B675F3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9EB-F00E-4E7F-A72E-B5336620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BE1-B1F8-48EC-9598-2848299E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F7A-9F8A-4337-9B66-88CBE5F4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C18-F41A-4C65-A32F-5E5703F1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2A3-092E-4039-AE62-7B4BB117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CD2-890A-4177-B04E-A587369E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DFA-0636-4798-839D-420F60F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75D-875C-484F-ACB1-62F7B01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1BB-A0C9-4E96-9E1F-D66193B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17563-C0F2-4D08-9293-F3B8F7E1CC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rieved my Lord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corned His love so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 I wandered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пирал любовь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пирал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чадом тьмы, рабом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о мной была звез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desert wild, o’er mountai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anderer I chose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retched soul condemn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родной, в чуж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разных бед, от зл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ерегали жизн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urned my darkness into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blessèd Christ of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praise His Name both day and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гнал из сердца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стал всего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влекли мен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9Z</dcterms:modified>
  <cp:revision>13</cp:revision>
  <dc:subject>Slavic hymnal Гимны веры христиан, hymn 777</dc:subject>
  <dc:title>Mother’s Prayers Have Followed Me / Я попирал любовь Христа</dc:title>
</cp:coreProperties>
</file>