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75F-D341-451F-8B15-FA2EA570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0D1-C274-422F-9006-591DC0BF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EBD-D988-41B9-AFE4-B0EDF4E8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A0A-2B3A-42FF-9097-984A0BC1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F5F-DFD3-4636-BF53-AF64E4EF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017-BA81-46A0-9518-B8FDB3FE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EBB-ED99-4C0A-840E-BF9A3E3D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7380-887B-4344-98CD-429B3717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191-B706-490D-8716-4410427C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BC2-2880-447D-9EEC-9FBB20BB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227-5780-489B-BBEE-E181F649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24A-112D-47F1-8B4C-E51DDE3F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1EA13-0344-4F56-84C4-85D378E549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о бушує життєвеє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илі мій човен гойдають і б’ю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мертній тривозі, в великому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молюся, ― не дай потон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лянься на мене, спаси і помилу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днів моїх ранніх зі злом я бор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е боротись не маю вже си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помилуй! ― благаю, мо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5   Сумно бушу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иху пристань, де Твої ве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остав спокійно човен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моря бурхливого шляхо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веди швидше, мій Боже свят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8:07Z</dcterms:modified>
  <cp:revision>12</cp:revision>
  <dc:subject>Slavic hymnal Гимны веры христиан, Ukrainian hymn 85</dc:subject>
  <dc:title>Сумно бушує життєвеє море</dc:title>
</cp:coreProperties>
</file>