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BFE-78E5-4302-A697-A156E2D5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2E4-E7F5-4880-9FC5-3C97910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3CE-2EF0-42FF-B5C2-B74B0287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CAE-1AAA-480D-ABFF-FEDE9497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A7B-EDFC-4196-98D5-CDF4589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CD5-66E1-4BA0-9D89-6E409AD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AB1-A2D5-4A82-B1E8-D0D4DCF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FDB-8FAF-4739-91AC-70CAFF8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D90-1A1F-4DB8-89AF-5687E0D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0E1-98B2-4442-BCAB-D92A541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C3C-2675-4E3D-941A-C03A097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5A4-FBFD-403E-8A21-5DD7F5E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8B1C1-67F3-4C36-A4DA-E71B230417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05Z</dcterms:modified>
  <cp:revision>12</cp:revision>
  <dc:subject>Slavic hymnal Гимны веры христиан, hymn 894</dc:subject>
  <dc:title>Год новый наступает</dc:title>
</cp:coreProperties>
</file>