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A73-7D60-4367-BBE4-38CD5F2D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B8D-3933-44C8-96AE-0957A05F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7F1-2596-46C5-BF2A-2FF3210B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F2F-7E42-42A5-A4DA-29C81A76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3CE-CB65-4408-9B8A-EA311CDA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8C1-8F58-4C84-ACBD-A3745840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D99-C133-473D-8535-0B19AA2D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3E7-7768-4241-AC1D-9FE7123E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91F-5845-470D-B323-8AEA0007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B9B-3E8B-42BC-A19E-2B705BBA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273-B4D9-4CB1-9933-586C0149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12B-580E-4C62-8EBB-73746668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591DC-0A2D-4CBC-9105-95948C7022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the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the Lord of lor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name is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e is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44   He is the King of 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5:19Z</dcterms:modified>
  <cp:revision>11</cp:revision>
  <dc:subject>The Source 3, song number 1244</dc:subject>
  <dc:title>He is the King of Kings</dc:title>
</cp:coreProperties>
</file>