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08A-2949-4EC5-93BF-64C6DB46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7F0-C0CB-4AC1-B49F-4DBA9F4A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692-67F5-4A8E-BD1A-71BFB57E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75E-8A50-43B7-9527-A87E329B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96E-BFDC-4381-B8B5-64108E5D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C78-8651-43ED-BF7A-0CC1D283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EE0-37F9-48D4-8A46-AEBE7623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ACD-1FBC-4BDD-A411-D1782387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AB8-8A22-4A2E-AF5E-B34B3189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2775-5332-4F84-B9B5-5117A676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9F8-5D46-4E59-A288-A130C4B9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D55-B5A1-4601-B9A1-64666CC1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5AB45-C247-429E-A9EF-7A738628D5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and of strang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her thou art g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a far voice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 чуж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ужого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луждал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зов, вста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ee the well-spread 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forgotten 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s rest and plen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гр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пе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, обилье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ou art friendless, hom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less, and un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is love uncha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ви в надеж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, как и преж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rom the land of hu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nting, famished 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love and gl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раны гол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ди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свободн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Leave the haunts of ri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ted, woebeg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 at heart and we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путь грешной во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збит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 сил от бо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ee the door still op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art still m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yes of love are o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ебе запр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ежь дверь, 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Мой полн приве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ar off thou hast wand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thou farther ro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all is pardo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ди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ю грязь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7Z</dcterms:modified>
  <cp:revision>13</cp:revision>
  <dc:subject>Slavic hymnal Гимны веры христиан, hymn 353</dc:subject>
  <dc:title>Welcome, Wanderer, Welcome! / Из чужого края</dc:title>
</cp:coreProperties>
</file>