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D120-C6D5-470F-89E9-7D942F0CB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F392-E183-48E5-B9ED-448F311A8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CC71-02B7-4F86-A2E9-CEFAA6ACC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72CE-3577-4771-B8B9-B5DD9CE00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D9FA-5D12-42D7-A586-8460ADD83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5830-90DB-4535-A18B-A0104E3AE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FCC3-1FB1-4E81-B952-CF94A286D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ED9A-532D-4458-9D65-A67F66288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1175-9195-4244-B28B-DF53E2A43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1185-7C34-4F8C-8654-A3793377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AFB3-5BF7-4909-BA63-575120D4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9726-DF16-4869-A5BF-F16A5BCB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FD9A73-DAC5-412A-A422-869B4D59735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holds the heavens in His han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made the st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the word of His pow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put the spirit in 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causes all the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cry out glo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063   Who Holds the Heave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 Lord, worship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God of our salv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 Lord, honour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reigns, He rules the nation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is righteous and wort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e worshipped and ador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 your voices and g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holds the righteous by the h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is th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is marvellous hou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stirs the heart of a 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causes all His s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cry out glo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 Lord, worship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God of our salv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 Lord, honour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reigns, He rules the nation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is righteous and wort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e worshipped and ador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 your voices and g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32:10Z</dcterms:modified>
  <cp:revision>11</cp:revision>
  <dc:subject>The Source 2, song number 1063</dc:subject>
  <dc:title>Who Holds the Heavens In His Hands? (Glory to the Lord)</dc:title>
</cp:coreProperties>
</file>