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E31-CBF8-491C-9BB6-0E94FB21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A61-A5CE-46A1-9135-F5922D5F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5F7-865C-4FE0-8136-85433F80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2C4-58D1-417F-BADF-6ABFCB63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8D3-423A-45E2-8398-83C3BB14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B73-D6D6-47D9-A5EA-19FFD873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EFF-CB19-4EAD-A550-93BC4D37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CDC-17D8-4C33-8E1F-D425FF14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736-B6EE-4C67-858C-7A2159B2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04B-13F5-457F-96C9-CF26318E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C0E-7CEB-48CE-A290-891AB5A2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C36-9863-43DD-93DA-D38A36D9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49717-6639-4A10-AB73-5F990FF122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 берега зе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бурною ре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 берег жизни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у берега зе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еске солнца виден пы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ятой Иерусал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радости там слыш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язык неизъяс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уж многи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шли к тем бере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ядут часы благ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мы все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мрак смерти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а далью непо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вечного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ства свет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5:03Z</dcterms:modified>
  <cp:revision>12</cp:revision>
  <dc:subject>Slavic hymnal Гимны веры христиан, hymn 685</dc:subject>
  <dc:title>Мы у берега земного</dc:title>
</cp:coreProperties>
</file>