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41C-787B-4DE2-8FDA-FC800D52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FBF-7B42-4406-9773-9FD852EA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DB9-FC11-4472-87F6-6F17BDE3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C24-30D6-42C4-84C6-2FC238A6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347-A48F-4086-900F-B39153AB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0CE-3E70-400E-8AA7-8CAFEEB4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FDD-066D-4120-9F92-A45D550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83C-7295-4D11-8BFD-679CBF57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A67-C7AC-4154-B8E3-3F42034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002-096E-4886-904C-B7B7E0F7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3B8-56C7-4FA0-B8C1-8B5A40DA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966-CE76-4C45-A84A-AB176D5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95C80-53D7-416C-BCA0-81F36E2AEC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ountain’s top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e sacred herald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news to Zion b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, long in hostile l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Thy night been long and mourn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riends unfaithful 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oes been proud and scorn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sighs and tears unm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, thy God, will now rest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appears th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foes shall flee bef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their boasts and triumphs 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shall now att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arfare now is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thy Saviour will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thine at l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8Z</dcterms:modified>
  <cp:revision>13</cp:revision>
  <dc:subject>Slavic hymnal Гимны веры христиан, hymn 511</dc:subject>
  <dc:title>On the Mountain’s Top Appearing / Силой мира облечённый</dc:title>
</cp:coreProperties>
</file>