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C6A-BAC4-4F0E-8A42-92F89477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03E-B249-4477-A780-8D8D4AA5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10E-0E13-404F-AD46-77C8FD3B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4B84-9EDC-4657-BB58-975C8A54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1CE4-DE6A-4EB8-8241-A9D343B6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52F-902D-4281-88BF-C9098D0A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E6E-96AF-4A67-B41A-F77FF667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FB2-928A-4E9C-B3A8-87F7CD61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B227-90B7-4C84-BB0A-26362F26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A25-8C18-43E8-9C35-664BB73D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E99-0083-442B-9C38-B2103103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B32-B98B-4BB2-9F68-71B39DC8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DAAC1-603F-4F6F-97AD-2CAF1F5A36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гне й рветься туди все д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енні, в небесних 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ють свойого Тво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6   Насліддя моє в небеса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ене жде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ме у оселю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дих мирний на травних луг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Його світлім, блаженнім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коро у небо пі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кінчу шлях тернистий, зем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сіх вірних слуг Божих зна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усі Божім пречистих, свя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3:29Z</dcterms:modified>
  <cp:revision>13</cp:revision>
  <dc:subject>Slavic hymnal Гимны веры христиан, Ukrainian hymn 26</dc:subject>
  <dc:title>Насліддя моє в небесах!</dc:title>
</cp:coreProperties>
</file>