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16B-9867-46A4-AD7D-5243A359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224-8C14-4BD8-9B8D-7435DF0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05A-D802-4BC3-8011-06E3945F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964-2C82-47EA-868A-DF220C27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983-CCC1-4083-95FB-F55ACA12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D02-D8F4-49C5-9D6E-AAD1D9CE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8B3-1047-466D-960A-CDAEF752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623-393E-4EAF-8E85-D6DBD9E9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699-D500-465A-BB5D-3E931E86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E22-1DB0-44A7-BD7A-836C3AF8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88D-7B6E-476F-93B7-0BC415D6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29F-E0F1-495F-A31A-33C5348A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233BE-086A-430E-B4E4-E26D346C74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27Z</dcterms:modified>
  <cp:revision>12</cp:revision>
  <dc:subject>Slavic hymnal Гимны веры христиан, hymn 386</dc:subject>
  <dc:title>Во тьме и грехе погибает народ</dc:title>
</cp:coreProperties>
</file>