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ACC-3ACA-4C43-9D37-F439754D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02E-978E-467E-A0FE-BC697FEA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1C1-6129-443B-91FE-34BECFCF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6EA-2F3A-451B-BF3C-3178A52C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68B-411C-43FF-A07F-9ACB6D49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4E6-429F-40C4-9B02-30BC1B5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7A9-CEED-45B8-897F-1509FA5E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5D8-305F-4693-8CBF-7165C838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14C-673B-49DF-9AF8-D74B5B9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201-A108-49D1-9A70-AC8D284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DC9-0F5C-42D1-8C2E-FCD16E3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751-052A-4DE8-8540-9B72247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60B42-2028-49EC-A7D7-2078264C3E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, my comrades! see th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ing in the sk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inforcements now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ighty host adv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leading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y ones around us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rage almost g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glorious banner wav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e trumpet bl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Leader’s Name we triu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ev’ry f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long the battle r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ur help is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comes our great Comm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, my comrades, ch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6:54Z</dcterms:modified>
  <cp:revision>13</cp:revision>
  <dc:subject>Slavic hymnal Гимны веры христиан, hymn 484</dc:subject>
  <dc:title>Hold the Fort / Божьи воины, смотрите</dc:title>
</cp:coreProperties>
</file>