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1BF-63AF-40D9-B645-2444F813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124-F080-4DF1-9308-044FB9F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899-C8F1-437D-A5AD-8C8865A0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CAF-8C5D-4691-AB4A-E73F0800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395-8BA1-40E6-B93B-15DC8CF5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F19-6B4A-4B48-A245-07742DC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FA8-4E94-40B2-AC83-0EE620EE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98C-8172-4D99-8F64-CE6A6678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4C5-DF41-4CC6-8FCB-9F4B0D1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C6C-2D22-4946-AF37-861FCE2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8F3-891F-42FB-B740-0C62D63B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198-456F-4992-A1EC-80DA1A8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BB8AD-93AC-4257-AA7A-92385195CA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источник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ветлых, чист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вскоре встретим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земной тернистый, скор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ним н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х брегах реки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ево жизни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ветл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кто устал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тем во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42Z</dcterms:modified>
  <cp:revision>12</cp:revision>
  <dc:subject>Slavic hymnal Гимны веры христиан, hymn 652</dc:subject>
  <dc:title>Мы у источника спасенья</dc:title>
</cp:coreProperties>
</file>