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9A8-1C60-4C24-AACA-42FAF72C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CB2-E207-41E4-857F-80207CBA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1B8-8558-4CD3-BAAD-1B0EE344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F40-C238-4E0E-A331-A1A7E255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B43-1AAB-4CE9-B439-DA7C2BD5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97C-3C7B-4BC2-AC08-C051DCEC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8ED-ED82-4FBF-A63B-EC63B785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C73-D297-485E-AD56-7EF5E17B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FFE-8C10-45C2-A4A6-748E8524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D99-FC5E-4600-BE2E-07F94C4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D0D-227A-454E-BF17-2D432400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E07-C4CA-4F0A-881B-AB34E1A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95D8-EFF5-4D2D-B382-6B5FE3FC12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правды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и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мноте и грехе погиб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ликий Христос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ёт мир от края д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т правды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езнь исце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ь греха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лит все земные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братск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плавит м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я радости сменит ры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ут Христов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и за счастье на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юность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ли во имя своб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зовите на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сем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вающим слово отра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лазурн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л всем «взыскующим гра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Божие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зиждем, труд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 будет раба, господ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ишь братство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ремите ж си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все да будут еди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29Z</dcterms:modified>
  <cp:revision>12</cp:revision>
  <dc:subject>Slavic hymnal Гимны веры христиан, hymn 550</dc:subject>
  <dc:title>Жаждет правды народ</dc:title>
</cp:coreProperties>
</file>