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BDD6-FF1F-4035-B3B3-B8DE1B43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FCAE-5D9E-4A12-A3B5-A31E0D61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186C-1A6B-4C7B-86D1-21EFE91E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2276-A804-4029-A2F8-B9017738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4628-AB18-4E4A-A5A4-3BD8D3FE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12AC-A45E-4A2A-9089-47F8B4BE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54C8-1FD4-4C42-ADDB-0C5AB864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E3AC-6E70-4A2C-9F6E-1A7FCA84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86AF-62B9-44BD-B920-3B5801ED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83B5-5467-4380-92C0-F122B01A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8130-17E4-4B13-ADEF-45C71FF3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DDFC-D645-4EAB-9D2C-A8C460DF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77C02-E60B-470B-832B-CBD412F9836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above, beyond our understa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t in love revealing who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lohim in whom we have our be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ker of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un, the moon, the st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 love Your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I lov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11   God Above, Beyond Ou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hosts, the King of angel arm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Provider, Shepherd, Healer,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fender of the poor, the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n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forter and Gu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ginning and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 love Your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I lov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One, no eye has ever see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t, in Christ, Your grace and glory s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lacing on our lips the “Abba, Fath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God who sa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ster, Adon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 love Your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I lov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9:01Z</dcterms:modified>
  <cp:revision>12</cp:revision>
  <dc:subject>The Source 4, song number 1811</dc:subject>
  <dc:title>God Above, Beyond Our Understanding (I Love Your Name)</dc:title>
</cp:coreProperties>
</file>