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415B-B904-4A9D-A79D-381E9356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759D-593C-4E9B-AE9E-B8D484FF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E397-6EC7-4CF4-896F-79A3DEB0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F4B3-8441-4033-BED1-74862711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C543-D580-4FF5-A023-6163A5D8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2BE3-A187-4229-8446-F8ACB1EE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811F-1391-499E-B43F-CA09C81A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64E0-7FFA-47B4-85D1-A19477CD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CCB1-F327-4391-BCAD-3F3BA524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00FC-E2FC-4950-8C28-70CE2E3F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E343-C335-4885-8251-614CF6FE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0644-22EE-4E62-9B07-ED6E67CC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3ED20-52D5-4764-B02C-31DF728208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unseen things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 я весть благ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 и звуки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повеству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se who know it 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m hungering and thir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r it like the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й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й радостно вним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рженно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in scenes of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the new, new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the old, ol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 have loved so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звуках аллилуй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ю на выс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у же весть благ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theme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ell the old, ol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Бог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Иис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Его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I know ’tis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satisfies my long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nothing else can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Господне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авать друг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о всему осн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ш создан 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theme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ell the old, ol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Бог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Иис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Его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wonderful it se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 all the golden fa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all our golden dre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тократ ми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все мечты зем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ых детски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did so much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is just the 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tell it now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юбовью повто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ем радость мне д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то возвещ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грудь моя пол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theme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ell the old, ol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Бог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Иис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Его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pleasant to rep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seems, each time I tell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wonderfully sw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но повтор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ушу ожи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ome have never he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essage of sal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God’s own hol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другим в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зать и спет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ог даёт спас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и со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theme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ell the old, ol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Бог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Иис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Его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44Z</dcterms:modified>
  <cp:revision>13</cp:revision>
  <dc:subject>Slavic hymnal Гимны веры христиан, hymn 649</dc:subject>
  <dc:title>I Love to Tell the Story / Люблю я весть благую</dc:title>
</cp:coreProperties>
</file>