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632-4B4D-4B15-88C4-AA5AD3F8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3E21-870C-48C2-9F89-5506C46C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D10-96F5-42BC-BCD6-03466582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650-837B-40A6-AC17-1EF96129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046B-F9E2-435E-92BD-ACDD9285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04E-6039-42E4-B03C-579211B7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C75-D51D-4FA3-BC66-97ECCB5E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396-3C0D-4F52-A5D8-2855644F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675-6B02-4E24-ADDD-16CE5CE8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6CD-8F9D-425C-AF46-109CBCB3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041-C669-4495-BAB2-54ECBB5F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A62-9EB0-433D-8039-6009E813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9A95B-1D37-4231-9DD1-22AAABC95B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pirit, oh, sin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ercy doth m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eart, so long harde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sin to repr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решник! чтоб в серд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решник! чтоб в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м мог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вечный жел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грех обли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ist not the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longer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gracious entreat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end with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не проти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дли при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ожет Дух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замол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hild of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sin service c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filled with the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comfort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арства насле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грешных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ися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иром ц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grieve not the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Teacher i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Jesus, Th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glorified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я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огорч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же да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л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filed is the tem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beauty laid 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God’s holy a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mbers faint g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храм опоро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 крас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тарь же Госпо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ыпан зол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love yet rekind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lame may be fann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quench not the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is a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вновь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бе зажиг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ьше уж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угаш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43Z</dcterms:modified>
  <cp:revision>13</cp:revision>
  <dc:subject>Slavic hymnal Гимны веры христиан, hymn 306</dc:subject>
  <dc:title>The Holy Spirit / О грешник! чтоб в сердце</dc:title>
</cp:coreProperties>
</file>