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870EF-0DEA-4B10-9791-DA5122FE4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4E3D8-88D1-496E-92D4-5BA6A7924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4CB1A-E608-4450-8AD8-F0BD754AA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ADA69-33BB-4F91-A121-A18683C13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8DD93-C77B-452E-A7ED-7C445789D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0584A-7077-4C41-A095-291CB1A17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B0441-F242-45E1-B108-02FCBD3D2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CBA4E-01A5-41D5-8250-0A47CB28C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8078B-987E-486E-BC2A-B1A75AD4B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F4DA8-64D9-418C-8B53-684A82E19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297BF-8DAB-45A3-83C9-4FB6B72E3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08F35-6291-473D-9A43-3E6246A91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A63DF9-46C9-4570-92E0-BDE7D79E2071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ere’s a call comes ring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over the restless wav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end the light! Send the light!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ere are souls to rescu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ere are souls to sav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end the light! Send the light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1448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55   Серед темряви нічно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еред темряви нічної чути крик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айте світло! Дайте світло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Люди гинуть і настав останній час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айте світло! Дайте світло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6012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end the light, the blessèd Gospel ligh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it shine from shore to shor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end the light, the blessèd Gospel ligh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it shine forevermor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вітло ми спасіння понесе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Хай воно у тьмі гори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уть освічує в небесний ді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е любов і мир цар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e have heard the Macedonian call today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end the light! Send the light!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nd a golden offering at the cross we lay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end the light! Send the light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6012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сюди в світі чути Македонський крик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айте світло! Дайте світло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Хто почув цей крик, нехай скорі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пішит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айте світло! Дайте світло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6012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end the light, the blessèd Gospel ligh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it shine from shore to shor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end the light, the blessèd Gospel ligh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it shine forevermor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вітло ми спасіння понесе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Хай воно у тьмі гори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уть освічує в небесний ді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е любов і мир цар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Let us pray that gr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may everywhere abound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end the light! Send the light!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nd a Christlike spirit everywhere be found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end the light! Send the light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наші дні також жахлива темнот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айте світло! Дайте світло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ільйони грішних гинуть без Христ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айте світло! Дайте світло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6012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end the light, the blessèd Gospel ligh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it shine from shore to shor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end the light, the blessèd Gospel ligh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it shine forevermor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вітло ми спасіння понесе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Хай воно у тьмі гори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уть освічує в небесний ді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е любов і мир цар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Let us not grow weary in the work of lov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end the light! Send the light!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Let us gather jewels for a crown abov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end the light! Send the light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„Ви для світу світло”, так Христо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каза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айте світло! Дайте світло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н в темряві нам світити приказа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айте світло! Дайте світло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914400"/>
            <a:ext cx="96012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end the light, the blessèd Gospel ligh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it shine from shore to shor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end the light, the blessèd Gospel ligh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it shine forevermor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вітло ми спасіння понесе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Хай воно у тьмі гори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уть освічує в небесний ді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е любов і мир цар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9T02:55:58Z</dcterms:modified>
  <cp:revision>12</cp:revision>
  <dc:subject>Slavic hymnal Гимны веры христиан, Ukrainian hymn 55</dc:subject>
  <dc:title>Send the Light / Серед темряви нічної</dc:title>
</cp:coreProperties>
</file>