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5E5-98E7-4B66-A6C3-D416C07A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11A-F2AD-4E26-84DF-1682EB5A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374-214F-43F5-9257-80D77392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D00-C7CA-4BBE-AA01-84BC424D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E8D-2279-48E0-8A7D-2F28C73D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E52-0C50-4CFD-846F-653185BA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016-92C5-4CC8-BC3A-B604ACC6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6D0-6E9B-4110-B5F6-A80F18C0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A20-7947-442E-BEB7-FBCB6FF8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207-C495-46E2-ABBB-DC1F7842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207-2219-48CE-BC21-E4F703F7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C84-EBDA-4375-83A8-30745E8D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B0A21-1706-41AC-8403-9ED60B03A1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в большом соб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осподь и Власте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нам в нази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ты в большом собра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Его Священ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нимателен, как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полненью будь го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абочий на за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станков, маш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рудящемся на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емли родной рабо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евая мир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оляр или как пло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овьями окру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детный семья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ой отяг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а, в школе, на заго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лесу среди троп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оезде, в ваго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44Z</dcterms:modified>
  <cp:revision>12</cp:revision>
  <dc:subject>Slavic hymnal Гимны веры христиан, hymn 509</dc:subject>
  <dc:title>Если ты в большом собраньи</dc:title>
</cp:coreProperties>
</file>