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1E5-2785-43C1-B291-36B552A1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188-2988-413A-B01E-4E67C7CE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7F7-77E2-4212-93BC-6B2119DC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81F-7F2D-4F61-B6D8-CC11C113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245-AAB3-45C3-9C22-46442705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785-3529-4E23-8B8C-8AF18C28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2F2-53E3-404E-9490-6E09F1FE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E1F-38F1-4561-AD77-A9DAB515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EC13-A9CE-4CC9-B628-FAC6188E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F91-E385-48CF-9CCF-4E0CA470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61D9-2DDC-460A-8312-E8B56464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6129-8A27-40BA-BDAE-A4B6C3A3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F947E-977C-4C33-ACF7-6DE9A5489C1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ighest of mount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goes dee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deepest of 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, it stre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farthest horiz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love, it reache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i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is str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angels and dem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, it keeps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my life’s darkest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secures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the pathway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love is my strength and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is swe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sweetest of h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i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choicest of w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, it satisf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eepest of hu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love, in Jesus it’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ighest of mount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goes dee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deepest of 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, it stre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farthest horiz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, it reache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3:43Z</dcterms:modified>
  <cp:revision>10</cp:revision>
  <dc:subject>The Source, song number 171</dc:subject>
  <dc:title>His Love</dc:title>
</cp:coreProperties>
</file>