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4ED38-38AB-4AF2-957F-7E2BA5EE3ED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73EB0-BD28-4CCF-8E70-E0A3D142845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A85FF-BD83-4B22-BBD6-450D80CFC14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DB9CC-F203-4C50-81C0-3CCE248A248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3FA9B-3558-47AF-8230-28560D897FD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FF1AF-03CF-4241-8FF7-7AC6F2A7BB4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3F607-7948-4BEC-855E-17341361A5B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15AC6-FA11-4E7D-B97E-5EEFA4AE240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8048C-6550-4450-A547-B7F65965EA3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F89-589E-4093-B486-F3F3FC9E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D20-2401-4798-B000-41258DED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CE4-0577-4366-9ACA-6153B5E3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A37-477C-4D86-BB10-E0274891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725-4972-4A11-9D3D-4DFE32DF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8C8-42F2-4D03-B49E-AC04AD4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A10-9E4A-4248-9CCA-1D8DF7B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5AF-CB93-4A2E-90DE-4115EA9A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9CA-C50A-44EE-8351-F131A2F3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166-77AE-4DE6-B146-42D9BB3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557-73DA-47DD-A44B-6E5AC0C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F57-6B4C-47CD-9F0E-4F660859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69178-1C15-4587-9BBD-46E08974F3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, no 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sin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wear the brow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eary feet awaits 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ondrous pave and gol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rts that ache, the angels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ory, sweet and ol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sleep, and those who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e portals n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sions rise beyond the ski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oyful song! Oh, ransomed th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in no more shall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King to see, and, oh,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m at hom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2:34Z</dcterms:modified>
  <cp:revision>13</cp:revision>
  <dc:subject>Slavic hymnal Гимны веры христиан, hymn 668</dc:subject>
  <dc:title>We’re Going Home Tomorrow / Мы все войдём в Отцовский дом</dc:title>
</cp:coreProperties>
</file>