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4</a:t>
            </a:r>
            <a:r>
              <a:rPr b="1" lang="ru-RU" sz="3600" spc="-1" strike="noStrike">
                <a:solidFill>
                  <a:srgbClr val="ffffff"/>
                </a:solidFill>
                <a:latin typeface="Verdana"/>
              </a:rPr>
              <a:t>	</a:t>
            </a:r>
            <a:r>
              <a:rPr b="1" lang="ru-RU" sz="3600" spc="-1" strike="noStrike">
                <a:solidFill>
                  <a:srgbClr val="ffffff"/>
                </a:solidFill>
                <a:latin typeface="Verdana"/>
              </a:rPr>
              <a:t>К Тебе спешат мои мечт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 Тебе спешат мои меч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я устремляю вз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ый слё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летит, в скорбях зв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о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ьми меня, уте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м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вою красу не превзой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цв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всех цветов, из всех ми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е —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глаза не пере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лнца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я стезя, святая власть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ей не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егда, везде следит Твой вз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ми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всегда поют в псалм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шум вет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отдал всё за нас в скорб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жизни с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лжны Тебя всегда хвал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ди все.</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27:44Z</dcterms:modified>
  <cp:revision>4</cp:revision>
  <dc:subject>Slavic hymnal Гимны веры христиан, hymn 214</dc:subject>
  <dc:title>К Тебе спешат мои мечты</dc:title>
</cp:coreProperties>
</file>