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54D-0047-4004-BEA3-ECF49FD5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18C-A51F-40A4-8FE7-C5D8770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C11-C72F-4757-8675-85EF396D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FF9-9BDD-40B9-B0E4-ED4E2445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5C9-FB68-43C7-AF28-325F2672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9E8-69EF-468B-B21E-3614B6F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CC8-1E1D-4532-9CBB-2788605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04F-39DE-4441-A18F-4AAAA8F1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130-97E8-4BC9-B5E1-E6CBA6C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870-94E3-4760-A615-E4060D8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BF7-5B8F-449C-A32F-C085131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0E5-B6CD-47FA-AB94-0EBB5FB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3CD53-6A9B-42FC-A5E5-B07FECC106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34Z</dcterms:modified>
  <cp:revision>14</cp:revision>
  <dc:subject>Slavic hymnal Гимны веры христиан, Ukrainian hymn 4</dc:subject>
  <dc:title>Не покину Я вас, не забуду</dc:title>
</cp:coreProperties>
</file>