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9</a:t>
            </a:r>
            <a:r>
              <a:rPr b="1" lang="ru-RU" sz="3600" spc="-1" strike="noStrike">
                <a:solidFill>
                  <a:srgbClr val="ffffff"/>
                </a:solidFill>
                <a:latin typeface="Verdana"/>
              </a:rPr>
              <a:t>	</a:t>
            </a:r>
            <a:r>
              <a:rPr b="1" lang="ru-RU" sz="3600" spc="-1" strike="noStrike">
                <a:solidFill>
                  <a:srgbClr val="ffffff"/>
                </a:solidFill>
                <a:latin typeface="Verdana"/>
              </a:rPr>
              <a:t>Да, на холме Голгофы Он</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 на холме Голгофы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на крест был возне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кровь Он лил средь мук в ог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ам купил спасенье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вь Иисус лил за 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ём Он умер за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редь грома туч и взрывов 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ив главу, Он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рвалась ткань и нет пре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ессмертный день и мир от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вь Иисус лил за 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ём Он умер за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сподь! Ужель правдив расск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за меня Ты жизнь от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нёс Свой крест и так 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от смертный час, Голгофс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вь Иисус лил за 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ём Он умер за меня.</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2:12Z</dcterms:modified>
  <cp:revision>3</cp:revision>
  <dc:subject>Slavic hymnal Гимны веры христиан, hymn 269</dc:subject>
  <dc:title>Да, на холме Голгофы Он</dc:title>
</cp:coreProperties>
</file>