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383E-9603-49FF-83D3-02B51988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B25D-0788-4526-A02D-85DBF19C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C559-BB69-48F5-84D9-F1B2090D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AB34-8DF4-4A90-A487-3D307993D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D0D8-203D-492F-8A6E-B5BEB120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BD25-11AF-4D55-91AE-FA05C998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DFAC-7FB0-4157-A694-49ED82CE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6049-BB47-44CC-A1E9-05710A2A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86F6-4D39-45AC-8F34-62FCA30A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3008-54F1-4FD7-970A-83DB1FE9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E4EC-8FE6-44C8-9B3B-9F700AB9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FE0B-D5E3-4944-B5C3-F2A9CFDA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CEBB7-F66C-4B23-9931-1B66D16418F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Дитя в хлеву чуж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рия охраня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хор поёт о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астухи вним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есть Христос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й в мир с небес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Всевышним д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Сын Ма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за Дитя в хлеву чуж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же в яслях Он ле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овцам корм дав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який мог у ног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жить свои печ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есть Христос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й в мир с небес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Всевышним д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Сын Ма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в дар золото, лад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мирну принес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Царь царей, пред Ним ско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сердца отвор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есть Христос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й в мир с небес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Всевышним д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Сын Ма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27:06Z</dcterms:modified>
  <cp:revision>15</cp:revision>
  <dc:subject>Slavic hymnal Гимны веры христиан, hymn 800</dc:subject>
  <dc:title>Что за Дитя в хлеву чужом?</dc:title>
</cp:coreProperties>
</file>