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83D7-BB85-42E9-98AB-4D7FE5E48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EA06-7583-4EF2-A6B3-F19E83347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6080-58CF-41CE-8B79-9AD2D4505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7A60-E59F-41E3-BEF2-C26E1B80F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9548-B485-4873-A35B-CED89DE05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02E4-886F-4A8D-AF31-90A63EC0A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1E71-6298-464F-AC5D-317D17E29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9F3C-D323-4964-A996-912CC6494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7960-3544-4145-AFAF-4C316C1A2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03C6-16D8-4A9C-ACA7-7DE18013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2D99-39E3-4504-A87A-3D0A6097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C60F-7C7C-440E-9DA2-E4B769F6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A54FA3-7D5B-4FEF-941F-2878BDAB359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the light of Your love is shi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midst of the darkness, shin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Light of the World, shine upon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t us free by the truth You now bring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ine on me, shine o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335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Lord, the Light of Your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ine, Jesus, sh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ll this land with the Father’s glor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aze, Spirit, blaz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t our hearts on f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low, river, f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lood the nations with grace and merc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nd forth Your w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and let there be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I come to Your awesome pres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the shadows into Your radian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the blood I may enter Your bright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arch me, try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nsume all my dark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ine on me, shine o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ine, Jesus, sh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ll this land with the Father’s glor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aze, Spirit, blaz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t our hearts on f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low, river, f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lood the nations with grace and merc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nd forth Your w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and let there be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gaze on Your kingly bright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our faces display Your like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 changing from glory to glor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irrored here may our lives tell Your s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ine on me, shine o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ine, Jesus, sh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ll this land with the Father’s glor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aze, Spirit, blaz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t our hearts on f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low, river, f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lood the nations with grace and merc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nd forth Your w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and let there be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4-06-04T06:03:44Z</dcterms:modified>
  <cp:revision>12</cp:revision>
  <dc:subject>The Source, song number 335</dc:subject>
  <dc:title>Lord, the Light of Your Love (Shine, Jesus, Shine)</dc:title>
</cp:coreProperties>
</file>