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DE26-546D-4E38-820B-50D4C492F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31B7-D5E2-49EA-B4E8-D527E0B8B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D1AD-8789-48D9-B351-CC9AFFD56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269C-1FB5-479B-9718-D636E84D5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AB3E-B0D0-4BBF-BAB0-D28DBA1D1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C0F5-8A11-4533-8192-4F03AE2C2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EDB4-2833-4D9C-9EC2-E68D0B649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6F29-AB8E-4108-9251-D08B62545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AD24-92CC-4C21-8EB2-05BE528E5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47CB-EE82-4A5B-B82B-A6EE2209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474A-F8F7-4A5C-AC59-DBC15800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2A1E-9E0F-4FC5-9AC2-9AE8844F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D2D8FB-8C9C-4689-B5BC-59A32E848ED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onder of Your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all be our medit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gather in that sha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the sun went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weep with those who th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You were leav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were leaving,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humble 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never wore an earthly cr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555   The Wonder of Your Cr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teal away at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they took down Your bod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love and tears to leave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a borrowed gr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go with Mary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place they laid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they laid You,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n the mo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nd the stone was rolled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cross, O the wonderful c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glory, what victory I’ve f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ll come to the wonderful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my whole life I lay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re heaven’s praises sil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ose hours of dark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Holy Spirit bro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ound that empty thr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Until the decl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is risen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risen,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is not dea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hold He lives for ever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cross, O the wonderful c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glory, what victory I’ve f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ll come to the wonderful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my whole life I lay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50:23Z</dcterms:modified>
  <cp:revision>12</cp:revision>
  <dc:subject>The Source 3, song number 1555</dc:subject>
  <dc:title>The Wonder of Your Cross</dc:title>
</cp:coreProperties>
</file>