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C0F-B2B9-4BAB-A567-41098B98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E6A-4C16-47DF-9BD1-4E697F69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D56-7D30-442E-B002-85B7F092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25C-C150-43BD-9C95-EC4C11FF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9E6-E077-408B-90DA-711BD2B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A80-11D9-4808-8764-D2FEA1AC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F05-9452-480A-A9EF-CAED660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2F3-ABCC-40DA-B33A-F75D00B2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EC8-C9E1-4183-9A61-55B2F17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975-5C90-499A-A7E1-17D3918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0C8-534D-410D-8453-7044C6D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53F-92A9-4EEE-B06B-6939318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B62C2-1265-41F2-8891-56376E4AAA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32Z</dcterms:modified>
  <cp:revision>12</cp:revision>
  <dc:subject>Slavic hymnal Гимны веры христиан, hymn 649</dc:subject>
  <dc:title>Люблю я весть благую</dc:title>
</cp:coreProperties>
</file>