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199-CF2B-4BD1-A5F4-5838B6E8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92E-1FE5-4C88-9E07-61E2A5E0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D5E-7C7C-4682-8D59-3997F127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602-D7D9-471E-8C6A-7417D01C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B2C-F387-4E88-B3A5-967D9271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C75-257D-4F8F-A21D-F5367035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0B6-A425-41B0-9FAD-33D70ECA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FE0-E8E1-48E8-BF6F-5F513B7B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A64-5EB7-42D8-B2EA-5B625F00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102-6ED4-414F-A719-06DEC003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A05-9C8C-4DCD-B6E9-B32D1016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8C8-0A16-4875-917D-EA03F4EE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BEC47-D8A9-4C60-914E-8764C21C16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обеща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Тебе все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в земных скитань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зла х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я в битву см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о мною 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клонюсь от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, обещал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сегда со мн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близок мир к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стивой мишу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т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действует укры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аружи и вну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ь моей защи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светом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дал Ты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лицом вра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де Я в грядущей сл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Мой слуг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служить хоч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кладая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, мой дух врач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мой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6:44Z</dcterms:modified>
  <cp:revision>12</cp:revision>
  <dc:subject>Slavic hymnal Гимны веры христиан, hymn 478</dc:subject>
  <dc:title>Спаситель, обещал я</dc:title>
</cp:coreProperties>
</file>