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759-0B0E-45FF-AC9D-50C12BBA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33B-B684-44FE-A281-7ABF65B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FA7-F492-4748-A97B-58B15B55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312-7A5E-421D-9084-EA085279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F58-A53E-4DE8-81D7-7F143E5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73C-74F9-4800-BEC8-1FA4CE7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7F6-B108-4E3A-8AD1-C58C35D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29E-13B4-47A2-BC87-6AF7C82A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C5D-EE3A-4C97-B08E-1B0AA1CC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609-0EED-4D7B-8C06-65D5F5D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90E-3BB4-48EF-BAC5-E3BA602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128-ADC2-4A3F-968C-DFCB751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56290-4985-407B-88F6-C5C5506222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46Z</dcterms:modified>
  <cp:revision>12</cp:revision>
  <dc:subject>Slavic hymnal Гимны веры христиан, hymn 878</dc:subject>
  <dc:title>Бессмертный, Незримый</dc:title>
</cp:coreProperties>
</file>