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7A0-380E-42CB-951F-970919FE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F51-0BC1-4869-BBD3-7FC7F156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ADB-1FA0-4DE2-985A-994C5052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89B-5050-4E48-94AA-C1F695BC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C74-7990-45D5-A70C-B24737A0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81D-AE12-4C2C-A7EF-26FA215C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719-4BBC-49F9-8E4F-1A9D5637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5CA-AE9E-490A-A634-2FD50BE6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C37-CA86-4A28-BB6D-212C6F84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EE0-C1C9-4A19-A128-287B3C44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264-C52E-40E5-9B37-CED0C0E6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F9A-AF31-4D7A-A050-C9230521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89151-04E0-45D8-8F34-C3FA7ABEC0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пасение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, порока,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ей вижу свой опл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Христа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ок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 соблюсть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к смерти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ресле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ёг сильней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мог найт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скале Христа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к Тебе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наг и Ты од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беден, Ты в у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дивный Твой черт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мыл меня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скал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Божи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радил меня от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горя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силу по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о я не страшу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ек со мной — скала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46Z</dcterms:modified>
  <cp:revision>12</cp:revision>
  <dc:subject>Slavic hymnal Гимны веры христиан, hymn 637</dc:subject>
  <dc:title>Благодатная скала</dc:title>
</cp:coreProperties>
</file>