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510-8A81-4449-92CC-FA708FF0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C77-2841-41F9-BA86-D2309B8D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C35-715B-432D-911B-7564D372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1AD-D369-414F-9019-C38C1F15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F32-45CC-46A8-991A-BFE0477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DDC-C55F-4DDB-8D42-7526E6D6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523-47BF-40C9-BE60-6D3C404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E46-4DD9-4481-889F-E3244E1A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087-DDBA-4AC0-A91B-3B0875F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9F4-350D-42CF-8DE8-EF8382A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09D-955E-4339-B5D8-5B48218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368-1650-45AA-9890-4F0B5F3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DAB9-B652-4924-B965-1EF1FE6FC5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18Z</dcterms:modified>
  <cp:revision>12</cp:revision>
  <dc:subject>Slavic hymnal Гимны веры христиан, Ukrainian hymn 50</dc:subject>
  <dc:title>Не хотів би я без плоду</dc:title>
</cp:coreProperties>
</file>