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384-C37F-46BD-A529-5A3114A5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0B3-5501-4DDE-811A-DDAA32C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A77-898E-49EB-ACAC-E27D0284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540-94C7-4B82-80D6-878E13CD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9BE-A4D9-4A04-8C8B-E9E9DDA0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D89-F5CD-4831-82D7-3184076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947-B03C-4BC1-A310-19E4DDE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0C7-8F30-419B-BBFB-B3D39AF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80C-1BE1-470F-A5D3-DA9DE3EE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30C-484A-4EBC-AC64-83FCFEBC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E0B-D117-44B1-8D0B-95AA9DC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A0A-CAD3-42A0-9457-8F323A0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048B4-410A-411F-AB80-FB8EF0FF52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ver the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07Z</dcterms:modified>
  <cp:revision>9</cp:revision>
  <dc:subject>The Source, song number 421</dc:subject>
  <dc:title>Over the Mountains and the Sea (I Could Sing of Your Love For Ever)</dc:title>
</cp:coreProperties>
</file>