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A93-B5D4-42D6-9BE9-D9837FE4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A13-22D5-42EC-A1AC-2AA91700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901-4598-457F-88A5-6B4ACAC6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CE1-0C89-4EF2-9710-BE90E81E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4E9-0504-42A5-943D-61FA384C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0DA-4C73-4EAA-B9A9-FED646EC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11F-8FB3-4AFC-BC12-8941C57C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A17-3671-46AE-9263-0A55B911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FE5-4126-4DB4-9DDC-76128BFC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F7F-8991-4A34-B9E1-3889753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E3C-9603-4FF4-AC2E-00AA7D4B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C94-C59D-4D64-8D34-79E4C6B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4FA7A-9684-4939-BCDA-D74936C674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 Вечного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мудрость славят горы и м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!» повторя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а   Доверяю сло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не потря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сомнений, страхов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бури жизни я иду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ами любви с Ним связан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же в искушеньях не боюсь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, я не у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осполнит всякую ну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имею всё, чего я 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7:03Z</dcterms:modified>
  <cp:revision>13</cp:revision>
  <dc:subject>Slavic hymnal Гимны веры христиан, hymn 640 (as amended)</dc:subject>
  <dc:title>Доверяю слову Вечного Царя</dc:title>
</cp:coreProperties>
</file>