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C829-E31C-436C-8F15-4CF1A720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65CD-0E75-4AB0-84E1-694C82AB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730C-DAAB-4CF0-9927-B3E613D6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661B-5A74-43A3-97F8-B7769D8F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746-F893-4B1D-A30F-FA86124A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70B8-2860-4677-A2BC-47CA2F12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6EA7-10DC-475C-8569-8AC5ABAC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6331-E493-4CD9-B929-7906ADFD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F2D0-0189-4B97-87EE-46A077C2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6717-94D2-4A5F-B138-A47B1FA4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904D-6AE0-447C-A885-551B69B8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AEF1-417C-4F08-8072-C22CB07F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7AFC9-0FDF-41E6-B87E-1C553589DF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Christ my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ro’ eternal ages let His praises 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lory in the highest I will shout and s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0а   Доверяю сло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 слову Вечного Цар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жью мудрость славят горы и мо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Слава в вышних Богу!» повторяю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that cannot f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howling storms of doubt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ar ass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the living Word of God I shall prev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 слову, что не потряс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раган сомнений, страхов и невз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ерез бури жизни я иду вперё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Christ the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ound to Him eternally by love’s strong c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coming daily with the Spirit’s Sw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 слову Господа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зами любви с Ним связан навсег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же в искушеньях не боюсь вре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I cannot f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st’ning every moment to the Spirit’s c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sting in my Saviour, as my all in 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я слову, я не упад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ух Святой восполнит всякую нуж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 Христе имею всё, чего я жд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25Z</dcterms:modified>
  <cp:revision>13</cp:revision>
  <dc:subject>Slavic hymnal Гимны веры христиан, hymn 640 (as amended)</dc:subject>
  <dc:title>Standing on the Promises / Доверяю слову Вечного Царя</dc:title>
</cp:coreProperties>
</file>