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F4CF-4465-4B37-990F-A51F6476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1F4D-24AC-4B21-9351-FEEC4722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8CA8-0497-4E43-B375-46FE17AC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D53-E83B-4662-ADB8-DD0A3287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6628-3E3E-4D99-A1CF-8881DCEC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CE02-AB30-44C5-9B4F-224F29AF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019-BE05-4E53-9CCA-D713B795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D72-B6AF-4CBA-89DD-6D51DF90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371D-D568-488A-92A1-54334531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BBCE-32AC-4CB6-A0B5-1D31D8D0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EA0B-D6AD-4657-9798-2F5AF051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FB9C-AC2C-422A-8D82-85226B2B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92BBB-8246-4C68-A108-ED11917E587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мер за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вь Свою про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ем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Я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жизнь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жизнь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умер за т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ного лет пров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чалях и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чность ты обр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частья в небес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ость дал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ость дал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род золо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радужный пре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в, за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Я с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всё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всё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дсмертных муках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терзаем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мерти и гр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свобод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 страдал,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ты Мне возд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 страдал,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ты Мне возд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й же жизнь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годы посв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ишь Ему служ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астырь и покров,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твой давший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астырь и покров,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твой давший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9:21Z</dcterms:modified>
  <cp:revision>12</cp:revision>
  <dc:subject>Slavic hymnal Гимны веры христиан, hymn 427</dc:subject>
  <dc:title>Я умер за тебя</dc:title>
</cp:coreProperties>
</file>