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18E-26DD-4908-AAB9-553255CA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91B-B4B9-4DB2-876D-3C3A0109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547-C0FD-4643-B36E-73924988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D294-73C2-4F3C-AE6F-0BCA1E7A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D93-75B3-4BE4-BACF-BD8B3381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2B4-97D7-4714-ABBB-06761433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F1C-FBD2-4CCF-9C64-CD04B911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6F2-AD5D-496F-BA8D-5343F900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9B7-8BDE-4756-8FBE-5EE9FDC8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A157-2268-41B2-89C5-5B385692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3DE2-D377-4223-AA1B-D212FD42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638-3398-4C01-B146-896F747D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1A098-EA8F-4528-8A85-E5546A55FBC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Jesus shed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y back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gives me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never lose its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7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Blood that Jesus 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reaches to the highest mount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flows to the lowest vall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gives me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never lose its pow’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soothes my dou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lms my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 dries all my t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gives me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never lose its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reaches to the highest mount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flows to the lowest vall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gives me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never lose its pow’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2-05-01T01:35:51Z</dcterms:modified>
  <cp:revision>11</cp:revision>
  <dc:subject>The Source 2, song number 972</dc:subject>
  <dc:title>The Blood that Jesus Shed for Me (The Blood Will Never Lose Its Power)</dc:title>
</cp:coreProperties>
</file>