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57D-5D91-4FF9-A856-8B659646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8DC-1079-4AAC-AE72-DCFE949D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89A-5E0F-4E54-B78B-DF8156E3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12E-0B08-40A2-A70A-8A4B917D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81E-5152-4369-9F98-0355251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9E0-7944-4C99-AC97-A65E04F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F95-A3AC-4D4C-A6D5-EEE8F555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627-7672-4899-95F4-02C1EE1B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A25-9552-4BCD-B4A9-81F4B8EA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53D-275A-4864-997E-EEC90EF9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799-1BB0-4299-93DE-6FA8222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0A4-5726-4A73-AC58-B51780B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358F0-80D2-421D-8FD2-61E2F2481F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оля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Триединый, Дух Свя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лежит во тьме гре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ть мне дай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льше душ привлечь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сю Духа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любви огнём го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Христа уж здесь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0Z</dcterms:modified>
  <cp:revision>13</cp:revision>
  <dc:subject>Slavic hymnal Гимны веры христиан, hymn 787</dc:subject>
  <dc:title>Бог Триединый, Дух Святой</dc:title>
</cp:coreProperties>
</file>