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725-EA88-4A20-B0C9-122C2917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AC9-1CDF-435A-A0BB-FA7E834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A5C-6DB7-4E8C-8D75-DFEE5DE8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A76-38F8-4DF1-93C4-0927F18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551-2C3F-4954-85C9-526541B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2C5-F8F1-4203-BA04-F865685E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B08-635B-4D99-A93F-8FB96A6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2C1-E066-4373-9471-5677B217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C90-E311-439B-BA49-BAAEEA6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7F9-FBBC-485D-B807-5006CBB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346-7CFA-47BA-AB7A-C75CDDF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F96-B474-45F8-90A2-F468C6C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D94C1-166D-4B42-9560-0A9FDE5C79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51Z</dcterms:modified>
  <cp:revision>12</cp:revision>
  <dc:subject>Slavic hymnal Гимны веры христиан, hymn 745</dc:subject>
  <dc:title>Бог с тобой, доколе свидимся</dc:title>
</cp:coreProperties>
</file>