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9A0-E0EC-42E3-AA1C-7076BDDE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FBA-4BDB-4EF9-BC2D-A836B4CA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E9B-3074-4D1B-82FA-1FA67111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608-0156-4932-8DA2-2463D17D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82C-D3E8-4654-94DD-BA8E6D7E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A62-DC0B-40A5-A50E-00FCB133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409-1125-4610-8313-0C9E0405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5C9-C45B-4A87-8D59-AAD94DF1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259-4045-427E-8D75-CD661E91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8BC-4B48-428A-829D-2DCC612A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11F-6780-4664-AC06-8B65A32D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633-AB3B-4E80-ABE8-300D55A2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93011-71CB-4E25-8E86-65CF8380C9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й Дух!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 любви из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о правды утвер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воих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о правды утвер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во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двечный Дух! пр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чувствовать, чт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 нами вечно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 Ты и в светл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ру тесн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 Ты и в светл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ру тесн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глубже нам по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мудрость слов Твои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Твой голос различ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лосов и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Твой голос различ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лосов и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нас отра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лазны благ зем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го душ учи и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лениях Твои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го душ учи и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лениях Твои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частье ощу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даньях за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ву, крест Твой прини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ть Тебе, скор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ву, крест Твой прини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ть Тебе, скор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6:27Z</dcterms:modified>
  <cp:revision>12</cp:revision>
  <dc:subject>Slavic hymnal Гимны веры христиан, hymn 307</dc:subject>
  <dc:title>Предвечный Дух! приди</dc:title>
</cp:coreProperties>
</file>