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4CD-EF6D-4209-B113-2D95A4D5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10AB-64EE-452E-BDB6-6822C697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5EA-8470-4D07-BED9-7923EA78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F24-16BE-4D63-9669-501E2733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448-C43E-4098-84E6-CBEBD125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960-1E8E-4574-924B-30C33173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242-61DA-4B44-8F17-09DEB540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449-67D7-469B-8941-848E3274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0FA-D2F1-4768-9D10-61517307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019D-B5CF-404A-B98F-F21B1495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19F-C234-4A8C-8C0A-659FE8DE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CE7-508B-4C47-8172-A1923AFB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5AF94-E237-456D-9AA8-F47123362D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to say, L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 who gave me life and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’t explain just 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uch You mean to m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have saved me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all that I am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ev’ry day I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a light that shine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52   What to Say, Lor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, Lord, I’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rn to stand upon You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pray that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ay come to know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would guid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single step I t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ev’ry day I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Your light unto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 it’s You I live f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 I’ll follow aft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 I’ll walk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 I live for ev’r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 I live for ev’r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 I live for ev’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24Z</dcterms:modified>
  <cp:revision>11</cp:revision>
  <dc:subject>The Source 2, song number 1052</dc:subject>
  <dc:title>What to Say, Lord? (Every Day)</dc:title>
</cp:coreProperties>
</file>