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C09-370E-4077-8434-A5963036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DB5-7029-44CE-BBFE-DE9C5322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B6D-D45F-4F21-AA55-0D27EF8F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665-39F4-43D0-AD82-0FE6CDAD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F05-E212-4197-A212-B87057E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E58-F961-4A34-A9E0-BA63E195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651-6B4C-4BBE-B6FE-113851A3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95E-43BA-4132-A0BE-A24206A6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631-C25C-4C44-B3A9-F4AD1E7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CFD-44C1-4A88-940A-8B089D7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C8C-E5F8-47DA-8A4F-DA5979F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3E9-5ED7-4E7E-926A-27484F1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504F-394A-40E5-9B62-6B95F07487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восстав с веч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шёл на крест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шли по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надцать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 смирень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звал с моль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един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восстав с веч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Отец всес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Предвечны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юбвеоб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правды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айна! Три —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м сущ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за нас про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ная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для нас откр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ая люб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источник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ёю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у нас Власт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чество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ждь у нас 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вой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разные друж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армия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одну пус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наш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одну свя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 кровав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пред нами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етило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ияет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56Z</dcterms:modified>
  <cp:revision>13</cp:revision>
  <dc:subject>Slavic hymnal Гимны веры христиан, hymn 728</dc:subject>
  <dc:title>Господь! восстав с вечери</dc:title>
</cp:coreProperties>
</file>