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E2C3-E73E-4C84-98E6-E4F2BEAFF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A5C1-EA7D-45E2-887F-3B2F9311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AE41-5622-4E00-948B-552189964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C8FD-F442-49FB-92BC-E20458C3E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E997-A451-4036-8504-A4967C75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FE40-6AD9-424A-964E-8F391DEB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6476-D3A5-4DEE-B30B-11FDA002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921D-D662-4929-AA89-B14D860E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529B-6191-42B4-8C41-04817CA8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B1A0-57F3-46B4-815D-75D6C97C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A063-2F4A-430C-BC19-2E0DCE53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FAC1-9605-49F1-A124-BF1C45DB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3FB2F-FE7B-481A-A824-285C7365025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pread the tidings ’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man is f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uman he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uman woes abou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сите эту ве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эту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где люди е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идите в сердц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мненье, скорбь и ст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rough the vacant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ong of triumph r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ышим здесь и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смелей, дружн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ly Ghost from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Father’s promise giv’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обещ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р Его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pread the tidings ’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man is foun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ж эту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где люди е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boundless love div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hall this tongue of 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ond’ring mortals 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atchless grace divin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ивна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подходящих сл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мертным расс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ожет благ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, a child of h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uld in His image sh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женных раб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ысоту подня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ly Ghost from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Father’s promise giv’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обещ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р Его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pread the tidings ’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man is foun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ж эту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где люди е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ev’ry Christian ton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oclaim the joyful s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каждый, кто жи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осторгом воспо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ly Ghost from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Father’s promise giv’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обещ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р Его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pread the tidings ’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man is foun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ж эту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где люди е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ng, long night is p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orning breaks at l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ushed the dreadful w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ury of the bl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ходит ночи тьм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ток горит зар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крылася тюрьм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а пред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’er the golden h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ay advances fa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ердца и 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ет свет ин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ly Ghost from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Father’s promise giv’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обещ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р Его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pread the tidings ’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man is foun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ж эту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где люди е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, the great King of k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ealing in His w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ev’ry captive so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full deliverance br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чий Царь ца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учах любви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лительный бальз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ёт для всех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0:45Z</dcterms:modified>
  <cp:revision>13</cp:revision>
  <dc:subject>Slavic hymnal Гимны веры христиан, hymn 305</dc:subject>
  <dc:title>The Comforter Has Come (O Spread the Tidings ’Round) / Несите эту весть</dc:title>
</cp:coreProperties>
</file>