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B7E-FC64-4A48-A640-9DB884BD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4118-6EFB-49CA-A7B4-13AB0302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2F3-DEA5-4813-A785-BFA9C51F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B03-4EE2-4F9A-AC38-DC27F5E0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928-669F-4E01-A2DC-999F4B79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536B-E7BB-4C04-8DA2-C27465B0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B3F-79B5-46DC-B8A2-559F5561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ABA-1B44-4C4A-80FF-E8989E5F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0CE-1D6F-4CCE-A1AA-860FC592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3E5-61FC-42E3-AEFD-21560BFB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7B3-015D-47D2-A331-77B6CFA5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33F-C035-439A-B421-94CFF08E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A408E-63E0-4F73-B869-01FF7F56CB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 and worthy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 and worthy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lift up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lift up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0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reat Is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holy and j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His power we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faithful an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His mercy He pr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 and worthy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 and worthy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ft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ft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0:42Z</dcterms:modified>
  <cp:revision>11</cp:revision>
  <dc:subject>The Source 2, song number 706</dc:subject>
  <dc:title>Great Is the Lord</dc:title>
</cp:coreProperties>
</file>