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8F7-A4B8-4ED7-AA22-99FA9C8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A36-7276-41FB-BE5B-70FE788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D36-D07C-4653-9660-F8BA3969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00A-785C-4E8F-9983-C819D6E2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7DE-9CB7-4ABC-A40C-3BA841B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33C-EDEA-4283-B207-C1B3CC8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641-EB5B-4C1B-A58B-4F143D2B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1E4-42A1-476C-8FF8-BB8881D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7B7-5F1A-45F0-9D9C-FDEF1AD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3A0-D474-4879-9AC3-D42F284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F79-36F5-4942-BE0A-4B26540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C90-5132-497D-A5F2-35586F1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CA865-4BF2-4F5B-B38C-558DB8EADE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познавшие радость спа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мыт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не видите наши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забыли заветы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ьме беспросветной весь мир уто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нерав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и адском вся внутренность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тесь, придите! зовём в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вы, познавшие р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крывают лохмотья по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щи, убоги, мы помощи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услышим мы голос пр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спасенье и мир обрет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де угарном больного весе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е жгучем безбожных ре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ше отравы мы ищем заб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м мы, где вы? спасайт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, где вы, носители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чертога и вечного 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ас зовём и не слышим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уснули, молчанье хра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11Z</dcterms:modified>
  <cp:revision>12</cp:revision>
  <dc:subject>Slavic hymnal Гимны веры христиан, hymn 527</dc:subject>
  <dc:title>Где вы, познавшие радость спасенья?</dc:title>
</cp:coreProperties>
</file>