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FBE-53E0-480C-B8A6-5DB42E8A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559-5A7C-410D-9784-E8D4FC06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CA9-E630-49FA-9960-6C55C416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AC3-3164-4BB7-A82E-CFDC1863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396-19C3-4BFA-805C-425FD61A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182-F054-4817-BFD6-0658D650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17D-82CD-4066-A5EE-0C8030D0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906-9080-462A-9AD4-650FDB10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280-83F8-42D7-AC53-5146BFEB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82D-A008-4A63-8786-DA9C7BD2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A02-5B35-492D-80A4-9A2D6240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C00-AAF3-45DA-876A-CF6603D1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049BE-7613-42AC-B7F9-593A02E1B4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O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what I love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ред Тобой склоняюсь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склоня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огущ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ут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у Твоих н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are my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ебе подобн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склоня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любов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11-26T21:35:18Z</dcterms:modified>
  <cp:revision>11</cp:revision>
  <dc:subject>The Source, song number 271 in Russian</dc:subject>
  <dc:title>Перед Тобой склоняюсь я / I Worship You, Almighty God</dc:title>
</cp:coreProperties>
</file>