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3F9-B2F9-45FA-9A7A-474EC767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B47-FDAC-4724-AB2D-B69524C6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B6D-05D6-4759-BF8F-2BC9A8D0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B07-3FF4-4795-8A12-69B2B769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307-D2FB-4D16-A230-9B6FAC5E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F09-E37B-4C1D-907A-8C0CFA00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BDE-8D68-4B04-B6B0-04F27AA3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9B0-D712-498B-8F38-88E935F7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30C-3C05-400C-AE0D-C8645C6B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48B-1493-455B-87A7-74D8D741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F5D-CB2C-4129-8904-6C46A731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7BF-22F8-4667-BF15-CD4C32E2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74CBB-E43A-4122-8F10-BEFDA06954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at Thy table, Lord,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eed on food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body is the bread we 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recious blood the w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Твоего стола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го стола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ться нам да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леб — Твоя святая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Твоя — ви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Who prepares this rich re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self comes down and d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invites us thus to f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ши души напи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ходил Ты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ира принял на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peace and pardon sweetly f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what delightful f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eat the bread—and drink the w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nk on nobler g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Ты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 мог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оскрес на трет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уть к Отцу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ep was the suff’ring He end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accursed tre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—each welcome guest may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as all endur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й любви весь мир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й и св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, Господь, Себе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вечно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there was never love so fre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Saviour—so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Thou mayest claim that heart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owes so much to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зум, волю, сердце, —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и управля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чтоб мог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ти в небес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4Z</dcterms:modified>
  <cp:revision>14</cp:revision>
  <dc:subject>Slavic hymnal Гимны веры христиан, hymn 730</dc:subject>
  <dc:title>Here at Thy Table, Lord / У Твоего стола, Господь</dc:title>
</cp:coreProperties>
</file>