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209-11E8-4DAE-8327-0FA91730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67D-6029-4190-B546-3E7E4F05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4D9-74E4-4C60-A954-863EFBC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1DE-BF25-4604-95CA-7E906E36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64-61D4-4961-A464-A9480EE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87C-EFD4-431D-813F-ECB0E48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E2-6330-4126-A4C0-2034EC2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984-DD4A-433F-9900-6BDB1A0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206-C394-4641-A389-78C21AB0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FFF-461B-45C4-AA5C-9A15D2E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4E4-B5B8-4AB8-8FAA-BFB290E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8A7-788F-480F-BCB9-19A5BD8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D0CAE-2FED-48A5-85FF-865B4F007E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82   I Enter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54Z</dcterms:modified>
  <cp:revision>11</cp:revision>
  <dc:subject>The Source 3, song number 1282</dc:subject>
  <dc:title>I Enter the Holy of Holies (For Your Name is Holy)</dc:title>
</cp:coreProperties>
</file>