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BB35-A0ED-4521-8BC4-57C88107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F4BF-27C5-4C83-B33B-5D3A4370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042-423A-4903-A348-3491972E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DA9D-1A16-4849-ADBA-471028B9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E8E9-C060-4DE7-BFAF-65429707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48B9-EB59-4487-B055-4AAD22E5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0FE8-2480-4ECB-A3AC-A807DD56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CBF-6EE3-4F9A-9B47-C78B3EE1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AD6-2E74-484B-A414-BEF49A28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287-818E-4179-9D6E-46E9E2C0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E5D0-CB76-49DD-BA7F-CB8F440A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3130-4470-4A42-8232-0143E566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936BD-8218-4A77-803F-985BD9B388E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есь покр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и пел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аяк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е знает с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е знает 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в мире страж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т кто-ни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маяк ука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истань верны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истань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ир весь покрыв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в мире э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ждущих люд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дают с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а в тьме но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а в тьме н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кругом темн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ды нет ни в к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ори яс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удь маяк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удь маяк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3:43Z</dcterms:modified>
  <cp:revision>12</cp:revision>
  <dc:subject>Slavic hymnal Гимны веры христиан, hymn 566</dc:subject>
  <dc:title>Мир весь покрывает</dc:title>
</cp:coreProperties>
</file>