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431-F0FE-41D6-8A44-952C505E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718-99D0-42DA-8290-5324022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829-2852-42A2-AA38-AF2280B0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03B-F1F6-4FC2-A486-CF8B809E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941-7382-4714-9029-AECABAEF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15D-BD2B-4842-9DB9-9B316C13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A84-7AF0-4FDE-8612-5D1D05EE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92F-4758-4DB8-904A-38F26A5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912-5F8F-41F7-966C-CCD41605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15E-19B8-41D6-9B63-2EB1857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B3F-F9EB-4420-8F92-804165F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36E-FADF-4C38-AEC5-27FBF3ED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A2EE-4F73-41B7-B096-ECBE4C31C8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нам каже, що користі нем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жить Ісусу, коли ми молод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4   Цей світ нам ка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30Z</dcterms:modified>
  <cp:revision>12</cp:revision>
  <dc:subject>Slavic hymnal Гимны веры христиан, Ukrainian hymn 104</dc:subject>
  <dc:title>Цей світ нам каже</dc:title>
</cp:coreProperties>
</file>