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C81-5CBE-46F8-82B4-CFB83CEC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0A6-5A16-4D07-AF7C-4726885E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CFA-FBB7-47DE-9732-0FE52382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62E-2F3D-490A-B2F0-AF8A9190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C8C-3E14-4F2E-BACF-325B88E4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F1A-E91A-411D-B38D-546877DF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CCF-2F23-4AB3-BCE5-0D36146D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3D7-8560-423E-8C14-F353D69F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960-5EF4-4255-826E-95C8BCD5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0F2-46B2-417D-A6E6-2EF0C31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056-9833-4611-8E3D-E7F7188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124-3EF9-47AD-AF3F-4E10BFC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3FB4D-3CFE-4E3B-8C06-76DB3DD41D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битве ль сердце изнемог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ть тернистый душу устраш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лнце ль туча грозная скрыв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итве ль сердце изнемог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горестью душа тесн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 Христу тотчас пусть устремит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 Его тогда в неё всел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дрым будь: тем бремя облегч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другого сердце укрепит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обкий духом лишь борьбы страши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ен будь всегда, не отступ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 Христом иди, не уныв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Него надежду возлаг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0:07Z</dcterms:modified>
  <cp:revision>13</cp:revision>
  <dc:subject>Slavic hymnal Гимны веры христиан, hymn 508</dc:subject>
  <dc:title>В битве ль сердце изнемогает</dc:title>
</cp:coreProperties>
</file>