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E1E-7E59-4DAD-B657-397F49FF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AF86-9EA6-4396-A500-3FD2DB69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067-2510-4F1F-B461-0CE5D6AF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DAAB-FBAD-4DA1-BAB5-ADC3FD0A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8EB-0A8F-42E2-9240-D9CEDFE8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1EF3-FD36-4341-AD46-1D8E8F7A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BD0-2BF3-4C5A-82BD-BB553987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6BC-6AD8-4076-8A0A-E0AB12F1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80DF-384A-4904-AD63-C854D3EB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180-AF95-4B02-ABD0-7EB165A1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6E5F-8B2D-4FD9-ABE3-9485FD3A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75B-780C-40EC-B506-C6A8AA03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7B43C-232C-41E5-8312-BACE18B0FA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Спаситель придёт оп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любви Он придёт соз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рковь Свою к Себе возьм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, спасённый Им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 мгновенье собер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неба Спаситель прид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мия главу Христос сокру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бы то Бог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и и горести прекра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бы то Бог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ёртвых поднимет зо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ут к Нему на обл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их будет ве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Богу пусть нас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придёт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те среди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Он придёт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дрожит, шумят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горит 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и жди с небес Цар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9:21Z</dcterms:modified>
  <cp:revision>12</cp:revision>
  <dc:subject>Slavic hymnal Гимны веры христиан, hymn 323</dc:subject>
  <dc:title>С неба Спаситель придёт опять</dc:title>
</cp:coreProperties>
</file>