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9BA7-03CE-4B2E-AB07-54F5408B0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EBE6-4063-4496-97AE-B3A0D664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C567-76DA-4C6E-803B-C49F78E28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0BBE-3621-4B88-9FBB-1AED25FB8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F76A-C8B8-4496-B48D-BEB3F0468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ED5E-8728-4CB5-BD8C-01E46093E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F313-CA48-415E-B376-F26041240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A85D-506F-453E-BD81-87622BC8D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D162-715A-42AB-BF45-44AA7B253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BC5E-DBCA-4BB4-A68E-B87848A9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6818-0A2C-4DCE-9EF2-B6204ED6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A753-531D-435C-A418-5A810D4A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56D5C2-0D00-4697-A4D0-9A4BDDCE352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I come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my heart be changed, renew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lowing from the g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I found i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2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ихожу к Теб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хожу к Т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утомлён в бор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 Твоя меня ве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, Lord, I’ve come to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eaknesses I see in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be stripped a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e pow’r of your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, мой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очистишь сердце вн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ет в нём си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я сила люб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d me clo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Your love surroun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ng me n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raw me to Your si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тяни руки мне с любов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ови Сам меня к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s I wa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rise up like an eag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will soar with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Spirit leads me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pow’r of Your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арю к Тебе на крыльях веры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лечу с Т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ведёт Дух Т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я сила люб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unveil my ey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me see You face to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knowledge of Your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You live i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открой глаз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Тебя увидеть вн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познать любовь Твою ко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renew my 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Your will unfolds in my l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living every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pow’r of Your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нови мой у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лю мне открой Св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жил я каждый 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ей силой люб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d me clo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Your love surroun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ng me n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raw me to Your si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тяни руки мне с любов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ови Сам меня к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s I wa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rise up like an eag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will soar with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Spirit leads me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pow’r of Your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арю к Тебе на крыльях веры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лечу с Т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ведёт Дух Т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я сила люб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3T09:27:42Z</dcterms:modified>
  <cp:revision>11</cp:revision>
  <dc:subject>The Source, song number 329 in Russian</dc:subject>
  <dc:title>Прихожу к Тебе (Твоя сила любви!) / Lord, I Come To You (Power of Your Love)</dc:title>
</cp:coreProperties>
</file>