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288-26DF-4604-8DE5-37E3B6CC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D130-C68F-4654-9DA9-4965B3AF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5F8-86F3-45AA-8D63-92F27525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4A2E-F9A1-4FE1-9223-0B4AEB80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1719-E402-4CED-A559-D1B16B1F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1F0F-D80F-438D-8AF2-7AADB39E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2B0-35EF-43E6-91D3-5542B29F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61DE-8735-47F1-A863-05D4FE53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CD2-EFDB-4FCC-AB8B-CA269D08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04C-B066-4DF2-94F8-0D4991FF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7706-8622-4042-9607-06C6D36C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6928-7CCA-4B76-8055-5BDD8EA2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65AA5-E8C1-46CC-A766-7B8E962459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promise God ha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weary passer-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рогое обеща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ое обещ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, грешникам, да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emptations almost win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y trusted watchers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is promise ring with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в огне терз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друга не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вучит то обещ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y secret hopes have per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grave of years gone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is promise still be cheri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ердца упо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чь жизни раз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с верой обещ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hades of life are f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hour has come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thy trusty Pilo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очи тень спа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нчины час гря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Кормчий твой взыв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21Z</dcterms:modified>
  <cp:revision>13</cp:revision>
  <dc:subject>Slavic hymnal Гимны веры христиан, hymn 489</dc:subject>
  <dc:title>Precious Promise / Дорогое обещанье</dc:title>
</cp:coreProperties>
</file>