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9DB6-8382-4753-9FD7-961671E5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83BB-62E4-45BD-94FE-6900383E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A1A6-001D-42A3-957E-2E9844CD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D096-7DCE-4246-9ADA-682C9FA7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4BBF-FE79-409F-BA8F-2867C802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2211-6A3F-4368-83A6-579A9976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7E56-8A3B-4717-AE6A-790CAA66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C778-93EE-4EED-BB21-002A280A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EB59-F8FF-4327-A657-19C18E8A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C899-1547-464C-B9D6-C0883871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3ACA-BEBC-4F7B-B8B7-93296D56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0087-BD68-48FE-A2A2-C131B9F1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BDDC8-626E-46F6-8488-8B734E2F71C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Бог — скала, сокрыт в Нём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кой Свой ввёл Господь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емле сухой,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Бог — ск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враг меня стра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Спаситель защи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ают ли горы пред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ся!» — слышу: «Я — с то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емле сухой,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Бог — Отец, покров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ажду жить Одним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емле сухой,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8:11Z</dcterms:modified>
  <cp:revision>12</cp:revision>
  <dc:subject>Slavic hymnal Гимны веры христиан, hymn 650</dc:subject>
  <dc:title>Мой Бог — скала</dc:title>
</cp:coreProperties>
</file>