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A5D3-6938-4B54-963E-A62549C7E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2627-5149-4F59-8D6F-C4568C5F7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5CA6-8037-4A2C-A8BD-74A08151C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036C-F308-44C6-9E1B-F3D57D5FD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252E-7A32-45F0-8FD9-AD909EF0B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6317-7547-4C9B-9DE8-09D6AE212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199C-86AA-4861-911E-E707BA09F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F753-744C-4074-A423-E097A3E5C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CD63-831D-4422-B702-AB3261EE5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9080-C49A-4AB1-9592-01EE3E6D3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BDC2-8706-45CE-AD01-BFAB54EC8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6067-D213-435F-BDBC-68677EC80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8C05BF-383E-4739-9443-5DBCE0D208A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for Jesus, all for Jesu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my being’s ransomed power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my thoughts and words and doing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my days and all my hour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4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сё Иисусу, всё Иисус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Иисусу, всё Иисус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сли, чувства и де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ремя, силы и познанье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 Его меня спас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for Jesus! all for Jesu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my days and all my hour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for Jesus! all for Jesu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my days and all my hou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Иисусу, всё Иисусу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 Его меня спас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Иисусу, всё Иисусу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 Его меня спас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my hands perform His bidd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my feet run in His way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my eyes see Jesus on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my lips speak forth His prai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уки пусть Ему лишь служа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ги пусть за Ним иду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чи — на Него взираю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о Нём уста пою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for Jesus! all for Jesu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my lips speak forth His prais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for Jesus! all for Jesu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my lips speak forth His pra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Иисусу, всё Иисусу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о Нём уста пою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Иисусу, всё Иисусу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о Нём уста пою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nce my eyes were fixed on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ve lost sight of all besid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 enchained my spirit’s vis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oking at the Crucifi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Христа душой взира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мирское не гляж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ривлёк меня любовь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Ему принадлеж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for Jesus! all for Jesu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oking at the Crucifie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for Jesus! all for Jesu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oking at the Crucifi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Иисусу, всё Иисусу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Ему принадлеж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Иисусу, всё Иисусу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Ему принадлеж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what wonder! how amazing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glorious King of king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eigns to call me His belov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s me rest beneath His wing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великий дар спасень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т, Кто целый мир созд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нял бедное творе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еня Своим назв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for Jesus! all for Jesu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sting now beneath His wing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for Jesus! all for Jesu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sting now beneath His w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Иисусу, всё Иисусу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еня Своим назв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Иисусу, всё Иисусу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еня Своим назв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6:51Z</dcterms:modified>
  <cp:revision>13</cp:revision>
  <dc:subject>Slavic hymnal Гимны веры христиан, hymn 548</dc:subject>
  <dc:title>All for Jesus / Всё Иисусу, всё Иисусу</dc:title>
</cp:coreProperties>
</file>