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36D-A0C1-4673-9167-A9C8A50C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607-F82B-47E7-A289-3994B762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284-9538-4761-9611-03673904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E5A-C1F6-4F4E-9BE3-DE9717EB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475-E409-4774-AE0F-D327A2A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C34-CBAD-4B78-B21D-952C18C6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AA1-B2CE-4E2A-A990-EE4D8E4C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D9E-E798-46F2-8905-A54FC97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992-CA5E-45A5-9BBF-BB27B281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D97-FCA8-4894-A308-DC75F7D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DD2-8625-494E-B62A-3886235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04F-5B9E-4E14-B9A0-031FDC2A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9DAA0-7F31-465C-8A7F-C725A82A69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дружно будем мы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Божье мы найдём вез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я Божья в нас да совер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в слове и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но, дружно будем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, просто людям мы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ын Божий грешных возлюб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начинанья н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уженья даст потреб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чрез пустыню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йдём послушно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ищих, немощных и си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Агнцу Божью, к свету приве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29Z</dcterms:modified>
  <cp:revision>12</cp:revision>
  <dc:subject>Slavic hymnal Гимны веры христиан, hymn 553</dc:subject>
  <dc:title>Дружно, дружно будем мы трудиться</dc:title>
</cp:coreProperties>
</file>