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DE9-D044-41F4-A9DD-CAC2C6C1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877-1144-433B-AE2C-6FA5758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BF1-EC3E-4F94-A7A4-0A2B8F7A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A97-85F0-478B-B813-F498BF75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028-23E7-40B8-918A-6B5FE1A1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743-F7A0-43F2-B303-94B9C8D3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F45-A822-421B-8D08-D214B122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EE3-EE24-4316-A79C-E776954B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22F-F748-4CC2-A4CB-0D3DBF60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C23-65E1-41D4-90D0-F2ACC9A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E19-54C1-4003-971B-F968429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DEB-BC8C-4060-BE67-E66C725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5D611-5AF3-42BD-A2A1-9396715BD0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dly life’s billows ’round my soul are beat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erce is the tempest, dangerous is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iven by terror, I come to Thee,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ther in heaven, O hear Thou my ple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y great mercy, help me, I implore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have I struggled, but to no ava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trength is spent—I cast myself before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my Father, without Thee I fall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to the calmness of Thy harbour guide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stil a peace and trust within my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id life’s tempest stay Thou o’er besid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 me at last to my heavenly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37Z</dcterms:modified>
  <cp:revision>12</cp:revision>
  <dc:subject>Slavic hymnal Гимны веры христиан, Ukrainian hymn 85</dc:subject>
  <dc:title>Wildly Life’s Billows Are Beating / Сумно бушує життєвеє море</dc:title>
</cp:coreProperties>
</file>