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876E-2367-448A-852E-F6FFB0FA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5987-492A-43ED-97FF-D13F17F1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8A15-091E-4BEF-AD91-82CA2078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E36C-A21F-40C9-BB95-EF2FCCF6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2A05-03C9-4AFB-8849-6ADBC706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A2E8-A94B-41D7-8910-1356525B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3DFD-D4DF-468E-80E0-AD95626A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F7FA-4998-4F2D-92FE-F4CDB1D7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C74-2518-49BB-A84D-2A2662D1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2658-5198-4A8B-9288-E1535EA7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D166-1BA8-4B68-8C7D-E91ACA60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8720-69DF-4202-94B9-50E7B739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4BE87-8C9B-4D5D-B427-1908F4C1DA2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name above all na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Saviour, glorious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manuel, God is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ed Redeemer, Living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6   Ісус ― ім’я найвищ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― ім’я найвищ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Спаситель, Славни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Еммануїл, Бог є із 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 Відкупитель, Слово жи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9:16Z</dcterms:modified>
  <cp:revision>12</cp:revision>
  <dc:subject>Slavic hymnal Гимны веры христиан, Ukrainian hymn 116</dc:subject>
  <dc:title>Jesus, Name Above All Names / Ісус ― ім’я найвище</dc:title>
</cp:coreProperties>
</file>