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0FC-FE44-4526-BCA1-CD9349FB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18D-FAEB-492E-89FA-312FDEAA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7E4-6881-459A-9B1E-613A94B0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8D1-7C29-4705-9FDE-5BDE945A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1DA-5EE9-4F06-A873-EABC588B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505-3143-4335-AE4A-A2576294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669-6251-43D8-8933-C04B44C4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8F4-6927-47D0-B908-07C5A1A0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09D-4FCB-47EE-A1D1-B2B7EA81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A81-6109-4FA7-BE80-163EE01C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B27-5D11-4E5B-BE6B-6A3DFDC0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BC5-E222-40F6-81EC-B65222AC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3ECC5-CE11-49B1-A8B4-130A38FE80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преб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мо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лию чит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будь со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дер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нь забот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служ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святости стрем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йдё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держ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лишь за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лик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и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ют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не тороп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есту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и в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уская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ым будь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мир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одимый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в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дёшь ты к слу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го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27Z</dcterms:modified>
  <cp:revision>12</cp:revision>
  <dc:subject>Slavic hymnal Гимны веры христиан, hymn 858</dc:subject>
  <dc:title>К святости стремися</dc:title>
</cp:coreProperties>
</file>