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CE87-DC91-424F-BB96-5D37447E3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86FB-E4F2-4DFE-BFEA-A3A77464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E4C1-DE4F-43AE-B308-DF7425834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E662-BF2F-45EA-A40E-76E22736F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C485-3D44-42BB-B716-C1A198176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1F03-AA12-47D9-8E9D-FB1E8F16E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32C0-1B56-4F0B-8273-DBDC93A9E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9BC7-2C7B-4F5B-A136-6F79CBCCF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F516-1E9F-43E9-B1EC-6AAAA520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E919-1F3E-4007-9240-F8A27E0D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0FFC-77CB-4CA3-BDA4-827D6858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1A35-C134-442F-B6CD-AACD53A3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F140C9-DB9A-4A9A-AA06-F4BED9437E8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ри рази що денно Даниїл молив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ри рази молився й Пророк Іл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рові Даниїла Бог сам хорон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лля як молився дощ з неба полив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99   Три рази що ден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7:02:37Z</dcterms:modified>
  <cp:revision>12</cp:revision>
  <dc:subject>Slavic hymnal Гимны веры христиан, Ukrainian hymn 99</dc:subject>
  <dc:title>Три рази що денно Даниїл молився</dc:title>
</cp:coreProperties>
</file>