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5E86-29E3-4745-B1CB-57714FDF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D4D0-A1E9-453C-96C4-A131A8DA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B6FA-6B37-4DEA-B5F2-11AE5919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603D-406E-4C8B-B530-9ED9FC43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BBC-4BA5-44A4-9337-F7627AED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9492-F572-4D3A-BE68-0390DFA2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72A-E6CB-4C48-B305-74E8CC7C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B41-C0C5-469B-8909-EDD0873B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D120-1CEE-4128-9D46-35E318D7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61C8-3827-45BA-BC3D-0A7C8986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5E8A-AD91-4522-8457-DB842DDB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3704-2264-4C36-B7E6-F5BDE179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A93CD-ED09-4B7F-BE45-57F8CA20CC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unseen thing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   Люблю розповід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ту пречисту 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й Його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I know ’tis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satisfies my long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nothing else can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знаю правда 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а є найдоро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мене, понад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уду повтор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всім каз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wonderful it se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all the golden fa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ll our golden dre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дивні чуд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прекрас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всі Його ді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did so much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is just the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ell it now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те, що Він зроб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мене, і том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зповідаю вс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уду повтор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всім каз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pleasant to rep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seems, each time I tell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wonderfully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овторяти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м більше розпові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о солодше 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ome have never 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essage of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God’s own hol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м, що не чули 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добру вість спас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тру Бог всім д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уду повтор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всім каз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37:07Z</dcterms:modified>
  <cp:revision>13</cp:revision>
  <dc:subject>Slavic hymnal Гимны веры христиан, Ukrainian hymn 1</dc:subject>
  <dc:title>I Love to Tell the Story / Люблю розповідати</dc:title>
</cp:coreProperties>
</file>