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F35-9C42-404D-8C2F-7DA56248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525-54FB-4CA2-B12C-F32CE5D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34C-68CE-41FF-9C91-98D752A6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1D2-4EA7-41B4-8466-C547781C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871-D3BC-4AE5-8D0E-987D1D45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E5E-9BF0-469C-B771-6AD3B619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F1A-9721-451A-A32B-AC4DA60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96A-7CF2-4FBA-AE03-8FA3B3A4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0D9-67AF-4653-97AC-6B33377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276-0686-47C1-9B0E-5F9DA67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077-A9A5-4B10-9A7E-80D70F02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D08-D478-40EA-9FD1-368A41D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C25F1-C9A0-4F45-9A7C-CCB1733423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13Z</dcterms:modified>
  <cp:revision>12</cp:revision>
  <dc:subject>Slavic hymnal Гимны веры христиан, hymn 461</dc:subject>
  <dc:title>Спаситель мой живёт!</dc:title>
</cp:coreProperties>
</file>