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4A4-9032-48D6-B276-C328036A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534-0365-48B8-8E0F-C1BDB57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EDC-4BFE-4695-AAC9-69B3C237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E00-665E-46B4-9DFE-8205DB7C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68B-C7C4-41F1-8477-6AAB521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BFA-5999-4ED4-8559-AF28BBB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6F5-E8EC-4480-81A7-B1E16FBA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9A0-82C1-48A4-A3E7-6424FA1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4CF-8036-431C-A519-C7C9C4DC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5A2-6F27-4FB0-B0A4-A9752B1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AA9-1540-4591-92B4-D8AAD92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38D-7601-4478-B705-A5EE58D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95638-BC14-44C7-8F0B-69A0B6D0BF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4:54Z</dcterms:modified>
  <cp:revision>14</cp:revision>
  <dc:subject>Slavic hymnal Гимны веры христиан, hymn 228</dc:subject>
  <dc:title>Божьи ангелы, летите</dc:title>
</cp:coreProperties>
</file>