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58A-5C49-47F7-9DA2-A53D3445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FE3-A35C-4BB7-B9A9-2CB87484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447-731B-4091-82C3-3CEF42C1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160-E4A9-41A8-B935-7D067EC9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906-8CB6-4B5D-A728-E775D931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AA2-3A2E-4C69-9491-C0DD6CFA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F49-85E0-4739-BE6E-05B3AE7B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25F-496C-4616-929F-8F8BA228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E41-13DF-42E2-8FAD-19CBA4A3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921-5BA9-47A5-86FF-689C9F1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55F-046B-45B8-A1D6-2EA73B2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A34-D678-460E-86DD-EF0DBB8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5D252-4368-4826-9E0C-5B10A0193D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in sunlight all of my jour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, throug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p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said, “I’ll never forsake the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 divine that never can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вете небес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путь мой свер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через хо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ю, Им утеш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слову больше, ч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around me, shadows 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onceal my Saviour and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Light, in Him is no dar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I’m walking close to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ятся тени, чёрные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рыть не могут веч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яет свет не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ет сердце, ведё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right sunlight, ever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ing my way to mansions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 gladly I’m w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in sunlight, sunlight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дух мой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вечной жажду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стречаю скорб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жу во свете, свет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0Z</dcterms:modified>
  <cp:revision>13</cp:revision>
  <dc:subject>Slavic hymnal Гимны веры христиан, hymn 439</dc:subject>
  <dc:title>Heavenly Sunlight / В свете небесном</dc:title>
</cp:coreProperties>
</file>