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D1C4-DB23-482E-B715-3B462A53E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B371-F667-4D30-A5B4-B4A0F117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8785-A3D3-43E7-ADF0-064A77BCB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F9C3-4D1C-4842-B846-E29413EC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84A1-636C-47D4-A128-02513C72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521B-4926-4C57-BBFD-C3AF5E09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6C73-00AB-4A7A-9E36-2F85BF5D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809E-64B5-4C83-85FA-E923DF71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25DB-C17C-4B0A-A266-5B1962F5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5936-CCD9-4F82-A28A-8E3C5309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F084-6142-4D29-9BCC-E1840FAA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EFAD-9970-4B36-A715-F37FBEDB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553AA-0739-4634-8BBA-31BA2B1442F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ерусалим прекрас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боре чисто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ит зарёю яс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 и дивен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локом и мё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ильно надел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ющим нар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громко оглаш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ерусалим прекрас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труд Царя Сио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олн дворцов одни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земля мощ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литок золо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як, в тебе принят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нется пыш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самый и богат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ный из ца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род, где не зн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кладбищ, ни гро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ышно расцвет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ды живы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город жизни ве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бури и трево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бе приют серде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нас гото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ерусалим свобо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лёз не льют ра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т вражды хол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бедных жертв борьб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их стенах напра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льётся братьев кров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бе царит всевла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я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чный город мир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краше стен тв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грани из сапфи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камней дорог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и огнём сия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Божиих о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рко отраж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торг Его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7:14Z</dcterms:modified>
  <cp:revision>12</cp:revision>
  <dc:subject>Slavic hymnal Гимны веры христиан, hymn 666</dc:subject>
  <dc:title>Иерусалим прекрасный</dc:title>
</cp:coreProperties>
</file>