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D4BF-7968-433B-8086-A4CBE225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5999-5307-44CB-86B2-9293F66D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B4D8-DA4F-431B-8365-2D45AA86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0479-14AC-4E33-AD83-475FDAD2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191-56C8-4A74-9B3F-C435BE7F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2DED-E95C-4352-9FC1-8718F4C6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DC56-C132-4CC8-BD2D-17F34904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329-20E0-4138-A067-64F83C4F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77A-E376-466D-8958-4CF840EB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AA14-28A7-4E81-B3A0-3F9491AB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52B-4FE1-4BF7-B1C7-F618BF6C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CA7-250F-4320-9267-F820E5C9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09A43-AB4C-4AE1-92D2-F689F89954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m have I, Lord, in heaven but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but Thee! None but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s my song through life shall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есть на небе у мен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сть на небе у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жизни только песнь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harpest pains my frame perv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powers of nature f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will I sing through death’s cold sh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мне скорби дух стесн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ы силы замолч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петь сквозь смерти я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th for me the wine-press tr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th redeemed me “by His bloo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conciled my soul to G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меня в горниле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у с Богом примири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I envy not the rich their jo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vet not earth’s glittering to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илы мне богатств дары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хочу их мишуры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can no lasting bliss best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ding” is stamped on all be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ne is a joy no end can 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чного нам 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ленья облик в нём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же радость не пройд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with the poor be cast my l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knoweth best,”—I murmur n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 я бедным плотью ста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знает лучше!» — я б сказа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“vine” and “fig-tree” blight ass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“labour of the olive fail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eath o’er flock and herd pre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 винограднике — б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маслины без пл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бичует мор ста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I am now on hostil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in beset me all a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я среди вражды, ог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аждает грех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arth her fiercest battles w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es against my soul eng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ong in His strength, I scorn their r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ир готовит грозный 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се враги идут вой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Нём силён — порву их стр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my life draws to its cl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His arms I shall rep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расстанусь я с землё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Его найду пок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06Z</dcterms:modified>
  <cp:revision>13</cp:revision>
  <dc:subject>Slavic hymnal Гимны веры христиан, hymn 578</dc:subject>
  <dc:title>Whom Have I, Lord, in Heaven? / Кто есть на небе у меня?</dc:title>
</cp:coreProperties>
</file>