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FF4-C3B0-4AC7-9163-1CB87F99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DBE-47DC-4E76-B5C4-818E1836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9D0-E885-4543-8773-CE082A73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336-8BB7-4F85-8446-0FE778D5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11E-8CB5-4FFE-84AE-886771A3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F30-6718-493C-A14D-00503E9F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DD7-0BF6-4C8E-BFDD-3BC7365A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438-3FA5-4C12-AC4B-EE7DCB15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16F-F1D2-4296-9B6E-D674868A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52C-C011-43E1-9283-3F8032FF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88D-8215-490F-B977-D05B620A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BAB-3B1F-40D5-86EC-3C1963D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7149A-DCFF-4CE1-8330-F044B67C6C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I knew not I did not know lif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pent all my days in contention and str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 heard a voice which all trouble surmou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9   Не знав я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в я Ісуса, життя я не 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ами обнятий, у тьмі я блук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, як почув я Господ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дрися, душа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 am depressed by life’s tro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r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here my spirit finds solace and son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message from heaven in echo res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втомлюсь в житті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спокою й душі в світі ц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 чую, ллються небес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”, то ві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trusted in Jesus, I now live in H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go through the valley—the pathway is d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e never leaves me, His grace still aboun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і довіривсь, тепер з Ни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смертній долині, без страху я 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не залишить!”, слова чую з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г наш 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4:39Z</dcterms:modified>
  <cp:revision>12</cp:revision>
  <dc:subject>Slavic hymnal Гимны веры христиан, Ukrainian hymn 49</dc:subject>
  <dc:title>When Jesus I Knew Not / Не знав я Ісуса, життя я не знав</dc:title>
</cp:coreProperties>
</file>