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313-EA53-4654-818A-DADADDDC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3F5-84E1-4D34-86F0-DF843845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873-5BB3-46F2-860C-ACEEB316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AF9-704B-4D00-90B2-1A8A76DF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1A2-0F2B-420A-827D-E88C10B9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AF7-318D-4D33-8063-4F86B9B3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AFF-E223-4FE3-8141-971ACEB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D5A-9039-4D3B-94AA-23FDE36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587-3134-4D1E-8540-8C052F89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8D2-7F89-4CC9-86A1-865E7571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CEC-BE78-40BD-9C0F-24AD3947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309-8DFA-4DDA-BDAB-C046D02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4C064-F208-447C-B2AE-343C14A362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й своё горе от взоров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 много уж в мире без вздохов тво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и подумай в ночную п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твоё горе Иисусу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уже знает о гор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утешит на лоне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Божий сияет на наше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рачных и грустных сбирайте л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крой своё 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изнывают под гнётом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ним с любовью, утешишь их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й своё горе, дай радость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щи помощь страданья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09Z</dcterms:modified>
  <cp:revision>12</cp:revision>
  <dc:subject>Slavic hymnal Гимны веры христиан, hymn 438</dc:subject>
  <dc:title>Сокрой своё горе</dc:title>
</cp:coreProperties>
</file>