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46D-0758-449F-B5B0-65A69B95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FF9-483A-4064-972B-3E2BD651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BDF-CDFE-45B4-BA4C-4C954926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8BE-2B2A-45CA-9529-7C37099A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51B-4189-4E82-832A-56CF9BBB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F7D-B20F-40EB-A451-F7933D2D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042-E291-4BA3-A8D5-40CDDE10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3EA-6EEA-4D5E-9D70-17913051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637-DC45-47C5-AF77-C9D1F2BD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A57-C796-4A6C-81D1-F7B1B8D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64A-07B8-40C0-B02E-C043553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F00-CA20-4A5B-A4F6-72AF10A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E8278-53C6-4F30-AB10-FA6803D5B8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 вести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асён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е грехи мои Ты с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спасенье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умер для греха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л бы лиш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ерю вест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я Твой,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спасён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похи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ам, Господь,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я сл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сила —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искупленный я р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оддержи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десь меня хран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покой дар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ведёшь меня с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край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 дай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всегда мне только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л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Ты жизнь прерв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уж зн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обитель Сам введёш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радость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32Z</dcterms:modified>
  <cp:revision>12</cp:revision>
  <dc:subject>Slavic hymnal Гимны веры христиан, hymn 627</dc:subject>
  <dc:title>Я верю вести той</dc:title>
</cp:coreProperties>
</file>