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278-BAD0-46E7-9792-4EC22982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BF7-194D-41A2-8335-6366B35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F24-CC53-4F9A-B0F6-D2A8BB56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BB3-74C2-40C8-8CB8-B49494D3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4C6-D935-474A-A532-0DC90B6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681-0F1B-440E-8603-06D78703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68C-DE8B-4A4C-BB99-CBCDE7C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5E8-A877-4E3D-8670-70E4DC4C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005-3127-4DE7-B7A9-B40441A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2BC-A226-43AD-9747-FE02529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27F-747D-40CF-829B-AB11ABA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8CC-BFE0-4B54-954D-78D5BC5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86CD2-966F-4D28-A29E-FF86FB8837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 grace of our lov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exceeds our sin and our guil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on Calvary’s mount out-p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here the blood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sp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despair, like the sea wave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aten the soul with infinite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, yes, grace un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s to the refuge, the might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is the stain that we cannot h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e do to wash it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There is flowing a crimson 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than snow you may b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, infinite, matchles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bestowed on all who beli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hat are longing to se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this moment His grace rece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09Z</dcterms:modified>
  <cp:revision>12</cp:revision>
  <dc:subject>Slavic hymnal Гимны веры христиан, Ukrainian hymn 101</dc:subject>
  <dc:title>Grace Greater Than Our Sin / Милість Господня велика так</dc:title>
</cp:coreProperties>
</file>