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A35C-7734-4E69-9432-699B66752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96F8-0B8C-4050-A84D-FC410D5EE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00F0-1080-44F5-9A4C-10379DFF5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F08F-7C5E-4099-A276-2D98B648B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1E6C-8DE3-4018-9563-E14DA7861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4EC4-93DE-4386-9F4E-7BF17C41B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20AF-BBC3-4B68-A793-0483F7D8A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E5E9-54FB-4F16-9D94-528C1620E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C71C-CDA9-4F32-BD94-6BFEF19B5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1498-2393-4FC4-92FD-89E883BC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8E72-64AB-44CD-84FA-E0C7C5BB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2AEF-0182-4C84-B3D9-C48BB6DC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C2031F-59CC-45B4-99B5-43B44AF02F8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eye is on the spa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r hand it comforts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the ends of the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depths of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Your mercy and strength be s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093   Your Eye Is On the Sparr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call me to Your purpo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angels under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r glory may you draw all m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Your love and grace de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run 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Your words of tru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 by might, not by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by the Spirit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s, I will run the 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il I see Your f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, let me live in the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Your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call me to Your purpo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angels under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r glory may you draw all m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Your love and grace de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run 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Your words of tru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 by might, not by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by the Spirit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s, I will run the 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il I see Your f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, let me live in the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Your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32:49Z</dcterms:modified>
  <cp:revision>11</cp:revision>
  <dc:subject>The Source 2, song number 1093</dc:subject>
  <dc:title>Your Eye Is On the Sparrow (I Will Run to You)</dc:title>
</cp:coreProperties>
</file>