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61F-2A67-4CC9-BEBF-B82B6C37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AF1-65F0-424B-8A9A-6A08341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BA3-0106-4488-9138-78F9EDB2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D1D-081D-4936-914A-7DFE559E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7B2-1014-44F6-BBB2-CB8E022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A14-E3E5-4D5C-A416-9A938233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FF1-3FF6-43FD-B89E-BEFEBC9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9D7-DF9C-42F9-9FFC-FF6B4706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5EB-59DD-44EA-8A7A-5DFB0AD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249-8FF0-4A6C-A27F-80D236C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4B1-3F1F-4149-AE97-0D8007A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1C2-DB32-4AAB-AD49-4138D60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105DD-C0D7-46CF-96E5-8CB1C083D9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Спаситель с небес к нам нис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у плоть на Себя вос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решную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ныне скромный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Спасител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на землю Господь Сам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очёте, не в царском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чертоге, не в пышном дво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пещере приют Он обр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надзвёздного трона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ладыка, Господь и Твор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дости — скорбь Он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пасти Своих бедны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40Z</dcterms:modified>
  <cp:revision>13</cp:revision>
  <dc:subject>Slavic hymnal Гимны веры христиан, hymn 229</dc:subject>
  <dc:title>Вот, Спаситель с небес к нам нисшёл</dc:title>
</cp:coreProperties>
</file>