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B8C-68AB-4FF1-9205-B885F1D5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EE7-FDC8-441B-9FFA-BA9D06C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A9F-AF20-4192-9E9E-955CCA39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ACD-AFAC-447B-917E-D8128F8F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620-AF0A-4DAC-9557-25617E9F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A87-0DE8-41FB-B6BF-2A4701D7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996-4ABE-47E9-AF18-2A927132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8ED-9D5F-4A5E-B8CE-D923945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F7D-9AAB-4097-87B1-443F3C7D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6FE-CCDD-45C6-9624-94DA3B4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78B-EDA6-4FE9-8AA7-3B9D6B6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629-1E38-4B37-8331-1E795A3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F38B6-30C7-4165-9FB6-7C7D7CED8A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to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rivers of pleasure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— Христос мой Госпо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taketh my burden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oldeth me up, and I shall not be 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iveth me strength as m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umberless blessings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row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, filled with His goodness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ing in my rapture, O glory to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such a Redeemer a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lothed in His brightness trans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eet Him in clouds of the s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erfect salvation, His wonderful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hout with the millions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3Z</dcterms:modified>
  <cp:revision>13</cp:revision>
  <dc:subject>Slavic hymnal Гимны веры христиан, hymn 595</dc:subject>
  <dc:title>He Hideth My Soul / Чудесный Спаситель, Христос мой Господь</dc:title>
</cp:coreProperties>
</file>