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5</a:t>
            </a:r>
            <a:r>
              <a:rPr b="1" lang="ru-RU" sz="3600" spc="-1" strike="noStrike">
                <a:solidFill>
                  <a:srgbClr val="ffffff"/>
                </a:solidFill>
                <a:latin typeface="Verdana"/>
              </a:rPr>
              <a:t>	</a:t>
            </a:r>
            <a:r>
              <a:rPr b="1" lang="ru-RU" sz="3600" spc="-1" strike="noStrike">
                <a:solidFill>
                  <a:srgbClr val="ffffff"/>
                </a:solidFill>
                <a:latin typeface="Verdana"/>
              </a:rPr>
              <a:t>Пастырь мой —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астырь мой — Господь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им нужды не зна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пажити обиль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окоит Сам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уть мой Пастырь направ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ихим сладостным вод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Он мне подкреп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Своим ведёт стезя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сли я пойду доли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лишь тьма и смерть цар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вы зла на миг еди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мне не устраш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обрый Пастырь! Ты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ох Твой и жезл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миру вечному, к пок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направят слабый м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з любви меня жале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аришь трапезу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еня струёй еле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мастил в тиш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О, как радостно и ди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Твоим покровом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 Тобою непреры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им путём ходи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8:04Z</dcterms:modified>
  <cp:revision>3</cp:revision>
  <dc:subject>Slavic hymnal Гимны веры христиан, hymn 65</dc:subject>
  <dc:title>Пастырь мой — Господь всесильный</dc:title>
</cp:coreProperties>
</file>