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B1EA5-4D21-4A61-B61A-61C7E5B11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695FE-DA35-435A-9555-3F5147AEB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92625-170E-404B-AA1C-3534E982B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10409-B09D-494A-8FBC-B1456F243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B2104-19FE-4AD5-89E3-DD6DF944A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06463-22EF-4174-A3D7-BB908F29D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94ABC-725F-45B4-83BF-29AB67483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4BB21-9828-4970-8208-C6AFFBDA2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111A0-BC3A-4F46-BED0-7723E599C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863D8-257B-4219-9208-AEE7E4AC1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5880F-D46C-458D-A43E-AC8341677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CFA52-573E-4EC1-B88B-79F510F29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5DD39F-C2E0-4172-A423-69DEDC1FBFFF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льше скажите о Хрис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благодати полно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том, как Он за нас страд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с возлюбил и оправд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льше об Иисус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льше об Иисус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том, как Он за нас страд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с возлюбил и оправд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57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Больше скажите о Христ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льше скажите о Хрис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святости и чисто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Духе истины, как О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ляет в нас Христов зако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льше об Иисус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льше об Иисус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том, как Он за нас страд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с возлюбил и оправд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льше скажите о Хрис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слове жизни, что везд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общенью с Господом зов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мир, и радость нам да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льше об Иисус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льше об Иисус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том, как Он за нас страд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с возлюбил и оправд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льше скажите о Хрис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Он царит на высо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любит грешников спас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как в наш мир придёт опя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льше об Иисус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льше об Иисус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том, как Он за нас страд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с возлюбил и оправд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1:11:06Z</dcterms:modified>
  <cp:revision>12</cp:revision>
  <dc:subject>Slavic hymnal Гимны веры христиан, hymn 557</dc:subject>
  <dc:title>Больше скажите о Христе</dc:title>
</cp:coreProperties>
</file>