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8CE-B596-4B84-B440-CDC22656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A4D-FF23-4115-A587-01EF5B17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77B-5EAA-46B3-99DD-A6353333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5CE-BA5C-4DCC-B77A-DFF39348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E26-C338-470A-A407-01E56599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D2F-3D39-49F8-8AA8-C13D7CD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B2D-A9F1-4717-A17D-4E61F9AB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533-5F19-4EEA-9754-CA6AC6C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794-D5C4-468B-BCEE-1BAE245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045-ADC4-4A2B-B485-92B61BA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8B3-A2DF-451E-BDFC-001A914E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B4F-E58F-42E1-83B9-1B99DD5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EC7D7-9213-4528-A1FB-4130EAB56D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52Z</dcterms:modified>
  <cp:revision>12</cp:revision>
  <dc:subject>Slavic hymnal Гимны веры христиан, hymn 831</dc:subject>
  <dc:title>О, Божья вечная любовь</dc:title>
</cp:coreProperties>
</file>