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7DC2-C092-419D-8610-97F7465D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A2E-1230-4C30-845F-E0719CF4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45FE-3EB6-43EE-91FE-B763779F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22F-A3B0-495A-9B49-AB1EC4A2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6AC-77B9-4A04-B5C1-907A713F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B111-F999-44A1-B08B-D2628637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D59B-D1AB-4475-8E9F-29775A5B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BAFC-5B56-4C36-841C-43A45973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4089-C4C1-45B9-ADB7-250E09DE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3621-E696-415C-91A5-88F19020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F11-9D93-40AE-AD95-6A24BB2E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5EFD-5E12-40FB-A77D-75F23631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D71B9-6152-4AEE-9432-12974CC45F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раз ты, бедный греш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л слово 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раз ты был преступ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лощён весь во грех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тебе ещё возмож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ть благодатный з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ладывай надол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олько раз ты, бед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рвать не раз реш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ти в мире сует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жизни обеспеч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отом идти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тана ведь так прек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рко за тобой сле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ет и прек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умом твоим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властно упр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и умом т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боты сам внуш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лечёт к делам мирск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друг мой, всё нап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щетно мыслишь ты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мог всё сам устро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отом идти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ак решать ты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что никогда ты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й цели не достигн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ясь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ещё тебе возмож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благодатный з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ладывай надол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8:48Z</dcterms:modified>
  <cp:revision>12</cp:revision>
  <dc:subject>Slavic hymnal Гимны веры христиан, hymn 384</dc:subject>
  <dc:title>Сколько раз ты, бедный грешник</dc:title>
</cp:coreProperties>
</file>