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E10-F99D-4B75-89B6-3ED39576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4D5-82A9-42B0-AD4A-DE919F8A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F7F-3960-402E-97AE-2E872006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2E3-FCE4-4F08-9BAB-6A96A42C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1F7-2511-4979-9A34-C2AE7702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8B5-AC83-480F-B82A-946EB979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110-7C48-45AC-ABC0-352D5CBB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5A9-BA47-4FC1-8B0E-E9B86734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A41-058F-41C8-9DA7-46F446E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AAC-D921-4C10-9364-2DC0EFA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7BD-E897-413A-9DB6-465FF79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EEE-FE75-4475-8D39-5D438116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F41B7-D269-4824-8D0C-577A6F3CDD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ли жизнь мирно, подобно р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сь ли на грозных волн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ое время, вблизи, вдал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чёт ли жизнь ми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ражьи нападки, ни тяжесть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лонят меня поза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мой меня из пучины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восхотел иск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мире сравнится с усладой т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весь, как есть цел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кресту пригвождён и я кровью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 всесильны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скажу: для меня жизн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мой всесильный оп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от греха, искушений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еня Он любовно с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воего я пришествия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ою душу гр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тогда лишь я сердцу 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у Тебя на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18T21:24:10Z</dcterms:modified>
  <cp:revision>12</cp:revision>
  <dc:subject>Slavic hymnal Гимны веры христиан, hymn 817</dc:subject>
  <dc:title>Течёт ли жизнь мирно, подобно реке</dc:title>
</cp:coreProperties>
</file>