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409-6C4C-46FD-8337-0C51E66B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F8F-A34D-48A0-B4BA-085FE122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B86-2FB9-4004-89A1-6790BC35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8BA-E017-4D12-8BFF-98D11443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0DC-BC78-4DB1-9119-CA304309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443-B3DE-4BC7-87CB-431BD13C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497-F813-4360-9663-87F0C670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576-3A2A-478A-9B59-7A477266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05E-E020-4A76-A669-C6F92755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4B7-F7A9-4BF2-AE1B-6DE1E774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540-14B0-4794-96A9-8A69EF9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F6E-71E2-458D-9476-8CF9A03D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60FBA-162C-46F6-ABA3-B274458FF8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і, слава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і, слава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спас, гріхи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оє серце кров’ю ом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7   Господі, слава Тоб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22Z</dcterms:modified>
  <cp:revision>12</cp:revision>
  <dc:subject>Slavic hymnal Гимны веры христиан, Ukrainian hymn 107</dc:subject>
  <dc:title>Господі, слава Тобі</dc:title>
</cp:coreProperties>
</file>