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654B-289E-499C-9773-0DB456A7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B43C-F3D3-47E4-885A-AF6C7A01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110F-1BD2-47E4-AE7A-AE83467F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141B-2C3F-4DA2-9608-5019B27A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BAA9-0522-41EF-B289-A0483367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721F-BF0F-4CF3-BF28-026AB65F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406A-AE7C-425A-B6B9-1F66B2AF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8515-2936-4508-BFDD-AD51FCE8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476E-AD9B-4E49-9AAA-FFF21F77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7BC1-1E74-4059-AAB8-B8B7FC39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3D54-506F-49D6-96AB-8A0EDB3D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8BB9-C12F-4723-99F4-5D9EF2D9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2C2D7-ABF3-48B6-8F6A-571CCCB844C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re be glory and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prais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and honour to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and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and honour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and honour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and honour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401   Let There Be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47:36Z</dcterms:modified>
  <cp:revision>12</cp:revision>
  <dc:subject>The Source 3, song number 1401</dc:subject>
  <dc:title>Let There Be Glory and Honour and Praises</dc:title>
</cp:coreProperties>
</file>