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4B27-4562-4520-9201-8D9DCC0C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F3E-7A97-473F-B4AB-481848B4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450-41A5-40DB-A86A-12DC8A23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4DD-87B1-49A8-8AB5-4949DECC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6AB-6081-43FE-ACD9-F6A24F12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2E3B-3CA3-42BB-9EAD-3AC82A75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075E-A46C-409F-AC9E-1D75FE9C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030-37ED-4D52-8C4E-FE1A59CB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E90-601F-4911-8C19-8661ED69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94D-844F-4C11-8729-089364B5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356-F916-468C-8A32-E7AF3F19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372-6649-4AF6-8386-CE72CC3A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CAA05-18A4-4782-846F-EEC19E5EB4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ко спасенью новый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Христа открыт пре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тебе даруе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ворит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ть ко спасе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удьте, как дети!» — Он го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Христа нам радость да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щий всякий пусть повт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ый тот зов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что тебя зовёт Он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все сомненья, искренно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ди в Его отверстую д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зовёт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9:15Z</dcterms:modified>
  <cp:revision>13</cp:revision>
  <dc:subject>Slavic hymnal Гимны веры христиан, hymn 381</dc:subject>
  <dc:title>Путь ко спасенью</dc:title>
</cp:coreProperties>
</file>