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845-FDF1-4313-84FB-92FACA14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0DE-7FBF-4588-951F-8D38114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E44-6356-4609-8E59-CC4AD062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CD2-C805-4FA0-83AF-9E2CD3CB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67D-B591-42B2-96C7-C90B40D1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5D0-00B4-4391-B1BF-298929A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43F-A2DD-440F-8423-A8029DB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13F-91CA-4020-8512-7DE9F13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C76-96F9-402B-BDF2-B095E88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8A6-689D-4EA8-BB7C-4F20064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6D2-C80A-4200-B722-4F78D2C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DC1-87C3-483F-84C4-B11F75F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BAAD1-D012-4BF9-BBF9-51FB3BEC73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clos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all down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ear You say that I’m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Draw Me Clos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will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eel the warmth of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fin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back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’ve ever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45Z</dcterms:modified>
  <cp:revision>11</cp:revision>
  <dc:subject>The Source 2, song number 674</dc:subject>
  <dc:title>Draw Me Close To You</dc:title>
</cp:coreProperties>
</file>