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C73-C20A-4573-AB09-B98AA0BE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502-3712-4D48-8741-30E09F9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B07-237A-46EE-BB66-23F72CDB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97D-74B7-4CB2-847B-60AEB2C4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883-E5E7-4F3E-9237-A85D9008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834-342B-4325-A594-7DD9E75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F7F-76C1-4CA8-8BFC-FDB8DDB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4B9-8777-4A79-B965-A5C9D5C6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B97-3F86-44A4-891B-A0997788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181-74FD-4A17-B91D-E7EFD83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681-8520-470B-9CF0-E4BDF77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A9D-A30A-4B15-8E7D-58814C4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DA260-56EA-4BE6-AB59-C9B682721C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53Z</dcterms:modified>
  <cp:revision>12</cp:revision>
  <dc:subject>Slavic hymnal Гимны веры христиан, hymn 288</dc:subject>
  <dc:title>Во гробе Он лежал</dc:title>
</cp:coreProperties>
</file>