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0C18-623A-48C3-ABB7-E4032548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CD4-8307-4220-81FB-EBBC9BED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978-F02A-4C5D-9336-C5CA6358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352F-AF98-409B-B19A-09D3FC4E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C34-260E-47F2-BC76-E1988698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699-C4FB-4DA6-9696-AFA0C2BD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192-8579-4059-9D55-ED847E93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1F6-A236-46D3-B453-768CC6EA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2DA-318D-4EA3-85AD-D9403632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918-865E-488A-88DA-85517D6C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CD0-CCB1-48BC-852A-AF01E28A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274A-5B78-499F-8335-ACCBD9F4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05CDA-3349-4C3E-B387-C19C3E4ABC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вышел на вой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аведных по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чрез преграды и вра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стремится всле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чашу горя тихо п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м невозму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ерпеливо крест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следует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ын Божий вышел на вой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фан с решимостью в о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ял перед су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увидел в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стил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я тягостных гр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л врагам свои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осит Бога за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следует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надцать избранных дру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гнём любви в серд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в наш мир спасать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вши всякий стра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их славны им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дух непобеди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Боже, мужества и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ледовать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6:16Z</dcterms:modified>
  <cp:revision>12</cp:revision>
  <dc:subject>Slavic hymnal Гимны веры христиан, hymn 499</dc:subject>
  <dc:title>Сын Божий вышел на войну</dc:title>
</cp:coreProperties>
</file>