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8BB-A70C-416C-BCE9-0CF38450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C3F-5FA6-4082-B5FD-2088F74A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A5B-9AFB-4991-B93D-12047278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F4E-D3ED-446B-ADCD-7CA613C8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E0D-6FC2-4AF7-96A0-AEAA9630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DB4-8D7B-4078-B770-9ECB231A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745-F64E-470F-9775-04A4B9A8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B1C-BFCA-489E-BBDC-A8FA8DA5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488-979A-4085-9556-BAB28EC0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F35-8D98-43BA-A04E-BB81E1B2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34B-2A8F-457D-AA3E-FB3D642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3E6-107F-4F51-BA5C-B255230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F7399-DC2B-4AEC-8D09-6CF42F3D5C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feel discoura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the shadows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my heart be lo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ng for heaven an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is my por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nstant friend is 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t not your heart be troubl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ender word I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ing on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se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by the path He le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step I may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I am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clouds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ong gives place to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ope within m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raw the closer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are He sets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8Z</dcterms:modified>
  <cp:revision>13</cp:revision>
  <dc:subject>Slavic hymnal Гимны веры христиан, hymn 701</dc:subject>
  <dc:title>His Eye Is On the Sparrow / Зачем я так бессилен?</dc:title>
</cp:coreProperties>
</file>