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B56-5243-40E1-9B4F-57D15A66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E50-0FB7-4D94-AA18-E08E7811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9D0-4C6C-4597-8DEA-3C3DFA28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DD8-E95F-444C-8F88-4D801CFA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915-79CE-417D-9480-14BD4603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43A-4F4B-4750-82A7-21189454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E05-2A71-4E99-BF9E-E44A1920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159-89FA-4742-A3F4-4A6DB916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5E1-1930-40AE-9554-DCF678BF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AEC-5F72-44F4-912B-D27F906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DBB-5E48-4496-A497-A7FDE4C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D52-918C-4AA5-85B9-9599A3E5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ABD84-5F88-4112-AAEA-E2D2460F8B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recious than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costly than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beautiful than diamo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I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res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You Are More Pre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14Z</dcterms:modified>
  <cp:revision>10</cp:revision>
  <dc:subject>The Source, song number 339</dc:subject>
  <dc:title>Lord, You Are More Precious</dc:title>
</cp:coreProperties>
</file>