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3A7-71A1-4530-BC6A-090172DF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1AF-2F33-4B47-828B-45C2A73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65F-247A-4DBB-851B-CB563A19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893-CE1D-40BF-9765-D4F32A25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F48-7905-45D2-BB1B-BA486420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D2A-1E66-491F-BBC9-B75E238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B54-ED20-494F-9EAC-57EF8A8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AC0-7B2C-4332-9322-27F4205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2C1-CD83-4340-B09B-5DCCFD4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28B-F601-4579-964A-F70BE40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475-124B-416C-8C23-2634B44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8A-C80C-46A8-AA8D-1FE6C92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AE853-500E-475F-83E3-43F3942856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пасінням укр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з великим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’ю Христовою вм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стісняє спок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 ти на поміч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 Нім знайдеш ти притул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8  Вічним спасінням укри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оронити Сам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твій тягар поне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Він не поза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ть твої Він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ін усуне зітх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ач відбере та ри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4:40Z</dcterms:modified>
  <cp:revision>12</cp:revision>
  <dc:subject>Slavic hymnal Гимны веры христиан, Ukrainian hymn 28</dc:subject>
  <dc:title>Вічним спасінням укрийся</dc:title>
</cp:coreProperties>
</file>