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882-5464-471D-AFAF-41740042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7F4-AC6C-498A-BFE6-1D23960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4CC-F5C4-45E5-BC1A-9500A4D6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F4C-5B18-40DD-B3DB-2DD9723A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D84-15EC-48B1-BED1-8BD6D31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A7C-E302-4BD9-A2D4-401CA424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709-5A51-48D8-B974-816B5340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D7E-7545-4C8E-AF23-F9DA5EFB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849-ED52-4FC0-8277-FEAD79DB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054-F3F0-453F-8328-ED8DBCA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93A-D98C-4257-930B-2FA8F60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E46-BE97-4BD6-A30F-39E6E1D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1F13-9ED8-4151-8792-30538944FF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меч не из стали блестя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лотом кован людск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ламенем правды гор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ван нам Богом Сам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оть он людей пораж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атскую кровь он не ль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и дух проник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, и неверье с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меч не из ст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греха разруб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ным свободу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дебри он путь прола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истине путь тот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ния грозные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зает он вражеский ст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меч наш могуч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ужен ли меч нам и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точим же меч наш ост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и молитвы ог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его и сме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за Велик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огнем, когда на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алек ряды потря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сквозь тьму и смят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лавной победы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cp:lastPrinted>2010-11-29T06:51:50Z</cp:lastPrinted>
  <dcterms:modified xsi:type="dcterms:W3CDTF">2010-12-20T00:42:50Z</dcterms:modified>
  <cp:revision>12</cp:revision>
  <dc:subject>Slavic hymnal Гимны веры христиан, hymn 495</dc:subject>
  <dc:title>Наш меч не из стали блестящей</dc:title>
</cp:coreProperties>
</file>