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E96-C0BF-45E4-AE9A-C095F498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AC6-D047-4A5F-8CB3-69C14E75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E7E-568F-43DE-AC6D-AC05DF0B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664-6221-4AE3-8F35-B306AF8B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A34-F15F-40AC-80F5-DCBA6100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78D-3BCA-40B7-AF8E-48302F63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182-86D7-4102-8B22-3C85AF27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BA9-62F2-43AC-B1F0-9CF3E1D8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211-67D2-4C25-994A-1ECE40C0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8A9-AF66-470C-960E-A5FB55D2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328-E64E-46EC-85CF-55E123D0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24A-86D3-4479-A47B-4BAD9B16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A5CA6-DBEC-425C-B00D-6EE217F11E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of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tepped down into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ed my eyes, 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y that made this heart adore Y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a life spent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406   Истинн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шёл к нам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дай мне по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красоту, что пленила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могла мне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про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аза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чуде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мне близ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all days, Oh so highly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ous in heave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umbly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earth You crea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love’s sake became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сти Царь, Создател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Твой престо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рад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небрёг Своей сл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енно на землю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про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аза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чуде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мне близ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ll never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much i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e my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at cross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Твоя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меня Ты пролил кр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Твоя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меня Ты пролил кр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про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аза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чуде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мне близ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3T09:32:20Z</dcterms:modified>
  <cp:revision>12</cp:revision>
  <dc:subject>The Source 3, song number 1406 in Russian</dc:subject>
  <dc:title>Истинный свет / Light of the World (Here I Am to Worship)</dc:title>
</cp:coreProperties>
</file>