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29D-AC6E-400E-8AC6-799B79DB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AB6-DCD4-4EAA-AE60-FCA6B6C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1CC-97A7-4ED3-B6DE-66E68825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117-01DC-4E31-92C1-BF15E9BE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CB9-0498-45C1-8B1E-2029118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57A-B108-4CE6-9CD3-772636D3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467-74E2-4521-A231-0823CAB7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4C6-FE8C-4BEB-AD1D-C7060123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006-754D-40F7-9171-E93DBC0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D3D-68D1-41A4-B867-8176B34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09B-974B-4AFF-8BA9-98627AE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F79-F178-49EB-811B-F3FCB03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BFE2E-1F26-4440-9DFF-C976EC7371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вопрос за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да же приду и яв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дом, как покорный слуг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я слезами заль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ьких насмешек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ерна стре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чу в тоске и томл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поминаю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огда с радостным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ю мы шли в Бож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ы над мно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верой доныне вз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ладыке небес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ём явит Господь Свою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очью — хвала зазвуч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Богу правды и 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а что я Тобою забы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й ожидать и терп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га ещё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буду я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48Z</dcterms:modified>
  <cp:revision>12</cp:revision>
  <dc:subject>Slavic hymnal Гимны веры христиан, hymn 448</dc:subject>
  <dc:title>Как серна стремится к потоку</dc:title>
</cp:coreProperties>
</file>