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D81-4914-4D88-B702-67C0CC80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0C9-CD84-497D-8EF8-7508191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DB0-A704-48A8-9FB5-2FD2961B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994-D3F4-472A-812B-59945FD2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809-784D-4AE7-80CA-FD3A7A07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092-693D-4028-93B3-852576D9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9EC-B47C-46B2-AE04-97C6FF1F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81A-50E2-4AE7-8974-ABFB5ADA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023-D032-41F4-A0B9-EFD287C5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120-52F5-4356-9990-719EC3AB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7DC-6DB6-4934-BBCA-91DFAEA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B2F-9EA7-433C-828C-960F3E5F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27ED6-3105-4F10-BCCD-48D87E8021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у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ир его не зн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у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в грех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 спас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есть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жен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путь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друзь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омые, 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астники в гре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верг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и узн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ся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этот уз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скорби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в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за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нуту восх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лаках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16Z</dcterms:modified>
  <cp:revision>12</cp:revision>
  <dc:subject>Slavic hymnal Гимны веры христиан, hymn 349</dc:subject>
  <dc:title>Есть путь спасенья</dc:title>
</cp:coreProperties>
</file>