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754-DB37-40F8-A662-3AF9BB8C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DF8-CF38-4A54-9ADC-933779D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09A-14D5-4163-A8B3-E5755131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F98-CB9D-4EA5-B314-DDF9D889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D36-D029-4885-8995-11AF129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501-149B-4072-8179-A9B0BAC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EC1-546E-4EFC-9F88-6AC7B23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E6C-45D0-49AC-A42B-D3C7C3A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5C9-51F3-4784-9F2A-57D2636C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7BF-0CCD-4B62-9E91-E843841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5A3-B5D8-4564-BACE-0BA2A0F4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B53-70AF-44E8-947B-42CCEDF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EF477-32E1-4B14-B7B9-A6656AE5DA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55Z</dcterms:modified>
  <cp:revision>12</cp:revision>
  <dc:subject>Slavic hymnal Гимны веры христиан, hymn 808</dc:subject>
  <dc:title>Прославьте, все, Христа</dc:title>
</cp:coreProperties>
</file>