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1B11-E8F6-4C9E-A558-44AE7331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78DF-6230-4BBF-B154-D16F1826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89B0-F5B1-417D-B27A-1AD17128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0739-75E3-4ADB-B176-291BDAE1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125E-98CF-40B2-AD34-3A93CEBA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C0B8-D779-4991-8D68-06DDCB9D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5418-17B8-44E9-8612-930C1098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E4E4-47B6-4B69-AD86-4F2DEB3D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8FD0-C7F5-46D2-9B4D-F483B9E5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B8F5-6348-43D5-927B-AA227CFF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B8BF-3D28-40AB-A8D0-BF9D1326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0107-3F41-4ABA-AE05-1D5CB863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59846-3B04-4701-85AA-BE276E2D928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семогущ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о утром пес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поём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вый, силь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риеди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вят, свят, свят Господь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и поклон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дают Ему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авных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ьски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ают в смир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щий от 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в и бл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йной облечё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ным нельзя вид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ей славы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Он над все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евознес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и креп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семогущ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ят Божье имя неб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ре и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орят наши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му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и хва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3:18Z</dcterms:modified>
  <cp:revision>12</cp:revision>
  <dc:subject>Slavic hymnal Гимны веры христиан, hymn 804</dc:subject>
  <dc:title>Свят, свят, свят Господь Бог</dc:title>
</cp:coreProperties>
</file>