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A00-4F56-4EE7-865A-AC7B766D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7DA-B7A6-477A-BB10-3EB7ED4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E8D-6104-48B4-80FA-B7FDA1C0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9DE-9318-4B64-8AA1-9DC13904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71C-0D93-4200-8B89-7C18552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97B-7827-4B30-84E1-5B2F204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0B3-20A2-4409-9312-0F581656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798-152A-4A2A-AD19-3DA19E4F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DA3-01BB-4CE7-9376-CFAA2B94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277-64F6-4825-8262-6E6EB86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2C6-3B14-431D-B90A-6CF1AC0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9B8-EB93-45F0-B1CD-C1B8A75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21AB-76D1-4517-9EF3-6569A2203F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елись, печаль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Христа лю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дел твоих и без за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у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ию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шь ты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пора, положи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борьбе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веселись, печ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птать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я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ит твой душев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, как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чала дней твоих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 ли ты хра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Он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ях не постиж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 же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жизненной гроз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счастлив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, 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12Z</dcterms:modified>
  <cp:revision>12</cp:revision>
  <dc:subject>Slavic hymnal Гимны веры христиан, hymn 699</dc:subject>
  <dc:title>Возвеселись, печальный друг!</dc:title>
</cp:coreProperties>
</file>