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50B-0BAD-4EE9-946C-EEA4FF0E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7C0-1A37-4901-B8DD-57D4EA2D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428-3529-4549-A1E0-433A2C5C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B63-555A-4DC8-852E-DAF258D4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A40-E49F-4E07-B010-ED65F0B2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D95-A959-46D4-9A97-AB583EE4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9DD-119C-4CEA-AEFC-7DB14433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AC1A-2065-4303-920A-45A5A98D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4A7-A293-49D1-815C-98237757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E17-83CC-44AB-82E3-2BF5AF00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6243-C774-4B6C-80CD-2E007614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C5F5-597C-4726-B958-A130C8BC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09AD3-71FA-4AB0-83F6-D89160DF54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 of sorrow and of w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ill joy and comfort giv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hen where’er you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3   О, благай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лагай Христа, мі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м часом доро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е будь байдуж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асителя спі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shield from every sn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emptations ’round you g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that holy name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Христа прийди покі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итя Його про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е Він тебе безмі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загибелі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precious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t thrills our souls with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is loving arms recei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songs our tongues emplo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серце утіш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юблю ім’я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е лиш підкріп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ереже від зл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name of Jesus b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lling prostrate at Hi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we’ll gladly crow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ur journey i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будуть зустріч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ого Царя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а будуть прославл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ворця святих чуд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5:49Z</dcterms:modified>
  <cp:revision>15</cp:revision>
  <dc:subject>Slavic hymnal Гимны веры христиан, Ukrainian hymn 13</dc:subject>
  <dc:title>Take the Name of Jesus With You (Precious Name) / О, благай Христа, мій друже</dc:title>
</cp:coreProperties>
</file>