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0267-7421-4EB4-8CC0-1782FC92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ABD-D408-461C-8652-C58953F9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775-AE4E-4A41-9D3C-D89663D0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FBEF-A4A1-4C98-92D0-7C968A2D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160-2856-4559-8367-D49649AB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FDB2-9649-4C21-BF54-AB981E28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09F0-7433-49DA-B75F-E9EAF8F9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2B8-5067-440F-98E1-C636817E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448-1E6A-4905-A927-4E3A51B6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4E3-EAA9-495A-AE4A-98FCCFE4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0C7-499C-4EFE-B084-2F66AFE4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B2C-70E8-4964-B005-E57D93F9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AE505-CE0C-4C13-BA92-A0308ED06B7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лых идите спас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Господу их приве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м спеша указ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те вы радость кру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ньем в пути вы стреми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ыси, вперёд, в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 за правду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ущих в тьме собер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небесных кра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длить сегодня зач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их, о Боге забыв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дна уносит со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лебом спешите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приведите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т насыщены 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6:36Z</dcterms:modified>
  <cp:revision>12</cp:revision>
  <dc:subject>Slavic hymnal Гимны веры христиан, hymn 546</dc:subject>
  <dc:title>Юные слуги Господни!</dc:title>
</cp:coreProperties>
</file>