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1696-8739-4BEA-8A36-6E6E0B9E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5937-822F-46D7-A009-BC9BEA4A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1557-D601-4EAF-A8E5-86CC05C7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9BA7-7293-4DA3-B297-73A4B467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9314-2C3E-4638-9C74-57B4DF5D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FA8C-F28E-422B-84BD-36E55A5A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3737-37AF-4DFD-AE41-6887B2F9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FD4D-66F8-4891-8BA3-44EC42CC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24E6-2859-41AA-A7D5-8664E69D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12ED-3C14-4E35-94DA-BC9ACCD3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08FF-C3F0-4C53-9F4C-7A22188A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C01C-EEA5-45FF-AEEE-4A750802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E204A-A2EC-4DCD-9491-70D8F2EA0F5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дали Христа блуждают миллио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Рабов, в цепях отчаянной тос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 долины тьмы несутся плач и сто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 помощи спасающей ру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м сила Божия дан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м сила Божия дан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дите в мир и проповедуй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лагую вес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Се, Я с вами во все дни.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дали Христа блужда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то полный сил, любви и дерзновень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сти во мрак Евангельскую вес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ажги огни всеобщего прощень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ови на пир, там много места е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м сила Божия дан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м сила Божия дан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дите в мир и проповедуй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лагую вес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Се, Я с вами во все дни.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ачем нам смерть? Вот жизни да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вященны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верьте в жизнь, и будете вы жи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ристос воскрес! Он — первенец нетлень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 нетлению стремитесь также в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м сила Божия дан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м сила Божия дан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дите в мир и проповедуй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лагую вес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Се, Я с вами во все дни.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1:37Z</dcterms:modified>
  <cp:revision>13</cp:revision>
  <dc:subject>Slavic hymnal Гимны веры христиан, hymn 522</dc:subject>
  <dc:title>Вдали Христа блуждают миллионы</dc:title>
</cp:coreProperties>
</file>