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9272-A2E5-405A-A4B3-3C8F8DFB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570B-5B75-45A8-9099-FB2BEC03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0F48-56CE-4EB0-B15E-966D6A62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1AE2-B298-44A9-A8BF-02581D13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0606-D5B7-43A3-AACE-1CB4BD2A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A696-AB06-41F9-82BC-A75FC9C6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1711-2BD2-4D37-BB32-CC90D865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091E-D2A6-45C9-9A38-DF9C1B1D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F073-8728-4DA7-9C53-C880BB6E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41D8-EE0A-4585-B673-84438FA0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0602-2685-42ED-A558-B4E895EA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A44C-4B35-423F-A8FF-848B8076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ADBE3-4E6C-4F90-86E6-27A3148405B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ght after darkness, gain after l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ength after weakness, crown after cro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after bitter, hope after f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 after wandering, praise after t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нь после но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после ночи, свет после ть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нь после зноя, блеск после мг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после смерти, песнь после слёз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что дарует верным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aves after sowing, sun after 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ght after mystery, peace after p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 after sorrow, calm after b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after weariness, sweet rest at l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за горем, луч за дож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ор после жатвы, пир за тру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за борьбою, явь после грёз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что дарует верным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after distant, gleam after glo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after loneliness, life after to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fter long agony, rapture of bli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ght was the pathway, leading to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скитанья — милость От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страданья — слава ве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ость покоя — после угроз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что дарует верным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02Z</dcterms:modified>
  <cp:revision>13</cp:revision>
  <dc:subject>Slavic hymnal Гимны веры христиан, hymn 488</dc:subject>
  <dc:title>Light After Darkness / День после ночи</dc:title>
</cp:coreProperties>
</file>