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1</a:t>
            </a:r>
            <a:r>
              <a:rPr b="1" lang="ru-RU" sz="3600" spc="-1" strike="noStrike">
                <a:solidFill>
                  <a:srgbClr val="ffffff"/>
                </a:solidFill>
                <a:latin typeface="Verdana"/>
              </a:rPr>
              <a:t>	</a:t>
            </a:r>
            <a:r>
              <a:rPr b="1" lang="ru-RU" sz="3600" spc="-1" strike="noStrike">
                <a:solidFill>
                  <a:srgbClr val="ffffff"/>
                </a:solidFill>
                <a:latin typeface="Verdana"/>
              </a:rPr>
              <a:t>Буря, Господь, завывает</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Master, the tempest is ra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illows are tossing hig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ky is o’ershadowed with black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shelter or help is nigh;</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уря, Господь, завы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трашен сердитый гу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ча нам свет застил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гибнем, а Ты заснул.</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y all shall sweetly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eace, be still! Peace, be st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y all shall sweetly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eace, peace, be still!</a:t>
            </a:r>
            <a:endParaRPr b="0" lang="en-US" sz="3200" spc="-1" strike="noStrike">
              <a:solidFill>
                <a:srgbClr val="000000"/>
              </a:solidFill>
              <a:latin typeface="Verdana"/>
            </a:endParaRPr>
          </a:p>
        </p:txBody>
      </p:sp>
      <p:sp>
        <p:nvSpPr>
          <p:cNvPr id="5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Master, the terror is o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elements sweetly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arth’s sun in the calm lake is mirror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eaven’s within my breast;</a:t>
            </a:r>
            <a:endParaRPr b="0" lang="en-US" sz="3200" spc="-1" strike="noStrike">
              <a:solidFill>
                <a:srgbClr val="000000"/>
              </a:solidFill>
              <a:latin typeface="Verdana"/>
            </a:endParaRPr>
          </a:p>
        </p:txBody>
      </p:sp>
      <p:sp>
        <p:nvSpPr>
          <p:cNvPr id="6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уря, Господь, мино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це настал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лнце опять засия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 стихнувшей вдруг водой.</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nger, O blessed Redeem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ve me alone no m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ith joy I shall make the bl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harb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rest on the blissful shore.</a:t>
            </a:r>
            <a:endParaRPr b="0" lang="en-US" sz="3200" spc="-1" strike="noStrike">
              <a:solidFill>
                <a:srgbClr val="000000"/>
              </a:solidFill>
              <a:latin typeface="Verdana"/>
            </a:endParaRPr>
          </a:p>
        </p:txBody>
      </p:sp>
      <p:sp>
        <p:nvSpPr>
          <p:cNvPr id="6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же со мною,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мир Ты во мне хра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ебесную Божью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ечный покой прими.</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winds and the wa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all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ace, be still!</a:t>
            </a:r>
            <a:endParaRPr b="0" lang="en-US" sz="3200" spc="-1" strike="noStrike">
              <a:solidFill>
                <a:srgbClr val="000000"/>
              </a:solidFill>
              <a:latin typeface="Verdana"/>
            </a:endParaRPr>
          </a:p>
        </p:txBody>
      </p:sp>
      <p:sp>
        <p:nvSpPr>
          <p:cNvPr id="6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ы, и вете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hether the wrath of the storm-tossed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Or demons or men, or whatever it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No waters can swallow the ship where li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 Master of ocean, and earth, and skies;</a:t>
            </a:r>
            <a:endParaRPr b="0" lang="en-US" sz="3200" spc="-1" strike="noStrike">
              <a:solidFill>
                <a:srgbClr val="000000"/>
              </a:solidFill>
              <a:latin typeface="Verdana"/>
            </a:endParaRPr>
          </a:p>
        </p:txBody>
      </p:sp>
      <p:sp>
        <p:nvSpPr>
          <p:cNvPr id="6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рное море смир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не всякая тварь подчин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ладыка земли и небес тут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е даст Он, Всесильный, погибнуть нам.</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y all shall sweetly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eace, be still! Peace, be st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y all shall sweetly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eace, peace, be still!</a:t>
            </a:r>
            <a:endParaRPr b="0" lang="en-US" sz="3200" spc="-1" strike="noStrike">
              <a:solidFill>
                <a:srgbClr val="000000"/>
              </a:solidFill>
              <a:latin typeface="Verdana"/>
            </a:endParaRPr>
          </a:p>
        </p:txBody>
      </p:sp>
      <p:sp>
        <p:nvSpPr>
          <p:cNvPr id="6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
        <p:nvSpPr>
          <p:cNvPr id="6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arest Thou not that we peris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canst Thou lie aslee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each moment so mad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is threate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grave in the angry deep?</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и Тебя не трево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смерть окружае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зный вал наступает и мо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адью поглотить тотч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winds and the wa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all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ace, be still!</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ы, и вете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hether the wrath of the storm-tossed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Or demons or men, or whatever it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No waters can swallow the ship where li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 Master of ocean, and earth, and skies;</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рное море смир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не всякая тварь подчин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ладыка земли и небес тут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е даст Он, Всесильный, погибнуть на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y all shall sweetly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eace, be still! Peace, be st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y all shall sweetly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eace, peace, be still!</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Master, with anguish of spi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bow in my grief to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depths of my sad heart are troub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waken and save, I pray!</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же! в глубокой печ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лоняю глав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мою взволнов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и; о, спаси, молю.</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rrents of sin and of anguis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p o’er my sinking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perish! I perish! dear Mast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asten, and take control.</a:t>
            </a:r>
            <a:endParaRPr b="0" lang="en-US" sz="32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моё залив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оки земных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я гибну, к Тебя я вз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дай душе мое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winds and the wa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all obey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ace, be still!</a:t>
            </a:r>
            <a:endParaRPr b="0" lang="en-US" sz="32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ы, и вете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hether the wrath of the storm-tossed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Or demons or men, or whatever it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No waters can swallow the ship where li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 Master of ocean, and earth, and skies;</a:t>
            </a:r>
            <a:endParaRPr b="0" lang="en-US" sz="3200" spc="-1" strike="noStrike">
              <a:solidFill>
                <a:srgbClr val="000000"/>
              </a:solidFill>
              <a:latin typeface="Verdana"/>
            </a:endParaRPr>
          </a:p>
        </p:txBody>
      </p:sp>
      <p:sp>
        <p:nvSpPr>
          <p:cNvPr id="5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рное море смир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не всякая тварь подчин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ладыка земли и небес тут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е даст Он, Всесильный, погибнуть нам.</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0:48:13Z</dcterms:modified>
  <cp:revision>3</cp:revision>
  <dc:subject>Slavic hymnal Гимны веры христиан, hymn 211</dc:subject>
  <dc:title>Master, the Tempest Is Raging / Буря, Господь, завывает</dc:title>
</cp:coreProperties>
</file>