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F30-672A-4C87-A28A-591752AE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67C-1AAE-49E4-8125-7CC2C38A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8D5-4FE8-40A5-8197-365A0331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B3A-1119-4900-9503-547991A2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604-73DC-4373-A2DC-2FFF6D30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483-7E0A-4E27-8893-3B01EFC0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D49-A510-4268-AD42-3592F16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F7B-7F84-4E55-8569-E751E1C6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425-3CCE-4592-A8C6-2FA32D2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430-E6BD-4283-BD7B-6AC94DC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325-2617-458B-9E2B-13D76A3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CAF-EE0A-498E-8167-2BC0263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7B764-3A45-4D36-9466-A3DEDA29E6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question comes to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what shall your answer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are choosing Chris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ing from all their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shall their happy portion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ing the straight and narrow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he downward roa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 will their final end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ent, believe, this very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the Saviour’s grace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ill your joyous answ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7Z</dcterms:modified>
  <cp:revision>13</cp:revision>
  <dc:subject>Slavic hymnal Гимны веры христиан, hymn 336</dc:subject>
  <dc:title>Where Will You Spend Eternity? / Где будешь вечность проводить?</dc:title>
</cp:coreProperties>
</file>