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59</a:t>
            </a:r>
            <a:r>
              <a:rPr b="1" lang="ru-RU" sz="3600" spc="-1" strike="noStrike">
                <a:solidFill>
                  <a:srgbClr val="ffffff"/>
                </a:solidFill>
                <a:latin typeface="Verdana"/>
              </a:rPr>
              <a:t>	</a:t>
            </a:r>
            <a:r>
              <a:rPr b="1" lang="ru-RU" sz="3600" spc="-1" strike="noStrike">
                <a:solidFill>
                  <a:srgbClr val="ffffff"/>
                </a:solidFill>
                <a:latin typeface="Verdana"/>
              </a:rPr>
              <a:t>Христос взалкал</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Христос взалкал, и видит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оковницу и к 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дёт, но под листвой ветв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смокв, и Кроткий огорч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ветист её покр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нет плодов, но нет плодов!</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Напрасно нежно согрев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ё небесный луч,</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прасно дождь и светлый ключ</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ё обильно орош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 стражею холм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нет плодов, но нет плодов!</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Мой друг! Тебя Отец пит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ю много д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за тебя Христос стра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 горькой тяжестью скорб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силен, ты здор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нет плодов, но нет плодов!</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Да, нет плодов! Где веры слу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мир души т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кротость, где молитвы ду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добрый труд твой для люд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милость для враг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нет плодов, да, нет плодов!</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Да, нет плодов! Но пробуди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ними греха кор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кайся и Христу моли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научил служить добр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замен Его дар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дал плодов, чтоб дал плодов!</a:t>
            </a:r>
            <a:endParaRPr b="0" lang="en-US" sz="3200" spc="-1" strike="noStrike">
              <a:solidFill>
                <a:srgbClr val="000000"/>
              </a:solidFill>
              <a:latin typeface="Verdana"/>
            </a:endParaRPr>
          </a:p>
        </p:txBody>
      </p:sp>
      <p:sp>
        <p:nvSpPr>
          <p:cNvPr id="44"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8-19T08:55:29Z</dcterms:modified>
  <cp:revision>3</cp:revision>
  <dc:subject>Slavic hymnal Гимны веры христиан, hymn 259</dc:subject>
  <dc:title>Христос взалкал</dc:title>
</cp:coreProperties>
</file>