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61F-52E7-42F2-9481-2109E08B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0EF-5856-43EF-97DA-B367BD76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222-B224-41CE-B750-4C68EF50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DFB-66D8-4131-B29D-21122F18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BEE-CF10-4418-9BB3-E1FE1FA7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BEE-3824-4A45-BE52-3421FAA1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6F9-53AF-41B4-967F-2A44F2B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125-9257-4DF0-9A1B-1FCAF280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047-6D5C-49A6-960D-5A3FDA28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8D9-2F1D-4C45-B6F6-9653951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393-89B3-450B-8E2B-F472817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607-4176-418F-8607-8A38BE2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1FCBD-8724-4FA9-AEB9-172C83A0A8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1:29Z</dcterms:modified>
  <cp:revision>12</cp:revision>
  <dc:subject>Slavic hymnal Гимны веры христиан, hymn 818</dc:subject>
  <dc:title>Хвала Даятелю всех благ</dc:title>
</cp:coreProperties>
</file>