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B23C-E421-4753-BD36-7A0C82E9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B81F-6EF2-4F8D-A445-9D93C10A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84FD-08DB-478A-ADAB-23B41405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C6AA-57C5-4247-BA0D-DD75D93C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257A-0D7F-48F4-80B6-1B75E701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3D39-1DBC-46EA-96B9-0D16C458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B014-D20E-43B9-84E3-DE24B796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D32A-3ECA-46B1-A9EB-F9782CB4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DFB-D7EC-4202-BD3D-291E9990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1B57-5B74-4134-90AA-3A68658A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1A13-32D1-4E07-95D7-A8E44D77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BD70-159E-4ED1-82AA-841C6C87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C3223-8656-472C-B512-4F17CE872BA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в сердце ст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корби сжимают гру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ряд забот с каждым днём раст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к тёмен жизненный п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о мной ли О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омрач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мой тучей скорбей и бе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сный день скрыла ночи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ли Он мне помощь и с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я сраж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кто не спешит пом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жат к стене, нет защиты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ыдаю горько всю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путь пройд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«прощайте» скажу друзья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кончит труд, в вечность отзов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ли Он со мной 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0:13Z</dcterms:modified>
  <cp:revision>12</cp:revision>
  <dc:subject>Slavic hymnal Гимны веры христиан, hymn 862</dc:subject>
  <dc:title>Со мной ли Он?</dc:title>
</cp:coreProperties>
</file>