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BBF5-6B01-43F6-B8B0-7215AAEC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D6F6-8BB9-45ED-8D09-B1D910C6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A5D5-DE95-4542-8F3F-05892CD4E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1B5F-DF86-4318-B357-8F37458C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CBEE-089E-4284-BE1D-CDD1DD8A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9A2C-30B0-4C3B-9F54-2998DC4A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1B40-318B-41D7-9506-B4CD6F15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5AD1-DBB8-4BFA-BCEA-32759D49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C4F8-5834-4120-AD6F-95C2D080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96A5-8D31-40CF-B297-B591BD6F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27EC-E005-4569-8283-92E8748B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0E89-70DB-498B-B668-2BDEBAF0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327FC-AD29-4720-82A6-B55C0114B78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ll I want is to know You,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ll I want is to know I belong to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Show me all of the things that are worthle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at I thought were so valuable to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Nothing is as lovely, nothing is as worth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Nothing is as wonderful as knowing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Nothing is as lovely, nothing is as worth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Nothing is as wonderful as knowing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1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All I Want Is to Know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ll I want is to know You, Jes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the power that raised You from the d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Help me forget all the things that I’ve d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Set my heart on what lies ah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Nothing is as lovely, nothing is as worth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Nothing is as wonderful as knowing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Nothing is as lovely, nothing is as worth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Nothing is as wonderful as knowing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2:38Z</dcterms:modified>
  <cp:revision>11</cp:revision>
  <dc:subject>The Source 2, song number 619</dc:subject>
  <dc:title>All I Want Is to Know You, Jesus (Nothing Is As Wonderful)</dc:title>
</cp:coreProperties>
</file>