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4EF-EB64-4653-B706-44D4BCC7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4E8-ED2A-4BAB-9F35-CAA92860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70C-5A56-414C-B2BF-483DB2F0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749-2268-4D45-B24C-AAD159B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AAE-28F6-4DD3-949C-53F468D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448-CB8A-49A7-A178-9B36D0D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126-9E35-4103-AC7C-4473DE0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A58-7729-4B65-8C1D-88FD6CE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98B-CFE0-4E36-A5E9-C598EB9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1A0-074E-4BD3-A31E-30957D0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325-9750-43AE-A746-7C37409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FE6-F29C-427A-A4E0-0BDCB39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A2855-D453-4624-975F-3DE8B3028B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ой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начни ты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это сил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аботы с нуж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ят усталу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пребудет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ровняет тв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чты и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е исполнят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й уп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у Христов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лезн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 потряс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е дн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из глаз потек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то нужно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поверь же,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твой дух укреп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нет легч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27Z</dcterms:modified>
  <cp:revision>14</cp:revision>
  <dc:subject>Slavic hymnal Гимны веры христиан, hymn 700</dc:subject>
  <dc:title>Если твой дух утомится</dc:title>
</cp:coreProperties>
</file>