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271-AB49-41FC-A61A-030F1356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A3B-8EEB-4943-9530-5982822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D82-19C4-4581-A26A-F2B7D5C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B52-23B5-4056-AC3D-2EC8E5B7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E8B-4E04-4C70-B9DC-FF74121D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DAC-5379-4CEE-BEA1-3C91984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41B-2B45-40E1-A9EA-FEA513F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92F-DAAE-4450-B315-CBA7AE70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A93-1279-419A-A992-BBFD5C20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0B1-6DD9-44D4-B9F8-0E6C811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0AC-4220-4988-8916-1067847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E25-A0B7-449E-A3A8-0607BCF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AC15E-C02C-4F65-A6E8-18755DBB92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заблудшему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щему домой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зовёт, любя вд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, заблудшему в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лас довольно мне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ужит мне советн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он гласит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 святыми может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сть на престоле в выш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я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ься от всех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решное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ю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46Z</dcterms:modified>
  <cp:revision>12</cp:revision>
  <dc:subject>Slavic hymnal Гимны веры христиан, hymn 359</dc:subject>
  <dc:title>К тебе, заблудшему в пути</dc:title>
</cp:coreProperties>
</file>