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45-3020-40F3-800E-6528D654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EE6-29B3-46D6-AE19-B2E061C9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2E3-D84E-49D7-B6B5-0EF2BDE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C0E-D01C-48E2-93A0-EB90AB7E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EBE-BB3F-4FE6-8516-96919A7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A42-8830-4723-98A6-1AF2AA5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AC6-3286-476A-9620-817F5753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19A-4E8F-4EF1-ADD5-D58CA066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0F5-2176-497C-848C-85B0922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07B-44CB-439B-8DBD-D2D78EF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6CB-74F9-48E8-B728-FED4582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A13-8CFB-49FF-975B-293C186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F6EA-E8D3-4165-A4CA-9C25FE0955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о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лик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к нему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ет пре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н вспоми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в знак забв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об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п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Отц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па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ом най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сред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теперь 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нег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его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скорб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ят ему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ет их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Бога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у Он мир д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битве не о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окру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ию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раб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Господь врач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его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и, хотите 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торже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и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в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15Z</dcterms:modified>
  <cp:revision>13</cp:revision>
  <dc:subject>Slavic hymnal Гимны веры христиан, hymn 579</dc:subject>
  <dc:title>Кто это торжествует и радостно поёт?</dc:title>
</cp:coreProperties>
</file>