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F55-D214-49F6-87F0-36B779C8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5AA-E73A-41EC-94C4-96E479B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E74-4757-4C8D-979F-4AF37235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C09-43B7-4B97-99D0-DCA923A4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9F1-FC7D-4AA4-A92D-E5730531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BAD-464E-46B6-BCA8-2EC9FC4A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724-C198-4979-93F6-6CABF8D9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71E-8DED-49F9-8F54-64DD718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5A1-FB39-4B1C-AFA9-07560963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F16-3F57-4E37-83C2-874872F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414-EC13-44CC-9F2D-B7523031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1E7-4F8E-4333-8684-3DCFE77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E1D8D-2A54-49A4-96D0-FE36CA33BA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 ye first the kingdom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se things shall b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47   Seek Ye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not live by bread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ev’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roceeds from the mo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k and it shall be given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 and you shall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ck and it shall be opened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on sha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be free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know the truth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th wi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ight so shine before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y may see your good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Father in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 in the Lord with all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hall direct your pat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r ways acknowledg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0:35Z</dcterms:modified>
  <cp:revision>10</cp:revision>
  <dc:subject>The Source, song number 447</dc:subject>
  <dc:title>Seek Ye First</dc:title>
</cp:coreProperties>
</file>