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4F1-C8BC-4FFA-ADDE-1C47DA6B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7F6-7E7B-4CB3-B117-A12CCB9C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884-656E-4F06-808D-0395DF43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CCA-9406-4A5F-A77F-153E16A3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675-34FC-49AD-A033-C9393545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47A-35B9-4848-9D30-2E88A5C4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6BC-C342-495A-9A5E-930613CF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CD2-FF75-4605-83BA-5448F1F7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B49-693D-4534-8316-A1C7DD90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E6F-3E13-4D20-9FCE-4B4CFE8E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082-6FBA-462A-A1AC-621F055D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9EB-038C-471E-973B-4C66226D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D97EB-8D18-4FEC-B832-01F8E9A298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 beams our Father’s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lighthouse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0  Ясно Свій маяк Отець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сно Свій маяк Отець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им світлом засвіт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же нам вогонь небес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берігати доруч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the night of sin has sett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ud the angry billows ro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ті хвилі, гріх буш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душу затоп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орожній сам бід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треба посві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m your feeble lamp,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tempest to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arkness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оправ, мій брате, н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сердечний каганец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! на хвилях вітри буй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’ють друзів з кінця в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1:54Z</dcterms:modified>
  <cp:revision>12</cp:revision>
  <dc:subject>Slavic hymnal Гимны веры христиан, Ukrainian hymn 70</dc:subject>
  <dc:title>Let the Lower Lights Be Burning / Ясно Свій маяк Отець наш</dc:title>
</cp:coreProperties>
</file>