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0B9-0CC0-46AB-8700-B70D8406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637-01B7-4C7C-926D-51B386D7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DDF-CC23-48B8-BD2E-8E9F1D55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76E-E091-444A-AE16-95E8E36B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9D6-C4AF-41B4-9D5E-8ED3ECF6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987-A0CD-45DC-977A-BEDA7981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D6A-FA42-423C-972B-6985DE91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61F-4B06-496D-8300-B3875937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A6B-1C42-407C-8ECA-ED920898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BFF-A4DD-47BF-A904-E16B8C0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612-BEE4-4558-9DF7-0B365BE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07C-E199-42AD-9D93-286209F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84EDB-D41D-4FC5-A312-34FC68AF12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вестна мне церковь ж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ердцу отрадно так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у любовь воспе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жажду Его я хва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вестна мне 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вестна ль вам церковь ж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оторой так сердц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к небу молитв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чим потоком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транник! ты знаешь, что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церкви той веет 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там не чувствует сир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тым себя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церковь есть неба предвер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милости Божьей прест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сцелён от нев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церковь Христову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32Z</dcterms:modified>
  <cp:revision>12</cp:revision>
  <dc:subject>Slavic hymnal Гимны веры христиан, hymn 519</dc:subject>
  <dc:title>Известна мне церковь живая</dc:title>
</cp:coreProperties>
</file>