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a:t>
            </a:r>
            <a:r>
              <a:rPr b="1" lang="ru-RU" sz="3600" spc="-1" strike="noStrike">
                <a:solidFill>
                  <a:srgbClr val="ffffff"/>
                </a:solidFill>
                <a:latin typeface="Verdana"/>
              </a:rPr>
              <a:t>	</a:t>
            </a:r>
            <a:r>
              <a:rPr b="1" lang="ru-RU" sz="3600" spc="-1" strike="noStrike">
                <a:solidFill>
                  <a:srgbClr val="ffffff"/>
                </a:solidFill>
                <a:latin typeface="Verdana"/>
              </a:rPr>
              <a:t>Бесподобная, жива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есподобная, жив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ья вечная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зойди и пребывай в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главнейший из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ристос, любви источ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и нас,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ир и непорочн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каждое войд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ух любви излей об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и робкие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яй Твоею си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вай любовь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нам Альфой и Оме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кий грех искор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делай нас беле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ёрдой вере сохра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приди, наш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чной жизни полно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твори Свою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любв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ем всюду быть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и там вовек 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ть, молиться, славосло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щать Твою любов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Заверши Своё творе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рочность, чист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нам в знак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ди на выс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равляй от славы к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веди в небесны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любовь Твою прослав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дкозвучнейшим псалмо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6:56Z</dcterms:modified>
  <cp:revision>3</cp:revision>
  <dc:subject>Slavic hymnal Гимны веры христиан, hymn 25</dc:subject>
  <dc:title>Бесподобная, живая</dc:title>
</cp:coreProperties>
</file>