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25-1B25-4EF5-B3C4-4DF46772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452-4026-4434-B621-222FC93C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1F3-A2B9-4F67-920D-2E2E9FA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572-BD4A-4489-8FA6-C78FAC05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CCB-8A00-405A-B14C-8A95A80C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983-C34A-4943-A4FE-8313B8D3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315-3628-4782-8788-A2E3248B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7DA-BD12-40C9-BFB1-6C4EBDD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BE3-8894-42E1-9243-CF286EB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885-D4A3-4CA7-AC64-7538E02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792-BEA4-4C55-ADA6-F1AD29CA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048-AF55-4425-914B-D40609B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73B9D-1CA5-479E-84EA-7B547A0A19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о,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смот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те, как Вис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ую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за нас скор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ти, о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уми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ом страшных м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те и склон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нзённых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ёс Он гнёт гре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з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ас винов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яжек гр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бег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дь смерть приш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го не тво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аите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ердец го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орень з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, 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 мол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Ему нес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Его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 — Твои!» — скаж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ч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обой до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ы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Тебе ом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8:57Z</dcterms:modified>
  <cp:revision>13</cp:revision>
  <dc:subject>Slavic hymnal Гимны веры христиан, hymn 762</dc:subject>
  <dc:title>Дети, о придите</dc:title>
</cp:coreProperties>
</file>