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96F7-5AA4-499C-AE20-CF53D72AE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777C-EDFC-42D7-B803-948A42EA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F107-1FD6-4190-9E37-1AC567F4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262F-DCA0-4506-A5CB-72E23993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54CE-BE5C-4FE2-B19E-F91A7DF6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0CD0-6365-4797-98BE-287A4BBE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808F-74CA-43B7-9AD1-53EED052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47DE-85AD-4FD3-964F-9CDA8E9D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D959-7C0E-455F-84CB-EC06F2F7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CB2E-A00F-4863-9BC5-423D5F01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268A-A537-48AB-BF8E-DC11E122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0F51-6387-42C1-98D7-C76C20BB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0C993-7829-41AA-8166-8EB125332CC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Господь, Твой д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тог любви Т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церковь из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х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предвечны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церковь — Твой алма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как зрачок лучистых гла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шь её пор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, Господь, Твой 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церкви доро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ньи душ жив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ываю сердцем и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в мольбах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ад иметь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щенье духа с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ти все тяжести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ест её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и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Церковь Сам в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илы всё здесь поборо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Твой покой во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разде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й славу я Тв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й буду петь перед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ою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1:21Z</dcterms:modified>
  <cp:revision>13</cp:revision>
  <dc:subject>Slavic hymnal Гимны веры христиан, hymn 561</dc:subject>
  <dc:title>Люблю, Господь, Твой дом</dc:title>
</cp:coreProperties>
</file>