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818-484E-4542-BA17-03C41471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01A-C9B8-4DAE-82F6-3886B77A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D1D-0A74-4A8B-AF9E-53F5CD2E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EDB-D40B-49C8-9579-823D8656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060-D0A9-48B9-B37C-969046CB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C94-92A2-42C7-9412-39223B53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40A-326D-48D3-AB86-D13D85C0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9C4-15FC-4614-8C0C-40E39090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895-62BD-4507-BC26-F8343AD7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316-91AD-455C-9988-7E325D38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DC1-B608-475B-99B7-43FD64A0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8AA-AE69-4442-8FD9-691C597F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B6A53-407D-4C30-A808-A7D4FF2B03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итель стражд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одно,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байдуже стоїш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же кров проли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7   Чи тобі все од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на Голгоф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уми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провин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ебе Він уз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кого ж Він вмир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и думав про 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ріхи Він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лага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упитель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в Царство теб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евжеж в своє сер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риймеш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ближається вічніс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умай про 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уді, знай, ніх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ступить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ануть всі перед бі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столом Христ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ж тоді ти сховає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чисті ді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18Z</dcterms:modified>
  <cp:revision>12</cp:revision>
  <dc:subject>Slavic hymnal Гимны веры христиан, Ukrainian hymn 77</dc:subject>
  <dc:title>Чи тобі все одно?</dc:title>
</cp:coreProperties>
</file>