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638-69E0-4318-80A0-AF1A46AC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453-F29A-4FC8-9352-D348344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524-8F31-4F7C-B14D-9EF1CA6A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82E-25DA-428A-A16A-A504406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AF2-7192-4B51-8FE2-F2996D60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92B-05F8-4503-9C8B-5C1F7E0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1C2-9CD6-4DED-83D7-B62DDA3E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20C-CCB1-4EA5-8E87-9D3E8E2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C1F-92E4-4441-AFD4-85431D9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C60-CF8A-4899-BA69-BACE853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DB3-96C7-488E-AE68-AB4A4D2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C3B-FB80-487C-A176-BFC06C3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679C-8081-4701-9CA7-F58F0B596D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03Z</dcterms:modified>
  <cp:revision>12</cp:revision>
  <dc:subject>Slavic hymnal Гимны веры христиан, hymn 593</dc:subject>
  <dc:title>Твёрдо я верю</dc:title>
</cp:coreProperties>
</file>