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12A-920D-4700-82F8-C6ED8598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D81-14C9-41D9-A022-4C6ED24C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08F-CDF7-46FF-8E8E-762A0249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99A-BC13-455B-AB6A-F8CE87AA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956-0DC0-4647-880D-75A9D643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6CA-95AB-47E8-988F-9E331387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1AC-1AFA-4E2C-9871-D8B1B27D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A18-A48E-4DB5-87AA-143040EE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547-73AE-4E4D-AF0E-D3BB01EB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2B2-2AF8-42FC-9608-19D8F00E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606-FFA3-4610-904B-51B1EDBC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BC5-6FBB-4B1E-AAD6-B10C6C88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1A92D-31F3-4A2D-A462-39ACD693D5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ыстро наши дни теку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ень они прохо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с собой туда влек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уда не прихо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скитанья год пр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земной, несчаст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нник ближе под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тране родной, прекра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быстро наши дни те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лго ль будем мы блу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этой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лго ль нам ещё здесь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рат святых отчиз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Бога книга наших д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ил Он скит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 наши пишет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ши испыт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рнистый кончим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ём в чертог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елит нам отдох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Своей чуде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нам, Боже,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й в начале г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удро дни нам исчис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мирского 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й нам в скорби ун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всегда смир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с молитвой прибег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склоня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31Z</dcterms:modified>
  <cp:revision>12</cp:revision>
  <dc:subject>Slavic hymnal Гимны веры христиан, hymn 734</dc:subject>
  <dc:title>Как быстро наши дни текут</dc:title>
</cp:coreProperties>
</file>