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B36-FEB4-430B-9E87-40E25B5D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F8C-386D-4418-AFA5-347309D7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834-4C91-4F5E-9EE3-0A3884A4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F7F-2C0F-4A39-BDEC-14369711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31D-28BF-4616-BF17-33B30CEE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2A6-52DC-4020-B7FF-0FB08A11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13D-6B7E-442B-B583-E30B6DC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7B2-7695-40B9-889F-9CC0DEB7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CB4-848B-48BC-9BD0-F456C3E3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0B6-A87A-49C1-B7DB-4FBAB8C6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9B6-9FA8-480F-A1EF-1AF9F83B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948-625C-4105-B321-DE64369E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3002D-3502-466B-9B32-88EAC51CD0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shore, heaven’s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 long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my loved ones who ar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side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мира, счастья,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orld is not a hom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yearn for heaven’s sh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ng to be with all the s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ир не род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душа чуж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дом мой и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ся дух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ward, heave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lift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od has promised rest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enter Parad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к неб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ял свой вз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много близких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 в мире до сих 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s are long, the battle fi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do m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I find no rest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healing for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ок здесь бой, дни тяж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но мне в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 среди греховной м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льческой суд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be soon, very so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ake my f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last to enter into rest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ёк, не да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й борьбе кон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песен я по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борц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uman eye has never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human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uman mind could not con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го глаз смертны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ыслях не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я слухом не слых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3Z</dcterms:modified>
  <cp:revision>13</cp:revision>
  <dc:subject>Slavic hymnal Гимны веры христиан, hymn 688</dc:subject>
  <dc:title>Heaven’s Shore / В край родной</dc:title>
</cp:coreProperties>
</file>