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927-A9F7-41E1-BE0B-6D87F638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68A-7B81-49AD-BA3B-F74793E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D18-F484-4E24-A3A9-F36FB846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39B-E138-4E59-8B02-763705B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DEF-7F12-465B-8932-7044AADF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877-DDFC-4F25-BB7D-C7E9B346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8CD-EEEB-4E99-8E44-96CE4CC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F76-66FC-4A7B-8EE0-8570953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8DA-0579-4319-AC2B-FDBCF9C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D2A-E151-48D2-8BD4-C0C21D8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508-BD24-4384-AFBD-35711B1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783-7E54-42EF-BF0A-272D411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029C7-27FD-4324-9D2A-9EE7032A85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скажите Христовым друзь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 из гроба и нет Ег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 Учитель придёт к ним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довать их и в любви наст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, скаж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несите ту весть и Пе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рижды отрёкся пред Ним поу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онет теперь от печали и слё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из мёртвых воспрянул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малодушно Ему изме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осужденья тебя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ех твой простил и навеки за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тебе к жизни блаженны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серафимов, любимцев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беспечальных без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, чтоб греш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х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ли славу Его алт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20Z</dcterms:modified>
  <cp:revision>12</cp:revision>
  <dc:subject>Slavic hymnal Гимны веры христиан, hymn 290</dc:subject>
  <dc:title>Идите, скажите Христовым друзьям</dc:title>
</cp:coreProperties>
</file>