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CB4A-ECD0-4B69-81BE-5B07C4023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6673-A9E0-46E7-9948-99B9ED95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77A1-68F4-428C-B82C-9B4A939D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9929-7D0D-4F0C-A79A-D2B0BE14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6280-E42C-41D2-8644-C9494E5C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E76B-AC3F-4DA2-9267-66F8C3CD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12E4-EBE8-4384-BDF7-D4CC5C58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6E31-BF77-42C8-817F-C335A4C8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EED1-AC90-4127-BF74-664EF3BE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E635-EA7B-4998-BC8A-4A08BF51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DBB8-B376-4EB3-9C37-739079B5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D78C-85B6-4BF6-8A17-E714A21C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7BCED-55C2-4C82-A4F2-E5BB1101391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Whosoever heareth,” shout, shout the sou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pread the blessèd tidings all the world arou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pread the joyful news wherever man is fou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osoever will, may com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усть берёт, кто хоч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сть берёт, кто хочет без сереб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ожий дар спасенья, вечного добра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лушайте, идите и спешите взя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о, что Бог всем хочет д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osoever will, whosoever will,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Send the proclamation over vale and hill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is a loving Father, calls the wanderer hom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osoever will, may come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сть берёт бедняк! Пусть он даром пьё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от уста Иисуса уж давно зов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Воды жизни вечной без конца тек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ром пей, кто жаждет пить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osoever cometh need not delay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Now the door is open, enter while you may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Jesus is the true, the only Living Way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osoever will, may come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ходи, бери, бедный друг, скоре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ыне день спасенья для души твое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автра будет поздно, уж не будет зва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ольше Божья благод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osoever will, whosoever will,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Send the proclamation over vale and hill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is a loving Father, calls the wanderer hom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osoever will, may come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сть берёт бедняк! Пусть он даром пьё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от уста Иисуса уж давно зов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Воды жизни вечной без конца тек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ром пей, кто жаждет пить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“Whosoever will,” the promise secur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osoever will,” forever must endur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osoever will,” ’tis life forevermo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osoever will, may come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сть берёт, кто хочет! Путь Божий пря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стинно, правдиво слово Бога к нам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сё, что обещает, Он в любви даё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ищий духом да придё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osoever will, whosoever will,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Send the proclamation over vale and hill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is a loving Father, calls the wanderer hom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osoever will, may come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сть берёт бедняк! Пусть он даром пьё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от уста Иисуса уж давно зов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Воды жизни вечной без конца тек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ром пей, кто жаждет пить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55:18Z</dcterms:modified>
  <cp:revision>15</cp:revision>
  <dc:subject>Slavic hymnal Гимны веры христиан, hymn 382</dc:subject>
  <dc:title>Whosoever Will / Пусть берёт, кто хочет</dc:title>
</cp:coreProperties>
</file>