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E89-7FAB-4D85-9B9D-05AA6624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A77-7692-41F9-BE2A-9F10A8B6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B1B-6E1A-4386-862D-D7EEE3AC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9A7-C933-48EF-AEF9-55749EB6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42A-E353-49D7-84FC-3ECFC99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B23-511A-4557-B157-CAF13FF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22E-6FCB-4DC3-9072-E6120C26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73F-E28D-4952-964F-B14D64A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B2E-F205-4ABB-ADD9-62A420C0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9DA-13E4-47C0-8369-7BEA8DA8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8E3-C82C-498F-8E52-9681C8F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D74-70AB-435D-9E7B-A1D945C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AE191-024C-464D-8F6F-CBE510C381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d with everlast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by grace that love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breathing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taught me it is 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s full and perfect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presence all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love which canno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bove is softer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round is sweeter gr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lives in every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less eyes have never s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rds with gladder songs o’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’rs with deeper beauties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I know, as I now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gs that once were wild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not now disturb m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d in everlasting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lowed on the loving bre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 lie forev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 and care and self res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whispers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orever, only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Lord and me shall p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h, with what a rest of bl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an fill the loving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fade and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-born light in gloom dec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ile God and I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09Z</dcterms:modified>
  <cp:revision>12</cp:revision>
  <dc:subject>Slavic hymnal Гимны веры христиан, hymn 856</dc:subject>
  <dc:title>I Am His and He Is Mine (Loved With Everlasting Love) / Божью вечную любовь</dc:title>
</cp:coreProperties>
</file>