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4D41-1EBB-4494-B566-50618AB7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7A65-BCD8-47C3-B705-11ACE543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59FA-391C-4AC8-BEB9-DB9331914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0C75-B5AD-4B76-975E-B73F7A31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D5FB-A4B4-4250-8E9D-D648C81C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E071-59EE-452F-9C8B-4F82D692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D637-1868-48DC-AE71-35218BF2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FE6D-ED1C-4EDB-8EDF-42F7D234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586B-298D-4A55-AD4A-DBAC36EE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50D7-1DCA-427F-B41E-3998E490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0AF3-C283-440D-8409-2F340CB3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23C0-C803-41F7-9E66-34B4DADD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BD46A-BD07-476E-B226-983FB499B13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pread the tidings ’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man is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uman he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uman woes abou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3   О, скрізь розголосі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різь розголос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ь людям всім скаж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тільки є ду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є щ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rough the vacant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ong of triumph r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хай труба звуч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голос чути скріз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ly Ghost from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ather’s promise gi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ь з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обіцяв От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pread the tidings ’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man is foun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різь розголос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ь людям всім скаж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boundless love div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hall this tongue of 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ond’ring mortals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atchless grace divin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елика це люб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лив за нас Спас 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нас спасти з грі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ати нам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, a child of h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uld in His image sh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лава Богу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Він спас і ме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ly Ghost from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ather’s promise gi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ь з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обіцяв От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pread the tidings ’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man is foun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різь розголос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ь людям всім скаж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ev’ry Christian to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claim the joyful s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кожний, хто спас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ю новину не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ly Ghost from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ather’s promise gi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ь з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обіцяв От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pread the tidings ’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man is foun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різь розголос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ь людям всім скаж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ng, long night is p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orning breaks at l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ushed the dreadful w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ury of the bl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ч темна вже ми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ння Зоря зій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ьму розганяє вже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нь вічний наста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’er the golden h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ay advances fa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ство гріхи лиша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ходить до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Дух Святий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ly Ghost from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ather’s promise gi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ь з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обіцяв От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pread the tidings ’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man is foun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різь розголос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ь людям всім скаж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, the great King of k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ealing in His w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ev’ry captive so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full deliverance br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скоро Цар цар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е з небес дол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и забрати нас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х тих, котрих Він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8:22Z</dcterms:modified>
  <cp:revision>12</cp:revision>
  <dc:subject>Slavic hymnal Гимны веры христиан, Ukrainian hymn 93</dc:subject>
  <dc:title>The Comforter Has Come (O Spread the Tidings ’Round) / О, скрізь розголосіть</dc:title>
</cp:coreProperties>
</file>