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8A19-0F01-45D1-962D-02F92B048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C114-A15A-4337-8B01-6C0ACA1D2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05EA-CB5A-4309-A90E-41BF27A53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1470-CDFC-43A1-ADE3-2D53DC661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2617-C6A9-460A-8CA1-5459B03A3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5201-FB44-4DBF-BBCD-64CC5D18F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6AC8-5E19-4792-AFFB-500B31AD0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16DA-070A-407E-9351-1ED9C712F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E19C-B5FC-442A-997F-86CB4B505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5575-CC23-4005-9FAC-9F9126FDC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00E4-3633-4FA4-80AB-D965AAB8E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9DBA-34EB-43FB-943F-54DD7CEF1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2909F3-97C9-4A7C-9485-1A9F7A15A78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 Christ, I think up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sacrifi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became noth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oured out to de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ny times I’ve wondered 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gift of lif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’m in that place once ag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in that place once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74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Jesus Christ, I Think Up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once again I look up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cross where You d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humbled by Your mer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’m broken ins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ce again I thank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ce again I pour out my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w You are exalt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highest pl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King of the heave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one day I’ll b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for now I marvel 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saving g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’m full of praise once ag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full of praise once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once again I look up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cross where You d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humbled by Your mer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’m broken ins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ce again I thank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ce again I pour out my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k You for the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k You for the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k You for the cross, my Fri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k You for the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k You for the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k You for the cross, my Fri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once again I look up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cross where You d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humbled by Your mer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’m broken ins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ce again I thank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ce again I pour out my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4T06:01:47Z</dcterms:modified>
  <cp:revision>10</cp:revision>
  <dc:subject>The Source, song number 274</dc:subject>
  <dc:title>Jesus Christ, I Think Upon (Once Again)</dc:title>
</cp:coreProperties>
</file>