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BF6-6C27-496A-B1F2-588C5333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6B4-91A3-4C91-ADB2-004332E6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7B1-B555-40EC-83CB-5E991AD9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CB6-2701-44E5-A902-5D1FA8B8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EE4-8616-44B5-B51E-C256538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43F-A9EF-4465-9BA1-A930B8B3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32F-7543-44B8-BE36-98083EE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2E3-650F-40A5-9ECF-108937AA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2E6-A022-4403-8EBF-46AB4073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CC8-8E28-4891-84F6-B245DDE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6D1-65C3-40E6-A72B-35ECA83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FD2-1C22-4003-BB96-0D2742DB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084B7-022A-49E5-8366-877E968674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! Стучит! Отво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ам? Кто там? По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ей стоит прох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ён, и велич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Царь, это Сын Бож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, тихо постуч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учит! Стучит! Отво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! Стучит!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! Пойди! Всё Он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круг замка об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ющ неправды, словно с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глу сердечном впил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но двери отп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Стучит! Христо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! Скорей! Иль у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онзённою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всё ст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любовь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взор Его сл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06Z</dcterms:modified>
  <cp:revision>12</cp:revision>
  <dc:subject>Slavic hymnal Гимны веры христиан, hymn 388</dc:subject>
  <dc:title>Стучит! Стучит! Отвори!</dc:title>
</cp:coreProperties>
</file>