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F88-A633-42ED-89F1-1F2F226A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460-2563-431D-A490-B0E576A7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792-77D3-41FD-BE4B-047BF7BF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A66-D496-479D-86AD-EFA774B5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E6BB-7EE6-494B-B865-C88A1961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358-CA7D-4F28-A515-4E916F2B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2F43-4DCD-4402-B88A-B13C02DC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872-FEBE-4F2D-BF4A-296F54F0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072E-6226-4233-825A-98DB7A4D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CC2-910D-4CED-BC9A-A9A7B8D1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10EB-F66D-46E9-A96D-80735E0D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7AF-742B-47F6-A53C-92FC1AB4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DF959-C9BA-48EC-92D3-B7821E3070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arise, arise,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take Your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nthroned on 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26   A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thing we ask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thing that we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come and change our l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arise, arise,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take Your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nthroned on our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King of k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God, as we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(arise), arise (aris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(arise), arise (ari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ft You up, we lift You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ft You up on our pra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take Your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nthroned on our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King of k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God, as we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(arise), arise (aris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arise, arise,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59Z</dcterms:modified>
  <cp:revision>12</cp:revision>
  <dc:subject>The Source 4, song number 1726</dc:subject>
  <dc:title>Arise</dc:title>
</cp:coreProperties>
</file>