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D83-5AC1-4E42-BF8F-D78BBF1E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676-E7FA-4D68-8FF1-42153A57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610-40B1-4582-8C1C-B8EC2E84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41D-EF21-49A8-AE0E-446F7962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D24D-37A9-478D-A8F5-5DB81D30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63A-ED15-4CF5-8670-BCF14882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3F0-25FD-41E2-96E7-0687E26B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189-82AA-4A7E-8664-92093E75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EDE-64D7-47AA-A1F0-5486B3FA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38C-5421-4CC9-AF45-74B0DDBB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BBF-83C4-4CE3-AE90-8CC530D7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B04-114C-4E39-A99E-30243245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C902B-FF28-4F0D-BC24-652E2368EF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ейское 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вол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радость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ред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радость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ред 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02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3а   Житейское море буш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руч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узн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ожет случ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втра с ним 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ожет случ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втра с ним ст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ты ве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ю дово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здале хоре пе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автра ты бо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здале хоре пе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автра ты бо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ожет быть зав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ая могил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безвозв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ая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безвозв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ая с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ре житей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на за вол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ются ча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ашей лад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ются ча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ашей ладьё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2:16Z</dcterms:modified>
  <cp:revision>13</cp:revision>
  <dc:subject>Slavic hymnal Гимны веры христиан, hymn 773 (as amended)</dc:subject>
  <dc:title>Житейское море бушует волнами</dc:title>
</cp:coreProperties>
</file>