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1FD-826D-4ED7-9951-E3335F6C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196-EE80-4500-A54A-9F65AAF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738-DC4C-492E-826B-0B96CFBC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BF2-2E7C-4CCF-8318-A2ABA1D0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49E-582C-4773-B822-A867EA0F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E6A-B914-4C67-B6A6-C1FCDA87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9AE-67DA-4451-B2DE-4453C7DF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F4F-0922-404F-9E1B-44BCE40F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D8C-5199-4274-AB0D-B63407B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533-0B8E-4CF9-8B0D-7B2D852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5D0-890A-46AD-8881-C2885F4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677-4411-45F6-9539-8050189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7CD26-DD2A-4AFA-85D6-17272ABDAB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my shepherd, I’ll not wa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kes me down to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astures green; He leade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quiet water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He doth restor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 to walk doth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ths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for His own name’s s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though I walk in death’s dark v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ill I fear no 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art with me, and Thy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aff me comfor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able Thou hast fur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resence of my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d Thou dost with oil anoi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cup over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ness and mercy all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urely follow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God’s house foreve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welling-plac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09Z</dcterms:modified>
  <cp:revision>12</cp:revision>
  <dc:subject>Slavic hymnal Гимны веры христиан, hymn 834</dc:subject>
  <dc:title>The Lord’s My Shepherd / Господь — мой Пастырь</dc:title>
</cp:coreProperties>
</file>