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DF-3DE0-4786-9D65-FA055DED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184-4C35-49A4-A407-216DA4BF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055-73B7-49E9-A06D-8E8C4F9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FEB-36F8-42A2-99A0-74191611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A25-D164-440F-8F22-FFFCAF9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2A8-33D8-4F44-AB5F-52FF5013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A64-3A36-44E5-AFFD-5522041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4D1-9A4E-4733-9003-0972C127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3A6-B46A-435A-B910-A4C1D51E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39D-E03B-49DF-B281-E9D34C8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2BE-976D-48D9-8DE1-411F9D3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5AD-861B-4147-9F04-899C2F5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35A7-B4D7-4FEE-9B68-F6507F826C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тесь, братья мор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грозен бурный 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уж видны ма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их за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бойтесь, братья мор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и мы от бури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олны мор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грозила нам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ий, бур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награда к нам близ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аван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ой унынье и то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уйте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отитесь, как одна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те па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у нас ждут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08Z</dcterms:modified>
  <cp:revision>12</cp:revision>
  <dc:subject>Slavic hymnal Гимны веры христиан, hymn 716</dc:subject>
  <dc:title>Не бойтесь, братья моряки</dc:title>
</cp:coreProperties>
</file>