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EB7-0C00-4046-8000-2104A427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E9B-6BC4-4258-BF5F-5D6B25E5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DA7-E676-48A7-BF3C-94300005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242-6D99-4E34-B32C-5CF943AB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AAF-C703-46AA-BFB2-797B6985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923-148D-433A-AE66-8E7DB2A7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673-D08C-49E8-8A2B-29EE1BB0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65B-5989-445D-B5B1-0DAB3E9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D0B-0F72-40D3-B1B3-FFA4B54C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8AF-923A-491D-9A9A-1F5C5CC2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344-F4DA-4D0B-9921-7FF9985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FB2-0998-44D5-B6EC-8988A48A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D8A10-190D-40AB-9D34-B1D31228B0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56   Think About H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forget His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forget His mer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, He satisf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 my des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when I’ve stray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has sought m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, He satisf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 my des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08Z</dcterms:modified>
  <cp:revision>12</cp:revision>
  <dc:subject>The Source 3, song number 1556</dc:subject>
  <dc:title>Think About His Love</dc:title>
</cp:coreProperties>
</file>