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3A1-2734-4D69-8693-1D51050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BA8-E8F3-48BE-856C-DE7E228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D4D-191E-4BD6-A4C9-AD46B53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BE0-56A4-42BE-9144-B37BABF2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04F-8AD3-44C5-AA9D-ACCB0FB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D22-7751-4FA2-A361-358C7587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E89-909A-4FB7-A516-B5ACD26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4A3-C927-47E3-9692-C572CEF2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F3C-C69C-455A-9DC9-44B4B6F9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2E8-AC91-4162-AF39-07E7E70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8BE-9B32-4BE7-B891-B07C725E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156-4DFD-4799-9A23-58895A0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679FA-F157-4AF3-BAFA-78E6B3C24A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птицы по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стрей чел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 по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тру расцве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ж к вечеру в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ёлтел и зав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а жизнь к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нам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солнце з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дар мол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жданный исп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на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ума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 чём,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скоро умр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ороток твой 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оться ж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а пои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траду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51Z</dcterms:modified>
  <cp:revision>12</cp:revision>
  <dc:subject>Slavic hymnal Гимны веры христиан, hymn 737</dc:subject>
  <dc:title>Наша жизнь коротка</dc:title>
</cp:coreProperties>
</file>