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222-DCD0-42FC-852D-E7393D54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EEC-A1FE-4D52-AF06-B4ADD2D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8B6-5225-4D5C-BC40-8EF4D86C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B24-742F-488C-93B2-63D800AA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C96-B6BF-4B0B-8ACA-6750D75C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76F-355D-41D7-BF1D-3D1E18BD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1AC-C5A8-4DF3-987F-18F05B4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739-D678-428E-8D52-871896CD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745-C2C8-4C3C-A06C-5986ECF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113-AA91-40D6-9E7A-B81A287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725-1E4F-48DA-AB63-C1AAE7D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974-696E-471F-8E2D-2962DF6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5C1C-104B-416C-ADD5-9D25ABBD60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11-06T11:18:41Z</dcterms:modified>
  <cp:revision>11</cp:revision>
  <dc:subject>The Source, song number 243 in Russian</dc:subject>
  <dc:title>Всегда удивляться я должен / I Stand Amazed in the Presence (My Saviour’s Love)</dc:title>
</cp:coreProperties>
</file>