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1</a:t>
            </a:r>
            <a:r>
              <a:rPr b="1" lang="ru-RU" sz="3600" spc="-1" strike="noStrike">
                <a:solidFill>
                  <a:srgbClr val="ffffff"/>
                </a:solidFill>
                <a:latin typeface="Verdana"/>
              </a:rPr>
              <a:t>	</a:t>
            </a:r>
            <a:r>
              <a:rPr b="1" lang="ru-RU" sz="3600" spc="-1" strike="noStrike">
                <a:solidFill>
                  <a:srgbClr val="ffffff"/>
                </a:solidFill>
                <a:latin typeface="Verdana"/>
              </a:rPr>
              <a:t>Ты есть слова и музыка</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есть слова и музы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песня, что я 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и мелодия, Ты и гармон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ебе хвалу прине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 всемогущий Бог,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 и Господь госп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также Царь ца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ебе я спою теперь ту пес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 Ты дал 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 песня, что я пою.</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2:27Z</dcterms:modified>
  <cp:revision>3</cp:revision>
  <dc:subject>Slavic hymnal Гимны веры христиан, chorus 11</dc:subject>
  <dc:title>Ты есть слова и музыка</dc:title>
</cp:coreProperties>
</file>