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EB8-259F-4B15-A39F-9170EA26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6F8-7963-461E-8645-824FA92E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C54-2C21-42F2-9012-80115BAC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267-48AF-4AC9-AB33-9DA0F0A6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2A2-4C61-40B2-ADDE-E9693043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025-F989-44EB-89F4-5371A3B3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58E-DB8A-41C2-A1E4-16A9B66D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E84-9965-4BD1-9F4A-E3703FA3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C7E-07A3-4993-A515-7C247032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838-FCCC-425C-883C-D02E49F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48E-3303-4F5F-9F73-AEF87A96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AE9-A58D-4D8F-8887-550FECDC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360C9-DB76-480D-A567-8CA9740E4D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romise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easons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Saviour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2  Буде дощ благослов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ний по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и знайдуть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овій святій кро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, reviving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hills and the valle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of abundance of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а Святого з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е Господь нам хре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мари надходять 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upon us, O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 to us now a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now honour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скорійш нам зі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м нове відродж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щ благодатний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at today they might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, as to God we’re conf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, as on Jesus we c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и нам, Боже, теп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шукаєм про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й нас, просим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7:29Z</dcterms:modified>
  <cp:revision>12</cp:revision>
  <dc:subject>Slavic hymnal Гимны веры христиан, Ukrainian hymn 92</dc:subject>
  <dc:title>There Shall Be Showers of Blessing / Буде дощ благословення</dc:title>
</cp:coreProperties>
</file>