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CB74-68D1-4F2C-B792-469F8A49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62D4-38DD-4BC2-A745-76889415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069B-122C-4FE3-BFC9-505C8005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044A-0A51-4554-988F-BBECB66A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C976-B6D5-432E-A055-AB03BD23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7B6A-B73D-4DE5-85E2-9C872051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3CDE-8284-488D-AAF0-F7E5815C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7726-A719-4C38-8474-D01DE4BB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56F1-16C6-4F52-8F0C-E484B2A9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18E4-A2BD-41B8-A9F3-B2E5AF43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3946-4877-4CD6-8BCB-206043DA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509C-5049-4F7E-B421-3BAABCC5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B9B15-703F-4242-8086-70DA5F4E154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Иерусалимских г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л Иисусу детский х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перь детей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т петь хвалу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, пой, пой! о, юный хор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, пой, пой! о, юный хор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анну, и осан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й Царю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 Иерусалимских г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ат нас Христа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Его ученью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одить Его путё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ен наш Господь во вс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, пой, пой! о, юный хор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, пой, пой! о, юный хор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анну, и осан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й Царю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, матери, друз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ойте дружно голо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слась среди жит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«осанны» в неб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, пой, пой! о, юный хор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, пой, пой! о, юный хор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анну, и осан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й Царю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0:08Z</dcterms:modified>
  <cp:revision>12</cp:revision>
  <dc:subject>Slavic hymnal Гимны веры христиан, hymn 758</dc:subject>
  <dc:title>У Иерусалимских гор</dc:title>
</cp:coreProperties>
</file>