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525-CC3D-452F-A6C8-7559E7FD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E21-55B1-40F1-AF10-511A120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925-7684-405F-94CD-E67CF006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72E-052A-4500-8866-36B3F969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DBA-49A5-43E8-BC36-B53A25C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C05-D075-436A-BE11-4D864D8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905-0D88-426D-9168-F98802A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67E-ABDD-45F6-B6D0-639D47BA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8CB-C625-407D-B250-B36BF34E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81D-638A-4631-855E-0473EF7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533-2BCE-4CC0-8CEF-47ABBE8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286-87E0-4F39-BA3D-41F8A35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2AFB9-06D7-4315-9108-F2ED5CCE5A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ібрання закін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одому йде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чого ми науч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ерця візьм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9   Ми зібрання закінч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ож будемо ми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учитися тут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житт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сть Бог жити, ми зійде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з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будень, чи в неділ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31Z</dcterms:modified>
  <cp:revision>12</cp:revision>
  <dc:subject>Slavic hymnal Гимны веры христиан, Ukrainian hymn 89</dc:subject>
  <dc:title>Ми зібрання закінчили</dc:title>
</cp:coreProperties>
</file>