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B46-B725-4FBD-8F02-FE8EC0A8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738-3896-4FAE-AFE6-7B8D61F1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E27-0E57-468B-8194-D28F7A0B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AE4-0318-4CD4-AFB2-BC8F1A14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6CB-86E7-4A64-B6C9-C392A7A6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B23-1614-455C-8AB6-64F8160D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D6A-9AE2-4A2F-84D5-89A85028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5F8-E99D-4082-9389-4B6BEC3C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E06-EE0D-43A8-AFEB-0E5C2356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290-BCAD-47CD-9987-08F6013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B35-FF39-41D2-B09D-C03FE0B0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054-1AB3-4C44-9374-D17B8B0E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0BBF4-EB49-4974-A690-6CFED43605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One, so unch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eless One, You’re my rock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all, I depend o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 out to You again an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 out to You again and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rock in times of trou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e up when I fall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rough the 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the anch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9   Faithful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4-04-12T09:10:20Z</dcterms:modified>
  <cp:revision>10</cp:revision>
  <dc:subject>The Source, song number 89</dc:subject>
  <dc:title>Faithful One</dc:title>
</cp:coreProperties>
</file>