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433-C454-4F59-900D-EF940E9D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E2E-8696-4E54-9666-59871C41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4B3-6D03-4F4E-8DFC-1B926E35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328F-1821-492E-AE8F-E4DBEF68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2F6-FE04-4113-937D-A4F74EB5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D0A-12D3-49AA-A755-08DDDDD4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36B-B98C-4AB6-8B89-1E4F89DC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A16-4040-4AFD-827A-54DCAEEE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73E-F351-4F66-86FD-F3DEE56C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B559-C04F-49F5-B02D-2408D622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EA6-172E-4C47-BF71-E55BF2EC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689-FB5C-45DF-9DD3-72823FFD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0601D-6096-4BCB-A444-622D1D95B5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trength when I am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treasure that I s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all in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 as a precious jew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o give up I’d be a foo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all in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81   You Are My Str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21Z</dcterms:modified>
  <cp:revision>11</cp:revision>
  <dc:subject>The Source 2, song number 1081</dc:subject>
  <dc:title>You Are My Strength When I Am Weak (You Are My All In All)</dc:title>
</cp:coreProperties>
</file>