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0FA-B514-4B36-97AD-264388C0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7CD-80AD-48C4-8A69-B9E184A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1F4-3DF1-42BD-B627-11B6DCE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32E-3178-441D-87FB-B98CAA16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995-BFA2-446E-BBE2-35B7F15E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5A9-64CC-47C3-B0B3-42CABEAE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46B-0816-4521-815C-6F4FD9C3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1DA-2377-4B2B-902C-3DEB12C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251-5C01-4F71-BE50-3A73D49C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2A9-B7AE-482A-BB96-EB30863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945-37F5-4E1A-9936-B8D7DFE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15C-D0AE-4236-944C-00D8A14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69D64-6417-4D25-83E6-CF35B6F941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19Z</dcterms:modified>
  <cp:revision>13</cp:revision>
  <dc:subject>Slavic hymnal Гимны веры христиан, Ukrainian hymn 111</dc:subject>
  <dc:title>Я маю радість, радість</dc:title>
</cp:coreProperties>
</file>