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6FA-964A-433C-87EB-933BBA0A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127-A46A-4858-8671-AFAD3185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AE2-2EFB-40E3-ACC4-61FDA4D7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19E-A696-4D4B-9AC7-19844FFC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AC3-8BC0-4438-A566-DC1E96D8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372F-8E14-46E8-BA07-CA28E8D7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9492-DCF5-4A52-B229-545F3FB0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005-EF7A-4BDD-9CC2-DB43488E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5C3-8985-4B79-8AB4-7990C272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1776-5165-491A-8615-7755EC69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9C8C-BB06-4AE2-88BB-A545233C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4C0-AD9E-4BCA-BA74-C3CEAC24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9CD9A-DBC5-4A1F-841C-A00CFDE677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исталище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цели вечной мы беж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уж видны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конечной жизни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вдали горят венц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асённые для н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оряются дворц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, близок славны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ристалище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ежали от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тиг над бездной н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укой любви с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огибели нас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перь пред нами пу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за Ним беж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ечно отдох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Его дог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ходя Его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аемся мы с 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ысь святую над гре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д миром сует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! взор наш устрем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Его поднятый пер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ее вслед за 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мо, мимо грешных мес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2:59Z</dcterms:modified>
  <cp:revision>12</cp:revision>
  <dc:subject>Slavic hymnal Гимны веры христиан, hymn 494</dc:subject>
  <dc:title>На ристалище Христа</dc:title>
</cp:coreProperties>
</file>