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28A-1FE4-4CA5-B8D2-6BAC17A6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1C4-39B5-4A69-814A-94C49748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FFB-F238-4484-9916-9BF95358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98A-0ADB-4A65-BC73-BD4C3030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FEC-3F80-4049-B953-C24A4D52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67E-D419-4384-B405-D7451842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7A4-6E20-4B5C-9F65-601A8C2E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432-2CC4-43F0-956B-6CB5407B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CE4-3E66-4462-985F-225F0661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49E-11BB-4404-97F3-0E3946D8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EFA-D9E9-47B3-A3B1-452FC802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580-9E80-4B70-B2EB-E00F32EB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43BBD-956E-44AD-830F-94A4F1D2C5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валяй Всеблаг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еснопеньем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его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Твор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Его без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рует так 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а славь ты, м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Он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и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ям Своим нас ве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зёй сокров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по пути, где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ты, тревогой смущ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Кто ди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к устр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о сих пор всё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анил, и пок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спас,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благой удосто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и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тебя уто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тру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лишь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ез Него в мир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ия, мира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31Z</dcterms:modified>
  <cp:revision>12</cp:revision>
  <dc:subject>Slavic hymnal Гимны веры христиан, hymn 807</dc:subject>
  <dc:title>Господа славь ты, мой дух</dc:title>
</cp:coreProperties>
</file>