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9B8-935A-4056-BFED-448EB7B7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81D-3B19-41BC-ABCE-AA90B557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F79-D9E4-4AF9-817B-0D287E50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3E5-EDB0-4F1F-A135-20BA2051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B5C-06A5-4329-A195-FFF65C8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C3B-0F5D-4810-9FF6-0D8CE80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705-28F7-4F40-B64D-C8BF546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F16-D4BF-4214-8BF6-7D0DA274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DCC-12BA-416E-B414-93D1D42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FEF-1902-40EB-8D19-8A13EB1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E38-30B5-4032-8E69-EA127A5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6D8-D0B9-4413-A132-6F7ED56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1C238-AFBA-447B-AD80-FF03F6316E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Jesus bear the cro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orld go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there’s a cross for every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a cros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appy are the saint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nce went sorrowing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they taste unmingle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y without a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nsecrated cross I’ll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death shall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go home my crown to w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a crow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ystal pavemen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Jesus’ piercèd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I’ll cast my golden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dear Name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ecious cross! O glorious cr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urrection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com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s my sou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31Z</dcterms:modified>
  <cp:revision>12</cp:revision>
  <dc:subject>Slavic hymnal Гимны веры христиан, hymn 811</dc:subject>
  <dc:title>Must Jesus Bear the Cross Alone? / Один ли Он был должен несть?</dc:title>
</cp:coreProperties>
</file>