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F6E-24A5-4AEB-B4FB-7551F0B7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7F7-6D7C-4194-9F59-69B79B95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316-B0B7-45C7-8C0F-61F121C9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46B-71C5-4306-8978-52AAD76E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0E7-0E62-4E5F-BB6C-16CB98E5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768-BC3C-4238-AF0D-50B2794C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B2F-08B3-4EFE-8468-DF96144D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FF8-F792-4D5B-957A-C51AFB79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F91-4153-4D7E-B4C2-9F093503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495-1F5C-4AB0-A0D2-E8A06AB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CE8-12A9-49FE-9D6E-96929BFB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99D-6F2C-454B-8DEB-6BA5773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91CCF-A0FB-4F5C-AC72-D08AD59905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пасител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ьбу м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ог Твоих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у слаг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печаль свою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Спаситель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а, пост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а мне: «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вечной рад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ь заст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зажгла в груд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жным голо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бурь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дин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бу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 тобой идт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ты,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лачешь ин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борьб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у 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у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й кровавый сле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обессиле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тьмы и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сь пред Мной в моль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уть твой оз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не пал в 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ы дам тебе.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ис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ак сл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больной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мир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ёт Теб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4:37Z</dcterms:modified>
  <cp:revision>12</cp:revision>
  <dc:subject>Slavic hymnal Гимны веры христиан, hymn 799</dc:subject>
  <dc:title>Господь Спаситель мой</dc:title>
</cp:coreProperties>
</file>