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B61-980E-4CE9-9D30-5A6C329C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BBD-743B-406A-85C0-B324728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ED4-F0B6-4E6F-BE42-0809C61B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553-53DE-473D-A467-4A4A4C27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CE1-2761-490A-BA55-910841AA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0FB-4983-4F3A-940D-14BFB9F5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B28-99DA-4E1E-8B65-A511424A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D87-9363-4155-A135-A6A57AE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453-4481-48D8-9EA0-E1261DF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73B-1C94-469D-AD2F-3E2E061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4BB-FB9C-4403-9F0C-D6A21B32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D72-CEF1-4F03-9F6F-56A2559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FF81-1E84-4FA8-9736-70EC4C26C7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— орудье ка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у 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без боя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хот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пути зем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и я в терп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 — орудье ка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идя смир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естом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л Цар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лаз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же крест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облег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греха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усла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иго бла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е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 отв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крестом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ремя,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мне лег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не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09Z</dcterms:modified>
  <cp:revision>12</cp:revision>
  <dc:subject>Slavic hymnal Гимны веры христиан, hymn 493</dc:subject>
  <dc:title>Крест — орудье казни</dc:title>
</cp:coreProperties>
</file>