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5A7-7C11-42BF-A773-851B8C27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14F-7FFE-4305-ABF0-F9D7FC51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374-DC1E-4B7D-A891-E7D33361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1AD-3C8E-42DF-84E7-CFC9B6D1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EF7-224B-4BC3-817B-01171FA2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5C7-4B9D-4F57-AAC9-E2B64C5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A3B-955B-4213-9F94-706F7A61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EB7-4ACB-49CA-8CE3-24AC9138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17F-E7DF-48AB-8384-148F67B4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F84-6E2B-4F3C-97A3-A12A54EC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A17-7E26-48EB-B065-B193C734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A00-E21D-4416-858C-FF661F1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D466B-D625-4DBC-8922-194F051544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needs go home by the wa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ther way but th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ne’er get sight of the gate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 way of the cross I mi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ный путь пред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ед мной, я 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пути мне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мчужных врат не увиди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пути устрашится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needs go on in the blood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inkle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th that the Saviour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ever climb to the heights subl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oul is at home with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идти по страданий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 мой Спаситель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вперёд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видеть Его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 bid farewell to the way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alk in it never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Lord says, “Come,” and I 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waits at the op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ый путь мирской я отв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он мне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: «приди!», я спешу вой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ью открыл мне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3:08Z</dcterms:modified>
  <cp:revision>12</cp:revision>
  <dc:subject>Slavic hymnal Гимны веры христиан, hymn 843</dc:subject>
  <dc:title>The Way of the Cross Leads Home / Крестный путь пред мной</dc:title>
</cp:coreProperties>
</file>