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D41-E7AD-4B75-9675-3E972C6E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68A-A9EB-43B2-A450-3C6FE511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D47-7411-4CE3-87F3-39100FEA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B8E-B9A9-4DD0-B6E2-E898EA34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64C-1E0B-4C5A-B100-54B942FC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CB1-F41A-487A-A1BF-EB5E39E2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DBA-9660-4231-ACD0-16D337B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523-ABC8-4E90-B91B-FA6E6CF3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298-5D24-4E55-91B5-C51B9479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845-7A17-4912-8643-DEEFB546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47B-5AE0-4C91-88CA-91AF539E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539-7409-46A3-922E-07F6C0E7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11D3C-5490-448E-99BB-1D99D7BBE7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ive thank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among the peop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praises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ong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y steadfast love is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great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faithfulness, Thy faithful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clo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Give Thanks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God, above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 be over all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God, above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, let Thy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 be over all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48Z</dcterms:modified>
  <cp:revision>11</cp:revision>
  <dc:subject>The Source 2, song number 817</dc:subject>
  <dc:title>I Will Give Thanks to Thee (Be Exalted)</dc:title>
</cp:coreProperties>
</file>