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ED7-A6B5-4226-8CDE-4FD4F42D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5FD-B6FA-449D-BDAC-50FFD938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33A-31CD-4BF2-8CAF-FD758DC7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2AE-7A62-400D-A945-1FEDAF3C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A0E-870D-4443-9EF0-AE230D4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6F7-EF90-4D1D-8743-7E24E8C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D2B-778C-4EFB-8BF6-6AC02BD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87D-B4D9-44C7-BEBB-B2D67F5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133-45B2-4158-81BE-97C28BA4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199-35D6-4D2B-B173-BE0BDDC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C10-46CB-4436-8011-01B286A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570-76F0-43A6-B53E-660D1E40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B539-31FB-4E80-8725-CDD62BF946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on the mountain’s he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ver the storm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at the battle’s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will have need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, не на верш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f by a still, small voice 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ths I do not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answer, dear Lord, with m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haps today there are lov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Jesus would have me sp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ay be now, in the paths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and’rer whom I shoul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if You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and rugge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voice shall echo the message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surely somewhere a lowl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’s harvest fields so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may labour through life’s shor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,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 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trusting my all unto You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You always lo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do Your will with a heart sinc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4Z</dcterms:modified>
  <cp:revision>13</cp:revision>
  <dc:subject>Slavic hymnal Гимны веры христиан, hymn 556</dc:subject>
  <dc:title>It May Not Be On the Mountain’s Height (I’ll Go Where You Want Me to Go) / Быть может, не на вершину гор</dc:title>
</cp:coreProperties>
</file>