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4EA-C3C5-4A61-8286-8F33E9E0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5CF-59D2-4D19-8C5D-BDF1A795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286-1A04-4D39-A58F-0F259E66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132-3968-42A8-90E0-BFD08BEF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F9E-C020-4AA6-8EEC-F95349F6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A1B-8C53-47F0-BA1B-00DE7180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61B-6FDE-46D0-A29A-9A25A847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F85-1E45-4401-9C3A-D61290E8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3C8-3E7D-40A0-B8DC-3D15FD3F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3AE-A5F6-4E05-B39B-3349FA6D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4B8-D39D-4E36-BFD2-50077934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6E3-904E-4AE6-B10D-FAFA61A5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5B9C7-C48B-427B-8268-B098AF1258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воины, смот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дан сиг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е полки, гля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осподь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воины, смотр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дут полки чужи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а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падают род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 уж всех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мя выше поды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 труб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, дружно все бег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ию войн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ся бой, полки ред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ь уж бли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даются, не робе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дёт Господь наш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гионы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и радость, и побед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да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6-08T20:38:01Z</dcterms:modified>
  <cp:revision>13</cp:revision>
  <dc:subject>Slavic hymnal Гимны веры христиан, hymn 484</dc:subject>
  <dc:title>Божьи воины, смотрите</dc:title>
</cp:coreProperties>
</file>