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CD1-BC2B-4140-B146-2C76E03B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0B6-2CAF-4804-898B-32B2A764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ADF-00DE-4DF0-AF5F-FC2C548E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E4C-7E4F-4623-80CE-115DF223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928-CE1C-40FB-86DA-BC7A0926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88E-7392-4C59-93EA-9F70AD87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BCB-8C40-499E-A656-923B084A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39B-7EDB-48AC-AB92-A5BD240D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CFF9-10B3-4130-BFF3-440EA8D9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C87-E540-4A6C-9598-4D9BBAA9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0C0-5A15-4AAD-B7CC-22C19C28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2E8-F549-468C-A4E4-87E05AD6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D4F1E-2931-4416-A229-A0926C91E4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mes of refre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Your pres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reater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being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is resto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mind is renew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greater jo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being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64   Times of Refres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31Z</dcterms:modified>
  <cp:revision>12</cp:revision>
  <dc:subject>The Source 3, song number 1564</dc:subject>
  <dc:title>Times of Refreshing</dc:title>
</cp:coreProperties>
</file>