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DC9-B8E7-43D3-B44B-411325E0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F48-C9D7-4E67-BDED-3ECE0289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857-4C85-41BF-8210-5038851C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21F-C4E8-4255-B7E8-EEA1B5FD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7BB-46C9-4E78-A25C-E10123AA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689-E00B-4D28-B5ED-3B6CF4C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3BD-10B5-41F5-AC52-598E8AF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796-5586-41F3-A27E-71C17DF9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57E-D709-4541-A4F2-9F02550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2AD-0EF8-4253-AA59-38DBB36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174-6B81-4AFD-BC46-31292B2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18E-774D-4A16-A679-5CD642F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2729E-65D3-4A06-B96C-B19D7C89BB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се можливим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2   О, тільки ві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30Z</dcterms:modified>
  <cp:revision>12</cp:revision>
  <dc:subject>Slavic hymnal Гимны веры христиан, Ukrainian hymn 112</dc:subject>
  <dc:title>О, тільки вір</dc:title>
</cp:coreProperties>
</file>