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43</a:t>
            </a:r>
            <a:r>
              <a:rPr b="1" lang="ru-RU" sz="3600" spc="-1" strike="noStrike">
                <a:solidFill>
                  <a:srgbClr val="ffffff"/>
                </a:solidFill>
                <a:latin typeface="Verdana"/>
              </a:rPr>
              <a:t>	</a:t>
            </a:r>
            <a:r>
              <a:rPr b="1" lang="ru-RU" sz="3600" spc="-1" strike="noStrike">
                <a:solidFill>
                  <a:srgbClr val="ffffff"/>
                </a:solidFill>
                <a:latin typeface="Verdana"/>
              </a:rPr>
              <a:t>Будь милосерд ко мне</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удь милосерд ко мне, Христо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сти виновного во вс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скорбь к Тебе свою принё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прихожу к Тебе с грех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В грехах запятнан без чис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бременён делами з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больше их — Твоя люб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х может смыть святая кровь.</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От всех грехов меня о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дух смущённый ус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сти меня, Спаситель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буду я теперь уж Т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Со мной на суд Ты не вхо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то будет чист перед Т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еня по милости прос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оею кровию омой.</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Ведь грешников Ты Сам зовёш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щенье им Твоё даёш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я на призыв Твой спеш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щенья, Господи, прошу!</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11:04:13Z</dcterms:modified>
  <cp:revision>3</cp:revision>
  <dc:subject>Slavic hymnal Гимны веры христиан, hymn 143</dc:subject>
  <dc:title>Будь милосерд ко мне, Христос!</dc:title>
</cp:coreProperties>
</file>