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B02-1A65-499F-A198-76593720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BBB-CE42-452B-AA99-A3519720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5BA-4D76-44A3-98E4-31936262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CA4-2406-42E0-86FC-BB186F59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A39-36E7-4C36-8156-7C3E39B8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DE7-29F0-4B61-93AE-980D2E46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E0E-7914-421E-892A-FE3D0162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54F-32BB-427C-A4ED-FA219B9B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DED1-2F8C-4C35-84FB-C1B2A505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E02-B350-4CD0-8B32-AC0634BB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B69-AE36-496D-9D00-1664A063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D297-DA2D-450E-8B8A-D25856DA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0B345-8B5A-430E-A38F-4CA0FCDDCE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Тебе я отда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Творец и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царства тьмы Спаситель мой Иис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к Себе прив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ой дар любви серд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вяти любовью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прим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ми меня! Тебе я отдаю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К Тебе моя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слаб и греш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отринь ничтожного ра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вся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чист я телом и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 грехом, покрыт вино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я, бессил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О Боже, снизой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жалься над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знемог. Огонь горит в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трашен мир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жить, детски упов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лечёт любовь свята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юсь я, надеюсь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Хочу я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ться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 за грешного р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н Твоих течёт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, мир и исце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, увер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1:50Z</dcterms:modified>
  <cp:revision>12</cp:revision>
  <dc:subject>Slavic hymnal Гимны веры христиан, hymn 458</dc:subject>
  <dc:title>Прими меня! Тебе я отдаюсь</dc:title>
</cp:coreProperties>
</file>