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AB0-6264-4617-BE53-8B2E334B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9A7-C66C-4AB0-A035-8619233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8C4-FE3C-4F07-A80F-2F11DC61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628-F0F5-4703-AE39-2764B457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9DF-733D-4441-BE8A-0818E12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686-83B1-4BA1-8D07-66C83A0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43E-0932-47B5-9D56-88420B3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D07-3A06-450A-B22A-D7F51DFB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39C-138D-4091-93EA-66AAED2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233-445E-4CBB-8D87-C447F99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EAC-F442-4739-87C7-7185C608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08C-F358-4946-BB2D-7C5AD21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5CC3B-D2FD-4B6E-B873-471BCAC385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56Z</dcterms:modified>
  <cp:revision>13</cp:revision>
  <dc:subject>Slavic hymnal Гимны веры христиан, Ukrainian hymn 30</dc:subject>
  <dc:title>I Gave My Life for Thee / За тебе Я вмирав</dc:title>
</cp:coreProperties>
</file>