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649-24E2-4CAE-9455-304B47CD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637-742E-4646-9AE4-E4ACF25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757-9F4D-4B6B-BA7B-339B282D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F8A-5424-47B7-8ECB-932C3383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05D-3269-4931-AF9D-AC2E95C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E58-3274-4709-BC39-52DB8602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705-9B85-484A-BA14-69DDEF65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520-FA5B-4369-A838-5C9A71A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CA0-0B87-45BA-AE8F-70A14546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9B8-222A-4AA9-A15C-D59B2DD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C32-4051-434F-8B1C-6AACC21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9D0-F2DD-4DFE-B1A4-5FC44E9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6ECE8-5E39-4103-9EE0-9361548CCA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7Z</dcterms:modified>
  <cp:revision>13</cp:revision>
  <dc:subject>Slavic hymnal Гимны веры христиан, hymn 784</dc:subject>
  <dc:title>Far and Near the Fields Are Teeming / Здесь и там поля белеют</dc:title>
</cp:coreProperties>
</file>