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AC1-DB9B-4CDD-9C48-CCF0C0D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83D-645B-4A78-B39C-362C4735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CA1-9B8F-4737-84B7-659AC3B7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747-8423-4015-AD29-B6B01D50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D55-03B7-4D9E-BCC6-24122CC6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925-344A-4DE8-AD9D-04DB7286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DB9-B166-4F5A-B33D-6F7A510F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079-0231-42AA-98E5-322EFAC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5AC-5B3F-440E-8CA5-90957A6D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D05-7C02-4898-8618-3D78A06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9C8-9D90-4CD0-B3F3-C6271C16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FCE-8928-4F10-A2E7-3E947AE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A0B1E-B07A-4016-B44F-E882A51378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dawn there came with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omen to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angel stood bes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ed all their g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quickly, tell the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is risen from the dea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its d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ary stands bewil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grieving in h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ees her risen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’t contain her 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houts in exul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ly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cked hands of s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nailed Him to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uilt and our transg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caused His ag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at, like blood, was f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disfigured b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ask was do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Him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ody then wa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Joseph from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own tomb he lai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counting it a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uddenly the sun s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ook its f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d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re be l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3Z</dcterms:modified>
  <cp:revision>13</cp:revision>
  <dc:subject>Slavic hymnal Гимны веры христиан, hymn 295</dc:subject>
  <dc:title>He Lives! He Lives! / Он жив! Он жив!</dc:title>
</cp:coreProperties>
</file>