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603-3E78-4FFD-BBBA-ED9ED5D9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BF4-BE61-4D81-A97E-DA997148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6ED-71D2-4E42-A0DA-D714A2F0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811-7B5C-4FFA-84CE-E1D9E79A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D35-ED75-4300-8065-ED1E4554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831-EF05-422D-B911-707F216C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7A1-7E35-45A0-B44C-8BEB43E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226-9CFA-4D1C-A633-23DC4752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C7A-5DDE-4640-8857-709BA29D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CFE-382D-4EB4-BB3C-DFF8ACA8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244-18AE-45E7-BDD9-453C0A1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815-56BD-4A03-B782-31E14701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D6503-7D9A-46FA-96BE-5B655A73AD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, we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glory, Lord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unfold like flow’rs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ing to the su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слав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ердце от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: милость нам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lt the clouds of sin and sa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ive the dark of doubt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r of immortal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us with the light of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гони неверья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омнений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нас к жизни луч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ай сердцу и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orks with joy surround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nd heaven reflect Thy r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s and angels sing around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ntre of unbroke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мощь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с ангел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ечно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 and forest, vale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ery meadow, flashing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ting bird and flowing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us to rejoice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 и поле, лес и г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 потоки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ье птичек, туч узор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ворце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tals join the mighty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the Morning Stars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 Love is reigning o’e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 Love binds man to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есню подхва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рассветом нача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— наш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олюбье вяж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singing, march we o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s in the midst of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music lifts us sun-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riumph so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жным пеньем выст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и над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радость возвещ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день за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3Z</dcterms:modified>
  <cp:revision>12</cp:revision>
  <dc:subject>Slavic hymnal Гимны веры христиан, hymn 610</dc:subject>
  <dc:title>Joyful, Joyful, We Adore Thee / С ликованьем прославляем</dc:title>
</cp:coreProperties>
</file>