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5BA8-B5E8-42A6-B845-79EB6054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E261-B7CB-4841-B592-DA7D1017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4D22-82EC-474E-B447-2642BDAB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D99C-B6FD-43EA-AA19-CB139B93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185-1C16-494E-94CA-BB20D065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E3D-DE7B-439D-B534-0071B0FF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BD4D-6B72-4AA7-A0F0-1FDA4BFF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7538-481F-4685-AEF5-E8788C5B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4503-822B-4A37-BADC-6D8F0209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6603-3FF2-4EA9-9529-F9DDAD84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4513-2B3C-433D-85EF-2F15A34D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06AD-40CD-4D8C-B46F-7E9E0287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0DD0D-1170-4CB5-9C21-E38512C0663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скуй ты, душа дор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 и радостна 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, поверь мне, настанет друг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нас любит Господь, не за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ты на Господа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чаще молися в ти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тихнет на сердце трев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покой для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тоскуй ты, душа дорог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ь, что Христос, тв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ради страдал на крес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бед твой благ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тобою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щайся в тяжёлые 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 бремя не ропщут у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в жизни бывают невз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дейся на милость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волны бушуют, как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ер страшно и грозно шум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 ты! С любовью во вз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бя твой Спаситель гля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 нашей Он Сам управ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щиту Он нам по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ёт Он нам то, что жел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с к радости, к счастью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традать здесь осталось не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отовы к последней бор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ится путь наш суро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ьмёт нас Спаситель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стань тихая нас ожид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и страшной и грозной там н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че солнца Христос там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вечной сияет там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скуй ты, душа дор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 и радостна бу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родина наша свя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ш вечный, блаженный при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1:54Z</dcterms:modified>
  <cp:revision>13</cp:revision>
  <dc:subject>Slavic hymnal Гимны веры христиан, hymn 717</dc:subject>
  <dc:title>Не тоскуй ты, душа дорогая</dc:title>
</cp:coreProperties>
</file>