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956-B33C-47E7-A9CC-68125540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359-77C7-46F3-90ED-08FF72FD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3D5-16AC-4B59-B54A-41D95ADA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C0E-9A99-4E94-9857-2F5B72A3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4B3-E06A-455A-BACE-7AA1447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820-57C4-4490-B342-2538E2C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0E5-5CDA-4F07-B309-AFFEB79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518-1304-4E31-9776-4F745B36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348-512B-4F6B-AA19-4E11A20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91E-9992-4EDB-9D4E-79B1991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3B4-1AB9-4CBC-BB69-316B9CE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019-B340-45DF-ADEC-7B924B07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F304F-3876-4CAC-96C8-F2FC3195F9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t the wedding feast at C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hores of Gal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 Lord, revealed Your power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d received You joy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1005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no power to live as You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You in us this power ig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, then, Your favour “till death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m part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You now fore’er u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an honoured Guest amo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joy to all the guests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en in Your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union from its very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anctify this holy 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have sanctified Your B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Bridegroom we awai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ransomed at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dding of the Lamb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invitation is to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ant that these who join their liv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ter Your great banquet h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here can we find the gl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the sunlight of Your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can we find true peace and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less You grant these by Your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9Z</dcterms:modified>
  <cp:revision>13</cp:revision>
  <dc:subject>Slavic hymnal Гимны веры христиан, hymn 740</dc:subject>
  <dc:title>When At the Wedding Feast / Христос! Ты в Кане Галилейской</dc:title>
</cp:coreProperties>
</file>