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1679E-A259-483D-8E6F-DA9B91A4B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25ED3-DB77-4417-A5A5-A38E15D64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40E45-8488-459E-83A2-AA5853D7A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80392-F0C3-49F1-A90E-0ECC2B41F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16239-D1C7-42A8-9109-52A1DE86F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40CA1-4817-48DD-86EF-D6823690C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80193-4AFB-48F1-8EF3-DFC53E2B3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B0A83-A785-4E19-A36E-3292CCD24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C867F-1856-46D9-AF85-44FA51777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9B732-8286-454D-9DD5-96676CBA7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A538F-BBC2-4F2F-8551-B2D6F9425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A7CCE-EDF7-49C4-BD00-D8BC369C6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C41DC8-3842-474D-B963-A60D90871684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mazing grace! how sweet the s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t saved a wretch like m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once was lost, but now am fou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as blind, but now I s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’Twas grace that taught my heart to fea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grace my fears relieve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ow precious did that grace appea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hour I first believ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1718   Amazing Grace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y chains are gone, I’ve been set fr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y God, my Saviour has ransomed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like a flood His mercy reign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Unending love, amazing gra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Lord has promised good to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is word my hope secure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 will my shield and portion 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s long as life endur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y chains are gone, I’ve been set fr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y God, my Saviour has ransomed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like a flood His mercy reign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Unending love, amazing gra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earth shall soon dissolve like snow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sun forbear to shi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ut God who called me here be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ill be forever mi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Barry Hart (compiler), The Source 4, Kevin Mayhew: Buxhall, Suffolk, England, 2009.  ISBN 9781848671713.
</dc:description>
  <cp:keywords>lyrics words praise worship songs</cp:keywords>
  <dc:language>en-US</dc:language>
  <cp:lastModifiedBy>John Zaitseff</cp:lastModifiedBy>
  <dcterms:modified xsi:type="dcterms:W3CDTF">2010-12-18T08:49:35Z</dcterms:modified>
  <cp:revision>13</cp:revision>
  <dc:subject>The Source 4, song number 1718</dc:subject>
  <dc:title>Amazing Grace! (My Chains Are Gone)</dc:title>
</cp:coreProperties>
</file>