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5B5-3910-4C4D-A32C-DFAAAB7B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6B9-AAD5-40C1-9E2E-367E950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A84-ABE9-4961-A704-172ACD07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242-E574-4AF6-8884-47EEF325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224-BE54-488D-991A-DF8B858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911-B705-467D-9BEE-978284B6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A28-89B0-40F0-833F-BEB0079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F3F-4D02-4874-A2A5-4FB9FAA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A8F-3F8D-4848-9563-5E34673F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754-1160-4C33-8022-A08DB41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7E8-64FE-499B-9532-695F56E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D65-4122-4C3D-92D3-F49CCDB1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EACDD-D11B-4F56-8394-B5141A9F2D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67   Есть свят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жизни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адежду д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ют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к Отц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 жерт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мыт о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рит в Госп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4-06-04T09:09:05Z</dcterms:modified>
  <cp:revision>11</cp:revision>
  <dc:subject>The Source 3, song number 1267 in Russian</dc:subject>
  <dc:title>Есть святые слова / Holy Words Long Preserved (Ancient Words)</dc:title>
</cp:coreProperties>
</file>