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185-9647-4107-950A-8E9802E8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2E3-4829-41A8-976D-05B0CF72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6A1-DAFA-40B7-8F1F-291B159C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80D-B789-4F3C-B7E9-F8EFBDF8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004-90CA-42D1-A270-1FFE32DD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705-A3F9-4951-AA94-7EF70828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9AC-BE04-4C4B-BD16-8CD4B05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6E4-20B9-4573-882C-295D3654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CA9-D7ED-4E56-8E1F-27594F4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AD3-1C15-423F-8CC5-E69B03C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7F1-F81B-4C2E-8A6D-FA21F66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F9C-23CF-4E87-82EA-D2B233FC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34F02-13D1-4C7F-9EA1-77EBF41C77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47Z</dcterms:modified>
  <cp:revision>13</cp:revision>
  <dc:subject>Slavic hymnal Гимны веры христиан, hymn 633</dc:subject>
  <dc:title>Сверкали молний стрелы</dc:title>
</cp:coreProperties>
</file>