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7AB-1269-4CB7-8A2D-DADF49CF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64A-BE95-4946-8EF8-B9D7F830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D55-4F69-4603-98A4-B581E394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D96-76DE-4918-BCB9-5527E61F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B5D-31BC-412F-907F-60372F6C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543-12B1-4394-B597-9E2C9B57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B65-5C09-4F10-8107-468461AE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799-2CF5-44E1-B2E7-84F5FB6C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369-1F61-4EDE-8739-848E4BE0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6EA-445A-4B56-9516-FC337CAA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B8B-B7CD-4181-B1B9-0BF7B3C5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13B-6ACC-4EA6-9BE7-F2213A4E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302B8-1875-4797-8FF9-7518339AA9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you feel the mountains trem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you hear the oceans r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people rose to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, the risen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you feel the people trem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you hear the singers r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lost began to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, the saving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0   Did You Feel the Mountai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can see that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mighty river through the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ng and old will turn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ing wide, you heavenly gat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pare the way of the risen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up the door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music p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streets resound with si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that bring Your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that bring Your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ancers who dance upon injus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o you feel the darkness trem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all the saints join in on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streams flow as on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ash away our broken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can see that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time of jubilee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ng and old will turn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ing wide, you heavenly gat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pare the way of the risen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up the door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music p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streets resound with si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that bring Your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that bring Your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ancers who dance upon injus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2:26Z</dcterms:modified>
  <cp:revision>10</cp:revision>
  <dc:subject>The Source, song number 80</dc:subject>
  <dc:title>Did You Feel the Mountains Tremble?</dc:title>
</cp:coreProperties>
</file>