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CCA-1878-4EDF-920D-F502E4DA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345-820F-446A-BB6A-1EA1007F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65F-82E7-41AB-B21F-63ECACCA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4FF-A5D9-4F31-8ED3-350360E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20A-C01A-42F9-90ED-E294718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90B-F19D-40C6-895D-FDA58FB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371-5174-484C-9579-DAFA323B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6E0-98E1-4A82-9FDA-DE4440DE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287-25D2-406F-90BA-9A9726F7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793-3A93-48B6-838F-38CE3AC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3D4-ED90-4A0A-ADE2-D64FD7A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9B5-76A4-44FA-BD58-05A045B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E56D6-A698-44E0-A50E-1F08292AA5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ee the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unset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art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evening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the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distant galax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awes and humbl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loved by a God s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38   When I See the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hear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God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hared hum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 by 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cross they nailed You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not 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’re making all things 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rise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58Z</dcterms:modified>
  <cp:revision>12</cp:revision>
  <dc:subject>The Source 4, song number 2138</dc:subject>
  <dc:title>When I See the Beauty (What Can I Do)</dc:title>
</cp:coreProperties>
</file>