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9C0-971B-40A6-AD5F-361D6411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F67-3492-4E5F-8FDD-AB3C2745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D3E-8154-4B50-8219-CA75C62B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9A7-864B-4F07-ACA6-B554E371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15E-E4A6-42D5-B3C9-8DF12799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0F4-74B4-4E4A-B68B-FB480AA1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80F-0E2D-41CE-B44F-8911BDA6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0A5-1CA0-4FE3-918C-AB25ED69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349-8466-485A-B879-8456DA00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B32-24BF-4984-82BE-E5D2200D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549-C481-4D17-9B85-1C8B856F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C64-0772-46BF-826F-BC774C16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A640F-EFAA-488A-81D7-3525FDFDFB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, грешникам,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в огне терз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друга не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ит то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ердца упо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чь жизни раз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с верой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и тень сп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нчины час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Кормчий твой в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4:03Z</dcterms:modified>
  <cp:revision>12</cp:revision>
  <dc:subject>Slavic hymnal Гимны веры христиан, hymn 489</dc:subject>
  <dc:title>Дорогое обещанье</dc:title>
</cp:coreProperties>
</file>