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6F5-070C-4232-A53E-2F03D7C1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ED3-6B47-4C62-87FF-FB38CE1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AEA-FB79-4D7B-9FC1-A4B2F5FA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E02-00EA-4F2C-A23B-681A11C0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CA3-2CE4-48E4-A80B-F9108EA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0F8-630D-451D-83B9-21CA3BA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A61-BD6F-4BDE-8675-8B385585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248-FD56-4F08-B95F-38ED487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46C-2FEB-4412-87A9-EC84C22A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421-FBE5-47EA-981D-0FE08D6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A64-E702-4E45-B830-920582C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85D-02AD-492D-AEDF-4CD5E33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2141-F992-490F-89E0-91217599E1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пи, милый друг, тот 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апол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равь твой светиль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в Твоём сердце заж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ливо ска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покой мой блаженный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мил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 отве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ов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скоре услы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ь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яжите и бросьте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51Z</dcterms:modified>
  <cp:revision>12</cp:revision>
  <dc:subject>Slavic hymnal Гимны веры христиан, hymn 346</dc:subject>
  <dc:title>Купи, милый друг, тот елей благодати</dc:title>
</cp:coreProperties>
</file>