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58C4-212D-43DA-B14D-D04A7B49F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FBDD-0B0F-462D-B96B-FD9AFB02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4437-928A-445B-AA57-50C5059A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ECC5-7354-448A-8BBC-9F022212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DD65-BA66-42C8-BA43-08FBD999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B8E6-C96F-46F1-9BCB-3AA6F8D6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05D1-7D16-4389-A574-78675DBC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43EA-CA8D-41AD-842C-C4F4E624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256D-D1F6-4A0F-8E6B-4A61D1DE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1F80-ABBF-4196-B402-4EFDE368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3EC2-E511-4D44-9AFA-3C8FE592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4F7C-95F8-4D83-A0FA-C514E54C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90111-02E3-42E2-B932-DF34124F6F4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a faith that will not shrin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’ pressed by ev’ry f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ill not tremble on the br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any earthly wo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вера, стойкая в борь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ра, стойкая в борь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уждая вражд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 боишься ни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горя, ни нуж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ill not murmur nor compl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neath the chastening r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in the hour of grief or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lean upon its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лачешь и не ропщешь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рно крест нес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наибольшей тес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ободе нас вед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faith that shines more bright and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empests rage withou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hen in danger knows no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darkness feels no doub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ешь ярче и пол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тревог и см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ечных дней в сердца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шаешь славный тру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give us such a faith as thi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n whate’er may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taste e’en here the hallowed bli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an eternal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, веру нам пош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вято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ще видеть изд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,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7:21Z</dcterms:modified>
  <cp:revision>12</cp:revision>
  <dc:subject>Slavic hymnal Гимны веры христиан, hymn 851</dc:subject>
  <dc:title>O For a Faith that Will Not Shrink / О вера, стойкая в борьбе</dc:title>
</cp:coreProperties>
</file>