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B63-6E23-4A49-92FC-D95272B1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4D7-0292-4557-8C03-DB6611A2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2DD-3A12-4D12-A88F-EA972E91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360-A9D1-4E32-96EB-03BE1477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9EF-5286-426A-B6D4-30AE55D4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84F-D798-42E2-867E-53993FDE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1CE-7888-4781-BD39-07A59CF0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973-25D2-4B8A-987A-DB091F85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BC5-21AB-4B4C-B2D4-66EED285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90D-29CA-4D40-AD68-6A21A32A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91D-4184-4345-A5EE-01915B6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7DF-A13A-481C-898E-9C64F48E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F2489-A998-4BD5-801F-757617352D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руках 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’tis the voice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e in a song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field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jasper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есть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ёт меня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аст мне место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from corroding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from the world’s tempt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cannot harm m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з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в сердц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the blight of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my doubts and f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a few more tria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a few more t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для Него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 и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heart’s dear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di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on the Rock of Ag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my trust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го лиш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let me wait with pati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 till the night is o’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 till I see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 on the golden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ла пройдё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ле этой 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еч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5Z</dcterms:modified>
  <cp:revision>13</cp:revision>
  <dc:subject>Slavic hymnal Гимны веры христиан, hymn 643</dc:subject>
  <dc:title>Safe in the Arms of Jesus / В руках я Иисуса</dc:title>
</cp:coreProperties>
</file>