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CE30-4ECA-4DF9-B0B3-67400F1DA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C616-D7D6-4159-9819-8D63149EA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5997-72ED-47CE-A884-EE3BDD070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F61D-DF1B-4857-AA41-E4C67217F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35EA-A3ED-4A00-837A-0CFBF2C1F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3DE4-D022-4230-9C71-60291CFF8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BB37-09F2-4C9A-8BCE-77ECD78E5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AFB4-58BF-4922-B6B2-7AD9FDFAB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51D5-8A9F-4B6E-B562-6BC8FB44E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83EA-F5F2-441D-B544-3B53C67A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3337-CD00-4538-A6C4-32D00D2D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1113-F0E4-4783-80FC-6BEBBE2A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D4084A-A9A1-4EB9-A96B-E69F186A19B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ины Христо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ло в жаркий б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а гото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ртвовать с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ждь небесный с н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мы побед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ьётся наше зна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жно вслед за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8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ины Христов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ины Христо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о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Его покро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победа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полки отборн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ерковь Бога 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ступает строй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Он чудно сл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 Он повел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едино в 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ере и в уче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ужестве свя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ины Христо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о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Его покро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победа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оны и кор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ют, словно лё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Христова церк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пережи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д не превозмож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бранных Христо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о слово Бож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ен Он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ины Христо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о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Его покро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победа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и, поспеш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армию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у посвят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уки и у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ен и чуд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Иисуса труд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и лю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сть Ему по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ины Христо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о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Его покро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победа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09:12Z</dcterms:modified>
  <cp:revision>13</cp:revision>
  <dc:subject>Slavic hymnal Гимны веры христиан, hymn 486</dc:subject>
  <dc:title>Воины Христовы</dc:title>
</cp:coreProperties>
</file>