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93C-7773-4B13-A0B8-D70C45D9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CC2-DB6D-4553-9C7E-4BC04BAA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10F7-2103-48C4-8064-6F0F8FE6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6D5-216B-4CD4-9462-D58F02F0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BB8D-678D-4207-85C3-424BD91C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DE6E-B6C2-44B5-A438-36951C36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EB3-6859-46D4-9009-2A9C07C7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1785-8222-4BD6-8D80-C9224841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85C-A701-4068-8151-6F6D0EF4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A5DB-C3EF-4355-A211-E609030F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08F-1599-4F2C-8354-4B13AB76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610-35F0-4A70-8014-E1E5D1CA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06881-96F2-48D5-9EA5-0026DFE5BF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re am I on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let my words be f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am so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stand in awe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’ll stand in aw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let my words be f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am so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43   You Are God In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implest of all love-so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bring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let my words be f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am so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stand in awe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’ll stand in aw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let my words be f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am so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2:30Z</dcterms:modified>
  <cp:revision>12</cp:revision>
  <dc:subject>The Source 3, song number 1643</dc:subject>
  <dc:title>You Are God In Heaven (Let My Words Be Few)</dc:title>
</cp:coreProperties>
</file>