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D10-D163-4DC1-988F-D2B7864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E56-428A-4969-A6CE-D8C3ED5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E16-C54A-4B21-89DE-7F3FA31B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6D8-FB23-479B-BE0F-4329FF6B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629-ABA8-4A05-B7F0-E593B01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E93-27CC-48A7-8070-5ACE215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A6C-D0E2-417B-ABB2-F7FB5C9D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998-C04F-480A-94CF-EA8DA835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750-4DB9-44E8-BB98-77C29282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956-D7D1-4911-B540-B51D1B8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A47-8A40-4312-91C2-7EEB20E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1D5-7BB0-40F8-99F4-394529F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7EC7-E510-4827-8F53-746C9D34BE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orn, when the day is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unlight through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dow is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Jesus will come in the fullness of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receive from the world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зарёй, когда утро нач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ечный луч сквозь туманы пробь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ёт Иисус в полноте Свое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idday, it may be at twi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, perch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blackness of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burst into light in the blaze of His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и в полдень, иль в час полу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запно увидят Его наши о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будет идти к нам с источником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ts hosts cry Hosan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heaven desc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rified saints and the angels att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race on His brow, like a halo of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Jesus receive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инства Божии, с неба спуск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и спасённых, с Грядущим слив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месте Ему воспоют песнь хвал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joy! oh, delight! should we go without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ickness, no sadness, no dread and no c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ught up through the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our Lord into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радость туда перейти без страд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боли недуга, без мук умира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с Господом в славу Его восхищён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5Z</dcterms:modified>
  <cp:revision>13</cp:revision>
  <dc:subject>Slavic hymnal Гимны веры христиан, hymn 315</dc:subject>
  <dc:title>Christ Returneth (It May Be At Morn) / Быть может зарёй</dc:title>
</cp:coreProperties>
</file>