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39E-CF25-4B4A-AF58-8FEDA45C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6E53-8322-4CD2-93E7-6F4682A9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E213-5307-4B54-9789-364A91FD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B410-22D2-4868-88C9-2E924622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5227-CBBE-46B6-A6E8-BB1AE9F4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9ADC-EAC9-4FC3-B1A6-B3ED7E79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DABF-55E8-45FF-BE48-02704553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C04-FFD6-48EA-BA0E-4F71A2BA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D52-EF81-4A96-9D71-FEE02AE6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15B-BD57-4E3D-99DC-52CC7D9E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48EB-07E1-4F24-A97D-DB4045B8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780-CF2E-4E43-ACF9-D27489E7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2D306-F1F5-4C92-8AB5-86BCC08E46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ишлець в земній доли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угом мене чуж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вище зір небес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я рідна стор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7   Я пришлец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тчиз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тець мій благ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я родин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они в рідній сторо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я блукаю по чужи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гріхи скрізь і нещас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енависть і злоб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там край, повний щас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любов живе св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тчиз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тець мій благ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я родин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они в рідній сторо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я блукаю по чужи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мене всі зневаж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навидять тут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там, там мене люб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й рідній сторо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тчиз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тець мій благ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я родин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они в рідній сторо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я блукаю по чужи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мені смерть загрож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цій похмурній чужи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життя мене чекає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й рідній сторо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тчиз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тець мій благ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я родин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они в рідній сторо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я блукаю по чужи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1:28Z</dcterms:modified>
  <cp:revision>13</cp:revision>
  <dc:subject>Slavic hymnal Гимны веры христиан, Ukrainian hymn 27</dc:subject>
  <dc:title>Я пришлець в земній долині</dc:title>
</cp:coreProperties>
</file>