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8CF-30C9-48C0-8A7C-501F88C0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3DD-1B90-4F3D-BB2F-DE762EAD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328-C19A-4D7A-874F-E5275344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914-1B60-43FE-9D0F-C8A23334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355-46A4-44FF-AA61-FBF7B75C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A8D-684B-4BA9-AE4F-1E58F2B9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771-91C9-4A4B-9806-34DBE069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8A0-7658-4566-9B24-A693FF89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37B-3561-4CBF-BD0D-B82897CA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253-A06A-41C8-A7C0-94A0AE8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E1A-BD6B-4CDC-965E-5D1B143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CCC-CA32-4E7C-B007-2B3C52BA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7853D-8B96-497B-A6CB-81FD0A64EE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Боже, Тобой я из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Твой тернистый,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же людьми я, не знавш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бирь за любовь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ёлые цепи на ноги од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свой звон по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чудны и дивны слов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авду я должен тер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Боже, мой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жу за решёткой, так тяжко и бо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мыслях моих лишь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ди забыли вели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т законов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юди, вы — братья, познайте же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законы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ужья, и пушки, и все пулемё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перекуйте вы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ужны нам гордости, мести оруж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ужны плуги да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ышли на нивы Христовы вс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полагали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ивы Христовы давно уж пос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до нам Бога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ыслал жнецов на поля и на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ать, собирать и 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00Z</dcterms:modified>
  <cp:revision>13</cp:revision>
  <dc:subject>Slavic hymnal Гимны веры христиан, hymn 517</dc:subject>
  <dc:title>О Боже, мой Боже, Тобой я избранный</dc:title>
</cp:coreProperties>
</file>