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7887-8F6D-4B48-9C86-BB275562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C5CD-63D9-41F2-B2A5-1447F6F8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1293-0A93-4993-B0C5-C4E6C32C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6FBA-DE09-4073-927F-A99BE5D6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E9C9-B0E5-4E6E-983F-F5408A0A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39A2-503E-4936-BAE3-4E0F47AF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0A85-D012-4543-835B-C7C8AA05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3313-2D46-485C-8B4D-87B73538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8D5A-0EAA-4C9E-BC7B-6912F3B1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3E59-EDFF-40BB-8B5C-3335B458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CB85-05A4-4E35-B3EF-867CB19C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65F6-FC74-4E2A-ABA1-FFAC61C1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6F8D9-75C5-45BB-82B5-794BA5A0122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б пере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и я речи мог друг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искал, дай мне иск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х по путям зем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меня, чтоб я вод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вёрдых любящей ру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ми меня, чтоб я корм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дных манною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ажи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укрепи меня, чтоб с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репко на Скалу ве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мощь гибнущим да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звал укрыться под Твой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, Господь, чтоб мне пости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их заветов широ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м дай крылья, чтоб дости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ец замкнутых глуб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й мне чудный Твой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покоить мог дру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ушам, скованным то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стником был слов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наполни так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знь в избытке полила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, светом для людей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Твоя во мне зажг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треби, Господь,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очешь Ты, когда и г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бы прославил я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г служить Тебе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28:26Z</dcterms:modified>
  <cp:revision>12</cp:revision>
  <dc:subject>Slavic hymnal Гимны веры христиан, hymn 826</dc:subject>
  <dc:title>Скажи, Господь, чтоб передать</dc:title>
</cp:coreProperties>
</file>