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BB-4DCD-4340-8405-ACDCC3D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EEF-5583-4354-B0DC-0B0B4B58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11C-9536-4C26-8333-372594EB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C23-7A39-4ED4-8802-0EADA6CB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62C-5C5F-4C56-9D0D-C3B42D6E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0A9-6CD2-4F7D-B550-1896873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CC0-FCC0-4CA6-9DCC-14DD8A8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45A-295F-4B11-9C3F-00A5E4E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684-FE02-4D48-B93C-F17DE537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B8B-4E8E-4257-A975-AF0DED4F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6D6-9906-41C5-ACB4-02FBAFF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0AF-0B62-436A-82B1-CD8602A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1A94E-5657-478C-BD62-2420289DF1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для Бога, всё 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ты не назы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,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ервый пыл от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в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— су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в нём от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лаженство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для 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ирай борцов за в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руг знамён Его пол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опись, пока ест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тысяч душ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без Господа влач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 им, что ты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паситель твой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идетель ты пред 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, что видел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овь Свою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ым дал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них дней твоих вес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Ему и зре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ень жизни — се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себя всёц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то предал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л презрён и бе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кто был Христу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награды не тер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 тебя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покой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03Z</dcterms:modified>
  <cp:revision>12</cp:revision>
  <dc:subject>Slavic hymnal Гимны веры христиан, hymn 443</dc:subject>
  <dc:title>Жизнь для Бога</dc:title>
</cp:coreProperties>
</file>