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D3D-7883-49D3-9B88-B2FBAD48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DD4-93A3-4C3D-BCC6-AC345B4E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C1F-0CCA-4C63-BEA5-95C0F2FE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40A-1BA3-4973-92E0-B8A74279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EF3-7915-4F45-B03B-BAAF2AFA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DC9-005F-4C5D-8317-A986172B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339-A50B-4568-8C70-E80D30B9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F72-25F9-4403-A941-E65641E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F29-11D3-4AF9-83C9-8554B9A4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02B-93AF-4C18-AEE4-584900A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429-C37D-427A-83F4-2F2375DC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0D8-8DEB-4CFA-A72C-D7CB8AC9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E2509-4F6F-425E-BFE6-18B091B08F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Jesus be glory, honour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kingdom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s from His throne unto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anthem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ajesty, Worship His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exalt, lift up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gnify, come glo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Jesu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who died, now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all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04Z</dcterms:modified>
  <cp:revision>12</cp:revision>
  <dc:subject>The Source, song number 346</dc:subject>
  <dc:title>Majesty, Worship His Majesty</dc:title>
</cp:coreProperties>
</file>