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2B1D-3A0D-447E-9C5D-F234FABA8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6276-83B4-436F-997C-B42D5534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7063-1853-4F77-B40B-9752D4724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ABA0-EC29-4676-9E2E-6EF9B4768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1A5F-6DAF-45A5-B20B-C5C86FB8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4F83-D7B0-47F9-8F8B-D8BA736D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5B80-BE37-40E6-82FA-227BB7E3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CF48-93F4-4204-B4F2-B226BCBB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EF97-1EA2-4DFA-8A6F-DC17DF08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AD62-D360-4EBE-BBF5-F50CFA4F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926B-429F-4C35-8A59-4DA20B12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717B-D737-4AC9-8E4C-D670E8B3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78280-0AAA-4959-9A59-F36CDC1A858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те все, кто пла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се дни живёт в тоск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о Мне залог уда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пость лишь в Моей ру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е терпит зла, насил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желает обр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скорей под кры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езотрадного пу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придите все, кто плач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те, кто от жаж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нывает в лютый з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, кто однаж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изранен сата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е терпит зла, насил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желает обр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скорей под кры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езотрадного пу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горя вы терпе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ас долго грех терз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к светлой ц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сильте пере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е терпит зла, насил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желает обр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скорей под кры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езотрадного пу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ывши день вчераш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те все Моим сло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м со Мной не будет страш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ы Я обмою в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е терпит зла, насил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желает обр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скорей под кры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езотрадного пу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обижены, несчаст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с терзает сата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и крылья безопас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под ними тиш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е терпит зла, насил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желает обр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скорей под кры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езотрадного пу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росли бурьяном ни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 людской живёт, гре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ужели на призы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ликнется душ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е терпит зла, насил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желает обр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скорей под кры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езотрадного пу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53:27Z</dcterms:modified>
  <cp:revision>13</cp:revision>
  <dc:subject>Slavic hymnal Гимны веры христиан, hymn 368</dc:subject>
  <dc:title>О, придите все, кто плачет</dc:title>
</cp:coreProperties>
</file>