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1B5-0C80-4185-B36A-23426490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432-9DAE-4A47-B929-DF152763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393-8FDF-4040-AB36-4F8D1EF6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463-DF51-4DCD-A937-38C8D438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3CD-02FC-4ED2-BF6F-A7BC5190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E9D-EAAD-497B-835D-6D4A315F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1D7-8FD9-4556-8585-36CD6C71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181-DE9A-4790-B74A-11F8B83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FE3-AD73-464A-B9AA-C32A1ACA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836-DF7B-4044-9FD4-376AA50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646-DD32-4904-973B-A35BC6E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9C0-B2D6-4609-A626-92AC0E9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BAC47-3B2B-4ED2-B36F-3B6EEA393F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spend no idle d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is calling thee on the harvest w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ing with a willing hand, s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pra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жизни для Христа радостно сверш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ижних люби всегда, слабых подкрепл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learn where duty l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sp ev’ry passing day as a precious pri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ad to help to sorrowing, glad to sympath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ни все учись считать, праздно не гуля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ань ближним помогать, падших подни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do thy honest 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in discouragements, bear a cheerful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Jesus as thy friend, ne’er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руде не отходи взором о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Господа проси силы для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4Z</dcterms:modified>
  <cp:revision>15</cp:revision>
  <dc:subject>Slavic hymnal Гимны веры христиан, hymn 544</dc:subject>
  <dc:title>Lifetime Is Working Time / Труд в жизни для Христа</dc:title>
</cp:coreProperties>
</file>