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275-406E-4156-B2B7-3CFBC9E7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28A-2A22-442A-A477-E948E2CA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4E4-C453-47A6-82D1-169DFA70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2AA-8C87-4933-AA93-C64C7630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BB6-85FC-4306-AC8C-0B157D1E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5FA-9CB4-4E3C-AD6B-9EDFE9BA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B36-478A-4A75-B401-69474776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296-C463-4265-925D-8AEFDF99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1FD-1BD0-4505-953E-CEE1262B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147-032A-4A30-91FA-C05B346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AE9-6FC5-4F4F-8E47-45D0F5C9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B93-D38F-47CA-9594-10DF8EC1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A2CB1-64A0-4413-9DA4-4F1BBF6ED3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57Z</dcterms:modified>
  <cp:revision>14</cp:revision>
  <dc:subject>Slavic hymnal Гимны веры христиан, Ukrainian hymn 22</dc:subject>
  <dc:title>Come, Let’s Ascend Mount Calvary / Зайдім на Голгофу, друзі!</dc:title>
</cp:coreProperties>
</file>