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888B-C2D8-4C2A-B8B2-9BF4BECF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88ED-E722-4AAB-BF92-3ABFFD6B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CB06-B21C-40CC-9771-11AB2DFD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778F-FE79-4ACB-B55F-80064470E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353D-9191-4EEE-826D-FF5C4B96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A1A9-CD44-421E-AC4C-F3D34060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971D-DF87-4705-A838-282E0913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595B-04C7-4A10-92D4-AD0CCA5D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C7EB-F4A8-49D8-AACB-5F505757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FBD3-3DE7-471E-8D65-062954BC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C742-CE00-4CDF-BBEC-5568EA66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7B54-C1BA-4633-92E2-2208A2F2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8DF2B-4CEE-4042-A4F0-DDE3D6F13E4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, хто радість да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 журбі благ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, щастя у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я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е від з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вжди захис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ез Нього не можу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віті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1   Хто, хто радість да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у жити з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Господом мої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стражданням відкуп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Свої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личе Спас ус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скорше прий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елику рад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е прийня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мій друже, вста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Христа при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, щастя й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ьому й ти знай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1:16Z</dcterms:modified>
  <cp:revision>12</cp:revision>
  <dc:subject>Slavic hymnal Гимны веры христиан, Ukrainian hymn 61</dc:subject>
  <dc:title>Хто, хто радість дасть?</dc:title>
</cp:coreProperties>
</file>