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3D2F-BE96-4AA7-B055-C401F504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8C8C-AB0C-404A-AF84-0E9EF89A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334-C440-4362-9A6B-8EBEAA20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A8C-4B85-430E-A673-8AC3301F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3C9-7970-499E-A234-2AAFDC6E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23A-E2C3-43AB-BA8D-D68797C0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66FB-5301-45BC-82BC-1FC95819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06B-3341-47F0-98C0-F042B655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8C7-DC1F-4B9E-B389-1C57B772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CD8-3388-4566-873D-5834BE9D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1C8F-B4A3-4F47-84C8-7728CF98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FFB-153C-4B2E-A978-7C9149D6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10BD2-C50A-4B18-A9E8-E117784A5F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ободы! Цепи т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разбей в людских сердц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чтоб Дух усыно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астал в Твоих детя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, что в день Пятидеся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апостолов со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той даров бога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твори в нас Свой престо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х свободы! Цепи тл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Утешитель! Скорбя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ие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Твой труд творя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ть сынов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дары нам врачев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пророческих ре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что больше всех дая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дар любви Тв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 верных излива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 благо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нас церковь созид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ней хочешь мир объ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! В любви Отца и Сы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церкви ожи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ольются все в ед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м подвиге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1:58Z</dcterms:modified>
  <cp:revision>12</cp:revision>
  <dc:subject>Slavic hymnal Гимны веры христиан, hymn 299</dc:subject>
  <dc:title>Дух свободы! Цепи тленья</dc:title>
</cp:coreProperties>
</file>