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637-F535-4DD3-9379-DE3D367A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572-3E40-423F-A93C-179932B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F9B-92A4-4AA1-A566-C88CF814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D25-78FD-4616-A66F-C824A581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C6E-6C8C-4FCA-B19B-D4BB547E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181-CF43-4C31-A600-7592ECB3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BFD-A20F-478B-A6EB-CA87786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154-96BE-4B91-841B-1EAC8BE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3BB-5976-403F-9591-BF5201ED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B89-846D-4ED8-9E4F-E3DF352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343-97E1-49F2-B8A7-2AD9679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1D3-D0F8-4367-9FD0-F26F961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BED36-F3F4-44B8-AC8E-BDB2D1D1D2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02   We Will Seek You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praise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ncense, O Lord,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worship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ragrance, O Lord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37Z</dcterms:modified>
  <cp:revision>12</cp:revision>
  <dc:subject>The Source 3, song number 1602</dc:subject>
  <dc:title>We Will Seek You First, Lord (O Lord, To You)</dc:title>
</cp:coreProperties>
</file>