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8E83-2969-4BB4-A3F3-38CCE8F6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BA70-9EEB-496D-811D-0C0D13FA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F640-951A-4ED2-9F32-CF3FDEAA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673-C929-4283-B8B9-93B0D892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B1BA-EAD9-4FAD-8BCF-0119B9D3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11C-9545-48AC-8958-937E13C1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8316-B716-4139-BE9A-55775CE3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0760-5257-4B84-B0D7-8F3D6A46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6AA5-BBEB-46FE-9FEC-04036EB2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D773-B6CF-4A07-981C-D927E1BE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2A72-FCC2-4711-934F-FAAEEF18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4F6-882D-494D-80DB-D95902AA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6534E-7C3F-44CA-9D80-69F07427C7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вой! Христом спа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навек приобрет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я Ему слу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вой! Я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Тебе принад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мею и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к ногам Твоим кл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е св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вой! Христос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стелин душ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енья Совер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жит всё в руке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вой! Я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Тебе принад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мею и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к ногам Твоим кл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вой! Христу в служ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ныне отд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час мой и мгнов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волю, жизнь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вой! Я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Тебе принад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мею и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к ногам Твоим кл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вой! Бог Милост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меня Своим наз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е вечности счастл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удел мне обещ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вой! Я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Тебе принад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мею и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к ногам Твоим кл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5:16Z</dcterms:modified>
  <cp:revision>12</cp:revision>
  <dc:subject>Slavic hymnal Гимны веры христиан, hymn 482</dc:subject>
  <dc:title>Я не свой! Христом спасённый</dc:title>
</cp:coreProperties>
</file>