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AA7-E92F-4830-B45C-45239599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D96-9D98-42AC-BAB4-2C84457B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4CE-6937-4BD0-901E-CFA4F3F0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AE6-8A6A-40DC-B13F-3C164A69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E6A-AAC7-4EA8-9330-DBBCC1E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5DC-F690-4DDF-9680-DE9B83D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AC5-EF88-4095-88CC-AE2CDEF7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148-5BD0-4067-BA80-0EA5B39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47C-BAC8-4ED7-861F-E018EE4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010-8D9E-4A6E-8602-FE02DCF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6A5-7582-4282-9198-0C7581D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145-0AD8-4F23-AE2F-7E413AF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D29BD-1558-419F-A6F0-9FC3E109AC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j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34Z</dcterms:modified>
  <cp:revision>9</cp:revision>
  <dc:subject>The Source, song number 438</dc:subject>
  <dc:title>Rejoice!</dc:title>
</cp:coreProperties>
</file>