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D21F-8DC1-4934-8E05-EB053914E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CFB6-53EF-4035-AB5E-05EFF2053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EBE9-1678-44B1-A696-83320DD7D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1025-9742-49ED-9891-98A5B2651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F080-2FF2-4809-8154-DE4CE8EE5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F8DB-5E68-43C5-9E46-2BACDF92C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CF00-C372-40A5-AED4-1217DF02A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4B99-C7D9-4590-BC47-7F8B69854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E98E-8EF6-4213-AA37-921C0C9CA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3E33-3EA9-458E-A81B-CEF9403E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9784-179F-417F-9571-C6193192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3D4B-1CB8-4937-A4B2-4C8F427F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20EF86-082E-4FCC-9CEB-31DB634A0E3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Jesus, I have promi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serve Thee to the 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Thou forever nea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Master and my Fri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7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паситель, обещал 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, обещал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жить Тебе все д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ы в земных скитань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от зла хра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hall not fear the bat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Thou art by my s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wander from the path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Thou wilt be my Gu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у я в битву сме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со мною 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клонюсь от де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страшусь враж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et me feel Thee nea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orld is ever ne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ee the sights that dazz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tempting sounds I he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будь всегда со мно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близок мир ко м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ьстивой мишур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лечёт меня к с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foes are ever nea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ound me and with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Jesus, draw Thou near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hield my soul from s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г действует укры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аружи и внутр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будь моей защи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ьму светом оза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Jesus, Thou hast promi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all who follow Th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where Thou art in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shall Thy servant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, дал Ты сло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лицом враг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Где Я в грядущей слав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будет Мой слуга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Jesus, I have promi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serve Thee to the 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give me grace to fol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Master and my 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служить хоч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окладая ру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ы, мой дух врач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читель мой и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4:49Z</dcterms:modified>
  <cp:revision>13</cp:revision>
  <dc:subject>Slavic hymnal Гимны веры христиан, hymn 478</dc:subject>
  <dc:title>O Jesus, I Have Promised / Спаситель, обещал я</dc:title>
</cp:coreProperties>
</file>