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82E-1072-40E4-9F68-25BCA73D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589-E131-4DA0-B9A8-E7E4B06C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259-4877-4D16-9351-B25270E8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729-C172-48DC-B101-E44D3867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EC7-A241-4B48-BC62-24263AD0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AFF-CFA4-44A2-B23A-EAFD6B55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130-139A-4092-A279-B66E8F41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F7D-CAC6-4FA4-9AB0-4FFA7709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7CC-6649-445C-8E19-8A20E32E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87B-C11D-4CD9-A0EB-E8F7C23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299-6C81-422A-9715-BC3E91ED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D19-0D29-4D02-B380-A9FD42A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BD26E-0D69-416E-A8C3-6922C3E0FF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м и 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ждёт боль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доме сделать для нас ую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бёнок всё лом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терпит душой за на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то не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жизн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овно прот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асто плачет в мольб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уроков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юный ум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обро, ненавидеть гре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ревог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кой вперёд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сь за сына иль дочь св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нько прол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удном сыне, что в грех погря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всех 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Бог в двери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де-то молится горяч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 мол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ердце сокруш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приводит страстей раб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15Z</dcterms:modified>
  <cp:revision>12</cp:revision>
  <dc:subject>Slavic hymnal Гимны веры христиан, hymn 778</dc:subject>
  <dc:title>Никто не знает, как там и тут</dc:title>
</cp:coreProperties>
</file>