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4A1-6CE1-4223-8C14-A1ACD9A1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6E1-099A-4A8E-ADAC-1196BC8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5EA-881F-4F24-8535-5FC345CF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B4B-EA4C-495A-B78E-11E63485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3C1-41F0-4F2D-8453-30D33C8B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64A-6E42-4E3C-939E-2E26F430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C91-4B64-4E16-B48E-EE10E8D2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314-DD93-402A-A865-9C71D00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F92-F369-4942-A1A9-12FF9BB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F92-D1F2-4D7A-9994-3F5BCC1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670-12B0-4A47-9907-24E30E5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6C3-35D1-4EA5-8A83-006097D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8D2D6-F631-4CCB-92BF-B84E546902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48Z</dcterms:modified>
  <cp:revision>13</cp:revision>
  <dc:subject>Slavic hymnal Гимны веры христиан, hymn 239</dc:subject>
  <dc:title>О, малый город Вифлеем</dc:title>
</cp:coreProperties>
</file>