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572-770A-4AC9-85EA-4EE7F4D6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690-A42A-49E1-8DCE-4FF334F6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EAB-064D-43EF-9370-1890A4CB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0C7-5CC1-4B49-AF44-C8F56347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DF3-2561-46B4-BDCB-3BEA76F8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429-0867-4185-AA0C-2D7B549F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76D-6D80-4559-92F1-7A0E32E9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C42-C231-4588-94F1-07A3ACE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F0D-CC84-47FB-B11D-FAABB97E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968-B5BA-4EA6-BB69-8A2E44CA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51B-26BA-4D70-B740-AE00C5C4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795-8A22-40A4-BEFB-8AE76CBE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824BB-7E0E-4E1D-A583-F6F508E6BA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веки жить буду 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бес кра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и по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перь Его Духом во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двластен Хри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зобильи Он всё мне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 я в мире не 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щит от враг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слово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оих Он в свой час забер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 вы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Отца С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 шумом земное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2:52Z</dcterms:modified>
  <cp:revision>12</cp:revision>
  <dc:subject>Slavic hymnal Гимны веры христиан, hymn 598</dc:subject>
  <dc:title>Я подвластен Христу</dc:title>
</cp:coreProperties>
</file>