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70B-E819-4C82-B5F3-DB61473F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702-5894-4F76-9AFB-1DDB44C9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780-A60F-4F06-B8FF-3FCD30C0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5E9-8F46-49A2-95B7-BD9AF69F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3F3-9EC7-4E96-A482-8CD38917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9FE-8BE4-4887-8CBC-031B281E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C98-C837-4D98-987C-5841FF8A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5BA-A2AD-495E-9544-FBF58841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B14-CD48-43A8-BDF4-59774EB3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B14-7A2A-40F8-B301-79892815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718-53FB-4C4A-93D8-1C2CCF51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83D-5110-48C5-BD40-50EE3FD5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4F90A-EE0D-4E4B-B335-17843F6D16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hed my sin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O happy day! 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0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Happy 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aught me how to wat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tch and pray, watch and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ve rejoicing ev’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, ev’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hed my sin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O happy day! 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5:26Z</dcterms:modified>
  <cp:revision>11</cp:revision>
  <dc:subject>The Source 2, song number 908</dc:subject>
  <dc:title>O Happy Day!</dc:title>
</cp:coreProperties>
</file>