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BC62-19F2-409F-836C-40F7F688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6810-630B-4B35-B3A7-E41AFAC7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71F-E753-4947-8827-5D408E81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7A5-87F7-4B06-B603-1D591863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6E7-5547-4329-B675-665075E3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EE92-4678-4A2B-96DF-7A8C6251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5DE2-90AC-4F26-940D-C4B79FC6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D0F7-8E62-48F6-82F5-A1824ED1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6E6E-A875-44AD-993F-70A6A245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767-7FE1-4590-AE85-77EDB7B7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60D-4D78-42C0-B682-39D919AE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B8E-F750-4BE6-A870-C6E5B425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2A0C0-B5E6-4506-8C49-ED47DD8B76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склонялись н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солнечным луч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нецы, народ счастли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 каждый со сноп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ной глядел уны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дома сво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аб, к труду нет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ела Твоего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дали склонялись ни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 ночи путник даль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к дверям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кан с водой криста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нес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освеж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путник вдаль у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ноп позолоч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их дверях на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Богу со слез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л он: «Сноп 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ёс я, но не м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язан, Власте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ы во имя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хожему я д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утро у пор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оп этот увидал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ово утеш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ал он: «За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упок в награжд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лен сноп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кто, страд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силах жать в пол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скорбным пом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т свой сноп в дверях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3:29Z</dcterms:modified>
  <cp:revision>12</cp:revision>
  <dc:subject>Slavic hymnal Гимны веры христиан, hymn 523</dc:subject>
  <dc:title>Вдали склонялись нивы</dc:title>
</cp:coreProperties>
</file>