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CA8-E323-42A3-90D6-A4D3CB42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655-CEC3-4C8E-AFCB-8D568741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C4B-AFED-496A-94BE-43FF9E0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5DB-1973-4852-B1B4-E9E60E12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FA5-57E9-4BCA-A0BA-66C9865F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31D-F736-4506-B3F2-0DFF675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CF7-ED92-40D4-B33E-4848FBA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BE2-20D5-48E5-B0A8-20692569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81B-27AD-45F2-8043-36461CBA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527-049F-45A9-94F5-0DD945A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EF1-C642-483F-8369-7C0B5A5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88D-1493-43E0-A8D3-7727887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95CE-2EB3-4C55-A7CA-1C5FEB2AD9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00Z</dcterms:modified>
  <cp:revision>12</cp:revision>
  <dc:subject>Slavic hymnal Гимны веры христиан, hymn 612</dc:subject>
  <dc:title>От греха я спасён</dc:title>
</cp:coreProperties>
</file>