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005-1462-4493-B9D2-3BA48193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5E5-2466-41B6-B3B9-1004DA5E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C68-630C-4B0A-8F6E-8431EE23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7CB-9B21-4EB8-A364-7D38EA01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1D6-BE7B-46E7-984E-8EB2AD88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16F-D9C8-482B-BA7F-27098D90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ED1-C9A3-405A-A04D-371F1672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F71-E638-48BF-A90F-AD4AC18F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5DC-7D6F-46F6-B735-E2D5C000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842-7AB6-4B69-B533-E3A7C614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5F2-F28A-487C-8FDF-D2A470D7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EF4-8522-4F08-91FE-D325E251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946A7-A858-4FEE-BE6F-D700653574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servants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follow th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Master has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 к тру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ги Господа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пойдём, чт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ам пр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robe and a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our labour re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небесн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рует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home of the faith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dwelling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out with the ranso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обитель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одвор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и песнь вос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balm of His coun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ength to re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do with our m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our hands find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овета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нас напр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илы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обно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hungry be f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fountain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ry be 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чущий хлеб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жаждет, к источ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 and its b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lory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herald the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мы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слугой сво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abour for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kingdom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rror shall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мрака и лж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ь должно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love of our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xalted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ud-swelling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славить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ржеством воспе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6Z</dcterms:modified>
  <cp:revision>13</cp:revision>
  <dc:subject>Slavic hymnal Гимны веры христиан, hymn 525</dc:subject>
  <dc:title>To the Work! / Все к труду!</dc:title>
</cp:coreProperties>
</file>