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60360" y="395280"/>
            <a:ext cx="953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Did Not Bring Us Out This Far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did not bring us out this f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ake us back agai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us out to take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Promised La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re be giants in the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be afrai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us out to take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791856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Promised La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4:46Z</dcterms:modified>
  <cp:revision>3</cp:revision>
  <dc:subject/>
  <dc:title>God Did Not Bring Us Out This Far</dc:title>
</cp:coreProperties>
</file>