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60360" y="395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ear No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not, for I am with you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not, for I am with you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not, for I am with you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ys the Lo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redeemed you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called you by na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ild, you are M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walk through the water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e the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fl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ot (no way!) be burn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ot (no way!) be drowne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with yo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no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4:21Z</dcterms:modified>
  <cp:revision>3</cp:revision>
  <dc:subject/>
  <dc:title>Fear Not</dc:title>
</cp:coreProperties>
</file>