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D2D-8758-438E-8F3C-2A788DF5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75D-81B8-4A29-9031-D8E35E7F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3CD-8E67-4C1B-9399-75BA625D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2E7-D073-41F1-973C-F7E1C66E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663-8ABF-4C01-AC57-97CFA763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232-AF22-4A89-9AE7-CD69CE8A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1B2-755D-4F39-8F3F-BB364D31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B58-44A2-43A8-8E2B-E602869E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015-42CE-49B0-9639-B8BC86AE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DC1-A688-42EE-BC2D-180F8B4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65C-EC6D-4BD5-9290-A04318B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AA0-0521-4EA1-942F-DD42144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2F1B6-4C18-45F8-BF7B-8D1ABF8995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2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pen the Eyes of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 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in the light of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 out Your pow’r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oly,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 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in the light of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 out Your pow’r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oly,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46Z</dcterms:modified>
  <cp:revision>11</cp:revision>
  <dc:subject>The Source 2, song number 926</dc:subject>
  <dc:title>Open the Eyes of My Heart</dc:title>
</cp:coreProperties>
</file>