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DA10-13D6-4444-A448-E3558EEF5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FDA7-D084-44D5-9373-774ED257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C040-4778-44DE-A561-1786770E8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F5CB-71E9-4F70-9AF0-80B6FBB48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ADAA-8A6D-4818-AB61-28B2CF29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809B-36C7-49EE-A73C-3D0A1FDB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1CD0-D11D-4595-BCAE-01FB4E6F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C609-ECA3-4E0B-8976-6B10D55A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2B24-B2B1-4438-B3F8-69D2FD0F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B0C4-B889-4561-9BEB-A57F8320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44FE-BEF2-4CB5-BF5E-586C7D7B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8967-66CE-4CA3-951E-AA501C3A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8BF44-898E-46B2-BF7C-39E532BE1C5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lift my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my soul, rej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1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лю Тебя и пою хвал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ю хва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жу Т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 ду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joy, my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what You h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it be a sw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 sound in Your 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, мой Ца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души м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усть будет рад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а песнь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11:36:02Z</dcterms:modified>
  <cp:revision>11</cp:revision>
  <dc:subject>The Source, song number 214 in Russian</dc:subject>
  <dc:title>Люблю Тебя и пою хвалу / I Love You, Lord, and I Lift My Voice</dc:title>
</cp:coreProperties>
</file>