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29D-2A47-4B65-8187-4A2AFBA3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49F-FFF0-478B-9A04-32A30840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5D3-17F2-48A3-97E9-71F1557D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5CF-E6B2-42FB-8421-E9DE128F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F55-9517-49D3-BAE9-ECEAEF1A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5D0-DD1A-4F3A-86AE-4ABE6C88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294-0DAF-4A2E-A459-ECC9DD91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D22-F8ED-432C-884F-738686AA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9D0-FA2B-44F4-BD81-CACDCA63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2CA-56F0-4F13-AC74-193B91F6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CF5-4679-41C0-A461-6F9D3B5A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A9C-9D93-44DF-968E-9170FE3C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7CAB1-DFBE-4AC7-BD90-506AA4E062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amazed in the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the Nazare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nder how He could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inner, condemned, un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гда удивляться я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удивляться я долж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что нас возлюб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я был неправды испол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кровь за нас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it was in the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ayed: “Not My will, but Thi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d no tears for His own grie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weat drops of blood fo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 за нас в Гефсима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, воля пусть Тв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претерпел Он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ранах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ok my sins and my sorr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ade them His very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ore the burden to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uffered, and died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ангел от Бога нис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, чтобы подкреп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Гефсиманской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олжен был я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the ransomed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ce I at last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joy through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ing of Hi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а небо пре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Христа уз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Он грешников 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я гимн 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11-06T11:21:42Z</dcterms:modified>
  <cp:revision>12</cp:revision>
  <dc:subject>Slavic hymnal Гимны веры христиан, hymn 904</dc:subject>
  <dc:title>I Stand Amazed in the Presence (My Saviour’s Love) / Всегда удивляться я должен</dc:title>
</cp:coreProperties>
</file>