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3E4-65AF-4CDA-9EDC-649A1154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6E0-84BD-4506-AFE0-566E2155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07F-B2ED-4AAE-8555-1BF5D07D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94B-FA44-4137-A4BC-A79DC2A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C8E-A05E-4826-8CF8-21DCC222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BC3-5373-4AD8-943B-F7C9D7B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198-47D2-45A1-BD87-6F68D59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F1C-0862-4DBB-823D-0782E7B5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4AC-BED7-4EA0-B2CE-FD03FD5A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33E-45B4-4B65-B603-9766791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779-5F50-4FC4-8816-0E2A2A9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653-DDDB-4C9F-A7C6-1FB276E9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5216-B38F-4A26-8118-EBD2DD322F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51Z</dcterms:modified>
  <cp:revision>12</cp:revision>
  <dc:subject>Slavic hymnal Гимны веры христиан, Ukrainian hymn 79</dc:subject>
  <dc:title>As News of Your Impending Death / Коли Господь ученикам</dc:title>
</cp:coreProperties>
</file>