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645-1BFC-412A-9606-142C2474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50A-4AAF-43A3-BB22-BF07D952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38B-8458-454A-82A1-6D24827D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494-583A-40F1-9E8B-EC95F317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998-F35C-40B0-989B-09D8FCD5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356-01FE-4A3F-933E-3DBB3A5E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DCD8-EE5D-40F1-998C-8CF8D9D1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A57-D43B-4ADB-82A6-4B40D25F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CF0-9ED4-481A-B16E-BE390F7D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CA7-6F6D-4A71-B21A-8A62B39C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8F10-30FF-44DC-BF5B-7AB9631D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390-3350-4EB4-B36C-A5934B0A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F45C3-7634-4AB9-B6AB-4252F7F062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ірко плакав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корботній зем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ьози чисті лилися з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даремно Він плак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бачив у з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арно гинучих бідни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9   Гірко плакав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чого же Ти плач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ю наш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е храми Твої не блищ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ж не Твій віковіч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естол в небес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страждання Тебе тягот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, Я плачу за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лю Свої сльози і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иніс вам на землю небесн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 ж за це розіпнете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дивлюся в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людей, як браті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траждають в гріхах на зем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е згадують 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за них Я пр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увають страждання Мо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 плачу за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лю Свої сльози і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иніс вам на землю небесн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неї розіпнете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молюся за в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ною куплені 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рийміть святу жертву М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даю ва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олитій кро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ддав за вас душу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 плачу за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лю Свої сльози і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иніс вам на землю небесн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неї розіпнете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6:24Z</dcterms:modified>
  <cp:revision>13</cp:revision>
  <dc:subject>Slavic hymnal Гимны веры христиан, Ukrainian hymn 39</dc:subject>
  <dc:title>Гірко плакав Христос</dc:title>
</cp:coreProperties>
</file>