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F9B-2FF9-42A0-B8EB-B6A0C9ED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8D5-48A1-45A5-9597-2AF0FC4F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00D-46EC-4F32-B196-A7A18349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3D5-3CFC-4FD7-A31C-079D0069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411-5188-46E5-9636-8C7CE13A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F16-B134-46E3-9AD5-EAC64FCE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699-707E-46F7-93EE-A2BDE0EA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31F-6B67-4B54-9F2F-6DFE50D1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CB8-7DD8-4162-A7DB-3B7BB33A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0FD-B3EE-491A-9083-E9550C3D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108-E591-4AF9-93B2-0E228AC6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A08-2FAD-4F04-AF0D-799EDDA2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4A3AB-1659-47F1-A1DD-A56BBC6D85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овцями людей, ловцям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и все Моїм слі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, аліл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7   Я зроблю вас ловц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9:10Z</dcterms:modified>
  <cp:revision>12</cp:revision>
  <dc:subject>Slavic hymnal Гимны веры христиан, Ukrainian hymn 47</dc:subject>
  <dc:title>Я зроблю вас ловцями людей</dc:title>
</cp:coreProperties>
</file>