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B12-E27C-47B3-866F-2C6AA11B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D8F-C936-4594-9F96-6CBF8DC0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6A48-3C53-4A14-8276-6CBAA20D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70A2-A6C5-49CF-B9FA-05A7C4B3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6AAB-FD48-4606-A13B-CBA2A328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EB39-B6A0-41AC-B080-C50DC81F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056-EA0D-46D1-B71E-7969C7D3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691F-AE15-4612-BA88-176D0396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E968-D42A-4852-8847-A2CCA339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DFE5-E7AE-4DA9-9986-E62527DC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5E8-1CE4-4F74-9665-92A743DD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CC41-15D4-4EF4-8111-694B19C4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9F307-2094-4DBF-A579-B88D15DFB9D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явши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во грехах уми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лагает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лишь Его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явши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жизнь и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очет быть другом т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хра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житейских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ивать Духом Свя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явши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хо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адать за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грешных с Отцом прими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 за все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кровь силь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и и пороки ом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явши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ушай, о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вергн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 для всех только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ься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пребудь всегд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н введёт в чуд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явши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4:15Z</dcterms:modified>
  <cp:revision>12</cp:revision>
  <dc:subject>Slavic hymnal Гимны веры христиан, hymn 404</dc:subject>
  <dc:title>Куда ты пойдёшь, не принявши Христа?</dc:title>
</cp:coreProperties>
</file>