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1E7E-AAB6-4E66-B497-8115222E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439-E6A0-4D59-A395-41D407D2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88C-46A1-40AE-B631-C00B4DCB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8646-766D-483A-8ADC-40FCB279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8A55-A02A-4C38-80F8-81B11A00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605-A986-4C6A-A596-D94C1548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199-85A1-4A16-84C2-6AE34DA3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0737-7AA4-452C-A935-35CBC220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892-FC74-4A67-8E38-01F69B8D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BF6-AD1B-411F-B7B0-118B9E34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A66-E7F0-4D9B-9019-58BD0B35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4CAA-1AED-4131-911D-F22D9A83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4D91B-D89F-4253-8E89-38836E9F471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bury thy sorrow, the world hath its sh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bury it deeply, go hide it with c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hink of it calmly, when curtained by nigh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ell it to Jesus, and all will b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окрой своё г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ой своё горе от взоров чуж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ёз много уж в мире без вздохов тво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йди и подумай в ночную пор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кажи твоё горе Иисусу Хрис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ell it to Jesus, He knoweth thy grie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ell it to Jesus, He’ll send thee relie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gather the sunshine He sheds on the w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’ll lighten thy burden—Go, weary one, p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ристос уже знает о горе тво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бя Он утешит на лоне Сво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ет Божий сияет на нашем пу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мрачных и грустных сбирайте лу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rts growing aweary with heavier w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droop ’mid the darkness—Go, com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m,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bury thy sorrow, let others be bless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give them the sunshine, tell Jesus the 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дца изнывают под гнётом нуж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йди к ним с любовью, утешишь их 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ой своё горе, дай радость други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Христе ищи помощь страданьям тво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13Z</dcterms:modified>
  <cp:revision>14</cp:revision>
  <dc:subject>Slavic hymnal Гимны веры христиан, hymn 438</dc:subject>
  <dc:title>Go Bury Thy Sorrows / Сокрой своё горе</dc:title>
</cp:coreProperties>
</file>