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571-8267-4455-8D6A-7C57FD83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A0C-A932-47FA-BD48-C84A6DC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1C0-8FAA-4C5F-8D93-2EE145F1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D55-CF32-4613-8083-CA45EF1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ACE-CB4F-4692-98EC-BD53299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5E1-EE87-4323-9F59-9C95222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B25-0F68-4289-A2D3-86A573F1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D0D-23B5-4C0A-9151-332FE03B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8C7-7B0E-4046-8647-B3F164E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13C-88D7-4B11-AB78-31FE85C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938-8E0A-4882-89D1-B56B1F8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265-3305-4AA0-8474-9CAFA68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A4852-7220-4535-A981-0BBC8276E6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reign wherev’r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its successive journeys r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spread from shore to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oons shall wax and wan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islands with their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urope her best tribut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north to south the princes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ir homage at Hi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shall endless prayer be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less praises crown Hi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like sweet perfume sha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ery morning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ople and realms of eve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 on His love with sweetest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fant voices shall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arly blessings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displays His heal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and the curse are know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tribes of Adam b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blessings than their father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s abound where’er He reig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soner leaps to loose his ch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ry find eterna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sons of want ar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ery creature rise and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rateful honours to our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 with song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repeat the loud “Am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7:46Z</dcterms:modified>
  <cp:revision>12</cp:revision>
  <dc:subject>Slavic hymnal Гимны веры христиан, hymn 833</dc:subject>
  <dc:title>Jesus Shall Reign / Куда доходит солнца луч</dc:title>
</cp:coreProperties>
</file>