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2A69-956A-4A77-B155-65F17E12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D7A6-AF04-4F74-B8DA-5292B701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55CF-530B-4C17-90B6-BA2659A74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5241-2948-42B2-966E-49154A54A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B5F4-D873-4794-B3AD-00F844F3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CE77-1778-4DC8-8CC6-B218024C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5B0F-0A79-477B-A625-57B8D4DF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815C-8372-49AF-B426-74DE171B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E703-DEB1-42DB-A1C5-95B9DBDD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88C7-D9FA-42F3-994E-AD2A7F1D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1622-365D-48BF-B01C-02D3D50B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F23F-9446-428A-BB31-2D2CBCEF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69CB0-5BF6-47C6-AC92-A5E3756DCC8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shore of Jordan’s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expectation we all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by faith we see the shi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our new and promised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1   Недалеко, за рік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далеко, за рікою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ерег вічного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ідем туди з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live in expec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moment, when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receive us into His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promised in His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з вірою ми ж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ки прийде Христос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Він нас проводж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ерез річку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the sun in radiant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ws the new Jerusale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ngs of praises tell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precious, priceless g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ікою сонце с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новий Єрусал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и радісні лунаю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и дивні, незем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live in expec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moment, when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receive us into His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promised in His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з вірою ми ж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ки прийде Христос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Він нас проводж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ерез річку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ny saints their race have finis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ssed the Jordan with a pray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, too, shall cross that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ry soon we’ll a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же многії свят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той берег перей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дуть хвилини дорогії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ликнуть нас, щоб ми 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live in expec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moment, when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receive us into His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promised in His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з вірою ми ж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ки прийде Христос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Він нас проводж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ерез річку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des of death engulf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beyond its deathly thr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es the kingdom of the bles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end of all our w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ч холодна над рі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далі світ сі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й Христа ― то Край спо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з Христом нове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live in expec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moment, when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receive us into His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promised in His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з вірою ми ж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ки прийде Христос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Він нас проводж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ерез річку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7:03Z</dcterms:modified>
  <cp:revision>12</cp:revision>
  <dc:subject>Slavic hymnal Гимны веры христиан, Ukrainian hymn 91</dc:subject>
  <dc:title>On the Shores of Jordan’s River / Недалеко, за рікою</dc:title>
</cp:coreProperties>
</file>