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1DF-484A-47BD-A59C-BBA2DC7C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E94-D251-413E-8AFA-33397648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659-7336-4348-A2A9-621061E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980-3B82-4E2F-A256-E363235E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84F-CC83-4298-BA41-178392D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71-61FC-43CE-8268-CB41A2B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6A2-97CC-4E21-9A85-F61F78A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8F8-BACC-4E80-9C7B-E40A9DB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89E-7DB4-4780-BFFE-0D606DF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AF6-2DA0-4F89-96B7-38B4C54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424-B4ED-4DAD-A1B9-B3F1D22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4E3-121A-4DC0-8727-4CECCA4D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38D9C-FE69-4EF7-A261-7590A27A9F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чудной вести твёрдо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радал, умер за меня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умер я ныне для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нак того по вере я крещ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й чудной вести твёрдо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лилась святая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грех мой омыт и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совершила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чадом наре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, в которой погруж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гилой для ветхой жизн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новь мне воскреснуть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од Святого Духа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Христу хочу я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по Его стопам х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Иисус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ля того хочу отны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0:17Z</dcterms:modified>
  <cp:revision>12</cp:revision>
  <dc:subject>Slavic hymnal Гимны веры христиан, hymn 723</dc:subject>
  <dc:title>Той чудной вести твёрдо верю я</dc:title>
</cp:coreProperties>
</file>