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412-4A2F-45DF-B85A-370274FB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05E-2AB0-4171-838F-E0063224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387-A2BC-4B05-8444-4413941C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A90-EDB5-47BD-A216-1E6FBF99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F09-6907-4C75-B928-180644E6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615-6844-49C6-8F4A-83FDB891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93E-1533-43D1-8D1C-1BFA0846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169-2679-4456-8275-8E698F2E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EB1-6F59-4F95-B9B9-3D5F2D7E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24E-601D-48D7-8D14-5C010752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97C-C038-4F46-A8EC-0B185ABB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CDE-C761-4E7E-B011-18C858E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DD6F7-4DF6-4E1D-930F-F980CFB8C9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r way (have Your wa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r way (have Your wa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fill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Y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 (we wait on You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pray (we pray to You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 Your word into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Y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1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ave Your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6-25T11:28:57Z</dcterms:modified>
  <cp:revision>12</cp:revision>
  <dc:subject>The Source 2, song number 712</dc:subject>
  <dc:title>Have Your Way</dc:title>
</cp:coreProperties>
</file>