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28D-86E5-41B4-AE7E-958E20C1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56F-045C-4CD7-8B13-FE69F64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890-BFBD-4534-B5F7-88FAB206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C86-6FB6-4ECB-A92E-19349F89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52D-AF14-4E03-B831-0F913AB6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700-67F9-4C1E-9016-FC4EAE34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12E-D0CF-4A6B-882D-3398101C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2D7-833E-4324-9AF7-ADC16819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362-E515-479D-89E8-1A4D68D2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3D0-E468-4B31-BACF-4C6CC86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55E-5767-4AE7-8E1A-69D84C7F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FC3-388E-4B95-828C-0BC641A0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EB49A-7F50-4091-B112-1F3A948559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ed me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aw Your face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at place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opened up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lieve Your sweet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d been so bl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at I’m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all-forgiv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ery road leads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69   You Led Me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teach me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an empty to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ells me of Your resu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lif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one lies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ose folded grave-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ody 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at I’m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risen chil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ery road leads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teach me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1:53Z</dcterms:modified>
  <cp:revision>12</cp:revision>
  <dc:subject>The Source 3, song number 1669</dc:subject>
  <dc:title>You Led Me to the Cross (Jesus, Keep Me Near the Cross)</dc:title>
</cp:coreProperties>
</file>