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8E82-8463-4B39-B81B-9C646816A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B719-6258-4F37-AFF8-DC8652A5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39CB-CEE7-41B9-B0BD-B5F340155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D6A5-A88E-4A76-AA9A-1404FCD69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B7E2-7402-4F87-8017-F87B2CB8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551F-3C3C-4123-BFD8-F4A60132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F2AD-C8D2-4932-B79C-D9659A95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84BC-8E4E-45EC-8687-CA7CAA5A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81D3-1B16-4587-B77F-8BF5E2F3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D176-DE1B-41CA-BE78-CA312574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F3E5-D94C-4D5B-A256-7E7381D6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0A91-6219-488C-94D8-D5F5AD7C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8A3E8-D386-4F9A-AF86-570BD5862AE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028880"/>
            <a:ext cx="92584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jesty, worship His majes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Jesus be glory, honour and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jesty, kingdom 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ws from His throne unto His 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anthem 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"/>
            <a:ext cx="9487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4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еклонись перед Велич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клонись перед Величи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глашай честь и хвалу Царю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ие в Царстве могу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чёт от трона, где коронов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exalt, lift up on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name of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gnify, come glor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Jesus the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личь, превозно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лицай, провозглаша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наш Ца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jesty, worship His majes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ho died, now glori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all k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клонись перед Величи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л распят, Тому хв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ю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6-06-08T20:36:08Z</dcterms:modified>
  <cp:revision>11</cp:revision>
  <dc:subject>The Source, song number 346 in Russian</dc:subject>
  <dc:title>Преклонись перед Величием / Majesty, Worship His Majesty</dc:title>
</cp:coreProperties>
</file>