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5C6F-2865-455F-8814-F096AAFB4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944E-E0B1-4E41-897A-B3F85434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170B-B716-43D5-8AA0-A30329C78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888A-F968-4F19-9B0E-ED6FD726A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5F88-7AC0-441C-BEC1-AC26D52F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8925-3882-4C62-8284-7EC21750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EBDB-2231-427F-A947-CA327158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CFC4-83CA-41B3-B96C-F27A293B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0B8D-3C3F-4A7A-931A-83A03C60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5C28-28E1-4B3B-A757-63FEB3C2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AE8E-C367-4B90-860A-109310A0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06D7-09FB-4DC0-9DDA-ED0D510E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A438B-1ED0-4C06-885B-1BC78091AC2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в с нас закона порабощ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ос пролил, вот в ч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чен, истерзан, в язвах Он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нас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! Прими Божью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найдёшь свет и си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л с нас греховное бремя и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Сын Божий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няв с нас зак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о Христе, тем нет осужде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готовил наше спас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о Мне придите!» — Христос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Он снимет гн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! Прими Божью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найдёшь свет и си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л с нас греховное бремя и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Сын Божий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— Божьи дети, вот наша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нас в мире лука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жизни от смерти мы пере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покой на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! Прими Божью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найдёшь свет и си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л с нас греховное бремя и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Сын Божий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8:36Z</dcterms:modified>
  <cp:revision>13</cp:revision>
  <dc:subject>Slavic hymnal Гимны веры христиан, hymn 385</dc:subject>
  <dc:title>Сняв с нас закона порабощенье</dc:title>
</cp:coreProperties>
</file>