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8EA1-7D2F-4DDE-8B0D-0CE4E6C8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DF6F-4B81-49FE-9EE7-8CD8E5FC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F752-C8C6-4066-ADBA-A0666469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3ED1-5FD6-426A-9C81-848F76B0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39E6-4E4A-4DE5-BCD8-B3A16505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1375-A4F0-4D05-8CFB-1B7B5615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89CD-E984-476A-885F-B8A54A9B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0412-781B-4448-8A1B-14D80FCA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6823-38DF-4DF2-A242-4D6AE1B8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CDCE-B7ED-4B3B-8C56-D686B7C2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E44D-14BC-4834-AA96-E6EED239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556F-2D0B-4DD6-BA25-24411250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6E617-9495-4057-B5FE-A6A70964EC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Must I go, and empty handed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us my dear Redeemer me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day of service giv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y no trophy at His fe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оп один в руках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t death I shrink or fal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Saviour saves me 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meet Him empty ha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t of that now clouds my b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и ночь мне не страш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устым пред Ним яв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так страш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years in sinning was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ld I but recall them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give them to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s will I’d gladly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 мне года бы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но было возвра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и радостью, и счаст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о б Господу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ye saints, arouse, be earn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 and work while yet ’tis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night of death o’ertak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ive for souls while still you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рудитесь, дети Бож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роходит, ночь близ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пока не поздно, ду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вербуйте д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07Z</dcterms:modified>
  <cp:revision>13</cp:revision>
  <dc:subject>Slavic hymnal Гимны веры христиан, hymn 532</dc:subject>
  <dc:title>Must I Go, and Empty-Handed? / Не хотел бы я бесплодным</dc:title>
</cp:coreProperties>
</file>