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E2AC-E546-4EB6-B21B-51BEA131F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E199-3731-4E5A-B497-CA51A529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FCB7-4926-4074-953A-E29DE2C7F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DFEC-7514-4E5C-896E-588CB661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4F94-DA50-4F63-8C92-D27E0835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78DA-CB53-4D02-9780-5E3C5FC5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507B-CC81-4FBA-9E2B-C1F452F3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318F-F227-425E-ABBE-9AF3BBA4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BA7F-657E-4F99-8BEE-B3355C02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C91E-1FC1-4359-97B0-0D49BC2B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60F7-6B06-45F7-B673-736981A8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5804-1B06-4861-B31B-A1AF4EAD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E588F-2569-44A5-923B-F6AAFA1BFE4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надежда тех серд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стона жизни на зем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торых спас Святой От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уз греха и жизни в з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знь Свою за них от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небесный в сердц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ос надежда те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— надежда христи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континентов и всех ст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 тысячи уж лет 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вой искупленный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— надежда христи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континентов и всех ст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 тысячи уж лет 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вой искупленный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, кто познал любовь От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 стремятся, как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 безмерно, без ко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, хоть в мире много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 гонителей, врагов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он Иисуса ведь та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— надежда христи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континентов и всех ст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 тысячи уж лет 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вой искупленный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мир и хвалится с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м умом гордится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что весь мир перед Тоб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их глазах хоть он сил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иться будем мы Хри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иться будем мы Хри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— надежда христи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континентов и всех ст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 тысячи уж лет 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вой искупленный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т здесь силы, чтоб мог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разлучить с Отцом Хрис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глубина, ни выс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широта, ни долг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христиан Христос хра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о скоро восхи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— надежда христи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континентов и всех ст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 тысячи уж лет 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вой искупленный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адо башен строить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адо космос покор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подняться в неб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планету созерц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ец Христос восхитит нас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лькнёт Венера ниже н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4:50Z</dcterms:modified>
  <cp:revision>12</cp:revision>
  <dc:subject>Slavic hymnal Гимны веры христиан, hymn 518</dc:subject>
  <dc:title>Христос надежда тех сердец</dc:title>
</cp:coreProperties>
</file>