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167-71BB-45C1-96DF-C1095EB8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ADA-6879-4D94-AC86-0F3A5E8F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4F8-376B-448A-81DF-18DAA9BC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F2A-D874-46D4-AC5F-87D047C4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880-F254-4961-B347-0527C0FD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B6D-9D15-4C2E-9296-479B5F0A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036-4D4D-4800-8732-571BC43A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EC2-10D4-44FF-89F2-1892179B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B0B-E46B-4C86-8AA2-407201D8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E9B-68F2-4D6C-9467-1BBEBFC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5F4-C936-4EE0-B74F-C680A6F6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A6B-ED1B-4F88-835A-69264BFF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625D4-EA5B-4825-897A-324B6A2BD9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valley, with my Saviour I would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he flowers are blo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sweet waters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 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lking in His footsteps till the crown b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лед за Христом хочу идти всегда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цветы не вянут, где источники в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б, куда б Он ни повёл, пойду за Ним вез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уя за Ним, не буду я в сты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, everywhere,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valley with my Saviour I would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he storms are sw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dark waters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is hand to lead me I will never, never f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nger cannot fright me if my Lord is 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лед за Христом хочу идти всегда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ки ли бушуют, ураган ли ревёт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 Его покровом ничего я не бо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я безопасен, где Господь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, everywhere,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valley or upon the mountain st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lose beside my Saviour would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 kee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lead me safely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He has tr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p to where they gather on the hill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лед за Христом пойду чрез горы и мо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Него надежда и в Нём радость м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— хранитель, утешитель в скорби и слез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ведёт Он в чудный дом на небе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, everywhere,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2:46Z</dcterms:modified>
  <cp:revision>12</cp:revision>
  <dc:subject>Slavic hymnal Гимны веры христиан, hymn 842</dc:subject>
  <dc:title>Follow On / Вслед за Христом хочу идти</dc:title>
</cp:coreProperties>
</file>