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598B-C596-4BE8-A124-DC210F625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642A-CDB2-467A-A39F-3C19695D6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A3F3-C9C6-467A-9204-DBFCAC5BE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5C6E-A48C-43BE-B9F6-518E8CEBC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FEF7-AEA4-448D-BEEC-52B8973C6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6A75-3B5A-47B9-A4A5-93F2BC9D2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6A72-C4B5-4349-87F7-4A56007DD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BA23-504F-495F-ADF0-051E8BD05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7817-CCF4-41C6-AD04-6C150B18C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0256-CD27-4540-B4D1-245B1B40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BB0F-5F4B-4D93-BE80-B1B9DF8A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7DBD-A131-46E8-9EE4-4BFC72F38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584AE8-2B9C-4D99-B8B2-DC42B9220B8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ивний день, чудов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Спаситель в перший р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і мною в заповіт вступ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окоєм серце наділ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5   О, дивний д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ивний день, день щасл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Христос гріхи прост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пер зі мною Він у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укою Сам мене ве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ивний день, день щасл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Христос гріхи прост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ивний день, коли Христ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найшов мене в долині сліз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пер Він Пастир добрий м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же Його, я вже не сві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ивний день, день щасл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Христос гріхи прост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пер зі мною Він у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укою Сам мене ве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ивний день, день щасл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Христос гріхи прост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ивний день, коли в любв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руку простягнув мен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умніви серця розігн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валу я Господу відд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ивний день, день щасл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Христос гріхи прост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пер зі мною Він у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укою Сам мене ве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ивний день, день щасл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Христос гріхи прост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ивний день, коли пізна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шею я любов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 серце Господа прийня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асливий став на все жит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ивний день, день щасл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Христос гріхи прост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пер зі мною Він у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укою Сам мене ве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ивний день, день щасл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Христос гріхи прост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29:18Z</dcterms:modified>
  <cp:revision>14</cp:revision>
  <dc:subject>Slavic hymnal Гимны веры христиан, Ukrainian hymn 15</dc:subject>
  <dc:title>О, дивний день, чудовий час</dc:title>
</cp:coreProperties>
</file>