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80CE-D7DE-4F95-8F80-CEA32334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B80F-39EF-4DCD-A36E-08D16B2F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2B5A-160E-4411-84E9-51FABDB3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5FAE-6AF0-40E9-93F1-BB9AC4C6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24D6-64F2-40BC-92EA-5FCA5C24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C4BB-2C6B-43D0-B0D4-C2D4BE01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8BE0-09A8-4EDB-9B4E-B305B9CE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70CA-889D-498B-86EC-30E4B7CA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67B9-9E54-430E-9F19-FF213177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7FD6-1C4E-4337-8496-76429966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2A0E-92BF-41B6-B5C1-6E2B8E79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7AE9-9278-4174-8288-035FE811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E2EA2-1D7F-483B-A966-9725EBE49C0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 есть я в ду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я за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предаю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цел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радостн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спас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радость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Спасителя дит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частлив есть я в ду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 через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авлю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ест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Как радо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ы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лишь у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, мир ты на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мирское прой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что ты там пожн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о только, как с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ман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радость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Спасителя дит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 через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авлю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ест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Как радо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ы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оту всю нам 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сем обещ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ить Духом Свят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удет всех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люблю Его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тел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радость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Спасителя дит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 через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авлю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ест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Как радо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ы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5:55Z</dcterms:modified>
  <cp:revision>12</cp:revision>
  <dc:subject>Slavic hymnal Гимны веры христиан, hymn 604</dc:subject>
  <dc:title>Счастлив есть я в душе</dc:title>
</cp:coreProperties>
</file>