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23F-B431-494A-92B8-B578EF27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B03-0440-4C3A-A3AE-DFEB733E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A1D-F0DB-48EF-A503-E457C3C2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514-DDA1-4845-9A52-6E3999C8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7C3-8345-40DC-B03E-A7CBF9CA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2C9-C838-4D34-A884-20BCE887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1E7-CAAE-404C-98C3-DEFB9309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545-70B6-4A2E-B1D5-41B5058E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F8F-50CB-47F5-8F58-8BC58BBD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595-FC08-4F1C-983D-4B67B78B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E6E-C047-477F-BD49-450C1839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7E1-CFAE-48C2-9B36-3D049E69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6D5F4-E1EE-4743-B5DD-A571CD19E5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once held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ilt my life u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is world reve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ars to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once thou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counted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nt and worthless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red t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   All I Once Held D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known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ossess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I could not 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-surpassing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o know the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risen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suffe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com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eath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ith You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ever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08:37:59Z</dcterms:modified>
  <cp:revision>10</cp:revision>
  <dc:subject>The Source, song number 11</dc:subject>
  <dc:title>All I Once Held Dear (Knowing You)</dc:title>
</cp:coreProperties>
</file>