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1A5-FFAA-4261-B896-E07E6DBF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6C5-1A76-492E-A1F1-CD37DCC9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427-6057-4207-9E42-FE55D1EB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AA0-A74D-4F59-AFDF-CA0006F4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D10-A4AE-41D7-80AE-23BA65D6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CAB-346B-4AD0-8372-BAE4917F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BC8-D39E-4F93-B336-AC7EBB37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BAB-5BFB-403B-B634-109671D7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1F3-3B08-4EB1-89A2-D8574DAF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867-F440-43A4-9A2A-C687C60D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ACA-1C84-43C3-B784-7F5909A2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7D6-B415-4E1C-AE18-4F705B2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D455D-C1D9-4741-ADE7-339F8F2171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верных не ли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лоть боится цепи т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тюрьма её страш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сли, тьмой порабощ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Бог любви свободу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епи ей, освобожд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ныне мир не отков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нет, никто во в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чести нашей не лиш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кай с враждою от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позором нас клей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ем знамя правды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злобу обовь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есть не в славе быстрот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торжестве любви на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хитит богатств у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алтарь борьбы свящ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возьмут в жесто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ебро, и что имее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весть чистой сохра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йной счастья овлад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ю мир обогат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09Z</dcterms:modified>
  <cp:revision>12</cp:revision>
  <dc:subject>Slavic hymnal Гимны веры христиан, hymn 551</dc:subject>
  <dc:title>О, нет, никто во всей вселенной</dc:title>
</cp:coreProperties>
</file>