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528-93C6-49D3-A1F8-114F9048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007-E751-44E7-8B73-6369115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BB7-1A5F-431D-98EB-4CC80413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913-590F-40D1-9AD2-5FE454F3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415-C99C-4B6E-A54A-F02CEFDB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1E6-5B91-4A4D-BB71-91816E93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42F-7622-4EE2-BA47-68A75B2B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738-9CFA-4D42-B57C-93057C96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8A7-C956-4928-AF81-4FB2C357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87B-9302-448A-8A22-F55CBAB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1D0-C5E2-428B-96D1-CA99768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134-D5FA-48BC-8052-4F83363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220F5-0892-4DFE-ABFA-62A92CE7FF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   Celebrat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22Z</dcterms:modified>
  <cp:revision>10</cp:revision>
  <dc:subject>The Source, song number 67</dc:subject>
  <dc:title>Celebrate Jesus</dc:title>
</cp:coreProperties>
</file>