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B348-8E88-4ED3-B9A7-41267FA2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34D0-09BD-4237-82EF-059B937D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71A0-8147-4C30-B89B-3ECFCB06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E88D-C983-4743-A227-A0D7B96E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B1B7-D614-463C-8685-DB18BAA7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545B-4DEC-4D84-AB9F-4A711E3D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24C5-90FD-4686-9082-C038C0BA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A9EE-56B3-443A-BA96-2A31AB1B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F8ED-2DD0-489A-94D1-809FB30C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CB32-734A-40B5-9115-D11FC0BE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AAA3-3DA9-41B8-BCC1-1D7380C7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81CC-9CE6-46A6-9B9B-A4F8F764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9C87B-703C-444B-A9AE-0D248F24061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я терялась в су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 не думал и не 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грешников Он по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знь моя терялась в су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Божье грех открыло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ибал я в страшной пуст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Христа увидел пред с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перь Иисусу от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отрадно жить и в нищ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ой восторженной п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мн о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ви открыл спасенья пл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явилась в пол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ритель грешным людям 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5:16Z</dcterms:modified>
  <cp:revision>12</cp:revision>
  <dc:subject>Slavic hymnal Гимны веры христиан, hymn 419</dc:subject>
  <dc:title>Жизнь моя терялась в суете</dc:title>
</cp:coreProperties>
</file>