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D12-4C2F-49AC-995A-D0274AAA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5AB-BB0F-4FC6-B8F5-D16FB8D0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E83-AECB-4AA0-89BF-26E3DE4F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758-0726-4C84-A8CF-535FC12F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C9E9-6868-46D3-965B-967082C1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824B-3B63-4C3C-820F-5A7CBE85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0A9-F7BA-4548-9FCD-E92765C4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0C3-0526-4CED-81BF-62CAE079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23D-B9D9-4603-85BF-7F902FA0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0DC-A127-4B0B-B6A1-DDF16038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B890-202C-4140-8FFF-58902E90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3FF-5A4C-41FF-AB20-00AE7730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BF55D-F77E-4CEB-A985-76AE8FF5CD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 днём и каждое мгнов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мне силу для борь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Божьим откровен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«изменчивой судьб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Чьё сердце любит беспреде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нам лучше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и радость отмеряет ве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вятой — сред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за дн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ко мне Спаситель бли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ивной милостью на каждый ми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заботы прогоняет сраз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оветник дивный для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рука Всевышнего прикр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Кормилец и Покров С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И как дни, так будет ваша сил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е дал Он 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во всяком испыт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Тебе, Господь,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ть твёрдо все обетов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ходим в Слове мы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, встречая труд и г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имать их из руки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 днём идти, поднявши вз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й стране, где не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0:58Z</dcterms:modified>
  <cp:revision>12</cp:revision>
  <dc:subject>Slavic hymnal Гимны веры христиан, hymn 863</dc:subject>
  <dc:title>День за днём</dc:title>
</cp:coreProperties>
</file>