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78</a:t>
            </a:r>
            <a:r>
              <a:rPr b="1" lang="ru-RU" sz="3600" spc="-1" strike="noStrike">
                <a:solidFill>
                  <a:srgbClr val="ffffff"/>
                </a:solidFill>
                <a:latin typeface="Verdana"/>
              </a:rPr>
              <a:t>	</a:t>
            </a:r>
            <a:r>
              <a:rPr b="1" lang="ru-RU" sz="3600" spc="-1" strike="noStrike">
                <a:solidFill>
                  <a:srgbClr val="ffffff"/>
                </a:solidFill>
                <a:latin typeface="Verdana"/>
              </a:rPr>
              <a:t>Навеки не оставлю</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авеки не оставлю святую Библи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 ней нашёл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и радость веч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гда, ник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я Библию не остав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гда, никогда эту книгу Божию.</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огда я в искушень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и угрожает вра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а ведёт к побе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и освещает мра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гда, ник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я Библию не остав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гда, никогда эту книгу Божию.</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огда мой путь потеря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реди житейских вол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к пристани Голгоф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ведёт она мой чёл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гда, ник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я Библию не остав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гда, никогда эту книгу Божию.</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Я ей лишь доверя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в ней истина и с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а источник жиз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ей в мире равной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гда, ник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я Библию не остав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гда, никогда эту книгу Божию.</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10:44:53Z</dcterms:modified>
  <cp:revision>3</cp:revision>
  <dc:subject>Slavic hymnal Гимны веры христиан, hymn 78</dc:subject>
  <dc:title>Навеки не оставлю святую Библию</dc:title>
</cp:coreProperties>
</file>