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19A6-F09D-42E4-BAC9-C61FF924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D3F2-69AD-42B0-9EAB-D91544BD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7D93-650C-4A4B-BFC7-DE8BB052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E2E-E08D-45D7-8955-12F18110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467E-2C0B-4CB2-A727-39EFBF9A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E35-C9AE-4940-A1E7-C5899385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B3B-C786-45A5-896D-165DFFD0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4E94-C292-43AD-8242-4F1C3067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6989-6D1F-40FB-8FF6-72AE2699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761-8F03-49AC-8F45-D0E8E91F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CA4D-4AE3-43D3-89A4-EAEAFB9C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2C2-4B8A-4E3D-AE53-BACE2957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3E0EF-8950-410F-80E9-4EBA815A48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Пилатом Иисус сто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и оставлен, презрён, изб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! вопрос роковой зву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Что сделаешь с Иисусо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еред Пилатом Иисус сто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судом Он стоит ещё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за Кого ты признал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защищать горяч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руки мыть, как Пил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согласишься с Христом стра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рыться нельзя, Бог велит реш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рекись же, как Пётр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 пугает тебя вра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согласись жить с Христом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 мой Господь, отдаю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ль, в скорби любит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ё счастье и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сделаю с Иисусо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3:14Z</dcterms:modified>
  <cp:revision>12</cp:revision>
  <dc:subject>Slavic hymnal Гимны веры христиан, hymn 408</dc:subject>
  <dc:title>Перед Пилатом Иисус стоит</dc:title>
</cp:coreProperties>
</file>