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9D30-E2C8-42D3-AFAE-6C34CAA4A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2018-9430-46C0-9E80-E79F899B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193C-9C58-4DF6-995A-53E85CC4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531B-AF35-4113-AA6F-41FB7CFE0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F199-1622-4E05-AB96-CBB24F61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6097-0DED-4458-B51E-95BFA4B4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77EF-3E83-4D0B-A847-6E664F5F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30DB-6BE2-4D79-B39C-C05695B8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37C9-27F0-4315-938F-2511120D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A94A-F258-403C-9069-D4DF1A2C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E07D-16D8-4741-8711-C49A4350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2997-6D0D-41DB-A85D-1EF5409C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8236F-BF06-4DD4-A0BE-345426536BD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ft my hands to the coming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great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 I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’re the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reigns within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Lift My H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serve no foreign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 any other treasu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heart’s des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 without mea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to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uld bring my sacri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2:13Z</dcterms:modified>
  <cp:revision>11</cp:revision>
  <dc:subject>The Source, song number 212</dc:subject>
  <dc:title>I Lift My Hands (I Will Serve No Foreign God)</dc:title>
</cp:coreProperties>
</file>