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D9E6-2F14-48BE-ABBF-20E98251D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21AC-CF45-41CB-BF98-993105D05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362B-DEBF-4ADE-9B11-B19B70A9D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E62F-1741-46D2-B249-5982A052D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7B74-E074-432B-AE8F-754676BBB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59FC-C83B-4C09-B6A6-C60A25DD0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4E54-5354-4E01-B95B-AC3C1BFE1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CB97-D4AC-45C5-B489-87E6AE795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89A7-EC26-4C61-A0D7-49E976A9C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B811-B1C5-4ADC-8DF4-C1267931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E2A5-58E4-43CF-A310-376C6526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1BB8-8F99-423F-88E2-3C77081E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14A6D6-6E3A-48BA-ADC2-A6DE9669F67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— наш свет и упова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ердыня наша и ска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ал нам мир и оправда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збавляет нас от з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в мире часто враг иско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ой душевный нам мут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лев свирепый, разъяр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аждет всех нас поглот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2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сподь — наш с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враг пылает злобой ди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ним бессильна наша пло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с ним боролся Муж вели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торого послал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ж этот дивный Муж всесильны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Царь наш и миров Твор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наш Господь любвеобиль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 человеческих серд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я бы мир был полн враг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с нами и мы с Н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страшимся мы сердц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 всё мы побед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нязь мира в злобе и смяте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с не может погуб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едан Богом осужден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вязан скоро должен бы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сли мир нас всех осуд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ненавидит, будет гн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Бог заступник верный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радой жизни — благод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сли нас лишат им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бра, свободы и семей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придёт к нам с утешен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сладит нам крест скорб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4:40Z</dcterms:modified>
  <cp:revision>12</cp:revision>
  <dc:subject>Slavic hymnal Гимны веры христиан, hymn 621</dc:subject>
  <dc:title>Господь — наш свет и упованье</dc:title>
</cp:coreProperties>
</file>