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2D0-D3BD-40C6-8AFC-505C7A08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D0C-3821-4FF2-BAD9-F53F42F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EA0-E169-4319-8551-D631389E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AFD-CAAE-4D9A-95E2-C284AEA2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ED6-19E6-4D5B-A862-65F6AEC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D68-07BD-4C4A-A708-42EA1BF0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29F-61CA-48DA-A650-7E52421A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888-B2E3-47F0-9D8A-46F7AE3D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8BE-F049-4E69-B63F-531D3631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AF3-F612-4AFE-8AF1-B6EF07C8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9D6-15D7-47CE-AC04-2543675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469-93F0-47A4-A9CD-9EA9A671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012B0-AD7D-4836-A495-85E0EFA919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31Z</dcterms:modified>
  <cp:revision>12</cp:revision>
  <dc:subject>Slavic hymnal Гимны веры христиан, hymn 677</dc:subject>
  <dc:title>Стою у Иордана я</dc:title>
</cp:coreProperties>
</file>