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738-2764-4BFF-86FA-09D3490D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BCF-ADDD-4EA2-B59D-F47427EC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A05-78DB-4CB1-9975-12DE76D3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765-4DD3-4ABD-B391-47E6033B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F5D-C17E-4D4A-B064-0D481C5B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082-EF7B-41A1-9FDF-674E95B0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34F-8E55-4F00-A64B-1B8C1996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E25-9C4B-45BC-9C60-FE95B6F6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149-25DF-4E07-9D29-FB842192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073-145E-4F77-8E90-72DBBF1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B98-E691-4AA9-A25C-FF1D9B61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D23-AE79-4A15-B90B-FD15C00E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71D53-1586-413E-B938-BCE10E1AC1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! Верь без смущ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орьба дол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Бог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разит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, вер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!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вихр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жизни без па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про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жизни помертве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Бог может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35Z</dcterms:modified>
  <cp:revision>12</cp:revision>
  <dc:subject>Slavic hymnal Гимны веры христиан, hymn 638</dc:subject>
  <dc:title>Брат, верь! Верь без смущенья!</dc:title>
</cp:coreProperties>
</file>