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DDC-E5D8-48E8-9F7F-457B7AB6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97B-5393-4DFE-83FC-119742C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C12-B220-417D-BBAA-C7AEC300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65A-9A19-4F26-B32B-90A4EC8F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C39-A0FA-46B4-A977-BF59F9D1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532-067C-4455-83DA-D20C107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7D8-E205-4CBE-B6B6-DABC192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EE7-28DA-404B-82D7-6AAAD7C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041-EB9F-424D-9B33-1B6CD4A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1C5-4DA5-4996-AC6C-24CA41F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954-3BE1-4C94-9AB3-2C6687D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B50-EF17-4D8F-A4CA-BB267C3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68010-0981-493B-99DF-F894B042FF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mercy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sinners reconcil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all ye nation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the triumph of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gelic hos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born in Bethle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by highest heav’n ad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everlasting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te in time behold Hi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spring of a virgin’s w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iled in flesh the Godhea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’ incarnate De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d as man with men to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our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heav’n born Prince of Pe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Sun of Righteous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ife to all H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’n with healing in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ld He lays His glory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at man no more may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raise the son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give them second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23Z</dcterms:modified>
  <cp:revision>18</cp:revision>
  <dc:subject>Slavic hymnal Гимны веры христиан, hymn 227</dc:subject>
  <dc:title>Hark! The Herald Angels Sing / Вести ангельской внемли</dc:title>
</cp:coreProperties>
</file>