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89AF-862C-49A0-A920-1F137D63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FF7D-F78C-465F-8F98-7AC2B5E5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AC26-7163-4185-ACEB-EE2C525E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EA7D-6870-408E-981B-CB243D87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C551-4F82-46D9-906F-80A8E730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6EE8-5FAE-4281-AB33-DED396A0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DA5D-1993-4B17-A780-554896E9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5E9F-4008-4D20-8720-3466631D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98C8-3A2B-4E43-8469-84DD43C8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ACE1-9FA7-46EE-A169-4834D3EA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B84D-C01E-423E-995D-F4CD5F5E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01D2-8C32-4347-9982-9BD0215C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1B9B7-2E5E-41DE-8E16-957795475D0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прекрас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, друг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и ту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над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нешь на зло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радости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нешь к Иисусу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ёшь ты в Нём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зглянь на прекрас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сли прекрас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, друг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сли, как вет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ут над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их ты множест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е взи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олитвой лучш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зби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ви прекрас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, друг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д языка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пчет с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ощряй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клеве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охраняй в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 путь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 прекрас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, друг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уй, как милос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д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 заблудш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дящих в грех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к Иис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 на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5:27Z</dcterms:modified>
  <cp:revision>12</cp:revision>
  <dc:subject>Slavic hymnal Гимны веры христиан, hymn 515</dc:subject>
  <dc:title>Взглянь на прекрасное в жизни</dc:title>
</cp:coreProperties>
</file>