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FCB-4B58-46F2-8DCA-1826BE30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F18-3D56-4615-B473-0A43A83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B04-5A27-4EB2-A469-EAECC488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ED3-F1A2-4FE2-AF65-4009BCD1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6A5-3526-444B-B911-5D0EC0E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3C5-6BA6-4CC6-A13E-8EE0F41F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305-07ED-4D72-BE30-01B11D7D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F35-0805-4500-B36D-26A0FC2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C2C-403E-4EB2-BE03-DCDC388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041-EC09-40A0-A76D-D30DC92E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A2B-1809-4AFB-BC2E-D9EAD60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65E-0437-4E59-8FE4-9C843AF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E4D79-E848-449C-9A9F-72CCEF1499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я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лой сторо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о ней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все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то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ал я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о жизни цв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небесны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вая река там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арфы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не мол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сную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битель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ая радост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сна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туда не в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46Z</dcterms:modified>
  <cp:revision>12</cp:revision>
  <dc:subject>Slavic hymnal Гимны веры христиан, hymn 676</dc:subject>
  <dc:title>Слышал я о стране</dc:title>
</cp:coreProperties>
</file>