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243-84EF-4D64-8AFE-A015668A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FD8-38E2-4700-98F2-B856760B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89C-D388-4091-A529-4B2197B0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B88-F568-4CCB-91E0-C0B5E46D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3A8-0208-4827-9A1E-D832A2AC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4D5-4D6B-4C47-A721-EC05073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6AC-462F-4685-9AA2-16776D5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264-F526-4B2C-A690-5B5A386E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850-B9A9-4C89-8CC9-55E1D03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9A0-D300-4C29-9B30-B03BDC8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028-6C4B-4516-97DB-41B5ED5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2E6-C2E2-4558-A567-DA0D5211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9140-9772-4193-85DA-2E35F42E74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время приш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we choose 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our hearts, soul, 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отдаём мы Теб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Тебе мы с рад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м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 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17:20Z</dcterms:modified>
  <cp:revision>10</cp:revision>
  <dc:subject>The Source 2, song number 662 in Russian</dc:subject>
  <dc:title>Приди, время пришло поклониться / Come, Now Is the Time to Worship</dc:title>
</cp:coreProperties>
</file>