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86B-0FC4-4C08-9AF5-C306C9F0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563-5377-45BA-9ED2-78EED5E0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7E3-7DEA-4E50-B66B-370ED511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A7D-58DB-40E8-894A-B44FB67D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2BB-75BE-443A-B707-BB363601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8F6-825B-4782-84AE-5490E2B8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182-CD6B-4DE5-901F-B3CBC1F7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CA4-32CA-4416-9FF1-E1378A51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D4A-C892-4019-87EE-1FE1C692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4DC-2A97-4FE3-8774-3E38DB7F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F56-098B-4E7E-813F-6F605D44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6B2-F19B-433D-AD48-4FBC69B3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DE84F-86FC-469C-AFA7-C0C5DD7014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ь, радость непрест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ам ведёт за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нам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хранит от бед и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й внемлет Он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пойдё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льнуть к рукам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 бременем сур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пасть нам без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ры, жизнь даю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, как солнце, в нас гор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грешных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благ Он н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04Z</dcterms:modified>
  <cp:revision>12</cp:revision>
  <dc:subject>Slavic hymnal Гимны веры христиан, hymn 567</dc:subject>
  <dc:title>Радость, радость непрестанно</dc:title>
</cp:coreProperties>
</file>