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4DA-B5CE-48FE-8123-87A0111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E1E-D6C4-42F7-8BDC-0E851EB3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608-2BDC-4996-B451-BC761E14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DA4-188F-40D0-8B5F-A7B7C8D4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327-08E9-4163-A1EB-4BD35E9B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9C0-3178-4860-8359-D7BE40B2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1CB-1477-4AA0-B1CF-AF48D4FC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E07-B0AC-446E-8114-D819B53B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DE8-1EC1-4D22-892C-A0F3418E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3CC-ECBB-4169-903B-D08A25B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150-3CB9-407B-B316-721BDB67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F02-2F20-4C55-8343-884AF08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0E3CA-8ADF-41D8-9DDB-8195CF5DE1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   Как олень ищет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лень ищет путь к ручью жив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ою том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ша моя жаждет встречи с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Друг, Ты мне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лег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л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 больш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всей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нужен больше, чем богат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ща и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Тебе нахожу я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,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2-02-29T06:58:51Z</dcterms:modified>
  <cp:revision>13</cp:revision>
  <dc:subject>The Source, song number 27 in Russian</dc:subject>
  <dc:title>Как олень ищет путь / As the Deer Pants</dc:title>
</cp:coreProperties>
</file>