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ADAE-5A7F-44C0-8C97-A698F5862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7B91-5B1C-4A1E-A182-BDAFD0E6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2B27-EDF9-45C9-A0F7-5D61925A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0313-BD00-43F5-B763-1A1E662C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FE50-43BC-40C0-A086-C067297D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4610-AAD6-4CA8-BE9B-FACC2DF1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F3A3-FFA3-4847-A9A8-A32FB706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7D0D-6422-4186-8BAC-83E8AB3A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EC10-5F04-439A-9DEE-9ECF18F9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3E28-BC17-4BE3-A5CB-4D60EF83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7013-1103-4E77-80A3-E4093CD6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B0F9-2602-4B16-9314-A0D945D7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77268-CB15-4093-8EBF-386AAC3A3F6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я дорогой одино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дел странника с су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гнулся, шёл под ношей тяж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сказал, дав знак рук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зьми крест свой, иди за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давно Я оправдал»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могу Ему я от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не всё от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дя дорогой одинок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говорил ко мне и сразу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нал, что это ―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л мне жизни наставл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екто, шедший в Емма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зьми крест свой, иди за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давно Я оправдал»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могу Ему я от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не всё от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, Боже, нести крест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ест передо мною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от которого я сердца д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до сих пор закры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зьми крест свой, иди за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давно Я оправдал»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могу Ему я от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не всё от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крест нести я буду до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достижения ве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ятой Своей деснице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ошу снимет Сам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зьми крест свой, иди за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давно Я оправдал»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могу Ему я от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не всё от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7:24Z</dcterms:modified>
  <cp:revision>13</cp:revision>
  <dc:subject>Slavic hymnal Гимны веры христиан, hymn 447</dc:subject>
  <dc:title>Идя дорогой одинокою</dc:title>
</cp:coreProperties>
</file>