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1</a:t>
            </a:r>
            <a:r>
              <a:rPr b="1" lang="ru-RU" sz="3600" spc="-1" strike="noStrike">
                <a:solidFill>
                  <a:srgbClr val="ffffff"/>
                </a:solidFill>
                <a:latin typeface="Verdana"/>
              </a:rPr>
              <a:t>	</a:t>
            </a:r>
            <a:r>
              <a:rPr b="1" lang="ru-RU" sz="3600" spc="-1" strike="noStrike">
                <a:solidFill>
                  <a:srgbClr val="ffffff"/>
                </a:solidFill>
                <a:latin typeface="Verdana"/>
              </a:rPr>
              <a:t>Любит лишь Христо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ит лишь Христос безме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сегда так нежно, ве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ье мира, всё ничт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любить друзьям возм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е любит непрел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рестной смертью искупи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ых слабых не забы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всё прошлое по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лько радости со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Христе, кому от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то познать Его жел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тот узн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рачует все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рует оправ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 жизнь и упов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ех к Себе Он приз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оё царство приним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блаженство обещ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ботой окруж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нас в двери р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5:44Z</dcterms:modified>
  <cp:revision>3</cp:revision>
  <dc:subject>Slavic hymnal Гимны веры христиан, hymn 51</dc:subject>
  <dc:title>Любит лишь Христос безмерно</dc:title>
</cp:coreProperties>
</file>