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E736-1941-4B1C-B599-A6AE4F9F1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3992-4DA6-4B72-BC3C-7DA8DDBBE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D729-5CC9-4F4E-9AAE-A7A3E0F36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F1AF-805E-40F8-A3E9-2F31C92E7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9B77-8E32-40FD-AAB7-8899EDE4C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4603-33A0-42B7-943E-F039C1E42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10DA-4434-4EDB-9878-59030F042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C4D7-459A-4F16-8A16-87D7941DF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D2C3-BEAB-406E-8C9D-94CDF62BC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D60B-FD8A-42E7-B5F7-AFEDDD00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4AA2-FF1D-4226-84C1-9E710A78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D190-3F1A-45C6-8CE9-B55F5769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EE88FA-C79C-4235-A9DD-4ACD6EB829B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колько душ блужда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Бога далек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ь мрачных скал, средь тер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гибнуть им долж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Пастыря блужда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асность им гроз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и идут, не зн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мерть кругом ца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3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, сколько душ блуждаю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ёмте искать заблудш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к Иисусу возврат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но будет ли 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ный день сказа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сюда пришёл с моим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жертвы не страши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сё готов ид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тех овец заблудш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ибели спа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указать пойдёт 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правды, дом Отц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ю кто утеш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битые сердц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ёмте искать заблудш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к Иисусу возврат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но будет ли 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ный день сказа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сюда пришёл с моим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ой восторг и р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встрече Госпо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кажешь: «Добрый Пасты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вечка найде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глуши она блужд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мучена в бед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зял её больн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шу, бери к Себе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ёмте искать заблудш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к Иисусу возврат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но будет ли 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ный день сказа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сюда пришёл с моим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00:22Z</dcterms:modified>
  <cp:revision>12</cp:revision>
  <dc:subject>Slavic hymnal Гимны веры христиан, hymn 535</dc:subject>
  <dc:title>О, сколько душ блуждают</dc:title>
</cp:coreProperties>
</file>