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3ACF-84E7-44F3-8CFA-36E85501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2C07-CEFB-44EC-91B1-CC6BDA06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01EA-FD07-45C2-AE2D-F2567338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552C-5E3D-4100-B81B-CDB58CA9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3A61-438F-460C-BBFE-66155336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006F-26EE-4D90-890F-E8106E3A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CCE0-B37C-4F77-B5E9-C7F83039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9847-21EE-4235-A03F-67016848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5B3B-1DCC-41BA-B8B5-650FF607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246E-8E20-4333-98E7-A049EF82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DAD6-85B9-4420-858D-441AA41F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F280-E32F-4E32-B9BB-66613E68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3BEAB-ABEE-4750-98E7-55791E9F2FF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т вам, Христово цветущее пл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ждённое в бурях великих судьб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с грозно встречает последнее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ёт на последний решительный 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ною стальною, полки боевы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ерье идёт к вам на лютую бра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книтесь теснее, ряды молоды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ешительной битве никто не отст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вет вам, Христ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бите победу, священное 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ярче горит над руинами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вперёд христианское зн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бескорыстной, Христова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сердца молодые пусть бу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еньи одном на груди у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автра, быть может, кого и подним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пой разъярённой на древ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не робея, на смену и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алым борцам, не страшитесь кре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ите, цветите, плоды принос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расное в мире наследь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5:48Z</dcterms:modified>
  <cp:revision>12</cp:revision>
  <dc:subject>Slavic hymnal Гимны веры христиан, hymn 794</dc:subject>
  <dc:title>Привет вам, Христово цветущее племя</dc:title>
</cp:coreProperties>
</file>