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173-84BF-49B7-B598-C4902AF0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AE8-7063-4CA3-9550-C9887BA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F9D-3320-4770-A183-5C7713E2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C32-8165-443F-8537-81D26D5A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33D-F749-4C89-A7EA-D6C856C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350-D5B1-4FB3-82A5-07BC28DD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541-9D23-4301-93B8-2251441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CD4-D9F9-4C81-8723-F8B1B76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8FC-A547-4EBD-90F7-DA0D689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CE6-400C-413A-9094-2BD73E03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70D-0E95-4ABF-ADE6-4ACE5DA4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F93-D513-4C04-8F9A-4FC8C29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8908C-18D2-43CC-BB0B-413743086F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имо до церк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гонь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6   Належимо до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Святого Духа, що ді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еркві ц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ті дорогії, що діяли ко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и в інших м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оздоровл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ать лиш до Церк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00Z</dcterms:modified>
  <cp:revision>14</cp:revision>
  <dc:subject>Slavic hymnal Гимны веры христиан, Ukrainian hymn 96</dc:subject>
  <dc:title>Належимо до церкви П’ятидесятниці</dc:title>
</cp:coreProperties>
</file>