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B45-0860-4E18-AAC3-45BCF2DB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084-B154-4BA8-BE43-950594D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081-009E-465F-9394-E7C6928E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B94-8DE2-4930-B8F7-FF1F8CAE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E02-0F2D-45FF-82AD-C908079D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32D-E89E-408F-A48B-726008B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07E-D419-48CB-B957-07F02D75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695-374F-4AD6-A424-C148D3B5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DB6-548F-4086-A11A-D9CEA2C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610-DCEB-4411-858D-263B7F7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9E7-C49F-4549-9F34-B6CC4BB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8C3-8CCF-4BA5-ACC8-E3AD1AD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651DE-E027-44F3-9FD4-21833A6852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ble, He’s 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s 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Lord is able to carr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5   Він може, Він м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ealed the broken-he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et the captiv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 lame to wal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used the blin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ворих із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ртвім життя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іпим дає Він зр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ивії ходять в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ble, He’s 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s 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Lord is able to carr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26Z</dcterms:modified>
  <cp:revision>12</cp:revision>
  <dc:subject>Slavic hymnal Гимны веры христиан, Ukrainian hymn 105</dc:subject>
  <dc:title>He’s Able / Він може, Він може</dc:title>
</cp:coreProperties>
</file>