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C11-B0B4-44CE-9332-FAC2D3E9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BD3-C808-4C1D-A951-C583E3DE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EBD-7777-4B52-B7D9-439F9FFC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FEB-11BA-4766-8168-4BFA1237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960-B0A3-40FC-97E7-B5B1B073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AF4-D9EB-45FE-BB79-7EA7781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A6D-469E-4733-AB49-0A36E4F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00C-9C4D-48F7-AFA8-07FEA7B7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B81-57C9-4B18-A531-6F10829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2E3-3569-4123-BBD6-99D7CED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72C-0664-4A50-94AE-9588AC5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286-6A4D-4F03-8D1A-22FB497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4D3FB-2CC6-46BC-86A6-EE423C7E5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ere ninety and nine that safely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elter of the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was out on the hill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off from the gates of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ngels echoed around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on the mountains wild and b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here Thy ninety and n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y not enough fo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hepherd made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wandered away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though the road be 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ne of the ransomed ever k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were the waters cro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dark was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passed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He found His sheep that was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in the desert He heard its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ose blood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k out the mountain’s tr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ere shed for one who had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hepherd could bring him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y hands so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ll thro’ the mountains, thunder r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up from the rock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ose a glad cry to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I have found my sheep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 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15Z</dcterms:modified>
  <cp:revision>13</cp:revision>
  <dc:subject>Slavic hymnal Гимны веры христиан, hymn 841</dc:subject>
  <dc:title>The Ninety and Nine / Девяносто девять овец пришли</dc:title>
</cp:coreProperties>
</file>