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C79-3239-42A8-AE01-776885F3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17B-894F-45F5-A31D-A6659941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660-7D42-4BF9-945A-6AA6628D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6FE-F569-4F5D-8195-D11FA660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61A-9FFC-48EA-95AA-016BA3D9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6F3-3B8C-4678-A8D5-8376C47E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D5F-BB28-40FE-9F83-EF0E9FD8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52C-CB5C-4493-B2B4-4FFB74DF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321-2E6A-485F-BBDF-145575FA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C62-EDA6-4DEC-86E3-24AB15B5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741-4339-44B0-A62A-D81E6886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F74-478D-4079-86A5-D93900B1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CEDA9-DC3F-47B0-834D-3073501405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шь на пороге ты в ве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тебя счастье: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так красив и так м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удто цветы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мей, укрываясь цвет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их жало своё прита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овок, чарует грех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отвечай ему: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ишь на пороге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отвечай ему: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ы красивым был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, о, цветы, не рви их, не р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льше и дальше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так прекрасны по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дки слова их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асто горячей слез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оешь ресницы тво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друзья искуш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ти, где не будет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розами путь устил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отвечай только: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друг, лучший друг Иису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с Ним, куда Он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оре твоё и радость пой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с Ним, куда Он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воё сердце на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Дух и дивный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в мир с оружием в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, всё зло побед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сли хоть капля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ится в душе у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ромко в ответ всем мучень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: здесь победа м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ьба со грехом тяж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я так трудно прог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олько борьба к победе ве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ин Христов,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7:57Z</dcterms:modified>
  <cp:revision>12</cp:revision>
  <dc:subject>Slavic hymnal Гимны веры христиан, hymn 389</dc:subject>
  <dc:title>Стоишь на пороге ты в вечность</dc:title>
</cp:coreProperties>
</file>