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4FF-B05F-450F-AB89-3F1D3C47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F20-9A25-4F82-93FC-F70556F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8D9-2129-4424-867F-7194ED33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51B-43A2-4EB7-AD8D-97A125E5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625-BE0B-4A47-8C76-86685066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AE7-DC06-4A23-B689-D0920BEF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94E-F879-42CF-8B2F-1A34F0C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97A-18D7-4C2C-9242-7E08669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943-EA89-4A42-8DDC-750F4196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575-3D1B-4CC9-8DAF-B624B87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4BA-BA0D-4F9D-95B3-6A448A6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5F4-A3AC-41D1-AF9D-AEAED0FF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8B6F9-D0DB-448C-97F8-BC59312198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о Христом на земле я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н я с Господом к доле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зачем и на горечь вз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Христос всегда силен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в Свою славу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о Христом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я тщетно отрады и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вечный мне мир даро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ворит Он средь горьких 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ет с тебя благодати Мо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водимый пойду я см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, и труд, и печаль на пут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домой надлежит мне д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мне отрады не может п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Христа моё сердце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 Ком живёт полнота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придёт встретить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юсь близости славного д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ещё день и мир ветхий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ник! стремись неустанно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за тобою гря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10Z</dcterms:modified>
  <cp:revision>12</cp:revision>
  <dc:subject>Slavic hymnal Гимны веры христиан, hymn 446</dc:subject>
  <dc:title>Здесь со Христом на земле я чужой</dc:title>
</cp:coreProperties>
</file>