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D22-D5F5-441C-A6F5-2D644678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BD9-FB26-4BD2-9087-3A7CE56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CB6-3166-4229-A63B-E5E5BBFF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F5F-59E2-45A5-8F4C-8A3D5C6B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1B3-6DE0-456F-9617-FFE553E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A2B-E271-4544-99E2-D4F8E04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94F-9DDB-451F-B1BE-C1D22F60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4A4-13A2-493F-9DA2-4E16128D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06E-DC56-4F50-9F33-66D87B7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AA9-D1C9-4299-95D9-D853F32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F96-68BD-44E4-980A-4DC088B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BF6-F99E-44C4-AF5E-9408D56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D295-36CC-4D85-ABD1-94C6023416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upon life’s b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ar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ing all is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ney cannot bu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ewar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your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amid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ther great or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b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ov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ill att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and comfort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journey’s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ever burd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l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the cross seem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called to b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doubt will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will b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look a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ir lands and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that Christ has promis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ealth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3Z</dcterms:modified>
  <cp:revision>13</cp:revision>
  <dc:subject>Slavic hymnal Гимны веры христиан, hymn 718</dc:subject>
  <dc:title>Count Your Blessings / Если в бурях жизни</dc:title>
</cp:coreProperties>
</file>