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726-CD51-4689-8FD0-734447C9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6BF-CC2B-4587-8A20-FCE34733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CF9-FA24-4CB1-A539-F8D8A568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36C-1028-43B7-871D-ABCDE013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57C-13C3-4430-B3AC-4C4EE502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616-8441-4367-8E50-7F597082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511-7CF2-40CD-9A86-A71C529A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6E1-63DD-4E9C-8BC1-1872DB5A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DDB-CA4E-405A-9555-EC9FE8DD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B4D-8C3D-4CCC-9C94-F6942E1F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AD0-0041-4911-9D25-C5D13DD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883-8DFC-477E-A9FD-41672B24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B643C-6EA6-494C-A0F6-F779FD1727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e left His home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cross 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любит нас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lost but Jesus f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und the sheep that went ast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w His loving arms a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ew me back into Hi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еня Христос от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блудш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лонился, взял н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ёс меня к От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bruised but Jesus hea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nt was I from many a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 was gone and fears posses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freed me from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ранен — исцел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лужданьях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щилась мо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вечных сил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ys of darkness still come o’e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’s path I often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presence still is wi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guiding hand I’m 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я перед ть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ой не раз тесни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укой Его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me till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s its waters at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bear me safely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loved ones I shall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ордану с Ним пр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шумит у ног мо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ойду в стран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я встречу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5Z</dcterms:modified>
  <cp:revision>13</cp:revision>
  <dc:subject>Slavic hymnal Гимны веры христиан, hymn 599</dc:subject>
  <dc:title>I Will Sing the Wondrous Story / Я спою вам песню веры</dc:title>
</cp:coreProperties>
</file>