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2B12-06B6-4B14-8628-73C294B97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4229-615A-4154-A0A5-5696412D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92CD-E1F7-4D4B-A824-11AE9B290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91F1-05F2-4F54-9A04-83DBCEBB6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9B64-F441-4D0B-8672-1B9CC5C2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C3E8-E2FB-4414-93A0-C027AF43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498E-0411-4192-8FAC-185D5831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ECC4-120B-41C2-BD66-87101AF8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BE64-14E2-4619-96A7-5B5DD62F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2457-8878-413A-81C0-77978E8C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3FD1-8267-444F-8A0E-2335A282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050D-0BB5-4B6E-AE51-4C34DC99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3C382-6CE6-4EEC-A971-EFF37532AB3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стань и пой, пусть льётся п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ной пламенной ре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возгласи освобожд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енённым жизненной тюрь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 страдальцу утеш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щай усталому п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удо Божье ― исцел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й скорбящему отк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6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сстань и п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лудшим в сумраке сомн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алодушным пред борь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охни надежду на спас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ру в голос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и во все концы всел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м, кто мыслит, всем жив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 ты с песней вдохнов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ыв любви, грядущий к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2:13Z</dcterms:modified>
  <cp:revision>12</cp:revision>
  <dc:subject>Slavic hymnal Гимны веры христиан, hymn 466</dc:subject>
  <dc:title>Восстань и пой</dc:title>
</cp:coreProperties>
</file>