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6FD9-D6D0-446D-BB1C-D94E4DA64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3973-A53D-403F-AE16-9895497F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4C8E-7A63-46C5-8FFA-8F178EC99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91D7-8B51-4494-BE3E-E0A66C53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1DB8-AD06-4605-994F-D8EF5A3A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F619-4AFE-4FA1-9FD0-680C362A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0663-0118-4B64-9DD2-72108779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F086-3317-4998-90EA-D9BE4CA8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CE85-E489-4BD1-BD43-B6E9BBCF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F5C9-2CD2-4490-B0F1-C2781920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468C-0183-44A0-8F1C-561D5C76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8C14-9F81-4EAB-B8BA-17054ABD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16987-74BE-477D-BC9F-61FF9AEB176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ышу слово огнев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ердца, полного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коленье молод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ет жертвенной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крепко спит оно досе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едко кто на труд и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ой плетётся еле-е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и в жертву не не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6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слышу слово огнев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ужно нашей молодё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аться Богу целик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ишь тогда глаголы Бож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жгут её святым ог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аш народ тогда воспря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лагому Пастырю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Царство Божие наст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юди мира вкусят пл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освяти меня,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нём, горящим с алта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пойду благовест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людям, любовию го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ертвы кровной не страшу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― отрада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ть хочу дл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 мой, пошли ог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ня, огня Святого Ду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ой помощи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ры чуткого дай слу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лышать глас Твоих ре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пойду без колеб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вещу Тебя люд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если нужно, на страд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бя я радостно от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9:04Z</dcterms:modified>
  <cp:revision>12</cp:revision>
  <dc:subject>Slavic hymnal Гимны веры христиан, hymn 464</dc:subject>
  <dc:title>Я слышу слово огневое</dc:title>
</cp:coreProperties>
</file>