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9335-DF9E-4DE7-A375-375F3C303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D732-5264-4844-A244-2BB76EFE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7910-E023-41F3-BCDA-357A086CF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EAB4-B633-47B1-82E5-3F44C0DB4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E63D-FDE0-4892-B682-94CDEB19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F764-D4E4-4CEC-ABD5-8BFE175E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F6D2-505F-48A0-8ACF-AEBBDA04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2133-9BBC-4D96-9CC6-BE716299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CF67-7D51-4EF0-8ADE-857F0AB0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85D4-D8C2-43A0-BC59-4FEB5A40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F518-D74B-4AC9-8E71-9D858C20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4F80-5465-4ABB-BCB3-4A41FE28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6C67F-8D46-4F51-B1B7-B5830F4FACD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 все мои скорб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стомился под гнётом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Всемогущий, меня поддер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чно помнит, любит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яжкой ношей я изне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поможет, мой Царь и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кажу Иисусу все мои скорб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 все опас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ак отзывчив, Он всё пойм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твет на просьбу даст избав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гонит страхи, снимет весь гн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яжкой ношей я изне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поможет, мой Царь и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корби, в тревоге Тому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ил даёт мне мой крест 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ё Он вникнет, всё облег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яжкой ношей я изне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поможет, мой Царь и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осаждает, влечёт к паден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оём сердце так много зл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Он даст побе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десница меня спа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яжкой ношей я изне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поможет, мой Царь и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3:18Z</dcterms:modified>
  <cp:revision>12</cp:revision>
  <dc:subject>Slavic hymnal Гимны веры христиан, hymn 623</dc:subject>
  <dc:title>Скажу Иисусу все мои скорби</dc:title>
</cp:coreProperties>
</file>