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505-7100-40E2-960A-9F50B8FC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7D3-BD3A-41C2-8EF2-B353E709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B33-7F03-49A2-8BF4-971D774E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54B-F847-4919-B24F-83B0CEF0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CC1-6063-4CE0-9EB8-96DBE0F0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32A-F650-4FAC-A83A-C326A5C4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8E3-370C-4851-B88E-DE9E20F3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0DE-6268-4BCF-AE6C-7B2D724A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C70-6A1A-4638-A332-8939A31A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86F-8BCE-4D6B-B30B-6DC6B9F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D08-BBC0-4A6E-8332-67EBA465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3E5-1BE2-443B-8E52-86C2CFF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C2AC8-6CE6-4446-B97C-0D20FFF4CE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ре на серце на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шу смуток дуже зв’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  Коли горе на серце наля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льози твій спокій звору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айні гріхи душу м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чиш, що біда над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лод або смерть при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світі пропасти не люб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царстві Божім хочеш б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7:20Z</dcterms:modified>
  <cp:revision>14</cp:revision>
  <dc:subject>Slavic hymnal Гимны веры христиан, Ukrainian hymn 6</dc:subject>
  <dc:title>Коли горе на серце наляже</dc:title>
</cp:coreProperties>
</file>