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BAB-6197-467B-B77A-CA5B722C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912-D487-4041-8745-2A914240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819-8086-4376-98DF-5B2ADE07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600-19A7-41F1-861D-9CE33655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3DB-4961-4797-AF00-1FDF67AB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5B0-C6F0-4DB6-907A-B9C2231C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26B-12E4-45E6-B05E-36E44525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551-5FBD-48CE-A4B5-9348EA58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AA4-F454-43CC-A2AE-DB4F9998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C7D-A7D5-4939-84CE-802D51DA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014-46CC-4659-A51B-7646CBF7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980-74DF-49DC-B2E3-E516D9EE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C31AE-B317-4FB1-893E-ADFC1BBEB5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заблудший, к Отц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дали от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греха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сын заблудш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еши в дом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верных скор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ю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в доме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р всерадостный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Иисусом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как благ твой От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нежный,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7:36Z</dcterms:modified>
  <cp:revision>12</cp:revision>
  <dc:subject>Slavic hymnal Гимны веры христиан, hymn 377</dc:subject>
  <dc:title>Приди! Приди, сын заблудший</dc:title>
</cp:coreProperties>
</file>