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464-E247-417F-8ACB-65E3EEAA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E24-8CAC-4ED2-85B9-F632F7E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345-5FB2-4B7B-BE35-35AE8BB6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46E-011A-4254-AA5C-EAF9BC36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805-428E-4BEF-805B-9A11D65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287-B1E2-4D99-9A0D-3EE96FC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9FE-07B6-45FF-8FEA-411FB34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200-D95A-4863-BE36-DCAFBF2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1AF-E58A-4209-A153-2983A77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F1E-2593-431A-8D45-4382EC3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450-2D60-4F01-BD57-49307AE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983-D94D-4C3C-BADF-D2B8DB2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44C49-EDBA-4768-92A7-A994B71DF8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ellowship, what a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blessedness, what a pe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sweet to walk in the pilgrim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bright the path grow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dread, what have I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blessed peace with my Lord so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7Z</dcterms:modified>
  <cp:revision>13</cp:revision>
  <dc:subject>Slavic hymnal Гимны веры христиан, hymn 625</dc:subject>
  <dc:title>Leaning on the Everlasting Arms / Дружба верная</dc:title>
</cp:coreProperties>
</file>