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0</a:t>
            </a:r>
            <a:r>
              <a:rPr b="1" lang="ru-RU" sz="3600" spc="-1" strike="noStrike">
                <a:solidFill>
                  <a:srgbClr val="ffffff"/>
                </a:solidFill>
                <a:latin typeface="Verdana"/>
              </a:rPr>
              <a:t>	</a:t>
            </a:r>
            <a:r>
              <a:rPr b="1" lang="ru-RU" sz="3600" spc="-1" strike="noStrike">
                <a:solidFill>
                  <a:srgbClr val="ffffff"/>
                </a:solidFill>
                <a:latin typeface="Verdana"/>
              </a:rPr>
              <a:t>Любовь Господню описат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 love of God is greater f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n tongue or pen can ever te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goes beyond the highest st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reaches to the lowest hell;</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овь Господню опис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ут всей земли сы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превыше дальних звёз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лубже адской глубин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guilty pair, bowed down with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 gave His Son to w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erring child He reconci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pardoned from his sin.</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ас опять к Себе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ал Бог Сына в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рукой снять грех люд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готовить пир.</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love of God, how rich and p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measureless and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shall forevermore end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aints’ and angels’ song.</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en years of time shall pass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earthly thrones and kingdoms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men, who here refuse to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rocks and hills and mountains call;</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сему придёт последни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ные царства упа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равнодушные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ться в ужасе начну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s love so sure shall still end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easureless and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deeming grace to Adam’s 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aints’ and angels’ song.</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т конца любви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мерной 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ает грех, спасает всех,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ей всечасно п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love of God, how rich and p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measureless and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shall forevermore end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aints’ and angels’ song.</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ould we with ink the ocean f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re the skies of parchment ma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re ev’ry stalk on earth a qu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ev’ry man a scribe by trad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б в чернила оке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ергамент небо преврат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перья — все былинки тра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живущим поручи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write the love of God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uld drain the ocean d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r could the scroll contain the who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 stretched from sky to sk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ю описа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ло бы черн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свиток, равный небе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о бы не вместил.</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love of God, how rich and p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measureless and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shall forevermore end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aints’ and angels’ song.</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8:56Z</dcterms:modified>
  <cp:revision>3</cp:revision>
  <dc:subject>Slavic hymnal Гимны веры христиан, hymn 50</dc:subject>
  <dc:title>The Love of God / Любовь Господню описать</dc:title>
</cp:coreProperties>
</file>