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39C-23C8-4E61-83D0-A0CE16E3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CDB-FE7D-45FB-AB90-B799FE2D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676-4787-449D-A9A3-EEB12D7F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43D-30CF-48D4-B5AF-166544B0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CCC-5AEF-4C61-8FDA-CA773114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738-6341-4B36-8EF1-92194270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415-EFF0-4761-AD64-11B8A377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D5A-AE4C-48D1-97E3-01DB4955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62A-5B52-41ED-BA84-DA6BEB93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EE6-FA0A-4FD0-A2B0-D446F212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437-D2B7-4EB0-BA84-1A18252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47E-8C63-42A5-AB2B-C4B1AB4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66F4B-F664-4846-8B0C-4C4A6AEC74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Друг одино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, немощных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наш может стать далёк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нам всех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— Друг один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бессильных креп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ваемся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т нас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победу над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омощник скоры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Свой на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, в скорби, в лютом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уте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и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, в бурю, в тёмных деб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 наш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нас, грешных,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мир наш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л, дал Своё им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народ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55Z</dcterms:modified>
  <cp:revision>12</cp:revision>
  <dc:subject>Slavic hymnal Гимны веры христиан, hymn 883</dc:subject>
  <dc:title>Иисус — Друг одиноких</dc:title>
</cp:coreProperties>
</file>