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F16-384C-446F-ADAD-F63D1D45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3BC-9C7B-4EB8-82A5-112AE36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D09-8357-4FAF-805E-28D70792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4A4-F016-4335-B08F-6708243B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AF3-8CA9-4825-AC8F-8314F45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C71-57D2-4CE4-8A10-8C1085A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B03-4346-42D4-941C-BF657D0A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253-9037-4F37-B67D-228C627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501-9F13-494A-AFB4-EC9374E0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7AB-A626-4654-BA31-7E312EF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55D-E826-4F11-9E0F-AD27636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769-D7F2-460D-B6FA-2534E99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E4EE-BC7F-4418-8270-60E959FCAC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м и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пасенье от забо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бов снимает цепи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мир твор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шает С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уше, на мо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людям мир нес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им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другим достичь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ы добра вк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мечей куёт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чит не вр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кать в сердца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ренно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служи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, снимать тяжёл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горсточка, огнё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евши скорбь и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ети Божьи, мир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езде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и мы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 братству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ий мир царил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нам, Боже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ье, прост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 в мире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ть к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15Z</dcterms:modified>
  <cp:revision>12</cp:revision>
  <dc:subject>Slavic hymnal Гимны веры христиан, hymn 500</dc:subject>
  <dc:title>Сын Божий людям мир несёт</dc:title>
</cp:coreProperties>
</file>