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172A-73F0-401D-A5E3-BD452D98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EF2F-E0C5-4DE6-A194-D30287E7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E93D-A200-46EA-BEB6-69CF17E1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DD5B-9C10-4A13-A572-A4692D6C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65F3-C6E3-4B3F-A570-93008B39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7276-7565-4697-9474-2F1D791E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BB3C-6E1F-4B2B-B612-F0DDC067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9DAA-22D9-4747-AC03-8FFD71A8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868A-49E1-415E-9F89-98686C91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385F-5554-474E-97A2-0BC2582F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19EF-A63B-434D-9FC5-82EE33F8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D1CA-AF0E-49AA-8807-C1BC4937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A6516-8CFD-4AEE-9239-A4B8A3116F2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ко свой маяк Отец н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м светом озар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же Он огонь прибре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охраны поруч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а светит свет наш люд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лывущих по вол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ших и уста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правил к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рко свой маяк Отец на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чь греха жестоки вол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 стонет и ре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яжённо путник смот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а с берега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а светит свет наш люд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лывущих по вол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ших и уста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правил к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й светильник, брат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о гибнущий плов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 волной гоним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ит гибельный ко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а светит свет наш люд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лывущих по вол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ших и уста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правил к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2-01T14:56:19Z</dcterms:modified>
  <cp:revision>14</cp:revision>
  <dc:subject>Slavic hymnal Гимны веры христиан, hymn 555</dc:subject>
  <dc:title>Ярко свой маяк Отец наш</dc:title>
</cp:coreProperties>
</file>