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A1A-3692-41A3-AA20-E116FD1F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3FC-5D33-40B4-B87A-CB1C4707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BD3-4CC4-4A2C-8653-5B2EA096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872-752C-482B-A0CA-09357762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D4A-5353-476C-9976-EBD2B09F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065-89AD-439B-9140-0190E7F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F2C-1B89-43F3-A3A6-EBAF6F4D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A60-681B-43EC-B7E6-6E9F6BE5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ECD-0943-4F07-958F-3AEE936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FEB-BB6E-4D2C-AE13-CF7E223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AF0-D1FF-4F60-BDA2-FBD5AD0C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971-523D-4428-AD56-66DAF0B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E2768-53F2-4AD9-9556-AD5DD062C1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буря жизни с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яют мн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даже всё по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ит рука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ть и буря жизни сто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еня пу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елью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меня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ла меня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мне Он испыт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благо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меня стра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розят мне горе,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я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ржу я с Ним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олками тьмы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7:09Z</dcterms:modified>
  <cp:revision>12</cp:revision>
  <dc:subject>Slavic hymnal Гимны веры христиан, hymn 619</dc:subject>
  <dc:title>Хоть и буря жизни стонет</dc:title>
</cp:coreProperties>
</file>