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6D9-79F6-4EE6-9D2E-CDB05948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67A-FFB5-4A40-AB28-2CC57C41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757-AF46-49F6-9FB8-EA354818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057-4FD2-4A35-8ACC-B04131A4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19A-9BEE-4C52-B03F-1B3F6A20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962-F8A6-4C81-8D0E-0A2CE55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3CE-46B0-4FE3-8C85-47875457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8CD-2023-46BF-B04C-86485904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F05-5662-4BB0-93F0-EC711DAB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5D3-CC08-46C7-8AE3-CD58F58B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210-DAE0-4780-A5B1-47A91B3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AF0-44AA-497F-A785-18EC676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5D248-9407-4B61-A1A3-80E733029D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turn our hearts from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er alone can sanc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eep us pure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шь Дух Святой вл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лечё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вно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им радость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равде соблю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deeper love inspi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er alone within our sou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light the sacred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селяет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ую любов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гон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л во тьм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can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ifts we seek in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can words of comfort sp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ill each wave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несёт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аждем мы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везде 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ердцам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can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ace we need this h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we wait, O Spirit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anctifying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помог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благод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мы ждём,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ь и 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7Z</dcterms:modified>
  <cp:revision>13</cp:revision>
  <dc:subject>Slavic hymnal Гимны веры христиан, hymn 313</dc:subject>
  <dc:title>Thy Holy Spirit, Lord, Alone / Лишь Дух Святой влечёт сердца</dc:title>
</cp:coreProperties>
</file>