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277-08BF-4F5A-B8EB-3D19685A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94C-F59B-421F-882C-5AFDF776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43D-0E61-4472-A083-5F78E6F1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10C-6739-402D-AFA8-63FCC6ED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662-C5B1-4F70-B20A-9778231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B4A-1478-488C-8588-9460BCE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C01-6991-4DF9-92F0-72462982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417-3C0D-43C1-9B86-D4C64FCD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304-2097-4C22-96EF-537CFB0C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2CD-84B9-4996-A031-3AA55739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43B-7D1A-4798-B73E-740570C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270-B098-41B0-A0A9-95152A17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9BD6D-BE92-4325-92E8-7B007CFDC1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entle voice: oh, heart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ore the cruel thorns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ited long and patient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был на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 и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преданный грех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not plead with thee in v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 all My grief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ied to ransom thee from s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 тебя, откликнис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и мук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, чтоб ты не 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 thee joy from Heav’n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 thee pardon, peace, and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р с небес нес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, радость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что ты впустить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7Z</dcterms:modified>
  <cp:revision>13</cp:revision>
  <dc:subject>Slavic hymnal Гимны веры христиан, hymn 394</dc:subject>
  <dc:title>Behold Me Standing at the Door / У двери Я твоей стою</dc:title>
</cp:coreProperties>
</file>