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3B7-857C-4020-B0A2-A7A27401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693-C362-4893-8FD1-E818F47A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12C-83AE-475D-92F4-46031812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163-2B2D-4858-8D85-7BEB9638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F83-F629-4528-89B0-67110D7D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07A-4BD6-402C-86C7-FA3C5FC3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AAF-E62E-44D8-8AA3-541A5B39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A38-98FD-40A9-83D6-62026878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B86-E2C9-4A8D-8D3E-3F8283D3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A03-FDA3-4742-8F8D-BAC208CA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CD4-ECCE-436D-B384-0B67E5EE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7F9-8785-4996-9923-87FCB860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B7186-C727-45D1-8B36-B3D654FDF9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сеять ут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еять утром, сеять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день и к закату солнца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жатвы, 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ную ль погоду иль во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ли то во время бури и дожд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устрашимся, соберём мы жа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о слезами сеять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грудь порою дышит тяже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час настанет, жатва вся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11Z</dcterms:modified>
  <cp:revision>15</cp:revision>
  <dc:subject>Slavic hymnal Гимны веры христиан, hymn 521</dc:subject>
  <dc:title>Bringing in the Sheaves / Будем сеять утром</dc:title>
</cp:coreProperties>
</file>