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DF8-CB01-4C56-8A29-D8D0950D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FA2-2B72-4EEE-BC90-DA6CDFA3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2FC-416B-41F5-8B41-A8A27672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D22-C700-4EB0-88DD-6EAACB77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ADA-8837-4FA3-8A8E-A37E6B46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BE0-B3D7-42A5-B381-C7624F58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F9E-0339-4B9E-828A-F13D1DC4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E6B-FC8E-4B6F-BF7D-23C0E7F5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B29-95C2-4AC9-B7BB-C50F45D4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1E9-12E1-4A5E-B950-D9E3FC6B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4CB-EF4B-467E-9F8E-A32E3E3B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BB9-D78A-4FC5-A4BE-2648071E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7780B-51AC-4BDB-99EE-BC3AE346BF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 Божьи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и в глубин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е солнышка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на светящая в ноч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оренья Божьи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ветер, дух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а вблизи, вда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тра, вершины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койный вечер, звёздный хор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уг, кормилица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а, луга, сады, пол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прекра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щедрой осенью плоды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люди с чутко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я всем, одной семьё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ий,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Христу ярмо забо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, пред своим Твор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те ниц и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Бог живо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ославлен! Будь прославл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14:28Z</dcterms:modified>
  <cp:revision>12</cp:revision>
  <dc:subject>Slavic hymnal Гимны веры христиан, hymn 871</dc:subject>
  <dc:title>Творенья Божьи на земле</dc:title>
</cp:coreProperties>
</file>