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62E-1D44-4CFB-88B3-78731276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4F44-3CD0-4F29-85AA-A986AA2B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686-DBBC-4E8C-92F3-22FED5E1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7931-FADE-4909-B2F9-1A0C7826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3E02-C2BE-4138-8602-3920BFD8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4C7E-4469-4E33-82B5-D87F008C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E81-9BE1-440C-87D7-1A9982CC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72AE-EA94-432F-8EAE-E2C1FFDB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8E7-C8DA-406A-91E8-01B17462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D2EF-FD18-44AF-8DDA-BA6D5206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9EA6-5B6F-4732-8DFE-2F185ABE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19D-B663-4A0A-BC74-5EB1179E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60800-E561-48FC-8DE6-06F01F195C6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сскажет ручей говорл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му моей тайны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лугам и полям молчали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ежит он холодной струё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сскажет, что волны слых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му моей тайны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тело моё погруж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крещеньи в полночной ти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расскажет руч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 мира сего отрека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 Богу в крещеньи дав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славы Христа обеща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ой я тогда лико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олночный, при лунном сия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ался священный об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блаженном, святом упов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я от Бога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итве священной вним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еслася от вод к небе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ом душу мою наполняя,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мне Бог в сердце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 великую тайну свят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яю я в сердце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новой я ныне лик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 в церковь живую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поток был свидетель безмол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ей тайны великой,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чистые, светлые вол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моею прошли гол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ыть мне ручей одино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ыйду на берег ве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от берег зелёный, высо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завет заключил Бог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мне, мой Боже Вели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завет до конца сохра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скорбном, враждою покры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сёцело Тебе посвя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1:13Z</dcterms:modified>
  <cp:revision>12</cp:revision>
  <dc:subject>Slavic hymnal Гимны веры христиан, hymn 720</dc:subject>
  <dc:title>Не расскажет ручей говорливый</dc:title>
</cp:coreProperties>
</file>