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03E-050E-4505-A92A-42D0D7AD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674-D108-4E36-87E3-A4F27D4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005-697B-4187-BC44-59AEF714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F89-B1B4-455A-880F-68337E3E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C4A-2F28-4F10-A8E0-514167D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73F-147F-4D8C-8ED6-80E73F2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C39-3604-41BC-8006-30F64A99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C48-AE57-406B-828A-748D12D7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53F-D579-4DAA-A744-572D31BE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2BC-0373-4989-8595-415D90E4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ECD-4A84-4485-B20E-82E96DD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147-720B-46BF-BA83-668C41C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65896-979F-47A2-A977-DF394E87CC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please light th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nce burned bright and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place the lamp of my fir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burns with holy f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You’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na take You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hine it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irst help me just to live it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doing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never seek a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reward is giving glor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35Z</dcterms:modified>
  <cp:revision>10</cp:revision>
  <dc:subject>The Source, song number 401</dc:subject>
  <dc:title>O Lord, You’re Beautiful</dc:title>
</cp:coreProperties>
</file>