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6993-BCFB-4919-B6DD-1974DABAF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A29A-E623-4BA0-A7A8-FAC4EEE0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41C1-CF9E-463B-A67F-960F4DBEA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CBEC-9450-4994-953A-2C4E82163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42B8-BEB5-4181-A2E3-5A3D20D8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E9E1-A5EB-4EBE-BA06-16786D9F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9401-DB28-4E3B-865A-E8894A5E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DF11-774D-4360-B472-BC285EDD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155F-625F-4C7C-BC6F-0B173522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0781-0EE2-46EC-BDD1-0F3FB6B6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05A8-BFCB-49B8-8D9E-1B42F82D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21AF-7F2E-46F2-9C0C-2EBC6917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543982-6F57-487F-B230-E66D22CCE74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ce to face with Christ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ce to face, what will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ith rapture I behold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Christ, who died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ыть лицом к лицу с Иисус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лицом к лицу с Иисусом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еть свет Его оч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к чему душой стрем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дороже жизни с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ce to face I shall behold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r beyond the starry sk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ce to face in all His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hall see Him by and b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лицом к лицу ув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Господ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очу к Нему быть бли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ть Его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ly faintly now I se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 darkling veil betwe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a blessed day is co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is glory shall be s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видим мы Иис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квозь тусклое стек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 великий день гряду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есть узрим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ce to face I shall behold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r beyond the starry sk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ce to face in all His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hall see Him by and b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лицом к лицу ув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Господ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очу к Нему быть бли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ть Его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rejoicing in His pres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are banished grief and p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crooked ways are straight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dark things shall be p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ё тайное откро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е беды уст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справит всё криво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ех верных награ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ce to face I shall behold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r beyond the starry sk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ce to face in all His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hall see Him by and b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лицом к лицу ув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Господ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очу к Нему быть бли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ть Его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ce to face! O blissful mom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ce to face, to see and k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ce to face with my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Christ, who loves me 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лицом к лицу — блаженств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еперь так чудно зн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едёт нас к совершен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то дал нам благод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ce to face I shall behold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r beyond the starry sk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ce to face in all His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hall see Him by and b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лицом к лицу ув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Господ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очу к Нему быть бли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ть Его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10:06Z</dcterms:modified>
  <cp:revision>12</cp:revision>
  <dc:subject>Slavic hymnal Гимны веры христиан, hymn 861</dc:subject>
  <dc:title>Face to Face / Быть лицом к лицу с Иисусом</dc:title>
</cp:coreProperties>
</file>