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55B-B026-47AF-A026-7EEC5FA6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33A-5106-4277-B496-51D13CF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D7E-0DC4-425F-BFC9-98047EDD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7CC-1D8D-4EF8-A6BF-7D37110C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E3E-1FC3-4590-B8A5-8662707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AFF-4CC5-48AD-BD47-ED1FFD48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AD7-896C-4455-9D09-DC255227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C83-FF65-40F7-AD73-121E4E2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FB8-34D5-40EF-9014-09506CCC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6A0-BA29-4E8F-80BC-9EDCE075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480-BDC8-4C1F-B8DD-7E576D4C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96F-6C0D-4DBB-AED9-5CDE0AB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EE12C-82E5-4608-A6C6-AE93E6CAB7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Lord is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arth receive her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very heart prepare Him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, and heav’n and nature 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Saviour reig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n their songs empl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fields and floods, rocks, hills and 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, repeat the sounding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e let sin and sorrow g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r thorns infest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omes to make His blessings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, far as the curse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rules the world with truth and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the nations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glories of His righte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, and wonders of His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53Z</dcterms:modified>
  <cp:revision>14</cp:revision>
  <dc:subject>Slavic hymnal Гимны веры христиан, hymn 243</dc:subject>
  <dc:title>Joy to the World! / Радуйся мир! Господь грядёт</dc:title>
</cp:coreProperties>
</file>