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439-D0C6-4FB3-A8A7-2022560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358-ADBC-4258-BEAE-E1E8634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92A-6DCB-4E68-91EA-209BC87C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73C-F154-4281-9573-674E0D6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C48-57B0-4C8C-8EA8-18A5F29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6CD-2F2B-41D4-B0AC-18AC216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0D8-D382-4C4E-900D-270BB56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252-EFB1-43E3-8CEC-58D084CB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61B-DE27-4F88-959C-A1E9CB1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862-CE57-440E-BF09-DB975BD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C33-44B5-4619-BF0C-ACD1190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253-354D-45B2-80F2-417DAC0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2F2D-71F8-4436-87F6-DB8B1E2740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20Z</dcterms:modified>
  <cp:revision>13</cp:revision>
  <dc:subject>Slavic hymnal Гимны веры христиан, hymn 588</dc:subject>
  <dc:title>Придите, все сердца</dc:title>
</cp:coreProperties>
</file>