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A57-B064-4791-9D84-8589FB0C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C87-7422-4910-BF44-CD3891BE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FA8-35CF-4815-9CBD-FE71CC6A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DA4-8596-4226-A564-B554C677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A85-849A-4BCD-BACF-66262C49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330-BCB6-4DD5-8102-12AAB4CE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F9B-A7D8-4268-AA84-E482E97D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DC8-D1A5-4585-BF62-56F2EFE8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31B-8EB2-48AC-90D9-B0116145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2A6-7F42-451D-BF37-5955A077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D39-5E8E-4D46-8DA5-15F78A3D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0DD-0ADF-4033-AD11-80B7FFFF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6F728-E92B-4A28-B9B8-C101F335E5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moments we sh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rejoicing, as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gregate in the name of our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5   Дорогії хви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ії хвил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нам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бачили сестер, бра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romised that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ent with us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our hearts beat with His in ac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Ісус з нами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 слові сказ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лине з сердець Йому с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pleasant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to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utting out the world’s tumult and d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приємно зустрі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побачити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траждання й земну сує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rewarding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sit at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eive untold blessings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абути в єднан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ому на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відчути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vel-weary, we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is haven of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lax where God’s waters still f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немо 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іон ми 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зьмем сили нові в От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renewed and rest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Spirit refre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our way with rejoicing we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вши за Госп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лі пі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в світі лиш гріх без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close-knit comm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Christ as our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ued with God’s power from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сно, дружно єднайм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вкол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чі в небо ясне підійм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thwa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by Him will be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God all our needs will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перед, все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 захистом 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Господом сміло пійд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2:18Z</dcterms:modified>
  <cp:revision>12</cp:revision>
  <dc:subject>Slavic hymnal Гимны веры христиан, Ukrainian hymn 75</dc:subject>
  <dc:title>Precious Moments We Share / Дорогії хвилини Господь нам послав</dc:title>
</cp:coreProperties>
</file>