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8989-0774-458C-B8C2-682EB77A3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5EF0-A7E5-4CD3-AB5E-F06DBA3E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E3D2-163F-46DD-8DD2-75C2ED04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2D91-B349-4662-8F52-5E8691C1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DC2A-8D3D-4C3E-AB7E-F3EF8172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95B1-6F0C-4A05-928D-78576177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9FAE-67C7-4E60-A9AE-FC134ED9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55B4-0928-4487-A425-482BF255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B72A-FE79-4537-9DB7-3C7EF8C8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803C-5F65-4FBC-9BFE-3B7D6643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629A-E236-4A7A-824A-A8C6D6C2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92D3-8C14-4984-A3DD-EFB3D567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8987C-066F-4E40-A778-6DE031355EB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, когда труба Госп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землёю про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танет вечно светлая за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ена Он всех спасё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ерекличке повт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по милости Господней,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час, когда труба Господ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о милости Господней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 блаженный воскре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умерших в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воренья их в обители Ц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святых, омытых кров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литой на кр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овёт Он, и на зов отвеч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о милости Господней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трудиться для Тебя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всем сл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утра раннего и до заката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велишь работу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ую Ты сло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ый клич тогда предстан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о милости Господней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3:50Z</dcterms:modified>
  <cp:revision>12</cp:revision>
  <dc:subject>Slavic hymnal Гимны веры христиан, hymn 690</dc:subject>
  <dc:title>В час, когда труба Господня</dc:title>
</cp:coreProperties>
</file>