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967-82D7-4002-8CB2-BE53ABBD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434-47A2-4667-852A-76D74EF3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636-9094-4E52-BB4D-BC142196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6F3-39AC-4F4D-89D1-D00C6987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367-1716-420A-B3BE-6C3CF62C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05F-E269-4290-A5A0-C7C8B36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8C2-0CD8-4A06-A5BB-2EA952B9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5E9-C031-4F92-B6FB-E453C8A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C69-1B73-4519-9A1B-0B7BFEF4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6D0-4E51-497B-B9E1-C1D9BE9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952-8372-4673-B02F-DDEE5F7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86F-FE6C-4C89-B796-D23C1D5E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D9FFC-1DE8-4B1C-AE06-11D61DE84A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, what love is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ays so dear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, the guilt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go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Lord, What Love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they watched Him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spised, rejec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, the blood He 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e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this love of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flow like riv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wash your guilt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09Z</dcterms:modified>
  <cp:revision>10</cp:revision>
  <dc:subject>The Source, song number 370</dc:subject>
  <dc:title>My Lord, What Love Is This? (Amazing Love)</dc:title>
</cp:coreProperties>
</file>