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437C-0335-458A-A129-A20E982DF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3939-1D05-41D3-A329-C16C34E18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4D8C-F1AA-41B7-B309-EF0609A29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B06B-BB48-4767-9319-50A7CA31D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B686-4A40-4F53-9233-7391CD295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DEAF-B9FA-4936-A95E-2F0A97C17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4BE7-A7DF-45DE-9B12-6CA3771F6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F0A9-3614-4F0E-9296-948A3F376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E55A-32CD-4A20-9542-C43BF6DA9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9965-0621-49B7-AA26-23031F708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04F3-CD7D-4BBE-8FDB-597680E0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B854-FD7D-4B75-AB5D-028DC7BD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555E63-640D-445B-B873-3564A5E0C57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Man of sorrows!” what a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Son of God who ca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uined sinners to reclai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! What a Saviou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3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«Муж скорбей!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Муж скорбей!» так назван То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с заоблачных выс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ходил спасти нар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наш Спас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aring shame and scoffing ru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my place condemned He st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aled my pardon with His bloo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! What a Saviou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бь и боль изведал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 поруган, осужд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древу смерти пригвожд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наш Спас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uilty, vile and helpless w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potless Lamb of God was H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ull atonement! Can it b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! What a Saviou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греха и зла пол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гнец Божий, только 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ил нас от в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наш Спас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fted up was He to di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is finished!” was His cr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 in heaven exalted hig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! What a Saviou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овершилось!» возглас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иновных смерть вкус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о с радостью вступ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наш Спас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He comes, our glorious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His ransomed home to br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anew this song we’ll 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! What a Saviou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ень, когда опять при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ять искупленный нар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верный воспоё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наш Спас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1:00:27Z</dcterms:modified>
  <cp:revision>12</cp:revision>
  <dc:subject>Slavic hymnal Гимны веры христиан, hymn 838</dc:subject>
  <dc:title>Hallelujah, What a Saviour! / «Муж скорбей!» так назван Тот</dc:title>
</cp:coreProperties>
</file>