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9F05-BF1E-4416-9134-91E3AC651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6BA6-EEB3-4D75-BB04-FE1C4356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DCDA-A6DA-41A8-814C-0954A9F1E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1B90-60C6-43B8-A4B3-482951A2E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3363-DA77-49FF-8D6C-37A267EB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1C99-3F8A-4223-90C1-A298659D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41F3-5951-4A98-AB36-40C2DB5C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306C-3D4F-4146-828F-C45F49E8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AD19-B119-4C16-B60E-FC84BAA0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FF71-6F8F-4E12-AE03-603134C4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AD04-A4E5-4EDB-9E73-273DC22E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204B-1A8D-4D24-A0B6-A64D6665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7A429-2CCC-4540-B8B5-C27539F2AD9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я бедное ди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аб, где сил мне взя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жить Тебе желал бы 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, как нач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из любви к душе м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ам младенцем бы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овию меня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мерти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6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, я бедное дит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как жертвою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 приобре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за дар Твоих скор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 Тебе прине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сердце, Бог, 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, Твоё о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я знаю, весь я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ё Тобой да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долго сужде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жить в стране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ши желанье мне од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радостью Т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свято я завет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ю век целый с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нить дней моих прер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возьми с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6:35Z</dcterms:modified>
  <cp:revision>12</cp:revision>
  <dc:subject>Slavic hymnal Гимны веры христиан, hymn 764</dc:subject>
  <dc:title>Господь, я бедное дитя</dc:title>
</cp:coreProperties>
</file>