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04F-6187-49F4-BAD7-B4B625FF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A8F-4C3E-4073-82E7-1F7C98CD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FFF-56CE-4886-A670-6523480D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306-1F5D-48FA-9FF4-68ADE2A4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7B6-A672-451D-B566-47429C13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532-7518-4132-AB97-194B0D3C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FF6-3C03-4D68-9CC1-C57FE2EE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4D0-36F7-4765-BEEA-1D205E22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C47-40AF-4158-B861-663C4099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86D-F558-40A2-9660-7ED1A3DB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377-D433-4F72-86F1-0D39703B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3C4-4969-4D0B-B714-ED749C51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D6D8A-B40A-4EC6-ACAD-F1C8F6E264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at it will be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walk by You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at my eyes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face i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2   I Can Only Ima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ed by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will my heart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dance for You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in awe of You be sti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tand in Your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to my knees will I f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ing halleluja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be able to speak at 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en that day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find myself standing in the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en all I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forever, forever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ed by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will my heart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dance for You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in awe of You be sti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tand in Your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to my knees will I f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ing halleluja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be able to speak at 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en all I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forever, forever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12Z</dcterms:modified>
  <cp:revision>12</cp:revision>
  <dc:subject>The Source 4, song number 1882</dc:subject>
  <dc:title>I Can Only Imagine</dc:title>
</cp:coreProperties>
</file>