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049-F6D2-448C-BE84-EFDA38EC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0EA-CBA3-45F5-9815-4DCCE57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A05-28EF-46B0-AC26-686AB9D1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3EF-D12B-41F4-8492-15358DC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C3A-A06A-429F-94A5-90E53A3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06B-4C6E-45A9-B320-7D05A9A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3BB-C839-4DB4-A386-1487F5BC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792-966A-48A4-9603-FA8A8BD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388-B71B-4960-8833-CC6EB3E1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839-70EB-43C4-9719-7C7517E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B4F-7D96-4BC2-8265-B1A497A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58F-E0E5-4144-B11A-85FDB5B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EF60-CC6A-4263-BA77-7595191ED0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59   Стерёгших стадо пасту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ёгших стадо пасту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девших в тьме но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оза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лав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» ангел обод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ожавших перед 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озвещаю радость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т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ов город славным ст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ам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в мир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х пле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ам знак: найдёте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царской славы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т Младенец в п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слях Он леж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шине 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ели 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скорбною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слава в вышних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людям на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оленье Бог я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ящимся во мгл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12:06:29Z</dcterms:modified>
  <cp:revision>11</cp:revision>
  <dc:subject>The Source 2, song number 1059 in Russian</dc:subject>
  <dc:title>Стерёгших стадо пастухов / While Shepherds Watched</dc:title>
</cp:coreProperties>
</file>