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320-F691-4BA6-87A5-B7019A9C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F38-53B7-4B70-AF45-EEEA5C93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EE9-1394-4FA7-8D44-2F59AB4D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10B-36F9-4E40-9642-A509A3DB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1E0-662F-4EF3-81C1-388C91DC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B3A-B3E8-4E75-B1E1-1E94A816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2F0-2ECE-44A8-AA9D-2C237F45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410-6D43-44B7-9731-4B041281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2E8-6CF4-4954-B81A-508C05E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41E-62C4-478F-974C-1F91856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249-775E-43B3-84BE-4B02CEC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278-AE0F-4831-AA24-B03C024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FF308-F48B-40E9-B14F-08F3DFF121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26Z</dcterms:modified>
  <cp:revision>12</cp:revision>
  <dc:subject>Slavic hymnal Гимны веры христиан, hymn 875</dc:subject>
  <dc:title>Отец Небесный, только Ты</dc:title>
</cp:coreProperties>
</file>