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66B-1B48-413A-88A9-BFC6743D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4B2-594E-47B9-AF7D-542B79A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DA1-C07C-472C-9011-3504EDA2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F00-CD1D-4AAB-BB8E-1A18C962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A44-A16D-4C70-A008-9CF00F98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5E2-24B8-4EF7-92B3-3DF9C8B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73E-2722-4389-A197-CD69DC8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541-33F5-42CA-89EA-E238A0A6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0F2-2892-4CD4-8DF8-FAF4BA95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BB2-C9D3-46BD-BAF6-C6E459D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2A1-B817-47E5-AECE-2509C76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9D4-6AEF-401F-90A2-0462468F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ED09-10F9-436C-919B-E42645187F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явлена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Сына Он от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шных в иску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убока вся боль б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смотреть не 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ны на руках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 славе,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Сын Божи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звалил на пл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, но слышу голос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других насм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привёл Его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и всё — сверш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вздох Христа мне 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хвалиться не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дростью, ни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у лишь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ою М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что Он дал награду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 меня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всем сердцем вер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искуплен жер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6:01Z</dcterms:modified>
  <cp:revision>12</cp:revision>
  <dc:subject>The Source, song number 185 in Russian</dc:subject>
  <dc:title>Как велика любовь Отца / How Deep the Father’s Love for Us</dc:title>
</cp:coreProperties>
</file>