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E33-2FAA-43BC-8707-DE16C7E5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056-5644-4EB7-B06A-8C31A570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142-E888-40AF-BC3E-27DE3A1C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285-E79E-46F5-91C6-A0DEA84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A0D-0A90-4862-9653-F7C1532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269-24BF-433D-9E11-08A9264A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4F9-6E69-49AB-8654-B1380821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9C-B670-4658-B03A-AC20E039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489-FBE0-4998-B412-F2C2F6B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B49-985D-4FD3-A30A-62C2F1D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383-2C30-473E-93F6-F1798F9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3BB-91AD-4881-9932-BE40A8A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5D1FA-FD7E-456A-B540-E8B363FAEF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к сердцу больных и мяте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любви, ни над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 пролива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вся жизнь ум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является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предла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ны — целебный баль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юч к сердцу б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любовью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удо в душе совер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в обновленьи и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клониться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е уходит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желан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 вину, и п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пронзён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54Z</dcterms:modified>
  <cp:revision>12</cp:revision>
  <dc:subject>Slavic hymnal Гимны веры христиан, hymn 646</dc:subject>
  <dc:title>Ключ к сердцу больных</dc:title>
</cp:coreProperties>
</file>