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0976-81A5-4608-97CD-3E55D7B7F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20FB-C573-4F54-B493-7BB3C609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C784-246C-43E5-991F-6816B9F8A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2527-E43A-4C66-A624-086FD0B77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0F02-D9C3-4733-8E17-1833648F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54D5-870B-45EB-917B-D21929C7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1220-AFC2-4690-86CD-8D856F20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6A4B-7735-4296-AA41-DDB89D37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7B42-41E0-4B38-89A8-804145BC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150E-B751-4281-960F-31AFC072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14C9-BFFC-4E55-A350-AC60FF6A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F57A-3619-4729-ADDA-6621746C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C84D83-9553-4AA5-A515-1C911297CA1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do not let the Word dep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lose thine eyes against the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oor sinner, harden not your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wouldst be saved—why not ton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1   О, Божих слів не забув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ожих слів не забув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ни несуть тобі спок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ля Бога серце відкрив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удь з Христом, прийди скор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будеш ти ще й завтра ж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жливо, вік скінчиться тв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зараз час Христа люб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удь з Христом, прийди скор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morrow’s sun may never 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bless thy long-deluded s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the time, O then be w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wouldst be saved—why not ton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світ твоєму серцю дав?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ягар, журбу душі твої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с же щастя обіця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удь з Христом, прийди скор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будеш ти ще й завтра ж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жливо, вік скінчиться тв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зараз час Христа люб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удь з Христом, прийди скор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blessèd Lord refuses n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would to Him their souls uni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lieve on Him, the work is d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wouldst be saved—why not ton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прийняти хоче всі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ир спасіння дає С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скорбних хоче утіш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удь з Христом, прийди скор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будеш ти ще й завтра ж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жливо, вік скінчиться тв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зараз час Христа люб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удь з Христом, прийди скор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55:30Z</dcterms:modified>
  <cp:revision>12</cp:revision>
  <dc:subject>Slavic hymnal Гимны веры христиан, Ukrainian hymn 51</dc:subject>
  <dc:title>O Why Not Tonight? (Oh, Do Not Let the Word Depart) / О, Божих слів не забувай</dc:title>
</cp:coreProperties>
</file>