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EB609-BE38-40A2-96E8-F224AD514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EA61E-5FCD-4DD7-B278-EE3013493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FB782-9E78-4FFC-BD8F-0C6E5B7CD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F2434-C357-44C8-81DE-185CDB6ED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67E35-17FD-4391-B2CF-DB6E11031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D4C4E-E9E5-4DF9-ACCE-D3B61D576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47F83-AF03-4628-99B5-BEDB19C7A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F3C14-4617-4B88-8E40-18E095F32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B5B5E-4118-407A-8ADF-9342C7F57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74CA0-3B16-4A3B-8327-215276CAA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074D8-EB0F-4152-BECA-3B27501AB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AF78A-39CF-40E2-977F-4C95B975D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4AD3B4-3C96-40A2-A831-03C071804AA7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Rescue the perishing, care for the dying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natch them in pity from sin and the grav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eep o’er the erring one, lift up the fallen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ell them of Jesus, the mighty to sav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31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Людям блуждающи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дям блуждающим путь укажи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изких к паденью держите рук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м погибающим правду скажи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новь пробудите уснувших душ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escue the perish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are for the dying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 is mercifu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 will sa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дям блуждающим путь укажи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изких к паденью держите рук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o’ they are slighting Him, still He is waiting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aiting the penitent child to receiv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Plead with them earnestly, plead with th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gently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He will forgive, if they only believ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сть искупления всем понеси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х умоляйте к Иисусу прийт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двиг спасения славьте, хвали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ы несчастный мог счастье найт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escue the perish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are for the dying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 is mercifu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 will sa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дям блуждающим путь укажи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изких к паденью держите рук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Down in the human heart, crushed b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e tempter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Feelings lie buried that grace can restor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ouched by a loving heart, waken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by kindnes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Chords that are broken will vibrate once mo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 сердце страдающем, в скорби суровой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Праздник Дух Божий лишь может создать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ерой сияющим слугам Христовы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Дано о том на земле возвеща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escue the perish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are for the dying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 is mercifu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 will sa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дям блуждающим путь укажи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изких к паденью держите рук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Rescue the perishing, duty demands it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trength for thy labour the Lord will provid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Back to the narrow way patiently win them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ell the poor wand’rer a Saviour has di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принуждение тяжкого долг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вать к бесконечному счастью люде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наслаждение в жизни недолг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утешенье безрадостных дн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escue the perish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are for the dying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 is mercifu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 will sa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дям блуждающим путь укажи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изких к паденью держите рук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47:09Z</dcterms:modified>
  <cp:revision>14</cp:revision>
  <dc:subject>Slavic hymnal Гимны веры христиан, hymn 531</dc:subject>
  <dc:title>Rescue the Perishing / Людям блуждающим</dc:title>
</cp:coreProperties>
</file>