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377-85FB-4FCD-B476-2390FDA9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4E1-1B3E-4AFA-8B3C-798511B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C33-5991-4255-A1E3-002597CA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17C-40F8-47EB-BBED-0FCCA3DA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916-814A-4776-93CD-481FDAFD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4AC-A7E9-47CD-90B1-4D5A61B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82D-D74E-46C7-A58C-CBD19BA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544-C3C3-42BE-A449-4A99EBD6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000-EDEE-428B-BCF1-B3B131A1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2F6-624C-4F69-AE2A-C14E630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A7C-4B58-4519-80EE-C1C64B7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E03-CF1D-4A4E-8BC4-1871989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CDCA-6C42-48AE-90AC-B563EA36B3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er, wheresoever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burden of th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in thy Saviour’s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away thine ever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speak, and He will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, wand’rer, tarry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at consecrated sp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y laden,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can soothe thy troubled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aviour find th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less sinner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Bride and Spirit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 living fountai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there for you a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and poor, for bon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thought! For ever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atoning work i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boundless mercy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 who thither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at all the world migh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4Z</dcterms:modified>
  <cp:revision>13</cp:revision>
  <dc:subject>Slavic hymnal Гимны веры христиан, hymn 345</dc:subject>
  <dc:title>At the Cross There’s Room / Есть для плачущих земли</dc:title>
</cp:coreProperties>
</file>