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936-8DE8-4A45-868E-40FC3EDA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DA0-11CA-4BDE-8E41-455B7170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FE8-53E8-4551-88FE-17692A3B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BC4-983C-40EC-891A-57CD45D0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CCE-836B-4621-BACD-FCA616E1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F47-FF19-4A9D-843B-90334B07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73A-2D30-47A2-BEE0-1466E027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79B-5680-493F-81DB-8C08576E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985-5676-4D0C-AECE-8A2401BD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70D-3D34-4139-AF17-1C5255B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F07-7F1B-4F8D-A4F4-6C2843EA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EBD-FD0C-4036-A85F-19136310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DE1F9-7BFB-4075-B496-491DACB2B9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You were fors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accep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ere condem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22   Вот, я искуп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я искупл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ми был остав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ыновлён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alive and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is with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You died and ros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бьёт жизнь клю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Твой обит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ю кровью я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 мне не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г Ты за меня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хочу Тебе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ы — мой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 мне не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г Ты за меня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хочу Тебе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5-06-01T11:28:52Z</dcterms:modified>
  <cp:revision>13</cp:revision>
  <dc:subject>The Source 4, song number 1722 in Russian</dc:subject>
  <dc:title>Вот, я искуплен / And I’m Forgiven (You Are My King)</dc:title>
</cp:coreProperties>
</file>