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055-32A3-4CF3-9B46-3C676D8F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9EB-2A2B-4504-8ABF-09B77C7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9C6-5402-4E7C-B1C8-DB30EF8F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C8F-FEB4-4ABB-8024-F9EC02C2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C32-E595-4F28-8A24-5B774C78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1EF-69A2-49F1-BDB3-C5935387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668-BFA9-4176-8C53-4A77AB28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4C2-710A-4412-A5FB-3714CC5B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205-6CF5-4BFD-AD38-D5415171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C96-70F8-499D-A86A-82AE79D6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9DF-D8D3-48D2-B719-282A562C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37A-FA5E-4837-82D6-D80C368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9E55B-30C6-433D-969C-69D6A25C3E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arch me, O God, and know my heart to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y me, O Saviour, know my thoughts, I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 if there be some wicked way in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leanse me from every sin and set me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моё, о Боже, испы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, о Боже, испы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а исследуй, помыслы у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 опасном ли стою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от зла и в правде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praise Thee, Lord, for cleansing me from s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ulfil Thy Word, and make me pure wit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ll me with fire where once I burned with sh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nt my desire to magnify Th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! мой грех Ты снял с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итву, дай любви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 Духом, обнови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прославля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rd, take my life, and make it wholly Th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ll my poor heart with Thy great love di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ake all my will, my passion, self and pr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now surrender, Lord, in me ab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 Себе всю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я, волю — всё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ся в сердце, наставляй на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, и Сам во мне пребу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ly Ghost, revival comes from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a revival, start the work in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Word declares Thou wilt supply our ne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blessings now, O Lord, I humbly pl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, в Тебе источник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, чтоб к жизни многих пробу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и нужды всех сынов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Господи,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24Z</dcterms:modified>
  <cp:revision>13</cp:revision>
  <dc:subject>Slavic hymnal Гимны веры христиан, hymn 827</dc:subject>
  <dc:title>Search Me, O God / Сердце моё, о Боже, испытай</dc:title>
</cp:coreProperties>
</file>