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60E9-F282-496F-9185-7AC9F8FB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7675-39CD-4AD2-8044-94BED7FE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3483-8956-49C2-B153-A9A796A6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6343-6E8F-45A1-9039-1E899050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BE5C-46EE-41C2-9667-4538F2B1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2938-FF6E-4613-8263-1009BFCA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1734-A79F-472B-B26E-52CB8292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DBE7-983E-497D-AC22-A66EE83E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0CA3-2563-4DE0-B935-FDC7D821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9982-CE4D-472F-80AB-1EEB25C7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6FFA-D97C-4F54-ACEB-1C31F6AD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D250-2E97-42EB-90A6-6B953B98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029BA-405A-47F8-AD4C-E31F4231407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 mock purple array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orns piercing Thy b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ands bound, taken out of the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багрянице стоишь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агрянице стоишь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рновом венц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го спереди связаны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lood from Thy fore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now trickling dow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more they are engulfed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ughter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евали в лиц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лилася с че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они всё сильней хохот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страдал и терза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порочный над Богом глуми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, о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Спаситель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Он так тяжко томи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face showing the suff’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Thou didst a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so for Your tormentors—what p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скорби глуб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едном ли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жалости к людям и му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y suff’ring transc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ere physical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though Thou art in dire situa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телом скорбишь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люд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позорная пытка ужас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er far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iritual suff’ring endu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ing they would reject Thy sal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шный час для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равненно боль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ть, что жертва для многих нап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compassion, O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aches out to Thy foe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eart for them is o’erfi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 любовью го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заряя вра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нежно объять мир стремило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do not under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 their hearts are clo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y prophecy they are fulfill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многим понят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лпа над Ним злобно глуми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Bring the sceptre to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your knees, every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e forever, O King!”—m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wors’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йте скипетр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лени скор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равствуй, Царь Иудейский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ич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into Thy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ou God’s only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the reed of bulrushes are for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затекшие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я всех ца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остниковую палку влаг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reeds they bea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sharp thorny cr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laps on Thy gaunt ch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 af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или тростью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колючкам в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 впалым ланитам хлест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39:37Z</dcterms:modified>
  <cp:revision>13</cp:revision>
  <dc:subject>Slavic hymnal Гимны веры христиан, hymn 285</dc:subject>
  <dc:title>In a Mock Purple Arrayed / В багрянице стоишь Ты</dc:title>
</cp:coreProperties>
</file>