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7FE-224A-4A06-98A9-F7A88088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FD0-6289-438A-BF2C-B982FC66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FA0-6F23-4602-A745-75E2CCEB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4CD-0E09-42CB-A30E-6C9C3996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0C3-5D4C-4101-B250-A91A7B87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784-591F-42F9-8037-50CA8E49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8E9-B374-481A-A695-BABF952D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4E8-5DF3-43D4-9BD6-99BB7293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AA3-B396-472B-BC71-25635FAE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949-E693-4832-9061-E9F12978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103-3C0C-40D6-B0B3-BBD673A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884-3121-46B0-B40D-4667851C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3F342-6A5B-487C-859D-2B3BA51F89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God of this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King of these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ord of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ght in th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hope to the hop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peace to the res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9   You’re the God of This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God of this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King of these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ord of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ght in th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hope to the hop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peace to the res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5:32Z</dcterms:modified>
  <cp:revision>12</cp:revision>
  <dc:subject>The Source 4, song number 2199</dc:subject>
  <dc:title>You’re the God of This City (Greater Things)</dc:title>
</cp:coreProperties>
</file>