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033-3BB1-4E03-AD41-FF6ACEFE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C0A-F100-43D9-A53A-BEFE63EE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F7C-39A6-4026-B291-5E655EC9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029-5DF5-490F-AC8F-20E8B004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C0E-56D1-4076-8025-2378F962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2C0-B2C6-48C2-8837-FDEBA96C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835-987F-4484-AB8B-A39C7FE9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DBE-D343-4BA8-8A1E-4C1ECE5F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3BA-F194-4998-A913-5CF410D5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EDF-74B8-414C-88A6-85AD0F0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7DA-BECB-451D-BB19-B193F0D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DB9-994C-4D2D-B47A-06171A67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5E6A-61BE-4688-99A4-0B1FB577AE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Мне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одной покинул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траждет и д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уныло и тем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Мой, сердце Мне от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 ты, тёмен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де сердцу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чи любв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греют горд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, радостно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ст Мне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тяжко од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жизненном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юбил того, кто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тца ты не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рчал Его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не своё от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раздельно, цел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й верой ты призн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Господу от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не ожи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годня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изыв протекших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15Z</dcterms:modified>
  <cp:revision>12</cp:revision>
  <dc:subject>Slavic hymnal Гимны веры христиан, hymn 392</dc:subject>
  <dc:title>Сын Мой, сердце Мне отдай</dc:title>
</cp:coreProperties>
</file>