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F51-90B1-4935-B13C-E07195DC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88E-6189-46D2-9655-7F018A4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B15-20A8-4213-ADBB-BBAA1586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E17-ED0D-49F3-9579-8A3887F6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A1B-452B-4153-B69D-2872BAE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FC2-3F76-4D5F-8C68-F4D4084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82A-59DD-46F3-A325-0ED74FF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640-692E-451B-A7E4-7992B29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7E6-236C-45F7-8325-209E4C08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7D4-4CBB-428E-A27D-CC43FA2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4E1-E4D6-476C-A790-A901A35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59C-C01C-4908-8F24-75F6A7E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170D-BE16-4D5B-B208-49F4D1895C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heard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tidings all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the news to ev’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mb the steeps and cross the w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! ’tis our Lord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ft it on the rolling t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o sinners far and w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islands of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 back, ye ocean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shall keep her jubil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above the battle str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death and endless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brightly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eart for mercy cr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triumph o’er the tom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e winds a mighty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nations now rej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est hills and deepest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song of vi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7Z</dcterms:modified>
  <cp:revision>13</cp:revision>
  <dc:subject>Slavic hymnal Гимны веры христиан, hymn 572</dc:subject>
  <dc:title>Jesus Saves / Весть чудесная звучит</dc:title>
</cp:coreProperties>
</file>