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36D-3119-4BB0-B0FC-E7874041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3FF-9BE4-40AA-99BF-E06993E8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D98-B14E-4C7A-A1F6-E65889CF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E4A-C425-48DF-A5D4-5D5E0E8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5B5-409D-4258-8708-F8EE5DBB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610-E366-4F27-9634-35A90EC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471-4868-4B9F-9EB7-06AB1CE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873-47F5-4966-BC93-36AEA9D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4BE-AC77-497B-A8DA-F2B861E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C99-A082-41EB-AF50-3C57458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FBD-E2EB-4B01-8B86-55AB853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8A6-30BB-43B5-B5A4-501EAC8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B538-B887-4ACE-BB8E-D1CEA8203E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the holy of ho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His presence with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at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hol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0   Come Into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43Z</dcterms:modified>
  <cp:revision>12</cp:revision>
  <dc:subject>The Source 3, song number 1170</dc:subject>
  <dc:title>Come Into the Holy of Holies</dc:title>
</cp:coreProperties>
</file>