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7</a:t>
            </a:r>
            <a:r>
              <a:rPr b="1" lang="ru-RU" sz="3600" spc="-1" strike="noStrike">
                <a:solidFill>
                  <a:srgbClr val="ffffff"/>
                </a:solidFill>
                <a:latin typeface="Verdana"/>
              </a:rPr>
              <a:t>	</a:t>
            </a:r>
            <a:r>
              <a:rPr b="1" lang="ru-RU" sz="3600" spc="-1" strike="noStrike">
                <a:solidFill>
                  <a:srgbClr val="ffffff"/>
                </a:solidFill>
                <a:latin typeface="Verdana"/>
              </a:rPr>
              <a:t>Взываю, Господи, к Теб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зываю, Господ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не пал в зем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еня, приблизь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счастен, слаб и греш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о креста крови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ывает всё; очис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исправим я сам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раз обет ломаю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быть Твоим слу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У ног Твоих лежу в ти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снись израненно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чни Твой труд и совер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5:23Z</dcterms:modified>
  <cp:revision>3</cp:revision>
  <dc:subject>Slavic hymnal Гимны веры христиан, hymn 147</dc:subject>
  <dc:title>Взываю, Господи, к Тебе</dc:title>
</cp:coreProperties>
</file>