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7F1-C6CD-45F1-8FD8-CAE70299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05B-BCE7-48A1-9F43-A76F3A1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94C-C722-4E93-9611-FBEB4609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3A9-B755-4D81-AD1F-B33C9899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EA4-9F85-41D7-957F-D722A46C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DF1-7066-42B0-83C4-3C2DB0F5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934-1094-4877-A833-90B07FF4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859-A024-4CBD-919B-59F5E18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A29-5B2B-4CE5-A78D-38534379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18D-0F71-4240-92BD-E2E4F3C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3E0-4071-44DA-A306-C82D933E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93D-57FD-4916-A2D1-DB8F71DF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815F2-481A-4BCD-85A9-35307D6553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friend for sin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over of my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may fail me, foes assai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Saviour, makes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— Друг один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Друг одино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, немощных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наш может стать далёк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нам всех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strength in weakn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hide myself in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ed, tried and sometimes fai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strength, my victory w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бессильных креп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ваемся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т нас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победу над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a help in s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billows o’er me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when my heart is brea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Comfort, helps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омощник скоры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ет Свой на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, в скорби, в лютом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guide and keep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tempest still i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orms about me, night o’ertak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pilot, hears my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уте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и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, в бурю, в тёмных деб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 наш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I do now receiv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all in Him I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granted me forgive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нас, грешных,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мир наш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л, дал Своё им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народ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0:39Z</dcterms:modified>
  <cp:revision>12</cp:revision>
  <dc:subject>Slavic hymnal Гимны веры христиан, hymn 883</dc:subject>
  <dc:title>Our Great Saviour (Hallelujah, What a Saviour!) / Иисус — Друг одиноких</dc:title>
</cp:coreProperties>
</file>