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068-0B5B-4BA7-BF99-13A5FEC0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C7E-C5A2-4B51-859E-EF28611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00A-97BB-4BA7-AC0B-7DAD3F93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58B-69D9-4442-8915-E9DEE837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ECE-6831-4E9F-B4BE-CC66B35E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5FE-9939-4D8C-BEB3-4984268E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7DB-E091-44EC-B78D-310992EC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2A5-A62E-4980-BCB5-276507FC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9AE-8FE1-4BF0-B062-C887E06F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2F5-FE5A-4BCC-8D4F-542C3B1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33C-3F0A-4482-ACB5-A0EBA684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873-8564-41D8-BCDF-3864CF7E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CFC68-4A92-4400-A027-A1E50F2F7C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ввійди, в серце вві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 тепер, відкрив я д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9   В серце ввій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45Z</dcterms:modified>
  <cp:revision>12</cp:revision>
  <dc:subject>Slavic hymnal Гимны веры христиан, Ukrainian hymn 109</dc:subject>
  <dc:title>В серце ввійди</dc:title>
</cp:coreProperties>
</file>