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864-0E3D-4BAA-8BA5-6ED3BFC7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A33-1471-45D7-8E2F-FA1436AA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D37-51B9-4DB3-9773-63009295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290-7A55-4E95-93FD-87C28924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63F5-255E-45D7-A30A-CDF84471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EFD-6EA5-42F2-A111-7049934A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B22-3113-4172-BE86-4F3DBB4D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2A0-4408-42FF-BD2D-227E611E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501-48D0-4B76-8EF7-7EC58131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8C5-9047-4614-A631-6A94C0BA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A57-AB6A-4BEC-AC36-D353DD0D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D68-3A70-481A-B2B5-D1901844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D72DB-EE06-4902-983A-7C897C3CF9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, мій Спа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уй мій голос те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війди в моє Ти сер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   Не минай мене, мій Спа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престолу милосер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мені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колінах, в скрусі сер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від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 Тебе покла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ію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лишай мене нік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моїм житт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є джерелом с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сякого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веди мене ру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ямо в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4:36Z</dcterms:modified>
  <cp:revision>13</cp:revision>
  <dc:subject>Slavic hymnal Гимны веры христиан, Ukrainian hymn 7</dc:subject>
  <dc:title>Не минай мене, мій Спасе</dc:title>
</cp:coreProperties>
</file>