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6C5-EE61-40C7-8540-1A95A2D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F92-3F9D-4132-857A-C519BBC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61C-9CA7-46B7-A45C-61840AA0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D80-01CA-4B1C-A49E-9141667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C43-464C-4660-A3FE-C86FE0B2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FEA-7831-4A87-AE3A-E867AAA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CDF-E836-46E5-B706-8E6406F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9BB-83A0-4243-AB18-88F58AA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10A-3D7F-49B6-82FD-58EE0D3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757-19E8-4BEF-941A-2175C2F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D31-014A-4C14-8B8F-6AC3407E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3FA-71F0-4426-9F6D-E72A07F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AAE4-13A3-4DC2-8ADD-83B6E4B246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28Z</dcterms:modified>
  <cp:revision>12</cp:revision>
  <dc:subject>Slavic hymnal Гимны веры христиан, hymn 691</dc:subject>
  <dc:title>Издали нам сияет страна</dc:title>
</cp:coreProperties>
</file>