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FAAB-B045-46FD-B4BE-752EDBCA1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1E31-2F54-4AA4-B0A1-6B0A77D0C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A594-AA08-4D09-B714-14AC8FA73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D4E9-5BC0-4A54-BBB8-2118D4285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A46D-1B21-46A9-B496-76846B28E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56C5-F380-4174-8B48-7047D46C4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FAA6-B5C8-4608-885F-9BCC12A58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8D49-626D-4756-95AB-DD605F782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76BC-F8F1-4CBD-B954-8A7F4A55F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F05B-4D4D-499E-9AC6-45F388998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7E53-50D7-4EFF-A3C1-0FAC926CD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96B6-BB96-425B-8EB6-9A38A894A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4CCEF0-FE3E-4D1D-9361-8D5AFFD396E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 Zion, haste, thy mission high fulfill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o tell to all the world that God is ligh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at He who made all nations is not wil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ne soul should perish, lost in shades of ni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5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ион, спеши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ион, спеши исполнить долг священны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сем расскажи, что в Боге жизнь и свет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Что Устроитель и Господь вселенно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Что близок Он к творенью Своем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ublish glad tiding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dings of pe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dings of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demption and rele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м возвести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и любов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х Искуп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ает от грех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ehold how many thousands still are ly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ound in the darksome prison-house of s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ith none to tell them of the Saviour’s dy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r of the life He died for them to w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Гляди, гляди! народы погибаю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х враг пленил и заключил в тюрьм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м о Христе никто не возвещае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пасает души из пучины бе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ublish glad tiding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dings of pe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dings of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demption and rele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м возвести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и любов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х Искуп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ает от грех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Proclaim to every people, tongue and 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at God in whom they live and move is lov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ell how He stooped to save His lost creatio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died on earth that we might live abo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, возвести народам и племёна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Что Бог даёт нам жизнь и благодат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Что Он сходил спасти порабощённых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Что Он страдал, чтоб грешников приня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ublish glad tiding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dings of pe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dings of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demption and rele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м возвести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и любов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х Искуп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ает от грех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Give of thy sons to bear the message gloriou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Give of thy wealth to speed them on their way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Pour out thy soul for them in prayer victoriou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 Zion, haste to bring the brighter 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ошли сынов нести в мир весть спасень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ошли дары содействовать в труд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Молись всегда за призванных к служенью, 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За всё награда ждёт на высо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ublish glad tiding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dings of pe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dings of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demption and rele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м возвести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и любов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х Искуп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ает от грех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5T11:07:51Z</dcterms:modified>
  <cp:revision>12</cp:revision>
  <dc:subject>Slavic hymnal Гимны веры христиан, hymn 852</dc:subject>
  <dc:title>O Zion, Haste / Сион, спеши…</dc:title>
</cp:coreProperties>
</file>