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6F6-42FB-4B5D-B750-AD778F4A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652-E68C-4D03-9B62-9830CA5E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9C9-CD54-44F3-8B8A-05887FA9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DFF-6D86-44D1-B843-BE728B41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163-0FDE-4598-97CA-128FC20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331-9F2B-4734-835E-262FB56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371-C76C-46EC-94B4-A684953C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423-1A5E-4974-83C3-0D0B1CE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A2D-BDD6-4EB2-B656-D6DDCE37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FE2-DF3C-477F-9B2A-E97F10B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8FF-7947-41EF-8C39-B1311B7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8DC-99A2-4F36-BAE7-58B379B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90606-C751-40E3-AF6D-652BC274E9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44Z</dcterms:modified>
  <cp:revision>12</cp:revision>
  <dc:subject>Slavic hymnal Гимны веры христиан, hymn 549</dc:subject>
  <dc:title>Всё посвяти Иисусу</dc:title>
</cp:coreProperties>
</file>