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700-BF0A-4ED2-84E2-3279844E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4C2-F607-4347-B806-9ED63253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5F5-29BC-42BD-8423-A344D07C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78D-FF58-41AF-B3FC-55C0B20B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331-4728-4364-A908-E4C6C839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58E-74BE-412F-B7D5-757B094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71D-9128-437C-82E9-C9E383A2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EFF-F2B1-4722-83B7-205AB37B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188-A583-4E34-8398-F9262B4E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710-7677-45B6-80E8-F2170F1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E7F-A105-419E-8335-876C6612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505-3FD0-47B2-A79B-0E367A4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D1326-1535-48E7-A912-1AC2E86A59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блю Тебя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груди моей мал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дух изне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житейской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олела усталост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люблю Тебя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жги в моём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ог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радость и счастие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рным и твёрд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быть во вс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им ближним дай, Боже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кавый смущ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душу мою обма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Боже,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ердыня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дай мне духовно ус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Ты при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удить этот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ховный, порочный и з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войду, о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брачный Тво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й прекрасный чертог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51Z</dcterms:modified>
  <cp:revision>13</cp:revision>
  <dc:subject>Slavic hymnal Гимны веры христиан, hymn 801</dc:subject>
  <dc:title>Я люблю Тебя, Боже</dc:title>
</cp:coreProperties>
</file>