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a:t>
            </a:r>
            <a:r>
              <a:rPr b="1" lang="ru-RU" sz="3600" spc="-1" strike="noStrike">
                <a:solidFill>
                  <a:srgbClr val="ffffff"/>
                </a:solidFill>
                <a:latin typeface="Verdana"/>
              </a:rPr>
              <a:t>	</a:t>
            </a:r>
            <a:r>
              <a:rPr b="1" lang="ru-RU" sz="3600" spc="-1" strike="noStrike">
                <a:solidFill>
                  <a:srgbClr val="ffffff"/>
                </a:solidFill>
                <a:latin typeface="Verdana"/>
              </a:rPr>
              <a:t>Мы увидели друг друг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ы увидели друг дру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дивный есть бальз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енье от неду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лен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привет вам, всем привет 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м, сёстрам, всем при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мы в сладостном общ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Христом пойдём во след.</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ердце полно восхи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сторгом дышит гр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ивном сладостном общ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мы можем отдох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привет вам, всем привет 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м, сёстрам, всем при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мы в сладостном общ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Христом пойдём во след.</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то за счастье, что за ра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пребывать с 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где все сердца в соглас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любви ликуют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привет вам, всем привет 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м, сёстрам, всем при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мы в сладостном общ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Христом пойдём во след.</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аше счастье — не земн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всех даров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бщенье дорог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ликуем сердцем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привет вам, всем привет 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м, сёстрам, всем при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мы в сладостном общ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Христом пойдём во след.</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3:21Z</dcterms:modified>
  <cp:revision>3</cp:revision>
  <dc:subject>Slavic hymnal Гимны веры христиан, hymn 17</dc:subject>
  <dc:title>Мы увидели друг друга</dc:title>
</cp:coreProperties>
</file>