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117-FFD9-4A30-BC87-6D2461FC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8FF-C78E-4716-B047-DCC181BD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21C-4B65-426D-80F6-EE4B94F4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C63-827E-4665-B154-6A7D2BED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8E0-0859-4A8D-944A-6869E69E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B75-4345-49D5-B76F-C68F39C5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58C-4259-461D-873D-24091D5E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4FC-36FA-4525-873A-5C3A82E1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7FA-1509-4083-A114-3B786EE7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338-5169-4F59-8B53-50A319CA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5CD-72F2-4E64-A113-4A6C70E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5F5-99CE-4AFB-9816-2C8E10C6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27ED3-E4BC-4E49-8D25-46EE1AD87F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рам, не золотое з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руг отобранных друз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есть собр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ом искуплен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теперь на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тягостны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времён про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жидаемых век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рам, не золотое зд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с пустыней ю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падных, восточных стр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вера, где вечна 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снежный ура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из всех на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й земли и всяких цар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юрем, из-под царских св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бщин всех и всяких па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, кто в царстве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лись в блаженстве и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 молитвы воссы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ьях скорбных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— мир воскр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новлённый род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наделит крест Пон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ым небом, и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покоя в мире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избр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Богом и Его за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только битва су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борцы теперь в изгн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 кровью бое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 слезах, она в ры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р, объятый суе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нь уж близок, и ве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а — Жених её — и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ны радостные к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шум морей и гром невзго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Он взять её из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есных уз тюрьмы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ут её венец, пор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рай, и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царь Давид, певец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ит Лазаря в вен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ывший нищий с сыном 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ягут в Божием двор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аведный Енох, как с бра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имется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збойником, Христом прин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имя жертвы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Церковь вечна и еди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в ней быть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луг там нет. Прими, как сы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ту Церковь, Бог бла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58Z</dcterms:modified>
  <cp:revision>13</cp:revision>
  <dc:subject>Slavic hymnal Гимны веры христиан, hymn 562</dc:subject>
  <dc:title>Не храм, не золотое зданье</dc:title>
</cp:coreProperties>
</file>