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005-E061-442F-8203-3FA6F1C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21F-F1AF-469A-93F3-BC124FE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243-E998-4F74-BB55-B12E46CC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56B-E194-4E16-B52B-7BF379D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DFE-5839-43BB-AD7E-3A8A33D1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B85-1FE3-4C94-91C2-DFC9B30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79B-7CDB-49EA-B351-0F7BBCD7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40E-8E46-49C0-9AEC-8CCA4FC2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E75-A16E-4B24-9DEF-86DFA2AB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D72-BC44-4D67-8E8F-B5AFE65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4AE-CD49-418C-941D-C67475E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787-9362-477A-BACE-17889ED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C8E66-05A1-404E-85D0-06EB7DF38E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5:58Z</dcterms:modified>
  <cp:revision>12</cp:revision>
  <dc:subject>Slavic hymnal Гимны веры христиан, Ukrainian hymn 81</dc:subject>
  <dc:title>У гробі Він лежав</dc:title>
</cp:coreProperties>
</file>