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DEFE-35C0-49B0-8EBA-51A0A6EA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5805-F820-4295-834A-842D70A3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9710-6306-4593-997F-D044283E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F701-D051-4112-94D2-9F115AC52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F31F-8517-4BD3-A96F-B33FF7AD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1A07-7DC3-402B-9A73-1C004D39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D307-C6C8-4BEA-A418-D5ABFFA5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B181-265B-4B56-9A53-8A7C80A0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A7C0-B20F-4FE7-8D7D-89232CAE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7EE0-DB89-4EFD-8E21-42C4E4BB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68B7-F8CD-4143-B5C0-7AA2DBF4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5C59-7F0A-4B8B-A82E-3B5DD756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6F5EB-F9DA-46B5-A5D9-09C55BC9521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God be the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God be the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God be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things He ha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021   Иисусу хв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хв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любовь Его к н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blood He has saved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pow’r He has rais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God be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things He ha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кровью омыл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силой поднял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хв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любовь Его к н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14:38Z</dcterms:modified>
  <cp:revision>11</cp:revision>
  <dc:subject>The Source, song number 1021 in Russian</dc:subject>
  <dc:title>Иисусу хвала / To God Be the Glory (My Tribute)</dc:title>
</cp:coreProperties>
</file>