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556-F3E1-4646-92C9-2E3B735E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F0F-2F02-4A8C-9060-B14EA783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B51-9550-48C1-B094-4F4BEADE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112-EFD3-4FE3-884A-45016D0B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6FD-6E39-4A87-8100-ECE7A2E2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288-72EA-4499-BDEC-0BE4B865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3D0-1FA9-44F0-84AA-A5C8A8AD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857-B3BA-40BA-AB3B-0A7655C5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371-1528-4E47-B517-008E1089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FC8-4572-4BA1-85A7-F9CBD801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E8F-0ABF-4563-B5D9-5C9606FF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93B-5734-4587-8851-81CC711D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2E048-D5D3-4846-BD0E-B80A0F0AF9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смелей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разум, волю, сердце,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осв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з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ратства смело возве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силы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церковь мир гля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труд ей пред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место в ней займ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одвиг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иди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озни, хитрости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25Z</dcterms:modified>
  <cp:revision>12</cp:revision>
  <dc:subject>Slavic hymnal Гимны веры христиан, hymn 524</dc:subject>
  <dc:title>Воспрянь, Христов народ!</dc:title>
</cp:coreProperties>
</file>