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3740-2EFE-4577-9CBD-97DA920B2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814C-85C7-4567-8D2E-429273E9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A5AB-C749-4813-ACA4-0160217D0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EBAD-68C0-4DA3-9E7D-3BC58B51F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3987-964D-46E1-A578-1F502B17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40AF-D685-481B-BC9E-48D4AAE4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41E1-C867-4629-AEBD-A1794EC3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2008-FD9D-4503-926C-A39093D3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AC4A-9763-49B6-B8B4-EE333053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84CA-C350-48B4-A66B-5BEB64DD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2F1C-EEAD-4F66-B524-3D7E08BF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68E1-FD5A-48A3-8FA3-92A462DC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B89ADF-B72F-49B3-AFC2-1C189DCDF31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Шляхом узеньким я і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мене ве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країну милу дорог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Він прив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ду, іду в щасливий вічний кр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ду, іду туди у Божий р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2   Шляхом узеньким я і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 тяжкий час Йому мол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біді Він хорон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я падаю без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укою Він дер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ду, іду в щасливий вічний кр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ду, іду туди у Божий р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удові співи в тім к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унають вічно т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х! що за радість в тім кр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нним буде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ду, іду в щасливий вічний кр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ду, іду туди у Божий р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3:01Z</dcterms:modified>
  <cp:revision>12</cp:revision>
  <dc:subject>Slavic hymnal Гимны веры христиан, Ukrainian hymn 102</dc:subject>
  <dc:title>Шляхом узеньким я іду</dc:title>
</cp:coreProperties>
</file>