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053-72DF-4E6C-98E1-31EB6CCF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78D-1EE5-4C60-8CB7-35CD8382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FBA-0280-48F7-BAD5-14AF39A5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016-88D1-4F4C-960E-673A817B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DC4-E101-494A-B52C-F8F82402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2E1-B5F1-4C3E-8211-0D1F2D36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FE5-FA59-44E0-9136-3421E55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D9E-247E-44AC-AAFD-94FF8776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87A-6EF3-4138-A804-4CCF846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741-E3A9-4635-B0DF-0D74D38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8C3-229B-4CE5-A743-ACFF0228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8CB-226F-456A-9B09-46C7EB9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2EA28-0D0B-40ED-BAFD-62633D0D65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03Z</dcterms:modified>
  <cp:revision>13</cp:revision>
  <dc:subject>Slavic hymnal Гимны веры христиан, hymn 825</dc:subject>
  <dc:title>День прошёл</dc:title>
</cp:coreProperties>
</file>