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81D-557B-4FCD-A568-4D22EF0A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07B-3A00-4665-ABC1-E020AC4A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0F5-495D-46E5-9528-47C8A5A1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B02-C03B-47A9-B331-40F52C60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943-63E0-453F-9207-F82EE432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C97-27DF-406F-BAFC-1D947B2F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0FA-8EE9-4A02-9B43-1B378C69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1BD-78B5-40A4-82A8-C3689D0C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318-9CC4-48D6-8092-5FDB15A4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1E6-DFDE-4C92-AF9F-7A29A1E2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BC7-5A53-4F70-B8BF-375E303E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945-5C0B-47D8-97B5-EA30116A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F8E00-52DB-4E7E-99BC-40022988EE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, как река, т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всё вперё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аждым днём ясней пред м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является с гроз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ерю всей душ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ю, Бог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ремя, как река, теч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меня Сво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ведёт в борьбу со ть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нуты утом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ёт мне укрепл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ерю всей душ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ю, Бог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в пути зем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шения во вс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в сердце яд о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влить наш враг лука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ерю всей душ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ю, Бог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, когда 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ляют вдруг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нений ряд сур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дут за Божь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ерю всей душ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ю, Бог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42Z</dcterms:modified>
  <cp:revision>12</cp:revision>
  <dc:subject>Slavic hymnal Гимны веры христиан, hymn 733</dc:subject>
  <dc:title>Время, как река, течёт</dc:title>
</cp:coreProperties>
</file>