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E0B-6803-4A8B-8685-F7B3C24B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B2E-A085-470E-A8CB-B1A1C079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183-3F61-4568-B46F-5549CE5A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F99-782C-4380-9F21-2C86B172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5DA-0375-4707-BC25-C6B4A8E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74E-0553-439B-88F5-A820A64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B4D-8D78-414C-8F7A-0DF32E70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52E-A920-489A-8D0B-18EE3B5F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5D2-3B51-43FE-A386-BD84EFA9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1E8-5553-43C4-A465-4D1CADB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F5D-D3AD-4E85-A42E-34F3B3E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26C-95C4-4C8C-8D72-9BBA3A9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5047A-7281-4758-A6C7-AAA12B1FBE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дух живущих ды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ссилен горды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н верой чуткой сл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голос Божьих 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а — щит от ст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верой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к на труд спе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, в битве побежд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н пламенем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ост живой воз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тель мира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волны мор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илой вдох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силенных борц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царства побе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ает власть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 нас недуг с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шает мертвец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унынья уте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х сы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грешников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квозь тень грядущи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ам нашим от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га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29Z</dcterms:modified>
  <cp:revision>12</cp:revision>
  <dc:subject>Slavic hymnal Гимны веры христиан, hymn 641</dc:subject>
  <dc:title>Вера — щит от стрел сомненья</dc:title>
</cp:coreProperties>
</file>