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165-BA9F-48D1-A94F-605C55C4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BA2-B42B-4747-B72C-F2A38257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402-6D23-47B7-8F62-7D0C3B5C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6BE-6643-4A7B-8462-B9ED589F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D85-018D-4E77-A13F-F7963F6A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5CC-A012-4558-9D40-A8389458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06F-FD05-448D-8797-E11151B8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603-BBB1-4E2E-8620-7BE8D3C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BA1-50E8-4E91-BDBF-9319CCED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14C-5F62-4A21-AFB4-83091762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C8C-C926-44D3-B1AF-481DD08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839-A034-47BB-BE50-DADB1541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6ECBC-36D0-4C7B-9D31-16EDC3EC24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full of sorrow and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eception and falsehood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ntinue to follow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footsteps of Christians who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st of the evening grow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travel this vale full of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my trust in the Lord wavers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I’ll rest from all f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courage, my friend, do not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Christ, He’ll protect from all f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journey on earth we’ll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ever forget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7Z</dcterms:modified>
  <cp:revision>13</cp:revision>
  <dc:subject>Slavic hymnal Гимны веры христиан, hymn 675</dc:subject>
  <dc:title>In a World Full of Sorrow and Sin / Пустыней греховной, земной</dc:title>
</cp:coreProperties>
</file>