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01F-ECC8-44E8-BC72-93479B4C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756-D630-4302-9091-AEA151E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77E-B937-45E2-A6CD-F5F41CEA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452-3FDC-46FD-B272-56D93F67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E67-1DF2-444C-BF15-3D4EB23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7B1-8691-43FC-8380-532B98F5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C9E-64A3-4C77-9ED2-C1807F0A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6DF-A6A4-40DF-9896-941970D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AD6-F390-45D4-9BC5-66537EF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B1F-0A75-44EC-959F-8FCDD26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194-6EB7-452A-A108-D697E6A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23D-D7D8-4577-8363-31400C7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E114-2802-4FA8-8B62-B56E9B8980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00Z</dcterms:modified>
  <cp:revision>12</cp:revision>
  <dc:subject>Slavic hymnal Гимны веры христиан, hymn 874</dc:subject>
  <dc:title>Верными сердцем, покорными слову</dc:title>
</cp:coreProperties>
</file>