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245-A67C-4BAD-84FA-2EF64F3D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972-77AA-4225-84FB-55483B7F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DA1-EA43-4D87-A249-65E987A7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BABB-3EB3-4FA8-99A1-DBDF9960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705-8637-4A63-A04A-7F205B7F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2C7-C62F-4209-B5E0-030BCC52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F53-1A6B-4716-A7D3-6035748B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68F-B3BB-4603-9282-0DC5AFE4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04E-7356-459E-91CE-2A03B0CD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C04-8CD9-4057-927C-0FD2F296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695-07A7-4D52-B17E-3770B3BB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A60-5E13-45CF-A6C0-B0EE24D5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14E51-1EB0-4384-B654-8D34736409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out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has made a way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de a way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ord lives inside of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ruth is life to all who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e to all who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92   Your Love Reaches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ve for You, live You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will be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erve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r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salvation flow as Your people pr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ong for more, long f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, death is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pow’r can stand against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aith, we will rise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ands and feet to all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e to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ve for You, live You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will be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erve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r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salvation flow as Your people pr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ong for more, long f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ve for You, live You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will be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erve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r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salvation flow as Your people pr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ong for more, long f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10:20Z</dcterms:modified>
  <cp:revision>12</cp:revision>
  <dc:subject>The Source 4, song number 2192</dc:subject>
  <dc:title>Your Love Reaches Out to Me (Kingdom Come)</dc:title>
</cp:coreProperties>
</file>