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3EF-0325-440D-BC89-DE00C5EA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0C7-5834-40D1-98C8-57B60E5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4C1-F1C8-4905-830F-C451170D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EE5-19CA-41D5-AAE6-21B60152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E16-2C08-4545-BC82-EF6DBDA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B0A-E66F-466F-94A3-DC819CD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73D-E180-4415-857B-17068B8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D04-CD2C-459A-BD89-BBF05C2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B78-3334-49B3-A3B1-617E2D8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F61-8CC1-440A-B030-AE1C252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1F4-EE1A-4C64-AC04-FD1C8BF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91B-C473-4D9E-8AF6-C0FFC87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463D-4E3B-4CB1-8E66-8A0143BED3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s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the loving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wh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 of sin and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, by sin ensl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Himself He g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bor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will praise Thee, Thou Lov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 will praise Thee, while life shall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08Z</dcterms:modified>
  <cp:revision>12</cp:revision>
  <dc:subject>Slavic hymnal Гимны веры христиан, Ukrainian hymn 78</dc:subject>
  <dc:title>I Know God Loves Me / Бог є любов, о велике щастя!</dc:title>
</cp:coreProperties>
</file>