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85E-0FBD-4E57-8E5D-C1B181DB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34E-83C0-4812-95C5-AF19C1E6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40C-4356-4CCF-8E17-4E493B80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19F-0858-4A20-87A8-52500670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47C-66F4-4F6D-99AE-EE236106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586-15FC-4219-95AB-0BE6731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B50-4F14-4E66-91DF-3C49CE6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3CB-9261-46F4-860B-C99ADF9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157-74E3-44EE-A2F4-58C34EA2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341-64B7-4E2F-8BD1-5848FE2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838-1C4E-424F-A8E7-404A0AA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6A2-D316-4EB0-8F30-81E22D7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56053-90B4-4926-AEA9-096FD910B0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мне радость даст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скорбях вз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а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я у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дном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рады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ышу я, без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и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мне радость да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вечно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Вождём м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ньем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Он в сердце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нын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: «от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ты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при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веки свет от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08Z</dcterms:modified>
  <cp:revision>12</cp:revision>
  <dc:subject>Slavic hymnal Гимны веры христиан, hymn 451</dc:subject>
  <dc:title>Кто мне радость даст?</dc:title>
</cp:coreProperties>
</file>