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E5B-497F-437E-99BD-DAB18CA8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500-F8F1-4FE0-B81A-252B0408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627-E18E-494E-94DD-D7AE59BB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277-4ADD-42B0-A471-0D2FCE4E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FCC-2DCF-49CE-A98B-A1C558EB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A24-2204-4F4B-B322-05CB1EE0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A11-0D03-4750-A126-D18FC619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A7A-BC6D-40C0-BCF3-AEC0536E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F6B-BEC2-4B17-B7AB-F34FBC93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9C6-75E0-41F6-B072-70C62534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54D-E9DA-4020-BB23-126DDC1A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863-420C-449D-8531-F11FB593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059F1-FCD1-4C88-987C-D37E5A64DE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my Lord and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my ever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How Lovely You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died and rose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forgave all my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meek and low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pure and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the Bridegr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will 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bride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6:18Z</dcterms:modified>
  <cp:revision>10</cp:revision>
  <dc:subject>The Source, song number 279</dc:subject>
  <dc:title>Jesus, How Lovely You Are</dc:title>
</cp:coreProperties>
</file>