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786-0B8D-4F4E-9258-066ADE47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98F-FBFA-4830-AB1C-D9D1AE53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6CF-93FB-42D9-B805-C84AAAA4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2B1-9885-4473-8EAC-7EA6D00A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DE4-33BA-47AA-A7ED-5A6F4B82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111-EC72-4172-9615-95EC992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875-A6CB-47F1-BC24-00911117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AAA-4F08-4196-A422-6ABD945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065-772F-4D2D-9CC1-A953B226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87D-B1AA-4416-9B24-846DB188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C75-836C-47F9-8E0D-8A7B62D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23E-BC26-4A4F-8FDC-2BF72BA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2081E-8BB7-4824-B4A2-D20CA84FB2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32Z</dcterms:modified>
  <cp:revision>12</cp:revision>
  <dc:subject>Slavic hymnal Гимны веры христиан, Ukrainian hymn 51</dc:subject>
  <dc:title>О, Божих слів не забувай</dc:title>
</cp:coreProperties>
</file>