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78E-F73F-486B-ADD5-ECAD597E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93B-81D8-4D27-8EFC-31453652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307-06D8-42DC-BE80-816396D2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06B-E38A-452B-A486-C9758B5D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2DA-B995-4B71-A6E2-A15134DC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81C-2C91-4890-98EA-A8F16097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682-CCF8-45C2-83B7-4176F92D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144-6C88-48CC-B2F2-12F2B2F3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944-3FA1-4245-9677-671DC47E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F31-B9DE-4643-AEE9-9F4F1BE1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18F-2C13-4E58-B8E0-7BD7ACB3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9C3-F1FE-47B5-B12C-3BF6FAF0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E13D8-3DA2-4D5E-98C2-A63BB3B2F8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путь, хоть я его не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нье это мне даёт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чему тревожиться мне и страш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, и ночь, всегда томясь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путь, Ты также знаешь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лан давно уж для меня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лю я, Господь, Тебя серд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илости, заботы и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знаешь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всё: откуда ветры ду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рю жизни укрощаешь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известно мне, куда и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спокоен, путь мой знаешь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33Z</dcterms:modified>
  <cp:revision>13</cp:revision>
  <dc:subject>Slavic hymnal Гимны веры христиан, hymn 617</dc:subject>
  <dc:title>Ты знаешь путь</dc:title>
</cp:coreProperties>
</file>