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B64-88BC-4718-B270-1993DD87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468-B1AC-4F8B-8D06-1304B98D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6B1-246F-444B-923B-7C833A8D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65F-7597-4194-AB8D-E89931C5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5C1-88D3-49DF-B07B-D21ED321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40D-463A-42ED-83B8-BA977BF0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24A-30CE-4047-BE37-38A61DE3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B50-5A9E-4CFC-A036-C65037B9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899-6541-4297-B023-5C4FE29F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D12-70AE-40A0-999E-C4F662C2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10E-1E7C-490D-B1E3-F0C93FE0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0D3-5513-467B-951A-6D84AFDE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C1D99-AE38-4ADB-8335-67658B3AEF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ighest of h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depth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ion’s rev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colours of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fragrance of sp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creature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ong that it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exclai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97   From the Highest of He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as told ev’ry lightning b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t shoul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seen heavenly store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den with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magine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s source to its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conceals it to bring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oolness of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ne can fath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comparable, unchange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ee the depths of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ove me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22:06Z</dcterms:modified>
  <cp:revision>12</cp:revision>
  <dc:subject>The Source 4, song number 1797</dc:subject>
  <dc:title>From the Highest of Heights (Indescribable)</dc:title>
</cp:coreProperties>
</file>