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9301-3FAB-4752-B142-4C7BB68F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764D-6698-491E-A725-D0744FA6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2B7-0D03-4DF3-AB74-4044B049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7A7-BB71-4A90-B55C-E21CAEBC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142E-77A8-423E-9E04-75835153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068-5557-4610-866B-908FC451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3C5-35FD-4CA1-9393-70B1AD39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F2D-07E3-4A92-95DC-3C48C2BD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2D2E-48A4-4904-8EEA-13C36932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1BB-0AB0-4BC5-872B-8354B685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802-ABB7-4567-A643-24A523DF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D2D8-DB64-4F3E-B6B5-0F839AE8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84037-E901-4465-A190-1CCC029790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cribe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our God, the Ro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work is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His ways are just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od of faithfulnes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injust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od and upright is He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5   Ascribe Grea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5:45Z</dcterms:modified>
  <cp:revision>10</cp:revision>
  <dc:subject>The Source, song number 25</dc:subject>
  <dc:title>Ascribe Greatness</dc:title>
</cp:coreProperties>
</file>