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E0D-41CD-4044-9B89-EE48B5B5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1E6-1C7B-4787-831A-C584F8C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74A-0752-47C4-892A-7A2C79A5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1BF-224A-4B07-927C-25493E3F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5F8-4097-412E-842B-2882CB2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B54-D7D8-4AE5-92B7-14911F9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B2B-C3C8-4C72-A4BF-91192D1F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329-0545-4F85-87FB-72256E72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6DE-1551-4927-A00B-A6C0321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B0-44C4-47A7-9E01-F8E9A2A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BCA-42ED-4B69-AD4E-246CEC12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A0C-408B-4FB7-85C6-CC8581A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C8D9F-3BCA-4E02-83BC-D35F68B9FE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 Спаситель: с неб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, оставив тр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дитя, как мы, был 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 раба 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ас Он слёзы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, верный Друг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доб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к нам Он и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к нам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мко, то слегка, как в дв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входит, в нас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у исполнить Он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шлёт привет нам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небесный клад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ост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видеть глаз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 мире зде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е лик Его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в сияньи в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ит кротко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ует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ворит: за гробом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благо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учший, вер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йди, дай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, кто здесь, могли в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торжеств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ших уст Ты пригот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ели мы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помощ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23Z</dcterms:modified>
  <cp:revision>12</cp:revision>
  <dc:subject>Slavic hymnal Гимны веры христиан, hymn 751</dc:subject>
  <dc:title>Как добр Спаситель</dc:title>
</cp:coreProperties>
</file>