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12D-A0C6-40BC-957E-232AE405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FC6-DAFE-4F33-919F-4BD6219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A80-8575-4A23-85DF-AD2B73D4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3C1-B7E8-4A71-AC5D-5A722D95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538-9508-4281-BD93-D0DC075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A4C-020A-4FE2-95A8-2CBDC535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ECB-5F61-4570-A6BA-7A95BAB5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00E-7F69-40D6-9B7D-B43D39E6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22C-DE28-4CAF-8ECE-015F0D69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AD2-46F9-48BE-B8BB-F868524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BFB-3824-4EDC-81B4-22E9EA49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AC1-9D3A-4FCB-9D59-D9F7390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FECEA-819F-4998-A89B-AD5826620F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14Z</dcterms:modified>
  <cp:revision>13</cp:revision>
  <dc:subject>Slavic hymnal Гимны веры христиан, hymn 654</dc:subject>
  <dc:title>По равнине океана</dc:title>
</cp:coreProperties>
</file>