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C18F-44FB-424F-9BDB-D6D9662D6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F3A8-6E6A-4AF4-8BCE-D999D1F05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0450-00A8-40D2-92E4-15E7B5611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E8BA-E8C0-407F-9FFF-639F46AF1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52CF-6684-4FC1-86A0-2E627CD44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5279-06F1-4D87-B4F7-537F62F3C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0044-9EEB-4BB9-BD2E-EFCFC5F86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D310-66DF-4B6B-B390-1AB8B06E7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2A5F-5DAC-4197-89FB-F753A04D7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8DFA-C1EE-449E-A3AF-AF54780AC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3FF9-FA85-45D8-87C4-E2B529DD8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A21D-61E9-4BDA-A6EC-296BA3572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943130-B42E-47B5-8FD3-6CC2040C70F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решник! чтоб в сердц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овном мог ж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вечный жела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й грех облич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му не против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медли приня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может Дух Бож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век замолч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0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 грешник! чтоб в сердц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царства наследник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ось грешных пу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полнися Дух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миром цве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чителя Дух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не огорча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же дар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а прославля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й храм опороче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мерк красот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тарь же Господе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сыпан зол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ю вновь плам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ебе зажига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ольше уж Дух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не угаша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9T23:46:55Z</dcterms:modified>
  <cp:revision>12</cp:revision>
  <dc:subject>Slavic hymnal Гимны веры христиан, hymn 306</dc:subject>
  <dc:title>О грешник! чтоб в сердце</dc:title>
</cp:coreProperties>
</file>