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B21-7F33-4E11-85A9-A297B473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D24-57FD-49B5-B2F4-1DEFC538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80D-A8CC-4ED7-90FA-CD76C4A8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2DD-4932-451F-ACA9-B80A4AA9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C54-8B15-4425-AD88-E19C921F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82E-C149-4FC9-BBEC-02AAF7EC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501-BC55-4DD4-979F-99C696F8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4F5-76D8-419A-AA6C-6F2C9B63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51C-BE8B-4457-854E-A9A79817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EAB-6EC0-4308-BD49-6840A01D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2C7-EA5B-430B-A380-341D9A25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4AE-F1C1-4284-ABA3-1325FAD3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E3489-02D5-4FF5-9C76-2C4B3FCCC7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closer walk with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calm and heavenly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light to shine upon 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me to the Lam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общеньи с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жить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зарил Он мне стез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s the blessedness I k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irst I saw the L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s the soul-refreshing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о блаженство, что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по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а любовь, какой гор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Христу, к Его слов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turn, O holy Dove, ret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messenger of r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te the sins that made Thee mo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rove Thee from m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 вернись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редное гу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навидел я тот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дали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rest idol I have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’er that ido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to tear it from Thy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ship onl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амый дорогой ку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 мне сокру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 мне в сердце радость,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Христ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hall my walk be close with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m and serene my fr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purer light shall mark 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me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везд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светлой мне сте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1:36Z</dcterms:modified>
  <cp:revision>12</cp:revision>
  <dc:subject>Slavic hymnal Гимны веры христиан, hymn 885</dc:subject>
  <dc:title>O for a Closer Walk with God / В общеньи с Богом жить хочу</dc:title>
</cp:coreProperties>
</file>