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10B-AC17-4E43-A7B9-12DE91E0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8814-0011-40E2-800F-7B2F1897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B48-E9E1-472D-97DB-ECCD2953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37B-83C7-4C3B-BD44-A18836FF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C62C-78FC-4799-B36E-E754C139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078C-D191-4BC7-A950-9FF29F92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598C-C528-46DA-89E1-5ACD11F0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BBA3-CAD9-4B66-9E54-CAEEE54C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03A3-DE78-438E-BD97-AB6F02BF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95C6-0D8B-4A23-AF34-143708D5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5F1-0A69-4FE0-93F7-458789DB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1C93-452A-4AD2-95D3-571969D2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9CA86-9447-46E5-ABDF-504184B774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am saved from s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ave peace with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walk with Jesus day by d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His hand so str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lds me all day 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ith Him I will not go ast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 греха я спасё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 греха я спасё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Божий мир водворё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покой мне да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нял с души всякий гн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emptation He will help me st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will hold me with His might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ny passed me b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eding not my c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the Saviour heard and rescu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as lost and bli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 was so ki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, He touched my eyes and now I 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принял то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еизменной люб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— хранитель душ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emptation He will help me st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will hold me with His might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promise 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t shall end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, I will be with thee all the way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ough foes ass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still prev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I know He helps me watch and p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как радостно м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со мною вез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ажду вечно хвал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исусу служ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emptation He will help me st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will hold me with His might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40Z</dcterms:modified>
  <cp:revision>14</cp:revision>
  <dc:subject>Slavic hymnal Гимны веры христиан, hymn 612</dc:subject>
  <dc:title>His Mighty Hand (I Am Saved From My Sin) / От греха я спасён</dc:title>
</cp:coreProperties>
</file>