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DB8E-C9C9-4E5A-8395-46CFC4CF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6F1-F031-4F97-B368-69AA5438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DC2-975F-4BEC-AAA1-8B9298E8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FC2E-6162-4110-89AB-D2A81562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E86D-3376-4E54-A827-80DA6FDC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A8A2-4202-4A4A-9EB2-6100068F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CDD9-C2DB-475F-B4DA-905AAB27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3F7B-8BFB-4DA6-8265-99C6900A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DBAD-74B7-4251-B3AF-84B2D8D4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578C-14A5-451B-B964-53E0CDD0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6A2D-4185-4118-B1A1-8CE19FD4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C58A-2154-4E99-A185-D2EA3AF2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0BBFE-914F-49CA-A123-3FD9BBEF79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99504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crucified my L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crucified my L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h, sometimes it causes me to tremb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remble, trem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crucified my L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nailed Him to the tr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nailed Him to the tr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h, sometimes it causes me to tremb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remble, trem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nailed Him to the tr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92   Were You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laid Him in the to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laid Him in the to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h, sometimes it causes me to tremb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remble, trem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laid Him in the to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He rose up from the gr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He rose up from the gr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h, sometimes it causes me to tremb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remble, trem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He rose up from the gr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4:20Z</dcterms:modified>
  <cp:revision>12</cp:revision>
  <dc:subject>The Source 3, song number 1592</dc:subject>
  <dc:title>Were You There When They Crucified My Lord?</dc:title>
</cp:coreProperties>
</file>