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E250-CA1D-4BBD-ACE1-E0025512E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F6D1-AD5E-4D6C-8F49-97FEB81B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3428-0C85-4364-ABB6-AFA42D945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6FAF-9B11-4563-AD14-D0EA1E2F6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6FBD-CB8C-4DE8-8882-25030FE3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79FC-9233-4149-9DFB-22DA23BA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2B5F-BF3A-43B2-870C-86877F52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5C16-C89A-4D4A-B482-42271CD0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C225-FA96-4AAE-BFFD-86403E4E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25E7-6293-48C8-A708-A7E7E139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2BBC-7A0A-42DC-8569-9D47C0DE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C7B8-D287-494B-A8E5-B46D8569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B9D9A1-BF0D-4728-8148-F64B465A1F5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for love, a Father g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only love could make a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for love, the heavens cr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love was cruc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how many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ve I broken Your hea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still You forgive, if only I a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ow many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ve You heard me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raw near to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704   All For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 I need is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beginning, my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 I need i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e sing all for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join the angel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 holy is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glory, King of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how many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ve I broken Your hea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still You forgive, if only I a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ow many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ve You heard me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raw near to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 I need is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beginning, my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 I need i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for love a Saviour pray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bba Father, have Your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they know not what they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cross draw man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You, to You,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 I need is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beginning, my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 I need i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10:08Z</dcterms:modified>
  <cp:revision>12</cp:revision>
  <dc:subject>The Source 4, song number 1704</dc:subject>
  <dc:title>All For Love</dc:title>
</cp:coreProperties>
</file>