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074D-DA77-4C5A-B865-7CC209BFD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EE00-6871-411B-BAF6-F81104460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C695-6F38-4FF3-83BA-29A267144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C4D1-7860-46B3-B14E-779F38D3F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E9A1-AC00-450A-8CCD-B3026C193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85C1-0397-4D82-A41E-1A5DEB126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FEB6-B9E0-46FE-BBBF-442EEC445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1CEA-5AFC-4A18-9B5A-E4F668359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7CD9-8870-4652-A2EC-D6AAF3DB8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05A5-2823-46A0-B6D2-5548278D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AD2C-C1C4-416B-B775-8015AA9C9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4D95-BE3E-45ED-AC97-31E7D938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532BC5-34CB-4E32-A657-7B94B8BAA93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is good all the ti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put a song of pra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is heart of mi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is good all the ti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rough the darkest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light will sh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is good, God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the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25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God Is Good All the 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f you’re wal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rough the val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re are shadows all ar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o not f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will guid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will keep you safe and s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use He has promi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never leave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r forsak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is word is tr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is good all the ti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put a song of pra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is heart of mi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is good all the ti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rough the darkest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light will sh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is good, God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the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were sinne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unworth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till for us He chose to d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illed us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Holy Spir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we can stand and tes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His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everla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is mer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y will never 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is good all the ti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put a song of pra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is heart of mi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is good all the ti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rough the darkest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light will sh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is good, God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the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ough I may not under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the plans You have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life is in Your han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rough the eyes of fa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an clearly se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is good all the ti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put a song of pra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is heart of mi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is good all the ti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rough the darkest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light will sh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is good, God is g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is good, He’s so goo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is good, He’s so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the ti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14:51Z</dcterms:modified>
  <cp:revision>10</cp:revision>
  <dc:subject>The Source, song number 125</dc:subject>
  <dc:title>God Is Good All the Time</dc:title>
</cp:coreProperties>
</file>