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5</a:t>
            </a:r>
            <a:r>
              <a:rPr b="1" lang="ru-RU" sz="3600" spc="-1" strike="noStrike">
                <a:solidFill>
                  <a:srgbClr val="ffffff"/>
                </a:solidFill>
                <a:latin typeface="Verdana"/>
              </a:rPr>
              <a:t>	</a:t>
            </a:r>
            <a:r>
              <a:rPr b="1" lang="ru-RU" sz="3600" spc="-1" strike="noStrike">
                <a:solidFill>
                  <a:srgbClr val="ffffff"/>
                </a:solidFill>
                <a:latin typeface="Verdana"/>
              </a:rPr>
              <a:t>Великий Бог</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ликий Бог! Когда на мир смотр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ё, что Ты создал рукой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ех существ, кого, Свой свет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итаешь Ты с любовию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смотрю я к неб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звёздам млеч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дивно светлые миры тек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олнце и луна в эфире веч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океане корабли, плыв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весной природа расцв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ышу в дальней роще солов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ромат долины грудь вдых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ух ласкает звонкий шум руч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из туч навислых гром нес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очи тёмной молния блес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д почвой тощей дож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прол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уга мой ясный взор пле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читаю я повество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ге, о Его делах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ей — живое достоя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любил, и спас от бед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огда я вижу лик Христа смир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людям в мире этом был раб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 кресте Он умер, Царь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м прощенье приобрёл кре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Когда соблазн мне сердце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мертной скорбью дух мой удру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н в любви ко мне главу склон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жной лаской заглушает ст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Когда Господь меня Сам приз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тит луч сияни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й дух в смирении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нав величье Бога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0:46Z</dcterms:modified>
  <cp:revision>3</cp:revision>
  <dc:subject>Slavic hymnal Гимны веры христиан, hymn 35</dc:subject>
  <dc:title>Великий Бог</dc:title>
</cp:coreProperties>
</file>