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048-1005-4AEC-B904-0239BF44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2CB-8DDD-420D-A1CF-9D72B3BE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C78-242E-4FC1-AC7E-1973911E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C5E-2D69-47E9-B046-1F847701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135-64BD-4E56-BF5E-76D1EB38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477-DC25-4440-8813-123F6C94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3FD-53F4-4978-9D30-4B5204FE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043-D7D6-4BA6-8562-D9BAB43B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504-009C-4F10-BAE2-D388D3DD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D84-48B9-43C7-8D70-978F5A34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BE1-BA75-4A3F-ABB6-6A7AEDE6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AA5-7565-4AD0-95F4-0F78C122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F9308-579B-47A0-92B6-870D93EEFB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ill, still with Thee, when purple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eake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bird waketh, and the shadows fl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irer than morning, lovelier than day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wns the sweet consciousness, I am with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Тобой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, Господь, люблю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ссве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 ночь, проснулся шум днев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лучше дня и мягче ночи лет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нье сладкое, что Ты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one with Thee, amid the mystic shadow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olemn hush of nature newly bo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one with Thee in breathless ado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calm dew and freshness of the mo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едине с Тобой вникаю в та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 рук Твоих и вечного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едине я вижу лик Тво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яньи рос и в свежести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ill, still with Thee, as to each newborn m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fresh and solemn splendour still is giv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does this blessèd consciousness, awa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eath each day nearness unto Th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измучившись в борьбе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 к Тебе с вечернею мольб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ен отдых под Твоим покр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пробудясь, приятней бы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shall it be at last, in that bright m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soul waketh and life’s shadows fl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in that hour, fairer than daylight daw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all rise the glorious thought, I am with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, придёт торжественное утр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нутся все… умолкнет шум 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снее солнца засияют чу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всегда останемс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50:54Z</dcterms:modified>
  <cp:revision>12</cp:revision>
  <dc:subject>Slavic hymnal Гимны веры христиан, hymn 821</dc:subject>
  <dc:title>Still, Still With Thee / С Тобой, Господь</dc:title>
</cp:coreProperties>
</file>