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D86B-D922-407F-BCA5-101303538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F51D-F04F-460A-A070-11403283C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DC94-1B4E-47F9-9EB8-D29EF8EC3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2595-DFBD-4402-B4EF-112073C48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D020-F94D-403A-8084-CF6C69A1F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72B4-10E6-4C8A-91FF-67A7FB619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01C7-83C9-4C75-B136-6D5E93D01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997A-A077-4223-8C44-D9CE28987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E518-13FF-4948-9C6A-015CB06AA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B330-360D-4C99-92A8-03F555F3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3E1A-A2A7-4E10-8A31-26896ABC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2220-BABA-481C-8107-3781ADBE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9B72A3-B5BD-467B-8C03-781A66920B8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ропинкою лесн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ручейку спешит ол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и я стремлюсь душ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лову жизни каждый д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ень печальный утеш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хожу я в книге кни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ень отрадный поуч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даёт любимый ст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9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ак тропинкою лесно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ом Бога побежд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 грех, души неду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я сердце услажд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елю усталый ду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я смело отраж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шения враг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Иисуса возвещ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пасённый Им слу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ом путь я освещ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он во тьме ид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для сердца облегч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шу скорби и заб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меня Господне слово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ник вечного добр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ше слитка золот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ше клада сереб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43:18Z</dcterms:modified>
  <cp:revision>12</cp:revision>
  <dc:subject>Slavic hymnal Гимны веры христиан, hymn 492</dc:subject>
  <dc:title>Как тропинкою лесною</dc:title>
</cp:coreProperties>
</file>