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CF1-2BD2-42CB-90E1-4A46FA36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448-DF66-413F-BDFB-0F307F12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233-DB30-4829-A254-81C2ED04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FFA-3486-4FF9-97C1-DFFA003C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6E8-39B3-4FF8-8801-FC9B11F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DD9-24D6-4BC4-87D0-D9D885D6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8FD-532F-41A2-9D93-6806B61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F83-F299-44A8-9F96-6DD22F95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10D-E67F-4DA4-B466-766B88D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58A-DD2C-4F6E-8109-F2736BA5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0C0-1401-4A0B-8FCD-B7D007C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CA3-421B-47FE-A561-0C91AF16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71BC1-0AC2-404E-B2EF-30C2F1B628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0:23Z</dcterms:modified>
  <cp:revision>13</cp:revision>
  <dc:subject>Slavic hymnal Гимны веры христиан, hymn 244</dc:subject>
  <dc:title>Тихая ночь</dc:title>
</cp:coreProperties>
</file>