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92</a:t>
            </a:r>
            <a:r>
              <a:rPr b="1" lang="ru-RU" sz="3600" spc="-1" strike="noStrike">
                <a:solidFill>
                  <a:srgbClr val="ffffff"/>
                </a:solidFill>
                <a:latin typeface="Verdana"/>
              </a:rPr>
              <a:t>	</a:t>
            </a:r>
            <a:r>
              <a:rPr b="1" lang="ru-RU" sz="3600" spc="-1" strike="noStrike">
                <a:solidFill>
                  <a:srgbClr val="ffffff"/>
                </a:solidFill>
                <a:latin typeface="Verdana"/>
              </a:rPr>
              <a:t>Услышь мольбу и вздох</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Услышь мольбу и вздо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ши мо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чу Тебя, мой Бо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ить сильн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чу Тебя, мой Бо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чу Тебя, мой Бо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ить сильн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ить сильней.</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Хочу любить огн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льбы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м сердцем и ум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сей душ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м сердцем и ум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м сердцем и ум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сей душ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сей душой.</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Напрасно в тьме су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мир иск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ишь Твой любви зав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не счастье д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ишь Твой любви зав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ишь Твой любви зав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не счастье д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не счастье дал.</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Увижу ль иног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розу скорб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чу я и тог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ить сильн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чу я и тог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чу я и тог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ить сильн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ить сильней.</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Прервётся ль жизнь мо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ля вечных дн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чу и в небе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ить сильн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чу и в небе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чу и в небе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ить сильн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ить сильней.</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6.</a:t>
            </a:r>
            <a:r>
              <a:rPr b="0" lang="ru-RU" sz="3200" spc="-1" strike="noStrike">
                <a:solidFill>
                  <a:srgbClr val="ffffff"/>
                </a:solidFill>
                <a:latin typeface="Verdana"/>
              </a:rPr>
              <a:t>	</a:t>
            </a:r>
            <a:r>
              <a:rPr b="0" lang="ru-RU" sz="3200" spc="-1" strike="noStrike">
                <a:solidFill>
                  <a:srgbClr val="ffffff"/>
                </a:solidFill>
                <a:latin typeface="Verdana"/>
              </a:rPr>
              <a:t>И знаю, буду т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нет тен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вечный Бога храм,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ить сильн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вечный Бога хр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вечный Бога хр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ить сильн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ить сильней.</a:t>
            </a:r>
            <a:endParaRPr b="0" lang="en-US" sz="3200" spc="-1" strike="noStrike">
              <a:solidFill>
                <a:srgbClr val="000000"/>
              </a:solidFill>
              <a:latin typeface="Verdana"/>
            </a:endParaRPr>
          </a:p>
        </p:txBody>
      </p:sp>
      <p:sp>
        <p:nvSpPr>
          <p:cNvPr id="4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28T05:47:43Z</dcterms:modified>
  <cp:revision>3</cp:revision>
  <dc:subject>Slavic hymnal Гимны веры христиан, hymn 192</dc:subject>
  <dc:title>Услышь мольбу и вздох души моей</dc:title>
</cp:coreProperties>
</file>