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a:t>
            </a:r>
            <a:r>
              <a:rPr b="1" lang="ru-RU" sz="3600" spc="-1" strike="noStrike">
                <a:solidFill>
                  <a:srgbClr val="ffffff"/>
                </a:solidFill>
                <a:latin typeface="Verdana"/>
              </a:rPr>
              <a:t>	</a:t>
            </a:r>
            <a:r>
              <a:rPr b="1" lang="ru-RU" sz="3600" spc="-1" strike="noStrike">
                <a:solidFill>
                  <a:srgbClr val="ffffff"/>
                </a:solidFill>
                <a:latin typeface="Verdana"/>
              </a:rPr>
              <a:t>Хлеб жизни прелом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Break Thou the bread of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ear Lord,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ou didst break the loa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side the sea;</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леб жизни прело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еломил С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еник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yond the sacred p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eek The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spirit pants for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living Wor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ове Твоём,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у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лабый дух 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жизнь мо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Bless Thou the truth, dear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m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ou didst bless the br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Galile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и,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питай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shall all bondage cea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fetters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find my pe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All in all.</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бодным стан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сех о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у в Тебе мой ми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ек веков.</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 send Thy Spirit,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un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He may touch my ey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make me se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шли Твой Дух,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слепому,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за откр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 me the truth concea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in Thy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n Thy book revea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ee Thee, Lor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бы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видел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дивной Книге кн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Тебя.</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ou art the Bread of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Lord,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holy Word the tru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saveth m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Боже, — Хлеб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дл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знаньем исти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стигнут я.</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me to eat and l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e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ach me to love Thy tru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ou art lov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кушать и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дним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люб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Хлеб Живой.</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10:53Z</dcterms:modified>
  <cp:revision>3</cp:revision>
  <dc:subject>Slavic hymnal Гимны веры христиан, hymn 24</dc:subject>
  <dc:title>Break Thou the Bread of Life / Хлеб жизни преломи</dc:title>
</cp:coreProperties>
</file>