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3BA6-9059-4E93-9DC9-299F27AF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E180-E269-4C28-83D6-A4337F59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D22B-61C4-4B45-B55B-F4DBC088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20B3-B6B8-4755-B1B1-C7F44E37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22E0-E7BD-4E03-889B-DFA7F3DD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E33F-C0A0-4013-8B98-A03E6196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3E53-6B5B-44F2-8F20-3FAF72B0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0803-09B8-473B-9006-4D674D2B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3710-609C-483C-BB42-033B4C7A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CE95-81FC-45C4-A24F-ED698626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0D69-2D00-4150-91BA-0E8641BE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C049-6013-4839-99F8-8536C46B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B11D5-5843-48A9-9855-3799635C57F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6   Бог добрий є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Він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ves me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ves me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ves me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ть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ть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ть м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Він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Й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Й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Й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Він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7:39Z</dcterms:modified>
  <cp:revision>12</cp:revision>
  <dc:subject>Slavic hymnal Гимны веры христиан, Ukrainian hymn 106</dc:subject>
  <dc:title>God Is So Good / Бог добрий є!</dc:title>
</cp:coreProperties>
</file>