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E96C-100D-4BE0-B0A0-1CBB13F2E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3F89-E250-4F9E-B3BD-51A604C0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B262-8996-46E8-AD65-8DD584374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57FB-A023-4901-9B40-29416388E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C9FC-3AF6-4C12-A374-C65A142D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53F8-88EE-4AE5-806F-C27AB662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269F-7EC2-48B1-8F42-E3895362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8153-B297-4342-984A-EAA5772F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DAC0-4D88-4671-96AF-CB502546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9BE7-8631-4254-8DB0-914E2C9E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7225-CC53-4C6F-8850-69A63AAD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76E4-1DA4-4552-AB34-FD21AEA3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977C4-420E-47A9-8107-62DD144D6A0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is greater by f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any love that I have ever kn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love has captured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 sing with You and I sing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91   Your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reaches to the heav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never e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love reaches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surrounded by Your goo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minded of Your mercy da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reach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will never let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re’s no safer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close to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love will never grow c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sing with You and I sing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reaches to the heav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never e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love reaches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surrounded by Your goo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minded of Your mercy da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reach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has never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greater love than th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greater sacrifice, no greater gi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just keep loving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who could ask for m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that seeks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es and keeps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no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can’t reach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greater, no hig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All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no place Your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’t reach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greater, no hig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All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no place Your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’t reach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reaches to the heav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never e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love reaches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surrounded by Your goo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minded of Your mercy da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reach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reach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4:54Z</dcterms:modified>
  <cp:revision>12</cp:revision>
  <dc:subject>The Source 4, song number 2191</dc:subject>
  <dc:title>Your Love</dc:title>
</cp:coreProperties>
</file>