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046-7135-4B0C-9594-C71CC9E5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27B-C154-42D0-8506-A840BE3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097-475A-4629-8C44-154BC0A9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26E-8DAD-4F48-A113-A0640B5E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066-68FC-4B9B-9BB0-499A8475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25C-6566-47B3-BDBD-6EBA59E5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FB1-3EEF-4224-9A14-F638199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9EF-CEBB-4AEA-BC1B-D54FE94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8F2-17F2-4EE9-A54A-A20F94E1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CC3-B6F3-4DE5-B69B-A092430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A0F-A30E-480F-A405-3D9F4421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A8B-3316-4F2E-89B6-611AD67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BE41F-B9C0-44B5-8C69-08F949CE48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пісню співаю 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колись не зн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ої гріхи з мене з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0   Солодку пісню спів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ну і дивну любов не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, що є су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тоді в душі співаю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спільність ми має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ик не роз’яс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е щастя нам є з Ни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прийди до Нього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учений та сум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ш співати в Його любв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47Z</dcterms:modified>
  <cp:revision>12</cp:revision>
  <dc:subject>Slavic hymnal Гимны веры христиан, Ukrainian hymn 90</dc:subject>
  <dc:title>Солодку пісню співаю я</dc:title>
</cp:coreProperties>
</file>