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E81-D38F-4B53-AC59-F1972042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D4E-513B-4EC1-9D32-E445CC2E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B65-557A-4653-AFDA-F66DCE43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40F-B64C-44D1-B4F5-61165FFF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E91-4152-4E01-93D7-086F616F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48B-AEF9-4402-BB09-2F3E20F7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90B-4BE3-4E43-882B-4362D8E1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FD8-7F91-438C-B7E2-4932A1E8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3BC-4ED8-4E4B-A3ED-8DC120D3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BF8-5954-4814-8EA4-3E1278EB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7A5-0700-4634-B4B4-204AE6A3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0E1-36C8-4931-B017-D1E24735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A6E49-A234-42EE-A58F-7C3C33544B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я ищу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вижу с кажд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хочу пойт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, Он люб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ь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но я ищу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, куда вели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я юн, мне дан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дти Его тро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олю испол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, Он люб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ь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оит в дверях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ть иго проси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Нему стучаться 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ворит: я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, Он люб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ь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31Z</dcterms:modified>
  <cp:revision>12</cp:revision>
  <dc:subject>Slavic hymnal Гимны веры христиан, hymn 756</dc:subject>
  <dc:title>Рано я ищу Иисуса</dc:title>
</cp:coreProperties>
</file>