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2327-BCC1-43BA-A3AB-4D560778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983-A4BF-408B-B0F8-A4364D3C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74C-F8B9-4DD7-8B66-1B184816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C460-6A24-4330-99EF-C321FE1C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E0AD-9074-43BF-9471-B068B017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72BC-8726-44F3-B024-B3EAD390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503-C5A1-4BE7-9D7B-8ACAD9FF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485-97BB-4202-B605-C4566C80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710-FC69-4850-8F41-72AFF604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B7A-27CA-4777-8C0B-B61D2CEA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92F5-F870-4F78-8E8F-A095E656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ED6-5F4E-4F7A-9909-D977286D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BC33B-1C4D-4D08-962A-FF9B64D444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а Сион, гора свя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стол где Господа сто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стремлюсь, гора род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олнце вечное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ри нет и нет нен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радость вечная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согрето светом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ная хвала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ра Сион, гора свят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ш Господь Свой лик я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м детям С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слезу их у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город благ — Иерусал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ся там, неумол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к песни дивной,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какая речь люд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ть не может песни 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оро, скоро я там 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на той гор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я вечно не за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ровью я спасён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8:10Z</dcterms:modified>
  <cp:revision>12</cp:revision>
  <dc:subject>Slavic hymnal Гимны веры христиан, hymn 669</dc:subject>
  <dc:title>Гора Сион, гора святая</dc:title>
</cp:coreProperties>
</file>