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937-7E73-4E47-AB59-B0819E92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156-A2B9-4FEF-9128-79A7EC7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D5B-2EF9-4DD0-8B78-920774E6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48A-F8AC-4AD5-92D6-FD2EFA71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84D-6E7A-421D-999F-6F7BB3A2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91D-1415-4FEF-96B9-5F13D862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7AD-10B7-45FF-932E-E8730BD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5FD-C8DC-4B48-8695-0344F01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90C-72E5-4D54-94E4-07A361F8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EA0-1A99-4A4C-A29A-04C1171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A30-B0D5-4D07-B203-4F6CC52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8EC-B196-4DFC-834E-5DC6A348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2B24F-2E5E-4973-81AB-DF5362E51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! Почему её не 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х, кому навек она д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до горечи оби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бим усталыми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х ликований смолкла пес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м не радоваться с 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! Почему её не ви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Чтоб радоваться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 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увидеть каждый встр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Другим её да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будьте к Господ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ю, как звёздочкой, 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7Z</dcterms:modified>
  <cp:revision>13</cp:revision>
  <dc:subject>Slavic hymnal Гимны веры христиан, hymn 611</dc:subject>
  <dc:title>Радость! Почему её не видно?</dc:title>
</cp:coreProperties>
</file>