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281-8E6D-4C93-990A-80858FFB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67A-0818-4516-9A53-6C10F12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15D-8D45-4FCF-835C-E5CA9DDF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A9D-5A48-470E-B849-04A7E930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63E-DF43-4F68-BAA8-FB0E132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8C6-B641-40CD-9543-F4383E10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17F-62D0-4DFB-92B5-35B5C0F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3FF-4F9A-430E-A430-1FF66E4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7AF-C1CC-4A8B-8EC6-42EF37E6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6A8-38F0-4646-8891-E92522A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CB3-F809-48AC-AA12-EDBAAA8C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C4C-0E02-4EBC-BFFA-B30262D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C2353-0B79-4761-9E56-5A4741700D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57Z</dcterms:modified>
  <cp:revision>12</cp:revision>
  <dc:subject>Slavic hymnal Гимны веры христиан, hymn 591</dc:subject>
  <dc:title>Спаситель! жаждет петь мой дух</dc:title>
</cp:coreProperties>
</file>