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C14-2F06-4701-B2EF-AE098E4B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95A-AD10-4B64-A5A0-AD6600E5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F9A-3DBF-426E-BB37-6940F831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C72-5574-45A8-A2B6-959F2201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6C5-7EC8-4EF3-A419-86250089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7FF-02E3-4416-B3A9-7D9ECD7D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E36-6E0B-4E96-81F0-8E32E42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26D-20CB-46BF-84D7-64947F8E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436-6E55-4BD6-A6CB-2CAE1F3C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2FE-FEC4-4128-8F59-FD1DC509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797-D03A-4BF1-BCC9-E71D41E0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5E5-D046-4D6B-9586-DA80862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78B0F-269F-4868-88E4-3A6C3CBA48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grace and suff’ring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shown m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judgement You rece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35   At the Foot of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am made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given m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eath You bo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ade these ashes 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34Z</dcterms:modified>
  <cp:revision>12</cp:revision>
  <dc:subject>The Source 3, song number 1135</dc:subject>
  <dc:title>At the Foot of the Cross (Ashes to Beauty)</dc:title>
</cp:coreProperties>
</file>