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836-C668-4788-AEDA-8B054654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FAFA-8DDD-43ED-BB40-7C723B30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701-FA5B-4B96-B335-D7A5FB06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F62-9738-462C-AF88-23C20C10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903-0426-4076-9D68-821107FA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432-AD7E-4035-B96F-9E47CE02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4BBE-71D8-432F-8249-1E1B4DFB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BCC3-6A45-4666-A999-05CD6A8C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177-B748-4581-A311-561FB6C6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033B-BE5E-4F87-81B4-72431701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45C-32AE-433F-AF48-A6CAA41C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883-FFCA-4B69-B095-9802B00B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EFB46-6EF2-4633-ABBA-39FD5DCD00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 худых не дел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 не говор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! мы — Христо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смо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 Иисус и кро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 и без в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, как Он,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, мы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л худых не 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недобрый 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нас 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сить нас хо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жаждою вр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 Иисус и кро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 и без в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, как Он,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, мы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 зла не слуш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ки 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у сопротивля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добру стрем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 Иисус и кро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 и без в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, как Он,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, мы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9:46Z</dcterms:modified>
  <cp:revision>12</cp:revision>
  <dc:subject>Slavic hymnal Гимны веры христиан, hymn 760</dc:subject>
  <dc:title>Дел худых не делай</dc:title>
</cp:coreProperties>
</file>