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8</a:t>
            </a:r>
            <a:r>
              <a:rPr b="1" lang="ru-RU" sz="3600" spc="-1" strike="noStrike">
                <a:solidFill>
                  <a:srgbClr val="ffffff"/>
                </a:solidFill>
                <a:latin typeface="Verdana"/>
              </a:rPr>
              <a:t>	</a:t>
            </a:r>
            <a:r>
              <a:rPr b="1" lang="ru-RU" sz="3600" spc="-1" strike="noStrike">
                <a:solidFill>
                  <a:srgbClr val="ffffff"/>
                </a:solidFill>
                <a:latin typeface="Verdana"/>
              </a:rPr>
              <a:t>Из тьмы страданья</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з тьмы страданья, плена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дость небес под вечный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ран, болезни, к силе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бед, нужды, к Твоей полн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уз, оков, к свободе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т униженья, власти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царству спасённых, к кладу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ется скорбь Твоею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нятся слёзы вечной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настанет мир 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рдость плотскую Ты усми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ю мою Себе пок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в любви Твоей преб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Иисуса с верой взир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Твою возве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трах ли томит, иль смерть мне гроз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ос Твой в душу бодрость вс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мощи Ты меня укреп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о Твоё во мне соверш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е Отца меня водв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6:30Z</dcterms:modified>
  <cp:revision>3</cp:revision>
  <dc:subject>Slavic hymnal Гимны веры христиан, hymn 158</dc:subject>
  <dc:title>Из тьмы страданья</dc:title>
</cp:coreProperties>
</file>