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A46-91BD-4578-9542-D826AF00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0E9-F4EA-4C91-951F-874DA073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A93-E08A-451B-9D5F-EBF1F44F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CF1-5AD7-41EB-9AB1-BCFD9687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025-4D25-40AE-9551-1890F45D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023-26B5-4F8D-99BD-74F0B155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CA5-71F7-47B7-9538-40AEB631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45D-C98D-446A-ACBC-70C0994C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A43-EC46-4F42-96BB-A33342F1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0F2-C720-459A-8F42-A4682F0B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A4A-4470-4313-BD25-5D40BFC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FA9-987F-4599-86EE-2B2B8EE3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7DFBE-DED6-44B7-BE29-0CFF420D0B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е дни наше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жие силы весны мла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святим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ар для Него дорогой (навсег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быть нам при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исус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земной, необъя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Христу посвятить (навсег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учшие дни наше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, как Он приз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посвященья для нас н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мы больше не мо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дь нам жизнь даровал (даров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однимем ж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менем чудны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горае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енной крови Христа (Хрис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о им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ойдём на борьбу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сячи гибнут в поро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благой мы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 ним пойдё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постигнут го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за Христа не страш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ной песней хва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долеем врага (победи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19Z</dcterms:modified>
  <cp:revision>12</cp:revision>
  <dc:subject>Slavic hymnal Гимны веры христиан, hymn 554</dc:subject>
  <dc:title>Лучшие дни нашей жизни</dc:title>
</cp:coreProperties>
</file>