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B2E-A393-47CC-987E-C5603ADF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8C1-B849-4712-AEAB-CFC15712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EB1-FDDE-491D-8F3B-81E1ACBB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119-29F8-4B52-B8A4-55B7A631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89F-2D36-40FC-A362-78F140A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669-0AC9-4BEC-835B-E89F4DC4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D9A-52D3-4D06-8411-95345E72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2DE-1637-4043-BA52-6C7F2F59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A4B-C601-431F-84FF-5F299C84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CA1-5994-4B21-95C7-3D01F782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C6C-CF4C-4018-B030-C5EDA36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49C-2B4B-4920-A71D-7378046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1D239-E06A-4ECD-B7FE-55D05A7CEC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избитый в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Голгофу, нёс тяжкий к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ученье и гнё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скупитель, изби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Отче!» — неслась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ручьями из ран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от гнева всех защи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ын Божий мог так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я должен любит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иновных Он жертвой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в небе Его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авить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06Z</dcterms:modified>
  <cp:revision>12</cp:revision>
  <dc:subject>Slavic hymnal Гимны веры христиан, hymn 414</dc:subject>
  <dc:title>Мой Искупитель, избитый весь</dc:title>
</cp:coreProperties>
</file>