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536-7116-44E0-8650-EC10F813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A8BD-EA18-45B3-BE72-BBAE8456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8D7E-9EE3-4826-8293-E3C879BD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07C-6A6C-4951-B700-B080EEEE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BE6-F4AA-45C5-B6E0-1A69E2F1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CAB-0491-4E9D-B8EF-2246B0D0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B75-B98A-43B2-964B-29C01202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A17-B7FF-4005-9ED9-3C0FF8CA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172-D7B0-4CE6-BB66-3E5A35A9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F7F-59ED-4185-9843-62AD2356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024-E0B9-4A22-9D25-E3713B94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8D8-BDB1-4259-8056-660BF5A8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384C1-0FE7-4809-9038-A20EC333A9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O come, 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ansom captive Isra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ourns in lonely exi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the Son of God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 от власти тёмных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воле страждущи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ерпит, молится и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Thou Wisdom from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orderest all things mighti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us the path of knowledg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ach us in her ways to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Господь, как на Си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величье по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нам волю откры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и мыслях нап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Thou Rod of Jesse,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own from Satan’s tyrann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depths of hell Thy people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 them victory over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Жезл Иессея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 греха ра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оря зла спас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Дух истины из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Thou Dayspring, come and 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pirits by Thine advent 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perse the gloomy clouds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ath’s dark shadows put to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Звезда, обрадуй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, близок славны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ь от всяких бурь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прогони, пошли Тво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Thou Key of David,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pen wide our heavenl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safe the way that leads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ose the path to mis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Давида Ключ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вери в Царствие отк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раг нам смертью не гроз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5:38Z</dcterms:modified>
  <cp:revision>12</cp:revision>
  <dc:subject>Slavic hymnal Гимны веры христиан, hymn 880</dc:subject>
  <dc:title>O Come, O Come, Emmanuel / Приди, приди, Еммануил!</dc:title>
</cp:coreProperties>
</file>