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758F-60E7-49DA-8E45-80496E1EE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FA48-895A-4147-84ED-D9B0F35D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6DDD-8355-48AC-AF2D-2E83D5BB7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1ADA-F05D-4457-A5D2-18BA71A87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8760-E615-4B4D-945C-C340CCEA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5DBE-93C8-4ABB-8B78-0FB3F55B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5653-F12A-46B3-84E2-5DA89D63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0C41-63F0-4893-AA91-7C238374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7F80-8EB4-4EDE-A9B9-487D9C71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11B3-BE06-46A6-AC69-0232FF12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835A-33E9-4CC8-B325-1E51FD91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94E0-3EB9-4C55-BBEB-7A7991D0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28B1E-A453-4EF2-8809-5B25ED14B37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lent night, holy ni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l is calm, all is b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ound yon virgin mother and chil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ly infant, so tender and mil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leep in heavenly pea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leep in heavenly pea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ихая ноч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ихая ночь, дивная ноч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ремлет всё, лишь не сп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благоговеньи, святая Че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удным Младенцем полны их сердц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ость в душе их гор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ость в душе их гор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lent night, holy ni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hepherds quake at the s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lories stream from heaven afa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avenly hosts sing “Allelu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 the Saviour is bor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 the Saviour is born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ихая ночь, дивная ноч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лас с небес возвести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Радуйтесь, ныне родился Христо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ир и спасение всем Он принё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выше вас Свет посетил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выше вас Свет посетил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lent night, holy ni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n of God, love’s pure l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adiant beams from Thy holy fa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the dawn of redeeming gr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, Lord, at Thy birt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, Lord, at Thy bi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ихая ночь, дивная ноч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 небу нас Бог призв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, да откроются наши серд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да прославят Его все у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нам Спасителя дал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нам Спасителя дал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40:08Z</dcterms:modified>
  <cp:revision>14</cp:revision>
  <dc:subject>Slavic hymnal Гимны веры христиан, hymn 244</dc:subject>
  <dc:title>Silent Night (Stille Nacht) / Тихая ночь</dc:title>
</cp:coreProperties>
</file>