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8E6-6411-462F-97C9-A8DC104F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015-2B06-4225-A242-9BE05A3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11B-C378-456B-8AC4-CF584E3C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DA3-B1DF-4522-82DF-725B424F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ED7-DE66-42E5-9016-D9231033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40F-3680-4991-80C7-6285EA2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E59-0BD0-4440-9DD7-9B64644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D31-876F-4CEE-B6D9-FBBDB136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110-12BF-4C42-BAB5-E41EE311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F61-EC0F-4EB2-BB68-FA77454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1DE-F1B4-4ECA-9A38-BDE8D9E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967-22A1-4BF3-81A1-09533BBB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1128-87F5-4F0F-A1FC-CEC005AFCE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hill far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ood an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emblem of suffering and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love that ol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dearest and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world of lost sinners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espised by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s a wondrous attraction for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dear Lamb of God left His glory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ar it to dark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ined with blood so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rous beauty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’twas on that old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suffered and di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ardon and sanctify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old rugged cross I will ever be tr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’s shame and reproach gladly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’ll call me som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y home far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is glory forever I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56Z</dcterms:modified>
  <cp:revision>12</cp:revision>
  <dc:subject>Slavic hymnal Гимны веры христиан, Ukrainian hymn 80</dc:subject>
  <dc:title>The Old Rugged Cross / На Голгофській горі</dc:title>
</cp:coreProperties>
</file>