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628-48D8-499E-A50D-B24E1C7E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F02-048D-4C75-A954-E0F1D24E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62D-1830-42FE-89D5-FB5E6A06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A91-3CB8-4B29-B635-B99F5184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BB7-990E-4F2B-A9A8-32F7243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F03-48FD-47A9-88B2-15779E08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C39-8ABC-44A1-B230-39C5CEF4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CD2-FC7C-44E5-B95B-6F03D6EA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004-07DF-4BA7-A315-9691A35E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841-D125-466D-9032-A7752B96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2A1-8F34-4DC2-BD2B-44174F7D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683-F6E4-4693-BC57-F40BD5E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F8151-4F15-4B3F-845C-5A6421012A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и в знойный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ясь ж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ст жатвы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на солнцепё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в тенистом м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прасны бу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сти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ей 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идё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лачем отправляя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ободр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м не о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атся ры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увидим н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00Z</dcterms:modified>
  <cp:revision>13</cp:revision>
  <dc:subject>Slavic hymnal Гимны веры христиан, hymn 540</dc:subject>
  <dc:title>Сей Господне семя</dc:title>
</cp:coreProperties>
</file>