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109D-4BE7-42DE-A6EB-3C9525FA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D20-D3C9-4F7F-8A4C-5A5F131D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11FF-D979-4EB5-8088-A27D14E5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584-8D92-4297-B53F-8BA355AE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C42-4A41-48D7-AAB4-E5D8CDF9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19E5-92C5-4E0F-BC8E-D4752ED3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A2C3-6740-466B-8AC7-41574E17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4FE-8308-40B2-A9B5-E5F16B7B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6EE3-C592-4ABB-ABA4-1600DE14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3CA1-8BBE-4F71-A8FF-717038F6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76B-CF29-4EF6-AB3F-2C6E2070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6B5-622E-4402-BF08-439D43FC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90465-82C0-4771-AEF2-D17F3CB07DA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Ему принадлеж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пованьи и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Его хо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Иисусу отдаю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ладу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ету отверг зем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сь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хочу Христовым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Предвечный да на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 Христа, Христа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храм во мне соз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ю и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 и сердце наполн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 Он во мне сверш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дал святу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 Богу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4:59Z</dcterms:modified>
  <cp:revision>12</cp:revision>
  <dc:subject>Slavic hymnal Гимны веры христиан, hymn 547</dc:subject>
  <dc:title>Всё Иисусу отдаю я</dc:title>
</cp:coreProperties>
</file>