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2FA3-C145-4FC4-8F83-3893623C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82E0-8D82-4138-B7AF-080454EE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3A30-BB2C-401C-A49B-780DDA75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52BE-082F-4BDE-BD69-8AAAE2F5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BCFF-08F6-4372-9E96-8EF3A75C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0787-65E6-4E63-A931-26EA8035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78D5-C903-4F1F-9837-81F4EAE6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88EB-A1DE-42B1-BD8F-0024DDFF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5BC4-DCB0-4997-83F5-427AD44A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77FE-790F-4E9E-8EA9-A1747FAC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10E3-83BA-4614-8E1B-B70B4756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80A5-CB30-4854-ACDE-3A9F2BB4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E85FF-C73A-45B0-B0C0-9C12D2B2712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к я не залишу святую Біблі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 ній знайшов спасіння і рад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защо, нізащо я Біблію не зали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защо, нізащо святу книгу Бож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5   Повік я не залиш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є спокусі і обгортає ть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а дає побіду і розгоняє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защо, нізащо я Біблію не зали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защо, нізащо святу книгу Бож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зіб’юсь з дороги, сер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євих фи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а мене справляє до вічних берег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защо, нізащо я Біблію не зали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защо, нізащо святу книгу Бож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їй лиш довіряю, знаходжу в н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ім сяє Сонце Правди й любов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н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защо, нізащо я Біблію не зали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защо, нізащо святу книгу Бож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8:34Z</dcterms:modified>
  <cp:revision>12</cp:revision>
  <dc:subject>Slavic hymnal Гимны веры христиан, Ukrainian hymn 45</dc:subject>
  <dc:title>Повік я не залишу святую Біблію!</dc:title>
</cp:coreProperties>
</file>