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3F0-2F46-48CE-A473-70D5BE53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5F1-7D2E-4E76-AEE0-375041C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C92-6808-4081-82C5-A352DC54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A6C-D2BB-4F88-860E-F91A5127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5CD-34D6-4410-A2BD-81A6E925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26A-B419-4783-981A-6D7E23C2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540-64CC-42B6-903E-60FC5641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D5C-0211-44F6-8D12-216FE09A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810-0B43-43AA-8840-C767DC67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CD2-C2A2-48DC-9C64-95F8399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02C-2304-46DC-98EC-1B1F9FE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D6D-E1EC-4F6A-BEAF-4A92332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8324-C86A-4A0B-978D-B741DEED68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,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, 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бес, живущий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,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ц миров, начало,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ложу к ногам я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ought the nations, 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 this sinner 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круг поёт хв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и верн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енье на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грехи мои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мне слав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11Z</dcterms:modified>
  <cp:revision>11</cp:revision>
  <dc:subject>The Source, song number 309 in Russian</dc:subject>
  <dc:title>Царь царей, великий Бог / King of Kings, Majesty</dc:title>
</cp:coreProperties>
</file>