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43B-E7A5-4E15-A041-31BB2EBD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C24-CA3A-4EFC-B78D-D99948CC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6C4-110F-4CF4-B910-2B518058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503-4C9E-419B-B256-99799383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FCE-092E-4CCC-BE43-A88D22E4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7032-7708-4240-B3F9-E1853AA2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1F7-6AC4-4079-A3E0-1EA03FEF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1D4-AC51-4C0B-BE6C-53DC2B54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1DD-B5CF-4E74-A37A-7CC0187B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776-6D38-4B63-BADC-028CA773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B32-A048-440C-AAB8-145B2FAE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742-3E0F-4375-AF12-A49A7661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74A1E-41E8-4666-AB9A-54CEABAA45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е принял я кре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ою дан святой об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быть в соедин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й блюсти святой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и ж моё жел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Тебя, о мой Госпо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постоянное стар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возбуждать, смирять же пл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ое принял я крещ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, Христос, в Твоё стяж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ердце, тело, душу вн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отвергни обещ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ь навек к Тебе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 длани, где Христов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исан к вечной жизни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е здесь меня с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душа придёт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47Z</dcterms:modified>
  <cp:revision>12</cp:revision>
  <dc:subject>Slavic hymnal Гимны веры христиан, hymn 722</dc:subject>
  <dc:title>Святое принял я крещенье</dc:title>
</cp:coreProperties>
</file>