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907-FF12-4DA2-9228-3B5D2BAD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BBD-CD9B-47D3-8229-21709BBD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190-BA87-4651-A218-96CE7B5C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017-5C96-4829-8495-08CC9D50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B11-0627-4078-BD32-6A29F096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2D26-AEC8-4C2C-BCE2-C7C1ECD6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417-D740-4CA1-BD5D-717826E2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E7C-7165-44FE-BC66-23651EDC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FCE-A1F9-42DA-AF24-E356156E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957-01E6-4065-A29E-80919414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551-3E6D-4A30-A6FD-534D8E46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E68-7DAB-4F8B-8DF1-6CC72A9D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2BF1F-CA61-490E-80BE-48F39030C9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Friend we have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ins and griefs to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privilege to car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thing to God in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за Друга мы им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руга мы име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к жизни пробу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ы счастием владе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источник веч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peace we often forfe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needless pain we b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because we do not c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thing to God in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как часто мы стра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 терпя напрасно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росить мы забыв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дин помог Он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we trials and temp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ere trouble any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ould never be discourag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o the Lord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шенье ль нас трев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тки ль тяжки для кого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пусть из нас возл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свою всю на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we find a friend so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all our sorrows sh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knows our every weak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o the Lord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дин среди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свет средь тьмы про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Христос Один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горе облег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e weak and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umbered with a load of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Saviour, still our refu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o the Lord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ываем мы под зно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й жизни сует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лишь Ему откро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thy friends despise, forsake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o the Lord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arms He’ll take and shield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ilt find a solac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ас друзья забы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м Господу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истос проявит в си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верный Друг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5Z</dcterms:modified>
  <cp:revision>13</cp:revision>
  <dc:subject>Slavic hymnal Гимны веры христиан, hymn 594</dc:subject>
  <dc:title>What a Friend We Have in Jesus / Что за Друга мы имеем</dc:title>
</cp:coreProperties>
</file>