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9DB4-8736-4F77-9AC3-2DE2D1751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D8AA-E03D-45E1-BECC-9D11A1E6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B63B-8F78-4907-86C2-82A7F3E2E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DCE2-E71C-4B36-A6C4-A4BD76856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F081-8DDE-4D78-B9CB-BF04C198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60FF-9AB0-4139-8CDD-336A0C66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6868-EACF-4C0A-BCEE-7BB00AE8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04AA-CA6F-4B5B-986C-14902D01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3A7C-0DDF-43A0-9979-C266D5A2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F3F5-D6EF-47B2-94ED-D9BF30BC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E7B1-07AB-4DF6-BBB0-0660D5F5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507F-531C-4855-A4C4-C46C1E3E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F49742-55FB-4F84-9604-9F200F74784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eavens shall decl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glory of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creation b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coming of the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eye shall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heart will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knee shall b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tongue conf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80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he Heavens Shall Decl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holy, holy is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 the coming of the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is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eavens shall decl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glory of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creation b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coming of the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eye shall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heart will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knee shall b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tongue conf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holy, holy is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 the coming of the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is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thy, worthy, worthy is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 the coming of the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thy is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6:00:00Z</dcterms:modified>
  <cp:revision>10</cp:revision>
  <dc:subject>The Source, song number 480</dc:subject>
  <dc:title>The Heavens Shall Declare</dc:title>
</cp:coreProperties>
</file>