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F42-98EB-4E06-8176-C6AC414A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3F4-2E13-4710-B921-9104895B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EB9-0F98-4B6E-A1F9-9DEA2A1A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885-2218-4F25-88E0-CD1B1879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AF1-3FF3-4A58-BE5D-16281B60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8D5-3ABC-427E-88E8-95F38C41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66A-8D0C-430B-B7DF-13866415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83F-C903-4382-87B4-5812479E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061-8496-433E-A52D-A5DAD595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E31-21E7-4A7C-8752-5730CB9E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B00-1A88-4FBE-B708-9E158AF8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ACF-D343-40F3-B5B5-404738E4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DBEE1-CA5E-4EC6-B5A9-A0F6AFF100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call comes ri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the restless w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re souls to rescu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re souls to s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очью с моря люди гром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с моря люди громко вопи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вет! Дайте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жите к берегу надёжн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have heard the Macedonian call to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 golden offering at the cross we l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теперь доходит Македонский з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вет! Дайте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роявить Хрис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pray that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y everywhere ab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 Christlike spirit everywhere be f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ю молитвой о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ух Божий погибающих дост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not grow weary in the work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gather jewels for a crown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совершайте труд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Богом делайте дела с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2:39Z</dcterms:modified>
  <cp:revision>12</cp:revision>
  <dc:subject>Slavic hymnal Гимны веры христиан, hymn 887</dc:subject>
  <dc:title>Send the Light / Ночью с моря люди громко</dc:title>
</cp:coreProperties>
</file>