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4ED-66F1-4D53-A70C-404832A6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9067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60080"/>
            <a:ext cx="9067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EAB-5040-4A1E-BA02-9701C07C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6008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6008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4B0D-6ABA-43C8-868E-56162A3C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976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976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6008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6008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6008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1F4-0454-44D1-9F1D-AB5740A7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9760"/>
            <a:ext cx="90676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9D30-8DB7-4EFA-8073-F1C2F5E0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90676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4DF-1441-4797-B4CF-F4A057D3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AFE-8A5A-4301-8BC3-B928445B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C4A-E747-4712-A60A-BE0516FE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A26-AD7D-48B9-90B4-5099A050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6008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1BB-D8EB-4891-9403-779F1838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6008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7C3-0970-4027-BF9F-391EAC3A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60080"/>
            <a:ext cx="9067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7BF-91AD-476F-9DD4-D6B2DA24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9760"/>
            <a:ext cx="90676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0955B-B9AF-49DA-B75D-46AF7E72AF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the throne of God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a strong, a perfect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reat High Priest whose name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ever lives and pleads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name is graven on His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name is written on His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that while in heav’n He st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ongue can bid me thence de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ongue can bid me thence de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4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Before the Throne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Satan tempts me to desp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ells me of the guilt with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ward I look and see Him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made an end to all my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the sinless Saviour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inful soul is counte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od the Just is satis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ook on Him and pard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ook on Him and pard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 Him there! The risen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erfect, spotless righteous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 unchangeable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g of glory and of gr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ith Himself I cannot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is purchased with His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ife is hid with Christ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Christ, my Saviour and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Christ, my Saviour and m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4-04-12T09:21:53Z</dcterms:modified>
  <cp:revision>12</cp:revision>
  <dc:subject>The Source 2, song number 643</dc:subject>
  <dc:title>Before the Throne of God Above</dc:title>
</cp:coreProperties>
</file>