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0</a:t>
            </a:r>
            <a:r>
              <a:rPr b="1" lang="ru-RU" sz="3600" spc="-1" strike="noStrike">
                <a:solidFill>
                  <a:srgbClr val="ffffff"/>
                </a:solidFill>
                <a:latin typeface="Verdana"/>
              </a:rPr>
              <a:t>	</a:t>
            </a:r>
            <a:r>
              <a:rPr b="1" lang="ru-RU" sz="3600" spc="-1" strike="noStrike">
                <a:solidFill>
                  <a:srgbClr val="ffffff"/>
                </a:solidFill>
                <a:latin typeface="Verdana"/>
              </a:rPr>
              <a:t>Ходи во свет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оди во свете! то найд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щенье Божьих сл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истины прогонит лож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ст мир и свет вок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оди во свете! будь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тупи с Христом в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ивным светом окруж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тьмы и мрака не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оди во свете! тьму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ень свет изгн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инят в избранных сем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чадом света ст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Ходи во свете! тёмный гроб</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не устраш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Воскрес! Кто с Ним жи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всё с Ним победи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Ходи во свете! и в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радостью о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Бог желает жить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Бог — предвечный свет.</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6:26Z</dcterms:modified>
  <cp:revision>3</cp:revision>
  <dc:subject>Slavic hymnal Гимны веры христиан, hymn 120</dc:subject>
  <dc:title>Ходи во свете</dc:title>
</cp:coreProperties>
</file>