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B96E-C616-4709-8EB3-89358D18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E6B5-E8CF-4106-BA29-921C9DE5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B01C-E3C5-45F0-98DE-C91D2123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D379-90E9-4FEE-A247-3116C55D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D5EF-1CDC-4897-ADDE-772D9E78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73AC-D8DD-404E-B6E1-933150B9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8D84-6BFF-4541-80D5-8F919302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7E51-DEC0-46B1-83A3-0070B548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AF7A-4373-4E87-8E15-3B99AF11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5B49-5D26-4B38-AE85-90A4CE7A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3FE3-5081-46AA-8AD3-699E45E3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644F-B24F-4FF4-B5E3-765D0D1E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21D90-FF66-45B7-B242-09BA3290566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ghtest and best of the sons of the mor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awn on our darkness and lend us Thine ai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r of the East, the horizon ador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uide where our infant Redeemer is l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рче и луч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рче и лучше, чем солнце Восто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жья звезда, нашу тьму разго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х нас к Младенцу веди издалё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ветом небес озаряй наши д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ld on His cradle the dewdrops are shin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w lies His head with the beasts of the st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gels adore Him in slumber recli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aker and Monarch and Saviour of al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ихо на поле роса трепета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ирно Младенец на сене леж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истое небо в ту ночь ликова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г и Создатель Спасителем ст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y, shall we yield Him, in costly devo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dours of Edom and offerings div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ems of the mountain and pearls of the ocea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rrh from the forest, or gold from the m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чем нам явиться пред всеми Желан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ерлы морей, ароматы луг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олото гор, драгоценные кам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ирру деревьев, — Он примет ли внов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Vainly we offer each ample obl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Vainly with gifts would His favour secu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icher by far is the heart’s ador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earer to God are the prayers of the po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дны пред Ним богачей приношен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г — обладатель сокровищ земны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ит Он видеть сердец сокруше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ит Он слышать молитвы прост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ghtest and best of the sons of the mor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awn on our darkness and lend us Thine ai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r of the East, the horizon ador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uide where our infant Redeemer is l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рче всех звёзд, что горят на Восто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жья звезда, перед нами све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ерез долины, холмы и пот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с в Вифлеем к Иисусу вед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0:30Z</dcterms:modified>
  <cp:revision>13</cp:revision>
  <dc:subject>Slavic hymnal Гимны веры христиан, hymn 245</dc:subject>
  <dc:title>Brightest and Best of the Sons of the Morning / Ярче и лучше, чем солнце Востока</dc:title>
</cp:coreProperties>
</file>