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241-4F3A-4411-8BAF-7DE14EE2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146-AD55-463C-BB14-C0FC93E8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891-F545-453B-ABFA-332C1C0B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589-19C0-4282-B372-59FDCE7C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512-4166-4377-93DD-BF09BE18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C07-CBC0-471E-AE12-6F96A843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036-79D8-46D4-A2A9-A63EB2C3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2D8-CA9E-40B4-8F14-8A2DE165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6D1-D209-4F56-9BE2-32C26281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795-74A8-45E6-8EE6-EB827BD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F99-A642-4DC1-9D55-E151FFA2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374-271F-4347-9AF5-191B4365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EC884-B098-4B77-B568-79D65FA77B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Творца святых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те все сердечным пен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с радостным хвалень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—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уди весельем сердце б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ду песнь теперь нес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а, Творца свя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вселенной до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из уст народа ль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восторженно по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, Спаситель, Божий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и слава, и хва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, честь и покло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вечные!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19Z</dcterms:modified>
  <cp:revision>12</cp:revision>
  <dc:subject>Slavic hymnal Гимны веры христиан, hymn 298</dc:subject>
  <dc:title>Христа, Творца святых чудес</dc:title>
</cp:coreProperties>
</file>