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487-A36E-4231-8960-E18928E3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FBA-6D7A-475E-BFC2-A7918B0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D39-C104-45FB-82DF-9933776F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400-1A4B-4689-8945-C74895DF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C59-82D3-43F2-88C0-5835D0A4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40C-FC46-46CD-A51C-BB7AE15F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A36-6064-40C4-B879-C85927F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3B2-C0CA-4CD2-BB7B-953A53B5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AED-878C-4F9E-9E27-25CCCC9F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F16-CF6F-43C6-BCB0-A9F8A235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C8B-90C5-42FB-B830-1AFD64AE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EF7-23EF-4BFE-A7C1-4F47791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F0D33-2BF6-41B9-8994-BA3E127379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ите, друзья, все в отверстую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Искупител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ало не медля, войдите тепе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, что завтра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йдите, друзья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Спасител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танешь ты делать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Он всех в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оется двер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йся пред Ним, Он сей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оет порок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, и тело твоё обно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, к Иисус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43Z</dcterms:modified>
  <cp:revision>12</cp:revision>
  <dc:subject>Slavic hymnal Гимны веры христиан, hymn 333</dc:subject>
  <dc:title>Войдите, друзья, все в отверстую дверь</dc:title>
</cp:coreProperties>
</file>