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4AB-F883-4FB8-8F66-BF6E4809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4D3-4E63-429C-9F2D-38681B0E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ADE-C6E6-4247-ABE1-41BC0744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805-2EB1-4683-8119-DFDE5602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B6B-F676-4C95-8D16-05730430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FF2-D4EA-40C9-816B-B978F44D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BE3-39F9-470C-8A76-AFA23FDB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212-A33C-40FC-BAAD-A4430C5A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14D-A9CE-4117-A73B-1AC244BA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714-1DE2-42D6-8388-7A538E96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DDE-498A-4354-AD30-D50FF6B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BEB-BEAA-403D-AC92-B74FB8FF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6620F-49DF-4DD6-9167-56477E68AC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, Christian soldi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ching as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on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ины Христ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жарк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вать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then, ye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our happy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nd with ours your v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triumph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,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арми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laud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Christ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through countless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n and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н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исуса тру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Е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, Christian soldi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ching as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on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royal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s against the f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ward into batt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His banners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ебесный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ьётся наш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, Christian soldi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ching as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on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mighty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ves the church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thers, we are t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aints have t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ки отбор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тупает строй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чудно с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not 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ne body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in hope and doctr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in ch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Он пов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о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и в уч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ужестве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, Christian soldi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ching as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on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s and thrones may p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doms rise and w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church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tant will re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ны и к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ют, словно л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Христова це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ере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es of hell can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inst that church preva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Christ’s own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cannot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превоз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ранных Христ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Он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, Christian soldi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ching as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on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4Z</dcterms:modified>
  <cp:revision>13</cp:revision>
  <dc:subject>Slavic hymnal Гимны веры христиан, hymn 486</dc:subject>
  <dc:title>Onward, Christian Soldiers / Воины Христовы</dc:title>
</cp:coreProperties>
</file>