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A6D-FAAC-4B2E-BD71-08AFED1F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5EE-635A-4A00-BBFB-C2F707A4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778-998C-4CBE-9101-B2A71FAE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8D7-B2D0-4812-8F68-D7AA68D7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665-1413-42F7-A2F0-869D2B30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F94-D65F-427E-8D91-00D07AD4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B42-549F-484C-9092-31E0E1FB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C58E-30DD-44D2-B8C5-652D8F9D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A62-E45C-4F81-B5DB-917906C0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7CC-047A-4AE6-9481-E5989D0E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A1C-60F3-4A1D-8FE7-CEA559D7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8DD-4F73-4187-AE5D-78E28B48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50042-49A0-4112-BAB4-D9DBD3F7F6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ся мир!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, ликуй п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скорей Царя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новый, новый г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уйся ми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ся мир! Христос при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ерквах поют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я, сады, леса, хол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ят, вторят с торж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х не ослеплял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рны не рос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даёт, снимает гн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, во всех концах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ёс Он мир 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 могли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велик и справед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с, как нас Он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3:08Z</dcterms:modified>
  <cp:revision>13</cp:revision>
  <dc:subject>Slavic hymnal Гимны веры христиан, hymn 243</dc:subject>
  <dc:title>Радуйся мир! Господь грядёт</dc:title>
</cp:coreProperties>
</file>