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D4AD-7C83-43AE-96E4-25E610CD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C1D8-8821-491A-881F-AD75A6B1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3A60-06C1-4350-906A-15E832DE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E4BE-66C1-4973-B5BE-314F5027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7E75-3689-4BFD-B068-A5A01F98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6020-665B-43E0-A609-F48600D0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437C-3358-407A-A982-079949D5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1F90-D169-469A-ADC6-8DB32C4A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C02D-5E95-4A59-B6BB-C127B241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CA72-C3CB-4349-9B23-700FB75E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EFBA-9D1B-4B37-8965-F0C9833C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C5E0-B6C9-4723-994E-E17C3F23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60875-D0F6-4D63-BD3A-3DEA0661B7D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ve you been to Jesus for the cleansing pow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fully trusting in His grace this ho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ы познал ли благод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ознал ли благодати полн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ешься ли ты во всём Хр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soul-cleansing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r garments spotl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they white as s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ли грех, всяки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творною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ли ризы белые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lking daily by the Saviour’s si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o you rest each moment in the Cruc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 ли идёшь Его пут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ываешь ли в общеньи со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soul-cleansing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r garments spotl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they white as s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ли грех, всяки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творною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ли ризы белые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Bridegroom com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ll your robes be wh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ll your soul be ready for the mansions br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be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янья светлые хранишь ли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елённые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готовлен ли ты жить среди свя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3080" y="914400"/>
            <a:ext cx="9734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soul-cleansing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r garments spotl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they white as s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ли грех, всяки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творною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ли ризы белые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ay aside the garments that are stained with 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be washed in the blood of the Lam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fountain flowing for the soul unclea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be washed in the blood of the Lamb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ложи всё, что запятнано гре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ым будь кровь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источник для живущих в мире 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soul-cleansing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r garments spotl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they white as s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ли грех, всяки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творною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ли ризы белые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8T02:20:31Z</dcterms:modified>
  <cp:revision>14</cp:revision>
  <dc:subject>Slavic hymnal Гимны веры христиан, hymn 428</dc:subject>
  <dc:title>Are You Washed in the Blood? / Ты познал ли благодати полноту</dc:title>
</cp:coreProperties>
</file>