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857-CFCB-4FBA-9DEF-BF7F6593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B4A-1F37-4EE7-AB79-F1925606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8C9-79E0-4FA0-AA10-44CAD7AB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55B-A616-4143-9C24-755AC2FC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599-67E8-400B-94C1-8EB01432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24D-913E-4333-9815-34BCDC9F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D5D-28E5-4A6C-A394-29275D3E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B0A-F67F-4D64-84CA-A6F3ADBF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7FE-03AB-4E42-BD0C-5AD55F59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271-2915-4FE3-9E71-591B65D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0F3-DD10-4283-97BB-D10B92E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C8F-54E8-484C-B227-A43ECF1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04910-C87B-452F-B502-5BA8ECA3BD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ght broke through m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ored exceeding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fell like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de this deser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5   Your Light Broke Through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 lifted m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 ros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de this valley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57Z</dcterms:modified>
  <cp:revision>11</cp:revision>
  <dc:subject>The Source 2, song number 1095</dc:subject>
  <dc:title>Your Light Broke Through My Night (This is How We Overcome)</dc:title>
</cp:coreProperties>
</file>