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0C86-58E9-4A4A-8F03-CF284DFC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9382-B0DD-4CDD-89A4-98C24A04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28BD-1D96-41FD-B43B-A1E3F2F5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BAC9-33D2-4461-8C37-DD7DEA89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8AC0-8013-43BC-AE52-9BE30C55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1B57-C509-4589-B723-523845EE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6A12-7E84-45CC-9A7D-7CBADE37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5CCD-B01C-4E39-980C-95D7B628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7DA7-F485-480D-9E8D-6146D1EE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C61D-1A77-4F16-A907-8168795D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4FA3-419A-4C31-AB9E-46A64975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49AE-567A-42BF-B561-AA3D2BC3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628DF-B99C-46C3-83DD-B2A5B16015F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ликий Бог! Коли на світ погля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бачу все, що Ти створив в крас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кожний цвіт склада Тобі поша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к обняв любов’ю Ти усі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3   Великий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ивлюсь на мерехтючі зорі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, де горять світи незнані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онце й місяць в вічному простор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ливуть в тиші, подібно корабл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весні природа розцвіт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чую я в діброві солов’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апах піль квітуючих вдих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в’ю сповнена душа м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із хмар навислих грім лун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пітьмі ночі блискавка миг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д дощем природа ожив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селка в небі барвно заяс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беру я Книгу Заповіт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Твої читаю я ді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олюбив Ти нас, людей на сві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ля спасіння Сина нам посл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зрю Христа смиренного між лю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умаю я про Його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ін прийняв за нас усіх нару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а хресті пролив невинну к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покуси серце огортаю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ух мій тужить у важкій жур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ін пречисті руки простяг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кріплюсь в Його любві свят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сподь мене Сам закли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вітить промінь сяєва Його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в смиренні замов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знавши велич Господа с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6:57Z</dcterms:modified>
  <cp:revision>12</cp:revision>
  <dc:subject>Slavic hymnal Гимны веры христиан, Ukrainian hymn 83</dc:subject>
  <dc:title>Великий Бог</dc:title>
</cp:coreProperties>
</file>