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614-83F3-4D4D-BCC6-2678911B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81A-3C80-401F-A69C-9455841C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C05-0CDD-4ED2-96D6-F7350D7C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75A-0CD6-4B52-AA0A-5CF50267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744-E7F1-4AC5-ADC5-613FCA7E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5B5E-EEB1-4D1D-BD6B-B02C9993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66DB-6C4B-4081-9399-130F9621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8BDA-3A51-4547-91D6-326487B7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4CD-E009-405F-9C5C-75D7E15F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F615-DFE1-4903-9B25-16175899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DC5-6149-4546-B4F1-28C2B3D2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6BF3-F1A5-4BDD-B8CA-5D1BBEFF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5A5C3-E2C1-4088-B5AF-9891BAEF0F8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! this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Bible tell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ttle ones to Him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are weak, but He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ит мой Иисус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ой Иисус меня!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етей к Себе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руки их бе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ble tells me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! He who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’s gate to open w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wash away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His little child co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любви и добр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адал Он на крес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еня Он кровь про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 Он меня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ble tells me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ake this heart of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it pure and wholly Th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 bled and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henceforth live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ень любит Он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 жаждою в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ят сердце ин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йду отраду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ble tells me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! He will st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ose beside me all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prepared a hom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meday His face I’ll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! Он вечно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го навек душ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никто не повре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зол Он со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ble tells me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4:39Z</dcterms:modified>
  <cp:revision>12</cp:revision>
  <dc:subject>Slavic hymnal Гимны веры христиан, hymn 869</dc:subject>
  <dc:title>Jesus Loves Me, This I Know / Любит мой Иисус меня</dc:title>
</cp:coreProperties>
</file>