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AFF-F997-4268-B426-ACCFD969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5C3-E1C2-48F9-AB25-C9A4C184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E47-E693-4900-9EE9-FA4653A7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FD6-F487-4B49-B24C-2D809E5F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10B-764F-4EB2-A79D-F1D9D3D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753-BC6D-4AE9-8115-A381EB87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70A-2E01-41A6-AE8C-E4D4FBD6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4F8-E30D-48ED-9E14-0ABC444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F73-1387-4E9A-9633-01555A7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5E9-5D7B-4525-BAF7-3CF893D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C99-F243-4830-997C-D747B61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499-48FE-4047-A8F5-F21F3EA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173FF-F547-4CB4-801C-78D9A025DB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Saviour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trength indeed is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weakness,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in Me thine all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now indeed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and Thin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change the leper’s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the heart of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hing go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by Thy grace to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wash my garments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lood of Calvary’s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before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in Him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my soul to sav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ps shall still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41Z</dcterms:modified>
  <cp:revision>12</cp:revision>
  <dc:subject>Slavic hymnal Гимны веры христиан, hymn 857</dc:subject>
  <dc:title>Jesus Paid It All (I Hear the Saviour Say) / Спаситель говорит</dc:title>
</cp:coreProperties>
</file>