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0B1-8EE6-4790-AA30-A4AAFB1A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D61-0EE7-4FEC-87A1-89DBA438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918-8BC6-4A55-8E99-D31DF48D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5F67-9D78-4DDA-AEF7-AEB49CEE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2D4-1302-4848-BCB3-27896293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332-D097-4DFF-85D4-C8FB702C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40AC-A366-4DC2-A30F-769E373A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AFB-1748-4723-9507-28DD3AFA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4B4-848F-4814-A3E7-5623C1AD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9EF-7851-489A-9EE0-43E57E9A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CC4-DEB3-4980-9F32-40AD0877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115-E3F6-40B3-914C-3EBFBE67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B1BE8-C84F-4614-9545-DFD80E3467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news of Your impending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r disciples bro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ovingly You took the 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rds of blessing sp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когда учен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Когда уче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мерть Свою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с любовью, как к друз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хлеб,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read You broke, and with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tributed to 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body—take and 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take of it, all of you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ломив, им всем ра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слова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рузья, примите, ешьте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тело есть Мо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, O Lord, You took the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yed, and then You s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blood—by it, for s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onement will be ma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с вином Ты чашу вз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, о ней м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ия есть кровь Моя», — сказ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е пейте из не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his is the covenant of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can there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’er you do it, do i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rance, friends, of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т новый Мой завет в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ам, друзья, 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е всегда творите 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вспомните Мою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blood we would remember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us shed on the t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utilated body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t us ever s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 же кровь Твою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ую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истерзанную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спомнить в этот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ssess our thoughts, that ever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seek the reason why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You on Calv’ry’s rugged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ose such a death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Господь, всегда во в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мыслить лиш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Ты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яжко уми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1:08Z</dcterms:modified>
  <cp:revision>13</cp:revision>
  <dc:subject>Slavic hymnal Гимны веры христиан, hymn 727</dc:subject>
  <dc:title>As News of Your Impending Death / Господь, когда ученикам</dc:title>
</cp:coreProperties>
</file>