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123-495D-4FC3-9311-1804C32F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359-4D39-4C00-8D45-08D271DF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1A8-28BB-4B61-AB0D-39E4D734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209-6BBD-4749-BD6A-53C594CE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903-E4CD-4835-8960-6E9C9C5B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A00-9972-47B1-926B-C460FD89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BB0-9AC3-49C3-9AFA-2E289BFB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F6A-6588-498C-86EA-E97705E0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5DB-0B29-4317-9FA6-66F854A1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8E8-97D8-4B62-AC34-8918BB10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C38-1ABC-4B91-B603-A2A0502C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466-47E0-4A32-951A-1A4E03E3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120C7-CCE0-44EC-806D-C292D29913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I my cross have ta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leave and follow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stitute, despised, forsa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from hence my all shal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осподь, мой крест бер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мой крест бер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хочу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чу я вражду людск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злобу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ish every fond ambi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’ve sought, and hoped and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how rich is my cond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and heav’n are still my ow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ил Ты жизни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бил, чего хот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бореньи постоя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 небо —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orld despise and lea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have left my Saviour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uman hearts and looks decei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art not, like man, un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рагом мне станет н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ерным он всегда та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рузья меня поки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ile Thou shalt smile up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f wisdom, love and 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es may hate and friends may shu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 Thy face and all is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к сердцу с каждым д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ится враг, исчез прия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радостно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 may trouble and distres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ut drive me to Th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with trials hard may pres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 will bring me sweeter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ненависть лю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ят нас к Христа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яжёлая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ет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’tis not in grief to harm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y love is left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’twere not in joy to charm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that joy unmixed wi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души не завою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нами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дух не очар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оге наш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on from grace to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med by faith and winged by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eternal day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own hand shall guide m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с укреп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видит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молитва окры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ткрыл нам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shall close my earthly mi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ft shall pass my pilgrim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shall change to glad frui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to sight, and prayer to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атся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ршится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место даст вид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ьбы сменятся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5:02Z</dcterms:modified>
  <cp:revision>12</cp:revision>
  <dc:subject>Slavic hymnal Гимны веры христиан, hymn 846</dc:subject>
  <dc:title>Jesus, I My Cross Have Taken / О Господь, мой крест беру я</dc:title>
</cp:coreProperties>
</file>