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29BD-1507-433D-9361-9506B243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6035-F1EA-4BD2-9871-FF754314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F766-971A-4C2C-B820-04A237ED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DD48-4F91-4B4D-904C-3294903A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5C57-843B-4A9A-AB6D-7C035EF6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8788-08E9-420F-B684-CBD70FA0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2A11-66CD-486A-87EE-FBFD65DA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13D0-A921-4022-A453-0A355D04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3A53-959C-414A-8FB4-6A8C5496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8CD5-CE68-4A54-8AA4-AC2BA917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351F-F2EC-461B-8D55-82958878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CAB4-2F10-4347-8797-3DEA4156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0BAE6-76B1-4E02-B413-E1284642360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at a Saviour that He died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condemnation He hath made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hat believeth on the Son,” said 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everlasting lif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 за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за меня в могиле бы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 суда меня освобод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ily, verily, I say un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ily, verily,” message ever ne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hat believeth on the Son,” ’tis tr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everlasting lif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я вам гово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радост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iniquities on Him were l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indebtedness by Him was pai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who believe on Him, the Lord h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everlasting lif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Себя грех мира возло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олг души греховной заплат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ily, verily, I say un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ily, verily,” message ever ne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hat believeth on the Son,” ’tis tr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everlasting lif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я вам гово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радост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poor and needy, I can trust 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weak and sinful I believe 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glad message! Every child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everlasting lif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ищ, но полагаюсь на Н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аб, но верю слову я 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дети Божии имею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ily, verily, I say un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ily, verily,” message ever ne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hat believeth on the Son,” ’tis tr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everlasting lif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я вам гово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радост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all unworthy, yet I will not doub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m that cometh He will not cast 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hat believeth,” oh, the good n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everlasting lif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достоин, но сомненья н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риходящих ждёт Его при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ily, verily, I say un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ily, verily,” message ever ne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hat believeth on the Son,” ’tis tr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everlasting lif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я вам гово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радост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29Z</dcterms:modified>
  <cp:revision>14</cp:revision>
  <dc:subject>Slavic hymnal Гимны веры христиан, hymn 635</dc:subject>
  <dc:title>Verily I Say Unto You (Oh, What a Saviour, That He Died For Me!) / Спаситель за меня в могиле был</dc:title>
</cp:coreProperties>
</file>