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32F-0764-4402-86C1-B13B2B05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285-8919-4F5D-B3C6-BB2BC55C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A39-870D-42B7-8308-7FE79049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EC6-42EE-4C5A-ABAF-56051081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CDB-FECA-4074-8FAD-DBA29595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B9D-9D89-42D1-8F2B-1949967E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4C1-6826-4B92-B43F-66F1AFCC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F73-E5F6-4110-8AF3-E576151A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D57-34E8-4D53-8B13-BFC5AC26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25A-2502-4B1E-95A8-144E652B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ED2-6BB0-40A6-9A67-76BE976C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8B7-4CAB-4630-AC5B-F6B41DF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B2363-7D7A-40C5-86D9-A4810D44E9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ень желанный, день блаж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нам тот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торый дух наш освящ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вечный ко Христу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гу песнь, не умол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, там слышно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сем Своим блаженство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ит Божь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день жел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 — зреть Его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с Ним в любви 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здесь любим Он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ст блаженство там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лике душ, Им исцел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петь будем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ю огражд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и ввек не огорч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ши песни в плоти т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 земной нечист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Он, Творец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 сияньи кра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душою освя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оспоём мы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и песни вдохн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 Богом славы съедин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41Z</dcterms:modified>
  <cp:revision>13</cp:revision>
  <dc:subject>Slavic hymnal Гимны веры христиан, hymn 682</dc:subject>
  <dc:title>О, день желанный, день блаженный</dc:title>
</cp:coreProperties>
</file>