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3E7C-AA8A-47A0-A2A5-80E8C320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814A-6943-4956-9F22-F467341C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DE9F-F29F-47BE-8B42-B0D5AAB3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D27-D39D-477F-91DF-19BB38D5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56D9-A0DD-475E-95F8-2820730D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A9AB-F861-4703-8426-6DA463FB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0D5F-1A88-419D-A788-D642D97E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DFB-8486-432D-A11C-F8AF57A3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EB6C-4D5B-46E2-96D0-4A65E954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50A0-4DD7-487E-9F09-BF7C7E15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393B-0DA2-488E-9825-2E2934CD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AD7-D794-4357-B155-82296881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BD31B-DD64-4C0C-A8BC-976B6D5978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у жертву віддав там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сія лиш правди людей науч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дужих зціляв, за що так постраж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там всі муки терпить до кін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агне, ― а оцет Йому под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 Його уст води живії теч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2   Зійдім на Голгоф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в любові благає Тво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ти їм, не знають, що чинять Мені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ва молитва знялась від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чуєм Ісуса слова до Отц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оже Мій! нащо Мене залишив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любі друзі, то за вас Він терпі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вже ж не зворушаться наші серц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вершилось! Я Дух Мій Тобі віддаю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нас Він пожертвував душу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9:53Z</dcterms:modified>
  <cp:revision>16</cp:revision>
  <dc:subject>Slavic hymnal Гимны веры христиан, Ukrainian hymn 22</dc:subject>
  <dc:title>Зійдім на Голгофу, друзі!</dc:title>
</cp:coreProperties>
</file>