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586-12C1-4C25-9BD7-833437FA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E40-6F7D-49EA-9627-4D0A4C2B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F80-B71F-4103-A78F-3B15D102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43F-BE79-4B5B-919E-9FFFB894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B5A-9EAB-418A-8727-7846DE9A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919-44F0-421C-A827-99820A1E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E34-4344-483C-9E54-7037F524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03D-0897-409F-B258-8C27AE19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A17-04CA-4E27-B930-B2769871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800-C4C7-455E-ACBB-942558CE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2B7-CBF6-4351-9B2B-62A64055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E05-7DC6-41E2-873E-57FC7A6A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32448-BA11-4731-B418-C011115357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дружнее, брат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туда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т слави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скоро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сердцам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 Христа не 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ой тот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перёд дружнее, брат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, в небе ждё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есть наш светильник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переди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ть наш на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кою средь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споду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ится впол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будет с Ним прослав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ещан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, в небе ждё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наших брат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ится уж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у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ан покой сердц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там же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орже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в мире плак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нам уны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, в небе ждё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29Z</dcterms:modified>
  <cp:revision>12</cp:revision>
  <dc:subject>Slavic hymnal Гимны веры христиан, hymn 687</dc:subject>
  <dc:title>Вперёд дружнее, братья!</dc:title>
</cp:coreProperties>
</file>