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DC6-687C-49E1-B333-97870CF1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170-DB2E-4898-9FA3-B156D912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A6B-4E04-4E8E-95F5-3C354064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EF5-855C-4251-9950-2C72D869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CD7-7BF5-4631-A368-14A2D37B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5E1-D86C-41D3-ACF2-A1944D8C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F3D-294C-4443-8681-61BAD1BD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568-9390-43CC-B2E3-D443EC86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ADA-256A-4D1F-9D0F-621053E3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F85-FC28-452F-A8CD-1DCE0873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047-193A-4BEE-9510-636B74D1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DC2-DC21-4B71-89FC-7983449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2AF96-794C-470C-9E86-6322DB6859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ю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равду впов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3   Бажаю теп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му я, співатим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маю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лачу і я, заплачу і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щастя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равду впов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17Z</dcterms:modified>
  <cp:revision>14</cp:revision>
  <dc:subject>Slavic hymnal Гимны веры христиан, Ukrainian hymn 103</dc:subject>
  <dc:title>Бажаю тепер сказати Тобі</dc:title>
</cp:coreProperties>
</file>