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619-A76E-4415-9632-7AA554D1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9C8-4A62-418D-AE89-641C422B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A8B-AA9B-49AA-936B-18315E6F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F0B-4B88-4EF0-A7B6-2B0DDE6C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C27-D907-4235-8A62-3E08B47F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C624-6F6C-4AAA-850D-DB294022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A7B-7125-44F1-B716-3496707A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29A-E480-4509-BEFD-7CB33679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08D-0916-44C0-88B1-F7AD4508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2E4-D00B-43F1-9F8B-4D360F6C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E36-3E61-482A-A068-752E34E7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112-7351-4F41-B93D-F9B7E94F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3A5F7-5349-461B-9C51-72C54A8EAA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you any room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bore your load of s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ocks and asks admi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s, will you let Him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ли место Иису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ли место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ею кровью мир омы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 к тебе ст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pleasure, room for bus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Christ the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place that He can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heart for which He d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ам, и вес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ты да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мершего за грех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оттолкн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you any room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in grace He calls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oday is time accep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morrow you may call in v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отдашь ли Иису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е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то день после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ьше Он не будет 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and time now give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ill pass God’s day of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y heart left cold and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y Saviour’s pleading c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же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ердце всё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с замолкнет благода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уж не будет 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0Z</dcterms:modified>
  <cp:revision>13</cp:revision>
  <dc:subject>Slavic hymnal Гимны веры христиан, hymn 350</dc:subject>
  <dc:title>Have You Any Room for Jesus? / Есть ли место Иисусу?</dc:title>
</cp:coreProperties>
</file>