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05</a:t>
            </a:r>
            <a:r>
              <a:rPr b="1" lang="ru-RU" sz="3600" spc="-1" strike="noStrike">
                <a:solidFill>
                  <a:srgbClr val="ffffff"/>
                </a:solidFill>
                <a:latin typeface="Verdana"/>
              </a:rPr>
              <a:t>	</a:t>
            </a:r>
            <a:r>
              <a:rPr b="1" lang="ru-RU" sz="3600" spc="-1" strike="noStrike">
                <a:solidFill>
                  <a:srgbClr val="ffffff"/>
                </a:solidFill>
                <a:latin typeface="Verdana"/>
              </a:rPr>
              <a:t>О, образ совершенны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образ соверше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ви и чисто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Царь смире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ер мой вечный —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лик в венце тернов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душой взир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делами, слов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лишь подража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Хочу Твои слова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в жизни повтор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благословля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рагам моим прощ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за них моли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молил о н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как Ты, смири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и сынов земных.</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о всём хочу Тебе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подраж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мне всего миле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лишь пребы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в Тебе одет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дить в Тебе од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иден был везде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Ты сиял кругом.</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В Тебе пребыть жел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хочу прильн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лучше, умоля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Сам во мне пребу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моё созн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полнит образ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Твоё созд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век сольюсь с Тобой.</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Тогда уж не порыв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каждый миг зе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общении счастлив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уду жить с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светит «неземно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аружи и внутр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гаснет «я» плотско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лучах Твоей зари.</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0:05:32Z</dcterms:modified>
  <cp:revision>3</cp:revision>
  <dc:subject>Slavic hymnal Гимны веры христиан, hymn 105</dc:subject>
  <dc:title>О, образ совершенный</dc:title>
</cp:coreProperties>
</file>