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4CEE-F386-4B50-A6F4-B12CE23A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6B2-8368-44A8-AA02-131CF0C3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8A85-C057-4E47-86F7-10B54D83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87B-036B-44A7-8CD8-E3577B87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599-F321-4181-87CD-825A059F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4EE-CA75-4B4B-99A9-6CC96612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18F-1EF9-4D26-9612-EC7A28EA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7D94-E81F-42B1-BACF-37477C3B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15A-84FC-4CF6-9DE8-D4076A7C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980-8EEA-42C2-8A91-A8CF8F10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CAD-4C25-4456-ABC1-43007380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DA1-C32B-4A8A-845B-3EE2BEA9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CFF0A-F9A5-4588-A03F-9CB10B5293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my life, I crown Thee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shall the glory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thorn crowned b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чальник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ьник жизни, Пастырь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во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я подвиг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Gethsema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ine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 me the tomb where Thou wast l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nderly mourned and wep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in robes of light arr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arded Thee whilst Thou sl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 мне новый гроб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мученный,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нгела, что с выс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лся сторож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Gethsema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ine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, like Mary, through the g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with a gift to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 to me now the empty to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, как жёны на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есть дары мо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ры луч во мне го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Gethsema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ine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be willing, Lord, to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ily my cross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Thy cup of grief to sh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borne all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очу я подра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крест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шу скорби прини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шь мне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Gethsema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ine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4:18Z</dcterms:modified>
  <cp:revision>13</cp:revision>
  <dc:subject>Slavic hymnal Гимны веры христиан, hymn 430</dc:subject>
  <dc:title>Lead Me to Calvary / Начальник жизни, Пастырь мой</dc:title>
</cp:coreProperties>
</file>