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0F2-47DF-4DCA-AF0B-AD820372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B5D-8694-44B6-92BA-B83615CC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B38-C9C5-425D-83D3-1C51ABD8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278-E7C4-44FE-B1AC-6377B467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7B3-274B-4403-B6A2-5DB41B00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407-0830-489A-A71C-88975F32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85C-0A34-4504-A743-F466401F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073-86DE-49D7-AA9A-35041D6B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E73-3268-4D23-8256-8FD35410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0E1-86B3-4CA7-89D9-798473DE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4AA8-918C-4B68-B31B-0E919C8A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D6C-F228-491D-BB91-91347C52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3B259-2CC7-48EE-87E5-5745D0D2EC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look into Your hol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gaze into Your lovel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ll things that sur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ome shadows in the light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Твою взираю святость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вою взираю святост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вою взираю 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свете всё мерк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е не ман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’ve found the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reaching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will becomes enthrall’d in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ll things that sur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ome shadows in the light of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я в Тебе нашёл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воля стала волей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свете всё мерк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е не ман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eason I live is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eason I live is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Тебя, славлю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 для того, чтоб хвалить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Тебя, славлю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 для того, чтоб хвалить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17:54Z</dcterms:modified>
  <cp:revision>11</cp:revision>
  <dc:subject>The Source, song number 571 in Russian</dc:subject>
  <dc:title>На Твою взираю святость я / When I Look Into Your Holiness</dc:title>
</cp:coreProperties>
</file>