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D99-B8B4-4E9E-9D0A-F670CD3D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076-B624-4533-B0D6-A9488B7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2C4-4AFB-4562-BF57-B5B1601E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4FF-390E-4836-976E-BFFE4ABB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17B-31C2-4EAA-934A-FBFC0D1F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76D-8E21-4AD6-857B-823A07E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804-FAF5-4877-A875-C77FD49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941-81B4-4CC0-9B08-7C6C0BF8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30B-8C72-4E41-BA4B-F0F865D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A9B-B75B-4901-848D-DDA8BFA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773-FE7B-49AA-B6FE-1CDA5A3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7B9-BA25-464C-AF12-D197674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FBAB0-70A5-49DB-ABDE-CE175741C6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со всяким ку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лядя на робки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быть перед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а не боятьс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руду ведь я призв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не любовью мир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же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, не щадя Сво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Себя муке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ин небесного 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авы не надо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лёзы, печаль, посрамл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58Z</dcterms:modified>
  <cp:revision>12</cp:revision>
  <dc:subject>Slavic hymnal Гимны веры христиан, hymn 452</dc:subject>
  <dc:title>К труду ведь я призван на землю</dc:title>
</cp:coreProperties>
</file>