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199-850D-4CCE-B5C9-B22C0850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2CE-D966-4737-BFDF-3FDF9BED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727-26EA-4743-BBC3-CF8F85FE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6B2-49AC-4A9B-8CF9-558D7866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50D-CF75-432C-B109-2244F22D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467-FFA9-4767-9654-8BD01088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1F4-14D5-4911-99EC-83175527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B53-FA26-42D1-B9F8-B78635CA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510-D8BC-4D58-85D3-C4D79BB3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6FA-F0CC-4952-8688-1D09001C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1C0-560B-4BFA-988A-81EBED6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D1C-0033-4DCA-8373-A1A2CF73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8EE51-8B29-4149-9C71-428E64EC15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вер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их люб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креп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все учись сч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о не гул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ближним помо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ших под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не отх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ом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спода пр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для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31Z</dcterms:modified>
  <cp:revision>12</cp:revision>
  <dc:subject>Slavic hymnal Гимны веры христиан, hymn 544</dc:subject>
  <dc:title>Труд в жизни для Христа</dc:title>
</cp:coreProperties>
</file>