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855-1C0B-4F86-A586-4AF7CF7B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F2B-6A61-4E48-BE01-83607FC8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7DD-6813-4B4A-8CCF-16D8554C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9FA-4F36-41E1-8CEE-1037E4F0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6DE-0FA1-4FEF-9A09-A2394EF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E12-4ED8-4DCA-8B64-9E48DB6D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360-701C-4911-86CB-F77287D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9E4-DC35-414C-8C56-3B0337B9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40B-A5D8-4FDC-9A02-2A01FA8F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D54-F69E-4365-87ED-0864189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231-1E6E-4841-BB99-330E5B8B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9E5-A4B9-40B1-A914-5C874713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C8EA0-7CEE-49E9-9D87-06B3C4B6B0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, kindly Light, amid th’ encir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om,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ight is dark, and I am far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;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свет, 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, веди чрез мрак гу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а ночь, далёк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Thou my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o not ask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istant sce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tep enough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от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со мной пре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not ever thus, nor pr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shouldst lead me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d to choose and see my p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ным. Тебя я не про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ди ме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луждать. Теперь же я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d the garish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spite of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ide ruled my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 not past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е раз с пу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дился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п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ong Thy power hath bles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t still will lead m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or and fen, o’er crag and torr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e night is 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рука мне в жизни всё да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, лишений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 the m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angel-faces sm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I have l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since, and lost awh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лица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злучила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3:04Z</dcterms:modified>
  <cp:revision>12</cp:revision>
  <dc:subject>Slavic hymnal Гимны веры христиан, hymn 824</dc:subject>
  <dc:title>Lead, Kindly Light / Небесный свет, веди чрез мрак густой</dc:title>
</cp:coreProperties>
</file>