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FDD-53A7-4148-8B7A-1ED09B4E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682-B2A8-4BCD-ACA6-00F6ECCC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B04-B5E2-4909-9A69-824AC03E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433-3A02-42D2-B3B3-2BF3CF91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1EC-547F-4406-BC15-3938BB6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BF3-F18F-472E-9B6B-666C621C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D1B-E5F5-4A9C-8A38-DD42CF94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19C-4A06-4D87-B71D-292DE975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FA7-8830-468D-B46E-019DEE8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437-E0A0-4D19-AA72-26C8FD07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614-5C9B-482C-B1A4-D33B1AE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9EB-2AF0-44FB-876B-80E44CF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19AF9-261C-466D-8276-0A32F0CD12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we have heard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singing o’er the pl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ountains in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ing their joyous st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, к нам весть дош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к нам весть д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вучала над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Христова Рожд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я мир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pherds, why this jubil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r joyous strains pro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gladsome tidings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inspire your heav’nly s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что тешит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ет торже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ите нам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ладенце не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Bethlehem and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 whose birth the angels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dore on bended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, the newbor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в Вифл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ться Богу с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небесный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ithin a manger l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ord of heav’n and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y, Joseph, lend your 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us sing our Saviour’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ных яслях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ладыка всей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руки прост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к Нему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8:17Z</dcterms:modified>
  <cp:revision>12</cp:revision>
  <dc:subject>Slavic hymnal Гимны веры христиан, hymn 879</dc:subject>
  <dc:title>Angels We Have Heard On High / Ангелы, к нам весть дошла</dc:title>
</cp:coreProperties>
</file>