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30B-A899-4D77-B4AF-118948FB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A52-041B-4559-AF25-3BA1042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8D9-64F1-420D-9A13-0E885A75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920-14E8-41A8-8EFE-B8E7B053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633-C002-47EB-9CB7-D3793264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166-F545-4B65-A9AD-0B39A3A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91F-A779-414A-A62D-EAF9810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58A-2C8F-41C6-94B2-E3C00D2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3DA-C5D5-43CC-B074-069E5BF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89C-A314-4735-AD17-01650D4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A19-CEBE-49A4-BFF1-FC36969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6F4-4B28-4A66-A045-F7F5581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4AF8D-D620-4EDB-8C91-C6AC926072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23   Добрый наш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6-06-08T20:35:32Z</dcterms:modified>
  <cp:revision>13</cp:revision>
  <dc:subject>The Source 3, song number 1223 in Russian</dc:subject>
  <dc:title>Добрый наш Бог / God Is So Good</dc:title>
</cp:coreProperties>
</file>