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46D-0688-4F2C-9589-64DC12B7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42B-3A5D-43E5-A28B-578325BC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BF2-AEDF-414C-AFCC-FEA75657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4E0-8676-4A53-97B9-E86351A1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3CF-B81F-4C2A-8E84-47FB015D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EA4-3197-4A63-A2D3-28C7F90A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60D-73EB-4FBD-8DDF-E59B69CC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0C17-50C3-4467-997F-9787D995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EA8-AF86-4135-9644-55C0145D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F3A-B407-4087-A652-51561C90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604-C68C-4A93-AAA5-99CEE716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BE1-22D5-48A8-A855-DB264417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8E7B9-703D-4FBA-99AD-B5EBD4BE19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the name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the name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my rock, He’s my fortr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my deliverer, in Him will I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the name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3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Praise the Name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0:22Z</dcterms:modified>
  <cp:revision>10</cp:revision>
  <dc:subject>The Source, song number 435</dc:subject>
  <dc:title>Praise the Name of Jesus</dc:title>
</cp:coreProperties>
</file>