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BDE-F52A-4115-8D77-D8C8853F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501-77B5-4046-8525-66D95511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C55-26AA-4DB1-961C-ACE7FB10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649-EEDD-4EB3-89BD-166E43D1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0B4-8A07-40B7-B1F1-D248AE53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91D-5090-4673-B9AD-2B1DA53A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483-86CD-42C1-9F12-F625FAC0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3784-1473-41A2-AD05-A15A579A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3F1-FCE5-423F-8ABE-F8DFB73C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A28-DA3A-4106-A3C0-3B37F249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A5B-3842-4C1B-B2AC-9D849C4A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AA5-6885-42EC-83F6-1163BA0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C77BB-0B56-463C-8076-09FD8033BA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 Христос ли я и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ин ли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ться ль мне встречать вра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дится ль мне 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а Христом ли я и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ль на небо понес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укете пышных 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гие в бой и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ют потоки слё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вижу ль пред с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ль призыва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е спешит ли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мить Господень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бедить, иду я в 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дай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но всё перено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06Z</dcterms:modified>
  <cp:revision>12</cp:revision>
  <dc:subject>Slavic hymnal Гимны веры христиан, hymn 793</dc:subject>
  <dc:title>Не за Христом ли я иду?</dc:title>
</cp:coreProperties>
</file>