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680-3522-49E7-B4A6-3C48F777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82B-5379-44A0-9838-CA2F79E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1CC-BB0C-44A8-80B0-E9C2D69A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49E-5615-437A-9735-DA46556F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DD4-269A-49F9-9E5D-694C497F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570-FD6F-43F0-8AEA-25F3C341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593-7A68-4497-951E-5D0DD7D8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A2B-C3B6-4595-BC54-BC1170B1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175-E866-4751-8DC6-29140813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0CE-5264-4677-BC49-CF33C29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08E-987F-475C-8A40-BD8CC60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935-927D-40E5-99D0-AC80A4D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9B8B-FDAF-4414-877A-C31ED93CC2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29Z</dcterms:modified>
  <cp:revision>12</cp:revision>
  <dc:subject>Slavic hymnal Гимны веры христиан, hymn 822</dc:subject>
  <dc:title>Восток горит зарёй</dc:title>
</cp:coreProperties>
</file>