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D33-6D9C-4D87-9FB5-468B08D2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C23-61D1-4505-A780-5D1CBA90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2F8-555A-4875-85D1-DA3104C8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CD6-AE2D-4136-81AF-2F574D40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906F-A91D-41CE-A658-EEFEF910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7D2-70E7-4F8B-8C91-983C8EAA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88A-77D6-4E8C-B2F3-5070B247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EBB-E47C-4CB7-815E-91E9B1B2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BF6-86D5-4473-845C-22B76268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780-E5BA-46F1-8A41-6AB46C22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0D3-04CD-49A0-A0A6-447E2F95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E36-6DF1-48C4-A1CE-05813733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CBE8A-D3F4-4603-97C5-28174EC14C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т зарёю свод небе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паситель мо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рак рассеял, грех поп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, и жизнь мне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и дня лишь Искуп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лощён той смертной ть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етий день гробницу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рг, и грех был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рит зарёю свод не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тель! Нет врагов та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сразил Ты власти 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амень и с груди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инешь силою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и дня лишь Искуп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лощён той смертной ть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етий день гробницу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рг, и грех был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Он! Что ж мне уны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меня пришёл спас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покинет мир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о мной, и счастлив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и дня лишь Искуп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лощён той смертной ть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етий день гробницу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рг, и грех был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Он пища, мой Он щ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ру я, Он меня приз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надежда Он и 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стремлюсь всегда отс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и дня лишь Искуп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лощён той смертной ть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етий день гробницу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рг, и грех был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, и я прощ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гом с Богом примир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царству вечност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, от гибели хра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у любовь и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мы будем прослав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, и там, когда в сво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в обитель примешь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8:32Z</dcterms:modified>
  <cp:revision>12</cp:revision>
  <dc:subject>Slavic hymnal Гимны веры христиан, hymn 289</dc:subject>
  <dc:title>Горит зарёю свод небес</dc:title>
</cp:coreProperties>
</file>