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1EF-4F8A-4639-8490-B33D91C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885-76A5-4741-98E0-2F45AAF0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61E-B584-4815-915C-F2380834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2CB-72D8-468B-AE2C-5D3F264F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515-919C-4436-A582-C3133BC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68B-5ED3-4036-88B1-F900DD6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B96-FAAB-4033-A383-0DCEFD6C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F74-80C7-4720-B050-5F2E549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C53-DF81-40B9-BCBD-7B6004E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F58-0B4A-4AE6-9F10-923FE1C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EAE-0382-47E1-91DE-E3498F7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53C-09ED-495E-86EC-78A3850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5F5C0-F5E0-496A-8CD4-9C42FEFB1F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! Тобой, как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ился обл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аждало, прос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арок,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ленья были тще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как прежде, бе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, как Друг за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за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! Тобой, как сил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един с Отцом и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ей души Т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будет властели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ь иль ты, земной го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я в раска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мирясь, молись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вой Царь, прид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обою обла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руди зажёгся пл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я, трепетом ды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аял в сердце к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а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о себя все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,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Царём души и 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ерди в них власть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л я в те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Вечное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нял венок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радостей кольц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ех пор Он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как Друг, в беде лих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чали под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итель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читель, на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истин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анитель, изб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ой насту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ходит в тот же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 мой 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бед Его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1:06Z</dcterms:modified>
  <cp:revision>13</cp:revision>
  <dc:subject>Slavic hymnal Гимны веры христиан, hymn 303</dc:subject>
  <dc:title>Дух Святой! Тобой, как силой</dc:title>
</cp:coreProperties>
</file>