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D42-19BA-4E13-9041-E69B7D08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A4F-B181-4A76-9D5C-A8693F7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1BF-3521-439B-BD2E-5BD1BAF3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050-6ECE-4B72-8C31-0135A8EE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55D-948B-4D34-8C7C-D47DF371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616-14AF-4704-BF13-C924B696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CFC-55CA-4B5A-96BD-76A1F4A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0D7-962E-4D0A-9B9E-5770219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671-904B-49B3-BC71-05AB364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CCD-F30A-4452-B372-F57BCCC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007-42E3-4C6D-8033-FCA61AB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DE4-3133-46D2-B46C-2AECAD5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DC51-FC35-4FB4-801B-C6A4BE1744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e voice of Jes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go and work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s are ripe and harvest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ar the sheaves aw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and loud the Master cal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reward He offer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nswer, gla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cross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istant lands expl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find the lost ar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help them at your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give your thous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give the widow’s m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you truly give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precious in His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speak like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preach like Pa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ell the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say He died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rouse the wick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judgement’s dread al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lead the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aviour’s wai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ne hear you i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thing I can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lost of earth are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aster calls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task He gives you glad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work your pleasu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swer quickly when He call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8Z</dcterms:modified>
  <cp:revision>13</cp:revision>
  <dc:subject>Slavic hymnal Гимны веры христиан, hymn 541</dc:subject>
  <dc:title>Hark, the Voice of Jesus Calling / Слышите ли Божий голос?</dc:title>
</cp:coreProperties>
</file>