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A93-7141-40D3-BD47-1DFDA573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74A-FEB6-4D90-B5CF-7E45FA2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BAB-5224-4B84-932B-ABC6E81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2CE-B82E-45C7-A585-C9550493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0DE-84C8-4D30-92C4-A692FE65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16D-FCCC-44F1-91E4-6B38E2AA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505-CD3A-40AC-B79D-60F70BF7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5EA-5778-4DA6-A04A-0806B5D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C48-AFC6-4268-9FF3-707043F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A0A-A170-4DFD-9F38-DAA2085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DE4-B157-4409-A3C2-3A08756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DF6-07B0-41B5-8A29-3D3D673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5CF2B-7116-4662-8247-7301AAA6B6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Христом бодрее в путь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радостен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я стремлюс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реки, чрез моря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я поднимаю вз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Христом бодрее в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меня средь тёмной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ждает при восход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Он мне отирает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н мне посы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 Он всегда нужд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ильем благ меня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пути со мн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зовёт меня в послед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вечной вновь проб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21Z</dcterms:modified>
  <cp:revision>13</cp:revision>
  <dc:subject>Slavic hymnal Гимны веры христиан, hymn 618</dc:subject>
  <dc:title>Со Христом бодрее в путь пойду я</dc:title>
</cp:coreProperties>
</file>