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8BB-24C5-4BD3-8A8C-AE0108B9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86A-3E35-43CE-B6C9-33CDDB9F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6FE-AF14-4E7A-A671-22C1F371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5B2-8B55-4862-9DB6-B2EE6554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064-4AAB-4DDB-A12F-BD2ADF18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2EF-0002-4E42-AE13-590663E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25B-3C17-4997-A258-0F57FB1E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99A-5CA5-4B69-BD9A-CC0ADC43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840-D972-4CEB-8FF2-3014A1D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3BD-7E26-4556-B41A-ACEDB24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E87-4231-4081-BB6F-7A58036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379-03F2-4378-AA25-FB5F88D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BCFE2-E6F5-4C33-862B-06F9EE7B05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in a hu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e need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all our cares and wo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ay aside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to see Your f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for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9   We W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afraid to ta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yearn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for Your mighty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arry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fill this house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holy fire fill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, we wait, we wait, we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47Z</dcterms:modified>
  <cp:revision>13</cp:revision>
  <dc:subject>The Source 3, song number 1599</dc:subject>
  <dc:title>We Wait</dc:title>
</cp:coreProperties>
</file>