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D73-181F-4758-9D69-3244BCC4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F36-E1A1-4B1D-9A78-324DC6D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D20-F992-4D63-ADAB-99645E01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331-2382-4A5E-99F6-43CAB3DF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C64-C9A2-45A4-98DA-7AB7104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4B0-245A-4CC8-BD39-232B257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BE8-DBF9-42FC-8EFE-AB4A4A3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FAD-D0E2-4D92-AC38-D8302E6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249-E312-4EEC-AAB8-774ABE2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D79-E54D-43B9-B632-6E11128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2A4-BDD2-4D94-A161-89E23FA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BE0-D2B5-4621-8EF4-20B1D88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DCE7F-707D-4BBB-973F-621175CFCF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на битву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я и смерть мы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мира награды не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сём избавленье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ёрдой вере — победы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йдём чрез огонь и чрез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с нами Господь наш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оины 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жаждем почёта 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риятно в святой прост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ценою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на Голгофском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 Он готовит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верным за все их тру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приди, в небе каждому 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ойти в наши р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38Z</dcterms:modified>
  <cp:revision>12</cp:revision>
  <dc:subject>Slavic hymnal Гимны веры христиан, hymn 485</dc:subject>
  <dc:title>Братья, воины рати Христовой</dc:title>
</cp:coreProperties>
</file>