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F22-6576-41C1-AB9A-788FAD77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A11-C467-456C-AC6D-5624B79B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0EC-7425-432D-BE3D-DD496B71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751-6334-46E0-892D-65603C88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6D8-EBEB-49C0-BD53-FA6627B9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A29-926E-465E-9DC6-1DD16EF4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F88-CE06-47A3-82C7-FC44FEFD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7DF-7FEF-4FCB-8D78-6347FD7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DB8-74C5-4BD5-9427-2799F0A6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E4D-67C6-406A-9F3A-2FAD341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037-A8E4-4B79-B91D-892BBE7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53D-CB43-4C3B-A9CC-6A80395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D0F02-099E-485D-9450-F9C12286DF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a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pirit of the Living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06Z</dcterms:modified>
  <cp:revision>10</cp:revision>
  <dc:subject>The Source, song number 463</dc:subject>
  <dc:title>Spirit of the Living God</dc:title>
</cp:coreProperties>
</file>