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84A-3DE4-4198-8140-F99647AC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D43-4511-4C95-A90D-7FDED84F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9EA-A544-418E-B0BD-93C99563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F14-9EBB-4500-B441-2DAC8F96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E49-666D-4150-9C78-754B937A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DAC-4B32-45F7-B8D6-82BA40BE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C4F-0096-457E-8261-D679FBAD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8FA-BB2F-4980-B986-E0AF5D5A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728-ED11-4E3E-B49E-DB61A96B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C35-2042-4864-AFE4-45C3204B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FC7-1821-42BD-8B5C-A45407B0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59A-08A0-4BB5-ADF4-0CDE205C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BB8D2-82F4-4830-AAFC-A6ED3A5F8B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огонь с небес свящ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озносим дар смир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низойди к мольбам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м нас Духом Ты к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бещал, то совер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огонь с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лии, внемли мол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святи нас на служ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усть Он сердце возр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в нас сот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е пусть всё с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м холодным и беспе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Ты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 любовью бескон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и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ражью силу поп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вято жить и ум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благодать Твою являт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лым, твёрдым быть в служ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мн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спасать, о, дай мне рв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мн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й алтарь слага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всё моё, прим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 прославить лиш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мн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8:36Z</dcterms:modified>
  <cp:revision>12</cp:revision>
  <dc:subject>Slavic hymnal Гимны веры христиан, hymn 300</dc:subject>
  <dc:title>Господь, огонь с небес священный</dc:title>
</cp:coreProperties>
</file>