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CFBB-DC8B-491B-8E78-6F59F033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C121-BBDC-4FEF-942E-08EFFC1F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4589-211F-4B2A-97AF-72FC262F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A3EE-5FF6-4AD6-ABB7-C194CB95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AB66-16D6-49C2-B6AC-9BCA8F6A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C5C3-B978-42CE-B827-A19F4CF1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DA5-E402-4893-8F4B-CFFAAE51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982-3441-48DD-8CFB-27991202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D9DB-05E4-4FD7-8D79-38137E90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3976-C840-4A07-AEDA-97730D9D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5E01-1876-4642-9197-70D88392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14C5-F444-43A2-BB58-81AD981E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25A18-64DE-45F4-9A53-90E837E5D0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без дел, без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вши с радостью Твой з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верою в свят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не смея ж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то меня мог оправ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познавши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9а   Таков, как есм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для всех чуж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мненьях, страхе и боль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итый бурею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увидел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любовь Тв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й Отец, моя сем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путём жи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й проложенным, прям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бы навеки быть Т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6:35Z</dcterms:modified>
  <cp:revision>12</cp:revision>
  <dc:subject>Slavic hymnal Гимны веры христиан, hymn 479 (as amended)</dc:subject>
  <dc:title>Таков, как есмь</dc:title>
</cp:coreProperties>
</file>