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1E1-8E0C-44BB-AB77-63DB5EEC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983-7A1C-4745-899F-69A03E30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F8E-AF8E-42CE-91C0-85ED76CE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135-5767-43B0-AC32-CF412C9D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E94-B40A-49A7-A081-B9703861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552-EAF3-4866-870C-EB7E7F75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9C5-5FD5-4CF3-BA69-EDCF5C98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155-357E-4990-9C84-59894031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8C7-60E5-4A07-BD9D-CE8AB801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785-4C32-4B38-88D4-EAFDAE69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50A-7D70-4446-A66C-810998E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C4A-5C39-4DE9-8516-25FAE9C4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53401-B3D7-4EAE-8EFE-9950E37615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righteous, 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righteous, 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could not hold Him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ri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up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   Blessing, Hon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48Z</dcterms:modified>
  <cp:revision>10</cp:revision>
  <dc:subject>The Source, song number 55</dc:subject>
  <dc:title>Blessing, Honour, Glory to the Lamb (Glory to the Lamb)</dc:title>
</cp:coreProperties>
</file>