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6A9-6304-46ED-A0E2-3DEA62D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EA4-7A16-4C9E-98F4-5C6F122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F4E-4859-4E46-A7A3-0B830125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979-11B7-4902-95DA-BD13F628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BA4-2EFA-41DF-BA02-177289B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998-7111-40BC-9389-96D50258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37E-7480-4384-87E4-B697077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586-3E13-4DF0-BF77-7B3D618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51B-0C6D-42AE-941D-465766B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BDF-494C-41DB-963B-2B98F0E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CAA-290E-4E99-BCC1-9E41BA8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B46-65BE-4E63-9727-32C201F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CF14-7E8B-4A75-90D4-705D3A585C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асла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могу ль тебя об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угие в звуках п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мне привет сла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 верными общ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лучше буду зн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станет песнь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льётся там ре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нет необъ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слышу голос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Христа, в тот день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там тебя ис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там повстре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обнимет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сточник засия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шь ли меня ты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17Z</dcterms:modified>
  <cp:revision>12</cp:revision>
  <dc:subject>Slavic hymnal Гимны веры христиан, hymn 684</dc:subject>
  <dc:title>У источника спасенья</dc:title>
</cp:coreProperties>
</file>