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FF6-68E7-4401-A781-37EBD1CE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D3F-9E4C-4F43-9D73-36E2AC1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4D2-8B82-43DB-B407-5329EE55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097-6BAF-4C61-B978-57DBC294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D36-690D-419A-B8D6-41283459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48E-1014-4056-AE0E-FF1ACD1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F35-D5DC-461E-8731-130D73A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A66-F798-4046-BBEE-E7AD9B6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6B6-06F1-4309-9A90-8CC1C1C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79D-9C87-4CE6-8845-794F4F9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D33-68E0-4D2F-B0B6-70CCC87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F63-C9AF-442C-B03A-DA2AF6E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42681-DB35-47DD-8C19-7AD1520E84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4Z</dcterms:modified>
  <cp:revision>13</cp:revision>
  <dc:subject>Slavic hymnal Гимны веры христиан, hymn 691</dc:subject>
  <dc:title>Sweet By and By / Издали нам сияет страна</dc:title>
</cp:coreProperties>
</file>