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5153-9E15-4974-AFEA-4EC6A1F3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255-C0A7-412B-BF95-C346C4C9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FC3B-F6B8-43E1-9122-9F882B08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60B8-185A-4C83-A229-62FBDB11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4A6-E0FE-4041-838F-BF5CC57C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EBF-B8DF-4339-AE1E-47D681B9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00B-6BCB-4D41-840B-0D1A2D20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1CB7-1620-4FDF-8D21-F482BA44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C86C-EC20-4F00-9CC2-CEA8C432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860E-5CAC-4E1B-8A37-A1AF8F4C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540-2404-4E02-B75D-C403358E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D52-4934-426E-B517-77F6100F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32D20-A06C-4937-85E3-EBC63A7B23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be as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recious sil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be as g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e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3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Purify My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finer’s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’s one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apart fo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hoos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apart for You, my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ady to do Your w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eanse me from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 m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eanse me from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ep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finer’s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’s one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apart fo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hoos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apart for You, my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ady to do Your w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9:18Z</dcterms:modified>
  <cp:revision>9</cp:revision>
  <dc:subject>The Source, song number 436</dc:subject>
  <dc:title>Purify My Heart (Refiner’s Fire)</dc:title>
</cp:coreProperties>
</file>