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4EB-388A-42D2-B84A-BDAC840B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1BE-4FAC-4F65-A080-3428D1FB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8D0-07F7-482C-8F89-FFEE7A86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C44-CA96-454D-8CE2-2F35F465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426-2E08-4FF2-A7EA-40AC3429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6D6-DDFE-43B0-A591-A996D3C3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744-EC22-497A-AFFE-FDFE6C1E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14E-AB8D-4BF8-B8D6-212202C4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BFD-06CD-4FC7-8483-9699FA7C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FD1-06C6-4379-B1D2-9CF323A8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788-9F5B-43B7-98B0-69BF272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562-72CB-4A72-9628-7081C42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A5C0A-B927-4297-ADD5-1337EFF830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ord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for sure all of my day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d in Your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afted into Your perfec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ый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Господь, чудны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ю я: все мои дн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шь в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х руках, меня хра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gently call me into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ing me by Your Holy Spir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, dear Lord,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life through Your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влечёшь меня быть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Святым мне Твою во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ажи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полнять пом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aptured by Your holy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me apart, I know You’re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 to Yoursel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, Lord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ь Своей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, чтоб быть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я пр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e, moul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se me, fil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преобраз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жизнь свою, Господь, 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me,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, walk bes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рядом буд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жизнь свою, Господь, 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13:18:38Z</dcterms:modified>
  <cp:revision>11</cp:revision>
  <dc:subject>The Source 2, song number 640 in Russian</dc:subject>
  <dc:title>Славный Господь, чудный Спаситель / Beautiful Lord, Wonderful Saviour (The Potter’s Hand)</dc:title>
</cp:coreProperties>
</file>