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E17-8A34-47C3-8C63-5E82858F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2EC-457A-4D52-BDC4-300614FF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15F-9254-4284-98D5-398223F1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4EB-691E-4A7B-B07C-620294A8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746-D77F-4274-A8D4-462C79B8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727-8CAC-4730-B8B9-3E0D264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28F-CE24-426A-B808-567587A1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7F2-E8FC-46C2-B6AC-121E5F51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680-9558-414D-82D8-2EE46D4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7C6-7F5B-44C5-9121-1C0ED61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4ED-8A87-4A4F-949E-32B133FD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B17-927C-445D-90DF-6F057F4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E117D-7CC0-4683-BEE7-12854CC704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’twill be, what joy ’t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uls from sin set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 on earth will all be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’ll be home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1   О, радість, радість б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, радість буд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емний залишим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м в Божий 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ealms of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ill be nothing to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re we still must burdens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we’ll have up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, стомлені, сум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вічні радості кра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тяжко, журно в світ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те спасінн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ee of life will ever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of life for us will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gone our mansions to prepar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we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сте там дерево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м побачим м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нях слави не зем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йме там Сво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does say there’s just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through heaven’s d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don’t chose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ll face an awful f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вузьким нам треба 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 небес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по ньому не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 вічних мук при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hoose Christ,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ears may often mar your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aints in glory you wi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our God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зійдем на шлях ву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живемо час тяж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, в небесах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емо в рідни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onquered death and banishe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’n He’s led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appearance can be near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a glorious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воскрес і щезнув 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, ось, в велич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х, світли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глядає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9:31Z</dcterms:modified>
  <cp:revision>13</cp:revision>
  <dc:subject>Slavic hymnal Гимны веры христиан, Ukrainian hymn 31</dc:subject>
  <dc:title>What Joy ’Twill Be! / О, радість, радість буде там</dc:title>
</cp:coreProperties>
</file>