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459-C374-46A8-8054-E41F50BA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C68-C7A3-4ED8-8A45-338B5DFF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F60-32DD-4520-AD82-3C67890A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8A5-CE15-404F-A695-8C251F0A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AE0-90C6-41E0-9D20-914CE137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897-A1AE-4048-97D4-AAE645B2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220-0779-4288-AEAD-8AE03B1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6F9-A4EC-4164-8DED-41EDE65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DD2-D6F1-4D69-BFFC-FEC2DA9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412-1129-4BC1-979A-56E44F3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7F0-A7F4-41FF-BBB6-1E6FFDA0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506-4724-4414-9CB5-8B8FFF57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A510A-3C70-472F-8008-DF04E04CCB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so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Your unfailing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cross has 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ov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ye has seen, no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heart could full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lorious, how beautifu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34   Wonderful, So Wond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ful, so pow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ighty works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eauty of Your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akes my heart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rvellous, how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pened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nders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ptured my heart with t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nothing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as beautiful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 must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 must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, Beautiful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46Z</dcterms:modified>
  <cp:revision>12</cp:revision>
  <dc:subject>The Source 3, song number 1634</dc:subject>
  <dc:title>Wonderful, So Wonderful (Beautiful One)</dc:title>
</cp:coreProperties>
</file>