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62</a:t>
            </a:r>
            <a:r>
              <a:rPr b="1" lang="ru-RU" sz="3600" spc="-1" strike="noStrike">
                <a:solidFill>
                  <a:srgbClr val="ffffff"/>
                </a:solidFill>
                <a:latin typeface="Verdana"/>
              </a:rPr>
              <a:t>	</a:t>
            </a:r>
            <a:r>
              <a:rPr b="1" lang="ru-RU" sz="3600" spc="-1" strike="noStrike">
                <a:solidFill>
                  <a:srgbClr val="ffffff"/>
                </a:solidFill>
                <a:latin typeface="Verdana"/>
              </a:rPr>
              <a:t>Как часто, жизнью</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Как часто, жизнью утомлё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збитый грозною вол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юсь я с верой умилён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Боже мой, пошли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покой примир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покой утеш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желанный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Боже мой, пошли поко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кажи ветрам, пусть смолкнут бур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лей на волны Твой 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луч отверстой мне лазур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ссеет мрак плотских страст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покой примир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покой утеш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желанный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Боже мой, пошли поко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новь оживи покой созн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я навек спасён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и в минуту испыт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час невзгоды Ты со 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покой примир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покой утеш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желанный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Боже мой, пошли поко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И Он мольбе моей вним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ёт покой душе м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ивной речью обещ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дать покой ещё слав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покой примир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покой утеш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желанный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Боже мой, пошли покой!</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Покой не смерти, не забв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огиле гибнущих век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ой же жизни, воскрес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раю обновленных мир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покой примир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покой утеш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желанный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Боже мой, пошли поко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Покой не мрачного заст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ой в потоке вечных с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полёте ангельского стр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ченьи света без свет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покой примир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покой утеш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желанный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Боже мой, пошли покой!</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7.</a:t>
            </a:r>
            <a:r>
              <a:rPr b="0" lang="ru-RU" sz="3200" spc="-1" strike="noStrike">
                <a:solidFill>
                  <a:srgbClr val="ffffff"/>
                </a:solidFill>
                <a:latin typeface="Verdana"/>
              </a:rPr>
              <a:t>	</a:t>
            </a:r>
            <a:r>
              <a:rPr b="0" lang="ru-RU" sz="3200" spc="-1" strike="noStrike">
                <a:solidFill>
                  <a:srgbClr val="ffffff"/>
                </a:solidFill>
                <a:latin typeface="Verdana"/>
              </a:rPr>
              <a:t>Покой не одинокой клет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ой под звуки голос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ющих Богу в вечном све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у искупленных сын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покой примир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покой утеш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желанный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Боже мой, пошли покой!</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8.</a:t>
            </a:r>
            <a:r>
              <a:rPr b="0" lang="ru-RU" sz="3200" spc="-1" strike="noStrike">
                <a:solidFill>
                  <a:srgbClr val="ffffff"/>
                </a:solidFill>
                <a:latin typeface="Verdana"/>
              </a:rPr>
              <a:t>	</a:t>
            </a:r>
            <a:r>
              <a:rPr b="0" lang="ru-RU" sz="3200" spc="-1" strike="noStrike">
                <a:solidFill>
                  <a:srgbClr val="ffffff"/>
                </a:solidFill>
                <a:latin typeface="Verdana"/>
              </a:rPr>
              <a:t>Покой от зла, его дых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победе вечного добр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ой от скорби и страд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лучах бессмертного утр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покой примир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покой утеш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желанный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Боже мой, пошли покой!</a:t>
            </a:r>
            <a:endParaRPr b="0" lang="en-US" sz="3200" spc="-1" strike="noStrike">
              <a:solidFill>
                <a:srgbClr val="000000"/>
              </a:solidFill>
              <a:latin typeface="Verdana"/>
            </a:endParaRPr>
          </a:p>
        </p:txBody>
      </p:sp>
      <p:sp>
        <p:nvSpPr>
          <p:cNvPr id="4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4T06:05:36Z</dcterms:modified>
  <cp:revision>3</cp:revision>
  <dc:subject>Slavic hymnal Гимны веры христиан, hymn 162</dc:subject>
  <dc:title>Как часто, жизнью утомлённый</dc:title>
</cp:coreProperties>
</file>