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C875-7682-4634-BBBA-32058032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5A38-8328-4A5F-8E3C-3B33B169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EAA3-B5A4-4FB8-ADF0-4A17D6F4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8631-B874-4762-AC43-60F1EE89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F64A-9D8A-4386-B536-BF8E4DFD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DF51-8C02-469D-8157-9B87CD2F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7392-18FD-4FB7-99CE-CA572B13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07EB-1339-4A25-B3E1-5426BE77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9612-FA2E-4CFE-A446-7BE9D7D3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90E2-9027-442E-9E76-A5B77DA9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FB1F-02B8-4AE4-A98A-14BA9E38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4F27-0A3E-45C2-9972-84837112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A28D8-E895-4B6D-8A96-D0FD7F4F0C9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а праведность и кровь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жда лучшая для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акой осмелимся предс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ожий суд в конце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следний, страшный, суд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танет обвинять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, помилован, прощ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от вечного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ва правед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! я верю, кровь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очистилище вид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ликой силой гов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 грешникам д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столько грешных, как пес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ерегах земн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страдал за всех ви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кровию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0:09Z</dcterms:modified>
  <cp:revision>12</cp:revision>
  <dc:subject>Slavic hymnal Гимны веры христиан, hymn 884</dc:subject>
  <dc:title>Христова праведность и кровь</dc:title>
</cp:coreProperties>
</file>