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787-C2ED-47B5-83F7-B340F6E3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708-7D76-46C1-A8B0-4B3BB4E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BDE-8BBE-4B24-BEA9-8C78EEE5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97D-2782-4C6C-B275-8435C86B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B8B-47CA-47CA-880D-BD9FBA2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66C-CF86-498B-937A-931833AB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0BA-2531-4574-9EBB-55E83994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DDA-881A-47D8-A595-AA29E525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049-9B92-48AE-B961-6FF1C697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166-EAFE-4D4B-A3BC-A2D7A11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6B5-519E-4A5E-A787-0CEEACB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012-D2B2-433A-B895-70CCD53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92F05-2EEF-465D-BBDB-917ECF47A8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, гляди на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36Z</dcterms:modified>
  <cp:revision>11</cp:revision>
  <dc:subject>The Source, song number 533 in Russian</dc:subject>
  <dc:title>Друг, гляди на Иисуса / Turn Your Eyes Upon Jesus</dc:title>
</cp:coreProperties>
</file>