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097-EAC7-4AE8-AB55-30BCD3A0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51F-0200-4BFE-A45C-F2F8FF8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966-9015-4778-B4B4-B69E6F1F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2BD-805E-45B8-8E31-49A943CC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74A-4F0F-41A9-96B2-77F927BC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CA6-598E-4855-9468-C2E38CB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3B2-668D-48BB-B286-FB9EF850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8DC-A58B-41F7-8953-27CD76F4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4A7-BA50-4996-B89B-EAFF79CC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E11-09C1-4F7D-9FE8-4D42D7F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730-EC1E-4267-B249-CBC55F5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3C9-FF8F-4857-81A1-B5D884C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B6FF3-95AE-4983-A6C0-B350FAA471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1:41Z</dcterms:modified>
  <cp:revision>13</cp:revision>
  <dc:subject>Slavic hymnal Гимны веры христиан, hymn 242</dc:subject>
  <dc:title>Придите к Младенцу, верные с весельем</dc:title>
</cp:coreProperties>
</file>