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0D1-0775-4E69-97E0-EEEE6D0C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3D5-BC5A-46C6-9B62-4569CECE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5D9-B807-4138-8D1D-8B8104E9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2CE-94F8-45B4-A444-2FDE0BBF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1C0-0D58-45CF-A1AF-E8C15A5F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BBF-9B33-45EB-ABCF-B32E158A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231-E72B-4F7C-A5E6-023BFEEC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221-7F8E-46F8-923D-015B23C6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230-7969-4861-AE9C-F624F746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9C2-01AB-41B4-99A8-511735E7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924-9B38-4708-B7D5-2ED273C4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EFD-FD4E-4E8E-912D-CCC55CA5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DB7CA-BBFF-4A67-B7F7-9ACDDF8DBD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ift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earts full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Lord, our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sanna, Hosann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King of k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King of k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ift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earts full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Lord, our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King of k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3:27Z</dcterms:modified>
  <cp:revision>10</cp:revision>
  <dc:subject>The Source, song number 182</dc:subject>
  <dc:title>Hosanna, Hosanna</dc:title>
</cp:coreProperties>
</file>