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130-E762-481A-B28B-BB0D5FBE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CC0-1299-4167-8ED7-C7A3D00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748-79E3-4C9E-B630-B45568C2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853-B13C-40FE-A26F-0F7894BF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59E-0A26-4388-90C6-BE6FE9F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CB0-C4A6-4122-8C79-73684E4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196-CA61-40D9-821A-5371E28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B63-ED39-4993-8336-CACAA2D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A6C-9A35-4064-BBD1-CB85FE2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BD-4FFC-44D9-8E4D-EC7EB33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B90-627F-4E8F-B1A7-ABE884A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259-37CF-4BDC-83B7-E551C472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5572B-8528-4750-9AF4-5414D19410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0Z</dcterms:modified>
  <cp:revision>12</cp:revision>
  <dc:subject>Slavic hymnal Гимны веры христиан, hymn 311</dc:subject>
  <dc:title>О Дух Святой, спустися к нам</dc:title>
</cp:coreProperties>
</file>