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DD3A-4906-4C17-BBC4-04C2EAC3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BA68-9C3B-45EA-8009-3AB37D97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C58-17F3-455C-B03B-5FCA8A1D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8FBB-63ED-4B90-925F-CA23F1A3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46C5-FA94-4CD9-93BD-1D32D9D6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65F1-A204-4730-A8D0-59E0E93E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001-DD16-45EF-A4F0-68E9C3FC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74E8-C187-4F94-85E0-BEC47338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C43E-0787-4C7F-87D8-366CF0A1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28BE-7B13-499E-A989-36BE4D9C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EDFD-FCF6-47C7-A32C-35C03E65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511-5749-40DE-9EC0-78C66AD4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884A4-726F-47F5-A9F7-2D24FC7934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ы медлишь, мой бр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Иисусу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и хочет тебя Он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исло Своих верны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же ты медлиш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ты думаешь,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радость на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дин за людей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го нет в жизни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не чувствуешь,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ух обличает во всё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спасенья прими и будь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расстанься с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ы медлишь, мой бр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нежданн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Господню семью не прин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ность и смерть того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5:16Z</dcterms:modified>
  <cp:revision>13</cp:revision>
  <dc:subject>Slavic hymnal Гимны веры христиан, hymn 399</dc:subject>
  <dc:title>Что же ты медлишь, мой брат?</dc:title>
</cp:coreProperties>
</file>