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7F2A-0045-4D61-AD66-4F4A5B55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7021-8E57-4AA5-B63F-AB638A7C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C98-1B50-40DD-BF94-89D22439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06C-2B9B-46AC-8549-F103CF76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4815-4437-447B-8B23-50FAFD31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9C3B-B41F-466C-9808-3B930C92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367A-E83A-4675-8B4D-DE85A935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529-F9B6-48F5-80DA-7908F8B6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4E50-7A65-4E9E-BE11-76AC2FD0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B8B-7DBF-4F33-B78D-1831A7D9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E7C6-F5BE-4576-A01A-C39E9527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C42E-813B-4895-A195-8BB054EC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20D24-7EB5-4217-A7B5-33ABE5CF9CB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ake up thy cross and follow M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d my Master s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 My life to ransom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render your all to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«Возьми свой крес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свой крест, иди за Мн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гово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за тебя перед тол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ко кресту приби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follow my Christ who loves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rew me closer to His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ought His will to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that will I now ab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приблизил Он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и снял тяжкий гн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послушным быть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ти, куда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follow my Christ who loves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ay be through the shadows d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o’er the storm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ake my cross and follow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ряд скорбей иль смерти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бурные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 крест за Ним я вслед п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ни вё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follow my Christ who loves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, my life, my all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Christ who loves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my Master, Lord and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ердце, волю, жизнь мою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я от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Спаситель, 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ух и пло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follow my Christ who loves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58Z</dcterms:modified>
  <cp:revision>13</cp:revision>
  <dc:subject>Slavic hymnal Гимны веры христиан, hymn 433</dc:subject>
  <dc:title>Wherever He Leads, I’ll Go / «Возьми свой крест, иди за Мной»</dc:title>
</cp:coreProperties>
</file>