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B88-71AB-4144-A3BB-FBBA57B6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39A-3054-4F56-995F-76DF907D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E13-8ED8-4551-BE99-3A0CE381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A87-0DDD-4168-94D3-8112797D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6F1-E6AB-4684-8D2F-DD47895B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E69-8464-4752-8645-D6A3CFF9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2FD-5188-4DE1-A5D6-DE035373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117-3131-45E4-BD61-0355BB0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8E7-1151-4741-8F15-411C2556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566-A944-4412-BAAD-CFE215D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43B-F6F3-4AA7-81E9-727140B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A97-DB74-4E8B-9A9A-9F4A337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91BBD-DC03-4EDD-80B4-CAEEF372EC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32Z</dcterms:modified>
  <cp:revision>12</cp:revision>
  <dc:subject>Slavic hymnal Гимны веры христиан, hymn 828</dc:subject>
  <dc:title>Веди нас, Царь Небесный</dc:title>
</cp:coreProperties>
</file>