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8FB-09C5-484E-9031-CFCCB3CA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6FA-B550-4841-9B00-8E67E66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C34-35B0-478A-B6A3-CB03C21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0D5-CBAE-4268-9DBC-AE707930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A0A-6E3B-43C0-9C65-4CFEC1E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F40-164E-4B83-B5A1-0440F7C5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768-137F-4A1A-8233-6256E8B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1E0-2605-44FB-A070-2EF05BB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127-CB88-47F6-B60C-86FE7FD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1D7-B05A-4352-A1E4-126D5FE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F33-F611-484A-9F08-0F5D20E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83E-0D31-421C-B90C-696530D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8A9AA-6B52-4B67-A284-DB62146D0B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24  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o where the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overf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feet are on a roc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blazing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ur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flood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rea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overed 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the scheme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rkness cannot tou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firm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ust in You all day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Your child and Your serv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strength and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25Z</dcterms:modified>
  <cp:revision>12</cp:revision>
  <dc:subject>The Source 3, song number 1324</dc:subject>
  <dc:title>In Your Presence</dc:title>
</cp:coreProperties>
</file>