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5D8-B75E-49FD-B383-8E849AC5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8FD-9194-4043-9380-560BB7A9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6157-17FF-4E5A-A43E-8CD042C6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0E8-5016-40A5-86A8-9F0E21A6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473-A792-4ECF-9E77-6EE7256D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7FC-6F93-484E-9B44-29DA3042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CB6-3044-4296-B12B-78F00D3C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EF9-EF71-457E-BDC2-72E5D937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19E-591F-4174-8835-F7B21139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AC4-581E-4D4D-AB21-A40EC9D5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50C-CDFE-40F0-B265-F8371574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504-08B7-41C5-A8B4-1F903432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3D680-F0AD-4B50-81D2-1972DDE8B7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й Дух в сердцах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частье! Там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лько милых обой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кже и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Божий Дух в сердц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я любов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р, там нет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пасностях Господь 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ни в чём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я любов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роде иль в сем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ью Бог руков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частье там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5:11Z</dcterms:modified>
  <cp:revision>13</cp:revision>
  <dc:subject>Slavic hymnal Гимны веры христиан, hymn 741</dc:subject>
  <dc:title>Где Божий Дух в сердцах живёт</dc:title>
</cp:coreProperties>
</file>