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C53-73D5-4D6A-947C-194018FB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182-11EA-4A66-BAB4-A78C8EBB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AE1-EFA3-4B75-A63A-749A485B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D16-F55D-4F31-88D1-75D59381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C9D-8540-465C-9D5E-1F37075E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603-4A81-4FA7-B051-37FDD7A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84D-3DE3-477A-B9C0-52FE43E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E23-48F9-4326-B0E0-78A4E592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4A0-EB46-470A-BE5F-21CC4DAF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45B-D85F-4A5C-AB71-CBF3B47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243-2907-467F-B6E2-1E0DFD0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0BD-8AC2-4B35-8C01-7286C5E7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F92A6-9515-427A-851E-CB76ED55F2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is great and greatl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reat and greatly to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Cho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08   Sing Un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53Z</dcterms:modified>
  <cp:revision>12</cp:revision>
  <dc:subject>The Source 3, song number 1508</dc:subject>
  <dc:title>Sing Unto the Lord</dc:title>
</cp:coreProperties>
</file>