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CC4-6991-4801-BFB3-FC91D22B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C3FE-726F-4143-BED8-1ACC661E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C2A-627A-49A5-B1E6-358CF333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2189-322A-4F5F-A69D-38FFA54B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CD59-2272-4D29-91B3-37146471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272-9E35-4EE2-A7F3-DBF18430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5616-BEAB-4226-A8C7-1643B0C5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F464-0E58-412E-9F21-009A998B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C58-91BF-44DA-A4AC-2DCBB28E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1BD2-FA0A-4C1E-B254-3C21139A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3AD-64D5-4ACF-8744-4E0DBE10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A6B-3FE5-4F95-9E9E-B12B7841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52986-BF2A-4F35-9A9B-4107926E2EA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нгольську пісню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сім пісням ти волі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ові в небі хва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ям спокій на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   Повість скажи про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остив Він у пусте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рога як перемі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ні пережив невесе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нений був від у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безпритульний, голод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помагав у нуж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збагатив Він нар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же був бідний то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 хресті розіп’я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ін на ньому вмир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 домовину покл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к воскрес Він і вст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кажи з напоми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пас тому це роб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грішну бідну люд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д життя полюб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6:15Z</dcterms:modified>
  <cp:revision>14</cp:revision>
  <dc:subject>Slavic hymnal Гимны веры христиан, Ukrainian hymn 2</dc:subject>
  <dc:title>Повість скажи про Ісуса</dc:title>
</cp:coreProperties>
</file>