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69CF-F3CD-4DF5-9C3E-AB5FC24F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751-616B-4058-AD4F-CABAA8A4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B668-DC41-4B42-8F43-A8A6417E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DAB-A8A7-43F0-B44B-289E8418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CB3-705C-460D-98F8-115653FF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D5F-F37D-4A86-A33E-89C46035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D83-B862-4FD9-B218-6B37BA14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3B6-6650-44F3-9443-4FA10755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9126-C5C2-4D4D-AF88-4706DC3E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9E9-B4FB-49E3-B800-C014D0EA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C9BD-2331-4EC3-A185-29057A16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A4F-8615-4378-B4F4-27E0D322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9375E-41E1-47B7-B44B-B4A3E8A304A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! I am resting, 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joy of what Thou 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finding out the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y loving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 hast bid me gaze upo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y beauty fills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, by Thy transforming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 hast made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8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! I Am Resting, R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ow great Thy loving-kin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Vaster, broader than the s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ow marvellous Thy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vished all on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rest in Thee, Be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what wealth of grace is T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Thy certainty of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ave made it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mply trusting The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hold Thee as Thou 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y love so pure, so change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tisfies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tisfies its deepest long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ets, supplies its every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asseth me round with bless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e is love inde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 lift Thy face up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 work and wait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ting ’neath Thy smil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rth’s dark shadows fl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ghtness of my Father’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nshine of my Father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eep me ever trusting, res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 with Th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9T11:25:14Z</dcterms:modified>
  <cp:revision>10</cp:revision>
  <dc:subject>The Source, song number 280</dc:subject>
  <dc:title>Jesus! I Am Resting, Resting</dc:title>
</cp:coreProperties>
</file>