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209-33ED-4EEE-938C-BAAED8EA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331-29DB-41FD-9142-4F2902EB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AC3-7E9F-4D08-9A32-3E960CAB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A4C-8C5B-4727-A60F-D411BBF8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AF2-50B2-4F5A-BC64-75794FA4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9B3-08D0-46E9-9D3A-98624EC0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A20-A728-49F4-81C9-2FA4267D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C04-DCD8-4DC4-BB84-374DDE31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400-16B1-49FC-944F-C5AB732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4A5-BD37-401D-9937-E07046BA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574-FDA2-435A-925F-3ACBA89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127-34A3-4F68-851D-A45CE3C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BBA06-2B16-4DAA-A2E6-55948075E5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частный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безбож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онешь под гнё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ёлой нуж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ёл сво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веселии лож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ясь рож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ской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частный мой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адскими стр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жи и невер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нен смер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римым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ухла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искра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ишь ты прав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и ни в 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ска и отч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ожут жест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изнурё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ину погря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растей и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негод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чишь жизн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жизни так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и ков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не смущ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ющий б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обе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адск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ен погиб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спас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ой взгля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образ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раз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победной,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у получ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соверш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воскресн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зни и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01Z</dcterms:modified>
  <cp:revision>12</cp:revision>
  <dc:subject>Slavic hymnal Гимны веры христиан, hymn 364</dc:subject>
  <dc:title>Несчастный мой друг</dc:title>
</cp:coreProperties>
</file>