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C41-2FBB-4401-B94A-6B7602E7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8D3-7F91-448F-9959-A6230279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661-3EB5-430C-BE33-6A40515A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1BF-E240-4E3F-A05D-BA53CE5C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C1E-B841-436C-A1A7-53844CA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06E-C636-4346-826A-DF955AEB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82B-5539-4F77-9EB4-42F9AC4B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DF6-ABAD-4608-BEDF-464C4A77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262-6382-46B6-9237-A181776A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962-000F-48CB-8048-46431899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54C-61ED-4930-894A-8EABBEED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6C9-0198-4D6F-8499-FE74D60F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0037-FFD3-4E8B-8659-B8BFDF7A7A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created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ays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king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thr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has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asur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asure what You’re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id behind the st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v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ected an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r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ampl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t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27Z</dcterms:modified>
  <cp:revision>10</cp:revision>
  <dc:subject>The Source 2, song number 611</dc:subject>
  <dc:title>Above All</dc:title>
</cp:coreProperties>
</file>