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7B5-D33B-4AF1-8BE2-15F3022F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B19-1723-43E7-84FF-BCF12C32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532-89FB-41AF-96BA-6FA2F9CF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14F-C120-406C-AB17-9F92640D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241-936B-4BF0-BA24-F7AED6A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A21-694A-4C1D-9EDB-3D5F5D71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D2E-57EE-42A3-B9B5-0C6B2B95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3B0-4F5B-49AB-84DD-E90FB426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13B-FAF5-4F75-A221-D064BA76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9B5-62A8-4130-AE74-EBE53770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B85-C12C-402A-8F50-6E1485D3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272-13F4-4E64-B1A3-C4AF619D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E616A-1EEB-488D-9825-1E1AC64488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сем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воз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я н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служу, мо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посвящаю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в Бога 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пребывая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Господа жизнь м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ляясь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найти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лгофск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у за грех в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праведнос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00Z</dcterms:modified>
  <cp:revision>14</cp:revision>
  <dc:subject>Slavic hymnal Гимны веры христиан, hymn 622</dc:subject>
  <dc:title>’Tis So Sweet to Trust in Jesus / Сладко верить в Иисуса</dc:title>
</cp:coreProperties>
</file>