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B9D-B44F-4D86-8D28-F40F4B77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18-943D-491A-AF7D-3AF9068E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C58-4555-4C31-AA15-D4921D1A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2CE-EF92-4389-AEB3-87685CA8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BC8-8FF4-4B24-B1CE-9BDFA6A3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BDE-D553-467A-85C1-D4A37DD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77C-6C76-4ADA-8AB5-C956DCDE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592-DC85-4C99-9AFB-13C7431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6C0-6EED-4C57-8FA9-0179DCC6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4F9-0C7E-4848-BF46-44BD66C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DA2-7C30-40CE-8AD7-79C07A1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AA5-D675-4561-A291-B868035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96387-2252-4FC0-A3B5-DFCBC07D47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hurch, arise, and put your armour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call of Christ our Cap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w the weak can say that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that God h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hield of faith and belt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tand against the devil’s 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army bold, whose battle-cry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ching out to those in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3   O Church,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call to war, to love the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o rage against the cap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the sword that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unded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fight with faith and va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aced with trials on ev’r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know the outcome i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will have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ich 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inheritanc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see the cross, where lo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on of God is stric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see His foes lie crushed be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Conqueror has ri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the stone i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emerges from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vict’ry march continues till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eye and heart shall se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pirit, come, put strengt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grace for ev’ry hur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may run with faith to win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ervant good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saints of old still lin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telling triumph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ir calls, and hunger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Christ we stand in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2-03-05T10:19:09Z</dcterms:modified>
  <cp:revision>12</cp:revision>
  <dc:subject>The Source 4, song number 2003</dc:subject>
  <dc:title>O Church, Arise</dc:title>
</cp:coreProperties>
</file>