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F3C-AF65-4AEB-8C97-18B9C627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49F-62A9-4483-A2D0-6F153F1A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960-A251-450C-A6E4-57548D9F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1FF-700F-422C-A11E-C8A96E1B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B87-7CAD-418A-978F-D09B025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BBE-D875-4C16-B72C-07FEEA22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154-916D-4D01-9760-1FDABF0F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5D8-F5A5-4CF4-A34B-3FE99896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FD7-86EA-4CB7-A4DA-9B6016FA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E82-3A11-46FD-9637-DBC48D3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982-70B6-450A-B743-4761E46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8A0-69EE-40A6-AB65-90EFFBD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E663D-1C57-46D4-B1C3-D41813B7C6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our Redeemer died o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for the sinner, paid all his d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receive Him need neve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efest of sinners, Jesus will s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has promised, so He will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ear Him, trust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dgement is coming, all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ve rejected, who have ref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asten, let Jesu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eat compassion! O boundles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th power, Jesus i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are safe from the st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8:27Z</dcterms:modified>
  <cp:revision>13</cp:revision>
  <dc:subject>Slavic hymnal Гимны веры христиан, hymn 282</dc:subject>
  <dc:title>When I See the Blood / Умер Спаситель, умер за всех</dc:title>
</cp:coreProperties>
</file>