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FBA5-6984-4FF2-9CFF-2133E644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020C-D056-4031-A096-67E94F2E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103A-1BB9-4FB4-B83B-E0D1C779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056A-2797-44E5-B6A5-1360C8A9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E4C5-F57B-4209-94AE-CD125EDF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CC3-AD6B-4828-AD7E-4A22EF69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480-5D8D-44E7-8FA3-52E6333D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66E-914D-4BE0-B85C-5A862693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6368-C425-4BBD-BF75-A16F4F7B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6D4-F0BD-488A-90C6-665DA7CC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ED49-DBCE-4BA1-8A31-B98CE81C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4AE-028C-41DA-AE1C-7E37D2DD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ADF77-52FA-4E2F-BC14-ED4F164F3D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righteous, You love just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se who honou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ee Your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rise and lift my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Your majesty, Your ho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I am will bles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48   You Are Righte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ope is in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my help comes f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strength, my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trust is in the nam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faith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2:17Z</dcterms:modified>
  <cp:revision>12</cp:revision>
  <dc:subject>The Source 3, song number 1648</dc:subject>
  <dc:title>You Are Righteous (My Hope)</dc:title>
</cp:coreProperties>
</file>