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75B-04C4-4276-A19B-9D6A57F7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632-29DB-406F-878D-70370033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718-6CF0-4D36-8FBD-85604D39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B81-B1B0-47AC-B6E4-9BB631C5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9F7-D2F5-4104-9889-7CBF94ED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7F3-C6CB-412C-A307-4D439404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562-428D-49F8-ACAE-71F33049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622-679D-4311-9316-1BFB4093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E21-FEEE-442B-B3ED-BD0CD38E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98D-5848-4F14-B00D-B95E913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DD0-DC0F-45F7-807C-3F013D87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8F7-8F82-4CD1-8F28-BEE724CC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5FED6-EEC7-48D4-ABA3-8D9B2C1153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 wond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nsellor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, isn’t He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sn’t H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, 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 wond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nsellor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, yes,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08:39:51Z</dcterms:modified>
  <cp:revision>10</cp:revision>
  <dc:subject>The Source, song number 242</dc:subject>
  <dc:title>Isn’t He Beautiful</dc:title>
</cp:coreProperties>
</file>