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AD9-6875-4FDE-AF06-ADEE0691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87A-3721-4242-BD15-84F9952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C82-47F7-40ED-A07B-C51FAEE4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B69-B9B7-428B-86FC-A53AF885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5EC-E235-4D46-8E62-2AFF6C11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C5C-0853-4420-A890-F8F5CFC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E89-9DA4-4C5B-A9F0-5ACC5BA8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C8F-D6E3-4860-914B-C752BAE6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DF2-5922-4541-8C91-DE157E0E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89B-2100-4E43-A822-53D9A41C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711-8F6C-4952-BBE7-9AF0381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2FC-1AEF-4453-8CC8-CF9859E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5A513-2019-4FAC-A912-27640F17CE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47Z</dcterms:modified>
  <cp:revision>13</cp:revision>
  <dc:subject>Slavic hymnal Гимны веры христиан, hymn 645</dc:subject>
  <dc:title>Доверяй Христу всегда!</dc:title>
</cp:coreProperties>
</file>