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A6F-7E3C-46CD-A3B3-599FF450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DFB-A424-44D3-B8F5-78D193D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EA6-FF57-4DF0-9580-2DAD380B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CCB-3711-4016-9134-C8231EAF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CD7-1E91-4C5B-9911-029E57B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64D-79B6-47AF-B331-F55A6C00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4D1-9F36-47C7-A8CE-D969AF0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B23-2B4A-4B5D-823F-96D52CF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BB7-DAB7-4766-9DE5-8356887A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95C-91EA-41E1-A953-58D948B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20D-A75C-44AD-9A5C-7B9E604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2AA-5835-4C76-85B2-DBB4C1A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91931-C754-4E1A-A415-6F3023459B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2Z</dcterms:modified>
  <cp:revision>14</cp:revision>
  <dc:subject>Slavic hymnal Гимны веры христиан, hymn 713</dc:subject>
  <dc:title>Take the Name of Jesus With You (Precious Name) / Призови Христа на помощь</dc:title>
</cp:coreProperties>
</file>