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131-B32B-419B-BD7A-3D98A270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F51-A5EE-455A-AD18-C3D15C95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EDF-9D76-40ED-BE41-DBF29DAF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486-944E-4C47-ABFB-4DE13402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2BF-F7CA-4F1E-BBE5-4ACCE18A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442-3000-4BF2-BACB-01CB4E0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A6A-307A-490D-A2D7-E8D8E741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A7E-CE87-4B16-BB98-3BBAAF14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3C7-1A94-4926-9CE4-1CB0F401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CCE-9B5B-4588-9F75-44FB8954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9EF-467C-4BF7-89E7-7420533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E01-D52A-43DD-A269-7BC1C642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2C36B-56AF-4ECE-ABB4-0270EEF301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л я на новую дор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ьмы тернистый путь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дали небесного черт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живительный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тот чудный и прия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моим живительны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меня в дороге тру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йти мне в Отч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ышел я на новую дор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еной, как волны у примо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-то страшно стонет и ре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от, не знающий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назад мен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азад я не верн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ой путь и труден, и 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аких препятствий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еди лишь был бы огон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чил я всё своё им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им, как есть, иду к От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верю, верю без сомн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заблудшую ов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29Z</dcterms:modified>
  <cp:revision>12</cp:revision>
  <dc:subject>Slavic hymnal Гимны веры христиан, hymn 440</dc:subject>
  <dc:title>Вышел я на новую дорогу</dc:title>
</cp:coreProperties>
</file>