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8B14-4B5A-40F0-93BB-9D1BB7AD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F95-2EE2-4981-9515-557BA35C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FE73-0770-44A6-BE42-697313FC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36F-35C6-4E40-ADDD-54BC64B7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801-D36E-402A-A5A1-14A12A70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10E-1730-47A2-9C63-313083E6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1D00-ECB4-44DB-814A-CB247F97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1489-F248-413C-ADCE-9CBD6894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C05-99DB-4B50-840D-96822F8E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1CF-1A18-4F82-9C87-0D4D4F34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CCF6-E940-476B-8A79-797A4A65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6EA-C37B-453C-8958-5D43AC31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CB8BE-BE68-4A8E-8C3E-5D5A0DEB85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I had a thousand v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ith a thousand tongues could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in Whom the earth rejoi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does all things wisely and w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если б сотни уст имел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сотни уст име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тни нежных голос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лубины сердечной п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вил бы Творца ми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сонме ангелов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ем чудно каждый ми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rn amid their choirs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ud hallelujahs to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rateful heart would then be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what God has don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песней песню я бы п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Бог мне дал в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all you pow’rs that God implan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ise and silence keep no m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t forth the strength that God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n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noblest work is to ad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голос мой был слыш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видят солнца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дух взносился вы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олётом дней, с теченьем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ul and body, join to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felt joy our Maker’s pra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егда для Бога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ый миг благод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forest leaves so green and te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dance for joy in summer 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meadow grasses bright and sle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flow’rs so wond’rous sweet so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безграничную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открыл небес об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 меня от всех грех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live to show God’s prais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me now make His glory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, смертью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место дал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creatures that have breath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rong the earth, the sea,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join with me my heart’s devo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e to raise His praises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лагодати петь я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может петь яз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хвалить хочу я 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от речи не отв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utmost pow’rs can ne’er a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clare the wonders of God’s m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умолкнет голос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каждый вздох Тебе хвал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, о Боже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нескладную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небесах полней и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енье вос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ather, deign Thou, I beseec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isten to my earthly l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nobler strain in Heav’n shall reach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with angels hymn Thy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50:25Z</dcterms:modified>
  <cp:revision>13</cp:revision>
  <dc:subject>Slavic hymnal Гимны веры христиан, hymn 820</dc:subject>
  <dc:title>O That I Had a Thousand Voices / О, если б сотни уст имел я</dc:title>
</cp:coreProperties>
</file>