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338-4CA3-421A-9723-6F4BF1AB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435-CC08-47DB-A3D8-ECCAC633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11B-602C-45BB-B2D8-A34FBAF6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BB5-3378-49AF-B5FC-3C615070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91F-1F37-42B7-A666-EB41ABC4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CBC-2F35-47A1-80F0-A16E5BF0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1F8-301F-44E4-A781-3479F88A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6BF-138F-4899-86E4-684A4F6B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117-8C42-4E86-A5C6-50B47F6B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202-C37F-4038-BA8B-3836B0FB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3BC-5936-4ED3-ABF5-3DD588E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E98-76D0-4EF7-8FF8-01BF0EA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BE16C-93E6-40B2-82D9-0849EACE5B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 would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grace to others sh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льше скажите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ол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 let me l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holy will discer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of God, my teacher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ing the things of Christ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ятости и чи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е истины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нас Христов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; in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ing communion with m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ing His voice in every l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ing each faithful saying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е жизни, что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бщенью с Господом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, и радость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; on His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es in glory all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kingdom’s sure incr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coming, Prince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царит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ит грешников спа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 наш мир придёт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0Z</dcterms:modified>
  <cp:revision>13</cp:revision>
  <dc:subject>Slavic hymnal Гимны веры христиан, hymn 557</dc:subject>
  <dc:title>More About Jesus Would I Know / Больше скажите о Христе</dc:title>
</cp:coreProperties>
</file>