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B7FB-D5A9-4FD8-BB04-998402686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005D-58B0-4727-9BC2-EE69CC8C5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A0F8-B0BE-48F7-919C-0BDFC36E7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275F-272B-4915-8ACE-93EB8FD13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93B2-DD76-40A6-8677-4C8DF6DB8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D549-A44D-4A31-BFDF-3AC198DC8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3905-94B0-47C7-9AFE-4E357AD53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1AA1-89AA-4D7F-8435-59B2D1F4A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7452-531B-4EBD-95F7-DA7922FD7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08DE-35B9-4575-AAB5-69C05A2A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DC4E-16BB-468A-BB35-D5AB5FCF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A422-DCF0-4F38-AFB4-3A3D94C6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ECBA6C-85DE-4A3D-B9FB-4D65DBB7DA9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ет всех люд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благослов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ь благую в серд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ому вло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открой широ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на распах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9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Хочет всех люд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 (впуст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 (впуст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открой широко, окна распах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 (впуст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 (впуст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открой широко, окна распах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шёл за грех на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есте стра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кресением Сво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у 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открой широ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на распах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 (впуст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 (впуст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открой широко, окна распах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одишь ли в пусты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ешь путь на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й, таких Иисус пришё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ыскать, сп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открой широ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на распах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 (впуст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 (впуст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открой широко, окна распах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частлив, кто Спасител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бя отдас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Его возлюб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хвалу возда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открой широ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на распах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 (впуст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 (впуст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открой широко, окна распах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е хоть мрач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Иисус хран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рак земной небес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ом оза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открой широ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на распах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6T23:55:54Z</dcterms:modified>
  <cp:revision>13</cp:revision>
  <dc:subject>Slavic hymnal Гимны веры христиан, hymn 397</dc:subject>
  <dc:title>Хочет всех людей Господь благословить</dc:title>
</cp:coreProperties>
</file>