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CC5-206D-4264-88B5-978D957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96F-CE13-48AD-8A1C-1B6747E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7CF-8CF9-4319-99C2-94B43E46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E91-CC6F-4F96-A22C-0C82BC57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0E6-41E1-492C-82C9-FCBA58D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9B3-BE0B-4500-9476-A2D09595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6BE-B4C4-4D32-851D-74529951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810-26AD-476C-8F97-41C97C84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1A9-C80C-46C4-8B09-3C3A1701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84-0C90-417B-B131-246F946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A34-F6C6-4EDE-B88E-D2D56EA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B89-1A3D-485C-B5A9-2D85ACF5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7C0CB-5F36-40C8-B9E3-BAEF71A206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46Z</dcterms:modified>
  <cp:revision>13</cp:revision>
  <dc:subject>Slavic hymnal Гимны веры христиан, hymn 616</dc:subject>
  <dc:title>Живая вера не умрёт</dc:title>
</cp:coreProperties>
</file>