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87</a:t>
            </a:r>
            <a:r>
              <a:rPr b="1" lang="ru-RU" sz="3600" spc="-1" strike="noStrike">
                <a:solidFill>
                  <a:srgbClr val="ffffff"/>
                </a:solidFill>
                <a:latin typeface="Verdana"/>
              </a:rPr>
              <a:t>	</a:t>
            </a:r>
            <a:r>
              <a:rPr b="1" lang="ru-RU" sz="3600" spc="-1" strike="noStrike">
                <a:solidFill>
                  <a:srgbClr val="ffffff"/>
                </a:solidFill>
                <a:latin typeface="Verdana"/>
              </a:rPr>
              <a:t>Воскликни Богу, вся земля</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Воскликни Богу, вся земл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роды, как одна сем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едстаньте Господу с хвал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Ему служите всей душ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Познайте, что Господь есть Бо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 мы — творенье Божьих ру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Своё Он стадо нас привлё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 Пастырь и наш лучший друг.</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Спешите все в Его двор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дите с пеньем в Божий д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сите Дивному дар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поклоняйтесь с торжеств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Да прославляют все Творц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 любит Бога весь народ!</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сподня милость без конц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сподня верность в род и род.</a:t>
            </a:r>
            <a:endParaRPr b="0" lang="en-US" sz="3200" spc="-1" strike="noStrike">
              <a:solidFill>
                <a:srgbClr val="000000"/>
              </a:solidFill>
              <a:latin typeface="Verdana"/>
            </a:endParaRPr>
          </a:p>
        </p:txBody>
      </p:sp>
      <p:sp>
        <p:nvSpPr>
          <p:cNvPr id="41"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0T10:26:34Z</dcterms:modified>
  <cp:revision>3</cp:revision>
  <dc:subject>Slavic hymnal Гимны веры христиан, hymn 87</dc:subject>
  <dc:title>Воскликни Богу, вся земля</dc:title>
</cp:coreProperties>
</file>