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FAF-9772-454A-B7C7-EAEFF8FC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6AE-1876-44F1-A738-C48DD3E0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F2B-FA54-4E07-A6C5-2D04493C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B57-9A0C-4AA8-9F52-40F63451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649-BBCF-4EC0-A00B-E867A133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302-D28A-43C2-9633-C8F10373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B5E-E4E4-488C-AAA5-558AC347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F29-4236-4C85-8EA9-9A0B998A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77F-580A-4E4B-B290-8D6B3720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EED-F12D-43A0-8724-2B782E36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5CE-EF2F-4D9F-90CD-208D7FF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711-C93E-4831-A7E1-565D513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1C740-56A6-42DB-9F75-1B68CCC1B3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ше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еленья защи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щь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ь провозгла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Бог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 меня, дал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не стыжусь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честье з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 незнающих прос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кресту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ст Он постыдить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ставит на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, что мне Он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ёрже, чем крем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бережёт по сла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Ему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5:56Z</dcterms:modified>
  <cp:revision>14</cp:revision>
  <dc:subject>Slavic hymnal Гимны веры христиан, hymn 628</dc:subject>
  <dc:title>Я не стыжуся возвещать</dc:title>
</cp:coreProperties>
</file>