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4F1A-D75A-47D7-8CD5-495490261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8BDB-F6D0-4A65-ACFB-73DE1B93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2D72-E974-4BC4-B5D6-5DB9F73B4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F110-95B0-455E-B358-92B4D5F98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65AC-F660-4A44-B7D8-BAE52079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0EE5-9BA6-4CFE-BF49-46393885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9FF5-6652-4814-8FF0-CD210193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EC17-F7EB-4AF8-A266-37179512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15A9-7613-47A3-8B68-2DE1C9CB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4293-FA5A-4358-A931-39CF5451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0C3F-71CD-441C-86A3-C0E427A0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890D-5B2D-434B-9C2B-DB10F246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659A2-E946-4751-988B-7585DF4613A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я спасён, спасён я от блуж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ытливого и гордого ум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 от сердца тягостных стр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ношею житейского яр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 от страха смерти, осужд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грех давно лелеемых страст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 от бездны вечного забв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тьме среди томящихся тен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а, я спасё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я спасён! Спасён я не дел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удростью людскою, не ум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жертвою тельцов и не дар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ленным золотом, не сереб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 я безграничною люб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илою живительной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 невинною и чистой кр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литою с Голгофского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я спасён! Пусть лев вблизи рык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шепчет смертный приговор зак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тьма неверья пытки собир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трашусь! Я знаю: я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ольше чем спасён! Насыщен хлеб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оен я живительной вод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гащён дарами, принят неб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светлён негаснущей зарё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я спасён! Не гордости то сл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песня славы Спасшему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клич о пристани, спасти гот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му, кто гибнет так, как гибнул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я спасён, поставлен на тверды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ыт под крыльями любви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прервётся песнь моя отны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, хвала Тебе, 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8:22Z</dcterms:modified>
  <cp:revision>12</cp:revision>
  <dc:subject>Slavic hymnal Гимны веры христиан, hymn 575</dc:subject>
  <dc:title>Да, я спасён</dc:title>
</cp:coreProperties>
</file>