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EFB-B707-4DA9-BC13-97E23497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355-968F-4B38-9A91-A79B3FD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D78-DCAB-45F2-9738-B26B400F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5AB-41E7-451C-9323-CA65A675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E91-E066-495C-BA81-88E8F96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971-F3B4-4B17-9608-0D2F37E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7B8-AF7D-483A-93C8-2F4ECC7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6B1-74A7-4C63-896D-2324E9A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C22-3F05-41FA-ABF9-EC1D462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0F6-EA12-4B83-8436-0BFB9E4D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EF3-485D-44BA-80FC-040EB9D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8A2-B592-4E28-BA76-77AC10D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6B1D-29BD-483D-A3F7-D9F8DDC041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worthy to be prais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lift up holy hands in one acc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, “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lessè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19Z</dcterms:modified>
  <cp:revision>11</cp:revision>
  <dc:subject>The Source 2, song number 647</dc:subject>
  <dc:title>Blessèd Be the Name of the Lord</dc:title>
</cp:coreProperties>
</file>