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B69-0246-4C96-AC0B-5E8E3146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6AE-876E-40C2-A698-18AACA75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44-1C2C-43D0-93F4-E43F7157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AE8-AC90-4E04-8575-F70A122B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050-F0FE-4513-8AE0-3C6C367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00F-8052-498D-A313-292EDA6A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60C-1BC9-4891-A934-3412763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C70-3E8D-4DA3-AD1A-E5DF435C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EF7-0490-43C3-BCEE-6B8ECC8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8D4-3EB8-45C1-BDA6-3545EC7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FB3-80AD-48F7-811A-4C4F966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B3A-BC56-4899-98E2-F7A038D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4815D-AAC2-48FC-A87E-9A008B6AE7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p unto my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treasure that I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finest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amp Unto My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y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 to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ing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57Z</dcterms:modified>
  <cp:revision>11</cp:revision>
  <dc:subject>The Source 2, song number 851</dc:subject>
  <dc:title>Lamp Unto My Feet (It Is You)</dc:title>
</cp:coreProperties>
</file>