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786-55FC-40CB-B6FD-F84DB164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AF3-F46F-4967-8A84-765B38EA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EF3-A97B-431C-BF76-A0C7AC11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83D-3295-4DBC-A03C-5A97F3DB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490-43EB-4803-BB12-E5F8803C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A0F-DD9B-4446-A7D3-E841979C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593-C895-4DA8-95C3-53C5DD01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214-C68F-4C20-BC4A-EAA75A3B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2A1-02B1-40B0-81DC-33FC01C2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05B-4054-4127-A7C9-301C4AD0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6E1-B427-4A0D-84B5-8768C375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3E6-EF0F-45D4-ACA5-7B31F24E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8EDC9-A5C4-4242-A1F5-C04C3C18DE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without one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at Thy blood was sh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Thou bidst me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ков, как есмь, о Боже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о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еп, и наг, и слаб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ровь лилась и за гре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and waiting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id my soul of one dark b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whose blood can cle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я не мед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у скорей Спас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моих Ц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gh tosse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any a conflict, many a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ings and fears within, wit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в чужой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пронят внутри и в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раскаяться в в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9Z</dcterms:modified>
  <cp:revision>14</cp:revision>
  <dc:subject>Slavic hymnal Гимны веры христиан, hymn 479</dc:subject>
  <dc:title>Just As I Am / Таков, как есмь, о Боже мой</dc:title>
</cp:coreProperties>
</file>