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A71-20BB-4B98-AAC7-6AEFD530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2F3-BEAD-43DF-AD30-FDDC95AD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FFB-472F-4CF7-B970-E64C0E5C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1882-214F-4625-92AB-46BFE2F8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D86-79C1-48F3-94EC-DE7963C1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5ED-7E28-4720-B827-DA914C36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2D8-5265-4C42-B291-AB9A3216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C4C-F2B5-45D7-AD3C-76E9D675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990-FCD1-464D-894B-06A1DC99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157-66BE-4C89-9D36-73896978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826-9D9F-4B08-8500-31013897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05C-439D-4A65-AC4B-242E7FBD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75FD2-0D57-4691-A7D5-35A6475B57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ога більшого, як н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, н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ога більшого, як н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, н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такого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велики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такого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велики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5   Нема Бога більш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нашою силою, не нашою мудріст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тільки Духом Свя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нашою силою, не нашою мудріст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тільки Духом Свя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всі горе пере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всі горе пере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всі горе пере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илою Духом Свя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1:38Z</dcterms:modified>
  <cp:revision>13</cp:revision>
  <dc:subject>Slavic hymnal Гимны веры христиан, Ukrainian hymn 95</dc:subject>
  <dc:title>Нема Бога більшого, як наш</dc:title>
</cp:coreProperties>
</file>