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2BE-105B-49EC-8C33-C71F0506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1DB-61A9-417E-A971-69E3C989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F74-AE1D-4630-B449-5699C97C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88F-8C87-4926-9627-8180FC88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CF7-321B-4866-A892-F6324EEF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8B6-30FC-4755-86CC-A7A12A0E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8BE-9F53-4DC4-9196-623326BE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4B7-4746-416E-9F59-3247B1D0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387-6D0A-408B-85F8-D333ABF6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82A-E377-4B24-BCDD-F23BB150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779-7172-4B11-BA68-0DBC33EB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87D-74AA-4A0C-9A9E-6B51B802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D9B63-1907-4CB3-BD5D-AE438EAB53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ефсимании 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чашу 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меня Сам Божий С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тяжко мучим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, Один страдал Он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меня от мук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Он умирал Оди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ам в Гефсимании Од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герой Один сто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Пилатом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трость воин в руку 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 уничиж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, Один страдал Он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меня от мук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Он умирал Оди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 на крест повеше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ы какой зло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т, кто всем добро 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зрён был о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, Один страдал Он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меня от мук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Он умирал Оди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ы медлишь, о мой дру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вдали стои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с молитвой и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обрат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, Один страдал Он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меня от мук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Он умирал Оди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0:27Z</dcterms:modified>
  <cp:revision>12</cp:revision>
  <dc:subject>Slavic hymnal Гимны веры христиан, hymn 284</dc:subject>
  <dc:title>Там в Гефсимании Один</dc:title>
</cp:coreProperties>
</file>