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BFA-5ED7-4BFA-9DEE-A575DB2E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04A-B845-4654-AEA5-1A7F994D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1F9-46CD-43C3-9A32-BD07BD7A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261-D37B-4101-B591-93D2AD42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EFC-CFD1-4239-99BA-9BD02FAD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E1B-FEC9-4F1C-B007-4BB36CB7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E42-E4AD-4028-8DB6-8F766F78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ECD-7889-44DD-B644-59B76828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5E0-8006-4158-A4AB-BE70FE52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561-F19A-422F-A925-F521929C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F92-918E-4A30-B26F-2066F1D7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9FA-34ED-40E3-ACE6-FD4AC2E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F198D-A787-4C3B-BBC2-BF5B093792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Твоей полна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Твоей полна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Свою Ты превознёс на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л меня и ввёл в Сво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 меня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л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 меня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л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Тебя, благодарю Те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лост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06Z</dcterms:modified>
  <cp:revision>13</cp:revision>
  <dc:subject>Slavic hymnal Гимны веры христиан, hymn 901</dc:subject>
  <dc:title>Милости Твоей полна вся земля</dc:title>
</cp:coreProperties>
</file>