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25D-57A3-4890-8080-88504D7A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50D-A626-4BA1-822C-DE2DFCEB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037-80F4-4995-BAE9-1E020DD9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D14-151A-4868-A377-45861B99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BFA-11FF-4880-B43B-F2E6307D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615-51F8-4074-8B43-368EF89C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3F6-E61A-4812-9595-0CE214CE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F51-E714-4D30-A1C8-A430B14B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0DB-22A6-467C-A1C7-F9B9BD9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DEF-8BD3-4905-9CE1-011CF18B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67A-5D87-41FD-B8FF-9092C9AB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C79-4647-4ECA-8737-86C5F773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77323-0498-4072-8E5C-7615F7E9B1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основа Церк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ём стоит 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ессмерт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озро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её взыск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изнь её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Свое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ятости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— основа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на по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ом скреп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м хлебом с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ем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ет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дин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терпя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заема разд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угнет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ностью пред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рам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лас святых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лкнет их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етлым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ся ночи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итвы со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ет на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идень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ят её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ржеств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т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она в общ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тцом 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ом объ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 их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, Господь, и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бно им,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7:08Z</dcterms:modified>
  <cp:revision>13</cp:revision>
  <dc:subject>Slavic hymnal Гимны веры христиан, hymn 866</dc:subject>
  <dc:title>Христос — основа Церкви</dc:title>
</cp:coreProperties>
</file>