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8C6-816F-4BF0-A16C-804BA09C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EAE-17CC-4DCA-BA0F-ABF2C841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522-C0A0-421B-94A0-7E960746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BF5-4BA8-4ABF-B893-01EB731B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AC5-6C88-47D4-A8D2-B716053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8CA-3D6D-4E72-AF31-2FF8F68E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3FD-320F-4688-B2EB-BFDF3EE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350-EFBE-45FA-A287-D9090B8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F9D-3C62-4339-988C-24043D4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5F4-FDB6-471D-83D6-F1E3EDF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26C-460E-4270-BD6D-19BA9C5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5B8-8B61-4AA1-A544-7AB0C22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9D0B1-5316-434F-88B3-639F292F63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8Z</dcterms:modified>
  <cp:revision>13</cp:revision>
  <dc:subject>Slavic hymnal Гимны веры христиан, hymn 338</dc:subject>
  <dc:title>I Will Arise and Go to Jesus (Come, Ye Sinners, Poor and Needy) / Грешники, к Христу придите</dc:title>
</cp:coreProperties>
</file>