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5AA-BC44-4D6C-A297-37A2DA57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66B-A7E2-4BC2-A805-7A93663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5F3-E4B1-41FF-82B8-E761F674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E61-3F9B-4B5A-9156-75E4E221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F3F-0606-4DA7-B080-CFD5C9B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C0F-E082-4A3F-A877-7DC02CC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EC6-47A0-40BA-9139-24A172D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83B-0C6D-4F2C-A663-8C002E0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6C8-71A7-4BB6-9025-FCC4F7A8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ACB-5F79-4108-BF11-6AC16CD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D63-2592-4215-959E-25660C9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4AE-4829-400A-A7BA-261516D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CBA15-FE1C-471E-B81A-BA628C5E8D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ай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ом месте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и поко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жду, только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аю лучшего в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граду получить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ю всё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шает мне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знать Тебя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4:59Z</dcterms:modified>
  <cp:revision>11</cp:revision>
  <dc:subject>The Source, song number 233 in Russian</dc:subject>
  <dc:title>В тайном месте / In the Secret</dc:title>
</cp:coreProperties>
</file>