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5</a:t>
            </a:r>
            <a:r>
              <a:rPr b="1" lang="ru-RU" sz="3600" spc="-1" strike="noStrike">
                <a:solidFill>
                  <a:srgbClr val="ffffff"/>
                </a:solidFill>
                <a:latin typeface="Verdana"/>
              </a:rPr>
              <a:t>	</a:t>
            </a:r>
            <a:r>
              <a:rPr b="1" lang="ru-RU" sz="3600" spc="-1" strike="noStrike">
                <a:solidFill>
                  <a:srgbClr val="ffffff"/>
                </a:solidFill>
                <a:latin typeface="Verdana"/>
              </a:rPr>
              <a:t>Сидел слепец</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One sat alone beside the highway begging,</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is eyes were blind, the light he could not see.</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clutched his rags and shivered in the</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shadows.</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Jesus came and bade his darkness flee.</a:t>
            </a:r>
            <a:endParaRPr b="0" lang="en-US" sz="28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Сидел слепец с протянутой рукою,</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и друг, ни брат не мог ему помочь,</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радал без света телом и душою,</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и тьма бежала прочь.</a:t>
            </a:r>
            <a:endParaRPr b="0" lang="en-US" sz="3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mpter’s power is</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broke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ars are wiped awa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takes the gloom and fills the life with glor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r all is changed when Jesus comes to stay.</a:t>
            </a:r>
            <a:endParaRPr b="0" lang="en-US" sz="2800" spc="-1" strike="noStrike">
              <a:solidFill>
                <a:srgbClr val="000000"/>
              </a:solidFill>
              <a:latin typeface="Verdana"/>
            </a:endParaRPr>
          </a:p>
        </p:txBody>
      </p:sp>
      <p:sp>
        <p:nvSpPr>
          <p:cNvPr id="5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mpter’s power is</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broke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ars are wiped awa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takes the gloom and fills the life with glor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r all is changed when Jesus comes to stay.</a:t>
            </a:r>
            <a:endParaRPr b="0" lang="en-US" sz="28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From home and friends the evil spirits</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drove him,</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mong the tombs he dwelt in miser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cut himself as demon powers possessed</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him,</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Jesus came and set the captive free.</a:t>
            </a:r>
            <a:endParaRPr b="0" lang="en-US" sz="28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Нечистой силой день и ночь гонимый</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скал в гробах убежище себе,</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камни бился… все бежали мимо…</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принёс конец борьбе.</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mpter’s power is</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broke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ars are wiped awa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takes the gloom and fills the life with glor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r all is changed when Jesus comes to stay.</a:t>
            </a:r>
            <a:endParaRPr b="0" lang="en-US" sz="28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Unclean, unclean!” the leper cried in torment,</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 deaf, the dumb, in helplessness stood near;</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 fever raged, disease had gripped its victim,</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Jesus came and cast out every fear.</a:t>
            </a:r>
            <a:endParaRPr b="0" lang="en-US" sz="28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Нечист, нечист!» — давал знать</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прокажённый,</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лухой, немой — безмолвно слёзы лил…</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Больных, калек — неслися в небо стоны…</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все язвы исцелил.</a:t>
            </a: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mpter’s power is</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broke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ars are wiped awa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takes the gloom and fills the life with glor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r all is changed when Jesus comes to stay.</a:t>
            </a:r>
            <a:endParaRPr b="0" lang="en-US" sz="28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4.</a:t>
            </a:r>
            <a:r>
              <a:rPr b="0" lang="en-AU" sz="2800" spc="-1" strike="noStrike">
                <a:solidFill>
                  <a:srgbClr val="ffff00"/>
                </a:solidFill>
                <a:latin typeface="Verdana"/>
              </a:rPr>
              <a:t>	</a:t>
            </a:r>
            <a:r>
              <a:rPr b="0" lang="en-AU" sz="2800" spc="-1" strike="noStrike">
                <a:solidFill>
                  <a:srgbClr val="ffff00"/>
                </a:solidFill>
                <a:latin typeface="Verdana"/>
              </a:rPr>
              <a:t>Their hearts were sad as in the tomb the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laid him,</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r death had come and taken him awa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ir night was dark and bitter tears were</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falling,</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Jesus came and night was turned to day.</a:t>
            </a:r>
            <a:endParaRPr b="0" lang="en-US" sz="2800" spc="-1" strike="noStrike">
              <a:solidFill>
                <a:srgbClr val="000000"/>
              </a:solidFill>
              <a:latin typeface="Verdana"/>
            </a:endParaRPr>
          </a:p>
        </p:txBody>
      </p:sp>
      <p:sp>
        <p:nvSpPr>
          <p:cNvPr id="5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4.</a:t>
            </a:r>
            <a:r>
              <a:rPr b="0" lang="ru-RU" sz="3000" spc="-1" strike="noStrike">
                <a:solidFill>
                  <a:srgbClr val="ffffff"/>
                </a:solidFill>
                <a:latin typeface="Verdana"/>
              </a:rPr>
              <a:t>	</a:t>
            </a:r>
            <a:r>
              <a:rPr b="0" lang="ru-RU" sz="3000" spc="-1" strike="noStrike">
                <a:solidFill>
                  <a:srgbClr val="ffffff"/>
                </a:solidFill>
                <a:latin typeface="Verdana"/>
              </a:rPr>
              <a:t>В сердцах — печаль, а в будущем —</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страданье,</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бит на крест, Кто был их дум царём;</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густился мрак, стеснили грудь рыданья,</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и ночь сменилась днём.</a:t>
            </a:r>
            <a:endParaRPr b="0" lang="en-US" sz="3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mpter’s power is</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broke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Jesus comes, the tears are wiped awa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takes the gloom and fills the life with glor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r all is changed when Jesus comes to stay.</a:t>
            </a:r>
            <a:endParaRPr b="0" lang="en-US" sz="2800" spc="-1" strike="noStrike">
              <a:solidFill>
                <a:srgbClr val="000000"/>
              </a:solidFill>
              <a:latin typeface="Verdana"/>
            </a:endParaRPr>
          </a:p>
        </p:txBody>
      </p:sp>
      <p:sp>
        <p:nvSpPr>
          <p:cNvPr id="5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5.</a:t>
            </a:r>
            <a:r>
              <a:rPr b="0" lang="en-AU" sz="2800" spc="-1" strike="noStrike">
                <a:solidFill>
                  <a:srgbClr val="ffff00"/>
                </a:solidFill>
                <a:latin typeface="Verdana"/>
              </a:rPr>
              <a:t>	</a:t>
            </a:r>
            <a:r>
              <a:rPr b="0" lang="en-AU" sz="2800" spc="-1" strike="noStrike">
                <a:solidFill>
                  <a:srgbClr val="ffff00"/>
                </a:solidFill>
                <a:latin typeface="Verdana"/>
              </a:rPr>
              <a:t>So men today have found the Saviour able,</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 could not conquer passion, lust and sin;</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ir broken hearts had left them sad and</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lonely,</a:t>
            </a:r>
            <a:endParaRPr b="0" lang="en-US" sz="28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Jesus came and dwelt, Himself, within.</a:t>
            </a:r>
            <a:endParaRPr b="0" lang="en-US" sz="2800" spc="-1" strike="noStrike">
              <a:solidFill>
                <a:srgbClr val="000000"/>
              </a:solidFill>
              <a:latin typeface="Verdana"/>
            </a:endParaRPr>
          </a:p>
        </p:txBody>
      </p:sp>
      <p:sp>
        <p:nvSpPr>
          <p:cNvPr id="5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5.</a:t>
            </a:r>
            <a:r>
              <a:rPr b="0" lang="ru-RU" sz="3000" spc="-1" strike="noStrike">
                <a:solidFill>
                  <a:srgbClr val="ffffff"/>
                </a:solidFill>
                <a:latin typeface="Verdana"/>
              </a:rPr>
              <a:t>	</a:t>
            </a:r>
            <a:r>
              <a:rPr b="0" lang="ru-RU" sz="3000" spc="-1" strike="noStrike">
                <a:solidFill>
                  <a:srgbClr val="ffffff"/>
                </a:solidFill>
                <a:latin typeface="Verdana"/>
              </a:rPr>
              <a:t>И в наши дни так многие познали,</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ак страшен грех, как мучит он своих,</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огда ж в бессильи к Господу воззвали,</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и поселился в них.</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cp:lastPrinted>2024-07-26T05:50:19Z</cp:lastPrinted>
  <dcterms:modified xsi:type="dcterms:W3CDTF">2024-07-26T05:50:13Z</dcterms:modified>
  <cp:revision>4</cp:revision>
  <dc:subject>Slavic hymnal Гимны веры христиан, hymn 255</dc:subject>
  <dc:title>Then Jesus Came (When Jesus Comes) / Сидел слепец с протянутой рукою</dc:title>
</cp:coreProperties>
</file>