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7A64-702F-4652-B81F-4F69D400E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3270-428A-487B-BDB6-252F45F43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CF81-7D36-4069-AFAB-7D43C840C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0DB9-14F0-4838-821A-3BFF65086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611E-F6AE-4908-87DF-5D06841F5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7099-D910-40FC-BCAF-4E020403A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48D4-3052-4D82-A430-2F682577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B6E7-B282-46DA-A4EA-9FF90DABB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422F-74D3-41EA-B51A-DA30F1730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335D-760B-4C44-ACCB-7F4B46B5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0219-589B-49EE-9902-712FA0A7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58D6-FA7E-4200-A0BC-73B2866E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921DD3-2B4A-4FCC-A830-835078AA72C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the Lord is K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Lord and King ad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tals, give thanks and 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riumph ever mo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8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икуйте во Хрис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 во Хри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непобед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ечной просто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 перед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ft up your he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ft up your v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again I s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як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всей зем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 в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the Saviour reig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God of truth and l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He had purged our stai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ook His seat abo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чье, слава, ч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адлежат Хрис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, победивши смер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шёл на высо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ft up your he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ft up your v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again I s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як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всей зем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 в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kingdom cannot fai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rules o’er earth and heav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keys of death and 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to our Jesus giv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шёл, Владыкой ст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небом и землё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мерть и ад попр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м даёт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ft up your he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ft up your v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again I s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як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всей зем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 в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 in glorious hop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the judge shall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ake His servants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ir eternal ho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, ждите д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збранных с зем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ый дом возьм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ft up your he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ft up your v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again I s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як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всей зем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 в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1:20:03Z</dcterms:modified>
  <cp:revision>12</cp:revision>
  <dc:subject>Slavic hymnal Гимны веры христиан, hymn 882</dc:subject>
  <dc:title>Rejoice, the Lord is King / Ликуйте во Христе</dc:title>
</cp:coreProperties>
</file>