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90A-31A9-43D5-A5A0-D4F0D40B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169-8039-43D7-8AFF-6C988D8B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1D0-8D36-4375-8370-06DFB86F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2D6-4073-45FB-95C9-08339D1D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86C-7587-42FB-AB6D-5571F8D7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116-BE7A-40A9-9C7D-95D0B55E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448-1C47-4F92-A606-9D08C65B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1CE-058F-41B3-AA72-8997402F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A9A-DC02-45EE-9F08-48679366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B8C-F344-40FF-8F8C-33AE483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D51-DB5E-4247-87D6-A3EE2F3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437-F2F4-4E56-887F-8EB107F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5C465-E49C-472C-8278-B14011F2D6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45Z</dcterms:modified>
  <cp:revision>12</cp:revision>
  <dc:subject>Slavic hymnal Гимны веры христиан, hymn 432</dc:subject>
  <dc:title>Вдали от Бога я блуждал</dc:title>
</cp:coreProperties>
</file>