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0F1-2645-4882-9882-4A84ED9F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4BD-4A96-45C5-BC69-500EEBC2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DE7-4551-4A9E-B465-27BD0110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162-6027-468E-A979-66004DCC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BD1-EF82-4F3A-8A6C-7E45E4B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511-FB49-41CA-99EE-522EDEBE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01C-0EF3-4B97-8D48-8BE83FB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444-AD94-4926-BE88-FD125E2F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5B9-0E13-4222-B8DE-B6CDF9B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B65-919C-49B8-A6B0-E0729A0E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237-B69D-4685-B70C-FF5D5F70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631-6978-44A8-B297-11E9FC6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5B07A-9713-4053-AF50-8911E377B6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y in a m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ib for a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down His sweet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in the bright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ed down wher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leep on the h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   Away in a M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attle are 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by aw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ying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thee, Lord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down from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 by m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morning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near me, Lord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sk The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se by m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ve me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all the dea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y tende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t us for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ve with The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35Z</dcterms:modified>
  <cp:revision>10</cp:revision>
  <dc:subject>The Source, song number 36</dc:subject>
  <dc:title>Away in a Manger</dc:title>
</cp:coreProperties>
</file>