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D25-8E72-445B-B4C7-9843EE5C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12C-7911-436D-B38B-8CC13506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D92-27DB-4003-B2D9-FE1696CA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663-FB99-46E0-B693-A555B4DB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773-615A-466A-8C15-117F81CF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BAE-514A-4A77-B8E1-1DB35EEF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A21-C8D1-42D9-9241-9277110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6B8-F531-419F-89FB-F8397AFC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E06-C1DD-45D8-AE14-23FE0A83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753-F35B-4810-88CB-0C70DA7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FE6-CFED-43D2-8D0A-C3D2DF0C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BD1-9ADF-4D38-9FD2-22C8EA04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C4F1B-AE08-4A4E-B381-F8F2928332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weary, are you heavy he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grieving over joys dep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  Коли горе на серце наля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ре на серце нал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шу смуток дуже зв’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the tears flow down your ch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b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sins that to men’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льози твій спокій звору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айні гріхи душу м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fear the gathering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s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anxious what shall be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чиш, що біда над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лод або смерть при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troubled at the thought of dy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’s coming kingdom a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світі пропасти не люб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царстві Божім хочеш б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5:19Z</dcterms:modified>
  <cp:revision>14</cp:revision>
  <dc:subject>Slavic hymnal Гимны веры христиан, Ukrainian hymn 6</dc:subject>
  <dc:title>Tell It To Jesus / Коли горе на серце наляже</dc:title>
</cp:coreProperties>
</file>