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C35-ECB9-4287-B562-5E189C81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39B-4CE7-427E-B012-E5321D8A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EFB-F54E-419C-B6EB-18513798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02D-D675-4D7A-953A-58A0335D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64A-CF0F-4A7B-B0E4-56992D1A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F59-DECF-422B-A3C6-7BC0216B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E9D-E2BF-47D2-A87C-99C42E2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351-7BB7-406A-B5F7-402CA5C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26E-A726-4BE4-AE83-91A8944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C2C-DBBA-4C28-89CA-6E527BFD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485-33BD-44D4-82F1-33B4A55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CCC-9DA5-41D8-99AA-D600C37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DE44E-DE35-45AD-926C-E4827B5C53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done with lesser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eart and soul and mind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 King of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смелей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разум, волю, сердце,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tarries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n the day of brothe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 the night of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з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ратства смело возве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силы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.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for you doth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trength unequal to her tas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and make her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церковь мир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труд ей пред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есто в ней займ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high the cross of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ead where His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brothers of the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одвиг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иди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зни, хитрости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8Z</dcterms:modified>
  <cp:revision>13</cp:revision>
  <dc:subject>Slavic hymnal Гимны веры христиан, hymn 524</dc:subject>
  <dc:title>Rise Up, O Men of God / Воспрянь, Христов народ!</dc:title>
</cp:coreProperties>
</file>