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341B-1094-47F9-808F-A2DE6700F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F15F-29CB-48E4-8716-5DC75286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A96E-E434-4DB8-8AB9-B7470B18F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3265-9DAE-4466-8CDA-67A2A441C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D773-2916-47C3-BC4F-527C41B6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5E8D-2993-49A9-BB5E-C904CCFA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AA56-4B23-4F03-8FED-99609B56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19F3-05A7-422C-A90D-800EECEE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9DF0-0E83-43AD-8C52-E6DB8DAF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DAC0-ACDB-418E-8E88-8CDF63AF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EAEE-1FF5-4E52-82CC-66B1FEDE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8F00-7E18-4C26-A955-6A97AB2E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D2C39-0810-4F61-9EC5-48A98F13307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уйтесь, братья, и в песнях духов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и честь воссылайте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нашёл всех в оковах грехов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явил к нам любви полн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ен в Своей благодати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храняет нас в жизни зем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воздвигнет святую об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дарит нам венец золо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Радуйтесь, брат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и, братья, тяжёлый наш жреб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мы в мире строптивом 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ст покой нам блаженный на н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дкрепит нас в тернистом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4:10Z</dcterms:modified>
  <cp:revision>12</cp:revision>
  <dc:subject>Slavic hymnal Гимны веры христиан, hymn 609</dc:subject>
  <dc:title>Радуйтесь, братья, и в песнях духовных</dc:title>
</cp:coreProperties>
</file>