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3EEB-DD7A-433E-A886-0199F0044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20A2-BD36-479A-9971-5717C124C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A723-D1C0-44AC-BD20-E7AF33B04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94D1-A136-4113-987F-B2819F13E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4D30-50D8-4CC0-A5A6-7CBE4A210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CD2F-A8D9-4380-8A7A-C0A35FEFE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B960-D28A-4B55-8BFE-04E4B230C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8E98-1F6A-4015-B309-E55DAB88E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37EB-5F73-4F4F-A8E3-18ED579D0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76EF-FEC8-4704-8662-E2BCD89FD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04AC-3BFF-45DB-8DF8-FB8A643D6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0007-0A98-4299-BAC0-211E9A067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B8920E-9C66-4EBD-B738-0503358749C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 стоим ещё у бре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краю большой рек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жидаем перевоз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на Родину вой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туманы над рек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ужасен гул вал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и ангельское пе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родных слышно берег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9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Здесь стоим ещё у брег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ерусалим прекрас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дали уж виден н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ивен свет его прелест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влекущий к небес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ж отозваны и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, на пристани, тепер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и нас возьмёт Спас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с ними, будем — вер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возь холодные тума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этой жизни мы пройдё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 вечное блажен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редь искупленных найд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02:41Z</dcterms:modified>
  <cp:revision>12</cp:revision>
  <dc:subject>Slavic hymnal Гимны веры христиан, hymn 695</dc:subject>
  <dc:title>Здесь стоим ещё у брега</dc:title>
</cp:coreProperties>
</file>