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5</a:t>
            </a:r>
            <a:r>
              <a:rPr b="1" lang="ru-RU" sz="3600" spc="-1" strike="noStrike">
                <a:solidFill>
                  <a:srgbClr val="ffffff"/>
                </a:solidFill>
                <a:latin typeface="Verdana"/>
              </a:rPr>
              <a:t>	</a:t>
            </a:r>
            <a:r>
              <a:rPr b="1" lang="ru-RU" sz="3600" spc="-1" strike="noStrike">
                <a:solidFill>
                  <a:srgbClr val="ffffff"/>
                </a:solidFill>
                <a:latin typeface="Verdana"/>
              </a:rPr>
              <a:t>Как прекрасны вверх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прекрасны вверху неб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звёзд всходит плавно лу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гда мои смотрят гл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уда, лишь туда, лишь т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ижу неба красивый наря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чему — «нет Творца» — говор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мом я понять не м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чему, почему, поч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ё сияет в своей крас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о мне говорит о Твор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ёт эту песню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тебя, для тебя, для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уду петь я о том, что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буду с Иисусом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Него кровь стекала с ч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за меня, за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Свой восторг я хочу пере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у Христу рассказ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лов лучших найти не м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Иисуса всем сердцем люблю!</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39:37Z</dcterms:modified>
  <cp:revision>3</cp:revision>
  <dc:subject>Slavic hymnal Гимны веры христиан, hymn 45</dc:subject>
  <dc:title>Как прекрасны вверху небеса</dc:title>
</cp:coreProperties>
</file>