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E1D-F07F-4516-8EF6-9AFE110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334-D0FB-48E5-8384-2803EDA8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10F-2E47-47CC-9539-5285959F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40C-C0F6-47F0-ACB5-0AD6865E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DD7-FC34-4515-9C96-C9ADCFB3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540-B2FF-4F9C-9081-565C76D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7B3-E02C-482B-8768-63E6704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057-0477-4AE2-B891-0BEB2541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59E-F55C-4454-8170-6E6E72EB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B27-7343-45FD-9903-CF8B20A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3DE-C111-4D42-9F6E-5A7F93E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6BD-A25A-4D14-9B11-A6A3FE2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3381-79C5-4CD2-BAF4-08A8E47760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never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closed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alk th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un th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Never Be 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lik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ak lik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 like mighty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 and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p away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away the ch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a flam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higher heigh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deeper s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 to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do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od fills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19Z</dcterms:modified>
  <cp:revision>10</cp:revision>
  <dc:subject>The Source, song number 264</dc:subject>
  <dc:title>I Will Never Be the Same Again</dc:title>
</cp:coreProperties>
</file>