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88B-77AD-4370-AD90-22982243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4D6-D066-40FC-A46D-54D2C1A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C3F-1A1A-4238-A5AB-540D9733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2E6-F0B3-4E38-BC94-141402EA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40A-1B47-43D8-BCAE-C197422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1F0-36D8-42A8-8091-AA7CBBB2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6C1-F7CD-4AF3-875B-ECF066F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A9E-E745-4F9C-B0F8-913EEEEC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757-1F79-41D3-8117-CD287C7D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361-5518-4AEB-B8A9-4E0425C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C61-17C9-40E7-A19D-C8D8A17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D42-D9A9-40E7-9A1B-A30CEB1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C00F-24FC-428D-A741-E33099AB29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атся дни тво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шь: заботы и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бя после смерти постиг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бе будет вечный при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кончатся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ты жаждеш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вольствий и выгод се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всё это мин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не поможет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возможно, подшучивал т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изывом упасть пред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узнаешь ты я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енье и жизнь только —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ощённый, грехами покры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сможешь на Бога взи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вечно Его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хочешь быть чистым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Иисусу приблизьс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Он небо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вятыми даст мест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16Z</dcterms:modified>
  <cp:revision>12</cp:revision>
  <dc:subject>Slavic hymnal Гимны веры христиан, hymn 358</dc:subject>
  <dc:title>Когда кончатся дни твоей жизни</dc:title>
</cp:coreProperties>
</file>