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1   Господь таинственным путём</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таинственным пут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чудеса тво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умане действует морс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буре к нам спеш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неизмеримой глуби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анит Он блага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м даёт Он и во с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рит, что хочет Са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е бойтесь, робкие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ловещих обла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и, по милости Твор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ы Его да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осподни мысли выс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аведны су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вают горькие цве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ладкие плоды.</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Неверье действует гу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видит Божьих 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м являет Бог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их жить Он восхот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Не уповай на разум с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 дивен и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раз скрывает за гроз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еобильный лик.</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8:38:23Z</dcterms:modified>
  <cp:revision>3</cp:revision>
  <dc:subject>Slavic hymnal Гимны веры христиан, hymn 41</dc:subject>
  <dc:title>Господь таинственным путём</dc:title>
</cp:coreProperties>
</file>