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DB6-FC85-448E-8343-B0466789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879-0FC8-48FD-84C2-44E0CEB6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137-9A87-44A0-96CE-EA1B7E2C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661-0E98-464B-A62D-1B9EC631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994-1786-4F99-989D-84D1DF07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F79-62C9-4A50-A10B-60D2AC5B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586-851B-41BF-A9D5-4EC08CE2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752-0550-408A-BE14-A3A8B375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B4A-2C65-433B-B98A-A004EB22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F7A-2A4B-46AB-BB9A-08903D37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CC6-6285-4BB1-B757-E29380CC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C6D-0223-4421-BB59-2E2EC10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F213-B9AD-470F-AD45-07F7325386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тёмном царстве ночи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ез Него угас бы нашей жизни свет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в сердце страха н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везде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не сам од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друзья изменят, верен Божий Сы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хранит меня Он и в долине тьм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мне звучат псал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хочу идт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 грешникам не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ыть Ему послушным, к слову Бож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ьнуть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сен жизни пу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готов поч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ночь пошлёт Он труд мой прекрат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меня пробудит к славе неземной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сердцу дом род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5:23Z</dcterms:modified>
  <cp:revision>14</cp:revision>
  <dc:subject>Slavic hymnal Гимны веры христиан, hymn 631</dc:subject>
  <dc:title>Да, везде с Иисусом безопасен я</dc:title>
</cp:coreProperties>
</file>