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E88-8541-41A9-A053-BC7B4B55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A1A-D938-4AF0-9F15-DC373A9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640-FF71-4DF3-90F9-C4061F28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287-33B8-4DA2-9F58-BD72FCC0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0FE-0BE1-40D6-A81E-25D5753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52D-9C4F-4B2E-ACC2-A3832A8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1A8-0F5A-4B66-ADCE-D3FDD72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857-C27E-4426-BE70-D8125C70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6E0-926C-4E8B-BD2A-68F2AE89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AD3-2E5C-4EEC-82B7-A65434B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8A-37F3-426A-89B5-5FC7598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02C-E170-48DD-9F7C-610BC4D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B4CF7-F5D1-484F-854E-73C09BB978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9:38Z</dcterms:modified>
  <cp:revision>13</cp:revision>
  <dc:subject>Slavic hymnal Гимны веры христиан, hymn 295</dc:subject>
  <dc:title>Он жив! Он жив!</dc:title>
</cp:coreProperties>
</file>