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DD7-C01C-4CB3-B115-648316C8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A55-BEC7-4166-8F26-4BA1AB26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28A-C981-45FE-B70C-2E3DF9E8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EC0-8E09-49A9-AD33-472B1EE6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712-2A3E-494E-AB54-A8633AE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BD8-2B0A-4FD9-A17B-99C2DD3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BEB-B16F-4252-826B-0A69800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C2E-250E-400D-9BC1-472AD94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D0-C504-4B64-8E43-3B6BC971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5D0-AB0F-4AA6-B25F-583ED35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520-C74E-49FC-AE98-348F851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624-EA9D-4DC8-AF4F-A5FE368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275CF-F7D0-466F-8DA9-13351EA477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ain would take my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hadow of a mighty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ithin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es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burning of the noontid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and happ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fuge tried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ysting place where Heaven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justice m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o the holy patri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ndrous dream wa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eems my Saviour’s cross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adder up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at times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ery dying form of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uffered ther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my stricken heart with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o wonders I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redeeming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unworth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, O cross, thy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abiding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sk no other sunshin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shine of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to let the world go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now no gain no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ful self, my onl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 all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6Z</dcterms:modified>
  <cp:revision>13</cp:revision>
  <dc:subject>Slavic hymnal Гимны веры христиан, hymn 415</dc:subject>
  <dc:title>Beneath the Cross of Jesus / Вблизи креста Христова</dc:title>
</cp:coreProperties>
</file>