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27C-9C33-4D70-866A-1EF77D67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A1C-3659-4693-8DAD-177C80B5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C71-CC1C-4B1E-8C83-D64B1E9B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E57-CBF1-40EF-9609-07EA6C8E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5AC-A753-4599-A735-BBB91FE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FC4-8F37-453F-AD37-9D4ECA43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205-FEB0-4F8D-8205-A59B34F5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96D-59D5-4474-8BBD-FD2BCB5D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4D4-C5E4-45F0-BE3C-CB583B6F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4C9-131B-4FCB-B8A3-21B5E68F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FAC-5947-4B61-9412-82F461BB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261-2554-4426-BC21-BB80C28C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617EC-908D-46BB-93CC-88C5FB2112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поток: он могуч и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по равнине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ещет, сияет, как ключ огнев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 тот чудный по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 по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ьё сердце проникнет тот чу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струёю заб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ет забота и тайный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благодати с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токе том слова Господн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от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 драгоценную пролил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тебе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жаждет, придёт пусть и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ьё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ух и Невест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удет в потоке том сердцем ом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Бога во славе уз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ветел источник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кус его сердце жи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ет и силу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ое чистым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7:37Z</dcterms:modified>
  <cp:revision>13</cp:revision>
  <dc:subject>Slavic hymnal Гимны веры христиан, hymn 402</dc:subject>
  <dc:title>Я знаю поток</dc:title>
</cp:coreProperties>
</file>