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DBE-2CDC-4B20-A76C-9C5E4AEA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501-538A-4AFA-AEBF-726A124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765-59C0-4960-BAF4-6512269F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3B5-7303-475C-927F-E75D76A1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C71-A0B4-42D9-B2F5-16DB1BE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59A-2F9A-4645-BA4A-F9EF387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3C0-E20C-42BD-9B50-DD3D8C8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913-77DA-45E2-A0C7-505C3E7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53D-680D-4467-B8AA-D2C6DCA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E2C-385A-4A9C-BBC4-3E8545E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E01-B602-48E6-BB4C-4B71B83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FED-41DF-427C-9533-4D70C597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A192A-40C4-412B-8FCB-E1EDBA005B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07Z</dcterms:modified>
  <cp:revision>12</cp:revision>
  <dc:subject>Slavic hymnal Гимны веры христиан, hymn 897</dc:subject>
  <dc:title>Мы должны светить</dc:title>
</cp:coreProperties>
</file>