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71E-5A25-47FA-BA29-5C53CE70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A6B-B2D4-43B2-BC6E-FA1410F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9DB-7226-4A0B-BD92-05BAEAB2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7B3-E044-457A-A158-A569AF57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DD2-6214-4771-B8DF-0230F13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212-5EC3-44E9-835A-B0E5DFEB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C2C-6348-4EF3-A271-50DE0F7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8DD-7A38-4E40-8C62-158EE97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A09-A74D-410B-B8D9-78B675AA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A89-4F45-4BBC-AD30-2C8CB77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CBD-1E88-4614-8E6E-F8969539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1EF-B818-4961-A9E1-E570B1B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A5F4A-668F-4700-A175-DB6A0C853A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nd 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answered pray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ways being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that hears us when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rms that lift us when w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always been right bes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ing us all along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made it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days we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’s ye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ials we may hav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e’ll be leaning on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be Your strength that sav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makes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thi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24Z</dcterms:modified>
  <cp:revision>11</cp:revision>
  <dc:subject>The Source 2, song number 630</dc:subject>
  <dc:title>And Here We Are (Here We Are)</dc:title>
</cp:coreProperties>
</file>