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4E6-D23A-41F5-B8F8-BCEF60CC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B94-81FD-4D57-9346-30445C3D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2C8-1595-4D9E-9D61-9F64CE56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5D2-52F0-4FFD-8FBA-E01F6DF9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ABE-4EE2-460A-A97F-8E251597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AA4-8DDD-49D5-B2F3-92BBB467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1B3-51F3-4C05-B01C-FB302D22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FB09-70A4-429A-B16E-81A36D2F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D43-B087-404D-A1C1-59AE6721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BA7-A57B-43E6-BDE0-55A1F93D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D97-CFD6-4101-B15A-5D487698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DBD-10C1-49A5-861B-9FD40EFA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6362A-9FC8-4ABF-BE4B-0C8943A577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Царь вселен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ясли Сам изб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дитя, смир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щере возлеж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глядел, как зр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дям говор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, в яслях был Спаситель,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мне чуждым 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сильный Царь вселен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олос я услыш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 яслях был в ч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щеры тесной дыш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к тебе и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 тебе ро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жить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изобраз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зеркале живо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ко мне яв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освет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 Тебе ро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ал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о! Ты ро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ал опять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мне всел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сли обре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и ж, Дитя Свят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и во мне,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, дитя земн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дыне не возр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сь я умаля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в любви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сь преображ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авы веч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8:31Z</dcterms:modified>
  <cp:revision>14</cp:revision>
  <dc:subject>Slavic hymnal Гимны веры христиан, hymn 232</dc:subject>
  <dc:title>Всесильный Царь вселенной</dc:title>
</cp:coreProperties>
</file>