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2E5-9F97-4089-BC30-02E7CC8B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98E-2A78-4E98-B64B-D9446A72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339-FB67-441C-A4E3-70545F10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71B-22DC-4C1E-9527-3B0D474F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1D6-3AD3-4796-B1D0-0DDD8310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7B8-0E90-4735-921B-6B581863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B92-000F-4BB8-B9A8-216AABEA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6AA-F047-4467-AC80-959407FB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8B2A-1FBC-4BE7-8964-DD8C41FD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C12-E449-4F67-A209-A09EDF36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DF1-7FBD-4F15-9328-195D581B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988-DE1E-4991-933A-351AB86D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DA419-4F9B-4BD6-BFC7-8995943E7B6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ngry, I come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know You satis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empty, but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does not run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wait for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wai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5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ungry, I Come 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alling on my kn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fering all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’re all thi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living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oken, I run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arms are open w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weary, but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ouch restores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wait for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wai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alling on my kn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fering all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’re all thi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living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24Z</dcterms:modified>
  <cp:revision>11</cp:revision>
  <dc:subject>The Source 2, song number 753</dc:subject>
  <dc:title>Hungry, I Come to You (Falling On My Knees)</dc:title>
</cp:coreProperties>
</file>