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A8C-3E8E-482B-A0DF-A926DDF3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C92-428E-4006-A59E-EFB22937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16B-58B0-426B-8F81-85D28469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D44-C103-4F98-BCEC-78CFC2CC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BA4-DB0B-43AA-B7C5-7694D12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41B-3C22-4F2A-A9FB-403214B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4EF-5CBA-4079-A2BE-58E9A2BF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C43-EE34-481E-AF2D-7D1D40A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061-82D0-42FF-BC60-0FF2A74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CCA-3AE5-4B75-9863-D76F01E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ED4-2A67-4B5C-88DF-086F007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432-23E9-4A15-A8FF-CD2E69F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0237-A796-499C-9E8D-F843AC6E2B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се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ден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ёстры, торжеств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чуж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ми м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се лику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приступ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 Синаю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уж не пуг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ы, мол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со кре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аслись от г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и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и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ить во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35Z</dcterms:modified>
  <cp:revision>12</cp:revision>
  <dc:subject>Slavic hymnal Гимны веры христиан, hymn 569</dc:subject>
  <dc:title>Братья, все ликуйте</dc:title>
</cp:coreProperties>
</file>