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592-FD2C-4809-9CDB-4473BC35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165-0FE4-4037-8104-EDF09C73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4EE-76AE-4B36-B1A6-212CC6A3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F25-630C-47EE-A6BF-4093CAD3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78A-D9FD-4A82-938A-E2839D84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1ED-B241-477D-82CD-381E64AD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85D-4039-4948-9F4A-E21D7D5D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942-E4EB-44BA-AB73-E494AD04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F86-55F3-4FF3-AFB0-3E217287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7C4-06A7-4025-A97E-F3E40072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39E-439C-4F2E-B701-28333909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198-DB1C-4466-BBDD-44D4C363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01318-0794-4326-AD1E-A806F2068A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be the fountain of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 world of sinners revea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be the dear Son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by His stripes we are hea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овь Свою Сын Бож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Сын Божий пр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жизни откр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ами Своими Он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овных язв исце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I’ve wandered far from His f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ing to my heart pain and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вца блуждал я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округ меня всё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rny was the crown that He w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cross His body o’erc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ievous were the sorrows He b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e suffered thus not in v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нец терновый по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за нас Он вис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пасенья грешн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любви Он всё претер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to that fountain be 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to cleanse my sins here be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that He 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лечёт поток тот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ко Христу всё силь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святою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ther, I have wandered from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ten has my heart gone ast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imson do my sins seem to m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er cannot wash them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, согрешил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 хочу я откр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я виновен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чем греха мне не см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o the fountain of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y promise, I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nse me by Thy washing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к Тебе я и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еня поток тот из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благодатной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31Z</dcterms:modified>
  <cp:revision>13</cp:revision>
  <dc:subject>Slavic hymnal Гимны веры христиан, hymn 431</dc:subject>
  <dc:title>Whiter Than Snow (Blessèd Be the Fountain of Blood) / Кровь Свою Сын Божий пролил</dc:title>
</cp:coreProperties>
</file>