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4</a:t>
            </a:r>
            <a:r>
              <a:rPr b="1" lang="ru-RU" sz="3600" spc="-1" strike="noStrike">
                <a:solidFill>
                  <a:srgbClr val="ffffff"/>
                </a:solidFill>
                <a:latin typeface="Verdana"/>
              </a:rPr>
              <a:t>	</a:t>
            </a:r>
            <a:r>
              <a:rPr b="1" lang="ru-RU" sz="3600" spc="-1" strike="noStrike">
                <a:solidFill>
                  <a:srgbClr val="ffffff"/>
                </a:solidFill>
                <a:latin typeface="Verdana"/>
              </a:rPr>
              <a:t>Верность Твоя велика</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рность Твоя велика, о, мо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ость и милость Ты дивно я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неизменен, от века Ты — тот 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 состраданья и отче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ую! Верность велик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ро за утром являет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то мне нужно для жизни, Он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ая, Господь, Тво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Лето и зиму, посевы и жат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лнце и звёзды, погоду и дожд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учредил, нам слова их понят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управляешь Ты, всё нам да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ую! Верность велик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ро за утром являет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то мне нужно для жизни, Он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ая, Господь, Тво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ир постоянный, грехов отпу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ую помощь в различных скорб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йкость в борьбе и надежду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дарует нам верность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ую! Верность велик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ро за утром являет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то мне нужно для жизни, Он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сть великая, Господь, Твоя.</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0:19Z</dcterms:modified>
  <cp:revision>3</cp:revision>
  <dc:subject>Slavic hymnal Гимны веры христиан, hymn 34</dc:subject>
  <dc:title>Верность Твоя велика, о, мой Боже</dc:title>
</cp:coreProperties>
</file>