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249-78E8-4A26-84D1-AA0A6B03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F3F-1B22-490C-A757-9E92DCA9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C66-D47B-48B3-8C05-3ECCFECD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B2F-2B5F-4BA9-ABB7-21C78D14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D70-B1C6-41CF-903D-79DC7A7E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2B7-FBD8-4873-B492-93E32A05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8A8-1568-4DD9-AB6A-9AC5EB71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2D3-6F4C-4464-976E-C0EE970D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EEA-3A0C-40E3-B29D-768D364B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C8E-CEBB-4CE3-8DEC-A77581F2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ACD-1530-4286-A695-644B9673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DCC-31D4-42FE-B950-2AFEF58A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6B513-26BC-43FF-B9E2-ACDD95F6C4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ошей греха 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ду её погрузи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траду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ы покрыты в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ас омое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блечёт бели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любви при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покайся и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жью слову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ит в отверстую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живые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живляют круг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скается гр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ликует о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43Z</dcterms:modified>
  <cp:revision>12</cp:revision>
  <dc:subject>Slavic hymnal Гимны веры христиан, hymn 356</dc:subject>
  <dc:title>К водам живым поспешите</dc:title>
</cp:coreProperties>
</file>