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00A-3B99-4195-8A2F-0DAD9E0D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9F1-5797-4445-B359-6C262FA6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368-ABB0-414C-AF70-09CEC036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8CC-512E-4EEE-8506-6370B5D5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F9D-A2B8-4E59-83E8-1B12195A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F59-3B0C-4297-BAFC-FCAD5151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C6A-AAA5-4C74-90BB-2BD9418F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87D-C42B-4A84-B247-A22D7925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1C7-CCA0-4784-B092-2BB310DD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CBF-E9EB-465E-9206-566D26B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7DB-F3FD-46B0-B0C9-1F55DCD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532-A7FA-4202-955E-ED052BB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47BB0-C330-404A-99B4-23968A2326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58Z</dcterms:modified>
  <cp:revision>12</cp:revision>
  <dc:subject>Slavic hymnal Гимны веры христиан, Ukrainian hymn 41</dc:subject>
  <dc:title>Bringing in the Sheaves / Будем розсівати</dc:title>
</cp:coreProperties>
</file>