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11D-0AC6-4B2A-BCFD-6056B17C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5A1-79FA-4CF7-A96D-662D0B4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39A-2118-4A9D-9281-CAE0386C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CBB-9B29-4367-B13C-F2E6EB2A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070-80B7-40AC-82E7-AA68BF1F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C15-EC4B-49B9-9943-E357BAD7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FB0-6958-4D9D-8E97-D0395393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937-7D1A-4A6F-BB29-CCEC2776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021-DF37-491E-89C1-F4692F1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C95-77AD-45C4-85D5-1FAF93BB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6F2-1DD5-48C8-8506-7D2B8A9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AED-97A7-4928-B277-9330339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61C68-BB90-4C70-A1D3-8BBDBD3A1E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, о гре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счаст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к тебе поспе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мир пошлёт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а   Призови Христа, о греш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отца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свят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им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сердцу м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зла лишь им креп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земную т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ри имени Христ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желанный мы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бе славном, н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сим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10Z</dcterms:modified>
  <cp:revision>12</cp:revision>
  <dc:subject>Slavic hymnal Гимны веры христиан, hymn 713 (as amended)</dc:subject>
  <dc:title>Призови Христа, о грешный</dc:title>
</cp:coreProperties>
</file>