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DBF-73F1-4AED-8CFA-5B080CA4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452-0B8C-46F7-BC41-52EB072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D6C-55F7-4F5E-BB5F-954129EC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2F3-EB9A-4088-9548-BE88AF3D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DF5-E9E8-49AE-BA33-876C879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210-2E5B-4942-9352-D3928870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006-91E1-446A-81D1-CE5672C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49A-FC10-40FE-9309-3CA6444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B9B-3FF3-487D-BD2C-81EBE90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2E2-FFDA-45DF-9AD2-CBAE00A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EA6-01C9-4A93-8778-299307C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950-3DFE-4A59-A5DC-C7D35C67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E2396-B815-4E6C-BBD6-4FD461D9E8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16Z</dcterms:modified>
  <cp:revision>14</cp:revision>
  <dc:subject>Slavic hymnal Гимны веры христиан, Ukrainian hymn 30</dc:subject>
  <dc:title>За тебе Я вмирав</dc:title>
</cp:coreProperties>
</file>