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B16-CE8F-4074-9270-5080C011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9BB-D6A0-48F1-A048-30B7710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0A4-60EF-46A9-96E2-2792CA27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C5D-6339-40BC-B624-6DCAE6B6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28B-D038-4053-BB55-A3B94A54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02F-DA87-4C22-9EE9-4B4E3C2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CC6-0D7F-4388-B25D-C650515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DBA-0BD6-4711-BDE9-35F192E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1FB-967F-49F8-9A72-9F74C38D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33D-FFAE-4067-AD41-5ECF75DB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D7A-071B-45B4-8333-838F629F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A77-A015-4922-A30E-34E4CA9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E8559-D8D9-4B52-A406-57219171A2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world come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the mercy we’ve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You can set the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is joy that fills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a hunger and a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’ve strayed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s We Worshi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nations hear our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Jesus and Hi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ved His lov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ll the lost and broken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y hear Your still smal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their names, each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08Z</dcterms:modified>
  <cp:revision>11</cp:revision>
  <dc:subject>The Source 2, song number 638</dc:subject>
  <dc:title>As We Worship You</dc:title>
</cp:coreProperties>
</file>