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02B-7165-4F51-9890-288D4386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C35-FB28-425E-8C47-F24D39DD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C9F-6CA7-4215-801E-70E8F4ED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EEF-CF40-4D9C-8356-5A817A48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E31-92E7-47C1-89DF-8E778E10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FBA-567A-4D3E-9806-BE72A572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BD2-129E-45F8-A609-E2327EA7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7CB-8041-4002-BD09-48C3959B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50B-21AA-439A-BF1C-1A3FEF22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985-F240-4168-B6C9-DBC05A78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894-B809-455A-BC16-71CD7C3D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24F-6202-4637-8EA7-B95A695E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3BC13-34A8-4784-B7EB-CC283DE40D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to prais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to 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circumstance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hance to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to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to worship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obey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40   I Was Made to Prais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prais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circumstance I’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hance to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worship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obey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13Z</dcterms:modified>
  <cp:revision>12</cp:revision>
  <dc:subject>The Source 3, song number 1340</dc:subject>
  <dc:title>I Was Made to Praise You</dc:title>
</cp:coreProperties>
</file>