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BB6-127B-4130-915E-F9AE49C4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37C-022E-4924-B1EA-D75A4A0D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801-B7D6-4B0B-8038-0A95BA59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D9A-7E79-40EE-BEBA-01F28ADE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B3D-5E4B-435C-9242-33360177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CDA-2D39-4758-84B0-7DFA5646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856-AD30-489E-9465-D8740FD7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18B-DF56-4D4B-B869-93CD4C3F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D14-7CD1-4013-B40A-6B745C0B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123-819A-440E-8081-1926CC93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9BC-00FD-48D0-B023-B6AD4EB4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487-3456-4490-90ED-B7324751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579B9-39C9-4B74-B1DE-724977CC79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Man,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redemption’s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glorified, now just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God’s Righte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kingdom will know no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s glory shall know no b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majest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is kingdom’s King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power and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he expression of God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ace of God, the wor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ed to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holiness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glorified, now just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kingdom will know no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s glory shall know no b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majest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is kingdom’s King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power and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37Z</dcterms:modified>
  <cp:revision>10</cp:revision>
  <dc:subject>The Source, song number 278</dc:subject>
  <dc:title>Jesus, God’s Righteousness Revealed (This Kingdom)</dc:title>
</cp:coreProperties>
</file>