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3BC-D4B5-4E6B-873E-3B51FEE4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AB7-7775-46B3-A10D-F883045F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8C8-2422-41F6-87EC-E640C2C9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958-0416-40FB-ABD7-D8EE9E6D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4B7-1C00-4867-B0FA-B4E70302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532-E47B-4BD1-AE68-43A55568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B87-3B86-40A4-9DA9-5FD6BD99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7C1-C515-4193-AC08-53D9549B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442-25CD-45DC-A322-6DED22C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6E0-EF08-4659-A980-875DA00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6E6-100F-4918-A149-2314823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59E-D65C-4530-9F2A-4A38210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D65AE-1DB9-4BFF-801D-73175B4836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03Z</dcterms:modified>
  <cp:revision>12</cp:revision>
  <dc:subject>Slavic hymnal Гимны веры христиан, Ukrainian hymn 62</dc:subject>
  <dc:title>Любить нас Христос безмірно</dc:title>
</cp:coreProperties>
</file>