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E12-D10E-49E5-A70A-B30B76B0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22F-6800-4A9B-93CD-E73AFF0E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B0C-0CE4-446E-855E-3C870032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1B3-4F29-4340-9E4C-8FBF2A9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51B-AB36-4FBE-8B8A-F0AAF70A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98B-8DCB-4B68-957A-10933863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A28-4824-4D1A-8DC9-22ED03E8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076-B64A-41E7-AC07-6A19968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99C-4875-4790-811D-F0ACAD4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A19-6CEF-49D1-804A-DD04273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5D5-E637-4236-AA6D-9FEAC71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413-9E15-4EA9-A2D6-989F8AD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BFAB2-D261-4C89-930B-06FAE6315D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ён Господ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миренного Он ви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-царски дар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от смерти изб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обод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ятого прими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енной Свое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риняли ту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егущие ст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ь сонную, глух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я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пошли посл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чудные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ь вера в душ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Младенцу прив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раб людей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землю при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всех веков Ро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яслях здесь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оскошного черт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ли ищет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любил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ец для всех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нём скот, вертеп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родится в нём по в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всё обновл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нии ве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ва ангел вос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рачном полуд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о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6:52Z</dcterms:modified>
  <cp:revision>13</cp:revision>
  <dc:subject>Slavic hymnal Гимны веры христиан, hymn 237</dc:subject>
  <dc:title>Ныне в городе Давида</dc:title>
</cp:coreProperties>
</file>