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1C2-D7CB-41DE-9A3A-38360D8C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094-329C-427E-ADAB-3842170A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88D-4D69-470B-BADB-04CA96D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719-225D-4CE5-92CE-5DF56DEC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123-5A3E-40A3-AE26-3706F7E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A65-65D0-4690-B791-8AC7D822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DA6-BA0C-4B75-B237-6DC207C2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AD1-66AE-4DB3-AC12-D7A7ECA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DE1-FFBB-41B6-8466-5023AAF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135-2DAD-4547-8C88-847200D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349-A159-4295-90C1-433EC6B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55F-FC51-4695-8B70-2D1B89F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987D6-84F7-4832-AACD-D6D7C80B15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4Z</dcterms:modified>
  <cp:revision>13</cp:revision>
  <dc:subject>Slavic hymnal Гимны веры христиан, hymn 490</dc:subject>
  <dc:title>Tidings of Salvation Bringing / За Евангельскую веру</dc:title>
</cp:coreProperties>
</file>