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9B3-F020-48C9-AAF8-0FCF622C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4DC-F091-4BCA-AD6E-CFDAF6B9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47C-51B8-4EFE-AFB5-C5F29B93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2F5-359A-43C2-AEE4-EFD0182B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77F-3AF0-4D37-9541-BFEA5CA1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5B6-93E5-41F7-93B2-7F42808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34F-10BE-47BB-B6A2-08A9FBF1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DE7-5384-4C99-A08A-FDD7E30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A46-E153-4614-9260-360B8D3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A9D-7AC2-432E-8AF1-128E691F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5E2-9194-40B3-8EFD-63F1EEE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C59-F31F-4FF8-BD3A-D9A75D88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9022B-E031-4A4E-AF5D-3D8EB04CC4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has dawned upo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d from cre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salvation now unf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for ev’ry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fanfares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scene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 humble gift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or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43  Joy Has Da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s of wonder fill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song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mighty Princ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lters in a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set each star in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ped the earth in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ing now to a mother’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ulnerable and help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pherds bow before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zing at the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fts of men from distant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sy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ld, a King is bor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ense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rrh, His death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y His blood He’ll w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Adam, Son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n as a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ing God an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, our mighty champ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Saviour, what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glorious myst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 Babe in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e Lord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4-12T09:22:32Z</dcterms:modified>
  <cp:revision>12</cp:revision>
  <dc:subject>The Source 4, song number 1943</dc:subject>
  <dc:title>Joy Has Dawned</dc:title>
</cp:coreProperties>
</file>