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E6F-C74C-4419-900B-9E1C7FA7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588-7B98-4F3C-8052-A4A3162A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F0B-E0F0-491E-B3E5-8B41E8E5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1E6A-65D0-41EB-95E4-FB730A44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236-85A4-4C67-A281-D3E72F6D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A5E-32F8-4E46-8CC7-46CE0E6B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551-0459-46DE-A5C9-13B18B6E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023-819D-4D72-B92B-878ACD2E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F11-E6DC-4E17-A639-19BD74B4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8A7-50C1-4A47-B816-0F402DB8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7EF-8FD1-431F-80E5-67B5DEFD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BF3-12E9-4326-898C-9BF63F77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5D452-518D-4A63-A098-9806C7B53E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dying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though hope of vic’try is d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faith defending and never b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forsaking this world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ть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с Ним ум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ую долю можно ль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смиряться, стоит боро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за это мир весь отдат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 though life is brie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ing death’s shadows, sorrow and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triumphant, never despond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at last our crowns we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краток хоть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далёко смертная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я, не уста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трудиться пусть нам не лен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conquering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the cross ’mid mock’ry and d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’s journey ended, our tent up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everlasting we’ll then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грех побед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поношенья бодро с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ив путь жизни, чтобы в отч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й бессмертья венчанн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8T07:52:59Z</dcterms:modified>
  <cp:revision>14</cp:revision>
  <dc:subject>Slavic hymnal Гимны веры христиан, hymn 468</dc:subject>
  <dc:title>Living For Jesus, Dying With Him / Жить для Иисуса, с Ним умирать</dc:title>
</cp:coreProperties>
</file>