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E9A-5C3E-49B0-895F-5F8F8C1F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A94-C34D-4617-B5D1-A69F588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B86-15C7-4D0B-830B-1B80727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B35-D6DB-4DBA-8112-10B83670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A95-C821-4CE6-9225-4672CC24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E90-4EB0-4F98-AA36-0A68C93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323-14B6-4CE0-B6ED-0999BF0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B0E-5505-46BE-B7C3-8FBE0356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050-B8DB-42B7-9851-728442D1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D07-2114-4D3A-952E-1543F4E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37-33EB-4FFC-8D68-4E101F2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1E5-DFE5-4A2C-A4EA-1CE93D2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8A4F-FB03-4D59-B6B2-535A7CDE7A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00Z</dcterms:modified>
  <cp:revision>14</cp:revision>
  <dc:subject>Slavic hymnal Гимны веры христиан, Ukrainian hymn 4</dc:subject>
  <dc:title>Never Will I Forget / Не покину Я вас, не забуду</dc:title>
</cp:coreProperties>
</file>