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ED7-4088-4B3A-8707-7E51C208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B92-9384-436B-B0CF-1FA95FB4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039-B7A0-42D4-A322-F5E934CA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FD1-0860-4FDA-83A9-6FAEDBC3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F54-E227-4765-9BAB-DDD78A8E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392-39FA-451E-AC8F-476AEF9D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4F5-A12B-4967-B666-1B0F14EA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229-4409-4162-99E1-F887976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69C-43F0-45F6-AAF6-A99ABFF4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201-D3C1-46BA-8319-69CF640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29B-3C97-4FEA-96B9-6147683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FA9-482F-4440-A556-B6C2FAE1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B9D31-DE7C-4027-A8C8-13D55143F7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8   Father, Into You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22Z</dcterms:modified>
  <cp:revision>12</cp:revision>
  <dc:subject>The Source 3, song number 1198</dc:subject>
  <dc:title>Father, Into Your Courts I Will Enter (All the Earth)</dc:title>
</cp:coreProperties>
</file>