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DE6F-8AE6-44A0-A3E9-ADCE90A8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34EB-5229-45C4-935C-FEDB8120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18C8-00E2-49A8-B831-24BB4713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135B-AC5A-4021-A8BB-EBF20188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3F83-6C5F-4701-8EAC-82208443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0539-42A8-49A6-86D4-FB1E15CC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86A7-E487-4E7F-A135-CCEC9220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EFCC-5C81-46B3-BC4C-CD0D7EEE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31F6-9919-4384-8B9E-14727A0D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61E7-E659-4842-97E1-E21A669F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BFA3-4F40-4449-8DE7-98DD8AC3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EF49-788E-4DA7-A81C-F02D39C2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0F378-C716-4DFE-9A1A-0499BDD7033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видит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светлое око Тво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уже с этого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ертвовал сердце м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наешь желанье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лышал мной данный об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, заключить поспе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ю Твой новый за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Господи! видит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сверши над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к смерти для все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к жизни воскресшей, и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к данной Тобой чист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членом был церкви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самой кончины я дн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 верными свято мог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ё Вспоминанье тв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ю могучей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ты меня, о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й, чтоб я с радостью нё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крест по долине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делай меня на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ерным в служеньи раб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не заснул ник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данным Тобою тр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7:24Z</dcterms:modified>
  <cp:revision>12</cp:revision>
  <dc:subject>Slavic hymnal Гимны веры христиан, hymn 475</dc:subject>
  <dc:title>О Господи! видит меня</dc:title>
</cp:coreProperties>
</file>