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A17-B360-44EE-8F88-B889BAD0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F92-50C3-4186-9965-39880C48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137-581D-48CB-BD68-6CCD3775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F42-9E36-4413-B876-5DE4E0ED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392-76EC-4BAE-BC74-F8F3A0CA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469-0542-48CA-91E1-909157F8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FD5-03CC-47F0-8DCE-FA736A98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BD4-B289-498C-81CF-8804E414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695-545D-4661-A802-17F39207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5A9-57A3-4502-974E-28EA9014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001-D429-473A-BCDB-3281D2C9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26C-EDDC-42F6-B5DB-C03F3EFF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5F535-7CA7-4D9C-A650-A358F834E8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a river glorious is God’s perfec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ll victorious in its bright incr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, yet it floweth fuller eve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, yet it groweth deeper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вною ре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ою рекою льётся Божи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гая, разливаясь вши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уже он полон, всё ж течё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же проникает и живи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ed upon Jehov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are fully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ing, as H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peace an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den in the hollow of His blessed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foe can follow, never traitor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urge of worry, not a shade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blast of hurry touch the spiri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, сокрытых в мощных Божи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ельстит лукавый, не настигнет вр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оснутся сердца ни печаль, ни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облазн неправды и ни тень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ed upon Jehov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are fully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ing, as H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peace an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joy or trial falleth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aced upon our dial by the Sun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ay trust Him fully all for us to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trust Him wholly find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lly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ли горе свыше су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по силам Господом д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огу верим, то войдём в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ог для тех, кто верует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ed upon Jehov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are fully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ing, as H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peace an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57Z</dcterms:modified>
  <cp:revision>14</cp:revision>
  <dc:subject>Slavic hymnal Гимны веры христиан, hymn 600</dc:subject>
  <dc:title>Like a River Glorious / Славною рекою</dc:title>
</cp:coreProperties>
</file>