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DF57-2A45-4923-9448-17F73669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C215-0794-4BFE-A4B5-473A3FC2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B2A6-D29E-446C-9901-2FCE71DA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2F65-C01E-4D4D-B2B1-324580AD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023D-A6E2-44CF-AFB3-1D1166DC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A076-026B-4F24-9202-9D4B9E36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2652-6FC3-48AA-915C-5A1C3038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C79A-2AB5-4AAF-BE08-AA339CF5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29C0-0700-4599-B525-F8795634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A9E2-DD15-4A7D-BC10-D27EB7CB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2AD8-896D-4D96-AC3D-3A09C3FF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791D-F3EC-4535-A3AA-73440A82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F274C-AF7F-4392-97A5-A246B01363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у лине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оправ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світ полюбив Ві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Сина нам 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кров’ю Своє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и нам о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сім нам двері жит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к відкр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7   Христу лине сл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Його, вся зем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, всі племе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до Сп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при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й Йому сл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всі добр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щення дарує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ом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вірить у смерть 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інн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айгірший гріш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ірить Й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митий, спасен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Його, вся зем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, всі племе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до Сп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при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й Йому сл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всі добр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икуп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ам мир 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радість по вір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Ісуса нам д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ін візьме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вого Отц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и всі ра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им Хри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Його, вся зем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, всі племе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до Сп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при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й Йому сл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всі добр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2:41Z</dcterms:modified>
  <cp:revision>12</cp:revision>
  <dc:subject>Slavic hymnal Гимны веры христиан, Ukrainian hymn 67</dc:subject>
  <dc:title>Христу лине слава, Бог нас оправдав</dc:title>
</cp:coreProperties>
</file>