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9A9F-454F-4DA4-B1EA-40170CA6D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812A-49E7-4DCD-A85D-8D096811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3350-6BB8-45E7-887A-DCE0BB736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1AA3-334E-4980-A6FD-80F88ED14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C54F-8BD0-4015-BABB-C22D822A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2EA5-77FE-4136-B288-30E41B44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C863-DDA1-4D7D-8C6C-9B9D88DC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90BB-ED35-486C-9AEE-A91D8E1D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823F-FBFB-4DF4-B72E-126CD45E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A350-676B-4801-A5CB-0AD0371E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57BC-803C-4940-B580-0027B927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9AA7-7D59-420A-85A5-4785FC1F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8C529-BD10-4002-AE8D-D46C10E833F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есный Спаситель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мой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есный Спаситель жи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кале благодатной мне отдых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радость и верный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удесный Спас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ыл Он меня в благодатной Ска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но грозы ника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ыл Он меня в Своей вечной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крыл меня нежной ру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крыл меня нежной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есный Спаситель со мною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имает мучительный гн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 и спасает меня от вр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славной победе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ыл Он меня в благодатной Ска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но грозы ника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ыл Он меня в Своей вечной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крыл меня нежной ру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крыл меня нежной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честь Его милостей дивных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брежен любви океан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 пред народом, пою в тиши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ивный Спаситель мне д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ыл Он меня в благодатной Ска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но грозы ника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ыл Он меня в Своей вечной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крыл меня нежной ру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крыл меня нежной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тый в нетленье, при звуках тру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тречу Христа Сам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жертву спасенья, за всё, Кем Он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всеми прославлю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ыл Он меня в благодатной Ска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но грозы ника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ыл Он меня в Своей вечной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крыл меня нежной ру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крыл меня нежной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3:36Z</dcterms:modified>
  <cp:revision>13</cp:revision>
  <dc:subject>Slavic hymnal Гимны веры христиан, hymn 595</dc:subject>
  <dc:title>Чудесный Спаситель, Христос мой Господь</dc:title>
</cp:coreProperties>
</file>