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FBC-F95A-4279-8F2D-DF976E2B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3BD-884E-4932-970F-75EC3D1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E25-9288-41AF-9DC4-F5F1A5E0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11F-82BC-4EF6-8ABE-F75610B3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39D-5231-4C76-8E8C-594E6C48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44A-75AE-46B5-8B34-181B955D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2F1-3D3A-49B3-A0A6-35E5DB7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98E-3FD0-4042-A22A-51717CFC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018-3715-479A-8D76-15B0BCB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451-2820-4433-BEA5-C7D211B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CDE-DA05-43F6-93CD-D9FD9CA1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A91-A677-4433-9AAA-E2148F51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DD404-4AEE-44B3-8904-2CB6876FF8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, как других, не украшен цвет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ушистые розы на нём не цве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 весь усыпан одними шип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рновника иглы на нём лишь рас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у я, изранены ноги жест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труден мне кажется пу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голос в душе моей, где-то глуб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веренно шепчет: «Не бойся, 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путь, как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т голос Спаситель мне в сердце вселя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илы даёт Он в борьбе со грех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бесное царство Он дать обещ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мир и блаженство вовек с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путь тот уж кажется мне не тяжёлы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селяется в сердце полн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я приближаюсь к священным высот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вечная радость и свет вечных дн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голос тот с неба меня приглаш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Усталый, измученный путник земл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града святая тебя ожид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ебесную славу скорее вой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8:40Z</dcterms:modified>
  <cp:revision>13</cp:revision>
  <dc:subject>Slavic hymnal Гимны веры христиан, hymn 507</dc:subject>
  <dc:title>Мой путь, как других</dc:title>
</cp:coreProperties>
</file>