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BB7-6C92-4B14-8078-20B5DDF8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C6F-AD1F-4451-B3E1-50DA92D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A16-F84F-4A70-9190-ED94DC37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586-13F2-4C8E-873F-4966F78C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222-B921-4901-86EA-4493245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ACF-E238-40EB-ADF6-6DF23CF2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B54-EE10-4ADD-9EF7-0D68503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1BD-B8B1-49C2-922E-F163725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F61-7D7A-49F8-82F9-DF833977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E06-BFD8-47CC-B846-6353A8B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9CE-4781-4366-B1E7-D1CD3D0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A68-3153-45B6-8186-09E0590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077D7-4392-45F6-96F0-90D7CAE458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т ли враг со всех стор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раком путь твой окруж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й силой обл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шь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снит ли вр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небо над гла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редавшись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сомненья не вни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ись и упо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опоры ты лиш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душою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вших Бог благосл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ыше наде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ся ль скоро гнёт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горечи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ова обод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, укре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путь земной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 небесный свет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енье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52Z</dcterms:modified>
  <cp:revision>12</cp:revision>
  <dc:subject>Slavic hymnal Гимны веры христиан, hymn 481</dc:subject>
  <dc:title>Теснит ли враг</dc:title>
</cp:coreProperties>
</file>