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6</a:t>
            </a:r>
            <a:r>
              <a:rPr b="1" lang="ru-RU" sz="3600" spc="-1" strike="noStrike">
                <a:solidFill>
                  <a:srgbClr val="ffffff"/>
                </a:solidFill>
                <a:latin typeface="Verdana"/>
              </a:rPr>
              <a:t>	</a:t>
            </a:r>
            <a:r>
              <a:rPr b="1" lang="ru-RU" sz="3600" spc="-1" strike="noStrike">
                <a:solidFill>
                  <a:srgbClr val="ffffff"/>
                </a:solidFill>
                <a:latin typeface="Verdana"/>
              </a:rPr>
              <a:t>Как орёл я хотел б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ак орёл я хотел бы подня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ободно парить в выс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отов и под ношей сгиба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бы людям сказат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чему ж опустилися кры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жней ревности нет, поч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но камень на месте застыл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ворится со мной, не пой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спытанья, труды и невзг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ложили унынья печ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чаливо блуждаю в наро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рузьям перестал довер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е хочу я в себе замыка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о вянуть, о прошлом скор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мне, о Боже, подня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 надежда моя на Те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Возврати мне былые поры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ревности пламя заж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видеть созревшие ни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рудиться на них помог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9:02Z</dcterms:modified>
  <cp:revision>3</cp:revision>
  <dc:subject>Slavic hymnal Гимны веры христиан, hymn 186</dc:subject>
  <dc:title>Как орёл я хотел бы подняться</dc:title>
</cp:coreProperties>
</file>