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343-B1D4-47B4-87EC-07ADA5F1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D3D-2E7A-4F84-8FFC-66C86ECA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C25-7943-43A2-BC25-64BAC5D4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90C-233E-47D4-B12B-173BB80A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D47-0D98-4D69-B9EE-6C48C481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02C-886A-4E4B-849A-E61C37F0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1DB-22BF-48CA-8182-2F7833CC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C5C-B345-405C-9D92-6C2F956E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621-33B1-47D9-BAEC-E57F625D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7D7-1B11-4C14-852A-47A4EF79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07D-D24E-4E9E-82CD-63E0A820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E2B-5EC2-4E49-97BD-6E0DA52E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72478-E9AE-423C-8B2C-D520B909AA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ейское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грает волн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радость, то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ред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тебя пригр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не горди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ажи душе сме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Ешь, пей, веселис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тейское море игр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ожет ведь ст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однишься с сум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шь ты скит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рячей слез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ожет быть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ая мог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ипучие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59Z</dcterms:modified>
  <cp:revision>12</cp:revision>
  <dc:subject>Slavic hymnal Гимны веры христиан, hymn 773</dc:subject>
  <dc:title>Житейское море играет волнами</dc:title>
</cp:coreProperties>
</file>