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5A2-EF94-4033-B2C7-8A2BD7EF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9DB-7346-4A32-B86D-C9773327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F74-B3A4-4718-BBB9-1C64D3CE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A7D-F6BE-4592-A3DB-55535EC9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5E2-0959-4DB1-AF32-B6596C14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8B7-FFFF-412B-8BCD-F064DCF3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0F2-A02B-416E-8CBC-5F4C6FCC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B34-F8CA-48A1-9480-0B3A2421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23D-26C0-40FD-A453-EF2F41BA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36E-0E90-495F-82E1-F7A9063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550-9BA8-47BF-8DF6-EEBD0AC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B10-F29A-4D7B-A755-ED63A0F4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F616F-84A4-4D3F-95DA-6EEB361C48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scued me, and picked m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iving hope of grace rev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ife transformed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have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ing me, You healed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 from sin and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ught me life, You made m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have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Rescu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oved me before I kne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ew me for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been created in Your image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bought me, and You sough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poured ou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creation in Your image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scued me, You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57Z</dcterms:modified>
  <cp:revision>9</cp:revision>
  <dc:subject>The Source, song number 605</dc:subject>
  <dc:title>You Rescued Me</dc:title>
</cp:coreProperties>
</file>