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EEA0-3287-48AF-BFD1-4BC12426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9536-4914-4CF3-A60D-CFA2E47A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C1D-EDB3-4421-A31F-9ECA59C2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25CA-5B07-4D27-B202-3A9AA9E2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3D6-45A6-422A-86CB-81E53DF6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369-9DBC-4745-AB8A-5B1239AF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705-9A72-4C11-93CB-F6BC3F86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4697-60FB-4D5E-BDA1-3CB36C32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BC4-B849-451F-9898-D4BCE9BB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ADB-7810-4B66-8C26-9CB86C22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5077-0756-49B2-96BB-F570FA75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5D5-640D-4078-A47F-F3DDE48D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7F15D-44F6-4AB1-A41A-CFBA99C432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тру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 нам выступать в пох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Начальник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!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не бойтесь, н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Побед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вучит тр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душно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мся к вечной цели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х войско благослов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евностью горели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раг сил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тив нас не усто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чрез Агнца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― наш Вож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крепкий щ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 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ожию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душно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мся к вечной цели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х войско благослов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евностью горели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лго будешь ты враг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ь сво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ай в ряды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скорей в Отцовски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ав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го тру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душно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мся к вечной цели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х войско благослов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евностью горели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3:40Z</dcterms:modified>
  <cp:revision>12</cp:revision>
  <dc:subject>Slavic hymnal Гимны веры христиан, hymn 491</dc:subject>
  <dc:title>Звучит труба</dc:title>
</cp:coreProperties>
</file>