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F7D-D8EE-4F9A-8674-BF289878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A88-5EF6-4254-976C-885E5C3A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4C4-C1A9-4B4D-974C-4B3A001A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940-CB43-4138-A2E3-DC8C9AD9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333-F56F-4D4E-AA24-4035C2E7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AF7-11AA-45E0-A52B-808AEF5F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0FF-5360-41AA-A154-493FCF9D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E1A-5F12-42F2-85B1-B3484EBD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B9F-992B-4E08-9BE0-864105AB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DAE-0204-47AE-9569-1BCA8451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F8C-B181-435F-80AB-9A2FC534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F95-3028-4F9D-BF00-7F37309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7CD34-9742-4305-A4A5-272D27EABA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Иисус моим сердцем владе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мыслях и в чувствах пусть Он ли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ив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й любви здесь никто не име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ём лишь покой моё сердце най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Иисус моим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лько Христос даровал мне свобод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щной рукою оковы разби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любви Он хранит меня всюд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а елей в Мою душу изл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в бореньи душой ослабе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лишь Один слабый дух укрепи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ём я поток очищенья име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у и радость душе Он дар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нчится битва, в селенья свят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ам Он с любовью меня приведё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 не нарушат страданья земны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Отчих объятьях мой дух отдохн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50Z</dcterms:modified>
  <cp:revision>13</cp:revision>
  <dc:subject>Slavic hymnal Гимны веры христиан, hymn 476</dc:subject>
  <dc:title>Пусть Иисус моим сердцем владеет</dc:title>
</cp:coreProperties>
</file>