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671-6AAA-4A06-B6D8-19A2FF9F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22A-3344-4869-B12A-D90DCDE9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8BF-2281-4BA3-8A02-E82B6289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179-E93C-4037-8381-DF1442D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CE0-C456-4FE3-86CB-2A50887B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F65-7F27-4023-8F39-053F559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032-6224-41FB-A2A0-200BAF0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652-1AE1-45C8-80B0-727E8D42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2D8-EF1D-422E-8237-89314E5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8B5-E841-4FE0-B66A-076865E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57-52A8-4895-84AE-1849230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5A2-2F02-497E-BDA7-F347FC7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27341-90D2-403D-AF66-7EC7C1F1D6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здай во мне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гони меня от лиц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ятого не от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озврати мне Твоего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правым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6:46Z</dcterms:modified>
  <cp:revision>12</cp:revision>
  <dc:subject>The Source 2, song number 669 in Russian</dc:subject>
  <dc:title>Создай во мне сердце чистое / Create In Me a Clean Heart</dc:title>
</cp:coreProperties>
</file>