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38C-9528-41C1-83AC-D7471FD1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33E-0DC5-4B7B-8CAC-7D20B6D4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D67-1ECA-4084-A668-AF71D8E0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420-8F42-4035-9118-77C13F71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1B5-71CE-459C-AC17-FD47F93B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3FE-DD66-4005-97F4-4D6EA860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82F-6C89-4D42-A347-FEA0EB06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381-E61D-4E11-B45E-07607680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01C-4C58-43C5-94F5-498714A6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5D2-6974-46B8-A2DC-C4F5E4B5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CB9-2A8B-48EE-98BD-18ABF228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31B-921B-45C0-9BFD-0593FE3F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57B77-4375-4BDA-A351-3159BFDB05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жизнь Ему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призывая, Он даёт им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страдая, взял твой грех Он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ерь Его сло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 бой за Ним вступ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битва злая, ты ж не уныв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душа больная слаба пред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ерь, победа в Н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Христа взи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не забудь о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сияя, день горит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дь земная исчезает вдр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 Нём пребудь, о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труд свершай ты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вой день кончая, в Нём на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ука святая приготовит п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 Нём ищи тво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скорби жгучей взор твой у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няют тучи вид Христа крас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е, в царстве рая, горе позаб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будешь ты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2:12Z</dcterms:modified>
  <cp:revision>12</cp:revision>
  <dc:subject>Slavic hymnal Гимны веры христиан, hymn 363</dc:subject>
  <dc:title>На Христа взирая</dc:title>
</cp:coreProperties>
</file>