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9EC-781B-454D-833A-43E68C58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2F2-4A8C-4349-9A2A-4D1B499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596-EB40-4D15-9604-A3A896AC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C5F-F03B-46B5-8933-A9271BB3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72E-6126-44E7-80CC-2ADE28B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9F7-8B26-4C92-BB5B-E5E15F03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26D-6546-419D-BEDA-DA5FE602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F57-7405-48F3-AF93-08CD40E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AFB-6958-4E51-AC13-8FA1BC97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6B7-7B4E-4253-B15B-0A82F2A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90E-7096-424C-89D8-253A123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730-EF92-43BD-A6C6-C9D5FB38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644E8-0CD2-4EAA-8539-40FBF7EC5D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ходи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мой Руко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Ты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 лицом Т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на Теб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жу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Тебя у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знать Тебя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радостно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ам Ты мне откро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шь меня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13Z</dcterms:modified>
  <cp:revision>12</cp:revision>
  <dc:subject>Slavic hymnal Гимны веры христиан, hymn 809</dc:subject>
  <dc:title>Пред лицом Твоим, Спаситель</dc:title>
</cp:coreProperties>
</file>