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EC7-B343-4963-AF17-59C80494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3C3-2F07-4094-ACDD-6741290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915-E483-4118-AA1C-F08594E2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A8E-DFF6-436C-9FDC-2AC5CE46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2B3-632B-4F91-8986-9EA93928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F6C-ECE5-495D-A599-AF96489D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1AC-C9B7-47AE-ABF8-E356A26C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463-1181-41D5-8702-7545FA1C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E68-094E-4253-B68E-E12E45E2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1C9-E7E8-4C3E-A2A3-67806B9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2F4-E06F-4F9A-A475-34E56E3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8B5-E545-490F-90BF-B5F2170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5C167-452A-4428-89D2-B3F97497A8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59Z</dcterms:modified>
  <cp:revision>12</cp:revision>
  <dc:subject>Slavic hymnal Гимны веры христиан, Ukrainian hymn 66</dc:subject>
  <dc:title>Чи зустрінемось з тобою</dc:title>
</cp:coreProperties>
</file>