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FFA0-1EEB-418C-A166-97758C312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9C65-73C6-4A72-930A-64CB67DB2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30CF-C439-4B28-B237-B797BD121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0633-133B-4582-A845-BE9D30FEB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EC9B-B992-4734-9DCE-F78302C21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67A0-C1A5-458E-9AF6-027CC009C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70FA-1CC5-4750-9793-09DD1A3A9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5680-1D97-4ABA-BDC9-CE3B25792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5A94-F051-4BAD-A5AB-558871CE0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C39A-C9F5-49CE-92F8-3722DAB3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3417-DCDA-4BCD-BB18-83EFE31A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BF19-EF3A-4005-9C5B-8A57D64D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4D0801-AACD-40D2-9147-31A7B5BE4DD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re here because of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part of Your great pla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have come to seek Your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 the wonders of Your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es, we need Your touc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You’ve given us so muc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we just want to thank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all You’ve done for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590  We’re Here Because of Gr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ve come to bless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ing of kings and Lord of lord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ve come to give You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one that we ad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, cleanse our hearts with f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fill us with desire for Your cou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for Your presence in our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You’ve made a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cause of Your great l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our hearts are filled with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all that You have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re is none lik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faithful and so tru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we just want to thank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all You’ve brought us throu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ve come to bless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ing of kings and Lord of lord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ve come to give You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one that we ad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, cleanse our hearts with f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fill us with desire for Your cou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for Your presence in our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15T05:54:48Z</dcterms:modified>
  <cp:revision>12</cp:revision>
  <dc:subject>The Source 3, song number 1590</dc:subject>
  <dc:title>We’re Here Because of Grace (We’ve Come to Bless Your Name)</dc:title>
</cp:coreProperties>
</file>