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448-C5F8-429F-A56F-24DB8201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E46-A957-4D78-964D-11C6655D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01C-89D9-4D21-A2FB-A88D216A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98B-19A9-4E8B-AAF5-53477680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C0B-0FB6-4528-A8ED-583175D5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ABC-B03D-4E6B-AC37-2BF58E1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D1E-8331-4B17-A715-D58F3B9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A3E-9125-4147-84F5-60D24C48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104-79E7-44E0-B1CE-7A7B45E5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2FA-347E-4CF8-B00E-54FCCFE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556-90B1-4414-9A26-9997232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D4B-8191-46DE-B768-8D45487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AE6ED-D306-4447-8581-1E881A7B3A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6a   I Have Decided to Foll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02:23:52Z</dcterms:modified>
  <cp:revision>14</cp:revision>
  <dc:subject>The Source 2, song number 766a</dc:subject>
  <dc:title>I Have Decided to Follow Jesus</dc:title>
</cp:coreProperties>
</file>