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F39-0276-40A8-BE80-35236102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3B4-1564-4DBA-9841-905B03F1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A05-8820-4EEE-A806-D14A8CB1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396-E31B-404C-BC6A-BEA947E4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58E-8223-4FE6-BBC9-1881E19F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D86-4A9A-4EA8-A441-6A0B1AC3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EBC-3F55-499F-A273-6497F752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F28-29DB-4BC2-9D8C-F83D10CB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21C-CF4B-4735-BAAC-B36CE0B5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552-DCC3-4A9A-830A-DC513D2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A16-B541-471B-B999-FAF6300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ECB-8E65-44A4-84ED-628F17E6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4B256-3526-44AD-886A-2FE3A7E810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это слово мне ми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 оно ласки,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 на руках нас но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охраняла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сколько ты пере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сколько горя с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ы берегла и хран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дорога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ама, это слово мне м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кто так любит, жал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ак сам не ценит с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кто так нежно леле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да ты только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ко Христу возно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помогала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 и болезни взрост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нет подобной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часто дети не цен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олне всю забот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ску, доброту они губ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у не жалеют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, поздно будет у г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кать и терзаться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Ваша кратка д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гостя с кос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3:10Z</dcterms:modified>
  <cp:revision>12</cp:revision>
  <dc:subject>Slavic hymnal Гимны веры христиан, hymn 815</dc:subject>
  <dc:title>Мама, это слово мне мило</dc:title>
</cp:coreProperties>
</file>