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07F-51B0-4639-8D92-071E8448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009-D43A-46EA-8A72-451142C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A2C-D212-47AA-AFDE-DA48BEEE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3B5-5197-4C45-99C2-E7EFBDD2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5A6-85DF-429F-B792-9130355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DE2-75CF-48B7-B647-2D08719D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670-41E0-4917-9A76-3192D4BE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B7C-BC86-47FC-8A6A-630EB048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A7C-7271-4861-AAE3-81704CF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77B-F850-40D9-96CC-14833EB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08F-7008-4623-A8FC-FFAAAFE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BB6-0F47-4EBD-B756-35879F9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79853-3B96-47BD-A745-149B0D2204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12Z</dcterms:modified>
  <cp:revision>12</cp:revision>
  <dc:subject>Slavic hymnal Гимны веры христиан, hymn 692</dc:subject>
  <dc:title>Отчизна моя в небесах</dc:title>
</cp:coreProperties>
</file>