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D02-8F3A-447E-BCDC-C9E33CF4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BAB-A869-41B7-AC7D-0DA528E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7AF-3297-4587-8EBC-0220E0C9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C7F-2C50-42EC-AA60-34D089C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B06-F339-4A9D-AA68-0397B5E2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5C8-4B37-41D6-B120-9A6BA06B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758-73B3-4664-B6C8-DEB22E3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8A8-B86E-4469-927B-7F5DC0A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EE0-18A2-465B-A6DD-5E843C54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DEF-8822-4850-981F-1349F95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63A-F70C-4E02-A23D-1B03AC8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CB6-742D-4ECA-9DBF-B200F76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5E11-F7A1-4330-9CFA-FA23F81898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life’s dark vale we w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tch and wait and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what griefs oppr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is arms will res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let my lamp be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my soul be y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heart pangs no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eace and joy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doubts and fears will v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om His face will b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way wa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feet grew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1Z</dcterms:modified>
  <cp:revision>13</cp:revision>
  <dc:subject>Slavic hymnal Гимны веры христиан, hymn 324</dc:subject>
  <dc:title>When Jesus Comes (Down Life’s Dark Vale We Wander) / С небес Своих лазурных</dc:title>
</cp:coreProperties>
</file>