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D87-61C3-4F99-97D2-0E333E79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64D-4814-40CB-9BCB-D564BED5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82B-3B23-4449-BDFD-CF53327E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27A-3E44-457F-B5F6-F2BD1A69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61F-D5E6-48D4-8BB6-ACC9B627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BBC-7269-47F7-9792-BAA9A41A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388-66DF-4D36-A33E-6177E37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977-69A3-4CD9-B86B-8C980DB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0DB-5CF0-43D0-A468-F8CB0471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9D4-8E11-400E-BEF7-AA393E3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597-919A-4EFA-BAE6-0953CD7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9B8-8357-4822-BBEB-C3F9BD3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4412A-A751-4A9D-BCC5-3136F6F734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ather,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36Z</dcterms:modified>
  <cp:revision>10</cp:revision>
  <dc:subject>The Source, song number 103</dc:subject>
  <dc:title>Father, We Love You (Glorify Your Name)</dc:title>
</cp:coreProperties>
</file>