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12B-8693-4E60-9980-F6D005CB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881-4031-4575-929C-304AA9FE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DAD-FB34-45FB-B337-A4BB8A2D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705-B982-4332-B420-96F396A9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9BF-3C8F-4021-ABDC-5C9813A0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D60-CEBD-4CAF-9EC0-5FB5E365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CC2-6AF0-4453-A856-75906B4A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4B5-B16C-45C0-A3ED-49A3590D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1C5-82FD-4C63-A478-527FA5A1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264-90B0-4760-BEE8-5DB86028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36B-EC51-4675-BFAD-D0625EF2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300-1BFD-4A21-9E08-3AA354E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2950D-11AC-4C0A-84C9-179453C0FC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ак много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ны и вздохи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мы счастья ис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скорбели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ушедши в зем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и добра от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лишалис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х не видели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ире так много печ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 нежд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, могуч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из густого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вела к жизни 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тал нам любящим Бо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м Небесным Отц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не стонем под и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, надеждой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грехов очи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а Христова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, тревоги, сомнень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мутся и тают, как л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наш путь оза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нам свыш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в пути под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ь перед нами ви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21Z</dcterms:modified>
  <cp:revision>12</cp:revision>
  <dc:subject>Slavic hymnal Гимны веры христиан, hymn 630</dc:subject>
  <dc:title>В мире так много печали</dc:title>
</cp:coreProperties>
</file>