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C2C-040A-439F-AD12-6AB2A720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C6D-D6BF-4167-9279-6875FE61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F9B-5F4A-4A58-B9B8-BAFE0D8B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164-0451-4DDE-9170-9B5D65F4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8A0-DDEC-49E2-8611-2298291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F04-A07E-48A2-B078-75B2409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305-F54F-461A-901C-B8A914A2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CA4-D5CC-4269-A719-B7BD2FFC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B39-CE18-41F7-9495-72D33B6F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E80-AC24-470D-88CA-AF79D6E8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9A9-3C18-4971-93FC-4B209BD2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B9A-5282-4627-9D6C-C7D0170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04DE7-B3AD-4BA2-8A56-1B66019FF6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от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а мне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е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жертва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лг был уплач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этот дол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ъятна вина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ыкуп от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ой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д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частье, надежд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е и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удел мой земн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тал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т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и разби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ятся н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е богач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 непо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мне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ртогу 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клю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58Z</dcterms:modified>
  <cp:revision>12</cp:revision>
  <dc:subject>Slavic hymnal Гимны веры христиан, hymn 421</dc:subject>
  <dc:title>Не золотом тленным</dc:title>
</cp:coreProperties>
</file>