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0B5-EEED-48EF-8CFC-0C3E7207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8A5-3148-48E5-803D-136CACE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4B3-32CA-4466-948B-4A548B35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7A5-7D0F-440B-BF97-9F22E332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2FE-1DFD-4032-AA77-18EEFC01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30E-E8B8-4E10-9D1D-3DBFE007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3C9-45C2-40A2-BFA1-DDCEC022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21D-6A95-40B9-BCC3-37B105F4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798-6261-4081-9C75-B9429F1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952-5FC2-4307-9A48-3A52533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014-950F-4763-8DB2-2F9DDCD8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A90-15CD-4672-95D0-E4AC437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86B81-2252-447C-A4C1-19995A47E3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, Боже, їм 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ногі лі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бур і не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все захи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їх хай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ою м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ло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круг них сі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8   Дай, Боже, їм щас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їм мудрість Б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життю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а й важні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е в світі ц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25Z</dcterms:modified>
  <cp:revision>13</cp:revision>
  <dc:subject>Slavic hymnal Гимны веры христиан, Ukrainian hymn 18</dc:subject>
  <dc:title>Дай, Боже, їм щастя</dc:title>
</cp:coreProperties>
</file>