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1B2-2512-4B2B-89F5-41B898C1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796-E416-463D-B567-FD8D7A8D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686-9B7D-49D3-87DE-F7C31507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F49-9F59-40A0-AA3F-F958E520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2D8-489F-4590-AAE4-33DA376E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89D-2034-4A8B-BD47-D4662728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172-2B54-4DD0-AAC3-30477BB3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155-DC6B-44EC-9818-5967CE11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F5E-2961-4CDF-9FEC-C417D1C8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CE2-F325-4E2A-965D-79202850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70C-7740-4443-818B-EA735861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F0F-9936-448C-8E26-240150A0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A2290-6E96-4C7A-BF98-0C347B06AD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звись, мій милий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радість Ти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звись в тяжку год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дам свій голос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і тісно було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и дав мені прост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пер мене помил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іддай на погов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0   Обізвись, мій милий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йте страх та віру в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 люди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важайте ви про Нь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важайте ви в тиш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засяй над нами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м Твойого ли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 святим, чудовим світ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ам сяє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32Z</dcterms:modified>
  <cp:revision>14</cp:revision>
  <dc:subject>Slavic hymnal Гимны веры христиан, Ukrainian hymn 20</dc:subject>
  <dc:title>Обізвись, мій милий Боже</dc:title>
</cp:coreProperties>
</file>