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A31-F051-4671-8875-E6420BB1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093-DD75-4E7F-A9A2-96ABC329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92B-80D8-4ABF-A438-0C5AA298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98E-142F-4A60-A2CA-52FAE986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C29-DB8B-4BD6-BE21-D9A06313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34B-7C53-4437-BEC8-880A1123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CA2-BECD-461A-B098-D3DB3202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377-300C-4846-BE5D-20EF298D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2741-3214-4C61-8D0C-2F24C304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78A4-7B59-46BB-9FFC-2BC9E0DE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ECA-020B-4055-A485-B874B43D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F08-5261-44A6-88CA-395E28B9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2C691-5ACF-46A8-82E9-350F8B80E0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Saviour, glorious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Redeemer, Living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, имя всех вы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имя всех вы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, Славны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мануил, Бог вечно с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тель, вечно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2:40Z</dcterms:modified>
  <cp:revision>10</cp:revision>
  <dc:subject>The Source, song number 291 in Russian</dc:subject>
  <dc:title>Иисус, имя всех выше / Jesus, Name Above All Names</dc:title>
</cp:coreProperties>
</file>