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F8E-53B4-4BEE-9212-2013A1DF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9B5-B060-48FD-920F-AE20AEC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433-FF6A-4DED-94EB-685CEEF0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1E0-4DDB-4964-B6C9-5F59D1F1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322-DFA2-41E0-88D5-7374089F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CC6-C99B-4941-B90E-BB2B372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90B-FE06-4B97-82BD-0BEA2DB4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EF6-36A7-457D-ABDA-92592FB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FAB-4662-45E9-90FF-DC1D8239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F63-FE93-49B0-AF31-28E0DCA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4F9-6534-4416-9257-EABC975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FDB-30E7-4F5C-83B2-9AADB1F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E3557-0BFA-407D-AFA2-0BBC0241F7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the Lord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Hi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delivered me from all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set my feet upon a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ot be m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3   I Will Bless the Lord For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ne I desire besid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00Z</dcterms:modified>
  <cp:revision>12</cp:revision>
  <dc:subject>The Source 3, song number 1343</dc:subject>
  <dc:title>I Will Bless the Lord For Ever (Made Me Glad)</dc:title>
</cp:coreProperties>
</file>