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2C5-1DC6-41FE-B83C-9870349F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C8E-5C3D-4E54-9A23-BE46175C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AD3-D872-4270-8D81-CBAC3734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0B3-6BEB-4D55-9340-F416C199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4F2-3E79-47FF-B67A-A442C16D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39B-AAFD-492C-BCFA-69A462EB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1B9-A505-493D-A030-A1734C7E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6FA-906B-4767-B023-0AAC71F2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CBB-BA58-4ABA-ABB8-EE79632E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3E17-C11A-4B43-96D3-1920EBA9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28B-B761-4DEA-BC44-CA48B904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926-7845-4EBC-859C-BE774BB8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61467-4901-49BA-90F1-FF2173A1C6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the joy, joy, joy, joy down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in my heart, down in my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the joy, joy, joy, joy down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in my heart to st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1   Я маю радість, рад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 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 в серці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 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 завж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37Z</dcterms:modified>
  <cp:revision>12</cp:revision>
  <dc:subject>Slavic hymnal Гимны веры христиан, Ukrainian hymn 111</dc:subject>
  <dc:title>I Have the Joy, Joy, Joy, Joy / Я маю радість, радість</dc:title>
</cp:coreProperties>
</file>