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100-CD5E-492A-AB4E-2C3146A2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DB5-47BD-4D15-BC79-076BCD12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740-E3CC-4A7E-9926-884E5DBC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235-05AB-4FCB-962B-F5FEE988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DCF-7298-49C2-8720-DD3E643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AD8-F311-4B5B-9E07-DDBFF70C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D35-5255-4B0D-8556-E1D6BD02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5F0-B157-4714-87AE-53722606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3A5-775B-4372-879D-39E742EA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CC2-279C-4997-AE3F-3D0BB986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45C-5D8B-4AED-9C61-5573F374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F74-6E80-4651-AA3E-BC8F1D3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DBF5D-4B84-486F-B8A9-8E00F7D07A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ещё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зким тернистым тро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емя Христа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елит Сам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силы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! С Ним крест на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лгофы не трудно 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трудиться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роемся вдаль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пре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57Z</dcterms:modified>
  <cp:revision>12</cp:revision>
  <dc:subject>Slavic hymnal Гимны веры христиан, hymn 502</dc:subject>
  <dc:title>Только немножко нам</dc:title>
</cp:coreProperties>
</file>