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4F6-3EAF-4209-AC41-20211439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FB8-43D6-486B-9F10-06BAC9EC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671-6E43-433F-AB1C-2EF6C801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E19-307A-495C-98EE-E9C5E62F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4A4-0D5D-4387-930F-90F93F6E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CE3-E97E-4CDD-8F36-CDFF2A98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D84-7ADA-4C72-96C0-565BC600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68C-7595-4ACC-9939-18F59D59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937-5595-4BDE-A2DA-4A31F58C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4B2-0DF8-4669-84D8-5344A36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2C8-F650-4D10-AB3D-1D74791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577-F626-4182-92D9-DD2223E2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F2FD7-69DA-4450-9CD9-1483E4347F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shers of men, fishers of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7   Я зроблю вас ловц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овцями людей, ловцям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, if you follow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и все Моїм слі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, аліл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3:41Z</dcterms:modified>
  <cp:revision>12</cp:revision>
  <dc:subject>Slavic hymnal Гимны веры христиан, Ukrainian hymn 47</dc:subject>
  <dc:title>I Will Make You Fishers of Men / Я зроблю вас ловцями людей</dc:title>
</cp:coreProperties>
</file>