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287-B32E-4C37-B6B9-273A3B22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724-9DFF-4D13-8123-7049BDB3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349-684A-4A82-9DE4-18E89D98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01A-C91E-4227-B971-156FDA47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882-6B04-43DA-ABF2-DC8BB4C4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BCD-43DF-4C57-B3E6-08CCCE28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3E7-2771-4A8C-AC0C-013FDA72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026-2581-48F1-8090-2308F45F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4CB-7AA1-4127-AF19-C9AB9956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242-51EA-4151-968D-B0D35FB8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B3F-C6AD-4663-957B-5149C97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F16-9124-469E-B442-E11E2F27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5CECA-3CE5-467D-BDA1-116EFB854C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, радість буд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емний залишим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м в Божий 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сте там дерево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м побачим м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нях слави не зем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йме там Сво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1   О, радість, радість б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вузьким нам треба 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 небес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по ньому не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 вічних мук при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зійдем на шлях ву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живемо час тяж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, в небесах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емо в рідни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воскрес і щезнув 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, ось, в велич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х, світли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глядає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, стомлені, сум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вічні радості кра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тяжко, журно в світ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те спасінн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2:41Z</dcterms:modified>
  <cp:revision>13</cp:revision>
  <dc:subject>Slavic hymnal Гимны веры христиан, Ukrainian hymn 31</dc:subject>
  <dc:title>О, радість, радість буде там</dc:title>
</cp:coreProperties>
</file>