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751-2314-45B6-BBD7-3B4DA4F1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1D7-7B07-4972-9086-E44199CE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2FD-9D0F-4B5E-97D8-12532821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F4D-2812-4283-8CF4-9920D0F9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3C0-EF3F-4CA0-9CAF-3B7EE033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E92-AF5A-493C-B66A-740BC6A2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1DC-779A-4B58-AD5D-52636D1F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515-B3C6-4238-8A6E-1C4AE1F3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3C5-1462-4CB2-A264-9F3C003B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913-0B5F-44FB-A61E-2FAFC8D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14D-3E39-4D95-B3EB-AA7DAA23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765-4C0A-49D3-B4F2-98ECE3D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C0F80-3E95-4F93-BB87-5247B4DC0C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я у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Уте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ам навек при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овь Божия, вста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полноту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ики во всех м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ются в своих грех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у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силой полны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ас, для вас,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молясь и ве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а будет нам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ть 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ад к Пятидесят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е поспе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етхой жизн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щенье Духом и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вымо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59Z</dcterms:modified>
  <cp:revision>13</cp:revision>
  <dc:subject>Slavic hymnal Гимны веры христиан, hymn 309</dc:subject>
  <dc:title>Я не оставлю вас одних</dc:title>
</cp:coreProperties>
</file>