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73D-387E-468C-88CA-2697F0CF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AFA-BD55-4333-86F1-3BEAF19B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2E8-9811-462A-8FBD-5E208D2D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8A3-7EB5-41AE-8A2B-9FD3475C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86A-BCB3-4A78-B7DC-CBEC4903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235-BC20-4702-9CC8-DB48283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F26-995D-48E8-B7A5-0B184AA8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C1F-21F4-46D4-BE80-9C067BD4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691-CE68-4938-AF91-71919596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772-6D5C-4665-894E-E9557FB5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030-3664-4728-922E-7A332808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80C-7A89-4DE2-8A4A-74A9BF4F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E2680-966E-4E74-B31C-C19376074B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страдаю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так печа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теш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со мной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темно,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амолкла пес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умер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д на Иисус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возвра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ах пусть ваш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ущ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ышу глас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покое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истина и жизнь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лаг Он пол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39Z</dcterms:modified>
  <cp:revision>12</cp:revision>
  <dc:subject>Slavic hymnal Гимны веры христиан, hymn 701</dc:subject>
  <dc:title>Зачем я так бессилен?</dc:title>
</cp:coreProperties>
</file>