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09</a:t>
            </a:r>
            <a:r>
              <a:rPr b="1" lang="ru-RU" sz="3600" spc="-1" strike="noStrike">
                <a:solidFill>
                  <a:srgbClr val="ffffff"/>
                </a:solidFill>
                <a:latin typeface="Verdana"/>
              </a:rPr>
              <a:t>	</a:t>
            </a:r>
            <a:r>
              <a:rPr b="1" lang="ru-RU" sz="3600" spc="-1" strike="noStrike">
                <a:solidFill>
                  <a:srgbClr val="ffffff"/>
                </a:solidFill>
                <a:latin typeface="Verdana"/>
              </a:rPr>
              <a:t>Я усталый, изнурённый</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Sad and weary, lone and drea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ord, I would Thy call obe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e believing, Christ receiv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would come to Thee today.</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Я усталый, изнурён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сподь, к Тебе и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грехом обременён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к ногам Твоим паду.</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am coming, I am com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oming, Saviour, to be bless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am coming, I am com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oming, Lord, to Thee for rest.</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сподь! к Тебе иду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х мой слабый ожи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Твой мир святой дару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крепи в Твоей любви.</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Thou, the holy, meek and lowl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sus, unto Thee I co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Keep me ever, let me nev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rom Thy blessed keeping roam.</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Я несчастный мира ж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покой душе най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пришёл к Тебе,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Тебя я не уйду.</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am coming, I am com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oming, Saviour, to be bless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am coming, I am com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oming, Lord, to Thee for rest.</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сподь! к Тебе иду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х мой слабый ожи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Твой мир святой дару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крепи в Твоей любви.</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Here abiding, in Thee hid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eeks my weary soul to re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ill the dawning of the morn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en I wake among the blest.</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О, утешь мой дух печаль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теперь мне отдохну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моги свершить мне дальн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тернистый в мире путь.</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am coming, I am com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oming, Saviour, to be bless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am coming, I am com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oming, Lord, to Thee for rest.</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сподь! к Тебе иду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х мой слабый ожи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Твой мир святой дару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крепи в Твоей любви.</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Be Thou near me, keep and cheer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rough life’s dark and stormy w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urn my sadness into gladnes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urn my darkness into day.</a:t>
            </a:r>
            <a:endParaRPr b="0" lang="en-US" sz="32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И когда средь болей жгуч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устану на пу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руках Твоих могуч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рю, будешь Ты нести.</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am coming, I am com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oming, Saviour, to be bless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am coming, I am com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oming, Lord, to Thee for rest.</a:t>
            </a:r>
            <a:endParaRPr b="0" lang="en-US" sz="3200" spc="-1" strike="noStrike">
              <a:solidFill>
                <a:srgbClr val="000000"/>
              </a:solidFill>
              <a:latin typeface="Verdana"/>
            </a:endParaRPr>
          </a:p>
        </p:txBody>
      </p:sp>
      <p:sp>
        <p:nvSpPr>
          <p:cNvPr id="5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сподь! к Тебе иду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х мой слабый ожи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Твой мир святой дару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крепи в Твоей любви.</a:t>
            </a:r>
            <a:endParaRPr b="0" lang="en-US" sz="3200" spc="-1" strike="noStrike">
              <a:solidFill>
                <a:srgbClr val="000000"/>
              </a:solidFill>
              <a:latin typeface="Verdana"/>
            </a:endParaRPr>
          </a:p>
        </p:txBody>
      </p:sp>
      <p:sp>
        <p:nvSpPr>
          <p:cNvPr id="5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28T20:56:44Z</dcterms:modified>
  <cp:revision>3</cp:revision>
  <dc:subject>Slavic hymnal Гимны веры христиан, hymn 209</dc:subject>
  <dc:title>Sad and Weary, Lone and Dreary / Я усталый, изнурённый</dc:title>
</cp:coreProperties>
</file>