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742-53D8-440E-B109-6892DE0A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DAC-3497-4E6E-82C2-C0C781A0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E29-BDF3-4053-B087-255907A1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80D-4FE3-41A0-A8BA-6A35A1BE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B5E-7609-40D9-B610-7003F320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777-ACB9-44E3-B09B-75AD3386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1DA-15CF-4243-86F9-295917C8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2B3-1D98-4E87-96D5-53FA2DDC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32C-E2A4-4A0C-B7F9-BFDC3184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1BF-2A15-4472-A2FE-55A8A655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8A6-BAFA-46BB-BDDB-2DDD01AF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534-A330-4409-A667-993E4226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86159-2124-4DFE-95FE-74164AD312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has lost its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grave has been den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lives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allelujah! Jesus Is A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Alpha and Omeg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rst and last i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urse of sin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have perfect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mb of God ha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has lost its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grave has been den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lives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Alpha and Omeg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rst and last i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urse of sin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have perfect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mb of God ha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03Z</dcterms:modified>
  <cp:revision>10</cp:revision>
  <dc:subject>The Source, song number 142</dc:subject>
  <dc:title>Hallelujah! Jesus Is Alive</dc:title>
</cp:coreProperties>
</file>