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0360-8FA3-4B91-B952-294DD871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E1B3-EE18-429E-92DA-165178FC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2244-BFF4-4086-BF63-39E1EAB31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CA18-76BA-4ADF-AE6F-BDEC819F0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F2CA-7D0E-476A-A1D9-6F366AC3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82EC-488F-44AA-A01E-E16546CC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9DCD-9522-4AEC-B01A-A1D0F5F0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018F-FEBD-4211-81F7-70EB8C8F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3582-54DF-4116-B39E-0A4EB68E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AFE5-D7C2-4490-A31A-D2AE4D2E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313C-3A12-46FE-A1A6-8F73DF14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EA9C-C674-4521-B416-4435D72D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AE22D-D4C4-483E-B931-1272E096B60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Jordan’s stormy banks I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ast a wishful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Canaan’s fair and happy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my possessions l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ою у Иордана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у Иордана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ижу чрез стру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анаанские к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думы все мо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ho will come and go with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охнём мы, друзья, в краю ро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берега, где нет зи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Моисея воспоём, близок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 вечно будем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all those wide extended pl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ines one eternal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God the Son forever re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catters night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поля вдали го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расный вечный де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ожий Сын в любви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яв ночи т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ho will come and go with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охнём мы, друзья, в краю ро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берега, где нет зи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Моисея воспоём, близок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 вечно будем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chilling winds nor pois’nous br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 reach that healthful sh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ckness and sorrow, pain and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felt and feared no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могу в тот край во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росветлеть душ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увижу лик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ца, чтоб мир най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ho will come and go with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охнём мы, друзья, в краю ро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берега, где нет зи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Моисея воспоём, близок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 вечно будем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shall I reach that happy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e forever bl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shall see my Father’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n His bosom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, чистою надеждой пол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 бежать отс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страшен гул шумящих вол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достичь я цел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ho will come and go with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охнём мы, друзья, в краю ро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берега, где нет зи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Моисея воспоём, близок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 вечно будем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1:53Z</dcterms:modified>
  <cp:revision>13</cp:revision>
  <dc:subject>Slavic hymnal Гимны веры христиан, hymn 677</dc:subject>
  <dc:title>On Jordan’s Stormy Banks / Стою у Иордана я</dc:title>
</cp:coreProperties>
</file>