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8D3-D75B-4BCC-BF6B-11582031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E5E-D796-4CB6-BA55-2C8D02C3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B03-2CBE-41D7-9714-739D5C22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FCB-D70F-4AB6-97D6-85A6A56D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F5E-84DA-4CDA-AFF9-BA900480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A17-8083-44D9-B84E-3DA40219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E21-D461-49EF-AE85-16EFB781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5D2-D23A-4EA9-BAE9-BF103DA6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5F9-723B-4973-B29B-A4D6765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BE7-F0AC-4E95-973F-1E71CC1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456-DAAE-41FA-AA8E-2B33E0E5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9E3-4CD0-4727-A96B-A0C6C2C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4F63A-74B0-427A-90E5-05626CAEAA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05Z</dcterms:modified>
  <cp:revision>12</cp:revision>
  <dc:subject>Slavic hymnal Гимны веры христиан, hymn 708</dc:subject>
  <dc:title>Не оставлю Я вас</dc:title>
</cp:coreProperties>
</file>