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E86-C26C-4859-89BF-BA1621B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518-5A8E-4911-908C-2C49612B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2E9-41D9-4DE6-B325-C2D35225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E6B-F5DD-452E-90F1-86B572BD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432-E02D-41CE-BEB2-0B5CFBD3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B5E-54C0-4808-B4D1-1D55B1A8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7F6-A8FC-4A08-A9AF-364C4A9D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7CC-839D-419B-8EB8-65BE53CE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0F0-22A2-4EF3-BDFE-8C116662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593-C649-424D-B18B-81F0E063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834-11D8-4DBF-A00B-F5FA025B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93B-A23F-4E3E-9623-C27982C8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15C76-573F-4094-ABC7-0C999E6653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, living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pite of dungeon, fire and s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our hearts beat high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we hear that glorious 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а костре, не от ме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дце радостн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ас вера горя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fathers, chained in prisons dar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still in heart and conscienc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would be their children’s 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y, like them could die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ы за веру шли в остр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олеть их мир не м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внукам их в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ую верност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, we wil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friend and foe in all our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each thee, too, as love knows h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kindly words and virtuou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уч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зей, люби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Христа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рочном царстве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4Z</dcterms:modified>
  <cp:revision>13</cp:revision>
  <dc:subject>Slavic hymnal Гимны веры христиан, hymn 616</dc:subject>
  <dc:title>Faith of Our Fathers / Живая вера не умрёт</dc:title>
</cp:coreProperties>
</file>