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131-2ADE-432C-B55A-16261EA7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CF3-BBC4-41A5-8298-D17C5B89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0ED-B82D-4FCC-84A1-1A7F664C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7C4-D7ED-4791-AB8F-9EAE73AB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499-B2EB-42AD-BFD7-EFCBE61F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4F2-316B-4A0C-B127-AAA3A51F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119-9661-4EE8-8C6A-68B85FE8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696-52F5-4544-B5B6-2B4287C3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B42-E1CB-4076-B9ED-414B0035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DEF-3757-4CB5-BCAB-8F5B75B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351-67D8-4D8C-8C9F-E29AEF3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FE6-8ADC-49CC-A45D-DD76FF78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F95A2-B1A2-4D74-9E14-EAADB86FDE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ission’s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with a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for we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2   Let Worship Be the F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mission’s 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the nations recogn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every tribe and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oices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ission’s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with a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for we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ribe,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creature in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heart, ev’ry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note, ev’ry st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melody will be for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harmony tha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’ry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, send us 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, 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25Z</dcterms:modified>
  <cp:revision>12</cp:revision>
  <dc:subject>The Source 3, song number 1402</dc:subject>
  <dc:title>Let Worship Be the Fuel (Mission’s Flame)</dc:title>
</cp:coreProperties>
</file>