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DD3-D93A-4057-9708-8879668D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BFB-FFD4-4930-85CD-C2E8EAF8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C94-05EB-463C-AA06-DDEAA4CD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402-F22D-4E58-AC13-207BBD24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A8A-AE72-44DC-A0EB-2309E23B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5FC-DB21-4B45-A566-25CE85D1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F42-4117-448E-A322-74B17E95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73F-0378-40F3-800E-2514C278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514-EE61-40BA-BB26-E4206C20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AE9-AB53-4C76-8DC0-F271331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158-409D-4D85-9ED9-9910865C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2D3-7DCD-4F36-AD66-305EBBAF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E4BB2-4263-4D4E-AB18-0D961D1A5A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praise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 for ever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ill praise His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возвеличе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го я прослав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и я поклоню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ени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ever His truth shall re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 and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joice in His hol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есть Господь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Царство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оды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клонят колени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 вов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5:52Z</dcterms:modified>
  <cp:revision>12</cp:revision>
  <dc:subject>The Source, song number 156 in Russian</dc:subject>
  <dc:title>Он возвеличен! / He is Exalted</dc:title>
</cp:coreProperties>
</file>