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B83-7FB8-47EE-954A-FB70C168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BD8-1503-4726-B76C-9F7D1E3D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6F7A-8832-44A6-9AD6-E6DA5A5F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2F2-B26E-4F58-A571-5EB8A24A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BA0-D469-435E-A479-D40D5EAA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D35-1B82-4EEE-96AE-FF934985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0875-CD0F-465B-A38F-596C642A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DD8C-FE87-4F25-AFF4-921F79C3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9D0-2391-48C6-8220-A039C136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2DE-70DC-48CA-949B-AB8CDF00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0776-6135-4373-89A7-D7CC4359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125F-0138-467A-9DA8-C73F3BD5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D2C81-4E95-426B-BD1B-82F207D447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нашла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од реки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ерег зеленью о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етл Саронски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 колодца Сих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с Христом м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ижу часто я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Галиле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я душа нашла по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Галилее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Галиле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ижу часто я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Галиле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репоясан, я бе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лаву получ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Он хочет награ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ного сл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корби верю я в Н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 Ему сл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спешу у ног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мо греха сл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мо греха сло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мо греха сл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спешу у ног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мо греха сл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путь, каким Он 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ать Отца зак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за Ним, путь не тяж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, так как любит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буду я сл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сей душой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страха я смогу вступ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вечный дом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вечный дом 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вечный дом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страха я смогу вступ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вечный дом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7:57Z</dcterms:modified>
  <cp:revision>12</cp:revision>
  <dc:subject>Slavic hymnal Гимны веры христиан, hymn 651</dc:subject>
  <dc:title>Моя душа нашла покой</dc:title>
</cp:coreProperties>
</file>