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7CA-1BFC-4D4B-B9B6-4A459AE3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03C-F9B6-45EE-9331-6338E476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E7A-1216-49A9-8CEC-F0810242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0BC-57E0-472C-AE21-2B8D7E05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1AE-C628-46EF-A6C3-6FD3D1C6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387-2AFF-4E66-8EEE-B047257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6A5-5250-4A40-8CBE-DE359ECD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F65-080B-4DE5-B5D1-24BB775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330-B725-474B-879F-F3F4C83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587-DBFE-467E-A281-87DD9C0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D12-BA5B-4593-A60E-1D6D02B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3E3-B2F0-4A73-8217-5BD7F98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7E9A5-2C47-4A42-B115-89B2BA1ACE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е минуты мы здесь пров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и Христовой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нас разлука недолга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Господ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! Здесь 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, брат и сест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м молиться, друг друга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Иисуса хва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мы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23Z</dcterms:modified>
  <cp:revision>13</cp:revision>
  <dc:subject>Slavic hymnal Гимны веры христиан, hymn 743</dc:subject>
  <dc:title>Дорогие минуты мы здесь провели</dc:title>
</cp:coreProperties>
</file>