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47D-DC94-43F8-99E0-ED5FAA98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50B-2BD0-4CB4-9F66-FFB9D57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F94-50F3-409A-B885-593E8BDC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78C-A252-43BA-B74F-84687DC4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ABA-3729-493B-A00C-87EA131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173-E90D-4D3F-B07D-DAFC6174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A39-C07D-46E1-B9E1-76054F1E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A90-1F9D-474B-851B-C1EB9411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76E-E5EF-4D4B-8565-6D449BC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FC0-96FC-4CBB-A881-C0574A8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BE3-A7E6-46E1-AF9A-D8BA8CF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4C5-8AEE-458B-8F85-0536DB3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9B3F-CFFE-41D9-B563-5C90573320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didst leave Thy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y kingly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ou camest to earth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n Bethlehem’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here found no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y holy n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’s arches rang when the angels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ing Thy royal dec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f lowly birth didst Thou come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great hum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camest, O Lord, with the liv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ould set Thy people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ith mocking scorn and with crown of t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ore Thee to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eavens shall ring and the angel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t Thy coming to vic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y voice call me h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ing, “Yet there is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room at My side fo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heart shall rejoic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comest and calle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16Z</dcterms:modified>
  <cp:revision>14</cp:revision>
  <dc:subject>Slavic hymnal Гимны веры христиан, hymn 240</dc:subject>
  <dc:title>Thou Didst Leave Thy Throne / Он оставил престол</dc:title>
</cp:coreProperties>
</file>