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EB3A-2E19-4FEC-92B2-2C00F3701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A261-A67D-4C06-A190-2A58C965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C130-1DC6-463F-A58B-8E6690A90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BC0A-2B8A-4309-BC2E-5256937E3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5181-E3D2-47EE-868B-1665B0E0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7ED8-D22D-4F5B-ADED-529254FE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46EC-6D07-4A9A-977B-5E916560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61D9-CD6A-44CA-B472-6C379BC8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532F-BADF-44CA-A57C-7D53365C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00B8-9698-49D3-8C08-BD9734FE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AFA3-8E81-4CA0-A939-0A79FEAC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5B44-E182-4D1F-B976-DE2CEE8B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018F6-1ED9-4F65-A663-E3417CC3DA4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Єдиний лікар є для нас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аскавий наш Спасит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ранами Своїми сп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х вірних ― наш Збав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щий скарб мені Ти д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у й тіло врят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хвалу Тобі спі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Господь ―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4   Єдиний лікар є для н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сі гріхи мої прост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Лікар, мій Збав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ім Отця мені відкрив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, наш Примир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щий скарб мені Ти д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у й тіло врят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хвалу Тобі спі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Господь ―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рагну щиро все люб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, мій Відкуп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воє ім’я люблю хвал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едвічний Цар,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щий скарб мені Ти д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у й тіло врят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хвалу Тобі спі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Господь ―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дуг невиліковний тв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ізціляє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го могутність зрозумі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ірним помага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щий скарб мені Ти д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у й тіло врят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хвалу Тобі спі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Господь ―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лавмо, браття, всі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ов Його безмірн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славить серце і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ню милість див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щий скарб мені Ти д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у й тіло врят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хвалу Тобі спі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Господь ―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3:49Z</dcterms:modified>
  <cp:revision>12</cp:revision>
  <dc:subject>Slavic hymnal Гимны веры христиан, Ukrainian hymn 74</dc:subject>
  <dc:title>Єдиний лікар є для нас</dc:title>
</cp:coreProperties>
</file>