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D22D-9D93-41A5-B01D-84098D49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29C9-9BF8-400F-A2DF-2D795114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8A03-3FBA-4B39-AC07-D4E3B507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74A5-BD16-485C-B77A-A788D0AC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7105-0EB5-46C6-9FAC-C0D8AB24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4515-6D3A-4311-AE5E-7476C8C2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293D-EA52-47CB-B9E5-C99F44F5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93AA-B27A-4115-8550-84570BAC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E0C3-C354-4DE1-91B2-70C775E0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831C-CE63-4B72-A5C7-4025FD54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660F-60DD-4328-A8AD-9720113E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44F8-8474-4365-863F-06BF0A9C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FE2D5-33FD-46F3-A498-24430263ED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 Ц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езупинно хай звучить Йому хв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Богу в небі, вже зійшла з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8   Вірю я в обітниці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, Йому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боюсь я буйних бур гріха і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зі мною милість Божа лиш бу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, живу з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знаю Його моїм усім єств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 правиці хочу бути я з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, бо в них кріп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даттю Божою завжди хва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буде за радість, як я з Ним стрін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5:57Z</dcterms:modified>
  <cp:revision>14</cp:revision>
  <dc:subject>Slavic hymnal Гимны веры христиан, Ukrainian hymn 38</dc:subject>
  <dc:title>Вірю я в обітниці Христа Царя</dc:title>
</cp:coreProperties>
</file>