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B85-7E41-4694-827F-757201E2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137-E50B-49B8-8BCB-45E561ED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FB8-956C-4401-8ABD-29218BE1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4D5-1C3F-408C-818C-278B4072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DD9-393D-44A5-8737-C06F1F08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A18-988E-46A3-9B20-07B71DD3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CA2-C009-465D-AE8C-3B627F8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D22-3D86-47A9-8012-6584811F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BDA-37A7-4516-BFE0-2E4C3FF8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4FF-FABD-4EB1-B664-ADC1E94D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3BE-CF47-4BB8-8EEF-2035FC3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71D-1607-4CC1-86ED-896AB7C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8908C-BE21-493F-8949-973F058A27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ой к Отцу небес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ердце возно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Творцу чудес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славу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ёс Христос м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в любви ко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дав Своё спа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л мен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хвалой к Отцу небесн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снь благод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а дар прощ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ощь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о друг возлюбл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 в союз с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и ты, искупл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идти с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, Отцом возложен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влеки серд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и, Христом проложен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рная о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елай прет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изнию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жьи откр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ыть от глаз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е в тебе служ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го най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ашему Уч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изнь твою пр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с благог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к стопам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усть благосл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уде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22Z</dcterms:modified>
  <cp:revision>12</cp:revision>
  <dc:subject>Slavic hymnal Гимны веры христиан, hymn 783</dc:subject>
  <dc:title>С хвалой к Отцу небесному</dc:title>
</cp:coreProperties>
</file>