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3EA-6BE4-4281-948A-407E0B7A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CFD3-C45A-4A47-990F-0D20EAA5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8FF7-771F-4448-AC94-DBE4D257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10E-01F5-416E-B744-D7A63A6A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177-5658-4E95-B6EA-05181793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5F8-4C06-40E5-B5C4-D10722F0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764-81A7-4DC6-A885-CBD8965C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F58-4506-41F8-B7BC-4F587245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E5F-06A5-4484-88EC-A872E3EF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A8F-469E-45B3-8B90-7BF870FF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3C2-E789-4EE0-B539-07E4EC7B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9F5-6BA6-47BA-9D84-39EEC8E7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17188-C9D7-4BA0-A5B7-C974E9876F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lift Your name on h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love to sing Your pra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so glad You’re in my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so glad You came to sav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3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I Lift You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me from heave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how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earth to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debt to p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cross to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grave to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lift Your nam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0:32:33Z</dcterms:modified>
  <cp:revision>10</cp:revision>
  <dc:subject>The Source, song number 330</dc:subject>
  <dc:title>Lord, I Lift Your Name on High (You Came from Heaven to Earth)</dc:title>
</cp:coreProperties>
</file>