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88F1-C2EF-47AC-9DAC-BDA1AE63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FA1-D578-40F7-9E46-92E68A41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7FB-C83E-4D65-94D0-5CABAD56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D267-7C1C-4E30-8473-6FE28A0D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582-3BB7-4547-B908-383E8E98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176-784D-4AA6-98EF-A0F59876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162-727D-4EAB-9FA0-4B203968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839-6597-4234-8F5B-5581483B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26E8-2BDF-49AD-A953-F19C8A9A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28D-E8DF-481E-A1DE-E2FD1C96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0FC-4F76-48F4-9149-B0316153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1EF-FD2B-48E2-A12E-9EC495C4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259C1-23FC-40FE-8BBF-24FD45405DB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rising of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going down of the s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’s name is to be prai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ye the Lord, prais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ye servants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the nam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is time forth and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15   From the Rising of the 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6:03Z</dcterms:modified>
  <cp:revision>12</cp:revision>
  <dc:subject>The Source 3, song number 1215</dc:subject>
  <dc:title>From the Rising of the Sun</dc:title>
</cp:coreProperties>
</file>