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36F-5561-4360-90EE-2B4E42A0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88A-F916-4DCF-89F4-BB4B597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7F0-CF78-4833-9263-0DB68D6D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8BC-81DE-4009-BA40-058CE166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8B2-C4D5-454A-B7FC-4A82C97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5B2-4672-47DC-A052-8EA82206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EA7-75A9-499D-9138-8D948FB2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EB1-9EE7-4FB1-8CE8-60DCE50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714-5554-4B1B-BB54-DE083ECB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167-425F-4AD3-8C37-0F1391E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5A3-5A8C-4A47-A5A5-1F5A01D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F86-3F46-493E-B1DD-37CA9E44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6C19C-D49C-40FC-AC8C-43957B539A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assurance, Jesus is 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foretaste of glory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ir of salvation, purchas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of His Spirit, washed in His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о я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утешен и Им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а наследье хочет Он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приятно Им обла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submission, perfect de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sions of rapture now burst at my s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descending bring from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es of mercy, whispers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 час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отдался, дитя 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яет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хожу я хлеб и п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submission, all is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in my Saviour am happy and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and waiting, looking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ed with His goodness, lost in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ильно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рает Свой кров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случилось, радостен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о мною Пастыр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и полный мир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находит в союзе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Тебе я сердце от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умалялся, Ты б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7Z</dcterms:modified>
  <cp:revision>13</cp:revision>
  <dc:subject>Slavic hymnal Гимны веры христиан, hymn 593</dc:subject>
  <dc:title>Blessed Assurance / Твёрдо я верю</dc:title>
</cp:coreProperties>
</file>