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0AF-0CA8-47AC-A57A-3610B9E9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929-1B48-4833-84F9-1F131AB3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D6C-362B-4F07-86C0-EA47D174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C43-F966-46FD-8C9A-30FCAE2A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AA9-B6B2-4C9C-9E5D-470699F8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737-C476-41F9-B8C3-7B82D037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6C3-DF46-4AB4-A869-72DF3BE2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9BB-BA96-49AE-8889-D7DE4D4D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7BA-3611-41EE-9B06-C10DA15F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323-A817-4033-B936-172E2FEC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007-BE5F-496C-8CE4-D95DC53A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601-239F-40C0-A98E-1E2BEF31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50769-71CC-467A-85DB-0DC85EB3D4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ength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54   Strength Will 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ength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33Z</dcterms:modified>
  <cp:revision>12</cp:revision>
  <dc:subject>The Source 4, song number 2054</dc:subject>
  <dc:title>Strength Will Rise As We Wait (Everlasting God)</dc:title>
</cp:coreProperties>
</file>