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DA1-DFB3-427A-ACA2-7F0C2B14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BCB-284F-4F8E-8A51-70BC5C8A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6BF-71A8-4DDD-9EB8-770A6D60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388-DEBF-4A40-9447-A14C48EF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E03-CAD9-4EBE-A0ED-91001533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820-AABA-4600-B984-B23B465E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978-243B-4F4D-A72F-6C6FA3D1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58F-4F57-49C4-809F-67F807BB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066-D236-4C1A-BC62-C04B43D8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68D-9039-4E36-A911-5C05B407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2F8-C9BE-496E-81B6-5E42455E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2AA-D541-42F7-B045-1F26413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7EF58-AC0F-4874-9E13-CA0D663830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агрянице сто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го спереди связаны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скорб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едном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жалости к людям и му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агрянице стоишь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телом скорб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зорная пытка ужа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ый час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равненно бо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, что жертва для многих нап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любовью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я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жно объять мир стреми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многим поня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лпа над Ним злобно глум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кипетр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скор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равствуй, Царь Иудейский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и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текши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я всех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стниковую палку влаг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ли трость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олючкам в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 впалым ланитам хлес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вали в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лилася с ч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ни всё сильней хохо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традал и терз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рочный над Богом глу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, о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так тяжко то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15Z</dcterms:modified>
  <cp:revision>12</cp:revision>
  <dc:subject>Slavic hymnal Гимны веры христиан, hymn 285</dc:subject>
  <dc:title>В багрянице стоишь Ты</dc:title>
</cp:coreProperties>
</file>