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1</a:t>
            </a:r>
            <a:r>
              <a:rPr b="1" lang="ru-RU" sz="3600" spc="-1" strike="noStrike">
                <a:solidFill>
                  <a:srgbClr val="ffffff"/>
                </a:solidFill>
                <a:latin typeface="Verdana"/>
              </a:rPr>
              <a:t>	</a:t>
            </a:r>
            <a:r>
              <a:rPr b="1" lang="ru-RU" sz="3600" spc="-1" strike="noStrike">
                <a:solidFill>
                  <a:srgbClr val="ffffff"/>
                </a:solidFill>
                <a:latin typeface="Verdana"/>
              </a:rPr>
              <a:t>Господь, хочу одного 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хочу одного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мой путь и болоти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и меня среди ог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быть чист, хочу быть чи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меня внутри и в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если нужно, чисть в ог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 сердце грех, на самом д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ер во мне, умер во мн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шлёшь ли мне видени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атство, славу и усп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сердце чистое мо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роже всех, дороже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меня внутри и в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если нужно, чисть в ог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 сердце грех, на самом д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ер во мне, умер во мн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реха и зла гнушаюсь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злобных помыслов бе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ак бы ни старался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ж чистым быть я не мо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меня внутри и в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если нужно, чисть в ог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 сердце грех, на самом д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ер во мне, умер во мне.</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4:58Z</dcterms:modified>
  <cp:revision>3</cp:revision>
  <dc:subject>Slavic hymnal Гимны веры христиан, hymn 151</dc:subject>
  <dc:title>Господь, хочу одного я</dc:title>
</cp:coreProperties>
</file>