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B34-D3F9-41EB-9E86-DF816323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E53-9F6B-4CD5-9178-58B40E21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0B0-AE14-410D-AC30-9A7A5167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13A-BC80-4A23-8ECB-88D4830E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4EF-A490-4FA4-8188-0939ED57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E47-475C-42A9-BE4C-39AB9321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D45-913D-4FEC-98A0-D97DFA2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7B4-E1DA-4C96-B525-B83F547A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743-8AB0-4772-9D0D-54FA8A54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C11-64DC-461C-A49B-EE3B68AD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BC8-B412-4E16-A115-9BE62777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3FD-5B78-40E6-99C2-4E880FA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3C8B2-F144-4762-ADB8-D9D61B824D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rumpet of the Lord shal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rning breaks e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and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aints on earth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on the other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at bright and cloudless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ead in Christ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lory of His resurrection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hosen ones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home beyond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abour for th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dawn ’til setting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alk of all His wond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all of life is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wor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6Z</dcterms:modified>
  <cp:revision>13</cp:revision>
  <dc:subject>Slavic hymnal Гимны веры христиан, hymn 690</dc:subject>
  <dc:title>When the Roll Is Called Up Yonder / В час, когда труба Господня</dc:title>
</cp:coreProperties>
</file>