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85E5-8F6A-4749-8BC1-84817315E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2300-0C64-401A-8328-7BD5B074B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0930-719B-4CEF-9543-F03B07908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8AA1-169F-46E9-B014-344ED04AC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7F60-5A2A-4B25-AA55-24C3C7E37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CC97-80C1-4C0D-8698-7A6C57006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036D-8EB3-4F64-B335-6D38C2502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5048-F358-4F6D-BE06-A726F7C30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ABB5-81D9-4E1F-8DA2-9F7C3E576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B6FF-8AD0-43ED-B25A-D08FFB5C0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56DB-DAE2-4FF3-A479-BCBED049C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D288-BCBE-4FCF-9A28-F5AB98F9E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4E6465-4980-4AD4-A38D-7A477612055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ee from the law, O happy condi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has bled and there is remiss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ursed by the law and bruised by the f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race hath redeemed us once for 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8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няв с нас зако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няв с нас закона порабоще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 Христос пролил, вот в ч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щень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учен, истерзан, в язвах Он бы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 навсегда нас искуп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ce for all, O sinner, receive i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ce for all, O brother, believe i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ling to the cross, the burden will f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rist hath redeemed us once for 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 навсегда! Прими Божью милос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 навсегда найдёшь свет и сил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нял с нас греховное бремя и н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 навсегда Сын Божий сп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w we are free, there’s 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ndemn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provides a perfect salv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 unto Me,” O hear His sweet c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, and He saves us once for 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во Христе, тем нет осуждень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риготовил наше спасень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Ко Мне придите!» — Христос зов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 навсегда Он снимет гн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ce for all, O sinner, receive i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ce for all, O brother, believe i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ling to the cross, the burden will f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rist hath redeemed us once for 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 навсегда! Прими Божью милос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 навсегда найдёшь свет и сил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нял с нас греховное бремя и н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 навсегда Сын Божий сп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Children of God,” O glorious call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urely His grace will keep us from falling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assing from death to life at His call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lessèd salvation once for 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— Божьи дети, вот наша слав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сохранит нас в мире лукав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жизни от смерти мы переш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 навсегда покой наш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ce for all, O sinner, receive i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ce for all, O brother, believe i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ling to the cross, the burden will f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rist hath redeemed us once for 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 навсегда! Прими Божью милос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 навсегда найдёшь свет и сил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нял с нас греховное бремя и н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 навсегда Сын Божий сп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2:54Z</dcterms:modified>
  <cp:revision>13</cp:revision>
  <dc:subject>Slavic hymnal Гимны веры христиан, hymn 385</dc:subject>
  <dc:title>Free from the Law / Сняв с нас закона порабощенье</dc:title>
</cp:coreProperties>
</file>