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247-5F02-4033-A27F-CAD1C3C2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26C-581F-41AC-98A2-361ECD88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80C-2D6D-4090-9704-7A91BFF7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C27-ED63-4F4B-BE85-E136B8A9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F74-8DAE-4A41-86DB-44B7F5D8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EF9-8F76-4758-8F20-6187AFF0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74B-5370-4389-8D82-B6ED7DA9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C20-5319-41A1-8580-C0917D55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720-D19A-40FB-A936-6DDF982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86D-35B9-4CC6-BB0F-997854C3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D51-D9FF-4FF0-9A76-63190D41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EEF-6FA8-4BDD-B1ED-89858149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72522-9341-4B98-AEFA-BCADA3E2B5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т мир сердц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ж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ребыть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ет сердце ни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слав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име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и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всем прос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ждого к Себе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мирённым близок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, кого принял в Свой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зык не пере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любовью дышат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ю дал и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52Z</dcterms:modified>
  <cp:revision>12</cp:revision>
  <dc:subject>Slavic hymnal Гимны веры христиан, hymn 893</dc:subject>
  <dc:title>Христос, здесь мысли о Тебе</dc:title>
</cp:coreProperties>
</file>