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B83-3F3B-4F65-8D58-4F9FD007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9B2-402B-47B8-B1E2-3A1A44F6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98F-4D4B-42D7-B900-96AB3FB5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AEC-459D-4851-B1BD-14A54E8E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530-0CC3-48E4-9FD7-A2311BF5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4FA-E093-4035-8C0A-F8B46D19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7D0-4AB2-4E13-8C98-588B30EA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ACF-66D5-4498-9525-0A7A336E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AB4-160F-4A2F-B06A-6093B6E8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3D9-F656-401A-BD14-6AB306D1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106-A99B-4CAE-B47A-9FD131A6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CE5-69BA-4593-BD75-3318E28E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7140D-AAB0-425D-A8D2-5E392EFBC1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raw near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You clothed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frail huma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169  Ты сделал первый ш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делал первый ш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кры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делся в хруп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ти во Хрис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ry out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You let me hear Your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не ждал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у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дал услышать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forever grateful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forever grateful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forever grateful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k and save th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чно благодарен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агодарен за Твой крес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агодарен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шёл от уз спасти нас вс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4-06-29T06:21:14Z</dcterms:modified>
  <cp:revision>12</cp:revision>
  <dc:subject>The Source 4, song number 2169 in Russian</dc:subject>
  <dc:title>Ты сделал первый шаг / You Did Not Wait for Me (I’m Forever Grateful)</dc:title>
</cp:coreProperties>
</file>