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A24-C6A1-467D-86F3-97118439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91F-4B82-4576-8AB7-D7C9BB07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521-BDF5-438B-9365-DEDAD657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6FF-6AB4-4C0A-B97C-AF584399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ECF-F0BC-4C3D-9CE5-E811E152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D4B-1EA1-4729-A198-3CEFDEA3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87B-2A3C-486C-A969-9E6BB24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01B-7B86-4034-A4BB-6F642A3E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2D0-6E2B-4DB3-9617-C5BF2CD4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6D2-FF20-4CB6-B056-DD0F613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115-9FE4-48A6-BAD6-3105016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BAA-E973-435E-BEB6-A73195A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E9154-76CB-4CB6-9473-9E2E1767D7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ет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т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пас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ведать ут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емим взоры в вы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, милы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стра,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кнет солн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«д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е скажем «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рдишься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м будь, не гор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будет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ердцем смир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яжет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ён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ст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й друг, не гр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раждует, смир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любит, лю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брат, берег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не сгу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ждаться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рпи,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 сердцем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иг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07Z</dcterms:modified>
  <cp:revision>12</cp:revision>
  <dc:subject>Slavic hymnal Гимны веры христиан, hymn 435</dc:subject>
  <dc:title>Сердцу всюду беда</dc:title>
</cp:coreProperties>
</file>