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76A-C310-44D3-961B-85AC366C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0CE-9B80-4109-9047-523FE9FE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363-A390-4EFD-A3E2-2AD5BB09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3DD-74E4-43B6-8AE2-4154C698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496-4628-4253-965F-68E810B8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FA5-08FF-4DBE-A5C8-45ACAEBD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CF1-9915-4DE7-8C3A-1072888D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A48-8127-4EC8-8597-EA5AD92A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39A-CFD6-411C-B8CD-0BD7B7B6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1E5-BF4A-4C7F-9092-E69CDD54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CC6-E18F-4E95-947B-3A305A11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8B1-CFB1-461E-B03D-85D92C40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7B06F-9DB8-4CD9-A152-864FCDA344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Almost persuad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to belie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 persuad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o rece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чти увер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яться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ms now some soul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, Spirit, go Th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more convenien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e I’ll ca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-то шепчет м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доверяй вп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й раз в тиш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шь к Нему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Almost persua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come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 persua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not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м по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nvites you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are lingering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yers rise from hearts so d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nderer,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тебя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церковь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Almost persua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vest is p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 persua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om comes at l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дно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а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” cannot a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” is but to fa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d, sad, that bitter w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,” but lo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» свело с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ило сил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ало чрез «поч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на 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5:38Z</dcterms:modified>
  <cp:revision>12</cp:revision>
  <dc:subject>Slavic hymnal Гимны веры христиан, hymn 892</dc:subject>
  <dc:title>Almost Persuaded / Почти уверен</dc:title>
</cp:coreProperties>
</file>