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95D-2B18-41DD-97C2-978622F4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DB8-07AB-44FC-9ECD-20ECD204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66E-6965-429D-A55D-9E06A0C0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643-1647-46C4-A7CF-A5E307B2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A9E-D3EC-431D-9727-AE942969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595-383E-46DF-9B6E-C6E3A7B6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1DF-F703-43EA-9A9D-F74F1E76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FE4-B9D6-4A2C-94D8-1F01EC96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F44-4D89-4E42-9596-6439E322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A8B-5897-481F-9F92-B105D8B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1C9-14E4-4DBD-A3C7-C5C8DAC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FD3-D5EF-46DA-84B6-F78CE26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01D04-59DE-4D40-BCEB-1C56E344DC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Jesus will rece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this word of grace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heavenly pathway le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linger, all wh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will give you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, for His Word is pl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the sinfu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 condemns me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before the law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cleansed me from all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isfied its last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me with all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ged from every spot and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th Him I enter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6Z</dcterms:modified>
  <cp:revision>13</cp:revision>
  <dc:subject>Slavic hymnal Гимны веры христиан, hymn 339</dc:subject>
  <dc:title>Christ Reciveth Sinful Men / Грешных всех Христос зовёт</dc:title>
</cp:coreProperties>
</file>