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204-4658-4692-B963-7AC0F6F7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F49-ED87-402D-A403-5938DE46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B10-7E09-44A4-B09E-541055F2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D17-EF7A-4FD8-9F0B-4347A545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362-89CF-4295-B773-7EF2D9BD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141-B11E-4190-82C1-DCD6014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46A-2857-4AF5-B82D-B3AC785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B7B-DE21-4EDE-9FEF-EF84319A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178-8760-402B-965D-6E25F34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189-575D-4410-93DC-9969E47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DE7-735A-41F3-B5C3-AF1B1D8A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2E5-11C5-4657-A065-AE282841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3B41A-0C24-4D64-8B80-F805A71B8E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бите вы тру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ре Моей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йте, бейте вы трев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у все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близок 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погибне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в небе заг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будится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трубите вы тру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сильный и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ождённый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имя — Христиа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 зна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мудрости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ите разум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ям правды хо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станет от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желанный, Са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 Ним пойдут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Боже,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05Z</dcterms:modified>
  <cp:revision>12</cp:revision>
  <dc:subject>Slavic hymnal Гимны веры христиан, hymn 536</dc:subject>
  <dc:title>О, трубите вы трубою</dc:title>
</cp:coreProperties>
</file>