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5028-7817-4A67-8FA4-E80A902B2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1DF8-F50A-4E30-AF1F-2991C4E6B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AEAE-0848-4787-8FC1-4483E8BF5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E799-DC36-4365-862A-03D4101FD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2E6C-0643-499D-ADA0-A74891B38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3280-C3F9-43F7-9163-0F78205F7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8C74-4559-4585-82F4-5070DF22B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5C78-27A7-4DD6-970B-CEE3868BA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84B6-8A01-4D7C-A50D-B22A70ABD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2142-3058-4940-8EF8-2CFA67A64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5957-2991-4AD3-88C8-F9F69770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A456-5D56-4DE7-99D5-20B7712DD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510FF2-D39A-40B8-BBBF-D3FF4237025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, now is the time to worsh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, now is the time to give your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, just as you are to worsh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, just as you are before your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662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Come, Now Is the 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e day ev’ry tongue will conf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e day ev’ry knee will b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till, the greatest treasure rem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gladly choose You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, now is the time to worsh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, now is the time to give your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, just as you are to worsh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, just as you are before your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e day ev’ry tongue will conf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e day ev’ry knee will b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till, the greatest treasure rem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gladly choose You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llingly we cho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surrender our li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llingly our knees will b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ll our hearts, so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ind and streng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gladly choose You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, now is the time to worsh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, now is the time to give your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, just as you are to worsh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, just as you are before your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, come,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0-12-18T08:26:00Z</dcterms:modified>
  <cp:revision>11</cp:revision>
  <dc:subject>The Source 2, song number 662</dc:subject>
  <dc:title>Come, Now Is the Time to Worship</dc:title>
</cp:coreProperties>
</file>