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D55-6EC1-4D1E-80ED-F403D4F0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DE5-B8E6-4809-9526-165E5E8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390-CF1D-4F64-86B0-7D8CBC34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44C-33D3-4C60-AD00-BA0F2FE6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058-1FB5-4D9C-8FC5-9B43D97F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DF9-A24C-438B-9287-B4150AB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396-DF83-497D-8796-0260596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32C-4B2A-4288-82B6-EB84119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3D5-2AE9-4353-8888-9A72183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7B-54DB-4EDC-868C-71067BF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6AF-2F44-49BB-B664-7670214C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5C-5723-415C-B9BE-1F07A89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E222-FDA3-4EA5-A5C2-05E0F865C3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се в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ику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с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торжеств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Царь вам рождён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в хва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се верные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с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ей уб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же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ипет в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был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н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ир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рожд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ивое твор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был у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звез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е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с мольб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 прин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ли, Младен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,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услыш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ком ро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замыс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преступ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 Млад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ить за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ть повел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оси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вел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род за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уби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зу возьм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и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гстве не мед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иск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2:08Z</dcterms:modified>
  <cp:revision>14</cp:revision>
  <dc:subject>Slavic hymnal Гимны веры христиан, hymn 236</dc:subject>
  <dc:title>Ныне все верные в мире ликуют</dc:title>
</cp:coreProperties>
</file>