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788-7D71-416F-BFB9-80C3A197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1BA-7637-4884-BB2F-199AB30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66A-F5CA-4D05-BD04-ED27EBA0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A4F-3B14-4C16-8598-0DEEC30B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792-87B0-4B14-98B5-1633344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884-014C-46B3-BF6C-35943557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BDA-207D-490E-8C67-83D1CB6F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35C-3872-4EF3-A7A3-BBA69AB0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AB3-E560-4CE5-A3D5-8DE0994A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AA2-CB6D-44DF-95DA-D6B63A9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B0B-2603-4417-B08E-905F976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984-FC0A-4AA2-AE76-4EE7A58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A4DAE-A650-4924-91EA-E0ADCB04CF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ovelier spot in the d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lace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6   Дізнавсь я про Цер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знавсь я про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радість для серця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куди вже більш не пі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ши Христов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on a clear Sabbath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’n to the clear ringing b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tones so sweetly ar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наєте Церкву жи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, браття і сестри мо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іть на дорог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Церкви живої у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, close by the church in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one that I loved so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leeps, sweetly sleeps, ’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i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urb not her rest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ільки в ній душ без с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ли собі мир і спок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лються молитви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е в ній Христос дор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lose by the side of that lov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trees where the wild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farewell hymn will be ch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st by her side in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Церква могутня, Госпо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й нею іде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Євангелію всі сьо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 ― спасетесь на 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y fades away into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fain from this spot of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h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my way to the mansion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див я усюди п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щастя ніде не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ився шлях безпросвіт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 Церкву вві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3:28Z</dcterms:modified>
  <cp:revision>12</cp:revision>
  <dc:subject>Slavic hymnal Гимны веры христиан, Ukrainian hymn 46</dc:subject>
  <dc:title>Little Brown Church in the Vale / Дізнавсь я про Церкву живую</dc:title>
</cp:coreProperties>
</file>