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F4B-24A7-4B1D-BF06-A5CB668B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454-E0C8-4C81-B7DF-FA8DF60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28B-3397-47F5-AC4A-315402A2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A43-43B3-41BD-9F1A-77117AA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50A-A197-407E-AD8C-0B95C5B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08B-AF76-4B3F-A603-14A7C84E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732-8DED-4D18-B18D-38B9666F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244-E2DE-4ABC-A789-59FBD489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29A-47B1-46D2-BE21-736CDFE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432-DC94-44C8-B39D-22C66E7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DA0-0793-48A1-8BE6-A27CB12D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9B1-7847-4961-8DD0-F23DAFE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DB82F-82FF-436F-BFF7-E7338C9096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край, где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радос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ещет всё в цв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ая любовь ц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ых весел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и вечная 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оз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уч на своде неба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ря не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о зло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 слеза с л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24Z</dcterms:modified>
  <cp:revision>12</cp:revision>
  <dc:subject>Slavic hymnal Гимны веры христиан, hymn 662</dc:subject>
  <dc:title>Вдали от тьмы земных сует</dc:title>
</cp:coreProperties>
</file>