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B21-33B8-488D-8435-9077C49E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DC6-F66F-499F-8BC8-988FBAB7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D37-AD23-46F5-9237-3CDC14C1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6E6D-DE30-42D4-B1DA-46767CCD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26B-1CCF-4BA2-AA22-134FF9F7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B497-C49E-41A3-99F2-C5C8F430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81A-DF6A-488D-A15D-46170B2E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5F9-017B-4AD4-94CB-947E4FE1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4A6-79DE-43E7-B955-837CF2BF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F737-C1B5-4DBC-B36A-00B29370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4A6-68D8-4B83-8572-988C9496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E034-086A-4A5B-BD2D-A633F4EB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BF3B9-CBC2-48D6-87EC-01B25B193D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here in unity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ong of Your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in this generation for our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ong of Your forgiv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t is with grace that river flow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ity of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19   Take Us to the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Your throne r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ive us ears to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y of hea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at cry is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rcy to the fallen sons of m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ercy it has triump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iumphed over 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the throne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ity of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Spirit of the sov’reign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upon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year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pirit of the sov’reign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upon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year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the m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us in the shadow of Your han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his Your mighty ang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stands astride the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n his hand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wers on a dry and barren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the 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ity of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Spirit of the sov’reign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upon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year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pirit of the sov’reign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upon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year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9:29Z</dcterms:modified>
  <cp:revision>12</cp:revision>
  <dc:subject>The Source 3, song number 1519</dc:subject>
  <dc:title>Take Us to the River</dc:title>
</cp:coreProperties>
</file>