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635-0B32-48B4-95FB-30DC8B41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64D-D9FC-478E-9842-D3B86563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8BC-2B77-4C28-9409-0786A8FB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DB5-219F-49CC-9850-37E366A0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E88-E3E2-4E85-BF6F-819AAA1B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3AD-54FE-4FBF-9E9E-416B6F46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B07-054C-4730-A481-8277AB7B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48E-81E8-451D-8E17-5615E228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163-E36A-41EC-83C4-531C9E64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223-E198-4FB8-8E66-8E6E5A75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1DD-5E27-4E3A-BC23-EBA7CA57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1FC-85E8-416A-BF28-C1996113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BBDEE-B9E0-47DD-B591-4E77566025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ойника в послед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ла Христов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ерой мог узр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свят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свой путь закон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ляжет в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8:18Z</dcterms:modified>
  <cp:revision>12</cp:revision>
  <dc:subject>Slavic hymnal Гимны веры христиан, hymn 429</dc:subject>
  <dc:title>Источник жизни Бог открыл</dc:title>
</cp:coreProperties>
</file>