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F88-FA01-4DC5-B8D5-2D413A3D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7AB-115C-4A77-AFEA-40F8519B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15E-3E50-48B6-BDFA-BA976B60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A6B-D82B-46D7-A685-04744AAF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896-DB3D-4B4C-BC1A-4A5E54A3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136-5D3F-43A4-9EEA-C9E4C044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716-C527-4860-906A-D9BCF9FB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378-1ED5-41B3-996B-85AD65E6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3FC-FD8D-4DAC-BEE4-EE027E89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7B2-6981-4489-AF5B-3467F9E8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4BE-8866-4174-A58B-4DEF6FEE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B22-01FF-4103-A7A0-FA2DF67B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82F95-715F-420C-AACD-450C07D636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окое вздых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веры ж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ечно, усердно пр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был, что лишь т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десь всё на алтарь воз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покое взд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 Господо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слова 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Духа иметь вечны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вол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ь выше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бя возложить на ал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тайн не пойм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й мир не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ударом постигнет у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зренье и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ело и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зложим на Божий ал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пишет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ценит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мерит источник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т Бог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слушен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ебя на алтарь возлож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15Z</dcterms:modified>
  <cp:revision>12</cp:revision>
  <dc:subject>Slavic hymnal Гимны веры христиан, hymn 497</dc:subject>
  <dc:title>О покое вздыхал</dc:title>
</cp:coreProperties>
</file>