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982-26F8-4290-ABC1-EB56C4D2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8BC-9C4B-4701-B6C2-86A8D789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9A1-D166-4DC9-A33A-2AED07CB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CC9-93EB-4E45-8189-DA56E2AC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4A3-5271-4B84-8303-B5B0A851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A85-8F71-4002-8643-D641E1C5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DE6-93B2-4903-9664-4865BA67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0BF-6FEA-49C1-B9E4-0B2888C1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35F-C833-4B25-BD76-7C616025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D79-A9B8-46B3-A5E1-D4D5369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D45-EF39-4234-B71F-8133F02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241-09EE-4485-8D1D-2E85F6D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089A3-F645-46B7-8A68-A16D13DD45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осле ночи, свет после ть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ь после зноя, блеск после м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сле смерти, песнь 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за горем, луч за д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 после жатвы, пир за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а борьбою, явь после гр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осле н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китанья — милост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траданья — слава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сть покоя — после угро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45Z</dcterms:modified>
  <cp:revision>12</cp:revision>
  <dc:subject>Slavic hymnal Гимны веры христиан, hymn 488</dc:subject>
  <dc:title>День после ночи</dc:title>
</cp:coreProperties>
</file>