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DAE-672A-40F3-B730-5FDCF519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6B4-95E4-4B6B-8A41-493372D3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6F5-6F17-45FF-ADFA-275BC77B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927-786D-4EDD-9999-C022EE39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28E-A1AD-4DA5-81A2-D9E1B4E3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72E-11CF-4E7B-9C51-B0AF2AA2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493-287F-435A-8D02-FA7280DA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21F-66CB-4071-A41C-A182D7D4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471-0DDA-4E6F-9B8B-38A9FF6E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72A-44F3-4035-B1BE-A56E0B9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F65-6C5E-499D-9E95-C312D31C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907-D3C6-4368-B693-1496FFB8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70DDA-0238-49CD-A8A7-E9CA6B1A34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3   I Cling to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ing at the empty to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omises I have in You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ali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You said wa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uffered, died and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u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bring u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43Z</dcterms:modified>
  <cp:revision>12</cp:revision>
  <dc:subject>The Source 4, song number 1883</dc:subject>
  <dc:title>I Cling to the Cross</dc:title>
</cp:coreProperties>
</file>