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ACF3-17AF-4F6A-B382-16FBDAAB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DED9-C95F-4478-A77E-41130292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89B2-5F96-4962-9D28-9058C08C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F0BB-055C-4FC4-9735-DC3E2B6E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87C7-A144-41A7-B0D1-5F1A0D78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CDA2-7F56-46BE-B200-708887E2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1CAA-D09D-4B79-9F04-F9CB8D28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8DD2-1CCF-434A-8124-86CA6610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5308-8904-4222-A4D3-CDD3B0E9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E1B3-99D2-4EEE-939F-1CF2010E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96A0-CCB5-42DC-A915-4337E3D0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C002-2174-407F-99B5-0164667D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E1885-E6D7-4346-8536-9F61E2E221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ед мной, я 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ого пути мне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жемчужных врат не увидит т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пути устрашится б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всех скорбях утешаюсь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рестный путь пред м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олжно идти по страданий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м мой Спаситель 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вперёд, чтоб дости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видеть Его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всех скорбях утешаюсь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ёмный путь мирской я отве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й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асен он мне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зовёт: «приди!», я спешу войт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любовью открыл мне д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всех скорбях утешаюсь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7:37Z</dcterms:modified>
  <cp:revision>12</cp:revision>
  <dc:subject>Slavic hymnal Гимны веры христиан, hymn 843</dc:subject>
  <dc:title>Крестный путь пред мной</dc:title>
</cp:coreProperties>
</file>