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5BBE-099F-43F5-9FD0-AA273AAB8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247F-EEAE-4BA3-A31F-EDA68A17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EE60-21E9-45C0-9542-035C29CA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2E15-F83E-4994-9319-7B1C5875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A028-141B-462C-B42B-5C1D2A49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0F93-4325-42EF-8AF6-76BB834D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B79A-32ED-4FBD-8C77-F893CAC7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60F6-C851-4337-8EEC-F478C823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6593-AB4F-4E94-99CA-C2C1104B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45ED-06F4-4AB5-A7A9-C947115B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AA65-BB33-45AF-9C19-05B9C01C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4DCA-7517-45A4-B584-6A50E487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21A18-C5D7-4CCC-AD0D-49D3E740311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always love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always sing His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bad times and the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proved His love is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900   I Will Always Love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All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onou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All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onou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’s celebrate a God so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God so gr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All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onou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always trust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place my hope in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has been my hiding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ever I feel afr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All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onou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All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onou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’s celebrate a God so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God so gr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All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onou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 and taste, come and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broken in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is God of the p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lost, and the weak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our shame falls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our faces shine with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All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onou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All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onou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All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onou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8:14Z</dcterms:modified>
  <cp:revision>12</cp:revision>
  <dc:subject>The Source 4, song number 1900</dc:subject>
  <dc:title>I Will Always Love the Lord (Honour the Lord)</dc:title>
</cp:coreProperties>
</file>