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EBF-2135-440C-8CDD-3ABF8AF7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035-A9B2-4BC6-9D46-8275400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F0E-1A3A-4A89-B192-BE7FC152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8DF-41CC-4691-BD48-AA20FF13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867-8098-43EF-AD32-507F90E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C98-E946-47E7-986C-34ADD7D3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3FB-5E89-4937-81D0-73365CF8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4A9-669D-41A2-86DA-F21ED7D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54C-E59A-4B83-93AB-FA88FFA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C4-A128-49F7-90B8-3A0A259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356-13A3-49C7-8827-ED01CE9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FD3-8A25-4E2C-97DC-B824EFD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49C5C-2D3F-41AC-A236-5EA23C4949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9Z</dcterms:modified>
  <cp:revision>12</cp:revision>
  <dc:subject>Slavic hymnal Гимны веры христиан, hymn 479</dc:subject>
  <dc:title>Таков, как есмь, о Боже мой</dc:title>
</cp:coreProperties>
</file>