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32DB-3442-4E54-A6C7-A7AC7F66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1DF5-F9D2-449C-84DF-BFEFA071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4530-AE01-4C80-992A-961BD1045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3B2A-3668-4488-90E5-B4091EC8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856F-50EA-4D3E-A468-5A803A4B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57FD-A433-436D-B447-60009BBD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2E98-F172-4E64-BF24-E754BF8C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8977-DC29-43A0-8EBE-0BA7CBF9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FA18-D41B-41EE-9816-FDDB375B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B0ED-874A-4EAC-A69C-34254818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8DC0-69A9-40CF-B4EE-AFED979A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70C9-1A7C-4A89-9B91-3F2078FA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80855-4959-44FB-A6AF-6F117D9B1DD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fore the world be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ere on His m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’ry tear you c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precious in His 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of His great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gave His only S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wa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you would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0   Before the World Be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you can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uld make Him love you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othing that you’v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uld make Him close the d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of His great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gave His only S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wa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you would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 to the F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your gift is sm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oken hearts, broken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take them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ower of the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ower of His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wa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you would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5:11Z</dcterms:modified>
  <cp:revision>11</cp:revision>
  <dc:subject>The Source, song number 40</dc:subject>
  <dc:title>Before the World Began (So You Would Come)</dc:title>
</cp:coreProperties>
</file>