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0ED-F88C-49DE-B701-D6173761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593-59C6-4C6B-ABB2-C6BFCC8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49B-DD6D-4DC0-B2C8-68619CB9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60E-47C0-4521-8EBB-D053A8AF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8E2-0395-45FE-A860-5BE7ADD6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F62-7D8D-4AA0-9CDF-AAFB96EB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D1A-09EE-464C-95E8-1B872C16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EEA-2136-4652-8FCC-0AA05A0E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8CE-24B4-45F2-AA54-1E3F7FB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E5A-D9BA-492E-BA37-0C061313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DF2-AE69-43CA-BF22-8C615107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4AF-91B2-4CB8-9053-E6FDC37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10C6-BEC9-47DE-A0E3-EC9EA75576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God be the glory, great things He has d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loved He the world that He gave us His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yielded His life an atonement for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pened the life gate that all may go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7   Христу лине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ристу лине слава, Бог нас оправд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к світ полюбив Він, що Сина нам 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кров’ю Своєю гріхи нам ом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всім нам двері життя навік відкр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perfect redemption, the purchase of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every believer the promise of G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vilest offender who truly belie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moment from Jesus a pardon rece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ощення дарується Богом т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то вірить у смерть і спасіння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йгірший грішник, як вірить Й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митий, спасенний у крові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eat things He has taught 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eat things He has 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reat our rejoicing through Jesus the S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purer, and higher, and greater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wonder, our transport, when Jesus we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г нас викупив і нам мир дарув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радість по вірі в Ісуса нам д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оли Він візьме нас до Свого Отц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ді ми всі разом прославим Хр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8:29Z</dcterms:modified>
  <cp:revision>12</cp:revision>
  <dc:subject>Slavic hymnal Гимны веры христиан, Ukrainian hymn 67</dc:subject>
  <dc:title>To God Be the Glory / Христу лине слава, Бог нас оправдав</dc:title>
</cp:coreProperties>
</file>