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D7B-1111-45AB-8214-9F3B04DD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D83-CB61-4B4C-A317-56061E6E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CED-772C-4571-8432-E95589DD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58E-3FC5-446A-9970-2F1353C4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2A7-F79B-49B2-B4D8-5CDF5458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9E6-59D0-4BC0-B78B-EAEC8660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CD5-F980-4158-B53B-B92F7592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14C-D48A-436F-A93A-BC98134B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59C-0E64-44A3-96BE-ECB2D5D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054-939C-4CE4-B319-E143B7A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433-8B55-475D-8634-E0D0502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74D-665E-4232-B6ED-968C95D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4B179-3417-4A67-9ED7-9590677C1A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33Z</dcterms:modified>
  <cp:revision>12</cp:revision>
  <dc:subject>Slavic hymnal Гимны веры христиан, Ukrainian hymn 92</dc:subject>
  <dc:title>Буде дощ благословення</dc:title>
</cp:coreProperties>
</file>