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901-9BA4-434F-BD0E-F65B7D9C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AC20-3DC2-42A5-B037-F7AEA5A5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58B9-FB6E-4B6C-A56C-B37B0B80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4433-90B2-477B-A4D5-AA2C21EA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1E6-0208-4C6C-BCDF-B43579EE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2D06-CBBC-4397-9A20-8EE17230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BA0F-EA25-4529-B310-089789CF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CDFD-C769-42A9-89B0-41E83568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5CAD-147C-4C6D-869E-3339F3D9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7A4-9EE6-47BE-AE81-0E4AABA0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51AD-A346-4CDD-9CA3-4445B1FD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B2EC-8057-4950-B0A1-592A26F5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01944-DC63-4793-A513-583E5B39FFB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side of the river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saints, all immortal and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robed in their garments of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6   Насліддя моє в небеса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гне й рветься туди все ду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пасенні, в небесних лу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ють свойого Тво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is now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kindred and friends are at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way from my sorrow and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fly to the land of the bl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мене жде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ме у оселю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дих мирний на травних луг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Його світлім, блаженнім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oon be at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end of my journey I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dear to my heart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watching and waiting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коро у небо пі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кінчу шлях тернистий, зем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сіх вірних слуг Божих зна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усі Божім пречистих, свя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51:51Z</dcterms:modified>
  <cp:revision>12</cp:revision>
  <dc:subject>Slavic hymnal Гимны веры христиан, Ukrainian hymn 26</dc:subject>
  <dc:title>The Home Over There / Насліддя моє в небесах!</dc:title>
</cp:coreProperties>
</file>