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328-99F5-4B0D-AB45-0B16E2DA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C58-DA03-4CB9-A90C-913EB04C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EA-D745-42F2-B147-ADE676D4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F7D-B1C6-491F-B915-920BD684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2AF-954E-4505-B04D-841863F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376-75CE-4990-946B-FE440707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711-D09A-461F-BF09-F812575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2A8-494D-448E-AB27-DFC2711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F76-78CD-4652-9E13-5ED81D86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65A-A1EA-40D4-BFD4-00D4710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87C-9EDA-4858-BB7B-0BE977EA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C3B-3F70-4417-89B5-5802674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BAA1C-68C5-4776-B9A4-FB9DDAAA8B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43Z</dcterms:modified>
  <cp:revision>12</cp:revision>
  <dc:subject>Slavic hymnal Гимны веры христиан, hymn 672</dc:subject>
  <dc:title>Не здесь мой дом родной</dc:title>
</cp:coreProperties>
</file>