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231-CCA5-439A-8AF9-BC5B5E8F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9C3-72F1-4B2D-A2BD-25897DFB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C91-92A0-44B0-91E8-F84501ED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437-6587-40A5-90FA-DC5138AD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80C-67EF-4457-82B5-BA385FCE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12A-E667-43EE-91D6-6C5283F1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902-A6A0-4BDF-9B42-4C8292C0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09D-1E4B-4621-918D-A783D5A3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D23-1FE5-4777-8333-D70AA70C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3AA-06E3-416D-AA8D-B7AD5F9D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D10-D69A-4CB7-B055-31BB8E1D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378-6FE7-4FF7-9DA4-58C5CF85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07088-231B-41E0-BA57-35774A7E116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peace in my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the world never g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peace it cannot take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the trials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y surround like a clou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ve a peace that has come here to st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моём сердце по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моём сердце покой не от мира с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мир сей не может от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оть беда за бедой здесь лишают вс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адкий мир мне даёт благо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Jesus is m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rapture div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never leaves me lon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spers, O so k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ill never leave thee,” Jesus is m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the world seemed to 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a Saviour and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peace sweetly came 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oubles all fled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y night turned to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Jesus, how glorious Thou 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ышу песню везде об Иисусе Хрис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моём сердце по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корбь ушла со стыд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чь сменилася днё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Господь! как отрадно с Тоб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Jesus is m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rapture div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never leaves me lon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spers, O so k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ill never leave thee,” Jesus is m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treasure I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a temple of cl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here on His footstool I roa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He’s coming to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e some glorious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 there to my heavenly ho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храню этот клад в слабом сердце мо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уждая по стезям земн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придёт Он опять и возьмёт меня в д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царство света, в отчизну свят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Jesus is m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rapture div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never leaves me lon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spers, O so k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ill never leave thee,” Jesus is m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20Z</dcterms:modified>
  <cp:revision>13</cp:revision>
  <dc:subject>Slavic hymnal Гимны веры христиан, hymn 642</dc:subject>
  <dc:title>Constantly Abiding / В моём сердце покой</dc:title>
</cp:coreProperties>
</file>