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C07-253C-4309-8070-2FFB1149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D8C-7B2B-4E03-812B-C86B62D0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08E-CF1B-4F55-9C05-763886C5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B32-DE81-4F7E-A1BA-3C1DFF5B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3DE-9363-4EB9-B9D3-99BDDFD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46D-AC04-4EC7-83CD-4714E7CE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085-D8FF-45CE-A1AE-496DA78D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CB9-EB9A-405C-B343-707AE40F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092-B099-4221-B3BF-C25BCF7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EE7-DFD7-43C0-B56D-7488160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C05-2F2A-4214-B9EA-04C3510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F94-6610-4F60-A7E3-DA8DD824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51870-AFE0-40C5-A420-BBC4763856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671   Водишь к лугам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шь к лугам Ты зелё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ь зла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, как мё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олил мой голод, дал мн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стою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сней любви, с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Иисус, Ты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8:16Z</dcterms:modified>
  <cp:revision>9</cp:revision>
  <dc:subject>The Source 3, song number 1671 in Russian</dc:subject>
  <dc:title>Водишь к лугам Ты зелёным / You Make Me Lie Down in Green Pastures</dc:title>
</cp:coreProperties>
</file>