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193C-4492-4CA2-BCB2-2BCCF2992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DB5D-6331-446E-8EBC-4353409D3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D05B-C944-40F6-A250-909C12002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7843-282E-49AA-A2AE-E2185EC2A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7B3A-039E-4565-BC72-29EC784A1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554B-A34C-4A68-8158-BE2539680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255F-4415-4E14-85BF-358079747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C238-FD3B-441B-978F-02BD85C45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C5F5-C534-4286-91D8-E786B35EB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D0F8-3A2F-45A6-81CC-50EBB95FC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0158-9D68-4934-B61E-F6F7B1A7C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47DA-5156-4FD4-8531-DB47988ED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B64FB0-E3D2-4A80-8F48-82B482BC37F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! Ты в Кане Галилейс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брачный праздник приход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первый раз средь тьмы житейс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славу там Свою яв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и! Ты к нам при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лаву Свою яв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и! Ты к нам при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ас благослов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4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Христос! Ты в Кан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 и к нам, как гость чудес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радость всех благослов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укрепи Ты связью тес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юз по вере и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и! Ты к нам при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лаву Свою яв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и! Ты к нам при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ас благослов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радость брака освящае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в церкви вечной, как жени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брачном пире восседае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реди искупленных Сво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и! Ты к нам при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лаву Свою яв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и! Ты к нам при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ас благослов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всех зовёшь на праздник слав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ай, чтоб новая че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аня всегда Твои устав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гла войти на брак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и! Ты к нам при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лаву Свою яв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и! Ты к нам при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ас благослов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! где в мире этом рад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з света Твоего лиц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жизни истинная сладос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счастье в мире без Творц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и! Ты к нам при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лаву Свою яв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и! Ты к нам при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ас благослов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где! Для жизни этой сил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у Тебя, Господь Иису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лагодатствуй до моги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бой свершаемый сою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и! Ты к нам при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лаву Свою яв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и! Ты к нам при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ас благослов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19:13Z</dcterms:modified>
  <cp:revision>12</cp:revision>
  <dc:subject>Slavic hymnal Гимны веры христиан, hymn 740</dc:subject>
  <dc:title>Христос! Ты в Кане Галилейской</dc:title>
</cp:coreProperties>
</file>