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D01-361B-4FD0-B071-BB1C0EDD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652-76BB-44AD-BBDD-7095F10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D5E-225B-4679-9BF1-59474513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200-ABCA-4E3D-9211-504A3872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341-B01D-4668-AB97-B8C13C68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195-A5FF-476D-9CBC-F17E036E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89B-FD62-471F-900B-6F63D2B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CC9-E73F-4258-980C-BCD6740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7F7-405E-4A69-822A-E84D398B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7AA-F5C6-4FD3-A077-72F222E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C69-0CF4-4D9B-B23E-0959544A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BE2-5693-4B31-A773-5F47202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F6F02-FCFB-4CA7-A730-DB7FE6B52C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like a river, attendeth my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orrows, like sea billows 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ver my lot, Thou hast taught me to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Satan should buff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rials should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blessed assurance contr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Christ hath regarded my helpless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s shed His own blood for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O the bliss of this glorious th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not in part, but th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ailed to the Cross and I bear it no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ise the Lord, praise the Lord, O my so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me, be it Christ, be it Christ hence to l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Jordan above me shall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ng shall be mine, for in death as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wilt whisper Thy peace to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, haste the day when m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be s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clouds be rolled back as a sc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ump shall resound and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desc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so,” it is well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6:18Z</dcterms:modified>
  <cp:revision>12</cp:revision>
  <dc:subject>Slavic hymnal Гимны веры христиан, hymn 817</dc:subject>
  <dc:title>It Is Well With My Soul / Течёт ли жизнь мирно, подобно реке</dc:title>
</cp:coreProperties>
</file>