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A06-DC5E-4161-9483-31E84997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9253-EAB1-4996-945D-55E067C0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737-68CE-4E0C-BEBD-D2A51757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4BA-2B3D-4DE7-BA39-9362CFD4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057-4A02-4FD6-AB37-AE2DB9D1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5DD-45A2-4362-8CF5-325312F1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DCB-B874-4B6E-B228-B76C1240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DE4-1DF4-47EA-A12A-014E8CD6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042-47F9-4CA0-9F17-3831F581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34DC-2888-415D-B5F5-D44FBD87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1896-E516-4431-B9A9-46C13160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72D-FBFE-445B-BF1D-BD5CC790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2309E-C1D6-42F7-BD86-1E5018E8F6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called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phets to this 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the word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situ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75  We Are Called to be Proph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’ll be the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the salt should lose its flav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’ll be the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the salt should lose its flav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loose the chains of oppres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set the captive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fill my life with Your compas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throug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oday,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ake all my 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all of my gre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be a sacri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ose who are in ne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ithout Your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ll just good inten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ithout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ould find redem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oday,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7:24Z</dcterms:modified>
  <cp:revision>12</cp:revision>
  <dc:subject>The Source 3, song number 1575</dc:subject>
  <dc:title>We Are Called to be Prophets (Miracle In My Heart)</dc:title>
</cp:coreProperties>
</file>