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B2E-0E4E-410C-8B00-B2F7886E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195-6AEA-4280-A3F3-A42D38B3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3B3-9CDE-47A1-BD1C-2755B667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D0D-103D-49D4-A8FA-E9018FAD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4EC-C429-4F57-8850-1E1F5ED7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C29-2F4A-4406-9BB5-9AA19F57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A75-C2C6-48A7-BAB7-BDCCB54B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3EF-596E-4864-AA79-73E97870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106-2D0D-49B5-A163-C21481B2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A5C-ED78-4C62-96C7-FE2DAFF3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6B8-8705-4F65-B910-72D0F222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ECE-0844-4F10-B5B2-3BC9C14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41301-2968-46EC-9BDE-7331085919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мира обле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радостный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, Сион плен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отрады Он 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лой мира облеч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ь вокруг темн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и друзей у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па врагов густ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ёт их лег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й, Бог тебя восста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всех твоих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бедою просл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блаженства при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болезни, 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лечит Сам впол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путь твой долгий, 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ит тебя вдвой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11Z</dcterms:modified>
  <cp:revision>12</cp:revision>
  <dc:subject>Slavic hymnal Гимны веры христиан, hymn 511</dc:subject>
  <dc:title>Силой мира облечённый</dc:title>
</cp:coreProperties>
</file>