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33C-B5F3-4F78-AC22-DD8F5AE5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C0F-D441-43B0-9566-4E3A8AF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09B-6213-48AC-9740-AFFED3A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E54-2184-43BA-BAA2-03BC044D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08-5AD0-4911-8881-39DB953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010-0486-4ED2-8FF9-0137BB3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851-E4E7-408A-B0A4-76DE91F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D8F-6F7E-44E7-BE6F-30A0A96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645-65E0-4B4E-9AEB-BF93A5F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EA4-A2F6-4986-90B4-B541DE5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820-53DC-448F-ABE8-747F979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306-58EE-4364-80FE-5621615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0EBB9-DEFE-43F6-B319-9FEAFAB625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весть твоих друз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строил пир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больной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ех твой удру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: Бог снимет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ть тебя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чист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лей, чем морем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ымоет свя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оде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сем гостям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― прощенье, оправ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41Z</dcterms:modified>
  <cp:revision>12</cp:revision>
  <dc:subject>Slavic hymnal Гимны веры христиан, hymn 390</dc:subject>
  <dc:title>Странник, полный утомленья!</dc:title>
</cp:coreProperties>
</file>