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B006-B638-43BA-B6D2-06C84CF67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DE00-B6D1-4034-A54A-7C534C64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53D8-3B91-46BE-9573-CFF099F31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1194-9E30-4BAB-B34A-95D6300F6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5EA7-65B6-49E0-8787-787FD0BD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4867-9D58-4CB6-B0F5-610CC77D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7EFC-88D8-40C1-95D4-36B11B66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83DA-E3FE-44D9-8308-F3D7A3FD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7B85-D165-4235-B4DE-FBD2891C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8336-FE62-4FB8-B06C-9923AE2C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BE27-D0D5-4EAF-BEF0-5929E1E4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32ED-6B5B-433A-B380-30F6B41A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9F49D-63D0-42C8-ADC8-D9B724E0CCE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айте, братья, во Христе род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может с вами мы в последн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айте и вы, сёстры дорог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быть больше вам не видеть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время здесь мы проводи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ясь на ниве в этот славны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и горе мы вместе дели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настал час разлуки для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4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ощайте, брат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е наши, все друзья, прощ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нить мы будем многие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м, и вы нас добром вспомин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мять навеки да будет ч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вам прощальная теперь проп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ните всё, что сказали мы в н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сех да будет любовью согре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 хранит нас милостью С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ем и недругам нашим: Проща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нам вредили много, много ра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же вам прощаем, это твёрдо зн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— нам свидетель в этот славны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7:27Z</dcterms:modified>
  <cp:revision>12</cp:revision>
  <dc:subject>Slavic hymnal Гимны веры христиан, hymn 747</dc:subject>
  <dc:title>Прощайте, братья, во Христе родные</dc:title>
</cp:coreProperties>
</file>