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C01-BDF7-42BE-895D-07830802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1E1-0ADF-463E-BC7B-386D5A0B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951-5031-4DA9-A72D-803BBE1C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8AF-D3B3-4DEA-8924-65292D53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446-BFBD-4346-8F75-DA15D72A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106-DF55-498C-8F18-41BCF0CE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D94-54E8-4EBA-B6D2-E9997DB0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BC2-1AD8-42E4-9025-0646722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98F-F596-4C95-9FE8-C4E9F952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107-287E-4BA7-8E6F-84A82BC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318-F128-481C-AF3F-CD2D37F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17D-EB25-4A46-828B-5295099B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971D9-8EBC-4938-A04E-D34EF9543A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источни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являл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моих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так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касалася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зем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этом мире з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всегда везде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Твои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и я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и там во век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просл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36Z</dcterms:modified>
  <cp:revision>12</cp:revision>
  <dc:subject>Slavic hymnal Гимны веры христиан, hymn 312</dc:subject>
  <dc:title>Повей, Дух Божий, вновь</dc:title>
</cp:coreProperties>
</file>