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60</a:t>
            </a:r>
            <a:r>
              <a:rPr b="1" lang="ru-RU" sz="3600" spc="-1" strike="noStrike">
                <a:solidFill>
                  <a:srgbClr val="ffffff"/>
                </a:solidFill>
                <a:latin typeface="Verdana"/>
              </a:rPr>
              <a:t>	</a:t>
            </a:r>
            <a:r>
              <a:rPr b="1" lang="ru-RU" sz="3600" spc="-1" strike="noStrike">
                <a:solidFill>
                  <a:srgbClr val="ffffff"/>
                </a:solidFill>
                <a:latin typeface="Verdana"/>
              </a:rPr>
              <a:t>Чудная весть о Христе</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Чудная весть о Христе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дость и жизнь душ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ую весть о Хрис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мело другим скаж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нгелы радостно пе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едных направили к це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решник, отвергнешь уже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ую весть о Христе?</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а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а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а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ая весть о Христе.</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Чудная весть о Хрис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еба звучит опя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ая весть о Хрис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умолкает зв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до начала твор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м уготовал спас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рой примите в смирень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ую весть о Христе.</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а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а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а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ая весть о Христе.</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Чудная весть о Хрис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рдцу несёт 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ая весть о Хрис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х нас зовёт до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где Христос со святым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третимся мы с дорогим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достно петь будем с ним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ую весть о Христе.</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а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а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а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ая весть о Христе.</a:t>
            </a:r>
            <a:endParaRPr b="0" lang="en-US" sz="3200" spc="-1" strike="noStrike">
              <a:solidFill>
                <a:srgbClr val="000000"/>
              </a:solidFill>
              <a:latin typeface="Verdana"/>
            </a:endParaRPr>
          </a:p>
        </p:txBody>
      </p:sp>
      <p:sp>
        <p:nvSpPr>
          <p:cNvPr id="4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9-08-19T08:55:53Z</dcterms:modified>
  <cp:revision>3</cp:revision>
  <dc:subject>Slavic hymnal Гимны веры христиан, hymn 260</dc:subject>
  <dc:title>Чудная весть о Христе</dc:title>
</cp:coreProperties>
</file>