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344-9185-4553-AC8D-A20F0722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3E1-AF23-4977-BB2D-2703EE73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4D5-F51F-4202-AB2B-0A1A3BA7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507-B716-446F-88DE-14FFF4FD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469-22D3-46FE-9356-D254B32C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93E-E51F-4D7B-A60F-F32993BD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F63-0FAA-4473-9271-EB3A9B6D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ECA-16DD-44EA-A9DA-94828EF0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C74-0B75-494A-9BA3-FEFDD229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493-35BC-4B0D-A2D5-458978F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18B-F8EB-44C0-A2E8-95CA2776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81A-E7D7-4C03-8271-35A64FB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7FD5D-BF38-4A56-BDB9-42A06951DD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he silver cord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no more as now shall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 the joy when I shall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lace of the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my earthly house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tell how soon ’twi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: my All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now a place in hea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when fades the golden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rosy-tinte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lessed Lord will say, “Well don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into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ill then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amp all trimmed and burning b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my Saviour ope’s the g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to Him may take its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0Z</dcterms:modified>
  <cp:revision>14</cp:revision>
  <dc:subject>Slavic hymnal Гимны веры христиан, hymn 693</dc:subject>
  <dc:title>Saved By Grace / Когда порвётся жизни нить</dc:title>
</cp:coreProperties>
</file>