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201-0A9E-4CD6-ACF4-7067EF82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B59-1B9F-4F80-8174-C5EFD3C4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9D0-0561-4AE7-AA67-8AE5E5D9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3E6-1915-48C0-9CA7-610D5099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9BC-C836-4CE0-8356-161701B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3D5-8EE5-439D-80A7-06D575DB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701-F349-400C-90B3-14E3A708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D69-5052-4779-B86F-0F20F590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C51-EAE2-424E-83ED-AAD6E360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4EF-4E89-44F5-BE86-F834BBB6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D59-D1CE-4B8C-B18D-5A2ADAB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93C-B48B-4E3F-B537-9F794E7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0BD27-C279-4724-BEF2-0C367C625D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48Z</dcterms:modified>
  <cp:revision>12</cp:revision>
  <dc:subject>Slavic hymnal Гимны веры христиан, hymn 888</dc:subject>
  <dc:title>Ликуй, Христов народ!</dc:title>
</cp:coreProperties>
</file>