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1A9-7734-4C69-AA3A-82B3AFD1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E57-EDCB-4253-ACEA-1765D1A8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95D-2D9E-4BC4-B1E2-C4B38EED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C49-734E-469C-85B2-F795FA94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F2F-E129-4A79-A8B8-64E1DBE4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978-2E3D-4D9C-8E3C-E1A22FE1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596-8060-4387-93FB-CCFBD937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142-F865-4DAB-8496-FDDD384B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B1B-FF87-4451-833D-85BD9F67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226-1AAF-4EB1-8E1F-F2173415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0AE-8725-464A-B7C6-6D2E280A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B3C-4B15-40AC-98A1-347DBBF4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C57A3-027F-4F1F-9658-B052A4C105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хочу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ерцат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 Голгофы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течёт ре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креста хочу сто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меня на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езда свят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озар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открыл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ий Агнец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всего доро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я буду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и наде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Бог велит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безмятеж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37Z</dcterms:modified>
  <cp:revision>12</cp:revision>
  <dc:subject>Slavic hymnal Гимны веры христиан, hymn 424</dc:subject>
  <dc:title>У креста хочу стоять</dc:title>
</cp:coreProperties>
</file>