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5B2-E5D0-4D11-A1D1-17DFC202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5DD-3333-4D26-94E4-6FC88320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C05-E6A8-4965-9757-09C65454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598-707E-4B61-9FC1-46F6E1A4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7C1-4147-4BC5-AB6C-18B9249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0D8-6D4C-4B9D-A14A-1B8F12B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B29-12B9-4AA8-9D2C-1AB7424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352-C890-4458-BDF1-B8362868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4AE-C642-4CBE-8477-58DD56F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593-2512-4254-817B-A361942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BB5-2BE2-4DE3-AA6B-E6125A5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A60-9FCB-45ED-AFB3-83CA8DA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9C6D5-EC57-48FA-A0B3-45F58920B7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18Z</dcterms:modified>
  <cp:revision>12</cp:revision>
  <dc:subject>Slavic hymnal Гимны веры христиан, hymn 369</dc:subject>
  <dc:title>О, приди заблудший грешник</dc:title>
</cp:coreProperties>
</file>