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6A29-F95C-4395-A7D6-8D001E08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B01-8ACF-4686-8461-352A56DC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38BE-56C4-4F1F-9F41-D1077791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9296-C72B-4FF0-B376-86080F82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F46-49C3-4B81-B7EC-5E5A38FD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DA6-97A0-4B97-A1CF-87BE71A3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7DA2-A074-4D7F-9A9F-434D1BD6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BDDD-0EB2-4C81-81F6-D1E8EAE9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F72-24BC-4DCD-B646-435D9D46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BB6C-0B9A-4E26-A117-44F565B8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D13F-4C5B-4289-8200-24159AE9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D50-D911-4710-8900-7B243194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539B3-DF8F-49B2-B2FC-2F26B970D01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ord has garments so wondrous f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rrh their texture fill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fragrance reached to this heart of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joy my being thr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итон бесшов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тон бесшовный Господь но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ирны аро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ой одежды меня пл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идти я р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of the ivory pala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a world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His great, 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my Saviour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life had also its sorrows s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oes had a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I think of the cross He b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eyes with tear-drops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зведал страдани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ак алой горе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умер за Сво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лучший дать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of the ivory pala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a world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His great, 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my Saviour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arments too were in cassia dipp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ling in a touc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time my feet in some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slipp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ok me from its clu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одежд запах ка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ходится кру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болезней и слаб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альзам целебный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of the ivory pala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a world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His great, 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my Saviour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arments glorious He will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pen wide the do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enter my heav’nl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well for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ежде славной 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м лишь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н Своих возь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м с Ним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of the ivory pala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a world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His great, 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my Saviour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9:53Z</dcterms:modified>
  <cp:revision>12</cp:revision>
  <dc:subject>Slavic hymnal Гимны веры христиан, hymn 837</dc:subject>
  <dc:title>Ivory Palaces / Хитон бесшовный</dc:title>
</cp:coreProperties>
</file>