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E6A-B6E6-41FB-925B-A4B37B3A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5B7-BCE8-4944-8BBC-4C0A267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34B-A6A2-4445-89D2-4B07183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F1D-E86B-4D68-B049-454ECA37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7B7-2E76-4E1C-824F-4E4F1D15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95B-4BB6-46DF-9A39-6465D3F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EB9-9B40-48CF-A1A1-F9608C89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D44-1183-4AC2-9656-8BB6826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ECD-443A-48CD-8FB2-E567CCD0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80A-5269-4D0A-9D41-EF63F6D1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8A7-6DFC-4C23-A64F-BC00C05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737-F8A8-42FD-97CA-DAD3EEC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5D02E-59F3-49F2-92B8-B0348DCC0E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звавшего 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мертных Тво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тягостной д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ы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го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етуй: Кто пр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ён сущ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авит с премуд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ми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ихрям и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 указ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ь без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обр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ю бла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м с спок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и все та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увен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ым ко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заб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е непо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елу стремиш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атишь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, и получ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у оби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а даё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е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ред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ая в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м благо дл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ред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му по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д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ных Своих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чём нет прег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черт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творен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Его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ь же Госп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м обещ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! Он 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корб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о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ь и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есомн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ё Он устр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благ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достно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быть спасён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идешь с хвал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искуп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,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ны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32Z</dcterms:modified>
  <cp:revision>12</cp:revision>
  <dc:subject>Slavic hymnal Гимны веры христиан, hymn 653</dc:subject>
  <dc:title>Покорно предайся Божественной воле</dc:title>
</cp:coreProperties>
</file>