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1E7-6611-4688-9279-502C360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BEC-9568-4A1B-9452-83CDEB94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EC5-37FC-4AFD-BB31-A116326B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8D-92DF-46DB-8C99-A8D990E6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FE2-793B-4D9B-A835-B0032AE8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67D-C9AB-4508-A76D-A43B274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BED-98A2-429A-89C9-18DE3ED8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B2C-C510-4B00-A217-FE3595C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321-997A-4D3B-8B94-E1BCF2C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0DF-BE7E-4746-AAD1-2C41C01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17F-0CBB-4240-A42F-7E07E7BA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982-111F-49CF-9EB2-7CA7C2C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59B12-7AA5-4573-9E60-2287534CBB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21Z</dcterms:modified>
  <cp:revision>12</cp:revision>
  <dc:subject>Slavic hymnal Гимны веры христиан, hymn 570</dc:subject>
  <dc:title>Буду петь, как Искупитель</dc:title>
</cp:coreProperties>
</file>