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2FB-8308-4407-8935-C6FF6C98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9911-4273-481E-B0AB-2CC08116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8F3-8510-4A2E-9B9E-AFB63C90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CBC-8E47-4571-A96A-E9B10FC1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BF3-FBB2-4E85-9B10-E21CD9D8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687-1B43-4AE7-9561-8D002540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FDA-0C2A-440E-B3BE-66140021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7D9-3E8F-462B-81EE-C8A6C9CB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61E-157F-406F-877E-FF200176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735-AA09-40E7-A4BD-0B2B912A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841-BE4B-4602-8850-8FB90D39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B93-1E99-4960-8591-97C54AF8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19419-6A1B-4A81-AF07-D2E8450F787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Духа Святого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Он к Иисусу в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Он зовёт и т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, в Нём счастье найдё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лос Духа Святого зов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хоть мира жалеешь л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Иисусу ты медлишь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от любви ты бежи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, в Нём счастье найдё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умер Он и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пасенья тебе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дар Иисуса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, в Нём счастье найдё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0:22Z</dcterms:modified>
  <cp:revision>16</cp:revision>
  <dc:subject>Slavic hymnal Гимны веры христиан, hymn 340</dc:subject>
  <dc:title>Голос Духа Святого зовёт</dc:title>
</cp:coreProperties>
</file>