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B7C9-3EE2-4A50-8315-DBADD00D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2882-DF64-49EA-9E98-36F00F65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DB97-F4E6-49AF-BC68-7AEEA30E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F10F-6687-4A3E-811C-FE571310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59CD-BB09-4543-99CE-DA0A9EAE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088F-466E-4C00-9CEE-CDF7581B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F7F5-7356-428E-B376-C1B96948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7049-D8A2-4F4B-A589-0A2C172C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6766-F470-48B4-9B7A-3EE1DF24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6F92-6E45-4ED5-B584-03CD238B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0252-CD74-4D8A-837B-701FB494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0BB8-AE8E-4296-97C4-28818AED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06738-008D-449E-9F82-21E958DA23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there is, above all oth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is love beyond a brother’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2   Любить нас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нас Христос безмі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вжди ніжно, завжди ві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ly friends may fail and lea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day soothe, the next day grie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is Friend will ne’er decei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астя світу промин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друг нас забув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же ні, не залиш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is eternal life to know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k, oh, think how much we ow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хресті Ісус в страждання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м дав Він оправда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precious blood He bought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wilderness He sought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s fold He safely brought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инуле все прощ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дивну посил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Йому лиш довір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ed Jesus! Would you know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yourselves entirely to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пізнать Його баж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ій, щастя той пізн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k no longer of the m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past new courage b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arries all your s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илічує всі бо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ове життя дару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ає Своїм Сл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your sins shall be for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ackwards shall your foes be dr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до Себе закли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н прийм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st of blessings He’ll provid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ught but good shall e’er betid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to glory He will guid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блаженство обіц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орі завжди помаг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веде Він нас до 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9:31Z</dcterms:modified>
  <cp:revision>12</cp:revision>
  <dc:subject>Slavic hymnal Гимны веры христиан, Ukrainian hymn 62</dc:subject>
  <dc:title>Oh, How He Loves! / Любить нас Христос безмірно</dc:title>
</cp:coreProperties>
</file>