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44E-AC71-48EB-9C61-403616F5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016-9765-406F-9E1E-FEA42156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6FF-1429-4383-9952-141FD235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78E-6562-4E9A-8BD4-D0822B98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BB1-B515-44BD-A637-D09A90B5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DF0-FEC7-4C89-A494-5216BB12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077-6538-4572-970C-5F61F298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21C-2D64-4F4E-BB6E-6599BAF0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82E-3B8B-4E94-8F3A-4B43D637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B1D-0093-448C-9958-A11FCE2F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CA6-1C12-48F9-A1C6-2B823A47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B62-A57C-47B2-AF04-44CBF95B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E4E57-216E-490C-8613-C09E0C6326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quie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sin cannot mo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корбь, ни смерть нам не страш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comfort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we our Saviour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утешень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прощенье, мир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full rel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all is joy and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жденье от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осторженно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4:44Z</dcterms:modified>
  <cp:revision>12</cp:revision>
  <dc:subject>Slavic hymnal Гимны веры христиан, hymn 854</dc:subject>
  <dc:title>Near to the Heart of God / Есть место сладкой тишины</dc:title>
</cp:coreProperties>
</file>