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983-A65F-41C4-A53D-AB9ACF4E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122-BEB0-4C43-9370-7F25D14E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BD4-92E2-40DC-B196-B392C6E0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0D3-8418-4108-8EBD-D5533615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0AE-2713-4F81-8B67-701C2406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E83-C34D-4136-80F9-52D6FA58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945-C9A3-4E38-BF17-A168773D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4613-53DA-4525-B27D-B0FC895C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2EE-8E07-4A02-A42D-68DE5808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0A6-0DE4-4281-897C-F5971467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D6F-A935-4381-B062-4275B09A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D3A-68AE-441F-8022-DA2BCCBE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323A1-F435-452C-B5C5-499663044A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алеко, за рікою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рег вічного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ідем туди з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1   Недалеко, за рі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ікою сонц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овий Є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радісні лун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дивні, незем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же многії свят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той берег перей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уть хвилини дорогії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кнуть нас, щоб ми 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холодна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далі світ с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й Христа ― то Край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з Христом нов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0:16Z</dcterms:modified>
  <cp:revision>12</cp:revision>
  <dc:subject>Slavic hymnal Гимны веры христиан, Ukrainian hymn 91</dc:subject>
  <dc:title>Недалеко, за рікою</dc:title>
</cp:coreProperties>
</file>