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55B-51A8-4C35-A763-0325CADD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BDB-D1BB-4FBD-939D-C623642A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457-149A-4A36-AC00-A827DA2B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BAB-A013-4929-86D6-A00EB91A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705-DDFF-4CA3-AF19-DA3E23D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6DF-7C1E-4EF9-8E87-F655BDA1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0D3-9059-4F99-AB23-40C0549B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AC2-9688-4673-83C9-44D52967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34E-B4AE-4E19-BAFD-2045E7EB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B7E-1533-4EED-BB2C-D5C79522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69A-BD03-49F8-9291-6D468E85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BC8-ADB1-43EC-BF4E-18FBF66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ADF7-86FE-4341-A86C-2845794372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a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and holy, tried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e a living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08Z</dcterms:modified>
  <cp:revision>11</cp:revision>
  <dc:subject>The Source, song number 334</dc:subject>
  <dc:title>Lord, Prepare Me (Sanctuary)</dc:title>
</cp:coreProperties>
</file>