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E98-152D-4C7E-BD82-20F065E7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966-BE34-473B-90CE-380B5603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5FB6-0EAD-4225-BBE4-7F02A24A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380-4307-4585-A885-333F8779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4998-E53D-4626-BB66-5248301B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04A-0287-4CFA-9BEE-FC96464F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5326-0A94-477A-8DE8-AFC8D4FB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5A78-8A85-4D13-A4C4-8E62A981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745-F259-42F3-BDC5-86F9DEE5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C01-8627-4FB7-B714-66A45A98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1A8A-7815-4BF5-8FB8-81AD9B1E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D87-6D12-4FC0-93AB-11171B1B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5D343-6843-4D52-9680-3020DCBAA7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d me ere I knew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with the cord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us He bound me to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ёл я Друга од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же всех на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освободи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 греховной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ound my heart still closely tw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ties which naught can s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His, and H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ever and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ердце привязал к С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ко мне любов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теперь и 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ю куплен к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led, He died to sa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t alone the gift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is own Self He gave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ёл Он на м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нам вечной жизни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м купить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that I have mine own I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hold it for the G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, my strength, my life, my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His, and H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имею, кем я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я не счит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таланты, жизнь и 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я посвящ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ow’r to Him is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uard me on my onward co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ng me safe to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хранить Он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ведёт Свое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веки не забуд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’ eternal glories gleam a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nerve my faint endeav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now to watch, to work,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to rest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славы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стремлюс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корбь и труд мой путь л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ому по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kind and true and t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ise a Counsellor and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mighty a Defend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чудный мой Спас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изок, верен Он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Утеш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m who loves me now so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power my soul can se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life or death, shall earth or h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! I am H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сила раз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м Другом несравнен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всегда соедин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чным, неизме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00Z</dcterms:modified>
  <cp:revision>14</cp:revision>
  <dc:subject>Slavic hymnal Гимны веры христиан, hymn 583</dc:subject>
  <dc:title>I’ve Found a Friend / Нашёл я Друга одного</dc:title>
</cp:coreProperties>
</file>