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19A-6A86-49C3-A5F4-40784269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CE2-D178-4355-9FB4-A55247AF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FFD-B01A-42F3-ABAF-92A771ED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3CF-E518-42BD-989F-B57F34DD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111-C38F-4A4F-BCC6-8E4960D3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380-B88E-48C6-951F-B5053898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24F-E77F-424A-B686-478CBFD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940-12A6-45EE-81B9-D9B143A7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411-0E31-4E58-8749-BE3B133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7DC-6F76-4A97-9363-60FF822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4BB-74CC-4168-9A47-80A1C37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038-6B17-4850-909B-B9171DB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B0E62-9A3B-4F0C-82DC-17FFAFFB2C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сила, Божь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аполня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гонь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не пог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любовь объеди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 нас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ёт, нам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и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я сила,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дим друг другу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ьются песней зв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сной руч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паситель будет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ёт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шёл добра пу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наш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енья дай нам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возве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ир, пленённый л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Тебя по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и нас силой с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 нам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бя могли усл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нцы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сширь сердца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вде утвер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рукой пронз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в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любовь к святому де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ширяй наш 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знь не проле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есплодный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34Z</dcterms:modified>
  <cp:revision>12</cp:revision>
  <dc:subject>Slavic hymnal Гимны веры христиан, hymn 483</dc:subject>
  <dc:title>Божья сила, Божье слово</dc:title>
</cp:coreProperties>
</file>