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AF64-AC43-40DE-8A35-17826146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51DC-B688-4DE5-90C9-93EF0D61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2B88-9750-4108-952D-DDBFCEB3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67B5-DAE1-453D-8FFF-0971CD32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F946-8C4E-444D-9176-F4210E1E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6203-801C-4ED1-A173-27A3751B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8D48-FB8F-4E6D-B260-A8DC81A1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48A9-EEFE-402E-BC95-4C2B3F4A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8451-A436-47C6-94CE-739EAB07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BC73-18BF-4E75-A863-DC434BFE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4C6B-8363-4278-8C59-84AF700C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7393-3718-4791-9A17-08FA6444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9778A-43C3-44F2-B0ED-1C099A7455E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коро дни летят вперё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лышной черед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день один к концу 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настаёт дру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за часом,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концу забот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оследний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скоро дни летят вперё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л, уповал, люб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бывал с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Христос чрез мрак мог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ёт в Свой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за часом,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концу забот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оследний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робьёт и для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дний час жи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у после обитат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ано Богом зн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за часом,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концу забот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оследний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ердца верю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от Господний 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ет страшен для ме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ввек Хрис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за часом,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концу забот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оследний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настанет жданный ми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таться мне с земл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помни между слуг Т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ого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за часом,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концу забот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оследний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0:19Z</dcterms:modified>
  <cp:revision>12</cp:revision>
  <dc:subject>Slavic hymnal Гимны веры христиан, hymn 735</dc:subject>
  <dc:title>Как скоро дни летят вперёд</dc:title>
</cp:coreProperties>
</file>