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C8A-8AC3-4ED9-AB7E-5EA787D7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73B-B9BC-4F55-A86D-BC647843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53D-B42E-4F8F-BE37-59741D4A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265-6F5C-4C2B-BFD5-CCE7E7AC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211-B492-4F57-9E60-66D06FE9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8F7-A890-47C4-B2BA-B1997273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895-DF92-4B6F-BA15-5A1EDC8F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C46-7FA1-41AD-B75A-C43A3C94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F6C-8C1C-40EE-8623-A3803F08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D08-83DC-405C-B35B-78B11C7A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162-2FD9-4811-9AFC-5A2F62E5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0F6-20E5-4DD5-AC5A-E60E0B20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3A0F1-A546-4B9D-9280-ADB099AA7F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 once held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ilt my life u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is world reve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ars to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1   Всё, что я цен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я ц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ил жизнь на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чтает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б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 once thought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counted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nt and worthless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pared t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терей сч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атой,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л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Тебя, Иисус, знать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важ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жизнь, лучше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им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know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ound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nown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ебя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ывать в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ести Тв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ossess by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 could not ea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-surpassing 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равед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бесценный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Тебя, Иисус, знать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важ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жизнь, лучше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им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o know the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Your risen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kn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suffe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ья 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по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трад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come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death, m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ith You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ever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елить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, и смерть, и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и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Тебя, Иисус, знать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важ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жизнь, лучше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им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12:22:16Z</dcterms:modified>
  <cp:revision>11</cp:revision>
  <dc:subject>The Source, song number 11 in Russian</dc:subject>
  <dc:title>Всё, что я ценил / All I Once Held Dear (Knowing You)</dc:title>
</cp:coreProperties>
</file>