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36D-D03C-4634-A2FA-058BC8BD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31D-0186-4275-B5DA-48E6F29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98A-E9D3-468F-ADAA-3FB6C8CC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4AA-C045-4875-ACE6-4617E1B5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20C-EB63-45A8-9B8C-DE4A08C2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8AB-8E3A-4A3E-A711-AE9407B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456-0B97-4AA2-A158-936BA6D1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F8C-79E0-488D-BCEC-F490280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159-6C9E-4742-AFF6-11B6360C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809-ECED-4EC3-843D-3E1387A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12F-4674-49AF-8E7D-E11D23C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52B-7D4C-4AD8-8DEA-8A9229D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16749-1ACF-4F0D-B99F-45736A3E26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жемчужин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шёл почти весь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ря и вс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е дорог жемчуг т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его —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его живых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онул в морской в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, долго я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стречая нич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в пути я у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взор си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Он в руках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редкий,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леснул в мои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тел домой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ма свои пр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еть его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кротко мне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ло мир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жемчуг Свой про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Я даю 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руку прот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жемчуг получ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взгл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мой не дар м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при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усладу скорб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07Z</dcterms:modified>
  <cp:revision>12</cp:revision>
  <dc:subject>Slavic hymnal Гимны веры христиан, hymn 603</dc:subject>
  <dc:title>Я искал так много лет</dc:title>
</cp:coreProperties>
</file>