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DBC-1361-41FA-93DB-F7FFFBB4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639-36E8-4BE9-8C62-46F1870A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8A4-76F3-4E4D-A20B-F924CCE1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C75-27BD-4B81-9DAD-0FF9724A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5E6-44ED-4E92-AE21-5086058B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ADF-B168-453C-B789-36B5F94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CAF-E63C-4018-9FE9-30F218F6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816-684E-4D78-895A-5432F51C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841-BA93-41FE-B8DC-9902BC1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B9E-DB85-4A2D-ABB4-C9CE1D5D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FB3-5B69-45DF-8C4D-16871BB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16C-6575-42D3-824D-7F41478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AD460-8CDC-4749-B006-79380254D9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ark,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ic songs are swe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arth’s green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cean’s wave-beat sh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at leng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life be long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must da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some night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жизни крут и 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’s journeys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elcome to th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, the hear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home, 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ьш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s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aithful watches keep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s sweet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o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orning’s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end the night of w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’s long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in cloudles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ертвящей 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blessèd strains are 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new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in shall b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w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we hear them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ary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bids you come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echoes sweetly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spel leads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,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bells at evening p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oice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s o’er land and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den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ousands meekly st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 Shepherd,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eary steps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 чрез 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31:07Z</dcterms:modified>
  <cp:revision>13</cp:revision>
  <dc:subject>Slavic hymnal Гимны веры христиан, hymn 615</dc:subject>
  <dc:title>Hark, Hark, My Soul! / Внимай, душа! небесных хоров пенье</dc:title>
</cp:coreProperties>
</file>