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73B-29C5-4C25-9FB9-27A4C7C2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618-EEA5-49B8-8536-D342B82F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CFB-2BA1-4D21-A62F-A928FC3E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CAE-E5C2-4A91-8DB0-D6DD473C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F76-2DF4-48B5-B22E-40608CE9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1ED-072D-47E1-BEC2-F61E5713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C0F-EB06-4039-9061-DA179264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B9E-96BA-4DD4-8EC2-211841EF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1F7-E3BF-4178-B540-349001A5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D8B-CEF9-4E5C-95FC-3FC993F7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7F5-5098-4D39-A396-B95458AA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A67C-BB6F-4DD1-8029-B0D77FC2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56544-69A7-4725-9BA8-C7DDFB27C6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Господні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там Христа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я церков і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куплених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блю, Бож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 церкву ― храм жив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ї боронить Дух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горя ― буре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4   Люблю Господній ді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церкву я мо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х її ді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я церков і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люблену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, брат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віку бути в 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помогти в порі сум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еста нести ї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ра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Господа ми 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ю, вірю, що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ти перед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7:11Z</dcterms:modified>
  <cp:revision>13</cp:revision>
  <dc:subject>Slavic hymnal Гимны веры христиан, Ukrainian hymn 14</dc:subject>
  <dc:title>Люблю Господній дім</dc:title>
</cp:coreProperties>
</file>