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0482-EF9D-48A5-89B0-671574B48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51EA-E43C-4496-8364-8478246B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FA7F-E5E4-45A2-A891-B51856B01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9EBA-F3FD-49BC-9886-0D3D9BA7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B182-4F1D-41A7-99F9-E5AA4B51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9B8A-7705-444D-B2D3-882B1E45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16C4-405B-4098-8325-F6CEF669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2631-6EB9-4395-819B-69803822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1EAD-5430-452D-899E-3A852B26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4343-7AE2-4E3F-86A1-671E4E8C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63B2-AD75-489B-A58B-687242B1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B6BB-DD6E-47AC-876D-1062FD4C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0DB51-4E01-4876-A29E-FBCE5CB728D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эту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люди 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идите в серд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мненье, скорбь и с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каждый, кто жи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осторгом воспо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сите эту в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обещ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р Его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ж эту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люди е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ходит ночи тьм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ток горит зар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крылася тюрьм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а пред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ердца и 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ет свет и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обещ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р Его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ж эту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люди е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чий Царь ца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учах любви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лительный бальз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 для всех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ышим здесь и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смелей, друж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обещ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р Его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ж эту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люди е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а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подходящих сл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мертным расс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ожет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женных раб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у подня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обещ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р Его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ж эту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люди е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7:15Z</dcterms:modified>
  <cp:revision>12</cp:revision>
  <dc:subject>Slavic hymnal Гимны веры христиан, hymn 305</dc:subject>
  <dc:title>Несите эту весть</dc:title>
</cp:coreProperties>
</file>