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7C8-F170-4B15-9D1F-367329BA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5FD-B999-4431-85DA-BE5A420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831-6E62-4BFC-90F1-3D9C22CF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E3A-7912-4010-9150-0558E46A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170-A1EC-4C46-9471-B127AD0B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9D5-3BE4-4757-8ABB-2722840D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E41-AEA6-49F9-9776-BD345DE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268-A635-4D59-9393-B191E3AD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2A0-58A1-438C-89EE-1A126FA4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18A-D420-4BFA-9E75-F699348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634-DCFE-45E4-A3F1-83B3BA0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A60-227E-4912-9491-9C2B668A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0B0B9-A9A6-47E2-BF1C-C5DB4150FD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04Z</dcterms:modified>
  <cp:revision>12</cp:revision>
  <dc:subject>Slavic hymnal Гимны веры христиан, hymn 589</dc:subject>
  <dc:title>Радостную песнь воспойте</dc:title>
</cp:coreProperties>
</file>