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B05-0514-4497-8E8D-C476E595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D68-B5CB-4471-ACDB-E7C1AB9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07E-54A0-4639-A053-76491F03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001-7DBD-4173-92F5-3596E6E8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ED4-B45B-4CFB-BBEA-66637CB8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22B-0039-4188-86CD-5EBE98C3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10B-2B83-4BF0-BACD-583FBFD7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EBF-4D39-456A-AC35-2B9FE47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269-501E-44FD-852B-F6067E3F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EDF-8F9E-4051-B4E0-464E1AD8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FBC-5DCE-458C-8828-14F19C6B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9E8-DBBB-4164-AF8E-0D0613FD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15599-1386-40C3-B4D1-6065EF3E85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me lie down in green pas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me wanting for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ill my h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oney from Your sweet, swee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et me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can love and ad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ephe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Jesus,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71   You Make Me Li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48Z</dcterms:modified>
  <cp:revision>11</cp:revision>
  <dc:subject>The Source 3, song number 1671</dc:subject>
  <dc:title>You Make Me Lie Down in Green Pastures</dc:title>
</cp:coreProperties>
</file>