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D16-A5C0-44CA-AE2D-C0735D11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649-335C-4726-815A-BE5E7891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AA3-6025-41A4-86C6-05782399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C14-83AF-4862-8323-9E79E317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853-2381-409C-9EE2-F79D28F4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785-CBB8-475E-A63E-9C5F880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48C-2894-4E8B-BF29-8893181B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907-A495-45F1-8F44-37BC45C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5AF-E99F-416F-BB84-BC127AE7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9D9-5F91-4FA2-8113-63F41ACA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928-6473-4675-9E33-8DAD6D0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5C0-D4DE-4F2D-B08E-AAF1C7F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B4286-54D3-4450-B17C-FE5F3B3BAD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ной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ться всех, кто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зывает звук тру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ами Божье знам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ед з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сквозь битвы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айтесь, с вам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дети Бож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 вражья вл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дышащая л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а врага нап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аша сила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ятой Христа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под крепкой кры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ей сокрыты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аг ваш поб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царскому подн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свою скло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цы ж в войне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ятся вен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й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женстве п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4:24Z</dcterms:modified>
  <cp:revision>12</cp:revision>
  <dc:subject>Slavic hymnal Гимны веры христиан, hymn 487</dc:subject>
  <dc:title>Воспряньте, дети Божьи</dc:title>
</cp:coreProperties>
</file>