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BB6-8905-42C2-8BAC-D71B477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A95-BFE4-4F98-80AB-A266401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CFA-3A1B-418E-8240-1F9622A9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93D-4C4E-4891-AEC6-FD367321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6C8-7242-4216-8E8D-70F5ED0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FD3-CBA7-4045-A916-01916C4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20F-D2C5-463F-9930-A73D1713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3D0-0E11-4E0B-BF78-FD1281A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3C9-E109-41F5-9BFA-50A64B0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494-8684-4B13-B88F-A72031B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B3E-3B20-4558-9907-50DED28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E82-88FA-4AF3-BD1C-726B100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24EB4-7AC5-477D-B3F1-4CFB7A32ED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as but a little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well I re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would griev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y folly and negl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y and night she prayed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e in His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a message ca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bade me quickly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would se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aviour took he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omised her, before s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ven to pre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that she has gone to Heav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iss her tender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was often way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s always kind and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atient, gentle,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cted rough and ru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ildhood griefs and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ould gladly with me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became a prodig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ft the old roof-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almost broke her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ourning aft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18Z</dcterms:modified>
  <cp:revision>13</cp:revision>
  <dc:subject>Slavic hymnal Гимны веры христиан, hymn 803</dc:subject>
  <dc:title>Tell Mother I’ll Be There / Я не забуду детских лет</dc:title>
</cp:coreProperties>
</file>