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534-B65D-4895-81E7-6AE04DFA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436-1FD0-4769-AA9F-9BE91BF8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693-179D-43E9-9F10-9E9C9D4B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5A2-0EB3-4B52-854E-B03EFEFD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3B8-7F83-47CE-AEE3-D25C417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E6E-19ED-4B6A-B065-FFFEDCE3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4CD-5D23-4429-A11D-9545C13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09B-C0C8-4714-85EF-39B6A01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9E2-BEC7-458A-BAAA-8459AED6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C76-0C52-4377-B74E-9E17683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C9D-9038-4983-A3F6-9A5621B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D9D-BF8B-47EF-8063-B480BE0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D9804-FE58-4866-B88B-6837C38E6F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слал Отец, нам послал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ясной собрал Он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за этот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во имя Его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ам обещал, быть Сам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, чтоб вечный наш с Ним 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ти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этот не знает отрады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мы будем, чтоб Он,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ами преб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8:02Z</dcterms:modified>
  <cp:revision>12</cp:revision>
  <dc:subject>Slavic hymnal Гимны веры христиан, hymn 744</dc:subject>
  <dc:title>Отраду небесную для сердец</dc:title>
</cp:coreProperties>
</file>