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92B-5844-4134-8D51-2BE9393B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868-7BE1-4F39-BD06-5F0BFED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A46-DB1D-41D7-87D3-72CA52F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474-9265-45CC-AEFD-88FDCB51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04F-B671-4DF3-8A07-2B23183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4D5-6860-4972-B018-C6CD3E6F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9BE-557B-4E25-863A-BAA3CF8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914-7FCF-41BD-8313-C4C8568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581-C0BE-42BA-B524-1CFF9A8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ABB-D9C4-4E18-A61A-B592D2B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018-0FE6-4F5A-B2DA-9B0D3A9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EBA-5778-4AD9-81F5-7E7B77A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E91C-56E4-467C-93F5-358F8C5F44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тро юности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радостной рас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призыв вл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ять Христа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утро юности прекра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Нём благовест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милост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грешным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м же силы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душ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ая жизни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трудом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23Z</dcterms:modified>
  <cp:revision>12</cp:revision>
  <dc:subject>Slavic hymnal Гимны веры христиан, hymn 526</dc:subject>
  <dc:title>В утро юности прекрасной</dc:title>
</cp:coreProperties>
</file>