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5DB-B7B3-429D-AEBD-AF98FA35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CD2-B449-4D4E-AA5B-1C7143CA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E5C-5CA0-48FD-8872-B8503333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D7C-31C1-4D5F-A65F-CE643ABE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490-C46E-4560-9F39-BD4194A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BEE-AEF0-4ADB-BEFB-D478174C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A52-1673-4825-A156-C08E24EA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083-C768-4F39-947D-C17D60C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8B1-822B-428B-A926-86C51F92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C69-4FBE-4D02-BCA2-4A5EA14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13-0D65-4C68-9AFC-64A9ECF3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CA7-419B-4512-8348-B5B73C1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358F1-C358-4366-9326-225C20426A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ate that stands aj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its portal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diance from the cross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’s love revea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ajar stands free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eek through it salv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ich and poor, the great and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every tribe and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ward, then, though foe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ercy’s gate is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cross, and win the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everlasting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iver’s brink we’ll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that here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 the crown of lif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e Him more in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1Z</dcterms:modified>
  <cp:revision>13</cp:revision>
  <dc:subject>Slavic hymnal Гимны веры христиан, hymn 371</dc:subject>
  <dc:title>The Gate Ajar For Me / Отверста дверь для нас одна</dc:title>
</cp:coreProperties>
</file>