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a:t>
            </a:r>
            <a:r>
              <a:rPr b="1" lang="ru-RU" sz="3600" spc="-1" strike="noStrike">
                <a:solidFill>
                  <a:srgbClr val="ffffff"/>
                </a:solidFill>
                <a:latin typeface="Verdana"/>
              </a:rPr>
              <a:t>	</a:t>
            </a:r>
            <a:r>
              <a:rPr b="1" lang="ru-RU" sz="3600" spc="-1" strike="noStrike">
                <a:solidFill>
                  <a:srgbClr val="ffffff"/>
                </a:solidFill>
                <a:latin typeface="Verdana"/>
              </a:rPr>
              <a:t>Господь Спасител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Господь Спаситель, в этот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згляни с высот Твоих на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реди холодной пусто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жги огонь Свой, Боже,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ердца к молитве пригот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освяти уста Ты вн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руй нам веры благо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Боже, вновь Тебя познат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И дай увидеть мощь Тв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обой обещанном кр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мы перед Твоим лиц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будем мир с его грехом.</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4T11:00:58Z</dcterms:modified>
  <cp:revision>3</cp:revision>
  <dc:subject>Slavic hymnal Гимны веры христиан, hymn 2</dc:subject>
  <dc:title>Господь Спаситель, в этот час</dc:title>
</cp:coreProperties>
</file>