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13D4-C3D9-42C6-8737-969203CB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9FD4-6309-4DAF-9011-721031AD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DB3C-1E37-46BD-9201-DF3139FD2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6C14-082B-4221-AE7A-D9729CA4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FBA1-14E4-4435-B5C5-BCA4EA30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A8AC-64C9-40FC-BC07-F30C83DC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3A02-28EB-4B6D-923E-D14ED061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5E42-972B-4B21-844D-58CBCBCD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2D89-FE5A-4E33-A661-D9443786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74D7-9580-45F4-8DAB-F4D04440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3C1C-08D4-4286-A94C-7BC82467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5361-573F-4959-A2B8-2BBE4814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2DB59-A035-46A4-AE7D-F565A96CC36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adeth me, O blessed thou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ords with heavenly comfort frau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e’er I do, where’er I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’tis God’s hand that leade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, Ты Сам м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Сам меня ве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м путём, Своей троп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т бедствий береж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е даёшь совет бла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adeth me, He leade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own hand He leadeth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faithful follower I would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by His hand He leade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Сам меня ве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тропой, Своим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край чудес меня влеч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градишь меня ве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times ’mid scenes of deepest glo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times where Eden’s bowers blo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waters still, o’er troubled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’tis His hand that leadeth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управляешь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их желаньях и дел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хорошо мне быть с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иться в Твоих рук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adeth me, He leade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own hand He leadeth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faithful follower I would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by His hand He leade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Сам меня ве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тропой, Своим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край чудес меня влеч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градишь меня ве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would clasp Thy hand in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ever murmur nor rep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tent whatever lot I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ce ’tis my God that leade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охожу чрез мглу дол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под сияньем снежных г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поток, чрез гладь озёр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 со мной мой Власте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adeth me, He leade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own hand He leadeth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faithful follower I would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by His hand He leade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Сам меня ве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тропой, Своим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край чудес меня влеч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градишь меня ве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en my task on earth is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by Thy grace the vict’ry’s w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’en death’s cold wave I will not fl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ce God through Jordan leade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онце пути через тум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еснёт мне вечный Хана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в спасительных лу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уду горе, смерть и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adeth me, He leade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own hand He leadeth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faithful follower I would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by His hand He leade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Сам меня ве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тропой, Своим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край чудес меня влеч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градишь меня ве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55:50Z</dcterms:modified>
  <cp:revision>13</cp:revision>
  <dc:subject>Slavic hymnal Гимны веры христиан, hymn 644</dc:subject>
  <dc:title>He Leadeth Me / Господь, Ты Сам меня ведёшь</dc:title>
</cp:coreProperties>
</file>