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DD2-1E19-4DFE-AB47-A5267DAA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89F-E82F-46EB-9F07-12FE16D0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5F2-09B7-492F-B219-B0402956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F2F-1FC6-4D1F-A01C-AA579723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8B6-0530-4504-917B-92EC42CC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F0D-1F05-4992-8E26-819595BD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D82-CBD4-411A-8CCD-BB111B83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E15-37CE-4034-8F5C-EA3B558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59E-0892-47BD-9873-DD675223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1D0-87DF-4FE8-968E-8090473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97A-5B63-44C1-85CC-29D74CF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D50-24BF-4B38-8526-401A201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14392-8F50-4C4F-9C42-A8ACF100A8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зов всем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те на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в истине служ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ог живой неведом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м мы земным б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свет про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тьмы освобод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друг! Вот призыв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вопи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ён и ты здо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ткликнись же на 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ж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правьтесь за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ть любов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держителя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43Z</dcterms:modified>
  <cp:revision>12</cp:revision>
  <dc:subject>Slavic hymnal Гимны веры христиан, hymn 538</dc:subject>
  <dc:title>С берегов далёких стран</dc:title>
</cp:coreProperties>
</file>