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A023-B124-48B3-8CC2-B7A471893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8785-A1DE-4F27-BC58-FF30E3071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0A9D-AF27-429E-A1CB-B626075C7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0504-D58D-4B28-90E1-AC5DA85F4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8064-5842-4658-B45F-B7537DA1B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6E91-2847-44FF-8127-B604FF349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74D4-79C2-46D4-A896-2F7BFFEDE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47A3-D082-4328-9379-155029EC2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3512-673C-4DA7-B364-E689FB089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532B-7014-43ED-852F-FF74DC7A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053D-DA0D-4F38-A88F-85D6710A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DB85-6DD1-44F8-816D-D5902E80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F3A9BA-EFF5-4EFD-8083-084DE53921F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ve found a Friend, O such a frie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oved me ere I knew Hi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drew me with the cords of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us He bound me to Hi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9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Друга дивного позн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руга дивного позн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сть ли в мире равны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л меня, когда не зн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любви я славн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round my heart still closely tw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se ties which naught can s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I am His, and He is m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ever and for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с Собой соедин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илостью держав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увство веры мне влож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 Его вове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ve found a Friend, O such a frie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bled, He died to save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not alone the gift of l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His own Self He gave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руга дивного позн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, о люди, верь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и грехи с меня Он сня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пас меня от смер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aught that I have mine own I c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hold it for the G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heart, my strength, my life, my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His, and His for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все к стопам 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пытом измерь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елика любовь 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ыне, и вове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ve found a Friend, O such a frie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pow’r to Him is gi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guard me on my onward cour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bring me safe to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руга дивного позн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илой облад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если б мир мне угрож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омощь обеща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’ eternal glories gleam af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nerve my faint endeavou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now to watch, to work, to w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n to rest for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вера от Него д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х мой ободря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кругом борьба, война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ем покой вове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ve found a Friend, O such a frie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kind and true and tend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wise a Counsellor and Gu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mighty a Defend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руга дивного позн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любящ бесконечн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им советником Он ст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ждём к отчизне веч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Him who loves me now so 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power my soul can sev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ll life or death, shall earth or he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! I am His for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ая сила разорв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юз мой с Ним сердечны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жизнь, иль смерть, иль чад забо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Его вовек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8:41Z</dcterms:modified>
  <cp:revision>13</cp:revision>
  <dc:subject>Slavic hymnal Гимны веры христиан, hymn 597</dc:subject>
  <dc:title>I’ve Found a Friend / Я Друга дивного познал</dc:title>
</cp:coreProperties>
</file>