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F95-C216-4628-9B68-2692D3C6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D84-59CA-40BC-B519-BA36FA1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9FE-51BF-4480-A8D1-E021180D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1EE-7C97-4F1A-B203-45A04940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63E-CC21-485B-A3D1-4A780CB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B29-D9D1-461D-8511-9AEBF8F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421-1FAD-4314-86BE-5222EA49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C8A-D365-4F42-9361-A690A58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DA3-4D32-4591-97BB-C38336D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1C8-FAE8-4935-AF02-6EAB766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FDD-BAA6-4B82-93F6-88485F8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38C-0639-4C12-8E0F-AAC43FF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FA512-8064-4F4B-8876-3B0A2298A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0Z</dcterms:modified>
  <cp:revision>13</cp:revision>
  <dc:subject>Slavic hymnal Гимны веры христиан, hymn 468</dc:subject>
  <dc:title>Жить для Иисуса, с Ним умирать</dc:title>
</cp:coreProperties>
</file>