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566-7674-46F2-BFA3-E867D0C8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791-110E-4A56-8386-2733E41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101-A34E-4C03-9396-6C274A8D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E03-5D31-4D95-BB93-4985C04C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998-DCD2-45C7-B6DB-1FCD1EB6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8F7-8EE1-46A5-8A59-02E47DCF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E5B-965C-489D-A9CE-4BEBB898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8A9-603B-4F79-9E54-CC495397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CE2-D0D9-40A3-B96B-BC1CBA46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571-92EE-493C-8253-FA2E1EE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A02-7B7D-444E-AA34-09E1689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595-316C-487D-A1B4-1E9557DD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EDDF8-D526-4722-A95E-3FD1E1DDEA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2:32Z</dcterms:modified>
  <cp:revision>12</cp:revision>
  <dc:subject>Slavic hymnal Гимны веры христиан, Ukrainian hymn 42</dc:subject>
  <dc:title>Precious Promise / Дорогий Завіт Ісуса</dc:title>
</cp:coreProperties>
</file>