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EB2-BFB6-45D8-B260-8862519A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D78-3EF2-4FF8-9426-F26BA2F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7B6-6450-4541-BA9F-0ABAA25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9E6-9720-4ABF-B70B-9096829A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BE4-B94B-40C5-A508-F6DC5B6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50A-E99A-443D-AD2C-35C4F64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7CE-8FC9-4719-B578-45CAE425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0F8-318E-4902-AC11-C475588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2F0-154F-438B-A082-B9BC8065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836-028A-4CED-BC14-1DEF923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7A9-44B4-4A63-A4A6-BD9D2D3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514-002F-4DC2-9CA7-7BD96CA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95D2-AE0D-43D8-A167-6B437404D8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0:55Z</dcterms:modified>
  <cp:revision>12</cp:revision>
  <dc:subject>Slavic hymnal Гимны веры христиан, hymn 643</dc:subject>
  <dc:title>В руках я Иисуса</dc:title>
</cp:coreProperties>
</file>