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10D-D3C4-409F-997C-B505271C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17E-1D77-4EAA-9DFA-041AD07C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A9D-29A5-4150-AFDD-01D760D9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3E8-6FC3-4CDC-9E52-8E87EF1A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34B-1F22-4B5F-9494-123AF807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061-460C-4FC2-A4AB-DC76B7BD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3D0-4E6B-47D6-94F9-05B074F9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EE6-DBD3-47F6-969F-9AD43901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C7C-9F9E-4056-9B4C-4F64E20B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B2B-C4C4-4445-AF71-9B2E445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5AC-9E44-4D6B-827A-E549CB3C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40F-A7AB-4D37-8485-49C03C5D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35A31-15B6-48A9-971E-C250CCABBA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my Redeemer liv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s prepared a plac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rowns of victory He giv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would His children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, жи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жив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дать мне обе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десь я только жду призы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trusting Jesus Christ for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is blood now speaks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listening for the welcom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ay: “The Master waiteth th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сердцем довер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распят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now enraptured with the thou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nd wonder at His lov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from Heav’n to earth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u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ie, that I may liv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беждён Его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страдальц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Jesus soon wi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e time will not be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 shall reach my heave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oin the everlasting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придёт уж ск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еня туда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52Z</dcterms:modified>
  <cp:revision>13</cp:revision>
  <dc:subject>Slavic hymnal Гимны веры христиан, hymn 629</dc:subject>
  <dc:title>I Know That My Redeemer Liveth / Я знаю, жив Христос Спаситель</dc:title>
</cp:coreProperties>
</file>