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E2B-B87C-429B-BCCA-B139FB68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4BC-BC03-4CAE-8FAA-FCD4DAC6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AE6-22CE-4A94-B81E-792B51A5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889-3D57-4183-AF3D-DA8455D5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D3C-8E3C-4060-BA77-9CFD0D6C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8C6-8A8E-42E2-8D24-BCAA7977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B86-6568-4F54-B07A-B5674F8D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F12-E48A-4ECF-8610-34E8F6BF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E7C-7DE4-4982-A665-EA791318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0CE-8A83-4F69-B7FD-30EF4166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CA4-D546-4474-9E73-D150B499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AC9-4127-47E1-9564-5996BD1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46458-130B-4315-8986-43E8D8746D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звучали нап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олнце взошло в тьме ноч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Сын Божий, родился от Д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л в этом мире Просвет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когда с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зяли Его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или к древу грешников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х мученьях Он умер за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традал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 гробе лежал Он, умерш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дан был Страдальц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 неба вдруг сошли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многих — Избав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тщетно стерегли мог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ень отвален сил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Распятый, попрал смерти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нёсся Искуп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небо озарится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трубный звук 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почивших я увижу сн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славен Добрый Пастыр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4:59Z</dcterms:modified>
  <cp:revision>13</cp:revision>
  <dc:subject>Slavic hymnal Гимны веры христиан, hymn 836</dc:subject>
  <dc:title>Некогда с неба</dc:title>
</cp:coreProperties>
</file>