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9A5-B0B9-4E19-848C-97F4E5C8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625-5D87-4C79-B2B7-1357DEEB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A21-E710-4415-88BD-EC67D7EB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38F-3E49-4ED2-AECD-F9CC1209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734-02C5-4B66-9781-ADF4FB12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C72-DEA2-436F-BBD3-1C38CE2C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DAA-736A-4C6F-9410-A14CB278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7E4-48D5-45BA-9080-7D66AF13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622-C863-42BD-AF4C-ECBD92A8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BD7-0FEC-41C9-B727-737038F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C97-DBCE-4FF1-A079-AF0E279A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A8C-636C-4528-AB98-24B4C83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805E7-0A94-4A18-8C7E-0D7F67B7E9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Господа ни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жизнь, ни смерть, ни день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мн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ю крестной приобр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ерен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Он во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ух Святой здес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оснулся и наста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. О счастье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я с Господом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едёт меня в отчиз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24Z</dcterms:modified>
  <cp:revision>13</cp:revision>
  <dc:subject>Slavic hymnal Гимны веры христиан, hymn 614</dc:subject>
  <dc:title>Уверен я</dc:title>
</cp:coreProperties>
</file>