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198-AC5B-4876-AB93-6390923B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9B2-247C-404F-A775-2FBCA9E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906-49DA-4AEB-BBF5-A88682E6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326-0249-4BB2-BAA4-AC573B8F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7CB-4ED4-402D-B963-DDC92FD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593-1779-462B-B4E3-50B392A6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3B8-287A-48F1-B5C8-8F258D0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531-2135-4252-B214-C6B9E6C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9BC-C7F6-4F31-8F5A-F572073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867-9EC0-4659-BF3A-449AB2D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9A7-26D5-475A-A0EC-564F620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292-9C7E-4BD7-BC67-51CD61F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3F5DC-22F0-4A82-B236-3C804768A2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ee as a bird to your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ho art weary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to the clear flowing f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you may wash and be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’ Avenger is n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, and the Saviour will h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 His bosom will b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protect the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every falling t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forsake thee, O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ed so tenderly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e hours are fl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not the moments in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from your sorrow and cr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2Z</dcterms:modified>
  <cp:revision>13</cp:revision>
  <dc:subject>Slavic hymnal Гимны веры христиан, hymn 348</dc:subject>
  <dc:title>Flee as a Bird / В горнем ущельи укройся</dc:title>
</cp:coreProperties>
</file>