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94F-6AD3-4ABE-8E73-B4A2569A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060-FAE2-4231-906A-5CDE75C0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334-AFDE-46B6-A254-CD5F34CD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D21-8E56-49BC-94E2-BA5D0654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E33-880E-4DD6-914B-205781F0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CAD-975E-4568-B003-9E8EB01B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A9B-E00D-47BC-9968-A7E9CCC3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00B-5904-4B38-B092-E9C856F7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052-40BB-4982-9833-D784A17F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5C0-7DED-4C74-9420-3616795D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711-087C-495D-A309-0026178B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604-D449-4AE6-B330-A3702ACD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0B186-E46A-4413-A16B-F80A622D14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wondrous love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uel cross He suff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urse to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грешный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радал Он, И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oh sing,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purcha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oss He sealed my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id the debt and made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tell the wondrous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my lost estate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boundless love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e ransom freely 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повествов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еня от мук изъ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любви и состра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хотел Свой выкуп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oh sing,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purcha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oss He sealed my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id the debt and made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ise my dear Redee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riumphant power I’ll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the victory He giv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sin and death and 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вечным торже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илён, как побе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д смертью и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oh sing,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purcha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oss He sealed my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id the debt and made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heav’nly love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from death to life hath brought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 of God with Him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слабого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в рай путево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 Ним пре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oh sing,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purcha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oss He sealed my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id the debt and made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9Z</dcterms:modified>
  <cp:revision>13</cp:revision>
  <dc:subject>Slavic hymnal Гимны веры христиан, hymn 570</dc:subject>
  <dc:title>I Will Sing of My Redeemer / Буду петь, как Искупитель</dc:title>
</cp:coreProperties>
</file>