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26A-A37E-4CFE-BA1C-2E46DA57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E29-A328-47A5-9BB9-F6165870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94F-750C-49F2-A967-75D76DF5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334-BDC4-4D77-A4ED-D4A6A85F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A92-9C82-4A6F-9B64-92DF34AB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A3F-B6E4-4AAD-8A58-307657CD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315-C414-4823-9DEB-7A2E36ED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63B-D26C-46B5-8B84-DEFD6672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471-401C-4464-803E-F88EE37F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7D8-54F9-4748-82DA-00990B26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F8D-2259-4970-BA0C-0586D145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A92-1C66-4F34-A795-B357B8B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56CDE-CB0B-4947-9414-CA84236302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зачем ушёл вд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Господ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ы не слыши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, Спасител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3а  Друг мой, зачем ушёл вда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, заблудший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ющий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ты на 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любовь 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о,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Господь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дёт, тебя всё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Его зв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зов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ки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30Z</dcterms:modified>
  <cp:revision>14</cp:revision>
  <dc:subject>Slavic hymnal Гимны веры христиан, hymn 413а</dc:subject>
  <dc:title>Друг мой, зачем ушёл вдаль?</dc:title>
</cp:coreProperties>
</file>