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6AD5-8F6F-4C65-8B5D-F51F280BC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D178-3196-43BD-904C-FC3F0B83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CB8D-A8EB-4BE4-9A0C-CDBCB688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1EB1-BCC7-42CC-BAD7-9500053C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6ADA-D29C-4636-A990-E75C7554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2AE5-FB34-4868-8BD8-CB39B912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C8A9-FC63-4369-8771-9FDEDBA7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CD54-AD11-4E77-8DBF-3E99D05A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20D4-A630-4E5E-87C2-3DE7B136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3A71-277F-4D40-9589-48327C31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83F0-51D7-447D-8A95-8EAEBAF2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D13C-EE16-40F0-8A68-F1A4C7D9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189A3-7D66-4121-B947-C17AD528292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teadfas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Lord never ceas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mercies never come to an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y are new every mor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ew every morn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y faithfulness, O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y faithfu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0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e Steadfast Love of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1:35Z</dcterms:modified>
  <cp:revision>11</cp:revision>
  <dc:subject>The Source, song number 505</dc:subject>
  <dc:title>The Steadfast Love of the Lord</dc:title>
</cp:coreProperties>
</file>