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2</a:t>
            </a:r>
            <a:r>
              <a:rPr b="1" lang="ru-RU" sz="3600" spc="-1" strike="noStrike">
                <a:solidFill>
                  <a:srgbClr val="ffffff"/>
                </a:solidFill>
                <a:latin typeface="Verdana"/>
              </a:rPr>
              <a:t>	</a:t>
            </a:r>
            <a:r>
              <a:rPr b="1" lang="ru-RU" sz="3600" spc="-1" strike="noStrike">
                <a:solidFill>
                  <a:srgbClr val="ffffff"/>
                </a:solidFill>
                <a:latin typeface="Verdana"/>
              </a:rPr>
              <a:t>В вечерний час</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вечерний час к ногам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ли больных, вели слеп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исцелил недуги 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л радостью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осподь, и мы в вечер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шли к Твоим ногам свя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сокрыт от наших гл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вёрдо верим: с нами Ты.</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милость нам я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ны мы тело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дним погас огонь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гим Твой свет совсем чуж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ь, Ты в теле смертном 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знал нужду и гнёт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наши раны обна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бальзам на них про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воя рука всегда си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упованье всей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близься к нам в вечер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 недуги исцел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2:43Z</dcterms:modified>
  <cp:revision>3</cp:revision>
  <dc:subject>Slavic hymnal Гимны веры христиан, hymn 222</dc:subject>
  <dc:title>В вечерний час</dc:title>
</cp:coreProperties>
</file>