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736-4E37-47E0-A38A-73E0D81C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810-853E-4DEC-AD89-F92094CE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548-8502-49F8-AB9B-8E0E2226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01B-9563-4E3E-8459-8F167702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A40-BACD-4BED-8761-8EA95750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05D-E922-434A-AE9F-59BCDBBB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AB6-D317-434A-8806-DDD7BF08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DFA-1774-42A4-894A-BEF43FF6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15B-1CA6-4713-A8D6-1EB237BD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E89-24DE-402B-AFA2-9C07662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DD3-6AFB-4F59-A955-F722CE2E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9B1-B785-4961-8DFB-15775BD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76A76-F1CA-4847-95D0-E4627ABBA0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 me and I will be sa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the one I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I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9   Heal M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32Z</dcterms:modified>
  <cp:revision>12</cp:revision>
  <dc:subject>The Source 3, song number 1239</dc:subject>
  <dc:title>Heal Me, O Lord</dc:title>
</cp:coreProperties>
</file>