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91C-2383-4205-9588-05B8CEAF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FEE-6616-419E-A37C-3DF3F7D4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A7C-EBAC-4A77-83EA-BE154500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DCD-413D-44F8-ABF9-10891D84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0D3-37C9-4138-9053-102FBEA4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F70-63BC-4E58-872C-693BC59B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C91-E5A4-4386-99C6-E62C9F90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3B5-F56A-45D6-9B02-6B0BC56B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8BD-5770-4BC8-A12F-D1FB914F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10A-A2D7-4399-BEAB-D82AD38E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384-B1A8-4301-AC3A-49B028AA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CD4-0498-48B3-9BA1-118D006E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080CB-69F0-4E6A-A590-BCE319B66E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 ye first the kingdom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se things shall be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7   Ищите прежде Ц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те прежде Царства Бож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ы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стальное приложится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hall not live by bread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by ev’ry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proceeds from the mou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ие Божье не пища и пить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раведность и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о Святом Ду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k and it shall be given 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 and you shall f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ck and it shall be opened 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те и дано буде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те и найд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ите и отворя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e Son shall set you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hall be free ind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hall know the truth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th will set you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приблизилось Царства Бож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те и ждит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ывает, всех хочет с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1:05:48Z</dcterms:modified>
  <cp:revision>13</cp:revision>
  <dc:subject>The Source, song number 447 in Russian</dc:subject>
  <dc:title>Ищите прежде Царства Божия / Seek Ye First</dc:title>
</cp:coreProperties>
</file>