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C1B1-F447-4D57-A09E-34666BAF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960-3D53-4109-B5AC-7E179E11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1FEB-11FB-4C10-B9F3-DD33CB98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C038-EB0E-47B5-9BF1-A7ACBC18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E46B-26BF-45AF-B539-766B0F42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6D2B-9AE8-47F3-BA37-1D25BF54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B8F4-36FA-4B87-BFE8-769DEF43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F1CF-25C8-4DCC-8EBA-45825790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9812-CB26-4E05-A095-F906E11E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9623-7DF6-4841-AA4F-9A284878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0870-23D1-436D-9EE4-D8ABB8ED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E0ED-B880-4EE0-8B5B-863B97B3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06B6D-6590-4E3B-9666-DD9172E666E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луч в душе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ей он всех луч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ветят ярко над землё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луч — Спас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! Чудный свето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ны мира, счастья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исус являет 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 у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бесный луч в душе мо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ый гимн в душе мо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Царю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 песню слышит вечны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б я петь не 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! Чудный свето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ны мира, счастья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исус являет 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 у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на царит в душе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изок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лубь мира в клеть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 любви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! Чудный свето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ны мира, счастья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исус являет 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 у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радости в душе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Ему зв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блага, что Он мне д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частье лучши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! Чудный свето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ны мира, счастья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исус являет 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 у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6:49Z</dcterms:modified>
  <cp:revision>12</cp:revision>
  <dc:subject>Slavic hymnal Гимны веры христиан, hymn 587</dc:subject>
  <dc:title>Небесный луч в душе моей</dc:title>
</cp:coreProperties>
</file>