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928-AC4C-449C-86E4-2BEFB51A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6B1-5797-4AC7-A2B6-B0467E65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171-FC70-489C-9529-E3B6E3E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F27-5AAD-4877-993F-8C6539A5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EA7-617F-4511-9945-E78B20F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850-DEFB-4675-A4BD-89DD9B0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C24-C218-4E7E-896A-72609E2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2D7-94BA-42DD-849C-7860955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A71-642F-443C-A55B-3A6F319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E92-36E1-40F8-BB88-CAEB550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AF6-627E-419A-BA91-3C97D4E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685-B190-46E9-BF71-5C73351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F3CE-C6CB-4751-845B-684BD533B7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давно тебя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ьётся поток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якого, кто лиш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ы от бурных поры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е сыщешь ни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Боге ты станешь счастл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наше в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от греха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литой Иисусо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 ты радо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шь: «прозри и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л нам с надеждой прекр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мир для серд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ко Христу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м сияе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39Z</dcterms:modified>
  <cp:revision>12</cp:revision>
  <dc:subject>Slavic hymnal Гимны веры христиан, hymn 343</dc:subject>
  <dc:title>Душа, поспеши на Голгофу</dc:title>
</cp:coreProperties>
</file>