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EF1B-8EBC-4F94-B757-C71641BAB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5DC9-96AC-4361-BAAC-DD5E7441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355E-9536-4772-9041-5EDD1B470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86D7-61C3-4A34-9C23-FBE65A4C9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5460-6C13-4F5E-A8B1-2A259414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30CC-0FDF-488B-857D-F17EE93F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A7E1-E87F-4759-A7E7-7ADA1CEF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7879-29FD-4AF6-9330-70FF0848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73B3-EC29-4443-A7A5-E75E4285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E8FA-237C-435B-91F3-DA93862A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3C4A-3C0F-4E25-BB79-AED2E400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995D-50FA-489F-A276-EE375276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28C6C-3A44-4D42-A978-47D0CD70F58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music fad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s stripped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simply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nging just to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mething that’s of w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will bless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7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When the Music F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bring You more than a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 song in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not what You hav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earch much deeper with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way things app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looking into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coming back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eart of worshi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t’s all about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about You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sorry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thing I’ve made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t’s all about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about You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endless wo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one could exp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uch You deser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I’m weak and p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 have is You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single bre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bring You more than a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 song in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not what You hav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earch much deeper with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way things app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looking into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coming back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eart of worshi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t’s all about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about You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sorry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thing I’ve made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t’s all about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about You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5:59:12Z</dcterms:modified>
  <cp:revision>10</cp:revision>
  <dc:subject>The Source, song number 576</dc:subject>
  <dc:title>When the Music Fades (The Heart of Worship)</dc:title>
</cp:coreProperties>
</file>