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C567-33CD-4E01-80FD-1BB95D9B9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3E6E-E24A-4BBB-9E73-6B375F7B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05DE-E553-4724-BDE5-A43EE64D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ACEB-0C10-487B-A167-F36E1116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43B0-87B2-4441-A44A-03A89424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E777-3F42-4085-B32F-7FA45009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09B1-57A7-4631-9C32-36D8116C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6234-49C0-45E8-9E63-3DF37143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972C-C4D5-4222-9453-36012DCA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953E-2E39-42BC-AD91-A0F2051C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4C5C-AA02-4B25-9305-B074BB58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BA18-BA21-4002-9FF5-53F11983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628FB-3676-4A00-9341-96D2F17E60E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сотни уст имел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тни нежных голос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глубины сердечной пе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авил бы Творца ми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песней песню я бы п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что Бог мне дал в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если б сотни уст имел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голос мой был слыш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видят солнца св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дух взносился вы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олётом дней, с теченьем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всегда для Бога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ждый миг благод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безграничную люб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не открыл небес об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 меня от всех грех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ньем, смертью на кр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место дал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лагодати петь я 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сможет петь язы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хвалить хочу я всю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от речи не отвы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умолкнет голос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каждый вздох Тебе хвал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, о Боже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нескладную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небесах полней и луч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валенье вос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сонме ангелов Т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ем чудно каждый ми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44:39Z</dcterms:modified>
  <cp:revision>12</cp:revision>
  <dc:subject>Slavic hymnal Гимны веры христиан, hymn 820</dc:subject>
  <dc:title>О, если б сотни уст имел я</dc:title>
</cp:coreProperties>
</file>