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F561-13B3-437B-901F-8796BA6E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1E4-B963-47B9-934B-D13973D7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8A67-415A-4FB9-9BE7-3049D1D4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4FB-4E9D-4605-AAC8-B03B397F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BE4-7277-4A7E-B537-120FEAB5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2BF9-708F-45A0-AD20-E46E48CC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493-BAF0-4052-BE1C-D7F6E792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C38B-F17B-4D60-AF22-381C0C85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85E-D33B-4A16-8D71-18467DA9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6900-C83A-4D24-953F-425B81E0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264-2829-45BC-8266-8B6B6B11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EE9-9E32-4FD2-9BB9-91579FC3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DD3B9-5722-41C2-823B-A6CAFCC416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reached the land of joy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its beauty now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shines undimmed one blissful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l my night has passe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аны богатства я дости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ы богатства я дости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ёд, и хлеб в моих рук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той вечный день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очи мрак навек забы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zephyrs seem to float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sounds of heaven’s melo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ngels, with the white-robed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in the sweet redemption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терок, лаская сл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с высот чудесный зву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— песня ангелов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щих счастье душ людск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eulah Land, sweet Beulah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 thy highest mount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ok away across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ansions are prepar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view the shining glory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v’n, my home forever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eulah Land, sweet Beulah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 thy highest mount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ok away across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ansions are prepar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view the shining glory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v’n, my home forever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aviour comes and w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weet communion here have 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gently leads me with His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is is heaven’s border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 идёт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нье мне даёт с С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рукой ведёт Он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край богатства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eulah Land, sweet Beulah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 thy highest mount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ok away across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ansions are prepar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view the shining glory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v’n, my home forever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weet perfume upon the bree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borne from ever vernal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low’rs that never fading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streams of life fore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евья в той стране цве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ромат повсюду ль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журчит волной в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не вяну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eulah Land, sweet Beulah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 thy highest mount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ok away across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ansions are prepar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view the shining glory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v’n, my home forever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48Z</dcterms:modified>
  <cp:revision>13</cp:revision>
  <dc:subject>Slavic hymnal Гимны веры христиан, hymn 592</dc:subject>
  <dc:title>Beulah Land / Страны богатства я достиг</dc:title>
</cp:coreProperties>
</file>