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6A1-A1EF-49B4-822F-BD03CD3E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D55-9553-490E-9A70-33755CF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8E3-6586-4B06-B71A-D59A5F6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2E9-B000-478F-8407-F2041516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FF3-8938-41CD-99BA-F062A8BD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A7C-5A4B-4D48-A934-F52BDD3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74A-5316-4E59-8093-B9D66D89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FF9-A3E4-46F7-BC65-E677902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572-CDA5-4E26-95AF-8B350DC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108-03A7-43B9-B1E4-F2D9CCC8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25A-D7BE-40AA-989A-DC6DB14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212-CB2E-4308-A92B-B600593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E10C0-4BE1-43F3-8BF1-D20892C70B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 it be that I should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int’rest in the Saviour’s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He for me, who caused His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who Him to death purs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mystery all: th’ Immortal 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can explore His strange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the first-born seraph 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und the depths of lov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ft His Father’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free, so infinite His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ptied Himself of all b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d for Adam’s helpless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my imprisoned spirit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bound in sin and nature’s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ye diffused a quick’ning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ke, the dungeon flamed with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ondemnation now I d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and all in Him,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ve in Him my living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thed in righteousness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9:35Z</dcterms:modified>
  <cp:revision>12</cp:revision>
  <dc:subject>Slavic hymnal Гимны веры христиан, hymn 881</dc:subject>
  <dc:title>And Can It Be That I Should Gain? / Могу ль постичь любовь Христа?</dc:title>
</cp:coreProperties>
</file>