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FE79-9003-4067-9088-BA5D2499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EA1F-9104-468A-8A2A-C7FB6776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2CD1-6AFA-4B11-8AFE-2B81E93A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7295-0D25-49DA-B53F-25D6AB21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4194-AD0C-46A1-954B-A6523F05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CA5B-EDBC-48B2-9595-3527C212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3198-5DA7-42A8-8493-A1D4D9BB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74B9-4396-45C6-9719-519A01B2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CD90-D06F-4A6B-B672-9F98362A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0ACC-BFE3-45E0-B78A-23975194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515C-33BD-449E-AE09-95527B36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8BCD-5627-4218-9EF4-9952B947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3EEC0-4413-4AAE-903E-488B7ED4A75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though I walk through the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shadow of d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perfect love is casting out f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en when I’m caught in the mid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storms of this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n’t turn back; I know You are n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780   Even Though I Walk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fear no ev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my God is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f my God is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m then shall I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m then shall I f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no, You never let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ca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rough the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no, You never let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 high and ev’ry 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no, You never let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 never let go of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can see a light that is co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heart that holds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glorious light beyond all comp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re will be an end to these troub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until that day co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live to know You here on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fear no ev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my God is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f my God is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m then shall I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m then shall I f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no, You never let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ca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rough the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no, You never let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 high and ev’ry 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no, You never let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 never let go of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 can see a light that is co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heart that holds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re will be an end to these troub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until that day co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ill I will prais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ill I will prais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no, You never let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ca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rough the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no, You never let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 high and ev’ry 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no, You never let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 never let go of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though I walk through the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shadow of d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perfect love is casting out f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en when I’m caught in the mid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storms of this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n’t turn back; I know You are n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4:47Z</dcterms:modified>
  <cp:revision>12</cp:revision>
  <dc:subject>The Source 4, song number 1780</dc:subject>
  <dc:title>Even Though I Walk Through the Valley (You Never Let Go)</dc:title>
</cp:coreProperties>
</file>