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73B-0BCF-48DC-A1F3-752FA3D0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387-C97B-4464-AD39-8F8B39EF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347-7F60-420F-BE6F-9C7F9780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428-6A6B-4CE9-8771-880BF91A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19B-7F57-431C-B09A-34F17C8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0DB-FA53-46BF-B194-7C37D348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123-0DED-4580-8F13-570050E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6F3-ACC1-47EB-A441-1B2D58E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08C-3BAC-403D-BC30-4632F258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94B-509C-49FA-B7C0-427222BB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F55-C229-411D-A8A1-C20B23A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EEB-0F4A-48C4-8930-2C79493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BC3C0-3CCF-47A8-B52D-583FDF1F4F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45Z</dcterms:modified>
  <cp:revision>12</cp:revision>
  <dc:subject>Slavic hymnal Гимны веры христиан, hymn 582</dc:subject>
  <dc:title>На сердце лишь песня одна</dc:title>
</cp:coreProperties>
</file>