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DD9-B333-4DDF-AEAA-17C56BF0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975-AA7F-4AF1-BC47-A498C0B3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B41-19E4-4D4D-B2F5-F7B1F834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B77-E38B-48B4-BCE0-7CAA8E02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FD7-F71E-4740-98FD-5848F6B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332-43B3-447F-8450-4920901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63D-8EDF-4DCA-AFD0-9A7490FC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C03-3EFB-42FE-8EA1-00563B4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115-DEEC-490B-8A14-3FBE38A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1BA-E6D8-472A-973E-7FE3BCE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99F-37C2-4675-9AE2-70A7BEF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652-6066-41F7-973B-A289ACC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F12A1-00E4-4211-AF49-EE8BBCF381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7   This is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14Z</dcterms:modified>
  <cp:revision>9</cp:revision>
  <dc:subject>The Source, song number 517</dc:subject>
  <dc:title>This is the Day</dc:title>
</cp:coreProperties>
</file>