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8AD-032F-4FA9-A604-7A63C66A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F90-4421-4A10-AF3A-C010351A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4CB-8C09-4BD0-AB9B-A59EDA6A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A4C-6B96-49F8-84FE-C04C56C5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D23-A1D1-43CE-BCCF-B8667E09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0DD-8ED8-4759-A124-7447D69A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2F5-AFFB-45E4-916C-A47ABD47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39D-4C58-4F7D-82A4-F1A1899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32B-2808-431D-B12F-D22343E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8F5-5E79-4405-A65C-C1C28DF2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500-5569-4E9D-907D-B3CD1AF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59E-33C3-4E62-A98A-77CDE12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D3684-E332-42D8-AB47-EFE09E467D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ей жизни слав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25Z</dcterms:modified>
  <cp:revision>11</cp:revision>
  <dc:subject>The Source, song number 230 in Russian</dc:subject>
  <dc:title>В моей жизни славься, Господь / In My Life, Lord (Lord, Be Glorified)</dc:title>
</cp:coreProperties>
</file>