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25B-0B0D-4DE7-846F-2A0DC8AA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916-1C2B-45B3-B601-6087DC7D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A23-05B2-4180-A743-CE3BC025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489-1C89-4295-A4BF-2684A9EA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0AB-C768-4F00-9BC1-40B0A17E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373-D7DF-4B40-ACDA-E184902D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530-8C80-40F7-B288-D908AB8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AFA-B4CB-47C7-AA2E-289CCC3A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434-248C-4572-8437-D1913EBC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980-CC11-468D-B898-1B92AF65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C83-5F16-4C02-B475-2E49A136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47A-50EC-40F9-8A57-84B6A99A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B6818-3D8F-47E6-8581-857A7660CA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ved me, clean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ed my life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y feet upon the solid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55   Can You Beli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53Z</dcterms:modified>
  <cp:revision>12</cp:revision>
  <dc:subject>The Source 4, song number 1755</dc:subject>
  <dc:title>Can You Believe</dc:title>
</cp:coreProperties>
</file>