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534-271F-455B-AEC8-AAFEFCE4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009-00EB-4584-9D73-EFD08397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AD6-4ACF-4519-8754-4A5EBE3D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0C8-CD94-460A-AB12-8770AB74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D3C-F480-40D6-8CBC-64FD59A0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60A-8C51-4CF8-9508-BF8E040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D07-06E7-4867-B0F4-F8356C1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6CE-B204-4D30-98A1-A72037DF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454-9088-4BAA-9987-FE715214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0AB-7997-42CA-95E0-2DB00FC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EEF-B189-445F-8590-45502878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D36-3D17-4D27-90DA-0B85B7BB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A0D6B-2880-4A13-9357-9FE4ECB7D8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may lead me I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have learned to trust Him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remember ’twa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was slain 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 delight in His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to be led by His dea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ivine will is swee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owed by blood-stained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I go, nor doubt no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with Christ, my Saviour,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some day that I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Friend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4Z</dcterms:modified>
  <cp:revision>14</cp:revision>
  <dc:subject>Slavic hymnal Гимны веры христиан, hymn 513</dc:subject>
  <dc:title>Where He May Lead Me, I Will Go / Куда б меня Он ни повёл</dc:title>
</cp:coreProperties>
</file>