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2AE-5E6B-4CBC-8A89-29B696C7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463-E426-4950-AEF4-C49C158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96A-C5FD-4827-A2FC-8F23F233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86E-609E-49BE-B6C7-D8C0453B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C93-4C0A-47AB-A5C2-238522A9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C0F-E89B-4C77-BBAD-58D031FE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6B3-633D-4998-855A-3A5E225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9DB-68FF-4651-9D17-B32AEDCB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842-E8AB-4848-B8A0-C91ED8BE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516-E35D-4349-97D9-510E0D18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EF9-5476-41D4-AC6C-DFCBF11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74D-2B5E-47B4-B836-50219CF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184FB-E05B-4F78-8A36-D04F4C8E8B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lonely hearts to ch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weary souls who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a smile we can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ur journey we purs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time for idle sc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face be like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world is full of sig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sad and weep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your fallen brother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oving links that b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by one we leave beh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eeds of good we s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in shade and shine will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ll keep our hearts a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9Z</dcterms:modified>
  <cp:revision>13</cp:revision>
  <dc:subject>Slavic hymnal Гимны веры христиан, hymn 480</dc:subject>
  <dc:title>While the Days Are Going By / Утешайте малодушных</dc:title>
</cp:coreProperties>
</file>