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4D7-82EA-4A8E-868C-25A6041C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0B7E-8355-48B4-B994-F4BFDB13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DD0-D19D-44B0-AB05-BAE619F4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860-EE2D-4A9F-895E-EAF40061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7D8-F179-4733-B479-A60A9F9A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B275-78BF-406D-BDFC-A26FBE62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C05E-A51D-4860-ABA5-F138455F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F351-9A5D-4E73-979F-B5BF493F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D5E-0714-4BF4-A6A2-9D1686AA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700-1189-4CF4-8F61-9C866D41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CF3-8C9A-4332-A5B8-CBE93124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9C5-1F56-4137-A86A-37F20F60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1F1C0-44DF-4ED5-A372-CFA0B5E74B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l the worl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, my joy, my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my strength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out Him I would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мне бо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радость, жизнь м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меня Он не дер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оял бы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am sad, to Him I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one can cheer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am sad, He makes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ёлый час отец и 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т нас так уте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ю печаль прогонит вда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l the worl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riend in trials s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o to Him for blessing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gives them o’er and o’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чна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ий дивных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вновь и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nds the sunshine and the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nds the harvest’s golden gr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nshine and rain, harvest of g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а сень, и тёплый м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сный день, и урож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ёплый май, и урож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l the worl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e to Him I’ll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could I this Friend de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’s so true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 Ним счастлив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ь отречься от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 верен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ing Him I know I’m 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tches o’er me day and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ing Him, by day and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я — спешит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меня и день, и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, и ночь готов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l the worl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no better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rust Him now, I’ll trust Him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’s fleeting days shall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горя не бо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 я верою в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родине стрем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life with such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life that has no 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al life, eternal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о жить с Христо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ить, быть вечно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 на век ве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51Z</dcterms:modified>
  <cp:revision>13</cp:revision>
  <dc:subject>Slavic hymnal Гимны веры христиан, hymn 470</dc:subject>
  <dc:title>Jesus Is All the World to Me / Иисус мне больше, чем весь мир</dc:title>
</cp:coreProperties>
</file>