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6C9-A5D3-4A99-B3FD-8A60AD14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C81-7525-49A9-8413-DC37304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DDE-D98F-4391-A3B1-CB3FD4AA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642-B6C7-4955-A2C8-32B88374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F76-ACB7-4F74-93B7-328EC48E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B81-3365-4DC0-AF33-1B4F7D6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273-A806-43AF-A9DC-634635F5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617-F362-4A70-B8C7-C74B2E8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C01-49E4-4446-A2D3-787D70CA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D59-11CC-4B63-8CF0-217932D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E26-FAB1-4E44-8017-2B28A0B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E3D-BCC9-44CB-A32B-E2737BE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BDDBC-97E0-4E5B-BEE6-35EBDFC8C1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 wait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do you tarry so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waiting to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in His sanctified th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do you hope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ain by a further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ne to save you b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not feel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pirit now striving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not accept His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w off your burden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r wait, dear br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arvest is pass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longing to bles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danger and death in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46Z</dcterms:modified>
  <cp:revision>13</cp:revision>
  <dc:subject>Slavic hymnal Гимны веры христиан, hymn 399</dc:subject>
  <dc:title>Why Do You Wait? / Что же ты медлишь, мой брат?</dc:title>
</cp:coreProperties>
</file>