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577-4641-4F1C-8E1D-33589745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E23-769F-4A7A-AE4F-5CBC29DD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0C4-014D-49E1-AC95-EA767CB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AE2-2304-4987-BC3A-4E6A942F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A6B-AB1B-4519-8369-2C5E2F22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A74-47B1-4EB7-9360-35029C8E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39B-300A-4138-9C73-7EB6B91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008-3670-454F-8991-22C4643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4D7-62C4-44B8-8C30-F949B9D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9A6-8DC1-4F0A-A00F-6CF5AC3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EF4-8FF5-458C-BE85-040F345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C1F-A8BB-41D5-A28D-6BE6619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F4320-ACD8-49EA-BFA7-E3D8C514FF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glorious and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glows in any earthly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is m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music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rol to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listening, can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s I canno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pringtim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en the Lord is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ove of peace sing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’rs of grace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gladness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pe and praise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lessings which He gives m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oys “laid up”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6Z</dcterms:modified>
  <cp:revision>13</cp:revision>
  <dc:subject>Slavic hymnal Гимны веры христиан, hymn 587</dc:subject>
  <dc:title>Sunshine in My Soul / Небесный луч в душе моей</dc:title>
</cp:coreProperties>
</file>