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1E3-98BD-4763-B4A7-09CC9220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9E7-78CA-4B36-9ECD-557C7EB7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E4D-E153-4968-B498-7388A44F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C84-A45A-44FA-A102-04D75F27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CF9-E521-4321-BF4A-B4F2D229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A38-5DC2-43D4-99F3-48991C4B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5EC-CA33-4464-85FB-450C3FFF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00A-E391-4016-ADFF-02ECC618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A35-1F55-47F2-9FC4-119226BB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7CE-9E55-4768-BA39-D2E44CED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6E9-BFF0-4979-B90C-FA5141DE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BE5-397C-4CE2-A8F0-8FF3DEA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11D30-9674-40E4-95B3-B17EB3D34B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астырям ночью голос прозвуч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таньте, не бойтесь, Бог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вить не страш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ад Давидов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Христос рождён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пастырям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ях Младенец в пеленах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м Господень ангел пред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пали на кол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я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паситель от греха 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обещан от начала л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цари, про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ждали, а убо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ся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говеньем станем перед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пасенья Он даёт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чистую все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любовью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8:13Z</dcterms:modified>
  <cp:revision>13</cp:revision>
  <dc:subject>Slavic hymnal Гимны веры христиан, hymn 233</dc:subject>
  <dc:title>К пастырям ночью голос прозвучал</dc:title>
</cp:coreProperties>
</file>