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435-1F6E-4587-B3D1-84BE84CB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6AC-DC61-4B3D-B084-4F31BC9A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BE2-273C-425D-9CE8-AC01BA49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130-E7A3-4601-A4D3-D3ECBBE6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90D-E898-44D8-B33F-AB29BD03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245-E499-4231-B734-55A1603D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FAC-B8E4-42BD-AA14-0B14E8F9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D41-B750-4298-B52C-E95C5B71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303-E357-4DBC-92CD-B5C1838D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094-68C8-474F-B84A-40E8FDAE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77C-3B92-4DFF-A1D2-D3903C92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1C2-D312-47A4-87E7-A9EC9F65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6B580-3BA6-41BE-8DB9-34F74E07D8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Святой Дух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царствуй глуби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ости мне будь Уч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святую волю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меня познать Т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учи люби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меня познать Т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учи люби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Свят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й в меня луч разум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 во мне неверья ть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лишь может вдох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вечной правды свет у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душу мне сог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к Спасителю дай 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душу мне сог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к Спасителю дай 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мне и утеше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Дух Утешитель, Од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душе успоко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Тобою Божий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, надежду шлёт мне в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в сердце множит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, надежду шлёт мне в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в сердце множит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делай милостью Тво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исто и дух п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ей всегда моей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у воле, кротость в н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, Учитель мой, пре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и к блаженству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, Учитель мой, пре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и к блаженству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12Z</dcterms:modified>
  <cp:revision>12</cp:revision>
  <dc:subject>Slavic hymnal Гимны веры христиан, hymn 308</dc:subject>
  <dc:title>Приди, Святой Дух Утешитель</dc:title>
</cp:coreProperties>
</file>