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37F8-2309-47C9-86F3-9C2FD033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DCBD-1AF6-467F-8209-7DAD223D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78A3-A4D3-4794-91F7-1F1A681A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F34A-1F41-46F6-8931-50BD0AB3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88CD-5E6E-4449-B49D-744D81C9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2A83-90CC-48FE-9FF3-5838DD55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992F-9175-45BC-A981-6291ECD5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5E71-29FB-4BE9-ACDF-012C8B64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4842-1328-4778-A729-08B6709B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16E4-87D5-45A7-972C-0AA8ACF9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FE09-192D-4921-87E9-D33B2D93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7096-9126-4329-B2F3-94976670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1D982-626A-40E3-8FDF-6860EA1F402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land that is plent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Your streams of abundance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lessèd be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’m found in the desert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I walk through the wilder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52   Blessèd Be Your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blessing You pour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turn back to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en the darkness closes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still I will 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gloriou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sun’s shining down o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world’s “all as it should b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lessèd be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 the road marked with suffe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there’s pain in the offe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blessing You pour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turn back to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en the darkness closes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still I will 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gloriou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give and take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give and take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 will choose to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blessèd be Your na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give and take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give and take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 will choose to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blessèd be Your na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gloriou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9:24Z</dcterms:modified>
  <cp:revision>12</cp:revision>
  <dc:subject>The Source 3, song number 1152</dc:subject>
  <dc:title>Blessèd Be Your Name</dc:title>
</cp:coreProperties>
</file>