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334-0040-446E-A361-131A671B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269-F0F1-4C39-87B6-CB378B98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C95-2811-436B-A77D-71AF8D73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2F5-7B9F-42A5-B36E-8D509699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9C9-9F28-4FEB-9A2B-D01A28D1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645-879B-4418-906B-D037E7D1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F9D-05D0-4FA6-B7D2-C2C8D882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465-8FB8-4131-AF04-94EF1442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4A3-7B76-45F8-98EE-E395B15F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46F-8875-4CC1-9E79-B1859088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AA1-7C42-495F-A044-EFDEEF21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B06-C949-44CD-B66E-F7B83D7B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40DA4-586F-4025-A56F-C96069582D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кутала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 я в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знуряющий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иночества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ситель пред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ит сети н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раз, и не 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слаб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часто тес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естоким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Богом 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жизни пр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ярче блест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окой и мой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5:38Z</dcterms:modified>
  <cp:revision>13</cp:revision>
  <dc:subject>Slavic hymnal Гимны веры христиан, hymn 626</dc:subject>
  <dc:title>О, как рвётся душа</dc:title>
</cp:coreProperties>
</file>