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13C8-F90D-4506-A44E-2AC014AB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443-19DC-4241-9CAA-824E50B2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2D8A-5FBC-4E10-9DF9-04E687F5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EC21-B8D5-4CC9-BD03-5AFD7089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12E-0474-482C-B3D9-3CF02539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A9CD-00AB-4190-95CC-A7EC4AB2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A0DD-E775-4952-8F33-D73BF8A6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A78E-8938-49FE-833A-4D83CB30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1F0-6063-41CD-8A96-C290AE3C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DAE-CFE8-46D0-97E3-7C9716F2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2F64-F11A-4E2C-9682-A45D7B27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BCFF-B119-4E30-A7F8-4782C0C7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71CFC-6477-458D-AA7B-B3B59CD91B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ne eyes have seen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oming of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trampling out the vi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grapes of wrath are stor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ижу я очами 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я очами в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щается Господ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пчет Он точило гне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полнил грешный р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eauty of the lil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was born across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glory in His bo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ransfigures you and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флееме Иудей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Христос ро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й силой воскре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реображает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died to make men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to make men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God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умер, чтоб спасти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и мы должны спас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God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th loosed the fateful light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s terrible swift s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ruth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рый меч Его сверк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жает ложь и з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истина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ruth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seen Him in the watch-f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 hundred circling camp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have builded Him an al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evening dews and damp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агерях Его я 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ымящихся кост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тари Ему воздви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лугах, в глуши ле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read His righteous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dim and flaring lamp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day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истины чи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огнях и фонар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ден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day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s sounded forth the trum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shall never sound retrea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sifting out the hearts of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His judgement sea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ный звук всех пр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гда не отступ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судилищем Христ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язаны предст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e swift, my soul, to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m! Be jubilant, my f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God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, душа, всегда го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торжество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God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4:35Z</dcterms:modified>
  <cp:revision>12</cp:revision>
  <dc:subject>Slavic hymnal Гимны веры христиан, hymn 890</dc:subject>
  <dc:title>Battle Hymn of the Republic / Вижу я очами веры</dc:title>
</cp:coreProperties>
</file>