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2E01-E5CD-4FCE-8F41-232F2F7F0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CFCC-FCA4-4DCC-AC26-4068FA6F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E30F-0172-4E0E-8133-78D51499E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B309-1C26-4C7F-84D4-EF0A2A241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6A08-BA98-4CE3-AC17-FF813514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7BCC-011E-40E1-B5C5-C7685EAF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999A-1C9B-4AC6-970D-B353EEFB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9C35-A5F0-4F44-AC46-D3224BF1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19B9-F157-4E97-A94E-0B381EE0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6DA3-4B0D-45EF-B768-EE7915D0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0E06-9593-4C61-883C-96A90EA5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9608-3AC6-43B2-8ABE-69B504AE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BD97E-10AE-4C8E-B420-A9FEB8503E9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ени, Господь, меня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боду я вой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тавь меня отдать мой меч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возмогу враж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енье мне гроз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сам ст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и объятья заклю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илу дай Т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лени, Господь, ме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зяин нужен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ердцем упра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мужества ни сил в нём 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 веры соверш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 делу поспе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него войдёш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оковы налож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владеет дрож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могу беж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не в службе 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онь Твой нужен, чтоб пыл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ря мне нуж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могу в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не вод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мною знамя распу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ществом Т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ля не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делавшись Тво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на царский трон взош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ечься нужно 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о ей впер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стоит в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рильнёт к Твоей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ь найдёт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5:40Z</dcterms:modified>
  <cp:revision>12</cp:revision>
  <dc:subject>Slavic hymnal Гимны веры христиан, hymn 899</dc:subject>
  <dc:title>Плени, Господь, меня</dc:title>
</cp:coreProperties>
</file>