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145-578C-4120-A6DB-22E9843A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FAE-D9F8-4594-B97D-10E54CD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5DF-CFE6-432F-A661-BA68D1B0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13E-CF20-4065-81B1-BA246E3B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0E7-BA7B-4390-834F-DE7448F9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A8F-0572-4E36-8D9C-71BE7980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B02-719A-4725-A28E-1CD870DE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BF8-57B9-41A8-8877-1374054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A23-9550-44B1-863B-0EB92DE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F8D-CFB8-4BAE-BD36-7CC6A7F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59D-3A71-4733-A74F-707B3E7B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D99-A55D-48F6-BFAA-0A756301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67206-77E9-4194-A85C-8F681E13D7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rning gild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awaking cr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ke at work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I rep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becomes as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the heart we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ow’rs of darknes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sweet chant they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nations of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your concord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joyous with the s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, while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anticle di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 th’ eternal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ag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1:28Z</dcterms:modified>
  <cp:revision>12</cp:revision>
  <dc:subject>Slavic hymnal Гимны веры христиан, hymn 822</dc:subject>
  <dc:title>When Morning Gilds the Skies / Восток горит зарёй</dc:title>
</cp:coreProperties>
</file>