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56EE-B62F-484D-A4BA-5B015341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2178-50E0-4648-B52A-68693814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B0A7-BC43-44EA-8ACF-B75C3C4F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42A1-A78F-4429-93D8-109E72C1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04F2-9603-4794-BC78-BC921401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AE41-27F0-4432-AFE8-99A2CCA8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93BC-D79E-49F8-AEFD-C4D45F11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6A18-563D-4329-A082-E136171C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7C4D-2D1C-470F-841C-60A1C2B4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9036-A760-456D-80C6-BF66C4BC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E833-E489-46E9-9F89-5FC4904A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D9D5-E5DD-4844-8636-5DD5499B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79180-343D-41ED-8FE9-023D6CB3043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те ли Божий гол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ывающий к дел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озрел на ниве кол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пешите все к труд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, любовью пламене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тот могучий з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ветит, не робе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лужить, Господь, готов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ышите ли Божий голос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несчастные нар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 ведают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 нас, и в наши 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могуча темн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в неверии косне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ет множество у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ветит, не робе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лужить, Господь, готов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голосом про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с Творец не ода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л мудрости выс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ложил великих сил;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ничтожный дар име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всё ж нужны для тру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ветит, не робе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лужить, Господь, готов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зовёт к высокой 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ботать для Н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йдём, чтоб нам на де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ить Бога Сво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евностно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, иль там, вблизи, вд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же всякий вдохнови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готов — меня пошл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5:48Z</dcterms:modified>
  <cp:revision>13</cp:revision>
  <dc:subject>Slavic hymnal Гимны веры христиан, hymn 541</dc:subject>
  <dc:title>Слышите ли Божий голос?</dc:title>
</cp:coreProperties>
</file>