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F4D-3455-4984-ADAE-89CE6CD5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9A5-D749-4884-A280-F9743991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398-1C09-4F88-ACC1-348C9151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292-71ED-4CE9-AD27-FF123385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C85-41A1-43A3-AAA9-BF944F78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E81-62E9-425D-AB26-64B28859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E3A-110A-4251-995D-9F01F648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E9E-C521-4FC7-85F2-359009EC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D2D-5251-4477-907A-0B233F4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A48-7006-4F1E-82A0-6EB561F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F8C-DA74-48B9-8B8D-2F88B3D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C9D-8A77-4E20-8C64-9B9231E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1DFFB-4B45-444E-85C7-40EE877631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in His palace so fa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tells of its bl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yon heave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children in splendour sha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двластен Хри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овеки жить буду 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ебес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души показ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теперь Его Духом во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loves me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is mercy and kindness so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unceasingly 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soever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Refuge unfailing is 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еня возлюб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зобильи Он всё мне да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полняет нуж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б я в мире не ж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мой щит от врага и з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promise is 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e all shall be gathered at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is kingd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life’s waters so p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is life with its trials is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но слово 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Своих Он в свой час забер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бес вы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дом Отца Сво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 шумом земное прой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6T21:34:39Z</dcterms:modified>
  <cp:revision>14</cp:revision>
  <dc:subject>Slavic hymnal Гимны веры христиан, hymn 598</dc:subject>
  <dc:title>I Belong to the King / Я подвластен Христу</dc:title>
</cp:coreProperties>
</file>