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A235-9601-43EC-9D33-D2AAFEA62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EF09-0452-4CBD-AF8A-104BF651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2538-108B-4607-9AD0-E41297187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EF82-E532-402C-8B5F-E98398885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CAEE-AA63-4448-94CB-28EDCB24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BDF4-F3FA-46BE-AE68-138462CD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C841-82D6-445F-8364-B5F3539C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0EDA-6BA6-4469-8D9D-46B21062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11B5-F261-4D14-82D1-167D686F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57F9-575D-49DC-94BD-D1447954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E81A-BEFF-4C45-B903-33E4DE6F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FC88-9C59-462F-A872-15A598ED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5E53AC-5C5F-4282-95BD-B486FE049C2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возь тьму сияет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изок уж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за волнами ма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рега т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конец пу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би, друг, ско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ерегу в ладье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сь ск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0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квозь тьму сияет с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ерегу, к бере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сь ско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йся бу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реби вес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адье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опасно плы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жалей корабль разбит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ладью надей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па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ря вздымае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тер ре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йся мрака, гу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н не страш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ая звезда вз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ерег держ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ерегу, к бере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сь ско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йся бу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реби вес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адье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опасно плы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жалей корабль разбит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рассветает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ву воскло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чи рассея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слава вблиз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адье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 восп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ждёт тебя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пристани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ерегу, к бере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сь ско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йся бу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реби вес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адье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опасно плы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жалей корабль разбит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4:28Z</dcterms:modified>
  <cp:revision>12</cp:revision>
  <dc:subject>Slavic hymnal Гимны веры христиан, hymn 704</dc:subject>
  <dc:title>Сквозь тьму сияет свет</dc:title>
</cp:coreProperties>
</file>