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A3C-4687-47E4-896F-8188F724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E5B-27FB-462C-AD9F-E88D89B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B47-7C1A-4869-B2E6-9A2B49C7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338-D50F-445C-9502-168A1CAE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EED-0992-4BF7-8BDA-D85A2A5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57A-6657-4CB4-86D4-55A1655D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904-52F3-4035-B3F2-4CCCF4C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963-40CA-406E-9A6C-A90B423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121-4DF3-4CA8-8A60-9358035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078-D283-42D5-BA12-F66DF96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45C-FEF2-408F-AFF1-22D3DA0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886-FCF1-41D9-8648-89E7F3E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EEE2-108A-4DCE-818D-39F5BA7817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де невірний та серцем лука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вже Бога Святого гнів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грішити, неправду твор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же Богові вірно служ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ога ― велике це щас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повинні про це ми подб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і тіло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повинні Йому ми від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9   Роде невір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одивіться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о страшнеє Він всюди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океани для Нього слухня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діють, що Він їм в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ва дозріла, робітників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ця велика потрібна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у не гайте та з Богом р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вам поможе усяким до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ті люди навіки щасли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мамоні служить відрек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в кайданах ― гріховних тих ра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ли рабами у неї ко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яка велика Тобі, наш Влад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Тебе усі 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Твого Сина гріхи наші зм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вільнила з тяжкої тюр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35Z</dcterms:modified>
  <cp:revision>12</cp:revision>
  <dc:subject>Slavic hymnal Гимны веры христиан, Ukrainian hymn 59</dc:subject>
  <dc:title>Роде невірний та серцем лукавий</dc:title>
</cp:coreProperties>
</file>