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01F7-9887-4AB6-934D-1B00A4A6E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A254-84D7-4F85-9AD5-7E6FA6EE6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943C-BA8B-49D9-81D3-AECE6D090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2652-7FD3-40DC-8332-ADEAC91D4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73D2-E384-4A37-865D-7768E3C48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9E87-2CEC-489E-BEA9-CD469A71D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1892-ACE8-405A-8C45-1DDDB2526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9758-92DE-49CB-A908-7528B942A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2E75-7BE8-4D6B-BBAB-198AD1091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2FEA-0C5F-4AC2-87EC-CAACA1A7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BDD6-B3E8-42CC-8583-61F2D220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904B-B2C4-4C48-9197-66C3607C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C58D3C-0772-440C-BD00-54BE6DE06EB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them over again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nderful words of l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me more of their beauty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nderful words of lif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5   Брате, знову нагад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рате, знову нагад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святу люб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моїм серці буде х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иш свята лю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ds of life and beau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ach me faith and du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autiful words, wonderful word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nderful words of life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ів любови ллє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 до неба рве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те Христа! Славте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те любов Христа!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, the blessèd One, gives to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nderful words of lif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ner, list to the loving c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nderful words of lif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дям в світ Христос прині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з небес люб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тішає в хвилю слі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 Його лю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so freely gi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oing us to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autiful words, wonderful word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nderful words of life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 любов навчає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рішних Бог прощає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те Христа! Славте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те любов Христа!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ly echo the Gospel c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nderful words of lif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fer pardon and peace to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nderful words of lif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рате, знову нагад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святу люб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никне з серця сум, відч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 радість з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only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nctify us for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autiful words, wonderful word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nderful words of life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личе спів люб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життя обн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те Христа! Славте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те любов Христа!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44:51Z</dcterms:modified>
  <cp:revision>14</cp:revision>
  <dc:subject>Slavic hymnal Гимны веры христиан, Ukrainian hymn 5</dc:subject>
  <dc:title>Wonderful Words of Life / Брате, знову нагадай</dc:title>
</cp:coreProperties>
</file>