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57B-4DC5-4229-939B-C3FEBD44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375-EA84-4462-8C6B-8199482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57C-4B68-4187-817A-1DF26DFC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7C2-3230-4B42-AADD-A98E1148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019-162A-4E38-985C-4EA166C2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930-439E-405B-82B7-DD5E047E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5DC-7498-472F-936A-510F7C9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0BA-B572-4A7C-8CE5-B0697FC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FD0-81A6-4D9E-A46D-B491702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335-9B7B-424D-81CE-A53A86D0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3CA-AB97-4DE4-8313-A35C289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D53-F5FA-43B2-B891-76123CF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80B15-32C0-46AA-A8C2-A4D7393615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илосер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не сил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азаться вер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 и бессил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молю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идт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ю вле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скорбь зем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в смирен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Божь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ала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и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о и своб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у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отвер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й жизни вку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ша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сех недугов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Исцел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я стрем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давно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кругом буш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уж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реплю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ти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26Z</dcterms:modified>
  <cp:revision>12</cp:revision>
  <dc:subject>Slavic hymnal Гимны веры христиан, hymn 445</dc:subject>
  <dc:title>За Христом пойду я</dc:title>
</cp:coreProperties>
</file>