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032-BE7A-4337-A6C6-3D78957E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60B-D6FE-4001-92F3-4D4A6EEE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8FC-5FBF-454C-B73A-CCA6D802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59C-6F97-4950-8D88-626F93AB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88B-3BB1-4B8A-ADD2-B4191D5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B1C-E8E8-48F9-9EBA-C50E0AC7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5E2-EF11-43C2-BD92-BB1E3B0C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D39-8041-4D0E-9465-75779AF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3A3-BAEB-4EDA-B31D-DF593E26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F49-6664-4161-9B7D-80E1097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F62-F625-4E7C-A3CB-A2D7259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070-5E3C-4524-B933-0560E29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70DB6-CE8E-478A-BF03-6F74147C83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1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31Z</dcterms:modified>
  <cp:revision>12</cp:revision>
  <dc:subject>The Source 4, song number 2161</dc:subject>
  <dc:title>You Are My Hiding Place (Hiding Place)</dc:title>
</cp:coreProperties>
</file>