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583-5320-407F-94F1-9FDC485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A5C-002E-435D-8923-0E51CD2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828-6B9B-406C-BE7C-1FFFACA5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A20-97B7-4904-AD97-F05FDBE0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81A-7CC1-49D5-8C06-F7DF1C70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2C5-2B5D-46EE-A044-7C84968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81C-3302-41D6-BD6A-6B93122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D27-F842-4592-9D5B-0E2EB446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E0A-D7F5-4F68-AA4D-0B49DC2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6F9-28C3-40AF-AB95-AD3A9D5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A34-AEC3-4383-9961-9A7914F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51F-5B1A-44D6-8DDB-2B3875F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61FE-6963-47EE-A417-661A194D84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18   О, благодать! спасён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лагодать! спасён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 пучины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— и чудом стал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леп — и вижу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рва внушила сердцу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— да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души излил в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течёт ре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Господним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ся крепость в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щит, Он — часть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путя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плоть моя ум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борьбе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небесном дом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1T14:51:34Z</dcterms:modified>
  <cp:revision>11</cp:revision>
  <dc:subject>The Source 4, song number 1718 in Russian</dc:subject>
  <dc:title>О, благодать! спасён Тобой / Amazing Grace! (My Chains Are Gone)</dc:title>
</cp:coreProperties>
</file>