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7E0-A468-4659-983E-5941FCB1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FF3-588B-498D-88DE-837BC25E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DBF-FA64-4B05-8FF8-3DE36DF3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DE4-2289-4A4A-A6E8-5968D445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E6E-A98F-4B41-B79B-BFCDF7F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0A0-5C2A-48EF-B749-D1B22CB4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DD9-E67F-45FB-8E9D-F4143F8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B38-0647-48C5-A399-5B5AC513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92C-BE13-43EA-ADC8-54C05121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D82-354A-4809-8E13-36049D4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547-DA78-43A7-9507-73F0536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DB9-71E4-47B1-A174-BB39E80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14A2D-C316-4D3F-B8EE-A3FB74DB05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жалостное врем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мчались тысячи г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тит безжалост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 вечность день за днём стрем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я нам сл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громкие де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ы, заботы, су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от, зачем ты в свет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лько выдержал скор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изни счастья призрак 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кружил тебя во мг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ть за гробом жизнь и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ая, без счёта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05Z</dcterms:modified>
  <cp:revision>12</cp:revision>
  <dc:subject>Slavic hymnal Гимны веры христиан, hymn 736</dc:subject>
  <dc:title>Летит безжалостное время</dc:title>
</cp:coreProperties>
</file>