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F7A4-EFD9-48CF-B6B5-8258C58F9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C28D-F085-4EE7-84D9-2B82641D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C855-B438-4FD9-93C0-377FC5DC6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560D-F520-4842-A927-E57AEB010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DF51-A5CD-4A13-842F-52AC67051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8853-69B5-4C3C-B9F5-354631915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B1F4-9F17-40AE-B210-EA10314F5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5F92-B9E5-4193-8402-67D99E99B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50FE-6359-4627-A18D-BD88DD463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2C63-24D5-49F6-B6C9-CFD2D686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9390-CAB7-4858-A129-08872873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2687-C44B-4D3B-A1C3-28AE2106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CB150D-7B14-4863-A6EB-F987F9A0E65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 God from whom all blessings f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 Him, all creatures here be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 Him above, ye heav’nly h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 Father, Son and Holy Gh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1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Хвала Даятелю всех бла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а Даятелю всех бла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земле и в небес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а Тебе, наш Бог жи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ец и Сын и Дух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11:48:34Z</dcterms:modified>
  <cp:revision>12</cp:revision>
  <dc:subject>Slavic hymnal Гимны веры христиан, hymn 818</dc:subject>
  <dc:title>Praise God From Whom All Blessings Flow / Хвала Даятелю всех благ</dc:title>
</cp:coreProperties>
</file>