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02A-3127-4D42-8DAB-6E728353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254-3F8E-4BA3-8E16-91F95BD8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911-A1A7-4025-8C09-28E77433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343-16C7-4649-A5E8-09017FE2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4B0-B344-47A4-B98C-1E385582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973-6438-4861-803A-FB48BEF7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1E3-9B43-457D-9A1F-17D72A47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D9F-5DEA-4BC7-8637-64BFF95C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26F-6E8D-4A47-88DD-A0469AF4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8D1E-E0DA-4383-BF47-98E06080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5B7-7A05-49B0-BEAE-2AE7B4AC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043-2B64-4957-9F71-B3B569C3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ED39C-9D93-4451-A93B-2F9E8097DA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на небе си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была светла, тих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сять дев беспечно сп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я Жени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ни в руках им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ая светильник с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сла взять не захо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умные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вёзды на небе сия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раздался в час полн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ий клич: «Жених идё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лашатый полном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робужденью все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ять разумных пробуд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и пламя поправл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прежде, засвет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светильники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умные — несчаст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сло покупать пош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шёл Жених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ые на пир в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умные прихо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видят дев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ёма не нахо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крыт навек для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3:56Z</dcterms:modified>
  <cp:revision>12</cp:revision>
  <dc:subject>Slavic hymnal Гимны веры христиан, hymn 318</dc:subject>
  <dc:title>Звёзды на небе сияли</dc:title>
</cp:coreProperties>
</file>