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C74A-FE6D-4730-A703-663C7814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64A7-2D9C-424B-8027-4A993B41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4CC5-560A-4F77-8DA2-86629565D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2F4B-89C5-4C96-B7ED-3B754E1E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464C-28E6-460E-A358-A2CF1F92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8EB4-FA63-4651-A91E-C229D236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6C35-7E82-4FE3-9E55-7DF73562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8381-230D-4364-914B-942C37DF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AC42-8D5D-46D0-BD9C-8F40DEA1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01C1-3DAF-48FE-A31F-81AAD2C6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464F-1F6A-494B-9564-76651077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04DD-E17A-4055-A4D4-DD5B5B3C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7E42B-EE1E-4C2F-9598-F1E33B0A131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у живую Иисус да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у живую Иисус да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м даром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к Нему да придёт и пь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к Нему да придёт и пь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ётся источник для вс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ду живую Иисус да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Дух и Невеста вс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який, кто жаждет, пусть пр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у живую пусть пь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живой вот л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ётся, даром льёт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живой вот л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льётся для вас,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м обещал Он на небе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м обещал Он на небе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 любящим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а нетленные даст Он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а нетленные даст Он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 любящим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Дух и Невеста вс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який, кто жаждет, пусть пр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у живую пусть пь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живой вот л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ётся, даром льёт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живой вот л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льётся для вас,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лые ризы Иисус прип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лые ризы Иисус прип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 любящим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, венцы приготовил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, венцы приготовил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 любящим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Дух и Невеста вс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який, кто жаждет, пусть пр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у живую пусть пь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живой вот л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ётся, даром льёт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живой вот л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льётся для вас,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ый и славный день Он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ый и славный день Он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 любящих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Иисус даст, что не пр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Иисус даст, что не пр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 любящим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Дух и Невеста вс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який, кто жаждет, пусть пр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у живую пусть пь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живой вот л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ётся, даром льёт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живой вот л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льётся для вас,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8:22Z</dcterms:modified>
  <cp:revision>12</cp:revision>
  <dc:subject>Slavic hymnal Гимны веры христиан, hymn 301</dc:subject>
  <dc:title>Воду живую Иисус даёт</dc:title>
</cp:coreProperties>
</file>