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B0D-82A4-47A9-BA60-4B40A8D1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4DE-E110-4855-AB41-CCA159D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011-07B9-4BEA-B60C-CFDE9115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0F4-B666-4141-8EB4-A0CE1E49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F4-4941-4112-8A84-11418B3C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5C2-98F8-45F7-8461-B8A15E95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DA8-D81F-4BF1-AFC3-705D7F69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F98-5DB9-47E4-AAA4-E1F136AE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BEF-E074-413E-88F3-A6144BA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A01-9C38-4926-ACC6-D945C24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8E6-3FF8-4706-9EE2-7E3ECF5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4EB-D3ED-432D-A457-D40BE99E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248DF-C8F7-4B48-8287-78A2A95FA8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6   Отец небесный, мы с любов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мы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Тебя благода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ына Твоего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благоговении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Он есть и вновь гря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8T05:24:18Z</dcterms:modified>
  <cp:revision>13</cp:revision>
  <dc:subject>The Source, song number 96 in Russian</dc:subject>
  <dc:title>Отец небесный, мы с любовью / Father in Heaven, How We Love You (Blessed Be the Lord God Almighty)</dc:title>
</cp:coreProperties>
</file>