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4924-D51A-486B-B9C1-FED18865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A5E-697A-4E1F-8EAD-234E09A8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0660-A577-4256-A52E-03BCF573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4F68-2AAD-4B0F-B822-8F1615B1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97BF-73B2-47B1-9D11-AAC628E1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257-2CF6-4A8D-B135-7C99A498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D83C-80B4-4404-84A8-CFCDDF21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929-FE26-4E50-8EFE-6B1519DC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465-66D0-4CC0-A8DA-41F1CF44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672-1035-44F9-B094-5CD1AF53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97B-4B78-4E49-BFD3-B8556018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271-88D3-4208-8A58-2F4FF18B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A38A0-99AB-4B0C-A22D-989ADA1F898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a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pleading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dear, loving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earth friends be fe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о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стойном печ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и мои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Он омы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has foun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thers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y loving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your Saviour, to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мир Сво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 душу все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й людс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онятен ум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pray that your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bring them to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yer will be answere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as answered for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тот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соблю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тот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дарован и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ay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eak of that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ather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harp, crown, and 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are waiting for you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принял Христос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м возвещ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теперь ваш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ем ст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peace you poss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rest to be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praying that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save them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ясь за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к Нему прибег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ашей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ей, Он вним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ay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He is w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enderness o’e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h, that my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your Saviour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Его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да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Он ваш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ем б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ay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a Fath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e ha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ope for eter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and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Отец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й Промысл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ст бесконеч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кус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on He will call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et Him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, oh, that He’d let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you with me,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м меня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олотую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я с 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мог вступ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ay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a robe; ’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plendent in whit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aiting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wondering vie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ая 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меня там оде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не ви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ловеческий гл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en I recei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shining in bright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friend, could I se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ceiving one,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й я предст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в том надеж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в не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ли также в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ay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41Z</dcterms:modified>
  <cp:revision>13</cp:revision>
  <dc:subject>Slavic hymnal Гимны веры христиан, hymn 624</dc:subject>
  <dc:title>I Am Praying For You / Спаситель о мне недостойном печётся</dc:title>
</cp:coreProperties>
</file>