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675-0457-4A6D-945F-DD8B9EE2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56D3-3A59-4B8A-87B6-B03E7AB0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1E4-757C-4DCD-990D-5FF8C54B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9C61-061E-4966-9127-B1F82606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E20-6FC3-4178-9160-00CBE6DA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D4B-8345-4A3D-B74D-1C56F1EC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341-4560-4A43-90D5-558D629A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C52-A922-4CB9-A994-224D660A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F30-D32F-4901-A603-1CD73FF1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86D-46D7-430F-B266-120CFDE0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55F-8584-4C4E-8FF4-D7C28FAC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31C-D5A7-4EC3-8A55-E613996E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551D1-F6E0-4323-A5E3-79D63C1FD50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forgave my sin in Jesus’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been born again in Jesus’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Jesus’ name I come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hare His love as He told me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id, “Freely, freely you have recei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eely, freely g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 in My name and because you 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thers will know that I liv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 Forgave My 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power is given in Jesus’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arth and heaven in Jesus’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Jesus’ name I come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hare His power as He told me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id, “Freely, freely you have recei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eely, freely g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 in My name and because you 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thers will know that I liv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01Z</dcterms:modified>
  <cp:revision>10</cp:revision>
  <dc:subject>The Source, song number 123</dc:subject>
  <dc:title>God Forgave My Sin (Freely, Freely)</dc:title>
</cp:coreProperties>
</file>