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95</a:t>
            </a:r>
            <a:r>
              <a:rPr b="1" lang="ru-RU" sz="3600" spc="-1" strike="noStrike">
                <a:solidFill>
                  <a:srgbClr val="ffffff"/>
                </a:solidFill>
                <a:latin typeface="Verdana"/>
              </a:rPr>
              <a:t>	</a:t>
            </a:r>
            <a:r>
              <a:rPr b="1" lang="ru-RU" sz="3600" spc="-1" strike="noStrike">
                <a:solidFill>
                  <a:srgbClr val="ffffff"/>
                </a:solidFill>
                <a:latin typeface="Verdana"/>
              </a:rPr>
              <a:t>Как мне радостно всегда</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Как мне радостно 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ь овечка я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а пажитях поко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ничто не беспоко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жно любит, береж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 имени зовёт.</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Долго Он меня иск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 любовию взы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принёс тебе прощ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грехов освобожд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заблудшая ов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ажду Я спасти теб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Я Его любовь узн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изыв Его приня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еперь Он — мой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ый, чудный мой Хран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мой Пастырь дорог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даруешь Ты покой.</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28:34Z</dcterms:modified>
  <cp:revision>3</cp:revision>
  <dc:subject>Slavic hymnal Гимны веры христиан, hymn 95</dc:subject>
  <dc:title>Как мне радостно всегда</dc:title>
</cp:coreProperties>
</file>