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F11B-95B8-42A5-8BC9-CD1C2FB9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B6D8-6674-4A23-8C89-0F40AB56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6F4B-C6FE-46EC-A6E0-E3CAAF0D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F8FC-842D-428F-AE72-DDB2400C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8237-F3FD-4BF4-AD57-0AB63FB4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2D69-E59A-4066-B35E-52A707D5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338A-3422-4BFD-BE07-AD321D9C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5787-EFBF-453E-84FB-C4D87D83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C8F5-C340-454D-AFA0-E7B04F63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C9C-0948-4886-8903-2A1B5548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DB7-5228-4E85-8DAC-B951C182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81EA-1DBD-4A4F-BE26-6E23F5B3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57DE2-A07B-4CAD-A9DE-6F04F569B3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reat Physician now is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ympathising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peaks the drooping heart to che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! hear the voice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4   Єдиний лікар є для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диний лікар є для на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аскавий наш Спас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ранами Своїми с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вірних ― наш Збав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ote in seraph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on mortal tong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carol ever su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lessè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ote in seraph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on mortal tong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carol ever su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lessè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many sins are all forgi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! hear the voice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 on your way in peace to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ar a crown with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сі гріхи мої про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Лікар, мій Збав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ім Отця мені відкрив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наш Примир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ote in seraph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on mortal tong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carol ever su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lessè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 to the dying Lam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now believe in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e blessèd Saviour’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e Name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агну щиро все лю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, мій Відкуп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воє ім’я люблю хв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едвічний Цар,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ote in seraph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on mortal tong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carol ever su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lessè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dispels my guilt and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name but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! how my soul delights to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harming Name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дуг невиліковний тв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ізціляє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могутність зрозумі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ірним помага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ote in seraph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on mortal tong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carol ever su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lessè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rethren, help me sing His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praise the Name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sisters, all your voices 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bless the Name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мо, браття, всі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 Його безмірн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славить серце 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ню милість див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0:49Z</dcterms:modified>
  <cp:revision>12</cp:revision>
  <dc:subject>Slavic hymnal Гимны веры христиан, Ukrainian hymn 74</dc:subject>
  <dc:title>The Great Physician / Єдиний лікар є для нас</dc:title>
</cp:coreProperties>
</file>