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6B8-1757-4345-AB5B-B235D6A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963-4B2B-4510-B39B-C4FE1C58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E37-5B2F-4513-AD0B-762C3E0B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2A9-85EB-48F2-B396-FDC1E7E8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B9D-D038-4B30-8165-8EE47293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22A-7344-4FCC-9516-DCD095D5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52D-E0D0-41BA-A511-3E5727F5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20D-CE36-44EE-B83B-1011394C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A75-E46F-47C4-9F0D-C3B9D9B1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566-DBD7-4B48-957D-345F0751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E4E-4360-4264-A056-CCBC3691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14B-3723-4CA7-82FC-E5964D1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0A904-7666-4950-ACE4-3D12E9CCD9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ас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еня Христос от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блудш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лонился, взял н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ёс меня к От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ранен — исцел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лужданьях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щилась мо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вечных сил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я перед ть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ой не раз тесни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укой Его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ордану с Ним пр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шумит у ног мо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ойду в стран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я встречу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7:26Z</dcterms:modified>
  <cp:revision>12</cp:revision>
  <dc:subject>Slavic hymnal Гимны веры христиан, hymn 599</dc:subject>
  <dc:title>Я спою вам песню веры</dc:title>
</cp:coreProperties>
</file>