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C76-3828-40E3-BB16-8A5C71F9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FDB-2283-4BF3-A845-AD366C8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53C-A3BE-4974-99F8-C875D47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988-C607-4FCD-A29C-7A4BAE0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877-1B83-40B0-9F1F-2D2712EA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4AD-ACC9-4254-BE98-7C326C3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2ED-2E26-467C-BC63-349C20AE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503-513C-4865-856B-6D962BF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CE6-8F11-4CFD-B693-D5C264A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E82-FF03-4A6D-A0D0-79E380B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C27-E88D-4438-9831-E87927F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B69-20B1-49B6-A8A4-86B5294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BE2F6-FEEA-49E6-83F1-C61243A732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путь борьбы кров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ю я Твоим сло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вой я воин, Боже пра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ебя иду я в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, нет больше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почест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,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среди дневного зн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яжело моим ру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— духу насла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риносит мне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серд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вой раб нашёл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благ обет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радость рас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забвение гре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звал к жизни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, любовью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и думать дерз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вых благах для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бы песнью соверш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любовь к Т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а песнь мо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ывае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ам польётся в сен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достойною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38Z</dcterms:modified>
  <cp:revision>12</cp:revision>
  <dc:subject>Slavic hymnal Гимны веры христиан, hymn 454</dc:subject>
  <dc:title>Не ради почести и славы</dc:title>
</cp:coreProperties>
</file>