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605-ED8D-4B06-A759-2EFF3031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50A-1CBE-45D1-973D-91C5133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A54-A3A0-4A80-8930-DD673BE9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55F-9036-4EBD-9A1B-804F49A5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5D4-EC29-4D2D-AFC3-76A34CD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935-2E7E-4D39-B5B6-2014E49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069-F8AA-4FF4-99DC-272D505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9C3-5BEE-4F91-BA9D-02123404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D7D-CC93-447E-96FE-5F99AE5F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B49-7622-46EE-A367-02DCB08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EAC-A077-4221-8B3C-A418B90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1B5-A550-4CF4-8365-1F7A8DA8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B07F1-A8C1-465E-876C-C85006C13E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Neath the stars of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ed the Saviou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arden of dew-ladened bree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s wonderful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all my b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light could b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elt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e prayed ’neath the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in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aviour was h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in the garden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s soul-burdened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cup pass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so, not My will, Thine be do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y song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ve proffer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my Lord all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41Z</dcterms:modified>
  <cp:revision>13</cp:revision>
  <dc:subject>Slavic hymnal Гимны веры христиан, hymn 281</dc:subject>
  <dc:title>’Neath the Old Olive Trees / Становилось темней, когда Свет наших дней</dc:title>
</cp:coreProperties>
</file>