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9EB-756F-42E5-ABD8-3E922FE6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051-12C2-4097-9853-B7BCBA9F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08C-6AB6-4A07-866D-D658B3B1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C5E-CA81-410A-9733-B9E388F4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766-877F-4463-B2B3-B937B5E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94D-3224-4149-9F4A-09E7CA11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640-E6F6-4E2E-B565-98E94C3A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743-3D93-4AB3-B288-2F4DDF26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5EB-C0CB-4FE7-BE11-52BDEAF4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390-B5D0-4931-BC89-B0D38058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3FA-3405-4D1F-95C1-845CE48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54E-DCBE-45C9-B7AE-EAB7DD4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5F856-B57A-45B5-90DB-B2D28094CC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   Повість скажи про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how the angels in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ng as they welcomed Hi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God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good tidings to eart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гольську пісню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м пісням ти вол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ві в небі хва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покій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ing alone in the dese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days that ar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for our sins He was tem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as triumphan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стив Він у пуст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га як перемі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ережив невес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нений був від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years of His la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sorrow He b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 despised and affli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less, rejected and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безпритульний, голо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помагав у нуж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багатив Він нар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же був бідний т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cross where they nail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hing in anguish and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grave where they lai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how He livet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хресті розіп’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на ньому вми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домовину покл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воскрес Він і в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in that story so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er than ever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, let me weep while you whis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paid the ransom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кажи з напоми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 тому це ро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грішну бідну люд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д життя полюб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3:30Z</dcterms:modified>
  <cp:revision>14</cp:revision>
  <dc:subject>Slavic hymnal Гимны веры христиан, Ukrainian hymn 2</dc:subject>
  <dc:title>Tell Me the Story of Jesus / Повість скажи про Ісуса</dc:title>
</cp:coreProperties>
</file>