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2D1-B610-4426-B7D3-A399F369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FFB-0D38-4C91-8E61-F6EAFB04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08F-6462-452E-AC59-7322BB7B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5D81-65EB-4AE0-AD9B-ED3BDB8F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9CC-8735-4D65-80CE-87E133A5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47B-7AB8-4835-B44A-FC53819F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5EF-74A9-4783-9906-1B30666D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F3D-2950-40F5-81D1-765E8F00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DD4-2A2E-45F8-B428-0A1652DD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E3C-6657-467D-A0CE-D07622E2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E4B-C92E-421B-B59F-3BD1C29B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6B1-BB93-47C2-BE51-53023FB7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EABD6-74B6-4C02-91C2-77D02AA566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thy sorrow, the world hath its sh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it deeply, go hide it with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hink of it calmly, when curtained by nig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and all will b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гор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огорченье ты встретишь в пу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юдях утешенья тебе не на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лезах умиленья и в тайне д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у сокрушенье излей ты в ти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He knoweth thy gri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He’ll send thee reli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gather the sunshine He sheds on the w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’ll lighten thy burden—Go, weary one,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любящий знает о горе тво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бя ожидает на лоне Сво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знаешь, как властно спасенье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Нём ежечасно петь будут у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rts growing aweary with heavier w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droop ’mid the darkness—Go, com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m,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thy sorrow, let others be bles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give them the sunshine, tell Jesus the 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дальцев так много под гнётом скорб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утехой от Бога спеши к ним ско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кажи им с любовью о дивном Хрис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мывшем их кровью на скорбном кр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08Z</dcterms:modified>
  <cp:revision>14</cp:revision>
  <dc:subject>Slavic hymnal Гимны веры христиан, hymn 450</dc:subject>
  <dc:title>Go Bury Thy Sorrows / Когда огорченье ты встретишь в пути</dc:title>
</cp:coreProperties>
</file>