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945A-54E4-4031-AD73-BB651274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62A9-9A75-49B1-8CD7-51958956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A31-F530-4B66-8B1D-494C8352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56AB-79A7-4C81-ABE7-2628AACB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0DD-65A5-4DBA-AF86-D31AD32B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DA24-8FDE-4D52-9955-591E12A8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1ECE-CDED-424F-B4AB-61C99C8E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C0A8-5145-46CD-A456-BF71BDA2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9FDE-917D-4842-9871-701525FE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7D3-1CD2-4E68-A199-047FF364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B92F-78E9-4BC1-909E-AA45FA3D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E335-359F-4E0B-A31D-7B9489FD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4BC3B-9F01-47F0-AB6D-55E0155808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ізнавсь я про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ій радість для серця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куди вже більш не пі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вши Христову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6   Дізнавсь я про Церк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наєте Церкву жив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, браття і сестри мої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іть на дорогу свят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Церкви живої у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ільки в ній душ без спо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айшли собі мир і спок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ллються молитви рі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ве в ній Христос дорог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 Церква могутня, Господ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ай нею іде чолові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Євангелію всі сьо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те ― спасетесь на ві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див я усюди по сві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щастя ніде не зна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кінчився шлях безпросвіт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у Церкву вві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8:56Z</dcterms:modified>
  <cp:revision>12</cp:revision>
  <dc:subject>Slavic hymnal Гимны веры христиан, Ukrainian hymn 46</dc:subject>
  <dc:title>Дізнавсь я про Церкву живую</dc:title>
</cp:coreProperties>
</file>