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BDD8-DCB2-4103-A6A0-9E2958191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A706-4AFF-49BB-B253-94293F0B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EFD1-1A60-4490-989D-12767A728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A429-2BB0-4587-BDC2-C19146E26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0003-E84A-4B5E-88E6-2641DCAE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3C96-1B11-42C9-84FF-F5D43257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0462-6B7B-418C-A2E7-820593A1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CE17-5FF3-4D53-94D6-43CF232B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CF09-69C7-484B-90A6-29C36F2E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48EF-7C0B-47A3-A2E7-39518372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77AC-FBFD-4EE3-97A6-35142EA6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04BE-ED6F-420C-AB91-EF5E4224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640B5-3196-4B65-B750-48A855D66CD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айте малодуш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несите в мир послуш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радость мы нес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ути в Отцовски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устлали путь доб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тешайте малодуш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делать всем доб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ета да не пленит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ом светят наши ли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много слёз и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броты пропал и сл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ратский дай со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делать всем доб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орви мирские уз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рабом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сеем каждый 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ё время возраст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ильный даст нам пл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делать всем доб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6:06Z</dcterms:modified>
  <cp:revision>12</cp:revision>
  <dc:subject>Slavic hymnal Гимны веры христиан, hymn 480</dc:subject>
  <dc:title>Утешайте малодушных</dc:title>
</cp:coreProperties>
</file>