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1EF-48B8-4249-B870-E32966B1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A4B-3BC0-4CB1-AC93-FD4FF1BD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35F-C1E7-40F5-8F83-F50837B8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149-E668-412E-9E24-AA8C45CF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1B7-BC79-47DA-9D0D-1DB54386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9F3-92C4-47CA-9575-F6C903B4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67B-7AF2-46DE-879C-3BE8FCC7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4C9-7656-47FB-838A-0D91C05E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A88-AAEB-4F09-9CC6-03718467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1365-E958-4B52-B9AF-EB4AA1D0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08A3-8E2B-4CAA-B872-EE86B93D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03C0-90B5-46B8-A191-FE9210AC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DC2A5-6A26-4E5E-B9ED-5168DFB921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Господь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ведёт в Хана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проведёт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Иорд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айся,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твёрд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ст тебе Бог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ве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ж скоро Господь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ая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м мы в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х п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уж разл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уже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х уничт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лог уж путь наш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ратья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восклон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ожий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Он спас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 Сво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овую мёрт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жи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коро уви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лаз не 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им про та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зум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игнем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удрости Бож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мём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лишь войдёт, 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здесь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а не сты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детеле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жизни, в борьбе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ёкс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чёл всё за сор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9:45Z</dcterms:modified>
  <cp:revision>13</cp:revision>
  <dc:subject>Slavic hymnal Гимны веры христиан, hymn 678</dc:subject>
  <dc:title>Уж скоро Господь нас введёт в Ханаан</dc:title>
</cp:coreProperties>
</file>