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F26-C96A-4DCA-844B-86F690C8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B12-2A8B-4C00-BBB9-3C0A6178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F12-7988-45F0-88E2-8E61EA2C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043-650F-4EE7-9385-85DDAEC8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9C8-5BAF-44CE-9CE2-33865BEB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744-A7AA-4E4D-89B9-11599BF7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33A-5A8B-4A87-8B73-D37F875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C50-800B-4A5D-A43A-9320D339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0C2-B0D0-4B6D-B1D6-E8A6BC0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B3C-40C3-4BDE-AAE0-D775F926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153-3125-4C1A-9D9E-A786E78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740-569C-4AE9-9F83-ED6728BF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F663-B1E5-4B7D-9446-336BD765C7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firm a foundation, ye saints of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laid for your faith in His excellent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more can He say than to you He hath s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you who for refuge to Jesus have f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not; I am with thee. O be not dism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am thy God, I will still give thee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trengthen thee, help thee, and cause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held by My righteous, omnipotent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the deep waters I call thee to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rivers of woe shall not thee over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will be with thee, thy troubles to b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nctify to thee thy deepest di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fiery trials thy pathway shall l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e, all sufficient, shall be thy su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lames shall not hurt thee; I onl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dross to consume and thy gold to re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down to old age all My people shall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, eternal, unchangeable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hen hoary hairs shall their temples ad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lambs they shall still in My bosom be b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ul that on Jesus hath leaned for repo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ot, I will not desert to its fo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oul, though all hell should endeav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ha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never, no never, no never fors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59Z</dcterms:modified>
  <cp:revision>12</cp:revision>
  <dc:subject>Slavic hymnal Гимны веры христиан, hymn 850</dc:subject>
  <dc:title>How Firm a Foundation / Стоит основанье</dc:title>
</cp:coreProperties>
</file>