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3CD-6F15-4BEE-A6C2-E2CF88DA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131-909F-47B2-89C3-481AD10D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BC5-1CDF-43FA-B12A-985CDBAB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400-A089-48EB-B3C6-93C1F915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06D-4FEE-4864-8A20-B75C1E34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596-5220-4519-93CB-81FAB2CF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B5C-C4C8-4846-BDE3-65E7917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517-9B54-45F6-8281-93845240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9BF-8FFB-4D6B-859E-20ADF664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383-E7BC-4972-8E7F-2B4D8EB0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5BD-FB50-44E5-B485-28EC8B59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38E-B8EA-41EF-BC20-CBC78CC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15F8C-8998-4559-9C68-A86D3D9D44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твои очи слезами пол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твоё сердце дрожит без в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ий и горя ты много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ть и бороться не чувствуешь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ало надежды, так много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ало ты веришь, что милостив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ни: Господь не оставит С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и во всех испытаньях зем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чём твои 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ьи пади перед Бог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твои страхи развее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чит недуги, прогонит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воги умчатся в безвестную д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28Z</dcterms:modified>
  <cp:revision>12</cp:revision>
  <dc:subject>Slavic hymnal Гимны веры христиан, hymn 710</dc:subject>
  <dc:title>О чём твои очи слезами полны?</dc:title>
</cp:coreProperties>
</file>