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771D-30FC-4F5C-BBDE-486CD456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77AF-704E-4CEE-80B3-1DF3F17A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E94B-E7BD-44DB-BE67-FBF8ABD9F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B184-EBFF-49B6-BA77-F4B862C1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8A49-2D70-407E-B528-D78FE1CB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EA6F-176D-4484-A98A-85DBEDF4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A4B7-25AC-4630-A568-EB65617D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B596-01E4-454F-B7CB-3D931CFF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CD13-919C-470C-A750-D0C7CECC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AD54-268E-4DCE-9EF0-68E4EF4E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78AA-0E56-43D3-9488-2AB289A6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DE45-797A-435A-9B5A-B03FB1C6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56C2F-9309-4E94-9F48-65A1B9826A2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 ль постичь любовь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ет Его крови свят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е ль Он умер за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был Ему чуж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― побед зал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за меня страдал Сам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― побед зал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за меня страдал Сам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гу ль постичь люб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тайна, глубже всяких тай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винный злыми умерщвл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я согрешивших пл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цом Небесным утвер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да знают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и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да знают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и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ил в небе Свой престо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к грешникам с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ничижил, смирил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ёл на казнь, нас возлю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светлее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тьме греха нашла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светлее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тьме греха нашла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в темнице изны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цепями скован бы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небесный свет посл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овы крепкие разб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милости я стал друг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ялся, встал, иду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милости я стал друг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ялся, встал, иду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осужденья, не страшу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за меня свершил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― мой Спаситель и Г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жизнь дают Его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в пути, а, нако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ст мне золотой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в пути, а, нако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ст мне золотой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49:11Z</dcterms:modified>
  <cp:revision>13</cp:revision>
  <dc:subject>Slavic hymnal Гимны веры христиан, hymn 881</dc:subject>
  <dc:title>Могу ль постичь любовь Христа?</dc:title>
</cp:coreProperties>
</file>