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2B9-0C7F-4FEC-BCF9-A8E77F66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1F5-5C88-4460-8B69-28F2380E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E31-B646-4459-80F0-6314E394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AA1-32A5-490D-917C-A37C6B4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3BA-E6D1-44D3-83F7-3EBAB39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960-EBA1-4B27-A43B-B7D9D415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64F-CCFA-4C82-B2D5-2CC5488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CF9-7EE1-47D4-8C93-47E60EAD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EA9-0010-42F0-AC7A-6CEFE4D2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46E-0EC2-43D5-8D56-2B4B4DC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29B-AD02-41ED-917F-A6A56BD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D9C-FFF8-473D-84D0-63A0DDA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C1D4C-46A1-4FE1-99F6-7B274B5219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ым орлом я хотел бы ле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подняться, Христа уви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тревожно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ознестись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хотел бы я быть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ольщений греховных да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не знаю: зачем же п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бессильному сердцу по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стрым орлом я хотел 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Твоим я хотел бы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на земле для людей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могу лишь м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й лучиной, бегущим луч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зачем я не столько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хотел бы, чтоб кротким я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гордился средь Божи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ближе к Предвечному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06Z</dcterms:modified>
  <cp:revision>12</cp:revision>
  <dc:subject>Slavic hymnal Гимны веры христиан, hymn 465</dc:subject>
  <dc:title>Быстрым орлом я хотел бы летать</dc:title>
</cp:coreProperties>
</file>