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425-4278-45D6-800C-07889E9C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EC4-A59A-48B2-BEC6-FB066070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AF8-ED14-411A-AC3A-82A01C1B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C82-9073-4DED-9490-BD5DB36C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87F-76B2-4811-8A25-DEF87B96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72B-FCB8-436B-9127-1B63B168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6AE-DF69-4565-9691-FAF32A9B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C1E-3973-4BAD-8DAA-F9B0947B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3D8-A7FE-49F8-B03F-E6AA8239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969-3D23-4B16-BAEC-F5FDAEB2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634-4ABD-44EA-8304-64D0ACD0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929-062B-4A26-808E-3675A913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3047E-A999-40A3-958E-578C96AB3F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янь восторг земно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вись союз плотско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стыне тьма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нету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мир скорбе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влекусь земны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с Ни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ые блага т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ха нет в них ц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у чужд их пле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вянь восторг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мечтаний со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екших дней уро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сё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аяньи сто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довольно дал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мертное, пройди!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ое, гряди!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сойдет и к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ленным друзь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Спаситель, к на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58Z</dcterms:modified>
  <cp:revision>13</cp:revision>
  <dc:subject>Slavic hymnal Гимны веры христиан, hymn 463</dc:subject>
  <dc:title>Увянь восторг земной, мой Иисус!</dc:title>
</cp:coreProperties>
</file>