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CED-DAAB-4328-9813-BC08EC96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291-EC55-4C00-9EB1-6CD8E7A5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74F-654F-4CDE-8ED9-DF062DE2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61A-645C-4394-85A8-19125429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C23-983E-45E6-8E82-AB3243C9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AF4-2AC8-4765-90F2-3A9CB916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35B-8E51-42C7-8D21-FA13FDB2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5F4-E51D-466E-889E-0A26406C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144-5BCB-474B-9CEF-7E25573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258-2217-48F7-8059-8DA5EC9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918-E51B-4010-B52F-2D1516E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959-66C6-4B87-BFEE-92832DF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E18C1-A6A4-4334-ADB8-CA61D5BD38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day that fixed my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, my Saviour and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ay this glowing heart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its raptures all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5   О, див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чудов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аситель в перши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 мною в заповіт вст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оєм серце наді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rest, my long divided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xed on this blissful centre,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ave I found a nobler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eavenly pleasures fill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пізн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ею я люб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ерце Господа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ливий став на вс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bond that seals my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who merits all my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heerful anthems fill His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o that sacred shrine I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ов мене в долині слі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Він Пастир добрий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Його, я вже не св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done, the great transaction’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my Lord’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and I followed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rmed to confess the voic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в люб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уку простягну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ви серця розіг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алу я Господу від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7:20Z</dcterms:modified>
  <cp:revision>14</cp:revision>
  <dc:subject>Slavic hymnal Гимны веры христиан, Ukrainian hymn 15</dc:subject>
  <dc:title>O Happy Day, That Fixed My Choice / О, дивний день, чудовий час</dc:title>
</cp:coreProperties>
</file>