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DDF-37EA-4C74-A315-11B4985C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FD7-A9C4-47E6-8E6D-DECC5D03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CF8-BB5F-46D9-979C-4A4C8448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990-AEF1-4C7E-AEA5-39F331A2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FFB-86F0-4DC3-9567-07332F4D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809-405D-4FD5-833D-832823E4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0CE-A760-4780-9D25-99B8F79E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660-48AE-4EFD-9E2F-B05AC2AE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ECD-8D61-4461-909F-A3D9D296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EF5-BE49-413B-ACE4-8F7CF2A9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E22-C481-4CE9-9AA1-D4159D1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080-8BE4-493F-BFFF-61CEF1F5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7C009-E7E2-4196-84A1-2C30ADA530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hite-robed angels 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y a friend is gathered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fear and toil and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мыслить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нгелы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ркой снежной бел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y Redeemer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rapturous songs of triumph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ndless, joyous st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г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аше лилий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 радости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ints’ eternal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palms and robes and c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’er f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our joys ar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утник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вши кровь в святой вой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побед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romised land so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my raptured spirit 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orever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сле битвы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вход свободный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7:20Z</dcterms:modified>
  <cp:revision>12</cp:revision>
  <dc:subject>Slavic hymnal Гимны веры христиан, hymn 816</dc:subject>
  <dc:title>The Heavenly Land / Люблю я мыслить о стране</dc:title>
</cp:coreProperties>
</file>