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332-39FE-440B-8147-6F17B61F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D41-359C-4BA9-B0E9-369AFD4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DF8-39A3-45D9-8AB1-F4E4175E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C36-7476-491F-8FE4-302AC2DD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502-6E7C-4C71-BBC7-4410CFBC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C98-DC5E-462B-B31F-724B55FA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E27-9E62-431C-849D-6D0CCC11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64D-4A3A-4569-96AB-DE027EC8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C3C-16E1-4DFE-8230-44569DA8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372-71D3-45DE-9D10-5E9434A2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CE6-25F0-4C02-879A-368C19D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3A4-FF00-49DC-9682-2CFEF12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FD4D8-278A-4016-A572-F08DE77C76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м пламенем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сердцу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одвиг жертвы 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во веки 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ю обитель я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кину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в вечности,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я с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достойной, не в слез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 отрёшь слез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3:02Z</dcterms:modified>
  <cp:revision>13</cp:revision>
  <dc:subject>Slavic hymnal Гимны веры христиан, hymn 810</dc:subject>
  <dc:title>Душа моя во мне горит</dc:title>
</cp:coreProperties>
</file>