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3C5-E241-4D92-B335-24C2844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D27-3EA0-4B9A-890F-282998C0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4E7-2EAE-4584-BC8E-31FDE826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1F9-E459-4448-B279-B5639EA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A48-9088-4400-ADCB-541443C4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9A5-EE25-477B-8C6C-FCB1A01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ECB-C664-41F8-B71D-E83A0085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8B5-F13F-4D57-9D95-8B5C984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C07-CB6A-464E-8BCE-A3547A50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CC3-0654-43E8-BAA0-3B70159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D20-1F34-4FC4-9176-D136477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BD3-311F-4869-B8DE-DDAEBF5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B659A-FF6A-46A9-80F5-1EDCCB6735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cre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ternity in You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poke the earth into 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my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rried the cross for my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weighed upon Your should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0   You Stood Befor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walk upon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alive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to declare Your prom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stand with arm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rt a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we of the One who gave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tand, my sou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surrende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i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08Z</dcterms:modified>
  <cp:revision>12</cp:revision>
  <dc:subject>The Source 4, song number 2180</dc:subject>
  <dc:title>You Stood Before Creation (The Stand)</dc:title>
</cp:coreProperties>
</file>