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EFB-F5E6-4077-AB20-F553C537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44D-E83C-4A5E-892B-C5D24250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B98-2A51-4295-9D72-F405AAD0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431-24F9-4B93-A842-67EA961B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378D-12D8-477F-AEEB-C7A54DB1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2A6-09BA-419C-B5A9-82B103B1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9B79-A50C-4D1A-B453-85BDF5B6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F22-1514-41F3-A4E9-1BA32FD9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89A-388C-4D26-ACFA-BFDFFE07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1CD-C84A-492C-8CA9-B7A6DA61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67B-4FF4-4B9E-A3CF-C0CD37E5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F99-26AD-4FED-A1FD-E57BCC88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1A695-6EB2-4344-9B5D-76A26308DE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o not let the Word de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ose thine eyes against the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or sinner, harden not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Божьих слов не пропуск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ьих слов не пропуск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крывай от света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а не ожесточ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morrow’s sun may never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less thy long-deluded s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time, O then be w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мир нас награ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ет отрад — он полн за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ни ж как христианин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blessèd Lord refuses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ould to Him their souls un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lieve on Him, the work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хочет тех изг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Ним вступил в общенье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чет в них Свой труд на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2:01Z</dcterms:modified>
  <cp:revision>14</cp:revision>
  <dc:subject>Slavic hymnal Гимны веры христиан, hymn 367</dc:subject>
  <dc:title>O Why Not Tonight? (Oh, Do Not Let the Word Depart) / О, Божьих слов не пропускай</dc:title>
</cp:coreProperties>
</file>