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EF75-C4A5-4F08-BCBD-8A61DAF2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5366-BEFA-4CCC-B9B4-BDCDE792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FB18-967F-4797-97AE-BE751DD1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BBE6-AA20-4430-B8FB-F27061D9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EAB0-3ADE-4EE5-8DF6-FCEF3C13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2D94-483B-4D23-841A-1E1ED6BA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1DDB-CF81-4CF7-B270-25CF4B84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83BC-C467-4F73-8CBA-7618A92D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382E-B06E-4542-B920-CA4B18A7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F17F-8434-4411-B1AD-859E2C22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0842-4056-4DC9-9826-FCF285F0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1F55-4D49-4A41-8440-90B059ED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F42EA-B8DE-405C-8A22-39AE4CB523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 будь в искуш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страшней, чем н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ишь, суме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нему пом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бости не слуш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 зло ру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ирай на Иисус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ёрд будь в искушень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и жди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 у Его по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х даров так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ружися с лож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смей роп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йся имя Бож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не приз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ен будь призва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частьи и скорб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ирай на Иисус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и жди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 у Его по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х даров так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х наградит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и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победим 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мы жив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, расторгший у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йствует,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ирай на Иисус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и жди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 у Его по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х даров так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48:48Z</dcterms:modified>
  <cp:revision>12</cp:revision>
  <dc:subject>Slavic hymnal Гимны веры христиан, hymn 859</dc:subject>
  <dc:title>Твёрд будь в искушеньи</dc:title>
</cp:coreProperties>
</file>