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B4E-53A9-483B-8CE7-18F411BD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E8E-50AC-4330-8E76-2D1D6FE5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481-6EF6-4CD9-BA25-25B65BC8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12B-0539-468C-9F3B-2A450DF8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69D-3ACB-4E33-9588-97AF9407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9D9-D87C-49D9-9338-A9CA2C53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9C2-9355-4505-985D-ED38F077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D84-E3A6-4E9F-80F0-3800A8CA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8B7-D014-4554-929D-FC9EC68C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754-2426-45FC-AF1B-A3EEA18D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F05-7EA9-4CB6-BEE4-8AF5027E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9A1-7F07-4C6F-8963-008B00C3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47FD9-4A63-43CE-A1AD-FFDC155ED9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deer pants for the wa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my soul longs aft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   As the Deer 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friend and You are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You are a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 more than any 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much more than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You more than gold or sil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You can satis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the real joy-g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apple of my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7:22Z</dcterms:modified>
  <cp:revision>11</cp:revision>
  <dc:subject>The Source, song number 27</dc:subject>
  <dc:title>As the Deer Pants</dc:title>
</cp:coreProperties>
</file>