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714-5F88-4DB9-A075-3614BFB7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C3A-8C79-4536-8FFE-59669592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E72-EA64-4886-B6C8-D95BD6F4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060-5B8C-4923-BFD0-0A16E477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391-D995-42DE-8736-8BEFD944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E21-3157-419A-93CC-07BB6566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9AD-5BF9-438B-B144-1A02232F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BDD-589C-49DA-8081-AAE06D46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E31-E51D-4063-A098-07C1D562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A9A-61AA-4ADD-BF81-36711636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401-134A-4851-94A9-2D2046AC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33E-D3B7-4DB8-BF02-BF921971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8DDEC-AB0B-4BBA-A817-5D9E9BE27C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ш дом да будет Божьим храм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открытым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н бывает постоян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изнь и счаст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ш скромный, тихий уго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вратит в свято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аш дом да будет Божь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н, там радость преб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нисходят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царствует любовь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лышны пенья голо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зобилье вечных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войти не смеет вр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ссветом нежно пробуж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литве пламенной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 участье при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с сердца всякий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же, даже под кр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яжело идти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аждый день даёт Он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ивает мужество в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яком месте нас Он ви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нас в вере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ть порой чрез скорбь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в небес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5:44Z</dcterms:modified>
  <cp:revision>12</cp:revision>
  <dc:subject>Slavic hymnal Гимны веры христиан, hymn 768</dc:subject>
  <dc:title>Ваш дом да будет Божьим храмом</dc:title>
</cp:coreProperties>
</file>