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0A2C-4128-43E1-9F32-FCE52AA51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E67B-8E47-452F-BC06-6D8838CE0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AC93-470F-4DF4-8AC9-689A264C9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7C28-CC9E-4F43-A405-283059470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8C1D-D2EC-42B3-B3C2-C7BBFC13B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72DB-990F-4850-B964-8745F067A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9CA1-118B-4411-A6EC-D4D1453F5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C935-E980-4B3A-9120-D0511ECF0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D6BB-16EF-4A0A-83AF-4D6081A69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13D9-340B-4147-8EAE-F710C7396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878F-7571-46DE-8ED2-777A27FA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54B8-6DAB-4D6D-BD06-1DCE68E23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5FBB12-8948-4908-92BE-A6A12697D2E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ет: Божьи дети встан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 придут к лицу Хри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как тогда хвалой воспрян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рдечной радости у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юноши, и старцы, дети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облечённые в висс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твями пальмы в чудном све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да стекутся на Си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8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И будет: Божьи дети встану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обрадует и прим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их возлюбленных дет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х поношение Он сним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ёзы их отрёт с оч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плача никогда не буд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ой дивной родине свя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аждый скорби поза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словляя жребий с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и призрака страда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мерть вовеки не придё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вет Господнего сия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омрачится, не за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и не будут уж том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оразит их больше з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будут вечно весел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ад, упитанный вод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и, как камни, воссия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енце Владыки сво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ак светила, заблиста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веки на земле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05:52Z</dcterms:modified>
  <cp:revision>13</cp:revision>
  <dc:subject>Slavic hymnal Гимны веры христиан, hymn 681</dc:subject>
  <dc:title>И будет: Божьи дети встанут</dc:title>
</cp:coreProperties>
</file>