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ECF-C6BD-434E-8832-47ED9F63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469-6986-41F3-B513-E35C322F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07B-11B1-4BCB-B8FE-F17228E7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FFA-7BD7-4483-9355-B0AAE6D7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F47-9023-4BA8-87FA-C9B80A9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31B-6929-4565-B029-C1BB502E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FAD-DC1F-461D-9170-943EF7D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E65-40E4-4504-8079-76E8DE7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F21-E03A-453C-BB60-11EA8282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8E4-93DA-49B1-ACC0-4E11DF2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9C4-CE49-4EEF-A878-FF2EF28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674-661D-4E5C-8A3B-BBC5435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566CA-2C2E-4E0D-9EBB-4BD2A038D6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Слова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славу Он даст нам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инуясь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ребудем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слушно с Ним хочет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нь ниспа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туч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улыбкой заставит пр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будет ни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еза на о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лишь в послушаньи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ремя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традае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янье не медлит прийт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утраты нам ж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 горесть,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мы в них можем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ю радость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всё нам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бя на алтарь прин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блаженство д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м, кто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быть и послушно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общеньи с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 ноги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союзе с Ним будем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скажет —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кажет — снес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, но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9:17Z</dcterms:modified>
  <cp:revision>12</cp:revision>
  <dc:subject>Slavic hymnal Гимны веры христиан, hymn 647</dc:subject>
  <dc:title>Когда мы со Христом</dc:title>
</cp:coreProperties>
</file>