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BA4-451B-4A43-A66D-72605D14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641-DE77-4BCC-8A92-D835589B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7D0-41FB-4DBF-818C-106F6778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70D-8D0A-4835-A82D-F7EFCD62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965-87B7-4836-B358-AE005694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140-1381-415E-B3FE-9A768E69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455-17AA-4461-9810-9A27D3E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BDF-022A-4FA3-8258-F473E589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062-DAA2-40DC-A139-1A3CFB61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24E-AE43-421C-8063-3ED23A1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D31-3CB9-429D-ADE7-A90C9F1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A5F-2C69-42C3-9478-91C3B20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3245-01B2-4C84-844A-1C04321E2A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в истин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здесь — ты будеш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идно, Бог назначил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стезя нас ни в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добра или же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ть мы будем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в душе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стретить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ждено уж тут суд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встретимся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м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31Z</dcterms:modified>
  <cp:revision>13</cp:revision>
  <dc:subject>Slavic hymnal Гимны веры христиан, hymn 748</dc:subject>
  <dc:title>Итак, расстанемся с тобой</dc:title>
</cp:coreProperties>
</file>