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6EC-1E7B-4E2D-A195-1BF58F49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C8C-9D64-4694-9159-C504C107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793-6311-4A5D-9454-AC1D72D5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683-9C0F-4CD5-82C5-6A6E1EFA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4CE-C721-4F0D-8468-A020E19B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A5D-9E7B-48E6-934A-FD0CCE94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BC2-4CF7-4978-9952-7D1DF79F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451-5AAB-4FC4-A061-B932D6B7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E09-29BD-4A3D-94A2-1E01D12D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69B-95FE-4FA5-9D54-466AB445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6C7-B129-4268-8539-020276B3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902-AFC5-4C3F-A6A2-3BD38387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78E5C-80EA-4848-8DE3-8DB5F1B11E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го стола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ться нам да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леб — Твоя святая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Твоя — в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ши души напи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ходил Ты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ира принял на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Твоего стола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Ты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 мог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оскрес на трет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уть к Отцу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й любви весь мир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й и св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, Господь, Себе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вечно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зум, волю, сердце, —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и управля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чтоб мог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ти в небес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1:15Z</dcterms:modified>
  <cp:revision>12</cp:revision>
  <dc:subject>Slavic hymnal Гимны веры христиан, hymn 730</dc:subject>
  <dc:title>У Твоего стола, Господь</dc:title>
</cp:coreProperties>
</file>