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06EF-79CD-4670-8C6E-FB66E2416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A48F-5265-4513-AC35-774AAB37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FA11-50AB-4B5E-9D4D-A591500CC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45E2-AE0A-428F-9EE8-F604030E6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79C3-9EB2-4371-B760-EDBD3DE4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9DA3-2C03-49AC-AA2E-6E5B9987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C25E-203B-4EB3-983B-C78FC414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5D3F-40F6-4F78-95F8-9E04F8B0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26F1-30D1-42EB-BD75-49404F55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4665-396F-40A1-B18D-35321876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C569-5FD0-47D5-8318-6C94A347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8194-79F9-4844-ACB7-FFF5D061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6A6DA-FCC5-4E5E-93A0-4651BCB9B5E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ide with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st falls the event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arkness deepe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with me abid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ебудь со м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вет сменился мгл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устеет тьма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is death’s s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, grave, thy vict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triumph still, if Th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ide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мерти жа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д, где ужас тв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ьно всё, — лишь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d Thou Thy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fore my closing ey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ine through the gloom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int me to the sk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едсмертны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 Свой ука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ездою утрен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тьмы го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en’s morning break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arth’s vain shadows fl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life, in death, O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ide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еет неб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ю зар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и смерти 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other hel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l and comforts fl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of the helpl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abide with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лишу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оры я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лот бессильных,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ift to its c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bbs out life’s little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’s joys grow dim; 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ies pass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жизни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роткий утеч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еркнет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ное и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ange and dec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ll around I s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ou, who changest n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ide with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песни счаст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звук пус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неизменный, 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not in terro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King of k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kind and good,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ling in Thy w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 царским обл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мне при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 сострада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ым и в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ars for all wo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heart for every plea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Friend of sinners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us bide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исц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 с С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олнца луч, так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need Thy 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passing h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but Thy grac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il the tempter’s pow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бе нуждаю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час, мо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искус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ревоз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, like Thyself, 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ide and stay can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cloud and sunshine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ide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ветлы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лачной по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оводя, хра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fear no foe,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e at hand to ble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lls have no weight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ars no bitter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ен вр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Ты, Господь, вблиз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не тесн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 я тос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11:52:11Z</dcterms:modified>
  <cp:revision>12</cp:revision>
  <dc:subject>Slavic hymnal Гимны веры христиан, hymn 823</dc:subject>
  <dc:title>Abide With Me / Пребудь со мной</dc:title>
</cp:coreProperties>
</file>