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a:t>
            </a:r>
            <a:r>
              <a:rPr b="1" lang="ru-RU" sz="3600" spc="-1" strike="noStrike">
                <a:solidFill>
                  <a:srgbClr val="ffffff"/>
                </a:solidFill>
                <a:latin typeface="Verdana"/>
              </a:rPr>
              <a:t>	</a:t>
            </a:r>
            <a:r>
              <a:rPr b="1" lang="ru-RU" sz="3600" spc="-1" strike="noStrike">
                <a:solidFill>
                  <a:srgbClr val="ffffff"/>
                </a:solidFill>
                <a:latin typeface="Verdana"/>
              </a:rPr>
              <a:t>В минуту жизни трудну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минуту жизни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снится ль в сердце грус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у молитву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ержу я наизу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у молитву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ержу я наизус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ть сила благодат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озвучьи слов жи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ышет непонят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ая прелесть в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ышет непонят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ая прелесть в ни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 души как бремя скат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ье дале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рится, и плаче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к легко, лег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рится, и плаче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к легко, легко.</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2:30Z</dcterms:modified>
  <cp:revision>3</cp:revision>
  <dc:subject>Slavic hymnal Гимны веры христиан, hymn 13</dc:subject>
  <dc:title>В минуту жизни трудную</dc:title>
</cp:coreProperties>
</file>