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A6C-6CDB-4DA1-97D5-5634C46E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0FA-CB19-4CFB-A559-4468D0EA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732-A27A-4C97-8AAC-991C0AE9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52F-BE05-47D9-B438-8C56C217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5DD-EE9E-483E-A41F-8E01889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81C-060D-40C1-94AA-B2981F23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814-03A0-490B-9F32-F38F5E7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C61-EC9F-496E-B3D3-6A18121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D69-9FAF-4165-81E7-A43847EE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5F6-5D03-4FDF-A1D1-3965C89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C71-B18A-41D2-A99F-535F7D1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E5E-E6A4-49A1-AFC3-BBE076E4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F2481-60AA-4C0F-9B47-DFC51682FE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pilgrims we’re bound for our heavenl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ears will no longer be sh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avenly roses eternally bl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rts of God’s children are gl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in, no complaining, no suff’ring we’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eath will our bodies not wa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orrow of parting and no broken hea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 joy in green pastures we’ll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land God has promised will soon be attain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ount Tabor’s already in vi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ng of the Lamb will forever be 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ose who temptation once k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multitudes stand by the river of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deemed by the Lamb from all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nstantly gaze at the glory of God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new day for us will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5Z</dcterms:modified>
  <cp:revision>14</cp:revision>
  <dc:subject>Slavic hymnal Гимны веры христиан, hymn 686</dc:subject>
  <dc:title>Like Pilgrims / Вот путники к родине славной идут</dc:title>
</cp:coreProperties>
</file>