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B90-6BD6-4FEC-B793-73ABAC71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88D-C8F4-445E-B54E-2CBDB7E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647-EEF1-4616-A839-71AA285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2E0-8ADA-498F-BEEC-8E3E4DF0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00A-F609-463B-BA31-472C75A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DAB-2D47-40AF-9520-AB67792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F0E-E047-4AA5-BD36-969B75B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EE2-9154-4002-AF63-B87FDCB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53E-9065-4203-AD7F-714D159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E2C-9F36-472C-A7BD-D17037C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490-09F4-4C56-B65E-D1FA973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A32-3CF5-4880-856E-C3BE93C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AF766-5CB7-4565-9A4E-EE6F4EC46F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скорблю и грущ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зей нигде для меня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где ни в ком нет отрады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зде, кругом скорби лишь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ночной вспомню жизнь мо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ю рекой часто слёзы 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, трудно жить без счастл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горя пить только в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я скорб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злых людей, нет любви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моей воздают мне з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редь них друзей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порой плачу я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яркие в небесах го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на глазах блес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 от той тоски изб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 же мне найти утеш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понять, о чём плач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один лишь Бог, Он поймё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ый, скорбный час я п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печаль расскажу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клонится низко на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мне отрёт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близи Него отдохн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и Его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27Z</dcterms:modified>
  <cp:revision>12</cp:revision>
  <dc:subject>Slavic hymnal Гимны веры христиан, hymn 505</dc:subject>
  <dc:title>Часто я скорблю и грущу душой</dc:title>
</cp:coreProperties>
</file>