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936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и Сын, и Дух Святой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ри с небес в стране зем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род Твой моли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1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
        <p:nvSpPr>
          <p:cNvPr id="39" name=""/>
          <p:cNvSpPr/>
          <p:nvPr/>
        </p:nvSpPr>
        <p:spPr>
          <a:xfrm>
            <a:off x="539640" y="108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05</a:t>
            </a:r>
            <a:r>
              <a:rPr b="1" lang="ru-RU" sz="3600" spc="-1" strike="noStrike">
                <a:solidFill>
                  <a:srgbClr val="ffffff"/>
                </a:solidFill>
                <a:latin typeface="Verdana"/>
              </a:rPr>
              <a:t>	</a:t>
            </a:r>
            <a:r>
              <a:rPr b="1" lang="ru-RU" sz="3600" spc="-1" strike="noStrike">
                <a:solidFill>
                  <a:srgbClr val="ffffff"/>
                </a:solidFill>
                <a:latin typeface="Verdana"/>
              </a:rPr>
              <a:t>Отец, и Сын, и Дух Святой</a:t>
            </a:r>
            <a:endParaRPr b="0" lang="en-US" sz="3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силу в Церкви прояв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дни начальны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ю благослов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печальны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з года в год, то тут, то т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ямы рою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 цели даже среди я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нас,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усть истина чрез Твой наро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им открое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знаменем любви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прослави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cp:lastPrinted>2024-11-13T10:24:11Z</cp:lastPrinted>
  <dcterms:modified xsi:type="dcterms:W3CDTF">2024-11-13T10:19:46Z</dcterms:modified>
  <cp:revision>4</cp:revision>
  <dc:subject>Slavic hymnal Гимны веры христиан, hymn 905</dc:subject>
  <dc:title>Отец, и Сын, и Дух Святой</dc:title>
</cp:coreProperties>
</file>