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549-121C-4B57-A43E-478B0E14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8D1B-232F-4AC3-A847-6E629CA4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DE9-145C-4F95-8F45-938DF1CB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2A9E-4543-4338-95E1-2B5F2CA3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FF0-6DC7-4BEB-A2B3-6418B0BE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2C8-8F46-4DD7-93C0-18B34A4A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D25-6688-4A55-8354-7763043A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0A3-1C07-429E-BEC7-06E95C33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9290-5AC6-4A31-8FDF-C3ADACB4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E41-946D-413C-84FB-EE3C0CD0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CD1-7D4F-41AD-90CC-F5D797DB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689D-2EC5-42FC-B83A-5EFF359E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BB836-204B-4A52-923A-63014C06A7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n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one else can touch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You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earch for all eternity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nd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9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re is None Lik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ercy flows like a river w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ling comes from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ffering children are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n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one else can touch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You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earch for all eternity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nd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5:59:36Z</dcterms:modified>
  <cp:revision>11</cp:revision>
  <dc:subject>The Source, song number 493</dc:subject>
  <dc:title>There is None Like You</dc:title>
</cp:coreProperties>
</file>