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A74-1632-4A75-95A9-9AD71DAA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113-7284-4B33-931F-2E95E58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977-8D19-41DA-8B9B-BD8861DB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E43-74F9-4FE6-B90E-DC9E889B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0C5-3FB4-43B7-8678-8C91B39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0EB-6F8C-48FD-9D8F-148CA6E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CBD-1FA3-4544-AF70-2A8AA21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DCB-F65D-44D9-9D8B-6BB9D4F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668-D636-4F3F-A557-5948EA0C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A8E-1D3E-4D3F-AD75-3EBB826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661-F852-4277-99C5-67520C3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5CA-D2CD-4C33-96B2-AD56AD8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4E655-95D9-442E-8B43-C3C79719E6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to the garden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ew is still on the ro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voice I hear, falling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dis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, and the sound of His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o sweet, the birds hush their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elody that He gav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my heart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d stay in the garden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night around me b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bids me go;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to me is c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55Z</dcterms:modified>
  <cp:revision>12</cp:revision>
  <dc:subject>Slavic hymnal Гимны веры христиан, hymn 848</dc:subject>
  <dc:title>In the Garden (I Come to the Garden Alone) / Один я пришёл утром в сад</dc:title>
</cp:coreProperties>
</file>