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71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13</a:t>
            </a:r>
            <a:r>
              <a:rPr b="1" lang="ru-RU" sz="3600" spc="-1" strike="noStrike">
                <a:solidFill>
                  <a:srgbClr val="ffffff"/>
                </a:solidFill>
                <a:latin typeface="Verdana"/>
              </a:rPr>
              <a:t>	</a:t>
            </a:r>
            <a:r>
              <a:rPr b="1" lang="ru-RU" sz="3600" spc="-1" strike="noStrike">
                <a:solidFill>
                  <a:srgbClr val="ffffff"/>
                </a:solidFill>
                <a:latin typeface="Verdana"/>
              </a:rPr>
              <a:t>Славьте Бога</a:t>
            </a:r>
            <a:endParaRPr b="0" lang="en-US" sz="3600" spc="-1" strike="noStrike">
              <a:solidFill>
                <a:srgbClr val="000000"/>
              </a:solidFill>
              <a:latin typeface="Verdana"/>
            </a:endParaRPr>
          </a:p>
        </p:txBody>
      </p:sp>
      <p:sp>
        <p:nvSpPr>
          <p:cNvPr id="39"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Славьте Бога, славьте в песнопенья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славьте жизнью всей с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громких песнях, в радостн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хваленья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редь мучений и среди скорб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вы Бо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всей душой, нас Он спас С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вы Бо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а вечная Ему.</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лавьте Бога каждое мгнов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чувствах ваших, мыслях и дел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Его — Творца долготерп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миру, гибнущему во грех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вы Бо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всей душой, нас Он спас С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вы Бо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а вечная Ему.</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Славьте Бога, славьте всей душ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Его великую люб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от смерти спас Он нас Соб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кресте пролил святую кр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вы Бо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всей душой, нас Он спас С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вы Бо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а вечная Ему.</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Славьте Бога, славьте бесконеч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ро Сам во славе Он пр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воей любовию чудес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дом Отца нас всех Он приве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вы Бо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всей душой, нас Он спас С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вы Бо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а вечная Ему.</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6:02:17Z</dcterms:modified>
  <cp:revision>3</cp:revision>
  <dc:subject>Slavic hymnal Гимны веры христиан, hymn 113</dc:subject>
  <dc:title>Славьте Бога, славьте в песнопеньях</dc:title>
</cp:coreProperties>
</file>