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9CD-A46A-4397-BCE2-ABEE695D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1EC-8CE7-40E5-8B56-02C68D45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081-1FA1-4214-8A10-F4F2FE4B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7E5-8835-4784-84EA-56561FF6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346-E775-4058-9A31-AEF1E716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103-A220-4928-8639-B5BD52BA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FFE-07AF-4224-98DF-F0D14DA9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CA6-5F73-4A20-91C4-BF6C719E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0D9-8465-46E0-82C6-97D90BB6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39C-521A-4324-9D8E-8A70E9D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284-D7BF-49AD-9720-A216450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411-8761-430D-A34B-98462677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031E8-D24C-4737-8C01-5AC1EEB411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wash away my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make me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что может исц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pardon, this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cleansing, this my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чиститься, гля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кровь одну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щенья нах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крови святой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an for sin at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of good that I hav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скупит дух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обро моих заслуг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all my hope and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all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надежду мне дар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святость мне не щ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2Z</dcterms:modified>
  <cp:revision>13</cp:revision>
  <dc:subject>Slavic hymnal Гимны веры христиан, hymn 425</dc:subject>
  <dc:title>Nothing But the Blood / Что вину мне может смыть?</dc:title>
</cp:coreProperties>
</file>