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817F-3DAF-410F-B65F-58325C7D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1DC6-C71E-42C3-8E15-55EB7025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80FE-7AF3-4DC1-ACF1-105DCA3C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2A69-51D7-4C6B-B509-1097BFCC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4B3B-ADD1-42B2-A0A1-9CD52A9D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8FCC-DBAE-4019-AE8A-1B0EDE77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54EF-7CD8-4F29-A2F4-355582F9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F60E-5847-4729-9291-92BF9113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ABEF-F9F9-4240-B5AF-1494C1BF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A7F6-737D-4AD6-AD26-F1DBB293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CF8B-991D-437F-BA66-CAE60E54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F53E-D1F9-4C0A-A589-78C54A7C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CA140-DDB5-4550-98F7-15572D56202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care not for rich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ither silver nor g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make sure of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enter the f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5   Я не хочу багат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е хочу багат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ні скарбів сріб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небесного ц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пасіння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ook of Thy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pages so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, Jesus,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ій книзі спасенн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ажи, Боже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торінках вогня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page white and f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ook of Thy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ажи, Боже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ій книзі спасен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my sins they are ma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the sands of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y blood, O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sufficient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ску є у мор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провин є в ме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Спасителя м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мила їх нараз вс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y promise is writ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bright letters that g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your sins be as scarl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make them like snow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м слова правди да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вячують усі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, як кармаз багря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побілить, як сні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page white and f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ook of Thy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ажи, Боже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ій книзі спасен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! that beautiful c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mansion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glorified be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pure garments of whi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род вічний, предив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і Бог збудув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оселі для вір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Син Сам придб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no evil thing com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despoil what is fai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angels are watc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my name’s written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гріха вже нем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икла темрява в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нце правди сі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небесна кра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page white and f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ook of Thy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ажи, Боже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ій книзі спасен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51:14Z</dcterms:modified>
  <cp:revision>12</cp:revision>
  <dc:subject>Slavic hymnal Гимны веры христиан, Ukrainian hymn 25</dc:subject>
  <dc:title>Is My Name Written There? / Я не хочу багатства</dc:title>
</cp:coreProperties>
</file>