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1C4-3AF6-410D-84F7-4E216A8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221-3451-45D9-87C1-3152468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307-EB74-43A8-88E0-B64FDEFB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063-FC82-41B7-BA62-B330751D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1F2-386B-4AD5-BAC6-311C38C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6B2-5043-4609-8B01-36EA71A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4AB-6ADB-4AA7-ACB0-9152AB37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62-87D2-4AF1-92AE-909DFD7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3A7-BA72-49CB-B50D-703003E2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410-44C8-4206-806B-3CE094F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989-6048-487D-A6F2-F7DD6F6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175-F153-4C4A-80E7-03FBC98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A3740-CC14-4AE3-AB70-AADFEDA90B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49Z</dcterms:modified>
  <cp:revision>12</cp:revision>
  <dc:subject>Slavic hymnal Гимны веры христиан, hymn 453</dc:subject>
  <dc:title>Мы бодрей на жизненном пути пойдём</dc:title>
</cp:coreProperties>
</file>