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477-8D7B-485F-B582-96AF833E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251-3F8F-4C5C-9DBB-4A24884F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8B9-0C67-4BBE-BAD0-5F3BB510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7AC-3CE3-4A54-A377-9BB79568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CCB-2858-430A-AD9B-D62AB38A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E36-6551-4926-ABEF-AD91B04B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5CD-40C3-4F65-A7E3-B76FCC9E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C8C-1D4C-480C-9798-B0C83152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150-C444-4B17-B2E7-BB2D0E45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8DE-80D8-4186-93B8-DD1574FC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474-C695-4C79-8404-0AA552CC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8C4-B463-4D01-9415-215C5CA3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40C7E-15AD-4584-9171-B22D2A3173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Божье слово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сплавить мож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у нас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песня веры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х может к Богу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им дать над зл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весть живая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здатель дивных м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слал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известен Спаситель народ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шёл страданья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ть спасенье мно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39Z</dcterms:modified>
  <cp:revision>13</cp:revision>
  <dc:subject>Slavic hymnal Гимны веры христиан, hymn 530</dc:subject>
  <dc:title>Есть у нас Божье слово</dc:title>
</cp:coreProperties>
</file>