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AA9-3BDC-4620-91EB-FAB21F91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985-4587-4178-9E5B-E5503A4C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1D2-0D35-4B5A-B4CC-4762835E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EFA-A64F-4E24-8642-61719807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C48-0C0B-4883-8AB2-383E4A1F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5B2-0028-42D2-8E9F-C5838872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67F-27B7-417D-A9CA-FA83D783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2B3-4368-4C21-88A5-93E87940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635-9913-483C-B7AB-D0029A06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B63-3D80-4DE7-9A6B-DC5A6F7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9B0-84AE-45D3-9306-810D6A9D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21A-08CD-43C9-8D27-36E000D7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896E0-EA9E-45FA-95C1-CB25FF4307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пре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калы высокой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дых от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утнику надёж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а от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траданий отдох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емны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абым обод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наннику при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лость Божья в мир со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менил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Иакова в ну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м чудным обод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мертью Агнца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 в небо нам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Христ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я в свет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, Верного От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прильнувши ко кре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лубже по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Господне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от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н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до ко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мне иных луч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вет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кидаю, не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сё здесь нипоч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лишь самого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юсь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55Z</dcterms:modified>
  <cp:revision>12</cp:revision>
  <dc:subject>Slavic hymnal Гимны веры христиан, hymn 415</dc:subject>
  <dc:title>Вблизи креста Христова</dc:title>
</cp:coreProperties>
</file>