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11D5-C78D-4D0E-BEA0-CF10CD92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2A33-0870-41E9-8E04-DB72BC86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AC97-154A-4135-8DA7-8FABE31E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1288-A5DE-4B40-9840-43FE677FC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D450-2A37-4FCA-BC51-5EB56CFE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B347-9948-453C-AFEC-2C5F47B1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A00F-FC22-49CB-9D64-C5135F51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DC9A-CFF9-46D0-8AA1-3A8A9BCA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C408-853B-469B-9824-0D05AB32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692A-51EF-411C-825D-1B6CC98D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1836-7CD4-4ED1-AE4E-53FD8384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BA7D-1268-44D8-B5CE-D0F4A353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0C52D-F7C5-4208-BD86-CECF4A0D4EB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ь большего ж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мневаться не дерз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ёт мне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святой наполнил ду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свет рассеял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встретилось, я слыш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сё ко благу твоему!»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Господь всегда со мн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яет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 небесных удосто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ает крест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ога порой споткн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бываю оди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калы Высокой льё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радости поток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ота блаженства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ня Он успоко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в небес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живой из царства т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есётся в край и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ёт Христу хва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был всегда со мной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8:25Z</dcterms:modified>
  <cp:revision>13</cp:revision>
  <dc:subject>Slavic hymnal Гимны веры христиан, hymn 865</dc:subject>
  <dc:title>Мой Господь всегда со мною</dc:title>
</cp:coreProperties>
</file>