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F137-6493-4566-AB0C-A5E95DC80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3C3E-C710-46C2-A110-44762650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31B1-3018-4273-94FF-3593E502E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44D0-D291-4BD6-BB65-8F13415F5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7680-2E9C-436E-8C8F-FB1182DE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4E34-7301-4343-9956-7476D240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DE93-5C53-408B-B923-7E3A881B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4925-F05A-4CA6-A8E4-856422E5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3419-81FD-45C7-98A5-EBF99188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BEF9-8CA6-4EA1-9591-428AD927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FB34-7E5E-4C79-8C48-097D4FDF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F2F9-535C-4826-80FB-AF71FD2C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F66322-C90F-426E-A627-7A15C0BD469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л последний час разлу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таться с вами должны 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сердца в скорбях и в му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рьбы мучительной пол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так отрадно было с 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ы счастливые дел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иться Божьими сло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иже, ближе к Нему бы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4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стал последний ч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щё немного здесь остало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ти тернистою троп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м — блаженство, Царство 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отрёт слезу с оч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прощайте, братья, сёст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ас утешит Сам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назначил нам свид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ечной радости быть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6:38Z</dcterms:modified>
  <cp:revision>12</cp:revision>
  <dc:subject>Slavic hymnal Гимны веры христиан, hymn 749</dc:subject>
  <dc:title>Настал последний час разлуки</dc:title>
</cp:coreProperties>
</file>