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1D0-2E5A-40A5-989C-434A13FA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52E-D431-4643-9A4C-AB9AA625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9E4-0F16-4468-9BFF-950D2288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DDF-1ECA-4D2E-8DC8-198A6080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CD6-BF85-4A90-A0CF-ACEC8ECC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58D-105E-46A2-9080-8CA3E417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AF1-D2AC-4E59-92B0-39583CDE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620-EFCE-4EC9-A81C-2DB00D5B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22C-21B5-4B8E-8CCC-33D44846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31E-6C8B-44DB-90D6-81CE012D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A9A-91CE-4F5B-93E7-B3368661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EA0-AF8E-4FA4-AAC0-747C88DB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44D72-35E0-41DA-8D8F-B406F86DDC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enter His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anksgiving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enter His courts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ay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Enter His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54Z</dcterms:modified>
  <cp:revision>13</cp:revision>
  <dc:subject>The Source, song number 262</dc:subject>
  <dc:title>I Will Enter His Gates (He Has Made Me Glad)</dc:title>
</cp:coreProperties>
</file>