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BA7-0EA1-4F95-B91B-5355DA45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E54-07B2-4859-91DA-8DB7130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ADA-A469-40AF-8BCB-EFFCA5D7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B09-2185-44DA-A01E-1354F9DC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A20-BEEA-4EDA-A894-2D1465DA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002-359F-420F-9E8B-E1413FE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594-745D-4CF4-9896-F4DBB20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BFA-DEC9-42DC-922D-504EA6C0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1BF-A6BD-4804-A87F-1B9BC9E6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D36-0054-45A8-B9EF-802BED03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7C6-7C10-4D56-95BC-32F78C3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31D-7C30-4731-8B09-E01963D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B783-614C-4446-80F3-3608DB4376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внемли отрадной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за тебя Христ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и нака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ам по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аших сог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го на смерть обр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, мёртвых в преступл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н нар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! внемли отра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ты давно о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по собственным пут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 вечности не ду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ваяся страс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 и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скорей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 тебя Он с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, текшей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бя спасти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рабства су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, как раб Христа,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быть свободен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дай Ему жел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душу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что ты спасён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Его святую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54Z</dcterms:modified>
  <cp:revision>12</cp:revision>
  <dc:subject>Slavic hymnal Гимны веры христиан, hymn 342</dc:subject>
  <dc:title>Друг! внемли отрадной вести</dc:title>
</cp:coreProperties>
</file>