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F0C-F35F-4A41-BBBB-ADE6EC57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3EC-3DC9-496F-A067-6609EBC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F9F-DACB-4FCD-80EC-A7E8C875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E9D-718F-4156-B32E-47B4A0A8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E29-6379-432B-90D7-666AD30E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1DE-77D2-41D0-85BD-FAEDBFD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5DC-9CC2-42BE-9CCD-46C975E1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2CC-F122-43A8-B532-04998165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E07-E91E-424D-93E1-57EBB7F8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1FA-4554-4F92-887F-1F08280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539-0E03-455C-9330-59B8838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777-DE5D-485B-956A-A5CD3D1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5A6C6-6034-4136-BEC4-C05B736C03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Друг —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для меня вс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й любв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— знаю, что Он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— за грех мой кровь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пас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 наполнил мне хва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му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, Он близок мне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лучимся нико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зи живой, как ветвь с лоз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в Нём, — знаю,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день, в небесны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и буду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у: «О Господь, Ты — 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37Z</dcterms:modified>
  <cp:revision>12</cp:revision>
  <dc:subject>Slavic hymnal Гимны веры христиан, hymn 586</dc:subject>
  <dc:title>Небесный Друг</dc:title>
</cp:coreProperties>
</file>