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8B3-71F4-4A8A-934C-482F7BB8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0F1-EF50-4277-B7A2-F1E103B0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993-CAA9-4B6A-928C-C57B07F3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B2B-DA24-4084-AA3F-914853C8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647-A938-47A8-86CC-24B7286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09E-8C2F-47E1-9580-4114BD41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78F-EC84-41D7-8139-1C7B0CAA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A2E-FD6F-41D6-A436-0664FC6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F21-4F73-4297-A20F-66F80E37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631-6B28-4E62-A0BF-084BD0E7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631-65C5-43AA-8D42-EA0C5F3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A4E-302D-4199-AD38-CFFDAAA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3F543-10A2-4FCE-8C68-31897E3500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irsty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Your Glory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’round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 we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upon the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sain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reig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19Z</dcterms:modified>
  <cp:revision>11</cp:revision>
  <dc:subject>The Source 2, song number 863</dc:subject>
  <dc:title>Let Your Glory Fall</dc:title>
</cp:coreProperties>
</file>