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83A-AE16-42C1-9BB0-41F0D2D5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D12-A649-45F6-8B35-A6CA831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6DE-3B65-419A-B49A-9DC826C1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DC6-C308-482D-9E43-4DBC1E0B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A6E-00DE-4314-8351-0A0519E9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0F6-D41F-4261-B91D-3ECD4B4A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FA5-1477-43D3-AA3C-86BFAF5A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EE9-B0FC-4429-A4CE-36C1EC9B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156-147A-4A60-812D-B70A50B3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7DF-E737-424B-AFC7-1781A29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127-48C0-4FEB-913C-8455B5D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CAA-6BDC-42F7-8D27-A935298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B9A2F-B4F2-40ED-AFEF-B393B6766A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hine for Him each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very way try to plea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home, at school, at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еркнущи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ит словом и д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to be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ind to all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ing how pleasant and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ttle one can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ю мне даст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как Он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еликих и м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, как Он здесь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sk Jesus to help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my heart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reflecting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ways shine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в эт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лого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благодать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if I but t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rving Him moment by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ive with Hi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м лучом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Ему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—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7:18Z</dcterms:modified>
  <cp:revision>12</cp:revision>
  <dc:subject>Slavic hymnal Гимны веры христиан, hymn 896</dc:subject>
  <dc:title>I’ll Be a Sunbeam (Jesus Wants Me for a Sunbeam) / Господь меня хочет сделать</dc:title>
</cp:coreProperties>
</file>