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2F3B-854B-42F4-B77D-6F3396381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38DE-012B-4522-BAE0-D7F052196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259E-18C5-4349-AA47-A32D34EF6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4015-4789-48D7-9FF0-F80065213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EB60-851B-4B19-A66F-303DD6B75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95B7-DE32-4958-A6B3-C959FAF48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8EFD-BF1E-4A5E-9757-592CECBEA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74E7-315A-4C93-BBC8-BC15DE900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3FC4-31B9-43CB-A364-B99D29CC7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943C-AFAD-4336-94FF-9C8E7F1CA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4870-882E-4FA0-A8B8-80E7825F7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6A6E-64B6-40C3-94A7-1FF3B91DA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7D3E4A-C7ED-4760-9D52-D735A577445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keep me near the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a precious fount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ee to all, a healing strea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lows from Calvary’s mount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2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У креста хочу стоя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креста хочу сто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зерцать душ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 Голгофы благо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 течёт рек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cross, in the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my glory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 my raptured soul shall f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st beyond the ri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креста, у кре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сть моя и сла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пасенья полно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блаженство пра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ar the cross, a trembling sou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ve and mercy found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the bright and Morning S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ed its beams around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креста меня наш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ть и си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везда святой люб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ь мой озари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cross, in the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my glory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 my raptured soul shall f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st beyond the ri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креста, у кре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сть моя и сла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пасенья полно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блаженство пра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ar the cross! O Lamb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ing its scenes before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lp me walk from day to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its shadows o’e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креста открылся м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ткий Агнец Бож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ивлёк меня к Се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л всего дорож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cross, in the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my glory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 my raptured soul shall f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st beyond the ri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креста, у кре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сть моя и сла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пасенья полно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блаженство пра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ar the cross I’ll watch and wa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ping, trusting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 I reach the golden str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beyond the ri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креста я буду ж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ерой и надежд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Бог велит прин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царство безмятеж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cross, in the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my glory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 my raptured soul shall f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st beyond the ri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креста, у кре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сть моя и сла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пасенья полно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блаженство пра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3:44Z</dcterms:modified>
  <cp:revision>13</cp:revision>
  <dc:subject>Slavic hymnal Гимны веры христиан, hymn 424</dc:subject>
  <dc:title>Near the Cross / У креста хочу стоять</dc:title>
</cp:coreProperties>
</file>