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026-D635-4A20-9A59-788A69D1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830-C00E-4462-A7F9-B4E1F11B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EBE-6DDC-4E8D-AC0F-59269FD7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948-787E-4C12-959D-A4E189FC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EE0-B1AE-4D1D-82F0-2ED9E890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98D-0BAC-4472-9E21-3C42707B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104-F2AA-4742-B78D-714213C8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5A9-D771-47B0-8761-0152948F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F0E-5A72-4C12-BB94-377549E9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BFA-DC7D-44DB-89E8-7244C4BD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7E1-B183-4749-BBBF-B7E8AE59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6AB-64D8-4FF7-B7DB-32198D3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C61FB-BBDD-4DEE-B8C8-514FF03F1B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сно Свій маяк Отец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вітлом засвіт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нам вогонь небес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берігати доруч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0  Ясно Свій маяк Отець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ті хвилі, гріх буш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душу затоп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орожній сам бід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треба п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оправ, мій брате, н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сердечний каганец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! на хвилях вітри буй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’ють друзів з кінця в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3:13Z</dcterms:modified>
  <cp:revision>12</cp:revision>
  <dc:subject>Slavic hymnal Гимны веры христиан, Ukrainian hymn 70</dc:subject>
  <dc:title>Ясно Свій маяк Отець наш</dc:title>
</cp:coreProperties>
</file>