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6C7-338D-4DFA-9D61-A870ACB5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C90-6D67-47E9-8386-B9AC6F12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304-5ADA-46F0-8599-49DEC224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4EF-F5DD-4ADF-BC63-B89B339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79D-36EF-4633-9133-1985E3D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FA8-7940-4B21-A12C-9849D94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192-CD75-4057-BFEF-4E500384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7D0-FAD7-47C8-B75A-4F37732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2CF-63D7-4E7B-AAB7-A5FB474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FA3-4F37-4C1A-9306-11DC186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4C8-852B-4DF1-AABC-D1A54D8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EC0-BA68-4E82-A43C-9E014F1A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E5C8-F6F0-4637-89E9-816BB90DE6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have strength to 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problems on life’s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pleasur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ill of God each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d’s grea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better under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eceive ab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ings at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learn God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us to know and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xpec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wait His coming,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6Z</dcterms:modified>
  <cp:revision>14</cp:revision>
  <dc:subject>Slavic hymnal Гимны веры христиан, hymn 453</dc:subject>
  <dc:title>If We Trust Implicitly in Jesus / Мы бодрей на жизненном пути пойдём</dc:title>
</cp:coreProperties>
</file>