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FCE-0E98-4477-A66E-3DD1DAC6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F2C-D594-42D2-BE88-0361E0EB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D3D-3B6A-44D8-9F5F-A7DDA8DF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D33-FB40-429C-9666-D096E0C1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4C6-BF23-4C8E-A6DB-B41A18C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841-22F8-41E2-9067-841A2A7C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E74-405C-4D20-A49F-E0542A06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7C3-210C-4CA8-A865-7AFC85E0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AB8-E271-4311-95D2-B901B024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171-7C68-4137-8174-37DA32E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F64-4EF4-4A06-9B8F-9D89D083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A0F-64C3-4A1E-BB98-271CA492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87FFD-C26C-496D-B631-C364D5CEE1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ыла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пас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л Христа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ил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жьим дор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святой 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ло мне р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красот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жизнь кипи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ась во мне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ки радостно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, на лес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торгом дышет гр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чера внушало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егодня не с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Христа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й и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 страхов и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радости дро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Себе меня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ов, навек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разл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— надежда и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зде отрад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е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дним лишь я с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знали там и 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6:02Z</dcterms:modified>
  <cp:revision>13</cp:revision>
  <dc:subject>Slavic hymnal Гимны веры христиан, hymn 856</dc:subject>
  <dc:title>Божью вечную любовь</dc:title>
</cp:coreProperties>
</file>