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E241-63B2-46CF-91FB-DD7F0FFB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44F-F0C3-442D-BEF6-4E443561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2677-CB24-4AAD-8F52-DF7CD1B8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AEB-706C-4362-83C4-8DD9F70C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8F73-5C40-4BD5-B20C-05C0215F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EB8-D916-41FB-81C6-DE04C9E5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6C7-2028-4D9A-A70A-CF2819C7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498-4EF7-440A-A975-D46A866E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8E8D-6AFF-498C-91DF-B3FE8020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448-5A4F-4345-903F-04E87DD4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1D7-24AE-46D4-B36D-7B3326EC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2CF-62C1-42AA-9EE3-3AEA1406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2FC2C-9944-4F66-8837-17E4C21A9AA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в небе Господа слав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достойную Богу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вечная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слава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вечная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слава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нгелы в н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ся с ангельским пением сл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оре искупленных, спасё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Господу, Богу Един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Спасителю славу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вечная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слава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 земле людей Церковь том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у стремится,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Жениху вл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ряди, Господи, вид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ста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Единому славу поёт, славу 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вечная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слава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, прославленный, Царств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Сы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Христос Господь в небе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, в небе нас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Господу, Богу Един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Спасителю, славу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вечная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слава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8:09Z</dcterms:modified>
  <cp:revision>12</cp:revision>
  <dc:subject>Slavic hymnal Гимны веры христиан, hymn 805</dc:subject>
  <dc:title>Ангелы в небе Господа славят</dc:title>
</cp:coreProperties>
</file>