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5FB-BC72-479F-AD2B-41EBAE77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7C0-25A2-4B01-A9F9-09ABFF17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56A-455D-4E96-B7F7-D39E12C0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A54-2E1B-4680-B4BF-96C287C4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72E-2ACE-4BB2-B02B-8D56FF4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20B-A3D5-4718-BE89-B518A749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A79-ABD2-42FD-B855-0A23FEAA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D62-72D3-4D9C-99C3-8EEB261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DDD-C988-46AB-88FF-F44AB482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115-AF13-4C08-A16C-091C35E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038-6750-459E-BC2F-4C45B537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F4C-6A28-4B28-AD46-137DD6D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031DB-D7C2-4592-9BA2-BE04E0A351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и зна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50Z</dcterms:modified>
  <cp:revision>14</cp:revision>
  <dc:subject>Slavic hymnal Гимны веры христиан, hymn 648</dc:subject>
  <dc:title>Люблю, мой Спаситель</dc:title>
</cp:coreProperties>
</file>