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520-F416-415A-9993-203E65D5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FCF-B3DA-4255-8386-02DA9880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822-1C38-45BF-8F3B-272B0F47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4D7-7227-4B30-8010-4366B91E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F855-3976-4A37-B89B-2A6EADE8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9EC9-C3C4-4554-AD85-5E05BD8E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4FB-61E4-4CA0-A4BE-4215A177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14E-AAD9-40E3-9E71-AA8F6C7F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5F2-1B62-4803-A92F-F2F51D34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D31-A1FD-4CAD-B799-24CDC3BC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3C5-1116-4BF4-B56B-1FB9DFA8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D6E-D0A0-4A31-8CEF-C4E50F01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3F83D-B9A4-459E-A8BE-1B61CECACD1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вы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м дарует жизнь в пол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ославляйте Его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Иисуса воспойте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вы 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открыл Он для всех для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ы пойте во вся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возвещайте вы 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вы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бедила Его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одом будьте на выс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иден миру издал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вы 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открыл Он для всех для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ы пойте во вся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о Нём,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спасеньи для все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исполнил завет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овершил Он в любви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вы 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открыл Он для всех для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ы пойте во вся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6:18Z</dcterms:modified>
  <cp:revision>12</cp:revision>
  <dc:subject>Slavic hymnal Гимны веры христиан, hymn 559</dc:subject>
  <dc:title>О, возвещайте вы о Христе</dc:title>
</cp:coreProperties>
</file>