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316-C194-4243-8288-7F9BF8E2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5AF-E84D-40D8-A3B5-7D7F6E7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C43-F65B-4B60-8999-323191E9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54C-3CEC-4345-89D4-49FAFA5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8A9-8801-48D5-A0CB-0C2A2DB3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BE4-0A0B-408D-9A63-16ED284C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F22-700F-4EEF-A1CD-D75AA942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DF6-2AE1-481E-A42B-EAC40D6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493-143D-4931-ADC6-5F21041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B7E-CD71-480B-BB9E-8452E27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869-A38D-4216-9C70-D2A23D2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847-9B9B-46EF-9B39-53B59F65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B982-A7CF-465E-9373-2912BDD067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Jesus, I love Thee; I know Thou art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 all the follies of sin I r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ious Redeemer, my Saviour art Th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и знаю — Ты 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, because Thou hast first lov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urchased my pardon on Calvary’s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 for wearing the thorns on Th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love Thee in life, I will love The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raise Thee as long as Thou len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brea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y when the death dew lies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ansions of glory and endless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ever adore Thee in heaven so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ing with the glittering crown 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6Z</dcterms:modified>
  <cp:revision>14</cp:revision>
  <dc:subject>Slavic hymnal Гимны веры христиан, hymn 648</dc:subject>
  <dc:title>My Jesus, I Love Thee / Люблю, мой Спаситель</dc:title>
</cp:coreProperties>
</file>