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A29-65DB-4583-9165-F432F9F1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56F-CC71-46A7-8D2E-966D6E0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768-FC26-4DD7-9F65-D3128E20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6F7-9E67-46FD-8D58-44D60DFB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231-B52A-42F7-9F09-7637EE71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3B3-3BCE-40FB-BE88-AF75D2C8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4D0-ED76-4BC2-A416-53345E8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48A-3ED3-40C8-A902-56D83916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F1A-F02E-4518-B8FD-F0C73CC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66C-6CE1-4BA2-AAFE-55D2A6F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39D-69F4-442C-8986-BFE06B54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5C0-3F9A-42B0-951A-5C31ED3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D51E0-AD6B-413F-BB7B-B359CB62F5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10Z</dcterms:modified>
  <cp:revision>14</cp:revision>
  <dc:subject>Slavic hymnal Гимны веры христиан, hymn 660</dc:subject>
  <dc:title>Я странник на земле</dc:title>
</cp:coreProperties>
</file>