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2141-216F-4147-B2A5-23EF48C5C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03CD-C7D0-4F40-904E-09A5725E5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E6AA-091A-4104-A783-F576A8264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54B4-28A7-45EE-8833-FD99BCCB6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ED11-CAA7-40B3-A494-2F307BCE5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344E-FE0A-4BEA-8D0A-A0CC0C1A6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4BF9-16AB-47B2-8C35-908423F84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0A94-9053-416A-A470-AFECF3DCF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8601-ADBC-4957-B831-9107CF842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E2E4-9305-45E1-9BA3-024326729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76F8-A455-480E-BB8F-6FA317290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64B6-E192-4359-8F59-F73AADD33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23823F-CBBB-458F-BFE5-EC5C5D9FA29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ly Spirit, rain down, rain d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h Comforter and Frie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w we need Your touch ag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ly Spirit, rain down, rain d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Your power f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Your voice be hea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me and change our heart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we stand on Your W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ly Spirit, rain d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745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Holy Spirit, Rain Dow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 eye has se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 ear has hea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 mind can k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at God has in st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 open up heav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pen it wid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ver Your churc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over our liv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ly Spirit, rain down, rain d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h Comforter and Frie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w we need Your touch ag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ly Spirit, rain down, rain d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Your power f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Your voice be hea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me and change our heart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we stand on Your W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ly Spirit, rain d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 2, Kevin Mayhew: Buxhall, Suffolk, England, 2001.  ISBN 9781840037241.
</dc:description>
  <cp:keywords>lyrics words praise worship songs</cp:keywords>
  <dc:language>en-US</dc:language>
  <cp:lastModifiedBy>John Zaitseff</cp:lastModifiedBy>
  <dcterms:modified xsi:type="dcterms:W3CDTF">2011-02-09T08:28:20Z</dcterms:modified>
  <cp:revision>11</cp:revision>
  <dc:subject>The Source 2, song number 745</dc:subject>
  <dc:title>Holy Spirit, Rain Down</dc:title>
</cp:coreProperties>
</file>