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056D-1979-45CB-B4D7-F1D0DE14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19D-C6D1-4C6E-B5BE-EA6F1E49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494-C16C-49B2-AD8F-FF8DFD8D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788-5957-4294-9201-479EB9D6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5C6-F707-42EE-940F-349CDD1F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E996-6162-46D6-A5FB-54CE3947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787-B186-4C31-90D0-8B44C6DA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239-3B63-422C-A389-C1B7B9F6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510-5A66-42D3-B631-D7223536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A88-E5F0-4634-BA35-875D26DE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23F8-D735-4BAD-ADC9-BA7842BD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8152-A3CB-42EF-8098-F529F50D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4692B-0DD4-49B1-82B1-B4B9E7A197E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we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bright angel feet have tr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crystal tide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ing by the throne of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6   Чи зустрінемось з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яті усі ж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окійною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чистії теч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margin of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ing up its silver s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walk and worship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happy golden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прозорою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нце вічне там сі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співаєм там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оміністім світлі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we reach the shining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y we every burden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our spirits will del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ovide a robe and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між нами і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в смертельний темний р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ин крови ці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 спасіння нам відкр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we’ll reach the shining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our pilgrimage will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our happy hearts will qu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melody of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будем над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шлях наш ми про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стрінемось з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Творця ми рай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8:59Z</dcterms:modified>
  <cp:revision>12</cp:revision>
  <dc:subject>Slavic hymnal Гимны веры христиан, Ukrainian hymn 66</dc:subject>
  <dc:title>Shall We Gather at the River? / Чи зустрінемось з тобою</dc:title>
</cp:coreProperties>
</file>