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6A1-631D-4CE7-B08D-2FB66583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B39-BFF3-41EE-B060-F508C93E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48C-635B-4496-87B9-F22694F9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441-FCC9-444E-BBD1-3CF12352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B18-58A1-46D1-A32B-2ECBBBC1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533-FED9-47DA-BC62-5ACBA2E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2FA-61DA-49BF-A6F4-98E5E98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282-FF8F-4981-B799-4763AD6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FDC-D6F2-4ADC-A2A6-EB87D0C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B01-E3B6-4098-8322-FE91457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814-1793-417B-AC3E-933D469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413-50DC-47ED-9655-FC7AC7C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D4422-019A-40E4-B769-ECE5DE0A9E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placed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ounds in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 and His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raded my p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hare in His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lory that on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urst from His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3   I Have Placed All My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at the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thief nailed besid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abandoned my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ise and the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is fragile,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aknes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are to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scandalous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blood cleanses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oever will call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or die, here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 as they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His beauti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a torturer’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n altar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worst w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best that God d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unspeakable 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gaze of unstoppable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ux of it all there He ha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urest and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k the force of our c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’s vict’ry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dered into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ither we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e stumble and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isdom of a suffering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made fools of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ladly admit that I 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ried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old earth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seed in the wi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for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at garden of tom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den ris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aradise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is body and never wi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finish all H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 h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32Z</dcterms:modified>
  <cp:revision>12</cp:revision>
  <dc:subject>The Source 4, song number 1893</dc:subject>
  <dc:title>I Have Placed All My Hope (Crucified Man)</dc:title>
</cp:coreProperties>
</file>