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D6D-36D3-4B60-9EBC-9A10D4FD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AA0-FA78-4B32-8F86-B7B020C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24A-DA43-48BD-AC77-FD2A3C4E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127-468F-4753-8295-21DE33B8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4C6-3321-4A03-91DD-678CDFD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056-16F9-4CA9-B75A-49E45F4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F0B-75EF-408A-A8CC-1234E5C5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708-F64D-48DE-82E8-1349D22D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DCE-C5FA-4742-8CAC-10DDE23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8D2-9206-4161-A364-F4101A3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0A9-B97F-4D96-AD47-F0605F03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8AC-2C38-4AA6-8865-ECBC3D8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1EF8-2B7B-4EA4-ABC3-AF6B9E40B6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Господне семя с раннею зарё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и в знойный полдень, не боясь ж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даст жатвы время, сбора урож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на солнцепёке, сей в тенистом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напрасны будут верности тр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Господней воле день придёт чуде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лачем отправляясь на поля Христ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ом ободримся, мы там не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чатся рыданья, день увидим но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0Z</dcterms:modified>
  <cp:revision>14</cp:revision>
  <dc:subject>Slavic hymnal Гимны веры христиан, hymn 540</dc:subject>
  <dc:title>Bringing in the Sheaves / Сей Господне семя</dc:title>
</cp:coreProperties>
</file>