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BB8-CA99-4122-AB0C-F4A3C4F4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36E-16D0-48B3-849E-0B6FBF73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8C9-6646-4F70-BDB3-F867E383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490-78DF-4941-BA2A-EF70394C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7E2-BE84-435F-B784-FCF265E7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90E-BAD2-461C-86DB-F2B13481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49C-69BE-4ADD-B0BE-5DD4B039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580-C56B-45C5-BAC8-B65FE79C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D5F-C485-4CF2-A9EE-6D09D00D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5EA-5AA3-4691-86F9-E10C5331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4FC-C018-41A0-ACB1-66DA297C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909-BF03-44C7-9E35-A5409801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79B34-EF6E-44B7-92D8-893535D1D4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а там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ём значение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венное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потерянную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чим начатое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йны сможем у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емное там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мнело всё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еха не было ни в ч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я обрывалась вдруг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небесной мы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нает всё, Он держит клю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ноя нет, ни грозных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и мир, там всё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8:55Z</dcterms:modified>
  <cp:revision>13</cp:revision>
  <dc:subject>Slavic hymnal Гимны веры христиан, hymn 667</dc:subject>
  <dc:title>Когда-то в свете без теней</dc:title>
</cp:coreProperties>
</file>