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A9E-6B63-4AEA-8497-988A023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34C-1D3F-4BA9-B35C-8D68460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10D-48E4-415E-89A7-B805CADC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3E2-8EB2-49EB-A09D-6163EDBC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648-F030-4C07-8263-80C1AC1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892-F272-46AC-A349-56F6E969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0AC-ABD1-4ED1-A940-B463B365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EBA-290A-4352-B846-16A593C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F72-9105-4106-B3F3-354E8926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B4A-2379-469A-8D50-8E47CA6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44A-33F8-4FB5-B9F0-6C538A3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E15-BAF5-4D22-B303-04475BF3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292C4-6C78-4888-A8A1-ECC1459B03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единственный был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ый день изо всех в мире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единственный б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грешной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, как преступник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ла вся внутренность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ерпимым, палящим ог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скликнул Иису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Его возвратился к Отц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помнить, что мы — это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й жертвы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41Z</dcterms:modified>
  <cp:revision>12</cp:revision>
  <dc:subject>Slavic hymnal Гимны веры христиан, hymn 283</dc:subject>
  <dc:title>То единственный был на земле</dc:title>
</cp:coreProperties>
</file>