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7322-5630-436D-95DA-7A2C50E8C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9616-BC1B-490F-AB18-6C6F8FA2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D6AB-734A-45E2-8F1E-BA196F0E8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31E3-A86E-4A7E-8D68-BC7FC82C2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3FCD-409F-4C0D-BAFF-EE219F0C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A96F-982C-4122-B1CA-0651E7DF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A8F7-CEB8-493A-A102-C9E223E6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B35A-4F94-45EF-969C-F8699F71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363D-1E5C-46DB-90F4-6C94DCB0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152A-EDC1-4D9D-A96D-186691D2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9722-E598-4675-A997-480363BC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4BC0-A818-44FA-AA6D-C05008D1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20244F-28AF-4381-BBA8-16108B4926D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highest of he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depths of the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eation’s reve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797   От небесных высо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небесных выс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о бездны глуб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ье Сво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 твореньи я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comparable, unchange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see the depths of m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ou love me the s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amazing,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ествен, могуществ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ящий сердце моё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юбивший мен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изумительны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colours of 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fragrance of sp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’ry creature u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ong that it s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exclaim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осенних лис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цветенья вес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воренье по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ят Бога о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лав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describable, uncontain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placed the stars in the sk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ou know them by n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amazing,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дивительный, восхититель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ывел звёзды на неб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дал им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изумительны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powerful, untameab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westruck, we fall to our kn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we humbly proclai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amazing,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ествен, могуществ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реклоняясь хот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тить всей земл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изумителен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has told ev’ry lightning bo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it should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seen heavenly storeho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aden with s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вет молнии в н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тавил сверк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есных хранилищ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ржит снег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imagined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ives source to its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 conceals it to bring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olness of n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ne can fath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творил Он нам сол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л ему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вечерней прохла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ляет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лав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describable, uncontain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placed the stars in the sk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ou know them by n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amazing,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дивительный, восхититель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ывел звёзды на неб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дал им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изумительны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powerful, untameab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westruck, we fall to our kn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we humbly proclai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amazing,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ествен, могуществ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реклоняясь хот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тить всей земл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изумителен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describable, uncontain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placed the stars in the sk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ou know them by n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amazing,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 2-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дивительный, восхититель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ывел звёзды на неб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дал им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изумительны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3T09:34:48Z</dcterms:modified>
  <cp:revision>11</cp:revision>
  <dc:subject>The Source 4, song number 1797 in Russian</dc:subject>
  <dc:title>От небесных высот (Ты изумительный Бог) / From the Highest of Heights (Indescribable)</dc:title>
</cp:coreProperties>
</file>