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1AFE-5010-454A-BA68-C086FA7D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5CD-601E-4CEE-A4CA-D0628D57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6C9-A3F6-47A4-AE6D-93414CC5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3A7C-081D-47EC-B005-4A963DF7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21A-C5E3-4D43-83BF-242F0D50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98E-6225-4FCA-82B4-FAC12286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C70D-7570-4640-850A-23DAF0EE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552-F771-4A1C-AF08-30DC9AE0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A16C-951D-4140-88B3-C9A7BF48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D8E2-0B95-4AE1-971F-9712BEE2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0D25-1B72-4C0D-B7D5-0A1B2A81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692-86C9-4E82-B0A3-F529C3DB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5B4DF-E9EA-4A90-AEA7-1EC7E8A18D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im who sits on the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unto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im who sits on the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unto the La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blessing and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onour and power for e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blessing and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onour and power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22   To Him Who Sit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2:20Z</dcterms:modified>
  <cp:revision>11</cp:revision>
  <dc:subject>The Source 2, song number 1022</dc:subject>
  <dc:title>To Him Who Sits On the Throne</dc:title>
</cp:coreProperties>
</file>