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251-37F7-423C-A338-02BBE39B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006-1187-466C-8A8D-0B3567E0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B29-F9BA-4FF7-BFB6-023307AB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E93-DC4B-43F5-BEC0-9DA74C1E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848-BB9E-447E-B453-163CC098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703-C7D5-4E8F-A6ED-27A303CD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F0B-3772-41E7-8C08-EE91FE04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1B7-797C-448F-8C5B-08024763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0003-3FDE-466D-9432-8F334001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A46-7FCE-4B69-BAEB-FE7D62B7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8E3-1D87-40CC-B693-EB3A2482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2D7-2D8F-4511-B6B8-73961FA6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F9FBF-9CAC-430E-A66D-E5FF27BF1D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Saviour, glorious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mmanuel,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ed Redeemer, Living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9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Name Above All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3:26Z</dcterms:modified>
  <cp:revision>9</cp:revision>
  <dc:subject>The Source, song number 291</dc:subject>
  <dc:title>Jesus, Name Above All Names</dc:title>
</cp:coreProperties>
</file>