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815-88D0-40C8-A154-4308F84D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8F7-1D5C-46D8-A6C4-A8B50B08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3A6-E36F-401A-954D-3D24A430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55C-FA95-4F8F-A86A-59A4E5C0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786E-2633-4105-9D3D-60A6C974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19A0-7492-42F1-AADD-0D491C73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CA3A-524A-4A33-B26D-194CF5EB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382-DD2E-4E30-BDC3-242D8AF9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CEC3-8AEA-438E-AEFB-9395AF24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346B-EAEF-4E39-8F2A-8E598499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236-8D7C-4EA7-9EA6-680BAF89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045-7BB3-47EB-B309-20A1206B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7CC71-54F3-4F92-8130-3AA61DE1E8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od is an awesom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reigns from heaven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wisdom, pow’r and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repeat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 Бог — всемогущ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— всемогущий цар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аве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чудный, любя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— всемогущ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(повторить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8:40Z</dcterms:modified>
  <cp:revision>11</cp:revision>
  <dc:subject>The Source, song number 418 in Russian</dc:subject>
  <dc:title>Наш Бог — всемогущий / Our God is an Awesome God (Awesome God)</dc:title>
</cp:coreProperties>
</file>