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14</a:t>
            </a:r>
            <a:r>
              <a:rPr b="1" lang="ru-RU" sz="3600" spc="-1" strike="noStrike">
                <a:solidFill>
                  <a:srgbClr val="ffffff"/>
                </a:solidFill>
                <a:latin typeface="Verdana"/>
              </a:rPr>
              <a:t>	</a:t>
            </a:r>
            <a:r>
              <a:rPr b="1" lang="ru-RU" sz="3600" spc="-1" strike="noStrike">
                <a:solidFill>
                  <a:srgbClr val="ffffff"/>
                </a:solidFill>
                <a:latin typeface="Verdana"/>
              </a:rPr>
              <a:t>Сердцем воспряну</a:t>
            </a:r>
            <a:endParaRPr b="0" lang="en-US" sz="3600" spc="-1" strike="noStrike">
              <a:solidFill>
                <a:srgbClr val="000000"/>
              </a:solidFill>
              <a:latin typeface="Verdana"/>
            </a:endParaRPr>
          </a:p>
        </p:txBody>
      </p:sp>
      <p:sp>
        <p:nvSpPr>
          <p:cNvPr id="39"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Сердцем воспряну, петь не престан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у Тому, Кто нас искуп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Цепи порвал Он, Дух Свой нам дал О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рой в Иисуса мир подар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лю Его, свободен, спас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й Покровитель, Свет жизни О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орби не бойся, в Нём лишь покой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оро конец борьбе.</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Вечны высоты! Прочь, все забо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р не имеет части во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свету стремлюся, тьмы не бою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частлив иду к небесной стра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как ничтожно всё в мире с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Боге лишь счастье жизни найд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ыше земного, света ино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блеск мы зрим уж здесь.</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Здесь всё мгновенно, там неизмен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двери рая Он мне откры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лаву войду я, Друга узрю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то жизнь Свою за нас полож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илы небес там вечно пред Н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оро и я навек буду с Н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сню хваленья, песню спас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чно там буду петь.</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06:02:30Z</dcterms:modified>
  <cp:revision>3</cp:revision>
  <dc:subject>Slavic hymnal Гимны веры христиан, hymn 114</dc:subject>
  <dc:title>Сердцем воспряну, петь не престану</dc:title>
</cp:coreProperties>
</file>