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E3A-3421-4586-BE43-AA64BA6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5B7-4369-4B18-A7D5-96EB557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DD1-C7BD-490C-A6AA-EB732DF5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9D4-546C-48E9-B689-D13C1023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AD5-3BFB-4DD8-AE02-D8414826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432-5C32-40C0-BCCA-4CF0CF5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55D-1F68-47D3-BE77-490AF94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B48-4EF5-4EC8-AFEE-6A6474F1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459-4606-4F60-BCE0-5FE5781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7A-7D12-49BC-8612-975F9E0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0E8-40C3-493A-BB18-7CF55FC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054-DDF1-464C-8075-A7F030A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644C-D469-434C-8F2E-345911E122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29Z</dcterms:modified>
  <cp:revision>12</cp:revision>
  <dc:subject>Slavic hymnal Гимны веры христиан, hymn 439</dc:subject>
  <dc:title>В свете небесном</dc:title>
</cp:coreProperties>
</file>