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EE4-1837-4E46-8609-0FB4B72B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A21-2761-4A42-B9B6-B157246E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636-85E3-4746-BAEC-2A46DCE4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BFA-937F-4E3D-8E67-043A8336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C9F-BE07-4B9A-A458-5140E09E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2C9-EB11-4FDD-AC9D-6E5361BB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FCD-B874-4919-B55F-A6D23DAB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E2E-9746-4B66-B008-4A20BC34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10C-B0C6-4777-8973-9B1CF8E5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885-5034-402B-A37C-DE761F3A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403-B3DC-4647-AFD4-2499EB8A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B88-5180-43C6-AC6D-7E36535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FDF80-5ED7-4F81-AE9A-E873412D0F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have longed for sweet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for faith to increa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earnestly, fervently pray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you cannot have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be perfectly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til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покое взд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покое вздыхал, больше веры же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рдечно, усердно про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забыл, что лишь тот мир и радость на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здесь всё на алтарь возлож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walk with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light of His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contentment alw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must do His sweet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be free from all 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e altar your all you must 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с Господом жить, в свете слова ход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дце Духа иметь вечный 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ужно волю Его ставить выш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бя возложить на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e never can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the Lord will best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the blessings for which we have pray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our body and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oth fully contro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ur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их тайн не поймём, в Бож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ой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ударом постигнет у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зренье и слух, если тело и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озложим на Божий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can tell all the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send fr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ow happy our hearts will be mad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the fellowship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share at His fe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пишет любовь, кто оценит пок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измерит источники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даёт Бог тому, кто послушен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себя на алтарь возлож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0Z</dcterms:modified>
  <cp:revision>14</cp:revision>
  <dc:subject>Slavic hymnal Гимны веры христиан, hymn 497</dc:subject>
  <dc:title>Is Your All on the Altar? / О покое вздыхал</dc:title>
</cp:coreProperties>
</file>