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A87-DCE0-43B5-B906-A57C6E77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593-B89B-4A78-8F15-B1991856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C16-F4D1-4423-BAE5-3BA15D67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CFC-A261-4CC6-A5E9-01676258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650-6149-4791-AEF9-94D39CA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B48-02BD-463D-BE8B-41A1817C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EA2-392C-465C-9CA4-7BC03066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A7C-3D04-4AB4-A0D8-1903BDF3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AE2-C4B7-4C5E-99AC-5D2582E7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374-EA16-44E5-85D7-3101A43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0CC-3A2D-40B3-96AD-F7A517A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21E-FF48-4055-B4B6-CBE8033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E220B-E880-4CA0-8694-4228D5A775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валюсь кресто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ходит, он 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учах Господ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золота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житейская ли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ь тяжёлый гн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Христов терпенью 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м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валюсь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ль вешне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цветёт кругом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креста любовь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яет радость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печаль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свящ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ердечный, веры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навек д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29Z</dcterms:modified>
  <cp:revision>12</cp:revision>
  <dc:subject>Slavic hymnal Гимны веры христиан, hymn 864</dc:subject>
  <dc:title>Я хвалюсь крестом Христовым</dc:title>
</cp:coreProperties>
</file>