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68F4-99E1-4DBF-AD02-57AF0730A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20D1-A032-48D6-A420-4846486F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1412-5CDF-46D2-891D-966641553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E0CE-424C-4353-AA0C-88C46EFF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2633-4758-461A-9149-1B3C8C3A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F4D2-C1A3-4FF6-868F-2D078293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3435-13B4-4D50-B88F-59955AAD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24BA-7099-40B4-83F9-BCA55A91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E474-671C-4B56-A8A9-0A8E2E8C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FA0B-4842-426A-9049-ABBCB9BE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D249-FEA6-4534-B423-66E6743F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1A7E-B1B7-4858-A45E-C2DC75AA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1AEF4-96E4-477D-8072-79D3AA60972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ли Он был должен н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крест за всех люд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каждому назначен кре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начен крест и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ы святые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я тернисты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жутких зрелищ их оч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торгом дышет гр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дин ли Он был долж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, сгибаясь под кре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в чужой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едёт в небес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есть венец и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святое имя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осторгом призо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сложу к Его ног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Ним склоню гла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тяжкий крест, а там ―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часто бури в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борьбе придёт ко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войду в по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1:49Z</dcterms:modified>
  <cp:revision>12</cp:revision>
  <dc:subject>Slavic hymnal Гимны веры христиан, hymn 811</dc:subject>
  <dc:title>Один ли Он был должен несть?</dc:title>
</cp:coreProperties>
</file>