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E71-B014-4551-9939-2653A10F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8D6-91A2-485E-9A46-29886071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975-0E38-4B26-BA5D-66911FD0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AC6-0B9E-4395-B1A0-713F6B52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74B-8F99-4A78-AEF1-779798B2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799-DEED-4813-8DBF-DE51D441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620-C18A-4721-87C4-BC81E1E1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5B7-E276-472F-8E43-CEA9C9F4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4D1-923F-426A-8E82-E0F6B0B7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48C-6CBD-45A7-A29A-6535D8CB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AD6-9C9E-4942-A57B-3A235E58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E55-5E0D-49F1-AF52-D760C240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171DC-E7F2-4C92-81A7-A5DD0BD2DD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ойдём во дв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ойдём во д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дарностью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рата с ликованьем на у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: сотворил Господь се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м будем радостны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довал меня, возрадо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: Бог радуе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довал меня, возрадо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: Бог радуе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nter His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anksgiving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nter His courts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ay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6:01Z</dcterms:modified>
  <cp:revision>12</cp:revision>
  <dc:subject>The Source, song number 262 in Russian</dc:subject>
  <dc:title>Мы войдём во дворы / I Will Enter His Gates (He Has Made Me Glad)</dc:title>
</cp:coreProperties>
</file>