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C1C-8B02-48B1-9EA7-D8F9FDEA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CEF-2C60-4349-9402-0301E5F9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F07-D97B-48EB-BCBF-7E5020CF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477-90E0-48E8-8FCD-FFE77127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5F0-EE89-479F-9AAC-6C8A06B7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7D8-F103-40E4-84C8-9A72CD35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FBD-A54D-432D-B3D4-26CBD74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895-4520-48B1-B984-A73F993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071-9469-42E7-A17F-FDE4005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60D-5D60-4CD4-9B64-6C0B4FF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702-7780-4B16-B5FE-3D6E37F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66B-2F7E-4DC2-A09C-87BB59B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87759-D716-4B54-B362-A625D51D2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указан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тут 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ипов ку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овьи зар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аскают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акалов 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лит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охлады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алящий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жёт и ночь, и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иш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ремнист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осясь на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реди лу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шумок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амням хол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ра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треч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крови сл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-то шёл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орьбы 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ой мгле со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уров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дали блес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хоть вихрь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30Z</dcterms:modified>
  <cp:revision>12</cp:revision>
  <dc:subject>Slavic hymnal Гимны веры христиан, hymn 449</dc:subject>
  <dc:title>К неземной стране</dc:title>
</cp:coreProperties>
</file>