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38F-B148-4526-B8CA-FE54D32E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ACC-3907-4B90-8421-7A0693B4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1A56-F0A4-4241-A520-3B46AFF2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1A5-5860-4A0C-8C87-FDF5AC64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0335-33DA-4BDC-8D9F-18A6800B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E11-1A7C-4139-BF94-98883A6B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9B2B-1A23-4B13-B363-DBBD59AD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7C1-84FF-4D90-89E1-6F22A64D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F88-2583-4210-AD66-D4993B85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218-852E-40B9-85CC-38ED2837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544-C432-43A7-A3DF-08954785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1D8-758B-4C9E-81A0-6CC1037F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65E57-E22A-479A-A560-EE055196A4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пришла с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ь Всевышнего хва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небо и зем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 Господь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 наш славный Царь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, скажи, где твоё ж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Он, чтоб жизнь н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д не страшен нам ни м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ый подвиг соверш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врагов унизил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, Владыке не меш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крыл всем людям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 крыльях мы ле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свыше, вслед за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еть с Ним, с Ним о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терпеть, с Ним вечн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8:08Z</dcterms:modified>
  <cp:revision>12</cp:revision>
  <dc:subject>Slavic hymnal Гимны веры христиан, hymn 291</dc:subject>
  <dc:title>Наш Господь Христос воскрес</dc:title>
</cp:coreProperties>
</file>