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6</a:t>
            </a:r>
            <a:r>
              <a:rPr b="1" lang="ru-RU" sz="3600" spc="-1" strike="noStrike">
                <a:solidFill>
                  <a:srgbClr val="ffffff"/>
                </a:solidFill>
                <a:latin typeface="Verdana"/>
              </a:rPr>
              <a:t>	</a:t>
            </a:r>
            <a:r>
              <a:rPr b="1" lang="ru-RU" sz="3600" spc="-1" strike="noStrike">
                <a:solidFill>
                  <a:srgbClr val="ffffff"/>
                </a:solidFill>
                <a:latin typeface="Verdana"/>
              </a:rPr>
              <a:t>Ты достоин</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worthy, You are worth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worthy,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receive glory, glory and honour,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lory and honour and power.</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достоин, Ты досто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достоин,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славу, славу и си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у и силу и чес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64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or You have crea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ve all things crea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have created all th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nd for Your pleasure they are crea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worthy, O Lord!</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бо Ты сотворил, сотворил Ты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бо Ты, Господь, сотво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ля Своей славы Ты сотворил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достоин, Господ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1:48Z</dcterms:modified>
  <cp:revision>4</cp:revision>
  <dc:subject>Slavic hymnal Гимны веры христиан, chorus 16</dc:subject>
  <dc:title>You Are Worthy / Ты достоин</dc:title>
</cp:coreProperties>
</file>