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9F5B-5FB2-4BB3-9869-2CA810FF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BD4A-4730-4C6A-AD9C-729061B2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4553-558D-44AB-9A6E-191AE439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764-7C07-4359-B78E-7A00C79C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BA77-8026-4DBD-B462-CD6BE66B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FC41-729C-4D61-B21A-44EA7933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9D08-B64E-4F75-90F0-E9BE2B45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4B98-35E5-4E64-BB01-E82C8521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2F44-84B4-42D3-8118-70E9C957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CF55-E574-4559-963E-8470FEAA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BB2-C132-4D50-AEAE-5A8611CF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33C-D904-46ED-90D8-5563E19B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44814-0791-496B-B993-1A05344BD4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круг престола пред Творц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ы детей сто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с восторженным лиц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ую песнь твердя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женным лицом (лицо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ую песнь твердят (твердя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круг прест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сех детей туда собр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вёл их в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чудной песне соче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люток голо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женным лицом (лицо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ую песнь твердят (твердя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исус, Который с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ю смертью 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в небе место то при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ангелов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женным лицом (лицо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ую песнь твердят (твердя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ли Господа 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и земные д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сильней любить мог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зял их от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женным лицом (лицо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ую песнь твердят (твердя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6:48Z</dcterms:modified>
  <cp:revision>12</cp:revision>
  <dc:subject>Slavic hymnal Гимны веры христиан, hymn 763</dc:subject>
  <dc:title>Вокруг престола пред Творцом</dc:title>
</cp:coreProperties>
</file>