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1868-81FE-4E8D-AF9A-C81E64B0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B765-A474-4D7F-B377-9653FA05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4E16-C1E4-4A34-AABA-448E93B4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C974-AD3B-47B9-8237-D1DA2246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476F-C259-4747-9803-8D695DCA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2910-C54E-41C0-86FF-96CC80F7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EA0A-53AE-4D0F-9D57-FACBC642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F46C-3209-472A-8158-7D6F59E4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231B-A121-4036-8441-35B3968C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BDDC-BAA7-4AB8-9CA8-A798B25B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333D-E0C4-4DFB-8280-AE49F2B9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4423-2FE7-45C8-ADA9-F90F2A11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182C8-E919-4D89-9150-51DC01019AE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й, куди піду ще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мені шукать спас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знайде душа м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ій для свого сумлін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різь по світі я сход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 радості шукал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астя світ не подар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ю ще сумніше ста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3   Ой, куди піду ще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людей більш не пі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авди, щастя в них шука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 мій, до Тебе 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з Тобою пробува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у Тебе Од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Є утомленим спас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д горя я св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айду ще звільн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прийми, прийми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 правди і любов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гріховне все м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життя почати но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1:15Z</dcterms:modified>
  <cp:revision>14</cp:revision>
  <dc:subject>Slavic hymnal Гимны веры христиан, Ukrainian hymn 53</dc:subject>
  <dc:title>Ой, куди піду ще я</dc:title>
</cp:coreProperties>
</file>