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796-947F-4DF0-A558-076A7E1F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CCA-D02C-481B-93B0-2A8AEF48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A12-2003-4FEE-9EF3-10DD06A9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D0E-0D89-4E73-B4DE-8B9B64E0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F3A-5F83-480F-B8A1-1E1E235F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F5B-2593-407D-9F5C-163935C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FD9-89DD-421B-B4BE-0FCAD8E4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4ED-90BC-4EEC-AB7D-2A39730A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CBC-B131-48D6-9504-384BE179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B9D-A145-4C2E-955D-7FFB00D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A86-A675-4EFF-9FFD-F34546C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DF3-61AD-43D3-AE24-3802142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67D2D-66E0-4A9B-806B-DFA6808662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бедимое нам дано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нений его воз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удел приобрёл Себе 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победу даруе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победимое нам дано зна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йдем за стан ко Христу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ши наш крест, Его смерть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традали мы с Ним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 во славе восцарствуем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носим бесчестие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поведывать имя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мы глядим с упова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хвалой Его наш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овал нам державн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Спаситель врага побе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Он и в нас совершает поб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вечного Господ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39Z</dcterms:modified>
  <cp:revision>12</cp:revision>
  <dc:subject>Slavic hymnal Гимны веры христиан, hymn 496</dc:subject>
  <dc:title>Непобедимое нам дано знамя</dc:title>
</cp:coreProperties>
</file>