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7CE-BEBA-41B4-B86A-8FBCAB7A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2B5-636F-46D9-805B-69AE2AE2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07E-DE43-48CC-B1E6-E6755F32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174-23BD-41FA-9F03-5C06CEAF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DCF-3CCD-418D-B695-7D666713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B20-2801-4EF4-8BC7-D35F7EE5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39A-B205-484C-9760-DFDAF0DD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DD7-BA3D-48C0-B913-0844803F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88E-691E-4AA3-A0CD-E1621484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B49-150D-460B-9266-EB9E321A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96E-A4BF-4F60-B1EE-40FF5338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C60-46E8-4BCF-995F-1DA4166F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9C2D0-274B-4C18-B94F-C52F40B800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ты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траданья, скорби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у призы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Иисусом всюду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стигну вскоре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престолом Бога в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уж вскоре взя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7:00Z</dcterms:modified>
  <cp:revision>13</cp:revision>
  <dc:subject>Slavic hymnal Гимны веры христиан, hymn 459</dc:subject>
  <dc:title>Слышу призыв Иисуса</dc:title>
</cp:coreProperties>
</file>