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3356-0040-4DB4-B8B9-2F92720BB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EC18-EA4A-48BC-8C5C-D6204589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2B41-4E29-442A-8AC3-82B2E4380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DA27-3DE1-407A-B6E8-5C5A973B3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C717-B1E8-4377-B1F8-4EFFDA28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C248-FCC3-4A52-80CB-9BF30407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E2B6-E7C7-4F23-B970-BBC000FB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476B-20C9-44EA-84EF-FBF386B0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8F1A-CA92-4A88-81FC-613A9899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07C3-C52B-4DC1-A7F4-1E8B975C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D686-AD55-4FC4-BBA2-BCA458C1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18C6-DF85-4917-868A-6E8C39FC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97F00E-2555-4705-93B8-64328685042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let me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much I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e sp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Your mercy and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let me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shadow of Your beau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e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face to 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850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Just Let Me S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earth will sh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Your word goes f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heav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 tremble and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let me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much I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Lord and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let me h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finest whis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You g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ll m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t me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power and Your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e f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Spirit’s fl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e find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des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il this s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holy 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am f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pletely surrend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Lord and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let me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much I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my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ong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I am ca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passion of kn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endless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found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depth of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orgiveness f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c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child of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makes me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much I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Lord and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6:32Z</dcterms:modified>
  <cp:revision>11</cp:revision>
  <dc:subject>The Source 2, song number 850</dc:subject>
  <dc:title>Just Let Me Say</dc:title>
</cp:coreProperties>
</file>