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a:t>
            </a:r>
            <a:r>
              <a:rPr b="1" lang="ru-RU" sz="3600" spc="-1" strike="noStrike">
                <a:solidFill>
                  <a:srgbClr val="ffffff"/>
                </a:solidFill>
                <a:latin typeface="Verdana"/>
              </a:rPr>
              <a:t>	</a:t>
            </a:r>
            <a:r>
              <a:rPr b="1" lang="ru-RU" sz="3600" spc="-1" strike="noStrike">
                <a:solidFill>
                  <a:srgbClr val="ffffff"/>
                </a:solidFill>
                <a:latin typeface="Verdana"/>
              </a:rPr>
              <a:t>Благословений поток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ть обещал нам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ет в те дни изоль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а на всякую пло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оживляют вокр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место бесплодной пусты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явятся рощи и л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шли также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вы кругом засыха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лага нужна всем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дай нам ско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ыне, когда мы взыва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на нас Ты пов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1:38Z</dcterms:modified>
  <cp:revision>3</cp:revision>
  <dc:subject>Slavic hymnal Гимны веры христиан, hymn 11</dc:subject>
  <dc:title>Благословений потоки</dc:title>
</cp:coreProperties>
</file>