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B0F-1FE6-4C22-833F-B02F34D8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8767-6EFA-42F0-97D3-C1100B75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9C8-8A7A-4742-B66D-6AA9916C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18B-664F-4D3B-B994-DBB23782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4A4-5938-4E3A-B1BF-7BA99B7C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4713-6D8E-401D-A991-F80A6049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9480-8425-4819-97D0-3E6AD463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70E-F0A3-4A3F-AB29-BCA409C2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F73-94C9-44AA-8BDF-93A51AA7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A07D-A1AB-4CA8-AC62-C595EF09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566-5F1C-4C3C-887F-424F6FD4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7626-095E-422E-A7AD-7CE81845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67F55-50C5-4EAC-BE67-4CD349AA4E5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a wonderfu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my life has been wrou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light in my sou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which long I have sou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7   Як чудесно змінило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чудесно змінилося моє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маю спокій, за котрим я ш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ceased from my wand’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going astr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y sins, which were man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all washed a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ишив мандрівни і блукання мо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гріхи всі мої, змиті з моєї душ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possessed of a h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is steadfast and 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 dark clouds of dou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my pathway obsc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дію одержав тверду і пев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більше не маю вагань, ні страх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light in the val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death now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gates of the City beyond I can s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долині смерті, є світло для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є певний, що Він є зі мною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go there to dwell in that City, I kn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’m happy, so happy, as onward I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небесний дім йду, де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де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я вбачу Ісуса лицем у л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1:36Z</dcterms:modified>
  <cp:revision>13</cp:revision>
  <dc:subject>Slavic hymnal Гимны веры христиан, Ukrainian hymn 37</dc:subject>
  <dc:title>Since Jesus Came Into My Heart / Як чудесно змінилося моє життя</dc:title>
</cp:coreProperties>
</file>