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FFB-2DFA-4A9F-A8F9-7AD077A7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91C-C2F7-45B3-9659-20F1BB89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B1B-63E5-4FA8-92CD-3156FE58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942-0BFD-4989-BCA5-5A0FD74C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62B-287F-484D-B44D-87FFF273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BD7-72C7-44EA-8D7E-818564D6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1F3-1DB1-4C49-AF61-6588A79C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BAA-7B2E-4DD6-9FF6-D4AE4312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332-AA8B-40C4-B764-B8F82C70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686-3BEE-46EC-83B9-E9FA1698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AAF-5625-49B9-A172-D3C587CC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907-5BA3-44BE-BB35-7E10F3AC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C09E3-C879-4F9E-AA69-3FF666B86E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бя, о Цар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 раньше я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л блаженства в жизни т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и бесплодно я теря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ни в сомненьях и печ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ныне мрачно протек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Тебя, о Ц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л в обмане, в заблужд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л чего-то, сам не 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м безумном ослеп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ари, не Творца иск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с любовью бескон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л и вот, я Твой уж ве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небесах моя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 престоле Бог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Христос, мой Бог,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десную восс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я духом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ть с хвалой к Его черт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32Z</dcterms:modified>
  <cp:revision>13</cp:revision>
  <dc:subject>Slavic hymnal Гимны веры христиан, hymn 444</dc:subject>
  <dc:title>Зачем Тебя, о Царь вселенной</dc:title>
</cp:coreProperties>
</file>