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D3A-ADC9-433B-B3C5-6D7EA9F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2CC-FFD8-42D2-877D-F96E4BE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3FB-D8C5-4D96-93A4-3272EDA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79B-8E1E-41C0-906F-31DEFDC4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8CC-F58E-44D7-9619-A855D72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3B3-2510-4A69-87AF-F2E4265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81E-C249-4E19-830C-AF21754F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9F5-1381-4286-AF64-DB9A6C76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648-66B9-4E4C-AA9A-2A1C6075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BA9-D2CA-4C61-8665-FB3F20C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8B7-D58D-422A-B19B-7521835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604-6DCA-4D42-A770-0F0E3CD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887D6-2084-4C63-A696-D584AA8E54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ящий в вышне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Властели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веков, тысячел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как день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, царящий в выш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туча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блеснёт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аснет без сл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как лёгкий п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 летний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пе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ава, что лишь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вянет под жа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ушающи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бренность нашу зна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е нашей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ысяч лет счит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шь бессмерть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Царь дружине в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нь битвы дарит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улишь в любви безм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ь нам за ден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41Z</dcterms:modified>
  <cp:revision>12</cp:revision>
  <dc:subject>Slavic hymnal Гимны веры христиан, hymn 738</dc:subject>
  <dc:title>Царь, царящий в вышнем свете</dc:title>
</cp:coreProperties>
</file>