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FAA-E54E-4CCC-85BA-BB0535BA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B7E-E9CB-4E3A-B60B-ED37B5F0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F11-B3F1-4B8F-93A5-66D02FD1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12D-CDBA-4DDE-AE9B-FED10B33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A9D-14D6-4E1A-8D43-771E8AAF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83B-79EB-4E0F-AD0D-80485E42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554-29EB-4F7D-B986-5641958E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880-2BF3-410D-A5AE-873D625F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73F-4189-40D2-BA8E-E1589C9F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EE4-4195-482F-8FF9-230960B9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E95-63F6-4CA1-92D8-18DF4B6D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FAA-06D9-42F9-AD5A-F039CABC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AC67E-9092-43C7-A59B-95F203DC81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вал: «Ко Мне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и, усталый, Мне на 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и отдохн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усталый я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чалью и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отраду я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,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а глас я услых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 жаждущий, смот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ю воду Я 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куси, жив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к Нему я и приль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ивительной стру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жду больше, в Нём жи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лив я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 тёмном мире —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воззри, взойдёт з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больше н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взглянул я и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олнце и звез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ветом жизни озар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уть земной пр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8:50Z</dcterms:modified>
  <cp:revision>12</cp:revision>
  <dc:subject>Slavic hymnal Гимны веры христиан, hymn 469</dc:subject>
  <dc:title>Иисуса глас я услыхал</dc:title>
</cp:coreProperties>
</file>