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031-0453-4B6A-9901-A6ECB358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A3D-F263-4378-8A1B-04489472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48D-88FE-472A-98C9-9EF42B40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5E2-5F4B-4A71-BC26-CD2F5A55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DB1-51E6-47AF-93A4-313F0B9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3C8-EED8-4624-9631-DCB751AC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CAD-38BD-4A8E-9095-24D3B69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430-00A8-4B87-B8A7-95B808D2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293-D450-4213-9CF1-5E4F7900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743-9CF9-473B-BB2F-A51C012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5DA-7AFE-47E8-BAA6-A4231E0D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9B5-3E19-48D2-BF14-D20B968F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A41CB-0399-4383-BC5D-FB9F569C28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spea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nguage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I may fat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ste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into the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faith that moves moun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I am witho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what does i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00   Though I May S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if I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or my poss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endered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ied for the 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highly resp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cessful and gif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love was ex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wasted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we pass through th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see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26Z</dcterms:modified>
  <cp:revision>12</cp:revision>
  <dc:subject>The Source 4, song number 2100</dc:subject>
  <dc:title>Though I May Speak (Language of Angels)</dc:title>
</cp:coreProperties>
</file>