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15A-343C-4E77-BD28-1BF1EB30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BAB-3D90-4921-ACDA-B5B675B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10C-BADD-4537-88B1-FFF70778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F57-B949-48C0-BD70-2155981F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606-3EA1-472B-8426-C7ABE50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673-5EE2-44FA-BCB3-E566A72C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864-40DB-4E12-A44C-F7DE80A4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3A2-8163-442D-9E84-DCED1EE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2FA-C0D2-4515-A545-4BD9193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FD5-310A-4DF7-94CD-7A65C8C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87C-7E26-43E8-9094-609E5E1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036-0915-44FB-9407-055288A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4BBAF-F082-4FFE-9558-1C914A333F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Son of M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mb that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and peace, strength and hop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Агнец на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й Господ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, силу, мир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th revealed, my future seal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ed my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e and freedom, life and warm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ину Свою откр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ю б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, свободу, любовь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d my soul, my strong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ts me from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giveness, security, power and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 и сокрыл, искуп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й поз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безопасность, прощенье гре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0:18Z</dcterms:modified>
  <cp:revision>11</cp:revision>
  <dc:subject>The Source, song number 301 in Russian</dc:subject>
  <dc:title>Имя так прекрасно Твоё! / Jesus, What a Beautiful Name</dc:title>
</cp:coreProperties>
</file>