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10A-033A-4577-97F4-64C1CD57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439-72A5-4FAC-8200-599FC511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6E2-A6A2-49B3-9C01-89DFE1A5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6AE-5F15-45AD-A050-BC402164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B4A-C8A4-48E0-BECE-E3EEC8DD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1B9-BF5F-42F5-B37D-5E2B561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1AE-976C-471E-A03E-E922AFB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209-8963-4F57-8DBE-CC6DC635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9BC-9EA0-48CC-8C0C-907D1C7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43B-C393-47C9-A1A1-350C77E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A43-16A9-4640-9C09-EAF0EDD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003-1815-4A60-8A94-573B765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B62E-741F-4EE8-8023-86D1CE4854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ost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ity of our God,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the who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om we have the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ds us against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bow down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ks You’ve done in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trus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God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out earth and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13Z</dcterms:modified>
  <cp:revision>10</cp:revision>
  <dc:subject>The Source, song number 137</dc:subject>
  <dc:title>Great is the Lord and Most Worthy of Praise</dc:title>
</cp:coreProperties>
</file>