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8DBF-CA34-4D4F-A64D-EEE8FFFA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0F9E-9E59-4758-A118-464FF041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DAE3-9AF8-4633-ABC2-A996B2B6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4CDA-89CC-42E1-AA4B-2EC7DAE4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497C-70E3-4A9D-88CE-5716479A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A041-95FD-480B-ABF8-315CABC7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AFE8-2E69-4A7D-85FC-D0EE6415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A396-FC16-4987-A59F-EE8E3B83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2986-DEBC-458A-9FA3-37ABFFB2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C3EC-5802-448B-97B5-0F7C385D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0C47-3D62-46F8-B584-05104FFA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DD65-3B24-4F8F-882B-922B3EBB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963DE-A405-4684-8CC7-F92C412DCE0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 очи веры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утратил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надежды крылья всё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если б к Тебе меня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 бросил за с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дежду, как меч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любовь была б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 любовью был бы Ты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ли б очи веры, Бо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огда б любовь осты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ленился суето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ы бездну устран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жду мною и Тобой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1:18Z</dcterms:modified>
  <cp:revision>12</cp:revision>
  <dc:subject>Slavic hymnal Гимны веры христиан, hymn 441</dc:subject>
  <dc:title>Если б очи веры, Боже</dc:title>
</cp:coreProperties>
</file>