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B72-4681-403C-965A-B2BCCDF6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9D7-6679-42F8-A8EF-2E25D358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5AB-BD71-480B-A518-D4994C65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DDD-17E4-4C89-B231-BA770267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BA9-AD4D-4473-B25F-F792D737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D69-3733-4074-9927-7894E938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A59-2200-4003-A759-171E14AA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C6E-6F79-4180-990A-14584A09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372-E986-4071-A7A8-51AAE232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CA3-711C-4276-86B6-124C90B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F76-9F32-40D6-91A3-B818049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44A-3F69-4E68-BCF2-2095FC8B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9F3BB-52C1-4ECF-AE11-59C372B94F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humbled by Your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ed by Your grace so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knowing I’m a sinful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ed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’ve found the greate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ce You laid down Your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est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5   Here I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found me just as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pty-handed but alive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I am changed by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resence of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humbled by the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 so that I can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stand, knowing that I’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nctified by glory and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’ve found the greate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ce You laid down Your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est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found me just as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pty-handed but alive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I am changed by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resence of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11Z</dcterms:modified>
  <cp:revision>12</cp:revision>
  <dc:subject>The Source 3, song number 1245</dc:subject>
  <dc:title>Here I Am (Majesty)</dc:title>
</cp:coreProperties>
</file>