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E68-358D-4462-809B-6A97FB32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BE0-CCAF-4584-BC26-21331A59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563-AF97-4145-BEF0-912C0E0E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563-4BC0-4B05-8430-2CA0B147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592-A868-4FD0-A42E-0FA5345E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516-F302-4875-A51A-2DEEACF6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452-CA5D-4FB9-8D3D-CDCB3B5F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1A7-107D-432F-9ED8-60FE7850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9B9-9EB0-43E7-B594-0AF2C87E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BC9-2312-4131-9B53-16E2A39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DB6-7CC8-49CA-8226-A64E88E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F90-C2CB-4985-B848-396F719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400D3-577A-485F-A4D3-E5CE924CDD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a moment, You ar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the ages, God befor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a vapour, You are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everlasting, reigning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 who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st praises, honour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Your name, be unto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6   We Are a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the broken, You are the heal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Redeemer,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ove-song we’ll sing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ing before You, blessing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 who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st praises, honour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Your name, be unto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12Z</dcterms:modified>
  <cp:revision>11</cp:revision>
  <dc:subject>The Source 2, song number 1026</dc:subject>
  <dc:title>We Are a Moment (Be Unto Your Name)</dc:title>
</cp:coreProperties>
</file>