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A6D-FC4E-4F81-9DE8-D17682D0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2FD-F98B-4650-A267-6F588D46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988-9479-4C84-A831-848E57E2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1CC-F062-45FD-91B6-002487EE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895-E105-4E21-B0CB-F526E0D4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E67-F66E-4AC1-BDAF-B0AFBCCB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F53-09B8-448F-8092-02F10AE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265-AE97-4E6D-A7D9-03512F93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A67-7B04-4F56-B18C-742F85FD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DB0-3798-4C8B-B9FC-6A85B6E3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292-3CA8-4804-A34C-698F56C6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F98-73D5-4244-ACBA-F1DF023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28C36-65A0-4CC4-9C7C-86B9DD02C7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 от сна, друг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 полуночи ж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шествует побе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ертными судить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рядёт, и всех проб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ая Его тру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удья тогда ос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енивого ра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будись от 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лажен, ког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уде Его на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бессмертную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лой радости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ись же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, душа, и бодр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лночный, в час нежд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ут тебя н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дивые вздрем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кудел у них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то несчастны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тались вне д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, о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жги светильник т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рядёт в венце побе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ластен на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9:24Z</dcterms:modified>
  <cp:revision>12</cp:revision>
  <dc:subject>Slavic hymnal Гимны веры христиан, hymn 380</dc:subject>
  <dc:title>Пробудись от сна, друг бедный</dc:title>
</cp:coreProperties>
</file>