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3CF-C15C-4BAE-B3BA-824E7405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0D2-8E02-4176-91CB-98F2531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58E-4D07-4B4A-B46F-9C894287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87B-552B-48B9-8495-93B0BE99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027-F1E5-45E4-8AAF-009FADAD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AF8-F91D-4DC6-8D87-EB8A549D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2F4-E98F-42ED-B764-28009CBB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9D2-469E-4378-A687-6B7240D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FA2-AD3F-4958-9F9E-C7E20C6B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211-196B-4899-8FF5-80275DA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810-6365-494B-944D-E276E19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3E7-547A-4D1D-B688-ED46AC65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303AA-1E1C-4094-AC83-BE4A040DF4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4Z</dcterms:modified>
  <cp:revision>13</cp:revision>
  <dc:subject>Slavic hymnal Гимны веры христиан, hymn 622 (as amended)</dc:subject>
  <dc:title>’Tis So Sweet to Trust in Jesus / Сладко верить в Иисуса</dc:title>
</cp:coreProperties>
</file>