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46D-5E90-4B3C-9E67-9729382C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B38-79F3-46F5-9C3A-20BE346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16D-6415-423D-8C1A-B0BF6E61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343-BC52-4A6C-A1B6-A35D9366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8B8-20CA-481B-8257-08A5042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CBB-0DAD-4C92-A170-52DF39B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0C2-63CC-4805-A72B-177BBFE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70F-17ED-470D-A21D-89F6A91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1A4-887B-41E5-8089-39E4603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3AE-E0D2-439F-862A-4F8C169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AFF-A68B-436C-9EBB-6BB0DB4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2EE-698E-446C-93BA-5C82395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1A90-432C-4539-BF18-B4C4A0FF0B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09Z</dcterms:modified>
  <cp:revision>12</cp:revision>
  <dc:subject>Slavic hymnal Гимны веры христиан, hymn 425</dc:subject>
  <dc:title>Что вину мне может смыть?</dc:title>
</cp:coreProperties>
</file>