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5A9D-ABA2-4B20-9E9B-09E03FBCD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65D6-555A-4F66-AA9A-26028A61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3C49-C1D8-41AE-A4F0-5CD790CD3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31FA-AD30-45F4-A562-D5E435A8F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7B28-0A49-4073-893D-11F48CAA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5F0E-09C0-4226-A7B0-F691E44A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0942-9EB5-4899-B380-A8B8E02D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ADF1-B3A9-4476-8B73-21A1E5FF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03A0-15EA-4558-9F4A-36A9A023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9FA0-E515-41C2-B9AA-A7018440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C86F-876A-444E-A3E7-033CC4C3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B40A-0949-4497-8D09-B617747F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470536-E0BA-4B3C-9507-33322E771BA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нывай! Господь всегда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 свой крест, в страданьях не ропщ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Творца и ты и жребий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рен нам. Общенья с Ним ищ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нывай! Господь чрез тьму невз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лучший друг, к блаженству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уныв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нывай! Господь руково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ущим так, как прошлым управля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лишь верь! Ничто да не смут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й час поймёшь зачем ты зде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нывай! и буре и вол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кажет Он — настанет тиш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нывай! уж близок славны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 Христом мы будем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святой отрёт нам слёзы с гла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чезнет скорбь, забота и нуж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нывай! земное всё пр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 нас дом Отцовский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49:27Z</dcterms:modified>
  <cp:revision>12</cp:revision>
  <dc:subject>Slavic hymnal Гимны веры христиан, hymn 860</dc:subject>
  <dc:title>Не унывай! Господь всегда с тобой</dc:title>
</cp:coreProperties>
</file>