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FD4-F191-43EE-90AD-5A4784B6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0C7-164B-4146-9E21-ECA3316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2DC-2FAC-464B-B422-3FEEB445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CF4-7206-4B27-AD94-06B6813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C34-485F-406D-AFDD-2D923EA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575-1476-4C5B-A529-DB29037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E7D-42AE-4B45-B6EE-2CE783F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897-033A-42AC-BD34-1D4A5E0E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54E-D2DF-4C18-A6AE-D330F0BD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152-B0E4-4ADB-96F8-331E3AB5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530-4097-4B22-B860-726059A0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B2E-0AD6-4914-B593-0764626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8CB33-69A6-4FFC-8B67-12B1143FA5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41Z</dcterms:modified>
  <cp:revision>13</cp:revision>
  <dc:subject>Slavic hymnal Гимны веры христиан, Ukrainian hymn 21</dc:subject>
  <dc:title>Tidings of Salvation Bringing / За Євангельську ми віру</dc:title>
</cp:coreProperties>
</file>