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E18-955F-4D01-9507-48A636A0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DA8-A92D-417C-9FF4-567249CB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CD3-E925-41A7-9C18-C58B0870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CCA-7BBC-4CE7-9B73-2D862294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1B4-4BB3-4ADE-9741-B9FC8FBC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5AE-E3EE-48FB-9795-F5FAB72D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496-DF78-4ED2-B454-48646E85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8E2-BE0B-441E-8D42-37315B00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F69-B8FF-48AD-8051-C97B95C1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C19-32F5-42B0-BAAD-485CCDF1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E34-956D-4F38-BD4E-A88F1F5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D14-F540-42CD-8338-A427E54D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AEEC5-0E11-4DF2-A8F9-47BDE7AA1E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ночь! Сверкают ярко звёз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нам родил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тонул в грехе и беззако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жий Сын нам спасенье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счастьем сердце наполн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горит грядущих дней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еловек, внимай певцам из р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 рассеял мрак пе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гнём в душе мы у яслей ст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удрецы Царя царей ис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и дары, — и склонились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господ лежал в хлеве на се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чувствовать Он может нам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 жизнь, Он испытал мучень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учил всё покрывать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закон и Свой мир Он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олг спасать несчастны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д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х людей наш Господь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есни славы льются словно р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аждый к Богу с радостью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Господь, хвала Ему во ве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8:51Z</dcterms:modified>
  <cp:revision>13</cp:revision>
  <dc:subject>Slavic hymnal Гимны веры христиан, hymn 802</dc:subject>
  <dc:title>Святая ночь</dc:title>
</cp:coreProperties>
</file>