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FDE-5854-4B01-9415-90122C3E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F1A-EF47-4FC1-A9F0-640AB9D2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7C1-3D5B-4931-9E04-2D1DE699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720-D491-4ED7-B0AE-A0817222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5D8-0715-4A4A-B296-22F4515D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9F6-43CC-4D3A-AF50-D910C249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A31-5F6C-4D85-983F-12A2378A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1FF-5701-4FD2-BEAB-03722CEE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AC0-463F-4DDA-A3F6-C23BABF0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0F0-BEA6-4498-A8D8-D11981D3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F76-1830-425F-A35A-15DF97F0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812-5181-41A0-8708-3058916E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90131-1BB0-4ABF-B28E-89E30ED601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Л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Твои, Иисус благ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же нам плодов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ар прославить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Л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ь, мы — Т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тви малые Л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,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Лозе предвечной ль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отим на ней пре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че, крепче с каждым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Л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ь, мы — Т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рас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осят плод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м, Боже, пом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асти пере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Л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ь, мы — Т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9:34Z</dcterms:modified>
  <cp:revision>12</cp:revision>
  <dc:subject>Slavic hymnal Гимны веры христиан, hymn 761</dc:subject>
  <dc:title>Ветви малые Лозы</dc:title>
</cp:coreProperties>
</file>