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B9FF-DBE4-47F0-8F53-666144F6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6410-DE2E-4D9D-8FCE-3564C1EE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6BF-034C-4E62-A68B-671DF83D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B12-7749-40E4-9EB5-40E4BF35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42A-B7BB-4658-908B-A65A9DB1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146-CB2B-4CF9-B1D7-560A66CC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408-C368-44DB-8983-180024EC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C56-9E9F-4AD4-B135-EBB35049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CC93-4303-49B1-BE37-8AD5ECA2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10E-6204-4C1B-95E2-A7360885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7A8-0653-4197-837F-392325A3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9EE-61C0-46C7-986B-EA52ECDF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D967F-54CF-43F2-9920-D741788BF0C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 all of my tria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bear these burden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distress He kindly will help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ever loves and cares for His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у Иисусу все мои скор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 все мои скорб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стомился под гнётом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семогущий, меня поддер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чно помнит, любит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bear my burden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an help me,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 all of my troub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a kind, compassionate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I but ask Him, He will del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of my troubles quickly an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 все о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отзывчив, Он всё пойм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вет на просьбу даст избав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гонит страхи, снимет весь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bear my burden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an help me,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mpted and tried, I need a great Savi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Who can help my burdens to b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, I must tell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all my cares and sorrows will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и, в тревоге Тому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ил даёт мне мой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 Он вникнет, всё облег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bear my burden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an help me,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the world to evil allur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my heart is tempted to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 and He will help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world the vict’ry to w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осаждает, влечёт к паде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оём сердце так много з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Он даст побе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десница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bear my burden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an help me,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43Z</dcterms:modified>
  <cp:revision>14</cp:revision>
  <dc:subject>Slavic hymnal Гимны веры христиан, hymn 623</dc:subject>
  <dc:title>I Must Tell Jesus / Скажу Иисусу все мои скорби</dc:title>
</cp:coreProperties>
</file>