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CEC6-E98A-4F85-9D18-A86FAC3A2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5486-F8AD-48A3-9982-AFB610B9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EC69-9268-4F06-9998-2D1860F78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5E2D-EDEC-420C-AB9F-C3AAF8977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0F4D-640B-4BCA-8943-6B37595F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FE9A-A22E-4F9A-BC4F-20A8DCBC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8B4C-9839-47AA-8157-FAF36786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9C65-2244-4E5D-874F-1462B8DB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B05D-9E0F-447A-9044-08C194D0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AB6D-9402-434F-B6A6-208797E7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B8CC-5767-4FCF-9CE2-3906A676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28BA-8409-4E7A-9C41-F6EB92D9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568B4-5E51-4E11-A031-08E32997E0A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ед темряви нічної чути кр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и гинуть і настав останній ч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ло ми спасіння понес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воно у тьмі г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уть освічує в небесни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любов і мир ц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5   Серед темряви нічно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юди в світі чути Македонський кр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то почув цей крик, нехай скор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ш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ло ми спасіння понес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воно у тьмі г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уть освічує в небесни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любов і мир ц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аші дні також жахлива темно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льйони грішних гинуть без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ло ми спасіння понес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воно у тьмі г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уть освічує в небесни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любов і мир ц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Ви для світу світло”, так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з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 темряві нам світити приказ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ло ми спасіння понес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воно у тьмі г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уть освічує в небесни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любов і мир ц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1:51Z</dcterms:modified>
  <cp:revision>13</cp:revision>
  <dc:subject>Slavic hymnal Гимны веры христиан, Ukrainian hymn 55</dc:subject>
  <dc:title>Серед темряви нічної</dc:title>
</cp:coreProperties>
</file>