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77</a:t>
            </a:r>
            <a:r>
              <a:rPr b="1" lang="ru-RU" sz="3600" spc="-1" strike="noStrike">
                <a:solidFill>
                  <a:srgbClr val="ffffff"/>
                </a:solidFill>
                <a:latin typeface="Verdana"/>
              </a:rPr>
              <a:t>	</a:t>
            </a:r>
            <a:r>
              <a:rPr b="1" lang="ru-RU" sz="3600" spc="-1" strike="noStrike">
                <a:solidFill>
                  <a:srgbClr val="ffffff"/>
                </a:solidFill>
                <a:latin typeface="Verdana"/>
              </a:rPr>
              <a:t>Книга Богом мне дана</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Книга Богом мне да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поношена о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поминаю дни минувшие дав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ать читала мне т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забуду ник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нам было с нею мирно, хорошо.</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вятая и жив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нига Божия, люблю, люблю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дороже с каждым д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едёшь прямым пут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чудной роди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где ждёт Господь мен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ро Спасителя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читала мне о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л, страдал и умер на кре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 слезами слушал 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ни, это за теб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ворила мать: «Храни Его в душе!»</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вятая и жив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нига Божия, люблю, люблю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дороже с каждым д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едёшь прямым пут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чудной роди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где ждёт Господь меня.</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Это всё прошло дав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как живо мне о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вятая книга — свет мне на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о Божие хран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пасителя люб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стопам Его всегда хочу идти.</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вятая и жив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нига Божия, люблю, люблю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дороже с каждым д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едёшь прямым пут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чудной роди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где ждёт Господь меня.</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10:44:39Z</dcterms:modified>
  <cp:revision>3</cp:revision>
  <dc:subject>Slavic hymnal Гимны веры христиан, hymn 77</dc:subject>
  <dc:title>Книга Богом мне дана</dc:title>
</cp:coreProperties>
</file>