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6B2F-21E9-4DED-9651-934F9540D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06B6-0993-4554-B337-AD5D109E8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AA5C-89C2-4E19-A0F9-FFB10B93C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FD1C-DA6E-49B7-B76F-9AD039D54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3B71-8BF9-4201-9412-FEC43755E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C645-A9CE-494F-9CE2-A24F02104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B195-9735-4E03-A63A-F724B46D9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AA19-9EAB-4860-A047-E60CBB4FF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7EE3-BC23-4FFF-8AFF-BAE6E2C9E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8ADC-C2F3-4E16-B994-DBFE1A119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541E-7E03-4866-B40F-0732A7665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995E-4D70-41D2-916E-8A81F39A2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0B3720-E83F-4F2D-B22E-B835DA12E4F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hurch’s one foun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Jesus Christ her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e is His new cre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water and the wor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6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Христос — основа Церкв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— основа Церк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в Нём стоит он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бессмертным сло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а возрожден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all her sons and daughte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by the Master’s h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d through the deathly wate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pose in Eden 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ко их блаженств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дай, Господь, и н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обно им, в смире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емиться к небес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heav’n He came and sought 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be His holy brid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His own blood He bought h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for her life He d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бес её взыскал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жизнь её стра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л Своею кров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 святости призв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e is from ev’ry n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t one o’er all the ear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 charter of salv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e Lord, one faith, one birth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сеяна повсю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духом скрепле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диным хлебом свыш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итаема о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e holy name she bless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artakes one holy f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o one hope she press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ev’ry grace endu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но святое И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ивает все серд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едином упова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терпят до кон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with a scornful wo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en see her sore oppress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schisms rent asund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heresies distress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рзаема раздор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ом угнете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верностью пред ми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посрамле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t saints their watch are keep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ir cry goes up, “How long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oon the night of wee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all be the morn of so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глас святых взыв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молкнет их мольб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светлым ут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нится ночи ть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Mid toil and tribul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umult of her w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e waits the consum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peace forevermo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ь скорби и томл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итвы со враг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жаждет наступл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оя со Христ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l with the vision glor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 longing eyes are bl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great Church victor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all be the Church at 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иденье сла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зрят её гла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оржество побе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тупит навсе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t she on earth hath u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God the Three in 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mystic sweet commu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those whose rest is wo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десь она в обще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Отцом и со Хрис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блаком объя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идетелей круг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59:40Z</dcterms:modified>
  <cp:revision>13</cp:revision>
  <dc:subject>Slavic hymnal Гимны веры христиан, hymn 866</dc:subject>
  <dc:title>The Church’s One Foundation / Христос — основа Церкви</dc:title>
</cp:coreProperties>
</file>