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EE6-7DCA-4B55-BEFF-D582111A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795-8DBA-4E30-8FDF-CBC917F9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7AA-A5FC-48FD-8E1B-95452AF5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5E5-6615-4278-9070-5E60F1F0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49E-8F91-4051-85BE-BA41C7BD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AE8-71EB-4B2E-9AB2-124B4DAA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A16-A13E-466C-8071-48E8118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C6F-7188-4E49-B526-F8A7B7D1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E26-90FD-40A1-B4CA-76CAD56A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D25-CAFE-4EBF-A3D5-789786F5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068-468F-402E-9300-DA60BE82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220-FA34-4907-8638-A86F23E3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88D77-40A8-400C-B98A-C7D52C30BA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престан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мудрость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лишь об од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и учить и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жизнь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всяк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музыки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усталым тиш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от 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всякую в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ая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ой, внимай! Немой, хва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тесь все у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пой, прозри и сла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у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5:22Z</dcterms:modified>
  <cp:revision>12</cp:revision>
  <dc:subject>Slavic hymnal Гимны веры христиан, hymn 872</dc:subject>
  <dc:title>О, если б сотни уст иметь</dc:title>
</cp:coreProperties>
</file>