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92A-99FA-445D-9C3F-7DB39879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66D-17FA-46F7-9A34-3E4979AF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BBC-84CC-4AD4-AD39-B1FDE370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209-F974-4FBD-97DF-63C76857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A09-457F-4CA3-AA65-869290C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6B6-06D3-410F-999C-D0AA8DF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624-8B32-4EAE-84AF-2D3A9D9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77F-4764-450B-BF06-20C9BD29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45A-CA9A-44CA-9E89-DE9E979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8AC-B12F-4029-9FA2-ABAB2C7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EFA-0302-407F-B74B-A7F97CA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6FC-9EDA-4515-BE0A-304E6A2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DDE9-AA0C-4756-8C52-A75474A92D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2   Так, той день в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31Z</dcterms:modified>
  <cp:revision>12</cp:revision>
  <dc:subject>Slavic hymnal Гимны веры христиан, Ukrainian hymn 82</dc:subject>
  <dc:title>Так, той день вже близький</dc:title>
</cp:coreProperties>
</file>