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67D7-2081-4C8E-9878-57A5A43F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ACD8-B07C-40EE-887C-125B47E4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E89B-E677-4227-9C32-1AC7288C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F3EB-65DC-4B0C-A161-9EE87B75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6BF4-8424-46B8-8609-ADCEC59B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F864-A131-4660-9364-02ED098D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8112-D930-4E4B-8A91-66E34B42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789D-5BDA-4412-958F-7F6C0A3D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F745-40B8-49D5-AA68-E2FDD899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90F2-82F6-4290-A726-BD0FBB54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34E1-2416-4959-A765-40B9378A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7F73-6767-4B1D-B140-B8F7B5F7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C4B07-FF6F-41A2-AC16-38A8225EDB9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counsels guide, uphol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sheep securely fold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г с тобой, доколе свидим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твой Он да охран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шаг твой направл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, ’til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 at Jesus’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, ’til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видимся у ног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His wings protecting hid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ily manna still provid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да ободр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нной свыше Сам пит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, ’til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 at Jesus’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, ’til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видимся у ног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eep love’s banner floating o’e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mite death’s threat’ning wave befor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 зла тебе защи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вся жизнь твоя сокры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, ’til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 at Jesus’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, ’til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видимся у ног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life’s perils thick confoun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t His arms unfailing round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иди,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любовь Его явля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, ’til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 at Jesus’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, ’til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видимся у ног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33Z</dcterms:modified>
  <cp:revision>13</cp:revision>
  <dc:subject>Slavic hymnal Гимны веры христиан, hymn 745</dc:subject>
  <dc:title>God Be With You / Бог с тобой, доколе свидимся</dc:title>
</cp:coreProperties>
</file>