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A71-4713-450E-A0D4-8EB747BE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469-CBE3-4B28-9106-FC10EA1A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E09-943B-45B7-8F76-A3FEA070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A19-D1B4-49F1-B828-597D6B7C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DBB-71F7-44C9-8444-BE7A95D1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3D1-FE1F-4FE6-8C4C-6D9E4937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359-D6AE-4471-AB43-D0B9B40A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FE9-835D-4E30-9E8A-D79B8909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49F-3C6C-476F-838C-C212809F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D6D-98D4-4D43-8A3C-C485ECE8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2C5-AD3A-4F2C-A3B3-7F9E2B8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52D-EECD-43B3-A8FA-498E06C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E7002-1A9D-4766-BFA2-70E3077EA7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м на небе, за облак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новой уж н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родные где будут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песни славы там у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ом небесный, где быть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я, чтоб вечно 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Бога я вечно сл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вете чудном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дом на н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914400"/>
            <a:ext cx="9486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бурю с моря моряк стре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чалить в гавань, чтоб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рвусь я сердцем в жилище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дых ждёт всех свершивших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о будет в том вечном до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Друга душ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за грех наш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рил нас с Отцом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914400"/>
            <a:ext cx="9486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горьких слёз лить не 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славу мы будем п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луки, скорби, болезнь за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м больше нужды тер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4-05T20:12:36Z</dcterms:modified>
  <cp:revision>12</cp:revision>
  <dc:subject>Slavic hymnal Гимны веры христиан, hymn 903</dc:subject>
  <dc:title>Мой дом на небе, за облаками</dc:title>
</cp:coreProperties>
</file>