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D7D-7538-44A2-A5B1-CF11B7DC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14C-4BAE-4247-A838-CB1F0FCC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CEE-C92A-4A06-9F1D-700C98D5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7AF-610E-480C-819F-BAC6751E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0D3-7799-466D-AEFC-EECAC291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C8A-33A9-4460-B5B6-2BBE0186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08E-7890-4079-B53D-32977BE7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51A-A39B-48B1-B78A-ABCC7F9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7AF-30D8-4122-8BB7-E7DB0DF7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336-2578-4D5B-A5E5-B95F26B7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708-BB46-4053-B5CD-4001DC14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E0F-D3F2-4E6A-8068-F7E30807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B436F-5262-4819-A456-F6F2F0DDB3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and 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good, He is above all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ive Thanks to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might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tstretched 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life that’s been rebo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God is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rising to the setting s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grace of God, we will carry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God is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54Z</dcterms:modified>
  <cp:revision>11</cp:revision>
  <dc:subject>The Source 2, song number 688</dc:subject>
  <dc:title>Give Thanks to the Lord (For Ever)</dc:title>
</cp:coreProperties>
</file>