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E27-09B3-48C3-8037-BC4A6173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E00-54DD-4C25-AEC0-ECE66318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960-9EDD-481F-9642-5A76468D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6B0-959D-4225-9AE7-E1538FA5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AB7-A872-4B2D-BABF-C20FE4D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0D0-B3F7-44C0-BE9E-C98477D4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A10-29D4-4A05-B70B-C61E2D3A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3C9-5919-4273-A600-83B2453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8CC-F0D4-46B6-A71E-14FB2330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57F-FDB8-4C00-8481-29C89F2E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ACA-A969-4FBE-9B3E-A48B0B8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602-077C-460C-80BD-AA9BB827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8A819-CF51-4BC4-8E46-1A20F4BCA0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fe and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d, Lord,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hands and let them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feet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and beautifu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voice and let me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ps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messages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silver and my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ove, my God, I p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y feet its treasur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self and I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5Z</dcterms:modified>
  <cp:revision>14</cp:revision>
  <dc:subject>Slavic hymnal Гимны веры христиан, hymn 437 (as amended)</dc:subject>
  <dc:title>Take My Life and Let It Be / Боже, жизнь возьми</dc:title>
</cp:coreProperties>
</file>