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F73-EA89-441C-9442-012BF773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180-7148-4058-B252-C6AAAD51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2BE-06B9-4A05-A788-4BB438F0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4D7-021B-4745-939D-C11E42CA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97E-115F-4AA4-A360-1220AC77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550-922B-4245-8E33-3A4E6784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28B-EEFB-4463-8069-0947E152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FEB-8994-457A-9EBF-9AE00D98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39F-F758-4A79-9981-5161AC27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D3E-FDCE-4A89-AC9A-DA0BCB41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A01-F384-4811-8B4E-8E5A1F5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9B6-82E0-481E-A8FA-6178BE38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16498-0A7A-4F82-90C3-BFD044FB55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crib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God, the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k is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His ways are just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5   Воздайте славу Богу наш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йте славу Богу на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ы дела и пут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йте славу Богу на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ы дела и пут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od of faithfulne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in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 and upright is H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ерный Бог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еправд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еден и истине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44Z</dcterms:modified>
  <cp:revision>11</cp:revision>
  <dc:subject>The Source, song number 25 in Russian</dc:subject>
  <dc:title>Воздайте славу Богу нашему / Ascribe Greatness</dc:title>
</cp:coreProperties>
</file>