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EF99-EB06-4D58-9BAC-9991D1F5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1BEA-0966-4D86-ACD1-1C9AB6F9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857F-1CFA-45EB-9D1A-C6FE0B0E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3C2D-9B01-4CAF-AAE7-5F047962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0F98-7FA9-4224-A2E6-216A8525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824B-86C0-4618-9DF9-E0B5950C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312D-5CD2-45A3-A98E-C1BEDE18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731A-DB58-435F-AE2F-A0C88122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73AE-DA68-4093-B25A-C1900DB2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7EDE-5BAA-45B6-90C3-5629AA01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6254-6789-435B-B963-30BEDFCC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AE2B-1ECD-4C51-A815-B01B8E6C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70170-9CA4-4F44-B8C1-64C678E4F35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звучит длинный ряд ве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стоит выше всяких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весть нам петь ангел бы го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укреп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беда кругом, вспомни лишь о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Эта весть звуч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важней всех других ве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нужна для живы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весть неси для твоих друз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укреп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беда кругом, вспомни лишь о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жизни весть передать спе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опавших в грех, для больной душ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яй сердца, наставляй в тиш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укреп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беда кругом, вспомни лишь о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0:27Z</dcterms:modified>
  <cp:revision>12</cp:revision>
  <dc:subject>Slavic hymnal Гимны веры христиан, hymn 565</dc:subject>
  <dc:title>Эта весть звучит</dc:title>
</cp:coreProperties>
</file>