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6B4-6C36-4B01-88A5-249CE0B4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FF9-27A8-49BF-83CC-0BA8466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F8C-73CD-4ADA-89BD-793C70DC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62F-BF67-4D3B-BA12-25694A74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4D0-FE6D-4EA0-A422-E12E9C93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B5C-FE5B-4F35-9055-C787495F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2A9-F50D-4C62-BE5E-0658C10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20E-5654-491A-A136-85E6C16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BA3-02A1-42DC-A74C-CD397D8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94B-9ACE-4146-9411-D6E093C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688-FF84-4696-B6CF-E4E6EC4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73A-699B-4FBD-A7D4-4859B28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8438-CA27-4832-9C85-638F00801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о чём ты горю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воё отравляе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унылы, как поздняя о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олодно и твёрдо, как ст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и бед испытал ты не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растратил в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еланной любви не встреч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ь и обман надоел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 мой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с тобою дружить не хоте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как цветочек, расцветший в т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оем дохнуло — краса облет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счастливые, светлые д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учися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ворить в этом мире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доверься, живи для несчастны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не погаснет з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19Z</dcterms:modified>
  <cp:revision>12</cp:revision>
  <dc:subject>Slavic hymnal Гимны веры христиан, hymn 703</dc:subject>
  <dc:title>Брат мой усталый</dc:title>
</cp:coreProperties>
</file>