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92D-977B-4FC8-AAE8-58E7DCBB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0FD-8AFC-4079-87D3-94CC92A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180-CA05-45DA-9A56-38C99CAC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9EA-17B1-4287-8EF5-BA1553B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6CC-A504-4DDC-8E00-85F254E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BCE-AB43-4B79-992A-58F1904D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211-40FF-4C21-8ADA-1CF1BA6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7D0-5D80-4FBC-BF23-FF1E743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29B-7A5E-44C5-9431-1790908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727-1852-4447-9514-39E093C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E9D-916E-48CA-9E57-2A3C16C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70C-FD60-4B3C-BCB9-CC514BD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CF745-5712-42EB-8235-5DE7B428C1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лине сумрачной,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транник, уж пора расс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 этой жизнью, и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,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дорого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Царь и сильный мой Власт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и вечно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святое насл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печальном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спошли мне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лый, радостны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с ревностью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 свой исполня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ы свет Твой не зат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смиренно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ету вдох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, нет любви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овь Твоя, Твой крест,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дохновя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51Z</dcterms:modified>
  <cp:revision>12</cp:revision>
  <dc:subject>Slavic hymnal Гимны веры христиан, hymn 671</dc:subject>
  <dc:title>Не вечно буду я скитаться</dc:title>
</cp:coreProperties>
</file>