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1D2-219E-4B99-9A79-A966DB02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FCD-FFC8-4700-BDDA-86194D9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6A1-C6D4-4E25-85AA-0C1985B1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9B0-2038-4913-B512-1A3A1CF6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14D-F8CC-402C-9F7F-6369586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4AE-E097-498B-B7A3-08EFDDF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077-8F49-486F-B45B-5F58BA0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0C1-FBCC-458C-9E9B-89F962E7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CD0-A691-4762-9963-AED3863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B03-16D3-4CAD-A3D3-2DF951C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195-9728-431A-8739-54449AE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C56-691D-451F-9E52-9635A33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C28F5-EA1B-4E85-A736-7C5C76DEB0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сюду страданий и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ен наш жизнен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ы жизни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грозя захлест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чалены добрые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нередко туманит сл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арче, усердней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шла стороною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всюду стр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свою мы грехом иск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теперь оправ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лнии нас не ср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каяться, плакать,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уете постоянной,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егко соврат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, наш Небес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нас научить и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хочется всем нам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оды собирали м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мы страждем и плач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 в наши душ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46Z</dcterms:modified>
  <cp:revision>12</cp:revision>
  <dc:subject>Slavic hymnal Гимны веры христиан, hymn 506</dc:subject>
  <dc:title>Сколько всюду страданий и горя</dc:title>
</cp:coreProperties>
</file>