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389-B847-45F6-8CE5-8631C46A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694-AFF8-4C0B-A5DC-B1A12499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21D-9F6B-412B-B3BB-A5518914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F66-30FA-40FF-8D0F-E7D2F819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326-53E4-4FD5-85E8-B12B43F4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392-7A37-467B-B7A8-00703EF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A4E-5DA7-4F68-9773-7A0E814A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E6E-9CCF-44A8-B84F-E28D3D3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C63-729E-4BC7-A647-025CEB5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34B-70B3-4C94-A6E4-F524D5B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CF-BAEB-4CA1-8E92-03FB1C7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D4B-2313-4DD3-930E-09BAA0D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B87D5-ED6F-4F14-93AC-73C103FB05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beats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ch day I 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hink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7   I Live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o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01Z</dcterms:modified>
  <cp:revision>12</cp:revision>
  <dc:subject>The Source 3, song number 1297</dc:subject>
  <dc:title>I Live For You (U.R.Y.)</dc:title>
</cp:coreProperties>
</file>