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FC0-B5F8-4EC7-99FB-80DC6025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602-5CDD-4C91-A7E7-ECEB8E1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BBA-280E-48C7-B1C0-FC911010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A3A-0635-4437-B5FD-C8A71E08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D60-5138-48D7-8D30-A7A2ACC9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6AF-0B42-4E84-B0BB-BAC33B4A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B6E-1999-4A93-A6E5-DA788A90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50A-8BEB-4612-9188-14CEE581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0D9-604F-4582-BA74-1219E5DB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539-A190-4B48-AC44-57C50F0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E31-20DE-4FDA-8C60-4B3D9D6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2F1-B96D-450F-B03B-225E24E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EC211-0A78-423A-AAFE-35C9CB9E51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can safely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He leads me in this world be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out Him dearest joys would f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am not afr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везде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ёмном царстве ночи Он — звезда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Него угас бы нашей жизни све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в сердце страха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am not al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ther friends may fail me, He is still my ow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His hand may lead m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rearest way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s a house of p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не сам 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ть друзья изменят, верен Божий Сы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хранит меня Он и в долине тьм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мне звучат псал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, over land and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ing souls in darkness of salvation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ady as He summons me to go or st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when He points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хочу ид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ий дар спасенья грешникам не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Ему послушным, к слову Божью льну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сен жизни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can go to sl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darkening shadows roun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cr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nowing I shall waken nevermore to ro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will be home, swee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готов поч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ночь пошлёт Он труд мой прекра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еня пробудит к славе неземн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сердцу дом 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3Z</dcterms:modified>
  <cp:revision>14</cp:revision>
  <dc:subject>Slavic hymnal Гимны веры христиан, hymn 631</dc:subject>
  <dc:title>Anywhere With Jesus / Да, везде с Иисусом безопасен я</dc:title>
</cp:coreProperties>
</file>