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E4B-EF23-469E-8A7C-C91B8ECA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839-7CDC-480A-BD35-F333A4B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FF0-6F6D-4AB4-88BB-26B1D45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95A-B8CF-4D63-B00C-CB42FBCB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900-DD78-4486-8213-7F48D62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2AF-E830-463D-B1E2-92889AE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ED0-D43A-46BA-AA62-6057A50E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86B-91F9-43BC-9E85-EFDBC1A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E17-B4FC-4AB6-9142-F616C279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35F-154F-4938-A884-1B19931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C40-3D40-4EE8-A0E0-5F65884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89B-F83F-41B2-B3A5-171AC7B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27C06-7492-4CAD-A469-7CA5EF620B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23   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08:15:10Z</dcterms:modified>
  <cp:revision>13</cp:revision>
  <dc:subject>The Source 3, song number 1223</dc:subject>
  <dc:title>God is So Good</dc:title>
</cp:coreProperties>
</file>