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33F0-AF31-4B42-8F8D-792E4E69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1440-1694-44CA-AFF1-505E7CED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C05B-F9F3-4EE9-A9E9-50DBE6E04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F650-2891-442B-8D6E-E7317660A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BE50-ABC8-4A7E-87F4-A0E0FF2B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2EDE-D7A2-4EFD-AFA9-104F94E0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C990-B9BC-4964-B375-142FFDCC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91B7-59A5-43F2-913E-6856EB7D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378F-90A1-417E-878E-994F347F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11A2-B834-4398-B3DF-F01CD046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100C-620A-46FC-BC2D-E85D4C04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0908-35E4-45E2-B89B-FAC99D69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854D50-9B46-4A9A-9A82-BAF158DF029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ні, ніхто на всьому сві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в силі вірних подол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волю нашу зруйнув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ух в кайдани заку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с тяжким Своїм стражданн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і прозрівшій волю д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віт з усім його змаганн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’язниці їй не вготув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7  О, ні, ніхто на всьому світ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ні, ніхто на всьому сві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нас не може правду вз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люди, ворогом натхне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орніть нас будуть, зневаж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діймем в гору прапор прав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ов’ю темний світ заллє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не в хвальбах ще й тимчасов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радість в Господі знай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ні, ніхто на всьому сві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може горе нам вчин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агатства серцеві відня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нас безсилими зро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олото і що ми має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хай усе в нас забер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умління чисте залиш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 ним щасливі можем б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4:50:38Z</dcterms:modified>
  <cp:revision>12</cp:revision>
  <dc:subject>Slavic hymnal Гимны веры христиан, Ukrainian hymn 57</dc:subject>
  <dc:title>О, ні, ніхто на всьому світі</dc:title>
</cp:coreProperties>
</file>