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8B8-4EB9-4DA3-9C77-082FE7D6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411-5B16-44E7-BF8C-7FD1C4CC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5EF-7C03-48DA-8CE2-5F60257D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F43-62A3-486D-BA66-CBB158B9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2CE-F807-49C8-8A15-E6B0B28D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7B2-55D4-4494-A4AC-FD9BE6F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D8A-AB7B-4C4C-AF53-267ACB94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1C1-5DC5-4D22-89A2-6232BDE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40B-10A3-42A8-A880-CDC1133C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C5D-E006-4D9D-86E3-15E62A4B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361-B939-40B7-B8E4-0FEF4E7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E47-AAD2-47FF-A8A1-A34EC204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26E9D-3121-4739-A642-AE046B0E82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now under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 me within Your might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4   Hide M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rest, my soul, in Chris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His power in quietness and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00Z</dcterms:modified>
  <cp:revision>12</cp:revision>
  <dc:subject>The Source 3, song number 1254</dc:subject>
  <dc:title>Hide Me Now (Still)</dc:title>
</cp:coreProperties>
</file>