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73C-AA4A-47DF-A8CB-0628DBA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7C8-FBCF-4A5E-ADD0-6B3DC3A8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CFF-58EA-4640-9DEB-9C20C8E1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467-3A26-490E-AB52-51B06A09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A04-8744-4096-AE01-41B1F6C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58D-72F3-4221-8460-B29948C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7C8-82A6-42B3-999E-45BD6CF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12F-8529-4985-ADFB-02A7BA92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73F-97A1-400F-811D-ABA245C1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575-600A-478D-A6C3-66DFBF5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073-CF20-4C7A-84D8-1A21A92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512-8D39-488A-B85A-FC67B7A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4F2B-3C8A-4FCE-9460-5AC5652D8C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ur confessio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very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are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we’ve noth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come to You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ay, “Help us alo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Our Confession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broken heart and a contrite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yet to de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rt of mercy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’s strong curr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river flow by Your Spiri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ies fall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mercies flow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mercies f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shower them dow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9Z</dcterms:modified>
  <cp:revision>10</cp:revision>
  <dc:subject>The Source, song number 248</dc:subject>
  <dc:title>It’s Our Confession, Lord (Sweet Mercies)</dc:title>
</cp:coreProperties>
</file>