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76A6-0034-42D3-9911-48F4487E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7F97-E2EE-466B-9EBA-EBF4C780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0565-0220-4595-B67B-B4391794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E528-AE36-4BC6-B711-BA9FE9EF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B118-1467-4638-825E-E35D75FA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CEEF-164B-4875-9C51-7C60B9CA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9A6-CBD6-4088-AE01-E676D3D5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27E0-32B0-4E25-A512-C3B65344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5AE1-CCA6-4499-8A50-7702DF6B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17B7-21DA-4E6C-9A05-539BDB47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F7D6-A86A-4B51-B9D3-755C9241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20A4-66AF-43F4-AE31-4051AF0B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529A4-CCAA-4D66-AF2D-1A8CA9CA98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re once was only hu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gave His healing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re once was only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brought comfort like a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feel the sweetness of Hi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iercing my dar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ee the bright and morning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t ushers in His joyful glad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7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Where There Once Wa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urned my mo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dancing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lifted my s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’t stay sil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must sing for His joy has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re once was only hu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gave His healing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re once was only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brought comfort like a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feel the sweetness of Hi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iercing my dar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ee the bright and morning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t ushers in His joyful glad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urned my mo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dancing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lifted my s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’t stay sil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must sing for His joy has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anger lasts for a moment in ti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His favour i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ill be on me for all my life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urned my mo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dancing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lifted my s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’t stay sil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must sing for His joy has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9:43Z</dcterms:modified>
  <cp:revision>10</cp:revision>
  <dc:subject>The Source, song number 577</dc:subject>
  <dc:title>Where There Once Was Only Hurt (Mourning Into Dancing)</dc:title>
</cp:coreProperties>
</file>