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853-304E-43B1-8C16-28EEA411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F1A-0E33-4FE8-89C9-80188E65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7CB-FDDF-447D-B435-53F06A12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E58-DE12-46A1-9B62-904B53B7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804-36B2-49B5-9AD3-A4E0BE09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490-8AE8-44BD-96BB-51AFBB1D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380-507B-42A7-9107-5655B540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A1E-ACE5-42C2-8D45-4849AA2A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C51-BEC5-47BD-B7E2-7449D80C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D5F-5C67-40D7-BAA6-B848D92E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251-8606-467A-8525-C4F61720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195-E7AE-4C2D-BB28-8F66C1A6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7646D-8791-4AD4-85BF-DAF079504B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3726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, душа! небесных хоров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 тиши над морем и землё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о там для душ успоко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греха, вражды и тьмы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нимай, душ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, внимая чудным звук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, усталый, ко Христу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шь скорбь, не омрачит разлука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бьётся радостно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3726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издали, как сладкий зв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и Христа звучат в тиши ноч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брый пастырь Он идёт чр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юдям дать надежду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43080"/>
            <a:ext cx="93726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; путь жизни крут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ч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ходит солнце… всё темней, темне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трудам… но радостная встр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 стране, где больше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, на страже верно ст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песни славы, радости псалм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убежит пред славным днём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 любви, там нет мертвя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3:03Z</dcterms:modified>
  <cp:revision>13</cp:revision>
  <dc:subject>Slavic hymnal Гимны веры христиан, hymn 615</dc:subject>
  <dc:title>Внимай, душа! небесных хоров пенье</dc:title>
</cp:coreProperties>
</file>