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E9B-0AC2-41C1-BB6D-D517E23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E85-CCD4-4E54-9C0D-AFE3E81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062-1A49-416B-90C3-C6BC5EE4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CAC-0BB4-452A-A17F-356C52D6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70B-738F-4CA8-8A19-F57B748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F6C-73C9-432A-AF9A-2155032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7B7-2E23-4734-AC75-C1BD7FC8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0E6-1F9F-43F3-87CA-6BF4D0E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2CA-CFE4-42BB-8CDB-7BD20FE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4D3-8A16-42C9-B0FE-ED6E399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D29-1058-484D-AC34-3E6515D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649-AF4E-46C8-8881-73C2812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C8954-87A6-4823-9B85-37F105561C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y by day and with each passing mo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I find to meet my trials 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in my Father’s wise bestow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no cause for worry or for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heart is kind beyond all m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unto each day what He deems b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ingly, its part of pain and pl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ngling toil with peace and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’ry day the Lord Himself is nea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a special mercy for each hou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my cares He fain would bear and chee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name is Counsellor and Pow’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protection of His child and tr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a charge that on Himself He l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r days, your strength shall b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asure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he pledge to me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 then in ev’ry tribu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to trust Your promises, O L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 lose not faith’s sweet conso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fered me within Your hol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Lord, when toil and trouble m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r to take, as from a Father’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by one, the days, the moments fl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I reach the promised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22Z</dcterms:modified>
  <cp:revision>12</cp:revision>
  <dc:subject>Slavic hymnal Гимны веры христиан, hymn 863</dc:subject>
  <dc:title>Day by Day / День за днём</dc:title>
</cp:coreProperties>
</file>