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9FE3-6C1E-4D21-851C-14F37B81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0FCC-5C0D-4BB4-A482-EE164AA5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0FA3-9E9D-472B-9C7A-807A4249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8E15-A9F6-4865-837E-643D5BBE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1230-4D23-4F2E-86A6-24EAF953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03CB-BC36-41F5-A135-BA4E6A16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E711-FB73-41E2-BD95-E3B1A739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60C7-C29B-4CD2-8EE7-0C661EAC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7F08-22A6-4180-882D-D5E10ED1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0E8C-FFC1-4479-9A63-8B5BCEC9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8FE6-1BBA-429C-940C-81062C70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770A-E1D5-49CD-BC84-EDA6FD0A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E2A62-A3FF-4011-BBD1-B155B5D7481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take a dying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raise him up to life a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heal a wounded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make us white as s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fill the empti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mend our broken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oken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28   What Can Take a Dying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ighty, awesome, wond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he holy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 Lamb laid down His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ift us from the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ighty is the power of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restores our faith in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reveals the Father’s l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lead the wayward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melt a heart of st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free the guilty on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save and over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ighty, awesome, wond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he holy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 Lamb laid down His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ift us from the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ighty is the power of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a miracl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a miracl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t’s still a myste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t’s still a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a miracl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ose who b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ighty, awesome, wond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he holy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 Lamb laid down His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ift us from the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ighty is the power of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6:11Z</dcterms:modified>
  <cp:revision>12</cp:revision>
  <dc:subject>The Source 4, song number 2128</dc:subject>
  <dc:title>What Can Take a Dying Man (Mighty Is the Power of the Cross)</dc:title>
</cp:coreProperties>
</file>