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61B-9E8A-4728-9D85-ACB11E10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8CB-6894-43AB-8D34-61F7B63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A0B-BF54-44FD-A655-01A92A95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A22-E3E3-48E9-8373-A411129D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3FF-4A1C-40FD-AADE-5983006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755-B042-498D-B46C-15D7FB5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6B9-417C-4BCF-866D-EBF8385C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3E0-5AA3-4D69-912E-3999C619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1EB-2C33-45E1-A7C9-2575921F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3D1-DFC9-4494-8893-A6112134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12F-E50E-43E6-90E7-318523AE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01D-E279-45A2-90A0-0363BCD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C903-EF07-4F33-B0B1-51FFB0CD6A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стекал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уках умира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явил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лпе, Его предав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врагов, за пал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носил мол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любви, крестом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вершил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на кресте стекала кр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грешники,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крестом с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исповедав нище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богат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, сердцем и 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ителю взыв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повани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а ожид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мневайтесь в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всего твор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истине, ни в полн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ова служ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кровь омыт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ту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ойдёт от вас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пад от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22Z</dcterms:modified>
  <cp:revision>12</cp:revision>
  <dc:subject>Slavic hymnal Гимны веры христиан, hymn 407</dc:subject>
  <dc:title>Там на кресте стекала кровь</dc:title>
</cp:coreProperties>
</file>