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81B-ECEE-441B-A110-C5BE2073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836-0DA5-4CBA-9DCF-FD96AC7B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FC0-2D6C-4F9A-A2D8-AC542146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977-86CE-41E3-AE1F-8E6AAC8D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C7F-790D-42AF-AB35-BB069AE1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F0A-CA7F-4394-A2C5-7B099642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B39-82DA-4D0F-BA04-0C109780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892-5EC7-4B16-AAA7-CEFDD9CC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662-BB34-44CD-BD75-BEA2F156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F5E-8DE2-499B-A30B-63959151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6B7-3335-4F17-8A62-6DE444AF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86B-CBBA-4B4D-A4FC-0C7C6DB2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D0EEB-5545-4D4F-A7BD-692B411548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обитель сияньем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же место готово и 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и при жизни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ящённым открыта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обитель сияньем по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печалей земных, ни трев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бители нет и сле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полон чер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, кто приходит т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же мы благость От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жизни недолгой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рует нам жизнь без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о, и веч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14Z</dcterms:modified>
  <cp:revision>13</cp:revision>
  <dc:subject>Slavic hymnal Гимны веры христиан, hymn 697</dc:subject>
  <dc:title>Есть обитель сияньем полна</dc:title>
</cp:coreProperties>
</file>