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B87-4123-463A-9939-9BC21238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C6F4-8B20-4D54-9290-D80A1060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289-DB40-4516-9B55-CC529573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778-CAC5-45E4-9D07-6CDB14D9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F5A-BA41-4AF1-B490-F92EA270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1FB8-99E5-4D83-B347-F247D527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4ED-FF4F-4D45-9AFA-A480566F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AF1-34AF-4267-9AC2-6919BD60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6996-3B40-4ACC-BC68-52D71186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DB06-36AB-49F6-8F75-8D44FB5F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09A-E991-4EE0-8584-0A0A33E9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CD8-9D4F-44EC-AFAA-D02F26B0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5184C-DBB0-4E36-94D2-A751F50F0E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меня, Боже, 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умом Тебя, всем помышлень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душу Тебе посвя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ю жизнь с каждым сердца биень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меня, Боже,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учи меня, Боже, люб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Ты меня соблю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вою милосердную во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никогда не роп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вою многотрудную до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меня, Боже,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, которых пришёл искуп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оею пречистою к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меня, Боже, 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корыстной глубокой люб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меня, Боже,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7:33Z</dcterms:modified>
  <cp:revision>12</cp:revision>
  <dc:subject>Slavic hymnal Гимны веры христиан, hymn 474</dc:subject>
  <dc:title>Научи меня, Боже, любить</dc:title>
</cp:coreProperties>
</file>