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D95-8F0C-4AB7-9795-9CE28CE6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421-FE00-4080-B6E0-028B43FF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6FE-7F7D-4A24-A6D7-F625E1D5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814-AC7C-4F56-89A3-00B4D7E4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11A-8175-4388-B000-CA13D53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E66-060E-4485-80EB-BDF67088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1FB-BE57-4481-BF0B-EA2380F0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55D-E897-4001-807A-312BD07F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862-6359-4061-AF8E-2EE30BD1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BF3-2419-4E78-B35C-1746C59F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9C0-2B32-46A6-87BC-550363C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328-6E50-4327-8D9F-6517786C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5B952-2F7A-405F-B736-A837A64F98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ёл я пустыней грехов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а терзал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готы жизни грех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и страшнее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стном мире огро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тейских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я калекой бездом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ской ничьей не сог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ёл я пустыней грехов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, когда гибель гроз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оззвал я к Творц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сть всемогущая 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суждает к конц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ял Он мольбе сокр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из бездны из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за это свер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рогой огонё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гасимой лампа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оём сердце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еня вывел из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-под кладбищенск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любов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Зиждитель —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незабвенный Влады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, неж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4:48Z</dcterms:modified>
  <cp:revision>12</cp:revision>
  <dc:subject>Slavic hymnal Гимны веры христиан, hymn 771</dc:subject>
  <dc:title>Брёл я пустыней греховной</dc:title>
</cp:coreProperties>
</file>