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A1A-3318-4737-ABCA-B09A168E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A98-8BF4-448F-9DAD-71F66DD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DD6-D0F6-4868-8F6D-F754B354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430-C927-4282-BD91-245AEC03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AF5-114F-4760-85E8-F7F76E9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62E-4F27-4D76-B11D-5F9C7310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300-AFA1-4FB1-8BBB-8CE2DE77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947-155A-4DAA-9BEE-BB38197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E0E-E1EC-4526-BDF6-081DCFA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B74-D1FB-4E35-AAAE-A1E9594C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25E-EE95-43ED-A932-CF8716D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40F-4F6F-41A8-9EF2-602587C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3CBDC-DB24-4C9A-BA59-F68E9E7008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вздохом повторя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бы из тоск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ыход указа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Душою чёрс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не оттолк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вечность, не упорств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тены ведь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Благопри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ень: Христо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Он и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57Z</dcterms:modified>
  <cp:revision>12</cp:revision>
  <dc:subject>Slavic hymnal Гимны веры христиан, hymn 383</dc:subject>
  <dc:title>Сколько раз, скорбя жестоко</dc:title>
</cp:coreProperties>
</file>