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E7C-28AE-4172-AFDF-953A2158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DAC-520A-47D0-AC34-99FDBE47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2F2-D9D4-4D0A-A485-9EE19596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52C-1D7E-4CEC-B17C-B7ACFB75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CA2-DACF-4691-A5A2-C6F21464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6D0-044B-4EB2-B0BD-71E5EFF2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E2B-82ED-4A81-9FB3-0FB786D7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291-36FF-44FB-BA24-C2611797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4FA-4C9A-4D2B-9DAC-ED773798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7EA-3F61-438B-A2CC-70967D16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544-45A1-4E3D-AB0B-20B1129C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212-EF57-456F-9EA9-6A0BE33A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828B2-C223-418C-964F-8D895C8686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ak oft with th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in Him al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d o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святости стрем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преб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мо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лию чит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friends with God’s child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those who ar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etting in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essing t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будь со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дер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нь забот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служ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rushes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d much time in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йдё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держ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лишь за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looking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Him thou sha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riends in thy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keness shall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лик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и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ют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m be thy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un not bef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не тороп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есту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oy or in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follow th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looking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trust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и в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уская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calm in thy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thought and each mo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His contro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ым будь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мир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led by His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ountain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oon shalt be f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ervi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одимый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в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дёшь ты к слу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го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8:08Z</dcterms:modified>
  <cp:revision>12</cp:revision>
  <dc:subject>Slavic hymnal Гимны веры христиан, hymn 858</dc:subject>
  <dc:title>Take Time to Be Holy / К святости стремися</dc:title>
</cp:coreProperties>
</file>