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EFEB3-C0CB-434D-BFC0-A0E7781D8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E9273-2D53-4CF9-9002-ACFB2A671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B7301-CE11-4EC4-A749-DAB859456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07263-A0EE-437C-8B03-BE4C4D5D3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30053-0A4D-4575-86EC-02CBC9962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5B576-1551-471A-9D26-D02732A41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B7C37-AD9A-481A-9175-2A19CCAFA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54808-ADB2-44B1-BA16-68514EF5F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B1F97-8903-4C43-8CB2-4A85D1A3A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DC0C3-1CDB-4967-B798-89B6EF038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5A7B9-4946-4FAF-9EF3-76C58B609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1455D-36E8-42F1-A0C3-B7F092684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4362AD-16E6-4597-8F74-EF26B1798351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тот час, как навеки спадё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дежда земного быт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дух мой там в вечности ждё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будут ли петь мне друзь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 тебе! там звучи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 входа обилием бла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руг, тебя, друг, теб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ветствую 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56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 тот час, как навеки спадё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, верю: собранья из те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были здесь в мире со м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обители вечных уте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тречать меня выйдут с хвал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 тебе! там звучи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 входа обилием бла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руг, тебя, друг, теб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ветствую 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кроют пред мной воро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 дивных небесных камн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вижу я город Хри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 свете Господних оч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 тебе! там звучи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 входа обилием бла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руг, тебя, друг, теб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ветствую 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ламень охватит мой ду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я, восхищеньем гор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обраньи искупленных слу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славлю Творца и Цар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 тебе! там звучи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 входа обилием бла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руг, тебя, друг, теб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ветствую 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46:50Z</dcterms:modified>
  <cp:revision>12</cp:revision>
  <dc:subject>Slavic hymnal Гимны веры христиан, hymn 656</dc:subject>
  <dc:title>В тот час, как навеки спадёт</dc:title>
</cp:coreProperties>
</file>